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A1E6D-29FA-4484-B0C0-6CC9FAC1B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CE6F1-8425-4D9F-A8FE-FDB42670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5F9DE-9729-4F35-B463-7E6CE654D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A6E26-C238-44CA-96E4-6D294A2C2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F3CEC-853D-442A-A387-66D593087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899EC-496B-4871-B3D6-65B73E623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2C9FB-0999-4DD8-BB0E-6E7169A13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75FCF-5999-4F79-9147-1986C0788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D5B4E-9558-4F72-B697-960154F40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E0421-5F94-41C3-87C5-A5ABEF99E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B8D6-F9EF-47DC-8083-F4A1033E5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CBFA-2187-40F8-9D79-3350BD76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E390F-B960-4472-8E1C-8AE44CECA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9BF0B-EF21-4A84-A32D-0EDC2DC84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C2041-0E9C-4E85-8671-AD73D9986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415F9-BDEF-48B6-A589-3B66CBD56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5BBE8-3181-4525-B963-4B3F4E1D7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53A65-AFBB-432A-8ED6-CAA68219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FAC8-5CA3-4A88-ACB8-2CF7D69E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C170-9F07-4C0D-AB49-F9D852B0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1E82-D597-43D3-A1CA-548B6AD0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A4CB-7AB3-4959-A339-3F28C5B6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DF72-AF36-4FC8-AEDF-0A3FBF5C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B074-1403-4652-B86A-057FE73D0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BBC7-615E-4D36-8E2D-55A1C850319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1B3C-67F6-4715-810D-AA6442B4FF7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0" name=""/>
          <p:cNvSpPr/>
          <p:nvPr/>
        </p:nvSpPr>
        <p:spPr>
          <a:xfrm>
            <a:off x="900000" y="476280"/>
            <a:ext cx="7848720" cy="164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800" spc="-1" strike="noStrike">
                <a:solidFill>
                  <a:srgbClr val="000000"/>
                </a:solidFill>
                <a:latin typeface="Verdana"/>
              </a:rPr>
              <a:t>	</a:t>
            </a:r>
            <a:r>
              <a:rPr b="1" lang="ru-MD" sz="1800" spc="-1" strike="noStrike">
                <a:solidFill>
                  <a:srgbClr val="000000"/>
                </a:solidFill>
                <a:latin typeface="Verdana"/>
              </a:rPr>
              <a:t>Тема 1</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лан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 Историческая справка развития Интернет-технологий.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 Интернет в деятельности человека.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 Обзор типов Интернет-приложений. Комплекс вопросов, связанных с применением Интернет-технолоний, особенности разработки приложений для Интернет. </a:t>
            </a:r>
            <a:endParaRPr b="0" lang="en-US" sz="1400" spc="-1" strike="noStrike">
              <a:solidFill>
                <a:srgbClr val="000000"/>
              </a:solidFill>
              <a:latin typeface="Arial"/>
            </a:endParaRPr>
          </a:p>
        </p:txBody>
      </p:sp>
      <p:sp>
        <p:nvSpPr>
          <p:cNvPr id="91" name=""/>
          <p:cNvSpPr/>
          <p:nvPr/>
        </p:nvSpPr>
        <p:spPr>
          <a:xfrm>
            <a:off x="755640" y="2708280"/>
            <a:ext cx="7920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Подлинную хронологию Интернета можно отсчитывать с конца 50-х годов. Можно точно назвать дату, когда было принято правительственное решение, в результате которого и появилась первая глобальная сеть. Это произошло в 1958 году. Правда, понятия Интернет тогда, разумеется, не существовало. И никто вовсе не собирался обустраивать работу ученых с помощью компьютерной сети. Это был, так сказать, «побочный эффект», который сегодня задним числом выдают за цель и достижение. Истинная же цель была гораздо важнее — настолько важнее, что для ее достижения действительно было не жаль миллиардов доллар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0" name=""/>
          <p:cNvSpPr/>
          <p:nvPr/>
        </p:nvSpPr>
        <p:spPr>
          <a:xfrm>
            <a:off x="1042920" y="1557360"/>
            <a:ext cx="777708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Так оно и произошло. Решением проблемы стало внедрение в 1983 г. протокола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 С</a:t>
            </a:r>
            <a:r>
              <a:rPr b="0" lang="ru-RU" sz="1800" spc="-1" strike="noStrike">
                <a:solidFill>
                  <a:srgbClr val="000000"/>
                </a:solidFill>
                <a:latin typeface="Verdana"/>
              </a:rPr>
              <a:t> этого времени отсчитывают второй этап развития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трого говоря,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 —</a:t>
            </a:r>
            <a:r>
              <a:rPr b="0" lang="ru-RU" sz="1800" spc="-1" strike="noStrike">
                <a:solidFill>
                  <a:srgbClr val="000000"/>
                </a:solidFill>
                <a:latin typeface="Verdana"/>
              </a:rPr>
              <a:t> это не один протокол, а пара протоколов, один из которых </a:t>
            </a:r>
            <a:r>
              <a:rPr b="0" i="1" lang="ru-RU" sz="1800" spc="-1" strike="noStrike">
                <a:solidFill>
                  <a:srgbClr val="000000"/>
                </a:solidFill>
                <a:latin typeface="Verdana"/>
              </a:rPr>
              <a:t>(</a:t>
            </a:r>
            <a:r>
              <a:rPr b="0" i="1" lang="en-US" sz="1800" spc="-1" strike="noStrike">
                <a:solidFill>
                  <a:srgbClr val="000000"/>
                </a:solidFill>
                <a:latin typeface="Verdana"/>
              </a:rPr>
              <a:t>TCP</a:t>
            </a:r>
            <a:r>
              <a:rPr b="0" i="1" lang="ru-RU" sz="1800" spc="-1" strike="noStrike">
                <a:solidFill>
                  <a:srgbClr val="000000"/>
                </a:solidFill>
                <a:latin typeface="Verdana"/>
              </a:rPr>
              <a:t> — </a:t>
            </a:r>
            <a:r>
              <a:rPr b="0" i="1" lang="en-US" sz="1800" spc="-1" strike="noStrike">
                <a:solidFill>
                  <a:srgbClr val="000000"/>
                </a:solidFill>
                <a:latin typeface="Verdana"/>
              </a:rPr>
              <a:t>Transport Control Protocol</a:t>
            </a:r>
            <a:r>
              <a:rPr b="0" i="1" lang="ru-RU" sz="1800" spc="-1" strike="noStrike">
                <a:solidFill>
                  <a:srgbClr val="000000"/>
                </a:solidFill>
                <a:latin typeface="Verdana"/>
              </a:rPr>
              <a:t>)</a:t>
            </a:r>
            <a:r>
              <a:rPr b="0" lang="ru-RU" sz="1800" spc="-1" strike="noStrike">
                <a:solidFill>
                  <a:srgbClr val="000000"/>
                </a:solidFill>
                <a:latin typeface="Verdana"/>
              </a:rPr>
              <a:t> отвечает за то, </a:t>
            </a:r>
            <a:r>
              <a:rPr b="0" i="1" lang="ru-RU" sz="1800" spc="-1" strike="noStrike">
                <a:solidFill>
                  <a:srgbClr val="000000"/>
                </a:solidFill>
                <a:latin typeface="Verdana"/>
              </a:rPr>
              <a:t>как</a:t>
            </a:r>
            <a:r>
              <a:rPr b="0" lang="ru-RU" sz="1800" spc="-1" strike="noStrike">
                <a:solidFill>
                  <a:srgbClr val="000000"/>
                </a:solidFill>
                <a:latin typeface="Verdana"/>
              </a:rPr>
              <a:t> представляются данные в Сети, а второй </a:t>
            </a:r>
            <a:r>
              <a:rPr b="0" i="1" lang="ru-RU" sz="1800" spc="-1" strike="noStrike">
                <a:solidFill>
                  <a:srgbClr val="000000"/>
                </a:solidFill>
                <a:latin typeface="Verdana"/>
              </a:rPr>
              <a:t>(</a:t>
            </a:r>
            <a:r>
              <a:rPr b="0" i="1" lang="en-US" sz="1800" spc="-1" strike="noStrike">
                <a:solidFill>
                  <a:srgbClr val="000000"/>
                </a:solidFill>
                <a:latin typeface="Verdana"/>
              </a:rPr>
              <a:t>IP </a:t>
            </a:r>
            <a:r>
              <a:rPr b="0" i="1" lang="ru-RU" sz="1800" spc="-1" strike="noStrike">
                <a:solidFill>
                  <a:srgbClr val="000000"/>
                </a:solidFill>
                <a:latin typeface="Verdana"/>
              </a:rPr>
              <a:t>— </a:t>
            </a:r>
            <a:r>
              <a:rPr b="0" i="1" lang="en-US" sz="1800" spc="-1" strike="noStrike">
                <a:solidFill>
                  <a:srgbClr val="000000"/>
                </a:solidFill>
                <a:latin typeface="Verdana"/>
              </a:rPr>
              <a:t>Internet Protocol</a:t>
            </a:r>
            <a:r>
              <a:rPr b="0" i="1" lang="ru-RU" sz="1800" spc="-1" strike="noStrike">
                <a:solidFill>
                  <a:srgbClr val="000000"/>
                </a:solidFill>
                <a:latin typeface="Verdana"/>
              </a:rPr>
              <a:t>)</a:t>
            </a:r>
            <a:r>
              <a:rPr b="0" lang="ru-RU" sz="1800" spc="-1" strike="noStrike">
                <a:solidFill>
                  <a:srgbClr val="000000"/>
                </a:solidFill>
                <a:latin typeface="Verdana"/>
              </a:rPr>
              <a:t> определяет методику адресации, то есть отвечает за то, </a:t>
            </a:r>
            <a:r>
              <a:rPr b="0" i="1" lang="ru-RU" sz="1800" spc="-1" strike="noStrike">
                <a:solidFill>
                  <a:srgbClr val="000000"/>
                </a:solidFill>
                <a:latin typeface="Verdana"/>
              </a:rPr>
              <a:t>куда</a:t>
            </a:r>
            <a:r>
              <a:rPr b="0" lang="ru-RU" sz="1800" spc="-1" strike="noStrike">
                <a:solidFill>
                  <a:srgbClr val="000000"/>
                </a:solidFill>
                <a:latin typeface="Verdana"/>
              </a:rPr>
              <a:t> они отправляются и </a:t>
            </a:r>
            <a:r>
              <a:rPr b="0" i="1" lang="ru-RU" sz="1800" spc="-1" strike="noStrike">
                <a:solidFill>
                  <a:srgbClr val="000000"/>
                </a:solidFill>
                <a:latin typeface="Verdana"/>
              </a:rPr>
              <a:t>как </a:t>
            </a:r>
            <a:r>
              <a:rPr b="0" lang="ru-RU" sz="1800" spc="-1" strike="noStrike">
                <a:solidFill>
                  <a:srgbClr val="000000"/>
                </a:solidFill>
                <a:latin typeface="Verdana"/>
              </a:rPr>
              <a:t>доставляются. Эта пара протоколов принадлежит разным уровням и называется </a:t>
            </a:r>
            <a:r>
              <a:rPr b="0" i="1" lang="ru-RU" sz="1800" spc="-1" strike="noStrike">
                <a:solidFill>
                  <a:srgbClr val="000000"/>
                </a:solidFill>
                <a:latin typeface="Verdana"/>
              </a:rPr>
              <a:t>стеком протоколов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a:t>
            </a:r>
            <a:r>
              <a:rPr b="0" lang="ru-RU" sz="1800" spc="-1" strike="noStrike">
                <a:solidFill>
                  <a:srgbClr val="000000"/>
                </a:solidFill>
                <a:latin typeface="Verdana"/>
              </a:rPr>
              <a:t> Собственно говоря, только с появлением IP-протокола и появилось понятие Интерне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1" name=""/>
          <p:cNvSpPr/>
          <p:nvPr/>
        </p:nvSpPr>
        <p:spPr>
          <a:xfrm>
            <a:off x="900000" y="549360"/>
            <a:ext cx="7993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ретье рождение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олгое время Интернет оставался уделом специалистов. Обмен технической документацией и сообщениями электронной почты — это все-таки не совеем то, что нужно рядовому потребителю. Революционное развитие Интернета началось только после 1993 г. с увеличением в геометрической прогрессии числа узлов и пользователей. Поводом для революции стало появление службы </a:t>
            </a:r>
            <a:r>
              <a:rPr b="0" lang="en-US" sz="1800" spc="-1" strike="noStrike">
                <a:solidFill>
                  <a:srgbClr val="000000"/>
                </a:solidFill>
                <a:latin typeface="Verdana"/>
              </a:rPr>
              <a:t>World Wide Web</a:t>
            </a:r>
            <a:r>
              <a:rPr b="0" lang="ru-RU" sz="1800" spc="-1" strike="noStrike">
                <a:solidFill>
                  <a:srgbClr val="000000"/>
                </a:solidFill>
                <a:latin typeface="Verdana"/>
              </a:rPr>
              <a:t> (</a:t>
            </a:r>
            <a:r>
              <a:rPr b="0" lang="en-US" sz="1800" spc="-1" strike="noStrike">
                <a:solidFill>
                  <a:srgbClr val="000000"/>
                </a:solidFill>
                <a:latin typeface="Verdana"/>
              </a:rPr>
              <a:t>WWW</a:t>
            </a:r>
            <a:r>
              <a:rPr b="0" lang="ru-RU" sz="1800" spc="-1" strike="noStrike">
                <a:solidFill>
                  <a:srgbClr val="000000"/>
                </a:solidFill>
                <a:latin typeface="Verdana"/>
              </a:rPr>
              <a:t>), основанной на пользовательском протоколе передачи данных </a:t>
            </a:r>
            <a:r>
              <a:rPr b="0" i="1" lang="en-US" sz="1800" spc="-1" strike="noStrike">
                <a:solidFill>
                  <a:srgbClr val="000000"/>
                </a:solidFill>
                <a:latin typeface="Verdana"/>
              </a:rPr>
              <a:t>HTTP</a:t>
            </a:r>
            <a:r>
              <a:rPr b="0" lang="ru-RU" sz="1800" spc="-1" strike="noStrike">
                <a:solidFill>
                  <a:srgbClr val="000000"/>
                </a:solidFill>
                <a:latin typeface="Verdana"/>
              </a:rPr>
              <a:t> и на особом формате представления данных — </a:t>
            </a:r>
            <a:r>
              <a:rPr b="0" i="1" lang="en-US" sz="1800" spc="-1" strike="noStrike">
                <a:solidFill>
                  <a:srgbClr val="000000"/>
                </a:solidFill>
                <a:latin typeface="Verdana"/>
              </a:rPr>
              <a:t>HTML</a:t>
            </a:r>
            <a:r>
              <a:rPr b="0" i="1" lang="ru-RU" sz="1800" spc="-1" strike="noStrike">
                <a:solidFill>
                  <a:srgbClr val="000000"/>
                </a:solidFill>
                <a:latin typeface="Verdana"/>
              </a:rPr>
              <a:t>.</a:t>
            </a:r>
            <a:r>
              <a:rPr b="0" lang="ru-RU" sz="1800" spc="-1" strike="noStrike">
                <a:solidFill>
                  <a:srgbClr val="000000"/>
                </a:solidFill>
                <a:latin typeface="Verdana"/>
              </a:rPr>
              <a:t> Документы, выполненные в этом формате, получили название Web-страниц.</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овременно с введением концепции </a:t>
            </a:r>
            <a:r>
              <a:rPr b="0" lang="en-US" sz="1800" spc="-1" strike="noStrike">
                <a:solidFill>
                  <a:srgbClr val="000000"/>
                </a:solidFill>
                <a:latin typeface="Verdana"/>
              </a:rPr>
              <a:t>WWW</a:t>
            </a:r>
            <a:r>
              <a:rPr b="0" lang="ru-RU" sz="1800" spc="-1" strike="noStrike">
                <a:solidFill>
                  <a:srgbClr val="000000"/>
                </a:solidFill>
                <a:latin typeface="Verdana"/>
              </a:rPr>
              <a:t> была представлена программа M</a:t>
            </a:r>
            <a:r>
              <a:rPr b="0" lang="en-US" sz="1800" spc="-1" strike="noStrike">
                <a:solidFill>
                  <a:srgbClr val="000000"/>
                </a:solidFill>
                <a:latin typeface="Verdana"/>
              </a:rPr>
              <a:t>osaic</a:t>
            </a:r>
            <a:r>
              <a:rPr b="0" lang="ru-RU" sz="1800" spc="-1" strike="noStrike">
                <a:solidFill>
                  <a:srgbClr val="000000"/>
                </a:solidFill>
                <a:latin typeface="Verdana"/>
              </a:rPr>
              <a:t>, обеспечивающая отправку запросов и прием сообщений в формате </a:t>
            </a:r>
            <a:r>
              <a:rPr b="0" i="1" lang="ru-RU" sz="1800" spc="-1" strike="noStrike">
                <a:solidFill>
                  <a:srgbClr val="000000"/>
                </a:solidFill>
                <a:latin typeface="Verdana"/>
              </a:rPr>
              <a:t>HTML.</a:t>
            </a:r>
            <a:r>
              <a:rPr b="0" lang="ru-RU" sz="1800" spc="-1" strike="noStrike">
                <a:solidFill>
                  <a:srgbClr val="000000"/>
                </a:solidFill>
                <a:latin typeface="Verdana"/>
              </a:rPr>
              <a:t> Эта программа стала первым в мире </a:t>
            </a:r>
            <a:r>
              <a:rPr b="0" i="1" lang="ru-RU" sz="1800" spc="-1" strike="noStrike">
                <a:solidFill>
                  <a:srgbClr val="000000"/>
                </a:solidFill>
                <a:latin typeface="Verdana"/>
              </a:rPr>
              <a:t>Web-броузером,</a:t>
            </a:r>
            <a:r>
              <a:rPr b="0" lang="ru-RU" sz="1800" spc="-1" strike="noStrike">
                <a:solidFill>
                  <a:srgbClr val="000000"/>
                </a:solidFill>
                <a:latin typeface="Verdana"/>
              </a:rPr>
              <a:t> то есть программой для просмотра Web-страниц. После этого работа в Интернете перестала быть уделом профессионалов. Интернет превратился в распределенную по миллионам серверов единую базу данных, навигация в которой не сложнее, чем просмотр обычной мультимедийной энциклопед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2" name=""/>
          <p:cNvSpPr/>
          <p:nvPr/>
        </p:nvSpPr>
        <p:spPr>
          <a:xfrm>
            <a:off x="900000" y="549360"/>
            <a:ext cx="7848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Информационная деятельность в настоящее время играет ключевую роль в  функционировании любой социальной системы как единого целого и это придает ей особый статус среди различных форм жизнеобеспечения человека и его социальной сущност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известной степени информационная деятельность является всеобщей и находит свои проявления во всех сферах и на всех уровнях человеческого общежития. Она опосредует собой любой акт коммуникации и участвует в воспроизводстве или изменении сложившего типа социальных связе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Отметим универсальность информационной деятельности. Универсальность информационной деятельности позволяет рассматривать ее исторические формы как способы трансформации разнообразия </a:t>
            </a:r>
            <a:r>
              <a:rPr b="1" lang="en-US" sz="1800" spc="-1" strike="noStrike">
                <a:solidFill>
                  <a:srgbClr val="000000"/>
                </a:solidFill>
                <a:latin typeface="Verdana"/>
              </a:rPr>
              <a:t>индивидуальных</a:t>
            </a:r>
            <a:r>
              <a:rPr b="0" lang="en-US" sz="1800" spc="-1" strike="noStrike">
                <a:solidFill>
                  <a:srgbClr val="000000"/>
                </a:solidFill>
                <a:latin typeface="Verdana"/>
              </a:rPr>
              <a:t> человеческих представлений, восприятий и ощущений в </a:t>
            </a:r>
            <a:r>
              <a:rPr b="1" lang="en-US" sz="1800" spc="-1" strike="noStrike">
                <a:solidFill>
                  <a:srgbClr val="000000"/>
                </a:solidFill>
                <a:latin typeface="Verdana"/>
              </a:rPr>
              <a:t>общезначимые и доступные пониманию</a:t>
            </a:r>
            <a:r>
              <a:rPr b="0" lang="en-US" sz="1800" spc="-1" strike="noStrike">
                <a:solidFill>
                  <a:srgbClr val="000000"/>
                </a:solidFill>
                <a:latin typeface="Verdana"/>
              </a:rPr>
              <a:t> смыслы и значения. Тем самым информационная деятельность является одним из моментов трансляции человеческой культуры, которая поддерживает порядок функционирования и сохраняет устойчивость социальных систе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3" name=""/>
          <p:cNvSpPr/>
          <p:nvPr/>
        </p:nvSpPr>
        <p:spPr>
          <a:xfrm>
            <a:off x="900000" y="1628640"/>
            <a:ext cx="806472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другой стороны, обособление информационной деятельности в качестве экономически определенной и актуальной сферы происходит в связи с потребностями институтов власти в обслуживании, сохранении и поддержании своих основных функций. Тем самым информационная деятельность становится основным средством обратной связи между властью и культурой. Ее качество, формы и содержание определяют характер целеполагания, уровень, условия и формы развития взаимодействий человека и общества. В целом  именно это  очерчивает специфику и особенности информационной деятельности в ее отличиях от деятельности религиозной, литературной, философской или научно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Функция информационной деятельности как средства обратной связи между властью и культурой фактически формирует и очерчивает границы менталитета общества и  определяет его возможности в практических оценках социальной действительности.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4" name=""/>
          <p:cNvSpPr/>
          <p:nvPr/>
        </p:nvSpPr>
        <p:spPr>
          <a:xfrm>
            <a:off x="468360" y="104472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Такое понимание социальной направленности информационной деятельности делает очевидной ее роль в обеспечении и поддержании </a:t>
            </a:r>
            <a:r>
              <a:rPr b="1" lang="en-US" sz="1800" spc="-1" strike="noStrike">
                <a:solidFill>
                  <a:srgbClr val="000000"/>
                </a:solidFill>
                <a:latin typeface="Verdana"/>
              </a:rPr>
              <a:t>свободы развития сознания и самосознания человека и общества</a:t>
            </a:r>
            <a:r>
              <a:rPr b="0" lang="en-US" sz="1800" spc="-1" strike="noStrike">
                <a:solidFill>
                  <a:srgbClr val="000000"/>
                </a:solidFill>
                <a:latin typeface="Verdana"/>
              </a:rPr>
              <a:t> при сохранении в нем четких границ, форм и методов социального контро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современных условиях происходит расширение функционального диапазона информационной деятельности на основе организационно-психологических особенностей деятельности человека в информационно-техническом ми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недрение информационных технологий, а также развитие средств вычислительной техники и информатики позволяет автоматизировать отдельные процессы информационной деятельности. Информационные технологии в рамках управления определяются комплектованием банков и баз данных, а также экспертных систем, которые обеспечивают разработку вариантов решений в автоматизированном или автоматическом режим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5" name=""/>
          <p:cNvSpPr/>
          <p:nvPr/>
        </p:nvSpPr>
        <p:spPr>
          <a:xfrm>
            <a:off x="539640" y="333360"/>
            <a:ext cx="8280360" cy="619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Создание потока информации в автоматическом режиме может рассматриваться как фактор поддержки эксплуатационного потенциала имеющихся ресурсов и получения выгоды за счет применения информационных технологий для обеспечения режима опережения событий, прорывов во времени и эффектов генерирования фактов, знаний, идей и мнений. Это составляет вызов информатизации и определяет его особенности как </a:t>
            </a:r>
            <a:r>
              <a:rPr b="1" lang="ru-RU" sz="1700" spc="-1" strike="noStrike">
                <a:solidFill>
                  <a:srgbClr val="000000"/>
                </a:solidFill>
                <a:latin typeface="Verdana"/>
              </a:rPr>
              <a:t>социокультурного явления</a:t>
            </a:r>
            <a:r>
              <a:rPr b="0" lang="ru-RU" sz="1700" spc="-1" strike="noStrike">
                <a:solidFill>
                  <a:srgbClr val="000000"/>
                </a:solidFill>
                <a:latin typeface="Verdana"/>
              </a:rPr>
              <a:t>, </a:t>
            </a:r>
            <a:r>
              <a:rPr b="1" lang="ru-RU" sz="1700" spc="-1" strike="noStrike">
                <a:solidFill>
                  <a:srgbClr val="000000"/>
                </a:solidFill>
                <a:latin typeface="Verdana"/>
              </a:rPr>
              <a:t>в котором</a:t>
            </a:r>
            <a:r>
              <a:rPr b="0" lang="ru-RU" sz="1700" spc="-1" strike="noStrike">
                <a:solidFill>
                  <a:srgbClr val="000000"/>
                </a:solidFill>
                <a:latin typeface="Verdana"/>
              </a:rPr>
              <a:t> </a:t>
            </a:r>
            <a:r>
              <a:rPr b="1" lang="ru-RU" sz="1700" spc="-1" strike="noStrike">
                <a:solidFill>
                  <a:srgbClr val="000000"/>
                </a:solidFill>
                <a:latin typeface="Verdana"/>
              </a:rPr>
              <a:t>техника специфицирована в качестве “</a:t>
            </a:r>
            <a:r>
              <a:rPr b="1" lang="en-US" sz="1700" spc="-1" strike="noStrike">
                <a:solidFill>
                  <a:srgbClr val="000000"/>
                </a:solidFill>
                <a:latin typeface="Verdana"/>
              </a:rPr>
              <a:t>alter ego</a:t>
            </a:r>
            <a:r>
              <a:rPr b="1" lang="ru-RU" sz="1700" spc="-1" strike="noStrike">
                <a:solidFill>
                  <a:srgbClr val="000000"/>
                </a:solidFill>
                <a:latin typeface="Verdana"/>
              </a:rPr>
              <a:t>” интеллектуальной деятельности человека</a:t>
            </a:r>
            <a:r>
              <a:rPr b="0" lang="ru-RU" sz="1700" spc="-1" strike="noStrike">
                <a:solidFill>
                  <a:srgbClr val="000000"/>
                </a:solidFill>
                <a:latin typeface="Verdana"/>
              </a:rPr>
              <a:t> </a:t>
            </a:r>
            <a:r>
              <a:rPr b="1" lang="ru-RU" sz="1700" spc="-1" strike="noStrike">
                <a:solidFill>
                  <a:srgbClr val="000000"/>
                </a:solidFill>
                <a:latin typeface="Verdana"/>
              </a:rPr>
              <a:t>и функционирует как база элементов, замещающая аналитические начала его разумной сущности.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Информация и ее потоки, формируемые в результате социального обособления, спецификации и социотехнического обеспечения информационной деятельности в настоящее момент может рассматриваться в качестве исторического и социального феномена.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Информационная деятельность имеет длительный период развития, первоначально воплощаясь в деятельности журналистов, переводчиков, агентов частных и государственных спецслужб, консультантов дипломатических и юридических служб, адвокатских бюро и т.д. Бурное развитие промышленности, обеспечивающее крупный товарооборот, породило развитие таких видов информационной деятельности как коммивояжер и комиссионер, маклер, брокер, специалист по рекламе и т.д.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6" name=""/>
          <p:cNvSpPr/>
          <p:nvPr/>
        </p:nvSpPr>
        <p:spPr>
          <a:xfrm>
            <a:off x="468360" y="692280"/>
            <a:ext cx="84963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Развитие науки и научного знания, а также их прерогативы в обеспечении рациональности принятия управленческих решений поставило в главу угла новую специализацию информационной деятельности, трудно поддающуюся однозначному именованию. Ученый, научный работник, специалист в определенной области научного знания, научный консультант - все эти спецификации научной работы образованы по основанию целесообразности подачи информационных материалов в режиме текущих задач управления развитием. Таким образом, неоднородность информационной деятельности в сфере науки предопределена историческим развитием разделения труда внутри самой наук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настоящее время, в связи с возможностями технического обеспечения управления процессами человеческой деятельности, информационная деятельность перерастает свои прежние границы и становится основой социальной организации современного общества, способствующей  превращению постиндустриальной фазы его развития в фазу информационную. Это приводит к возникновению принципиально </a:t>
            </a:r>
            <a:r>
              <a:rPr b="1" lang="en-US" sz="1800" spc="-1" strike="noStrike">
                <a:solidFill>
                  <a:srgbClr val="000000"/>
                </a:solidFill>
                <a:latin typeface="Verdana"/>
              </a:rPr>
              <a:t>новых ситуаций  в познании и практической деятельности человека</a:t>
            </a:r>
            <a:r>
              <a:rPr b="0" lang="en-US" sz="1800" spc="-1" strike="noStrike">
                <a:solidFill>
                  <a:srgbClr val="000000"/>
                </a:solidFill>
                <a:latin typeface="Verdana"/>
              </a:rPr>
              <a:t>, а также оказывает влияние на конфигурацию социальной структуры, формы занятости,  системы ценностей 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7" name=""/>
          <p:cNvSpPr/>
          <p:nvPr/>
        </p:nvSpPr>
        <p:spPr>
          <a:xfrm>
            <a:off x="900000" y="1773360"/>
            <a:ext cx="792180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онтексте управления результирующей информационной деятельности может стать изменение поведенческих и адаптационных механизмов субъектов управления, преобразование диапазона и границ их коммуникативного пространства или выбора приоритетов развития при организации деятельностных процесс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нформационная деятельность, в конечном итоге, является средством сознательной оценки порядка и значимости отношений явлений действительности и связана с характером целесообразности и ценностными формами развития сознания и самосознания потребителей ее продуктов и услуг.</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8" name=""/>
          <p:cNvSpPr/>
          <p:nvPr/>
        </p:nvSpPr>
        <p:spPr>
          <a:xfrm>
            <a:off x="539640" y="333360"/>
            <a:ext cx="8136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Технологии, применяемые в Web-клиент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им из направлений развития Web-приложений стало размещение некоторой части логики приложения (такой как проверка корректности вводимых данных) в самом Web-клиенте, например в Web-браузере. В частности, современные Web-браузеры способны интерпретировать код на скриптовых языках, выполнять Java-апплеты и элементы управления ActiveX, использовать другие дополнения, такие как Macromedia Flash Player. Рассмотрим все эти возможности браузеров подробне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криптовые язы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инство современных Web-браузеров способно интерпретировать код на скриптовых языках, таких как VBScript и JavaScript. Код на этих языках внедряется в Web-страницу и интерпретируется браузером. Типичный пример применения скриптовых языков — проверка корректности данных, вводимых пользователем в соответствующие поля HTML-формы, непосредственно в процессе ввода или после него, без обращения к Web-серверу. Подобные примеры применения скриптовых языков можно обнаружить при заполнении некоторых анкет и получении сообщений о том, что не заполнены обязательные поля (справедливости ради отметим, что далеко не все анкеты реализованы подобным образ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9" name=""/>
          <p:cNvSpPr/>
          <p:nvPr/>
        </p:nvSpPr>
        <p:spPr>
          <a:xfrm>
            <a:off x="900000" y="1700280"/>
            <a:ext cx="7848720" cy="435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есть и другие примеры применения скриптовых языков, реализующие как чисто дизайнерские идеи, например кнопки, меняющие свой вид при наведении на них курсора, «бегущие строки», так и иную функциональность, например внедренные в Web-страницы средства обращения к поисковым системам, отображение диалоговых панелей, управление другими объектами, встроенными в Web-страницу (например, Java-апплетами или элементами управления ActiveX, о которых будет рассказано ниж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что код, созданный с помощью скриптовых языков, не может работать самостоятельно  — он выполняется в адресном пространстве браузера. Кроме того, скриптовые языки содержат ограниченный набор средств (например, они не обладают средствами доступа к файловой системе).</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2" name=""/>
          <p:cNvSpPr/>
          <p:nvPr/>
        </p:nvSpPr>
        <p:spPr>
          <a:xfrm>
            <a:off x="826920" y="1628640"/>
            <a:ext cx="77756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1949 г. в СССР успешно испытали первую атомную бомбу. В 1952 г. не менее успешно была испытана водородная бомба. В 1956 г. военное руководство в США впервые заговорило о необходимости разработки системы защиты от ядерного оружия, но первые запросы остались без вним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1957 г. в СССР был выведен на орбиту первый искусственный спутник Земли. Для кого-то это великое научное достижение, а для кого-то — нечто совсем иное. Американцы поняли все правильно: отныне в СССР есть, чем доставить бомбу им на голову. В результате в 1958 г. было, наконец, принято правительственное решение о создании глобальной системы раннего оповещения о пусках ракет. Сегодня такие системы строят на базе спутниковых комплексов, вращающихся на полярных орбитах, а тогда оставалось только развернуть сеть наземных станций на вероятных маршрутах приближения рак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0" name=""/>
          <p:cNvSpPr/>
          <p:nvPr/>
        </p:nvSpPr>
        <p:spPr>
          <a:xfrm>
            <a:off x="468360" y="165240"/>
            <a:ext cx="83516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Java-апплет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актически все современные браузеры способны отображать и выполнять Java-апплеты  — специальные Java-приложения, которые пользователь получает в составе Web-страницы. Эти приложения нередко включаются в состав Web-страниц с целью добавления функциональности, которую сложно или невозможно реализовать с помощью скриптовых языков. Апплеты могут выполняться на всех платформах, для которых доступна виртуальная Java-машин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Апплеты обычно создаются в соответствии с правилами, оговаривающими период их жизни и способы взаимодействия со своим окружением. Чаще всего эти способы весьма ограниченны (например, такие операции, как считывание и запись файлов, по умолчанию для апплетов запрещены; если же подобные операции необходимы, разрешения на их выполнение для конкретных апплетов и конкретных файлов описываются на клиентском компьютере; сетевой доступ из апплета возможен только к тому компьютеру, с которого он был загружен; запуск других приложений на компьютере пользователя из апплетов невозможе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1" name=""/>
          <p:cNvSpPr/>
          <p:nvPr/>
        </p:nvSpPr>
        <p:spPr>
          <a:xfrm>
            <a:off x="971640" y="1700280"/>
            <a:ext cx="7777080" cy="380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апплет способен считывать значения параметров (например, цвета, шрифтов, файлов с графическими изображениями, используемыми при выполнении апплета) с содержащей его Web-страницы и в соответствии с этими параметрами изменять свое поведение. Кроме того, параметры апплета можно менять динамически из кода на скриптовых языках, содержащихся в составе той же страницы. Отметим, что, поскольку апплеты реализуют выполнение кода на компьютере клиента, они в определенной степени являются потенциально опасным содержимым. Именно поэтому все современные браузеры обладают доступными пользователю средствами ограничения возможностей выполнения апплето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2" name=""/>
          <p:cNvSpPr/>
          <p:nvPr/>
        </p:nvSpPr>
        <p:spPr>
          <a:xfrm>
            <a:off x="468360" y="449280"/>
            <a:ext cx="84963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лементы управления ActiveX</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екоторые из современных браузеров (в частности, Microsoft Internet Explorer) могут служить контейнерами для элементов управления ActiveX — специальных COM-серверов, выполняющихся в адресном пространстве браузера и также получаемых в составе Web-страниц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помощью элементов управления ActiveX, как и посредством Java-апплетов, можно реализовать любую функциональность, в том числе и неблагоприятную для компьютера пользователя, при этом, в отличие от Java-апплетов, при выполнении элементов управления ActiveX в общем случае нет никаких ограничений на доступ к файлам и иным ресурсам операционной системы и сети, а код, содержащийся в них, выполняется от имени загрузившего их пользователя. Как и Java-апплеты, элементы управления ActiveX могут считывать свои свойства с содержащей их страницы; кроме того, свойства элемента управления ActiveX можно менять динамически из кода на скриптовых языках, содержащихся в составе той же страницы; в том же коде можно обрабатывать события, возникающие в таких элементах управления. Естественно, Microsoft Internet Explorer обладает средствами ограничения возможностей выполнения элементов управления ActiveX, в том числе управления ими из кода на скриптовых языка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3" name=""/>
          <p:cNvSpPr/>
          <p:nvPr/>
        </p:nvSpPr>
        <p:spPr>
          <a:xfrm>
            <a:off x="684360" y="333360"/>
            <a:ext cx="810072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для контроля безопасности их выполнения имеется еще одно средство, называемое электронной цифровой подписью. Цифровая подпись помещается внутрь элемента управления ActiveX, для чего требуется наличие соответствующего электронного сертификата. Электронная подпись, помимо сведений о фирме-производителе, содержит и другую полезную информацию. Так, например, если файл с элементом управления ActiveX после добавления электронной подписи был изменен, то об этом будет немедленно сообщено перед запуском такого элемента управления — при добавлении подписи к элементу управления ActiveX происходит вычисление контрольной суммы соответствующего файла.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однако, что в России в настоящее время нет авторизованных компаний, которые могли бы выдать электронный сертификат международного образца. Естественно, наличие электронного сертификата не гарантирует отсутствия потенциально опасного содержимого, но, по крайней мере, позволяет клиенту установить его источни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4" name=""/>
          <p:cNvSpPr/>
          <p:nvPr/>
        </p:nvSpPr>
        <p:spPr>
          <a:xfrm>
            <a:off x="468360" y="333360"/>
            <a:ext cx="842472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ложения Macromedia Flas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иложения Macromedia Flash являются сегодня наиболее популярным расширением функциональности Web-браузеров — с их помощью многие Web-дизайнеры придают своим сайтам интерактивность и оригинальность.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Модель безопасности приложений Flash основана на том, что Macromedia Flash Player, как и виртуальная Java-машина, выполняет приложения в ограниченном адресном пространстве, при этом выполняемые приложения не имеют доступа к файловой системе (кроме одного конкретного каталога, используемого Macromedia Flash Player для служебных целей) и другим ресурсам компьютера пользователя; исключение делается для микрофонов и видеокамер, однако пользователь должен дать разрешение на передачу данных, полученных с этих устройств. Доступ к сетевым ресурсам ограничивается доменом, с которого было получено приложение. Отметим, что приложения Flash также могут управляться с помощью кода JavaScript, присутствующего на той же странице. Сам Macromedia Flash Player для Microsoft Internet Explorer является элементом управления ActiveX и использует возможности элементов управления ActiveX для доступа к свойствам приложений Flash из скриптовых язы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5" name=""/>
          <p:cNvSpPr/>
          <p:nvPr/>
        </p:nvSpPr>
        <p:spPr>
          <a:xfrm>
            <a:off x="684360" y="404640"/>
            <a:ext cx="8208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что помимо вышеперечисленных наиболее популярных средств расширения функциональности браузеров имеется и ряд других средств, реализованных обычно в виде так называемых модулей расширения (plug-in). Поскольку модули расширения также представляют собой исполняемый код, современные браузеры обладают средствами ограничения возможностей, связанных с их загрузкой и выполнение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заключение отметим, что перечисленные средства расширения функциональности HTML-страниц могут быть использованы и в динамических страницах, генерируемых серверными Web-приложениям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Технологии создания серверных частей Web-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Как мы уже убедились, возможности, связанные с выполнением кода в Web-клиентах, могут быть существенно ограничены как технологически, так и с помощью администрирования и пользовательских настроек. Это в целом соответствует вполне разумным требованиям безопасности. Именно поэтому, наряду с развитием средств расширения функциональности браузеров, развивались и технологии, связанные с выполнением кода приложений не в браузерах, а на самих Web-серверах. Ниже мы очень кратко рассмотрим наиболее распространенные из н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6" name=""/>
          <p:cNvSpPr/>
          <p:nvPr/>
        </p:nvSpPr>
        <p:spPr>
          <a:xfrm>
            <a:off x="395280" y="404640"/>
            <a:ext cx="85327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CG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Common Gateway Interface (CGI) — это стандартный интерфейс, позволяющий выполнять серверные приложения, вызываемые через URL. Входной информацией для таких приложений служит содержимое HTTP-заголовка либо тело запроса, в зависимости от применяемого протокола. CGI-приложения генерируют HTML-код, который возвращается браузеру. Отметим, что в свое время широко использовался и термин «CGI-скрипт», происхождение которого объясняется тем, что подобные приложения писались на скриптовых языках типа Perl, выполняющихся, тем не менее, не в браузере, а на сервере. CGI-приложения можно создавать с помощью практически любого средства разработки, генерирующего консольные приложения для операционной системы, под управлением которой функционирует Web-серве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сновная проблема всех CGI-приложений заключается в том, что при каждом клиентском запросе сервер загружает это приложение в отдельное адресное пространство, а затем инициирует его выполнение и выгрузку. Эта особенность ограничивает производительность приложений и возможность одновременной обработки большого количества клиентских запрос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7" name=""/>
          <p:cNvSpPr/>
          <p:nvPr/>
        </p:nvSpPr>
        <p:spPr>
          <a:xfrm>
            <a:off x="755640" y="692280"/>
            <a:ext cx="8064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ISAPI и Apache D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облему ограниченной производительности Web-приложений, которые выполняются в отдельном адресном пространстве, можно решить, создав приложение в виде библиотеки, загружающейся в адресное пространство Web-сервера и при необходимости остающейся там для обработки последующих запросов от других клиентов; естественно, в этом случае Web-сервер должен поддерживать загрузку таких библиотек. Подобные приложения для Microsoft Internet Information Servise носят название ISAPI (Internet Server Application Program Interface), а для весьма популярного Web-сервера Apache такие библиотеки называются Apache DSO (Dynamic Shared Objects). Отметим, однако, что при создании как CGI-, так и ISAPI-приложений было довольно сложно отделить задачи Web-дизайна от задач, связанных с реализацией функциональности и логики приложений, — подобные приложения генерируют Web-страницы целиком, поэтому все данные, связанные с дизайном этих страниц, должны в общем случае содержаться внутри исполняемого фай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8" name=""/>
          <p:cNvSpPr/>
          <p:nvPr/>
        </p:nvSpPr>
        <p:spPr>
          <a:xfrm>
            <a:off x="250920" y="333360"/>
            <a:ext cx="8642160" cy="58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SP, JSP, PH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700" spc="-1" strike="noStrike">
                <a:solidFill>
                  <a:srgbClr val="000000"/>
                </a:solidFill>
                <a:latin typeface="Verdana"/>
              </a:rPr>
              <a:t>Очередной шаг в развитии технологий создания Интернет-приложений — появление средств, позволяющих отделить задачи Web-дизайна от задач, связанных с реализацией функциональности приложений. Первой из таких технологий стала Active Server Pages (ASP), построенная на основе ISAPI-фильтра. Основная идея ASP заключается в создании Web-страниц с внедренными в них фрагментами кода на скриптовых языках. Однако, в отличие от рассмотренных выше средств применения скриптовых языков для расширения функциональности браузеров, указанные фрагменты кода интерпретируются не браузером, а сервером (точнее, предназначенной для этого ISAPI-библиотекой), и результат выполнения этих фрагментов кода замещает сам фрагмент кода в той версии страницы, которая передается в пользовательский браузер. Вскоре после ASP появились и другие технологии, реализующие идею размещения внутри Web-страницы кода, выполняемого Web-сервером. Наиболее известной из них сегодня является технология JSP (Java Server Pages), основная идея которой — однократная компиляция Java-кода (сервлета) при первом обращении к нему, выполнение методов этого сервлета и помещение результатов выполнения этих методов в набор данных, отправляемых в браузер. Еще одной популярной технологией подобного типа является PHP (Personal Home Pages), которая использует CGI-приложения, интерпретирующие внедренный в HTML-страницу код на скриптовом язык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9" name=""/>
          <p:cNvSpPr/>
          <p:nvPr/>
        </p:nvSpPr>
        <p:spPr>
          <a:xfrm>
            <a:off x="395280" y="404640"/>
            <a:ext cx="84978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SP .NE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овейшей версией технологии Active Server Pages является ASP .NET, ключевая в архитектуре Microsoft .NET Framework. Основное отличие этой технологии от ASP с точки зрения архитектуры приложений заключается в том, что код, присутствующий на Web-странице, не интерпретируется, а компилируется и кэшируется, что, естественно, способствует повышению производительности 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помощью ASP .NET можно создавать Web-приложения и Web-сервисы, которые не только позволяют реализовать динамическую генерацию HTML-страниц, но и интегрируются с серверными компонентами и могут использоваться для решения широкого круга бизнес-задач, возникающих перед разработчиками современных Web-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общем случае клиентом Web-сервера может быть не только персональный компьютер, оснащенный обычными Web-клиентами (например, Web-браузером), но и мобильные устройства, отличающиеся ограниченным размером экрана, малым объемом памяти, а нередко и невозможностью отображения графики. Для этих устройств существуют свои протоколы передачи данных (Wireless Access Protocol, WAP) и соответствующие языки разметки (WML, Wireless MarkupLanguage, СHTML, Compact HTML и т.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3" name=""/>
          <p:cNvSpPr/>
          <p:nvPr/>
        </p:nvSpPr>
        <p:spPr>
          <a:xfrm>
            <a:off x="611280" y="1628640"/>
            <a:ext cx="8281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А вот еще факт. Согласно закону всемирного тяготения плоскость траектории баллистических ракет расположена так, что проходит через точку старта, точку цели и (обязательно!) через центр земного шара. Мысленно разрежьте глобус такой плоскостью, и вы увидите, что Америка ожидает основную массу ракет со стороны Северного Ледовитого океана. Вот на этих безжизненных просторах и пришлось создавать систему раннего оповещения. Так в конце 50-х годов началась разработка системы </a:t>
            </a:r>
            <a:r>
              <a:rPr b="0" i="1" lang="en-US" sz="1800" spc="-1" strike="noStrike">
                <a:solidFill>
                  <a:srgbClr val="000000"/>
                </a:solidFill>
                <a:latin typeface="Verdana"/>
              </a:rPr>
              <a:t>NORAD</a:t>
            </a:r>
            <a:r>
              <a:rPr b="0" lang="ru-RU" sz="1800" spc="-1" strike="noStrike">
                <a:solidFill>
                  <a:srgbClr val="000000"/>
                </a:solidFill>
                <a:latin typeface="Verdana"/>
              </a:rPr>
              <a:t> (</a:t>
            </a:r>
            <a:r>
              <a:rPr b="0" lang="en-US" sz="1800" spc="-1" strike="noStrike">
                <a:solidFill>
                  <a:srgbClr val="000000"/>
                </a:solidFill>
                <a:latin typeface="Verdana"/>
              </a:rPr>
              <a:t>North American Aerospace Defence Command</a:t>
            </a:r>
            <a:r>
              <a:rPr b="0" lang="ru-RU" sz="1800" spc="-1" strike="noStrike">
                <a:solidFill>
                  <a:srgbClr val="000000"/>
                </a:solidFill>
                <a:latin typeface="Verdana"/>
              </a:rPr>
              <a:t>). Предотвратить атаку она, конечно, не могла, но могла дать минут пятнадцать на то, чтобы зарыться в землю.</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20" name=""/>
          <p:cNvSpPr/>
          <p:nvPr/>
        </p:nvSpPr>
        <p:spPr>
          <a:xfrm>
            <a:off x="539640" y="404640"/>
            <a:ext cx="82803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и этом необходимо передавать данные на мобильное устройство в соответствующем формате, для чего нередко создаются специальные сайты (например, поддерживающие WAP и WML). Более удобным представляется создание приложений, которые способны генерировать тот или иной код в зависимости от типа клиента. Именно такой подход и реализован в Microsoft ASP .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Web-сервис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Говоря о серверных Web-технологиях, нельзя обойти вниманием такую важную, как Web-сервисы XML. На Web-сервисы XML в настоящее время нередко возлагается решение многих задач, связанных с интеграцией приложений, в том числе созданных на разных платформах. Создавать Web-сервисы можно и в виде исполняемых файлов, и в виде библиотек, и в виде интерпретируемого кода; существуют также средства представления бизнес-объектов в виде Web-сервисов. Методы Web-сервисов можно вызывать из обычных приложений, Web-приложений и других Web-сервисов, и, за редким исключением, конечные пользователи непосредственно с Web-сервисами дела не имеют. Тем не менее в последнее время отмечается массовое появление приложений, использующих Web-сервисы, в том числе и приложений, предназначенных для конечных пользовател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4" name=""/>
          <p:cNvSpPr/>
          <p:nvPr/>
        </p:nvSpPr>
        <p:spPr>
          <a:xfrm>
            <a:off x="971640" y="1844640"/>
            <a:ext cx="792144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Система </a:t>
            </a:r>
            <a:r>
              <a:rPr b="0" i="1" lang="en-US" sz="1800" spc="-1" strike="noStrike">
                <a:solidFill>
                  <a:srgbClr val="000000"/>
                </a:solidFill>
                <a:latin typeface="Verdana"/>
              </a:rPr>
              <a:t>NORAD</a:t>
            </a:r>
            <a:r>
              <a:rPr b="0" lang="en-US" sz="1800" spc="-1" strike="noStrike">
                <a:solidFill>
                  <a:srgbClr val="000000"/>
                </a:solidFill>
                <a:latin typeface="Verdana"/>
              </a:rPr>
              <a:t> получилась очень большой. Ее станции протянулась от Аляски до Гренландии через весь север Канады. Сразу возникла новая проблема: как обрабатывать результаты наблюдения воздушных объектов (а летают на Севере не только ракеты), как согласовать действия многочисленных постов, как выделить из множества сигналов те, которые представляют угрозу и как привести в действие систему оповещения. Все это могут делать люди, но людям на принятие и согласование решений нужны часы, а здесь счет шел на секунды. Эту огромную систему нужно было компьютеризировать, а компьютеры объединить в единую разветвленную сеть.</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5" name=""/>
          <p:cNvSpPr/>
          <p:nvPr/>
        </p:nvSpPr>
        <p:spPr>
          <a:xfrm>
            <a:off x="826920" y="333360"/>
            <a:ext cx="8064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тоимость системы </a:t>
            </a:r>
            <a:r>
              <a:rPr b="0" i="1" lang="ru-RU" sz="1800" spc="-1" strike="noStrike">
                <a:solidFill>
                  <a:srgbClr val="000000"/>
                </a:solidFill>
                <a:latin typeface="Verdana"/>
              </a:rPr>
              <a:t>NORAD</a:t>
            </a:r>
            <a:r>
              <a:rPr b="0" lang="ru-RU" sz="1800" spc="-1" strike="noStrike">
                <a:solidFill>
                  <a:srgbClr val="000000"/>
                </a:solidFill>
                <a:latin typeface="Verdana"/>
              </a:rPr>
              <a:t> измерялась десятками миллиардов долларов. В рамках такого бюджета действительно нашлись те несколько миллиардов, которые были использованы для создания глобальной компьютерной сети, обрабатывающей информацию со станций наблюд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вет СССР на развертывание системы </a:t>
            </a:r>
            <a:r>
              <a:rPr b="0" i="1" lang="en-US" sz="1800" spc="-1" strike="noStrike">
                <a:solidFill>
                  <a:srgbClr val="000000"/>
                </a:solidFill>
                <a:latin typeface="Verdana"/>
              </a:rPr>
              <a:t>NORAD</a:t>
            </a:r>
            <a:r>
              <a:rPr b="0" lang="ru-RU" sz="1800" spc="-1" strike="noStrike">
                <a:solidFill>
                  <a:srgbClr val="000000"/>
                </a:solidFill>
                <a:latin typeface="Verdana"/>
              </a:rPr>
              <a:t> был недорогим и эффективным. Эта система легко обходится, если разместить стратегические ракеты где-нибудь в Карибском море, например на Кубе — тогда их траектория будет совсем иной. Соответствующие решения были приняты в начале 60-х. А в США, соответственно, началось «закапывание под землю». Были созданы сложнейшие подземные убежища в Вашингтоне, а в Колорадо Спрингс, что в Скалистых горах, началось закапывание под землю командного центра </a:t>
            </a:r>
            <a:r>
              <a:rPr b="0" i="1" lang="ru-RU" sz="1800" spc="-1" strike="noStrike">
                <a:solidFill>
                  <a:srgbClr val="000000"/>
                </a:solidFill>
                <a:latin typeface="Verdana"/>
              </a:rPr>
              <a:t>NORAD.</a:t>
            </a:r>
            <a:r>
              <a:rPr b="0" lang="ru-RU" sz="1800" spc="-1" strike="noStrike">
                <a:solidFill>
                  <a:srgbClr val="000000"/>
                </a:solidFill>
                <a:latin typeface="Verdana"/>
              </a:rPr>
              <a:t> Так к 1964 году в недрах горы Шайенн возник целый город с трехэтажными сооружениями. Со всей страны к нему потянулись компьютерные и другие линии связи, соединившие центр управления </a:t>
            </a:r>
            <a:r>
              <a:rPr b="0" i="1" lang="ru-RU" sz="1800" spc="-1" strike="noStrike">
                <a:solidFill>
                  <a:srgbClr val="000000"/>
                </a:solidFill>
                <a:latin typeface="Verdana"/>
              </a:rPr>
              <a:t>NORAD со</a:t>
            </a:r>
            <a:r>
              <a:rPr b="0" lang="ru-RU" sz="1800" spc="-1" strike="noStrike">
                <a:solidFill>
                  <a:srgbClr val="000000"/>
                </a:solidFill>
                <a:latin typeface="Verdana"/>
              </a:rPr>
              <a:t> станциями наблюдения, рабочими постами и правительственными орган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6" name=""/>
          <p:cNvSpPr/>
          <p:nvPr/>
        </p:nvSpPr>
        <p:spPr>
          <a:xfrm>
            <a:off x="971640" y="1700280"/>
            <a:ext cx="756108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еть системы </a:t>
            </a:r>
            <a:r>
              <a:rPr b="0" i="1" lang="ru-RU" sz="1800" spc="-1" strike="noStrike">
                <a:solidFill>
                  <a:srgbClr val="000000"/>
                </a:solidFill>
                <a:latin typeface="Verdana"/>
              </a:rPr>
              <a:t>NORAD</a:t>
            </a:r>
            <a:r>
              <a:rPr b="0" lang="ru-RU" sz="1800" spc="-1" strike="noStrike">
                <a:solidFill>
                  <a:srgbClr val="000000"/>
                </a:solidFill>
                <a:latin typeface="Verdana"/>
              </a:rPr>
              <a:t> не долго оставалась внутриведомственной. Сразу после  запуска началось подключение к ней служб управления авиаполетами — это логично, ведь все равно система контролировала воздушное пространство на огромных просторах. Сначала подключались военные авиаслужбы, но уже в середине 60-х годов активно шло подключение гражданских авиационных служб. Сеть неуклонно расширялась и развивалась, она вбирала в себя метеорологические службы, службы контроля состояния взлетных полос аэродромов и другие системы, как военные, так и граждански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7" name=""/>
          <p:cNvSpPr/>
          <p:nvPr/>
        </p:nvSpPr>
        <p:spPr>
          <a:xfrm>
            <a:off x="684360" y="333360"/>
            <a:ext cx="8137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облема устойчивости глобальной сет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ервая очередь системы </a:t>
            </a:r>
            <a:r>
              <a:rPr b="0" i="1" lang="en-US" sz="1800" spc="-1" strike="noStrike">
                <a:solidFill>
                  <a:srgbClr val="000000"/>
                </a:solidFill>
                <a:latin typeface="Verdana"/>
              </a:rPr>
              <a:t>NORAD</a:t>
            </a:r>
            <a:r>
              <a:rPr b="0" lang="ru-RU" sz="1800" spc="-1" strike="noStrike">
                <a:solidFill>
                  <a:srgbClr val="000000"/>
                </a:solidFill>
                <a:latin typeface="Verdana"/>
              </a:rPr>
              <a:t> была завершена в мае 1964 года, но к тому времени уже стало известно о существовании в России ядерных зарядов мощностью 50 мегатонн. Несмотря на то, что гора, в которой разместился центр управления, отбиралась очень тщательно (она представляет из себя единый скальный массив), стало ясно, что и у нее нет шансов. А выход из строя центра управления однозначно вызывал (в те годы) выход из строя всей глобальной системы. В итоге многомиллиардная затея с разработкой и строительством подземного центра управления оказалась бесполезной. Поэтому во второй половине 60-х годов перед Пентагоном встала проблема разработки такой архитектуры глобальной Сети, которая не выходила бы из строя даже в случае поражения одного или нескольких узл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кспериментировать с системой, на которой базируется национальная безопасность,— дело невозможное. Бумаги на любое испытание будут согласовываться годами. Вот если бы у Министерства обороны была другая глобальная сеть, содержащая несколько узлов, да к тому же работающих в неустойчивой среде, она стала бы прекрасным полигон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8" name=""/>
          <p:cNvSpPr/>
          <p:nvPr/>
        </p:nvSpPr>
        <p:spPr>
          <a:xfrm>
            <a:off x="684360" y="333360"/>
            <a:ext cx="828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от она истинная причина участия Министерства обороны США в том проекте, который ныне стал Интернетом! Вот как родилась сеть </a:t>
            </a:r>
            <a:r>
              <a:rPr b="0" i="1" lang="en-US" sz="1800" spc="-1" strike="noStrike">
                <a:solidFill>
                  <a:srgbClr val="000000"/>
                </a:solidFill>
                <a:latin typeface="Verdana"/>
              </a:rPr>
              <a:t>ARPANETl</a:t>
            </a:r>
            <a:r>
              <a:rPr b="0" lang="ru-RU" sz="1800" spc="-1" strike="noStrike">
                <a:solidFill>
                  <a:srgbClr val="000000"/>
                </a:solidFill>
                <a:latin typeface="Verdana"/>
              </a:rPr>
              <a:t> Как видите, не была она Первой глобальной. И не было у Министерства обороны ни малейшего желания обеспечить научные круги удобным средством для обмена научной и технической документацией. В то время шла дорогая и бесславная война во Вьетнаме. Мог ли Пентагон в эти годы финансировать то, что нужно научной общественности? Не мог! Вместо этого было желание получить за гроши удобный полигон для испытаний, который можно держа под постоянным контролем и использовать для себя найденные оригинальные решения. Вот этим делом и занялось агентство </a:t>
            </a:r>
            <a:r>
              <a:rPr b="0" i="1" lang="en-US" sz="1800" spc="-1" strike="noStrike">
                <a:solidFill>
                  <a:srgbClr val="000000"/>
                </a:solidFill>
                <a:latin typeface="Verdana"/>
              </a:rPr>
              <a:t>DARPA</a:t>
            </a:r>
            <a:r>
              <a:rPr b="0" i="1" lang="ru-RU" sz="1800" spc="-1" strike="noStrike">
                <a:solidFill>
                  <a:srgbClr val="000000"/>
                </a:solidFill>
                <a:latin typeface="Verdan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альнейшая история подтверждает наши выводы. Как только проблема устойчивости и выживания сети при выходе из строя ее узлов была решена, работа </a:t>
            </a:r>
            <a:r>
              <a:rPr b="0" i="1" lang="ru-RU" sz="1800" spc="-1" strike="noStrike">
                <a:solidFill>
                  <a:srgbClr val="000000"/>
                </a:solidFill>
                <a:latin typeface="Verdana"/>
              </a:rPr>
              <a:t>DARPA</a:t>
            </a:r>
            <a:r>
              <a:rPr b="0" lang="ru-RU" sz="1800" spc="-1" strike="noStrike">
                <a:solidFill>
                  <a:srgbClr val="000000"/>
                </a:solidFill>
                <a:latin typeface="Verdana"/>
              </a:rPr>
              <a:t> немедленно прекратилась. Это событие произошло в 1983 г. после внедрения протокола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a:t>
            </a:r>
            <a:r>
              <a:rPr b="0" lang="ru-RU" sz="1800" spc="-1" strike="noStrike">
                <a:solidFill>
                  <a:srgbClr val="000000"/>
                </a:solidFill>
                <a:latin typeface="Verdana"/>
              </a:rPr>
              <a:t> Свою задачу Пентагон выполнил и тихо удалился. В том же 1983 г. сеть </a:t>
            </a:r>
            <a:r>
              <a:rPr b="0" i="1" lang="ru-RU" sz="1800" spc="-1" strike="noStrike">
                <a:solidFill>
                  <a:srgbClr val="000000"/>
                </a:solidFill>
                <a:latin typeface="Verdana"/>
              </a:rPr>
              <a:t> </a:t>
            </a:r>
            <a:r>
              <a:rPr b="0" i="1" lang="en-US" sz="1800" spc="-1" strike="noStrike">
                <a:solidFill>
                  <a:srgbClr val="000000"/>
                </a:solidFill>
                <a:latin typeface="Verdana"/>
              </a:rPr>
              <a:t>ARPANET</a:t>
            </a:r>
            <a:r>
              <a:rPr b="0" lang="ru-RU" sz="1800" spc="-1" strike="noStrike">
                <a:solidFill>
                  <a:srgbClr val="000000"/>
                </a:solidFill>
                <a:latin typeface="Verdana"/>
              </a:rPr>
              <a:t> передали местной Академии наук  (в США ее функции выполняет Национальный научный фонд, </a:t>
            </a:r>
            <a:r>
              <a:rPr b="0" i="1" lang="en-US" sz="1800" spc="-1" strike="noStrike">
                <a:solidFill>
                  <a:srgbClr val="000000"/>
                </a:solidFill>
                <a:latin typeface="Verdana"/>
              </a:rPr>
              <a:t>NSF</a:t>
            </a:r>
            <a:r>
              <a:rPr b="0" i="1" lang="ru-RU" sz="1800" spc="-1" strike="noStrike">
                <a:solidFill>
                  <a:srgbClr val="000000"/>
                </a:solidFill>
                <a:latin typeface="Verdana"/>
              </a:rPr>
              <a:t>). </a:t>
            </a:r>
            <a:r>
              <a:rPr b="0" lang="ru-RU" sz="1800" spc="-1" strike="noStrike">
                <a:solidFill>
                  <a:srgbClr val="000000"/>
                </a:solidFill>
                <a:latin typeface="Verdana"/>
              </a:rPr>
              <a:t>С тех пор сеть стала называться </a:t>
            </a:r>
            <a:r>
              <a:rPr b="0" i="1" lang="en-US" sz="1800" spc="-1" strike="noStrike">
                <a:solidFill>
                  <a:srgbClr val="000000"/>
                </a:solidFill>
                <a:latin typeface="Verdana"/>
              </a:rPr>
              <a:t>NSFNET</a:t>
            </a:r>
            <a:r>
              <a:rPr b="0" i="1" lang="ru-RU" sz="1800" spc="-1" strike="noStrike">
                <a:solidFill>
                  <a:srgbClr val="000000"/>
                </a:solidFill>
                <a:latin typeface="Verdana"/>
              </a:rPr>
              <a:t>,</a:t>
            </a:r>
            <a:r>
              <a:rPr b="0" lang="ru-RU" sz="1800" spc="-1" strike="noStrike">
                <a:solidFill>
                  <a:srgbClr val="000000"/>
                </a:solidFill>
                <a:latin typeface="Verdana"/>
              </a:rPr>
              <a:t> и к ней началось подключение зарубежных уз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9" name=""/>
          <p:cNvSpPr/>
          <p:nvPr/>
        </p:nvSpPr>
        <p:spPr>
          <a:xfrm>
            <a:off x="684360" y="620640"/>
            <a:ext cx="8135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Второе рождение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Ранние  глобальные сети представляли собой группы компьютеров, связанные между собой прямыми соединениями. Основной проблемой того времени была проблема надежности и устойчивости сети. Нужна был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такая сеть, которую нельзя вывести из строя даже атомной бомбардировкой. Конечно "атомная бомбардировка" — понятие условное. Сеть, состоящую из прямых соединений, могут вывести из строя мыши, перегрызшие провода, похитители, стащившие жесткий диск из узлового компьютера, </a:t>
            </a:r>
            <a:r>
              <a:rPr b="0" i="1" lang="en-US" sz="1800" spc="-1" strike="noStrike">
                <a:solidFill>
                  <a:srgbClr val="000000"/>
                </a:solidFill>
                <a:latin typeface="Verdana"/>
              </a:rPr>
              <a:t>хакеры,</a:t>
            </a:r>
            <a:r>
              <a:rPr b="0" lang="en-US" sz="1800" spc="-1" strike="noStrike">
                <a:solidFill>
                  <a:srgbClr val="000000"/>
                </a:solidFill>
                <a:latin typeface="Verdana"/>
              </a:rPr>
              <a:t> не вовремя заправившие вирус, куда не следует. Существуют тысячи причин, по которым обычное разгильдяйство может вызвать последствия не хуже атомной бомбардировки. С точки зрения военных эксплуатация сети в научном и университетском окружении должна была стать для неё самым суровым испытанием, какое только можно придумать. В борьбе со множеством непредсказуемых случайностей университетские круги рано или поздно должны были найти простое и эффективное реш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11:38:46Z</dcterms:created>
  <dc:creator>Оксана</dc:creator>
  <dc:description/>
  <dc:language>en-US</dc:language>
  <cp:lastModifiedBy>Оксана</cp:lastModifiedBy>
  <dcterms:modified xsi:type="dcterms:W3CDTF">2011-09-03T12:08:13Z</dcterms:modified>
  <cp:revision>2</cp:revision>
  <dc:subject/>
  <dc:title>Слайд 1</dc:title>
</cp:coreProperties>
</file>