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EFD-E138-4E60-9C87-016DED64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9000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EA2-8800-4E3B-B6C8-9D55D180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0A32-0530-439A-89D6-FA3D42F7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FC3-AF62-419A-A017-DD817AAB5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0640-74FD-4BBF-A0BD-9446C093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EDB9-1A26-41B5-86C9-42DCC076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B693-5AB4-4633-B5D4-21C563B5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1714-3148-4760-BA78-5CD20963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634E-DF60-4B7E-A006-0565F5CF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C2E-EAD2-4DA3-98DD-AAF803FB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53EA-E2EB-4C5E-A0E7-96460A4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937A-6599-4486-893A-92788560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140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0FC1-0A57-40DF-8591-964A6E2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E4B-B691-4B21-9B21-53339316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9000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5925-9F96-42FD-BFC5-1B40B4FF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140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07C1-027F-41CD-A3E7-9CC4F34D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340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7320" y="114264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340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7320" y="369000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28ED-FECD-4775-B9EE-8482C8DA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534-5544-4AC6-8D84-DF989F2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C07-B552-462E-9C07-317BCF6D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99F0-E0EC-4F9D-99C5-FCCB0ECB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867-D8F6-43B2-A139-849CED75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703-7710-40E9-8EFD-5A58932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369000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8FD-495E-4185-B629-B3B57E6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3608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14264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27F-F36C-4B97-A830-ABBFA8EF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b2337"/>
                </a:solidFill>
                <a:latin typeface="Arial Black"/>
              </a:rPr>
              <a:t>Click to edit the title text format</a:t>
            </a:r>
            <a:endParaRPr b="1" i="1" lang="en-US" sz="36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1426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b23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b23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b23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b23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b23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B58C-0E10-4F10-B7CA-80399D023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DD9A-D3C7-446F-8C67-193118D62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337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b2337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337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9b2337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b2337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b2337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9b2337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b2337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337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9b2337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9b2337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337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9b2337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337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9b2337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b2337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9b2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3505320"/>
            <a:ext cx="8736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Основные элементы языка UML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920" y="42210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b2337"/>
                </a:solidFill>
                <a:latin typeface="Arial"/>
              </a:rPr>
              <a:t>Тема 2</a:t>
            </a:r>
            <a:endParaRPr b="1" lang="en-US" sz="2400" spc="-1" strike="noStrike">
              <a:solidFill>
                <a:srgbClr val="9b2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066F-B478-47EC-89ED-1EBD0ED44B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51" name=""/>
          <p:cNvSpPr/>
          <p:nvPr/>
        </p:nvSpPr>
        <p:spPr>
          <a:xfrm>
            <a:off x="87480" y="247680"/>
            <a:ext cx="608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труктурные сущност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- это имена существительные в моделях на языке UM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rcRect l="20134" t="24642" r="3728" b="27317"/>
          <a:stretch/>
        </p:blipFill>
        <p:spPr>
          <a:xfrm>
            <a:off x="585720" y="1606680"/>
            <a:ext cx="8018640" cy="36669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1280" y="5445000"/>
            <a:ext cx="734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ествуют также разновидности структурных сущностей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еры, сигналы, утилиты (виды классов), процессы и нити (виды активных классов), приложения, документы, файлы, библиотеки, страницы и таблицы (виды компоненто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0535-2095-4C17-99BF-AEB37F1573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60280"/>
            <a:ext cx="6732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Поведенческие сущ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(Behavioral things)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являются динамическими составляющими модели UML. Это глаголы языка: они описывают поведение модели во времени и простран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3485" t="19094" r="4622" b="23251"/>
          <a:stretch/>
        </p:blipFill>
        <p:spPr>
          <a:xfrm>
            <a:off x="79200" y="1989000"/>
            <a:ext cx="896328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98DA-28A0-4E5F-A623-76200608E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7480" y="247680"/>
            <a:ext cx="60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200" spc="-1" strike="noStrike" u="sng">
                <a:solidFill>
                  <a:srgbClr val="800000"/>
                </a:solidFill>
                <a:uFillTx/>
                <a:latin typeface="Arial"/>
              </a:rPr>
              <a:t>Группирующие сущности</a:t>
            </a:r>
            <a:r>
              <a:rPr b="1" lang="ru-RU" sz="2200" spc="-1" strike="noStrike">
                <a:solidFill>
                  <a:srgbClr val="800000"/>
                </a:solidFill>
                <a:latin typeface="Arial"/>
              </a:rPr>
              <a:t> являются организующими частями модели UML. Это блоки, на которые можно разложить модель. Есть только одна первичная группирующая сущность, а именно пак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4560" y="3068640"/>
            <a:ext cx="2592360" cy="1152360"/>
          </a:xfrm>
          <a:prstGeom prst="rect">
            <a:avLst/>
          </a:prstGeom>
          <a:solidFill>
            <a:srgbClr val="fce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 па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4560" y="2781360"/>
            <a:ext cx="1152360" cy="287280"/>
          </a:xfrm>
          <a:prstGeom prst="rect">
            <a:avLst/>
          </a:prstGeom>
          <a:solidFill>
            <a:srgbClr val="fce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48360" y="3068640"/>
            <a:ext cx="2592360" cy="1152360"/>
          </a:xfrm>
          <a:prstGeom prst="rect">
            <a:avLst/>
          </a:prstGeom>
          <a:solidFill>
            <a:srgbClr val="fce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мое пак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2781360"/>
            <a:ext cx="1152360" cy="287280"/>
          </a:xfrm>
          <a:prstGeom prst="rect">
            <a:avLst/>
          </a:prstGeom>
          <a:solidFill>
            <a:srgbClr val="fceb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мя пак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450864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ый пакет владеет всеми своими элементами, т.е. теми элемен­тами, которые включены в него. Про соответствующие элементы пакета говорят, что они принадлежат пакету или входят в него. При этом каждый элемент может принадлежать только одному пакету. В свою очередь, одни пакеты могут быть вложены в дру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3703-49B3-4AA4-A2B3-130A0B0745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7480" y="247680"/>
            <a:ext cx="6084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Arial"/>
              </a:rPr>
              <a:t>Аннотационные сущност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- пояснительные части модели UML. Это комментарии для дополнительного описания, разъяснения или замечания к любому элементу модели. Имеется только один базовый тип аннотационных элементов - примечание (Note)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2565360"/>
            <a:ext cx="3456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это просто символ для изображения комментариев или ограничений, присоединенных к элементу или группе элем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476360" y="3428280"/>
            <a:ext cx="2448000" cy="1152360"/>
          </a:xfrm>
          <a:prstGeom prst="foldedCorner">
            <a:avLst>
              <a:gd name="adj" fmla="val 22319"/>
            </a:avLst>
          </a:prstGeom>
          <a:solidFill>
            <a:srgbClr val="cb9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3645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 примеч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F199-E4D0-4A1D-AFB2-E4CA74C7EF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33360"/>
            <a:ext cx="504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Отношен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вляются основными связующими строительными блоками в UML и применяются для создания корректных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8088" t="21473" r="5567" b="20465"/>
          <a:stretch/>
        </p:blipFill>
        <p:spPr>
          <a:xfrm>
            <a:off x="468360" y="2421000"/>
            <a:ext cx="842148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A639-CAD1-4B1C-B177-5B6ADC7BD3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33360"/>
            <a:ext cx="5040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Отношен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вляются основными связующими строительными блоками в UML и применяются для создания корректных мод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rcRect l="8088" t="40455" r="5696" b="13658"/>
          <a:stretch/>
        </p:blipFill>
        <p:spPr>
          <a:xfrm>
            <a:off x="395280" y="2708280"/>
            <a:ext cx="8408880" cy="324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B64A-84E5-4A70-AD7E-61890B17E9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333360"/>
            <a:ext cx="50403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Диаграмма </a:t>
            </a: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diagramm</a:t>
            </a: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)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 - это графическое представление набора элементов, изображаемое чаще всего в виде связанного графа с вершинами (сущностями) и ребрами (отношениями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95800" y="2637000"/>
            <a:ext cx="2050920" cy="5428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классов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48480" y="2637000"/>
            <a:ext cx="2139840" cy="5428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objec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2800" y="2637000"/>
            <a:ext cx="2452680" cy="5428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прецедентов (use case diagram)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2800" y="3448080"/>
            <a:ext cx="2452680" cy="76212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пер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ollaboration diagram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00" y="4435560"/>
            <a:ext cx="2374920" cy="76176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состояни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cha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48480" y="4433760"/>
            <a:ext cx="2139840" cy="71604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ctivity dia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373720"/>
            <a:ext cx="3432240" cy="5032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последовательносте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9240" y="3498840"/>
            <a:ext cx="2496960" cy="67140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 компон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56080" y="5373720"/>
            <a:ext cx="3119400" cy="50328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 разверты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evelopmen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95480" y="3762360"/>
            <a:ext cx="285300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895120" y="3807000"/>
            <a:ext cx="2853000" cy="9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2820960"/>
            <a:ext cx="2495520" cy="25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029040" y="2870280"/>
            <a:ext cx="2719440" cy="25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03640" y="3716280"/>
            <a:ext cx="2228760" cy="10303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тегрированная модель слож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76800" y="318456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216F-70B9-4729-9C1A-BBC3ECA7E6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260280"/>
            <a:ext cx="5616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Правила в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пределяют как должна выглядеть хорошо оформленная модель, то есть семантически самосогласованная и находящаяся в гармонии со всеми моделями, которые с нею связ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2637000"/>
            <a:ext cx="874872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воляют однозначно определ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которые можно давать сущностям, отношениям и диаграмма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ласть действ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онтекст, в котором имя имеет некоторое знач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им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огда имена видимы и могут использоваться другими элементам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ак элементы должны правильно и согласованно соотноситься друг с друго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что значит выполнить или имитировать некоторую динамическую модел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BB89-EEC4-4D5F-8E61-F2C475261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260280"/>
            <a:ext cx="56163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Общие механизмы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кстовая информация, которая расширяет семантику базовых элементов. Упрощение проектирования системы на UML и ее понимания существенно облегчает последовательное использование общих мех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2349360"/>
            <a:ext cx="4176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ции и До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т текстовое представление синтаксиса и семантики соответствующего строительного бл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, пиктограмме класса соответствует спецификация, полностью описывающая его атрибуты, операции (включая полные сигнатуры) и 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31840" y="3413160"/>
            <a:ext cx="1854360" cy="11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execu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rollbac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riorit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mestamp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127160" y="2708280"/>
            <a:ext cx="1860480" cy="706320"/>
            <a:chOff x="1127160" y="2708280"/>
            <a:chExt cx="1860480" cy="706320"/>
          </a:xfrm>
        </p:grpSpPr>
        <p:sp>
          <p:nvSpPr>
            <p:cNvPr id="205" name=""/>
            <p:cNvSpPr/>
            <p:nvPr/>
          </p:nvSpPr>
          <p:spPr>
            <a:xfrm>
              <a:off x="1127160" y="3063960"/>
              <a:ext cx="1859040" cy="35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28600" y="2708280"/>
              <a:ext cx="1859040" cy="4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79280" y="472428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ый элемент нотации UML содержит базовый для него символ, к которому можно добавлять разнообразные специфичные для него допол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E680-819E-4D66-A580-52B56F7E7F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260280"/>
            <a:ext cx="56163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Общие механизмы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кстовая информация, которая расширяет семантику базовых элементов. Упрощение проектирования системы на UML и ее понимания существенно облегчает последовательное использование общих мех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421000"/>
            <a:ext cx="5184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ые 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 моделировании объектно-ориентированных систем реальность членится с учетом двух под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ществует разделение на классы и объекты. Класс - это абстракция, объект - конкретная материализация этой абстр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меются прецеденты и экземпляры прецедентов, компоненты и экземпляры компонентов, узлы и экземпляры уз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терфейс и его реализ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rcRect l="1159" t="25560" r="74536" b="55191"/>
          <a:stretch/>
        </p:blipFill>
        <p:spPr>
          <a:xfrm>
            <a:off x="382680" y="2679840"/>
            <a:ext cx="2808360" cy="1616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rcRect l="2078" t="82493" r="78356" b="4426"/>
          <a:stretch/>
        </p:blipFill>
        <p:spPr>
          <a:xfrm>
            <a:off x="411120" y="4508640"/>
            <a:ext cx="2870280" cy="139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26E1-44A5-4871-A0C9-EBC3BBCB6A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594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Развитие ООАП до появления </a:t>
            </a: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UML</a:t>
            </a:r>
            <a:r>
              <a:rPr b="1" i="1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2527200"/>
            <a:ext cx="85690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дина 70-х годов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 - начали появляться отдельные языки объектно-ориентированного модел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989 – 1994 годы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- число наиболее известных языков моделирования воз­росло с 10 до более чем 50. «Война методо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дина 90-х годов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– улучшаются и приобретают самостоятельное значение отдельные методы при решении задач ООА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23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1 Основные этапы развития язык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600" y="4710240"/>
            <a:ext cx="6481800" cy="1310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 Гради Буч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y Booc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c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c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'9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 Джеймса Румба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Rumbaug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Mode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qu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ОМ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 Айвара Джекобсо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r Jacobs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 О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2520" y="4768920"/>
            <a:ext cx="2152800" cy="12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ый из этих методов был ориентирован на поддержку отдельных этапов ОО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035C-AE0D-44F4-8014-7CAE18839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260280"/>
            <a:ext cx="56163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Общие механизмы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кстовая информация, которая расширяет семантику базовых элементов. Упрощение проектирования системы на UML и ее понимания существенно облегчает последовательное использование общих мех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7440" y="2681280"/>
            <a:ext cx="41054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мы расши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ереот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меченные 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rcRect l="882" t="31046" r="69066" b="55012"/>
          <a:stretch/>
        </p:blipFill>
        <p:spPr>
          <a:xfrm>
            <a:off x="2627280" y="3933720"/>
            <a:ext cx="6192720" cy="21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1CCD-0047-43EB-9970-2E2787B9A3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33336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260280"/>
            <a:ext cx="56163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Общие механизмы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ML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кстовая информация, которая расширяет семантику базовых элементов. Упрощение проектирования системы на UML и ее понимания существенно облегчает последовательное использование общих механизм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2924280"/>
            <a:ext cx="83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2637000"/>
            <a:ext cx="4176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держат текстовое представление синтаксиса и семантики соответствующего строительного бло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, пиктограмме класса соответствует спецификация, полностью описывающая его атрибуты, операции (включая полные сигнатуры) и по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116000" y="2708280"/>
            <a:ext cx="1871280" cy="1873080"/>
            <a:chOff x="1116000" y="2708280"/>
            <a:chExt cx="1871280" cy="1873080"/>
          </a:xfrm>
        </p:grpSpPr>
        <p:sp>
          <p:nvSpPr>
            <p:cNvPr id="227" name=""/>
            <p:cNvSpPr/>
            <p:nvPr/>
          </p:nvSpPr>
          <p:spPr>
            <a:xfrm>
              <a:off x="1126800" y="3063240"/>
              <a:ext cx="1859400" cy="34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16000" y="3412800"/>
              <a:ext cx="1870200" cy="116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execut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rollback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 priority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timestampt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27520" y="2708280"/>
              <a:ext cx="1859760" cy="4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s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9280" y="4724280"/>
            <a:ext cx="41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ый элемент нотации UML содержит базовый для него символ, к которому можно добавлять разнообразные специфичные для него дополн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7D9-CE08-4983-84D5-D2CC996E57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32" name=""/>
          <p:cNvSpPr/>
          <p:nvPr/>
        </p:nvSpPr>
        <p:spPr>
          <a:xfrm>
            <a:off x="250920" y="189000"/>
            <a:ext cx="75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68360" y="1125360"/>
            <a:ext cx="8280360" cy="4967280"/>
            <a:chOff x="468360" y="1125360"/>
            <a:chExt cx="8280360" cy="4967280"/>
          </a:xfrm>
        </p:grpSpPr>
        <p:sp>
          <p:nvSpPr>
            <p:cNvPr id="234" name=""/>
            <p:cNvSpPr/>
            <p:nvPr/>
          </p:nvSpPr>
          <p:spPr>
            <a:xfrm>
              <a:off x="670320" y="1245240"/>
              <a:ext cx="2473920" cy="1444680"/>
            </a:xfrm>
            <a:prstGeom prst="rect">
              <a:avLst/>
            </a:prstGeom>
            <a:solidFill>
              <a:srgbClr val="e4c9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 с точки зрения проектир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Логическое представл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Times New Roman"/>
                </a:rPr>
                <a:t>Конечный пользователь, системный аналити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0320" y="3291840"/>
              <a:ext cx="2463840" cy="1693080"/>
            </a:xfrm>
            <a:prstGeom prst="rect">
              <a:avLst/>
            </a:prstGeom>
            <a:solidFill>
              <a:srgbClr val="e4c9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 с точки зрения процесс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ставление процесса функциониро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Системный аналитик, архитектор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8360" y="3291840"/>
              <a:ext cx="2496240" cy="1669680"/>
            </a:xfrm>
            <a:prstGeom prst="rect">
              <a:avLst/>
            </a:prstGeom>
            <a:solidFill>
              <a:srgbClr val="e4c9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 с точки зрения развертыв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ставление размещения компон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Системный инжен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07560" y="1245240"/>
              <a:ext cx="2521800" cy="1454040"/>
            </a:xfrm>
            <a:prstGeom prst="rect">
              <a:avLst/>
            </a:prstGeom>
            <a:solidFill>
              <a:srgbClr val="e4c9ff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 с точки зрен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ал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едставление реал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Архитектор системы, программис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89920" y="2053080"/>
              <a:ext cx="2322360" cy="1884960"/>
            </a:xfrm>
            <a:prstGeom prst="ellipse">
              <a:avLst/>
            </a:prstGeom>
            <a:solidFill>
              <a:srgbClr val="ffb9dc"/>
            </a:solidFill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и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 точки зрения  прецеден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Конечный пользовате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33680" y="1125360"/>
              <a:ext cx="353160" cy="1723320"/>
            </a:xfrm>
            <a:custGeom>
              <a:avLst/>
              <a:gdLst>
                <a:gd name="textAreaLeft" fmla="*/ 0 w 353160"/>
                <a:gd name="textAreaRight" fmla="*/ 127440 w 353160"/>
                <a:gd name="textAreaTop" fmla="*/ 44640 h 1723320"/>
                <a:gd name="textAreaBottom" fmla="*/ 1678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82640" y="3022560"/>
              <a:ext cx="353160" cy="2100600"/>
            </a:xfrm>
            <a:custGeom>
              <a:avLst/>
              <a:gdLst>
                <a:gd name="textAreaLeft" fmla="*/ 0 w 353160"/>
                <a:gd name="textAreaRight" fmla="*/ 127440 w 353160"/>
                <a:gd name="textAreaTop" fmla="*/ 54720 h 2100600"/>
                <a:gd name="textAreaBottom" fmla="*/ 2045880 h 21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35800" y="1460520"/>
              <a:ext cx="1262160" cy="10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атическая модель слож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86560" y="3615120"/>
              <a:ext cx="1262160" cy="10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инамическая  модель слож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1120" y="5392800"/>
              <a:ext cx="212040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цептуальная модель слож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59920" y="5446440"/>
              <a:ext cx="212040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Физическая модель сложной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1878480" y="3551040"/>
              <a:ext cx="461160" cy="3281760"/>
            </a:xfrm>
            <a:custGeom>
              <a:avLst/>
              <a:gdLst>
                <a:gd name="textAreaLeft" fmla="*/ 294840 w 461160"/>
                <a:gd name="textAreaRight" fmla="*/ 461520 w 461160"/>
                <a:gd name="textAreaTop" fmla="*/ 85320 h 3281760"/>
                <a:gd name="textAreaBottom" fmla="*/ 3196440 h 328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97"/>
                  </a:lnTo>
                  <a:cubicBezTo>
                    <a:pt x="10800" y="9797"/>
                    <a:pt x="5400" y="10697"/>
                    <a:pt x="0" y="10697"/>
                  </a:cubicBezTo>
                  <a:cubicBezTo>
                    <a:pt x="5400" y="10697"/>
                    <a:pt x="10800" y="11597"/>
                    <a:pt x="10800" y="1249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6200000">
              <a:off x="5362920" y="3600720"/>
              <a:ext cx="461160" cy="3182400"/>
            </a:xfrm>
            <a:custGeom>
              <a:avLst/>
              <a:gdLst>
                <a:gd name="textAreaLeft" fmla="*/ 294840 w 461160"/>
                <a:gd name="textAreaRight" fmla="*/ 461520 w 461160"/>
                <a:gd name="textAreaTop" fmla="*/ 82800 h 3182400"/>
                <a:gd name="textAreaBottom" fmla="*/ 3099600 h 318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97"/>
                  </a:lnTo>
                  <a:cubicBezTo>
                    <a:pt x="10800" y="9797"/>
                    <a:pt x="5400" y="10697"/>
                    <a:pt x="0" y="10697"/>
                  </a:cubicBezTo>
                  <a:cubicBezTo>
                    <a:pt x="5400" y="10697"/>
                    <a:pt x="10800" y="11597"/>
                    <a:pt x="10800" y="1249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84360" y="26028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елирование системной архитек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C45-98A9-4FA7-8424-5C1BC36528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51460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2514600" y="426708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586728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7ED8-8702-47E6-9629-1B9B4DC941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32441" t="10087" r="27037" b="5451"/>
          <a:stretch/>
        </p:blipFill>
        <p:spPr>
          <a:xfrm>
            <a:off x="4572000" y="14400"/>
            <a:ext cx="4538520" cy="68547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ff"/>
          </a:solidFill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445000"/>
            <a:ext cx="9113760" cy="1413000"/>
          </a:xfrm>
          <a:prstGeom prst="rect">
            <a:avLst/>
          </a:prstGeom>
          <a:solidFill>
            <a:srgbClr val="f2a89c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516640"/>
            <a:ext cx="450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ьные самостоя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ОО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2600" y="4460760"/>
            <a:ext cx="9113760" cy="973080"/>
          </a:xfrm>
          <a:prstGeom prst="rect">
            <a:avLst/>
          </a:prstGeom>
          <a:solidFill>
            <a:srgbClr val="ff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60" y="4570560"/>
            <a:ext cx="450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.Буч и Дж.Румбах унифицируют результаты сво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аботы, объединяя достоинства всех известн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бъектно-ориентированных методов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 проект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nified Method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ерсии 0.8. К проекту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исоединилс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жекобсон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789360"/>
            <a:ext cx="9113760" cy="6764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80" y="3876840"/>
            <a:ext cx="4643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ддержка и разработка языка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- одна и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целей консорциума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MG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. Появление первых до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кументов, содержащих описание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 0/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141720"/>
            <a:ext cx="9113760" cy="650880"/>
          </a:xfrm>
          <a:prstGeom prst="rect">
            <a:avLst/>
          </a:prstGeom>
          <a:solidFill>
            <a:srgbClr val="339966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13000"/>
            <a:ext cx="43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публикован документ с описанием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1.0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ерсия была хорошо определена, обеспечивал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требуемую выразительность и мощность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2600" y="2579760"/>
            <a:ext cx="9113760" cy="561960"/>
          </a:xfrm>
          <a:prstGeom prst="rect">
            <a:avLst/>
          </a:prstGeom>
          <a:solidFill>
            <a:srgbClr val="3366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65360"/>
            <a:ext cx="43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 результате  работы инициативной группы (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P, IBM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icrosoft, Oracle, Rational Software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и др.)  версия 1.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57360"/>
            <a:ext cx="9113760" cy="1023840"/>
          </a:xfrm>
          <a:prstGeom prst="rect">
            <a:avLst/>
          </a:prstGeom>
          <a:solidFill>
            <a:srgbClr val="80008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80" y="1862280"/>
            <a:ext cx="43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исходит совершенствование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, уделяетс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нимание достижению большей ясности семантики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 также учету предложений новых партне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38160"/>
            <a:ext cx="9113760" cy="620640"/>
          </a:xfrm>
          <a:prstGeom prst="rect">
            <a:avLst/>
          </a:prstGeom>
          <a:solidFill>
            <a:srgbClr val="ffcc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81000"/>
            <a:ext cx="43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81000"/>
            <a:ext cx="457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125360"/>
            <a:ext cx="4500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публикован проект языка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 2.0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, версия которог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сих пор официально не принят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2600" y="2579760"/>
            <a:ext cx="9113760" cy="561960"/>
          </a:xfrm>
          <a:prstGeom prst="rect">
            <a:avLst/>
          </a:prstGeom>
          <a:solidFill>
            <a:srgbClr val="3366ff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557360"/>
            <a:ext cx="9113760" cy="1023840"/>
          </a:xfrm>
          <a:prstGeom prst="rect">
            <a:avLst/>
          </a:prstGeom>
          <a:solidFill>
            <a:srgbClr val="80008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13760" cy="950760"/>
          </a:xfrm>
          <a:prstGeom prst="rect">
            <a:avLst/>
          </a:prstGeom>
          <a:solidFill>
            <a:srgbClr val="ff00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0" y="318960"/>
            <a:ext cx="45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татус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пределен как открытый для всех пред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ложений по его доработке.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не является чьей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либо собственностью, не запатентован, но защище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Законом об авторском прав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36120" y="6437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F975-BB39-4042-A114-E2232D355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56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UML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общецелевой язык визуального моделирования</a:t>
            </a:r>
            <a:endParaRPr b="1" i="1" lang="en-US" sz="2800" spc="-1" strike="noStrike">
              <a:solidFill>
                <a:srgbClr val="9b2337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2 Общая характеристика и назначение язык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1125360"/>
            <a:ext cx="5761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500"/>
              </a:spcBef>
              <a:buClr>
                <a:srgbClr val="8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宋体"/>
              </a:rPr>
              <a:t>U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жет быть использован для построения концептуальных, логических и графических моделей сложных систем различного целевого назна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тандартным средством для составления «чертежей» программного обеспе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U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язык специфиц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U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язык документиров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4360" y="1008000"/>
            <a:ext cx="1266840" cy="14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98400" y="2708280"/>
            <a:ext cx="1273320" cy="151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4538520"/>
            <a:ext cx="1255680" cy="144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985680" y="2449440"/>
            <a:ext cx="172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ради Бу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0400" y="4233960"/>
            <a:ext cx="172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жеймс Румб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5950080"/>
            <a:ext cx="172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йвар Джекобс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92B-106A-4023-BB09-0115A82EF7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41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b2337"/>
                </a:solidFill>
                <a:latin typeface="Arial Black"/>
              </a:rPr>
              <a:t>Концептуальная модель </a:t>
            </a:r>
            <a:r>
              <a:rPr b="1" i="1" lang="en-US" sz="3200" spc="-1" strike="noStrike">
                <a:solidFill>
                  <a:srgbClr val="9b2337"/>
                </a:solidFill>
                <a:latin typeface="Arial Black"/>
              </a:rPr>
              <a:t>UML</a:t>
            </a:r>
            <a:endParaRPr b="1" i="1" lang="en-US" sz="3200" spc="-1" strike="noStrike">
              <a:solidFill>
                <a:srgbClr val="9b233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rcRect l="19728" t="10265" r="16032" b="7209"/>
          <a:stretch/>
        </p:blipFill>
        <p:spPr>
          <a:xfrm>
            <a:off x="1116000" y="692280"/>
            <a:ext cx="6192720" cy="5765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5B5-AADB-4D04-A4A2-66A4FEA46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594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Arial Black"/>
              </a:rPr>
              <a:t>Словарь </a:t>
            </a:r>
            <a:r>
              <a:rPr b="1" i="1" lang="en-US" sz="3600" spc="-1" strike="noStrike">
                <a:solidFill>
                  <a:srgbClr val="800000"/>
                </a:solidFill>
                <a:latin typeface="Arial Black"/>
              </a:rPr>
              <a:t>UML</a:t>
            </a:r>
            <a:endParaRPr b="1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63700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ущности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- это абстракции, являющиеся основными элементами модели. Сущности являются основными объектно-ориентированными блоками языка. С их помощью можно создавать корректные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Отношения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связывают различные сущ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Диаграммы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группируют представляющие интерес совокупности сущ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FF9D-17A7-4DF3-83D4-ABB08328C7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907920"/>
            <a:ext cx="8279280" cy="5208120"/>
            <a:chOff x="468360" y="907920"/>
            <a:chExt cx="8279280" cy="5208120"/>
          </a:xfrm>
        </p:grpSpPr>
        <p:cxnSp>
          <p:nvCxnSpPr>
            <p:cNvPr id="130" name="_s11287"/>
            <p:cNvCxnSpPr>
              <a:stCxn id="131" idx="1"/>
              <a:endCxn id="132" idx="2"/>
            </p:cNvCxnSpPr>
            <p:nvPr/>
          </p:nvCxnSpPr>
          <p:spPr>
            <a:xfrm rot="10800000">
              <a:off x="2951280" y="1650960"/>
              <a:ext cx="828360" cy="409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1283"/>
            <p:cNvCxnSpPr>
              <a:stCxn id="134" idx="1"/>
              <a:endCxn id="132" idx="2"/>
            </p:cNvCxnSpPr>
            <p:nvPr/>
          </p:nvCxnSpPr>
          <p:spPr>
            <a:xfrm rot="10800000">
              <a:off x="2951280" y="1650960"/>
              <a:ext cx="828360" cy="297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1282"/>
            <p:cNvCxnSpPr>
              <a:stCxn id="136" idx="1"/>
              <a:endCxn id="132" idx="2"/>
            </p:cNvCxnSpPr>
            <p:nvPr/>
          </p:nvCxnSpPr>
          <p:spPr>
            <a:xfrm rot="10800000">
              <a:off x="2951280" y="1650960"/>
              <a:ext cx="828360" cy="1860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11281"/>
            <p:cNvCxnSpPr>
              <a:stCxn id="138" idx="1"/>
              <a:endCxn id="132" idx="2"/>
            </p:cNvCxnSpPr>
            <p:nvPr/>
          </p:nvCxnSpPr>
          <p:spPr>
            <a:xfrm rot="10800000">
              <a:off x="2951280" y="1650960"/>
              <a:ext cx="828360" cy="744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1277"/>
            <p:cNvSpPr/>
            <p:nvPr/>
          </p:nvSpPr>
          <p:spPr>
            <a:xfrm>
              <a:off x="468360" y="90792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f8cf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600" spc="-1" strike="noStrike">
                  <a:solidFill>
                    <a:srgbClr val="800000"/>
                  </a:solidFill>
                  <a:latin typeface="Arial"/>
                </a:rPr>
                <a:t>Типы сущностей в </a:t>
              </a:r>
              <a:r>
                <a:rPr b="1" i="1" lang="en-US" sz="2600" spc="-1" strike="noStrike">
                  <a:solidFill>
                    <a:srgbClr val="800000"/>
                  </a:solidFill>
                  <a:latin typeface="Arial"/>
                </a:rPr>
                <a:t>UM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1278"/>
            <p:cNvSpPr/>
            <p:nvPr/>
          </p:nvSpPr>
          <p:spPr>
            <a:xfrm>
              <a:off x="3780000" y="202392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1279"/>
            <p:cNvSpPr/>
            <p:nvPr/>
          </p:nvSpPr>
          <p:spPr>
            <a:xfrm>
              <a:off x="3780000" y="313992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1280"/>
            <p:cNvSpPr/>
            <p:nvPr/>
          </p:nvSpPr>
          <p:spPr>
            <a:xfrm>
              <a:off x="3780000" y="425628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1286"/>
            <p:cNvSpPr/>
            <p:nvPr/>
          </p:nvSpPr>
          <p:spPr>
            <a:xfrm>
              <a:off x="3780000" y="537228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80000" y="2041920"/>
              <a:ext cx="4967640" cy="73872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Структурные сущ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80000" y="3152880"/>
              <a:ext cx="4967640" cy="73872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Поведенческие сущ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80000" y="4263840"/>
              <a:ext cx="4967640" cy="741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Группирующие сущ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80000" y="5372280"/>
              <a:ext cx="4967640" cy="74376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</a:rPr>
                <a:t>Аннотационные сущ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D94-B038-4D7E-949B-E9F8C25314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480" y="247680"/>
            <a:ext cx="6084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труктурные сущност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- это имена существительные в моделях на языке UML. Как правило, они представляют собой статические части модели, соответствующие концептуальным или физическим элементам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rcRect l="13984" t="34077" r="10174" b="12375"/>
          <a:stretch/>
        </p:blipFill>
        <p:spPr>
          <a:xfrm>
            <a:off x="1039680" y="2408400"/>
            <a:ext cx="7398000" cy="378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41C4-86DC-4E51-9BE6-9F9FACDDD8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0" t="22847" r="0" b="0"/>
          <a:stretch/>
        </p:blipFill>
        <p:spPr>
          <a:xfrm>
            <a:off x="0" y="1566720"/>
            <a:ext cx="9144000" cy="529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47" name=""/>
          <p:cNvSpPr/>
          <p:nvPr/>
        </p:nvSpPr>
        <p:spPr>
          <a:xfrm>
            <a:off x="87480" y="247680"/>
            <a:ext cx="6084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Структурные сущности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- это имена существительные в моделях на языке UM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491160"/>
            <a:ext cx="62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нцептуальная модель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3485" t="23633" r="10920" b="14265"/>
          <a:stretch/>
        </p:blipFill>
        <p:spPr>
          <a:xfrm>
            <a:off x="611280" y="1557360"/>
            <a:ext cx="7777080" cy="40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A66F-7D2C-40AB-A165-D6C1F4062D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2:40:30Z</dcterms:created>
  <dc:creator>Пользователь</dc:creator>
  <dc:description/>
  <dc:language>en-US</dc:language>
  <cp:lastModifiedBy>Антон</cp:lastModifiedBy>
  <dcterms:modified xsi:type="dcterms:W3CDTF">2009-12-18T07:04:21Z</dcterms:modified>
  <cp:revision>69</cp:revision>
  <dc:subject/>
  <dc:title>Система оценки учебных достижений студентов заочной формы обучения </dc:title>
</cp:coreProperties>
</file>