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B13-DC1E-40DB-975B-127191D2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65F-D4F7-42AF-BD6E-854C2BF9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A77-DF35-408A-BDD3-95B17315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0ACA-D04B-489E-8AD7-BADA2717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C9E8-4388-40EB-821C-1C5A7AF0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7C4C-7A14-4C8D-A87F-91E68719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B656-C08E-45CC-B47E-63DC05C7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53D1-FB03-481F-B093-E22D5210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A933-B2DF-45A0-9AD8-51645B2F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B3DE-E262-430C-99B9-389BAEAA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ACF0-6E1B-41E1-9D8A-87114D96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17D-9499-4FCD-8D02-390B6002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FCAA-6773-4887-88ED-FB71FB28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1954-31C6-4DE8-8066-57850B5B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907F-7B5B-4414-9FD1-84B13432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A7BA-1D20-4987-9D42-064CA5A4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CBB7-F64C-44F0-8A8A-9E295D4B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0C2-9930-4513-9B9F-0D9E9A3F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055C-5E68-4CA6-A994-F289E39D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F762-B6D1-4B89-8B2B-1866075C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DCA-9110-4646-9F2E-A88A3D24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E8A-4125-4B16-A0FF-202BA8CF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87F-C4AA-48B4-A1CD-A8C387D2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5E90-03A3-4353-85B5-034BC23D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F6B9-510F-4032-885C-F2FD02E85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FCDA-CF44-4BE8-9716-2396DF9D5D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kz/search?p=3&amp;text=&#1074;&#1086;&#1089;&#1082;&#1083;&#1080;&#1094;&#1072;&#1090;&#1077;&#1083;&#1100;&#1085;&#1099;&#1081;%20&#1079;&#1085;&#1072;&#1082;%20&amp;spsite=fake-011-19917850.ru&amp;img_url=avtoliteratura.ru%2Ffiles%2FNakleyki%2FVosklZnak.JPG&amp;rpt=simag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11280" y="1052280"/>
            <a:ext cx="6553440" cy="33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ема 3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лементы графической нотации диаграммы прецедентов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CD52-7D7B-4D3F-8C13-F3624340BE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Моделирование контекста систем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58920" y="907920"/>
            <a:ext cx="763416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Идентифицируйте актеров, взаимодействующих с данным элементом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Организуйте актеров, выделив общие и специализированные роли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Для каждого актера рассмотрите основные пути его взаимодействия с элементом. Рассмотрите альтернативные (исключительные) способы взаимодействия актеров с элементом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Организуйте выявленное поведение в виде прецедентов, применяя отношения включения и расширения для выделения общего и исключительного поведения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4360" y="3645000"/>
            <a:ext cx="4967280" cy="2938320"/>
            <a:chOff x="2484360" y="3645000"/>
            <a:chExt cx="4967280" cy="293832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rcRect l="27793" t="17268" r="7419" b="29493"/>
            <a:stretch/>
          </p:blipFill>
          <p:spPr>
            <a:xfrm>
              <a:off x="2484360" y="3646800"/>
              <a:ext cx="4967280" cy="29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624200" y="3645000"/>
              <a:ext cx="1012680" cy="2305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5297760" y="3832560"/>
              <a:ext cx="1162800" cy="1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334840" y="3832560"/>
              <a:ext cx="1087560" cy="11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5334840" y="4538880"/>
              <a:ext cx="1087560" cy="11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409720" y="5654880"/>
              <a:ext cx="101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6680" y="4465080"/>
              <a:ext cx="1837800" cy="5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046680" y="3980880"/>
              <a:ext cx="176292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46680" y="4502160"/>
              <a:ext cx="183780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30B6-2B45-485F-96DF-78FC423DB8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Моделирование требований к систем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58920" y="907920"/>
            <a:ext cx="763416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Установите контекст системы, идентифицировав окружающие ее актеры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Для каждого актера рассмотрите поведение, которого он ожидает или требует от системы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Поименуйте эти общие варианты поведения как прецеденты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Выделите общее поведение в новые прецеденты, которые будут использоваться другими; выделите вариации поведения в новые прецеденты, расширяющие основные потоки событий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Смоделируйте эти прецеденты, актеры и отношения между ними на диаграмме прецедентов.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Дополните прецеденты примечаниями.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860" t="14986" r="55140" b="41096"/>
          <a:stretch/>
        </p:blipFill>
        <p:spPr>
          <a:xfrm>
            <a:off x="3132000" y="3573360"/>
            <a:ext cx="4125960" cy="31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683-A9EE-42DA-9EDB-CD564C8FFA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изображении диаграммы прецедентов руководствуйтесь следующими принципам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8920" y="1197000"/>
            <a:ext cx="7634160" cy="17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6000"/>
          </a:bodyPr>
          <a:p>
            <a:pPr marL="280080" indent="-28008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Arial"/>
              </a:rPr>
              <a:t>дайте ей имя, соответствующее назначению; 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28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Arial"/>
              </a:rPr>
              <a:t>расположите элементы так, чтобы свести к минимуму число пересечений; 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28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Arial"/>
              </a:rPr>
              <a:t>пространственно организуйте элементы так, чтобы семантически близкие сущности физически располагались рядом; 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28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Arial"/>
              </a:rPr>
              <a:t>используйте примечания и цвет, чтобы привлечь внимание читателя к важным особенностям диаграммы; 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28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Arial"/>
              </a:rPr>
              <a:t>старайтесь не показывать слишком много видов отношений. В общем случае, если есть много сложных отношений включения и расширения, выделите их в отдельную диаграмму. </a:t>
            </a:r>
            <a:endParaRPr b="1" lang="en-US" sz="2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9E9A-F240-4A41-87CB-47461948AC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211280" y="0"/>
            <a:ext cx="493236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Прецедент (Use case)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666633"/>
                </a:solidFill>
                <a:latin typeface="Arial"/>
              </a:rPr>
              <a:t>специфицирует поведение системы или ее части и представляет собой описание множества последовательностей действий (включая варианты), выполняемых системой для того, чтобы актер мог получить определенный результат, имеющий для него определенное значение</a:t>
            </a:r>
            <a:r>
              <a:rPr b="1" lang="en-US" sz="1800" spc="-1" strike="noStrike">
                <a:solidFill>
                  <a:srgbClr val="666633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32000" y="3429000"/>
            <a:ext cx="50083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Актер (</a:t>
            </a:r>
            <a:r>
              <a:rPr b="1" i="1" lang="en-US" sz="2800" spc="-1" strike="noStrike">
                <a:solidFill>
                  <a:srgbClr val="333300"/>
                </a:solidFill>
                <a:latin typeface="Arial"/>
              </a:rPr>
              <a:t>Actor)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представляет собой логически связанное множество ролей, которые играют пользователи прецедентов во время взаимодействия с ними. Актерами могут быть как люди, так и автоматизированные системы.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709" t="58858" r="75064" b="21669"/>
          <a:stretch/>
        </p:blipFill>
        <p:spPr>
          <a:xfrm>
            <a:off x="1547640" y="836640"/>
            <a:ext cx="2928960" cy="1700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rcRect l="47665" t="14889" r="27413" b="48660"/>
          <a:stretch/>
        </p:blipFill>
        <p:spPr>
          <a:xfrm>
            <a:off x="6300720" y="3645000"/>
            <a:ext cx="2506680" cy="266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63D-68C5-4556-BA31-902A980D0E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03280" y="404280"/>
            <a:ext cx="72741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В UML поведение моделируется с помощью прецедентов, специфицируемых в отрыве от реа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92360" y="2276640"/>
            <a:ext cx="69120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0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рецеденты предполагают взаимодействие актеров и системы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0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Развитие прецедентов осуществляется по-разному;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0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Всякий прецедент должен выполнять некоторый объем работы;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00"/>
              </a:buClr>
              <a:buSzPct val="1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рецеденты могут быть применены ко всей системе или к ее частям, в том числе к подсистемам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34E-2C33-451E-B41B-72E142D3C6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79600" y="-93960"/>
            <a:ext cx="561672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юбой прецедент должен иметь им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98600" y="689040"/>
            <a:ext cx="7667640" cy="3811320"/>
          </a:xfrm>
          <a:prstGeom prst="rect">
            <a:avLst/>
          </a:prstGeom>
          <a:solidFill>
            <a:srgbClr val="f1e493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Правило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00"/>
                </a:solidFill>
                <a:latin typeface="Times New Roman"/>
              </a:rPr>
              <a:t>1. Имя прецедента может состоять из любого числа букв, цифр и некоторых знаков препинания (за исключением таких, как двоеточия, которые применяются для отделения имени прецедента от имени объемлющего пакета).</a:t>
            </a:r>
            <a:endParaRPr b="0" lang="en-US" sz="2200" spc="-1" strike="noStrike">
              <a:solidFill>
                <a:srgbClr val="3333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00"/>
                </a:solidFill>
                <a:latin typeface="Times New Roman"/>
              </a:rPr>
              <a:t>2. Имя прецедента может занимать несколько строк.</a:t>
            </a:r>
            <a:endParaRPr b="0" lang="en-US" sz="2200" spc="-1" strike="noStrike">
              <a:solidFill>
                <a:srgbClr val="3333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00"/>
                </a:solidFill>
                <a:latin typeface="Times New Roman"/>
              </a:rPr>
              <a:t>3. Для именования прецедентов используют короткие глагольные фразы в активной форме, обозначающие некоторое поведение и взятые из словаря моделируемой системы</a:t>
            </a:r>
            <a:endParaRPr b="0" lang="en-US" sz="2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1229" t="62750" r="68401" b="18765"/>
          <a:stretch/>
        </p:blipFill>
        <p:spPr>
          <a:xfrm>
            <a:off x="2627280" y="4508640"/>
            <a:ext cx="4624560" cy="202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A4A7-1A77-4B7D-BE8C-4DBBE9A97E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981000"/>
            <a:ext cx="1778040" cy="1800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564000" y="1052640"/>
            <a:ext cx="55800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Актеров можно связывать с прецедентами только отношениями ассоциации.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Ассоциация между актером и прецедентом показывает, что они общаются друг с другом, возможно, посылая или принимая сообщения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DA3-E6A4-467B-9364-48CC556185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2738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Прецеденты и поток событ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765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Прецедент описывает, что делает система (подсистема, класс или интерфейс), но не определяет, каким образом она это делает.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31544" t="11279" r="4965" b="25539"/>
          <a:stretch/>
        </p:blipFill>
        <p:spPr>
          <a:xfrm>
            <a:off x="2050920" y="2028960"/>
            <a:ext cx="6697800" cy="48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958-3A6F-4A79-8F73-68E9668E38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52400" y="0"/>
            <a:ext cx="74912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Поток событий в прецеденте можно описать различными способами, в том числе в виде неформализованного структурированного текст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1989000"/>
            <a:ext cx="727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Times New Roman"/>
              </a:rPr>
              <a:t>Основной поток событий.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Прецедент начинается, когда система запрашивает у клиента его персональный идентификационный номер (PIN). Клиент (Customer) может ввести его с клавиатуры. Завершается ввод нажатием клавиши Enter. После этого система проверяет введенный PIN и, если он правильный, подтверждает ввод. На этом прецедент заканчивается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Times New Roman"/>
              </a:rPr>
              <a:t>Исключительный поток событий.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Клиент может прекратить транзакцию в любой момент, нажав клавишу Cancel. Это действие начинает прецедент заново. Никаких изменений на счету клиента на производится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Times New Roman"/>
              </a:rPr>
              <a:t>Исключительный поток событий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. Клиент может в любой момент до нажатия клавиши Enter стереть свой PIN и ввести новый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00"/>
                </a:solidFill>
                <a:uFillTx/>
                <a:latin typeface="Times New Roman"/>
              </a:rPr>
              <a:t>Исключительный поток событий.</a:t>
            </a: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 Если клиент ввел неправильный PIN, прецедент запускается сначала. Если это происходит три раза подряд, система отменяет всю транзакцию и не позволяет данному клиенту снова начать работу с банкоматом в течение 60 секунд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00BB-A810-4B66-9F78-D6FECF7974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2738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Прецеденты и сцена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47640" y="98100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00"/>
                </a:solidFill>
                <a:latin typeface="Times New Roman"/>
              </a:rPr>
              <a:t>Сценарий (Scenario)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 - это некоторая последовательность действий, иллюстрирующая поведение системы. Сценарии находятся в таком же отношении к прецедентам, как экземпляры к классам, то есть сценарий - это экземпляр прецедента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42826" t="21473" r="17317" b="25539"/>
          <a:stretch/>
        </p:blipFill>
        <p:spPr>
          <a:xfrm>
            <a:off x="1547640" y="2417760"/>
            <a:ext cx="4608720" cy="4440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084720" y="321300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Относительно сложная система содержит несколько десятков прецедентов, каждый из которых может разворачиваться в несколько десятков сценариев.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34A-28AE-4580-81C1-0BC7716E1B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2738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Организация прецедент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32606" t="14583" r="12254" b="37352"/>
          <a:stretch/>
        </p:blipFill>
        <p:spPr>
          <a:xfrm>
            <a:off x="1727280" y="1197000"/>
            <a:ext cx="7416720" cy="469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075-C5DA-4D16-9B32-FFBA89345D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7:13:19Z</dcterms:created>
  <dc:creator>Пользователь</dc:creator>
  <dc:description/>
  <dc:language>en-US</dc:language>
  <cp:lastModifiedBy>Пользователь</cp:lastModifiedBy>
  <dcterms:modified xsi:type="dcterms:W3CDTF">2009-12-21T08:28:27Z</dcterms:modified>
  <cp:revision>16</cp:revision>
  <dc:subject/>
  <dc:title>Тема 3.  Элементы графической нотации диаграммы прецедентов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4</vt:r8>
  </property>
</Properties>
</file>