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projctor.wav" ContentType="audio/x-wav"/>
  <Override PartName="/ppt/media/image17.jpeg" ContentType="image/jpeg"/>
  <Override PartName="/ppt/media/image18.jpeg" ContentType="image/jpeg"/>
  <Override PartName="/ppt/media/image16.jpeg" ContentType="image/jpeg"/>
  <Override PartName="/ppt/media/image1.jpeg" ContentType="image/jpeg"/>
  <Override PartName="/ppt/media/image15.png" ContentType="image/png"/>
  <Override PartName="/ppt/media/image3.jpeg" ContentType="image/jpeg"/>
  <Override PartName="/ppt/media/image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A9F1-902F-4D89-AA74-D2156A8E64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950A-E8EA-4384-B05E-7866529457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8BD-110A-4F68-8635-50BA7EC5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9AEC-B992-4500-B62B-584A6333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C38-4932-4481-89CF-B4472DEF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3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5092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5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3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5092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D9A-82DD-4927-B1CA-265A1F19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9334-01A8-449E-90CF-E4B841BD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735E-7B89-4E4B-8478-375AFA57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245F-1ED2-4371-9DF0-928D18B0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F9EA-11EC-4347-8B3C-9458CD3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E528-FC36-45A8-8E7C-D21A2C54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64FD-6EF4-4E39-B8AF-D3ACC143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AE9-2112-489D-A775-68A871EC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2FA-66CC-4E24-BCCE-A2A44D40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71FE-CA5D-4A8F-9179-FB6FF0DC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EF69-F5EA-4FEA-BE29-454D8F4B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1B9A-45E7-4B29-B54D-DFF6AF9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89C2-436C-43C3-98A4-4B002227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2328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50920" y="837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95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2328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50920" y="3623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49E-EA14-4F65-8D1E-2CC5CDBE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CAD-9F8C-47EF-A9AA-09298517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9A55-D561-40CC-8719-FF9F1547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F7B-F829-4F5C-B809-74443C02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7848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89D-0E36-48A5-9B4E-58527FC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E31-3215-480D-8DBD-520E108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7960" y="3623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808-80E7-43F0-892C-76C2B4DE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77760"/>
            <a:ext cx="7848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837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5280" y="3623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060A-5869-413E-82F8-209D539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30BB-DA00-4B00-A645-616430A29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1295280" y="838080"/>
            <a:ext cx="7848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8458200" y="608400"/>
            <a:ext cx="68580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295280" y="6324480"/>
            <a:ext cx="7848720" cy="228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295280" y="62485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OCR A Extended"/>
              </a:rPr>
              <a:t>WWW.YOUR-SCHOOL-URL.COM</a:t>
            </a:r>
            <a:endParaRPr b="0" lang="en-US" sz="16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9" name="Picture 11" descr="finger"/>
          <p:cNvPicPr/>
          <p:nvPr/>
        </p:nvPicPr>
        <p:blipFill>
          <a:blip r:embed="rId3"/>
          <a:stretch/>
        </p:blipFill>
        <p:spPr>
          <a:xfrm>
            <a:off x="5943600" y="6421320"/>
            <a:ext cx="339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Franklin Gothic Demi C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B6D-3850-4606-BB0E-76630F64F6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3.jpeg"/><Relationship Id="rId6" Type="http://schemas.openxmlformats.org/officeDocument/2006/relationships/image" Target="../media/image18.jpeg"/><Relationship Id="rId7" Type="http://schemas.openxmlformats.org/officeDocument/2006/relationships/image" Target="../media/image7.jpeg"/><Relationship Id="rId8" Type="http://schemas.openxmlformats.org/officeDocument/2006/relationships/image" Target="../media/image4.jpeg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geeky_girl_at_computer_hg_wht"/>
          <p:cNvPicPr/>
          <p:nvPr/>
        </p:nvPicPr>
        <p:blipFill>
          <a:blip r:embed="rId2"/>
          <a:stretch/>
        </p:blipFill>
        <p:spPr>
          <a:xfrm>
            <a:off x="6324480" y="-76320"/>
            <a:ext cx="2629080" cy="2133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700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Haettenschweiler"/>
              </a:rPr>
              <a:t>Тема 6.</a:t>
            </a:r>
            <a:r>
              <a:rPr b="0" lang="ru-RU" sz="5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Haettenschweiler"/>
              </a:rPr>
              <a:t>Элементы графической нотации диаграммы кооперации</a:t>
            </a:r>
            <a:endParaRPr b="0" lang="en-US" sz="40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79280" y="2565360"/>
            <a:ext cx="6516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Eras Demi ITC"/>
              </a:rPr>
              <a:t>Диаграмма кооперации предназначена для описания поведения системы на уровне отдельных объектов, которые обмениваются между собой сообщениями, чтобы достичь нужной цели или реализовать некоторый вариант использования.</a:t>
            </a:r>
            <a:endParaRPr b="0" lang="en-US" sz="30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98" name="Picture 5" descr="finger"/>
          <p:cNvPicPr/>
          <p:nvPr/>
        </p:nvPicPr>
        <p:blipFill>
          <a:blip r:embed="rId3"/>
          <a:stretch/>
        </p:blipFill>
        <p:spPr>
          <a:xfrm>
            <a:off x="6705720" y="4724280"/>
            <a:ext cx="9842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258920" y="0"/>
            <a:ext cx="698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Изображение составного объекта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2"/>
          <a:srcRect l="28066" t="2892" r="29886" b="2953"/>
          <a:stretch/>
        </p:blipFill>
        <p:spPr>
          <a:xfrm>
            <a:off x="3203640" y="1197000"/>
            <a:ext cx="3740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258920" y="0"/>
            <a:ext cx="698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Изображение связей с различными стереотипами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rcRect l="16052" t="3160" r="14652" b="0"/>
          <a:stretch/>
        </p:blipFill>
        <p:spPr>
          <a:xfrm>
            <a:off x="2843280" y="1293840"/>
            <a:ext cx="48243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5280" y="837720"/>
            <a:ext cx="7453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Сообщение (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) — спецификация передачи информации от одного элемента модели к другому с ожиданием выполнения определенных действий со стороны принимающего элемента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258920" y="0"/>
            <a:ext cx="698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Сообщения и их изображение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2"/>
          <a:srcRect l="1701" t="10403" r="5957" b="26660"/>
          <a:stretch/>
        </p:blipFill>
        <p:spPr>
          <a:xfrm>
            <a:off x="1403280" y="2997360"/>
            <a:ext cx="7201080" cy="798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1332000" y="4076640"/>
            <a:ext cx="76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26810"/>
                </a:solidFill>
                <a:latin typeface="Arial"/>
              </a:rPr>
              <a:t>Стереотипы сообщений</a:t>
            </a:r>
            <a:endParaRPr b="0" lang="en-US" sz="4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call&gt;&gt;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 (вызвать) - сообщение, требующее вызова операции ил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процедуры объекта-получателя.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return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возвратить) — сообщение, возвращающее значение вы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полненной операции или процедуры вызвавшему ее объекту.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create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создать) — сообщение, требующее создания другог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объекта для выполнения определенных действий.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destroy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уничтожить) — сообщение с явным требованием унич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тожить соответствующий объект. Посылается в том случае, когд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необходимо прекратить нежелательные действия со стороны суще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ствующего в системе объекта, либо когда объект больше не нужен.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Franklin Gothic Demi Cond"/>
              </a:rPr>
              <a:t>send</a:t>
            </a: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&gt;&gt; (послать) — обозначает посылку другому объекту сигн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который асинхронно инициируется одним объектом и приним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(перехватывается) другим. Отличие сигнала от сообщения заключа­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ется в том, что сигнал должен быть явно описан в том классе, объек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Franklin Gothic Demi Cond"/>
              </a:rPr>
              <a:t>которого инициирует его передачу.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8" descr="geeky_girl_at_computer_hg_wht"/>
          <p:cNvPicPr/>
          <p:nvPr/>
        </p:nvPicPr>
        <p:blipFill>
          <a:blip r:embed="rId1"/>
          <a:stretch/>
        </p:blipFill>
        <p:spPr>
          <a:xfrm>
            <a:off x="6324480" y="4572000"/>
            <a:ext cx="2629080" cy="2133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ettenschweiler"/>
              </a:rPr>
              <a:t>Elements</a:t>
            </a:r>
            <a:endParaRPr b="0" lang="en-US" sz="5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8760" y="1600200"/>
            <a:ext cx="8832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Franklin Gothic Demi Cond"/>
              </a:rPr>
              <a:t>www.animationfactory.com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34" name="Picture 8" descr="finger"/>
          <p:cNvPicPr/>
          <p:nvPr/>
        </p:nvPicPr>
        <p:blipFill>
          <a:blip r:embed="rId2"/>
          <a:stretch/>
        </p:blipFill>
        <p:spPr>
          <a:xfrm>
            <a:off x="2362320" y="228600"/>
            <a:ext cx="1269720" cy="13510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2"/>
          <p:cNvSpPr/>
          <p:nvPr/>
        </p:nvSpPr>
        <p:spPr>
          <a:xfrm>
            <a:off x="6400800" y="3429000"/>
            <a:ext cx="2514600" cy="990720"/>
          </a:xfrm>
          <a:prstGeom prst="wedgeRectCallout">
            <a:avLst>
              <a:gd name="adj1" fmla="val -1768"/>
              <a:gd name="adj2" fmla="val 10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400800" y="342900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eat computer animations like these can be found on the  Platinum Site. Search Bloodhound for “internet”!</a:t>
            </a:r>
            <a:endParaRPr b="0" lang="en-US" sz="14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37" name="Picture 14" descr="excellence_in_education_prt"/>
          <p:cNvPicPr/>
          <p:nvPr/>
        </p:nvPicPr>
        <p:blipFill>
          <a:blip r:embed="rId3"/>
          <a:stretch/>
        </p:blipFill>
        <p:spPr>
          <a:xfrm>
            <a:off x="4114800" y="7632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excellence_in_education_qx"/>
          <p:cNvPicPr/>
          <p:nvPr/>
        </p:nvPicPr>
        <p:blipFill>
          <a:blip r:embed="rId4"/>
          <a:stretch/>
        </p:blipFill>
        <p:spPr>
          <a:xfrm>
            <a:off x="304920" y="457200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excellence_in_education_qx2"/>
          <p:cNvPicPr/>
          <p:nvPr/>
        </p:nvPicPr>
        <p:blipFill>
          <a:blip r:embed="rId5"/>
          <a:stretch/>
        </p:blipFill>
        <p:spPr>
          <a:xfrm>
            <a:off x="304920" y="242244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excellence_in_education_trs"/>
          <p:cNvPicPr/>
          <p:nvPr/>
        </p:nvPicPr>
        <p:blipFill>
          <a:blip r:embed="rId6"/>
          <a:stretch/>
        </p:blipFill>
        <p:spPr>
          <a:xfrm>
            <a:off x="2971800" y="457200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9" descr="computer"/>
          <p:cNvPicPr/>
          <p:nvPr/>
        </p:nvPicPr>
        <p:blipFill>
          <a:blip r:embed="rId7"/>
          <a:stretch/>
        </p:blipFill>
        <p:spPr>
          <a:xfrm>
            <a:off x="7026120" y="76320"/>
            <a:ext cx="2041560" cy="1942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0" descr="excellence_in_education_tr2"/>
          <p:cNvPicPr/>
          <p:nvPr/>
        </p:nvPicPr>
        <p:blipFill>
          <a:blip r:embed="rId8"/>
          <a:stretch/>
        </p:blipFill>
        <p:spPr>
          <a:xfrm>
            <a:off x="2971800" y="2422440"/>
            <a:ext cx="2514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26810"/>
                </a:solidFill>
                <a:latin typeface="Verdana"/>
              </a:rPr>
              <a:t>Кооперация (</a:t>
            </a:r>
            <a:r>
              <a:rPr b="1" lang="en-US" sz="3800" spc="-1" strike="noStrike">
                <a:solidFill>
                  <a:srgbClr val="d26810"/>
                </a:solidFill>
                <a:latin typeface="Verdana"/>
              </a:rPr>
              <a:t>collaboration)</a:t>
            </a:r>
            <a:endParaRPr b="0" lang="en-US" sz="3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877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пецификация множества объектов от­дельных классов, совместно взаимодействующих с целью реализации отдель­ных вариантов использования в общем контексте моделируемой системы.</a:t>
            </a:r>
            <a:endParaRPr b="0" lang="en-US" sz="36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01" name="Picture 5" descr="computer"/>
          <p:cNvPicPr/>
          <p:nvPr/>
        </p:nvPicPr>
        <p:blipFill>
          <a:blip r:embed="rId2"/>
          <a:stretch/>
        </p:blipFill>
        <p:spPr>
          <a:xfrm>
            <a:off x="7524720" y="4843440"/>
            <a:ext cx="152712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6810"/>
                </a:solidFill>
                <a:latin typeface="Haettenschweiler"/>
              </a:rPr>
              <a:t>Кооперация определяет</a:t>
            </a:r>
            <a:endParaRPr b="0" lang="en-US" sz="48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уктуру поведения системы в терминах взаимодействия участников этой кооперации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26810"/>
                </a:solidFill>
                <a:latin typeface="Haettenschweiler"/>
              </a:rPr>
              <a:t>На диаграмме кооперации размещаются:</a:t>
            </a:r>
            <a:endParaRPr b="0" lang="en-US" sz="4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ы (экземпляры классов);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и между объектами (экземпляры ассоциаций);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я;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взаимосвязи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04" name="Picture 4" descr="computer"/>
          <p:cNvPicPr/>
          <p:nvPr/>
        </p:nvPicPr>
        <p:blipFill>
          <a:blip r:embed="rId2"/>
          <a:stretch/>
        </p:blipFill>
        <p:spPr>
          <a:xfrm>
            <a:off x="7010280" y="4354560"/>
            <a:ext cx="2041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4759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Haettenschweiler"/>
              </a:rPr>
              <a:t>Отличие диаграммы кооперации от диаграммы классов состоит в том, что</a:t>
            </a:r>
            <a:endParaRPr b="0" lang="en-US" sz="4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Одна и та же совокупность объектов может участвовать в реализации различных коопераций. В зависимости от рассматриваемой кооперации, могут изменяться как связи между отдельными объектами, так и поток сообщений между ними. 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 Cond"/>
              </a:rPr>
              <a:t>На диаграмме классов должны быть указаны все без исключения классы, их атрибуты и операции, а также все ассоциации и другие структурные отношения между элементами модели 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07" name="Picture 4" descr="computer"/>
          <p:cNvPicPr/>
          <p:nvPr/>
        </p:nvPicPr>
        <p:blipFill>
          <a:blip r:embed="rId2"/>
          <a:stretch/>
        </p:blipFill>
        <p:spPr>
          <a:xfrm>
            <a:off x="7010280" y="4354560"/>
            <a:ext cx="2041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Haettenschweiler"/>
              </a:rPr>
              <a:t>Объекты и их графическое изображение</a:t>
            </a:r>
            <a:endParaRPr b="0" lang="en-US" sz="44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71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26810"/>
                </a:solidFill>
                <a:latin typeface="Arial"/>
              </a:rPr>
              <a:t>Объект (</a:t>
            </a:r>
            <a:r>
              <a:rPr b="1" lang="en-US" sz="2800" spc="-1" strike="noStrike">
                <a:solidFill>
                  <a:srgbClr val="d26810"/>
                </a:solidFill>
                <a:latin typeface="Arial"/>
              </a:rPr>
              <a:t>object</a:t>
            </a:r>
            <a:r>
              <a:rPr b="1" lang="ru-RU" sz="2800" spc="-1" strike="noStrike">
                <a:solidFill>
                  <a:srgbClr val="d2681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- сущность с хорошо определенными границами и индивидуальностью, которая инкапсулирует состояние и поведение.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81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d26810"/>
                </a:solidFill>
                <a:latin typeface="Arial"/>
              </a:rPr>
              <a:t>Полное имя объекта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Franklin Gothic Demi Cond"/>
              </a:rPr>
              <a:t>Собственное имя объекта&gt; '/'&lt;Имя роли класса&gt; :&lt;Имя класса&gt;</a:t>
            </a:r>
            <a:endParaRPr b="0" lang="en-US" sz="24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10" name="Picture 4" descr="computer"/>
          <p:cNvPicPr/>
          <p:nvPr/>
        </p:nvPicPr>
        <p:blipFill>
          <a:blip r:embed="rId2"/>
          <a:stretch/>
        </p:blipFill>
        <p:spPr>
          <a:xfrm>
            <a:off x="7010280" y="4354560"/>
            <a:ext cx="2041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7416720" cy="18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26810"/>
                </a:solidFill>
                <a:latin typeface="Arial"/>
              </a:rPr>
              <a:t>Варианты возможных записей полного имени объекта на диаграмме кооперации:</a:t>
            </a:r>
            <a:endParaRPr b="0" lang="en-US" sz="3600" spc="-1" strike="noStrike">
              <a:solidFill>
                <a:srgbClr val="000000"/>
              </a:solidFill>
              <a:latin typeface="Haettenschweile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2060280"/>
            <a:ext cx="77724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: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бъект с собственным именем о, экземпляр класса С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нонимный объект, экземпляр класса С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ли прост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- объект-сирота с собственным именем о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 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: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объект с собственным именем о, экземпляр 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а С, играющий 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: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анонимный объект, экземпляр класса С,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ющий 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/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объект-сирота с собственным именем о,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ющий 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анонимный объект и одновременно объект-сирота, 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ющ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848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d26810"/>
                </a:solidFill>
                <a:latin typeface="Arial"/>
              </a:rPr>
              <a:t>Примеры изображения объектов на диаграмме кооперации</a:t>
            </a:r>
            <a:endParaRPr b="0" lang="en-US" sz="3600" spc="-1" strike="noStrike">
              <a:solidFill>
                <a:srgbClr val="000000"/>
              </a:solidFill>
              <a:latin typeface="Haettenschweiler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1547640" y="1546200"/>
            <a:ext cx="7272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56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Графическое изображение активного объекта</a:t>
            </a:r>
            <a:endParaRPr b="0" lang="en-US" sz="2800" spc="-1" strike="noStrike">
              <a:solidFill>
                <a:srgbClr val="000000"/>
              </a:solidFill>
              <a:latin typeface="Haettenschweiler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rcRect l="17913" t="25628" r="19050" b="22948"/>
          <a:stretch/>
        </p:blipFill>
        <p:spPr>
          <a:xfrm>
            <a:off x="1692360" y="1052640"/>
            <a:ext cx="6357960" cy="1057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1042920" y="2421000"/>
            <a:ext cx="853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Графическое изображение мультиобъектов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3"/>
          <a:stretch/>
        </p:blipFill>
        <p:spPr>
          <a:xfrm>
            <a:off x="2124000" y="3429000"/>
            <a:ext cx="5832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1187280" y="0"/>
            <a:ext cx="853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d26810"/>
                </a:solidFill>
                <a:latin typeface="Arial"/>
              </a:rPr>
              <a:t>Фрагмент диаграммы кооперации</a:t>
            </a:r>
            <a:endParaRPr b="0" lang="en-US" sz="2800" spc="-1" strike="noStrike">
              <a:solidFill>
                <a:srgbClr val="000000"/>
              </a:solidFill>
              <a:latin typeface="Franklin Gothic Demi Cond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rcRect l="9225" t="7232" r="7802" b="3813"/>
          <a:stretch/>
        </p:blipFill>
        <p:spPr>
          <a:xfrm>
            <a:off x="1258920" y="1903320"/>
            <a:ext cx="78850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2:43:33Z</dcterms:created>
  <dc:creator>Пользователь</dc:creator>
  <dc:description/>
  <dc:language>en-US</dc:language>
  <cp:lastModifiedBy>Пользователь</cp:lastModifiedBy>
  <dcterms:modified xsi:type="dcterms:W3CDTF">2011-03-03T06:01:33Z</dcterms:modified>
  <cp:revision>15</cp:revision>
  <dc:subject/>
  <dc:title>Excellene in Education</dc:title>
</cp:coreProperties>
</file>