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7592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87280" y="26316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932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76480" y="47592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932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6092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45360" y="31428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7648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6092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45360" y="4759200"/>
            <a:ext cx="2460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26316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7592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5642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3142800"/>
            <a:ext cx="372996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759200"/>
            <a:ext cx="7643520" cy="14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26316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971280" indent="-1940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360080" indent="-1940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7280" y="26316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76480" y="3142800"/>
            <a:ext cx="7643520" cy="30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971280" indent="-19404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360080" indent="-1940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1748520" indent="-19404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51134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Тема 4.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Элементы графической нотации диаграммы классов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rcRect l="22652" t="27374" r="22670" b="42446"/>
          <a:stretch/>
        </p:blipFill>
        <p:spPr>
          <a:xfrm>
            <a:off x="714240" y="2928960"/>
            <a:ext cx="8037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Содержимое 3"/>
          <p:cNvSpPr/>
          <p:nvPr/>
        </p:nvSpPr>
        <p:spPr>
          <a:xfrm>
            <a:off x="1643040" y="0"/>
            <a:ext cx="58579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4d73"/>
                </a:solidFill>
                <a:latin typeface="Arial"/>
              </a:rPr>
              <a:t>Кратность  и видимость классов и атрибутов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071800" y="1000080"/>
            <a:ext cx="528624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Количество экземпляров класса называется его </a:t>
            </a:r>
            <a:r>
              <a:rPr b="1" i="1" lang="ru-RU" sz="1800" spc="-1" strike="noStrike">
                <a:solidFill>
                  <a:srgbClr val="0d0d0d"/>
                </a:solidFill>
                <a:latin typeface="Arial"/>
              </a:rPr>
              <a:t>кратностью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В общем смысле кратность - это диапазон возможных кардинальных чисел некоторой сущности (кратность встречается также у ассоциаций)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14200" y="621180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В языке UML кратность класса задается выражением, написанным в правом верхнем углу его пиктограммы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30764" t="62673" r="32617" b="15093"/>
          <a:stretch/>
        </p:blipFill>
        <p:spPr>
          <a:xfrm>
            <a:off x="1214280" y="3143160"/>
            <a:ext cx="639000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Содержимое 3"/>
          <p:cNvSpPr/>
          <p:nvPr/>
        </p:nvSpPr>
        <p:spPr>
          <a:xfrm>
            <a:off x="1643040" y="0"/>
            <a:ext cx="58579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4d73"/>
                </a:solidFill>
                <a:latin typeface="Arial"/>
              </a:rPr>
              <a:t>Кратность  и видимость классов и атрибутов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14680" y="928440"/>
            <a:ext cx="60004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d0d0d"/>
                </a:solidFill>
                <a:latin typeface="Arial"/>
              </a:rPr>
              <a:t>Видимость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visibility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) – качественная характеристика описания элементов класса, характеризующая потенциальную возможность других объектов модели оказывать влияние на отдельные аспекты поведения данного класс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0" y="25718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Видимость в языке UML специфицируется с помощью квантора видимости, который может принимать одно из четырех значений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«+»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-  атрибут с видимостью Общедоступный (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public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). Атрибут доступен или виден из любого другого класса пакета, в котором определена диаграмм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«#»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- атрибут с областью видимости типа Защищенный (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protected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). Атрибут недоступен или невиден для всех классов, за исключением подклассов данного класс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«-»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- обозначает атрибут с областью видимости типа Закрытый (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private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). Атрибут не доступен или невиден для всех классов без исключен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«~»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- обозначает атрибут с областью видимости типа  «Пакетный» (</a:t>
            </a: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package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). Атрибут не доступен или невиден для всех классов за пределами пакета,  в котором определен класс-владелец данного атрибута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Вместо условных графических обозначений квантора видимости можно записывать соответствующее ключевое слово: public, protected, private, package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5580000" y="3573360"/>
            <a:ext cx="35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57120" y="3357720"/>
            <a:ext cx="8320320" cy="25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Определение внутреннего состояния системы дается в модели классов (</a:t>
            </a: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class model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К элементам, принимающим участие в моделировании классов, относятся сами объекты и классы, атрибуты и операции классов, отношения ассоциации, агрегации, композиции и обобщения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Диаграмма классов (</a:t>
            </a:r>
            <a:r>
              <a:rPr b="0" lang="en-US" sz="2000" spc="-1" strike="noStrike">
                <a:solidFill>
                  <a:srgbClr val="0d0d0d"/>
                </a:solidFill>
                <a:latin typeface="Arial"/>
              </a:rPr>
              <a:t>class diagram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) дает обобщенное  визуальное представление обо всех этих элементах модел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28840" y="2428560"/>
            <a:ext cx="6408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Tahoma"/>
              </a:rPr>
              <a:t>Назначение диаграммы классов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95640" y="1773000"/>
            <a:ext cx="6408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6699"/>
                </a:solidFill>
                <a:latin typeface="Tahoma"/>
              </a:rPr>
              <a:t>Объект – экземпляр класса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2923920"/>
            <a:ext cx="45478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Объект обозначается прямоугольником с двумя отделениям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Верхнее отделение содержит имя объекта и имя класса, которому принадлежит объект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Синтаксис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о</a:t>
            </a:r>
            <a:r>
              <a:rPr b="0" lang="en-US" sz="2000" spc="-1" strike="noStrike" u="sng">
                <a:solidFill>
                  <a:srgbClr val="0d0d0d"/>
                </a:solidFill>
                <a:uFillTx/>
                <a:latin typeface="Arial"/>
                <a:ea typeface="굴림"/>
              </a:rPr>
              <a:t>bjectname</a:t>
            </a: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: clasna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Нижнее отделение содержит список имен атрибутов и значений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Синтаксис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d0d0d"/>
                </a:solidFill>
                <a:uFillTx/>
                <a:latin typeface="Arial"/>
                <a:ea typeface="굴림"/>
              </a:rPr>
              <a:t>attributename</a:t>
            </a: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: </a:t>
            </a:r>
            <a:r>
              <a:rPr b="0" lang="en-US" sz="2000" spc="-1" strike="noStrike" u="sng">
                <a:solidFill>
                  <a:srgbClr val="0d0d0d"/>
                </a:solidFill>
                <a:uFillTx/>
                <a:latin typeface="Arial"/>
                <a:ea typeface="굴림"/>
              </a:rPr>
              <a:t>type</a:t>
            </a:r>
            <a:r>
              <a:rPr b="0" lang="ru-RU" sz="2000" spc="-1" strike="noStrike" u="sng">
                <a:solidFill>
                  <a:srgbClr val="0d0d0d"/>
                </a:solidFill>
                <a:uFillTx/>
                <a:latin typeface="Arial"/>
              </a:rPr>
              <a:t> = </a:t>
            </a:r>
            <a:r>
              <a:rPr b="0" lang="en-US" sz="2000" spc="-1" strike="noStrike" u="sng">
                <a:solidFill>
                  <a:srgbClr val="0d0d0d"/>
                </a:solidFill>
                <a:uFillTx/>
                <a:latin typeface="Arial"/>
                <a:ea typeface="굴림"/>
              </a:rPr>
              <a:t>val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580000" y="3573360"/>
            <a:ext cx="35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5219640" y="3716280"/>
            <a:ext cx="3384720" cy="1152360"/>
            <a:chOff x="5219640" y="3716280"/>
            <a:chExt cx="3384720" cy="1152360"/>
          </a:xfrm>
        </p:grpSpPr>
        <p:sp>
          <p:nvSpPr>
            <p:cNvPr id="85" name="Text Box 6"/>
            <p:cNvSpPr/>
            <p:nvPr/>
          </p:nvSpPr>
          <p:spPr>
            <a:xfrm>
              <a:off x="5219640" y="4064400"/>
              <a:ext cx="3384720" cy="80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d4d4d"/>
                  </a:solidFill>
                  <a:latin typeface="Arial"/>
                </a:rPr>
                <a:t>course_number=M227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d4d4d"/>
                  </a:solidFill>
                  <a:latin typeface="Arial"/>
                </a:rPr>
                <a:t>course_number=Math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5219640" y="3716280"/>
              <a:ext cx="3384720" cy="34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4d4d4d"/>
                  </a:solidFill>
                  <a:uFillTx/>
                  <a:latin typeface="Arial"/>
                </a:rPr>
                <a:t>с1: Cours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2923920"/>
            <a:ext cx="81770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Обратите внимание! Объектная  нотация не предусматривает в обозначении объекта особого «отделения» для перечня операций, которые он может выполнять. Так как операции, выполняемые всеми объектами-экземплярами идентичны и поэтому хранить их в каждом объекте-экземпляре было бы накладно. Операции можно хранить в объекте-класс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d4d4d"/>
                </a:solidFill>
                <a:latin typeface="Arial"/>
              </a:rPr>
              <a:t>Количество объектов определенного класса может быть очень большим. Показать все объекты на диаграмме нереально. Объекты изображаются только для того, чтобы привести пример системы в определенный  момент времен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80000" y="3573360"/>
            <a:ext cx="35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89" name="Group 5"/>
          <p:cNvGrpSpPr/>
          <p:nvPr/>
        </p:nvGrpSpPr>
        <p:grpSpPr>
          <a:xfrm>
            <a:off x="2857680" y="1285920"/>
            <a:ext cx="3384360" cy="1152360"/>
            <a:chOff x="2857680" y="1285920"/>
            <a:chExt cx="3384360" cy="1152360"/>
          </a:xfrm>
        </p:grpSpPr>
        <p:sp>
          <p:nvSpPr>
            <p:cNvPr id="90" name="Text Box 6"/>
            <p:cNvSpPr/>
            <p:nvPr/>
          </p:nvSpPr>
          <p:spPr>
            <a:xfrm>
              <a:off x="2857680" y="1634040"/>
              <a:ext cx="3384360" cy="80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d4d4d"/>
                  </a:solidFill>
                  <a:latin typeface="Arial"/>
                </a:rPr>
                <a:t>course_number=M227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d4d4d"/>
                  </a:solidFill>
                  <a:latin typeface="Arial"/>
                </a:rPr>
                <a:t>course_number=Math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1" name="Text Box 7"/>
            <p:cNvSpPr/>
            <p:nvPr/>
          </p:nvSpPr>
          <p:spPr>
            <a:xfrm>
              <a:off x="2857680" y="1285920"/>
              <a:ext cx="3384360" cy="34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4d4d4d"/>
                  </a:solidFill>
                  <a:uFillTx/>
                  <a:latin typeface="Arial"/>
                </a:rPr>
                <a:t>с1: Course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2"/>
          <p:cNvSpPr/>
          <p:nvPr/>
        </p:nvSpPr>
        <p:spPr>
          <a:xfrm>
            <a:off x="2000160" y="214200"/>
            <a:ext cx="55008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ласс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представляет собой абстракцию совокупности реальных объектов, которые имеют общий набор свойств и обладают одинаковым поведением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Графически класс представляется в виде прямоугольника с тремя отделениями, разделенными горизонтальными линиям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rcRect l="16403" t="43546" r="16421" b="33817"/>
          <a:stretch/>
        </p:blipFill>
        <p:spPr>
          <a:xfrm>
            <a:off x="17640" y="3586320"/>
            <a:ext cx="90676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2143080" y="500040"/>
            <a:ext cx="6072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мя класс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У каждого класса должно быть </a:t>
            </a:r>
            <a:r>
              <a:rPr b="1" i="1" lang="ru-RU" sz="1800" spc="-1" strike="noStrike">
                <a:solidFill>
                  <a:srgbClr val="262626"/>
                </a:solidFill>
                <a:latin typeface="Arial"/>
              </a:rPr>
              <a:t>имя</a:t>
            </a: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, отличающее его от других классов. Написание имени класса обязано придерживаться определенного правил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rcRect l="20312" t="47861" r="15639" b="11181"/>
          <a:stretch/>
        </p:blipFill>
        <p:spPr>
          <a:xfrm>
            <a:off x="623880" y="2786040"/>
            <a:ext cx="81709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print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" descr=""/>
          <p:cNvPicPr/>
          <p:nvPr/>
        </p:nvPicPr>
        <p:blipFill>
          <a:blip r:embed="rId2"/>
          <a:srcRect l="705" t="17130" r="56483" b="34551"/>
          <a:stretch/>
        </p:blipFill>
        <p:spPr>
          <a:xfrm>
            <a:off x="3857760" y="0"/>
            <a:ext cx="528624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1785960" y="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иды классов.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1714680" y="4786200"/>
            <a:ext cx="7215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Листовой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(leaf </a:t>
            </a:r>
            <a:r>
              <a:rPr b="0" lang="en-US" sz="1600" spc="-1" strike="noStrike">
                <a:solidFill>
                  <a:srgbClr val="0d0d0d"/>
                </a:solidFill>
                <a:latin typeface="Arial"/>
              </a:rPr>
              <a:t>class)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- класс, у которого нет потомков. Они называются и задаются в UML c помощью свойства, написанного под именем класса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Корневой (</a:t>
            </a:r>
            <a:r>
              <a:rPr b="1" i="1" lang="en-US" sz="1600" spc="-1" strike="noStrike">
                <a:solidFill>
                  <a:srgbClr val="0d0d0d"/>
                </a:solidFill>
                <a:latin typeface="Arial"/>
              </a:rPr>
              <a:t>root class) </a:t>
            </a: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класс, не имеющий родителей. Такой класс называется и специфицируется с помощью свойства root, записанного под его именем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785960" y="500040"/>
            <a:ext cx="2500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Конкретный класс (</a:t>
            </a:r>
            <a:r>
              <a:rPr b="1" i="1" lang="en-US" sz="1600" spc="-1" strike="noStrike">
                <a:solidFill>
                  <a:srgbClr val="0d0d0d"/>
                </a:solidFill>
                <a:latin typeface="Arial"/>
              </a:rPr>
              <a:t>concrete class</a:t>
            </a: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– класс, на основе которого могут быть непосредственно созданы экземпляры или объекты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Абстрактный класс (</a:t>
            </a:r>
            <a:r>
              <a:rPr b="1" i="1" lang="en-US" sz="1600" spc="-1" strike="noStrike">
                <a:solidFill>
                  <a:srgbClr val="0d0d0d"/>
                </a:solidFill>
                <a:latin typeface="Arial"/>
              </a:rPr>
              <a:t>abstracr class</a:t>
            </a: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– класс, который не имеет экземпляров или объектов. В языке UML имя абстрактного класса пишут курсивом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print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785960" y="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иды классов.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1785960" y="571680"/>
            <a:ext cx="700092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Класс-сущность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d0d0d"/>
                </a:solidFill>
                <a:latin typeface="Arial"/>
              </a:rPr>
              <a:t>entity class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) – пассивный класс, информация о котором должна храниться постоянно и не уничтожаться с выключением системы. Он как правило соответствует  отдельной таблице базы данных. Изображается класс- сущность стандартным образом со стереотипом &lt;&lt;</a:t>
            </a:r>
            <a:r>
              <a:rPr b="0" lang="en-US" sz="1600" spc="-1" strike="noStrike">
                <a:solidFill>
                  <a:srgbClr val="0d0d0d"/>
                </a:solidFill>
                <a:latin typeface="Arial"/>
              </a:rPr>
              <a:t>entity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&gt;&gt;</a:t>
            </a:r>
            <a:r>
              <a:rPr b="0" lang="en-US" sz="16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Пользователям системы необходимы классы, которые определяют GUI-объекты (например, экранные формы), называемые </a:t>
            </a: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граничными классами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Граничный класс 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d0d0d"/>
                </a:solidFill>
                <a:latin typeface="Arial"/>
              </a:rPr>
              <a:t>boundary class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) – класс, который располагается на границе системы с внешней средой и непосредственно взаимодействует с актерами, но является составной частью системы. Изображается стандартным образом со стереотипом &lt;&lt;</a:t>
            </a:r>
            <a:r>
              <a:rPr b="0" lang="en-US" sz="1600" spc="-1" strike="noStrike">
                <a:solidFill>
                  <a:srgbClr val="0d0d0d"/>
                </a:solidFill>
                <a:latin typeface="Arial"/>
              </a:rPr>
              <a:t>boundary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&gt;&gt;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Системе также необходимы классы, которые управляют программной логикой – управляющие классы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d0d0d"/>
                </a:solidFill>
                <a:latin typeface="Arial"/>
              </a:rPr>
              <a:t>Управляющий класс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d0d0d"/>
                </a:solidFill>
                <a:latin typeface="Arial"/>
              </a:rPr>
              <a:t>control class</a:t>
            </a:r>
            <a:r>
              <a:rPr b="0" lang="ru-RU" sz="1600" spc="-1" strike="noStrike">
                <a:solidFill>
                  <a:srgbClr val="0d0d0d"/>
                </a:solidFill>
                <a:latin typeface="Arial"/>
              </a:rPr>
              <a:t>) – класс, отвечающий за координацию действий других классов. Как правило, у каждой диаграммы классов есть хотя бы один управляющий класс, контролирующий последовательность выполнения действий. Этот класс является активным и инициирует рассылку множества сообщений другим классам. Изображается со стереотипом &lt;&lt;control&gt;&gt;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857320" y="142920"/>
            <a:ext cx="32526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4d73"/>
                </a:solidFill>
                <a:latin typeface="Arial"/>
              </a:rPr>
              <a:t>Атрибут класса -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785960" y="714240"/>
            <a:ext cx="5786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это именованное свойство класса, включающее описание множества значений, которые могут принимать экземпляры этого свойства. Класс может иметь любое число атрибутов или не иметь их вовсе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Атрибуты класса записываются во второй секции прямоугольника, обозначающего класс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rcRect l="19972" t="35850" r="15576" b="27761"/>
          <a:stretch/>
        </p:blipFill>
        <p:spPr>
          <a:xfrm>
            <a:off x="285840" y="3000240"/>
            <a:ext cx="86518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8:08:14Z</dcterms:created>
  <dc:creator>User</dc:creator>
  <dc:description/>
  <dc:language>en-US</dc:language>
  <cp:lastModifiedBy>Admin</cp:lastModifiedBy>
  <dcterms:modified xsi:type="dcterms:W3CDTF">2011-01-10T19:52:59Z</dcterms:modified>
  <cp:revision>17</cp:revision>
  <dc:subject/>
  <dc:title>Name of presentation</dc:title>
</cp:coreProperties>
</file>