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5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3B93-5EA6-471F-80E8-CCA8EBAF7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82296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43440"/>
            <a:ext cx="82296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FC4B-10F5-4313-BEEE-6D9A9BD3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40158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2840" y="3505320"/>
            <a:ext cx="40158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3440"/>
            <a:ext cx="40158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2840" y="3943440"/>
            <a:ext cx="40158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4B82-CD5F-4B9F-990B-1EA5FA843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26496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8240" y="3505320"/>
            <a:ext cx="26496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0680" y="3505320"/>
            <a:ext cx="26496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43440"/>
            <a:ext cx="26496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8240" y="3943440"/>
            <a:ext cx="26496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0680" y="3943440"/>
            <a:ext cx="26496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0F39-7E72-4B19-86E6-0BC82E64F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84D3-B0F5-4C25-A842-FAAF63CEC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01FA-14F8-41AD-9C69-E76DEBEC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94C4-9194-442D-99F4-E5C7803E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4015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02840" y="3505320"/>
            <a:ext cx="4015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10B4-DBB2-4901-8955-0FB5A05C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6E13-06A3-4B86-9E4B-97904C13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5905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4706-7638-4292-8619-DA4F1E53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40158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2840" y="3505320"/>
            <a:ext cx="4015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43440"/>
            <a:ext cx="40158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24B7-3C02-4CFC-B030-6B475019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B79C-16A5-4D37-8BD8-A590DA89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4015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2840" y="3505320"/>
            <a:ext cx="40158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02840" y="3943440"/>
            <a:ext cx="40158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4D4C-2D68-49CC-90CE-4CAF9A99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40158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2840" y="3505320"/>
            <a:ext cx="40158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43440"/>
            <a:ext cx="82296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EF6A-B8BC-4935-A783-AF82EAF2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82296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43440"/>
            <a:ext cx="82296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D43D-63B8-4769-9225-6014F48F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40158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2840" y="3505320"/>
            <a:ext cx="40158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43440"/>
            <a:ext cx="40158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02840" y="3943440"/>
            <a:ext cx="40158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91AB-C70F-4C08-999E-6DEB045E1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26496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68240" y="3505320"/>
            <a:ext cx="26496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0680" y="3505320"/>
            <a:ext cx="26496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43440"/>
            <a:ext cx="26496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68240" y="3943440"/>
            <a:ext cx="26496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0680" y="3943440"/>
            <a:ext cx="26496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92D1-8D1D-4963-9B3E-D80E03076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D8E2-A6DA-41EC-963C-F8DEF7B6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4015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2840" y="3505320"/>
            <a:ext cx="4015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D6B1-D64D-4461-AE0A-9E2D41E0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0A19-7479-46F8-807B-9F03BB7E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5905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F66B-C820-477F-9DD2-61FF31EA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40158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2840" y="3505320"/>
            <a:ext cx="4015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43440"/>
            <a:ext cx="40158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7152-1E91-4DB8-BBD3-0043E4EF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4015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2840" y="3505320"/>
            <a:ext cx="40158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2840" y="3943440"/>
            <a:ext cx="40158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729A-A988-48A5-8F98-D2C99DF0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40158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2840" y="3505320"/>
            <a:ext cx="40158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43440"/>
            <a:ext cx="8229600" cy="3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23CD-4318-4F03-B8C5-ADDD171B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Franklin Gothic Demi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Franklin Gothic Demi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Franklin Gothic Demi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Franklin Gothic Demi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Franklin Gothic Demi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Franklin Gothic Demi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Franklin Gothic Demi"/>
              </a:rPr>
              <a:t>Fourth Outline Level</a:t>
            </a:r>
            <a:endParaRPr b="0" lang="en-US" sz="2400" spc="-1" strike="noStrike">
              <a:solidFill>
                <a:srgbClr val="003399"/>
              </a:solidFill>
              <a:latin typeface="Franklin Gothic Demi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Franklin Gothic Demi"/>
              </a:rPr>
              <a:t>Fifth Outline Level</a:t>
            </a:r>
            <a:endParaRPr b="0" lang="en-US" sz="2400" spc="-1" strike="noStrike">
              <a:solidFill>
                <a:srgbClr val="003399"/>
              </a:solidFill>
              <a:latin typeface="Franklin Gothic Demi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Franklin Gothic Demi"/>
              </a:rPr>
              <a:t>Sixth Outline Level</a:t>
            </a:r>
            <a:endParaRPr b="0" lang="en-US" sz="2400" spc="-1" strike="noStrike">
              <a:solidFill>
                <a:srgbClr val="003399"/>
              </a:solidFill>
              <a:latin typeface="Franklin Gothic Demi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Franklin Gothic Demi"/>
              </a:rPr>
              <a:t>Seventh Outline Level</a:t>
            </a:r>
            <a:endParaRPr b="0" lang="en-US" sz="2400" spc="-1" strike="noStrike">
              <a:solidFill>
                <a:srgbClr val="003399"/>
              </a:solidFill>
              <a:latin typeface="Franklin Gothic Dem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FDD8-1CC5-4F30-9628-E476FB027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7C36-A698-449F-951D-B308090B7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Franklin Gothic Demi"/>
              </a:rPr>
              <a:t>Second Outline Level</a:t>
            </a:r>
            <a:endParaRPr b="0" lang="en-US" sz="2000" spc="-1" strike="noStrike">
              <a:solidFill>
                <a:srgbClr val="003399"/>
              </a:solidFill>
              <a:latin typeface="Franklin Gothic Demi"/>
            </a:endParaRPr>
          </a:p>
          <a:p>
            <a:pPr lvl="2" marL="914400" algn="ctr">
              <a:spcBef>
                <a:spcPts val="451"/>
              </a:spcBef>
              <a:buClr>
                <a:srgbClr val="003399"/>
              </a:buClr>
              <a:buFont typeface="Franklin Gothic Demi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Franklin Gothic Demi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Franklin Gothic Demi"/>
            </a:endParaRPr>
          </a:p>
          <a:p>
            <a:pPr lvl="3" marL="1371600" algn="ctr">
              <a:spcBef>
                <a:spcPts val="400"/>
              </a:spcBef>
              <a:buClr>
                <a:srgbClr val="003399"/>
              </a:buClr>
              <a:buFont typeface="Franklin Gothic Demi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Franklin Gothic Demi"/>
              </a:rPr>
              <a:t>Fourth Outline Level</a:t>
            </a:r>
            <a:endParaRPr b="0" lang="en-US" sz="1600" spc="-1" strike="noStrike">
              <a:solidFill>
                <a:srgbClr val="003399"/>
              </a:solidFill>
              <a:latin typeface="Franklin Gothic Demi"/>
            </a:endParaRPr>
          </a:p>
          <a:p>
            <a:pPr lvl="4" marL="1828800" algn="ctr">
              <a:spcBef>
                <a:spcPts val="400"/>
              </a:spcBef>
              <a:buClr>
                <a:srgbClr val="003399"/>
              </a:buClr>
              <a:buFont typeface="Franklin Gothic Demi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Franklin Gothic Demi"/>
              </a:rPr>
              <a:t>Fifth Outline Level</a:t>
            </a:r>
            <a:endParaRPr b="0" lang="en-US" sz="1600" spc="-1" strike="noStrike">
              <a:solidFill>
                <a:srgbClr val="003399"/>
              </a:solidFill>
              <a:latin typeface="Franklin Gothic Demi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Franklin Gothic Demi"/>
              </a:rPr>
              <a:t>Sixth Outline Level</a:t>
            </a:r>
            <a:endParaRPr b="0" lang="en-US" sz="1600" spc="-1" strike="noStrike">
              <a:solidFill>
                <a:srgbClr val="003399"/>
              </a:solidFill>
              <a:latin typeface="Franklin Gothic Demi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Franklin Gothic Demi"/>
              </a:rPr>
              <a:t>Seventh Outline Level</a:t>
            </a:r>
            <a:endParaRPr b="0" lang="en-US" sz="1600" spc="-1" strike="noStrike">
              <a:solidFill>
                <a:srgbClr val="003399"/>
              </a:solidFill>
              <a:latin typeface="Franklin Gothic D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hyperlink" Target="http://ru.wikipedia.org/w/index.php?title=IDEF1X&amp;action=edit&amp;redlink=1" TargetMode="External"/><Relationship Id="rId4" Type="http://schemas.openxmlformats.org/officeDocument/2006/relationships/hyperlink" Target="http://ru.wikipedia.org/w/index.php?title=IDEF2&amp;action=edit&amp;redlink=1" TargetMode="Externa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image" Target="../media/image1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nform.nstu.ru/files/256_informacionnaia%20sistema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rchgerman.narod.ru/download/Zdanie_muzeja_m.jpg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diplompgs.narod.ru/63.jpg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99"/>
                </a:solidFill>
                <a:latin typeface="Times New Roman"/>
              </a:rPr>
              <a:t>Введение в моделирование</a:t>
            </a:r>
            <a:endParaRPr b="0" lang="en-US" sz="5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Тема 1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-9360"/>
            <a:ext cx="9169560" cy="6867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159" name=""/>
          <p:cNvSpPr/>
          <p:nvPr/>
        </p:nvSpPr>
        <p:spPr>
          <a:xfrm>
            <a:off x="0" y="649116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3 Основы объектной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одходы к моделированию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177336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лгоритмический мет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43280" y="1773360"/>
            <a:ext cx="3961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ъектно-ориентированный мет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7960" y="2798640"/>
            <a:ext cx="3673800" cy="175140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диционный подход к созданию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ой строительный блок – процедура или фун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59280" y="2781360"/>
            <a:ext cx="3673440" cy="1739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иболее современный подход к разработке программного обесп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ой строительный блок – объект или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459640" y="645336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468C-27E7-4CED-978B-2E51363799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-9360"/>
            <a:ext cx="9169560" cy="6867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бъектно-ориентированное программировани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49116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3 Основы объектной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1916280"/>
            <a:ext cx="7850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это совокупность принципов, технологий, а также инструментальных средств для создания программных систем на основе архитектуры взаимодействия объек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это методология программирования, основанная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представлении программы в виде совокупности объект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каждый из которых является экземпляром определ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класса, а классы образуют иерархию наследования</a:t>
            </a: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801280" y="64911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E110-3C08-4B65-AD55-220CB19C1A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-9360"/>
            <a:ext cx="9169560" cy="6867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Объект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9280" y="141300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кружающий мир состоит из объектов (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bject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),  пребывающих в состоянии (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te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), которое определяется текущими значениями атрибутов объек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2349360"/>
            <a:ext cx="3598920" cy="34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ый объект облад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дентичностью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dentity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оянным свойством, с помощью которого мы отличаем один объект от другого (уникальность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стояние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торое определяется текущими значениями атрибутов объек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ведение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be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vio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торое определяет действия объекта или действия над объект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649116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3 Основы объектной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9BCC-2E06-4F58-B8FA-3705BDBEB1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-9360"/>
            <a:ext cx="9169560" cy="6867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Основные принципы  ООП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649116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3 Основы объектной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3080" y="1255680"/>
            <a:ext cx="5545080" cy="35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Абстрак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—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арактеристика сущности, которая отличает ее от других сущностей. Абстракция определяет границу представления соответствующего элемента модели и применяется для определения класса и объек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Наследо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принцип, в соответствии с которым знание о наиболее общей категории разрешается применять для более частной категор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Инкапсуляция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арактеризует сокрытие отдельных деталей внутреннего устройства классов от внешних по отношению к нему объектов или пользова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780160" y="1484280"/>
            <a:ext cx="3363840" cy="3227400"/>
            <a:chOff x="5780160" y="1484280"/>
            <a:chExt cx="3363840" cy="3227400"/>
          </a:xfrm>
        </p:grpSpPr>
        <p:sp>
          <p:nvSpPr>
            <p:cNvPr id="181" name=""/>
            <p:cNvSpPr/>
            <p:nvPr/>
          </p:nvSpPr>
          <p:spPr>
            <a:xfrm>
              <a:off x="5887800" y="1841760"/>
              <a:ext cx="3151440" cy="163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bd4b4"/>
                </a:gs>
              </a:gsLst>
              <a:lin ang="5400000"/>
            </a:gradFill>
            <a:ln w="12600">
              <a:solidFill>
                <a:srgbClr val="fabf8f"/>
              </a:solidFill>
              <a:miter/>
            </a:ln>
            <a:effectLst>
              <a:outerShdw dist="107932" dir="189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80160" y="1484280"/>
              <a:ext cx="3363840" cy="32274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38160">
              <a:solidFill>
                <a:srgbClr val="f2f2f2"/>
              </a:solidFill>
              <a:miter/>
            </a:ln>
            <a:effectLst>
              <a:outerShdw dist="107932" dir="189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Класс «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омпьютер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38200" y="2047680"/>
              <a:ext cx="3087000" cy="2510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bd4b4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Класс «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ерсональный компьютер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88120" y="2713680"/>
              <a:ext cx="2143440" cy="460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Класс «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бочая станция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94600" y="3277080"/>
              <a:ext cx="2136960" cy="460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Класс «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ервер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94600" y="3840840"/>
              <a:ext cx="2143080" cy="460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Класс «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оутбук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76320" y="4929120"/>
            <a:ext cx="8785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Полиморфизм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войство объектов принимать различные внешние формы в зависимости от обстоятельств. Применительно к ООП полиморфизм означает, что действия, выполняемые одноименными методами, могут отличаться в зависимости от того, к какому из классов относится тот или иной мет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329A-8A27-41B7-A989-950F856D2E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69560" cy="6867360"/>
          </a:xfrm>
          <a:prstGeom prst="rect">
            <a:avLst/>
          </a:prstGeom>
          <a:ln w="9360">
            <a:solidFill>
              <a:srgbClr val="000000"/>
            </a:solidFill>
            <a:prstDash val="dashDot"/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189" name=""/>
          <p:cNvSpPr/>
          <p:nvPr/>
        </p:nvSpPr>
        <p:spPr>
          <a:xfrm>
            <a:off x="0" y="6237360"/>
            <a:ext cx="88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4 Методология объектно-ориентированного анализа и проек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оцесс написания программного кода может быть отделен от процесса проектирования програм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1484280"/>
            <a:ext cx="3438360" cy="7038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с проектирования структуры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48280" y="1488960"/>
            <a:ext cx="3095640" cy="7038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с написания программного к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2421000"/>
            <a:ext cx="3456000" cy="25743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ить классы (сколько и как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ить свойства и методы необходимые для придания классам требуемого повед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ановить взаимосвязи между класс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03640" y="2421000"/>
            <a:ext cx="3168720" cy="9169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граммирование классов, свойств и мето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9120" y="5176800"/>
            <a:ext cx="18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5157720"/>
            <a:ext cx="4716360" cy="733320"/>
          </a:xfrm>
          <a:prstGeom prst="rect">
            <a:avLst/>
          </a:prstGeom>
          <a:solidFill>
            <a:srgbClr val="75ffe5"/>
          </a:solidFill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ий анализ требований к будущей программе, а также с анализ конкретной предметной области, для которой разрабатывается программ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788000" y="5373720"/>
            <a:ext cx="936360" cy="288720"/>
          </a:xfrm>
          <a:custGeom>
            <a:avLst/>
            <a:gdLst>
              <a:gd name="textAreaLeft" fmla="*/ 146160 w 936360"/>
              <a:gd name="textAreaRight" fmla="*/ 819360 w 93636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84720" y="5157720"/>
            <a:ext cx="1943280" cy="642600"/>
          </a:xfrm>
          <a:prstGeom prst="rect">
            <a:avLst/>
          </a:prstGeom>
          <a:solidFill>
            <a:srgbClr val="cc99ff"/>
          </a:solidFill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ология ОО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FE2F-60FC-4DF8-AC5E-835ACEACB2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0" y="-9360"/>
            <a:ext cx="9169560" cy="6867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бъектно-ориентированный анализ и проектирование (Object-Oriented Analysis/Design)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6237360"/>
            <a:ext cx="88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4 Методология объектно-ориентированного анализа и проек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71640" y="198900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хнология разработки программных систем, в основу которых положена объектно-ориентированная методология представления предметной области в виде объектов, являющихся экземплярами соответствующих клас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8065-CF99-422F-B9D5-11758D0819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6237360"/>
            <a:ext cx="88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4 Методология объектно-ориентированного анализа и проек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4360" y="26028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4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графических нотации ООАП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1280" y="1773360"/>
            <a:ext cx="820872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диаграммы «сущность-связь» (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tity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lationship Diagrams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RD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диаграммы функционального моделирования (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ructured Analysis and Design Technique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ADT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диаграммы потоков данных (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ata Flow Diagrams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FD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диаграммы унифицированного языка моделирования UML с использованием методологии R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2711-5058-494A-BDFC-EB9628C29A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0" y="-9360"/>
            <a:ext cx="9169560" cy="6867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207" name=""/>
          <p:cNvSpPr/>
          <p:nvPr/>
        </p:nvSpPr>
        <p:spPr>
          <a:xfrm>
            <a:off x="0" y="6237360"/>
            <a:ext cx="88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4 Методология объектно-ориентированного анализа и проек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5640" y="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Диаграммы «сущность-связь» (Е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RD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79280" y="476280"/>
            <a:ext cx="878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рафическое представление моделей данных программной системы в виде набора стандартных обозначений для определения данных и отношений между ни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843280" y="1484280"/>
            <a:ext cx="5943600" cy="2590920"/>
            <a:chOff x="2843280" y="1484280"/>
            <a:chExt cx="5943600" cy="2590920"/>
          </a:xfrm>
        </p:grpSpPr>
        <p:sp>
          <p:nvSpPr>
            <p:cNvPr id="211" name=""/>
            <p:cNvSpPr/>
            <p:nvPr/>
          </p:nvSpPr>
          <p:spPr>
            <a:xfrm>
              <a:off x="5075280" y="14842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Arial"/>
                </a:rPr>
                <a:t>Работает 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2843280" y="1700280"/>
              <a:ext cx="5943600" cy="2374920"/>
              <a:chOff x="2843280" y="1700280"/>
              <a:chExt cx="5943600" cy="2374920"/>
            </a:xfrm>
          </p:grpSpPr>
          <p:sp>
            <p:nvSpPr>
              <p:cNvPr id="213" name=""/>
              <p:cNvSpPr/>
              <p:nvPr/>
            </p:nvSpPr>
            <p:spPr>
              <a:xfrm>
                <a:off x="2954520" y="1916280"/>
                <a:ext cx="1295280" cy="503280"/>
              </a:xfrm>
              <a:prstGeom prst="flowChartProcess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Сотрудник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418520" y="1987560"/>
                <a:ext cx="1368360" cy="432000"/>
              </a:xfrm>
              <a:prstGeom prst="flowChartProcess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Компания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978520" y="2889360"/>
                <a:ext cx="151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400" spc="-1" strike="noStrike">
                    <a:solidFill>
                      <a:srgbClr val="000000"/>
                    </a:solidFill>
                    <a:latin typeface="Arial"/>
                  </a:rPr>
                  <a:t>Разрабатывае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178160" y="2924280"/>
                <a:ext cx="151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400" spc="-1" strike="noStrike">
                    <a:solidFill>
                      <a:srgbClr val="000000"/>
                    </a:solidFill>
                    <a:latin typeface="Arial"/>
                  </a:rPr>
                  <a:t>Работает над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249800" y="2203560"/>
                <a:ext cx="316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041800" y="1916280"/>
                <a:ext cx="1368720" cy="576360"/>
              </a:xfrm>
              <a:prstGeom prst="flowChartDecision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066160" y="2419560"/>
                <a:ext cx="0" cy="151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3528720" y="3932280"/>
                <a:ext cx="4537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3529080" y="2419560"/>
                <a:ext cx="0" cy="151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113440" y="3571920"/>
                <a:ext cx="1368360" cy="503280"/>
              </a:xfrm>
              <a:prstGeom prst="flowChartProcess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Проек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392960" y="2779920"/>
                <a:ext cx="1368360" cy="576000"/>
              </a:xfrm>
              <a:prstGeom prst="flowChartDecision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843280" y="2781360"/>
                <a:ext cx="1368360" cy="576360"/>
              </a:xfrm>
              <a:prstGeom prst="flowChartDecision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249800" y="170028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529080" y="241956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681440" y="357192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М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481800" y="357192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М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986520" y="184320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0" name=""/>
          <p:cNvSpPr/>
          <p:nvPr/>
        </p:nvSpPr>
        <p:spPr>
          <a:xfrm>
            <a:off x="5796000" y="3284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79280" y="1557360"/>
            <a:ext cx="29527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Сущность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entity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роизвольное множество реальных или абстрактных объектов, каждый из которых обладает одинаковыми свойствами и характеристиками. данной сущ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Связь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relationship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тношение или ассоциация между отдельными сущностя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4000" y="4724280"/>
            <a:ext cx="8604000" cy="1067400"/>
          </a:xfrm>
          <a:prstGeom prst="rect">
            <a:avLst/>
          </a:prstGeom>
          <a:solidFill>
            <a:srgbClr val="cc99ff"/>
          </a:solidFill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граниченность диаграм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оявляется при конкретизации концептуальной модели в более детальное представление моделируемой программной системы, которое, кроме статических связей, должно содержать информацию о поведении или функционировании ее отдельных компонен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675640" y="6381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A417-B18F-49B1-BBAD-EF6DE6600D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-9360"/>
            <a:ext cx="9169560" cy="6867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235" name=""/>
          <p:cNvSpPr/>
          <p:nvPr/>
        </p:nvSpPr>
        <p:spPr>
          <a:xfrm>
            <a:off x="395280" y="0"/>
            <a:ext cx="57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9280" y="26028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Диаграммы функционального моделирования (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ADT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9280" y="1197000"/>
            <a:ext cx="91440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втор Дуглас Росс. Функциональная модель SADT отображает функциональную структуру объекта, т.е. производимые им действия и связи между этими действиями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0920" y="2421000"/>
            <a:ext cx="8642160" cy="36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buClr>
                <a:srgbClr val="000066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DEF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0—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для документирования процессов производства и отображения информации об использовании ресур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DEF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1 —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для моделирования информационных потоков внутри систем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DEF1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построения реляционных структур (баз данных), относится к типу методологий «Сущность-взаимосвязь» (ER — Entity-Relationship)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IDEF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моделирования динамического развития систем.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Нотация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DEF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2 никогда не была полностью реализов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IDEF3 - для документирования технологических процес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IDEF4 — для построения объектно-ориентированных сист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IDEF5  — для описания системы при помощи определенного словаря терминов и правил, на основании которых формируются утверждения о состоянии системы в некоторый момент времени. На основе утверждений формируются выводы о дальнейшем развитии системы и производится её оптимизац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SzPct val="1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.. До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DEF14.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19162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фические нотации семейств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F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Icam DEFinition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6237360"/>
            <a:ext cx="88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4 Методология объектно-ориентированного анализа и проек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708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09B7-9897-4E89-88F6-D8D3EC8EE7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-9360"/>
            <a:ext cx="9169560" cy="6867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243" name=""/>
          <p:cNvSpPr/>
          <p:nvPr/>
        </p:nvSpPr>
        <p:spPr>
          <a:xfrm>
            <a:off x="179280" y="26028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Диаграммы функционального моделирования (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ADT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1413000"/>
            <a:ext cx="3744720" cy="42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собенность нотации IDEF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тепенное введение все более детальных представлений модели системы по мере разработки отдельных диаграм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строение модели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DEF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чинается с представления всей системы в виде простейшей диаграммы, состоящей из одного блока процесса и стрелок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OM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служащих для изображения основных видов взаимодействия с объектами вне систе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нное представление является наиболее общим и подлежит дальнейшей декомпозици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4329000" y="1643040"/>
            <a:ext cx="4635720" cy="3570480"/>
            <a:chOff x="4329000" y="1643040"/>
            <a:chExt cx="4635720" cy="3570480"/>
          </a:xfrm>
        </p:grpSpPr>
        <p:sp>
          <p:nvSpPr>
            <p:cNvPr id="246" name=""/>
            <p:cNvSpPr/>
            <p:nvPr/>
          </p:nvSpPr>
          <p:spPr>
            <a:xfrm>
              <a:off x="5867280" y="3357720"/>
              <a:ext cx="1943280" cy="580680"/>
            </a:xfrm>
            <a:prstGeom prst="rect">
              <a:avLst/>
            </a:prstGeom>
            <a:solidFill>
              <a:srgbClr val="b7dbff"/>
            </a:solidFill>
            <a:ln w="22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формить кредит в банк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804000" y="1844640"/>
              <a:ext cx="0" cy="15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00760" y="1643040"/>
              <a:ext cx="1295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оформления креди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27640" y="3716280"/>
              <a:ext cx="14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329000" y="2727360"/>
              <a:ext cx="16560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Заявка клиента на предоставление креди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6777000" y="3975120"/>
              <a:ext cx="6480" cy="12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948360" y="4653000"/>
              <a:ext cx="107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Менеджер бан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812000" y="3645000"/>
              <a:ext cx="11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956720" y="328464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реди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4284720" y="5373720"/>
            <a:ext cx="511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имер представления общей модели процесса оформления кредита в ба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708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30DE-3F91-4C0C-BB8F-BAA3C90AB8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сновные проблемы при разработке информационных систе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6491160"/>
            <a:ext cx="39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начения модел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1557360"/>
            <a:ext cx="2855880" cy="96948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адекватная оценка трудоемкости создания современных приложения на начальных этапах про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08480" y="1542960"/>
            <a:ext cx="2663640" cy="9694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Незапланированные расходы и затягивание сроков готовности програм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8080" y="2894040"/>
            <a:ext cx="2851200" cy="96948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нение функциональных требований заказчика в процессе разработки прилож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2708280"/>
            <a:ext cx="2724120" cy="16261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Отдаление сроков завершения программы, вынужденное привлечение сверхштатных программистов и дополнительных ресурсов для организации их 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8080" y="4149720"/>
            <a:ext cx="2869920" cy="1845000"/>
          </a:xfrm>
          <a:prstGeom prst="rect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однозначное понимание архитектуры и функциональности информационной системы множеством специалистов различной квалификации, участвующих в ее разработ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59280" y="1844640"/>
            <a:ext cx="361800" cy="360360"/>
          </a:xfrm>
          <a:custGeom>
            <a:avLst/>
            <a:gdLst>
              <a:gd name="textAreaLeft" fmla="*/ 56520 w 361800"/>
              <a:gd name="textAreaRight" fmla="*/ 316800 w 3618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59280" y="3213000"/>
            <a:ext cx="361800" cy="360360"/>
          </a:xfrm>
          <a:custGeom>
            <a:avLst/>
            <a:gdLst>
              <a:gd name="textAreaLeft" fmla="*/ 56520 w 361800"/>
              <a:gd name="textAreaRight" fmla="*/ 316800 w 3618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73320" y="4811760"/>
            <a:ext cx="362160" cy="360360"/>
          </a:xfrm>
          <a:custGeom>
            <a:avLst/>
            <a:gdLst>
              <a:gd name="textAreaLeft" fmla="*/ 56520 w 362160"/>
              <a:gd name="textAreaRight" fmla="*/ 317160 w 3621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32240" y="4494240"/>
            <a:ext cx="2724120" cy="140724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Возможность несоответствия разработанной информационной системы всем требованиям заказч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1413000"/>
            <a:ext cx="720720" cy="4752720"/>
          </a:xfrm>
          <a:custGeom>
            <a:avLst/>
            <a:gdLst>
              <a:gd name="textAreaLeft" fmla="*/ 0 w 720720"/>
              <a:gd name="textAreaRight" fmla="*/ 260280 w 720720"/>
              <a:gd name="textAreaTop" fmla="*/ 123840 h 4752720"/>
              <a:gd name="textAreaBottom" fmla="*/ 4628880 h 47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75480" y="2305080"/>
            <a:ext cx="2376360" cy="2837160"/>
          </a:xfrm>
          <a:prstGeom prst="rect">
            <a:avLst/>
          </a:prstGeom>
          <a:solidFill>
            <a:srgbClr val="75ffe5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еобходимость моделирования структуры и процесса функционирования программных систем до начала написания соответствующего к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F77F-92E9-458A-8E6B-32DDF23176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0" y="-9360"/>
            <a:ext cx="9169560" cy="6867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258" name=""/>
          <p:cNvSpPr/>
          <p:nvPr/>
        </p:nvSpPr>
        <p:spPr>
          <a:xfrm>
            <a:off x="0" y="6237360"/>
            <a:ext cx="88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4 Методология объектно-ориентированного анализа и проек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9280" y="26028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Диаграммы функционального моделирования (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ADT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0320" y="1413000"/>
            <a:ext cx="4297320" cy="45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оцесс моделирования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DEF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вокупность методов, правил и процедур, предназначенных для построения функциональной модели системы какой-либо предметной обла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Функциональная модель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DE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ображает структуру процессов функционирования системы и ее отдельных подсистем, то есть, выполняемые ими действия и связи между этими действ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сходными строительными блок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юбой модели нотаци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F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 процесса являются деятельность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и стрелки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rows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84720" y="1557360"/>
            <a:ext cx="4608360" cy="4323960"/>
          </a:xfrm>
          <a:prstGeom prst="rect">
            <a:avLst/>
          </a:prstGeom>
          <a:solidFill>
            <a:srgbClr val="ebf7ff"/>
          </a:solidFill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временные программные продукты для построени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D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CA ERwin Process Modeler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бывший BPWin, затем AllFusion Process Modeler) - моделирование на базе методик IDEF0, IDEF3, DF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esign / IDEF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моделирование на базе IDEF0, IDEF1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ARIS Toolset - IDS Sheer AG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 основе нотация eEP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M Tool Ki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- моделирование на базе IDEF0 и регламента Беларуси ТК РБ 4.2-МР-05-200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ORACLE Designe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BPM (Business Process Modeler) - см. [ 6 ]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MS Visi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708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3216-82F5-4295-BE17-1D14F3DD1F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0" y="-9360"/>
            <a:ext cx="9169560" cy="6867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264" name=""/>
          <p:cNvSpPr/>
          <p:nvPr/>
        </p:nvSpPr>
        <p:spPr>
          <a:xfrm>
            <a:off x="179280" y="26028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Диаграммы потоков данных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Data Flow Diagrams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DFD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623736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4 Методология объектно-ориентированного анализа и проек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708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8360" y="1989000"/>
            <a:ext cx="820728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F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ются одним из средств моделирования функциональных требований к проектируемой системе. Требования представляются в виде иерархии процессов, связанных потоками дан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F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зывают, как каждый процесс преобразует свои входные данные в выходные, и выявляют отношения между этими процесс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DF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едставляет моделируемую систему как сеть связанных рабо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DF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пешно используются как дополнение к модели IDEF0 для описания документооборота и обработки информ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сновные компоненты DF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– процессы или работы, внешние сущности, потоки данных, накопители данных (хранилищ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4360" y="134136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 -  Э.Йордон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1752-B3F9-4928-ACC8-135389A3AE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-9360"/>
            <a:ext cx="9169560" cy="6867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270" name=""/>
          <p:cNvSpPr/>
          <p:nvPr/>
        </p:nvSpPr>
        <p:spPr>
          <a:xfrm>
            <a:off x="179280" y="26028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Диаграммы потоков данных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Data Flow Diagrams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DFD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623736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4 Методология объектно-ориентированного анализа и проек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708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8360" y="1989000"/>
            <a:ext cx="82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3"/>
          <a:srcRect l="2067" t="40904" r="51534" b="28346"/>
          <a:stretch/>
        </p:blipFill>
        <p:spPr>
          <a:xfrm>
            <a:off x="1403280" y="1413000"/>
            <a:ext cx="6193080" cy="29746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79280" y="4581360"/>
            <a:ext cx="8964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релки DFD показывают, как объекты (включая данные) двигаются от одной работы к другой. Это представление потоков совместно с хранилищами данных и внешними сущностями делает модели DFD более похожими на физические характеристики системы — движение объектов, хранение объектов, поставка и распространение объек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D62A-4FD2-4576-999D-D65630558B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0" y="-9360"/>
            <a:ext cx="9169560" cy="6867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277" name=""/>
          <p:cNvSpPr/>
          <p:nvPr/>
        </p:nvSpPr>
        <p:spPr>
          <a:xfrm>
            <a:off x="0" y="623736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4 Методология объектно-ориентированного анализа и проек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39680" y="85680"/>
            <a:ext cx="878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Унифицированный язык  моделирования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U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Unified Modeling Languag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5280" y="1484280"/>
            <a:ext cx="8497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применяется при использловани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олог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RUP (Rational Unified Process)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-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отки проекта, в рамках которой вводятся этапы работы, ставятся задачи аналитикам, проектировщикам, программистам, тестировщикам, системным интегратор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258920" y="3141720"/>
            <a:ext cx="6983280" cy="19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етодология RU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писывает построение системы диаграмм – единичных описаний фрагментов 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каждой диаграммы есть своя цель и своя аудитория. Моделирование проводится как "поуровневый спуск" от концептуальной модели к логической, а затем к физической модели программной 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708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848E-3317-4CBC-B0DD-738BC4E36C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0" y="-9360"/>
            <a:ext cx="9169560" cy="6867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283" name=""/>
          <p:cNvSpPr/>
          <p:nvPr/>
        </p:nvSpPr>
        <p:spPr>
          <a:xfrm>
            <a:off x="0" y="33336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Виды диаграмм в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UML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708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508200" y="1916280"/>
            <a:ext cx="2051280" cy="761760"/>
          </a:xfrm>
          <a:prstGeom prst="rect">
            <a:avLst/>
          </a:prstGeom>
          <a:solidFill>
            <a:srgbClr val="e6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грамма классов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 diagra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961240" y="1916280"/>
            <a:ext cx="2139840" cy="761760"/>
          </a:xfrm>
          <a:prstGeom prst="rect">
            <a:avLst/>
          </a:prstGeom>
          <a:solidFill>
            <a:srgbClr val="e6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грамма объекто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object diagra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55560" y="1916280"/>
            <a:ext cx="2452680" cy="761760"/>
          </a:xfrm>
          <a:prstGeom prst="rect">
            <a:avLst/>
          </a:prstGeom>
          <a:solidFill>
            <a:srgbClr val="e6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грамма прецедентов (use case diagram)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55560" y="2946240"/>
            <a:ext cx="2452680" cy="762120"/>
          </a:xfrm>
          <a:prstGeom prst="rect">
            <a:avLst/>
          </a:prstGeom>
          <a:solidFill>
            <a:srgbClr val="e6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грамм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опер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collaboration diagram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действие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84360" y="3933720"/>
            <a:ext cx="2374920" cy="762120"/>
          </a:xfrm>
          <a:prstGeom prst="rect">
            <a:avLst/>
          </a:prstGeom>
          <a:solidFill>
            <a:srgbClr val="e6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грамма состояний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echar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gra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961240" y="3932280"/>
            <a:ext cx="2139840" cy="716040"/>
          </a:xfrm>
          <a:prstGeom prst="rect">
            <a:avLst/>
          </a:prstGeom>
          <a:solidFill>
            <a:srgbClr val="e6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грамм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йстви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activity diagra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68400" y="4871880"/>
            <a:ext cx="3432240" cy="717840"/>
          </a:xfrm>
          <a:prstGeom prst="rect">
            <a:avLst/>
          </a:prstGeom>
          <a:solidFill>
            <a:srgbClr val="e6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грамма последовательностей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gra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012000" y="2997360"/>
            <a:ext cx="2496960" cy="671400"/>
          </a:xfrm>
          <a:prstGeom prst="rect">
            <a:avLst/>
          </a:prstGeom>
          <a:solidFill>
            <a:srgbClr val="e6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грамма  компон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diagra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68840" y="4871880"/>
            <a:ext cx="3119400" cy="717840"/>
          </a:xfrm>
          <a:prstGeom prst="rect">
            <a:avLst/>
          </a:prstGeom>
          <a:solidFill>
            <a:srgbClr val="e6c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грамма  разверты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development diagra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3108240" y="3260520"/>
            <a:ext cx="2853000" cy="102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3107880" y="3304800"/>
            <a:ext cx="2853000" cy="93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08240" y="2319480"/>
            <a:ext cx="2495520" cy="255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3241800" y="2368440"/>
            <a:ext cx="2719440" cy="250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419640" y="3170160"/>
            <a:ext cx="2184120" cy="103032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Интегрированная модель сложн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489560" y="2682720"/>
            <a:ext cx="0" cy="49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623736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4 Методология объектно-ориентированного анализа и проек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02C4-12A4-45E0-97E4-C0C470B897C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4489560" y="2682720"/>
            <a:ext cx="0" cy="49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303" name=""/>
          <p:cNvSpPr/>
          <p:nvPr/>
        </p:nvSpPr>
        <p:spPr>
          <a:xfrm>
            <a:off x="395280" y="14842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3B99-8836-4D54-830C-4029366B629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elements</a:t>
            </a:r>
            <a:endParaRPr b="0" lang="en-US" sz="5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www.animationfactory.com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943600" y="4286160"/>
            <a:ext cx="2819520" cy="2114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2590920" y="1676520"/>
            <a:ext cx="2819160" cy="2114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5943600" y="1676520"/>
            <a:ext cx="2819520" cy="2114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2590920" y="4286160"/>
            <a:ext cx="2819160" cy="2114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461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одель –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это упрощенное представление реальности, абстракция физической системы, рассматриваемая с определенной точки зрения и представленная на некотором языке или в графической форм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Franklin Gothic Demi"/>
              </a:rPr>
              <a:t>включает элементы, существенно влияющие на результат, и не включает те, которые малозначимы на данном уровне абстракции;</a:t>
            </a:r>
            <a:endParaRPr b="0" lang="en-US" sz="2400" spc="-1" strike="noStrike">
              <a:solidFill>
                <a:srgbClr val="003399"/>
              </a:solidFill>
              <a:latin typeface="Franklin Gothic Demi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Franklin Gothic Demi"/>
              </a:rPr>
              <a:t>может быть </a:t>
            </a:r>
            <a:r>
              <a:rPr b="1" i="1" lang="ru-RU" sz="2400" spc="-1" strike="noStrike">
                <a:solidFill>
                  <a:srgbClr val="003399"/>
                </a:solidFill>
                <a:latin typeface="Franklin Gothic Demi"/>
              </a:rPr>
              <a:t>структурной</a:t>
            </a:r>
            <a:r>
              <a:rPr b="0" lang="ru-RU" sz="2400" spc="-1" strike="noStrike">
                <a:solidFill>
                  <a:srgbClr val="003399"/>
                </a:solidFill>
                <a:latin typeface="Franklin Gothic Demi"/>
              </a:rPr>
              <a:t>, подчеркивающей организацию системы, или </a:t>
            </a:r>
            <a:r>
              <a:rPr b="1" i="1" lang="ru-RU" sz="2400" spc="-1" strike="noStrike">
                <a:solidFill>
                  <a:srgbClr val="003399"/>
                </a:solidFill>
                <a:latin typeface="Franklin Gothic Demi"/>
              </a:rPr>
              <a:t>поведенческой</a:t>
            </a:r>
            <a:r>
              <a:rPr b="0" lang="ru-RU" sz="2400" spc="-1" strike="noStrike">
                <a:solidFill>
                  <a:srgbClr val="003399"/>
                </a:solidFill>
                <a:latin typeface="Franklin Gothic Demi"/>
              </a:rPr>
              <a:t>, то есть отражающей ее динамику;</a:t>
            </a:r>
            <a:endParaRPr b="0" lang="en-US" sz="2400" spc="-1" strike="noStrike">
              <a:solidFill>
                <a:srgbClr val="003399"/>
              </a:solidFill>
              <a:latin typeface="Franklin Gothic Demi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Franklin Gothic Demi"/>
              </a:rPr>
              <a:t>должна быть понятна заказчику и всем специалистам проектной группы, включая бизнес-аналитиков и программистов.</a:t>
            </a:r>
            <a:endParaRPr b="0" lang="en-US" sz="2400" spc="-1" strike="noStrike">
              <a:solidFill>
                <a:srgbClr val="003399"/>
              </a:solidFill>
              <a:latin typeface="Franklin Gothic Demi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491160"/>
            <a:ext cx="39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начения модел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C001-341E-4FFF-A3F8-CD962DAB64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75680" cy="6894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101" name=""/>
          <p:cNvSpPr/>
          <p:nvPr/>
        </p:nvSpPr>
        <p:spPr>
          <a:xfrm>
            <a:off x="395280" y="14616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делирование позволяет решить четыре различных 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1912320"/>
            <a:ext cx="806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360" rIns="147600" tIns="46800" bIns="46800" anchor="ctr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SzPct val="200000"/>
              <a:buFont typeface="Franklin Gothic Demi"/>
              <a:buChar char="•"/>
              <a:tabLst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Franklin Gothic Demi"/>
              </a:rPr>
              <a:t>визуализировать систему в ее текущем или желательном состоян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SzPct val="200000"/>
              <a:buFont typeface="Franklin Gothic Demi"/>
              <a:buChar char="•"/>
              <a:tabLst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Franklin Gothic Demi"/>
              </a:rPr>
              <a:t>определить структуру или поведение систем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SzPct val="200000"/>
              <a:buFont typeface="Franklin Gothic Demi"/>
              <a:buChar char="•"/>
              <a:tabLst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Franklin Gothic Demi"/>
              </a:rPr>
              <a:t>получить шаблон, позволяющий затем сконструировать систем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SzPct val="200000"/>
              <a:buFont typeface="Franklin Gothic Demi"/>
              <a:buChar char="•"/>
              <a:tabLst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Franklin Gothic Demi"/>
              </a:rPr>
              <a:t>документировать принимаемые решения, используя полученные мо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491160"/>
            <a:ext cx="39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начения модел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461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1.       Выбор модели оказывает определяющее влияние на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одход к решению проблемы и на то, как будет выглядеть это решен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491160"/>
            <a:ext cx="39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2 Принципы модел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4000" y="4797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Franklin Gothic Demi"/>
              </a:rPr>
              <a:t>          </a:t>
            </a:r>
            <a:r>
              <a:rPr b="0" lang="ru-RU" sz="2000" spc="-1" strike="noStrike">
                <a:solidFill>
                  <a:srgbClr val="000099"/>
                </a:solidFill>
                <a:latin typeface="Franklin Gothic Demi"/>
              </a:rPr>
              <a:t>Правильно выбранная модель высветит самые коварные проблемы разработки и позволит проникнуть в самую суть задачи. Неправильная модель заведет вас в тупик, поскольку внимание будет заостряться на несущественных вопросах.</a:t>
            </a:r>
            <a:endParaRPr b="0" lang="en-US" sz="2000" spc="-1" strike="noStrike">
              <a:solidFill>
                <a:srgbClr val="003399"/>
              </a:solidFill>
              <a:latin typeface="Franklin Gothic Demi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68360" y="1484280"/>
            <a:ext cx="8128080" cy="2962800"/>
            <a:chOff x="468360" y="1484280"/>
            <a:chExt cx="8128080" cy="2962800"/>
          </a:xfrm>
        </p:grpSpPr>
        <p:sp>
          <p:nvSpPr>
            <p:cNvPr id="108" name=""/>
            <p:cNvSpPr/>
            <p:nvPr/>
          </p:nvSpPr>
          <p:spPr>
            <a:xfrm>
              <a:off x="3075120" y="3484440"/>
              <a:ext cx="2448000" cy="642600"/>
            </a:xfrm>
            <a:prstGeom prst="rect">
              <a:avLst/>
            </a:prstGeom>
            <a:noFill/>
            <a:ln w="22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</a:rPr>
                <a:t>Информационная систе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29080" y="1828800"/>
              <a:ext cx="311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68360" y="1484280"/>
              <a:ext cx="2144880" cy="64260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азработчик баз дан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9800" y="2244600"/>
              <a:ext cx="2163960" cy="64260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труктурный аналити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2760" y="2981520"/>
              <a:ext cx="2146320" cy="146556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азработчик, пользующийся объектно-ориентированным метод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43120" y="2549520"/>
              <a:ext cx="311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43120" y="3125880"/>
              <a:ext cx="311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>
              <a:off x="3435480" y="1612800"/>
              <a:ext cx="1728720" cy="16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5740560" y="1541520"/>
              <a:ext cx="2824200" cy="64260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одели «сущность-связь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42000" y="2301840"/>
              <a:ext cx="2820960" cy="64260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одель алгоритмов и передачи данны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54600" y="3038400"/>
              <a:ext cx="2841840" cy="91692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ножество классов и их взаимодействие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E223-7F58-46A8-9EFF-A0465F346B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1461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2.       Каждая модель может быть воплощена с разной степенью абстракц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491160"/>
            <a:ext cx="39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2 Принципы модел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501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Лучшей моделью будет та, которая позволяет выбрать уровень детализации в зависимости от того, кто и с какой целью на нее смотрит. </a:t>
            </a:r>
            <a:endParaRPr b="0" lang="en-US" sz="2000" spc="-1" strike="noStrike">
              <a:solidFill>
                <a:srgbClr val="003399"/>
              </a:solidFill>
              <a:latin typeface="Franklin Gothic Demi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84360" y="1484280"/>
            <a:ext cx="7270560" cy="3084120"/>
            <a:chOff x="684360" y="1484280"/>
            <a:chExt cx="7270560" cy="308412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1403280" y="2565360"/>
              <a:ext cx="201636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2556000" y="1557360"/>
              <a:ext cx="1296720" cy="936720"/>
            </a:xfrm>
            <a:prstGeom prst="cloudCallout">
              <a:avLst>
                <a:gd name="adj1" fmla="val -77416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Что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4360" y="3860640"/>
              <a:ext cx="316692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000099"/>
                  </a:solidFill>
                  <a:latin typeface="Arial"/>
                </a:rPr>
                <a:t>Аналитик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000099"/>
                  </a:solidFill>
                  <a:latin typeface="Arial"/>
                </a:rPr>
                <a:t>Конечный пользовател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3"/>
            <a:srcRect l="0" t="0" r="0" b="15822"/>
            <a:stretch/>
          </p:blipFill>
          <p:spPr>
            <a:xfrm>
              <a:off x="5291280" y="2565360"/>
              <a:ext cx="201600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 flipH="1">
              <a:off x="4787280" y="1484280"/>
              <a:ext cx="1439640" cy="936720"/>
            </a:xfrm>
            <a:prstGeom prst="cloudCallout">
              <a:avLst>
                <a:gd name="adj1" fmla="val -62569"/>
                <a:gd name="adj2" fmla="val 8525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ак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88000" y="4005360"/>
              <a:ext cx="316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000099"/>
                  </a:solidFill>
                  <a:latin typeface="Arial"/>
                </a:rPr>
                <a:t>Разработчи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9E10-5739-40C7-942F-D268AF4ECA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1461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3.    Лучшие модели - те, что ближе к реально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491160"/>
            <a:ext cx="39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2  Принципы модел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356000" y="1557000"/>
            <a:ext cx="4533840" cy="41036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Модели должны во всем соотноситься с реальностью, а там, где связь ослабевает, должно быть понятно, в чем заключается различие и что из этого следует.  Поскольку модель всегда упрощает реальность, задача в том, чтобы это упрощение не повлекло за собой какие-либо существенные потери.</a:t>
            </a:r>
            <a:endParaRPr b="0" lang="en-US" sz="2000" spc="-1" strike="noStrike">
              <a:solidFill>
                <a:srgbClr val="003399"/>
              </a:solidFill>
              <a:latin typeface="Franklin Gothic Dem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При объектно-ориентированном подходе можно объединить все почти независимые представления системы в единое семантическое целое.</a:t>
            </a:r>
            <a:endParaRPr b="0" lang="en-US" sz="2000" spc="-1" strike="noStrike">
              <a:solidFill>
                <a:srgbClr val="003399"/>
              </a:solidFill>
              <a:latin typeface="Franklin Gothic Demi"/>
            </a:endParaRPr>
          </a:p>
        </p:txBody>
      </p:sp>
      <p:pic>
        <p:nvPicPr>
          <p:cNvPr id="132" name="" descr="Картинка 3 из 48121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1844640"/>
            <a:ext cx="3884400" cy="311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F9D9-9844-4F3E-9CDF-84B0B45DDF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146160"/>
            <a:ext cx="8893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4.       Наилучший подход при разработке любой нетривиальной системы - использовать совокупность нескольких моделей, почти независимых друг от друг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491160"/>
            <a:ext cx="39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2  Принципы модел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Картинка 10 из 42094">
            <a:hlinkClick r:id="rId2"/>
          </p:cNvPr>
          <p:cNvPicPr/>
          <p:nvPr/>
        </p:nvPicPr>
        <p:blipFill>
          <a:blip r:embed="rId3"/>
          <a:srcRect l="1764" t="3886" r="3149" b="9978"/>
          <a:stretch/>
        </p:blipFill>
        <p:spPr>
          <a:xfrm>
            <a:off x="468360" y="3860640"/>
            <a:ext cx="3227400" cy="2073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Картинка 19 из 42094">
            <a:hlinkClick r:id="rId4"/>
          </p:cNvPr>
          <p:cNvPicPr/>
          <p:nvPr/>
        </p:nvPicPr>
        <p:blipFill>
          <a:blip r:embed="rId5"/>
          <a:srcRect l="3564" t="4887" r="2914" b="7490"/>
          <a:stretch/>
        </p:blipFill>
        <p:spPr>
          <a:xfrm>
            <a:off x="5083200" y="1287360"/>
            <a:ext cx="3873600" cy="25606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95280" y="1341360"/>
            <a:ext cx="475128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ели при конструировании зд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этажные пла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ы в разрез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хемы электропровод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хемы центрального отопления и водопро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11640" y="4149720"/>
            <a:ext cx="4392720" cy="18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ли могут создаваться и изучаться по отдельности, но вместе с тем остаются взаимосвязанны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, можно изучать только схемы электропроводки проектируемого здания, но при этом наложить их на поэтажный план пола и даже рассмотреть совместно с прокладкой труб на схеме водоснабже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11640" y="4149720"/>
            <a:ext cx="4392720" cy="9349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C494-C276-46A8-8106-2B42783F98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-9360"/>
            <a:ext cx="9169560" cy="6867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141" name=""/>
          <p:cNvSpPr/>
          <p:nvPr/>
        </p:nvSpPr>
        <p:spPr>
          <a:xfrm>
            <a:off x="0" y="189000"/>
            <a:ext cx="889308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4.       Наилучший подход при разработке любой нетривиальной системы - использовать совокупность нескольких моделей, почти независимых друг от др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491160"/>
            <a:ext cx="39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2 Принципы модел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2281320"/>
            <a:ext cx="2376720" cy="580680"/>
          </a:xfrm>
          <a:prstGeom prst="rect">
            <a:avLst/>
          </a:prstGeom>
          <a:solidFill>
            <a:srgbClr val="aaf8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ид с точки зрения проектиров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14480" y="1341360"/>
            <a:ext cx="8859600" cy="4468320"/>
            <a:chOff x="114480" y="1341360"/>
            <a:chExt cx="8859600" cy="4468320"/>
          </a:xfrm>
        </p:grpSpPr>
        <p:sp>
          <p:nvSpPr>
            <p:cNvPr id="145" name=""/>
            <p:cNvSpPr/>
            <p:nvPr/>
          </p:nvSpPr>
          <p:spPr>
            <a:xfrm>
              <a:off x="114480" y="2852640"/>
              <a:ext cx="2663640" cy="824040"/>
            </a:xfrm>
            <a:prstGeom prst="rect">
              <a:avLst/>
            </a:prstGeom>
            <a:solidFill>
              <a:srgbClr val="aaf8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ид с точки зрения прецедентов (вариантов использования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29360" y="2836800"/>
              <a:ext cx="2089080" cy="580680"/>
            </a:xfrm>
            <a:prstGeom prst="rect">
              <a:avLst/>
            </a:prstGeom>
            <a:solidFill>
              <a:srgbClr val="aaf8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ид с точки зрения процессов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43760" y="5229000"/>
              <a:ext cx="2233440" cy="580680"/>
            </a:xfrm>
            <a:prstGeom prst="rect">
              <a:avLst/>
            </a:prstGeom>
            <a:solidFill>
              <a:srgbClr val="aaf8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ид с точки  зрения реализаци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6680" y="5229000"/>
              <a:ext cx="2303640" cy="580680"/>
            </a:xfrm>
            <a:prstGeom prst="rect">
              <a:avLst/>
            </a:prstGeom>
            <a:solidFill>
              <a:srgbClr val="aaf8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ид с точки зрения развертывани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59040" y="1844640"/>
              <a:ext cx="1871640" cy="720720"/>
            </a:xfrm>
            <a:prstGeom prst="wedgeRectCallout">
              <a:avLst>
                <a:gd name="adj1" fmla="val -53138"/>
                <a:gd name="adj2" fmla="val 9008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Чтобы выявить требования к систем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695760" y="1341360"/>
              <a:ext cx="2808360" cy="719280"/>
            </a:xfrm>
            <a:prstGeom prst="wedgeRectCallout">
              <a:avLst>
                <a:gd name="adj1" fmla="val -47115"/>
                <a:gd name="adj2" fmla="val 9393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Чтобы построить словарь предметной области и области реш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20120" y="1485720"/>
              <a:ext cx="2232000" cy="914400"/>
            </a:xfrm>
            <a:prstGeom prst="wedgeRectCallout">
              <a:avLst>
                <a:gd name="adj1" fmla="val -50712"/>
                <a:gd name="adj2" fmla="val 8958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Чтобы смоделировать распределение процессов и потоков в систем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35760" y="4233600"/>
              <a:ext cx="2038320" cy="720720"/>
            </a:xfrm>
            <a:prstGeom prst="wedgeRectCallout">
              <a:avLst>
                <a:gd name="adj1" fmla="val -60824"/>
                <a:gd name="adj2" fmla="val 8304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Чтобы рассмотреть физическую реализацию систе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8680" y="4149720"/>
              <a:ext cx="1871640" cy="865080"/>
            </a:xfrm>
            <a:prstGeom prst="wedgeRectCallout">
              <a:avLst>
                <a:gd name="adj1" fmla="val -53138"/>
                <a:gd name="adj2" fmla="val 7495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Arial"/>
                </a:rPr>
                <a:t>Чтобы сосредоточиться на системном проектировани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72000" y="3311280"/>
              <a:ext cx="3371760" cy="22068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2471760" y="3428640"/>
              <a:ext cx="3888000" cy="20890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88120" y="2997000"/>
              <a:ext cx="0" cy="360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30680" y="3357360"/>
              <a:ext cx="3457440" cy="20876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рхитектур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бъектно-ориентированно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рограммной систе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03:22:01Z</dcterms:created>
  <dc:creator>Пользователь</dc:creator>
  <dc:description/>
  <dc:language>en-US</dc:language>
  <cp:lastModifiedBy>Пользователь</cp:lastModifiedBy>
  <dcterms:modified xsi:type="dcterms:W3CDTF">2009-12-08T10:47:08Z</dcterms:modified>
  <cp:revision>61</cp:revision>
  <dc:subject/>
  <dc:title>Введение в моделирование</dc:title>
</cp:coreProperties>
</file>