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18A-FB7D-4F85-AD26-B0844972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3F64-D86D-4DD0-B87C-99A2D8B8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3C7-3EE5-4693-8F0A-90DD143C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4AF-BA5B-4567-9772-7685C13C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BEC2-41DE-4222-9D48-F77A987C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E680-DA24-4BE9-981B-BE9F1CF7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FC9F-4D80-4C1C-8B0A-53CE775B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3B0A-3BDF-480F-BF55-BC30DBA7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17C5-308E-463F-A88B-8B8304DC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FA62-9862-4192-B864-7B151B54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5390-6B50-4990-86B2-A5D6B5F8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4F8-D374-4AA0-B0ED-FC49327D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572A-6406-4B6F-8BF5-0567E79F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051F-9E6A-4BEF-A866-0F955F1D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33A7-99AA-4412-8645-D6CE4D3B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E29C-AFB2-4099-87F2-2245261E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E424-ABE4-437F-AC34-8558ECAD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B5B-52F5-4429-8839-941948D2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C26-C84D-4A8A-8341-7ACAFEE4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5E5-5B90-443C-AEA6-72C97610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138-82E8-4965-ACF2-747165BD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E3A-FF79-49E6-9033-448B2BB0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B09-3760-4B92-AF04-C508B41A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ED5-4E20-4EBF-8D14-0C11FF5D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7DFF-1CAC-4BB7-BED2-A9E13A3DDAF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AB63-9FE1-48E5-8D8E-3594858C45C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5694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азвитие информационных технолог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11280" y="1700280"/>
            <a:ext cx="8066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изнаки, лежащие в основе деления на этап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378936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31417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 Вид задач и процессов обработки информаци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400536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 Проблемы, стоящие на пути информатизации общ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48690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. Преимущество, которое приносит 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5897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4. Виды инструментария техноло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028000" y="31417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8000" y="400536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486900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566100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ид задач и процессов обработки информ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6720" y="1699920"/>
            <a:ext cx="40672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2-й этап (с 80-х гг.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оздание информационн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хнологий, направленн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а решение стратегически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задач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1700280"/>
            <a:ext cx="4608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1-й этап (60 - 70-е гг.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Обработка данных в вычислительных центрах в режиме коллективного пользования. Основное направление развития ИТ- автоматизация операционных рутинных действий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124000" y="3860640"/>
            <a:ext cx="2857680" cy="2143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4221000"/>
            <a:ext cx="1871640" cy="1008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4000" y="6216480"/>
            <a:ext cx="41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BM 305 Ramac – </a:t>
            </a:r>
            <a:r>
              <a:rPr b="1" lang="kk-KZ" sz="1600" spc="-1" strike="noStrike">
                <a:solidFill>
                  <a:srgbClr val="ffffff"/>
                </a:solidFill>
                <a:latin typeface="Verdana"/>
              </a:rPr>
              <a:t>компьютер поколения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60-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rcRect l="0" t="12109" r="0" b="16142"/>
          <a:stretch/>
        </p:blipFill>
        <p:spPr>
          <a:xfrm>
            <a:off x="5580000" y="3284640"/>
            <a:ext cx="2903760" cy="2952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435640" y="6216480"/>
            <a:ext cx="33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Вычислительный центр ММВБ середины 90-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748720" y="6308640"/>
            <a:ext cx="395280" cy="405000"/>
          </a:xfrm>
          <a:custGeom>
            <a:avLst/>
            <a:gdLst>
              <a:gd name="textAreaLeft" fmla="*/ 69120 w 395280"/>
              <a:gd name="textAreaRight" fmla="*/ 286560 w 395280"/>
              <a:gd name="textAreaTop" fmla="*/ 54000 h 405000"/>
              <a:gd name="textAreaBottom" fmla="*/ 35100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блемы, стоящие на пути информатизации обществ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1-й этап (до конца 60-х гг.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XX </a:t>
            </a:r>
            <a:r>
              <a:rPr b="0" i="1" lang="kk-KZ" sz="2000" spc="-1" strike="noStrike">
                <a:solidFill>
                  <a:srgbClr val="ffffff"/>
                </a:solidFill>
                <a:latin typeface="Verdana"/>
              </a:rPr>
              <a:t>века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).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блема обработки больших объемов данных в условиях ограниченных возможностей аппаратных средст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2-й этап (кон. 60-х – кон. 70-х гг.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XX </a:t>
            </a:r>
            <a:r>
              <a:rPr b="0" i="1" lang="kk-KZ" sz="2000" spc="-1" strike="noStrike">
                <a:solidFill>
                  <a:srgbClr val="ffffff"/>
                </a:solidFill>
                <a:latin typeface="Verdana"/>
              </a:rPr>
              <a:t>века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Проблема отставания программного обеспечения от уровня развития аппаратных средст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3-й этап (нач.80-х – нач.90-х гг.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XX </a:t>
            </a:r>
            <a:r>
              <a:rPr b="0" i="1" lang="kk-KZ" sz="2000" spc="-1" strike="noStrike">
                <a:solidFill>
                  <a:srgbClr val="ffffff"/>
                </a:solidFill>
                <a:latin typeface="Verdana"/>
              </a:rPr>
              <a:t>века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— Проблема максимального удовлетворение потребностей непрофессионального пользователя и создание соответствующего интерфейса работы в компьютерной сред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4-й этап (с начала 90-х гг.)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— Проблема организация доступа к стратегической информации, организации защиты и безопасности информа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8567640" y="6308640"/>
            <a:ext cx="576360" cy="360360"/>
          </a:xfrm>
          <a:custGeom>
            <a:avLst/>
            <a:gdLst>
              <a:gd name="textAreaLeft" fmla="*/ 100800 w 576360"/>
              <a:gd name="textAreaRight" fmla="*/ 417960 w 576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еимущество, которое приносит информационная технология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1-й этап (нач.60-х – сер. 70-х гг.)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Довольно эффективная обработка информации при выполнении рутинных операци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2-й этап (сер.70-х – нач.90-х гг.)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явление ПК компьютеров. Смещение ориентации в сторону индивидуального пользователя для поддержки принимаемых им решени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3-й этап (с нач.90-х гг.)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Информационные технологии  помогают организации выстоять в конкурентной борьбе. Информационные системы имеют своей целью не просто увеличение эффективности обработки данных, но и помощь управленц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113400 w 647640"/>
              <a:gd name="textAreaRight" fmla="*/ 469800 w 647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иды инструментария технологи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4292280"/>
            <a:ext cx="3322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1-й этап (до второй половины XIX в.)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—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"ручная"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информационная технолог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Цель - представление информации в нужной форм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024360" cy="2274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780000" y="5423400"/>
            <a:ext cx="51130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2-й этап (с конца XIX в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) —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"механическая"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технолог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Цель— представление информации в нужной форме более удобными средства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780000" y="1628640"/>
            <a:ext cx="2232000" cy="1992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210360" y="1628640"/>
            <a:ext cx="2752560" cy="3672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780000" y="3716280"/>
            <a:ext cx="21603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иды инструментария технологи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458136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3-й этап (40 — 60-е гг. XX века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—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"электрическая"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ехнология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356000" y="1341360"/>
            <a:ext cx="4392720" cy="3059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3095640" cy="2322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3933720"/>
            <a:ext cx="3168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Электрическая пишущая машин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Verdana"/>
              </a:rPr>
              <a:t>IBM Selectric, 196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4581360"/>
            <a:ext cx="43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4-й этап (</a:t>
            </a:r>
            <a:r>
              <a:rPr b="0" i="1" lang="kk-KZ" sz="1600" spc="-1" strike="noStrike">
                <a:solidFill>
                  <a:srgbClr val="ffffff"/>
                </a:solidFill>
                <a:latin typeface="Verdana"/>
              </a:rPr>
              <a:t>нач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. 70-х — сер. 80-х гг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—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"электронная"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ехнолог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5445000"/>
            <a:ext cx="889308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Акцент в информационной технологии начинает перемещаться с формы представления информации на формирование ее содерж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Приобретен опыт формирования содержательной стороны управленческой информации и подготовлена профессиональная, психологическая и социальная база для перехода на новый этап развития технолог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иды инструментария технологи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544500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5-й этап (с сер. 80-х гг. XX века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)—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«компьютерная"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ехнология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5504" t="15448" r="2752" b="18232"/>
          <a:stretch/>
        </p:blipFill>
        <p:spPr>
          <a:xfrm>
            <a:off x="395280" y="306864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3658" t="10028" r="2475" b="2986"/>
          <a:stretch/>
        </p:blipFill>
        <p:spPr>
          <a:xfrm>
            <a:off x="4427640" y="1628640"/>
            <a:ext cx="43923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поненты информационной технолог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33480" y="1360440"/>
            <a:ext cx="5620680" cy="5079240"/>
            <a:chOff x="1833480" y="1360440"/>
            <a:chExt cx="5620680" cy="5079240"/>
          </a:xfrm>
        </p:grpSpPr>
        <p:sp>
          <p:nvSpPr>
            <p:cNvPr id="202" name="_s12336"/>
            <p:cNvSpPr/>
            <p:nvPr/>
          </p:nvSpPr>
          <p:spPr>
            <a:xfrm flipV="1">
              <a:off x="4644000" y="2923560"/>
              <a:ext cx="0" cy="781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_s12335"/>
            <p:cNvSpPr/>
            <p:nvPr/>
          </p:nvSpPr>
          <p:spPr>
            <a:xfrm>
              <a:off x="3862440" y="1360440"/>
              <a:ext cx="1563120" cy="1563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50670"/>
                  </a:solidFill>
                  <a:latin typeface="Verdana"/>
                </a:rPr>
                <a:t>Функциональ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50670"/>
                  </a:solidFill>
                  <a:latin typeface="Verdana"/>
                </a:rPr>
                <a:t>компонен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_s12334"/>
            <p:cNvSpPr/>
            <p:nvPr/>
          </p:nvSpPr>
          <p:spPr>
            <a:xfrm>
              <a:off x="5319360" y="4876560"/>
              <a:ext cx="677520" cy="39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_s12333"/>
            <p:cNvSpPr/>
            <p:nvPr/>
          </p:nvSpPr>
          <p:spPr>
            <a:xfrm>
              <a:off x="5891400" y="4876560"/>
              <a:ext cx="1562760" cy="15631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50670"/>
                  </a:solidFill>
                  <a:latin typeface="Verdana"/>
                </a:rPr>
                <a:t>Содержатель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50670"/>
                  </a:solidFill>
                  <a:latin typeface="Verdana"/>
                </a:rPr>
                <a:t>компонен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_s12332"/>
            <p:cNvSpPr/>
            <p:nvPr/>
          </p:nvSpPr>
          <p:spPr>
            <a:xfrm flipH="1">
              <a:off x="3287880" y="4876560"/>
              <a:ext cx="680040" cy="38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_s12331"/>
            <p:cNvSpPr/>
            <p:nvPr/>
          </p:nvSpPr>
          <p:spPr>
            <a:xfrm>
              <a:off x="1833480" y="4876560"/>
              <a:ext cx="1562760" cy="15631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50670"/>
                  </a:solidFill>
                  <a:latin typeface="Verdana"/>
                </a:rPr>
                <a:t>Опорные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50670"/>
                  </a:solidFill>
                  <a:latin typeface="Verdana"/>
                </a:rPr>
                <a:t>компонен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_s12330"/>
            <p:cNvSpPr/>
            <p:nvPr/>
          </p:nvSpPr>
          <p:spPr>
            <a:xfrm>
              <a:off x="3862440" y="3705480"/>
              <a:ext cx="1563120" cy="156276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50670"/>
                  </a:solidFill>
                  <a:latin typeface="Verdana"/>
                </a:rPr>
                <a:t>Информационн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50670"/>
                  </a:solidFill>
                  <a:latin typeface="Verdana"/>
                </a:rPr>
                <a:t>технолог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H="1">
            <a:off x="3419280" y="2349360"/>
            <a:ext cx="431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492360" y="1484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98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435280" y="2349360"/>
            <a:ext cx="431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292720" y="1557360"/>
            <a:ext cx="50328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349360"/>
            <a:ext cx="1872000" cy="43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Сбор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1268280"/>
            <a:ext cx="2232000" cy="43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Передача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48000" y="620640"/>
            <a:ext cx="2519280" cy="43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Обработка информации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24360" y="1268280"/>
            <a:ext cx="2376720" cy="43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Хранение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2276640"/>
            <a:ext cx="237636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Доведение информ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до пользовател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12000" y="4076640"/>
            <a:ext cx="1584360" cy="43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Предмет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обла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59640" y="4797360"/>
            <a:ext cx="1584360" cy="576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Модел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предмет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обл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6308640"/>
            <a:ext cx="1368360" cy="387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ПП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659640" y="4508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380360" y="5157360"/>
            <a:ext cx="216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08720" y="6093000"/>
            <a:ext cx="358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508720" y="6021360"/>
            <a:ext cx="50328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24720" y="6237360"/>
            <a:ext cx="1440000" cy="404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База данн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4941720"/>
            <a:ext cx="1584360" cy="432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Аппарат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сре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6210360"/>
            <a:ext cx="1692360" cy="647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Систем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программ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0670"/>
                </a:solidFill>
                <a:latin typeface="Verdana"/>
              </a:rPr>
              <a:t>обесп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63640" y="5157720"/>
            <a:ext cx="21600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835280" y="6308640"/>
            <a:ext cx="2887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95280" y="1341360"/>
            <a:ext cx="8424720" cy="4032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236000" cy="2441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4360" y="26028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одержательные компоненты информационной 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7:21:47Z</dcterms:created>
  <dc:creator>Lucky</dc:creator>
  <dc:description/>
  <dc:language>en-US</dc:language>
  <cp:lastModifiedBy>Lucky</cp:lastModifiedBy>
  <dcterms:modified xsi:type="dcterms:W3CDTF">2009-01-28T20:00:33Z</dcterms:modified>
  <cp:revision>3</cp:revision>
  <dc:subject/>
  <dc:title>Развитие информационных технологий</dc:title>
</cp:coreProperties>
</file>