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940E-E10A-41AB-95D8-6D1601F4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91E6-73F1-43FF-93C1-FDF70007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DF42-36FF-4304-8D7D-50545A43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0D2ED-D0F9-41E5-BB44-C7507AA6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4D83-2551-45DF-BA42-EC81193E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F28C-70C1-4618-A53D-4A6772CD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492D-ED29-4A37-A187-17EDFA9F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8A9F-7DE5-472A-A7E3-3F2AC162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BC23-4738-4C34-B5E4-7D4F20CF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D29B-5442-4B11-9F3D-E3B0C42F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26D0-5186-4C3E-B267-E4044B9A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6F6A-F1D4-4634-96E3-53930976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274F-03D9-4FFA-BBB1-879A60A0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8667-A350-4457-A7A7-E1C1EAEE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3712-D9C3-4BC7-A82B-0E218812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5A12-ADFD-4142-B1CA-60A94B48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83DB-3521-499F-A094-4EA2712E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B5EB-62A2-4642-8955-43E39E5C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289D-79E9-4412-A015-D5B3167D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6193-EA22-48C9-84F4-F32E4E88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BE44-E37B-44E4-A579-49A165EA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ACFE-842E-4C2D-AA83-C8EB64F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8D93-E2B4-4F25-96E8-D68B3DB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2B29-1EDA-48B4-BEBB-40EFC4E2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75C6-3576-475C-A775-599A328976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4C65-9026-489B-A1CF-A2963431BD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96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Дискретті және үзіліссіз ақпаратты өлшеудің ықтималдық тәсілі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280" y="3573000"/>
            <a:ext cx="860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Жұмыстың мақсаты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вести формулу энтроп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свойства меры информации и энтроп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ть задания лек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1509600">
            <a:off x="6877080" y="2852640"/>
            <a:ext cx="2019240" cy="140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3600360" cy="45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42920" y="6357960"/>
                <a:ext cx="7020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Garamond"/>
              </a:rPr>
              <a:t>3-тапсы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Z=(X1+1)2  дискретті кездейсоқ шамасында Х туралы қанша ақпарат бар, Мұнда  Х1  және Х2 тәуелсіз дискретті кездейсоқ шамалары бірдей ықтималдылықпен 0 немесе 1 мәнін қабылдай алады?  НХ1 және НZ-ті табыңдар. Х1 және Z арасындағы тәуелділік қандай сипатта болады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20733000">
            <a:off x="1116000" y="4797000"/>
            <a:ext cx="66960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5e5ff"/>
                </a:solidFill>
                <a:latin typeface="Garamond"/>
              </a:rPr>
              <a:t>Қолданылған әдебиеттердің тізімі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исар И., Кернер Я. Теория информации— М.: Мир, 198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еннон К. Работы по теории информации и кибернетики — М., Издательство иностранной литературы, 196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глом А., Яглом И. Вероятность и информация — М.; Наука, 197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ведение в криптографию /Под общей редакцией В. В. Ященко. — М.: МЦНМО: "ЧеРо", 200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ордж Ф. Основы кибернетики — М.: Радио и Связь, 198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қпарат теориясының негізінде Шеннон ұсынған, бір кездейсоқ шамада соған қатысты келесі кездейсоқ шама жататын ақпарат көлемін өлшеу тәсілі жатыр. Бұл тәсіл ақпарат көлемін санмен сипаттауға мүмкіндік береді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P(X=Xi)= pi, P(Y=Yj)= qj үлестірім заңымен және P(X=Xi, Y=Yj)= pij біріккен үлестірілімен берілген Х және Y кездейсоқ шамасы үшін, Y-ке қатысты Х-те жататын ақпарат көлемі мынаған тең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16360" y="5516640"/>
            <a:ext cx="3600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px(t1),  py(t2) және  pxy(t1,t2) ықтималдылығымен үлестірілген Х және Y үздіксіз кездесоқ шамасы үшін формула мына түрде болады: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Көріп тұрғанымыздай 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әне бұда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5616360" cy="85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5472000" cy="75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268360" y="5805360"/>
            <a:ext cx="532800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820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қпарат теориясында Х кездейсоқ шамасының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энтропиясы мына формуламен анықтала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688360" cy="93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3429000"/>
            <a:ext cx="856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 u="sng">
                <a:solidFill>
                  <a:srgbClr val="ffffff"/>
                </a:solidFill>
                <a:uFillTx/>
                <a:latin typeface="Garamond"/>
              </a:rPr>
              <a:t>Энтропия және ақпарат амалдарының қасиеттері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1.                                             Х  және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Y 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тәуелсіз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2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HX=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0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X – 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тұрақты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4.                                                 мұндағы  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0"/>
                <a:ext cx="1704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11280" y="3933720"/>
                <a:ext cx="33829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0" y="0"/>
                <a:ext cx="11714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4360" y="4653000"/>
                <a:ext cx="2520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84360" y="6237360"/>
                <a:ext cx="36003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6165720"/>
                <a:ext cx="3203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5.                              егер                             онда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функцияс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0"/>
                <a:ext cx="11905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26920" y="1052640"/>
                <a:ext cx="2849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643280" y="1052640"/>
                <a:ext cx="266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теңдеуінің (х=1  болғанда теңдеу орнатылады) барлық  х – терін логарифдесек, х-1     lnx  немесе                                     теңдеуі шыға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яғни, I(X,Y)=0, барлық   i және  j үші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болғанда, яғни X және Y тәуелсіз болғанда.  Егер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және Y тәуелсіз болса, онда      және логарифм аргументтер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1-ге тең , бұдан логарифмнің өзі 0-ге тең, бұл I(X,Y)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дегенді білдіред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26920" y="404640"/>
                <a:ext cx="12970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ч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244000" y="907920"/>
                <a:ext cx="293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1197000"/>
                <a:ext cx="1800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4105080" cy="128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00720" y="3645000"/>
                <a:ext cx="1297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148360" y="4581360"/>
                <a:ext cx="13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.      Аргументке қатысты формуланың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симметриялығынан туындай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3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.  Егер НХ=0,  онда НХ-ті анықтайтын қосындының барлық мүшелері нөл болуы керек, бұл тек және тек қана  Х тұрақты болғанда мүмкін болад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4.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Берілген 4 байланыст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47530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Шығаты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5)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немесе HY- H(X,Y) 0, болатынын дәлелдеу кере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ірақ                                                    яғни барлық логарифмнің аргументтері 1-ден үлкен емес, бұдан логарифмнің мәні 0-ден үлкен емес, бұл барлық қосынды 0-ден үлкен емес дегенді білдіреді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5638680" cy="59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826920" y="1916280"/>
                <a:ext cx="540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Н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5639040" cy="55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3933720"/>
                <a:ext cx="5616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5e5ff"/>
                </a:solidFill>
                <a:latin typeface="Garamond"/>
              </a:rPr>
              <a:t>Тапсырмалар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Garamond"/>
              </a:rPr>
              <a:t>1-тапсырма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Үлестірімімен берілген, Х дискретті кездейсоқ шамасының энтропиясын  табыңыздар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Garamond"/>
              </a:rPr>
              <a:t>2-тапсырма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Х1  және Х2 дискретті кездейсоқ шамаларының мәні екі тиынды лақтырумен анықталады,  ал Y дискретті кездейсоқ шамасы осы тиындарды лақтыру кезінде түскен “гербтердің” санының қосындысына тең.Y- тен Х туралы қанша ақпарат алуға болады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655164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8:04:00Z</dcterms:created>
  <dc:creator>SamLab.ws</dc:creator>
  <dc:description/>
  <dc:language>en-US</dc:language>
  <cp:lastModifiedBy>SamLab.ws</cp:lastModifiedBy>
  <dcterms:modified xsi:type="dcterms:W3CDTF">2010-06-03T19:16:38Z</dcterms:modified>
  <cp:revision>2</cp:revision>
  <dc:subject/>
  <dc:title>Дискретті және үзіліссіз ақпаратты өлшеудің ықтималдық тәсілі.</dc:title>
</cp:coreProperties>
</file>