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837-C91A-4E7D-BD3E-1F0841E6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DC7-4245-442C-9351-E6C28407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A27-0D20-4864-BACF-24591A6F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FC0-E421-4B81-AFB4-06AC0AB3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1840-CEA2-4EF9-A728-E37F74F2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BD80-0025-4278-8993-5C113861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A2C4-2B56-4686-8949-E0B07AC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DFC6-3114-4EE7-B057-AC9A77AA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5F38-DBA7-4089-AC26-7463A537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FC48-A7CB-4CD3-98C7-8E7AA01B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72DD-CA68-443C-92A4-E7535191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DB4-00F9-4DF8-82EC-AE09CB08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37DB-7BB7-4C33-9906-057E5967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D278-8120-4426-993E-6D93C2C0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7C4A-C151-4A4A-9A58-DE65D742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66AD-4B26-40CD-9672-C97FD5A3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64DC-2FE8-473E-8CB3-7E605F70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C13-2335-4FE7-9723-8697AEF7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3C8-87E3-4906-B9FF-2F3F66C9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7F2-FCBC-4F37-9263-5386BC8B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75C-C976-4E91-AA9C-4A79E603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A34-7841-43FE-9935-6EFDA191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898-1210-423F-A21D-5716D857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025-8A21-4360-AD37-51193191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F8C7-CBA1-443F-8DA5-6EBBB68510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D1FC-B302-4048-89A9-D8161FFFD8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400800" cy="81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owerPoint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24000" y="2491920"/>
            <a:ext cx="8820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этой главе мы изучи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имуществ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soft Po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нятие презентаци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типы мультимедийных презентац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рядок создания презентаци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057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Презентаци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это уникальный и самый современный на сегодняшний день способ представления информац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 программный продукт, который может содержать текстовые материалы, фотографии, рисунки, слайд-шоу, звуковое оформление и дикторское сопровождение, видеофрагменты и анимацию, трехмерную график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новным отличием презентаций от остальных способов представления информации является их особая насыщенность содержанием и интерактивность, то есть способность определенным образом изменяться и реагировать на действия пользовате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Multimedia технологи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281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ultimedia технолог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multi – много, media – среда) позволяет одновременно использовать различные способы представления информации: числа, текст, графику, анимацию, видео и зву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ажнейшей особенностью мультимедиа технологии является интерактивность – способность пользователя влиять на работу информационного средст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 преимуществам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Power Poin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как инструментально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ы для разработки мультимедиа-приложений можно отне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ступность (пакет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Offi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ерсии 97 и выше сегодня считается стандартным программным обеспечением практически для любого персонального компьютер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гкость в освоении и простоту создания мультимедиа-презентаций (при достаточно широком наборе имеющихся возможностей, в частности, для реализации «оформительских» анимационных эффектов, особенно в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 Point X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сть переноса данных из других приложений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Offi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что позволяет расширить для непрофессионального пользователя возможности подготовки содержательного наполн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Преимущества 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icrosoft Power Poi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0872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Основные типы обучающих мультимедийных презентаций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о сценарие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Хорошо подходят для выступления на семинарах, лекциях. С их помощью можно постоянно поддерживать интерес аудитории к представляемой информац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нтерактивны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Позволяют пользователю осваивать материал самостоятельно, опытным и интерактивным путем, что усиливает эффективность обуч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амовыполняющиес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Не столь мощные, как первые два типа. Но их тоже можно применить в целях обучения, чтобы в простой и интересной форме охватить ту или иную тем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орядок создания презентац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Перед созданием презентации на компьютере важно определить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начение презентации, ее тему, примерное количество слайд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 представить информацию наиболее удачным образо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держание слайд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рафическое оформление каждого слай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Критерии оценки презент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Содержание презентац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ытие тем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ача материла (обоснованность разделения на слайд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личие и обоснованность графического оформления (фотографий, схем, рисунков, диаграм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рамотность излож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орядок создания презентац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личие интересной дополнительной информации по теме проек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сылки на источники информации (в т.ч. ресурсы Интернет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формление презент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динство дизайна всей презент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основанность применяемого дизай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динство стиля включаемых в презентацию рисунк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нение собственных (авторских) элементов оформл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птимизация граф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основанное использование эффектов мультимедиа: графики, анимации, видео, зву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   Навигация: наличие оглавления, кнопок перемещения по слайдам или гиперссыло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  Доклад на заданную тему с использованием презент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4:12:22Z</dcterms:created>
  <dc:creator>SamLab.ws</dc:creator>
  <dc:description/>
  <dc:language>en-US</dc:language>
  <cp:lastModifiedBy>SamLab.ws</cp:lastModifiedBy>
  <dcterms:modified xsi:type="dcterms:W3CDTF">2009-04-05T15:14:59Z</dcterms:modified>
  <cp:revision>2</cp:revision>
  <dc:subject/>
  <dc:title>Презентация PowerPoint </dc:title>
</cp:coreProperties>
</file>