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61D1-C21B-46E4-89D4-D63EEF7E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A8CD-8AF7-4400-BDA2-8CB27166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1B2B-1871-496A-89B6-EF5FDED7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2AE5-7F9C-4EA6-BE8A-9060212A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38DB-4FE1-4715-84FD-1807A8CD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85B1-35FB-428C-96D7-CAE025AA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9F05-2820-4136-84C6-05B0C509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5507-34B9-4BED-A548-012E96F4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BAC-2CB5-46F5-83FA-D8C64087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C6CB-3607-435D-B5A4-A2B05EF3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3FF4-0185-4684-855C-84AB31A7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DC94-3DAD-473E-BAA1-7D478733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3B98-5991-4CF4-A4EB-538379EA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59F6-9B77-478F-A791-8A55B78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F790-4382-46BE-9625-36C129C0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4B68-1B7E-4361-86A8-2990FF7A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970A-9BAF-41F5-A263-78214E06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EA04-108C-4D64-8723-965E6018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350B-5142-4834-BC19-B0BF32AF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1FC8-8D2B-4B8C-BFD7-F56BF710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1F02-564A-405B-B1E4-972132C4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1A31-2674-4AA9-A256-75DE1CC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83A4-E15E-4FF2-9F73-13B3BE3E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2344-93DF-40C7-BFB1-7EB9BAEB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B0E6-42A5-43FC-8174-19A352399F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9AC3-F4EE-452B-A5A9-FEDC0B2171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99308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7200" spc="-1" strike="noStrike">
                <a:solidFill>
                  <a:srgbClr val="00007d"/>
                </a:solidFill>
                <a:latin typeface="Arial"/>
              </a:rPr>
              <a:t>Ақпарат түрлер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91920" y="3789000"/>
            <a:ext cx="8451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764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700" spc="-1" strike="noStrike">
                <a:solidFill>
                  <a:srgbClr val="ffffff"/>
                </a:solidFill>
                <a:latin typeface="Arial"/>
              </a:rPr>
              <a:t>Жұмыстың мақсаты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Изучить виды информ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Изучить теорему о выборк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Рассмотреть использование теоремы на практик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Упражн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458040" y="1643040"/>
            <a:ext cx="2685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800" spc="-1" strike="noStrike">
                <a:solidFill>
                  <a:srgbClr val="00007d"/>
                </a:solidFill>
                <a:latin typeface="Arial"/>
              </a:rPr>
              <a:t>Ақпарат түрлер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74640"/>
            <a:ext cx="91440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Ақпарат екі түрде, яғни : </a:t>
            </a:r>
            <a:r>
              <a:rPr b="0" i="1" lang="kk-KZ" sz="2500" spc="-1" strike="noStrike">
                <a:solidFill>
                  <a:srgbClr val="000000"/>
                </a:solidFill>
                <a:latin typeface="Arial"/>
              </a:rPr>
              <a:t>дискретті (цифрлы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және </a:t>
            </a:r>
            <a:r>
              <a:rPr b="0" i="1" lang="kk-KZ" sz="2500" spc="-1" strike="noStrike">
                <a:solidFill>
                  <a:srgbClr val="000000"/>
                </a:solidFill>
                <a:latin typeface="Arial"/>
              </a:rPr>
              <a:t>үздіксіз(аналогтық)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болад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Дискретті ақпарат  кейбір шаманың кезектескен нақты  мәні арқылы, ал үздіксіз – кейбір шаманың өзгеруінің үздіксіз процесі арқылы сипатталады.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Дискретті ақпаратты кез келген цифрлы индикатордан, яғни электорнды сағаттан, есептеуіш құрылығысынан және т.б. алуға бола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Үздіксіз ақпаратты атмосфералық қысымды немесе автокөліктің жылдамдығын  көрсететін құралдар береді.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893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Дискреттік ақпарат- адаммен жұмыс істе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ыңғайлы, бірақ үздіксіз ақпарат тәжірибелі жұмыст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жиі кездеседі, сондықтан үздіксіз ақпарат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дискреттікке немесе керісінше аударуды білу керек. Модем осындай аударуға арналған құрылғы бол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саналады, ол компьютерден цифрлық деректер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дыбысқа және  электормагниттік тербеліске аудар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немесе керісін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Үздіксіз ақпаратты дискреттіге аударғанда, үздіксіз шаманың мәнін анықтайтын периодты анықтайтын  </a:t>
            </a:r>
            <a:r>
              <a:rPr b="0" i="1" lang="kk-KZ" sz="2500" spc="-1" strike="noStrike" u="sng">
                <a:solidFill>
                  <a:srgbClr val="000000"/>
                </a:solidFill>
                <a:uFillTx/>
                <a:latin typeface="Times New Roman"/>
              </a:rPr>
              <a:t>дискреттеу</a:t>
            </a:r>
            <a:r>
              <a:rPr b="0" lang="kk-KZ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kk-KZ" sz="2500" spc="-1" strike="noStrike" u="sng">
                <a:solidFill>
                  <a:srgbClr val="000000"/>
                </a:solidFill>
                <a:uFillTx/>
                <a:latin typeface="Times New Roman"/>
              </a:rPr>
              <a:t>жиілігі</a:t>
            </a:r>
            <a:r>
              <a:rPr b="0" i="1" lang="kk-K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өте қажет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0"/>
              <p:cNvSpPr txBox="1"/>
              <p:nvPr/>
            </p:nvSpPr>
            <p:spPr>
              <a:xfrm>
                <a:off x="5003640" y="1557360"/>
                <a:ext cx="1584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5" name="Picture 13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4822920" cy="1295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5"/>
          <p:cNvSpPr/>
          <p:nvPr/>
        </p:nvSpPr>
        <p:spPr>
          <a:xfrm>
            <a:off x="3564000" y="263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ығу сиг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"/>
          <p:cNvPicPr/>
          <p:nvPr/>
        </p:nvPicPr>
        <p:blipFill>
          <a:blip r:embed="rId2"/>
          <a:stretch/>
        </p:blipFill>
        <p:spPr>
          <a:xfrm>
            <a:off x="1763640" y="5229360"/>
            <a:ext cx="5643720" cy="129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8"/>
          <p:cNvSpPr/>
          <p:nvPr/>
        </p:nvSpPr>
        <p:spPr>
          <a:xfrm>
            <a:off x="3635280" y="472428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искретті сиг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Таңдау туралы теор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3680" y="1483920"/>
            <a:ext cx="8589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Кез келген үздіксіз шама, гормоника деп аталаты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функциясымен анықталаты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амплитуда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жиілік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 уақыт жән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фаз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бір-бірімен қабаттасқан толқындық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жиынымен анық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Таңдау туралы теоремада дискреттеу нақ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бол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үшін оның жиілігі дискреттеу шамаға енет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гармоника жиілігінен 2 есе үлкен болуы керек  д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айтылғ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407880" y="1989000"/>
                <a:ext cx="1773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050920" y="2565360"/>
                <a:ext cx="3603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6084720" y="2565360"/>
                <a:ext cx="270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ие теор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Бұл теореманың қолдануының мысалы ретінде дыбысты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ақпаратты цифрлы түрде сақталатын лазерлік компак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дискілерді айтуға болады. Дискреттеу жиілігі жоғ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болған сайын, дыбыстың шығуы нақтырақ болады жә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оны бір дискіге жазуға болады, бірақ адам 20 КГц – к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дейінгі жиіліктегі дыбыстарды айыра алатындықтан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дыбыстарды үлкен жиілікпен дәл жазудың пайдасы жоқ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Таңдау туралы теоремаға сәйкес дискреттеу жиілігі 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КГц – тен аз болмауы керек(өнеркәсіптік стандартқ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сәйкес компакт-дискіде 44,1 КГц жиілік қолданылады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200" spc="-1" strike="noStrike">
                <a:solidFill>
                  <a:srgbClr val="000000"/>
                </a:solidFill>
                <a:latin typeface="Arial"/>
              </a:rPr>
              <a:t>Тапсырма</a:t>
            </a:r>
            <a:r>
              <a:rPr b="1" lang="kk-KZ" sz="4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ДАТ цифрлы магнитофонның дискреттеу жиілігі – 48КГц.  Мұндай магнитофонда нақты дыбыс толқынының максимальды жиілігі қандай бола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6:42:07Z</dcterms:created>
  <dc:creator>SamLab.ws</dc:creator>
  <dc:description/>
  <dc:language>en-US</dc:language>
  <cp:lastModifiedBy>SamLab.ws</cp:lastModifiedBy>
  <dcterms:modified xsi:type="dcterms:W3CDTF">2010-06-03T22:12:21Z</dcterms:modified>
  <cp:revision>3</cp:revision>
  <dc:subject/>
  <dc:title>Ақпарат түрлері</dc:title>
</cp:coreProperties>
</file>