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3F4-A189-4678-8CDA-22270339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6E2-33A0-483F-B9D8-A6B62260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BAF-6FC4-4B24-99A6-7ABA700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02-1AFE-4250-B030-2D3F2084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5AD-B43F-4061-B23D-45AC9279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BDB9-9803-4FEA-AEA0-1B5D7BF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14C7-3B8C-4414-8CAC-F8CA60A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D875-DD8D-4703-80CE-CB173E39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F06-F438-4810-B322-783051A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8E9-965C-4E33-8837-1EA3DC1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E31-F4DD-4B23-A242-3503B06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78F-D424-40D4-A9C9-74E6B691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06A8-D3F5-4A41-8585-0723963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995B-DEBC-4F7A-90EB-6B4AFFB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03F-4F94-4C2C-8BF3-4C300BD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7FA-4224-42C8-9664-9ED4C4BD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8A6-B11A-4177-8E69-04081C69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0A3-197A-4C15-90B2-FD9E42B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5F7-4D06-4067-9AA3-7587BF6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4EF-AAB0-411C-A56B-2588757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D51-6AAA-4CE3-BD7A-7308CB8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4AE-23CA-482C-B126-281B22D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81B-07AE-45F9-AB48-8E3D86D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6CE-4F70-4631-A04E-3629991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449-096F-439B-9895-117B4E2A8D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AE4-5819-4704-93CF-3248D7683A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900" spc="-1" strike="noStrike">
                <a:solidFill>
                  <a:srgbClr val="95934b"/>
                </a:solidFill>
                <a:latin typeface="Garamond"/>
              </a:rPr>
              <a:t>Шеннон энтропиясының мәні. Семантикалық ақпарат. Энтропия түсінігі және оның негізгі қасиеттері. Шартты энтропия.</a:t>
            </a:r>
            <a:endParaRPr b="0" lang="en-US" sz="39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16000" y="836640"/>
                <a:ext cx="67309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908000" y="5084640"/>
                <a:ext cx="4978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Дискретті кездейсоқ шаманың энтропиясы – бұл берілген дискретті кездейсоқ шама мәнін байланыс каналы арқылы жіберетін биттің орташа көлемінің минимум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Мысалды қарастырайық(бәйге). Бәйгеге ұтыс ықтималдылықтары бірдей 4 ат қатысады, яғни әрбір аттың ұту ықтималдылығы 1/4-ке тең. Ұтатын аттың номеріне тең Х дискретті кездейсоқ шамасын енгіземіз. Мұна НХ=2. Әрбір айналым сайын байланыс каналы арқылы ұтқан ат номері туралы 2 биттік ақпарат жіберу жеткілікті. Ат номерін келесідей кодтаймыз:1-00,2-01,3-10,4-11.Егер Х-тің берілген мәнін кодтайтын мәлімет ұзындығын қайтаратын L(X) функциясын енгізсе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3000" spc="-1" strike="noStrike">
                <a:solidFill>
                  <a:srgbClr val="000000"/>
                </a:solidFill>
                <a:latin typeface="Tahoma"/>
              </a:rPr>
              <a:t>L-ді формальды түрде  L(X)= len(code(X)) 2 функциясы арқылы анықтауға болады, мұндағы Х-тің әр мәніне  code(X) сәйкесінше биттік код қояды және бірмәнді болады, ал len кез келген нақты кодқа ұзындығын бит түрінде қайтарады. L- бұл дискретті кездейсоқ шамадағы функция, яғни бұл да дискретті кездейсоқ шама. Бұл мысалда  ML(X)=HX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дискретті кездейсоқ шамасы келесідей үлестірілген болсы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, 1-ші номерлі ат-озық. Онд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895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705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95934b"/>
                </a:solidFill>
                <a:latin typeface="Tahoma"/>
              </a:rPr>
              <a:t>Семантикалық ақпарат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Бұл функциялардың кейбір қасиеттері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                       - ақиқат, о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– ақиқат, онда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 s1 және  s2 тәуелсіздіг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124000" y="2060640"/>
                <a:ext cx="2376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971640" y="2781360"/>
                <a:ext cx="2520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971640" y="3213000"/>
                <a:ext cx="194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292720" y="3645000"/>
                <a:ext cx="2232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900000" y="4508640"/>
                <a:ext cx="712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Тапсырмалар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1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энтропиясын және әрбір келтірілген кодтың орташа ұзындығын табыңда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2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 екі тиынан түскен “гербтің” санына тең. Х-ті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91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3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 P(X=2n)=1/2n, n=1,2…үлестірілімімен берілген. Бұл дискретті кездейсоқ шаманы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4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мәні кирилица әріптері екені анық. Х-ті кезектестікпен өлшегенде, қорытындымыз- “ТЕОРИЯИНФОРМАЦИИ”-ға тең болады. Осы қорытынды негізінде  дискретті кездейсоқ шаманың ықтималдылық үлестірімінің заңын құрастыру және Х үшін минималды орташа код ұзындығын бағала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2:38:26Z</dcterms:created>
  <dc:creator>SamLab.ws</dc:creator>
  <dc:description/>
  <dc:language>en-US</dc:language>
  <cp:lastModifiedBy>SamLab.ws</cp:lastModifiedBy>
  <dcterms:modified xsi:type="dcterms:W3CDTF">2010-06-03T23:04:48Z</dcterms:modified>
  <cp:revision>2</cp:revision>
  <dc:subject/>
  <dc:title>Шеннон энтропиясының мәні. Семантикалық ақпарат. Энтропия түсінігі және оның негізгі қасиеттері. Шартты энтропия.</dc:title>
</cp:coreProperties>
</file>