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EEC-90E6-46B0-AAC6-99264416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41CE-7D62-4560-9AE8-9C80E12A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C76-0C4B-451C-A7CE-64D6263A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BC1-3FB0-4676-B5B1-DD94B115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4E9A-6F44-4D90-A906-24C20134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B5A3-C39D-440C-BD63-C38D9066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4DBB-2C92-4188-AFEA-F8B4B506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AFD0-D8BE-4858-A7DE-9EECAD17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B238-CB90-4DC2-BE4B-F6B72B66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26AA-40DF-440B-8F8C-A911A1D1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D434-4251-4DCF-8D65-BA18E0EC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29A-ABB1-4E0A-B1A4-7730D456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D6A3-3C52-438F-AD8B-51955FBF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7A4E-A29A-4A21-9C4E-34F9EA38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D027-0ED4-4197-84F3-6FD22ECB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507E-E7A7-41BF-BDCE-278FB62E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CA93-76E5-4924-94BE-A8F6F2C3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90E-8374-4629-9954-C5622A00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49E-FBEC-417D-924E-CC9240D7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03A8-FB9A-444E-B1AF-9D325664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166A-9D16-47C0-9EEB-9A057B1D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911-EA06-476A-888C-B0D71441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3CE-6411-4E68-BFF4-F8374902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11B8-E935-4490-82B7-B96AD6EE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26D7-2806-4B09-A255-1FC5FE1ABAE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DF33-3F2E-4F41-B8ED-EC54F0ED658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16000" y="260280"/>
            <a:ext cx="676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дирование информ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Представление информации посредством какого-либо алфави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называется </a:t>
            </a:r>
            <a:r>
              <a:rPr b="1" lang="en-US" sz="1800" spc="-1" strike="noStrike">
                <a:solidFill>
                  <a:srgbClr val="333300"/>
                </a:solidFill>
                <a:latin typeface="Tahoma"/>
              </a:rPr>
              <a:t>кодирование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Одна и та же информация может быть представлена различны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способ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00"/>
                </a:solidFill>
                <a:latin typeface="Tahoma"/>
              </a:rPr>
              <a:t>Кодом  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называется правило преобразования одного на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знаков в друг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От того, как представлена информация, на практике зависи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очень многое: 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Tahoma"/>
              </a:rPr>
              <a:t>способы хранения, приемы, передачи и обработ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Tahoma"/>
              </a:rPr>
              <a:t>информации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Процесс </a:t>
            </a:r>
            <a:r>
              <a:rPr b="1" lang="en-US" sz="1800" spc="-1" strike="noStrike">
                <a:solidFill>
                  <a:srgbClr val="333300"/>
                </a:solidFill>
                <a:latin typeface="Tahoma"/>
              </a:rPr>
              <a:t>кодирования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 (его также называют шифрование)инфор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мации непосредственно связан с процессом </a:t>
            </a:r>
            <a:r>
              <a:rPr b="1" lang="en-US" sz="1800" spc="-1" strike="noStrike">
                <a:solidFill>
                  <a:srgbClr val="333300"/>
                </a:solidFill>
                <a:latin typeface="Tahoma"/>
              </a:rPr>
              <a:t>декодир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(расшифрование) информац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Чем больше букв алфавита, тем проще устройство, для его расшифров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В технике большое значение имеет кодирование информации с помощь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азбуки Морзе, набор знаков телеграфного кода, двоичного кода </a:t>
            </a:r>
            <a:r>
              <a:rPr b="0" lang="en-US" sz="2000" spc="-1" strike="noStrike">
                <a:solidFill>
                  <a:srgbClr val="3333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 rot="1560000">
            <a:off x="7331040" y="1125360"/>
            <a:ext cx="1812960" cy="432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 rot="21119400">
            <a:off x="250920" y="836280"/>
            <a:ext cx="2043000" cy="676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780000" y="692280"/>
                <a:ext cx="12967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3</m:t>
                        </m:r>
                        <m:r>
                          <m:t xml:space="preserve">С</m:t>
                        </m:r>
                        <m:sSub>
                          <m:e>
                            <m:r>
                              <m:t xml:space="preserve">7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500"/>
                            </p:stCondLst>
                            <p:childTnLst>
                              <p:par>
                                <p:cTn id="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81471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Двоичный алфавит.</a:t>
            </a:r>
            <a:endParaRPr b="0" lang="en-US" sz="32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31256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Двоичный алфавит представлен двумя знаками- 0 и 1, или 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просто называют двоичными знаками. В английском языке двоичный зна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называют бит, сокращение от слова 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binary digit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. И далее мы один зна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двоичного алфавита (0 и 1) будем  называть </a:t>
            </a:r>
            <a:r>
              <a:rPr b="1" lang="ru-RU" sz="1800" spc="-1" strike="noStrike">
                <a:solidFill>
                  <a:srgbClr val="333300"/>
                </a:solidFill>
                <a:latin typeface="Tahoma"/>
              </a:rPr>
              <a:t>бит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.</a:t>
            </a:r>
            <a:r>
              <a:rPr b="1" lang="ru-RU" sz="1800" spc="-1" strike="noStrike">
                <a:solidFill>
                  <a:srgbClr val="33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Кодирование с помощью двух знаков максимально упрощает конструкц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устройств хранения и передачи информации. Ведь для представ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информации в двоичной кодировке устройство должно уметь различ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два состоя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Как же можно представить знаковую информацию с помощью двоич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алфавита?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Два знака «0» и «1» дают нам возможность закодировать только четы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символа: 00, 01, 10, 11, но этого очень мало. Ведь чтобы представи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только слова русского языка, необходимо 33 символа. Поэтому бы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решено взять для кодировки сочетание из 8 бит, т.е из 8 двоичных зна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и ей дали специальное название </a:t>
            </a:r>
            <a:r>
              <a:rPr b="1" lang="ru-RU" sz="1800" spc="-1" strike="noStrike">
                <a:solidFill>
                  <a:srgbClr val="333300"/>
                </a:solidFill>
                <a:latin typeface="Tahoma"/>
              </a:rPr>
              <a:t>байт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16000" y="189000"/>
            <a:ext cx="67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дирование информаци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500"/>
                            </p:stCondLst>
                            <p:childTnLst>
                              <p:par>
                                <p:cTn id="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Коды 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ASCII</a:t>
            </a:r>
            <a:endParaRPr b="0" lang="en-US" sz="32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В вычислительной техник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наиболее употребляемыми являются коды </a:t>
            </a:r>
            <a:r>
              <a:rPr b="0" lang="en-US" sz="1600" spc="-1" strike="noStrike">
                <a:solidFill>
                  <a:srgbClr val="333300"/>
                </a:solidFill>
                <a:latin typeface="Tahoma"/>
              </a:rPr>
              <a:t>ASCII</a:t>
            </a: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, чт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означает американский стандартный код обмена информаци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Кодировочная таблиц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50920" y="2205000"/>
                <a:ext cx="436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2" name=""/>
          <p:cNvSpPr txBox="1"/>
          <p:nvPr/>
        </p:nvSpPr>
        <p:spPr>
          <a:xfrm>
            <a:off x="1116000" y="260280"/>
            <a:ext cx="676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дирование информ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836640"/>
                <a:ext cx="72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8000" y="3284640"/>
                <a:ext cx="574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08000" y="4292640"/>
                <a:ext cx="755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22:23:10Z</dcterms:created>
  <dc:creator>Admin</dc:creator>
  <dc:description/>
  <dc:language>en-US</dc:language>
  <cp:lastModifiedBy>Admin</cp:lastModifiedBy>
  <dcterms:modified xsi:type="dcterms:W3CDTF">2009-03-05T23:24:07Z</dcterms:modified>
  <cp:revision>3</cp:revision>
  <dc:subject/>
  <dc:title>Слайд 1</dc:title>
</cp:coreProperties>
</file>