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ADB-6B3C-4664-A706-E9D3AE1C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D3F-D725-4E69-AB6E-DF9C777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481-EF91-4745-A501-4C617DA9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EAA-B778-482E-88E8-20CBCED1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9598-1AEF-4D0D-A01C-7B8A4BB1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90EF-3941-4259-B126-2963B19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2F1-279C-4698-B72D-602A49F1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D05-7CF9-48B0-A8B8-DD7E11B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7DC-4B0F-4109-AE88-399EB307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899-02BA-43E4-ADDD-941066B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3E8-1806-4905-96F9-878EFD7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D49-5D60-41E7-8840-2640A2F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052-649D-4A9A-9330-3206CD55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F2FE-FAE9-46B3-B282-96B769C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ADB-3C5E-4579-95D0-24301310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8A7E-E49D-4B05-9439-73CB0282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353-A577-45C6-8182-338A0546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0522-C055-4FD4-B830-9F16396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82FE-3333-4F81-95EB-BBC8A571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734B-411C-4F48-A06C-1B04979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2193-8904-4F54-99DF-7F31EE4F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C15B-D586-4F44-92E7-CD20329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1FD-D1BA-4848-8D0E-3795E7B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1F56-3DB5-412D-B546-8B1CF31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6DEF-34FD-4611-8C77-73212EE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A2D3-8599-46EA-86E2-2985504E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4B2B-2737-4ABE-89C6-0EAB714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7BD5-7E3E-4881-A3AC-6146D68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82DB-E685-49FD-98C4-0A282A6F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09DC-5F3A-45CC-98FD-8D1FF68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1F93-F5EA-4355-82D6-806DE580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B10A-CED9-4ADA-8DF3-B73C2BF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3275-7E27-4F31-9B65-0FF21777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04E-7838-48B3-8AB9-C54C5E8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835F-00FB-4C9C-AC5D-1BF739F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41B7-6DC2-45B8-800D-CD897B9F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BACB-D8CE-477A-8109-D6DF983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1184-41C7-4215-970F-A9E4E64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2641-B8AA-4FA1-807E-B06FC03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87E4-A94D-40F6-AA58-B5B02D1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439E-76AD-4875-8DDC-C257371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4383-7092-42E9-8B26-3DBF581F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9664-360A-4F2D-B80C-B805386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4867-5C55-41C4-9E91-04497B10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BEF-AB24-4410-BA13-EAC8B3E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4921-F281-4D72-887A-0BDF98E7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BD11-98BE-41C7-A22C-A50C4A41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62A8-7A56-4532-972F-0940D816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941A-C202-48AB-A53D-30A10EC9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64F7-05CC-491E-B1CB-EAC20E77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82AF-5754-4743-AA6C-C8B5719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D1E3-7AA6-40F3-BBF1-8489F04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4591-6288-476A-A276-0299E7A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2CBC-9B87-4677-ADA7-707C375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AEC8-A469-4EB8-9913-0ECC29F4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B1E-5257-4DC3-8302-9EEE5F7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90A2-F403-41C0-A926-D03BDB5D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C2F5-8BC6-4F3D-B4F0-B170F18F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27E5-EA70-4392-98EB-DE8AC40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9C24-05CA-492B-8BCF-B710975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387A-8905-48D0-A640-A48D481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30DD6-6EBA-4689-B4AA-E8E7808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21AE-BD7A-43D2-8136-71E07C95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DB0E-1E2A-4857-8A39-208834F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8B0E-6A76-44BA-B42C-A64D1D2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3D8A-3BA4-4743-9971-BCAC191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768-86B2-4B75-9F02-933CA41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32A4-EEF1-445B-ADC1-250BFA0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D697-E22A-4CCA-A5DE-88AE888F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E86E-BCFC-4F50-BAF2-E3017A18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F1FE1-1E98-4BBB-B9FE-CE7A7196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DF7F-CF06-498F-8CBE-56C5DCA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F304-CDE2-40E1-AB8F-0C958684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ABCBC-625B-4DE5-A3BD-6DC3AE6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B48BB-895C-442F-B808-C0CE50FB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9E6BB-F39C-477E-AECA-D7F9ED4F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4239-E2C6-4547-89DA-F9D5461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2F7-66B9-4FBC-A61A-536A145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0BD0-965F-4850-8272-585D689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CC6C-3CA4-484E-B86B-7389B9B8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9C00-09ED-452D-973B-9ED5352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FF38-0604-499C-8AB5-BD195F2C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81DB-685C-4C06-BCB3-262FB10B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0833-59E9-49CD-BED1-C7ED0FB3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1CC5-0816-4786-B20B-D29CDD3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D9DC-4259-42E7-B443-FDD0523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F9BB2-CF74-44C0-90CD-9FF2F3BB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9203-FF04-499B-A68A-A081EA39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006-8EB5-4D36-A1B0-3BD1081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C8E96-7B8A-4A62-82F5-AABE6157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55B7A-85D9-4429-88F2-9C407103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C7850-5C8E-4C17-8635-571A6E9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C0688-1EE7-404F-A84B-7E8877E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31313-0CA6-4A30-92FB-5C8B6843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7709F-2A08-48F8-B9BD-51406EE1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BEBAC-D4BC-421A-9CC2-461AAE31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B3D-0C65-473D-A75F-544218FA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337-DFA8-4937-B9AD-27C633560B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7AE-0FC4-4C71-B84D-F5DD769C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AE31-5EA5-4812-9DC6-E5E204E03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D42C-323C-404B-AD73-D495988B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329-C32F-4DC0-BEAC-DDE6AA08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031-2C9F-4111-84A3-6BB0895FF83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D77F-F13E-48EA-BEF1-5A81A572073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03360" y="1974960"/>
            <a:ext cx="8412120" cy="1481040"/>
          </a:xfrm>
          <a:prstGeom prst="rect">
            <a:avLst/>
          </a:prstGeom>
          <a:ln w="0">
            <a:noFill/>
          </a:ln>
        </p:spPr>
      </p:pic>
      <p:pic>
        <p:nvPicPr>
          <p:cNvPr id="346" name="Черно-белые Д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Фигура, имеющая форму буквы L 4"/>
          <p:cNvSpPr/>
          <p:nvPr/>
        </p:nvSpPr>
        <p:spPr>
          <a:xfrm>
            <a:off x="1143000" y="1905120"/>
            <a:ext cx="914400" cy="914400"/>
          </a:xfrm>
          <a:prstGeom prst="pi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H="1">
            <a:off x="988560" y="1677960"/>
            <a:ext cx="3240" cy="419112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 flipV="1">
            <a:off x="8456760" y="3049560"/>
            <a:ext cx="2880" cy="27432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23"/>
          <p:cNvSpPr/>
          <p:nvPr/>
        </p:nvSpPr>
        <p:spPr>
          <a:xfrm flipH="1">
            <a:off x="8458200" y="1676520"/>
            <a:ext cx="1440" cy="9158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25"/>
          <p:cNvSpPr/>
          <p:nvPr/>
        </p:nvSpPr>
        <p:spPr>
          <a:xfrm>
            <a:off x="8457480" y="2590920"/>
            <a:ext cx="304920" cy="38088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27"/>
          <p:cNvSpPr/>
          <p:nvPr/>
        </p:nvSpPr>
        <p:spPr>
          <a:xfrm>
            <a:off x="1752480" y="2057400"/>
            <a:ext cx="228600" cy="15228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Прямоугольник 28"/>
          <p:cNvSpPr/>
          <p:nvPr/>
        </p:nvSpPr>
        <p:spPr>
          <a:xfrm>
            <a:off x="2895480" y="1752480"/>
            <a:ext cx="3200400" cy="7632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6" name="Прямая со стрелкой 30"/>
          <p:cNvCxnSpPr/>
          <p:nvPr/>
        </p:nvCxnSpPr>
        <p:spPr>
          <a:xfrm>
            <a:off x="6171840" y="1752120"/>
            <a:ext cx="2515320" cy="25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7" name="TextBox 31"/>
          <p:cNvSpPr/>
          <p:nvPr/>
        </p:nvSpPr>
        <p:spPr>
          <a:xfrm>
            <a:off x="884628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8" name="Прямая со стрелкой 33"/>
          <p:cNvCxnSpPr/>
          <p:nvPr/>
        </p:nvCxnSpPr>
        <p:spPr>
          <a:xfrm flipH="1">
            <a:off x="761760" y="2057400"/>
            <a:ext cx="305280" cy="7668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9" name="Блок-схема: процесс 35"/>
          <p:cNvSpPr/>
          <p:nvPr/>
        </p:nvSpPr>
        <p:spPr>
          <a:xfrm>
            <a:off x="1219320" y="28954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Блок-схема: процесс 36"/>
          <p:cNvSpPr/>
          <p:nvPr/>
        </p:nvSpPr>
        <p:spPr>
          <a:xfrm>
            <a:off x="1219320" y="37339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Блок-схема: процесс 37"/>
          <p:cNvSpPr/>
          <p:nvPr/>
        </p:nvSpPr>
        <p:spPr>
          <a:xfrm>
            <a:off x="121932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Блок-схема: процесс 45"/>
          <p:cNvSpPr/>
          <p:nvPr/>
        </p:nvSpPr>
        <p:spPr>
          <a:xfrm>
            <a:off x="792468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Блок-схема: процесс 47"/>
          <p:cNvSpPr/>
          <p:nvPr/>
        </p:nvSpPr>
        <p:spPr>
          <a:xfrm>
            <a:off x="7924680" y="38098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Блок-схема: процесс 48"/>
          <p:cNvSpPr/>
          <p:nvPr/>
        </p:nvSpPr>
        <p:spPr>
          <a:xfrm>
            <a:off x="1447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Блок-схема: процесс 49"/>
          <p:cNvSpPr/>
          <p:nvPr/>
        </p:nvSpPr>
        <p:spPr>
          <a:xfrm>
            <a:off x="32767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Блок-схема: процесс 50"/>
          <p:cNvSpPr/>
          <p:nvPr/>
        </p:nvSpPr>
        <p:spPr>
          <a:xfrm>
            <a:off x="41911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Блок-схема: процесс 51"/>
          <p:cNvSpPr/>
          <p:nvPr/>
        </p:nvSpPr>
        <p:spPr>
          <a:xfrm>
            <a:off x="51055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Блок-схема: процесс 52"/>
          <p:cNvSpPr/>
          <p:nvPr/>
        </p:nvSpPr>
        <p:spPr>
          <a:xfrm>
            <a:off x="2362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Блок-схема: процесс 53"/>
          <p:cNvSpPr/>
          <p:nvPr/>
        </p:nvSpPr>
        <p:spPr>
          <a:xfrm>
            <a:off x="6019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Блок-схема: процесс 54"/>
          <p:cNvSpPr/>
          <p:nvPr/>
        </p:nvSpPr>
        <p:spPr>
          <a:xfrm>
            <a:off x="6934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Прямая соединительная линия 56"/>
          <p:cNvSpPr/>
          <p:nvPr/>
        </p:nvSpPr>
        <p:spPr>
          <a:xfrm>
            <a:off x="990720" y="5867280"/>
            <a:ext cx="7467480" cy="18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58"/>
          <p:cNvSpPr/>
          <p:nvPr/>
        </p:nvSpPr>
        <p:spPr>
          <a:xfrm>
            <a:off x="990720" y="1676520"/>
            <a:ext cx="7467480" cy="14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Блок-схема: процесс 61"/>
          <p:cNvSpPr/>
          <p:nvPr/>
        </p:nvSpPr>
        <p:spPr>
          <a:xfrm>
            <a:off x="1523880" y="32004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Блок-схема: процесс 62"/>
          <p:cNvSpPr/>
          <p:nvPr/>
        </p:nvSpPr>
        <p:spPr>
          <a:xfrm>
            <a:off x="1523880" y="4038480"/>
            <a:ext cx="152640" cy="1526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Блок-схема: процесс 63"/>
          <p:cNvSpPr/>
          <p:nvPr/>
        </p:nvSpPr>
        <p:spPr>
          <a:xfrm>
            <a:off x="1523880" y="48769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Блок-схема: процесс 64"/>
          <p:cNvSpPr/>
          <p:nvPr/>
        </p:nvSpPr>
        <p:spPr>
          <a:xfrm>
            <a:off x="17524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Блок-схема: процесс 65"/>
          <p:cNvSpPr/>
          <p:nvPr/>
        </p:nvSpPr>
        <p:spPr>
          <a:xfrm>
            <a:off x="2590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Блок-схема: процесс 66"/>
          <p:cNvSpPr/>
          <p:nvPr/>
        </p:nvSpPr>
        <p:spPr>
          <a:xfrm>
            <a:off x="35812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Блок-схема: процесс 67"/>
          <p:cNvSpPr/>
          <p:nvPr/>
        </p:nvSpPr>
        <p:spPr>
          <a:xfrm>
            <a:off x="44956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Блок-схема: процесс 68"/>
          <p:cNvSpPr/>
          <p:nvPr/>
        </p:nvSpPr>
        <p:spPr>
          <a:xfrm>
            <a:off x="53341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Блок-схема: процесс 69"/>
          <p:cNvSpPr/>
          <p:nvPr/>
        </p:nvSpPr>
        <p:spPr>
          <a:xfrm>
            <a:off x="62485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Блок-схема: процесс 70"/>
          <p:cNvSpPr/>
          <p:nvPr/>
        </p:nvSpPr>
        <p:spPr>
          <a:xfrm>
            <a:off x="7162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Блок-схема: процесс 71"/>
          <p:cNvSpPr/>
          <p:nvPr/>
        </p:nvSpPr>
        <p:spPr>
          <a:xfrm>
            <a:off x="7696080" y="50292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Блок-схема: процесс 72"/>
          <p:cNvSpPr/>
          <p:nvPr/>
        </p:nvSpPr>
        <p:spPr>
          <a:xfrm>
            <a:off x="7696080" y="41911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Box 77"/>
          <p:cNvSpPr/>
          <p:nvPr/>
        </p:nvSpPr>
        <p:spPr>
          <a:xfrm>
            <a:off x="45936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6" name="Прямая со стрелкой 79"/>
          <p:cNvCxnSpPr>
            <a:endCxn id="385" idx="3"/>
          </p:cNvCxnSpPr>
          <p:nvPr/>
        </p:nvCxnSpPr>
        <p:spPr>
          <a:xfrm flipH="1">
            <a:off x="756720" y="3505320"/>
            <a:ext cx="386640" cy="1087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7" name="TextBox 80"/>
          <p:cNvSpPr/>
          <p:nvPr/>
        </p:nvSpPr>
        <p:spPr>
          <a:xfrm>
            <a:off x="853452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Соединительная линия уступом 82"/>
          <p:cNvCxnSpPr>
            <a:endCxn id="384" idx="1"/>
          </p:cNvCxnSpPr>
          <p:nvPr/>
        </p:nvCxnSpPr>
        <p:spPr>
          <a:xfrm flipV="1" rot="10800000">
            <a:off x="7695360" y="3504960"/>
            <a:ext cx="915120" cy="762480"/>
          </a:xfrm>
          <a:prstGeom prst="bentConnector3">
            <a:avLst>
              <a:gd name="adj1" fmla="val 124990"/>
            </a:avLst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9" name="TextBox 90"/>
          <p:cNvSpPr/>
          <p:nvPr/>
        </p:nvSpPr>
        <p:spPr>
          <a:xfrm>
            <a:off x="0" y="6248520"/>
            <a:ext cx="93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-стол учителя, 2-доска, 3-парта, 4-стул ученика, 5-стул учителя,  6-дверь в каби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93"/>
          <p:cNvSpPr/>
          <p:nvPr/>
        </p:nvSpPr>
        <p:spPr>
          <a:xfrm>
            <a:off x="19051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1" name="Прямая со стрелкой 95"/>
          <p:cNvCxnSpPr>
            <a:endCxn id="354" idx="0"/>
          </p:cNvCxnSpPr>
          <p:nvPr/>
        </p:nvCxnSpPr>
        <p:spPr>
          <a:xfrm flipH="1">
            <a:off x="1866240" y="1828440"/>
            <a:ext cx="11484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92" name="TextBox 96"/>
          <p:cNvSpPr/>
          <p:nvPr/>
        </p:nvSpPr>
        <p:spPr>
          <a:xfrm>
            <a:off x="87631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3" name="Прямая со стрелкой 98"/>
          <p:cNvCxnSpPr/>
          <p:nvPr/>
        </p:nvCxnSpPr>
        <p:spPr>
          <a:xfrm flipH="1">
            <a:off x="8534160" y="2513520"/>
            <a:ext cx="30528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К работе в кабинете информатики допускаются лица, прошедшие медицинский осмотр и полный инструктаж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ботать можно только на исправных компьютерах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нать правила эксплуатации используемого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обходимо знать порядок правильного включения и выключения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еред включением общего электропитания нужно проверить исходное положение всех выключателей и выключить их, если они включен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допускать разборку аппаратуры, как во время работы, так и после не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включать компьютеры без разрешения учител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осле включения компьютера проверить стабильность и четкость изображения на экране монитор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7244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-х классов 1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2-5-х классов 1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6-7-х классов 2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8-9-х классов 2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0-11-х классов - при двух уроках информатики подряд, на первом - 30 мин., на втором - 20 мин., после чего на перемене выполнять специальные упражнения, снимающих зрительное утомлени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В случае замыкания: появления искр, запаха гари, отключить электропитание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плохом самочувствии, появлении головной боли, головокружения и др. прекратить работу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трогать разъемы и соединительные кабели аппаратур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использовать воду и пенные огнетушители для тушения загоревшейся аппаратуры, так как эти средства являются проводниками тока и, следовательно, могут привести к короткому замыканию и к поражению током человека, производящего тушен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возникновении пожара его надо тушить с помощью первичных средств, к которым относятся: песок, противопожарная ткань, ручные химические огнетушители (воздушно-пенные, углекислотные, бромэтиловые, порошковые) и противопожарный инвентарь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ещение кабинета информатики должно удовлетворять следующим требованиям: на каждый компьютер - 6 кв. м. и 6 куб. м. общей площади кабинета. Размещение компьютеров задними стенками к глухим стенкам кабинета, по его периметру. Кабинет должен иметь окна на север или северо-запад , а также систему кондиционирования или возможность проветривания для обмена свежего воздуха. Температура воздуха в кабинете должна находиться в пределах 19...21°С. В кабинете каждый день необходимо проводить влажную уборк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мпьютерная техника должна размещаться на специальных столах, обеспечивающих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гол наклона и подставку для монитор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ставку для клавиатуры на уровне, комфортном для рук работающих учеников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ирину, достаточную для размещения всех устройств компьютер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статочное расстояние (не менее 60 см.) от глаз учащихся до поверхности монитор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улья, на которых должны работать учащиеся должны быть следующими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емые по высоте сидения (учитывать рост учащихс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орачиваться (регуляция положени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ющими по высоте спинки (регулируемая по роста опора для снятия нагрузки с поясничного отдела работающего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трого выполнять правила техники безопасности и санитарно-гигиенические нормы при работе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Выполнять команды учителя, во время возникновения чрезвычайных ситуаций действовать по правилам, изложенным выше и обязательно обращаться к учителю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бегать, не прыгать, не драться, находясь в данном помещен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риходить в кабинет всегда только в сменной обуви и без верхней одежды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ботать только чистыми сухими рукам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размещать ни каких предметов на устройствах компьютера (мониторе, системном блоке, клавиатуре, мыши и т.д.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есть в кабинете, в том числе и за рабочими местами у компьютеров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 компьютером выполнять только те задания, которые предложены учителе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устанавливать никаких конфигураций в компьютере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пользоваться своими дискетами и компакт-дисками,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крывать все компьютерные окна и программы перед завершением своей работы, выключением компьютер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н</cp:lastModifiedBy>
  <dcterms:modified xsi:type="dcterms:W3CDTF">2009-02-13T03:34:57Z</dcterms:modified>
  <cp:revision>5</cp:revision>
  <dc:subject/>
  <dc:title>Кабинет информатики</dc:title>
</cp:coreProperties>
</file>