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6F2-E827-4723-ADE3-73EFE09C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852-C878-48EC-92E4-2F41C6DA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64B-8137-497A-B042-B5A43EF7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487-E1BE-4785-8985-6EFBF731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58A-FBA9-47FB-BB9B-22B61115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90E-EFF8-48AC-908E-969333E0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1A1-DA33-4BB8-A2F8-25C51651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2E9-1758-4F81-B6ED-790B3D45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DCE-C300-4EEF-B560-79E613C7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940-5F77-4A8E-8BB2-00AC0097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3AB-5020-4D84-BDAB-DD2A4608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1A4-27CC-4240-A2AB-43297D83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8C55-46D7-4960-9C8C-CE83D3650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304920" y="1994040"/>
            <a:ext cx="87598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для самостоятельного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пределить энергию, переданную линейному одномерному осциллятору под воздействием внешней силы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В момент времени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сциллятор покоился в положении равнове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слабо затухающий одномерный осциллятор действует внешняя сила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Определить среднее за период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начение поглощаемой осцилляторм мощности в установившемся режиме. Показать, что оно равно среднему значению мощности, расзодуемой на тер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180504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7238880" y="2209680"/>
            <a:ext cx="933480" cy="3812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4495680" y="3657600"/>
            <a:ext cx="2746440" cy="5335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5410080" y="4191120"/>
            <a:ext cx="685800" cy="380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нужденные колебания – это колебания в системе, на которую действует некоторое переменное внешнее п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ункция Лагранжа системы, совершающей вынужденные колебания, имеет ви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"/>
              <p:cNvSpPr txBox="1"/>
              <p:nvPr/>
            </p:nvSpPr>
            <p:spPr>
              <a:xfrm>
                <a:off x="2819520" y="4648320"/>
                <a:ext cx="3531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ункция Лагранжа системы, совершающей вынужденные колебания, отличается от функции Лагранжа системы, совершающей свободные колебания тем, что в потенциальной энергии появляется чле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е движения имеет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"/>
              <p:cNvSpPr txBox="1"/>
              <p:nvPr/>
            </p:nvSpPr>
            <p:spPr>
              <a:xfrm>
                <a:off x="3965400" y="3200400"/>
                <a:ext cx="1521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3352680" y="4876920"/>
                <a:ext cx="2778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ение уравнения движения системы, совершающей вынужденные колебания под действием периодической сил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"/>
              <p:cNvSpPr txBox="1"/>
              <p:nvPr/>
            </p:nvSpPr>
            <p:spPr>
              <a:xfrm>
                <a:off x="5646600" y="2590920"/>
                <a:ext cx="334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γt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685800" y="3962520"/>
                <a:ext cx="7997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γt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случае резонанса, т.е. когда частота вынуждающей силы приближается к сосбственной частоте колебаний системы, решение преобретает ви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"/>
              <p:cNvSpPr txBox="1"/>
              <p:nvPr/>
            </p:nvSpPr>
            <p:spPr>
              <a:xfrm>
                <a:off x="1295280" y="3657600"/>
                <a:ext cx="6748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ω</m:t>
                        </m:r>
                      </m:den>
                    </m:f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нужденные колебания при наличи сил т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сследование вынужденных колебаний при наличи сил трения вполне аналогично рассмотрению колебаний без трения. Особый интерес представляет собой случай периодической вынуждающей си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Уравнение движения системы, совершающей вынужденные колебания при наличи сил трения имеют в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"/>
              <p:cNvSpPr txBox="1"/>
              <p:nvPr/>
            </p:nvSpPr>
            <p:spPr>
              <a:xfrm>
                <a:off x="838080" y="3886200"/>
                <a:ext cx="7823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t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астота, при которой амплитуда вынужденных колебаний при наличии сил трения максимальна, определяется выражение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"/>
              <p:cNvSpPr txBox="1"/>
              <p:nvPr/>
            </p:nvSpPr>
            <p:spPr>
              <a:xfrm>
                <a:off x="3048120" y="3962520"/>
                <a:ext cx="3157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иссипативная функция для одномерного осцилля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ид дисперсионной зависимости поглощения от част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личество энергии, поглощённой в среднем в единицу времени, как функция частоты внешней силы, в случае одномерного осцилля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"/>
              <p:cNvSpPr txBox="1"/>
              <p:nvPr/>
            </p:nvSpPr>
            <p:spPr>
              <a:xfrm>
                <a:off x="2895480" y="1523880"/>
                <a:ext cx="3988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3505320" y="2819520"/>
                <a:ext cx="26924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5"/>
              <p:cNvSpPr txBox="1"/>
              <p:nvPr/>
            </p:nvSpPr>
            <p:spPr>
              <a:xfrm>
                <a:off x="3276720" y="5638680"/>
                <a:ext cx="3174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Михаил</cp:lastModifiedBy>
  <dcterms:modified xsi:type="dcterms:W3CDTF">2010-10-17T19:53:07Z</dcterms:modified>
  <cp:revision>5</cp:revision>
  <dc:subject/>
  <dc:title>Слайд 1</dc:title>
</cp:coreProperties>
</file>