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2D5D-8802-42A6-B016-E93FCA62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C1E-2773-4698-B2D1-BA8BBA45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F9A6-28A4-4F18-98E6-95455605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E6E3-C5B8-49E4-95D8-0FECC9A7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7F5E-DD0A-4802-B913-9552C3B3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3E0C-2EAC-4C54-84E5-B116F892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F59-8CB1-4365-B707-BF38693A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B452-2A2C-4884-9A4C-D6B65FBD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6E70-50D8-4551-A8D0-CAD9E719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49C-5D4C-450A-88F9-DE07DE54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AFE-467F-4BAB-A8CB-753EFDFA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29F-7396-4F6A-A76C-A6BFA4DD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9F3F-97DD-4EFB-9E50-50C5CC9566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7" descr=""/>
          <p:cNvPicPr/>
          <p:nvPr/>
        </p:nvPicPr>
        <p:blipFill>
          <a:blip r:embed="rId1"/>
          <a:stretch/>
        </p:blipFill>
        <p:spPr>
          <a:xfrm>
            <a:off x="1420920" y="835200"/>
            <a:ext cx="63817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1680" y="1599840"/>
            <a:ext cx="7858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так, заряд движется в плоскости, образуемой  векторами  и  (т.е. в плоскости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z=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. Движение вдоль оси Оу происходит с постоянной скоростью, т.к. сила действует только в направлении оси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Ox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. Движение заряда вдоль оси Ох слагается из движения по инерции с начальной скоростью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 колебания с частотой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зменения заданной си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5572080" y="2143080"/>
            <a:ext cx="466920" cy="6192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6540480" y="2117880"/>
            <a:ext cx="438120" cy="6951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3"/>
          <a:stretch/>
        </p:blipFill>
        <p:spPr>
          <a:xfrm>
            <a:off x="2921040" y="6000840"/>
            <a:ext cx="3427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словие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ряд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e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массы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m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движется между обкладками плоского конденсатора, где напряжённость электрического поля меняется по зако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де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- постоянные величины. В момент времен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=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0 заряд находился в положении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и имел скорость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тносительно системы отсчёта, связанной с пластинами конденсатора. Найти положение с скорость заряда в любой момент времен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&gt;0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2928960" y="3214800"/>
            <a:ext cx="2685960" cy="618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1143000" y="3714840"/>
            <a:ext cx="466560" cy="6192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2428920" y="3714840"/>
            <a:ext cx="342720" cy="619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4"/>
          <a:stretch/>
        </p:blipFill>
        <p:spPr>
          <a:xfrm>
            <a:off x="7000920" y="4214880"/>
            <a:ext cx="380880" cy="619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5"/>
          <a:stretch/>
        </p:blipFill>
        <p:spPr>
          <a:xfrm>
            <a:off x="2143080" y="4714920"/>
            <a:ext cx="43812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ставляем уравнение дви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714480" y="1599840"/>
            <a:ext cx="54291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 условия видно, что на заряд действует с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 уравнение движения будет иметь в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3368520" cy="40003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4881600" y="2948040"/>
            <a:ext cx="2905200" cy="695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4786200" y="5024520"/>
            <a:ext cx="322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сматриваем действие си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000320" y="1599840"/>
            <a:ext cx="514332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ила в любой момент времени коллинеарна постоянному вектору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Поэтому ускорение и приращение скорости также коллинеарны вектору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Следовательно, движение заряда происходит в плоскости, задаваемой векторами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3368520" cy="4000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2"/>
          <a:stretch/>
        </p:blipFill>
        <p:spPr>
          <a:xfrm>
            <a:off x="7966080" y="2546280"/>
            <a:ext cx="466560" cy="695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"/>
          <p:cNvPicPr/>
          <p:nvPr/>
        </p:nvPicPr>
        <p:blipFill>
          <a:blip r:embed="rId3"/>
          <a:stretch/>
        </p:blipFill>
        <p:spPr>
          <a:xfrm>
            <a:off x="6286680" y="5929200"/>
            <a:ext cx="466560" cy="6955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4"/>
          <a:stretch/>
        </p:blipFill>
        <p:spPr>
          <a:xfrm>
            <a:off x="7192800" y="5973840"/>
            <a:ext cx="438480" cy="695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" descr=""/>
          <p:cNvPicPr/>
          <p:nvPr/>
        </p:nvPicPr>
        <p:blipFill>
          <a:blip r:embed="rId5"/>
          <a:stretch/>
        </p:blipFill>
        <p:spPr>
          <a:xfrm>
            <a:off x="7951680" y="3997440"/>
            <a:ext cx="46692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Выбор системы координ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643200" y="1599840"/>
            <a:ext cx="55008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соответствии с изложенным выберем систему декартовых координат, начало которой жёстко связано с конденсато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дну из осе направим вдоль вектора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(ось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x)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, а плоскость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z=0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совместим с плоскостью 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3368520" cy="4000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2"/>
          <a:stretch/>
        </p:blipFill>
        <p:spPr>
          <a:xfrm>
            <a:off x="5407200" y="4549680"/>
            <a:ext cx="4665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хождение проекций си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связи с выбранной системой координат проекции  силы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координатные оси имеют в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 проекции радиус-вектора и скорости на ось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z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равны ну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071960" y="2000160"/>
            <a:ext cx="2905200" cy="695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3129120" y="3357720"/>
            <a:ext cx="2800080" cy="618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3500280" y="4260960"/>
            <a:ext cx="22575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хождение уравнений дви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оектирую левую и правую части векторного  уравнения движения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оси выбранной системы, получим три дифференциальных уравнения 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4429080" y="2071800"/>
            <a:ext cx="3229200" cy="618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2"/>
          <a:stretch/>
        </p:blipFill>
        <p:spPr>
          <a:xfrm>
            <a:off x="3171960" y="3857760"/>
            <a:ext cx="3257280" cy="618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3852720" y="4643280"/>
            <a:ext cx="1505160" cy="619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4"/>
          <a:stretch/>
        </p:blipFill>
        <p:spPr>
          <a:xfrm>
            <a:off x="3890880" y="5500800"/>
            <a:ext cx="1467000" cy="618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0" y="10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тегрирование урав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нтегрируем найденные уравнения  первый раз и наход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нтегрируем уравнения движения второй р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895320" y="2643120"/>
            <a:ext cx="3819600" cy="11048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5396040" y="2928960"/>
            <a:ext cx="2962080" cy="6192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2143080" y="4357800"/>
            <a:ext cx="5724720" cy="1104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4"/>
          <a:stretch/>
        </p:blipFill>
        <p:spPr>
          <a:xfrm>
            <a:off x="2357280" y="5643720"/>
            <a:ext cx="515304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пользование начальных услов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дставляя в полученные функци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=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0 и используя условия, получим решение для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в ви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 для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2040" y="2000160"/>
            <a:ext cx="866880" cy="695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1486080" y="3857760"/>
            <a:ext cx="799920" cy="618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3"/>
          <a:stretch/>
        </p:blipFill>
        <p:spPr>
          <a:xfrm>
            <a:off x="857160" y="2714760"/>
            <a:ext cx="4438800" cy="1104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4"/>
          <a:stretch/>
        </p:blipFill>
        <p:spPr>
          <a:xfrm>
            <a:off x="5929200" y="2928960"/>
            <a:ext cx="2562480" cy="6192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9" descr=""/>
          <p:cNvPicPr/>
          <p:nvPr/>
        </p:nvPicPr>
        <p:blipFill>
          <a:blip r:embed="rId5"/>
          <a:stretch/>
        </p:blipFill>
        <p:spPr>
          <a:xfrm>
            <a:off x="1928880" y="4286160"/>
            <a:ext cx="6256440" cy="1000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6"/>
          <a:stretch/>
        </p:blipFill>
        <p:spPr>
          <a:xfrm>
            <a:off x="3149640" y="5524560"/>
            <a:ext cx="335124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2:01:52Z</dcterms:created>
  <dc:creator>Михаил</dc:creator>
  <dc:description/>
  <dc:language>en-US</dc:language>
  <cp:lastModifiedBy>Михаил</cp:lastModifiedBy>
  <dcterms:modified xsi:type="dcterms:W3CDTF">2010-10-17T19:43:12Z</dcterms:modified>
  <cp:revision>11</cp:revision>
  <dc:subject/>
  <dc:title>Слайд 1</dc:title>
</cp:coreProperties>
</file>