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3E0-500B-44F5-AAE6-FD33667C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D9B-151A-4454-95F3-74729B2E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792-2690-4B54-B770-CD9B429D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4D8-6A25-4BC7-99A4-781C45A5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026-904C-4A9A-9718-19470D0D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E7F-07E6-4B53-914D-91B7E8F3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ED7-CE77-42EA-A648-4E22A851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2CD-41ED-4BDF-9FCE-DE0C7AD2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F3C-1169-41F0-B5B2-7839BE2B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2DD-1043-4A13-AA84-6965B998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AFB-4C52-44BA-9511-85AF6C2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8AA-A9E7-4691-904C-91271666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8DCA-B8F8-4E30-AE06-3FCE10F34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1438200" y="1079640"/>
            <a:ext cx="627876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я движения системы со многими степенями свободы при наличии т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ения уравнения движения системы со многими степенями свободы при наличии тер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"/>
              <p:cNvSpPr txBox="1"/>
              <p:nvPr/>
            </p:nvSpPr>
            <p:spPr>
              <a:xfrm>
                <a:off x="1981080" y="2362320"/>
                <a:ext cx="57229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1752480" y="5029200"/>
                <a:ext cx="5969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. Найти общее решение, описывающее линейные колебания с двумя степенями свободы (потенциальная энергия системы обладает минимумом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2. В неподвижной точке закреплена нерастяжимая нить длины </a:t>
            </a:r>
            <a:r>
              <a:rPr b="0" lang="en-GB" sz="3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, к которой подвешен шарик массы </a:t>
            </a:r>
            <a:r>
              <a:rPr b="0" lang="en-GB" sz="3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. К этому шарику на такой же нити подвешен второй шарик массы </a:t>
            </a:r>
            <a:r>
              <a:rPr b="0" lang="en-GB" sz="3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. Найти собственные частоты этой системы и общее решение для её линейных плоских колебаний в однородном поле тягот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сунок к задаче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724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ункция Лагранжа системы со многими степенями свободы имеет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я движения системы со многими степенями своб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"/>
              <p:cNvSpPr txBox="1"/>
              <p:nvPr/>
            </p:nvSpPr>
            <p:spPr>
              <a:xfrm>
                <a:off x="2286000" y="2362320"/>
                <a:ext cx="47941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3"/>
              <p:cNvSpPr txBox="1"/>
              <p:nvPr/>
            </p:nvSpPr>
            <p:spPr>
              <a:xfrm>
                <a:off x="2743200" y="4952880"/>
                <a:ext cx="3562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ение уравнения движения системы со многими степенями своб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введено обозна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"/>
              <p:cNvSpPr txBox="1"/>
              <p:nvPr/>
            </p:nvSpPr>
            <p:spPr>
              <a:xfrm>
                <a:off x="2971800" y="2514600"/>
                <a:ext cx="3200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α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α</m:t>
                            </m:r>
                          </m:sub>
                        </m:s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2743200" y="4876920"/>
                <a:ext cx="3224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ункция Лагранжа системы со многими степенями свободы в нормальных координа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Характеристическое у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"/>
              <p:cNvSpPr txBox="1"/>
              <p:nvPr/>
            </p:nvSpPr>
            <p:spPr>
              <a:xfrm>
                <a:off x="2971800" y="2362320"/>
                <a:ext cx="3048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α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"/>
              <p:cNvSpPr txBox="1"/>
              <p:nvPr/>
            </p:nvSpPr>
            <p:spPr>
              <a:xfrm>
                <a:off x="2895480" y="4419720"/>
                <a:ext cx="3292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тухающие колебания – это малые колебания, происходящие под действием силы т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иссипация – это потеря энергия на трение (переход энергии движущегося тела в тепл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е движения затухающих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эффициент затух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ение уравнения движения затухающих колебаний пр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"/>
              <p:cNvSpPr txBox="1"/>
              <p:nvPr/>
            </p:nvSpPr>
            <p:spPr>
              <a:xfrm>
                <a:off x="2819520" y="1600200"/>
                <a:ext cx="3047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λ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3"/>
              <p:cNvSpPr txBox="1"/>
              <p:nvPr/>
            </p:nvSpPr>
            <p:spPr>
              <a:xfrm>
                <a:off x="1523880" y="2438280"/>
                <a:ext cx="766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3276720" y="3581280"/>
                <a:ext cx="745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2362320" y="5029200"/>
                <a:ext cx="4444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8377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ение уравнения движения затухающих колебаний пр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астота затухающих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"/>
              <p:cNvSpPr txBox="1"/>
              <p:nvPr/>
            </p:nvSpPr>
            <p:spPr>
              <a:xfrm>
                <a:off x="3276720" y="1371600"/>
                <a:ext cx="89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3124080" y="2209680"/>
                <a:ext cx="3365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3200400" y="4572000"/>
                <a:ext cx="2941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быль энергии при затухающих колеба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иссипативная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фун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"/>
              <p:cNvSpPr txBox="1"/>
              <p:nvPr/>
            </p:nvSpPr>
            <p:spPr>
              <a:xfrm>
                <a:off x="3200400" y="1981080"/>
                <a:ext cx="2540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3048120" y="4267080"/>
                <a:ext cx="26668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ражение сил трения через диссипативную функ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быль энергии через диссипативную функ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"/>
              <p:cNvSpPr txBox="1"/>
              <p:nvPr/>
            </p:nvSpPr>
            <p:spPr>
              <a:xfrm>
                <a:off x="3581280" y="205740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т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352680" y="4191120"/>
                <a:ext cx="2090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19:54:00Z</dcterms:modified>
  <cp:revision>5</cp:revision>
  <dc:subject/>
  <dc:title>Слайд 1</dc:title>
</cp:coreProperties>
</file>