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9B5-D476-43EE-9297-808CF99B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806-5930-4A3C-B7B2-9AD7675C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462-1549-478E-A5DC-CFB1BEDD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BF6-B47E-4E57-B480-2063916A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CCF-C754-4F7B-8CE4-041654AF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A8C-5850-4C70-A8AA-5B2A498E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D0F-969C-427C-BF20-B188B598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338-9554-40CA-B0D5-150BC369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616-B1EE-4FDC-A9D3-B4630B3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F77-9635-4C2E-BAC8-A79EA46A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129-1C21-4402-B067-E2F5EFB4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60B-C40F-49C5-AB1E-9E13DC1D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06FE-8C40-4A53-B24B-33B11B164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8" descr=""/>
          <p:cNvPicPr/>
          <p:nvPr/>
        </p:nvPicPr>
        <p:blipFill>
          <a:blip r:embed="rId1"/>
          <a:stretch/>
        </p:blipFill>
        <p:spPr>
          <a:xfrm>
            <a:off x="853920" y="639720"/>
            <a:ext cx="748512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лее модуль вектора скорости и  по форму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07144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результате име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2500200" y="2286000"/>
            <a:ext cx="3962520" cy="1200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490840" y="4900680"/>
            <a:ext cx="44384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ходим величин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алее подставляем её в формулу для вектора ускорения и находим частные производные по времени и соответствующим скоростям и ускорени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429240" y="357120"/>
            <a:ext cx="1285920" cy="1133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2"/>
          <a:stretch/>
        </p:blipFill>
        <p:spPr>
          <a:xfrm>
            <a:off x="2143080" y="1928880"/>
            <a:ext cx="4562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результате этих вычислений будем иметь для проекций вектора ускор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2857680" y="2428920"/>
            <a:ext cx="3662280" cy="857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2786040" y="3643200"/>
            <a:ext cx="3619440" cy="7858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4071960" y="4857840"/>
            <a:ext cx="1473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ставляя найденные проекции в формулу для модуля вектора ускорения наход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этом выражении также можно раскрыть сумму квадратов и привести подобные слагаем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4928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81000" y="3000240"/>
            <a:ext cx="884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для самостоятельного рассмот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модули проекции векторов скорости и ускорения для следующих криволинейных координ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ерические коорди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лярные коорди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липтические коорди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ёхмерные параболические коорди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ля вектора скорости найти также моду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ция скорости точки в криволинейных координатах определятся выраж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4928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1"/>
          <a:stretch/>
        </p:blipFill>
        <p:spPr>
          <a:xfrm>
            <a:off x="1643040" y="3000240"/>
            <a:ext cx="578664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ктор и модуль вектора скорости определяется соотношени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ектор скор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одуль вектора скор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362400" y="2786040"/>
            <a:ext cx="2066760" cy="1295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938320" y="4714920"/>
            <a:ext cx="2705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корение точки в криволинейных координатах определятся выраж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002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561960" y="3000240"/>
            <a:ext cx="75103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корение точки (проекция) в криволинейных координатах можно также определить в ви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4071960"/>
            <a:ext cx="82296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928880" y="2428920"/>
            <a:ext cx="5224320" cy="1500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1428840" y="4438800"/>
            <a:ext cx="12859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дуль вектора уско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д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екции уско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071880" y="2214720"/>
            <a:ext cx="2771640" cy="1704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481040" y="4529160"/>
            <a:ext cx="590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00040" y="200016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йдём скорость и ускорение точки в цилиндрических координат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случае цилиндрических координ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 коэффициенты Лямэ имеют ви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1857240" y="1571760"/>
            <a:ext cx="5121360" cy="714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857240" y="4000680"/>
            <a:ext cx="53992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ставляя коэффициенты Лямэ в формулы для проекций скорости, име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500280" y="2224080"/>
            <a:ext cx="1928880" cy="895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3500280" y="3395520"/>
            <a:ext cx="2270160" cy="890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714840" y="4714920"/>
            <a:ext cx="18097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3:35:00Z</dcterms:created>
  <dc:creator>Михаил</dc:creator>
  <dc:description/>
  <dc:language>en-US</dc:language>
  <cp:lastModifiedBy>Михаил</cp:lastModifiedBy>
  <dcterms:modified xsi:type="dcterms:W3CDTF">2010-10-17T19:42:37Z</dcterms:modified>
  <cp:revision>36</cp:revision>
  <dc:subject/>
  <dc:title>Слайд 1</dc:title>
</cp:coreProperties>
</file>