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73E8-4482-4AE7-838E-1B27C214B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4047-418F-4BA7-AB58-C35D1166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CE22-8A5E-4562-AAE2-A17EB20EE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CFF8-0EF9-4010-BCD4-364DE2BDE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BCB6-C12D-45A4-9CDE-58D5F469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FE7F-9BEA-4403-9F48-B3516F06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2A7B-F8A6-4AB5-A479-2E243439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3BAE-4BBD-447C-A61F-A1F67993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5EE1-0CC2-4060-B389-00F15FBD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68D3-A97B-4339-880A-406F4340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8305-A092-4DC8-B651-847064AC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2F78-8FC3-4E61-B69D-044D9A29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A34C-533E-4036-B6F7-25A47E50F5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5" descr=""/>
          <p:cNvPicPr/>
          <p:nvPr/>
        </p:nvPicPr>
        <p:blipFill>
          <a:blip r:embed="rId1"/>
          <a:stretch/>
        </p:blipFill>
        <p:spPr>
          <a:xfrm>
            <a:off x="804960" y="1719360"/>
            <a:ext cx="772956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ходим производные для координаты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643040" y="2214720"/>
            <a:ext cx="628164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ходим производные для координаты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6072120" y="857160"/>
            <a:ext cx="285840" cy="54936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2"/>
          <a:stretch/>
        </p:blipFill>
        <p:spPr>
          <a:xfrm>
            <a:off x="1000080" y="2214720"/>
            <a:ext cx="707076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ля полярных координат коэффициенты Лямэ примут ви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4304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Третье слагаемо в формуле равно нулю, так как в полярных координатах используется только две перемен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1" descr=""/>
          <p:cNvPicPr/>
          <p:nvPr/>
        </p:nvPicPr>
        <p:blipFill>
          <a:blip r:embed="rId1"/>
          <a:stretch/>
        </p:blipFill>
        <p:spPr>
          <a:xfrm>
            <a:off x="2428920" y="2000160"/>
            <a:ext cx="3500280" cy="12146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2357280" y="3714840"/>
            <a:ext cx="37609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дставляем найденные частные производные в полученные выражения и имее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2357280" y="2714760"/>
            <a:ext cx="3929400" cy="873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2214720" y="4000680"/>
            <a:ext cx="4491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ыполняя простейшие тригонометрические преобразования, получи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214272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Monotype Corsiva"/>
              </a:rPr>
              <a:t>Для полярного радиуса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Monotype Corsiva"/>
              </a:rPr>
              <a:t>Для полярного угла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Monotype Corsiva"/>
              </a:rPr>
              <a:t>Это и есть искомые коэффициенты Лямэ для полярных координат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1" descr=""/>
          <p:cNvPicPr/>
          <p:nvPr/>
        </p:nvPicPr>
        <p:blipFill>
          <a:blip r:embed="rId1"/>
          <a:stretch/>
        </p:blipFill>
        <p:spPr>
          <a:xfrm>
            <a:off x="3286080" y="2873520"/>
            <a:ext cx="1857600" cy="8413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2"/>
          <a:stretch/>
        </p:blipFill>
        <p:spPr>
          <a:xfrm>
            <a:off x="3286080" y="4429080"/>
            <a:ext cx="17859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ходим дифференциал длины дуг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 случае полярных координат формула принимает ви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дставляя найденные коэффициенты Лямэ, получа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1" descr=""/>
          <p:cNvPicPr/>
          <p:nvPr/>
        </p:nvPicPr>
        <p:blipFill>
          <a:blip r:embed="rId1"/>
          <a:stretch/>
        </p:blipFill>
        <p:spPr>
          <a:xfrm>
            <a:off x="1785960" y="2857680"/>
            <a:ext cx="4929120" cy="7855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1785960" y="5143680"/>
            <a:ext cx="532116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дание для самостоятельной рабо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айти коэффициенты Лямэ для следующих видов криволинейных координ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ферическ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Эллиптическ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Биполяр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Двумерные параболическ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Цилиндрическ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айти также коэффициенты Лямэ для декартовых координ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дание для самостоятельной рабо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айти дифференциал длины дуги для следующих видов криволинейных координ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ферическ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Эллиптическ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Биполяр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Двумерные параболическ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Цилиндрическ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айти также дифференциал длины дуги для декартовых координ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Коэффициенты Лямэ – это величины, определяющиеся выражения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Monotype Corsiv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еобходимы для перехода от одних криволинейных координат к други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есть функции криволинейных координа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1500120" y="1857240"/>
            <a:ext cx="6315120" cy="15717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857160" y="4714920"/>
            <a:ext cx="1362240" cy="4474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3"/>
          <a:stretch/>
        </p:blipFill>
        <p:spPr>
          <a:xfrm>
            <a:off x="3143160" y="5286240"/>
            <a:ext cx="2114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ифференциал длины дуги в криволинейных координат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Криволинейные координа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оответствующие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коэффициенты Лям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1214280" y="2428920"/>
            <a:ext cx="7064640" cy="7142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696960" y="8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928800" y="3929040"/>
            <a:ext cx="1928880" cy="7192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3"/>
          <a:stretch/>
        </p:blipFill>
        <p:spPr>
          <a:xfrm>
            <a:off x="928800" y="4857840"/>
            <a:ext cx="21589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новные типов криволинейных координа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357280" y="2143080"/>
            <a:ext cx="632952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олярн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Сферическ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Цилиндрическ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вязь основных криволинейных координат с декартовы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олярные координа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Цилиндрические координа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ферические координа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2500200" y="2357280"/>
            <a:ext cx="3800520" cy="476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2143080" y="3666960"/>
            <a:ext cx="4753080" cy="4762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3"/>
          <a:stretch/>
        </p:blipFill>
        <p:spPr>
          <a:xfrm>
            <a:off x="1847880" y="4967280"/>
            <a:ext cx="6153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ополнительные виды криволинейных координа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Эллиптическ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Двумерные параболическ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Цилиндрические параболическ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Биполярны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2000160" y="2357280"/>
            <a:ext cx="5597640" cy="500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2500200" y="3500280"/>
            <a:ext cx="3227400" cy="642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3"/>
          <a:stretch/>
        </p:blipFill>
        <p:spPr>
          <a:xfrm>
            <a:off x="2322360" y="5800680"/>
            <a:ext cx="4035600" cy="700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" descr=""/>
          <p:cNvPicPr/>
          <p:nvPr/>
        </p:nvPicPr>
        <p:blipFill>
          <a:blip r:embed="rId4"/>
          <a:stretch/>
        </p:blipFill>
        <p:spPr>
          <a:xfrm>
            <a:off x="1785960" y="4714920"/>
            <a:ext cx="5273640" cy="7142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67788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677880" y="127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69696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69696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5713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Рассмотрим пример нахождения коэффициентов Лямэ и дифференциала длины дуги для полярных координат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ля полярных координат име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риволинейные координаты  в данном случа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этому необходимо найти коэффициент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962320" cy="10191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1857240" y="3286080"/>
            <a:ext cx="5808960" cy="10000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3"/>
          <a:stretch/>
        </p:blipFill>
        <p:spPr>
          <a:xfrm>
            <a:off x="3711600" y="5072040"/>
            <a:ext cx="217440" cy="571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9" descr=""/>
          <p:cNvPicPr/>
          <p:nvPr/>
        </p:nvPicPr>
        <p:blipFill>
          <a:blip r:embed="rId4"/>
          <a:stretch/>
        </p:blipFill>
        <p:spPr>
          <a:xfrm>
            <a:off x="4786200" y="5095800"/>
            <a:ext cx="247680" cy="4762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11" descr=""/>
          <p:cNvPicPr/>
          <p:nvPr/>
        </p:nvPicPr>
        <p:blipFill>
          <a:blip r:embed="rId5"/>
          <a:stretch/>
        </p:blipFill>
        <p:spPr>
          <a:xfrm>
            <a:off x="7429680" y="5643720"/>
            <a:ext cx="1571400" cy="70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ля этого необходимо найти частные производн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нашем случа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3214800" y="1928880"/>
            <a:ext cx="771480" cy="12189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5072040" y="1928880"/>
            <a:ext cx="781200" cy="12189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3"/>
          <a:stretch/>
        </p:blipFill>
        <p:spPr>
          <a:xfrm>
            <a:off x="2928960" y="3857760"/>
            <a:ext cx="3247920" cy="12189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3000240" y="5286240"/>
            <a:ext cx="32576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12:17:37Z</dcterms:created>
  <dc:creator>Михаил</dc:creator>
  <dc:description/>
  <dc:language>en-US</dc:language>
  <cp:lastModifiedBy>Михаил</cp:lastModifiedBy>
  <dcterms:modified xsi:type="dcterms:W3CDTF">2010-10-17T19:42:23Z</dcterms:modified>
  <cp:revision>8</cp:revision>
  <dc:subject/>
  <dc:title>Слайд 1</dc:title>
</cp:coreProperties>
</file>