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02A-0976-496F-B4C6-85E3DD5E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99F-B65B-45C2-A933-14F8AC2B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3AD-AF08-429E-9329-C395D2CA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2DB-5982-4744-AF03-DB634173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10C-ED8D-4DA0-A6BD-8151B4A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2F1-1C7D-42A1-8BC3-A2A44557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8A5-E740-4160-A6D5-C0240CB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08C-7A20-4C91-8572-600B5E9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CF5-276E-4294-85E4-94F3935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200-5953-473E-BE86-D6CF8AB5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9A8-61E3-4DA4-BC73-F541C92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383-F6D4-480C-B34F-1B095DD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D56C-913E-4D0D-B8F9-9E9F19CFD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993600"/>
            <a:ext cx="55227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.о., если заданы массы точек, силы, действующие на точки системы, и начальные условия, то поведение системы определяется однозначно. В этом проявляется причинная обусловленность механического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85920" y="1142640"/>
            <a:ext cx="657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оотношения, связывающие ускорения с координатами и скоростями, называются уравнениями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85520" y="8568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вижение механической системы N материальных точек подчинено уравнениям , выражающим второй закон Ньютона, который называют также основным уравнением динамики или уравнениями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419640" y="4357800"/>
            <a:ext cx="31525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известны массы всех точек и их положения в любой момент времени, то, используя эти уравнения, можно определить силы как функции времени. Однако несравненно более трудной задачей является отыскание радиус-векторов точек как функций времени, если заданы силы как функции положений точек, их скоростей и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56800" y="571320"/>
            <a:ext cx="75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математическом отношении эта задача является задачей о нахождении общего решения системы 3N дифференциальных обыкновенных уравнений 2-го порядка. Это решение будет зависеть от 6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произвольных постоянных и может быть записано в вид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352600" y="5000760"/>
            <a:ext cx="4505400" cy="618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6844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520" y="214200"/>
            <a:ext cx="8001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стоянные интегрирования связаны с начальными условиями. Пусть известно общее решение и заданы начальные положения и скорости точек системы, т.е. заданы ,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98989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ифференцируя общее решение по времени, получим скорости точек как функции времени и 6N произвольных постоя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1811160" cy="51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000760" y="2495520"/>
            <a:ext cx="1638000" cy="50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2946240" y="4786200"/>
            <a:ext cx="39830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9680" y="99972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лагая в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стемах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удем име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1…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928800" y="1522440"/>
            <a:ext cx="1214280" cy="64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2732040" y="1000080"/>
            <a:ext cx="3983040" cy="6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1071720" y="2633760"/>
            <a:ext cx="6858000" cy="86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1143000" y="4071960"/>
            <a:ext cx="6613560" cy="92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3964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3964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57200" y="999720"/>
            <a:ext cx="65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опуская, что эта разрешима относительно постоянных интегрирования, найдё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85840" y="3286080"/>
            <a:ext cx="8717040" cy="785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429000" y="4929120"/>
            <a:ext cx="2374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ставляя это в общее решение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получим общее решение движения механической системы в вид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435780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63520" y="3681360"/>
            <a:ext cx="86662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29:31Z</dcterms:created>
  <dc:creator>Михаил</dc:creator>
  <dc:description/>
  <dc:language>en-US</dc:language>
  <cp:lastModifiedBy>Михаил</cp:lastModifiedBy>
  <dcterms:modified xsi:type="dcterms:W3CDTF">2010-10-17T19:43:27Z</dcterms:modified>
  <cp:revision>4</cp:revision>
  <dc:subject/>
  <dc:title>Слайд 1</dc:title>
</cp:coreProperties>
</file>