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3F4-D4EC-4199-B7BB-273455D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416-0277-4E9B-B6E3-31E2B496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750-8251-4656-8041-80CC12C7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88B-169A-4197-9B93-DA197C73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EA9-D6D3-4630-BAD7-F93414B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F48-C034-49B1-8CBF-3C0A9DC4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9E5-1804-4C43-9715-BBD6C94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E3E-66D7-4731-857D-BD10F988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FEC-6EC5-40F7-A532-9BE12B3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52D-6ACE-42D1-8171-59590D3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B17-91F1-4F62-87D5-ECC12CA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6C6-BF3F-4F05-BE87-9129A2D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6F9-6A65-4E1A-AE94-3E90E392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365120" y="19080"/>
            <a:ext cx="6315120" cy="2668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920880" y="3365640"/>
            <a:ext cx="77421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822320"/>
            <a:ext cx="82425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алые колебания – это колебания, которые система совершает около положения устойчивого равнове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иболее простой является система, которая имеет одну степень своб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дномерный осциллятор – это система, совершающая одномерные малые колеб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вободные колебаний – это малые колебания, которые происходят в отсутствие сил т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тота малых колебаний всецело определяется свойствами механической системы как таковой и не зависит от нача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аза колебаний – это аргумент синуса или косинуса; показывает какая часть колебания совершилась к данному моменту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мплитуда – это коэффициент при периодическом множителе в решении урав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чальное значение фазы зависит от выбора начала отсчёта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малые колебания,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ифференциальное уравнение движения одномерного осциллятора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2862360" y="2819520"/>
                <a:ext cx="2624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3124080" y="5257800"/>
                <a:ext cx="2903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шение дифференциального уравнения малых свободных колебаний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астота колебаний определяется выражени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2666880" y="3048120"/>
                <a:ext cx="3413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581280" y="4917960"/>
                <a:ext cx="16002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Энергия системы, совершающей малые колебания, ра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2209680" y="3581280"/>
                <a:ext cx="5273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йти частоту колебаний точки массы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движущейся по абсолютно гладкой горизонтальной прямой и прикреплённой к пружине, другой конец которой закреплён на расстоянии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от прямой. Жёсткость пружины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 k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длина в ненапряжённом состоянии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l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берем в качестве обобщённой координаты угол между вертикалью и пружиной. Смещение точки будет ра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3" descr=""/>
          <p:cNvPicPr/>
          <p:nvPr/>
        </p:nvPicPr>
        <p:blipFill>
          <a:blip r:embed="rId1"/>
          <a:stretch/>
        </p:blipFill>
        <p:spPr>
          <a:xfrm>
            <a:off x="3041640" y="4005360"/>
            <a:ext cx="33656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2:44Z</dcterms:modified>
  <cp:revision>6</cp:revision>
  <dc:subject/>
  <dc:title>Слайд 1</dc:title>
</cp:coreProperties>
</file>