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E75-807F-45FC-9C29-23BD8EE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9DA-7473-4637-8368-339DCF5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768-1269-40BC-BFBE-A78FE1CB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6FA-FA10-4327-BB08-CDE6A438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45D-D082-471F-9519-4965AB9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3B1-ACB2-4548-BB55-B469951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324-018D-4A72-B769-DD105AA0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E30-CA43-4D0E-A6E2-53147B3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0F2-B5F6-4998-B101-6EFB711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BFC-18D2-4E61-B18C-4B9CECF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8E1-363B-423E-8880-5377838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03F-9FB2-41C6-9963-7ED2C574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78AC-A26C-4842-8E7E-827C3662C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13" descr=""/>
          <p:cNvPicPr/>
          <p:nvPr/>
        </p:nvPicPr>
        <p:blipFill>
          <a:blip r:embed="rId1"/>
          <a:stretch/>
        </p:blipFill>
        <p:spPr>
          <a:xfrm>
            <a:off x="493560" y="1322280"/>
            <a:ext cx="79916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357720" y="1599840"/>
            <a:ext cx="5643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3. Точка движется по окружности радиус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 постоянной секториальной скоростью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носительно точк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’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, лежащей в плоскости окружности. Найти величину скорости точки как функцию расстояния от точк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’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до движущейся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5857920" y="2595600"/>
            <a:ext cx="447480" cy="6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3117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– это соотношения, связывающие координаты, скорости и ускорения движущейся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ование уравнений движения – это нахождения координат материальной точки как функций её скоростей и уско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чальные условия – заданные в некоторый момент времени значения координат и скоростей точки для нахождения постоянных интегр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ускорением, параллельным ос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Найти ускорение как функцию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если  заданы начальны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5667480" y="1976400"/>
            <a:ext cx="2333520" cy="809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1819440" cy="447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429000" y="5072040"/>
            <a:ext cx="2000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пользуемся параметрическим уравнением эллип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дём вторые производные от этих со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500280" y="2571840"/>
            <a:ext cx="231156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22431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ходим первые производные п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лее , учитывая, ускорение параллельно ос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проекция на 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равна нулю, находим вторую производную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компоненты, используя формулу для производной произ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122480" y="4572000"/>
            <a:ext cx="702144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784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чальные условия для х-компоненты скор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ставляем это значение в первую производн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ражаем отсюда знач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383076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357720" y="2822400"/>
            <a:ext cx="235728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2573280" y="3286080"/>
            <a:ext cx="4213440" cy="785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857920" y="4086360"/>
            <a:ext cx="357120" cy="699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5"/>
          <a:stretch/>
        </p:blipFill>
        <p:spPr>
          <a:xfrm>
            <a:off x="3500280" y="5000760"/>
            <a:ext cx="2071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йденное знач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ходим вторую производную 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358120" y="571680"/>
            <a:ext cx="357120" cy="69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7500960" y="1571760"/>
            <a:ext cx="357120" cy="699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214280" y="3214800"/>
            <a:ext cx="7021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йденные значения дл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дставляем эти значение в найденную вторую производную у-компон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 итоге, выполнив необходимые преобразования, получ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5857920" y="714240"/>
            <a:ext cx="428760" cy="83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143000" y="3000240"/>
            <a:ext cx="70214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572000" y="714240"/>
            <a:ext cx="428760" cy="839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1785960" y="5000760"/>
            <a:ext cx="5505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 с полуосям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 постоянной по величине скоростью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Определить ускорение и скорость точки как функции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, что угловая скорость радиус-вектора, проведённого из центра эллипса к точке постоянна. Определить скорость точки, если в начальный момент врем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428400" cy="6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952880" y="3857760"/>
            <a:ext cx="2333880" cy="80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571680" y="6072120"/>
            <a:ext cx="1428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7:40:33Z</dcterms:created>
  <dc:creator>Михаил</dc:creator>
  <dc:description/>
  <dc:language>en-US</dc:language>
  <cp:lastModifiedBy>Михаил</cp:lastModifiedBy>
  <dcterms:modified xsi:type="dcterms:W3CDTF">2010-10-17T19:42:54Z</dcterms:modified>
  <cp:revision>11</cp:revision>
  <dc:subject/>
  <dc:title>Слайд 1</dc:title>
</cp:coreProperties>
</file>