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B0EA-4DAB-4089-9E77-9A3343CA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232-A389-4595-B948-79DD52C3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207-CA25-46B9-84BE-1B6CAC5A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09A2-8A53-4A10-B0D8-8A3F12D0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286A-3E37-40BF-B780-1C1A6D28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786D-8B58-4F58-BCCD-F7177E2F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5A3D-3C74-4BAF-96AD-D24360C7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A80E-700D-447F-A5BB-C5C5E903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D26-4509-4285-9E79-2EA52E02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7DB2-5658-43C6-A448-FC60E87F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1DD-E1D9-4A36-918F-DB98763B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09A1-0DA8-43AE-B77D-EA33EEAE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E0F0-DEF1-41E3-A4F5-9AA7695F4C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1"/>
          <a:stretch/>
        </p:blipFill>
        <p:spPr>
          <a:xfrm>
            <a:off x="811080" y="506520"/>
            <a:ext cx="76010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ри батареи с эдс 12 В, 5 В и 10 В и одинаковыми внутренними сопротивлениями, равными 1 Ом, соединены между собой одноимёнными полюсами. Определить силы токов, идущих через каждую батаре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ампочка и реостат, соединённые последовательно, присоединены к источнику тока. Напряжение на зажимах лампочки равно 40 В, сопротивление реостата равно 10 Ом. Внешняя цепь потребляет мощность 120 Вт. Найти силу тока в цеп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1428480"/>
            <a:ext cx="8258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лектрический ток – это упорядоченное движение заряженных части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металлах такими частицами являются электроны, в жидкостях – положительные и отрицательные ионы, в газах – электроны и ионы (как положительные, так и отрицательны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стоянный ток – это ток, одинаковый во всех поперечных сечениях провод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ременный ток – это ток, изменяющийся со времен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ила тока -  это отношение заряда, прошедшего через поперечного сечение проводника, ко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лотность тока – это отношение силы тока к площади поперечного сечения провод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опротивление – это величина, характеризующая свойство материала препятствовать течению через него электрического т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оводимость – это величина, обратная электрическому сопротивл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дельное сопротивление – это сопротивление проводника единичной длины и единичной площади поперечного се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ощность – это отношение затраченной работы ко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ила т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лотность т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опротивление однородного провод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висимость удельного сопротивление от температ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928800" cy="906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3786120" y="2714760"/>
            <a:ext cx="1071720" cy="1147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7143840" y="3786120"/>
            <a:ext cx="1325520" cy="10000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3214800" y="5715000"/>
            <a:ext cx="28350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абота т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ощность т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следовательное соединение провод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араллельное соединение провод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3500280" y="1857240"/>
            <a:ext cx="1357560" cy="5302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3571920" y="3071880"/>
            <a:ext cx="1139760" cy="5000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3429000" y="4214880"/>
            <a:ext cx="1395360" cy="714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3357720" y="5329080"/>
            <a:ext cx="17859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законы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в интегральной форме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кон Ома для участка цеп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кон Ома для полной цеп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кон Джоуля-Лен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6072120" y="207180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5786280" y="3357720"/>
            <a:ext cx="1535400" cy="928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0" descr=""/>
          <p:cNvPicPr/>
          <p:nvPr/>
        </p:nvPicPr>
        <p:blipFill>
          <a:blip r:embed="rId3"/>
          <a:stretch/>
        </p:blipFill>
        <p:spPr>
          <a:xfrm>
            <a:off x="3214800" y="5214960"/>
            <a:ext cx="14605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вила Кирхгоф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рвое правил: Алгебраическая сумма токов, сходящихся в узле равна нул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торое правило: В замкнутом контуре алгебраическая сумма напряжений на всех участках контура равна алгебраической сумме электродвижущих си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3571920" y="3000240"/>
            <a:ext cx="1258920" cy="7146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3429000" y="5572080"/>
            <a:ext cx="17701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ила тока в проводнике равномерно нарастает оделить заряд 0 до 3 А в течение времени 10 с. Определить заряд, прошедший в проводн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нутреннее сопротивление батареи аккумуляторов равна 3 Ом. Сколько процентов от точного значения ЭДС составляет погрешность, если, измеряя разность потенциалов на зажимах батареи вольтметром с сопротивлением 200 Ом, принять её равной эд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4:12:39Z</dcterms:created>
  <dc:creator>Михаил</dc:creator>
  <dc:description/>
  <dc:language>en-US</dc:language>
  <cp:lastModifiedBy>Михаил</cp:lastModifiedBy>
  <dcterms:modified xsi:type="dcterms:W3CDTF">2010-10-17T19:48:40Z</dcterms:modified>
  <cp:revision>15</cp:revision>
  <dc:subject/>
  <dc:title>Слайд 1</dc:title>
</cp:coreProperties>
</file>