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FD6-FCB4-4F21-96A7-34C84780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8A5-D56C-4B2D-A136-70E3090F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CD8-DABB-4EDE-87BF-35FE400F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738-6433-45D8-B355-5583F101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C47-D662-481B-A575-9BD8FC6F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D7A-4B25-4F5C-9F2B-70DAC92B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B43-1019-4196-A184-3A45CD51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65C-7505-409E-96EC-0839D7A4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FFC-A1A0-4250-ADF8-4F702042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763-943C-4EFA-AFEB-34398E20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A17-807D-46BB-8352-DDD7BB9A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EB9-5C89-485A-96DE-74BE8F4E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1115-05B9-4C9A-9978-CC260FB16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622440" y="1731960"/>
            <a:ext cx="81309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Главные оси инерции – это оси, относительно которых центробежные моменты инерции равны нул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вободные оси инерции – это оси, относительно которых вращение наиболее устойчив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мент импульса точки – это величина, равная векторному произведению радиус-вектора, проведённого в точку приложения импульса на импуль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мент импульса системы – это физическая, равная сумме моментов импульсов точек, составляющих эту систе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дуль вектора скорости при координатном способе задания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дуль полного уск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"/>
              <p:cNvSpPr txBox="1"/>
              <p:nvPr/>
            </p:nvSpPr>
            <p:spPr>
              <a:xfrm>
                <a:off x="1981080" y="2819520"/>
                <a:ext cx="5383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z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3352680" y="4876920"/>
                <a:ext cx="217008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закон Ньют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закон Ньют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независимости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"/>
              <p:cNvSpPr txBox="1"/>
              <p:nvPr/>
            </p:nvSpPr>
            <p:spPr>
              <a:xfrm>
                <a:off x="3200400" y="2133720"/>
                <a:ext cx="15238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3276720" y="4114800"/>
                <a:ext cx="1298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2438280" y="5486400"/>
                <a:ext cx="3251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0" y="0"/>
                <a:ext cx="1219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тическая эне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ая энергия в поле тяж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"/>
              <p:cNvSpPr txBox="1"/>
              <p:nvPr/>
            </p:nvSpPr>
            <p:spPr>
              <a:xfrm>
                <a:off x="3733920" y="2286000"/>
                <a:ext cx="1463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3505320" y="4495680"/>
                <a:ext cx="1770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об изменении кинетической энер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оле силы тяж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3429000" y="236232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3200400" y="4114800"/>
                <a:ext cx="2470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971800" y="5791320"/>
                <a:ext cx="283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вращательного движения твёрдого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о движении центра м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мент си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"/>
              <p:cNvSpPr txBox="1"/>
              <p:nvPr/>
            </p:nvSpPr>
            <p:spPr>
              <a:xfrm>
                <a:off x="3733920" y="3886200"/>
                <a:ext cx="1066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3581280" y="2590920"/>
                <a:ext cx="17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ε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3581280" y="5410080"/>
                <a:ext cx="1405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мент инерции 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орема Штейнера-Гюйг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мент импульса вращающегося твёрд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"/>
              <p:cNvSpPr txBox="1"/>
              <p:nvPr/>
            </p:nvSpPr>
            <p:spPr>
              <a:xfrm>
                <a:off x="3200400" y="49528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r>
                      <m:t xml:space="preserve">I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895480" y="3352680"/>
                <a:ext cx="234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3276720" y="2209680"/>
                <a:ext cx="16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еханическое движение – это перемещение одних тел по отношению к другим в пространстве с течением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Классическая механика изучает движение макротел, которые находятся в условиях Земли и двигаются со скоростями далёкими от скорости св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стема отсчёта – это тело отсчёта, жёстко связанная с ним система координат и оговоренный способ измерения времени (час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инематика – это раздел механики, который изучает движение тел без учёта причин его вызывающ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териальная точка – это тело, размерами которого, по сравнению с пройденным расстоянием, можно пренеб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бсолютно твёрдое тело – это тело, расстояние между точками которого остаётся неизменным в течение всего времени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йденный путь – это расстояние, которое проходит тело по траект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емещение – это вектор, проведённый из начальной точки в конечн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аектория – это линия, которую описывает тело в результате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корость – это физическая величина, характеризующая быстроту движения, равная первой производной от радиус-вектора по време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скорение – это физическая величина, характеризующая быстроту изменения скорости, равна первой производной от скорости п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4267080" y="3200400"/>
                <a:ext cx="1067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4343400" y="5638680"/>
                <a:ext cx="1066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Тангенциальное ускорение – это составляющая ускорения, характеризующая изменение скорости по величине, равная первой производной от скорости по времени и направлена по касательной к траектор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Нормальное ускорение – это составляющая ускорение, характеризующая изменение скорости по направлению, равная отношению квадрата скорости к радиусу и направлена по радиусу к центру окруж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Прямолинейное движение – это движение, траекторией которого является прямая ли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Криволинейное движение –  это движение, траекторией которого является кривая ли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Динамика – это раздел механики, изучающий движение тел с учётом причин, вызывающих это движ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сновная задача динамики: По известной массе и силе найти уравнение движ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братная задача динамики: По известному уравнению движения и массе найти сил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ла – это физическая величина, характеризующая взаимодействие тел, в результате которого тела получают ускорение и деформирую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Импульс точки – это физическая величина, равная произведению её массы на скоро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Импульс силы – это физическая величина, равна произведению силы на время, в течение которого действует си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Работа – это физическая величина, определяемая скалярным произведением силы на перемещение, которое совершает тело под действием этой сил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щность – это физическая величина, характеризующая быстроту выполнения рабо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Энергия – это физическая величина, которая является мерой любых видов движ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мент инерции точки – это физическая величина, характеризующая инертные свойства, равная произведению массы точки на квадрат расстояния от оси вращ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мент инерции твёрдого тела – это физическая величина, равная сумме произведений масс точек на квадраты расстояний от оси вращ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мент силы – это величина, равная произведению силы на радиус-вектор, проведённый в точку приложения сил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19:54:44Z</dcterms:modified>
  <cp:revision>4</cp:revision>
  <dc:subject/>
  <dc:title>Слайд 1</dc:title>
</cp:coreProperties>
</file>