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F22B-77BD-4312-BE7F-D26A930E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B4E0-3079-44C4-807E-3AE2441C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823C-FE43-4B98-99C1-CF84A0A8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AD60-A2AF-4E14-9E73-0D40BECD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F5E7-341E-439E-BFFE-DE9DF67A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2AA7-2BBA-46F4-95F1-D2CB9BCE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AD3F-C3FA-4B6A-9BF4-3A446E89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735E-E14A-4E5A-8183-33CB02F5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E19C-24A3-4AAA-B2D2-F875FCDD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6564-8574-43B2-AD15-C1BB641B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31B4-3A15-413B-983C-47CD0DEE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6C71-8C0C-42E0-8EE9-E091539D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789D-BB3F-4688-B633-2E86054E6D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579600" y="1414440"/>
            <a:ext cx="828972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форму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равнение гармонических колеб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Циклическая част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ериод колеба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тематического маят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ериод колеба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ужинного маят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2857680" y="2000160"/>
            <a:ext cx="3095280" cy="6192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2786040" y="3214800"/>
            <a:ext cx="2781360" cy="4474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3"/>
          <a:stretch/>
        </p:blipFill>
        <p:spPr>
          <a:xfrm>
            <a:off x="6357960" y="3571920"/>
            <a:ext cx="1476360" cy="12286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6357960" y="5500800"/>
            <a:ext cx="155268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000080"/>
            <a:ext cx="8686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Monotype Corsiva"/>
              </a:rPr>
              <a:t>Волна – это процесс распространения механических колебаний в упругой среде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Monotype Corsiva"/>
              </a:rPr>
              <a:t>Длина волны – это расстояние, на которое распространится волна за время, равное периоду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Monotype Corsiva"/>
              </a:rPr>
              <a:t>Поперечная волна – это волна, в которой частицы среды смещаются перпендикулярно направлению распространения волны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Monotype Corsiva"/>
              </a:rPr>
              <a:t>Продольная волна – это волна, в которой частицы среды распространяются вдоль направления распространения волны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1000080"/>
            <a:ext cx="8686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огерентные волны – это волны, пришедшие от источников, колеблющихся с одинаковой частотой и постоянной разностью фаз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Фронт волны – это геометрическое место точек среды, до которых дошло возмущ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лоские воны – это волны, фронт которых плоск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ферические волны – это волны, фронт которых сферичес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форму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285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равнение волны, распространяющейся вдоль оси 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олновое чис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корость вол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скорение вол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"/>
              <p:cNvSpPr txBox="1"/>
              <p:nvPr/>
            </p:nvSpPr>
            <p:spPr>
              <a:xfrm>
                <a:off x="1500120" y="2286000"/>
                <a:ext cx="31431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υ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4786200" y="2428920"/>
                <a:ext cx="34020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7"/>
              <p:cNvSpPr txBox="1"/>
              <p:nvPr/>
            </p:nvSpPr>
            <p:spPr>
              <a:xfrm>
                <a:off x="4106880" y="3429000"/>
                <a:ext cx="16794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υ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9"/>
              <p:cNvSpPr txBox="1"/>
              <p:nvPr/>
            </p:nvSpPr>
            <p:spPr>
              <a:xfrm>
                <a:off x="3643200" y="4429080"/>
                <a:ext cx="33116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ωξ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υ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1"/>
              <p:cNvSpPr txBox="1"/>
              <p:nvPr/>
            </p:nvSpPr>
            <p:spPr>
              <a:xfrm>
                <a:off x="4214880" y="5786280"/>
                <a:ext cx="16714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ξ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форму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Энергия волны ра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дельная энергия вол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редняя энергия вол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нтенсивность вол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"/>
              <p:cNvSpPr txBox="1"/>
              <p:nvPr/>
            </p:nvSpPr>
            <p:spPr>
              <a:xfrm>
                <a:off x="2357280" y="1714680"/>
                <a:ext cx="421488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ρV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υ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3"/>
              <p:cNvSpPr txBox="1"/>
              <p:nvPr/>
            </p:nvSpPr>
            <p:spPr>
              <a:xfrm>
                <a:off x="2357280" y="2857680"/>
                <a:ext cx="390528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ρ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υ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5"/>
              <p:cNvSpPr txBox="1"/>
              <p:nvPr/>
            </p:nvSpPr>
            <p:spPr>
              <a:xfrm>
                <a:off x="2949480" y="4071960"/>
                <a:ext cx="21225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ρ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7"/>
              <p:cNvSpPr txBox="1"/>
              <p:nvPr/>
            </p:nvSpPr>
            <p:spPr>
              <a:xfrm>
                <a:off x="2357280" y="5357880"/>
                <a:ext cx="33544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ρ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p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ρ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Гидродинамика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–  это раздел механики сплошных сред, изучающий движение жидк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Гидростатика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– раздел механики, занимающийся изучением покоящейся жидк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зако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Monotype Corsiva"/>
              </a:rPr>
              <a:t>Закон Паскаля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: В состоянии равновесия давление нормальное напряжение) не зависит от ориентации площадки, на которую оно действу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Monotype Corsiva"/>
              </a:rPr>
              <a:t>Закон Архимеда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: Если тело, погруженное в жидкость, удерживается в механическом равновесии, то со стороны окружающей жидкости действует выталкивающая сила гидростатического давления, численно равная весу жидкости в объёме этого т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614760" y="5786280"/>
            <a:ext cx="202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форму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2" descr=""/>
          <p:cNvPicPr/>
          <p:nvPr/>
        </p:nvPicPr>
        <p:blipFill>
          <a:blip r:embed="rId1"/>
          <a:stretch/>
        </p:blipFill>
        <p:spPr>
          <a:xfrm>
            <a:off x="317520" y="1268280"/>
            <a:ext cx="8375760" cy="5686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2"/>
          <a:stretch/>
        </p:blipFill>
        <p:spPr>
          <a:xfrm>
            <a:off x="2724120" y="3009960"/>
            <a:ext cx="5133960" cy="847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2000160" y="1881360"/>
            <a:ext cx="2095560" cy="6188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4"/>
          <a:stretch/>
        </p:blipFill>
        <p:spPr>
          <a:xfrm>
            <a:off x="5072040" y="2000160"/>
            <a:ext cx="1981080" cy="447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5"/>
          <a:stretch/>
        </p:blipFill>
        <p:spPr>
          <a:xfrm>
            <a:off x="3643200" y="4643280"/>
            <a:ext cx="1971720" cy="7430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9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10" descr=""/>
          <p:cNvPicPr/>
          <p:nvPr/>
        </p:nvPicPr>
        <p:blipFill>
          <a:blip r:embed="rId6"/>
          <a:stretch/>
        </p:blipFill>
        <p:spPr>
          <a:xfrm>
            <a:off x="3786120" y="5857920"/>
            <a:ext cx="1581120" cy="619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0" y="10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1. Найти высоту столба жидкости, давление которого равно нормальному атмосферному давлению 760 мм.рт.ст, если в качестве жидкости используется: вода, глицерин, спи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2. Вода течёт в горизонтально расположенной трубе переменного сечения. Скорость воды в широкой части трубы равна 20 см/с. Определить скорость  в узкой части трубы, диаметр которой в 1,5раза меньше диаметра широкой ч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3. В широкой части горизонтально расположенной трубы течёт нефть со скоростью 2 м/с. Определить скорость нефти в узкой части трубы, если разность давлений в широкой и узкой частях трубы равна 6,56 к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4. Бак высотой Н=2 м до краёв  наполнен жидкостью. На какой высоте должно быть проделано отверстие в стеке бака, чтобы место падения струи, вытекающей и отверстия, было на максимальном от ба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859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олебание – это периодически повторяющийся проце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астота – это число колебаний в единицу време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ериод – это время одного полного колеб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Амплитуда – это максимальное отклонение  колеблющейся величины от положения равновес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859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Гармонические колебания – это колебания, происходящие по закону синуса или косину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Фаза – это величина, стоящая под знаком синуса или косинуса; показывает какая часть колебания совершилась к данному моменту време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чальная фаза – это значение фазы в начальный момент време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2859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вободные колебания – это колебания, совершаемые в отсутствии сил тр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Затухающие колебания – это колебания, совершаемые в присутствии сил сопротивления сре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ынужденные колебания – это колебания систему, на которую действует внешняя сила с некоторой частот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4:10:47Z</dcterms:created>
  <dc:creator>Михаил</dc:creator>
  <dc:description/>
  <dc:language>en-US</dc:language>
  <cp:lastModifiedBy>Михаил</cp:lastModifiedBy>
  <dcterms:modified xsi:type="dcterms:W3CDTF">2010-10-17T19:48:16Z</dcterms:modified>
  <cp:revision>17</cp:revision>
  <dc:subject/>
  <dc:title>Слайд 1</dc:title>
</cp:coreProperties>
</file>