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525-864D-4EC0-82B6-8538E31B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EF2-3F61-432D-9EB0-877947A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5CE-744B-4EC4-B760-AE7F1D26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40D-FDA1-4A6F-A9B6-63F2F879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61A-DAC2-4315-ADF0-C887BD4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43F-04EF-4432-BF9E-8DF8D393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4AA-546B-4A8E-8701-A86369F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977-A99B-4738-9D3E-DF271A7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9DA-C93F-4CAC-8A79-551D9876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749-1EA6-455D-A442-A73E02C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120-A174-492E-ACD9-8062D2A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C02-9F2E-47AE-9F1D-30AF1FA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A7BD-5F29-4303-BCB1-FF6449E6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89056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при изопроцес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щая формула для работы г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хор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бар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термически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00880" y="1500120"/>
            <a:ext cx="1428840" cy="10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6572160" y="2857680"/>
            <a:ext cx="939960" cy="500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6215040" y="3929040"/>
            <a:ext cx="2514600" cy="523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6386400" y="5072040"/>
            <a:ext cx="2043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Коэффициент полезного действия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величина, характеризующая эффективность работы тепловой маши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Тепловая машина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периодически действующий двигатель, совершающий работу за счёт получаемого из вне количества тепл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Рабочее тело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– это тело. Получающее или отдающее количество тепл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Тепловой резервуар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– это тело или система тел, находящаяся в состоянии термодинамического равновесия и обладающая запасом внутренней энерг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Цикл Карно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обратимый цикл, который совершает в тепловой машине рабочее тело, вступающее в теплообмен с двумя тепловыми резервуарами бесконечно большой теплоёмкости, состоящий только из двух изотерм и двух адиаба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чала термодина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Первое начало термодинамик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: Количество теплоты переданное (отнятое) телу идёт на приращение его внутренней энергии и на совершение работы над внешними те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Второе начало термодинамики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(по Клаузиуису): Теплота не может самопроизвольно переходить от тела менее нагретого к телу более нагрет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Третье начало термодинамик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: При стремлении к абсолютному нулю энтропия системы также стремится к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истическая физика и термодинамика изучают один и тот же круг вопросов – тепловые явления. Однако они отличаются своим подходом к изучению этих яв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истическая физика рассматривает громадное число частиц вещества, описывая их некоторыми парамет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рмодинамика – феноменологическая теория, т.е. не учитывает атомно-молекулярного строения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термодинамические парамет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8284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Термодинамические параметры – это величины, характеризующие состояние систем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Температур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Объё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Давл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Плот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Концентрац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авновес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остояние системы при неизменных значениях термодинамических пара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еравновес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остояние системы, в котором хотя бы один термодинамический параметр изме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Изолированная (замкнутая) систем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истема, которая не обменивается с внешней средой ни энергией, ни веще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Время релаксаци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ремя, в течение которого система переходит в равновесное состоя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рмодинамический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процесс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переход системы из одного состояния, характеризуемого одними значениями термодинамических параметров, в другое состояние, характеризуемое другими значениями этих парамет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Равновесный процесс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процесс, при котором система проходит через непрерывный ряд равновесных состоя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Функции состояния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личины, которые зависят только от начального и конечного состояния системы, но не от способа перехода системы из одного состояния в друг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Функции процесса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личины, которые зависят не только от начального и конечного состояния системы, но и от способа каким она переходит из одного состояния в друг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Внутренняя энергия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ы – это сумма кинетической и потенциальной энергий частиц, входящих в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Приращение энергии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разность значений энергии в предшествующем и данном состоян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плопередача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процесс передачи телу энергии без совершения над ним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Количество теплоты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величина, равная изменению внутренней энергии тела при теплопередач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Работа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процесс передачи телу энергии, при котором одни части тела перемещаются относительно друг друг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процесс – это процесс, происходящий при неизменном значении одного из парамет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термический процесс – это процесс, происходящий при неизменной темпера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хорный процесс – это процесс, происходящий при постоянном объё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барный процесс – это процесс, происходящий при неизменном д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афики изопроцессов в осях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lIns="3600" rIns="3600" tIns="3600" bIns="3600" anchor="t">
            <a:norm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1 – изотер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2 – изох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3 - изоба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9"/>
          <p:cNvGrpSpPr/>
          <p:nvPr/>
        </p:nvGrpSpPr>
        <p:grpSpPr>
          <a:xfrm>
            <a:off x="1143000" y="2499840"/>
            <a:ext cx="3714480" cy="3071880"/>
            <a:chOff x="1143000" y="2499840"/>
            <a:chExt cx="3714480" cy="3071880"/>
          </a:xfrm>
        </p:grpSpPr>
        <p:sp>
          <p:nvSpPr>
            <p:cNvPr id="58" name="Text Box 7"/>
            <p:cNvSpPr/>
            <p:nvPr/>
          </p:nvSpPr>
          <p:spPr>
            <a:xfrm>
              <a:off x="1143000" y="2503800"/>
              <a:ext cx="3027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Группа 28"/>
            <p:cNvGrpSpPr/>
            <p:nvPr/>
          </p:nvGrpSpPr>
          <p:grpSpPr>
            <a:xfrm>
              <a:off x="1559520" y="2499840"/>
              <a:ext cx="3297960" cy="3071880"/>
              <a:chOff x="1559520" y="2499840"/>
              <a:chExt cx="3297960" cy="3071880"/>
            </a:xfrm>
          </p:grpSpPr>
          <p:grpSp>
            <p:nvGrpSpPr>
              <p:cNvPr id="60" name="Group 3"/>
              <p:cNvGrpSpPr/>
              <p:nvPr/>
            </p:nvGrpSpPr>
            <p:grpSpPr>
              <a:xfrm>
                <a:off x="1559520" y="2499840"/>
                <a:ext cx="3297960" cy="3071880"/>
                <a:chOff x="1559520" y="2499840"/>
                <a:chExt cx="3297960" cy="3071880"/>
              </a:xfrm>
            </p:grpSpPr>
            <p:sp>
              <p:nvSpPr>
                <p:cNvPr id="61" name="Line 5"/>
                <p:cNvSpPr/>
                <p:nvPr/>
              </p:nvSpPr>
              <p:spPr>
                <a:xfrm flipV="1">
                  <a:off x="1559520" y="2499840"/>
                  <a:ext cx="0" cy="290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Line 6"/>
                <p:cNvSpPr/>
                <p:nvPr/>
              </p:nvSpPr>
              <p:spPr>
                <a:xfrm>
                  <a:off x="1559520" y="5410440"/>
                  <a:ext cx="295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Text Box 7"/>
                <p:cNvSpPr/>
                <p:nvPr/>
              </p:nvSpPr>
              <p:spPr>
                <a:xfrm>
                  <a:off x="4510440" y="5248800"/>
                  <a:ext cx="3470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Line 8"/>
                <p:cNvSpPr/>
                <p:nvPr/>
              </p:nvSpPr>
              <p:spPr>
                <a:xfrm>
                  <a:off x="1559520" y="3008160"/>
                  <a:ext cx="295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Line 9"/>
                <p:cNvSpPr/>
                <p:nvPr/>
              </p:nvSpPr>
              <p:spPr>
                <a:xfrm>
                  <a:off x="3295440" y="2523600"/>
                  <a:ext cx="0" cy="290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Arc 12"/>
                <p:cNvSpPr/>
                <p:nvPr/>
              </p:nvSpPr>
              <p:spPr>
                <a:xfrm>
                  <a:off x="2080080" y="2684880"/>
                  <a:ext cx="1910520" cy="2098800"/>
                </a:xfrm>
                <a:custGeom>
                  <a:avLst/>
                  <a:gdLst>
                    <a:gd name="textAreaLeft" fmla="*/ 0 w 1910520"/>
                    <a:gd name="textAreaRight" fmla="*/ 1910880 w 191052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fill="none" w="21600" h="24880">
                      <a:moveTo>
                        <a:pt x="20034" y="24880"/>
                      </a:moveTo>
                      <a:cubicBezTo>
                        <a:pt x="8742" y="24059"/>
                        <a:pt x="0" y="14659"/>
                        <a:pt x="0" y="3337"/>
                      </a:cubicBezTo>
                      <a:cubicBezTo>
                        <a:pt x="-1" y="2219"/>
                        <a:pt x="86" y="1103"/>
                        <a:pt x="259" y="0"/>
                      </a:cubicBezTo>
                    </a:path>
                    <a:path stroke="0" w="21600" h="24880">
                      <a:moveTo>
                        <a:pt x="20034" y="24880"/>
                      </a:moveTo>
                      <a:cubicBezTo>
                        <a:pt x="8742" y="24059"/>
                        <a:pt x="0" y="14659"/>
                        <a:pt x="0" y="3337"/>
                      </a:cubicBezTo>
                      <a:cubicBezTo>
                        <a:pt x="-1" y="2219"/>
                        <a:pt x="86" y="1103"/>
                        <a:pt x="259" y="0"/>
                      </a:cubicBezTo>
                      <a:lnTo>
                        <a:pt x="21600" y="333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Группа 27"/>
              <p:cNvGrpSpPr/>
              <p:nvPr/>
            </p:nvGrpSpPr>
            <p:grpSpPr>
              <a:xfrm>
                <a:off x="2253960" y="2503800"/>
                <a:ext cx="2335320" cy="962280"/>
                <a:chOff x="2253960" y="2503800"/>
                <a:chExt cx="2335320" cy="962280"/>
              </a:xfrm>
            </p:grpSpPr>
            <p:sp>
              <p:nvSpPr>
                <p:cNvPr id="68" name="Text Box 7"/>
                <p:cNvSpPr/>
                <p:nvPr/>
              </p:nvSpPr>
              <p:spPr>
                <a:xfrm>
                  <a:off x="2253960" y="250380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Text Box 7"/>
                <p:cNvSpPr/>
                <p:nvPr/>
              </p:nvSpPr>
              <p:spPr>
                <a:xfrm>
                  <a:off x="3503880" y="250380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Text Box 7"/>
                <p:cNvSpPr/>
                <p:nvPr/>
              </p:nvSpPr>
              <p:spPr>
                <a:xfrm>
                  <a:off x="4286520" y="314316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6:23Z</dcterms:modified>
  <cp:revision>4</cp:revision>
  <dc:subject/>
  <dc:title>Слайд 1</dc:title>
</cp:coreProperties>
</file>