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3852-A2A6-46ED-AE17-32D0ED81C3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F13B-73C5-4893-A7B4-6E6EA6B11A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0B48-A61D-4574-8DC1-5B658D34E0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E5AE-403D-493F-AB52-61A5DF59CF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F250-E57C-44D4-B9A4-8592CBA1F2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E740-F5AB-4CA5-A70C-C259E04508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6679-0157-437C-A433-702645C0CD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DFF6-B0C8-438A-8533-0C3063DCB0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F6EA-215C-40B2-9AFD-A3A6528181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75E8-18C8-4B14-9518-5ABF006289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CFDC-24C0-40E5-8773-16269E5F1B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Т. Ізтілеу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20C-47F8-42A0-86D4-768E7087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9321-24CF-4BB8-85E8-4264A33E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C1B2-C9F4-4E16-A68E-7779CB10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8060-3135-4040-BEBA-F8E9EE1C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6889-2AEF-4601-B9EE-264D48A3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769E-5C71-4920-BD61-35159DFC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D9AF-554C-416A-8D67-98151247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0E2C-2CCF-44BF-83A6-74DD0B59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BF53-5B90-42C6-843F-E8E9F53E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52EC-051D-493E-81FD-AD27A482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AB0B-B28C-49FA-9EF2-F11FA1D4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A846-0A22-4C42-94DD-DB606143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2F66-47FE-4B8F-8904-3E78695E3A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flowergraphic11280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WordArt 12"/>
          <p:cNvSpPr txBox="1"/>
          <p:nvPr/>
        </p:nvSpPr>
        <p:spPr>
          <a:xfrm>
            <a:off x="539640" y="189000"/>
            <a:ext cx="7848720" cy="163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басы және жастар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1" name="Picture 13" descr="happy%20family"/>
          <p:cNvPicPr/>
          <p:nvPr/>
        </p:nvPicPr>
        <p:blipFill>
          <a:blip r:embed="rId2"/>
          <a:stretch/>
        </p:blipFill>
        <p:spPr>
          <a:xfrm>
            <a:off x="179280" y="1773360"/>
            <a:ext cx="5040360" cy="4662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happy-couple-on-beach"/>
          <p:cNvPicPr/>
          <p:nvPr/>
        </p:nvPicPr>
        <p:blipFill>
          <a:blip r:embed="rId3"/>
          <a:stretch/>
        </p:blipFill>
        <p:spPr>
          <a:xfrm>
            <a:off x="5219640" y="1989000"/>
            <a:ext cx="34606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flowergraphic11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happy-family-photo"/>
          <p:cNvPicPr/>
          <p:nvPr/>
        </p:nvPicPr>
        <p:blipFill>
          <a:blip r:embed="rId2"/>
          <a:stretch/>
        </p:blipFill>
        <p:spPr>
          <a:xfrm>
            <a:off x="4716360" y="692280"/>
            <a:ext cx="3959280" cy="54007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"/>
          <p:cNvSpPr/>
          <p:nvPr/>
        </p:nvSpPr>
        <p:spPr>
          <a:xfrm>
            <a:off x="395280" y="1122120"/>
            <a:ext cx="388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Ері мен әйелінің  арасындағы қатынастардың мына жағдайда қалайша қалыптасатынына көңіл аударыңыздар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а) әлеуметтік мәртебесі тең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ә) әлеуметтік мәртебесі тең ем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flowergraphic11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755280" y="233208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  <a:ea typeface="Arial"/>
              </a:rPr>
              <a:t>Назар қойып қарағандарыңыз үшін көп рахме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!!!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  <a:ea typeface="Arial"/>
              </a:rPr>
              <a:t> Бұл презентациядан пайда алдыңыздар деген үміттемін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flowergraphic11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WordArt 11"/>
          <p:cNvSpPr txBox="1"/>
          <p:nvPr/>
        </p:nvSpPr>
        <p:spPr>
          <a:xfrm>
            <a:off x="395280" y="0"/>
            <a:ext cx="5761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ан отбасынан басталад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Picture 12" descr="happy-family-photo"/>
          <p:cNvPicPr/>
          <p:nvPr/>
        </p:nvPicPr>
        <p:blipFill>
          <a:blip r:embed="rId2"/>
          <a:stretch/>
        </p:blipFill>
        <p:spPr>
          <a:xfrm>
            <a:off x="1763640" y="1052640"/>
            <a:ext cx="5977080" cy="4913280"/>
          </a:xfrm>
          <a:prstGeom prst="rect">
            <a:avLst/>
          </a:prstGeom>
          <a:ln w="0">
            <a:noFill/>
          </a:ln>
        </p:spPr>
      </p:pic>
      <p:sp>
        <p:nvSpPr>
          <p:cNvPr id="57" name="WordArt 15"/>
          <p:cNvSpPr txBox="1"/>
          <p:nvPr/>
        </p:nvSpPr>
        <p:spPr>
          <a:xfrm>
            <a:off x="1332000" y="5445000"/>
            <a:ext cx="741672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басы ең кішкентай қоғам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flowergraphic11280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60" name="WordArt 14"/>
          <p:cNvSpPr txBox="1"/>
          <p:nvPr/>
        </p:nvSpPr>
        <p:spPr>
          <a:xfrm>
            <a:off x="2916360" y="836640"/>
            <a:ext cx="2735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тбасы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WordArt 15"/>
          <p:cNvSpPr txBox="1"/>
          <p:nvPr/>
        </p:nvSpPr>
        <p:spPr>
          <a:xfrm>
            <a:off x="395280" y="2708280"/>
            <a:ext cx="172872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олық</a:t>
            </a:r>
            <a:endParaRPr b="1" i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WordArt 16"/>
          <p:cNvSpPr txBox="1"/>
          <p:nvPr/>
        </p:nvSpPr>
        <p:spPr>
          <a:xfrm>
            <a:off x="2700360" y="2708280"/>
            <a:ext cx="28288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олық емес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WordArt 17"/>
          <p:cNvSpPr txBox="1"/>
          <p:nvPr/>
        </p:nvSpPr>
        <p:spPr>
          <a:xfrm>
            <a:off x="6300720" y="2565360"/>
            <a:ext cx="2087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үрделі</a:t>
            </a:r>
            <a:endParaRPr b="1" i="1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Line 18"/>
          <p:cNvSpPr/>
          <p:nvPr/>
        </p:nvSpPr>
        <p:spPr>
          <a:xfrm>
            <a:off x="5076720" y="1484280"/>
            <a:ext cx="15112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 flipH="1">
            <a:off x="1834920" y="1484280"/>
            <a:ext cx="158436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>
            <a:off x="4211640" y="15573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395280" y="3790440"/>
            <a:ext cx="77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Толық- ата-анасы және балалары бар отб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250920" y="4435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Толық емес- ата-анасының біреуі ғана бар отб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331560" y="5083200"/>
            <a:ext cx="86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Күрделі- ата-анасы, балалары және туыстары бір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өмір сүретін отба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flowergraphic11280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1" name="WordArt 13"/>
          <p:cNvSpPr txBox="1"/>
          <p:nvPr/>
        </p:nvSpPr>
        <p:spPr>
          <a:xfrm>
            <a:off x="1908000" y="404640"/>
            <a:ext cx="54784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басын құру қағидалары: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394920" y="1725120"/>
            <a:ext cx="8536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-еркек пен әйелдің некелік одағының еріктіліг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-отбасындағы ерлі-зайыптылардың құқықтарының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теңдігі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-бөгде адамның отбасы ісіне араласуын болдырма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-балалардың отбасында тәрбие алуына жә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олардың қамына көңіл бө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-отбасының ішкі мәселелерін келісіп шеш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-отбасындағы салауатты өмір салтын қолда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-отбасы мүшелерінің бір-бірінің қамын ойлау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flowergraphic11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WordArt 14"/>
          <p:cNvSpPr txBox="1"/>
          <p:nvPr/>
        </p:nvSpPr>
        <p:spPr>
          <a:xfrm>
            <a:off x="2484360" y="692280"/>
            <a:ext cx="352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басы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6" name="WordArt 15"/>
          <p:cNvSpPr txBox="1"/>
          <p:nvPr/>
        </p:nvSpPr>
        <p:spPr>
          <a:xfrm>
            <a:off x="826920" y="2852640"/>
            <a:ext cx="2665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моногамды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7" name="WordArt 16"/>
          <p:cNvSpPr txBox="1"/>
          <p:nvPr/>
        </p:nvSpPr>
        <p:spPr>
          <a:xfrm>
            <a:off x="5435640" y="2781360"/>
            <a:ext cx="25210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8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лигамды</a:t>
            </a:r>
            <a:endParaRPr b="1" i="1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8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" name="Rectangle 17"/>
          <p:cNvSpPr/>
          <p:nvPr/>
        </p:nvSpPr>
        <p:spPr>
          <a:xfrm>
            <a:off x="273240" y="3643200"/>
            <a:ext cx="395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бір еркек пен бі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әйелдің некелік отб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5022720" y="3642840"/>
            <a:ext cx="410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бір еркектің екі неме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одан да көп әйел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некелік отб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9"/>
          <p:cNvSpPr/>
          <p:nvPr/>
        </p:nvSpPr>
        <p:spPr>
          <a:xfrm>
            <a:off x="4500720" y="1341360"/>
            <a:ext cx="1800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0"/>
          <p:cNvSpPr/>
          <p:nvPr/>
        </p:nvSpPr>
        <p:spPr>
          <a:xfrm flipH="1">
            <a:off x="1908000" y="1413000"/>
            <a:ext cx="144000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flowergraphic11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woman_and_baby"/>
          <p:cNvPicPr/>
          <p:nvPr/>
        </p:nvPicPr>
        <p:blipFill>
          <a:blip r:embed="rId2"/>
          <a:stretch/>
        </p:blipFill>
        <p:spPr>
          <a:xfrm>
            <a:off x="4932360" y="1413000"/>
            <a:ext cx="4017960" cy="5111640"/>
          </a:xfrm>
          <a:prstGeom prst="rect">
            <a:avLst/>
          </a:prstGeom>
          <a:ln w="0">
            <a:noFill/>
          </a:ln>
        </p:spPr>
      </p:pic>
      <p:sp>
        <p:nvSpPr>
          <p:cNvPr id="85" name="WordArt 14"/>
          <p:cNvSpPr txBox="1"/>
          <p:nvPr/>
        </p:nvSpPr>
        <p:spPr>
          <a:xfrm>
            <a:off x="1176480" y="189000"/>
            <a:ext cx="67910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басының атқаратын функциясы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Rectangle 15"/>
          <p:cNvSpPr/>
          <p:nvPr/>
        </p:nvSpPr>
        <p:spPr>
          <a:xfrm>
            <a:off x="179280" y="1623600"/>
            <a:ext cx="424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-бала өсіріп, тәрбиелеу арқылы ұрпақ жалғастығын қамтамасыз е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-баланы әлеуметтенуге, қоғамда өмір сүруге дайында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-отбасы мүшелерін баспанамен, көлікпен, киіммен, тамақпен, материалдық құндылықтармен қамтамасыз 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8" descr="flowergraphic11280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ring"/>
          <p:cNvPicPr/>
          <p:nvPr/>
        </p:nvPicPr>
        <p:blipFill>
          <a:blip r:embed="rId2"/>
          <a:stretch/>
        </p:blipFill>
        <p:spPr>
          <a:xfrm>
            <a:off x="4668840" y="1413000"/>
            <a:ext cx="4475160" cy="5256000"/>
          </a:xfrm>
          <a:prstGeom prst="rect">
            <a:avLst/>
          </a:prstGeom>
          <a:ln w="0">
            <a:noFill/>
          </a:ln>
        </p:spPr>
      </p:pic>
      <p:sp>
        <p:nvSpPr>
          <p:cNvPr id="89" name="WordArt 17"/>
          <p:cNvSpPr txBox="1"/>
          <p:nvPr/>
        </p:nvSpPr>
        <p:spPr>
          <a:xfrm>
            <a:off x="395280" y="333360"/>
            <a:ext cx="12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66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ке-</a:t>
            </a:r>
            <a:endParaRPr b="1" i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66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692360" y="475200"/>
            <a:ext cx="61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тбасын  </a:t>
            </a: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құру мақсатын көзедег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00"/>
                </a:solidFill>
                <a:latin typeface="Arial"/>
              </a:rPr>
              <a:t>ер мен әйелдің ерікті және тең одағ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19"/>
          <p:cNvSpPr txBox="1"/>
          <p:nvPr/>
        </p:nvSpPr>
        <p:spPr>
          <a:xfrm>
            <a:off x="1332000" y="1773360"/>
            <a:ext cx="151128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ке</a:t>
            </a:r>
            <a:endParaRPr b="1" i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WordArt 20"/>
          <p:cNvSpPr txBox="1"/>
          <p:nvPr/>
        </p:nvSpPr>
        <p:spPr>
          <a:xfrm>
            <a:off x="179280" y="3141720"/>
            <a:ext cx="1162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ңды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WordArt 21"/>
          <p:cNvSpPr txBox="1"/>
          <p:nvPr/>
        </p:nvSpPr>
        <p:spPr>
          <a:xfrm>
            <a:off x="2050920" y="3213000"/>
            <a:ext cx="246708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заматтық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Line 22"/>
          <p:cNvSpPr/>
          <p:nvPr/>
        </p:nvSpPr>
        <p:spPr>
          <a:xfrm>
            <a:off x="2698920" y="2492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23"/>
          <p:cNvSpPr/>
          <p:nvPr/>
        </p:nvSpPr>
        <p:spPr>
          <a:xfrm flipH="1">
            <a:off x="1116000" y="2492280"/>
            <a:ext cx="50328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179280" y="36442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құжат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тіркел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2348640" y="3788640"/>
            <a:ext cx="17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kk-KZ" sz="1800" spc="-1" strike="noStrike">
                <a:solidFill>
                  <a:srgbClr val="000000"/>
                </a:solidFill>
                <a:latin typeface="Arial"/>
              </a:rPr>
              <a:t>тіркелме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77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770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2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4" dur="77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flowergraphic11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WordArt 14"/>
          <p:cNvSpPr txBox="1"/>
          <p:nvPr/>
        </p:nvSpPr>
        <p:spPr>
          <a:xfrm>
            <a:off x="395280" y="836640"/>
            <a:ext cx="5329080" cy="73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басын құрудың негізі-</a:t>
            </a:r>
            <a:endParaRPr b="1" i="1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WordArt 15"/>
          <p:cNvSpPr txBox="1"/>
          <p:nvPr/>
        </p:nvSpPr>
        <p:spPr>
          <a:xfrm>
            <a:off x="324000" y="2133720"/>
            <a:ext cx="27352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нім-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WordArt 16"/>
          <p:cNvSpPr txBox="1"/>
          <p:nvPr/>
        </p:nvSpPr>
        <p:spPr>
          <a:xfrm>
            <a:off x="5940360" y="549360"/>
            <a:ext cx="287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ххабат</a:t>
            </a:r>
            <a:endParaRPr b="1" i="1" lang="en-US" sz="1800" spc="1" strike="noStrike">
              <a:ln w="0">
                <a:noFill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3203640" y="2074320"/>
            <a:ext cx="56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отбасы шеңберінде әрекет ететін азаматтық құндылықтардың маңыздыларының бір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84360" y="44348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kk-KZ" sz="2400" spc="-1" strike="noStrike">
                <a:solidFill>
                  <a:srgbClr val="000000"/>
                </a:solidFill>
                <a:latin typeface="Arial"/>
              </a:rPr>
              <a:t>Статистика бойынша, ажырасушылықтың елеулі бөлігі ерлі-зайыптылар арасында сенімнің болмауынан немесе сенімді ақтамаудан болатын көрінед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flowergraphic112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u love_050041"/>
          <p:cNvPicPr/>
          <p:nvPr/>
        </p:nvPicPr>
        <p:blipFill>
          <a:blip r:embed="rId2"/>
          <a:stretch/>
        </p:blipFill>
        <p:spPr>
          <a:xfrm>
            <a:off x="1476360" y="836640"/>
            <a:ext cx="6481800" cy="4968720"/>
          </a:xfrm>
          <a:prstGeom prst="rect">
            <a:avLst/>
          </a:prstGeom>
          <a:ln w="0">
            <a:noFill/>
          </a:ln>
        </p:spPr>
      </p:pic>
      <p:sp>
        <p:nvSpPr>
          <p:cNvPr id="108" name="WordArt 17"/>
          <p:cNvSpPr txBox="1"/>
          <p:nvPr/>
        </p:nvSpPr>
        <p:spPr>
          <a:xfrm>
            <a:off x="684360" y="260280"/>
            <a:ext cx="741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басын құра алмау құбылысы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18"/>
          <p:cNvSpPr txBox="1"/>
          <p:nvPr/>
        </p:nvSpPr>
        <p:spPr>
          <a:xfrm>
            <a:off x="468360" y="6093000"/>
            <a:ext cx="8345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ұрмыс құрмаған жалғызбасты қыздар неге көп?</a:t>
            </a:r>
            <a:endParaRPr b="1" i="1" lang="en-US" sz="18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18:11:16Z</dcterms:created>
  <dc:creator>user</dc:creator>
  <dc:description/>
  <dc:language>en-US</dc:language>
  <cp:lastModifiedBy>6a316</cp:lastModifiedBy>
  <dcterms:modified xsi:type="dcterms:W3CDTF">2011-05-04T08:05:48Z</dcterms:modified>
  <cp:revision>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8000000000001024110</vt:lpwstr>
  </property>
</Properties>
</file>