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5B2-6AB3-4916-9FCF-E7BBDBAA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914-8479-41E8-9619-5565CEE1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D80-598B-4D62-9446-6D2CB8FE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ABC-A152-42E8-A2B5-F8E0497F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D5C3-2983-40EE-97CC-66498596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A03D-36AA-4997-AF11-191B4729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74F2-CE13-4C71-B62F-1AE30B28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5565-F7A6-4CBE-B4E4-C74E466C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AC6F-FF0E-4B7B-A7AF-233E3D3D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AC44-EB38-4E46-B2A3-3125797A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D4BA-677E-4E77-BDB5-BF3A4892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ACA-000D-4B41-9A33-A8CBE70E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CE83-E059-4876-A60B-5BE1EE74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E408-6845-40B7-9B83-073A4A40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6303-1E1A-4B14-9B1E-A2FDD45E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2CC0-D0C8-423B-9ABE-DF9BA99D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5E49-D9EE-4E01-9E30-540E9149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7D16-B971-473D-A402-46775C2C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9B2D6-6A84-4658-96E1-8BF84B16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1FC1-80C3-4723-BB98-5C100399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6380-72D3-429C-A44A-FF0BECCD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583C-A022-4E57-AE61-86C7C626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9F8-00C4-413E-A028-414F332E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DB54-52C8-4A3D-856F-2BDE77A5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2880E-12F8-40DF-976D-DD43DFA4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6FCC-2C60-4EEA-9D56-7E30AB6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5D62-5A84-4147-9A16-B058F66D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7B3A-CB29-4F42-AD7F-01986AB5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0797-0D93-4D71-A238-763EA74B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8CD3-CD9D-427A-A8C3-DC4DD6AF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05BB4-9A9F-475F-A482-4E521A53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DD9B-1A1A-48E1-85DE-3E890CE9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AEFA-7130-4E39-BC57-C9A08C4D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4B2-69CD-4F41-B404-32600073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1A2E-73CF-4133-A091-3882F9A3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E41E-AEE4-49FE-8CC9-6CE4ACDC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FA8F0-8D1A-422B-B65C-A85EE512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2F1D-ACBE-46EF-A7DC-C0B3676B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9309-364B-4F82-A198-8E3C8A13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6F46-5C96-47ED-89D7-29BD582C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685A-C65A-462D-8978-CC615777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C0E5E-3431-4F6B-A7DF-E8E05629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6129E-BFDA-4AC8-89AC-C0586385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D8E7-F4A3-4256-AA93-9EBD3FFD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8CE-267F-417F-ACBB-C4551E65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0CA1-D8BD-43F3-986E-1ED1885E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3E4B6-2178-468E-BE15-7CA52631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FE50C-534E-48BD-AE28-79BB3939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21B7D-C52C-46E5-8E81-6DB96AF2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366B7-1CA8-4F2D-BED2-56273012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15C31-D8E5-47DE-95F5-04E7423D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0C25-3AEF-474D-8042-49F23D86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613FF-484D-4A30-B54A-3825E6C6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E64C3-F93A-410B-B0AD-BD7408D6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AF470-74CE-4E3F-8349-60E0EFC7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1EB-0BF8-40D3-BA98-E6C78799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09102-8D56-43AC-BA73-04BE8864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6C59-6D4F-458E-99BD-4B53EEE1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14F0B-4E39-4349-940D-2A8AA742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01017-4FC8-44BE-BF8B-CBB59523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6A0D0-2FE8-489B-803A-4D7F4621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E54EC-753B-415C-821C-B7592DE3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47E94-266C-458E-A0A9-0A9600D7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6BBAC-F782-405A-B4E6-667ED20C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8945-1835-4DDE-8310-F92012C6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D04A2-F6ED-425F-B779-34916AFE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403-FB61-45D2-85CB-ECD60C77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48F3-C4B4-44EB-9A63-89FC5182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A30F6-D794-49D2-BF59-B1611E4E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A0E9E-D133-4296-A566-6A80F707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681-0CCF-4869-B75F-9513E46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99C-21D3-48F6-B6E6-8F4A15D3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2227-12F9-40C0-82EA-78842427D506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15d"/>
            </a:gs>
            <a:gs pos="100000">
              <a:srgbClr val="858da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BCDB-6828-4A54-BD0B-BDEEC7B5E6C2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15d"/>
            </a:gs>
            <a:gs pos="100000">
              <a:srgbClr val="858da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FE5-65EB-466A-9A82-06260B29B02C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DFC3-5090-4F38-9E41-D156CBADE46D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A381-E004-462F-984C-F352A5E7E3D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0DCE-8616-4750-8EDE-46805124464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15d"/>
            </a:gs>
            <a:gs pos="100000">
              <a:srgbClr val="858da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82520" y="2541600"/>
            <a:ext cx="7113600" cy="243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Прямоугольник с двумя скругленными противолежащими углами 1"/>
          <p:cNvGrpSpPr/>
          <p:nvPr/>
        </p:nvGrpSpPr>
        <p:grpSpPr>
          <a:xfrm>
            <a:off x="1060560" y="298440"/>
            <a:ext cx="7181640" cy="1311120"/>
            <a:chOff x="1060560" y="298440"/>
            <a:chExt cx="7181640" cy="1311120"/>
          </a:xfrm>
        </p:grpSpPr>
        <p:pic>
          <p:nvPicPr>
            <p:cNvPr id="309" name="Прямоугольник с двумя скругле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1060560" y="298440"/>
              <a:ext cx="718164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309680" y="547560"/>
              <a:ext cx="66769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Основные операции коммерческой работы по оптовой продаж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Прямоугольник 2"/>
          <p:cNvGrpSpPr/>
          <p:nvPr/>
        </p:nvGrpSpPr>
        <p:grpSpPr>
          <a:xfrm>
            <a:off x="371520" y="2657520"/>
            <a:ext cx="3908520" cy="1085760"/>
            <a:chOff x="371520" y="2657520"/>
            <a:chExt cx="3908520" cy="1085760"/>
          </a:xfrm>
        </p:grpSpPr>
        <p:pic>
          <p:nvPicPr>
            <p:cNvPr id="31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71520" y="2657520"/>
              <a:ext cx="39085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7200" y="2743200"/>
              <a:ext cx="373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ор оптовых покупателе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Прямоугольник 3"/>
          <p:cNvGrpSpPr/>
          <p:nvPr/>
        </p:nvGrpSpPr>
        <p:grpSpPr>
          <a:xfrm>
            <a:off x="371520" y="4334040"/>
            <a:ext cx="3908520" cy="1542960"/>
            <a:chOff x="371520" y="4334040"/>
            <a:chExt cx="3908520" cy="1542960"/>
          </a:xfrm>
        </p:grpSpPr>
        <p:pic>
          <p:nvPicPr>
            <p:cNvPr id="31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71520" y="4334040"/>
              <a:ext cx="39085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57200" y="4419720"/>
              <a:ext cx="3733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становление хозяйственных связей с ним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Прямоугольник 4"/>
          <p:cNvGrpSpPr/>
          <p:nvPr/>
        </p:nvGrpSpPr>
        <p:grpSpPr>
          <a:xfrm>
            <a:off x="5022720" y="2657520"/>
            <a:ext cx="3902040" cy="1085760"/>
            <a:chOff x="5022720" y="2657520"/>
            <a:chExt cx="3902040" cy="1085760"/>
          </a:xfrm>
        </p:grpSpPr>
        <p:pic>
          <p:nvPicPr>
            <p:cNvPr id="318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5022720" y="2657520"/>
              <a:ext cx="39020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105520" y="2743200"/>
              <a:ext cx="3733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гласование условий и заключения договор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Прямоугольник 5"/>
          <p:cNvGrpSpPr/>
          <p:nvPr/>
        </p:nvGrpSpPr>
        <p:grpSpPr>
          <a:xfrm>
            <a:off x="5022720" y="4334040"/>
            <a:ext cx="3902040" cy="1542960"/>
            <a:chOff x="5022720" y="4334040"/>
            <a:chExt cx="3902040" cy="1542960"/>
          </a:xfrm>
        </p:grpSpPr>
        <p:pic>
          <p:nvPicPr>
            <p:cNvPr id="321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5022720" y="4334040"/>
              <a:ext cx="390204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105520" y="4419720"/>
              <a:ext cx="37335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троль исполнения договорных обязательст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23" name="Shape 9"/>
          <p:cNvCxnSpPr>
            <a:stCxn id="309" idx="1"/>
            <a:endCxn id="312" idx="3"/>
          </p:cNvCxnSpPr>
          <p:nvPr/>
        </p:nvCxnSpPr>
        <p:spPr>
          <a:xfrm rot="5400000">
            <a:off x="3580920" y="2133360"/>
            <a:ext cx="1677240" cy="45792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324" name="Shape 11"/>
          <p:cNvCxnSpPr>
            <a:stCxn id="309" idx="1"/>
            <a:endCxn id="318" idx="1"/>
          </p:cNvCxnSpPr>
          <p:nvPr/>
        </p:nvCxnSpPr>
        <p:spPr>
          <a:xfrm flipH="1" rot="16200000">
            <a:off x="4038480" y="2133000"/>
            <a:ext cx="1677240" cy="45792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325" name="Shape 13"/>
          <p:cNvCxnSpPr>
            <a:stCxn id="309" idx="1"/>
            <a:endCxn id="315" idx="3"/>
          </p:cNvCxnSpPr>
          <p:nvPr/>
        </p:nvCxnSpPr>
        <p:spPr>
          <a:xfrm rot="5400000">
            <a:off x="2628360" y="3085920"/>
            <a:ext cx="3582360" cy="45792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326" name="Shape 15"/>
          <p:cNvCxnSpPr>
            <a:stCxn id="309" idx="1"/>
            <a:endCxn id="321" idx="1"/>
          </p:cNvCxnSpPr>
          <p:nvPr/>
        </p:nvCxnSpPr>
        <p:spPr>
          <a:xfrm flipH="1" rot="16200000">
            <a:off x="3085920" y="3085560"/>
            <a:ext cx="3582360" cy="45792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Блок-схема: подготовка 1"/>
          <p:cNvSpPr/>
          <p:nvPr/>
        </p:nvSpPr>
        <p:spPr>
          <a:xfrm>
            <a:off x="762120" y="304920"/>
            <a:ext cx="7772400" cy="1600200"/>
          </a:xfrm>
          <a:prstGeom prst="flowChartPreparation">
            <a:avLst/>
          </a:prstGeom>
          <a:solidFill>
            <a:srgbClr val="e3a1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ы, оказывающие влияние на выбор покупа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Блок-схема: документ 2"/>
          <p:cNvGrpSpPr/>
          <p:nvPr/>
        </p:nvGrpSpPr>
        <p:grpSpPr>
          <a:xfrm>
            <a:off x="755640" y="3114720"/>
            <a:ext cx="3902040" cy="2805120"/>
            <a:chOff x="755640" y="3114720"/>
            <a:chExt cx="3902040" cy="2805120"/>
          </a:xfrm>
        </p:grpSpPr>
        <p:pic>
          <p:nvPicPr>
            <p:cNvPr id="329" name="Блок-схема: документ 2" descr=""/>
            <p:cNvPicPr/>
            <p:nvPr/>
          </p:nvPicPr>
          <p:blipFill>
            <a:blip r:embed="rId1"/>
            <a:stretch/>
          </p:blipFill>
          <p:spPr>
            <a:xfrm>
              <a:off x="755640" y="3114720"/>
              <a:ext cx="390204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38080" y="3200400"/>
              <a:ext cx="3733920" cy="21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есто располож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Блок-схема: документ 3"/>
          <p:cNvGrpSpPr/>
          <p:nvPr/>
        </p:nvGrpSpPr>
        <p:grpSpPr>
          <a:xfrm>
            <a:off x="4870440" y="3114720"/>
            <a:ext cx="3902040" cy="3328920"/>
            <a:chOff x="4870440" y="3114720"/>
            <a:chExt cx="3902040" cy="3328920"/>
          </a:xfrm>
        </p:grpSpPr>
        <p:pic>
          <p:nvPicPr>
            <p:cNvPr id="332" name="Блок-схема: документ 3" descr=""/>
            <p:cNvPicPr/>
            <p:nvPr/>
          </p:nvPicPr>
          <p:blipFill>
            <a:blip r:embed="rId2"/>
            <a:stretch/>
          </p:blipFill>
          <p:spPr>
            <a:xfrm>
              <a:off x="4870440" y="3114720"/>
              <a:ext cx="3902040" cy="33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952880" y="3200400"/>
              <a:ext cx="3733920" cy="25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ссортимент реализуемых покупателем товаров и численность обслуживаемого насел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Стрелка вправо с вырезом 4"/>
          <p:cNvSpPr/>
          <p:nvPr/>
        </p:nvSpPr>
        <p:spPr>
          <a:xfrm rot="5400000">
            <a:off x="2475720" y="2171520"/>
            <a:ext cx="1105200" cy="723960"/>
          </a:xfrm>
          <a:custGeom>
            <a:avLst/>
            <a:gdLst>
              <a:gd name="textAreaLeft" fmla="*/ 181080 w 1105200"/>
              <a:gd name="textAreaRight" fmla="*/ 924120 w 1105200"/>
              <a:gd name="textAreaTop" fmla="*/ 181080 h 723960"/>
              <a:gd name="textAreaBottom" fmla="*/ 543240 h 723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24" y="5400"/>
                </a:lnTo>
                <a:lnTo>
                  <a:pt x="14524" y="0"/>
                </a:lnTo>
                <a:lnTo>
                  <a:pt x="21600" y="10800"/>
                </a:lnTo>
                <a:lnTo>
                  <a:pt x="14524" y="21600"/>
                </a:lnTo>
                <a:lnTo>
                  <a:pt x="14524" y="16200"/>
                </a:lnTo>
                <a:lnTo>
                  <a:pt x="0" y="16200"/>
                </a:lnTo>
                <a:lnTo>
                  <a:pt x="353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8c2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Стрелка вправо с вырезом 5"/>
          <p:cNvSpPr/>
          <p:nvPr/>
        </p:nvSpPr>
        <p:spPr>
          <a:xfrm rot="5400000">
            <a:off x="5828760" y="2171520"/>
            <a:ext cx="1105200" cy="723960"/>
          </a:xfrm>
          <a:custGeom>
            <a:avLst/>
            <a:gdLst>
              <a:gd name="textAreaLeft" fmla="*/ 181080 w 1105200"/>
              <a:gd name="textAreaRight" fmla="*/ 924120 w 1105200"/>
              <a:gd name="textAreaTop" fmla="*/ 181080 h 723960"/>
              <a:gd name="textAreaBottom" fmla="*/ 543240 h 723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24" y="5400"/>
                </a:lnTo>
                <a:lnTo>
                  <a:pt x="14524" y="0"/>
                </a:lnTo>
                <a:lnTo>
                  <a:pt x="21600" y="10800"/>
                </a:lnTo>
                <a:lnTo>
                  <a:pt x="14524" y="21600"/>
                </a:lnTo>
                <a:lnTo>
                  <a:pt x="14524" y="16200"/>
                </a:lnTo>
                <a:lnTo>
                  <a:pt x="0" y="16200"/>
                </a:lnTo>
                <a:lnTo>
                  <a:pt x="353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8c2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Овал 2"/>
          <p:cNvSpPr/>
          <p:nvPr/>
        </p:nvSpPr>
        <p:spPr>
          <a:xfrm>
            <a:off x="1371600" y="228600"/>
            <a:ext cx="6705720" cy="990720"/>
          </a:xfrm>
          <a:prstGeom prst="ellipse">
            <a:avLst/>
          </a:prstGeom>
          <a:solidFill>
            <a:srgbClr val="e3a1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 купли-прода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Блок-схема: знак завершения 3"/>
          <p:cNvGrpSpPr/>
          <p:nvPr/>
        </p:nvGrpSpPr>
        <p:grpSpPr>
          <a:xfrm>
            <a:off x="219240" y="1895400"/>
            <a:ext cx="4060800" cy="1165320"/>
            <a:chOff x="219240" y="1895400"/>
            <a:chExt cx="4060800" cy="1165320"/>
          </a:xfrm>
        </p:grpSpPr>
        <p:pic>
          <p:nvPicPr>
            <p:cNvPr id="338" name="Блок-схема: знак завершения 3" descr=""/>
            <p:cNvPicPr/>
            <p:nvPr/>
          </p:nvPicPr>
          <p:blipFill>
            <a:blip r:embed="rId1"/>
            <a:stretch/>
          </p:blipFill>
          <p:spPr>
            <a:xfrm>
              <a:off x="219240" y="1895400"/>
              <a:ext cx="406080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87440" y="2125800"/>
              <a:ext cx="3521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язанность продавц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Блок-схема: знак завершения 4"/>
          <p:cNvGrpSpPr/>
          <p:nvPr/>
        </p:nvGrpSpPr>
        <p:grpSpPr>
          <a:xfrm>
            <a:off x="4791240" y="1895400"/>
            <a:ext cx="4060800" cy="1165320"/>
            <a:chOff x="4791240" y="1895400"/>
            <a:chExt cx="4060800" cy="1165320"/>
          </a:xfrm>
        </p:grpSpPr>
        <p:pic>
          <p:nvPicPr>
            <p:cNvPr id="341" name="Блок-схема: знак завершения 4" descr=""/>
            <p:cNvPicPr/>
            <p:nvPr/>
          </p:nvPicPr>
          <p:blipFill>
            <a:blip r:embed="rId2"/>
            <a:stretch/>
          </p:blipFill>
          <p:spPr>
            <a:xfrm>
              <a:off x="4791240" y="1895400"/>
              <a:ext cx="406080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059440" y="2125800"/>
              <a:ext cx="3521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язанность покупателя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Загнутый угол 5"/>
          <p:cNvGrpSpPr/>
          <p:nvPr/>
        </p:nvGrpSpPr>
        <p:grpSpPr>
          <a:xfrm>
            <a:off x="755640" y="3571920"/>
            <a:ext cx="2987640" cy="2689200"/>
            <a:chOff x="755640" y="3571920"/>
            <a:chExt cx="2987640" cy="2689200"/>
          </a:xfrm>
        </p:grpSpPr>
        <p:pic>
          <p:nvPicPr>
            <p:cNvPr id="344" name="Загнутый угол 5" descr=""/>
            <p:cNvPicPr/>
            <p:nvPr/>
          </p:nvPicPr>
          <p:blipFill>
            <a:blip r:embed="rId3"/>
            <a:stretch/>
          </p:blipFill>
          <p:spPr>
            <a:xfrm>
              <a:off x="755640" y="3571920"/>
              <a:ext cx="29876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838080" y="3657600"/>
              <a:ext cx="281952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едать товар в собственность покупател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Загнутый угол 6"/>
          <p:cNvGrpSpPr/>
          <p:nvPr/>
        </p:nvGrpSpPr>
        <p:grpSpPr>
          <a:xfrm>
            <a:off x="5327640" y="3571920"/>
            <a:ext cx="2987640" cy="2689200"/>
            <a:chOff x="5327640" y="3571920"/>
            <a:chExt cx="2987640" cy="2689200"/>
          </a:xfrm>
        </p:grpSpPr>
        <p:pic>
          <p:nvPicPr>
            <p:cNvPr id="347" name="Загнутый угол 6" descr=""/>
            <p:cNvPicPr/>
            <p:nvPr/>
          </p:nvPicPr>
          <p:blipFill>
            <a:blip r:embed="rId4"/>
            <a:stretch/>
          </p:blipFill>
          <p:spPr>
            <a:xfrm>
              <a:off x="5327640" y="3571920"/>
              <a:ext cx="29876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410080" y="3657600"/>
              <a:ext cx="281952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нять этот товар и уплатить за него определенную денежную сумм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9" name="Скругленная соединительная линия 8"/>
          <p:cNvCxnSpPr>
            <a:stCxn id="336" idx="4"/>
            <a:endCxn id="338" idx="0"/>
          </p:cNvCxnSpPr>
          <p:nvPr/>
        </p:nvCxnSpPr>
        <p:spPr>
          <a:xfrm rot="5400000">
            <a:off x="3104280" y="361800"/>
            <a:ext cx="762480" cy="247716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50" name="Скругленная соединительная линия 10"/>
          <p:cNvCxnSpPr>
            <a:stCxn id="336" idx="4"/>
            <a:endCxn id="341" idx="0"/>
          </p:cNvCxnSpPr>
          <p:nvPr/>
        </p:nvCxnSpPr>
        <p:spPr>
          <a:xfrm flipH="1" rot="16200000">
            <a:off x="5390280" y="552240"/>
            <a:ext cx="762480" cy="209628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51" name="Прямая со стрелкой 12"/>
          <p:cNvCxnSpPr>
            <a:stCxn id="338" idx="2"/>
            <a:endCxn id="344" idx="0"/>
          </p:cNvCxnSpPr>
          <p:nvPr/>
        </p:nvCxnSpPr>
        <p:spPr>
          <a:xfrm flipH="1">
            <a:off x="2245680" y="2972880"/>
            <a:ext cx="3960" cy="686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52" name="Прямая со стрелкой 14"/>
          <p:cNvCxnSpPr>
            <a:stCxn id="341" idx="2"/>
            <a:endCxn id="347" idx="0"/>
          </p:cNvCxnSpPr>
          <p:nvPr/>
        </p:nvCxnSpPr>
        <p:spPr>
          <a:xfrm flipH="1">
            <a:off x="6817680" y="2972880"/>
            <a:ext cx="3960" cy="686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кругленный прямоугольник 1"/>
          <p:cNvSpPr/>
          <p:nvPr/>
        </p:nvSpPr>
        <p:spPr>
          <a:xfrm>
            <a:off x="1447920" y="533520"/>
            <a:ext cx="6933960" cy="1523880"/>
          </a:xfrm>
          <a:prstGeom prst="roundRect">
            <a:avLst>
              <a:gd name="adj" fmla="val 27116"/>
            </a:avLst>
          </a:prstGeom>
          <a:solidFill>
            <a:srgbClr val="e3a192"/>
          </a:solidFill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ование длительных хозяйственных отношений происходит с помощ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Облако 2"/>
          <p:cNvGrpSpPr/>
          <p:nvPr/>
        </p:nvGrpSpPr>
        <p:grpSpPr>
          <a:xfrm>
            <a:off x="1584360" y="3048120"/>
            <a:ext cx="4902120" cy="2305080"/>
            <a:chOff x="1584360" y="3048120"/>
            <a:chExt cx="4902120" cy="2305080"/>
          </a:xfrm>
        </p:grpSpPr>
        <p:pic>
          <p:nvPicPr>
            <p:cNvPr id="355" name="Облако 2" descr=""/>
            <p:cNvPicPr/>
            <p:nvPr/>
          </p:nvPicPr>
          <p:blipFill>
            <a:blip r:embed="rId1"/>
            <a:stretch/>
          </p:blipFill>
          <p:spPr>
            <a:xfrm>
              <a:off x="1584360" y="3048120"/>
              <a:ext cx="49021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327400" y="3446640"/>
              <a:ext cx="3085920" cy="13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Договоров купли-продаж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Выгнутая влево стрелка 3"/>
          <p:cNvSpPr/>
          <p:nvPr/>
        </p:nvSpPr>
        <p:spPr>
          <a:xfrm>
            <a:off x="533520" y="1905120"/>
            <a:ext cx="914400" cy="2209680"/>
          </a:xfrm>
          <a:custGeom>
            <a:avLst/>
            <a:gdLst>
              <a:gd name="textAreaLeft" fmla="*/ 122400 w 914400"/>
              <a:gd name="textAreaRight" fmla="*/ 792000 w 914400"/>
              <a:gd name="textAreaTop" fmla="*/ 466560 h 2209680"/>
              <a:gd name="textAreaBottom" fmla="*/ 16286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4" stAng="-5400000" swAng="-5400000"/>
                <a:lnTo>
                  <a:pt x="0" y="11359"/>
                </a:lnTo>
                <a:arcTo wR="21600" hR="9124" stAng="10800000" swAng="-3513864"/>
                <a:lnTo>
                  <a:pt x="16200" y="21310"/>
                </a:lnTo>
                <a:lnTo>
                  <a:pt x="21600" y="19366"/>
                </a:lnTo>
                <a:lnTo>
                  <a:pt x="16200" y="16841"/>
                </a:lnTo>
                <a:lnTo>
                  <a:pt x="16200" y="17958"/>
                </a:lnTo>
                <a:arcTo wR="21600" hR="9124" stAng="7286136" swAng="3334822"/>
                <a:lnTo>
                  <a:pt x="163" y="10241"/>
                </a:lnTo>
                <a:arcTo wR="21600" hR="9124" stAng="-10620957" swAng="5220957"/>
                <a:close/>
              </a:path>
              <a:path fill="darkenLess" w="21600" h="21600">
                <a:moveTo>
                  <a:pt x="21600" y="0"/>
                </a:moveTo>
                <a:arcTo wR="21600" hR="9124" stAng="-5400000" swAng="-5400000"/>
                <a:lnTo>
                  <a:pt x="0" y="9124"/>
                </a:lnTo>
                <a:arcTo wR="21600" hR="9124" stAng="10800000" swAng="-179043"/>
                <a:lnTo>
                  <a:pt x="163" y="10241"/>
                </a:lnTo>
                <a:arcTo wR="21600" hR="9124" stAng="-10620957" swAng="5220957"/>
                <a:close/>
              </a:path>
            </a:pathLst>
          </a:custGeom>
          <a:solidFill>
            <a:srgbClr val="bacece"/>
          </a:solidFill>
          <a:ln w="2844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Блок-схема: решение 1"/>
          <p:cNvSpPr/>
          <p:nvPr/>
        </p:nvSpPr>
        <p:spPr>
          <a:xfrm>
            <a:off x="1143000" y="304920"/>
            <a:ext cx="6019920" cy="1600200"/>
          </a:xfrm>
          <a:prstGeom prst="flowChartDecision">
            <a:avLst/>
          </a:prstGeom>
          <a:solidFill>
            <a:srgbClr val="edc1b6"/>
          </a:solidFill>
          <a:ln w="19080">
            <a:solidFill>
              <a:srgbClr val="712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товые рын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Блок-схема: дисплей 2"/>
          <p:cNvSpPr/>
          <p:nvPr/>
        </p:nvSpPr>
        <p:spPr>
          <a:xfrm>
            <a:off x="2133720" y="2971800"/>
            <a:ext cx="6476760" cy="3048120"/>
          </a:xfrm>
          <a:prstGeom prst="flowChartDisplay">
            <a:avLst/>
          </a:prstGeom>
          <a:solidFill>
            <a:srgbClr val="fff185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ые хозяйственные структуры, осуществляющие организацию операций по купле-продаже оптовых партий товаров в определенном месте и по установленным правил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Выгнутая влево стрелка 3"/>
          <p:cNvSpPr/>
          <p:nvPr/>
        </p:nvSpPr>
        <p:spPr>
          <a:xfrm>
            <a:off x="1523880" y="1523880"/>
            <a:ext cx="838440" cy="2210040"/>
          </a:xfrm>
          <a:custGeom>
            <a:avLst/>
            <a:gdLst>
              <a:gd name="textAreaLeft" fmla="*/ 112320 w 838440"/>
              <a:gd name="textAreaRight" fmla="*/ 726120 w 838440"/>
              <a:gd name="textAreaTop" fmla="*/ 456480 h 2210040"/>
              <a:gd name="textAreaBottom" fmla="*/ 157968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7" stAng="-5400000" swAng="-5400000"/>
                <a:lnTo>
                  <a:pt x="0" y="10976"/>
                </a:lnTo>
                <a:arcTo wR="21600" hR="8927" stAng="10800000" swAng="-3374295"/>
                <a:lnTo>
                  <a:pt x="15848" y="21278"/>
                </a:lnTo>
                <a:lnTo>
                  <a:pt x="21600" y="18879"/>
                </a:lnTo>
                <a:lnTo>
                  <a:pt x="15848" y="15835"/>
                </a:lnTo>
                <a:lnTo>
                  <a:pt x="15848" y="17532"/>
                </a:lnTo>
                <a:arcTo wR="21600" hR="8927" stAng="7425705" swAng="3210281"/>
                <a:lnTo>
                  <a:pt x="143" y="9951"/>
                </a:lnTo>
                <a:arcTo wR="21600" hR="8927" stAng="-10635986" swAng="5235986"/>
                <a:close/>
              </a:path>
              <a:path fill="darkenLess" w="21600" h="21600">
                <a:moveTo>
                  <a:pt x="21600" y="0"/>
                </a:moveTo>
                <a:arcTo wR="21600" hR="8927" stAng="-5400000" swAng="-5400000"/>
                <a:lnTo>
                  <a:pt x="0" y="8927"/>
                </a:lnTo>
                <a:arcTo wR="21600" hR="8927" stAng="10800000" swAng="-164014"/>
                <a:lnTo>
                  <a:pt x="143" y="9951"/>
                </a:lnTo>
                <a:arcTo wR="21600" hR="8927" stAng="-10635986" swAng="5235986"/>
                <a:close/>
              </a:path>
            </a:pathLst>
          </a:custGeom>
          <a:solidFill>
            <a:srgbClr val="fff8c2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Блок-схема: решение 1"/>
          <p:cNvGrpSpPr/>
          <p:nvPr/>
        </p:nvGrpSpPr>
        <p:grpSpPr>
          <a:xfrm>
            <a:off x="1285920" y="298440"/>
            <a:ext cx="6572160" cy="2073240"/>
            <a:chOff x="1285920" y="298440"/>
            <a:chExt cx="6572160" cy="2073240"/>
          </a:xfrm>
        </p:grpSpPr>
        <p:pic>
          <p:nvPicPr>
            <p:cNvPr id="362" name="Блок-схема: решение 1" descr=""/>
            <p:cNvPicPr/>
            <p:nvPr/>
          </p:nvPicPr>
          <p:blipFill>
            <a:blip r:embed="rId1"/>
            <a:stretch/>
          </p:blipFill>
          <p:spPr>
            <a:xfrm>
              <a:off x="1285920" y="298440"/>
              <a:ext cx="657216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2971800" y="857160"/>
              <a:ext cx="32004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птовые рынки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Блок-схема: узел 2"/>
          <p:cNvGrpSpPr/>
          <p:nvPr/>
        </p:nvGrpSpPr>
        <p:grpSpPr>
          <a:xfrm>
            <a:off x="1060560" y="3041640"/>
            <a:ext cx="3139920" cy="2835360"/>
            <a:chOff x="1060560" y="3041640"/>
            <a:chExt cx="3139920" cy="2835360"/>
          </a:xfrm>
        </p:grpSpPr>
        <p:pic>
          <p:nvPicPr>
            <p:cNvPr id="365" name="Блок-схема: узел 2" descr=""/>
            <p:cNvPicPr/>
            <p:nvPr/>
          </p:nvPicPr>
          <p:blipFill>
            <a:blip r:embed="rId2"/>
            <a:stretch/>
          </p:blipFill>
          <p:spPr>
            <a:xfrm>
              <a:off x="1060560" y="3041640"/>
              <a:ext cx="313992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577880" y="3514680"/>
              <a:ext cx="2102040" cy="18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ниверсальны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Блок-схема: узел 3"/>
          <p:cNvGrpSpPr/>
          <p:nvPr/>
        </p:nvGrpSpPr>
        <p:grpSpPr>
          <a:xfrm>
            <a:off x="5175360" y="3041640"/>
            <a:ext cx="3139920" cy="2835360"/>
            <a:chOff x="5175360" y="3041640"/>
            <a:chExt cx="3139920" cy="2835360"/>
          </a:xfrm>
        </p:grpSpPr>
        <p:pic>
          <p:nvPicPr>
            <p:cNvPr id="368" name="Блок-схема: узел 3" descr=""/>
            <p:cNvPicPr/>
            <p:nvPr/>
          </p:nvPicPr>
          <p:blipFill>
            <a:blip r:embed="rId3"/>
            <a:stretch/>
          </p:blipFill>
          <p:spPr>
            <a:xfrm>
              <a:off x="5175360" y="3041640"/>
              <a:ext cx="313992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692680" y="3514680"/>
              <a:ext cx="2102040" cy="18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пециализированны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Стрелка вправо с вырезом 4"/>
          <p:cNvSpPr/>
          <p:nvPr/>
        </p:nvSpPr>
        <p:spPr>
          <a:xfrm rot="5400000">
            <a:off x="1638000" y="2019240"/>
            <a:ext cx="1219320" cy="685800"/>
          </a:xfrm>
          <a:custGeom>
            <a:avLst/>
            <a:gdLst>
              <a:gd name="textAreaLeft" fmla="*/ 171360 w 1219320"/>
              <a:gd name="textAreaRight" fmla="*/ 1047960 w 1219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525" y="5400"/>
                </a:lnTo>
                <a:lnTo>
                  <a:pt x="15525" y="0"/>
                </a:lnTo>
                <a:lnTo>
                  <a:pt x="21600" y="10800"/>
                </a:lnTo>
                <a:lnTo>
                  <a:pt x="15525" y="21600"/>
                </a:lnTo>
                <a:lnTo>
                  <a:pt x="15525" y="16200"/>
                </a:lnTo>
                <a:lnTo>
                  <a:pt x="0" y="16200"/>
                </a:lnTo>
                <a:lnTo>
                  <a:pt x="303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трелка вправо с вырезом 5"/>
          <p:cNvSpPr/>
          <p:nvPr/>
        </p:nvSpPr>
        <p:spPr>
          <a:xfrm rot="5400000">
            <a:off x="6438600" y="2019240"/>
            <a:ext cx="1219320" cy="685800"/>
          </a:xfrm>
          <a:custGeom>
            <a:avLst/>
            <a:gdLst>
              <a:gd name="textAreaLeft" fmla="*/ 171360 w 1219320"/>
              <a:gd name="textAreaRight" fmla="*/ 1047960 w 1219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525" y="5400"/>
                </a:lnTo>
                <a:lnTo>
                  <a:pt x="15525" y="0"/>
                </a:lnTo>
                <a:lnTo>
                  <a:pt x="21600" y="10800"/>
                </a:lnTo>
                <a:lnTo>
                  <a:pt x="15525" y="21600"/>
                </a:lnTo>
                <a:lnTo>
                  <a:pt x="15525" y="16200"/>
                </a:lnTo>
                <a:lnTo>
                  <a:pt x="0" y="16200"/>
                </a:lnTo>
                <a:lnTo>
                  <a:pt x="303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Блок-схема: знак завершения 2"/>
          <p:cNvSpPr/>
          <p:nvPr/>
        </p:nvSpPr>
        <p:spPr>
          <a:xfrm>
            <a:off x="1371600" y="380880"/>
            <a:ext cx="6477120" cy="1143000"/>
          </a:xfrm>
          <a:prstGeom prst="flowChartTerminator">
            <a:avLst/>
          </a:prstGeom>
          <a:solidFill>
            <a:srgbClr val="e3a1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альные группы на территории ры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3"/>
          <p:cNvSpPr/>
          <p:nvPr/>
        </p:nvSpPr>
        <p:spPr>
          <a:xfrm>
            <a:off x="380880" y="2514600"/>
            <a:ext cx="3733920" cy="1219320"/>
          </a:xfrm>
          <a:prstGeom prst="rect">
            <a:avLst/>
          </a:prstGeom>
          <a:solidFill>
            <a:srgbClr val="bcd0ba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говая (специальные здания, павильоны, киос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4"/>
          <p:cNvSpPr/>
          <p:nvPr/>
        </p:nvSpPr>
        <p:spPr>
          <a:xfrm>
            <a:off x="380880" y="4191120"/>
            <a:ext cx="3733920" cy="1904760"/>
          </a:xfrm>
          <a:prstGeom prst="rect">
            <a:avLst/>
          </a:prstGeom>
          <a:solidFill>
            <a:srgbClr val="bcd0ba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о-складская (административно-бытовые помещения, складские помещ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5"/>
          <p:cNvSpPr/>
          <p:nvPr/>
        </p:nvSpPr>
        <p:spPr>
          <a:xfrm>
            <a:off x="5257800" y="4572000"/>
            <a:ext cx="3505320" cy="938160"/>
          </a:xfrm>
          <a:prstGeom prst="rect">
            <a:avLst/>
          </a:prstGeom>
          <a:solidFill>
            <a:srgbClr val="bcd0ba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нка для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6"/>
          <p:cNvSpPr/>
          <p:nvPr/>
        </p:nvSpPr>
        <p:spPr>
          <a:xfrm>
            <a:off x="5257800" y="2514600"/>
            <a:ext cx="3505320" cy="1219320"/>
          </a:xfrm>
          <a:prstGeom prst="rect">
            <a:avLst/>
          </a:prstGeom>
          <a:solidFill>
            <a:srgbClr val="bcd0ba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зяйственная ( с площадкой для сбора мусо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7" name="Shape 8"/>
          <p:cNvCxnSpPr>
            <a:stCxn id="372" idx="2"/>
            <a:endCxn id="373" idx="3"/>
          </p:cNvCxnSpPr>
          <p:nvPr/>
        </p:nvCxnSpPr>
        <p:spPr>
          <a:xfrm rot="5400000">
            <a:off x="3561840" y="2076120"/>
            <a:ext cx="1600920" cy="49608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378" name="Shape 10"/>
          <p:cNvCxnSpPr>
            <a:stCxn id="372" idx="2"/>
            <a:endCxn id="376" idx="1"/>
          </p:cNvCxnSpPr>
          <p:nvPr/>
        </p:nvCxnSpPr>
        <p:spPr>
          <a:xfrm flipH="1" rot="16200000">
            <a:off x="4132800" y="1999800"/>
            <a:ext cx="1600920" cy="64836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379" name="Shape 12"/>
          <p:cNvCxnSpPr>
            <a:stCxn id="372" idx="2"/>
            <a:endCxn id="374" idx="3"/>
          </p:cNvCxnSpPr>
          <p:nvPr/>
        </p:nvCxnSpPr>
        <p:spPr>
          <a:xfrm rot="5400000">
            <a:off x="2552040" y="3085920"/>
            <a:ext cx="3620520" cy="49608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380" name="Shape 14"/>
          <p:cNvCxnSpPr>
            <a:stCxn id="372" idx="2"/>
            <a:endCxn id="375" idx="1"/>
          </p:cNvCxnSpPr>
          <p:nvPr/>
        </p:nvCxnSpPr>
        <p:spPr>
          <a:xfrm flipH="1" rot="16200000">
            <a:off x="3174840" y="2958120"/>
            <a:ext cx="3517200" cy="64836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Прямоугольник с двумя скругленными соседними углами 1"/>
          <p:cNvGrpSpPr/>
          <p:nvPr/>
        </p:nvGrpSpPr>
        <p:grpSpPr>
          <a:xfrm>
            <a:off x="1133640" y="66600"/>
            <a:ext cx="7029360" cy="1238400"/>
            <a:chOff x="1133640" y="66600"/>
            <a:chExt cx="7029360" cy="1238400"/>
          </a:xfrm>
        </p:grpSpPr>
        <p:pic>
          <p:nvPicPr>
            <p:cNvPr id="382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133640" y="66600"/>
              <a:ext cx="70293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1374840" y="307800"/>
              <a:ext cx="654696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частники торгов на оптовом продовольственном рынк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Прямоугольник 2"/>
          <p:cNvGrpSpPr/>
          <p:nvPr/>
        </p:nvGrpSpPr>
        <p:grpSpPr>
          <a:xfrm>
            <a:off x="371520" y="1743120"/>
            <a:ext cx="3603600" cy="860400"/>
            <a:chOff x="371520" y="1743120"/>
            <a:chExt cx="3603600" cy="860400"/>
          </a:xfrm>
        </p:grpSpPr>
        <p:pic>
          <p:nvPicPr>
            <p:cNvPr id="38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71520" y="1743120"/>
              <a:ext cx="36036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57200" y="1828800"/>
              <a:ext cx="3429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давцы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Прямоугольник 3"/>
          <p:cNvGrpSpPr/>
          <p:nvPr/>
        </p:nvGrpSpPr>
        <p:grpSpPr>
          <a:xfrm>
            <a:off x="5175360" y="1743120"/>
            <a:ext cx="3597120" cy="860400"/>
            <a:chOff x="5175360" y="1743120"/>
            <a:chExt cx="3597120" cy="860400"/>
          </a:xfrm>
        </p:grpSpPr>
        <p:pic>
          <p:nvPicPr>
            <p:cNvPr id="38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175360" y="1743120"/>
              <a:ext cx="35971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257800" y="1828800"/>
              <a:ext cx="3429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купател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Прямоугольник 4"/>
          <p:cNvGrpSpPr/>
          <p:nvPr/>
        </p:nvGrpSpPr>
        <p:grpSpPr>
          <a:xfrm>
            <a:off x="2809800" y="5857920"/>
            <a:ext cx="3676680" cy="860400"/>
            <a:chOff x="2809800" y="5857920"/>
            <a:chExt cx="3676680" cy="860400"/>
          </a:xfrm>
        </p:grpSpPr>
        <p:pic>
          <p:nvPicPr>
            <p:cNvPr id="391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809800" y="5857920"/>
              <a:ext cx="36766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895480" y="5943600"/>
              <a:ext cx="3505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сонал оптового рын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Скругленный прямоугольник 5"/>
          <p:cNvGrpSpPr/>
          <p:nvPr/>
        </p:nvGrpSpPr>
        <p:grpSpPr>
          <a:xfrm>
            <a:off x="907920" y="2962440"/>
            <a:ext cx="3067200" cy="780840"/>
            <a:chOff x="907920" y="2962440"/>
            <a:chExt cx="3067200" cy="780840"/>
          </a:xfrm>
        </p:grpSpPr>
        <p:pic>
          <p:nvPicPr>
            <p:cNvPr id="394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907920" y="2962440"/>
              <a:ext cx="3067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023840" y="3081240"/>
              <a:ext cx="28288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оваропроизводител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Скругленный прямоугольник 6"/>
          <p:cNvGrpSpPr/>
          <p:nvPr/>
        </p:nvGrpSpPr>
        <p:grpSpPr>
          <a:xfrm>
            <a:off x="907920" y="3956040"/>
            <a:ext cx="3067200" cy="781200"/>
            <a:chOff x="907920" y="3956040"/>
            <a:chExt cx="3067200" cy="781200"/>
          </a:xfrm>
        </p:grpSpPr>
        <p:pic>
          <p:nvPicPr>
            <p:cNvPr id="397" name="Скругленный 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907920" y="3956040"/>
              <a:ext cx="30672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023840" y="4071960"/>
              <a:ext cx="28288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товые предприятия-посредники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Скругленный прямоугольник 7"/>
          <p:cNvGrpSpPr/>
          <p:nvPr/>
        </p:nvGrpSpPr>
        <p:grpSpPr>
          <a:xfrm>
            <a:off x="5632560" y="2962440"/>
            <a:ext cx="3066840" cy="860400"/>
            <a:chOff x="5632560" y="2962440"/>
            <a:chExt cx="3066840" cy="860400"/>
          </a:xfrm>
        </p:grpSpPr>
        <p:pic>
          <p:nvPicPr>
            <p:cNvPr id="400" name="Скругленный 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5632560" y="2962440"/>
              <a:ext cx="30668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753160" y="308628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едприятия розничной торговл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Скругленный прямоугольник 8"/>
          <p:cNvGrpSpPr/>
          <p:nvPr/>
        </p:nvGrpSpPr>
        <p:grpSpPr>
          <a:xfrm>
            <a:off x="5632560" y="3876840"/>
            <a:ext cx="3066840" cy="860400"/>
            <a:chOff x="5632560" y="3876840"/>
            <a:chExt cx="3066840" cy="860400"/>
          </a:xfrm>
        </p:grpSpPr>
        <p:pic>
          <p:nvPicPr>
            <p:cNvPr id="403" name="Скругленный 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5632560" y="3876840"/>
              <a:ext cx="30668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753160" y="400068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едприятия общественного пита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Скругленный прямоугольник 9"/>
          <p:cNvGrpSpPr/>
          <p:nvPr/>
        </p:nvGrpSpPr>
        <p:grpSpPr>
          <a:xfrm>
            <a:off x="5632560" y="4718160"/>
            <a:ext cx="3066840" cy="1085760"/>
            <a:chOff x="5632560" y="4718160"/>
            <a:chExt cx="3066840" cy="1085760"/>
          </a:xfrm>
        </p:grpSpPr>
        <p:pic>
          <p:nvPicPr>
            <p:cNvPr id="406" name="Скругленный прямоугольник 9" descr=""/>
            <p:cNvPicPr/>
            <p:nvPr/>
          </p:nvPicPr>
          <p:blipFill>
            <a:blip r:embed="rId9"/>
            <a:stretch/>
          </p:blipFill>
          <p:spPr>
            <a:xfrm>
              <a:off x="5632560" y="4718160"/>
              <a:ext cx="30668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765760" y="4851360"/>
              <a:ext cx="2793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ругие потребители, регулярно закупающие това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08" name="Прямая со стрелкой 11"/>
          <p:cNvCxnSpPr>
            <a:stCxn id="382" idx="1"/>
            <a:endCxn id="385" idx="0"/>
          </p:cNvCxnSpPr>
          <p:nvPr/>
        </p:nvCxnSpPr>
        <p:spPr>
          <a:xfrm flipH="1">
            <a:off x="2171160" y="1218960"/>
            <a:ext cx="2477160" cy="610200"/>
          </a:xfrm>
          <a:prstGeom prst="straightConnector1">
            <a:avLst/>
          </a:prstGeom>
          <a:ln w="38160">
            <a:solidFill>
              <a:srgbClr val="111618"/>
            </a:solidFill>
            <a:miter/>
            <a:tailEnd len="med" type="arrow" w="med"/>
          </a:ln>
        </p:spPr>
      </p:cxnSp>
      <p:cxnSp>
        <p:nvCxnSpPr>
          <p:cNvPr id="409" name="Прямая со стрелкой 13"/>
          <p:cNvCxnSpPr>
            <a:stCxn id="382" idx="1"/>
            <a:endCxn id="388" idx="0"/>
          </p:cNvCxnSpPr>
          <p:nvPr/>
        </p:nvCxnSpPr>
        <p:spPr>
          <a:xfrm>
            <a:off x="4648320" y="1218960"/>
            <a:ext cx="2324880" cy="610200"/>
          </a:xfrm>
          <a:prstGeom prst="straightConnector1">
            <a:avLst/>
          </a:prstGeom>
          <a:ln w="38160">
            <a:solidFill>
              <a:srgbClr val="111618"/>
            </a:solidFill>
            <a:miter/>
            <a:tailEnd len="med" type="arrow" w="med"/>
          </a:ln>
        </p:spPr>
      </p:cxnSp>
      <p:cxnSp>
        <p:nvCxnSpPr>
          <p:cNvPr id="410" name="Прямая со стрелкой 15"/>
          <p:cNvCxnSpPr>
            <a:stCxn id="382" idx="1"/>
            <a:endCxn id="391" idx="0"/>
          </p:cNvCxnSpPr>
          <p:nvPr/>
        </p:nvCxnSpPr>
        <p:spPr>
          <a:xfrm flipH="1">
            <a:off x="4645800" y="1220400"/>
            <a:ext cx="3960" cy="4725000"/>
          </a:xfrm>
          <a:prstGeom prst="straightConnector1">
            <a:avLst/>
          </a:prstGeom>
          <a:ln w="38160">
            <a:solidFill>
              <a:srgbClr val="111618"/>
            </a:solidFill>
            <a:miter/>
            <a:tailEnd len="med" type="arrow" w="med"/>
          </a:ln>
        </p:spPr>
      </p:cxnSp>
      <p:cxnSp>
        <p:nvCxnSpPr>
          <p:cNvPr id="411" name="Скругленная соединительная линия 20"/>
          <p:cNvCxnSpPr>
            <a:stCxn id="385" idx="1"/>
            <a:endCxn id="394" idx="1"/>
          </p:cNvCxnSpPr>
          <p:nvPr/>
        </p:nvCxnSpPr>
        <p:spPr>
          <a:xfrm flipH="1" flipV="1" rot="10800000">
            <a:off x="456840" y="2171520"/>
            <a:ext cx="534240" cy="1181520"/>
          </a:xfrm>
          <a:prstGeom prst="curvedConnector5">
            <a:avLst>
              <a:gd name="adj1" fmla="val -42818"/>
              <a:gd name="adj2" fmla="val 49984"/>
              <a:gd name="adj3" fmla="val -42818"/>
            </a:avLst>
          </a:prstGeom>
          <a:ln w="38160">
            <a:solidFill>
              <a:srgbClr val="111618"/>
            </a:solidFill>
            <a:miter/>
            <a:tailEnd len="med" type="arrow" w="med"/>
          </a:ln>
        </p:spPr>
      </p:cxnSp>
      <p:cxnSp>
        <p:nvCxnSpPr>
          <p:cNvPr id="412" name="Скругленная соединительная линия 22"/>
          <p:cNvCxnSpPr>
            <a:stCxn id="385" idx="1"/>
            <a:endCxn id="397" idx="1"/>
          </p:cNvCxnSpPr>
          <p:nvPr/>
        </p:nvCxnSpPr>
        <p:spPr>
          <a:xfrm flipH="1" flipV="1" rot="10800000">
            <a:off x="456840" y="2171880"/>
            <a:ext cx="534240" cy="2171880"/>
          </a:xfrm>
          <a:prstGeom prst="curvedConnector5">
            <a:avLst>
              <a:gd name="adj1" fmla="val -42818"/>
              <a:gd name="adj2" fmla="val 50000"/>
              <a:gd name="adj3" fmla="val -42818"/>
            </a:avLst>
          </a:prstGeom>
          <a:ln w="38160">
            <a:solidFill>
              <a:srgbClr val="111618"/>
            </a:solidFill>
            <a:miter/>
            <a:tailEnd len="med" type="arrow" w="med"/>
          </a:ln>
        </p:spPr>
      </p:cxnSp>
      <p:cxnSp>
        <p:nvCxnSpPr>
          <p:cNvPr id="413" name="Скругленная соединительная линия 24"/>
          <p:cNvCxnSpPr>
            <a:stCxn id="388" idx="1"/>
            <a:endCxn id="400" idx="1"/>
          </p:cNvCxnSpPr>
          <p:nvPr/>
        </p:nvCxnSpPr>
        <p:spPr>
          <a:xfrm flipH="1" flipV="1" rot="10800000">
            <a:off x="5257440" y="2171520"/>
            <a:ext cx="457920" cy="1219680"/>
          </a:xfrm>
          <a:prstGeom prst="curvedConnector5">
            <a:avLst>
              <a:gd name="adj1" fmla="val -29032"/>
              <a:gd name="adj2" fmla="val 49985"/>
              <a:gd name="adj3" fmla="val -29032"/>
            </a:avLst>
          </a:prstGeom>
          <a:ln w="38160">
            <a:solidFill>
              <a:srgbClr val="111618"/>
            </a:solidFill>
            <a:miter/>
            <a:tailEnd len="med" type="arrow" w="med"/>
          </a:ln>
        </p:spPr>
      </p:cxnSp>
      <p:cxnSp>
        <p:nvCxnSpPr>
          <p:cNvPr id="414" name="Скругленная соединительная линия 26"/>
          <p:cNvCxnSpPr>
            <a:stCxn id="388" idx="1"/>
            <a:endCxn id="403" idx="1"/>
          </p:cNvCxnSpPr>
          <p:nvPr/>
        </p:nvCxnSpPr>
        <p:spPr>
          <a:xfrm flipH="1" flipV="1" rot="10800000">
            <a:off x="5257440" y="2171520"/>
            <a:ext cx="457920" cy="2134080"/>
          </a:xfrm>
          <a:prstGeom prst="curvedConnector5">
            <a:avLst>
              <a:gd name="adj1" fmla="val -26042"/>
              <a:gd name="adj2" fmla="val 49991"/>
              <a:gd name="adj3" fmla="val -26042"/>
            </a:avLst>
          </a:prstGeom>
          <a:ln w="38160">
            <a:solidFill>
              <a:srgbClr val="111618"/>
            </a:solidFill>
            <a:miter/>
            <a:tailEnd len="med" type="arrow" w="med"/>
          </a:ln>
        </p:spPr>
      </p:cxnSp>
      <p:cxnSp>
        <p:nvCxnSpPr>
          <p:cNvPr id="415" name="Скругленная соединительная линия 30"/>
          <p:cNvCxnSpPr>
            <a:stCxn id="388" idx="1"/>
            <a:endCxn id="406" idx="1"/>
          </p:cNvCxnSpPr>
          <p:nvPr/>
        </p:nvCxnSpPr>
        <p:spPr>
          <a:xfrm flipH="1" flipV="1" rot="10800000">
            <a:off x="5257440" y="2171520"/>
            <a:ext cx="457920" cy="3086640"/>
          </a:xfrm>
          <a:prstGeom prst="curvedConnector5">
            <a:avLst>
              <a:gd name="adj1" fmla="val -49960"/>
              <a:gd name="adj2" fmla="val 49994"/>
              <a:gd name="adj3" fmla="val -49960"/>
            </a:avLst>
          </a:prstGeom>
          <a:ln w="38160">
            <a:solidFill>
              <a:srgbClr val="111618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Блок-схема: знак завершения 1"/>
          <p:cNvSpPr/>
          <p:nvPr/>
        </p:nvSpPr>
        <p:spPr>
          <a:xfrm>
            <a:off x="838080" y="228600"/>
            <a:ext cx="7391520" cy="1600200"/>
          </a:xfrm>
          <a:prstGeom prst="flowChartTerminator">
            <a:avLst/>
          </a:prstGeom>
          <a:solidFill>
            <a:srgbClr val="e3a1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видностью оптового рынка являются новые мелкооптовые «магазины для магазинов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Блок-схема: узел 2"/>
          <p:cNvSpPr/>
          <p:nvPr/>
        </p:nvSpPr>
        <p:spPr>
          <a:xfrm>
            <a:off x="2819520" y="3276720"/>
            <a:ext cx="3352680" cy="2971800"/>
          </a:xfrm>
          <a:prstGeom prst="flowChartConnector">
            <a:avLst/>
          </a:prstGeom>
          <a:solidFill>
            <a:srgbClr val="fff185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 &amp; 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Стрелка вправо с вырезом 4"/>
          <p:cNvSpPr/>
          <p:nvPr/>
        </p:nvSpPr>
        <p:spPr>
          <a:xfrm rot="5400000">
            <a:off x="3932640" y="2162880"/>
            <a:ext cx="1125720" cy="762120"/>
          </a:xfrm>
          <a:custGeom>
            <a:avLst/>
            <a:gdLst>
              <a:gd name="textAreaLeft" fmla="*/ 190440 w 1125720"/>
              <a:gd name="textAreaRight" fmla="*/ 935280 w 11257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285" y="5400"/>
                </a:lnTo>
                <a:lnTo>
                  <a:pt x="14285" y="0"/>
                </a:lnTo>
                <a:lnTo>
                  <a:pt x="21600" y="10800"/>
                </a:lnTo>
                <a:lnTo>
                  <a:pt x="14285" y="21600"/>
                </a:lnTo>
                <a:lnTo>
                  <a:pt x="14285" y="16200"/>
                </a:lnTo>
                <a:lnTo>
                  <a:pt x="0" y="16200"/>
                </a:lnTo>
                <a:lnTo>
                  <a:pt x="36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с двумя скругленными противолежащими углами 1"/>
          <p:cNvSpPr/>
          <p:nvPr/>
        </p:nvSpPr>
        <p:spPr>
          <a:xfrm>
            <a:off x="1066680" y="457200"/>
            <a:ext cx="7086600" cy="914400"/>
          </a:xfrm>
          <a:prstGeom prst="pie">
            <a:avLst/>
          </a:prstGeom>
          <a:solidFill>
            <a:srgbClr val="e3a1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овые закупки и продажи могут осуществлять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2"/>
          <p:cNvSpPr/>
          <p:nvPr/>
        </p:nvSpPr>
        <p:spPr>
          <a:xfrm>
            <a:off x="380880" y="2666880"/>
            <a:ext cx="3657600" cy="685800"/>
          </a:xfrm>
          <a:prstGeom prst="rect">
            <a:avLst/>
          </a:prstGeom>
          <a:solidFill>
            <a:srgbClr val="e3bc92"/>
          </a:solidFill>
          <a:ln w="19080">
            <a:solidFill>
              <a:srgbClr val="7148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птовых ярмар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3"/>
          <p:cNvSpPr/>
          <p:nvPr/>
        </p:nvSpPr>
        <p:spPr>
          <a:xfrm>
            <a:off x="380880" y="4267080"/>
            <a:ext cx="3657600" cy="685800"/>
          </a:xfrm>
          <a:prstGeom prst="rect">
            <a:avLst/>
          </a:prstGeom>
          <a:solidFill>
            <a:srgbClr val="e3bc92"/>
          </a:solidFill>
          <a:ln w="19080">
            <a:solidFill>
              <a:srgbClr val="7148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рговых бирж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4"/>
          <p:cNvSpPr/>
          <p:nvPr/>
        </p:nvSpPr>
        <p:spPr>
          <a:xfrm>
            <a:off x="5181480" y="2666880"/>
            <a:ext cx="3657600" cy="685800"/>
          </a:xfrm>
          <a:prstGeom prst="rect">
            <a:avLst/>
          </a:prstGeom>
          <a:solidFill>
            <a:srgbClr val="e3bc92"/>
          </a:solidFill>
          <a:ln w="19080">
            <a:solidFill>
              <a:srgbClr val="7148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рговых аукцион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5"/>
          <p:cNvSpPr/>
          <p:nvPr/>
        </p:nvSpPr>
        <p:spPr>
          <a:xfrm>
            <a:off x="5257800" y="3886200"/>
            <a:ext cx="3657600" cy="1523880"/>
          </a:xfrm>
          <a:prstGeom prst="rect">
            <a:avLst/>
          </a:prstGeom>
          <a:solidFill>
            <a:srgbClr val="e3bc92"/>
          </a:solidFill>
          <a:ln w="19080">
            <a:solidFill>
              <a:srgbClr val="7148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установления непосредственных контактов с поставщи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4" name="Shape 8"/>
          <p:cNvCxnSpPr>
            <a:stCxn id="419" idx="4"/>
            <a:endCxn id="420" idx="3"/>
          </p:cNvCxnSpPr>
          <p:nvPr/>
        </p:nvCxnSpPr>
        <p:spPr>
          <a:xfrm rot="5400000">
            <a:off x="3504600" y="1904760"/>
            <a:ext cx="1639080" cy="572400"/>
          </a:xfrm>
          <a:prstGeom prst="curvedConnector2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25" name="Shape 10"/>
          <p:cNvCxnSpPr>
            <a:stCxn id="419" idx="5"/>
            <a:endCxn id="422" idx="1"/>
          </p:cNvCxnSpPr>
          <p:nvPr/>
        </p:nvCxnSpPr>
        <p:spPr>
          <a:xfrm flipH="1" rot="16200000">
            <a:off x="4075560" y="1904760"/>
            <a:ext cx="1639080" cy="572040"/>
          </a:xfrm>
          <a:prstGeom prst="curvedConnector2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26" name="Shape 12"/>
          <p:cNvCxnSpPr>
            <a:stCxn id="419" idx="6"/>
            <a:endCxn id="421" idx="3"/>
          </p:cNvCxnSpPr>
          <p:nvPr/>
        </p:nvCxnSpPr>
        <p:spPr>
          <a:xfrm rot="5400000">
            <a:off x="2704320" y="2705040"/>
            <a:ext cx="3239280" cy="572400"/>
          </a:xfrm>
          <a:prstGeom prst="curvedConnector2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27" name="Shape 14"/>
          <p:cNvCxnSpPr>
            <a:stCxn id="419" idx="7"/>
            <a:endCxn id="423" idx="1"/>
          </p:cNvCxnSpPr>
          <p:nvPr/>
        </p:nvCxnSpPr>
        <p:spPr>
          <a:xfrm flipH="1" rot="16200000">
            <a:off x="3294720" y="2685960"/>
            <a:ext cx="3277440" cy="648360"/>
          </a:xfrm>
          <a:prstGeom prst="curvedConnector2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15d"/>
            </a:gs>
            <a:gs pos="100000">
              <a:srgbClr val="858da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щность и значение закупочн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 Порядок заключения договора поставки, его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 Коммерческая работа по продаже товаров на предприятиях оптовой торгов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 Организация продажи товаров на оптовых рын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Организация закупок и продаж  товаров на товарных биржах, ярмарках, аукцион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966920" y="68580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товые ярмар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Капля 2"/>
          <p:cNvGrpSpPr/>
          <p:nvPr/>
        </p:nvGrpSpPr>
        <p:grpSpPr>
          <a:xfrm>
            <a:off x="450720" y="1298520"/>
            <a:ext cx="6139080" cy="5419800"/>
            <a:chOff x="450720" y="1298520"/>
            <a:chExt cx="6139080" cy="5419800"/>
          </a:xfrm>
        </p:grpSpPr>
        <p:pic>
          <p:nvPicPr>
            <p:cNvPr id="430" name="Капля 2" descr=""/>
            <p:cNvPicPr/>
            <p:nvPr/>
          </p:nvPicPr>
          <p:blipFill>
            <a:blip r:embed="rId1"/>
            <a:stretch/>
          </p:blipFill>
          <p:spPr>
            <a:xfrm>
              <a:off x="450720" y="1298520"/>
              <a:ext cx="6139080" cy="54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270080" y="2857680"/>
              <a:ext cx="35560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птовым покупателям предоставляется возможность свободно закупать товары, ознакомившись с реальными образцами товаров, предлагаемых поставщиками, подучить при этом необходимую коммерческую информацию, оперативно оформить сделки договора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out" orient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Блок-схема: подготовка 1"/>
          <p:cNvGrpSpPr/>
          <p:nvPr/>
        </p:nvGrpSpPr>
        <p:grpSpPr>
          <a:xfrm>
            <a:off x="1212840" y="371520"/>
            <a:ext cx="7254720" cy="2000160"/>
            <a:chOff x="1212840" y="371520"/>
            <a:chExt cx="7254720" cy="2000160"/>
          </a:xfrm>
        </p:grpSpPr>
        <p:pic>
          <p:nvPicPr>
            <p:cNvPr id="433" name="Блок-схема: подготовка 1" descr=""/>
            <p:cNvPicPr/>
            <p:nvPr/>
          </p:nvPicPr>
          <p:blipFill>
            <a:blip r:embed="rId1"/>
            <a:stretch/>
          </p:blipFill>
          <p:spPr>
            <a:xfrm>
              <a:off x="1212840" y="371520"/>
              <a:ext cx="725472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712960" y="457200"/>
              <a:ext cx="425124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зависимости от продолжительности функционирования оптовые ярмарки могут бы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Прямоугольник с двумя вырезанными противолежащими углами 2"/>
          <p:cNvSpPr/>
          <p:nvPr/>
        </p:nvSpPr>
        <p:spPr>
          <a:xfrm>
            <a:off x="685800" y="3505320"/>
            <a:ext cx="3809880" cy="1828800"/>
          </a:xfrm>
          <a:prstGeom prst="pie">
            <a:avLst/>
          </a:prstGeom>
          <a:solidFill>
            <a:srgbClr val="fff185"/>
          </a:solidFill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о действующи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с двумя вырезанными противолежащими углами 3"/>
          <p:cNvSpPr/>
          <p:nvPr/>
        </p:nvSpPr>
        <p:spPr>
          <a:xfrm>
            <a:off x="5029200" y="3505320"/>
            <a:ext cx="3809880" cy="1828800"/>
          </a:xfrm>
          <a:prstGeom prst="pie">
            <a:avLst/>
          </a:prstGeom>
          <a:solidFill>
            <a:srgbClr val="fff185"/>
          </a:solidFill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пизодически проводимыми торг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Стрелка вправо с вырезом 4"/>
          <p:cNvSpPr/>
          <p:nvPr/>
        </p:nvSpPr>
        <p:spPr>
          <a:xfrm rot="5400000">
            <a:off x="1028160" y="2323800"/>
            <a:ext cx="1295280" cy="762120"/>
          </a:xfrm>
          <a:custGeom>
            <a:avLst/>
            <a:gdLst>
              <a:gd name="textAreaLeft" fmla="*/ 190440 w 1295280"/>
              <a:gd name="textAreaRight" fmla="*/ 1104840 w 12952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47" y="5400"/>
                </a:lnTo>
                <a:lnTo>
                  <a:pt x="15247" y="0"/>
                </a:lnTo>
                <a:lnTo>
                  <a:pt x="21600" y="10800"/>
                </a:lnTo>
                <a:lnTo>
                  <a:pt x="15247" y="21600"/>
                </a:lnTo>
                <a:lnTo>
                  <a:pt x="15247" y="16200"/>
                </a:lnTo>
                <a:lnTo>
                  <a:pt x="0" y="16200"/>
                </a:lnTo>
                <a:lnTo>
                  <a:pt x="31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Стрелка вправо с вырезом 5"/>
          <p:cNvSpPr/>
          <p:nvPr/>
        </p:nvSpPr>
        <p:spPr>
          <a:xfrm rot="5400000">
            <a:off x="7124760" y="2400480"/>
            <a:ext cx="1295280" cy="761760"/>
          </a:xfrm>
          <a:custGeom>
            <a:avLst/>
            <a:gdLst>
              <a:gd name="textAreaLeft" fmla="*/ 190440 w 1295280"/>
              <a:gd name="textAreaRight" fmla="*/ 1104840 w 129528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47" y="5400"/>
                </a:lnTo>
                <a:lnTo>
                  <a:pt x="15247" y="0"/>
                </a:lnTo>
                <a:lnTo>
                  <a:pt x="21600" y="10800"/>
                </a:lnTo>
                <a:lnTo>
                  <a:pt x="15247" y="21600"/>
                </a:lnTo>
                <a:lnTo>
                  <a:pt x="15247" y="16200"/>
                </a:lnTo>
                <a:lnTo>
                  <a:pt x="0" y="16200"/>
                </a:lnTo>
                <a:lnTo>
                  <a:pt x="31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Скругленный прямоугольник 1"/>
          <p:cNvSpPr/>
          <p:nvPr/>
        </p:nvSpPr>
        <p:spPr>
          <a:xfrm>
            <a:off x="1143000" y="380880"/>
            <a:ext cx="7086600" cy="1219320"/>
          </a:xfrm>
          <a:prstGeom prst="roundRect">
            <a:avLst>
              <a:gd name="adj" fmla="val 50000"/>
            </a:avLst>
          </a:prstGeom>
          <a:solidFill>
            <a:srgbClr val="e3a1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асштабу деятельности оптовые ярмарки делятся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Блок-схема: узел 2"/>
          <p:cNvSpPr/>
          <p:nvPr/>
        </p:nvSpPr>
        <p:spPr>
          <a:xfrm>
            <a:off x="609480" y="2514600"/>
            <a:ext cx="2438640" cy="2362320"/>
          </a:xfrm>
          <a:prstGeom prst="flowChartConnector">
            <a:avLst/>
          </a:prstGeom>
          <a:solidFill>
            <a:srgbClr val="fff185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Блок-схема: узел 3"/>
          <p:cNvSpPr/>
          <p:nvPr/>
        </p:nvSpPr>
        <p:spPr>
          <a:xfrm>
            <a:off x="3429000" y="3962520"/>
            <a:ext cx="2514600" cy="2361960"/>
          </a:xfrm>
          <a:prstGeom prst="flowChartConnector">
            <a:avLst/>
          </a:prstGeom>
          <a:solidFill>
            <a:srgbClr val="fff185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Блок-схема: узел 4"/>
          <p:cNvSpPr/>
          <p:nvPr/>
        </p:nvSpPr>
        <p:spPr>
          <a:xfrm>
            <a:off x="6400800" y="2514600"/>
            <a:ext cx="2438280" cy="2362320"/>
          </a:xfrm>
          <a:prstGeom prst="flowChartConnector">
            <a:avLst/>
          </a:prstGeom>
          <a:solidFill>
            <a:srgbClr val="fff185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3" name="Скругленная соединительная линия 6"/>
          <p:cNvCxnSpPr>
            <a:stCxn id="439" idx="2"/>
            <a:endCxn id="440" idx="0"/>
          </p:cNvCxnSpPr>
          <p:nvPr/>
        </p:nvCxnSpPr>
        <p:spPr>
          <a:xfrm rot="5400000">
            <a:off x="2799720" y="628560"/>
            <a:ext cx="915120" cy="2858400"/>
          </a:xfrm>
          <a:prstGeom prst="curvedConnector5">
            <a:avLst>
              <a:gd name="adj1" fmla="val 49980"/>
              <a:gd name="adj2" fmla="val 49993"/>
              <a:gd name="adj3" fmla="val 49980"/>
            </a:avLst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444" name="Скругленная соединительная линия 8"/>
          <p:cNvCxnSpPr>
            <a:stCxn id="439" idx="2"/>
            <a:endCxn id="442" idx="0"/>
          </p:cNvCxnSpPr>
          <p:nvPr/>
        </p:nvCxnSpPr>
        <p:spPr>
          <a:xfrm flipH="1" rot="16200000">
            <a:off x="5695200" y="590400"/>
            <a:ext cx="915120" cy="2934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445" name="Прямая со стрелкой 10"/>
          <p:cNvCxnSpPr>
            <a:stCxn id="439" idx="2"/>
            <a:endCxn id="441" idx="0"/>
          </p:cNvCxnSpPr>
          <p:nvPr/>
        </p:nvCxnSpPr>
        <p:spPr>
          <a:xfrm flipH="1">
            <a:off x="4683960" y="1601640"/>
            <a:ext cx="3960" cy="23630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</p:spTree>
  </p:cSld>
  <p:transition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50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Прямоугольник с двумя скругленными соседними углами 1"/>
          <p:cNvGrpSpPr/>
          <p:nvPr/>
        </p:nvGrpSpPr>
        <p:grpSpPr>
          <a:xfrm>
            <a:off x="1212840" y="219240"/>
            <a:ext cx="6950160" cy="1390320"/>
            <a:chOff x="1212840" y="219240"/>
            <a:chExt cx="6950160" cy="1390320"/>
          </a:xfrm>
        </p:grpSpPr>
        <p:pic>
          <p:nvPicPr>
            <p:cNvPr id="447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212840" y="219240"/>
              <a:ext cx="6950160" cy="13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73120" y="482760"/>
              <a:ext cx="642636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ыставочно-ярмарочная деятельность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Блок-схема: документ 3"/>
          <p:cNvSpPr/>
          <p:nvPr/>
        </p:nvSpPr>
        <p:spPr>
          <a:xfrm>
            <a:off x="1295280" y="2666880"/>
            <a:ext cx="6782040" cy="3353040"/>
          </a:xfrm>
          <a:prstGeom prst="flowChartDocument">
            <a:avLst/>
          </a:prstGeom>
          <a:solidFill>
            <a:srgbClr val="e3bc92"/>
          </a:solidFill>
          <a:ln w="19080">
            <a:solidFill>
              <a:srgbClr val="d19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международных, национальных, межрегиональных и региональных торгово-промышленных выставок и выставок-ярмарок, проводимых на терри­тории крупных гор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трелка вправо с вырезом 4"/>
          <p:cNvSpPr/>
          <p:nvPr/>
        </p:nvSpPr>
        <p:spPr>
          <a:xfrm rot="5400000">
            <a:off x="4190400" y="1828800"/>
            <a:ext cx="914400" cy="609480"/>
          </a:xfrm>
          <a:custGeom>
            <a:avLst/>
            <a:gdLst>
              <a:gd name="textAreaLeft" fmla="*/ 152280 w 914400"/>
              <a:gd name="textAreaRight" fmla="*/ 762120 w 9144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Овальная выноска 1"/>
          <p:cNvSpPr/>
          <p:nvPr/>
        </p:nvSpPr>
        <p:spPr>
          <a:xfrm>
            <a:off x="609480" y="304920"/>
            <a:ext cx="3657600" cy="2133360"/>
          </a:xfrm>
          <a:prstGeom prst="wedgeEllipseCallout">
            <a:avLst>
              <a:gd name="adj1" fmla="val 53046"/>
              <a:gd name="adj2" fmla="val 74013"/>
            </a:avLst>
          </a:prstGeom>
          <a:solidFill>
            <a:srgbClr val="e3a192"/>
          </a:solidFill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варные бирж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Загнутый угол 2"/>
          <p:cNvSpPr/>
          <p:nvPr/>
        </p:nvSpPr>
        <p:spPr>
          <a:xfrm>
            <a:off x="2971800" y="3200400"/>
            <a:ext cx="5715000" cy="2743200"/>
          </a:xfrm>
          <a:prstGeom prst="foldedCorner">
            <a:avLst>
              <a:gd name="adj" fmla="val 16666"/>
            </a:avLst>
          </a:prstGeom>
          <a:solidFill>
            <a:srgbClr val="fff185"/>
          </a:solidFill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рганизации, создаваемые для проведения гласных публичных торгов, которые проходят по специально установленным правилам в заранее определенном месте и в определенное врем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Прямоугольник с двумя вырезанными соседними углами 1"/>
          <p:cNvGrpSpPr/>
          <p:nvPr/>
        </p:nvGrpSpPr>
        <p:grpSpPr>
          <a:xfrm>
            <a:off x="1517760" y="450720"/>
            <a:ext cx="6797520" cy="1616040"/>
            <a:chOff x="1517760" y="450720"/>
            <a:chExt cx="6797520" cy="1616040"/>
          </a:xfrm>
        </p:grpSpPr>
        <p:pic>
          <p:nvPicPr>
            <p:cNvPr id="454" name="Прямоугольник с двумя выреза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517760" y="450720"/>
              <a:ext cx="679752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1962000" y="895320"/>
              <a:ext cx="59058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Цель проведения биржевых торгов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Овал 3"/>
          <p:cNvGrpSpPr/>
          <p:nvPr/>
        </p:nvGrpSpPr>
        <p:grpSpPr>
          <a:xfrm>
            <a:off x="1974960" y="3114720"/>
            <a:ext cx="5048280" cy="1622520"/>
            <a:chOff x="1974960" y="3114720"/>
            <a:chExt cx="5048280" cy="1622520"/>
          </a:xfrm>
        </p:grpSpPr>
        <p:pic>
          <p:nvPicPr>
            <p:cNvPr id="457" name="Овал 3" descr=""/>
            <p:cNvPicPr/>
            <p:nvPr/>
          </p:nvPicPr>
          <p:blipFill>
            <a:blip r:embed="rId2"/>
            <a:stretch/>
          </p:blipFill>
          <p:spPr>
            <a:xfrm>
              <a:off x="1974960" y="3114720"/>
              <a:ext cx="5048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2771640" y="3413160"/>
              <a:ext cx="344808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Заключение сдело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Выгнутая влево стрелка 4"/>
          <p:cNvSpPr/>
          <p:nvPr/>
        </p:nvSpPr>
        <p:spPr>
          <a:xfrm>
            <a:off x="609480" y="1752480"/>
            <a:ext cx="914400" cy="2133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420120 h 2133720"/>
              <a:gd name="textAreaBottom" fmla="*/ 15170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7" stAng="-5400000" swAng="-5400000"/>
                <a:lnTo>
                  <a:pt x="0" y="11103"/>
                </a:lnTo>
                <a:arcTo wR="21600" hR="8507" stAng="10800000" swAng="-3405003"/>
                <a:lnTo>
                  <a:pt x="16200" y="21330"/>
                </a:lnTo>
                <a:lnTo>
                  <a:pt x="21600" y="18311"/>
                </a:lnTo>
                <a:lnTo>
                  <a:pt x="16200" y="14752"/>
                </a:lnTo>
                <a:lnTo>
                  <a:pt x="16200" y="16743"/>
                </a:lnTo>
                <a:arcTo wR="21600" hR="8507" stAng="7394997" swAng="3196229"/>
                <a:lnTo>
                  <a:pt x="253" y="9805"/>
                </a:lnTo>
                <a:arcTo wR="21600" hR="8507" stAng="-10591226" swAng="5191226"/>
                <a:close/>
              </a:path>
              <a:path fill="darkenLess" w="21600" h="21600">
                <a:moveTo>
                  <a:pt x="21600" y="0"/>
                </a:moveTo>
                <a:arcTo wR="21600" hR="8507" stAng="-5400000" swAng="-5400000"/>
                <a:lnTo>
                  <a:pt x="0" y="8507"/>
                </a:lnTo>
                <a:arcTo wR="21600" hR="8507" stAng="10800000" swAng="-208774"/>
                <a:lnTo>
                  <a:pt x="253" y="9805"/>
                </a:lnTo>
                <a:arcTo wR="21600" hR="8507" stAng="-10591226" swAng="5191226"/>
                <a:close/>
              </a:path>
            </a:pathLst>
          </a:custGeom>
          <a:solidFill>
            <a:srgbClr val="bacece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с двумя вырезанными соседними углами 1"/>
          <p:cNvSpPr/>
          <p:nvPr/>
        </p:nvSpPr>
        <p:spPr>
          <a:xfrm>
            <a:off x="1676520" y="457200"/>
            <a:ext cx="6248160" cy="1066680"/>
          </a:xfrm>
          <a:prstGeom prst="pie">
            <a:avLst/>
          </a:prstGeom>
          <a:solidFill>
            <a:srgbClr val="e3a1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укци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с двумя скругленными противолежащими углами 2"/>
          <p:cNvSpPr/>
          <p:nvPr/>
        </p:nvSpPr>
        <p:spPr>
          <a:xfrm>
            <a:off x="1066680" y="2819520"/>
            <a:ext cx="7086600" cy="2514600"/>
          </a:xfrm>
          <a:prstGeom prst="pie">
            <a:avLst/>
          </a:prstGeom>
          <a:solidFill>
            <a:srgbClr val="fff185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 продажи некоторых товаров по ценам, устанавливаемым покупателями в результате тор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Нашивка 3"/>
          <p:cNvSpPr/>
          <p:nvPr/>
        </p:nvSpPr>
        <p:spPr>
          <a:xfrm rot="5400000">
            <a:off x="4648320" y="75960"/>
            <a:ext cx="457200" cy="4114800"/>
          </a:xfrm>
          <a:custGeom>
            <a:avLst/>
            <a:gdLst>
              <a:gd name="textAreaLeft" fmla="*/ 0 w 457200"/>
              <a:gd name="textAreaRight" fmla="*/ 457560 w 45720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acece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Прямоугольник с двумя скругленными соседними углами 1"/>
          <p:cNvGrpSpPr/>
          <p:nvPr/>
        </p:nvGrpSpPr>
        <p:grpSpPr>
          <a:xfrm>
            <a:off x="1517760" y="298440"/>
            <a:ext cx="6572160" cy="1390680"/>
            <a:chOff x="1517760" y="298440"/>
            <a:chExt cx="6572160" cy="1390680"/>
          </a:xfrm>
        </p:grpSpPr>
        <p:pic>
          <p:nvPicPr>
            <p:cNvPr id="464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517760" y="298440"/>
              <a:ext cx="65721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778040" y="558720"/>
              <a:ext cx="604512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 зависимости от технологии проведения выделяю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Овал 3"/>
          <p:cNvSpPr/>
          <p:nvPr/>
        </p:nvSpPr>
        <p:spPr>
          <a:xfrm>
            <a:off x="380880" y="2666880"/>
            <a:ext cx="3733920" cy="1295640"/>
          </a:xfrm>
          <a:prstGeom prst="ellipse">
            <a:avLst/>
          </a:prstGeom>
          <a:solidFill>
            <a:srgbClr val="fff185"/>
          </a:solidFill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кцион с повышением ц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Овал 4"/>
          <p:cNvSpPr/>
          <p:nvPr/>
        </p:nvSpPr>
        <p:spPr>
          <a:xfrm>
            <a:off x="2895480" y="4724280"/>
            <a:ext cx="3810240" cy="1295640"/>
          </a:xfrm>
          <a:prstGeom prst="ellipse">
            <a:avLst/>
          </a:prstGeom>
          <a:solidFill>
            <a:srgbClr val="fff185"/>
          </a:solidFill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кцион «втемную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Овал 5"/>
          <p:cNvSpPr/>
          <p:nvPr/>
        </p:nvSpPr>
        <p:spPr>
          <a:xfrm>
            <a:off x="5181480" y="2666880"/>
            <a:ext cx="3733920" cy="1295640"/>
          </a:xfrm>
          <a:prstGeom prst="ellipse">
            <a:avLst/>
          </a:prstGeom>
          <a:solidFill>
            <a:srgbClr val="fff185"/>
          </a:solidFill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кцион  с понижением це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9" name="Скругленная соединительная линия 7"/>
          <p:cNvCxnSpPr>
            <a:stCxn id="464" idx="1"/>
            <a:endCxn id="466" idx="0"/>
          </p:cNvCxnSpPr>
          <p:nvPr/>
        </p:nvCxnSpPr>
        <p:spPr>
          <a:xfrm rot="5400000">
            <a:off x="2990160" y="857160"/>
            <a:ext cx="1067400" cy="255312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470" name="Скругленная соединительная линия 9"/>
          <p:cNvCxnSpPr>
            <a:stCxn id="464" idx="1"/>
            <a:endCxn id="468" idx="0"/>
          </p:cNvCxnSpPr>
          <p:nvPr/>
        </p:nvCxnSpPr>
        <p:spPr>
          <a:xfrm flipH="1" rot="16200000">
            <a:off x="5391000" y="1009080"/>
            <a:ext cx="1067400" cy="224856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471" name="Прямая со стрелкой 11"/>
          <p:cNvCxnSpPr>
            <a:stCxn id="464" idx="1"/>
            <a:endCxn id="467" idx="0"/>
          </p:cNvCxnSpPr>
          <p:nvPr/>
        </p:nvCxnSpPr>
        <p:spPr>
          <a:xfrm flipH="1">
            <a:off x="4798800" y="1601280"/>
            <a:ext cx="3600" cy="3125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</p:spTree>
  </p:cSld>
  <p:transition>
    <p:split dir="out" orient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Скругленная прямоугольная выноска 1"/>
          <p:cNvGrpSpPr/>
          <p:nvPr/>
        </p:nvGrpSpPr>
        <p:grpSpPr>
          <a:xfrm>
            <a:off x="2889360" y="523800"/>
            <a:ext cx="4591080" cy="2610000"/>
            <a:chOff x="2889360" y="523800"/>
            <a:chExt cx="4591080" cy="2610000"/>
          </a:xfrm>
        </p:grpSpPr>
        <p:pic>
          <p:nvPicPr>
            <p:cNvPr id="257" name="Скругленная прямоугольная выноска 1" descr=""/>
            <p:cNvPicPr/>
            <p:nvPr/>
          </p:nvPicPr>
          <p:blipFill>
            <a:blip r:embed="rId1"/>
            <a:stretch/>
          </p:blipFill>
          <p:spPr>
            <a:xfrm>
              <a:off x="2889360" y="523800"/>
              <a:ext cx="459108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043080" y="681120"/>
              <a:ext cx="427680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акупочная работ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Скругленный прямоугольник 2"/>
          <p:cNvGrpSpPr/>
          <p:nvPr/>
        </p:nvGrpSpPr>
        <p:grpSpPr>
          <a:xfrm>
            <a:off x="676440" y="3419640"/>
            <a:ext cx="6041880" cy="1695240"/>
            <a:chOff x="676440" y="3419640"/>
            <a:chExt cx="6041880" cy="1695240"/>
          </a:xfrm>
        </p:grpSpPr>
        <p:pic>
          <p:nvPicPr>
            <p:cNvPr id="26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76440" y="3419640"/>
              <a:ext cx="60418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985680" y="3728880"/>
              <a:ext cx="541980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снова коммерческой деятельности в торговл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Блок-схема: решение 1"/>
          <p:cNvGrpSpPr/>
          <p:nvPr/>
        </p:nvGrpSpPr>
        <p:grpSpPr>
          <a:xfrm>
            <a:off x="523800" y="371520"/>
            <a:ext cx="6042240" cy="1847880"/>
            <a:chOff x="523800" y="371520"/>
            <a:chExt cx="6042240" cy="1847880"/>
          </a:xfrm>
        </p:grpSpPr>
        <p:pic>
          <p:nvPicPr>
            <p:cNvPr id="263" name="Блок-схема: решение 1" descr=""/>
            <p:cNvPicPr/>
            <p:nvPr/>
          </p:nvPicPr>
          <p:blipFill>
            <a:blip r:embed="rId1"/>
            <a:stretch/>
          </p:blipFill>
          <p:spPr>
            <a:xfrm>
              <a:off x="523800" y="371520"/>
              <a:ext cx="604224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2076480" y="876240"/>
              <a:ext cx="2933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сновная задач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Блок-схема: сохраненные данные 2"/>
          <p:cNvGrpSpPr/>
          <p:nvPr/>
        </p:nvGrpSpPr>
        <p:grpSpPr>
          <a:xfrm>
            <a:off x="2279520" y="3041640"/>
            <a:ext cx="6340680" cy="2378160"/>
            <a:chOff x="2279520" y="3041640"/>
            <a:chExt cx="6340680" cy="2378160"/>
          </a:xfrm>
        </p:grpSpPr>
        <p:pic>
          <p:nvPicPr>
            <p:cNvPr id="266" name="Блок-схема: сохраненные данные 2" descr=""/>
            <p:cNvPicPr/>
            <p:nvPr/>
          </p:nvPicPr>
          <p:blipFill>
            <a:blip r:embed="rId2"/>
            <a:stretch/>
          </p:blipFill>
          <p:spPr>
            <a:xfrm>
              <a:off x="2279520" y="3041640"/>
              <a:ext cx="634068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390840" y="3124080"/>
              <a:ext cx="4114800" cy="22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ыгодное приобретение товара с целью удовлетворения потребительского спрос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Выгнутая влево стрелка 3"/>
          <p:cNvSpPr/>
          <p:nvPr/>
        </p:nvSpPr>
        <p:spPr>
          <a:xfrm>
            <a:off x="1295280" y="1828800"/>
            <a:ext cx="990720" cy="2209680"/>
          </a:xfrm>
          <a:custGeom>
            <a:avLst/>
            <a:gdLst>
              <a:gd name="textAreaLeft" fmla="*/ 132480 w 990720"/>
              <a:gd name="textAreaRight" fmla="*/ 858240 w 990720"/>
              <a:gd name="textAreaTop" fmla="*/ 459360 h 2209680"/>
              <a:gd name="textAreaBottom" fmla="*/ 16264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85" stAng="-5400000" swAng="-5400000"/>
                <a:lnTo>
                  <a:pt x="0" y="11406"/>
                </a:lnTo>
                <a:arcTo wR="21600" hR="8985" stAng="10800000" swAng="-3490212"/>
                <a:lnTo>
                  <a:pt x="16200" y="21315"/>
                </a:lnTo>
                <a:lnTo>
                  <a:pt x="21600" y="19180"/>
                </a:lnTo>
                <a:lnTo>
                  <a:pt x="16200" y="16474"/>
                </a:lnTo>
                <a:lnTo>
                  <a:pt x="16200" y="17684"/>
                </a:lnTo>
                <a:arcTo wR="21600" hR="8985" stAng="7309788" swAng="3295989"/>
                <a:lnTo>
                  <a:pt x="197" y="10195"/>
                </a:lnTo>
                <a:arcTo wR="21600" hR="8985" stAng="-10605777" swAng="5205777"/>
                <a:close/>
              </a:path>
              <a:path fill="darkenLess" w="21600" h="21600">
                <a:moveTo>
                  <a:pt x="21600" y="0"/>
                </a:moveTo>
                <a:arcTo wR="21600" hR="8985" stAng="-5400000" swAng="-5400000"/>
                <a:lnTo>
                  <a:pt x="0" y="8985"/>
                </a:lnTo>
                <a:arcTo wR="21600" hR="8985" stAng="10800000" swAng="-194223"/>
                <a:lnTo>
                  <a:pt x="197" y="10195"/>
                </a:lnTo>
                <a:arcTo wR="21600" hR="8985" stAng="-10605777" swAng="5205777"/>
                <a:close/>
              </a:path>
            </a:pathLst>
          </a:custGeom>
          <a:solidFill>
            <a:srgbClr val="e3a192"/>
          </a:solidFill>
          <a:ln w="28440">
            <a:solidFill>
              <a:srgbClr val="fff1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Прямоугольник с двумя вырезанными соседними углами 1"/>
          <p:cNvGrpSpPr/>
          <p:nvPr/>
        </p:nvGrpSpPr>
        <p:grpSpPr>
          <a:xfrm>
            <a:off x="1895400" y="603360"/>
            <a:ext cx="5585040" cy="1311120"/>
            <a:chOff x="1895400" y="603360"/>
            <a:chExt cx="5585040" cy="1311120"/>
          </a:xfrm>
        </p:grpSpPr>
        <p:pic>
          <p:nvPicPr>
            <p:cNvPr id="270" name="Прямоугольник с двумя выреза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895400" y="603360"/>
              <a:ext cx="558504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266920" y="971640"/>
              <a:ext cx="48387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Закупк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Загнутый угол 3"/>
          <p:cNvGrpSpPr/>
          <p:nvPr/>
        </p:nvGrpSpPr>
        <p:grpSpPr>
          <a:xfrm>
            <a:off x="1895400" y="3041640"/>
            <a:ext cx="5657760" cy="3139920"/>
            <a:chOff x="1895400" y="3041640"/>
            <a:chExt cx="5657760" cy="3139920"/>
          </a:xfrm>
        </p:grpSpPr>
        <p:pic>
          <p:nvPicPr>
            <p:cNvPr id="273" name="Загнутый угол 3" descr=""/>
            <p:cNvPicPr/>
            <p:nvPr/>
          </p:nvPicPr>
          <p:blipFill>
            <a:blip r:embed="rId2"/>
            <a:stretch/>
          </p:blipFill>
          <p:spPr>
            <a:xfrm>
              <a:off x="1895400" y="3041640"/>
              <a:ext cx="5657760" cy="31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981080" y="3124080"/>
              <a:ext cx="5486400" cy="24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товый или мелкооптовый товарооборот, осуществляемый торговыми предприятиями (юридическими лицами) или частными лицами с целью последующей перепродажи закупленных товар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Стрелка вправо с вырезом 4"/>
          <p:cNvSpPr/>
          <p:nvPr/>
        </p:nvSpPr>
        <p:spPr>
          <a:xfrm rot="5400000">
            <a:off x="4152600" y="2095560"/>
            <a:ext cx="990360" cy="609480"/>
          </a:xfrm>
          <a:custGeom>
            <a:avLst/>
            <a:gdLst>
              <a:gd name="textAreaLeft" fmla="*/ 152280 w 990360"/>
              <a:gd name="textAreaRight" fmla="*/ 838080 w 9903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954" y="5400"/>
                </a:lnTo>
                <a:lnTo>
                  <a:pt x="14954" y="0"/>
                </a:lnTo>
                <a:lnTo>
                  <a:pt x="21600" y="10800"/>
                </a:lnTo>
                <a:lnTo>
                  <a:pt x="14954" y="21600"/>
                </a:lnTo>
                <a:lnTo>
                  <a:pt x="14954" y="16200"/>
                </a:lnTo>
                <a:lnTo>
                  <a:pt x="0" y="16200"/>
                </a:lnTo>
                <a:lnTo>
                  <a:pt x="332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cece"/>
          </a:solidFill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с двумя скругленными противолежащими углами 1"/>
          <p:cNvSpPr/>
          <p:nvPr/>
        </p:nvSpPr>
        <p:spPr>
          <a:xfrm>
            <a:off x="990720" y="304920"/>
            <a:ext cx="7162560" cy="1295280"/>
          </a:xfrm>
          <a:prstGeom prst="pie">
            <a:avLst/>
          </a:prstGeom>
          <a:solidFill>
            <a:srgbClr val="e3a1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и, которые включает в себя работа по оптовым закуп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228600" y="2438280"/>
            <a:ext cx="3657600" cy="1143000"/>
          </a:xfrm>
          <a:prstGeom prst="rect">
            <a:avLst/>
          </a:prstGeom>
          <a:solidFill>
            <a:srgbClr val="e3bc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и прогнозирование покупательского спр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228600" y="3962520"/>
            <a:ext cx="3657600" cy="914400"/>
          </a:xfrm>
          <a:prstGeom prst="rect">
            <a:avLst/>
          </a:prstGeom>
          <a:solidFill>
            <a:srgbClr val="e3bc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отребности в товар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1905120" y="5257800"/>
            <a:ext cx="5257800" cy="1143000"/>
          </a:xfrm>
          <a:prstGeom prst="rect">
            <a:avLst/>
          </a:prstGeom>
          <a:solidFill>
            <a:srgbClr val="e3bc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сточников поступления товаров и выбор поставщ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5181480" y="2438280"/>
            <a:ext cx="3657600" cy="1143000"/>
          </a:xfrm>
          <a:prstGeom prst="rect">
            <a:avLst/>
          </a:prstGeom>
          <a:solidFill>
            <a:srgbClr val="e3bc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хозяйственных связей с поста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6"/>
          <p:cNvSpPr/>
          <p:nvPr/>
        </p:nvSpPr>
        <p:spPr>
          <a:xfrm>
            <a:off x="5181480" y="3962520"/>
            <a:ext cx="3657600" cy="914400"/>
          </a:xfrm>
          <a:prstGeom prst="rect">
            <a:avLst/>
          </a:prstGeom>
          <a:solidFill>
            <a:srgbClr val="e3bc9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над исполнением догов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2" name="Shape 8"/>
          <p:cNvCxnSpPr>
            <a:stCxn id="276" idx="4"/>
            <a:endCxn id="277" idx="3"/>
          </p:cNvCxnSpPr>
          <p:nvPr/>
        </p:nvCxnSpPr>
        <p:spPr>
          <a:xfrm rot="5400000">
            <a:off x="3523320" y="1962000"/>
            <a:ext cx="1410480" cy="68652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83" name="Shape 10"/>
          <p:cNvCxnSpPr>
            <a:stCxn id="276" idx="5"/>
            <a:endCxn id="280" idx="1"/>
          </p:cNvCxnSpPr>
          <p:nvPr/>
        </p:nvCxnSpPr>
        <p:spPr>
          <a:xfrm flipH="1" rot="16200000">
            <a:off x="4170960" y="2000160"/>
            <a:ext cx="1410480" cy="61020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84" name="Shape 12"/>
          <p:cNvCxnSpPr>
            <a:stCxn id="276" idx="6"/>
            <a:endCxn id="278" idx="3"/>
          </p:cNvCxnSpPr>
          <p:nvPr/>
        </p:nvCxnSpPr>
        <p:spPr>
          <a:xfrm rot="5400000">
            <a:off x="2818440" y="2666880"/>
            <a:ext cx="2820240" cy="68652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85" name="Shape 14"/>
          <p:cNvCxnSpPr>
            <a:stCxn id="276" idx="7"/>
            <a:endCxn id="281" idx="1"/>
          </p:cNvCxnSpPr>
          <p:nvPr/>
        </p:nvCxnSpPr>
        <p:spPr>
          <a:xfrm flipH="1" rot="16200000">
            <a:off x="3466080" y="2705040"/>
            <a:ext cx="2820240" cy="610200"/>
          </a:xfrm>
          <a:prstGeom prst="curvedConnector2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86" name="Прямая со стрелкой 19"/>
          <p:cNvCxnSpPr>
            <a:stCxn id="276" idx="8"/>
            <a:endCxn id="279" idx="0"/>
          </p:cNvCxnSpPr>
          <p:nvPr/>
        </p:nvCxnSpPr>
        <p:spPr>
          <a:xfrm flipH="1">
            <a:off x="4533480" y="1600200"/>
            <a:ext cx="38880" cy="36583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Прямоугольник с двумя скругленными соседними углами 1"/>
          <p:cNvGrpSpPr/>
          <p:nvPr/>
        </p:nvGrpSpPr>
        <p:grpSpPr>
          <a:xfrm>
            <a:off x="1133640" y="450720"/>
            <a:ext cx="6804000" cy="1390680"/>
            <a:chOff x="1133640" y="450720"/>
            <a:chExt cx="6804000" cy="1390680"/>
          </a:xfrm>
        </p:grpSpPr>
        <p:pic>
          <p:nvPicPr>
            <p:cNvPr id="288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133640" y="450720"/>
              <a:ext cx="68040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397160" y="711360"/>
              <a:ext cx="62737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ажнейший элемент закупочной рабо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Блок-схема: документ 2"/>
          <p:cNvGrpSpPr/>
          <p:nvPr/>
        </p:nvGrpSpPr>
        <p:grpSpPr>
          <a:xfrm>
            <a:off x="1133640" y="2809800"/>
            <a:ext cx="6724440" cy="2427480"/>
            <a:chOff x="1133640" y="2809800"/>
            <a:chExt cx="6724440" cy="2427480"/>
          </a:xfrm>
        </p:grpSpPr>
        <p:pic>
          <p:nvPicPr>
            <p:cNvPr id="291" name="Блок-схема: документ 2" descr=""/>
            <p:cNvPicPr/>
            <p:nvPr/>
          </p:nvPicPr>
          <p:blipFill>
            <a:blip r:embed="rId2"/>
            <a:stretch/>
          </p:blipFill>
          <p:spPr>
            <a:xfrm>
              <a:off x="1133640" y="2809800"/>
              <a:ext cx="6724440" cy="24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219320" y="2895480"/>
              <a:ext cx="6553080" cy="18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становление хозяйственных связей с поставщиками товаро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Нашивка 5"/>
          <p:cNvSpPr/>
          <p:nvPr/>
        </p:nvSpPr>
        <p:spPr>
          <a:xfrm rot="5400000">
            <a:off x="4304880" y="37800"/>
            <a:ext cx="685800" cy="4419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419720"/>
              <a:gd name="textAreaBottom" fmla="*/ 442008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acece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Овал 1"/>
          <p:cNvGrpSpPr/>
          <p:nvPr/>
        </p:nvGrpSpPr>
        <p:grpSpPr>
          <a:xfrm>
            <a:off x="1212840" y="298440"/>
            <a:ext cx="6877080" cy="1085760"/>
            <a:chOff x="1212840" y="298440"/>
            <a:chExt cx="6877080" cy="1085760"/>
          </a:xfrm>
        </p:grpSpPr>
        <p:pic>
          <p:nvPicPr>
            <p:cNvPr id="295" name="Овал 1" descr=""/>
            <p:cNvPicPr/>
            <p:nvPr/>
          </p:nvPicPr>
          <p:blipFill>
            <a:blip r:embed="rId1"/>
            <a:stretch/>
          </p:blipFill>
          <p:spPr>
            <a:xfrm>
              <a:off x="1212840" y="298440"/>
              <a:ext cx="6877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278080" y="514440"/>
              <a:ext cx="47401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Договор поставки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Блок-схема: знак завершения 2"/>
          <p:cNvGrpSpPr/>
          <p:nvPr/>
        </p:nvGrpSpPr>
        <p:grpSpPr>
          <a:xfrm>
            <a:off x="603360" y="2352600"/>
            <a:ext cx="8096040" cy="3828960"/>
            <a:chOff x="603360" y="2352600"/>
            <a:chExt cx="8096040" cy="3828960"/>
          </a:xfrm>
        </p:grpSpPr>
        <p:pic>
          <p:nvPicPr>
            <p:cNvPr id="298" name="Блок-схема: знак завершения 2" descr=""/>
            <p:cNvPicPr/>
            <p:nvPr/>
          </p:nvPicPr>
          <p:blipFill>
            <a:blip r:embed="rId2"/>
            <a:stretch/>
          </p:blipFill>
          <p:spPr>
            <a:xfrm>
              <a:off x="603360" y="2352600"/>
              <a:ext cx="809604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058760" y="2973240"/>
              <a:ext cx="7178760" cy="25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говор, по которому поставщик – продавец, осуществляющий предпринимательскую деятельность, обязуется передать в обусловленный срок или сроки производимые или закупаемые им товары покупателю до использования в предпринимательской деятельности или в иных целях, не связанных с личным, семейным, домашним и иным подобным использованием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Прямая со стрелкой 5" descr=""/>
          <p:cNvPicPr/>
          <p:nvPr/>
        </p:nvPicPr>
        <p:blipFill>
          <a:blip r:embed="rId3"/>
          <a:stretch/>
        </p:blipFill>
        <p:spPr>
          <a:xfrm>
            <a:off x="4400640" y="1219320"/>
            <a:ext cx="488880" cy="1463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Прямоугольник с двумя вырезанными соседними углами 1"/>
          <p:cNvGrpSpPr/>
          <p:nvPr/>
        </p:nvGrpSpPr>
        <p:grpSpPr>
          <a:xfrm>
            <a:off x="1285920" y="450720"/>
            <a:ext cx="6804000" cy="1616040"/>
            <a:chOff x="1285920" y="450720"/>
            <a:chExt cx="6804000" cy="1616040"/>
          </a:xfrm>
        </p:grpSpPr>
        <p:pic>
          <p:nvPicPr>
            <p:cNvPr id="302" name="Прямоугольник с двумя выреза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285920" y="450720"/>
              <a:ext cx="680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33400" y="895320"/>
              <a:ext cx="59058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ущественные условия договора поставки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Загнутый угол 2"/>
          <p:cNvSpPr/>
          <p:nvPr/>
        </p:nvSpPr>
        <p:spPr>
          <a:xfrm>
            <a:off x="1219320" y="3048120"/>
            <a:ext cx="3047760" cy="2438280"/>
          </a:xfrm>
          <a:prstGeom prst="foldedCorner">
            <a:avLst>
              <a:gd name="adj" fmla="val 25620"/>
            </a:avLst>
          </a:prstGeom>
          <a:solidFill>
            <a:srgbClr val="fff8c2"/>
          </a:solidFill>
          <a:ln w="19080">
            <a:solidFill>
              <a:srgbClr val="ffe9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менование и количество тов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нутый угол 3"/>
          <p:cNvSpPr/>
          <p:nvPr/>
        </p:nvSpPr>
        <p:spPr>
          <a:xfrm>
            <a:off x="5105520" y="3048120"/>
            <a:ext cx="3047760" cy="2438280"/>
          </a:xfrm>
          <a:prstGeom prst="foldedCorner">
            <a:avLst>
              <a:gd name="adj" fmla="val 22824"/>
            </a:avLst>
          </a:prstGeom>
          <a:solidFill>
            <a:srgbClr val="fff8c2"/>
          </a:solidFill>
          <a:ln w="19080">
            <a:solidFill>
              <a:srgbClr val="ffe9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 (сроки) исполнения обяз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6" name="Скругленная соединительная линия 5"/>
          <p:cNvCxnSpPr>
            <a:stCxn id="302" idx="1"/>
            <a:endCxn id="304" idx="0"/>
          </p:cNvCxnSpPr>
          <p:nvPr/>
        </p:nvCxnSpPr>
        <p:spPr>
          <a:xfrm rot="5400000">
            <a:off x="3180600" y="1542960"/>
            <a:ext cx="1067760" cy="1944000"/>
          </a:xfrm>
          <a:prstGeom prst="curvedConnector5">
            <a:avLst>
              <a:gd name="adj1" fmla="val 49983"/>
              <a:gd name="adj2" fmla="val 49990"/>
              <a:gd name="adj3" fmla="val 49983"/>
            </a:avLst>
          </a:prstGeom>
          <a:ln w="381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07" name="Скругленная соединительная линия 7"/>
          <p:cNvCxnSpPr>
            <a:stCxn id="302" idx="1"/>
            <a:endCxn id="305" idx="0"/>
          </p:cNvCxnSpPr>
          <p:nvPr/>
        </p:nvCxnSpPr>
        <p:spPr>
          <a:xfrm flipH="1" rot="16200000">
            <a:off x="5123520" y="1542960"/>
            <a:ext cx="1067760" cy="194364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38160">
            <a:solidFill>
              <a:srgbClr val="d16349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1</cp:lastModifiedBy>
  <dcterms:modified xsi:type="dcterms:W3CDTF">2013-01-20T06:24:44Z</dcterms:modified>
  <cp:revision>32</cp:revision>
  <dc:subject/>
  <dc:title>Коммерческая работа по оптовым закупкам и продажам</dc:title>
</cp:coreProperties>
</file>