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2B7-F6A1-4161-9475-6C23E96B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1DC-BC76-40D8-81B9-8D796B2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E33D3-9114-4A14-8426-CB25677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74C2D-F782-4617-BF19-D7E357B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EA03A-4E15-4A6C-AB37-DFC20A95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441D6-D91C-4DE7-899F-56C9841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807FE-D10A-4D85-9171-E63FC57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66FC-F804-4AF0-86B0-6EAC6ED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1978-F4BE-4581-BA01-01343AE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AE51F-76AA-4EE6-BAC6-801915AB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F32D-6162-4714-B3E9-60CF39DA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EA6-068B-4776-9AB5-9BCF29E0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74B-2A9F-43BC-B84E-C3837FFB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D1FA-6AE9-45AE-83AD-F1A31CA4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EA97-D825-491D-BEBF-EA02956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93DC-B6A5-4517-B261-84997F9F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EF9-C900-4CDC-B4AF-F9B61FD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5C3-D0A7-4127-9480-A00EC05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8D9F-3BDE-4A39-A709-29BBC29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9EF5-B4BE-45E5-9F1D-55FA7A6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A8C-1B97-483A-B2F9-4915F4C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55E-DC0B-47EA-8FE1-C6F5176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8E9E-A760-4E18-9840-30E6C2C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4A1-9157-4CA0-A38F-BA7974DC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9E7-30C2-4FC7-983E-5D2A9F5D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B1C-B7A4-41E9-9636-114CF4D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29AD-87E0-44D8-9380-6970E3EC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5E37-B2BF-4865-8D68-27DBD024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9BCD-49B2-4589-A3D7-38E5DD0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DB42-93D6-4FE1-9DAE-50106BC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F01B-4231-4BE7-A2AD-3B8781F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772-1661-4D8E-A6A9-393753F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CA65-51BF-4FFB-B86D-08907A2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5794-429C-463B-A62D-B4BB238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8DA1-3B47-4FF8-962D-A8B7760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410D-CF35-4B6E-934C-6BD87AE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6B0D-F964-4D4F-90B7-A5BE0B7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780B-ED18-4798-847D-98EC6928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0AA6-E297-4FF8-83B2-5E3D8251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1DA1-9174-4614-B1D1-0DBEB90D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1AF7-ECAF-4650-9913-EA1F855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76D4-A86B-446E-9DCB-4800B90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DE3-4D09-4012-B10B-152749B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FC72-8B9A-42BF-B7AD-F94E876F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A302-98DB-4A64-8195-D5C91D35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F8E0D-ECA1-496B-A5F0-76499C67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CDB6-5EEB-4DC7-AA9E-8B25BDA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8678-A3AA-4FD2-9A81-BB58E50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AEE2-6950-4B7D-88C6-B1EF78B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F35A-9A6E-4463-886A-7D439F4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90E9-A271-4C92-8AD6-AB0DDEEC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F4FF-4AC9-49F9-BD9F-73D525D1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CB4E-B48F-41A8-B193-5D8A99E6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51C-A6E0-4C0E-9526-13DC5837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20EB-1839-4AFD-9D29-FE4E96F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7438-B7AE-443A-918A-758B5E9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D4F7-C4F7-4C4E-821E-064EA3E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6E852-411B-4471-8365-08AE7596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F2F7-2B89-4B2E-9F12-7921ED0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8469-2841-439C-8318-4A5C65D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01A7-67B9-43A8-A95C-0A54884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9FC7-7CF9-44EA-BD28-4FB7D91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92BE-90A6-4757-8DEA-9C919A83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A5A0-47B3-417C-91D7-090873F3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951-9B45-4849-A94C-D4222030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2CEB-ACE3-41CB-9FB0-F68C1ED7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68C60-D675-4108-A126-E189FB6A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AD0D-0D20-460A-B70C-92F4F51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7A3B-B5B6-46FB-8A6A-622E58A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E61F-33F8-4996-88B1-F394D92E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70F9B-3BDF-4256-AA38-2CB0AE00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E485-7113-41F5-BA37-D57C2B3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803A-BBC3-45E6-A86A-2F7A4A9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2214-4771-41AD-B699-A68F2C1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05D19-6892-4C50-AAC3-30356C1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DD8-2BD5-41C2-9916-5903E4F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7C1D-2FC5-4150-A0C6-6359F9D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FBFDD-D03E-461E-912C-1F849D95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62A6-1A66-4B25-AC3D-EE0BB15D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7216-85D0-4D15-8B1A-275771D9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C5A7-D0FB-448A-AB71-2CC70864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08BA-73D2-4637-A63C-9177E3E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5F979-ADFA-49D9-A2EF-4671623B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38F5-B51F-49A1-9A05-A10A644D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ED2B-77E8-41C7-AE2F-0E76CEC2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311B-AE28-4398-9286-9BCBE91F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733-8A26-4F22-9F5A-3A39E6A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D4B40-DB69-4C2E-8841-501895C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F707-4050-481F-8FCF-0EC8351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F697-05EC-4C3F-AD94-92A81D89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B0EC-FDBD-44E7-AD96-46D952BD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E123-89AE-42AC-B88D-EA85BEE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E568-8085-4CF9-9E7A-E0AAF597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6EDD-1DCD-4E84-A5D5-0D3CA1DF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7BB7-1858-4964-A1BE-023BE6D5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ECA7-86DE-4920-8723-F72320B0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D3BC-AE15-4987-BC38-A873123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9F5-BAC4-43AC-A3B9-AF60291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95895-4A1D-4214-841F-1D053D7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1233-E804-47DF-A6DC-49FAE97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70DE1-0966-42E7-B0C7-7319311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9B5C-F980-49BB-ABB1-E173967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7D71-0AD2-41BC-B672-0AFFC271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B1F99-6E5B-48A9-A428-915463F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D147-EF69-4E09-94D0-DF01E58F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7B91F-8E87-4C4A-B08F-C96E348B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27BCD-BADD-42BF-8042-CF109C5C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0C34B-D530-4716-8ABF-83CC1441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E1D-80B0-4F6C-BDF1-F74F5072E40F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42C-53B2-4066-8F7D-6D5EF731CF31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D24-F45E-4F1C-86CE-D49DA9B9B14E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ADE2-5BF2-4CCC-A520-752D4243ACEC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164-0E71-4994-8E14-92762F1350ED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92B4-2093-456F-A8B7-58221CEE1082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CA9-152B-447E-A612-CEA43BD1641B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DC5-67A6-4DE7-B740-A44CA5A91B15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8B1-700F-454A-A8F1-E83743DDD60E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1835280"/>
            <a:ext cx="8614080" cy="299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Скругленный прямоугольник 1"/>
          <p:cNvSpPr/>
          <p:nvPr/>
        </p:nvSpPr>
        <p:spPr>
          <a:xfrm>
            <a:off x="990720" y="380880"/>
            <a:ext cx="7315200" cy="1219320"/>
          </a:xfrm>
          <a:prstGeom prst="roundRect">
            <a:avLst>
              <a:gd name="adj" fmla="val 41741"/>
            </a:avLst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торгового обслуживания во внемагазинной розничной торговл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2"/>
          <p:cNvSpPr/>
          <p:nvPr/>
        </p:nvSpPr>
        <p:spPr>
          <a:xfrm>
            <a:off x="457200" y="2590920"/>
            <a:ext cx="3733920" cy="121896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жа товаров через сеть мелкорозничны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3"/>
          <p:cNvSpPr/>
          <p:nvPr/>
        </p:nvSpPr>
        <p:spPr>
          <a:xfrm>
            <a:off x="457200" y="4267080"/>
            <a:ext cx="3733920" cy="83844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вижные средства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4"/>
          <p:cNvSpPr/>
          <p:nvPr/>
        </p:nvSpPr>
        <p:spPr>
          <a:xfrm>
            <a:off x="2514600" y="5638680"/>
            <a:ext cx="4343400" cy="76212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ая посылочная торго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5"/>
          <p:cNvSpPr/>
          <p:nvPr/>
        </p:nvSpPr>
        <p:spPr>
          <a:xfrm>
            <a:off x="5257800" y="2590920"/>
            <a:ext cx="3505320" cy="76176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говые авто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6"/>
          <p:cNvSpPr/>
          <p:nvPr/>
        </p:nvSpPr>
        <p:spPr>
          <a:xfrm>
            <a:off x="5257800" y="4191120"/>
            <a:ext cx="3505320" cy="83808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жа товаров на ярмарках и база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Скругленная соединительная линия 8"/>
          <p:cNvCxnSpPr>
            <a:stCxn id="438" idx="2"/>
            <a:endCxn id="439" idx="0"/>
          </p:cNvCxnSpPr>
          <p:nvPr/>
        </p:nvCxnSpPr>
        <p:spPr>
          <a:xfrm rot="5400000">
            <a:off x="2990160" y="933480"/>
            <a:ext cx="991440" cy="232488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Скругленная соединительная линия 10"/>
          <p:cNvCxnSpPr>
            <a:stCxn id="438" idx="2"/>
            <a:endCxn id="442" idx="0"/>
          </p:cNvCxnSpPr>
          <p:nvPr/>
        </p:nvCxnSpPr>
        <p:spPr>
          <a:xfrm flipH="1" rot="16200000">
            <a:off x="5333040" y="914400"/>
            <a:ext cx="991440" cy="236268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Shape 12"/>
          <p:cNvCxnSpPr>
            <a:stCxn id="438" idx="2"/>
            <a:endCxn id="440" idx="3"/>
          </p:cNvCxnSpPr>
          <p:nvPr/>
        </p:nvCxnSpPr>
        <p:spPr>
          <a:xfrm rot="5400000">
            <a:off x="2876040" y="2914560"/>
            <a:ext cx="308700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Shape 14"/>
          <p:cNvCxnSpPr>
            <a:endCxn id="443" idx="1"/>
          </p:cNvCxnSpPr>
          <p:nvPr/>
        </p:nvCxnSpPr>
        <p:spPr>
          <a:xfrm flipH="1" rot="16200000">
            <a:off x="3485160" y="2838240"/>
            <a:ext cx="2934360" cy="6102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Прямая со стрелкой 16"/>
          <p:cNvCxnSpPr>
            <a:endCxn id="441" idx="0"/>
          </p:cNvCxnSpPr>
          <p:nvPr/>
        </p:nvCxnSpPr>
        <p:spPr>
          <a:xfrm>
            <a:off x="4648320" y="1676520"/>
            <a:ext cx="38880" cy="39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с двумя вырезанными противолежащими углами 1"/>
          <p:cNvSpPr/>
          <p:nvPr/>
        </p:nvSpPr>
        <p:spPr>
          <a:xfrm>
            <a:off x="1371600" y="609480"/>
            <a:ext cx="6400800" cy="106704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ссортимент това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Блок-схема: знак завершения 2"/>
          <p:cNvSpPr/>
          <p:nvPr/>
        </p:nvSpPr>
        <p:spPr>
          <a:xfrm>
            <a:off x="1905120" y="2666880"/>
            <a:ext cx="6019560" cy="213372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бор товаров, объединенных по какому - либо одному или совокупности призна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Выгнутая влево стрелка 3"/>
          <p:cNvSpPr/>
          <p:nvPr/>
        </p:nvSpPr>
        <p:spPr>
          <a:xfrm rot="21081600">
            <a:off x="749160" y="1431720"/>
            <a:ext cx="1003320" cy="2090520"/>
          </a:xfrm>
          <a:custGeom>
            <a:avLst/>
            <a:gdLst>
              <a:gd name="textAreaLeft" fmla="*/ 134280 w 1003320"/>
              <a:gd name="textAreaRight" fmla="*/ 869040 w 1003320"/>
              <a:gd name="textAreaTop" fmla="*/ 410400 h 2090520"/>
              <a:gd name="textAreaBottom" fmla="*/ 1482480 h 209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85" stAng="-5400000" swAng="-5400000"/>
                <a:lnTo>
                  <a:pt x="0" y="11076"/>
                </a:lnTo>
                <a:arcTo wR="21600" hR="8485" stAng="10800000" swAng="-3400919"/>
                <a:lnTo>
                  <a:pt x="16200" y="21331"/>
                </a:lnTo>
                <a:lnTo>
                  <a:pt x="21600" y="18265"/>
                </a:lnTo>
                <a:lnTo>
                  <a:pt x="16200" y="14660"/>
                </a:lnTo>
                <a:lnTo>
                  <a:pt x="16200" y="16700"/>
                </a:lnTo>
                <a:arcTo wR="21600" hR="8485" stAng="7399081" swAng="3192543"/>
                <a:lnTo>
                  <a:pt x="253" y="9780"/>
                </a:lnTo>
                <a:arcTo wR="21600" hR="8485" stAng="-10591624" swAng="5191624"/>
                <a:close/>
              </a:path>
              <a:path fill="darkenLess" w="21600" h="21600">
                <a:moveTo>
                  <a:pt x="21600" y="0"/>
                </a:moveTo>
                <a:arcTo wR="21600" hR="8485" stAng="-5400000" swAng="-5400000"/>
                <a:lnTo>
                  <a:pt x="0" y="8485"/>
                </a:lnTo>
                <a:arcTo wR="21600" hR="8485" stAng="10800000" swAng="-208376"/>
                <a:lnTo>
                  <a:pt x="253" y="9780"/>
                </a:lnTo>
                <a:arcTo wR="21600" hR="8485" stAng="-10591624" swAng="5191624"/>
                <a:close/>
              </a:path>
            </a:pathLst>
          </a:cu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Овал 1"/>
          <p:cNvSpPr/>
          <p:nvPr/>
        </p:nvSpPr>
        <p:spPr>
          <a:xfrm>
            <a:off x="762120" y="533520"/>
            <a:ext cx="7619760" cy="1371600"/>
          </a:xfrm>
          <a:prstGeom prst="ellips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ассортимента тов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Блок-схема: ссылка на другую страницу 2"/>
          <p:cNvSpPr/>
          <p:nvPr/>
        </p:nvSpPr>
        <p:spPr>
          <a:xfrm>
            <a:off x="5029200" y="3429000"/>
            <a:ext cx="3124080" cy="1905120"/>
          </a:xfrm>
          <a:prstGeom prst="flowChartOffpage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ссылка на другую страницу 3"/>
          <p:cNvSpPr/>
          <p:nvPr/>
        </p:nvSpPr>
        <p:spPr>
          <a:xfrm>
            <a:off x="1295280" y="3429000"/>
            <a:ext cx="3124440" cy="1905120"/>
          </a:xfrm>
          <a:prstGeom prst="flowChartOffpage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с вырезом 4"/>
          <p:cNvSpPr/>
          <p:nvPr/>
        </p:nvSpPr>
        <p:spPr>
          <a:xfrm rot="5400000">
            <a:off x="2323800" y="2324160"/>
            <a:ext cx="1219320" cy="685800"/>
          </a:xfrm>
          <a:custGeom>
            <a:avLst/>
            <a:gdLst>
              <a:gd name="textAreaLeft" fmla="*/ 171360 w 1219320"/>
              <a:gd name="textAreaRight" fmla="*/ 1047960 w 1219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525" y="5400"/>
                </a:lnTo>
                <a:lnTo>
                  <a:pt x="15525" y="0"/>
                </a:lnTo>
                <a:lnTo>
                  <a:pt x="21600" y="10800"/>
                </a:lnTo>
                <a:lnTo>
                  <a:pt x="15525" y="21600"/>
                </a:lnTo>
                <a:lnTo>
                  <a:pt x="15525" y="16200"/>
                </a:lnTo>
                <a:lnTo>
                  <a:pt x="0" y="16200"/>
                </a:lnTo>
                <a:lnTo>
                  <a:pt x="30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1e9f3"/>
              </a:gs>
              <a:gs pos="100000">
                <a:srgbClr val="53badc"/>
              </a:gs>
            </a:gsLst>
            <a:lin ang="0"/>
          </a:gradFill>
          <a:ln w="10080">
            <a:solidFill>
              <a:srgbClr val="3891a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право с вырезом 5"/>
          <p:cNvSpPr/>
          <p:nvPr/>
        </p:nvSpPr>
        <p:spPr>
          <a:xfrm rot="5400000">
            <a:off x="5981400" y="2324160"/>
            <a:ext cx="1219320" cy="685800"/>
          </a:xfrm>
          <a:custGeom>
            <a:avLst/>
            <a:gdLst>
              <a:gd name="textAreaLeft" fmla="*/ 171360 w 1219320"/>
              <a:gd name="textAreaRight" fmla="*/ 1047960 w 1219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525" y="5400"/>
                </a:lnTo>
                <a:lnTo>
                  <a:pt x="15525" y="0"/>
                </a:lnTo>
                <a:lnTo>
                  <a:pt x="21600" y="10800"/>
                </a:lnTo>
                <a:lnTo>
                  <a:pt x="15525" y="21600"/>
                </a:lnTo>
                <a:lnTo>
                  <a:pt x="15525" y="16200"/>
                </a:lnTo>
                <a:lnTo>
                  <a:pt x="0" y="16200"/>
                </a:lnTo>
                <a:lnTo>
                  <a:pt x="30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1e9f3"/>
              </a:gs>
              <a:gs pos="100000">
                <a:srgbClr val="53badc"/>
              </a:gs>
            </a:gsLst>
            <a:lin ang="0"/>
          </a:gradFill>
          <a:ln w="10080">
            <a:solidFill>
              <a:srgbClr val="3891a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Блок-схема: подготовка 1"/>
          <p:cNvSpPr/>
          <p:nvPr/>
        </p:nvSpPr>
        <p:spPr>
          <a:xfrm>
            <a:off x="914400" y="304920"/>
            <a:ext cx="7543800" cy="1828800"/>
          </a:xfrm>
          <a:prstGeom prst="flowChartPreparation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астоте и характеру предъявляемого покупателями спроса товары подразделяются на несколько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Блок-схема: знак завершения 2"/>
          <p:cNvSpPr/>
          <p:nvPr/>
        </p:nvSpPr>
        <p:spPr>
          <a:xfrm>
            <a:off x="304920" y="3048120"/>
            <a:ext cx="3886200" cy="83808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ы повседневн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Блок-схема: знак завершения 3"/>
          <p:cNvSpPr/>
          <p:nvPr/>
        </p:nvSpPr>
        <p:spPr>
          <a:xfrm>
            <a:off x="304920" y="4419720"/>
            <a:ext cx="3886200" cy="91440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ы периодическ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Блок-схема: знак завершения 4"/>
          <p:cNvSpPr/>
          <p:nvPr/>
        </p:nvSpPr>
        <p:spPr>
          <a:xfrm>
            <a:off x="2590920" y="5791320"/>
            <a:ext cx="4267080" cy="83808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ы редк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Блок-схема: знак завершения 5"/>
          <p:cNvSpPr/>
          <p:nvPr/>
        </p:nvSpPr>
        <p:spPr>
          <a:xfrm>
            <a:off x="5181480" y="3048120"/>
            <a:ext cx="3657600" cy="83808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ы сезонн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Блок-схема: знак завершения 6"/>
          <p:cNvSpPr/>
          <p:nvPr/>
        </p:nvSpPr>
        <p:spPr>
          <a:xfrm>
            <a:off x="5257800" y="4419720"/>
            <a:ext cx="3581280" cy="83808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утствующие тов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Shape 8"/>
          <p:cNvCxnSpPr>
            <a:stCxn id="457" idx="1"/>
            <a:endCxn id="458" idx="0"/>
          </p:cNvCxnSpPr>
          <p:nvPr/>
        </p:nvCxnSpPr>
        <p:spPr>
          <a:xfrm flipH="1" flipV="1" rot="10800000">
            <a:off x="914040" y="1218960"/>
            <a:ext cx="1334160" cy="1829520"/>
          </a:xfrm>
          <a:prstGeom prst="curvedConnector5">
            <a:avLst>
              <a:gd name="adj1" fmla="val -17139"/>
              <a:gd name="adj2" fmla="val 36744"/>
              <a:gd name="adj3" fmla="val -1713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Shape 10"/>
          <p:cNvCxnSpPr>
            <a:stCxn id="457" idx="3"/>
            <a:endCxn id="461" idx="0"/>
          </p:cNvCxnSpPr>
          <p:nvPr/>
        </p:nvCxnSpPr>
        <p:spPr>
          <a:xfrm flipH="1">
            <a:off x="7009920" y="1219320"/>
            <a:ext cx="1448640" cy="1829520"/>
          </a:xfrm>
          <a:prstGeom prst="curvedConnector5">
            <a:avLst>
              <a:gd name="adj1" fmla="val -15784"/>
              <a:gd name="adj2" fmla="val 36744"/>
              <a:gd name="adj3" fmla="val -1578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Shape 24"/>
          <p:cNvCxnSpPr>
            <a:stCxn id="457" idx="2"/>
            <a:endCxn id="459" idx="3"/>
          </p:cNvCxnSpPr>
          <p:nvPr/>
        </p:nvCxnSpPr>
        <p:spPr>
          <a:xfrm rot="5400000">
            <a:off x="3066480" y="3257640"/>
            <a:ext cx="274392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Скругленная соединительная линия 26"/>
          <p:cNvCxnSpPr>
            <a:stCxn id="457" idx="2"/>
            <a:endCxn id="462" idx="1"/>
          </p:cNvCxnSpPr>
          <p:nvPr/>
        </p:nvCxnSpPr>
        <p:spPr>
          <a:xfrm flipH="1" rot="16200000">
            <a:off x="3618720" y="3200400"/>
            <a:ext cx="2705760" cy="5720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Прямая со стрелкой 29"/>
          <p:cNvCxnSpPr>
            <a:stCxn id="457" idx="2"/>
            <a:endCxn id="460" idx="0"/>
          </p:cNvCxnSpPr>
          <p:nvPr/>
        </p:nvCxnSpPr>
        <p:spPr>
          <a:xfrm>
            <a:off x="4685400" y="2133720"/>
            <a:ext cx="38520" cy="365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с двумя скругленными противолежащими углами 1"/>
          <p:cNvSpPr/>
          <p:nvPr/>
        </p:nvSpPr>
        <p:spPr>
          <a:xfrm>
            <a:off x="1295280" y="609480"/>
            <a:ext cx="6629400" cy="106704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ование  ассортимента тов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Загнутый угол 2"/>
          <p:cNvSpPr/>
          <p:nvPr/>
        </p:nvSpPr>
        <p:spPr>
          <a:xfrm>
            <a:off x="1371600" y="3048120"/>
            <a:ext cx="6553080" cy="2666880"/>
          </a:xfrm>
          <a:prstGeom prst="foldedCorner">
            <a:avLst>
              <a:gd name="adj" fmla="val 2884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жный и непрерывный процесс, основная цель которого заключается в наиболее полном удовлетворении потребностей населения в товарах при обеспечении прибыльности работы торгового предпри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ашивка 3"/>
          <p:cNvSpPr/>
          <p:nvPr/>
        </p:nvSpPr>
        <p:spPr>
          <a:xfrm rot="5400000">
            <a:off x="4343400" y="0"/>
            <a:ext cx="533520" cy="4495680"/>
          </a:xfrm>
          <a:custGeom>
            <a:avLst/>
            <a:gdLst>
              <a:gd name="textAreaLeft" fmla="*/ 0 w 533520"/>
              <a:gd name="textAreaRight" fmla="*/ 533880 w 5335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898c3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Блок-схема: знак завершения 1"/>
          <p:cNvSpPr/>
          <p:nvPr/>
        </p:nvSpPr>
        <p:spPr>
          <a:xfrm>
            <a:off x="1143000" y="304920"/>
            <a:ext cx="7162920" cy="1600200"/>
          </a:xfrm>
          <a:prstGeom prst="flowChartTerminator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спрос населения и оказывающие влияние на процесс формирования ассортимента товаров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"/>
          <p:cNvSpPr/>
          <p:nvPr/>
        </p:nvSpPr>
        <p:spPr>
          <a:xfrm>
            <a:off x="380880" y="2743200"/>
            <a:ext cx="3657600" cy="7621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3"/>
          <p:cNvSpPr/>
          <p:nvPr/>
        </p:nvSpPr>
        <p:spPr>
          <a:xfrm>
            <a:off x="380880" y="4114800"/>
            <a:ext cx="3657600" cy="7621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2743200" y="5486400"/>
            <a:ext cx="3886200" cy="7621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граф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5"/>
          <p:cNvSpPr/>
          <p:nvPr/>
        </p:nvSpPr>
        <p:spPr>
          <a:xfrm>
            <a:off x="5181480" y="2743200"/>
            <a:ext cx="3657600" cy="91440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о-клима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6"/>
          <p:cNvSpPr/>
          <p:nvPr/>
        </p:nvSpPr>
        <p:spPr>
          <a:xfrm>
            <a:off x="5181480" y="4038480"/>
            <a:ext cx="3657600" cy="91440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о-бы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Скругленная соединительная линия 8"/>
          <p:cNvCxnSpPr>
            <a:stCxn id="471" idx="2"/>
            <a:endCxn id="472" idx="0"/>
          </p:cNvCxnSpPr>
          <p:nvPr/>
        </p:nvCxnSpPr>
        <p:spPr>
          <a:xfrm rot="5400000">
            <a:off x="3047040" y="1066680"/>
            <a:ext cx="838800" cy="2515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Скругленная соединительная линия 11"/>
          <p:cNvCxnSpPr>
            <a:stCxn id="471" idx="2"/>
            <a:endCxn id="475" idx="0"/>
          </p:cNvCxnSpPr>
          <p:nvPr/>
        </p:nvCxnSpPr>
        <p:spPr>
          <a:xfrm flipH="1" rot="16200000">
            <a:off x="5448240" y="1180800"/>
            <a:ext cx="838800" cy="2286720"/>
          </a:xfrm>
          <a:prstGeom prst="curvedConnector5">
            <a:avLst>
              <a:gd name="adj1" fmla="val 49978"/>
              <a:gd name="adj2" fmla="val 49992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Скругленная соединительная линия 13"/>
          <p:cNvCxnSpPr>
            <a:stCxn id="471" idx="2"/>
            <a:endCxn id="473" idx="3"/>
          </p:cNvCxnSpPr>
          <p:nvPr/>
        </p:nvCxnSpPr>
        <p:spPr>
          <a:xfrm rot="5400000">
            <a:off x="3085200" y="2857320"/>
            <a:ext cx="2591280" cy="6865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hape 16"/>
          <p:cNvCxnSpPr>
            <a:stCxn id="471" idx="2"/>
            <a:endCxn id="476" idx="1"/>
          </p:cNvCxnSpPr>
          <p:nvPr/>
        </p:nvCxnSpPr>
        <p:spPr>
          <a:xfrm flipH="1" rot="16200000">
            <a:off x="3657600" y="2971440"/>
            <a:ext cx="2591280" cy="457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Прямая со стрелкой 18"/>
          <p:cNvCxnSpPr>
            <a:stCxn id="471" idx="2"/>
            <a:endCxn id="474" idx="0"/>
          </p:cNvCxnSpPr>
          <p:nvPr/>
        </p:nvCxnSpPr>
        <p:spPr>
          <a:xfrm flipH="1">
            <a:off x="4685760" y="1905120"/>
            <a:ext cx="38520" cy="358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с двумя скругленными соседними углами 1"/>
          <p:cNvSpPr/>
          <p:nvPr/>
        </p:nvSpPr>
        <p:spPr>
          <a:xfrm>
            <a:off x="1371600" y="533520"/>
            <a:ext cx="6553080" cy="114300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товарными запас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Блок-схема: документ 2"/>
          <p:cNvSpPr/>
          <p:nvPr/>
        </p:nvSpPr>
        <p:spPr>
          <a:xfrm>
            <a:off x="685800" y="2895480"/>
            <a:ext cx="3581280" cy="99072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Блок-схема: документ 3"/>
          <p:cNvSpPr/>
          <p:nvPr/>
        </p:nvSpPr>
        <p:spPr>
          <a:xfrm>
            <a:off x="2514600" y="4724280"/>
            <a:ext cx="4267080" cy="106704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тивный учет и контро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Блок-схема: документ 4"/>
          <p:cNvSpPr/>
          <p:nvPr/>
        </p:nvSpPr>
        <p:spPr>
          <a:xfrm>
            <a:off x="5029200" y="2895480"/>
            <a:ext cx="3733920" cy="99072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Скругленная соединительная линия 6"/>
          <p:cNvCxnSpPr>
            <a:stCxn id="482" idx="4"/>
            <a:endCxn id="483" idx="0"/>
          </p:cNvCxnSpPr>
          <p:nvPr/>
        </p:nvCxnSpPr>
        <p:spPr>
          <a:xfrm rot="5400000">
            <a:off x="2952000" y="1199880"/>
            <a:ext cx="1219680" cy="217260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Скругленная соединительная линия 8"/>
          <p:cNvCxnSpPr>
            <a:stCxn id="482" idx="5"/>
            <a:endCxn id="485" idx="0"/>
          </p:cNvCxnSpPr>
          <p:nvPr/>
        </p:nvCxnSpPr>
        <p:spPr>
          <a:xfrm flipH="1" rot="16200000">
            <a:off x="5162760" y="1161720"/>
            <a:ext cx="1219680" cy="2248560"/>
          </a:xfrm>
          <a:prstGeom prst="curvedConnector5">
            <a:avLst>
              <a:gd name="adj1" fmla="val 49985"/>
              <a:gd name="adj2" fmla="val 49991"/>
              <a:gd name="adj3" fmla="val 4998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Прямая со стрелкой 10"/>
          <p:cNvCxnSpPr>
            <a:stCxn id="482" idx="6"/>
            <a:endCxn id="484" idx="0"/>
          </p:cNvCxnSpPr>
          <p:nvPr/>
        </p:nvCxnSpPr>
        <p:spPr>
          <a:xfrm flipH="1">
            <a:off x="4645800" y="1677600"/>
            <a:ext cx="3960" cy="304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с двумя скругленными противолежащими углами 1"/>
          <p:cNvSpPr/>
          <p:nvPr/>
        </p:nvSpPr>
        <p:spPr>
          <a:xfrm>
            <a:off x="1371600" y="457200"/>
            <a:ext cx="6477120" cy="114300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имулирования продажи тов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Блок-схема: знак завершения 2"/>
          <p:cNvSpPr/>
          <p:nvPr/>
        </p:nvSpPr>
        <p:spPr>
          <a:xfrm>
            <a:off x="1066680" y="3200400"/>
            <a:ext cx="7010640" cy="2133720"/>
          </a:xfrm>
          <a:prstGeom prst="flowChartTermina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привлечение большего числа покупателей с целью увеличения сбыта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трелка вправо с вырезом 3"/>
          <p:cNvSpPr/>
          <p:nvPr/>
        </p:nvSpPr>
        <p:spPr>
          <a:xfrm rot="5400000">
            <a:off x="4000320" y="2095560"/>
            <a:ext cx="1143000" cy="761760"/>
          </a:xfrm>
          <a:custGeom>
            <a:avLst/>
            <a:gdLst>
              <a:gd name="textAreaLeft" fmla="*/ 190440 w 1143000"/>
              <a:gd name="textAreaRight" fmla="*/ 9525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с двумя вырезанными соседними углами 1"/>
          <p:cNvSpPr/>
          <p:nvPr/>
        </p:nvSpPr>
        <p:spPr>
          <a:xfrm>
            <a:off x="1295280" y="304920"/>
            <a:ext cx="6858000" cy="114300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, оказывающие влияния на выбор методов стиму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Блок-схема: ссылка на другую страницу 2"/>
          <p:cNvSpPr/>
          <p:nvPr/>
        </p:nvSpPr>
        <p:spPr>
          <a:xfrm>
            <a:off x="533520" y="2514600"/>
            <a:ext cx="3657600" cy="1752480"/>
          </a:xfrm>
          <a:prstGeom prst="flowChartOffpage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ор проведения мероприятий по стимулированию прод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Блок-схема: ссылка на другую страницу 3"/>
          <p:cNvSpPr/>
          <p:nvPr/>
        </p:nvSpPr>
        <p:spPr>
          <a:xfrm>
            <a:off x="5181480" y="2514600"/>
            <a:ext cx="3581640" cy="1752480"/>
          </a:xfrm>
          <a:prstGeom prst="flowChartOffpage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, к которому следует привлечь внимание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Блок-схема: ссылка на другую страницу 4"/>
          <p:cNvSpPr/>
          <p:nvPr/>
        </p:nvSpPr>
        <p:spPr>
          <a:xfrm>
            <a:off x="2819520" y="4724280"/>
            <a:ext cx="3809880" cy="1676520"/>
          </a:xfrm>
          <a:prstGeom prst="flowChartOffpage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проведения подоб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Скругленная соединительная линия 6"/>
          <p:cNvCxnSpPr>
            <a:stCxn id="492" idx="4"/>
            <a:endCxn id="493" idx="0"/>
          </p:cNvCxnSpPr>
          <p:nvPr/>
        </p:nvCxnSpPr>
        <p:spPr>
          <a:xfrm rot="5400000">
            <a:off x="3009240" y="799920"/>
            <a:ext cx="1067400" cy="236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Скругленная соединительная линия 8"/>
          <p:cNvCxnSpPr>
            <a:stCxn id="492" idx="5"/>
            <a:endCxn id="494" idx="0"/>
          </p:cNvCxnSpPr>
          <p:nvPr/>
        </p:nvCxnSpPr>
        <p:spPr>
          <a:xfrm flipH="1" rot="16200000">
            <a:off x="5313960" y="856800"/>
            <a:ext cx="1067400" cy="224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Прямая со стрелкой 10"/>
          <p:cNvCxnSpPr>
            <a:stCxn id="492" idx="6"/>
            <a:endCxn id="495" idx="0"/>
          </p:cNvCxnSpPr>
          <p:nvPr/>
        </p:nvCxnSpPr>
        <p:spPr>
          <a:xfrm flipH="1">
            <a:off x="4722120" y="1449360"/>
            <a:ext cx="3960" cy="3277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1"/>
          <p:cNvSpPr/>
          <p:nvPr/>
        </p:nvSpPr>
        <p:spPr>
          <a:xfrm>
            <a:off x="1371600" y="533520"/>
            <a:ext cx="6477120" cy="1066680"/>
          </a:xfrm>
          <a:prstGeom prst="roundRect">
            <a:avLst>
              <a:gd name="adj" fmla="val 31106"/>
            </a:avLst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методы стимулирования прод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"/>
          <p:cNvSpPr/>
          <p:nvPr/>
        </p:nvSpPr>
        <p:spPr>
          <a:xfrm>
            <a:off x="380880" y="2666880"/>
            <a:ext cx="3733920" cy="83844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ажа товаров со скид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3"/>
          <p:cNvSpPr/>
          <p:nvPr/>
        </p:nvSpPr>
        <p:spPr>
          <a:xfrm>
            <a:off x="380880" y="4343400"/>
            <a:ext cx="3733920" cy="91440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ажа товаров по сниженным цен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4952880" y="2666880"/>
            <a:ext cx="3810240" cy="83844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в магазинах лотер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5"/>
          <p:cNvSpPr/>
          <p:nvPr/>
        </p:nvSpPr>
        <p:spPr>
          <a:xfrm>
            <a:off x="4952880" y="4343400"/>
            <a:ext cx="3810240" cy="91440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ение образцов това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Скругленная соединительная линия 7"/>
          <p:cNvCxnSpPr>
            <a:stCxn id="499" idx="2"/>
            <a:endCxn id="500" idx="0"/>
          </p:cNvCxnSpPr>
          <p:nvPr/>
        </p:nvCxnSpPr>
        <p:spPr>
          <a:xfrm rot="5400000">
            <a:off x="2895120" y="952200"/>
            <a:ext cx="106740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Скругленная соединительная линия 9"/>
          <p:cNvCxnSpPr>
            <a:stCxn id="499" idx="2"/>
            <a:endCxn id="502" idx="0"/>
          </p:cNvCxnSpPr>
          <p:nvPr/>
        </p:nvCxnSpPr>
        <p:spPr>
          <a:xfrm flipH="1" rot="16200000">
            <a:off x="5200560" y="1009080"/>
            <a:ext cx="1067400" cy="22485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Скругленная соединительная линия 11"/>
          <p:cNvCxnSpPr>
            <a:stCxn id="499" idx="2"/>
            <a:endCxn id="501" idx="3"/>
          </p:cNvCxnSpPr>
          <p:nvPr/>
        </p:nvCxnSpPr>
        <p:spPr>
          <a:xfrm rot="5400000">
            <a:off x="2761560" y="2952720"/>
            <a:ext cx="3201120" cy="496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Shape 14"/>
          <p:cNvCxnSpPr>
            <a:stCxn id="499" idx="2"/>
            <a:endCxn id="503" idx="1"/>
          </p:cNvCxnSpPr>
          <p:nvPr/>
        </p:nvCxnSpPr>
        <p:spPr>
          <a:xfrm flipH="1" rot="16200000">
            <a:off x="3181320" y="3028680"/>
            <a:ext cx="3201120" cy="343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609480" y="457200"/>
            <a:ext cx="807732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1.Сущность и особенности коммерческой работы на предприятиях розничной торгов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.Формирование ассортимента товаров и управление товарными запасами в магазин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.Методы стимулирования продажи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1066680" y="24382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Овал 1"/>
          <p:cNvSpPr/>
          <p:nvPr/>
        </p:nvSpPr>
        <p:spPr>
          <a:xfrm>
            <a:off x="838080" y="3352680"/>
            <a:ext cx="7772400" cy="1828800"/>
          </a:xfrm>
          <a:prstGeom prst="ellipse">
            <a:avLst/>
          </a:prstGeom>
          <a:solidFill>
            <a:srgbClr val="ffe39d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ение торгово-технологического процесса товаро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1600200" y="457200"/>
            <a:ext cx="6095880" cy="1371600"/>
          </a:xfrm>
          <a:prstGeom prst="rect">
            <a:avLst/>
          </a:prstGeom>
          <a:gradFill rotWithShape="0">
            <a:gsLst>
              <a:gs pos="0">
                <a:srgbClr val="d6daeb"/>
              </a:gs>
              <a:gs pos="100000">
                <a:srgbClr val="6679bb"/>
              </a:gs>
            </a:gsLst>
            <a:lin ang="5400000"/>
          </a:gradFill>
          <a:ln w="10080">
            <a:solidFill>
              <a:srgbClr val="475a8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риятия розничной торговл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право с вырезом 3"/>
          <p:cNvSpPr/>
          <p:nvPr/>
        </p:nvSpPr>
        <p:spPr>
          <a:xfrm rot="5400000">
            <a:off x="4114440" y="2209680"/>
            <a:ext cx="1066680" cy="762120"/>
          </a:xfrm>
          <a:custGeom>
            <a:avLst/>
            <a:gdLst>
              <a:gd name="textAreaLeft" fmla="*/ 190440 w 1066680"/>
              <a:gd name="textAreaRight" fmla="*/ 87624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0bad7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с двумя скругленными соседними углами 1"/>
          <p:cNvSpPr/>
          <p:nvPr/>
        </p:nvSpPr>
        <p:spPr>
          <a:xfrm>
            <a:off x="1219320" y="533520"/>
            <a:ext cx="7010280" cy="2133360"/>
          </a:xfrm>
          <a:prstGeom prst="pie">
            <a:avLst/>
          </a:prstGeom>
          <a:gradFill rotWithShape="0">
            <a:gsLst>
              <a:gs pos="0">
                <a:srgbClr val="d6daeb"/>
              </a:gs>
              <a:gs pos="100000">
                <a:srgbClr val="6679bb"/>
              </a:gs>
            </a:gsLst>
            <a:lin ang="5400000"/>
          </a:gradFill>
          <a:ln w="10080">
            <a:solidFill>
              <a:srgbClr val="475a8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, возникающие на этом этапе коммерческой деятельности между продавцом и покупателем, строятся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блако 2"/>
          <p:cNvSpPr/>
          <p:nvPr/>
        </p:nvSpPr>
        <p:spPr>
          <a:xfrm>
            <a:off x="2286000" y="3276720"/>
            <a:ext cx="4876920" cy="2286000"/>
          </a:xfrm>
          <a:prstGeom prst="pie">
            <a:avLst/>
          </a:prstGeom>
          <a:solidFill>
            <a:srgbClr val="ffe39d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а розничной купли-прод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Скругленная соединительная линия 5"/>
          <p:cNvCxnSpPr>
            <a:stCxn id="404" idx="4"/>
            <a:endCxn id="405" idx="4"/>
          </p:cNvCxnSpPr>
          <p:nvPr/>
        </p:nvCxnSpPr>
        <p:spPr>
          <a:xfrm flipH="1" flipV="1" rot="10800000">
            <a:off x="1218240" y="1599840"/>
            <a:ext cx="1083240" cy="2820240"/>
          </a:xfrm>
          <a:prstGeom prst="curvedConnector5">
            <a:avLst>
              <a:gd name="adj1" fmla="val -34973"/>
              <a:gd name="adj2" fmla="val 49993"/>
              <a:gd name="adj3" fmla="val -3497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Овал 1"/>
          <p:cNvSpPr/>
          <p:nvPr/>
        </p:nvSpPr>
        <p:spPr>
          <a:xfrm>
            <a:off x="838080" y="457200"/>
            <a:ext cx="7848720" cy="1447920"/>
          </a:xfrm>
          <a:prstGeom prst="ellips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говор розничной купли-продаж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Загнутый угол 2"/>
          <p:cNvSpPr/>
          <p:nvPr/>
        </p:nvSpPr>
        <p:spPr>
          <a:xfrm>
            <a:off x="914400" y="2819520"/>
            <a:ext cx="7620120" cy="3124080"/>
          </a:xfrm>
          <a:prstGeom prst="foldedCorner">
            <a:avLst>
              <a:gd name="adj" fmla="val 22041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ец, осуществляющий предпринимательскую деятельность по продаже товаров в розницу, обязуется  передать покупателю товар для использования в целях, не связанных предпринимательской деятельностью, то есть для личного, семейного, домашнего и другого подобн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ашивка 4"/>
          <p:cNvSpPr/>
          <p:nvPr/>
        </p:nvSpPr>
        <p:spPr>
          <a:xfrm rot="5400000">
            <a:off x="4495680" y="380520"/>
            <a:ext cx="457200" cy="3657600"/>
          </a:xfrm>
          <a:custGeom>
            <a:avLst/>
            <a:gdLst>
              <a:gd name="textAreaLeft" fmla="*/ 0 w 457200"/>
              <a:gd name="textAreaRight" fmla="*/ 457560 w 45720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0bad7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с двумя скругленными противолежащими углами 1"/>
          <p:cNvSpPr/>
          <p:nvPr/>
        </p:nvSpPr>
        <p:spPr>
          <a:xfrm>
            <a:off x="1219320" y="228600"/>
            <a:ext cx="6933960" cy="1828800"/>
          </a:xfrm>
          <a:prstGeom prst="pie">
            <a:avLst/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ая работа на предприятиях розничной торговли состоит из взаимосвязанных оп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457200" y="2666880"/>
            <a:ext cx="3429000" cy="9907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анализ спроса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0880" y="4495680"/>
            <a:ext cx="3429000" cy="9907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ассортимент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5334120" y="2666880"/>
            <a:ext cx="3429000" cy="99072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товарными запа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5334120" y="4267080"/>
            <a:ext cx="3429000" cy="1600200"/>
          </a:xfrm>
          <a:prstGeom prst="rect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но-информационная деятельность по сбыту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hape 7"/>
          <p:cNvCxnSpPr>
            <a:stCxn id="410" idx="4"/>
            <a:endCxn id="411" idx="3"/>
          </p:cNvCxnSpPr>
          <p:nvPr/>
        </p:nvCxnSpPr>
        <p:spPr>
          <a:xfrm rot="5400000">
            <a:off x="3733200" y="2209320"/>
            <a:ext cx="1105560" cy="801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Shape 9"/>
          <p:cNvCxnSpPr>
            <a:stCxn id="410" idx="5"/>
            <a:endCxn id="413" idx="1"/>
          </p:cNvCxnSpPr>
          <p:nvPr/>
        </p:nvCxnSpPr>
        <p:spPr>
          <a:xfrm flipH="1" rot="16200000">
            <a:off x="4456800" y="2285640"/>
            <a:ext cx="1105560" cy="64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Shape 11"/>
          <p:cNvCxnSpPr>
            <a:stCxn id="410" idx="6"/>
            <a:endCxn id="412" idx="3"/>
          </p:cNvCxnSpPr>
          <p:nvPr/>
        </p:nvCxnSpPr>
        <p:spPr>
          <a:xfrm rot="5400000">
            <a:off x="2780640" y="3085560"/>
            <a:ext cx="2934360" cy="877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Shape 13"/>
          <p:cNvCxnSpPr>
            <a:stCxn id="410" idx="7"/>
            <a:endCxn id="414" idx="1"/>
          </p:cNvCxnSpPr>
          <p:nvPr/>
        </p:nvCxnSpPr>
        <p:spPr>
          <a:xfrm flipH="1" rot="16200000">
            <a:off x="3504240" y="3238200"/>
            <a:ext cx="3010680" cy="64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Блок-схема: решение 1"/>
          <p:cNvSpPr/>
          <p:nvPr/>
        </p:nvSpPr>
        <p:spPr>
          <a:xfrm>
            <a:off x="1447920" y="380880"/>
            <a:ext cx="6095880" cy="1752840"/>
          </a:xfrm>
          <a:prstGeom prst="flowChartDecision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дажа тов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с одним вырезанным скругленным углом 2"/>
          <p:cNvSpPr/>
          <p:nvPr/>
        </p:nvSpPr>
        <p:spPr>
          <a:xfrm>
            <a:off x="2819520" y="3124080"/>
            <a:ext cx="5105160" cy="2133720"/>
          </a:xfrm>
          <a:prstGeom prst="pie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ершающая стадия торгово-технологического процесса в магаз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Выгнутая влево стрелка 3"/>
          <p:cNvSpPr/>
          <p:nvPr/>
        </p:nvSpPr>
        <p:spPr>
          <a:xfrm>
            <a:off x="1828800" y="1676520"/>
            <a:ext cx="990720" cy="20574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04280 h 2057400"/>
              <a:gd name="textAreaBottom" fmla="*/ 14605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89" stAng="-5400000" swAng="-5400000"/>
                <a:lnTo>
                  <a:pt x="0" y="11089"/>
                </a:lnTo>
                <a:arcTo wR="21600" hR="8489" stAng="10800000" swAng="-3401755"/>
                <a:lnTo>
                  <a:pt x="16200" y="21330"/>
                </a:lnTo>
                <a:lnTo>
                  <a:pt x="21600" y="18278"/>
                </a:lnTo>
                <a:lnTo>
                  <a:pt x="16200" y="14686"/>
                </a:lnTo>
                <a:lnTo>
                  <a:pt x="16200" y="16708"/>
                </a:lnTo>
                <a:arcTo wR="21600" hR="8489" stAng="7398245" swAng="3192642"/>
                <a:lnTo>
                  <a:pt x="255" y="9789"/>
                </a:lnTo>
                <a:arcTo wR="21600" hR="8489" stAng="-10590887" swAng="5190887"/>
                <a:close/>
              </a:path>
              <a:path fill="darkenLess" w="21600" h="21600">
                <a:moveTo>
                  <a:pt x="21600" y="0"/>
                </a:moveTo>
                <a:arcTo wR="21600" hR="8489" stAng="-5400000" swAng="-5400000"/>
                <a:lnTo>
                  <a:pt x="0" y="8489"/>
                </a:lnTo>
                <a:arcTo wR="21600" hR="8489" stAng="10800000" swAng="-209113"/>
                <a:lnTo>
                  <a:pt x="255" y="9789"/>
                </a:lnTo>
                <a:arcTo wR="21600" hR="8489" stAng="-10590887" swAng="5190887"/>
                <a:close/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с двумя скругленными соседними углами 1"/>
          <p:cNvSpPr/>
          <p:nvPr/>
        </p:nvSpPr>
        <p:spPr>
          <a:xfrm>
            <a:off x="1523880" y="457200"/>
            <a:ext cx="6400800" cy="1143000"/>
          </a:xfrm>
          <a:prstGeom prst="pie">
            <a:avLst/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торгового обслуживания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Блок-схема: узел 2"/>
          <p:cNvSpPr/>
          <p:nvPr/>
        </p:nvSpPr>
        <p:spPr>
          <a:xfrm>
            <a:off x="1447920" y="2971800"/>
            <a:ext cx="2743200" cy="251460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ази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Блок-схема: узел 3"/>
          <p:cNvSpPr/>
          <p:nvPr/>
        </p:nvSpPr>
        <p:spPr>
          <a:xfrm>
            <a:off x="5334120" y="2971800"/>
            <a:ext cx="2743200" cy="251460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магази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Скругленн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2560680" y="1560600"/>
            <a:ext cx="2273400" cy="1725480"/>
          </a:xfrm>
          <a:prstGeom prst="rect">
            <a:avLst/>
          </a:prstGeom>
          <a:ln w="0">
            <a:noFill/>
          </a:ln>
        </p:spPr>
      </p:pic>
      <p:pic>
        <p:nvPicPr>
          <p:cNvPr id="426" name="Скругленн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4608360" y="1560600"/>
            <a:ext cx="2352960" cy="172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1143000" y="457200"/>
            <a:ext cx="7010280" cy="1143000"/>
          </a:xfrm>
          <a:prstGeom prst="roundRect">
            <a:avLst>
              <a:gd name="adj" fmla="val 40546"/>
            </a:avLst>
          </a:prstGeom>
          <a:solidFill>
            <a:srgbClr val="8898c3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дажи товаров в магазинной розничной торгов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2"/>
          <p:cNvSpPr/>
          <p:nvPr/>
        </p:nvSpPr>
        <p:spPr>
          <a:xfrm>
            <a:off x="457200" y="2590920"/>
            <a:ext cx="3581280" cy="83808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слу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3"/>
          <p:cNvSpPr/>
          <p:nvPr/>
        </p:nvSpPr>
        <p:spPr>
          <a:xfrm>
            <a:off x="457200" y="4191120"/>
            <a:ext cx="3581280" cy="83808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прилавок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4"/>
          <p:cNvSpPr/>
          <p:nvPr/>
        </p:nvSpPr>
        <p:spPr>
          <a:xfrm>
            <a:off x="2895480" y="5638680"/>
            <a:ext cx="3505320" cy="83844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браз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5"/>
          <p:cNvSpPr/>
          <p:nvPr/>
        </p:nvSpPr>
        <p:spPr>
          <a:xfrm>
            <a:off x="5181480" y="2590920"/>
            <a:ext cx="3505320" cy="83808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ткрытой выклад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6"/>
          <p:cNvSpPr/>
          <p:nvPr/>
        </p:nvSpPr>
        <p:spPr>
          <a:xfrm>
            <a:off x="5181480" y="4038480"/>
            <a:ext cx="3505320" cy="121932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едварительным зака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Скругленная соединительная линия 8"/>
          <p:cNvCxnSpPr>
            <a:stCxn id="427" idx="2"/>
            <a:endCxn id="428" idx="0"/>
          </p:cNvCxnSpPr>
          <p:nvPr/>
        </p:nvCxnSpPr>
        <p:spPr>
          <a:xfrm rot="5400000">
            <a:off x="2952000" y="895320"/>
            <a:ext cx="991440" cy="240120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Скругленная соединительная линия 10"/>
          <p:cNvCxnSpPr>
            <a:stCxn id="427" idx="2"/>
            <a:endCxn id="431" idx="0"/>
          </p:cNvCxnSpPr>
          <p:nvPr/>
        </p:nvCxnSpPr>
        <p:spPr>
          <a:xfrm flipH="1" rot="16200000">
            <a:off x="5295960" y="952200"/>
            <a:ext cx="991440" cy="228672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Shape 12"/>
          <p:cNvCxnSpPr>
            <a:stCxn id="427" idx="2"/>
            <a:endCxn id="429" idx="3"/>
          </p:cNvCxnSpPr>
          <p:nvPr/>
        </p:nvCxnSpPr>
        <p:spPr>
          <a:xfrm rot="5400000">
            <a:off x="2837880" y="2800080"/>
            <a:ext cx="3010680" cy="610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Shape 14"/>
          <p:cNvCxnSpPr>
            <a:stCxn id="427" idx="2"/>
            <a:endCxn id="432" idx="1"/>
          </p:cNvCxnSpPr>
          <p:nvPr/>
        </p:nvCxnSpPr>
        <p:spPr>
          <a:xfrm flipH="1" rot="16200000">
            <a:off x="3389760" y="2857320"/>
            <a:ext cx="3048840" cy="5338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Прямая со стрелкой 16"/>
          <p:cNvCxnSpPr>
            <a:stCxn id="427" idx="2"/>
            <a:endCxn id="430" idx="0"/>
          </p:cNvCxnSpPr>
          <p:nvPr/>
        </p:nvCxnSpPr>
        <p:spPr>
          <a:xfrm flipH="1">
            <a:off x="4645800" y="1601280"/>
            <a:ext cx="3960" cy="4039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18T07:18:39Z</dcterms:modified>
  <cp:revision>17</cp:revision>
  <dc:subject/>
  <dc:title>Коммерческая работа на предприятиях розничной торговли </dc:title>
</cp:coreProperties>
</file>