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F95-3F96-45C1-B841-E67AC4F3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4CA-8C92-4C66-A17E-AB4ED51C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E6F-1FE4-4201-BE86-8F7FBFA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245-A40B-492F-9BAD-22598878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02BF-941C-4A6C-9D5A-05EBE470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7160-7E2B-45CA-BE42-35883B2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6E9-7EDE-4A3E-869C-417810F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E26D-D609-4DC0-BC74-748138E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3B0D-6CFF-48F1-8910-6B4D365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D9A9-5481-4BC2-B43C-297EF419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D27-205C-4AB9-B3E8-DB45D22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699-3453-42C2-BE8A-FB38CB4E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9B7E-218E-45B7-950F-1B2DEA8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EB5-0285-4A2E-9334-930ABEB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0E9E-E341-4FD1-B284-1D8FFA8C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D02-99D0-45DF-B8B4-83DF32A9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24F-5B17-43DB-BDCB-BD225834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58ECB-06E4-44C6-8981-F16B333C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BA5A5-C770-4C2D-92B3-E70E9EA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3E643-D6EF-46B5-9A62-514120F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C28BD-2875-436D-80F2-1AECC85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0232C-0C50-4951-8CD8-0F9362F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54F-0E84-40EE-8A1C-F862CA07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24201-D216-4219-A313-B3A1688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EB873-AA15-42AF-AFCA-287AF8D8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446FF-A1C2-4165-8E1D-EBD2C55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4B427-F811-4B18-A948-91CABA9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60374-8A91-4800-BDC5-B5C9AF4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541E1-F53A-468D-9D58-C4FD1B71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49A36-7062-4F21-88D3-43FD7049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2A6B-6258-4796-9F43-5394A3DF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542DD-A75B-4E96-90FC-AB26AA7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841F-BA0E-4FFD-A5FC-AAFAB9B3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EDC-5D96-451C-8334-C88D5A7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0867-9C17-4262-B01B-E6B8927F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D5F8D-C065-4C2E-BF84-D781135C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8897-B324-4957-B38F-D060FFC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3D93-E3EC-445B-AAD9-48463CC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6D1D-FAB5-48E3-B1E8-385F07C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2F04-B380-4C3E-A44D-2C74453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6577-75DC-4C8D-966E-E6EF831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972E-66E4-4BD2-A9CC-B770431D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8DB37-3546-4D74-BD5B-CFDF35B5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454F3-5856-460A-9F74-38C69591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CB7-76CE-479F-8B21-6C86FB6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6B537-066A-4EB9-8341-4FCD9F39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F1E81-3585-4558-B0B7-115E9894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3622E-53FD-44BD-BD2C-AE38E48F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71043-EAD9-49C1-9506-2255EA1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8C2F4-1709-4279-BCF6-3731CB3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0DEBB-FD2C-499E-887D-FEDC4564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4997A-EDA9-4415-BD4B-BE66520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0866C-DABF-4976-BD6D-E702E67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790AD-D0F5-4F23-B902-4EB82F2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8FF16-D31E-4252-A80F-1FF006FB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FDC-0A83-48E4-9543-F34EFA1D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45BD1-695B-4505-8055-203A1A53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406D6-A35C-4C59-9952-83DD94D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4D5DF-3140-457E-9650-859E09A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B993A-EDFB-488E-8824-21CB6A6E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06581-BCF2-445F-9DCE-65BE221D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40C8D-BB20-41F5-8AD6-83E99FA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67433-1652-4679-9028-212D780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E7B51-46A3-41A0-85F9-F46C023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9B5BA-6AAD-4ADA-85D4-C88C318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44519-737A-43B3-8D87-E66B7F4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1AF-7D67-4089-B440-372F0D6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2A32C-4928-424D-97F1-9BF6448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4206A-F8C0-4007-826B-766A5010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B515E-06A0-4308-94E1-3830FD0B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42BE8-57F1-40F6-AAE0-B9718CE7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62124-ECFC-4D6B-9E04-66217981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2137C-51CC-420C-BFAE-6796D87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5DDF2-361A-44C1-BA74-61210ED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48D24-CA55-4D0E-B89F-4FDDEE9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6F401-F847-4377-B893-6BE10AF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179C4-AE92-425E-8AAF-D558FC9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35E-6B98-4317-B4DE-60AA527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7731F-743E-4822-BA03-50AAA5F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6270F-F3AD-452A-9C82-8EB0A1F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D1911-02B9-4351-BB0B-B3840B3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24D14-EFBA-4A2A-9102-96F28172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98D9-400C-44A4-B919-CABE72A4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B4D-C77A-4EBB-8F62-866D8CB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879-A340-47D5-840A-48B293D37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755-85C6-4AE1-A56E-3B3B40C261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CAB-7405-4C9E-98AC-3E5EE6FE95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578C-1602-42F7-AC6E-8859A1E958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498-3675-4956-8D76-F6F6AB9612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949-BE69-4137-B2EB-21119E8C36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30B-66D6-4651-9D11-436E6D2639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ОРГАНИЗАЦИЯ РЕКЛАМНО-ИНФОРМАЦИОННОЙ ДЕЯТЕЛЬНОСТИ ПО СБЫТУ ТОВАР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с двумя скругленными соседними углами 1"/>
          <p:cNvSpPr/>
          <p:nvPr/>
        </p:nvSpPr>
        <p:spPr>
          <a:xfrm>
            <a:off x="1143000" y="685800"/>
            <a:ext cx="6781680" cy="76212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убъект  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295280" y="2743200"/>
            <a:ext cx="6477120" cy="1828800"/>
          </a:xfrm>
          <a:prstGeom prst="roundRect">
            <a:avLst>
              <a:gd name="adj" fmla="val 16667"/>
            </a:avLst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дприятие, учреждение, частное лицо, которые являются заказчиком реклам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7" name="Прямая со стрелкой 4"/>
          <p:cNvCxnSpPr>
            <a:stCxn id="395" idx="4"/>
            <a:endCxn id="396" idx="0"/>
          </p:cNvCxnSpPr>
          <p:nvPr/>
        </p:nvCxnSpPr>
        <p:spPr>
          <a:xfrm flipH="1">
            <a:off x="4531680" y="1449360"/>
            <a:ext cx="396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с двумя скругленными соседними углами 1"/>
          <p:cNvSpPr/>
          <p:nvPr/>
        </p:nvSpPr>
        <p:spPr>
          <a:xfrm>
            <a:off x="1523880" y="762120"/>
            <a:ext cx="6096240" cy="76176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едмет 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Скругленный прямоугольник 2"/>
          <p:cNvSpPr/>
          <p:nvPr/>
        </p:nvSpPr>
        <p:spPr>
          <a:xfrm>
            <a:off x="1447920" y="2514600"/>
            <a:ext cx="6248160" cy="2286000"/>
          </a:xfrm>
          <a:prstGeom prst="roundRect">
            <a:avLst>
              <a:gd name="adj" fmla="val 16667"/>
            </a:avLst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о, что рекламируют, что является главным в содержании рекламного сообще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0" name="Прямая со стрелкой 4"/>
          <p:cNvCxnSpPr>
            <a:stCxn id="398" idx="4"/>
            <a:endCxn id="399" idx="0"/>
          </p:cNvCxnSpPr>
          <p:nvPr/>
        </p:nvCxnSpPr>
        <p:spPr>
          <a:xfrm flipH="1">
            <a:off x="4570200" y="1525320"/>
            <a:ext cx="360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с двумя скругленными соседними углами 1"/>
          <p:cNvSpPr/>
          <p:nvPr/>
        </p:nvSpPr>
        <p:spPr>
          <a:xfrm>
            <a:off x="1523880" y="685800"/>
            <a:ext cx="6248520" cy="762120"/>
          </a:xfrm>
          <a:prstGeom prst="pi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Цель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Скругленный прямоугольник 2"/>
          <p:cNvSpPr/>
          <p:nvPr/>
        </p:nvSpPr>
        <p:spPr>
          <a:xfrm>
            <a:off x="1447920" y="2590920"/>
            <a:ext cx="6400800" cy="2743200"/>
          </a:xfrm>
          <a:prstGeom prst="roundRect">
            <a:avLst>
              <a:gd name="adj" fmla="val 16667"/>
            </a:avLst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остижение конкретного результата (стимулирование продаж, создание имиджа предприятию или его торговой марке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3" name="Прямая со стрелкой 4"/>
          <p:cNvCxnSpPr>
            <a:stCxn id="401" idx="4"/>
            <a:endCxn id="402" idx="0"/>
          </p:cNvCxnSpPr>
          <p:nvPr/>
        </p:nvCxnSpPr>
        <p:spPr>
          <a:xfrm flipH="1">
            <a:off x="4645800" y="1449000"/>
            <a:ext cx="396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с двумя скругленными соседними углами 1"/>
          <p:cNvSpPr/>
          <p:nvPr/>
        </p:nvSpPr>
        <p:spPr>
          <a:xfrm>
            <a:off x="1676520" y="609480"/>
            <a:ext cx="6095880" cy="838440"/>
          </a:xfrm>
          <a:prstGeom prst="pi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бъект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Скругленный прямоугольник 2"/>
          <p:cNvSpPr/>
          <p:nvPr/>
        </p:nvSpPr>
        <p:spPr>
          <a:xfrm>
            <a:off x="1600200" y="2819520"/>
            <a:ext cx="6248520" cy="2971800"/>
          </a:xfrm>
          <a:prstGeom prst="roundRect">
            <a:avLst>
              <a:gd name="adj" fmla="val 16667"/>
            </a:avLst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отдельный человек, так и группа людей, объединенных по каким-либо признакам (целевую группу), имеющих возможность коллективно воспринимать рекламу, обсуждая ее и создавая определенное мнение о предмете рекла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6" name="Прямая со стрелкой 4"/>
          <p:cNvCxnSpPr>
            <a:stCxn id="404" idx="4"/>
            <a:endCxn id="405" idx="0"/>
          </p:cNvCxnSpPr>
          <p:nvPr/>
        </p:nvCxnSpPr>
        <p:spPr>
          <a:xfrm flipH="1">
            <a:off x="4722120" y="1449360"/>
            <a:ext cx="396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с двумя скругленными противолежащими углами 1"/>
          <p:cNvSpPr/>
          <p:nvPr/>
        </p:nvSpPr>
        <p:spPr>
          <a:xfrm>
            <a:off x="1219320" y="304920"/>
            <a:ext cx="6858000" cy="76176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лассификация рекламных средст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380880" y="2133720"/>
            <a:ext cx="3276720" cy="83808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 месту использ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Блок-схема: знак завершения 3"/>
          <p:cNvSpPr/>
          <p:nvPr/>
        </p:nvSpPr>
        <p:spPr>
          <a:xfrm>
            <a:off x="5105520" y="1752480"/>
            <a:ext cx="3276360" cy="60984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нутримагазинны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Блок-схема: знак завершения 4"/>
          <p:cNvSpPr/>
          <p:nvPr/>
        </p:nvSpPr>
        <p:spPr>
          <a:xfrm>
            <a:off x="5105520" y="2666880"/>
            <a:ext cx="3276360" cy="60984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ружны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4920" y="4800600"/>
            <a:ext cx="3352680" cy="93204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 характеру применен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Блок-схема: знак завершения 6"/>
          <p:cNvSpPr/>
          <p:nvPr/>
        </p:nvSpPr>
        <p:spPr>
          <a:xfrm>
            <a:off x="4495680" y="3657600"/>
            <a:ext cx="3276720" cy="68580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тринно-выставочны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Блок-схема: знак завершения 7"/>
          <p:cNvSpPr/>
          <p:nvPr/>
        </p:nvSpPr>
        <p:spPr>
          <a:xfrm>
            <a:off x="5257800" y="4419720"/>
            <a:ext cx="3276720" cy="60948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Блок-схема: знак завершения 8"/>
          <p:cNvSpPr/>
          <p:nvPr/>
        </p:nvSpPr>
        <p:spPr>
          <a:xfrm>
            <a:off x="5257800" y="5181480"/>
            <a:ext cx="3276720" cy="68580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живописно-граф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Блок-схема: знак завершения 9"/>
          <p:cNvSpPr/>
          <p:nvPr/>
        </p:nvSpPr>
        <p:spPr>
          <a:xfrm>
            <a:off x="4495680" y="5943600"/>
            <a:ext cx="3276720" cy="60948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чатны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6" name="Прямая со стрелкой 11"/>
          <p:cNvCxnSpPr>
            <a:stCxn id="408" idx="3"/>
            <a:endCxn id="409" idx="1"/>
          </p:cNvCxnSpPr>
          <p:nvPr/>
        </p:nvCxnSpPr>
        <p:spPr>
          <a:xfrm flipV="1">
            <a:off x="3657600" y="2057040"/>
            <a:ext cx="1448640" cy="496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7" name="Прямая со стрелкой 13"/>
          <p:cNvCxnSpPr>
            <a:stCxn id="408" idx="3"/>
            <a:endCxn id="410" idx="1"/>
          </p:cNvCxnSpPr>
          <p:nvPr/>
        </p:nvCxnSpPr>
        <p:spPr>
          <a:xfrm>
            <a:off x="3657600" y="2552760"/>
            <a:ext cx="1448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Прямая со стрелкой 15"/>
          <p:cNvCxnSpPr>
            <a:stCxn id="411" idx="3"/>
            <a:endCxn id="412" idx="1"/>
          </p:cNvCxnSpPr>
          <p:nvPr/>
        </p:nvCxnSpPr>
        <p:spPr>
          <a:xfrm flipV="1">
            <a:off x="3657600" y="4000320"/>
            <a:ext cx="838800" cy="126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18"/>
          <p:cNvCxnSpPr>
            <a:stCxn id="411" idx="3"/>
            <a:endCxn id="413" idx="1"/>
          </p:cNvCxnSpPr>
          <p:nvPr/>
        </p:nvCxnSpPr>
        <p:spPr>
          <a:xfrm flipV="1">
            <a:off x="3657240" y="4723920"/>
            <a:ext cx="1600920" cy="54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20"/>
          <p:cNvCxnSpPr>
            <a:stCxn id="411" idx="3"/>
            <a:endCxn id="414" idx="1"/>
          </p:cNvCxnSpPr>
          <p:nvPr/>
        </p:nvCxnSpPr>
        <p:spPr>
          <a:xfrm>
            <a:off x="3657240" y="5265360"/>
            <a:ext cx="1600920" cy="259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22"/>
          <p:cNvCxnSpPr>
            <a:stCxn id="411" idx="3"/>
            <a:endCxn id="415" idx="1"/>
          </p:cNvCxnSpPr>
          <p:nvPr/>
        </p:nvCxnSpPr>
        <p:spPr>
          <a:xfrm>
            <a:off x="3657600" y="5265720"/>
            <a:ext cx="838800" cy="98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304920" y="4876920"/>
            <a:ext cx="3581280" cy="12189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характеру воздействия на адреса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Прямоугольник 2"/>
          <p:cNvSpPr/>
          <p:nvPr/>
        </p:nvSpPr>
        <p:spPr>
          <a:xfrm>
            <a:off x="304920" y="838080"/>
            <a:ext cx="3581280" cy="12193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пособу воздействия на органы чувств челове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Блок-схема: знак завершения 3"/>
          <p:cNvSpPr/>
          <p:nvPr/>
        </p:nvSpPr>
        <p:spPr>
          <a:xfrm>
            <a:off x="5029200" y="5638680"/>
            <a:ext cx="3657600" cy="76212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ссов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Блок-схема: знак завершения 4"/>
          <p:cNvSpPr/>
          <p:nvPr/>
        </p:nvSpPr>
        <p:spPr>
          <a:xfrm>
            <a:off x="5029200" y="4648320"/>
            <a:ext cx="3657600" cy="76176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Блок-схема: знак завершения 7"/>
          <p:cNvSpPr/>
          <p:nvPr/>
        </p:nvSpPr>
        <p:spPr>
          <a:xfrm>
            <a:off x="5029200" y="228600"/>
            <a:ext cx="3657600" cy="76212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р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Блок-схема: знак завершения 8"/>
          <p:cNvSpPr/>
          <p:nvPr/>
        </p:nvSpPr>
        <p:spPr>
          <a:xfrm>
            <a:off x="5029200" y="1143000"/>
            <a:ext cx="3657600" cy="76212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ухов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Блок-схема: знак завершения 9"/>
          <p:cNvSpPr/>
          <p:nvPr/>
        </p:nvSpPr>
        <p:spPr>
          <a:xfrm>
            <a:off x="5029200" y="2057400"/>
            <a:ext cx="3657600" cy="76212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рительно-слухов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Блок-схема: знак завершения 10"/>
          <p:cNvSpPr/>
          <p:nvPr/>
        </p:nvSpPr>
        <p:spPr>
          <a:xfrm>
            <a:off x="5029200" y="3048120"/>
            <a:ext cx="3657600" cy="76176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рительно-обоня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Блок-схема: знак завершения 11"/>
          <p:cNvSpPr/>
          <p:nvPr/>
        </p:nvSpPr>
        <p:spPr>
          <a:xfrm>
            <a:off x="914400" y="3048120"/>
            <a:ext cx="3657600" cy="76176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рительно-вкусов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31" name="Прямая со стрелкой 13"/>
          <p:cNvCxnSpPr>
            <a:stCxn id="423" idx="3"/>
            <a:endCxn id="426" idx="1"/>
          </p:cNvCxnSpPr>
          <p:nvPr/>
        </p:nvCxnSpPr>
        <p:spPr>
          <a:xfrm flipV="1">
            <a:off x="3885840" y="608760"/>
            <a:ext cx="114372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15"/>
          <p:cNvCxnSpPr>
            <a:stCxn id="423" idx="3"/>
            <a:endCxn id="427" idx="1"/>
          </p:cNvCxnSpPr>
          <p:nvPr/>
        </p:nvCxnSpPr>
        <p:spPr>
          <a:xfrm>
            <a:off x="3885840" y="1447560"/>
            <a:ext cx="11437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Прямая со стрелкой 17"/>
          <p:cNvCxnSpPr>
            <a:stCxn id="423" idx="3"/>
            <a:endCxn id="428" idx="1"/>
          </p:cNvCxnSpPr>
          <p:nvPr/>
        </p:nvCxnSpPr>
        <p:spPr>
          <a:xfrm>
            <a:off x="3885840" y="1447560"/>
            <a:ext cx="114372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Прямая со стрелкой 19"/>
          <p:cNvCxnSpPr>
            <a:stCxn id="423" idx="3"/>
            <a:endCxn id="429" idx="1"/>
          </p:cNvCxnSpPr>
          <p:nvPr/>
        </p:nvCxnSpPr>
        <p:spPr>
          <a:xfrm>
            <a:off x="3885840" y="1447560"/>
            <a:ext cx="1143720" cy="19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Прямая со стрелкой 23"/>
          <p:cNvCxnSpPr>
            <a:stCxn id="423" idx="2"/>
            <a:endCxn id="430" idx="0"/>
          </p:cNvCxnSpPr>
          <p:nvPr/>
        </p:nvCxnSpPr>
        <p:spPr>
          <a:xfrm>
            <a:off x="2094480" y="2057400"/>
            <a:ext cx="64836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25"/>
          <p:cNvCxnSpPr>
            <a:stCxn id="422" idx="3"/>
            <a:endCxn id="425" idx="1"/>
          </p:cNvCxnSpPr>
          <p:nvPr/>
        </p:nvCxnSpPr>
        <p:spPr>
          <a:xfrm flipV="1">
            <a:off x="3885840" y="5028840"/>
            <a:ext cx="114372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27"/>
          <p:cNvCxnSpPr>
            <a:stCxn id="422" idx="3"/>
            <a:endCxn id="424" idx="1"/>
          </p:cNvCxnSpPr>
          <p:nvPr/>
        </p:nvCxnSpPr>
        <p:spPr>
          <a:xfrm>
            <a:off x="3885840" y="5486400"/>
            <a:ext cx="11437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457200" y="838080"/>
            <a:ext cx="3505320" cy="9907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висимости от предмета рекла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Прямоугольник 2"/>
          <p:cNvSpPr/>
          <p:nvPr/>
        </p:nvSpPr>
        <p:spPr>
          <a:xfrm>
            <a:off x="380880" y="4038480"/>
            <a:ext cx="3581640" cy="175284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 учетом задач, решаемых в процессе рекламной ак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Блок-схема: знак завершения 3"/>
          <p:cNvSpPr/>
          <p:nvPr/>
        </p:nvSpPr>
        <p:spPr>
          <a:xfrm>
            <a:off x="4952880" y="380880"/>
            <a:ext cx="3505320" cy="91440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лама товар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Блок-схема: знак завершения 4"/>
          <p:cNvSpPr/>
          <p:nvPr/>
        </p:nvSpPr>
        <p:spPr>
          <a:xfrm>
            <a:off x="4952880" y="1676520"/>
            <a:ext cx="3505320" cy="91440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лама предприя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Блок-схема: знак завершения 5"/>
          <p:cNvSpPr/>
          <p:nvPr/>
        </p:nvSpPr>
        <p:spPr>
          <a:xfrm>
            <a:off x="5029200" y="3352680"/>
            <a:ext cx="3505320" cy="129564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лама, стимулирующая спрос на товар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Блок-схема: знак завершения 6"/>
          <p:cNvSpPr/>
          <p:nvPr/>
        </p:nvSpPr>
        <p:spPr>
          <a:xfrm>
            <a:off x="5029200" y="4876920"/>
            <a:ext cx="3505320" cy="1447560"/>
          </a:xfrm>
          <a:prstGeom prst="flowChartTerminator">
            <a:avLst/>
          </a:prstGeom>
          <a:solidFill>
            <a:srgbClr val="f19e91"/>
          </a:solidFill>
          <a:ln w="25560">
            <a:solidFill>
              <a:srgbClr val="eb6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лама, формирующая спрос на товар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44" name="Прямая со стрелкой 8"/>
          <p:cNvCxnSpPr>
            <a:stCxn id="438" idx="3"/>
            <a:endCxn id="440" idx="1"/>
          </p:cNvCxnSpPr>
          <p:nvPr/>
        </p:nvCxnSpPr>
        <p:spPr>
          <a:xfrm flipV="1">
            <a:off x="3962160" y="837720"/>
            <a:ext cx="991080" cy="496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Прямая со стрелкой 10"/>
          <p:cNvCxnSpPr>
            <a:stCxn id="438" idx="3"/>
            <a:endCxn id="441" idx="1"/>
          </p:cNvCxnSpPr>
          <p:nvPr/>
        </p:nvCxnSpPr>
        <p:spPr>
          <a:xfrm>
            <a:off x="3962160" y="1333080"/>
            <a:ext cx="991080" cy="80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12"/>
          <p:cNvCxnSpPr>
            <a:stCxn id="439" idx="3"/>
            <a:endCxn id="442" idx="1"/>
          </p:cNvCxnSpPr>
          <p:nvPr/>
        </p:nvCxnSpPr>
        <p:spPr>
          <a:xfrm flipV="1">
            <a:off x="3962160" y="4000320"/>
            <a:ext cx="10674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14"/>
          <p:cNvCxnSpPr>
            <a:stCxn id="439" idx="3"/>
            <a:endCxn id="443" idx="1"/>
          </p:cNvCxnSpPr>
          <p:nvPr/>
        </p:nvCxnSpPr>
        <p:spPr>
          <a:xfrm>
            <a:off x="3962160" y="4914720"/>
            <a:ext cx="106740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с двумя вырезанными соседними углами 1"/>
          <p:cNvSpPr/>
          <p:nvPr/>
        </p:nvSpPr>
        <p:spPr>
          <a:xfrm>
            <a:off x="1600200" y="457200"/>
            <a:ext cx="5867280" cy="83808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Фирменный стил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Блок-схема: документ 2"/>
          <p:cNvSpPr/>
          <p:nvPr/>
        </p:nvSpPr>
        <p:spPr>
          <a:xfrm>
            <a:off x="1371600" y="2590920"/>
            <a:ext cx="6324480" cy="3124080"/>
          </a:xfrm>
          <a:prstGeom prst="flowChartDocumen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диный подход в оформлении предприятия, использовании определенных цве­товых сочетаний и образов для рекламных материалов, деловых бумаг, упаков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50" name="Прямая со стрелкой 4"/>
          <p:cNvCxnSpPr>
            <a:stCxn id="448" idx="4"/>
            <a:endCxn id="449" idx="0"/>
          </p:cNvCxnSpPr>
          <p:nvPr/>
        </p:nvCxnSpPr>
        <p:spPr>
          <a:xfrm flipH="1">
            <a:off x="4531680" y="1297080"/>
            <a:ext cx="396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Блок-схема: подготовка 1"/>
          <p:cNvSpPr/>
          <p:nvPr/>
        </p:nvSpPr>
        <p:spPr>
          <a:xfrm>
            <a:off x="1143000" y="304920"/>
            <a:ext cx="6705720" cy="1523880"/>
          </a:xfrm>
          <a:prstGeom prst="flowChartPreparation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ирменный стиль формируется применение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Прямоугольник 2"/>
          <p:cNvSpPr/>
          <p:nvPr/>
        </p:nvSpPr>
        <p:spPr>
          <a:xfrm>
            <a:off x="533520" y="2666880"/>
            <a:ext cx="2971800" cy="91440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оварного зна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533520" y="4038480"/>
            <a:ext cx="2971800" cy="91440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ирменных цвет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Прямоугольник 4"/>
          <p:cNvSpPr/>
          <p:nvPr/>
        </p:nvSpPr>
        <p:spPr>
          <a:xfrm>
            <a:off x="2133720" y="5486400"/>
            <a:ext cx="4800600" cy="91440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ирменного комплекта шрифтов (логотипа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5410080" y="2514600"/>
            <a:ext cx="3276720" cy="121932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ирменного лозунга (слогана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Прямоугольник 6"/>
          <p:cNvSpPr/>
          <p:nvPr/>
        </p:nvSpPr>
        <p:spPr>
          <a:xfrm>
            <a:off x="5410080" y="4114800"/>
            <a:ext cx="3276720" cy="91440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ламного персонаж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57" name="Прямая со стрелкой 8"/>
          <p:cNvCxnSpPr>
            <a:stCxn id="451" idx="2"/>
            <a:endCxn id="452" idx="3"/>
          </p:cNvCxnSpPr>
          <p:nvPr/>
        </p:nvCxnSpPr>
        <p:spPr>
          <a:xfrm flipH="1">
            <a:off x="3504600" y="1828800"/>
            <a:ext cx="99108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Прямая со стрелкой 10"/>
          <p:cNvCxnSpPr>
            <a:stCxn id="451" idx="2"/>
            <a:endCxn id="455" idx="1"/>
          </p:cNvCxnSpPr>
          <p:nvPr/>
        </p:nvCxnSpPr>
        <p:spPr>
          <a:xfrm>
            <a:off x="4495680" y="1828800"/>
            <a:ext cx="91512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Прямая со стрелкой 12"/>
          <p:cNvCxnSpPr>
            <a:stCxn id="451" idx="2"/>
            <a:endCxn id="453" idx="3"/>
          </p:cNvCxnSpPr>
          <p:nvPr/>
        </p:nvCxnSpPr>
        <p:spPr>
          <a:xfrm flipH="1">
            <a:off x="3504600" y="1828800"/>
            <a:ext cx="991080" cy="266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Прямая со стрелкой 14"/>
          <p:cNvCxnSpPr>
            <a:stCxn id="451" idx="2"/>
            <a:endCxn id="456" idx="1"/>
          </p:cNvCxnSpPr>
          <p:nvPr/>
        </p:nvCxnSpPr>
        <p:spPr>
          <a:xfrm>
            <a:off x="4495680" y="1828800"/>
            <a:ext cx="915120" cy="274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16"/>
          <p:cNvCxnSpPr>
            <a:stCxn id="451" idx="2"/>
            <a:endCxn id="454" idx="0"/>
          </p:cNvCxnSpPr>
          <p:nvPr/>
        </p:nvCxnSpPr>
        <p:spPr>
          <a:xfrm>
            <a:off x="4495680" y="1828800"/>
            <a:ext cx="38880" cy="365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с двумя скругленными соседними углами 1"/>
          <p:cNvSpPr/>
          <p:nvPr/>
        </p:nvSpPr>
        <p:spPr>
          <a:xfrm>
            <a:off x="1676520" y="380880"/>
            <a:ext cx="5943600" cy="91440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Товарный знак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Загнутый угол 2"/>
          <p:cNvSpPr/>
          <p:nvPr/>
        </p:nvSpPr>
        <p:spPr>
          <a:xfrm>
            <a:off x="1295280" y="2514600"/>
            <a:ext cx="6705720" cy="3124080"/>
          </a:xfrm>
          <a:prstGeom prst="foldedCorner">
            <a:avLst>
              <a:gd name="adj" fmla="val 20250"/>
            </a:avLst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о, название, символ или рисунок, а также любое их сочетание, используемое произво­дителями товаров и торговыми предприятиями для иденти­фикации и отличия товаров от аналогичных товаров других производителей или реализуемых другими магазин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Стрелка вправо с вырезом 3"/>
          <p:cNvSpPr/>
          <p:nvPr/>
        </p:nvSpPr>
        <p:spPr>
          <a:xfrm rot="5400000">
            <a:off x="4190760" y="1600200"/>
            <a:ext cx="990360" cy="685800"/>
          </a:xfrm>
          <a:custGeom>
            <a:avLst/>
            <a:gdLst>
              <a:gd name="textAreaLeft" fmla="*/ 171360 w 990360"/>
              <a:gd name="textAreaRight" fmla="*/ 81900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123" y="5400"/>
                </a:ln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14123" y="16200"/>
                </a:lnTo>
                <a:lnTo>
                  <a:pt x="0" y="16200"/>
                </a:lnTo>
                <a:lnTo>
                  <a:pt x="37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ed6e6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914400" y="781560"/>
            <a:ext cx="77724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 Понятие и роль рекламы на товарном рынк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Средства современной рекламы и их характеристик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 Фирменный стиль и интерьер магазин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Определение экономической эффективности торговой реклам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509440" y="533520"/>
            <a:ext cx="21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Марк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Капля 2"/>
          <p:cNvSpPr/>
          <p:nvPr/>
        </p:nvSpPr>
        <p:spPr>
          <a:xfrm>
            <a:off x="838080" y="2209680"/>
            <a:ext cx="5029200" cy="4114800"/>
          </a:xfrm>
          <a:prstGeom prst="pi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звание, идентифицирующее товары, услуг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с двумя вырезанными противолежащими углами 1"/>
          <p:cNvSpPr/>
          <p:nvPr/>
        </p:nvSpPr>
        <p:spPr>
          <a:xfrm>
            <a:off x="1752480" y="457200"/>
            <a:ext cx="6019920" cy="99072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Фирменные цве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Блок-схема: знак завершения 2"/>
          <p:cNvSpPr/>
          <p:nvPr/>
        </p:nvSpPr>
        <p:spPr>
          <a:xfrm>
            <a:off x="1219320" y="2666880"/>
            <a:ext cx="6933960" cy="327672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пособствуют узнаваемости товара, усиливают декоративность рекламных элементов, помогают сделать необходимый акцент при выкладке товаров, привлечь внимание покупател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Стрелка вправо с вырезом 3"/>
          <p:cNvSpPr/>
          <p:nvPr/>
        </p:nvSpPr>
        <p:spPr>
          <a:xfrm rot="5400000">
            <a:off x="4190400" y="1676160"/>
            <a:ext cx="990720" cy="685800"/>
          </a:xfrm>
          <a:custGeom>
            <a:avLst/>
            <a:gdLst>
              <a:gd name="textAreaLeft" fmla="*/ 171360 w 990720"/>
              <a:gd name="textAreaRight" fmla="*/ 819360 w 990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123" y="5400"/>
                </a:ln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14123" y="16200"/>
                </a:lnTo>
                <a:lnTo>
                  <a:pt x="0" y="16200"/>
                </a:lnTo>
                <a:lnTo>
                  <a:pt x="37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ed6e6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Блок-схема: знак завершения 1"/>
          <p:cNvSpPr/>
          <p:nvPr/>
        </p:nvSpPr>
        <p:spPr>
          <a:xfrm>
            <a:off x="1066680" y="380880"/>
            <a:ext cx="7239240" cy="1600200"/>
          </a:xfrm>
          <a:prstGeom prst="flowChartTerminator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Фирменный комплект шрифтов  (логотип)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Скругленный прямоугольник 2"/>
          <p:cNvSpPr/>
          <p:nvPr/>
        </p:nvSpPr>
        <p:spPr>
          <a:xfrm>
            <a:off x="1752480" y="3124080"/>
            <a:ext cx="6019920" cy="2210040"/>
          </a:xfrm>
          <a:prstGeom prst="roundRect">
            <a:avLst>
              <a:gd name="adj" fmla="val 16667"/>
            </a:avLst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ригинального  начертания наименования фирмы, магазина, товара и т. д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Стрелка вправо с вырезом 3"/>
          <p:cNvSpPr/>
          <p:nvPr/>
        </p:nvSpPr>
        <p:spPr>
          <a:xfrm rot="5400000">
            <a:off x="4233600" y="2243160"/>
            <a:ext cx="879480" cy="660240"/>
          </a:xfrm>
          <a:custGeom>
            <a:avLst/>
            <a:gdLst>
              <a:gd name="textAreaLeft" fmla="*/ 164880 w 879480"/>
              <a:gd name="textAreaRight" fmla="*/ 714600 w 879480"/>
              <a:gd name="textAreaTop" fmla="*/ 164880 h 660240"/>
              <a:gd name="textAreaBottom" fmla="*/ 495360 h 660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97" y="5400"/>
                </a:lnTo>
                <a:lnTo>
                  <a:pt x="13497" y="0"/>
                </a:lnTo>
                <a:lnTo>
                  <a:pt x="21600" y="10800"/>
                </a:lnTo>
                <a:lnTo>
                  <a:pt x="13497" y="21600"/>
                </a:lnTo>
                <a:lnTo>
                  <a:pt x="13497" y="16200"/>
                </a:lnTo>
                <a:lnTo>
                  <a:pt x="0" y="16200"/>
                </a:lnTo>
                <a:lnTo>
                  <a:pt x="405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ed6e6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Блок-схема: решение 1"/>
          <p:cNvSpPr/>
          <p:nvPr/>
        </p:nvSpPr>
        <p:spPr>
          <a:xfrm>
            <a:off x="1219320" y="457200"/>
            <a:ext cx="6629400" cy="1523880"/>
          </a:xfrm>
          <a:prstGeom prst="flowChartDecision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нтерье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Блок-схема: дисплей 2"/>
          <p:cNvSpPr/>
          <p:nvPr/>
        </p:nvSpPr>
        <p:spPr>
          <a:xfrm>
            <a:off x="1600200" y="3200400"/>
            <a:ext cx="6934320" cy="2514600"/>
          </a:xfrm>
          <a:prstGeom prst="flowChartDisplay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 внутреннее убранство и оформление помещения, так и организация внутреннего пространства зд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Выгнутая влево стрелка 3"/>
          <p:cNvSpPr/>
          <p:nvPr/>
        </p:nvSpPr>
        <p:spPr>
          <a:xfrm>
            <a:off x="1371600" y="16002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95280 h 1981080"/>
              <a:gd name="textAreaBottom" fmla="*/ 14342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5" stAng="-5400000" swAng="-5400000"/>
                <a:lnTo>
                  <a:pt x="0" y="11325"/>
                </a:lnTo>
                <a:arcTo wR="21600" hR="8625" stAng="10800000" swAng="-3426749"/>
                <a:lnTo>
                  <a:pt x="16200" y="21326"/>
                </a:lnTo>
                <a:lnTo>
                  <a:pt x="21600" y="18600"/>
                </a:lnTo>
                <a:lnTo>
                  <a:pt x="16200" y="15326"/>
                </a:lnTo>
                <a:lnTo>
                  <a:pt x="16200" y="16976"/>
                </a:lnTo>
                <a:arcTo wR="21600" hR="8625" stAng="7373251" swAng="3209499"/>
                <a:lnTo>
                  <a:pt x="266" y="9975"/>
                </a:lnTo>
                <a:arcTo wR="21600" hR="8625" stAng="-10582749" swAng="5182749"/>
                <a:close/>
              </a:path>
              <a:path fill="darkenLess" w="21600" h="21600">
                <a:moveTo>
                  <a:pt x="21600" y="0"/>
                </a:moveTo>
                <a:arcTo wR="21600" hR="8625" stAng="-5400000" swAng="-5400000"/>
                <a:lnTo>
                  <a:pt x="0" y="8625"/>
                </a:lnTo>
                <a:arcTo wR="21600" hR="8625" stAng="10800000" swAng="-217251"/>
                <a:lnTo>
                  <a:pt x="266" y="9975"/>
                </a:lnTo>
                <a:arcTo wR="21600" hR="8625" stAng="-10582749" swAng="5182749"/>
                <a:close/>
              </a:path>
            </a:pathLst>
          </a:custGeom>
          <a:solidFill>
            <a:srgbClr val="ced6e6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Овал 1"/>
          <p:cNvSpPr/>
          <p:nvPr/>
        </p:nvSpPr>
        <p:spPr>
          <a:xfrm>
            <a:off x="1371600" y="457200"/>
            <a:ext cx="6629400" cy="144792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Эффективность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Прямоугольник 2"/>
          <p:cNvSpPr/>
          <p:nvPr/>
        </p:nvSpPr>
        <p:spPr>
          <a:xfrm>
            <a:off x="380880" y="3124080"/>
            <a:ext cx="3657600" cy="99072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циальна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2895480" y="4952880"/>
            <a:ext cx="3657600" cy="99072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5105520" y="3124080"/>
            <a:ext cx="3657600" cy="990720"/>
          </a:xfrm>
          <a:prstGeom prst="rect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сихологическ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80" name="Прямая со стрелкой 6"/>
          <p:cNvCxnSpPr>
            <a:stCxn id="476" idx="4"/>
            <a:endCxn id="477" idx="0"/>
          </p:cNvCxnSpPr>
          <p:nvPr/>
        </p:nvCxnSpPr>
        <p:spPr>
          <a:xfrm flipH="1">
            <a:off x="2209320" y="1905120"/>
            <a:ext cx="2477520" cy="121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Прямая со стрелкой 8"/>
          <p:cNvCxnSpPr>
            <a:stCxn id="476" idx="4"/>
            <a:endCxn id="479" idx="0"/>
          </p:cNvCxnSpPr>
          <p:nvPr/>
        </p:nvCxnSpPr>
        <p:spPr>
          <a:xfrm>
            <a:off x="4686480" y="1905120"/>
            <a:ext cx="2248560" cy="121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2" name="Прямая со стрелкой 10"/>
          <p:cNvCxnSpPr>
            <a:stCxn id="476" idx="4"/>
            <a:endCxn id="478" idx="0"/>
          </p:cNvCxnSpPr>
          <p:nvPr/>
        </p:nvCxnSpPr>
        <p:spPr>
          <a:xfrm>
            <a:off x="4685400" y="1905120"/>
            <a:ext cx="38520" cy="30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Блок-схема: ссылка на другую страницу 1"/>
          <p:cNvSpPr/>
          <p:nvPr/>
        </p:nvSpPr>
        <p:spPr>
          <a:xfrm>
            <a:off x="1447920" y="533520"/>
            <a:ext cx="6400800" cy="1904760"/>
          </a:xfrm>
          <a:prstGeom prst="flowChartOffpageConnector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Формула экономической эффективности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Овал 2"/>
          <p:cNvSpPr/>
          <p:nvPr/>
        </p:nvSpPr>
        <p:spPr>
          <a:xfrm>
            <a:off x="609480" y="3352680"/>
            <a:ext cx="8077320" cy="1752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= Т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entury Schoolbook"/>
              </a:rPr>
              <a:t>д *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Н/100-( Ир+ Ид 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extBox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632720" cy="23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Овал 1"/>
          <p:cNvSpPr/>
          <p:nvPr/>
        </p:nvSpPr>
        <p:spPr>
          <a:xfrm>
            <a:off x="1371600" y="609480"/>
            <a:ext cx="6095880" cy="99072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еклама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Блок-схема: документ 2"/>
          <p:cNvSpPr/>
          <p:nvPr/>
        </p:nvSpPr>
        <p:spPr>
          <a:xfrm>
            <a:off x="1447920" y="3048120"/>
            <a:ext cx="6095880" cy="2666880"/>
          </a:xfrm>
          <a:prstGeom prst="flowChartDocumen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формация о потребительских свойствах товаров и различных видах услуг с целью их реализации, создания спроса на ни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Нашивка 3"/>
          <p:cNvSpPr/>
          <p:nvPr/>
        </p:nvSpPr>
        <p:spPr>
          <a:xfrm rot="5400000">
            <a:off x="4240080" y="434520"/>
            <a:ext cx="533160" cy="3505320"/>
          </a:xfrm>
          <a:custGeom>
            <a:avLst/>
            <a:gdLst>
              <a:gd name="textAreaLeft" fmla="*/ 0 w 533160"/>
              <a:gd name="textAreaRight" fmla="*/ 533520 w 533160"/>
              <a:gd name="textAreaTop" fmla="*/ 0 h 3505320"/>
              <a:gd name="textAreaBottom" fmla="*/ 350568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ed6e6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Овал 1"/>
          <p:cNvSpPr/>
          <p:nvPr/>
        </p:nvSpPr>
        <p:spPr>
          <a:xfrm>
            <a:off x="1066680" y="533520"/>
            <a:ext cx="7010640" cy="106668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Торговая реклама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Блок-схема: документ 2"/>
          <p:cNvSpPr/>
          <p:nvPr/>
        </p:nvSpPr>
        <p:spPr>
          <a:xfrm>
            <a:off x="838080" y="2666880"/>
            <a:ext cx="7315200" cy="3505320"/>
          </a:xfrm>
          <a:prstGeom prst="flowChartDocumen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окупность организационно-технических, экономических, эстетических и психологических средств и методов, используемых для объек­тивной информации потребителей о свойствах и качестве то­варов, размещении торговых предприятий, формах торгового обслужи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Нашивка 4"/>
          <p:cNvSpPr/>
          <p:nvPr/>
        </p:nvSpPr>
        <p:spPr>
          <a:xfrm rot="5400000">
            <a:off x="4228560" y="114120"/>
            <a:ext cx="457200" cy="3886200"/>
          </a:xfrm>
          <a:custGeom>
            <a:avLst/>
            <a:gdLst>
              <a:gd name="textAreaLeft" fmla="*/ 0 w 457200"/>
              <a:gd name="textAreaRight" fmla="*/ 457560 w 4572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ed6e6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с двумя вырезанными соседними углами 1"/>
          <p:cNvSpPr/>
          <p:nvPr/>
        </p:nvSpPr>
        <p:spPr>
          <a:xfrm>
            <a:off x="1295280" y="380880"/>
            <a:ext cx="6477120" cy="838440"/>
          </a:xfrm>
          <a:prstGeom prst="pi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Задачи торговой реклам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457200" y="2286000"/>
            <a:ext cx="3657600" cy="19051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имулирование и формирование потребностей нас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57200" y="4800600"/>
            <a:ext cx="3657600" cy="129528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воение и расширение рынка сбыта тов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4952880" y="2286000"/>
            <a:ext cx="3733920" cy="182880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корение товарооборачиваемости, достижение сбалансированности спроса и предло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4952880" y="4495680"/>
            <a:ext cx="3733920" cy="198144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культуры потребления и развитие эстетических вкусов нас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4" name="Скругленная соединительная линия 7"/>
          <p:cNvCxnSpPr>
            <a:stCxn id="359" idx="4"/>
            <a:endCxn id="360" idx="0"/>
          </p:cNvCxnSpPr>
          <p:nvPr/>
        </p:nvCxnSpPr>
        <p:spPr>
          <a:xfrm rot="5400000">
            <a:off x="2876040" y="628560"/>
            <a:ext cx="1067400" cy="22485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5" name="Скругленная соединительная линия 9"/>
          <p:cNvCxnSpPr>
            <a:stCxn id="359" idx="5"/>
            <a:endCxn id="362" idx="0"/>
          </p:cNvCxnSpPr>
          <p:nvPr/>
        </p:nvCxnSpPr>
        <p:spPr>
          <a:xfrm flipH="1" rot="16200000">
            <a:off x="5143320" y="609120"/>
            <a:ext cx="1067400" cy="228672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6" name="Shape 11"/>
          <p:cNvCxnSpPr>
            <a:stCxn id="359" idx="6"/>
            <a:endCxn id="361" idx="3"/>
          </p:cNvCxnSpPr>
          <p:nvPr/>
        </p:nvCxnSpPr>
        <p:spPr>
          <a:xfrm rot="5400000">
            <a:off x="2209320" y="3124080"/>
            <a:ext cx="4229640" cy="4197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hape 13"/>
          <p:cNvCxnSpPr>
            <a:stCxn id="359" idx="7"/>
            <a:endCxn id="363" idx="1"/>
          </p:cNvCxnSpPr>
          <p:nvPr/>
        </p:nvCxnSpPr>
        <p:spPr>
          <a:xfrm flipH="1" rot="16200000">
            <a:off x="2609640" y="3142800"/>
            <a:ext cx="4267800" cy="4197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с двумя скругленными противолежащими углами 1"/>
          <p:cNvSpPr/>
          <p:nvPr/>
        </p:nvSpPr>
        <p:spPr>
          <a:xfrm>
            <a:off x="1219320" y="457200"/>
            <a:ext cx="6858000" cy="914400"/>
          </a:xfrm>
          <a:prstGeom prst="pi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Черты добросовестной реклам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Блок-схема: знак завершения 2"/>
          <p:cNvSpPr/>
          <p:nvPr/>
        </p:nvSpPr>
        <p:spPr>
          <a:xfrm>
            <a:off x="609480" y="2590920"/>
            <a:ext cx="3200400" cy="76176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див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Блок-схема: знак завершения 3"/>
          <p:cNvSpPr/>
          <p:nvPr/>
        </p:nvSpPr>
        <p:spPr>
          <a:xfrm>
            <a:off x="533520" y="4038480"/>
            <a:ext cx="3200400" cy="76212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нкрет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Блок-схема: знак завершения 4"/>
          <p:cNvSpPr/>
          <p:nvPr/>
        </p:nvSpPr>
        <p:spPr>
          <a:xfrm>
            <a:off x="5257800" y="2590920"/>
            <a:ext cx="3200400" cy="76176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уман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Блок-схема: знак завершения 5"/>
          <p:cNvSpPr/>
          <p:nvPr/>
        </p:nvSpPr>
        <p:spPr>
          <a:xfrm>
            <a:off x="5257800" y="4038480"/>
            <a:ext cx="3429000" cy="76212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петент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Блок-схема: знак завершения 6"/>
          <p:cNvSpPr/>
          <p:nvPr/>
        </p:nvSpPr>
        <p:spPr>
          <a:xfrm>
            <a:off x="2286000" y="5257800"/>
            <a:ext cx="4648320" cy="762120"/>
          </a:xfrm>
          <a:prstGeom prst="flowChartTerminator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ленаправлен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4" name="Скругленная соединительная линия 8"/>
          <p:cNvCxnSpPr>
            <a:stCxn id="368" idx="4"/>
            <a:endCxn id="369" idx="0"/>
          </p:cNvCxnSpPr>
          <p:nvPr/>
        </p:nvCxnSpPr>
        <p:spPr>
          <a:xfrm rot="5400000">
            <a:off x="2819160" y="761760"/>
            <a:ext cx="1220040" cy="243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Скругленная соединительная линия 10"/>
          <p:cNvCxnSpPr>
            <a:stCxn id="368" idx="5"/>
            <a:endCxn id="371" idx="0"/>
          </p:cNvCxnSpPr>
          <p:nvPr/>
        </p:nvCxnSpPr>
        <p:spPr>
          <a:xfrm flipH="1" rot="16200000">
            <a:off x="5143320" y="875880"/>
            <a:ext cx="1220040" cy="221040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Shape 12"/>
          <p:cNvCxnSpPr>
            <a:stCxn id="368" idx="6"/>
            <a:endCxn id="370" idx="3"/>
          </p:cNvCxnSpPr>
          <p:nvPr/>
        </p:nvCxnSpPr>
        <p:spPr>
          <a:xfrm rot="5400000">
            <a:off x="2666520" y="2438280"/>
            <a:ext cx="3048840" cy="915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hape 14"/>
          <p:cNvCxnSpPr>
            <a:stCxn id="368" idx="7"/>
            <a:endCxn id="372" idx="1"/>
          </p:cNvCxnSpPr>
          <p:nvPr/>
        </p:nvCxnSpPr>
        <p:spPr>
          <a:xfrm flipH="1" rot="16200000">
            <a:off x="3427920" y="2590560"/>
            <a:ext cx="3048840" cy="6102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Прямая со стрелкой 17"/>
          <p:cNvCxnSpPr>
            <a:stCxn id="368" idx="8"/>
            <a:endCxn id="373" idx="0"/>
          </p:cNvCxnSpPr>
          <p:nvPr/>
        </p:nvCxnSpPr>
        <p:spPr>
          <a:xfrm flipH="1">
            <a:off x="4609800" y="1371240"/>
            <a:ext cx="38880" cy="388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Овальная выноска 1"/>
          <p:cNvSpPr/>
          <p:nvPr/>
        </p:nvSpPr>
        <p:spPr>
          <a:xfrm>
            <a:off x="4114800" y="304920"/>
            <a:ext cx="4343400" cy="2133360"/>
          </a:xfrm>
          <a:prstGeom prst="wedgeEllipseCallout">
            <a:avLst>
              <a:gd name="adj1" fmla="val -38115"/>
              <a:gd name="adj2" fmla="val 93842"/>
            </a:avLst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екламное   средство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с двумя скругленными противолежащими углами 2"/>
          <p:cNvSpPr/>
          <p:nvPr/>
        </p:nvSpPr>
        <p:spPr>
          <a:xfrm>
            <a:off x="685800" y="3733920"/>
            <a:ext cx="5410080" cy="2209680"/>
          </a:xfrm>
          <a:prstGeom prst="pie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атериальное воплощение рекламного сообще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Овал 1"/>
          <p:cNvSpPr/>
          <p:nvPr/>
        </p:nvSpPr>
        <p:spPr>
          <a:xfrm>
            <a:off x="1447920" y="533520"/>
            <a:ext cx="6476760" cy="121896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екламное  сообщени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Блок-схема: ссылка на другую страницу 2"/>
          <p:cNvSpPr/>
          <p:nvPr/>
        </p:nvSpPr>
        <p:spPr>
          <a:xfrm>
            <a:off x="1676520" y="2971800"/>
            <a:ext cx="6019560" cy="2743200"/>
          </a:xfrm>
          <a:prstGeom prst="flowChartOffpageConnector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формация о предмете рекламы, для  составления которого используют текст, изо­бражение, цвет, свет, звук и т. д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3" name="Стрелка вправо с вырезом 3"/>
          <p:cNvGrpSpPr/>
          <p:nvPr/>
        </p:nvGrpSpPr>
        <p:grpSpPr>
          <a:xfrm>
            <a:off x="4273560" y="1859040"/>
            <a:ext cx="828720" cy="963360"/>
            <a:chOff x="4273560" y="1859040"/>
            <a:chExt cx="828720" cy="963360"/>
          </a:xfrm>
        </p:grpSpPr>
        <p:pic>
          <p:nvPicPr>
            <p:cNvPr id="384" name="Стрелка вправо с вырезом 3" descr=""/>
            <p:cNvPicPr/>
            <p:nvPr/>
          </p:nvPicPr>
          <p:blipFill>
            <a:blip r:embed="rId1"/>
            <a:stretch/>
          </p:blipFill>
          <p:spPr>
            <a:xfrm>
              <a:off x="4273560" y="1859040"/>
              <a:ext cx="828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 rot="5400000">
              <a:off x="4447800" y="2143080"/>
              <a:ext cx="476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split dir="in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Блок-схема: подготовка 1"/>
          <p:cNvSpPr/>
          <p:nvPr/>
        </p:nvSpPr>
        <p:spPr>
          <a:xfrm>
            <a:off x="1143000" y="304920"/>
            <a:ext cx="6858000" cy="1981080"/>
          </a:xfrm>
          <a:prstGeom prst="flowChartPreparation">
            <a:avLst/>
          </a:prstGeom>
          <a:solidFill>
            <a:srgbClr val="acc1e8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Факторы, которые надо учитывать  при выборе рекламного средств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533520" y="3200400"/>
            <a:ext cx="3657600" cy="7621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 рекламного сре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33520" y="4648320"/>
            <a:ext cx="3657600" cy="7617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я воздействия на объект рекла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952880" y="3200400"/>
            <a:ext cx="3657600" cy="7621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йственность рекламного сре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4952880" y="4419720"/>
            <a:ext cx="3657600" cy="12189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полагаемые затраты на рекламное ср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1" name="Скругленная соединительная линия 7"/>
          <p:cNvCxnSpPr>
            <a:stCxn id="386" idx="2"/>
            <a:endCxn id="387" idx="0"/>
          </p:cNvCxnSpPr>
          <p:nvPr/>
        </p:nvCxnSpPr>
        <p:spPr>
          <a:xfrm rot="5400000">
            <a:off x="3009240" y="1638360"/>
            <a:ext cx="915120" cy="2210400"/>
          </a:xfrm>
          <a:prstGeom prst="curvedConnector5">
            <a:avLst>
              <a:gd name="adj1" fmla="val 49980"/>
              <a:gd name="adj2" fmla="val 49991"/>
              <a:gd name="adj3" fmla="val 499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Скругленная соединительная линия 9"/>
          <p:cNvCxnSpPr>
            <a:stCxn id="386" idx="2"/>
            <a:endCxn id="389" idx="0"/>
          </p:cNvCxnSpPr>
          <p:nvPr/>
        </p:nvCxnSpPr>
        <p:spPr>
          <a:xfrm flipH="1" rot="16200000">
            <a:off x="5219640" y="1638000"/>
            <a:ext cx="915120" cy="2210400"/>
          </a:xfrm>
          <a:prstGeom prst="curvedConnector5">
            <a:avLst>
              <a:gd name="adj1" fmla="val 49980"/>
              <a:gd name="adj2" fmla="val 49991"/>
              <a:gd name="adj3" fmla="val 499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hape 11"/>
          <p:cNvCxnSpPr>
            <a:stCxn id="386" idx="2"/>
            <a:endCxn id="388" idx="3"/>
          </p:cNvCxnSpPr>
          <p:nvPr/>
        </p:nvCxnSpPr>
        <p:spPr>
          <a:xfrm rot="5400000">
            <a:off x="3009240" y="3467160"/>
            <a:ext cx="2743920" cy="3816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Shape 13"/>
          <p:cNvCxnSpPr>
            <a:stCxn id="386" idx="2"/>
            <a:endCxn id="390" idx="1"/>
          </p:cNvCxnSpPr>
          <p:nvPr/>
        </p:nvCxnSpPr>
        <p:spPr>
          <a:xfrm flipH="1" rot="16200000">
            <a:off x="3390840" y="3466800"/>
            <a:ext cx="2743920" cy="3816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38:46Z</dcterms:modified>
  <cp:revision>18</cp:revision>
  <dc:subject/>
  <dc:title>Организация рекламно-информационной деятельности по сбыту товаров</dc:title>
</cp:coreProperties>
</file>