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E8D-5B80-4DA3-BC8F-219E0FA8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051-AE2E-4450-B662-B5905F2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2B8-2C86-4EA8-9CF3-E7CE96F7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D90-B750-4F98-A225-E06EE820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D25-8DBA-4613-8456-2EBF3DAB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C82D-BBD4-42ED-B03D-469BF1B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A4C5-F5AE-4C5D-8B2B-E334020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789-0596-4C63-BA96-57144E33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0593-A169-400C-A607-593D82A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C3F-86DB-4D1D-A303-E86597F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6058-C89E-4C76-B940-F6879EF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34A-037E-4205-9CDD-10FA158D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5BB4-31EA-4E5C-B6C1-B8843C7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6B3-8D0B-4BAC-A10E-F23F3DF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9C94-7559-4D69-9763-D0EC836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1C7-3897-488C-9D5C-E1CBD220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03F9-D3D3-4C9F-89E7-E7D35146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7B28-8AA1-4F8F-8230-7D5B5A62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0F9D-F1AF-47C7-9CAB-B24D2F2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2948-31BB-4FE4-A6D3-67EFE4E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C383-0B2F-47C3-A3B3-F5B1BDE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8423-D8AB-408F-A4D4-629BD354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D73-56D9-4124-BAF2-B905780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116E-7030-4068-B16F-E6B9C256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0F42-0BCB-434D-876D-B151B298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8FB6-5497-44CB-A676-CEF926C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6D79-A375-4AEB-BC34-12DAEF30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BD6F-F2B1-4C20-A75A-B06B7C1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16FD-B858-4634-ACCA-FC975754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F20D-B8DA-4BCD-8487-F47EF8E6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96E8-54A5-4EED-91D8-92CCC8FE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A043-A873-4B7E-8B75-983BD97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CECA-A18B-4DCD-B18C-0ECD9C4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4A5-6531-4170-96AA-7C5E5F18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0320-D053-4FE8-8009-18A9157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D4EE-785B-4BCD-B810-71937D9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9F1F-48AD-4835-A8F2-8876090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0770-5DFC-46AD-A025-389CF516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0987F-DD19-4D77-A0EC-DC434EE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65F2-9ACB-4C29-8357-E1A6713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D9BB-7F6A-4110-A9F8-44C598C1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73BC-A845-4491-92E0-2BF42E9A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FAB7-4D05-49CF-BFAF-A380622C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5800-7E09-46B7-A34C-5ED5F9BF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53F-B732-4849-B1C9-56728CF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1FD5-5A26-4F01-9054-8266E23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41F0-0374-4EB4-86C1-0ACBEED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EC74-EE60-477F-85BD-FE35BE0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EB3A-94F3-4D1E-A302-47EDAED4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AB9C-22BA-4E1B-9BEF-BBE78F89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DB69-475E-4477-A88B-5EF3210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191A-10E9-4927-97CE-8D01E87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DAD9-FC73-4409-91B0-6FB4FB1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6A00-A077-4A17-A86B-076587E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1936-218D-420A-B8FD-917D7137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934-A61F-4AFA-9B46-4E418C6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78968-AC5F-4FFB-8DFE-912E5FF4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C8DB7-51F5-44E6-BC4F-E322C99E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AB50-7062-43DB-955D-1AC137CF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2978-3680-4DC4-A42A-2D458EC0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8DFC-2B8B-4A8A-96E2-5D066C9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6D510-88E7-4AC9-8F18-D571111C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8D20-A032-4EC2-8479-C69B7C82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F06F-9DE7-4819-8743-42FE2E8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14BE-8B5F-4B29-A7C9-A1422BA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24AE-3EAC-46E2-A243-6B3EF66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49F-7C6C-4264-96AA-6EE3E5A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EB5CA-B931-472F-91E6-AE86DF8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0656-BE5D-46D9-A60E-F0D8D21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A92E-8258-4AD1-B8D3-DF573A7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4B6EA-F892-4661-834C-883BEFC7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A57A-B42F-446C-B5CE-B5A9496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DC4F-FFC0-44AE-B699-51266CD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88B9E-39A6-477C-ACDE-29909C4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328B-1C3D-4260-9AFF-3EBC2CB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5614-DCBB-4496-BD04-DB6A372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1B8C-0028-47A8-9964-7B4C9E5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42D-26BD-40E5-8FB8-838D7A3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34CA-EED4-4F1A-804D-5E24D31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EBD1-B869-4F7B-AAAE-0F666BD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5EC6-3F99-45ED-BB44-7662F416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A418-52CA-4C44-BBFC-2770476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833D-6AA6-4DA5-8E3C-DDE2ED58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D2719-BC70-4528-ADBC-FF599754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2253-DF35-4AE7-A022-BC5A725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31164-7D0E-493A-8E29-ABA73EC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A189-CA04-404E-BD54-46A8511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F5B1E-A6D2-4BAD-8DF2-A534803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60C-B7DB-4A2B-955E-9BD7D16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2FB6-EC69-40F2-9524-D97A9B4B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50D4-F2A9-4205-AF0F-54AC02A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CE8AF-2938-45FC-BC70-FA0B457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CE453-4F06-4404-BF34-53C2778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EA38-1E91-4B58-92C2-3F0702B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4882-5D87-4E43-BAB0-E02F357D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A272-8856-4839-B5BF-81772592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D4B1-B3F8-4477-B6A2-577E13B2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F48-01F9-422E-8EA6-0B9A0859B1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1D6-8487-4C4C-B8AF-A82B32873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73C-9CE6-4269-A1C3-2782CB9D8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ADA-E5F3-46B7-B6ED-74B166BA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05B6-EDE9-4B77-8625-63B7939A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3D9-A169-4103-A18F-3B1E945558C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6D0B-4567-4803-AC53-5405910FA9E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693280" cy="236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Прямоугольник с двумя скругленными противолежащими углами 1"/>
          <p:cNvGrpSpPr/>
          <p:nvPr/>
        </p:nvGrpSpPr>
        <p:grpSpPr>
          <a:xfrm>
            <a:off x="1365120" y="738360"/>
            <a:ext cx="6761160" cy="1657080"/>
            <a:chOff x="1365120" y="738360"/>
            <a:chExt cx="6761160" cy="1657080"/>
          </a:xfrm>
        </p:grpSpPr>
        <p:pic>
          <p:nvPicPr>
            <p:cNvPr id="410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365120" y="738360"/>
              <a:ext cx="6761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671480" y="1062000"/>
              <a:ext cx="61819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рузы, предъявляемые к перевозке, оформляютс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Овал 2"/>
          <p:cNvGrpSpPr/>
          <p:nvPr/>
        </p:nvGrpSpPr>
        <p:grpSpPr>
          <a:xfrm>
            <a:off x="1212840" y="3402000"/>
            <a:ext cx="7145280" cy="1736640"/>
            <a:chOff x="1212840" y="3402000"/>
            <a:chExt cx="7145280" cy="1736640"/>
          </a:xfrm>
        </p:grpSpPr>
        <p:pic>
          <p:nvPicPr>
            <p:cNvPr id="413" name="Овал 2" descr=""/>
            <p:cNvPicPr/>
            <p:nvPr/>
          </p:nvPicPr>
          <p:blipFill>
            <a:blip r:embed="rId2"/>
            <a:stretch/>
          </p:blipFill>
          <p:spPr>
            <a:xfrm>
              <a:off x="1212840" y="3402000"/>
              <a:ext cx="71452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322360" y="3740040"/>
              <a:ext cx="49564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оварно-транспортными накладным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Стрелка вправо с вырезом 4"/>
          <p:cNvSpPr/>
          <p:nvPr/>
        </p:nvSpPr>
        <p:spPr>
          <a:xfrm rot="5400000">
            <a:off x="4343400" y="2590560"/>
            <a:ext cx="914400" cy="609840"/>
          </a:xfrm>
          <a:custGeom>
            <a:avLst/>
            <a:gdLst>
              <a:gd name="textAreaLeft" fmla="*/ 152280 w 914400"/>
              <a:gd name="textAreaRight" fmla="*/ 762120 w 9144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с двумя скругленными соседними углами 1"/>
          <p:cNvGrpSpPr/>
          <p:nvPr/>
        </p:nvGrpSpPr>
        <p:grpSpPr>
          <a:xfrm>
            <a:off x="1743120" y="281160"/>
            <a:ext cx="5853240" cy="968040"/>
            <a:chOff x="1743120" y="281160"/>
            <a:chExt cx="5853240" cy="968040"/>
          </a:xfrm>
        </p:grpSpPr>
        <p:pic>
          <p:nvPicPr>
            <p:cNvPr id="417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743120" y="281160"/>
              <a:ext cx="585324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951200" y="503280"/>
              <a:ext cx="54702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язанност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Блок-схема: знак завершения 2"/>
          <p:cNvGrpSpPr/>
          <p:nvPr/>
        </p:nvGrpSpPr>
        <p:grpSpPr>
          <a:xfrm>
            <a:off x="219240" y="1878120"/>
            <a:ext cx="4097160" cy="1047600"/>
            <a:chOff x="219240" y="1878120"/>
            <a:chExt cx="4097160" cy="1047600"/>
          </a:xfrm>
        </p:grpSpPr>
        <p:pic>
          <p:nvPicPr>
            <p:cNvPr id="420" name="Блок-схема: знак завершения 2" descr=""/>
            <p:cNvPicPr/>
            <p:nvPr/>
          </p:nvPicPr>
          <p:blipFill>
            <a:blip r:embed="rId2"/>
            <a:stretch/>
          </p:blipFill>
          <p:spPr>
            <a:xfrm>
              <a:off x="219240" y="1878120"/>
              <a:ext cx="40971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2120" y="2114640"/>
              <a:ext cx="3587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рузоотправи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Блок-схема: знак завершения 3"/>
          <p:cNvGrpSpPr/>
          <p:nvPr/>
        </p:nvGrpSpPr>
        <p:grpSpPr>
          <a:xfrm>
            <a:off x="4718160" y="1878120"/>
            <a:ext cx="4097160" cy="1047600"/>
            <a:chOff x="4718160" y="1878120"/>
            <a:chExt cx="4097160" cy="1047600"/>
          </a:xfrm>
        </p:grpSpPr>
        <p:pic>
          <p:nvPicPr>
            <p:cNvPr id="423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4718160" y="1878120"/>
              <a:ext cx="40971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4987800" y="2114640"/>
              <a:ext cx="3587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рузополуча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Прямоугольник 4"/>
          <p:cNvSpPr/>
          <p:nvPr/>
        </p:nvSpPr>
        <p:spPr>
          <a:xfrm>
            <a:off x="457200" y="327672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узка груз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457200" y="4038480"/>
            <a:ext cx="3657600" cy="60984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457200" y="487692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ы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4952880" y="3429000"/>
            <a:ext cx="3962520" cy="91440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рузка грузов из автомоби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4952880" y="4876920"/>
            <a:ext cx="3962520" cy="91440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е креплений и покрыт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457200" y="571500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яз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1" name="Прямая со стрелкой 11"/>
          <p:cNvCxnSpPr>
            <a:stCxn id="417" idx="1"/>
            <a:endCxn id="420" idx="0"/>
          </p:cNvCxnSpPr>
          <p:nvPr/>
        </p:nvCxnSpPr>
        <p:spPr>
          <a:xfrm flipH="1">
            <a:off x="2285640" y="1219320"/>
            <a:ext cx="2401200" cy="762480"/>
          </a:xfrm>
          <a:prstGeom prst="straightConnector1">
            <a:avLst/>
          </a:prstGeom>
          <a:ln w="9360">
            <a:solidFill>
              <a:srgbClr val="ffb800"/>
            </a:solidFill>
            <a:miter/>
            <a:tailEnd len="med" type="triangle" w="med"/>
          </a:ln>
        </p:spPr>
      </p:cxnSp>
      <p:cxnSp>
        <p:nvCxnSpPr>
          <p:cNvPr id="432" name="Прямая со стрелкой 13"/>
          <p:cNvCxnSpPr>
            <a:stCxn id="417" idx="1"/>
            <a:endCxn id="423" idx="0"/>
          </p:cNvCxnSpPr>
          <p:nvPr/>
        </p:nvCxnSpPr>
        <p:spPr>
          <a:xfrm>
            <a:off x="4686480" y="1219320"/>
            <a:ext cx="2095920" cy="762480"/>
          </a:xfrm>
          <a:prstGeom prst="straightConnector1">
            <a:avLst/>
          </a:prstGeom>
          <a:ln w="9360">
            <a:solidFill>
              <a:srgbClr val="ffb800"/>
            </a:solidFill>
            <a:miter/>
            <a:tailEnd len="med" type="triangle" w="med"/>
          </a:ln>
        </p:spPr>
      </p:cxnSp>
      <p:cxnSp>
        <p:nvCxnSpPr>
          <p:cNvPr id="433" name="Shape 15"/>
          <p:cNvCxnSpPr>
            <a:stCxn id="420" idx="3"/>
            <a:endCxn id="425" idx="3"/>
          </p:cNvCxnSpPr>
          <p:nvPr/>
        </p:nvCxnSpPr>
        <p:spPr>
          <a:xfrm flipH="1">
            <a:off x="4114080" y="243792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Скругленная соединительная линия 18"/>
          <p:cNvCxnSpPr>
            <a:stCxn id="420" idx="3"/>
            <a:endCxn id="426" idx="3"/>
          </p:cNvCxnSpPr>
          <p:nvPr/>
        </p:nvCxnSpPr>
        <p:spPr>
          <a:xfrm flipH="1">
            <a:off x="4114080" y="2438280"/>
            <a:ext cx="153000" cy="1905840"/>
          </a:xfrm>
          <a:prstGeom prst="curvedConnector5">
            <a:avLst>
              <a:gd name="adj1" fmla="val -150000"/>
              <a:gd name="adj2" fmla="val 4999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Скругленная соединительная линия 20"/>
          <p:cNvCxnSpPr>
            <a:stCxn id="420" idx="3"/>
            <a:endCxn id="427" idx="3"/>
          </p:cNvCxnSpPr>
          <p:nvPr/>
        </p:nvCxnSpPr>
        <p:spPr>
          <a:xfrm flipH="1">
            <a:off x="4114080" y="2438280"/>
            <a:ext cx="153000" cy="2743920"/>
          </a:xfrm>
          <a:prstGeom prst="curvedConnector5">
            <a:avLst>
              <a:gd name="adj1" fmla="val -150000"/>
              <a:gd name="adj2" fmla="val 49993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Скругленная соединительная линия 22"/>
          <p:cNvCxnSpPr>
            <a:stCxn id="420" idx="3"/>
            <a:endCxn id="430" idx="3"/>
          </p:cNvCxnSpPr>
          <p:nvPr/>
        </p:nvCxnSpPr>
        <p:spPr>
          <a:xfrm flipH="1">
            <a:off x="4114080" y="2437920"/>
            <a:ext cx="153000" cy="358236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Скругленная соединительная линия 24"/>
          <p:cNvCxnSpPr>
            <a:stCxn id="423" idx="1"/>
            <a:endCxn id="428" idx="1"/>
          </p:cNvCxnSpPr>
          <p:nvPr/>
        </p:nvCxnSpPr>
        <p:spPr>
          <a:xfrm flipH="1" flipV="1" rot="10800000">
            <a:off x="4799520" y="2437920"/>
            <a:ext cx="153000" cy="1448640"/>
          </a:xfrm>
          <a:prstGeom prst="curvedConnector5">
            <a:avLst>
              <a:gd name="adj1" fmla="val -150000"/>
              <a:gd name="adj2" fmla="val 49987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Скругленная соединительная линия 26"/>
          <p:cNvCxnSpPr>
            <a:stCxn id="423" idx="1"/>
            <a:endCxn id="429" idx="1"/>
          </p:cNvCxnSpPr>
          <p:nvPr/>
        </p:nvCxnSpPr>
        <p:spPr>
          <a:xfrm flipH="1" flipV="1" rot="10800000">
            <a:off x="4799520" y="2437920"/>
            <a:ext cx="153000" cy="2896560"/>
          </a:xfrm>
          <a:prstGeom prst="curvedConnector5">
            <a:avLst>
              <a:gd name="adj1" fmla="val -150000"/>
              <a:gd name="adj2" fmla="val 49993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Блок-схема: подготовка 1"/>
          <p:cNvGrpSpPr/>
          <p:nvPr/>
        </p:nvGrpSpPr>
        <p:grpSpPr>
          <a:xfrm>
            <a:off x="1212840" y="268200"/>
            <a:ext cx="6761160" cy="1822680"/>
            <a:chOff x="1212840" y="268200"/>
            <a:chExt cx="6761160" cy="1822680"/>
          </a:xfrm>
        </p:grpSpPr>
        <p:pic>
          <p:nvPicPr>
            <p:cNvPr id="440" name="Блок-схема: подготовка 1" descr=""/>
            <p:cNvPicPr/>
            <p:nvPr/>
          </p:nvPicPr>
          <p:blipFill>
            <a:blip r:embed="rId1"/>
            <a:stretch/>
          </p:blipFill>
          <p:spPr>
            <a:xfrm>
              <a:off x="1212840" y="268200"/>
              <a:ext cx="67611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620800" y="380880"/>
              <a:ext cx="39783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еревозка грузов осуществляется в соответствии с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Блок-схема: документ 2"/>
          <p:cNvGrpSpPr/>
          <p:nvPr/>
        </p:nvGrpSpPr>
        <p:grpSpPr>
          <a:xfrm>
            <a:off x="1017720" y="3097080"/>
            <a:ext cx="7351560" cy="2992680"/>
            <a:chOff x="1017720" y="3097080"/>
            <a:chExt cx="7351560" cy="2992680"/>
          </a:xfrm>
        </p:grpSpPr>
        <p:pic>
          <p:nvPicPr>
            <p:cNvPr id="443" name="Блок-схема: документ 2" descr=""/>
            <p:cNvPicPr/>
            <p:nvPr/>
          </p:nvPicPr>
          <p:blipFill>
            <a:blip r:embed="rId2"/>
            <a:stretch/>
          </p:blipFill>
          <p:spPr>
            <a:xfrm>
              <a:off x="1017720" y="3097080"/>
              <a:ext cx="7351560" cy="29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43000" y="3200400"/>
              <a:ext cx="7010280" cy="23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явкой установленной формы, которую грузоотправитель представляет в управление железной дороги не менее чем за 10 дней до начала перевоз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Нашивка 3"/>
          <p:cNvSpPr/>
          <p:nvPr/>
        </p:nvSpPr>
        <p:spPr>
          <a:xfrm rot="5400000">
            <a:off x="4381560" y="875880"/>
            <a:ext cx="533520" cy="3657600"/>
          </a:xfrm>
          <a:custGeom>
            <a:avLst/>
            <a:gdLst>
              <a:gd name="textAreaLeft" fmla="*/ 0 w 533520"/>
              <a:gd name="textAreaRight" fmla="*/ 533880 w 53352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оугольник с двумя вырезанными противолежащими углами 1"/>
          <p:cNvGrpSpPr/>
          <p:nvPr/>
        </p:nvGrpSpPr>
        <p:grpSpPr>
          <a:xfrm>
            <a:off x="1133640" y="658800"/>
            <a:ext cx="6992640" cy="1047600"/>
            <a:chOff x="1133640" y="658800"/>
            <a:chExt cx="6992640" cy="1047600"/>
          </a:xfrm>
        </p:grpSpPr>
        <p:pic>
          <p:nvPicPr>
            <p:cNvPr id="447" name="Прямоугольник с двумя выреза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133640" y="658800"/>
              <a:ext cx="699264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47920" y="990720"/>
              <a:ext cx="640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рузы могут перевозиться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Блок-схема: узел 2"/>
          <p:cNvGrpSpPr/>
          <p:nvPr/>
        </p:nvGrpSpPr>
        <p:grpSpPr>
          <a:xfrm>
            <a:off x="5479920" y="2792520"/>
            <a:ext cx="2878200" cy="2346120"/>
            <a:chOff x="5479920" y="2792520"/>
            <a:chExt cx="2878200" cy="2346120"/>
          </a:xfrm>
        </p:grpSpPr>
        <p:pic>
          <p:nvPicPr>
            <p:cNvPr id="450" name="Блок-схема: узел 2" descr=""/>
            <p:cNvPicPr/>
            <p:nvPr/>
          </p:nvPicPr>
          <p:blipFill>
            <a:blip r:embed="rId2"/>
            <a:stretch/>
          </p:blipFill>
          <p:spPr>
            <a:xfrm>
              <a:off x="5479920" y="2792520"/>
              <a:ext cx="2878200" cy="23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964120" y="3219480"/>
              <a:ext cx="194004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ольшой скорость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Блок-схема: узел 3"/>
          <p:cNvGrpSpPr/>
          <p:nvPr/>
        </p:nvGrpSpPr>
        <p:grpSpPr>
          <a:xfrm>
            <a:off x="1060560" y="2792520"/>
            <a:ext cx="2878200" cy="2346120"/>
            <a:chOff x="1060560" y="2792520"/>
            <a:chExt cx="2878200" cy="2346120"/>
          </a:xfrm>
        </p:grpSpPr>
        <p:pic>
          <p:nvPicPr>
            <p:cNvPr id="453" name="Блок-схема: узел 3" descr=""/>
            <p:cNvPicPr/>
            <p:nvPr/>
          </p:nvPicPr>
          <p:blipFill>
            <a:blip r:embed="rId3"/>
            <a:stretch/>
          </p:blipFill>
          <p:spPr>
            <a:xfrm>
              <a:off x="1060560" y="2792520"/>
              <a:ext cx="2878200" cy="23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44760" y="3219480"/>
              <a:ext cx="193968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рузовой скорость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5" name="Скругленная соединительная линия 5"/>
          <p:cNvCxnSpPr>
            <a:stCxn id="447" idx="1"/>
            <a:endCxn id="453" idx="0"/>
          </p:cNvCxnSpPr>
          <p:nvPr/>
        </p:nvCxnSpPr>
        <p:spPr>
          <a:xfrm rot="5400000">
            <a:off x="2971080" y="1218960"/>
            <a:ext cx="1219680" cy="21344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Скругленная соединительная линия 7"/>
          <p:cNvCxnSpPr>
            <a:stCxn id="447" idx="1"/>
            <a:endCxn id="450" idx="0"/>
          </p:cNvCxnSpPr>
          <p:nvPr/>
        </p:nvCxnSpPr>
        <p:spPr>
          <a:xfrm flipH="1" rot="16200000">
            <a:off x="5181840" y="1142640"/>
            <a:ext cx="1219680" cy="228672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Овал 1"/>
          <p:cNvGrpSpPr/>
          <p:nvPr/>
        </p:nvGrpSpPr>
        <p:grpSpPr>
          <a:xfrm>
            <a:off x="755640" y="433440"/>
            <a:ext cx="7602480" cy="1504800"/>
            <a:chOff x="755640" y="433440"/>
            <a:chExt cx="7602480" cy="1504800"/>
          </a:xfrm>
        </p:grpSpPr>
        <p:pic>
          <p:nvPicPr>
            <p:cNvPr id="458" name="Овал 1" descr=""/>
            <p:cNvPicPr/>
            <p:nvPr/>
          </p:nvPicPr>
          <p:blipFill>
            <a:blip r:embed="rId1"/>
            <a:stretch/>
          </p:blipFill>
          <p:spPr>
            <a:xfrm>
              <a:off x="755640" y="433440"/>
              <a:ext cx="76024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932120" y="735120"/>
              <a:ext cx="52797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од погрузку должны подаваться ваго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Прямоугольник 2"/>
          <p:cNvGrpSpPr/>
          <p:nvPr/>
        </p:nvGrpSpPr>
        <p:grpSpPr>
          <a:xfrm>
            <a:off x="146160" y="2792520"/>
            <a:ext cx="3944880" cy="974520"/>
            <a:chOff x="146160" y="2792520"/>
            <a:chExt cx="3944880" cy="974520"/>
          </a:xfrm>
        </p:grpSpPr>
        <p:pic>
          <p:nvPicPr>
            <p:cNvPr id="46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46160" y="2792520"/>
              <a:ext cx="39448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28600" y="2895480"/>
              <a:ext cx="38098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прав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Прямоугольник 3"/>
          <p:cNvGrpSpPr/>
          <p:nvPr/>
        </p:nvGrpSpPr>
        <p:grpSpPr>
          <a:xfrm>
            <a:off x="133200" y="4621320"/>
            <a:ext cx="4073760" cy="1199880"/>
            <a:chOff x="133200" y="4621320"/>
            <a:chExt cx="4073760" cy="1199880"/>
          </a:xfrm>
        </p:grpSpPr>
        <p:pic>
          <p:nvPicPr>
            <p:cNvPr id="4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33200" y="4621320"/>
              <a:ext cx="40737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28600" y="4724280"/>
              <a:ext cx="38098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чищенные внутри и снаруж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Прямоугольник 4"/>
          <p:cNvGrpSpPr/>
          <p:nvPr/>
        </p:nvGrpSpPr>
        <p:grpSpPr>
          <a:xfrm>
            <a:off x="4432320" y="4700520"/>
            <a:ext cx="4578480" cy="1120680"/>
            <a:chOff x="4432320" y="4700520"/>
            <a:chExt cx="4578480" cy="1120680"/>
          </a:xfrm>
        </p:grpSpPr>
        <p:pic>
          <p:nvPicPr>
            <p:cNvPr id="467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4432320" y="4700520"/>
              <a:ext cx="45784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572000" y="4800600"/>
              <a:ext cx="4343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дезинфицирова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Прямоугольник 5"/>
          <p:cNvGrpSpPr/>
          <p:nvPr/>
        </p:nvGrpSpPr>
        <p:grpSpPr>
          <a:xfrm>
            <a:off x="4711680" y="2719440"/>
            <a:ext cx="4303800" cy="1272960"/>
            <a:chOff x="4711680" y="2719440"/>
            <a:chExt cx="4303800" cy="1272960"/>
          </a:xfrm>
        </p:grpSpPr>
        <p:pic>
          <p:nvPicPr>
            <p:cNvPr id="470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711680" y="2719440"/>
              <a:ext cx="430380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800600" y="281952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одные для перевозки конкретных грузов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72" name="Скругленная соединительная линия 7"/>
          <p:cNvCxnSpPr/>
          <p:nvPr/>
        </p:nvCxnSpPr>
        <p:spPr>
          <a:xfrm rot="5400000">
            <a:off x="2856960" y="1180800"/>
            <a:ext cx="991080" cy="243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Скругленная соединительная линия 9"/>
          <p:cNvCxnSpPr/>
          <p:nvPr/>
        </p:nvCxnSpPr>
        <p:spPr>
          <a:xfrm flipH="1" rot="16200000">
            <a:off x="5238720" y="1238040"/>
            <a:ext cx="915120" cy="2248560"/>
          </a:xfrm>
          <a:prstGeom prst="curvedConnector5">
            <a:avLst>
              <a:gd name="adj1" fmla="val 49980"/>
              <a:gd name="adj2" fmla="val 49991"/>
              <a:gd name="adj3" fmla="val 499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4" name="Shape 11"/>
          <p:cNvCxnSpPr/>
          <p:nvPr/>
        </p:nvCxnSpPr>
        <p:spPr>
          <a:xfrm rot="5400000">
            <a:off x="2628360" y="3314520"/>
            <a:ext cx="3353400" cy="5342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5" name="Shape 13"/>
          <p:cNvCxnSpPr/>
          <p:nvPr/>
        </p:nvCxnSpPr>
        <p:spPr>
          <a:xfrm rot="5400000">
            <a:off x="2876040" y="3600360"/>
            <a:ext cx="3391560" cy="3600"/>
          </a:xfrm>
          <a:prstGeom prst="curvedConnector5">
            <a:avLst>
              <a:gd name="adj1" fmla="val 78110"/>
              <a:gd name="adj2" fmla="val 7455555"/>
              <a:gd name="adj3" fmla="val 7811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Прямоугольник с двумя скругленными противолежащими углами 1"/>
          <p:cNvGrpSpPr/>
          <p:nvPr/>
        </p:nvGrpSpPr>
        <p:grpSpPr>
          <a:xfrm>
            <a:off x="907920" y="500040"/>
            <a:ext cx="7450200" cy="1743120"/>
            <a:chOff x="907920" y="500040"/>
            <a:chExt cx="7450200" cy="1743120"/>
          </a:xfrm>
        </p:grpSpPr>
        <p:pic>
          <p:nvPicPr>
            <p:cNvPr id="477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907920" y="500040"/>
              <a:ext cx="745020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214280" y="909720"/>
              <a:ext cx="68677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редъявляя груз для перевозки, грузоотправитель должен представи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Овал 3"/>
          <p:cNvGrpSpPr/>
          <p:nvPr/>
        </p:nvGrpSpPr>
        <p:grpSpPr>
          <a:xfrm>
            <a:off x="1285920" y="3176640"/>
            <a:ext cx="6535800" cy="2419200"/>
            <a:chOff x="1285920" y="3176640"/>
            <a:chExt cx="6535800" cy="2419200"/>
          </a:xfrm>
        </p:grpSpPr>
        <p:pic>
          <p:nvPicPr>
            <p:cNvPr id="480" name="Овал 3" descr=""/>
            <p:cNvPicPr/>
            <p:nvPr/>
          </p:nvPicPr>
          <p:blipFill>
            <a:blip r:embed="rId2"/>
            <a:stretch/>
          </p:blipFill>
          <p:spPr>
            <a:xfrm>
              <a:off x="1285920" y="3176640"/>
              <a:ext cx="653580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2308320" y="3611520"/>
              <a:ext cx="4527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ранспортную  железнодорожную  накладную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Стрелка вправо с вырезом 4"/>
          <p:cNvSpPr/>
          <p:nvPr/>
        </p:nvSpPr>
        <p:spPr>
          <a:xfrm rot="5400000">
            <a:off x="4228560" y="2323800"/>
            <a:ext cx="838080" cy="762120"/>
          </a:xfrm>
          <a:custGeom>
            <a:avLst/>
            <a:gdLst>
              <a:gd name="textAreaLeft" fmla="*/ 190440 w 838080"/>
              <a:gd name="textAreaRight" fmla="*/ 647640 w 8380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782" y="5400"/>
                </a:ln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11782" y="16200"/>
                </a:lnTo>
                <a:lnTo>
                  <a:pt x="0" y="16200"/>
                </a:lnTo>
                <a:lnTo>
                  <a:pt x="49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оугольник с двумя скругленными соседними углами 1"/>
          <p:cNvGrpSpPr/>
          <p:nvPr/>
        </p:nvGrpSpPr>
        <p:grpSpPr>
          <a:xfrm>
            <a:off x="1365120" y="506520"/>
            <a:ext cx="6688440" cy="1352520"/>
            <a:chOff x="1365120" y="506520"/>
            <a:chExt cx="6688440" cy="1352520"/>
          </a:xfrm>
        </p:grpSpPr>
        <p:pic>
          <p:nvPicPr>
            <p:cNvPr id="484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365120" y="506520"/>
              <a:ext cx="66884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625760" y="787320"/>
              <a:ext cx="6197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одтверждение заключения договора перевозки груз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Загнутый угол 2"/>
          <p:cNvGrpSpPr/>
          <p:nvPr/>
        </p:nvGrpSpPr>
        <p:grpSpPr>
          <a:xfrm>
            <a:off x="476280" y="3097080"/>
            <a:ext cx="4125960" cy="2651400"/>
            <a:chOff x="476280" y="3097080"/>
            <a:chExt cx="4125960" cy="2651400"/>
          </a:xfrm>
        </p:grpSpPr>
        <p:pic>
          <p:nvPicPr>
            <p:cNvPr id="487" name="Загнутый угол 2" descr=""/>
            <p:cNvPicPr/>
            <p:nvPr/>
          </p:nvPicPr>
          <p:blipFill>
            <a:blip r:embed="rId2"/>
            <a:stretch/>
          </p:blipFill>
          <p:spPr>
            <a:xfrm>
              <a:off x="476280" y="3097080"/>
              <a:ext cx="4125960" cy="26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85800" y="3200400"/>
              <a:ext cx="365760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ранспортная железнодорожная накладн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Загнутый угол 3"/>
          <p:cNvGrpSpPr/>
          <p:nvPr/>
        </p:nvGrpSpPr>
        <p:grpSpPr>
          <a:xfrm>
            <a:off x="5327640" y="3097080"/>
            <a:ext cx="3359160" cy="2571840"/>
            <a:chOff x="5327640" y="3097080"/>
            <a:chExt cx="3359160" cy="2571840"/>
          </a:xfrm>
        </p:grpSpPr>
        <p:pic>
          <p:nvPicPr>
            <p:cNvPr id="490" name="Загнутый угол 3" descr=""/>
            <p:cNvPicPr/>
            <p:nvPr/>
          </p:nvPicPr>
          <p:blipFill>
            <a:blip r:embed="rId3"/>
            <a:stretch/>
          </p:blipFill>
          <p:spPr>
            <a:xfrm>
              <a:off x="5327640" y="3097080"/>
              <a:ext cx="335916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5410080" y="3200400"/>
              <a:ext cx="320040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витанция о  приеме груз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2" name="Прямая со стрелкой 5"/>
          <p:cNvCxnSpPr>
            <a:stCxn id="484" idx="1"/>
            <a:endCxn id="487" idx="0"/>
          </p:cNvCxnSpPr>
          <p:nvPr/>
        </p:nvCxnSpPr>
        <p:spPr>
          <a:xfrm flipH="1">
            <a:off x="2514240" y="1828800"/>
            <a:ext cx="221040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3" name="Прямая со стрелкой 7"/>
          <p:cNvCxnSpPr>
            <a:stCxn id="484" idx="1"/>
            <a:endCxn id="490" idx="0"/>
          </p:cNvCxnSpPr>
          <p:nvPr/>
        </p:nvCxnSpPr>
        <p:spPr>
          <a:xfrm>
            <a:off x="4724280" y="1828800"/>
            <a:ext cx="228672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Прямоугольник с двумя скругленными противолежащими углами 1"/>
          <p:cNvGrpSpPr/>
          <p:nvPr/>
        </p:nvGrpSpPr>
        <p:grpSpPr>
          <a:xfrm>
            <a:off x="1590840" y="433440"/>
            <a:ext cx="6230880" cy="1577880"/>
            <a:chOff x="1590840" y="433440"/>
            <a:chExt cx="6230880" cy="1577880"/>
          </a:xfrm>
        </p:grpSpPr>
        <p:pic>
          <p:nvPicPr>
            <p:cNvPr id="495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590840" y="433440"/>
              <a:ext cx="62308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889280" y="746280"/>
              <a:ext cx="567036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елезнодорожный транспорт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Блок-схема: ссылка на другую страницу 2"/>
          <p:cNvGrpSpPr/>
          <p:nvPr/>
        </p:nvGrpSpPr>
        <p:grpSpPr>
          <a:xfrm>
            <a:off x="1517760" y="2876400"/>
            <a:ext cx="6456240" cy="3176640"/>
            <a:chOff x="1517760" y="2876400"/>
            <a:chExt cx="6456240" cy="3176640"/>
          </a:xfrm>
        </p:grpSpPr>
        <p:pic>
          <p:nvPicPr>
            <p:cNvPr id="498" name="Блок-схема: ссылка на другую страницу 2" descr=""/>
            <p:cNvPicPr/>
            <p:nvPr/>
          </p:nvPicPr>
          <p:blipFill>
            <a:blip r:embed="rId2"/>
            <a:stretch/>
          </p:blipFill>
          <p:spPr>
            <a:xfrm>
              <a:off x="1517760" y="2876400"/>
              <a:ext cx="645624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1600200" y="3048120"/>
              <a:ext cx="6324480" cy="23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первое место по объему грузоперевозок за счет возможности перемещения товаров большими партиями на значительные расстояни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Нашивка 3"/>
          <p:cNvSpPr/>
          <p:nvPr/>
        </p:nvSpPr>
        <p:spPr>
          <a:xfrm rot="5400000">
            <a:off x="4533480" y="799920"/>
            <a:ext cx="457200" cy="3429000"/>
          </a:xfrm>
          <a:custGeom>
            <a:avLst/>
            <a:gdLst>
              <a:gd name="textAreaLeft" fmla="*/ 0 w 457200"/>
              <a:gd name="textAreaRight" fmla="*/ 457560 w 457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Овал 1"/>
          <p:cNvGrpSpPr/>
          <p:nvPr/>
        </p:nvGrpSpPr>
        <p:grpSpPr>
          <a:xfrm>
            <a:off x="1285920" y="433440"/>
            <a:ext cx="6535800" cy="1425600"/>
            <a:chOff x="1285920" y="433440"/>
            <a:chExt cx="6535800" cy="1425600"/>
          </a:xfrm>
        </p:grpSpPr>
        <p:pic>
          <p:nvPicPr>
            <p:cNvPr id="502" name="Овал 1" descr=""/>
            <p:cNvPicPr/>
            <p:nvPr/>
          </p:nvPicPr>
          <p:blipFill>
            <a:blip r:embed="rId1"/>
            <a:stretch/>
          </p:blipFill>
          <p:spPr>
            <a:xfrm>
              <a:off x="1285920" y="433440"/>
              <a:ext cx="65358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2308320" y="723960"/>
              <a:ext cx="4527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Транспорт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Блок-схема: дисплей 2"/>
          <p:cNvGrpSpPr/>
          <p:nvPr/>
        </p:nvGrpSpPr>
        <p:grpSpPr>
          <a:xfrm>
            <a:off x="1822320" y="2871720"/>
            <a:ext cx="6456600" cy="2571840"/>
            <a:chOff x="1822320" y="2871720"/>
            <a:chExt cx="6456600" cy="2571840"/>
          </a:xfrm>
        </p:grpSpPr>
        <p:pic>
          <p:nvPicPr>
            <p:cNvPr id="505" name="Блок-схема: дисплей 2" descr=""/>
            <p:cNvPicPr/>
            <p:nvPr/>
          </p:nvPicPr>
          <p:blipFill>
            <a:blip r:embed="rId2"/>
            <a:stretch/>
          </p:blipFill>
          <p:spPr>
            <a:xfrm>
              <a:off x="1822320" y="2871720"/>
              <a:ext cx="64566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959200" y="2971800"/>
              <a:ext cx="42163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грает существенную роль в системе товародвижения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Выгнутая влево стрелка 3"/>
          <p:cNvSpPr/>
          <p:nvPr/>
        </p:nvSpPr>
        <p:spPr>
          <a:xfrm>
            <a:off x="1219320" y="1752480"/>
            <a:ext cx="1066680" cy="18288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48480 h 1828800"/>
              <a:gd name="textAreaBottom" fmla="*/ 131256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35" stAng="-5400000" swAng="-5400000"/>
                <a:lnTo>
                  <a:pt x="0" y="11385"/>
                </a:lnTo>
                <a:arcTo wR="21600" hR="8235" stAng="10800000" swAng="-3353450"/>
                <a:lnTo>
                  <a:pt x="16200" y="21339"/>
                </a:lnTo>
                <a:lnTo>
                  <a:pt x="21600" y="18044"/>
                </a:lnTo>
                <a:lnTo>
                  <a:pt x="16200" y="14227"/>
                </a:lnTo>
                <a:lnTo>
                  <a:pt x="16200" y="16208"/>
                </a:lnTo>
                <a:arcTo wR="21600" hR="8235" stAng="7446550" swAng="3098535"/>
                <a:lnTo>
                  <a:pt x="399" y="9810"/>
                </a:lnTo>
                <a:arcTo wR="21600" hR="8235" stAng="-10545084" swAng="5145084"/>
                <a:close/>
              </a:path>
              <a:path fill="darkenLess" w="21600" h="21600">
                <a:moveTo>
                  <a:pt x="21600" y="0"/>
                </a:moveTo>
                <a:arcTo wR="21600" hR="8235" stAng="-5400000" swAng="-5400000"/>
                <a:lnTo>
                  <a:pt x="0" y="8235"/>
                </a:lnTo>
                <a:arcTo wR="21600" hR="8235" stAng="10800000" swAng="-254916"/>
                <a:lnTo>
                  <a:pt x="399" y="9810"/>
                </a:lnTo>
                <a:arcTo wR="21600" hR="8235" stAng="-10545084" swAng="5145084"/>
                <a:close/>
              </a:path>
            </a:pathLst>
          </a:custGeom>
          <a:solidFill>
            <a:srgbClr val="a0d3e0"/>
          </a:solidFill>
          <a:ln w="25560">
            <a:solidFill>
              <a:srgbClr val="e886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Прямоугольник с двумя скругленными соседними углами 1"/>
          <p:cNvGrpSpPr/>
          <p:nvPr/>
        </p:nvGrpSpPr>
        <p:grpSpPr>
          <a:xfrm>
            <a:off x="1743120" y="281160"/>
            <a:ext cx="5853240" cy="968040"/>
            <a:chOff x="1743120" y="281160"/>
            <a:chExt cx="5853240" cy="968040"/>
          </a:xfrm>
        </p:grpSpPr>
        <p:pic>
          <p:nvPicPr>
            <p:cNvPr id="509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743120" y="281160"/>
              <a:ext cx="585324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1951200" y="503280"/>
              <a:ext cx="54702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язанност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Блок-схема: знак завершения 2"/>
          <p:cNvGrpSpPr/>
          <p:nvPr/>
        </p:nvGrpSpPr>
        <p:grpSpPr>
          <a:xfrm>
            <a:off x="219240" y="1878120"/>
            <a:ext cx="4097160" cy="1047600"/>
            <a:chOff x="219240" y="1878120"/>
            <a:chExt cx="4097160" cy="1047600"/>
          </a:xfrm>
        </p:grpSpPr>
        <p:pic>
          <p:nvPicPr>
            <p:cNvPr id="512" name="Блок-схема: знак завершения 2" descr=""/>
            <p:cNvPicPr/>
            <p:nvPr/>
          </p:nvPicPr>
          <p:blipFill>
            <a:blip r:embed="rId2"/>
            <a:stretch/>
          </p:blipFill>
          <p:spPr>
            <a:xfrm>
              <a:off x="219240" y="1878120"/>
              <a:ext cx="40971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492120" y="2114640"/>
              <a:ext cx="3587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рузоотправи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Блок-схема: знак завершения 3"/>
          <p:cNvGrpSpPr/>
          <p:nvPr/>
        </p:nvGrpSpPr>
        <p:grpSpPr>
          <a:xfrm>
            <a:off x="4718160" y="1878120"/>
            <a:ext cx="4097160" cy="1047600"/>
            <a:chOff x="4718160" y="1878120"/>
            <a:chExt cx="4097160" cy="1047600"/>
          </a:xfrm>
        </p:grpSpPr>
        <p:pic>
          <p:nvPicPr>
            <p:cNvPr id="515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4718160" y="1878120"/>
              <a:ext cx="40971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4987800" y="2114640"/>
              <a:ext cx="3587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рузополучате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Прямоугольник 4"/>
          <p:cNvSpPr/>
          <p:nvPr/>
        </p:nvSpPr>
        <p:spPr>
          <a:xfrm>
            <a:off x="457200" y="327672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узка груз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5"/>
          <p:cNvSpPr/>
          <p:nvPr/>
        </p:nvSpPr>
        <p:spPr>
          <a:xfrm>
            <a:off x="457200" y="4038480"/>
            <a:ext cx="3657600" cy="60984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6"/>
          <p:cNvSpPr/>
          <p:nvPr/>
        </p:nvSpPr>
        <p:spPr>
          <a:xfrm>
            <a:off x="457200" y="487692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ы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>
            <a:off x="4952880" y="3429000"/>
            <a:ext cx="3962520" cy="91440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рузка грузов из автомоби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4952880" y="4876920"/>
            <a:ext cx="3962520" cy="91440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е креплений и покрыт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457200" y="5715000"/>
            <a:ext cx="3657600" cy="609480"/>
          </a:xfrm>
          <a:prstGeom prst="rect">
            <a:avLst/>
          </a:prstGeom>
          <a:solidFill>
            <a:srgbClr val="ffd25d"/>
          </a:solidFill>
          <a:ln w="255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яз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11"/>
          <p:cNvCxnSpPr>
            <a:stCxn id="509" idx="1"/>
            <a:endCxn id="512" idx="0"/>
          </p:cNvCxnSpPr>
          <p:nvPr/>
        </p:nvCxnSpPr>
        <p:spPr>
          <a:xfrm flipH="1">
            <a:off x="2285640" y="1219320"/>
            <a:ext cx="2401200" cy="762480"/>
          </a:xfrm>
          <a:prstGeom prst="straightConnector1">
            <a:avLst/>
          </a:prstGeom>
          <a:ln w="9360">
            <a:solidFill>
              <a:srgbClr val="ffb800"/>
            </a:solidFill>
            <a:miter/>
            <a:tailEnd len="med" type="triangle" w="med"/>
          </a:ln>
        </p:spPr>
      </p:cxnSp>
      <p:cxnSp>
        <p:nvCxnSpPr>
          <p:cNvPr id="524" name="Прямая со стрелкой 13"/>
          <p:cNvCxnSpPr>
            <a:stCxn id="509" idx="1"/>
            <a:endCxn id="515" idx="0"/>
          </p:cNvCxnSpPr>
          <p:nvPr/>
        </p:nvCxnSpPr>
        <p:spPr>
          <a:xfrm>
            <a:off x="4686480" y="1219320"/>
            <a:ext cx="2095920" cy="762480"/>
          </a:xfrm>
          <a:prstGeom prst="straightConnector1">
            <a:avLst/>
          </a:prstGeom>
          <a:ln w="9360">
            <a:solidFill>
              <a:srgbClr val="ffb800"/>
            </a:solidFill>
            <a:miter/>
            <a:tailEnd len="med" type="triangle" w="med"/>
          </a:ln>
        </p:spPr>
      </p:cxnSp>
      <p:cxnSp>
        <p:nvCxnSpPr>
          <p:cNvPr id="525" name="Shape 15"/>
          <p:cNvCxnSpPr>
            <a:stCxn id="512" idx="3"/>
            <a:endCxn id="517" idx="3"/>
          </p:cNvCxnSpPr>
          <p:nvPr/>
        </p:nvCxnSpPr>
        <p:spPr>
          <a:xfrm flipH="1">
            <a:off x="4114080" y="243792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6" name="Скругленная соединительная линия 18"/>
          <p:cNvCxnSpPr>
            <a:stCxn id="512" idx="3"/>
            <a:endCxn id="518" idx="3"/>
          </p:cNvCxnSpPr>
          <p:nvPr/>
        </p:nvCxnSpPr>
        <p:spPr>
          <a:xfrm flipH="1">
            <a:off x="4114080" y="2438280"/>
            <a:ext cx="153000" cy="1905840"/>
          </a:xfrm>
          <a:prstGeom prst="curvedConnector5">
            <a:avLst>
              <a:gd name="adj1" fmla="val -150000"/>
              <a:gd name="adj2" fmla="val 4999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7" name="Скругленная соединительная линия 20"/>
          <p:cNvCxnSpPr>
            <a:stCxn id="512" idx="3"/>
            <a:endCxn id="519" idx="3"/>
          </p:cNvCxnSpPr>
          <p:nvPr/>
        </p:nvCxnSpPr>
        <p:spPr>
          <a:xfrm flipH="1">
            <a:off x="4114080" y="2438280"/>
            <a:ext cx="153000" cy="2743920"/>
          </a:xfrm>
          <a:prstGeom prst="curvedConnector5">
            <a:avLst>
              <a:gd name="adj1" fmla="val -150000"/>
              <a:gd name="adj2" fmla="val 49993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8" name="Скругленная соединительная линия 22"/>
          <p:cNvCxnSpPr>
            <a:stCxn id="512" idx="3"/>
            <a:endCxn id="522" idx="3"/>
          </p:cNvCxnSpPr>
          <p:nvPr/>
        </p:nvCxnSpPr>
        <p:spPr>
          <a:xfrm flipH="1">
            <a:off x="4114080" y="2437920"/>
            <a:ext cx="153000" cy="358236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Скругленная соединительная линия 24"/>
          <p:cNvCxnSpPr>
            <a:stCxn id="515" idx="1"/>
            <a:endCxn id="520" idx="1"/>
          </p:cNvCxnSpPr>
          <p:nvPr/>
        </p:nvCxnSpPr>
        <p:spPr>
          <a:xfrm flipH="1" flipV="1" rot="10800000">
            <a:off x="4799520" y="2437920"/>
            <a:ext cx="153000" cy="1448640"/>
          </a:xfrm>
          <a:prstGeom prst="curvedConnector5">
            <a:avLst>
              <a:gd name="adj1" fmla="val -150000"/>
              <a:gd name="adj2" fmla="val 49987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Скругленная соединительная линия 26"/>
          <p:cNvCxnSpPr>
            <a:stCxn id="515" idx="1"/>
            <a:endCxn id="521" idx="1"/>
          </p:cNvCxnSpPr>
          <p:nvPr/>
        </p:nvCxnSpPr>
        <p:spPr>
          <a:xfrm flipH="1" flipV="1" rot="10800000">
            <a:off x="4799520" y="2437920"/>
            <a:ext cx="153000" cy="2896560"/>
          </a:xfrm>
          <a:prstGeom prst="curvedConnector5">
            <a:avLst>
              <a:gd name="adj1" fmla="val -150000"/>
              <a:gd name="adj2" fmla="val 49993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extBox 3" descr=""/>
          <p:cNvPicPr/>
          <p:nvPr/>
        </p:nvPicPr>
        <p:blipFill>
          <a:blip r:embed="rId1"/>
          <a:stretch/>
        </p:blipFill>
        <p:spPr>
          <a:xfrm>
            <a:off x="603360" y="669960"/>
            <a:ext cx="8089920" cy="5548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378000" y="1566720"/>
            <a:ext cx="8242200" cy="2529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Овал 1"/>
          <p:cNvGrpSpPr/>
          <p:nvPr/>
        </p:nvGrpSpPr>
        <p:grpSpPr>
          <a:xfrm>
            <a:off x="1285920" y="433440"/>
            <a:ext cx="6535800" cy="1425600"/>
            <a:chOff x="1285920" y="433440"/>
            <a:chExt cx="6535800" cy="1425600"/>
          </a:xfrm>
        </p:grpSpPr>
        <p:pic>
          <p:nvPicPr>
            <p:cNvPr id="348" name="Овал 1" descr=""/>
            <p:cNvPicPr/>
            <p:nvPr/>
          </p:nvPicPr>
          <p:blipFill>
            <a:blip r:embed="rId1"/>
            <a:stretch/>
          </p:blipFill>
          <p:spPr>
            <a:xfrm>
              <a:off x="1285920" y="433440"/>
              <a:ext cx="65358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308320" y="723960"/>
              <a:ext cx="4527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Транспорт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Блок-схема: дисплей 2"/>
          <p:cNvGrpSpPr/>
          <p:nvPr/>
        </p:nvGrpSpPr>
        <p:grpSpPr>
          <a:xfrm>
            <a:off x="1822320" y="2871720"/>
            <a:ext cx="6456600" cy="2571840"/>
            <a:chOff x="1822320" y="2871720"/>
            <a:chExt cx="6456600" cy="2571840"/>
          </a:xfrm>
        </p:grpSpPr>
        <p:pic>
          <p:nvPicPr>
            <p:cNvPr id="351" name="Блок-схема: дисплей 2" descr=""/>
            <p:cNvPicPr/>
            <p:nvPr/>
          </p:nvPicPr>
          <p:blipFill>
            <a:blip r:embed="rId2"/>
            <a:stretch/>
          </p:blipFill>
          <p:spPr>
            <a:xfrm>
              <a:off x="1822320" y="2871720"/>
              <a:ext cx="64566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59200" y="2971800"/>
              <a:ext cx="42163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грает существенную роль в системе товародвижения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Выгнутая влево стрелка 3"/>
          <p:cNvSpPr/>
          <p:nvPr/>
        </p:nvSpPr>
        <p:spPr>
          <a:xfrm>
            <a:off x="1219320" y="1752480"/>
            <a:ext cx="1066680" cy="18288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48480 h 1828800"/>
              <a:gd name="textAreaBottom" fmla="*/ 131256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35" stAng="-5400000" swAng="-5400000"/>
                <a:lnTo>
                  <a:pt x="0" y="11385"/>
                </a:lnTo>
                <a:arcTo wR="21600" hR="8235" stAng="10800000" swAng="-3353450"/>
                <a:lnTo>
                  <a:pt x="16200" y="21339"/>
                </a:lnTo>
                <a:lnTo>
                  <a:pt x="21600" y="18044"/>
                </a:lnTo>
                <a:lnTo>
                  <a:pt x="16200" y="14227"/>
                </a:lnTo>
                <a:lnTo>
                  <a:pt x="16200" y="16208"/>
                </a:lnTo>
                <a:arcTo wR="21600" hR="8235" stAng="7446550" swAng="3098535"/>
                <a:lnTo>
                  <a:pt x="399" y="9810"/>
                </a:lnTo>
                <a:arcTo wR="21600" hR="8235" stAng="-10545084" swAng="5145084"/>
                <a:close/>
              </a:path>
              <a:path fill="darkenLess" w="21600" h="21600">
                <a:moveTo>
                  <a:pt x="21600" y="0"/>
                </a:moveTo>
                <a:arcTo wR="21600" hR="8235" stAng="-5400000" swAng="-5400000"/>
                <a:lnTo>
                  <a:pt x="0" y="8235"/>
                </a:lnTo>
                <a:arcTo wR="21600" hR="8235" stAng="10800000" swAng="-254916"/>
                <a:lnTo>
                  <a:pt x="399" y="9810"/>
                </a:lnTo>
                <a:arcTo wR="21600" hR="8235" stAng="-10545084" swAng="5145084"/>
                <a:close/>
              </a:path>
            </a:pathLst>
          </a:custGeom>
          <a:solidFill>
            <a:srgbClr val="a0d3e0"/>
          </a:solidFill>
          <a:ln w="25560">
            <a:solidFill>
              <a:srgbClr val="e886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с двумя скругленными соседними углами 1"/>
          <p:cNvGrpSpPr/>
          <p:nvPr/>
        </p:nvGrpSpPr>
        <p:grpSpPr>
          <a:xfrm>
            <a:off x="1590840" y="353880"/>
            <a:ext cx="6005520" cy="1809720"/>
            <a:chOff x="1590840" y="353880"/>
            <a:chExt cx="6005520" cy="1809720"/>
          </a:xfrm>
        </p:grpSpPr>
        <p:pic>
          <p:nvPicPr>
            <p:cNvPr id="355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590840" y="353880"/>
              <a:ext cx="60055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922400" y="703440"/>
              <a:ext cx="53751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Автомобильный транспор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Блок-схема: знак завершения 2"/>
          <p:cNvGrpSpPr/>
          <p:nvPr/>
        </p:nvGrpSpPr>
        <p:grpSpPr>
          <a:xfrm>
            <a:off x="1060560" y="3328920"/>
            <a:ext cx="7145280" cy="2187720"/>
            <a:chOff x="1060560" y="3328920"/>
            <a:chExt cx="7145280" cy="2187720"/>
          </a:xfrm>
        </p:grpSpPr>
        <p:pic>
          <p:nvPicPr>
            <p:cNvPr id="358" name="Блок-схема: знак завершения 2" descr=""/>
            <p:cNvPicPr/>
            <p:nvPr/>
          </p:nvPicPr>
          <p:blipFill>
            <a:blip r:embed="rId2"/>
            <a:stretch/>
          </p:blipFill>
          <p:spPr>
            <a:xfrm>
              <a:off x="1060560" y="3328920"/>
              <a:ext cx="71452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473120" y="3730680"/>
              <a:ext cx="6350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спользуют при перевозках грузов на короткие и средние расстоян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Стрелка вправо с вырезом 3"/>
          <p:cNvSpPr/>
          <p:nvPr/>
        </p:nvSpPr>
        <p:spPr>
          <a:xfrm rot="5400000">
            <a:off x="4076640" y="2400480"/>
            <a:ext cx="990720" cy="761760"/>
          </a:xfrm>
          <a:custGeom>
            <a:avLst/>
            <a:gdLst>
              <a:gd name="textAreaLeft" fmla="*/ 190440 w 990720"/>
              <a:gd name="textAreaRight" fmla="*/ 800280 w 9907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92" y="5400"/>
                </a:lnTo>
                <a:lnTo>
                  <a:pt x="13292" y="0"/>
                </a:lnTo>
                <a:lnTo>
                  <a:pt x="21600" y="10800"/>
                </a:lnTo>
                <a:lnTo>
                  <a:pt x="13292" y="21600"/>
                </a:lnTo>
                <a:lnTo>
                  <a:pt x="13292" y="16200"/>
                </a:lnTo>
                <a:lnTo>
                  <a:pt x="0" y="16200"/>
                </a:lnTo>
                <a:lnTo>
                  <a:pt x="415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Блок-схема: подготовка 1"/>
          <p:cNvGrpSpPr/>
          <p:nvPr/>
        </p:nvGrpSpPr>
        <p:grpSpPr>
          <a:xfrm>
            <a:off x="755640" y="426960"/>
            <a:ext cx="7755120" cy="1889280"/>
            <a:chOff x="755640" y="426960"/>
            <a:chExt cx="7755120" cy="1889280"/>
          </a:xfrm>
        </p:grpSpPr>
        <p:pic>
          <p:nvPicPr>
            <p:cNvPr id="362" name="Блок-схема: подготовка 1" descr=""/>
            <p:cNvPicPr/>
            <p:nvPr/>
          </p:nvPicPr>
          <p:blipFill>
            <a:blip r:embed="rId1"/>
            <a:stretch/>
          </p:blipFill>
          <p:spPr>
            <a:xfrm>
              <a:off x="755640" y="426960"/>
              <a:ext cx="775512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362320" y="533520"/>
              <a:ext cx="4572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Все автотранспортные средства, используемые в процессе товародвижения, делятся н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Блок-схема: узел 2"/>
          <p:cNvGrpSpPr/>
          <p:nvPr/>
        </p:nvGrpSpPr>
        <p:grpSpPr>
          <a:xfrm>
            <a:off x="146160" y="3328920"/>
            <a:ext cx="4097160" cy="2035080"/>
            <a:chOff x="146160" y="3328920"/>
            <a:chExt cx="4097160" cy="2035080"/>
          </a:xfrm>
        </p:grpSpPr>
        <p:pic>
          <p:nvPicPr>
            <p:cNvPr id="365" name="Блок-схема: узел 2" descr=""/>
            <p:cNvPicPr/>
            <p:nvPr/>
          </p:nvPicPr>
          <p:blipFill>
            <a:blip r:embed="rId2"/>
            <a:stretch/>
          </p:blipFill>
          <p:spPr>
            <a:xfrm>
              <a:off x="146160" y="3328920"/>
              <a:ext cx="409716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09640" y="3708360"/>
              <a:ext cx="280044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ниверс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Блок-схема: узел 3"/>
          <p:cNvGrpSpPr/>
          <p:nvPr/>
        </p:nvGrpSpPr>
        <p:grpSpPr>
          <a:xfrm>
            <a:off x="4413240" y="3328920"/>
            <a:ext cx="4627440" cy="2035080"/>
            <a:chOff x="4413240" y="3328920"/>
            <a:chExt cx="4627440" cy="2035080"/>
          </a:xfrm>
        </p:grpSpPr>
        <p:pic>
          <p:nvPicPr>
            <p:cNvPr id="368" name="Блок-схема: узел 3" descr=""/>
            <p:cNvPicPr/>
            <p:nvPr/>
          </p:nvPicPr>
          <p:blipFill>
            <a:blip r:embed="rId3"/>
            <a:stretch/>
          </p:blipFill>
          <p:spPr>
            <a:xfrm>
              <a:off x="4413240" y="3328920"/>
              <a:ext cx="46274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154480" y="3708360"/>
              <a:ext cx="317844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Стрелка вправо с вырезом 4"/>
          <p:cNvSpPr/>
          <p:nvPr/>
        </p:nvSpPr>
        <p:spPr>
          <a:xfrm rot="5400000">
            <a:off x="990000" y="2362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5"/>
          <p:cNvSpPr/>
          <p:nvPr/>
        </p:nvSpPr>
        <p:spPr>
          <a:xfrm rot="5400000">
            <a:off x="7391160" y="228600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Прямоугольник с двумя скругленными соседними углами 1"/>
          <p:cNvGrpSpPr/>
          <p:nvPr/>
        </p:nvGrpSpPr>
        <p:grpSpPr>
          <a:xfrm>
            <a:off x="907920" y="128520"/>
            <a:ext cx="7450200" cy="1425600"/>
            <a:chOff x="907920" y="128520"/>
            <a:chExt cx="7450200" cy="1425600"/>
          </a:xfrm>
        </p:grpSpPr>
        <p:pic>
          <p:nvPicPr>
            <p:cNvPr id="373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907920" y="128520"/>
              <a:ext cx="7450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179360" y="417600"/>
              <a:ext cx="693756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зависимости от грузоподъемности все виды автотранспортных средств подразделяют на пять класс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5" name=""/>
          <p:cNvGraphicFramePr/>
          <p:nvPr/>
        </p:nvGraphicFramePr>
        <p:xfrm>
          <a:off x="1066680" y="2133720"/>
          <a:ext cx="7239240" cy="4201920"/>
        </p:xfrm>
        <a:graphic>
          <a:graphicData uri="http://schemas.openxmlformats.org/drawingml/2006/table">
            <a:tbl>
              <a:tblPr/>
              <a:tblGrid>
                <a:gridCol w="5334120"/>
                <a:gridCol w="19051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e886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e88651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о малой грузоподъем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й грузоподъем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грузоподъем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грузоподъем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о большой грузоподъем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8651"/>
                      </a:solidFill>
                    </a:lnL>
                    <a:lnR>
                      <a:noFill/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Прямоугольник с двумя скругленными противолежащими углами 1"/>
          <p:cNvGrpSpPr/>
          <p:nvPr/>
        </p:nvGrpSpPr>
        <p:grpSpPr>
          <a:xfrm>
            <a:off x="1590840" y="433440"/>
            <a:ext cx="6230880" cy="1577880"/>
            <a:chOff x="1590840" y="433440"/>
            <a:chExt cx="6230880" cy="1577880"/>
          </a:xfrm>
        </p:grpSpPr>
        <p:pic>
          <p:nvPicPr>
            <p:cNvPr id="377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590840" y="433440"/>
              <a:ext cx="62308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889280" y="746280"/>
              <a:ext cx="567036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елезнодорожный транспорт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Блок-схема: ссылка на другую страницу 2"/>
          <p:cNvGrpSpPr/>
          <p:nvPr/>
        </p:nvGrpSpPr>
        <p:grpSpPr>
          <a:xfrm>
            <a:off x="1517760" y="2876400"/>
            <a:ext cx="6456240" cy="3176640"/>
            <a:chOff x="1517760" y="2876400"/>
            <a:chExt cx="6456240" cy="3176640"/>
          </a:xfrm>
        </p:grpSpPr>
        <p:pic>
          <p:nvPicPr>
            <p:cNvPr id="380" name="Блок-схема: ссылка на другую страницу 2" descr=""/>
            <p:cNvPicPr/>
            <p:nvPr/>
          </p:nvPicPr>
          <p:blipFill>
            <a:blip r:embed="rId2"/>
            <a:stretch/>
          </p:blipFill>
          <p:spPr>
            <a:xfrm>
              <a:off x="1517760" y="2876400"/>
              <a:ext cx="645624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600200" y="3048120"/>
              <a:ext cx="6324480" cy="23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первое место по объему грузоперевозок за счет возможности перемещения товаров большими партиями на значительные расстояни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Нашивка 3"/>
          <p:cNvSpPr/>
          <p:nvPr/>
        </p:nvSpPr>
        <p:spPr>
          <a:xfrm rot="5400000">
            <a:off x="4533480" y="799920"/>
            <a:ext cx="457200" cy="3429000"/>
          </a:xfrm>
          <a:custGeom>
            <a:avLst/>
            <a:gdLst>
              <a:gd name="textAreaLeft" fmla="*/ 0 w 457200"/>
              <a:gd name="textAreaRight" fmla="*/ 457560 w 457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792aa"/>
          </a:solidFill>
          <a:ln w="25560">
            <a:solidFill>
              <a:srgbClr val="cf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Прямоугольник с двумя вырезанными противолежащими углами 1"/>
          <p:cNvGrpSpPr/>
          <p:nvPr/>
        </p:nvGrpSpPr>
        <p:grpSpPr>
          <a:xfrm>
            <a:off x="1285920" y="433440"/>
            <a:ext cx="6919920" cy="1352520"/>
            <a:chOff x="1285920" y="433440"/>
            <a:chExt cx="6919920" cy="1352520"/>
          </a:xfrm>
        </p:grpSpPr>
        <p:pic>
          <p:nvPicPr>
            <p:cNvPr id="384" name="Прямоугольник с двумя выреза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285920" y="433440"/>
              <a:ext cx="6919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592280" y="754200"/>
              <a:ext cx="63403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ля перевозки товаров по железной дороге используютс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Прямоугольник 2"/>
          <p:cNvGrpSpPr/>
          <p:nvPr/>
        </p:nvGrpSpPr>
        <p:grpSpPr>
          <a:xfrm>
            <a:off x="523800" y="4157640"/>
            <a:ext cx="3780000" cy="1743120"/>
            <a:chOff x="523800" y="4157640"/>
            <a:chExt cx="3780000" cy="1743120"/>
          </a:xfrm>
        </p:grpSpPr>
        <p:pic>
          <p:nvPicPr>
            <p:cNvPr id="38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23800" y="4157640"/>
              <a:ext cx="378000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09480" y="4343400"/>
              <a:ext cx="35816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зотермический подвижной соста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Прямоугольник 3"/>
          <p:cNvGrpSpPr/>
          <p:nvPr/>
        </p:nvGrpSpPr>
        <p:grpSpPr>
          <a:xfrm>
            <a:off x="523800" y="2494080"/>
            <a:ext cx="3743280" cy="1272960"/>
            <a:chOff x="523800" y="2494080"/>
            <a:chExt cx="3743280" cy="1272960"/>
          </a:xfrm>
        </p:grpSpPr>
        <p:pic>
          <p:nvPicPr>
            <p:cNvPr id="39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23800" y="2494080"/>
              <a:ext cx="3743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9480" y="2666880"/>
              <a:ext cx="3581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ниверсальные ваго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4"/>
          <p:cNvGrpSpPr/>
          <p:nvPr/>
        </p:nvGrpSpPr>
        <p:grpSpPr>
          <a:xfrm>
            <a:off x="5022720" y="4243320"/>
            <a:ext cx="3713400" cy="895320"/>
            <a:chOff x="5022720" y="4243320"/>
            <a:chExt cx="3713400" cy="895320"/>
          </a:xfrm>
        </p:grpSpPr>
        <p:pic>
          <p:nvPicPr>
            <p:cNvPr id="393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022720" y="4243320"/>
              <a:ext cx="3713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105520" y="4343400"/>
              <a:ext cx="3581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цистер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5"/>
          <p:cNvGrpSpPr/>
          <p:nvPr/>
        </p:nvGrpSpPr>
        <p:grpSpPr>
          <a:xfrm>
            <a:off x="4906800" y="2535120"/>
            <a:ext cx="3938760" cy="1305000"/>
            <a:chOff x="4906800" y="2535120"/>
            <a:chExt cx="3938760" cy="1305000"/>
          </a:xfrm>
        </p:grpSpPr>
        <p:pic>
          <p:nvPicPr>
            <p:cNvPr id="396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906800" y="2535120"/>
              <a:ext cx="3938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105520" y="2666880"/>
              <a:ext cx="3581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пециализированные ваго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8" name="Скругленная соединительная линия 7"/>
          <p:cNvCxnSpPr>
            <a:stCxn id="384" idx="1"/>
            <a:endCxn id="390" idx="0"/>
          </p:cNvCxnSpPr>
          <p:nvPr/>
        </p:nvCxnSpPr>
        <p:spPr>
          <a:xfrm rot="5400000">
            <a:off x="3123360" y="1028520"/>
            <a:ext cx="915120" cy="23626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Скругленная соединительная линия 9"/>
          <p:cNvCxnSpPr>
            <a:stCxn id="384" idx="1"/>
            <a:endCxn id="396" idx="0"/>
          </p:cNvCxnSpPr>
          <p:nvPr/>
        </p:nvCxnSpPr>
        <p:spPr>
          <a:xfrm flipH="1" rot="16200000">
            <a:off x="5371200" y="1142640"/>
            <a:ext cx="915120" cy="21344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hape 11"/>
          <p:cNvCxnSpPr>
            <a:stCxn id="384" idx="1"/>
            <a:endCxn id="387" idx="3"/>
          </p:cNvCxnSpPr>
          <p:nvPr/>
        </p:nvCxnSpPr>
        <p:spPr>
          <a:xfrm rot="5400000">
            <a:off x="2799360" y="3143160"/>
            <a:ext cx="3353760" cy="5720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Shape 13"/>
          <p:cNvCxnSpPr>
            <a:stCxn id="384" idx="1"/>
            <a:endCxn id="393" idx="1"/>
          </p:cNvCxnSpPr>
          <p:nvPr/>
        </p:nvCxnSpPr>
        <p:spPr>
          <a:xfrm flipH="1" rot="16200000">
            <a:off x="3447000" y="3066480"/>
            <a:ext cx="2972520" cy="3438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Прямоугольник с двумя вырезанными соседними углами 1"/>
          <p:cNvGrpSpPr/>
          <p:nvPr/>
        </p:nvGrpSpPr>
        <p:grpSpPr>
          <a:xfrm>
            <a:off x="1365120" y="658800"/>
            <a:ext cx="6456600" cy="1047600"/>
            <a:chOff x="1365120" y="658800"/>
            <a:chExt cx="6456600" cy="1047600"/>
          </a:xfrm>
        </p:grpSpPr>
        <p:pic>
          <p:nvPicPr>
            <p:cNvPr id="403" name="Прямоугольник с двумя выреза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365120" y="658800"/>
              <a:ext cx="64566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676520" y="990720"/>
              <a:ext cx="586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оговор перевозки  груз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Скругленный прямоугольник 2"/>
          <p:cNvGrpSpPr/>
          <p:nvPr/>
        </p:nvGrpSpPr>
        <p:grpSpPr>
          <a:xfrm>
            <a:off x="1285920" y="2567160"/>
            <a:ext cx="6615000" cy="2571480"/>
            <a:chOff x="1285920" y="2567160"/>
            <a:chExt cx="6615000" cy="2571480"/>
          </a:xfrm>
        </p:grpSpPr>
        <p:pic>
          <p:nvPicPr>
            <p:cNvPr id="406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285920" y="2567160"/>
              <a:ext cx="66150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490760" y="2786040"/>
              <a:ext cx="6238800" cy="22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возчик обязуется доставить вверенный ему груз в пункт назначения и выдать его управомоченному на получение груза лицу (получателю), а отправитель обязуется уплатить за перевозку груза ус­тановленную плат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08" name="Прямая со стрелкой 4"/>
          <p:cNvCxnSpPr>
            <a:stCxn id="403" idx="1"/>
            <a:endCxn id="406" idx="0"/>
          </p:cNvCxnSpPr>
          <p:nvPr/>
        </p:nvCxnSpPr>
        <p:spPr>
          <a:xfrm flipH="1">
            <a:off x="4607640" y="1677960"/>
            <a:ext cx="396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43:06Z</dcterms:modified>
  <cp:revision>13</cp:revision>
  <dc:subject/>
  <dc:title>Слайд 1</dc:title>
</cp:coreProperties>
</file>