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26CA-DE55-49EC-B3E2-AEEB0EF82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1A48-2F4E-4CC9-9447-07EC026B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E0E0-A08F-4FBC-88DE-3BED0E89D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CD7E-7D4C-4BBE-9F9A-C77DAEC68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F6B7-71EE-4BD3-83EF-AC6F87990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E9041-5AEF-438E-81A3-FBF21606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A97F0-B8C3-43B3-B62B-7BFBE603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36831-DADE-412E-AA45-508B6434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6962-A5ED-4A63-8FF7-4F3996F3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697B-0A5A-46CA-9E95-D7124C83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A637-0942-4DBF-B2B7-21A94A75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E901-FD63-470D-B673-93203B25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98AC-8A69-424C-A084-4B2F449B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C4C1-B1E7-405A-B6B8-2CBF0C31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000A-72C9-407F-A940-AE5FEBE5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FB531-65EE-4BD8-BE15-5A70F3369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0FAE-4EF8-4389-98B1-0ADB3FFFC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CB44C-914E-46E7-94FA-0EFAFF93F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FCDD1-0C28-4B83-A54C-C4D7CF88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55E61-E24E-431A-A7EA-A07BE1A0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007FE-7146-429C-88B2-5E8A9FAA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A94CC-F857-467B-885F-E29C6C5F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34AF-FE33-44AA-8C28-778C6DEA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2B048-8E14-4046-AB68-F413AF2B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71782-CBF2-4BD9-8AF3-1071270C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1DEF3-7F1B-43EB-A465-E6B3403C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BAE87-850D-4FF5-BE75-B911989C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5454D-07F6-429A-97DA-D673389B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302CB-88FE-4B89-A55A-4C211867E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AC802-A34B-44CA-A29A-FB3C36D39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AEF7C-5DE8-4757-A2B7-881DD4162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DA7F7-2B15-4565-98F2-B5636F26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560C8-0001-4C46-8F78-283118B6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3AF9-4488-4573-8FA5-23D83533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08583-0CF5-4F0B-A4BE-E52D7CE5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61651-1FF7-4343-B24A-711B6575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4B986-4091-4151-A7AB-3A4DE012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6D3B4-1FC6-47F9-BB03-4C7D14AB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BDE08-420A-44EC-8048-166D4BD9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E87F6-CF5A-439E-BFFD-4E6184E9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F88BF-3171-492A-981A-BF859E3E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81B23-C841-4083-88B5-D1FBBE8D8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0EF37-2331-4FB1-BE8C-84848C6EF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34464-0526-480E-A5F2-5089C2476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C9BA-C59E-4F2F-948A-7B16E06A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22BCF-EDB5-4C62-98AA-573D2FC6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6274D-F732-4D60-822E-7ECC53CD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81A67-593D-466F-853D-B67F435C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F7576-3B78-4DCB-B97C-BC79149E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64940-00CE-48F9-BC5D-2A6E19E7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B9B01-F8AE-47F3-8F6D-134341AA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EC737-5FB8-41AC-89E0-35ED326A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90021-1D87-4AF2-B7B2-8C4397CC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0E515-2714-48EB-85F0-66D9518E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1E744-7E4F-49E9-A34A-6AEF92A90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9F1E-E7E6-4935-AB45-5F605364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40B1A-6689-4A47-A799-5B129632D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548F5-A7A3-4D82-A56C-4798EBF8E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46844-7AAE-4BEA-9F27-4BA324C7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D9494-BFB6-4FC7-9154-12227FE8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46E89-11A5-4677-8420-3C2394BC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BE13A-6BB4-4BEA-B14B-26F6262F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DF81D-B969-415D-9528-9F94755D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F4063-45E6-466E-B5EF-357075FF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692C8-1BA6-4216-845E-21F71DBF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04219-3D37-4116-A68B-B1B1C7D6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0D38-5F89-4090-BABD-2EE4E396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B1634-76B9-4A5A-B93C-2089162B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11ECA-3930-4730-8B44-E3C7A7244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3009B-47E6-4141-93C2-2B747C1BF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326E9-3AF0-4837-A61D-4FD1363DF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0CBB8-5F3B-4FFA-ACF2-C4BEBABE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70101-1144-4A37-88B9-B5610005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DCC5A-D1DD-457B-AE40-65E03C8C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82B19-CCE0-4A66-9A94-8EE80DEB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0CA57-9D3B-465C-9DDB-1F14B385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3B49F-3442-4ED8-9417-3F0CE1AE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BB7A-EB71-4CAF-9A04-46F5DB85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13E50-C853-47BA-AD7A-F8FA720E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26F17-F978-4D94-B579-19C0C2F0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72BF4-292E-4B93-9EAA-7C3775E4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19429-B89A-4966-AB9F-DAF56C25E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FEE9C-C665-4809-87F6-ECEAFFE1E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8B924-F937-4F64-854E-BB73175E0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07EC3-FEC0-415C-9D20-C36D1E69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E4608-F465-4574-B299-8E38538D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FCD6E-D7F0-402A-9756-583B5C27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9CEED-E144-46C3-A952-103F2777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F9BE-5AA8-4C38-BACB-6C91D3E4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56485-551D-474F-9EC4-EF4FACFE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2567F-BB4A-4590-A092-9AAFA549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31EDA-F365-4F8F-AF10-A7CF9302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8292F-A568-4E89-9ACD-0FFF5F1C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08147-8A75-4E22-A3DF-D82C429C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D0B5C-3B09-4C58-B8F7-73AF0289C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09396-7A3E-4BB1-BD21-0C6390572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426f"/>
            </a:gs>
            <a:gs pos="100000">
              <a:srgbClr val="6b7b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c5d1d7">
                  <a:alpha val="1176"/>
                </a:srgbClr>
              </a:gs>
              <a:gs pos="100000">
                <a:srgbClr val="c5d1d7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abecd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2c5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07f6d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1634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de9e9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ADE2-7772-4C66-9E3B-7104A652C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426f"/>
            </a:gs>
            <a:gs pos="100000">
              <a:srgbClr val="6b7b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c5d1d7">
                  <a:alpha val="1176"/>
                </a:srgbClr>
              </a:gs>
              <a:gs pos="100000">
                <a:srgbClr val="c5d1d7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abecd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2c5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902810"/>
              </a:gs>
              <a:gs pos="100000">
                <a:srgbClr val="ff8f7e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07f6d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1634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de9e9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A6BF-2D64-4013-8EB5-63C3A1C4D1E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426f"/>
            </a:gs>
            <a:gs pos="100000">
              <a:srgbClr val="6b7b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c5d1d7">
                  <a:alpha val="1176"/>
                </a:srgbClr>
              </a:gs>
              <a:gs pos="100000">
                <a:srgbClr val="c5d1d7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abecd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2c5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07f6d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1634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de9e9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C7D8-7DBA-400B-806F-CFF27A37E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426f"/>
            </a:gs>
            <a:gs pos="100000">
              <a:srgbClr val="6b7b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c5d1d7">
                  <a:alpha val="1176"/>
                </a:srgbClr>
              </a:gs>
              <a:gs pos="100000">
                <a:srgbClr val="c5d1d7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902810"/>
              </a:gs>
              <a:gs pos="100000">
                <a:srgbClr val="ff8f7e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2c5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abecd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07f6d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1634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de9e9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411B-D81E-4A51-8C5D-B39AB4002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426f"/>
            </a:gs>
            <a:gs pos="100000">
              <a:srgbClr val="6b7b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c5d1d7">
                  <a:alpha val="1176"/>
                </a:srgbClr>
              </a:gs>
              <a:gs pos="100000">
                <a:srgbClr val="c5d1d7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abecd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2c5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07f6d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1634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de9e9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9333-24FF-4BE5-87C1-2119D5599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426f"/>
            </a:gs>
            <a:gs pos="100000">
              <a:srgbClr val="6b7b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07f6d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1634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de9e9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0B8C-0898-4D3A-A942-D40E92E39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426f"/>
            </a:gs>
            <a:gs pos="100000">
              <a:srgbClr val="6b7b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07f6d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1634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de9e9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B1B2-6872-4B4A-85D4-305C99E57FD0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426f"/>
            </a:gs>
            <a:gs pos="100000">
              <a:srgbClr val="6b7b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07f6d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1634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de9e9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1847-F5BD-4E78-95D6-9C44728F873B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9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426f"/>
            </a:gs>
            <a:gs pos="100000">
              <a:srgbClr val="6b7b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778960" cy="3200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426f"/>
            </a:gs>
            <a:gs pos="100000">
              <a:srgbClr val="6b7b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Прямоугольник 1"/>
          <p:cNvSpPr/>
          <p:nvPr/>
        </p:nvSpPr>
        <p:spPr>
          <a:xfrm>
            <a:off x="380880" y="457200"/>
            <a:ext cx="4114800" cy="1371600"/>
          </a:xfrm>
          <a:prstGeom prst="rect">
            <a:avLst/>
          </a:prstGeom>
          <a:solidFill>
            <a:srgbClr val="fff185"/>
          </a:solidFill>
          <a:ln w="2556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По материалу изготовления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472" name="Блок-схема: знак завершения 2"/>
          <p:cNvGrpSpPr/>
          <p:nvPr/>
        </p:nvGrpSpPr>
        <p:grpSpPr>
          <a:xfrm>
            <a:off x="4943520" y="201600"/>
            <a:ext cx="3335400" cy="1047600"/>
            <a:chOff x="4943520" y="201600"/>
            <a:chExt cx="3335400" cy="1047600"/>
          </a:xfrm>
        </p:grpSpPr>
        <p:pic>
          <p:nvPicPr>
            <p:cNvPr id="473" name="Блок-схема: знак завершения 2" descr=""/>
            <p:cNvPicPr/>
            <p:nvPr/>
          </p:nvPicPr>
          <p:blipFill>
            <a:blip r:embed="rId1"/>
            <a:stretch/>
          </p:blipFill>
          <p:spPr>
            <a:xfrm>
              <a:off x="4943520" y="201600"/>
              <a:ext cx="3335400" cy="10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5180040" y="438120"/>
              <a:ext cx="28987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Century Gothic"/>
                </a:rPr>
                <a:t>деревянная</a:t>
              </a:r>
              <a:endParaRPr b="0" lang="en-US" sz="2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475" name="Блок-схема: знак завершения 3"/>
          <p:cNvGrpSpPr/>
          <p:nvPr/>
        </p:nvGrpSpPr>
        <p:grpSpPr>
          <a:xfrm>
            <a:off x="5400720" y="1195560"/>
            <a:ext cx="3335400" cy="1047600"/>
            <a:chOff x="5400720" y="1195560"/>
            <a:chExt cx="3335400" cy="1047600"/>
          </a:xfrm>
        </p:grpSpPr>
        <p:pic>
          <p:nvPicPr>
            <p:cNvPr id="476" name="Блок-схема: знак завершения 3" descr=""/>
            <p:cNvPicPr/>
            <p:nvPr/>
          </p:nvPicPr>
          <p:blipFill>
            <a:blip r:embed="rId2"/>
            <a:stretch/>
          </p:blipFill>
          <p:spPr>
            <a:xfrm>
              <a:off x="5400720" y="1195560"/>
              <a:ext cx="3335400" cy="10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5637240" y="1428840"/>
              <a:ext cx="28987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Century Gothic"/>
                </a:rPr>
                <a:t>картонная</a:t>
              </a:r>
              <a:endParaRPr b="0" lang="en-US" sz="2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478" name="Блок-схема: знак завершения 4"/>
          <p:cNvGrpSpPr/>
          <p:nvPr/>
        </p:nvGrpSpPr>
        <p:grpSpPr>
          <a:xfrm>
            <a:off x="5857920" y="2262240"/>
            <a:ext cx="3182760" cy="1047600"/>
            <a:chOff x="5857920" y="2262240"/>
            <a:chExt cx="3182760" cy="1047600"/>
          </a:xfrm>
        </p:grpSpPr>
        <p:pic>
          <p:nvPicPr>
            <p:cNvPr id="479" name="Блок-схема: знак завершения 4" descr=""/>
            <p:cNvPicPr/>
            <p:nvPr/>
          </p:nvPicPr>
          <p:blipFill>
            <a:blip r:embed="rId3"/>
            <a:stretch/>
          </p:blipFill>
          <p:spPr>
            <a:xfrm>
              <a:off x="5857920" y="2262240"/>
              <a:ext cx="3182760" cy="10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6086520" y="2495520"/>
              <a:ext cx="27622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Century Gothic"/>
                </a:rPr>
                <a:t>бумажная</a:t>
              </a:r>
              <a:endParaRPr b="0" lang="en-US" sz="2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481" name="Блок-схема: знак завершения 5"/>
          <p:cNvGrpSpPr/>
          <p:nvPr/>
        </p:nvGrpSpPr>
        <p:grpSpPr>
          <a:xfrm>
            <a:off x="66600" y="2487600"/>
            <a:ext cx="3414960" cy="1047600"/>
            <a:chOff x="66600" y="2487600"/>
            <a:chExt cx="3414960" cy="1047600"/>
          </a:xfrm>
        </p:grpSpPr>
        <p:pic>
          <p:nvPicPr>
            <p:cNvPr id="482" name="Блок-схема: знак завершения 5" descr=""/>
            <p:cNvPicPr/>
            <p:nvPr/>
          </p:nvPicPr>
          <p:blipFill>
            <a:blip r:embed="rId4"/>
            <a:stretch/>
          </p:blipFill>
          <p:spPr>
            <a:xfrm>
              <a:off x="66600" y="2487600"/>
              <a:ext cx="3414960" cy="10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306360" y="2724120"/>
              <a:ext cx="29685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Century Gothic"/>
                </a:rPr>
                <a:t>текстильная</a:t>
              </a:r>
              <a:endParaRPr b="0" lang="en-US" sz="2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484" name="Блок-схема: знак завершения 6"/>
          <p:cNvGrpSpPr/>
          <p:nvPr/>
        </p:nvGrpSpPr>
        <p:grpSpPr>
          <a:xfrm>
            <a:off x="371520" y="3554280"/>
            <a:ext cx="3414600" cy="1047960"/>
            <a:chOff x="371520" y="3554280"/>
            <a:chExt cx="3414600" cy="1047960"/>
          </a:xfrm>
        </p:grpSpPr>
        <p:pic>
          <p:nvPicPr>
            <p:cNvPr id="485" name="Блок-схема: знак завершения 6" descr=""/>
            <p:cNvPicPr/>
            <p:nvPr/>
          </p:nvPicPr>
          <p:blipFill>
            <a:blip r:embed="rId5"/>
            <a:stretch/>
          </p:blipFill>
          <p:spPr>
            <a:xfrm>
              <a:off x="371520" y="3554280"/>
              <a:ext cx="341460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611280" y="3790800"/>
              <a:ext cx="29685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Century Gothic"/>
                </a:rPr>
                <a:t>металлическая</a:t>
              </a:r>
              <a:endParaRPr b="0" lang="en-US" sz="2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487" name="Блок-схема: знак завершения 7"/>
          <p:cNvGrpSpPr/>
          <p:nvPr/>
        </p:nvGrpSpPr>
        <p:grpSpPr>
          <a:xfrm>
            <a:off x="676440" y="4621320"/>
            <a:ext cx="3414600" cy="1047600"/>
            <a:chOff x="676440" y="4621320"/>
            <a:chExt cx="3414600" cy="1047600"/>
          </a:xfrm>
        </p:grpSpPr>
        <p:pic>
          <p:nvPicPr>
            <p:cNvPr id="488" name="Блок-схема: знак завершения 7" descr=""/>
            <p:cNvPicPr/>
            <p:nvPr/>
          </p:nvPicPr>
          <p:blipFill>
            <a:blip r:embed="rId6"/>
            <a:stretch/>
          </p:blipFill>
          <p:spPr>
            <a:xfrm>
              <a:off x="676440" y="4621320"/>
              <a:ext cx="3414600" cy="10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915840" y="4857840"/>
              <a:ext cx="29689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Century Gothic"/>
                </a:rPr>
                <a:t>стеклянная</a:t>
              </a:r>
              <a:endParaRPr b="0" lang="en-US" sz="2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490" name="Блок-схема: знак завершения 8"/>
          <p:cNvGrpSpPr/>
          <p:nvPr/>
        </p:nvGrpSpPr>
        <p:grpSpPr>
          <a:xfrm>
            <a:off x="1212840" y="5688000"/>
            <a:ext cx="3408480" cy="1047600"/>
            <a:chOff x="1212840" y="5688000"/>
            <a:chExt cx="3408480" cy="1047600"/>
          </a:xfrm>
        </p:grpSpPr>
        <p:pic>
          <p:nvPicPr>
            <p:cNvPr id="491" name="Блок-схема: знак завершения 8" descr=""/>
            <p:cNvPicPr/>
            <p:nvPr/>
          </p:nvPicPr>
          <p:blipFill>
            <a:blip r:embed="rId7"/>
            <a:stretch/>
          </p:blipFill>
          <p:spPr>
            <a:xfrm>
              <a:off x="1212840" y="5688000"/>
              <a:ext cx="3408480" cy="10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1449360" y="5924520"/>
              <a:ext cx="29685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Century Gothic"/>
                </a:rPr>
                <a:t>керамическая</a:t>
              </a:r>
              <a:endParaRPr b="0" lang="en-US" sz="2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493" name="Блок-схема: знак завершения 9"/>
          <p:cNvGrpSpPr/>
          <p:nvPr/>
        </p:nvGrpSpPr>
        <p:grpSpPr>
          <a:xfrm>
            <a:off x="4638600" y="4468680"/>
            <a:ext cx="4249800" cy="1047960"/>
            <a:chOff x="4638600" y="4468680"/>
            <a:chExt cx="4249800" cy="1047960"/>
          </a:xfrm>
        </p:grpSpPr>
        <p:pic>
          <p:nvPicPr>
            <p:cNvPr id="494" name="Блок-схема: знак завершения 9" descr=""/>
            <p:cNvPicPr/>
            <p:nvPr/>
          </p:nvPicPr>
          <p:blipFill>
            <a:blip r:embed="rId8"/>
            <a:stretch/>
          </p:blipFill>
          <p:spPr>
            <a:xfrm>
              <a:off x="4638600" y="4468680"/>
              <a:ext cx="424980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4917960" y="4705200"/>
              <a:ext cx="372744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Century Gothic"/>
                </a:rPr>
                <a:t>комбинированная</a:t>
              </a:r>
              <a:endParaRPr b="0" lang="en-US" sz="2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496" name="Блок-схема: знак завершения 10"/>
          <p:cNvGrpSpPr/>
          <p:nvPr/>
        </p:nvGrpSpPr>
        <p:grpSpPr>
          <a:xfrm>
            <a:off x="5175360" y="3328920"/>
            <a:ext cx="3408120" cy="1047960"/>
            <a:chOff x="5175360" y="3328920"/>
            <a:chExt cx="3408120" cy="1047960"/>
          </a:xfrm>
        </p:grpSpPr>
        <p:pic>
          <p:nvPicPr>
            <p:cNvPr id="497" name="Блок-схема: знак завершения 10" descr=""/>
            <p:cNvPicPr/>
            <p:nvPr/>
          </p:nvPicPr>
          <p:blipFill>
            <a:blip r:embed="rId9"/>
            <a:stretch/>
          </p:blipFill>
          <p:spPr>
            <a:xfrm>
              <a:off x="5175360" y="3328920"/>
              <a:ext cx="340812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5411880" y="3562200"/>
              <a:ext cx="29685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Century Gothic"/>
                </a:rPr>
                <a:t>полимерная</a:t>
              </a:r>
              <a:endParaRPr b="0" lang="en-US" sz="2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cxnSp>
        <p:nvCxnSpPr>
          <p:cNvPr id="499" name="Прямая со стрелкой 12"/>
          <p:cNvCxnSpPr>
            <a:stCxn id="471" idx="3"/>
            <a:endCxn id="473" idx="1"/>
          </p:cNvCxnSpPr>
          <p:nvPr/>
        </p:nvCxnSpPr>
        <p:spPr>
          <a:xfrm flipV="1">
            <a:off x="4495680" y="761760"/>
            <a:ext cx="534240" cy="38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0" name="Прямая со стрелкой 14"/>
          <p:cNvCxnSpPr>
            <a:stCxn id="471" idx="3"/>
            <a:endCxn id="476" idx="1"/>
          </p:cNvCxnSpPr>
          <p:nvPr/>
        </p:nvCxnSpPr>
        <p:spPr>
          <a:xfrm>
            <a:off x="4495680" y="1142640"/>
            <a:ext cx="991440" cy="610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1" name="Прямая со стрелкой 16"/>
          <p:cNvCxnSpPr>
            <a:stCxn id="471" idx="3"/>
            <a:endCxn id="479" idx="1"/>
          </p:cNvCxnSpPr>
          <p:nvPr/>
        </p:nvCxnSpPr>
        <p:spPr>
          <a:xfrm>
            <a:off x="4495680" y="1142640"/>
            <a:ext cx="1448640" cy="1677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2" name="Прямая со стрелкой 18"/>
          <p:cNvCxnSpPr>
            <a:stCxn id="471" idx="3"/>
            <a:endCxn id="497" idx="1"/>
          </p:cNvCxnSpPr>
          <p:nvPr/>
        </p:nvCxnSpPr>
        <p:spPr>
          <a:xfrm>
            <a:off x="4495320" y="1143000"/>
            <a:ext cx="762840" cy="2743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3" name="Shape 20"/>
          <p:cNvCxnSpPr>
            <a:stCxn id="471" idx="2"/>
            <a:endCxn id="482" idx="3"/>
          </p:cNvCxnSpPr>
          <p:nvPr/>
        </p:nvCxnSpPr>
        <p:spPr>
          <a:xfrm flipH="1" rot="16200000">
            <a:off x="2323800" y="1942560"/>
            <a:ext cx="1220040" cy="991440"/>
          </a:xfrm>
          <a:prstGeom prst="curvedConnector5">
            <a:avLst>
              <a:gd name="adj1" fmla="val 31227"/>
              <a:gd name="adj2" fmla="val 56120"/>
              <a:gd name="adj3" fmla="val 31227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4" name="Shape 23"/>
          <p:cNvCxnSpPr>
            <a:stCxn id="471" idx="2"/>
            <a:endCxn id="485" idx="3"/>
          </p:cNvCxnSpPr>
          <p:nvPr/>
        </p:nvCxnSpPr>
        <p:spPr>
          <a:xfrm flipH="1" rot="16200000">
            <a:off x="1942200" y="2323800"/>
            <a:ext cx="2286720" cy="1296360"/>
          </a:xfrm>
          <a:prstGeom prst="curvedConnector5">
            <a:avLst>
              <a:gd name="adj1" fmla="val 14911"/>
              <a:gd name="adj2" fmla="val 54500"/>
              <a:gd name="adj3" fmla="val 14911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5" name="Shape 27"/>
          <p:cNvCxnSpPr>
            <a:stCxn id="471" idx="2"/>
            <a:endCxn id="488" idx="3"/>
          </p:cNvCxnSpPr>
          <p:nvPr/>
        </p:nvCxnSpPr>
        <p:spPr>
          <a:xfrm flipH="1" rot="16200000">
            <a:off x="1560960" y="2704680"/>
            <a:ext cx="3353400" cy="1600920"/>
          </a:xfrm>
          <a:prstGeom prst="curvedConnector5">
            <a:avLst>
              <a:gd name="adj1" fmla="val 8986"/>
              <a:gd name="adj2" fmla="val 50089"/>
              <a:gd name="adj3" fmla="val 8986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6" name="Shape 31"/>
          <p:cNvCxnSpPr>
            <a:stCxn id="471" idx="2"/>
            <a:endCxn id="491" idx="3"/>
          </p:cNvCxnSpPr>
          <p:nvPr/>
        </p:nvCxnSpPr>
        <p:spPr>
          <a:xfrm flipH="1" rot="16200000">
            <a:off x="1294200" y="2971440"/>
            <a:ext cx="4420440" cy="2134440"/>
          </a:xfrm>
          <a:prstGeom prst="curvedConnector5">
            <a:avLst>
              <a:gd name="adj1" fmla="val 5921"/>
              <a:gd name="adj2" fmla="val 46069"/>
              <a:gd name="adj3" fmla="val 5921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7" name="Скругленная соединительная линия 36"/>
          <p:cNvCxnSpPr>
            <a:stCxn id="471" idx="3"/>
            <a:endCxn id="494" idx="1"/>
          </p:cNvCxnSpPr>
          <p:nvPr/>
        </p:nvCxnSpPr>
        <p:spPr>
          <a:xfrm>
            <a:off x="4495320" y="1142640"/>
            <a:ext cx="229320" cy="38869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426f"/>
            </a:gs>
            <a:gs pos="100000">
              <a:srgbClr val="6b7b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Прямоугольник с двумя скругленными соседними углами 1"/>
          <p:cNvSpPr/>
          <p:nvPr/>
        </p:nvSpPr>
        <p:spPr>
          <a:xfrm>
            <a:off x="1295280" y="609480"/>
            <a:ext cx="6629400" cy="990720"/>
          </a:xfrm>
          <a:prstGeom prst="pie">
            <a:avLst/>
          </a:prstGeom>
          <a:solidFill>
            <a:srgbClr val="e3a192"/>
          </a:solidFill>
          <a:ln w="255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Стандартизация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9" name="Блок-схема: документ 2"/>
          <p:cNvSpPr/>
          <p:nvPr/>
        </p:nvSpPr>
        <p:spPr>
          <a:xfrm>
            <a:off x="1295280" y="2819520"/>
            <a:ext cx="6705720" cy="2743200"/>
          </a:xfrm>
          <a:prstGeom prst="flowChartDocument">
            <a:avLst/>
          </a:prstGeom>
          <a:solidFill>
            <a:srgbClr val="fff185"/>
          </a:solidFill>
          <a:ln w="2556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замена излишнего многообразия тары одинакового назначения оптимальным (как правило, небольшим) числом наиболее рациональных ее видов и типов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0" name="Стрелка вправо с вырезом 3"/>
          <p:cNvSpPr/>
          <p:nvPr/>
        </p:nvSpPr>
        <p:spPr>
          <a:xfrm rot="5400000">
            <a:off x="4152240" y="1866600"/>
            <a:ext cx="914400" cy="685800"/>
          </a:xfrm>
          <a:custGeom>
            <a:avLst/>
            <a:gdLst>
              <a:gd name="textAreaLeft" fmla="*/ 171360 w 914400"/>
              <a:gd name="textAreaRight" fmla="*/ 743040 w 9144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500" y="5400"/>
                </a:ln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13500" y="16200"/>
                </a:lnTo>
                <a:lnTo>
                  <a:pt x="0" y="16200"/>
                </a:lnTo>
                <a:lnTo>
                  <a:pt x="40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acece"/>
          </a:solidFill>
          <a:ln w="255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cover dir="ru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426f"/>
            </a:gs>
            <a:gs pos="100000">
              <a:srgbClr val="6b7b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Прямоугольник с двумя вырезанными противолежащими углами 1"/>
          <p:cNvSpPr/>
          <p:nvPr/>
        </p:nvSpPr>
        <p:spPr>
          <a:xfrm>
            <a:off x="1523880" y="685800"/>
            <a:ext cx="6324840" cy="1143000"/>
          </a:xfrm>
          <a:prstGeom prst="pie">
            <a:avLst/>
          </a:prstGeom>
          <a:solidFill>
            <a:srgbClr val="e3a192"/>
          </a:solidFill>
          <a:ln w="255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Унификация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2" name="Загнутый угол 2"/>
          <p:cNvSpPr/>
          <p:nvPr/>
        </p:nvSpPr>
        <p:spPr>
          <a:xfrm>
            <a:off x="1447920" y="3124080"/>
            <a:ext cx="6553080" cy="2286000"/>
          </a:xfrm>
          <a:prstGeom prst="foldedCorner">
            <a:avLst>
              <a:gd name="adj" fmla="val 29273"/>
            </a:avLst>
          </a:prstGeom>
          <a:solidFill>
            <a:srgbClr val="fff185"/>
          </a:solidFill>
          <a:ln w="2556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приведение различных видов тары к наименьшему числу типоразмеров (типов тары одного размера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3" name="Стрелка вправо с вырезом 3"/>
          <p:cNvSpPr/>
          <p:nvPr/>
        </p:nvSpPr>
        <p:spPr>
          <a:xfrm rot="5400000">
            <a:off x="4076280" y="2095560"/>
            <a:ext cx="1066680" cy="685800"/>
          </a:xfrm>
          <a:custGeom>
            <a:avLst/>
            <a:gdLst>
              <a:gd name="textAreaLeft" fmla="*/ 171360 w 1066680"/>
              <a:gd name="textAreaRight" fmla="*/ 895320 w 10666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657" y="5400"/>
                </a:lnTo>
                <a:lnTo>
                  <a:pt x="14657" y="0"/>
                </a:lnTo>
                <a:lnTo>
                  <a:pt x="21600" y="10800"/>
                </a:lnTo>
                <a:lnTo>
                  <a:pt x="14657" y="21600"/>
                </a:lnTo>
                <a:lnTo>
                  <a:pt x="14657" y="16200"/>
                </a:lnTo>
                <a:lnTo>
                  <a:pt x="0" y="16200"/>
                </a:lnTo>
                <a:lnTo>
                  <a:pt x="347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acece"/>
          </a:solidFill>
          <a:ln w="255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cover dir="ru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426f"/>
            </a:gs>
            <a:gs pos="100000">
              <a:srgbClr val="6b7b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Прямоугольник с двумя вырезанными соседними углами 1"/>
          <p:cNvSpPr/>
          <p:nvPr/>
        </p:nvSpPr>
        <p:spPr>
          <a:xfrm>
            <a:off x="1371600" y="609480"/>
            <a:ext cx="6553080" cy="1143000"/>
          </a:xfrm>
          <a:prstGeom prst="pie">
            <a:avLst/>
          </a:prstGeom>
          <a:solidFill>
            <a:srgbClr val="e3a192"/>
          </a:solidFill>
          <a:ln w="25560">
            <a:solidFill>
              <a:srgbClr val="a943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Оборот тары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5" name="Скругленный прямоугольник 2"/>
          <p:cNvSpPr/>
          <p:nvPr/>
        </p:nvSpPr>
        <p:spPr>
          <a:xfrm>
            <a:off x="1447920" y="3124080"/>
            <a:ext cx="6629400" cy="1828800"/>
          </a:xfrm>
          <a:prstGeom prst="roundRect">
            <a:avLst>
              <a:gd name="adj" fmla="val 16667"/>
            </a:avLst>
          </a:prstGeom>
          <a:solidFill>
            <a:srgbClr val="fff185"/>
          </a:solidFill>
          <a:ln w="25560">
            <a:solidFill>
              <a:srgbClr val="998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ее обращение между двумя последовательными заполнениями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6" name="Стрелка вправо с вырезом 3"/>
          <p:cNvSpPr/>
          <p:nvPr/>
        </p:nvSpPr>
        <p:spPr>
          <a:xfrm rot="5400000">
            <a:off x="3962160" y="1981080"/>
            <a:ext cx="1143000" cy="838080"/>
          </a:xfrm>
          <a:custGeom>
            <a:avLst/>
            <a:gdLst>
              <a:gd name="textAreaLeft" fmla="*/ 209520 w 1143000"/>
              <a:gd name="textAreaRight" fmla="*/ 933480 w 11430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680" y="5400"/>
                </a:lnTo>
                <a:lnTo>
                  <a:pt x="13680" y="0"/>
                </a:lnTo>
                <a:lnTo>
                  <a:pt x="21600" y="10800"/>
                </a:lnTo>
                <a:lnTo>
                  <a:pt x="13680" y="21600"/>
                </a:lnTo>
                <a:lnTo>
                  <a:pt x="13680" y="16200"/>
                </a:lnTo>
                <a:lnTo>
                  <a:pt x="0" y="16200"/>
                </a:lnTo>
                <a:lnTo>
                  <a:pt x="396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acece"/>
          </a:solidFill>
          <a:ln w="25560">
            <a:solidFill>
              <a:srgbClr val="a943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cover dir="ru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426f"/>
            </a:gs>
            <a:gs pos="100000">
              <a:srgbClr val="6b7b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Прямоугольник с двумя вырезанными противолежащими углами 1"/>
          <p:cNvSpPr/>
          <p:nvPr/>
        </p:nvSpPr>
        <p:spPr>
          <a:xfrm>
            <a:off x="1371600" y="457200"/>
            <a:ext cx="6629400" cy="1219320"/>
          </a:xfrm>
          <a:prstGeom prst="pie">
            <a:avLst/>
          </a:prstGeom>
          <a:solidFill>
            <a:srgbClr val="e3a192"/>
          </a:solidFill>
          <a:ln w="25560">
            <a:solidFill>
              <a:srgbClr val="a943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Операции, связанные с обращением тары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8" name="Прямоугольник 2"/>
          <p:cNvSpPr/>
          <p:nvPr/>
        </p:nvSpPr>
        <p:spPr>
          <a:xfrm>
            <a:off x="228600" y="2362320"/>
            <a:ext cx="3886200" cy="1295280"/>
          </a:xfrm>
          <a:prstGeom prst="rect">
            <a:avLst/>
          </a:prstGeom>
          <a:solidFill>
            <a:srgbClr val="fff185"/>
          </a:solidFill>
          <a:ln w="25560">
            <a:solidFill>
              <a:srgbClr val="998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приемка тары, поступившей с товаром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Прямоугольник 3"/>
          <p:cNvSpPr/>
          <p:nvPr/>
        </p:nvSpPr>
        <p:spPr>
          <a:xfrm>
            <a:off x="228600" y="3809880"/>
            <a:ext cx="3886200" cy="1371600"/>
          </a:xfrm>
          <a:prstGeom prst="rect">
            <a:avLst/>
          </a:prstGeom>
          <a:solidFill>
            <a:srgbClr val="fff185"/>
          </a:solidFill>
          <a:ln w="25560">
            <a:solidFill>
              <a:srgbClr val="998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вскрытие и высвобождение тары из-под товар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0" name="Прямоугольник 4"/>
          <p:cNvSpPr/>
          <p:nvPr/>
        </p:nvSpPr>
        <p:spPr>
          <a:xfrm>
            <a:off x="5181480" y="2590920"/>
            <a:ext cx="3733920" cy="838080"/>
          </a:xfrm>
          <a:prstGeom prst="rect">
            <a:avLst/>
          </a:prstGeom>
          <a:solidFill>
            <a:srgbClr val="fff185"/>
          </a:solidFill>
          <a:ln w="25560">
            <a:solidFill>
              <a:srgbClr val="998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хранение тары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1" name="Прямоугольник 5"/>
          <p:cNvSpPr/>
          <p:nvPr/>
        </p:nvSpPr>
        <p:spPr>
          <a:xfrm>
            <a:off x="5181480" y="4038480"/>
            <a:ext cx="3733920" cy="838440"/>
          </a:xfrm>
          <a:prstGeom prst="rect">
            <a:avLst/>
          </a:prstGeom>
          <a:solidFill>
            <a:srgbClr val="fff185"/>
          </a:solidFill>
          <a:ln w="25560">
            <a:solidFill>
              <a:srgbClr val="998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возврат тары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2" name="Прямоугольник 6"/>
          <p:cNvSpPr/>
          <p:nvPr/>
        </p:nvSpPr>
        <p:spPr>
          <a:xfrm>
            <a:off x="1447920" y="5486400"/>
            <a:ext cx="6553080" cy="838080"/>
          </a:xfrm>
          <a:prstGeom prst="rect">
            <a:avLst/>
          </a:prstGeom>
          <a:solidFill>
            <a:srgbClr val="fff185"/>
          </a:solidFill>
          <a:ln w="25560">
            <a:solidFill>
              <a:srgbClr val="998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документальное оформление операций с тарой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523" name="Shape 8"/>
          <p:cNvCxnSpPr>
            <a:stCxn id="517" idx="4"/>
            <a:endCxn id="518" idx="3"/>
          </p:cNvCxnSpPr>
          <p:nvPr/>
        </p:nvCxnSpPr>
        <p:spPr>
          <a:xfrm rot="5400000">
            <a:off x="3733200" y="2057400"/>
            <a:ext cx="1334160" cy="57240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4" name="Shape 10"/>
          <p:cNvCxnSpPr>
            <a:stCxn id="517" idx="5"/>
            <a:endCxn id="520" idx="1"/>
          </p:cNvCxnSpPr>
          <p:nvPr/>
        </p:nvCxnSpPr>
        <p:spPr>
          <a:xfrm flipH="1" rot="16200000">
            <a:off x="4266360" y="2095560"/>
            <a:ext cx="1334160" cy="49572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5" name="Shape 12"/>
          <p:cNvCxnSpPr>
            <a:stCxn id="517" idx="6"/>
            <a:endCxn id="519" idx="3"/>
          </p:cNvCxnSpPr>
          <p:nvPr/>
        </p:nvCxnSpPr>
        <p:spPr>
          <a:xfrm rot="5400000">
            <a:off x="2990520" y="2800080"/>
            <a:ext cx="2819880" cy="57240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6" name="Shape 14"/>
          <p:cNvCxnSpPr>
            <a:stCxn id="517" idx="7"/>
            <a:endCxn id="521" idx="1"/>
          </p:cNvCxnSpPr>
          <p:nvPr/>
        </p:nvCxnSpPr>
        <p:spPr>
          <a:xfrm flipH="1" rot="16200000">
            <a:off x="3542400" y="2819520"/>
            <a:ext cx="2782080" cy="49572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7" name="Прямая со стрелкой 16"/>
          <p:cNvCxnSpPr>
            <a:stCxn id="517" idx="8"/>
            <a:endCxn id="522" idx="0"/>
          </p:cNvCxnSpPr>
          <p:nvPr/>
        </p:nvCxnSpPr>
        <p:spPr>
          <a:xfrm>
            <a:off x="4685400" y="1676160"/>
            <a:ext cx="38520" cy="3810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cover dir="ru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500"/>
                            </p:stCondLst>
                            <p:childTnLst>
                              <p:par>
                                <p:cTn id="1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426f"/>
            </a:gs>
            <a:gs pos="100000">
              <a:srgbClr val="6b7b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Блок-схема: решение 1"/>
          <p:cNvSpPr/>
          <p:nvPr/>
        </p:nvSpPr>
        <p:spPr>
          <a:xfrm>
            <a:off x="1447920" y="304920"/>
            <a:ext cx="6629400" cy="1828800"/>
          </a:xfrm>
          <a:prstGeom prst="flowChartDecision">
            <a:avLst/>
          </a:prstGeom>
          <a:solidFill>
            <a:srgbClr val="e3a192"/>
          </a:solidFill>
          <a:ln w="255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Приемка тары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9" name="Блок-схема: узел 2"/>
          <p:cNvSpPr/>
          <p:nvPr/>
        </p:nvSpPr>
        <p:spPr>
          <a:xfrm>
            <a:off x="914400" y="2895480"/>
            <a:ext cx="3429000" cy="2362320"/>
          </a:xfrm>
          <a:prstGeom prst="flowChartConnector">
            <a:avLst/>
          </a:prstGeom>
          <a:solidFill>
            <a:srgbClr val="fff185"/>
          </a:solidFill>
          <a:ln w="25560">
            <a:solidFill>
              <a:srgbClr val="998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По количеству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0" name="Блок-схема: узел 3"/>
          <p:cNvSpPr/>
          <p:nvPr/>
        </p:nvSpPr>
        <p:spPr>
          <a:xfrm>
            <a:off x="5486400" y="2895480"/>
            <a:ext cx="3124080" cy="2362320"/>
          </a:xfrm>
          <a:prstGeom prst="flowChartConnector">
            <a:avLst/>
          </a:prstGeom>
          <a:solidFill>
            <a:srgbClr val="fff185"/>
          </a:solidFill>
          <a:ln w="25560">
            <a:solidFill>
              <a:srgbClr val="998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По качеству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1" name="Стрелка вправо с вырезом 4"/>
          <p:cNvSpPr/>
          <p:nvPr/>
        </p:nvSpPr>
        <p:spPr>
          <a:xfrm rot="5400000">
            <a:off x="6933960" y="1828800"/>
            <a:ext cx="1066680" cy="762120"/>
          </a:xfrm>
          <a:custGeom>
            <a:avLst/>
            <a:gdLst>
              <a:gd name="textAreaLeft" fmla="*/ 190440 w 1066680"/>
              <a:gd name="textAreaRight" fmla="*/ 876240 w 10666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886" y="5400"/>
                </a:ln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13886" y="16200"/>
                </a:lnTo>
                <a:lnTo>
                  <a:pt x="0" y="16200"/>
                </a:lnTo>
                <a:lnTo>
                  <a:pt x="385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acece"/>
          </a:solidFill>
          <a:ln w="25560">
            <a:solidFill>
              <a:srgbClr val="a943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2" name="Стрелка вправо с вырезом 5"/>
          <p:cNvSpPr/>
          <p:nvPr/>
        </p:nvSpPr>
        <p:spPr>
          <a:xfrm rot="5400000">
            <a:off x="1599840" y="1828800"/>
            <a:ext cx="1066680" cy="762120"/>
          </a:xfrm>
          <a:custGeom>
            <a:avLst/>
            <a:gdLst>
              <a:gd name="textAreaLeft" fmla="*/ 190440 w 1066680"/>
              <a:gd name="textAreaRight" fmla="*/ 876240 w 10666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886" y="5400"/>
                </a:ln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13886" y="16200"/>
                </a:lnTo>
                <a:lnTo>
                  <a:pt x="0" y="16200"/>
                </a:lnTo>
                <a:lnTo>
                  <a:pt x="385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acece"/>
          </a:solidFill>
          <a:ln w="25560">
            <a:solidFill>
              <a:srgbClr val="a943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cover dir="ru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6000"/>
                            </p:stCondLst>
                            <p:childTnLst>
                              <p:par>
                                <p:cTn id="1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426f"/>
            </a:gs>
            <a:gs pos="100000">
              <a:srgbClr val="6b7b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Заголовок 1" descr=""/>
          <p:cNvPicPr/>
          <p:nvPr/>
        </p:nvPicPr>
        <p:blipFill>
          <a:blip r:embed="rId1"/>
          <a:stretch/>
        </p:blipFill>
        <p:spPr>
          <a:xfrm>
            <a:off x="450720" y="1517760"/>
            <a:ext cx="8242560" cy="290808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426f"/>
            </a:gs>
            <a:gs pos="100000">
              <a:srgbClr val="6b7b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Rectangle 2" descr=""/>
          <p:cNvPicPr/>
          <p:nvPr/>
        </p:nvPicPr>
        <p:blipFill>
          <a:blip r:embed="rId1"/>
          <a:stretch/>
        </p:blipFill>
        <p:spPr>
          <a:xfrm>
            <a:off x="378000" y="622440"/>
            <a:ext cx="8394480" cy="514980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426f"/>
            </a:gs>
            <a:gs pos="100000">
              <a:srgbClr val="6b7b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Овальная выноска 1"/>
          <p:cNvSpPr/>
          <p:nvPr/>
        </p:nvSpPr>
        <p:spPr>
          <a:xfrm>
            <a:off x="3581280" y="228600"/>
            <a:ext cx="4648320" cy="1828800"/>
          </a:xfrm>
          <a:prstGeom prst="wedgeEllipseCallout">
            <a:avLst>
              <a:gd name="adj1" fmla="val -43439"/>
              <a:gd name="adj2" fmla="val 90643"/>
            </a:avLst>
          </a:prstGeom>
          <a:solidFill>
            <a:srgbClr val="e3a192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entury Gothic"/>
              </a:rPr>
              <a:t>Упаковка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Прямоугольник с двумя скругленными противолежащими углами 2"/>
          <p:cNvSpPr/>
          <p:nvPr/>
        </p:nvSpPr>
        <p:spPr>
          <a:xfrm>
            <a:off x="685800" y="3124080"/>
            <a:ext cx="6629400" cy="2514600"/>
          </a:xfrm>
          <a:prstGeom prst="pie">
            <a:avLst/>
          </a:prstGeom>
          <a:solidFill>
            <a:srgbClr val="fff185"/>
          </a:solidFill>
          <a:ln w="2556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средство или комплекс средств, которые обеспечивают защиту товаров от повреждений и по­терь, а окружающей среды от загрязнений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426f"/>
            </a:gs>
            <a:gs pos="100000">
              <a:srgbClr val="6b7b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Овал 1"/>
          <p:cNvGrpSpPr/>
          <p:nvPr/>
        </p:nvGrpSpPr>
        <p:grpSpPr>
          <a:xfrm>
            <a:off x="1432080" y="353880"/>
            <a:ext cx="6791040" cy="2176560"/>
            <a:chOff x="1432080" y="353880"/>
            <a:chExt cx="6791040" cy="2176560"/>
          </a:xfrm>
        </p:grpSpPr>
        <p:pic>
          <p:nvPicPr>
            <p:cNvPr id="350" name="Овал 1" descr=""/>
            <p:cNvPicPr/>
            <p:nvPr/>
          </p:nvPicPr>
          <p:blipFill>
            <a:blip r:embed="rId1"/>
            <a:stretch/>
          </p:blipFill>
          <p:spPr>
            <a:xfrm>
              <a:off x="1432080" y="353880"/>
              <a:ext cx="6791040" cy="21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2495520" y="878040"/>
              <a:ext cx="4686480" cy="12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Century Gothic"/>
                </a:rPr>
                <a:t>Основной элемент упаковки </a:t>
              </a:r>
              <a:endParaRPr b="0" lang="en-US" sz="4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352" name="Облако 2"/>
          <p:cNvGrpSpPr/>
          <p:nvPr/>
        </p:nvGrpSpPr>
        <p:grpSpPr>
          <a:xfrm>
            <a:off x="2346480" y="3408480"/>
            <a:ext cx="4968720" cy="2217600"/>
            <a:chOff x="2346480" y="3408480"/>
            <a:chExt cx="4968720" cy="2217600"/>
          </a:xfrm>
        </p:grpSpPr>
        <p:pic>
          <p:nvPicPr>
            <p:cNvPr id="353" name="Облако 2" descr=""/>
            <p:cNvPicPr/>
            <p:nvPr/>
          </p:nvPicPr>
          <p:blipFill>
            <a:blip r:embed="rId2"/>
            <a:stretch/>
          </p:blipFill>
          <p:spPr>
            <a:xfrm>
              <a:off x="2346480" y="3408480"/>
              <a:ext cx="4968720" cy="22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3100320" y="3816360"/>
              <a:ext cx="3135240" cy="13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Century Gothic"/>
                </a:rPr>
                <a:t>Тара </a:t>
              </a:r>
              <a:endParaRPr b="0" lang="en-US" sz="4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55" name="Выгнутая влево стрелка 3"/>
          <p:cNvSpPr/>
          <p:nvPr/>
        </p:nvSpPr>
        <p:spPr>
          <a:xfrm>
            <a:off x="1676520" y="2362320"/>
            <a:ext cx="990360" cy="1904760"/>
          </a:xfrm>
          <a:custGeom>
            <a:avLst/>
            <a:gdLst>
              <a:gd name="textAreaLeft" fmla="*/ 132480 w 990360"/>
              <a:gd name="textAreaRight" fmla="*/ 857880 w 990360"/>
              <a:gd name="textAreaTop" fmla="*/ 364320 h 1904760"/>
              <a:gd name="textAreaBottom" fmla="*/ 134100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265" stAng="-5400000" swAng="-5400000"/>
                <a:lnTo>
                  <a:pt x="0" y="11073"/>
                </a:lnTo>
                <a:arcTo wR="21600" hR="8265" stAng="10800000" swAng="-3359347"/>
                <a:lnTo>
                  <a:pt x="16200" y="21338"/>
                </a:lnTo>
                <a:lnTo>
                  <a:pt x="21600" y="17934"/>
                </a:lnTo>
                <a:lnTo>
                  <a:pt x="16200" y="14006"/>
                </a:lnTo>
                <a:lnTo>
                  <a:pt x="16200" y="16268"/>
                </a:lnTo>
                <a:arcTo wR="21600" hR="8265" stAng="7440653" swAng="3132926"/>
                <a:lnTo>
                  <a:pt x="314" y="9669"/>
                </a:lnTo>
                <a:arcTo wR="21600" hR="8265" stAng="-10573579" swAng="5173579"/>
                <a:close/>
              </a:path>
              <a:path fill="darkenLess" w="21600" h="21600">
                <a:moveTo>
                  <a:pt x="21600" y="0"/>
                </a:moveTo>
                <a:arcTo wR="21600" hR="8265" stAng="-5400000" swAng="-5400000"/>
                <a:lnTo>
                  <a:pt x="0" y="8265"/>
                </a:lnTo>
                <a:arcTo wR="21600" hR="8265" stAng="10800000" swAng="-226421"/>
                <a:lnTo>
                  <a:pt x="314" y="9669"/>
                </a:lnTo>
                <a:arcTo wR="21600" hR="8265" stAng="-10573579" swAng="5173579"/>
                <a:close/>
              </a:path>
            </a:pathLst>
          </a:custGeom>
          <a:solidFill>
            <a:srgbClr val="61898a"/>
          </a:solidFill>
          <a:ln w="2556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cover dir="r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426f"/>
            </a:gs>
            <a:gs pos="100000">
              <a:srgbClr val="6b7b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Блок-схема: знак завершения 1"/>
          <p:cNvSpPr/>
          <p:nvPr/>
        </p:nvSpPr>
        <p:spPr>
          <a:xfrm>
            <a:off x="1295280" y="304920"/>
            <a:ext cx="6705720" cy="1066680"/>
          </a:xfrm>
          <a:prstGeom prst="flowChartTerminator">
            <a:avLst/>
          </a:prstGeom>
          <a:solidFill>
            <a:srgbClr val="e3a192"/>
          </a:solidFill>
          <a:ln w="255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Применение упаковки позволяет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" name="Прямоугольник 2"/>
          <p:cNvSpPr/>
          <p:nvPr/>
        </p:nvSpPr>
        <p:spPr>
          <a:xfrm>
            <a:off x="228600" y="2057400"/>
            <a:ext cx="3809880" cy="1295280"/>
          </a:xfrm>
          <a:prstGeom prst="rect">
            <a:avLst/>
          </a:prstGeom>
          <a:solidFill>
            <a:srgbClr val="fff185"/>
          </a:solidFill>
          <a:ln w="25560">
            <a:solidFill>
              <a:srgbClr val="998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защитить окружающую среду от вредного воздействия некоторых товаров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Прямоугольник 3"/>
          <p:cNvSpPr/>
          <p:nvPr/>
        </p:nvSpPr>
        <p:spPr>
          <a:xfrm>
            <a:off x="228600" y="3505320"/>
            <a:ext cx="3809880" cy="1143000"/>
          </a:xfrm>
          <a:prstGeom prst="rect">
            <a:avLst/>
          </a:prstGeom>
          <a:solidFill>
            <a:srgbClr val="fff185"/>
          </a:solidFill>
          <a:ln w="25560">
            <a:solidFill>
              <a:srgbClr val="998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защитить товары от влияния других товаров и внешней среды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9" name="Прямоугольник 4"/>
          <p:cNvSpPr/>
          <p:nvPr/>
        </p:nvSpPr>
        <p:spPr>
          <a:xfrm>
            <a:off x="228600" y="4876920"/>
            <a:ext cx="3809880" cy="1066680"/>
          </a:xfrm>
          <a:prstGeom prst="rect">
            <a:avLst/>
          </a:prstGeom>
          <a:solidFill>
            <a:srgbClr val="fff185"/>
          </a:solidFill>
          <a:ln w="25560">
            <a:solidFill>
              <a:srgbClr val="998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обеспечить сохранность количества и качества товаров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Прямоугольник 5"/>
          <p:cNvSpPr/>
          <p:nvPr/>
        </p:nvSpPr>
        <p:spPr>
          <a:xfrm>
            <a:off x="5105520" y="2057400"/>
            <a:ext cx="3809880" cy="1143000"/>
          </a:xfrm>
          <a:prstGeom prst="rect">
            <a:avLst/>
          </a:prstGeom>
          <a:solidFill>
            <a:srgbClr val="fff185"/>
          </a:solidFill>
          <a:ln w="25560">
            <a:solidFill>
              <a:srgbClr val="998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упростить выполнение погрузочно-разгрузочных операций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1" name="Прямоугольник 6"/>
          <p:cNvSpPr/>
          <p:nvPr/>
        </p:nvSpPr>
        <p:spPr>
          <a:xfrm>
            <a:off x="5105520" y="3429000"/>
            <a:ext cx="3809880" cy="838080"/>
          </a:xfrm>
          <a:prstGeom prst="rect">
            <a:avLst/>
          </a:prstGeom>
          <a:solidFill>
            <a:srgbClr val="fff185"/>
          </a:solidFill>
          <a:ln w="25560">
            <a:solidFill>
              <a:srgbClr val="998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упростить количественный учет товаров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" name="Прямоугольник 7"/>
          <p:cNvSpPr/>
          <p:nvPr/>
        </p:nvSpPr>
        <p:spPr>
          <a:xfrm>
            <a:off x="5105520" y="4495680"/>
            <a:ext cx="3809880" cy="990720"/>
          </a:xfrm>
          <a:prstGeom prst="rect">
            <a:avLst/>
          </a:prstGeom>
          <a:solidFill>
            <a:srgbClr val="fff185"/>
          </a:solidFill>
          <a:ln w="25560">
            <a:solidFill>
              <a:srgbClr val="998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эффективно использовать емкость складских помещений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Прямоугольник 8"/>
          <p:cNvSpPr/>
          <p:nvPr/>
        </p:nvSpPr>
        <p:spPr>
          <a:xfrm>
            <a:off x="5105520" y="5638680"/>
            <a:ext cx="3809880" cy="990720"/>
          </a:xfrm>
          <a:prstGeom prst="rect">
            <a:avLst/>
          </a:prstGeom>
          <a:solidFill>
            <a:srgbClr val="fff185"/>
          </a:solidFill>
          <a:ln w="25560">
            <a:solidFill>
              <a:srgbClr val="998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донести коммерческую информацию до потребителя товара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364" name="Shape 10"/>
          <p:cNvCxnSpPr>
            <a:stCxn id="356" idx="2"/>
            <a:endCxn id="357" idx="3"/>
          </p:cNvCxnSpPr>
          <p:nvPr/>
        </p:nvCxnSpPr>
        <p:spPr>
          <a:xfrm rot="5400000">
            <a:off x="3675960" y="1733400"/>
            <a:ext cx="1334160" cy="61056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5" name="Shape 12"/>
          <p:cNvCxnSpPr>
            <a:stCxn id="356" idx="2"/>
            <a:endCxn id="360" idx="1"/>
          </p:cNvCxnSpPr>
          <p:nvPr/>
        </p:nvCxnSpPr>
        <p:spPr>
          <a:xfrm flipH="1" rot="16200000">
            <a:off x="4248000" y="1771200"/>
            <a:ext cx="1258200" cy="45792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6" name="Shape 14"/>
          <p:cNvCxnSpPr>
            <a:stCxn id="356" idx="2"/>
            <a:endCxn id="358" idx="3"/>
          </p:cNvCxnSpPr>
          <p:nvPr/>
        </p:nvCxnSpPr>
        <p:spPr>
          <a:xfrm rot="5400000">
            <a:off x="2990160" y="2419200"/>
            <a:ext cx="2705760" cy="61056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7" name="Shape 16"/>
          <p:cNvCxnSpPr>
            <a:stCxn id="356" idx="2"/>
            <a:endCxn id="361" idx="1"/>
          </p:cNvCxnSpPr>
          <p:nvPr/>
        </p:nvCxnSpPr>
        <p:spPr>
          <a:xfrm flipH="1" rot="16200000">
            <a:off x="3638520" y="2380680"/>
            <a:ext cx="2477160" cy="45792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8" name="Shape 18"/>
          <p:cNvCxnSpPr>
            <a:stCxn id="356" idx="2"/>
            <a:endCxn id="359" idx="3"/>
          </p:cNvCxnSpPr>
          <p:nvPr/>
        </p:nvCxnSpPr>
        <p:spPr>
          <a:xfrm rot="5400000">
            <a:off x="2323440" y="3085920"/>
            <a:ext cx="4039200" cy="61056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9" name="Shape 20"/>
          <p:cNvCxnSpPr>
            <a:stCxn id="356" idx="2"/>
            <a:endCxn id="362" idx="1"/>
          </p:cNvCxnSpPr>
          <p:nvPr/>
        </p:nvCxnSpPr>
        <p:spPr>
          <a:xfrm flipH="1" rot="16200000">
            <a:off x="3067200" y="2952360"/>
            <a:ext cx="3620160" cy="45792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0" name="Shape 22"/>
          <p:cNvCxnSpPr>
            <a:stCxn id="356" idx="2"/>
            <a:endCxn id="363" idx="1"/>
          </p:cNvCxnSpPr>
          <p:nvPr/>
        </p:nvCxnSpPr>
        <p:spPr>
          <a:xfrm flipH="1" rot="16200000">
            <a:off x="2495520" y="3523680"/>
            <a:ext cx="4763160" cy="45792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426f"/>
            </a:gs>
            <a:gs pos="100000">
              <a:srgbClr val="6b7b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Блок-схема: подготовка 1"/>
          <p:cNvSpPr/>
          <p:nvPr/>
        </p:nvSpPr>
        <p:spPr>
          <a:xfrm>
            <a:off x="990720" y="380880"/>
            <a:ext cx="7391160" cy="1981440"/>
          </a:xfrm>
          <a:prstGeom prst="flowChartPreparation">
            <a:avLst/>
          </a:prstGeom>
          <a:solidFill>
            <a:srgbClr val="e3a192"/>
          </a:solidFill>
          <a:ln w="255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Тара, применяемая в торговле, должна отвечать ряду требований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2" name="Блок-схема: знак завершения 2"/>
          <p:cNvSpPr/>
          <p:nvPr/>
        </p:nvSpPr>
        <p:spPr>
          <a:xfrm>
            <a:off x="457200" y="3200400"/>
            <a:ext cx="3657600" cy="914400"/>
          </a:xfrm>
          <a:prstGeom prst="flowChartTerminator">
            <a:avLst/>
          </a:prstGeom>
          <a:solidFill>
            <a:srgbClr val="fff185"/>
          </a:solidFill>
          <a:ln w="2556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экономическим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Блок-схема: знак завершения 3"/>
          <p:cNvSpPr/>
          <p:nvPr/>
        </p:nvSpPr>
        <p:spPr>
          <a:xfrm>
            <a:off x="457200" y="4648320"/>
            <a:ext cx="3581280" cy="914400"/>
          </a:xfrm>
          <a:prstGeom prst="flowChartTerminator">
            <a:avLst/>
          </a:prstGeom>
          <a:solidFill>
            <a:srgbClr val="fff185"/>
          </a:solidFill>
          <a:ln w="2556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техническим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Блок-схема: знак завершения 4"/>
          <p:cNvSpPr/>
          <p:nvPr/>
        </p:nvSpPr>
        <p:spPr>
          <a:xfrm>
            <a:off x="5257800" y="3200400"/>
            <a:ext cx="3505320" cy="990720"/>
          </a:xfrm>
          <a:prstGeom prst="flowChartTerminator">
            <a:avLst/>
          </a:prstGeom>
          <a:solidFill>
            <a:srgbClr val="fff185"/>
          </a:solidFill>
          <a:ln w="2556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санитарно-гигиеническим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Блок-схема: знак завершения 5"/>
          <p:cNvSpPr/>
          <p:nvPr/>
        </p:nvSpPr>
        <p:spPr>
          <a:xfrm>
            <a:off x="5257800" y="4648320"/>
            <a:ext cx="3505320" cy="914400"/>
          </a:xfrm>
          <a:prstGeom prst="flowChartTerminator">
            <a:avLst/>
          </a:prstGeom>
          <a:solidFill>
            <a:srgbClr val="fff185"/>
          </a:solidFill>
          <a:ln w="2556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эстетическим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376" name="Скругленная соединительная линия 7"/>
          <p:cNvCxnSpPr>
            <a:stCxn id="371" idx="2"/>
            <a:endCxn id="372" idx="0"/>
          </p:cNvCxnSpPr>
          <p:nvPr/>
        </p:nvCxnSpPr>
        <p:spPr>
          <a:xfrm rot="5400000">
            <a:off x="3066480" y="1581120"/>
            <a:ext cx="838800" cy="2401200"/>
          </a:xfrm>
          <a:prstGeom prst="curvedConnector5">
            <a:avLst>
              <a:gd name="adj1" fmla="val 49978"/>
              <a:gd name="adj2" fmla="val 49992"/>
              <a:gd name="adj3" fmla="val 49978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7" name="Скругленная соединительная линия 9"/>
          <p:cNvCxnSpPr>
            <a:stCxn id="371" idx="2"/>
            <a:endCxn id="374" idx="0"/>
          </p:cNvCxnSpPr>
          <p:nvPr/>
        </p:nvCxnSpPr>
        <p:spPr>
          <a:xfrm flipH="1" rot="16200000">
            <a:off x="5428440" y="1619280"/>
            <a:ext cx="838800" cy="23245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8" name="Shape 11"/>
          <p:cNvCxnSpPr>
            <a:stCxn id="371" idx="2"/>
            <a:endCxn id="373" idx="3"/>
          </p:cNvCxnSpPr>
          <p:nvPr/>
        </p:nvCxnSpPr>
        <p:spPr>
          <a:xfrm rot="5400000">
            <a:off x="2990520" y="3409920"/>
            <a:ext cx="2743920" cy="64836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9" name="Shape 13"/>
          <p:cNvCxnSpPr>
            <a:stCxn id="371" idx="2"/>
            <a:endCxn id="375" idx="1"/>
          </p:cNvCxnSpPr>
          <p:nvPr/>
        </p:nvCxnSpPr>
        <p:spPr>
          <a:xfrm flipH="1" rot="16200000">
            <a:off x="3599640" y="3448080"/>
            <a:ext cx="2743920" cy="57204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426f"/>
            </a:gs>
            <a:gs pos="100000">
              <a:srgbClr val="6b7b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Прямоугольник с двумя скругленными соседними углами 1"/>
          <p:cNvSpPr/>
          <p:nvPr/>
        </p:nvSpPr>
        <p:spPr>
          <a:xfrm>
            <a:off x="1828800" y="304920"/>
            <a:ext cx="5715000" cy="838080"/>
          </a:xfrm>
          <a:prstGeom prst="pie">
            <a:avLst/>
          </a:prstGeom>
          <a:solidFill>
            <a:srgbClr val="e3a192"/>
          </a:solidFill>
          <a:ln w="255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Классификация тары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1" name="Прямоугольник 2"/>
          <p:cNvSpPr/>
          <p:nvPr/>
        </p:nvSpPr>
        <p:spPr>
          <a:xfrm>
            <a:off x="304920" y="1905120"/>
            <a:ext cx="3581280" cy="1523880"/>
          </a:xfrm>
          <a:prstGeom prst="rect">
            <a:avLst/>
          </a:prstGeom>
          <a:solidFill>
            <a:srgbClr val="fff185"/>
          </a:solidFill>
          <a:ln w="2556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о выполняемым в процессе товарного обращения функциям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Прямоугольник 3"/>
          <p:cNvSpPr/>
          <p:nvPr/>
        </p:nvSpPr>
        <p:spPr>
          <a:xfrm>
            <a:off x="304920" y="4191120"/>
            <a:ext cx="3581280" cy="1218960"/>
          </a:xfrm>
          <a:prstGeom prst="rect">
            <a:avLst/>
          </a:prstGeom>
          <a:solidFill>
            <a:srgbClr val="fff185"/>
          </a:solidFill>
          <a:ln w="2556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 зависимости от кратности использования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83" name="Блок-схема: знак завершения 4"/>
          <p:cNvGrpSpPr/>
          <p:nvPr/>
        </p:nvGrpSpPr>
        <p:grpSpPr>
          <a:xfrm>
            <a:off x="4181400" y="1500120"/>
            <a:ext cx="3567240" cy="895320"/>
            <a:chOff x="4181400" y="1500120"/>
            <a:chExt cx="3567240" cy="895320"/>
          </a:xfrm>
        </p:grpSpPr>
        <p:pic>
          <p:nvPicPr>
            <p:cNvPr id="384" name="Блок-схема: знак завершения 4" descr=""/>
            <p:cNvPicPr/>
            <p:nvPr/>
          </p:nvPicPr>
          <p:blipFill>
            <a:blip r:embed="rId1"/>
            <a:stretch/>
          </p:blipFill>
          <p:spPr>
            <a:xfrm>
              <a:off x="4181400" y="1500120"/>
              <a:ext cx="356724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4429080" y="1711440"/>
              <a:ext cx="31053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Gothic"/>
                </a:rPr>
                <a:t>транспортная</a:t>
              </a: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386" name="Блок-схема: знак завершения 5"/>
          <p:cNvGrpSpPr/>
          <p:nvPr/>
        </p:nvGrpSpPr>
        <p:grpSpPr>
          <a:xfrm>
            <a:off x="4943520" y="2335320"/>
            <a:ext cx="3567240" cy="895320"/>
            <a:chOff x="4943520" y="2335320"/>
            <a:chExt cx="3567240" cy="895320"/>
          </a:xfrm>
        </p:grpSpPr>
        <p:pic>
          <p:nvPicPr>
            <p:cNvPr id="387" name="Блок-схема: знак завершения 5" descr=""/>
            <p:cNvPicPr/>
            <p:nvPr/>
          </p:nvPicPr>
          <p:blipFill>
            <a:blip r:embed="rId2"/>
            <a:stretch/>
          </p:blipFill>
          <p:spPr>
            <a:xfrm>
              <a:off x="4943520" y="2335320"/>
              <a:ext cx="356724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91200" y="2549520"/>
              <a:ext cx="310500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Gothic"/>
                </a:rPr>
                <a:t>потребительская</a:t>
              </a: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389" name="Блок-схема: знак завершения 6"/>
          <p:cNvGrpSpPr/>
          <p:nvPr/>
        </p:nvGrpSpPr>
        <p:grpSpPr>
          <a:xfrm>
            <a:off x="5632560" y="3103560"/>
            <a:ext cx="3560760" cy="968400"/>
            <a:chOff x="5632560" y="3103560"/>
            <a:chExt cx="3560760" cy="968400"/>
          </a:xfrm>
        </p:grpSpPr>
        <p:pic>
          <p:nvPicPr>
            <p:cNvPr id="390" name="Блок-схема: знак завершения 6" descr=""/>
            <p:cNvPicPr/>
            <p:nvPr/>
          </p:nvPicPr>
          <p:blipFill>
            <a:blip r:embed="rId3"/>
            <a:stretch/>
          </p:blipFill>
          <p:spPr>
            <a:xfrm>
              <a:off x="5632560" y="3103560"/>
              <a:ext cx="356076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5877000" y="3387600"/>
              <a:ext cx="310500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Gothic"/>
                </a:rPr>
                <a:t>тара-оборудование</a:t>
              </a: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392" name="Блок-схема: знак завершения 7"/>
          <p:cNvGrpSpPr/>
          <p:nvPr/>
        </p:nvGrpSpPr>
        <p:grpSpPr>
          <a:xfrm>
            <a:off x="5248440" y="4164120"/>
            <a:ext cx="3566880" cy="895320"/>
            <a:chOff x="5248440" y="4164120"/>
            <a:chExt cx="3566880" cy="895320"/>
          </a:xfrm>
        </p:grpSpPr>
        <p:pic>
          <p:nvPicPr>
            <p:cNvPr id="393" name="Блок-схема: знак завершения 7" descr=""/>
            <p:cNvPicPr/>
            <p:nvPr/>
          </p:nvPicPr>
          <p:blipFill>
            <a:blip r:embed="rId4"/>
            <a:stretch/>
          </p:blipFill>
          <p:spPr>
            <a:xfrm>
              <a:off x="5248440" y="4164120"/>
              <a:ext cx="356688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5495760" y="4378320"/>
              <a:ext cx="31053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Gothic"/>
                </a:rPr>
                <a:t>разовая</a:t>
              </a: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395" name="Блок-схема: знак завершения 8"/>
          <p:cNvGrpSpPr/>
          <p:nvPr/>
        </p:nvGrpSpPr>
        <p:grpSpPr>
          <a:xfrm>
            <a:off x="5248440" y="5005440"/>
            <a:ext cx="3566880" cy="895320"/>
            <a:chOff x="5248440" y="5005440"/>
            <a:chExt cx="3566880" cy="895320"/>
          </a:xfrm>
        </p:grpSpPr>
        <p:pic>
          <p:nvPicPr>
            <p:cNvPr id="396" name="Блок-схема: знак завершения 8" descr=""/>
            <p:cNvPicPr/>
            <p:nvPr/>
          </p:nvPicPr>
          <p:blipFill>
            <a:blip r:embed="rId5"/>
            <a:stretch/>
          </p:blipFill>
          <p:spPr>
            <a:xfrm>
              <a:off x="5248440" y="5005440"/>
              <a:ext cx="356688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5495760" y="5216400"/>
              <a:ext cx="310536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Gothic"/>
                </a:rPr>
                <a:t>возвратная</a:t>
              </a: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398" name="Блок-схема: знак завершения 9"/>
          <p:cNvGrpSpPr/>
          <p:nvPr/>
        </p:nvGrpSpPr>
        <p:grpSpPr>
          <a:xfrm>
            <a:off x="2432160" y="5767560"/>
            <a:ext cx="3560760" cy="895320"/>
            <a:chOff x="2432160" y="5767560"/>
            <a:chExt cx="3560760" cy="895320"/>
          </a:xfrm>
        </p:grpSpPr>
        <p:pic>
          <p:nvPicPr>
            <p:cNvPr id="399" name="Блок-схема: знак завершения 9" descr=""/>
            <p:cNvPicPr/>
            <p:nvPr/>
          </p:nvPicPr>
          <p:blipFill>
            <a:blip r:embed="rId6"/>
            <a:stretch/>
          </p:blipFill>
          <p:spPr>
            <a:xfrm>
              <a:off x="2432160" y="5767560"/>
              <a:ext cx="356076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2676600" y="5978520"/>
              <a:ext cx="310500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Gothic"/>
                </a:rPr>
                <a:t>многооборотная</a:t>
              </a: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cxnSp>
        <p:nvCxnSpPr>
          <p:cNvPr id="401" name="Прямая со стрелкой 11"/>
          <p:cNvCxnSpPr>
            <a:stCxn id="381" idx="3"/>
            <a:endCxn id="384" idx="1"/>
          </p:cNvCxnSpPr>
          <p:nvPr/>
        </p:nvCxnSpPr>
        <p:spPr>
          <a:xfrm flipV="1">
            <a:off x="3886200" y="1980360"/>
            <a:ext cx="38160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2" name="Прямая со стрелкой 13"/>
          <p:cNvCxnSpPr>
            <a:stCxn id="381" idx="3"/>
            <a:endCxn id="387" idx="1"/>
          </p:cNvCxnSpPr>
          <p:nvPr/>
        </p:nvCxnSpPr>
        <p:spPr>
          <a:xfrm>
            <a:off x="3885840" y="2666880"/>
            <a:ext cx="1143720" cy="153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3" name="Прямая со стрелкой 15"/>
          <p:cNvCxnSpPr>
            <a:stCxn id="381" idx="3"/>
            <a:endCxn id="390" idx="1"/>
          </p:cNvCxnSpPr>
          <p:nvPr/>
        </p:nvCxnSpPr>
        <p:spPr>
          <a:xfrm>
            <a:off x="3886200" y="2666880"/>
            <a:ext cx="1829520" cy="991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4" name="Прямая со стрелкой 17"/>
          <p:cNvCxnSpPr>
            <a:stCxn id="382" idx="3"/>
            <a:endCxn id="393" idx="1"/>
          </p:cNvCxnSpPr>
          <p:nvPr/>
        </p:nvCxnSpPr>
        <p:spPr>
          <a:xfrm flipV="1">
            <a:off x="3886200" y="4647600"/>
            <a:ext cx="1448640" cy="153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5" name="Прямая со стрелкой 19"/>
          <p:cNvCxnSpPr>
            <a:stCxn id="382" idx="3"/>
            <a:endCxn id="396" idx="1"/>
          </p:cNvCxnSpPr>
          <p:nvPr/>
        </p:nvCxnSpPr>
        <p:spPr>
          <a:xfrm>
            <a:off x="3886200" y="4800240"/>
            <a:ext cx="144864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6" name="Прямая со стрелкой 21"/>
          <p:cNvCxnSpPr>
            <a:stCxn id="382" idx="3"/>
            <a:endCxn id="399" idx="0"/>
          </p:cNvCxnSpPr>
          <p:nvPr/>
        </p:nvCxnSpPr>
        <p:spPr>
          <a:xfrm>
            <a:off x="3885840" y="4800240"/>
            <a:ext cx="343800" cy="106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426f"/>
            </a:gs>
            <a:gs pos="100000">
              <a:srgbClr val="6b7b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Прямоугольник 1"/>
          <p:cNvSpPr/>
          <p:nvPr/>
        </p:nvSpPr>
        <p:spPr>
          <a:xfrm>
            <a:off x="380880" y="1066680"/>
            <a:ext cx="4114800" cy="1447920"/>
          </a:xfrm>
          <a:prstGeom prst="rect">
            <a:avLst/>
          </a:prstGeom>
          <a:solidFill>
            <a:srgbClr val="fff185"/>
          </a:solidFill>
          <a:ln w="2556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В зависимости от принадлежности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8" name="Прямоугольник 2"/>
          <p:cNvSpPr/>
          <p:nvPr/>
        </p:nvSpPr>
        <p:spPr>
          <a:xfrm>
            <a:off x="457200" y="4038480"/>
            <a:ext cx="3581280" cy="990720"/>
          </a:xfrm>
          <a:prstGeom prst="rect">
            <a:avLst/>
          </a:prstGeom>
          <a:solidFill>
            <a:srgbClr val="fff185"/>
          </a:solidFill>
          <a:ln w="2556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По назначению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409" name="Блок-схема: знак завершения 3"/>
          <p:cNvGrpSpPr/>
          <p:nvPr/>
        </p:nvGrpSpPr>
        <p:grpSpPr>
          <a:xfrm>
            <a:off x="4943520" y="401760"/>
            <a:ext cx="3792600" cy="1152360"/>
            <a:chOff x="4943520" y="401760"/>
            <a:chExt cx="3792600" cy="1152360"/>
          </a:xfrm>
        </p:grpSpPr>
        <p:pic>
          <p:nvPicPr>
            <p:cNvPr id="410" name="Блок-схема: знак завершения 3" descr=""/>
            <p:cNvPicPr/>
            <p:nvPr/>
          </p:nvPicPr>
          <p:blipFill>
            <a:blip r:embed="rId1"/>
            <a:stretch/>
          </p:blipFill>
          <p:spPr>
            <a:xfrm>
              <a:off x="4943520" y="401760"/>
              <a:ext cx="379260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5202360" y="677880"/>
              <a:ext cx="33112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entury Gothic"/>
                </a:rPr>
                <a:t>общего пользования</a:t>
              </a:r>
              <a:endParaRPr b="0" lang="en-US" sz="2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412" name="Блок-схема: знак завершения 4"/>
          <p:cNvGrpSpPr/>
          <p:nvPr/>
        </p:nvGrpSpPr>
        <p:grpSpPr>
          <a:xfrm>
            <a:off x="5022720" y="2030400"/>
            <a:ext cx="3792600" cy="822240"/>
            <a:chOff x="5022720" y="2030400"/>
            <a:chExt cx="3792600" cy="822240"/>
          </a:xfrm>
        </p:grpSpPr>
        <p:pic>
          <p:nvPicPr>
            <p:cNvPr id="413" name="Блок-схема: знак завершения 4" descr=""/>
            <p:cNvPicPr/>
            <p:nvPr/>
          </p:nvPicPr>
          <p:blipFill>
            <a:blip r:embed="rId2"/>
            <a:stretch/>
          </p:blipFill>
          <p:spPr>
            <a:xfrm>
              <a:off x="5022720" y="2030400"/>
              <a:ext cx="379260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5278320" y="2233440"/>
              <a:ext cx="331164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entury Gothic"/>
                </a:rPr>
                <a:t>инвентарная</a:t>
              </a:r>
              <a:endParaRPr b="0" lang="en-US" sz="2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415" name="Блок-схема: знак завершения 5"/>
          <p:cNvGrpSpPr/>
          <p:nvPr/>
        </p:nvGrpSpPr>
        <p:grpSpPr>
          <a:xfrm>
            <a:off x="4943520" y="3633840"/>
            <a:ext cx="3792600" cy="815760"/>
            <a:chOff x="4943520" y="3633840"/>
            <a:chExt cx="3792600" cy="815760"/>
          </a:xfrm>
        </p:grpSpPr>
        <p:pic>
          <p:nvPicPr>
            <p:cNvPr id="416" name="Блок-схема: знак завершения 5" descr=""/>
            <p:cNvPicPr/>
            <p:nvPr/>
          </p:nvPicPr>
          <p:blipFill>
            <a:blip r:embed="rId3"/>
            <a:stretch/>
          </p:blipFill>
          <p:spPr>
            <a:xfrm>
              <a:off x="4943520" y="3633840"/>
              <a:ext cx="3792600" cy="81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5202360" y="3833640"/>
              <a:ext cx="331128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entury Gothic"/>
                </a:rPr>
                <a:t>универсальная</a:t>
              </a:r>
              <a:endParaRPr b="0" lang="en-US" sz="2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418" name="Блок-схема: знак завершения 6"/>
          <p:cNvGrpSpPr/>
          <p:nvPr/>
        </p:nvGrpSpPr>
        <p:grpSpPr>
          <a:xfrm>
            <a:off x="4870440" y="4748040"/>
            <a:ext cx="3944880" cy="1152720"/>
            <a:chOff x="4870440" y="4748040"/>
            <a:chExt cx="3944880" cy="1152720"/>
          </a:xfrm>
        </p:grpSpPr>
        <p:pic>
          <p:nvPicPr>
            <p:cNvPr id="419" name="Блок-схема: знак завершения 6" descr=""/>
            <p:cNvPicPr/>
            <p:nvPr/>
          </p:nvPicPr>
          <p:blipFill>
            <a:blip r:embed="rId4"/>
            <a:stretch/>
          </p:blipFill>
          <p:spPr>
            <a:xfrm>
              <a:off x="4870440" y="4748040"/>
              <a:ext cx="394488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5132520" y="5021280"/>
              <a:ext cx="34509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entury Gothic"/>
                </a:rPr>
                <a:t>специализированная</a:t>
              </a:r>
              <a:endParaRPr b="0" lang="en-US" sz="2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cxnSp>
        <p:nvCxnSpPr>
          <p:cNvPr id="421" name="Прямая со стрелкой 8"/>
          <p:cNvCxnSpPr>
            <a:stCxn id="407" idx="3"/>
            <a:endCxn id="410" idx="1"/>
          </p:cNvCxnSpPr>
          <p:nvPr/>
        </p:nvCxnSpPr>
        <p:spPr>
          <a:xfrm flipV="1">
            <a:off x="4495680" y="1028520"/>
            <a:ext cx="534240" cy="762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2" name="Прямая со стрелкой 10"/>
          <p:cNvCxnSpPr>
            <a:stCxn id="407" idx="3"/>
            <a:endCxn id="413" idx="1"/>
          </p:cNvCxnSpPr>
          <p:nvPr/>
        </p:nvCxnSpPr>
        <p:spPr>
          <a:xfrm>
            <a:off x="4495680" y="1790280"/>
            <a:ext cx="61056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3" name="Прямая со стрелкой 12"/>
          <p:cNvCxnSpPr>
            <a:stCxn id="408" idx="3"/>
            <a:endCxn id="416" idx="1"/>
          </p:cNvCxnSpPr>
          <p:nvPr/>
        </p:nvCxnSpPr>
        <p:spPr>
          <a:xfrm flipV="1">
            <a:off x="4038480" y="4076280"/>
            <a:ext cx="991440" cy="457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4" name="Прямая со стрелкой 14"/>
          <p:cNvCxnSpPr>
            <a:stCxn id="408" idx="3"/>
            <a:endCxn id="419" idx="1"/>
          </p:cNvCxnSpPr>
          <p:nvPr/>
        </p:nvCxnSpPr>
        <p:spPr>
          <a:xfrm>
            <a:off x="4038480" y="4533480"/>
            <a:ext cx="915120" cy="83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cover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426f"/>
            </a:gs>
            <a:gs pos="100000">
              <a:srgbClr val="6b7b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Прямоугольник 1"/>
          <p:cNvSpPr/>
          <p:nvPr/>
        </p:nvSpPr>
        <p:spPr>
          <a:xfrm>
            <a:off x="457200" y="457200"/>
            <a:ext cx="3733920" cy="990720"/>
          </a:xfrm>
          <a:prstGeom prst="rect">
            <a:avLst/>
          </a:prstGeom>
          <a:solidFill>
            <a:srgbClr val="fff185"/>
          </a:solidFill>
          <a:ln w="2556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По методам изготовления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Прямоугольник 2"/>
          <p:cNvSpPr/>
          <p:nvPr/>
        </p:nvSpPr>
        <p:spPr>
          <a:xfrm>
            <a:off x="304920" y="3733920"/>
            <a:ext cx="3733560" cy="990360"/>
          </a:xfrm>
          <a:prstGeom prst="rect">
            <a:avLst/>
          </a:prstGeom>
          <a:solidFill>
            <a:srgbClr val="fff185"/>
          </a:solidFill>
          <a:ln w="2556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По конструктивным особенностям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427" name="Блок-схема: знак завершения 3"/>
          <p:cNvGrpSpPr/>
          <p:nvPr/>
        </p:nvGrpSpPr>
        <p:grpSpPr>
          <a:xfrm>
            <a:off x="5022720" y="890640"/>
            <a:ext cx="3488040" cy="743040"/>
            <a:chOff x="5022720" y="890640"/>
            <a:chExt cx="3488040" cy="743040"/>
          </a:xfrm>
        </p:grpSpPr>
        <p:pic>
          <p:nvPicPr>
            <p:cNvPr id="428" name="Блок-схема: знак завершения 3" descr=""/>
            <p:cNvPicPr/>
            <p:nvPr/>
          </p:nvPicPr>
          <p:blipFill>
            <a:blip r:embed="rId1"/>
            <a:stretch/>
          </p:blipFill>
          <p:spPr>
            <a:xfrm>
              <a:off x="5022720" y="890640"/>
              <a:ext cx="348804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5264280" y="1079640"/>
              <a:ext cx="30351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Century Gothic"/>
                </a:rPr>
                <a:t>клееная</a:t>
              </a: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430" name="Блок-схема: знак завершения 4"/>
          <p:cNvGrpSpPr/>
          <p:nvPr/>
        </p:nvGrpSpPr>
        <p:grpSpPr>
          <a:xfrm>
            <a:off x="4565520" y="128520"/>
            <a:ext cx="3488040" cy="743040"/>
            <a:chOff x="4565520" y="128520"/>
            <a:chExt cx="3488040" cy="743040"/>
          </a:xfrm>
        </p:grpSpPr>
        <p:pic>
          <p:nvPicPr>
            <p:cNvPr id="431" name="Блок-схема: знак завершения 4" descr=""/>
            <p:cNvPicPr/>
            <p:nvPr/>
          </p:nvPicPr>
          <p:blipFill>
            <a:blip r:embed="rId2"/>
            <a:stretch/>
          </p:blipFill>
          <p:spPr>
            <a:xfrm>
              <a:off x="4565520" y="128520"/>
              <a:ext cx="348804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4807080" y="317520"/>
              <a:ext cx="30351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Century Gothic"/>
                </a:rPr>
                <a:t>бондарная </a:t>
              </a: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433" name="Блок-схема: знак завершения 5"/>
          <p:cNvGrpSpPr/>
          <p:nvPr/>
        </p:nvGrpSpPr>
        <p:grpSpPr>
          <a:xfrm>
            <a:off x="676440" y="1652760"/>
            <a:ext cx="3487680" cy="663480"/>
            <a:chOff x="676440" y="1652760"/>
            <a:chExt cx="3487680" cy="663480"/>
          </a:xfrm>
        </p:grpSpPr>
        <p:pic>
          <p:nvPicPr>
            <p:cNvPr id="434" name="Блок-схема: знак завершения 5" descr=""/>
            <p:cNvPicPr/>
            <p:nvPr/>
          </p:nvPicPr>
          <p:blipFill>
            <a:blip r:embed="rId3"/>
            <a:stretch/>
          </p:blipFill>
          <p:spPr>
            <a:xfrm>
              <a:off x="676440" y="1652760"/>
              <a:ext cx="348768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920880" y="1830240"/>
              <a:ext cx="303516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Century Gothic"/>
                </a:rPr>
                <a:t>литая</a:t>
              </a: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436" name="Блок-схема: знак завершения 6"/>
          <p:cNvGrpSpPr/>
          <p:nvPr/>
        </p:nvGrpSpPr>
        <p:grpSpPr>
          <a:xfrm>
            <a:off x="5705640" y="1652760"/>
            <a:ext cx="3487680" cy="742680"/>
            <a:chOff x="5705640" y="1652760"/>
            <a:chExt cx="3487680" cy="742680"/>
          </a:xfrm>
        </p:grpSpPr>
        <p:pic>
          <p:nvPicPr>
            <p:cNvPr id="437" name="Блок-схема: знак завершения 6" descr=""/>
            <p:cNvPicPr/>
            <p:nvPr/>
          </p:nvPicPr>
          <p:blipFill>
            <a:blip r:embed="rId4"/>
            <a:stretch/>
          </p:blipFill>
          <p:spPr>
            <a:xfrm>
              <a:off x="5705640" y="1652760"/>
              <a:ext cx="3487680" cy="74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5950080" y="1841400"/>
              <a:ext cx="30351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Century Gothic"/>
                </a:rPr>
                <a:t>штампованная</a:t>
              </a: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439" name="Блок-схема: знак завершения 7"/>
          <p:cNvGrpSpPr/>
          <p:nvPr/>
        </p:nvGrpSpPr>
        <p:grpSpPr>
          <a:xfrm>
            <a:off x="4413240" y="3097080"/>
            <a:ext cx="3487680" cy="822600"/>
            <a:chOff x="4413240" y="3097080"/>
            <a:chExt cx="3487680" cy="822600"/>
          </a:xfrm>
        </p:grpSpPr>
        <p:pic>
          <p:nvPicPr>
            <p:cNvPr id="440" name="Блок-схема: знак завершения 7" descr=""/>
            <p:cNvPicPr/>
            <p:nvPr/>
          </p:nvPicPr>
          <p:blipFill>
            <a:blip r:embed="rId5"/>
            <a:stretch/>
          </p:blipFill>
          <p:spPr>
            <a:xfrm>
              <a:off x="4413240" y="3097080"/>
              <a:ext cx="3487680" cy="8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4654440" y="3300480"/>
              <a:ext cx="303552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Century Gothic"/>
                </a:rPr>
                <a:t>неразборная</a:t>
              </a: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442" name="Блок-схема: знак завершения 8"/>
          <p:cNvGrpSpPr/>
          <p:nvPr/>
        </p:nvGrpSpPr>
        <p:grpSpPr>
          <a:xfrm>
            <a:off x="676440" y="2414520"/>
            <a:ext cx="3487680" cy="663480"/>
            <a:chOff x="676440" y="2414520"/>
            <a:chExt cx="3487680" cy="663480"/>
          </a:xfrm>
        </p:grpSpPr>
        <p:pic>
          <p:nvPicPr>
            <p:cNvPr id="443" name="Блок-схема: знак завершения 8" descr=""/>
            <p:cNvPicPr/>
            <p:nvPr/>
          </p:nvPicPr>
          <p:blipFill>
            <a:blip r:embed="rId6"/>
            <a:stretch/>
          </p:blipFill>
          <p:spPr>
            <a:xfrm>
              <a:off x="676440" y="2414520"/>
              <a:ext cx="348768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920880" y="2592360"/>
              <a:ext cx="303516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Century Gothic"/>
                </a:rPr>
                <a:t>сварная</a:t>
              </a: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445" name="Блок-схема: знак завершения 9"/>
          <p:cNvGrpSpPr/>
          <p:nvPr/>
        </p:nvGrpSpPr>
        <p:grpSpPr>
          <a:xfrm>
            <a:off x="5248440" y="4621320"/>
            <a:ext cx="3487680" cy="822240"/>
            <a:chOff x="5248440" y="4621320"/>
            <a:chExt cx="3487680" cy="822240"/>
          </a:xfrm>
        </p:grpSpPr>
        <p:pic>
          <p:nvPicPr>
            <p:cNvPr id="446" name="Блок-схема: знак завершения 9" descr=""/>
            <p:cNvPicPr/>
            <p:nvPr/>
          </p:nvPicPr>
          <p:blipFill>
            <a:blip r:embed="rId7"/>
            <a:stretch/>
          </p:blipFill>
          <p:spPr>
            <a:xfrm>
              <a:off x="5248440" y="4621320"/>
              <a:ext cx="348768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5492880" y="4824360"/>
              <a:ext cx="303516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Century Gothic"/>
                </a:rPr>
                <a:t>складная</a:t>
              </a: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448" name="Блок-схема: знак завершения 10"/>
          <p:cNvGrpSpPr/>
          <p:nvPr/>
        </p:nvGrpSpPr>
        <p:grpSpPr>
          <a:xfrm>
            <a:off x="4870440" y="3859200"/>
            <a:ext cx="3487680" cy="822240"/>
            <a:chOff x="4870440" y="3859200"/>
            <a:chExt cx="3487680" cy="822240"/>
          </a:xfrm>
        </p:grpSpPr>
        <p:pic>
          <p:nvPicPr>
            <p:cNvPr id="449" name="Блок-схема: знак завершения 10" descr=""/>
            <p:cNvPicPr/>
            <p:nvPr/>
          </p:nvPicPr>
          <p:blipFill>
            <a:blip r:embed="rId8"/>
            <a:stretch/>
          </p:blipFill>
          <p:spPr>
            <a:xfrm>
              <a:off x="4870440" y="3859200"/>
              <a:ext cx="348768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5111640" y="4062240"/>
              <a:ext cx="303552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Century Gothic"/>
                </a:rPr>
                <a:t>разборная</a:t>
              </a: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451" name="Блок-схема: знак завершения 11"/>
          <p:cNvGrpSpPr/>
          <p:nvPr/>
        </p:nvGrpSpPr>
        <p:grpSpPr>
          <a:xfrm>
            <a:off x="5400720" y="5383080"/>
            <a:ext cx="3792600" cy="822600"/>
            <a:chOff x="5400720" y="5383080"/>
            <a:chExt cx="3792600" cy="822600"/>
          </a:xfrm>
        </p:grpSpPr>
        <p:pic>
          <p:nvPicPr>
            <p:cNvPr id="452" name="Блок-схема: знак завершения 11" descr=""/>
            <p:cNvPicPr/>
            <p:nvPr/>
          </p:nvPicPr>
          <p:blipFill>
            <a:blip r:embed="rId9"/>
            <a:stretch/>
          </p:blipFill>
          <p:spPr>
            <a:xfrm>
              <a:off x="5400720" y="5383080"/>
              <a:ext cx="3792600" cy="8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5659560" y="5586480"/>
              <a:ext cx="33112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Century Gothic"/>
                </a:rPr>
                <a:t>разборно-складная</a:t>
              </a: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454" name="Блок-схема: знак завершения 12"/>
          <p:cNvGrpSpPr/>
          <p:nvPr/>
        </p:nvGrpSpPr>
        <p:grpSpPr>
          <a:xfrm>
            <a:off x="146160" y="4896000"/>
            <a:ext cx="3792600" cy="944280"/>
            <a:chOff x="146160" y="4896000"/>
            <a:chExt cx="3792600" cy="944280"/>
          </a:xfrm>
        </p:grpSpPr>
        <p:pic>
          <p:nvPicPr>
            <p:cNvPr id="455" name="Блок-схема: знак завершения 12" descr=""/>
            <p:cNvPicPr/>
            <p:nvPr/>
          </p:nvPicPr>
          <p:blipFill>
            <a:blip r:embed="rId10"/>
            <a:stretch/>
          </p:blipFill>
          <p:spPr>
            <a:xfrm>
              <a:off x="146160" y="4896000"/>
              <a:ext cx="379260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"/>
            <p:cNvSpPr/>
            <p:nvPr/>
          </p:nvSpPr>
          <p:spPr>
            <a:xfrm>
              <a:off x="401760" y="5205240"/>
              <a:ext cx="331128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Century Gothic"/>
                </a:rPr>
                <a:t>Закрытая и открытая</a:t>
              </a: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457" name="Блок-схема: знак завершения 13"/>
          <p:cNvGrpSpPr/>
          <p:nvPr/>
        </p:nvGrpSpPr>
        <p:grpSpPr>
          <a:xfrm>
            <a:off x="2048040" y="5919840"/>
            <a:ext cx="3792240" cy="743040"/>
            <a:chOff x="2048040" y="5919840"/>
            <a:chExt cx="3792240" cy="743040"/>
          </a:xfrm>
        </p:grpSpPr>
        <p:pic>
          <p:nvPicPr>
            <p:cNvPr id="458" name="Блок-схема: знак завершения 13" descr=""/>
            <p:cNvPicPr/>
            <p:nvPr/>
          </p:nvPicPr>
          <p:blipFill>
            <a:blip r:embed="rId11"/>
            <a:stretch/>
          </p:blipFill>
          <p:spPr>
            <a:xfrm>
              <a:off x="2048040" y="5919840"/>
              <a:ext cx="379224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"/>
            <p:cNvSpPr/>
            <p:nvPr/>
          </p:nvSpPr>
          <p:spPr>
            <a:xfrm>
              <a:off x="2306520" y="6108840"/>
              <a:ext cx="33116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Century Gothic"/>
                </a:rPr>
                <a:t>штабелируемая</a:t>
              </a: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cxnSp>
        <p:nvCxnSpPr>
          <p:cNvPr id="460" name="Прямая со стрелкой 15"/>
          <p:cNvCxnSpPr>
            <a:stCxn id="425" idx="3"/>
            <a:endCxn id="431" idx="1"/>
          </p:cNvCxnSpPr>
          <p:nvPr/>
        </p:nvCxnSpPr>
        <p:spPr>
          <a:xfrm flipV="1">
            <a:off x="4191120" y="533160"/>
            <a:ext cx="45792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1" name="Прямая со стрелкой 17"/>
          <p:cNvCxnSpPr>
            <a:stCxn id="425" idx="3"/>
            <a:endCxn id="428" idx="1"/>
          </p:cNvCxnSpPr>
          <p:nvPr/>
        </p:nvCxnSpPr>
        <p:spPr>
          <a:xfrm>
            <a:off x="4191120" y="952560"/>
            <a:ext cx="915120" cy="343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2" name="Прямая со стрелкой 19"/>
          <p:cNvCxnSpPr>
            <a:stCxn id="425" idx="3"/>
            <a:endCxn id="437" idx="1"/>
          </p:cNvCxnSpPr>
          <p:nvPr/>
        </p:nvCxnSpPr>
        <p:spPr>
          <a:xfrm>
            <a:off x="4190760" y="952200"/>
            <a:ext cx="1600920" cy="1105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3" name="Прямая со стрелкой 21"/>
          <p:cNvCxnSpPr>
            <a:stCxn id="426" idx="3"/>
            <a:endCxn id="440" idx="1"/>
          </p:cNvCxnSpPr>
          <p:nvPr/>
        </p:nvCxnSpPr>
        <p:spPr>
          <a:xfrm flipV="1">
            <a:off x="4038480" y="3542760"/>
            <a:ext cx="4579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4" name="Прямая со стрелкой 24"/>
          <p:cNvCxnSpPr>
            <a:stCxn id="426" idx="3"/>
            <a:endCxn id="449" idx="1"/>
          </p:cNvCxnSpPr>
          <p:nvPr/>
        </p:nvCxnSpPr>
        <p:spPr>
          <a:xfrm>
            <a:off x="4038480" y="4228920"/>
            <a:ext cx="915120" cy="7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5" name="Прямая со стрелкой 26"/>
          <p:cNvCxnSpPr>
            <a:stCxn id="426" idx="3"/>
            <a:endCxn id="446" idx="1"/>
          </p:cNvCxnSpPr>
          <p:nvPr/>
        </p:nvCxnSpPr>
        <p:spPr>
          <a:xfrm>
            <a:off x="4038120" y="4229280"/>
            <a:ext cx="1296360" cy="838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6" name="Прямая со стрелкой 28"/>
          <p:cNvCxnSpPr>
            <a:stCxn id="426" idx="3"/>
            <a:endCxn id="452" idx="1"/>
          </p:cNvCxnSpPr>
          <p:nvPr/>
        </p:nvCxnSpPr>
        <p:spPr>
          <a:xfrm>
            <a:off x="4038480" y="4228920"/>
            <a:ext cx="1448640" cy="1600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7" name="Скругленная соединительная линия 30"/>
          <p:cNvCxnSpPr>
            <a:stCxn id="425" idx="3"/>
            <a:endCxn id="434" idx="3"/>
          </p:cNvCxnSpPr>
          <p:nvPr/>
        </p:nvCxnSpPr>
        <p:spPr>
          <a:xfrm flipH="1">
            <a:off x="4114800" y="952200"/>
            <a:ext cx="76680" cy="10674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8" name="Скругленная соединительная линия 32"/>
          <p:cNvCxnSpPr>
            <a:stCxn id="425" idx="3"/>
            <a:endCxn id="443" idx="3"/>
          </p:cNvCxnSpPr>
          <p:nvPr/>
        </p:nvCxnSpPr>
        <p:spPr>
          <a:xfrm flipH="1">
            <a:off x="4114800" y="952560"/>
            <a:ext cx="76680" cy="1829520"/>
          </a:xfrm>
          <a:prstGeom prst="curvedConnector5">
            <a:avLst>
              <a:gd name="adj1" fmla="val -534905"/>
              <a:gd name="adj2" fmla="val 49990"/>
              <a:gd name="adj3" fmla="val -534905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9" name="Скругленная соединительная линия 34"/>
          <p:cNvCxnSpPr>
            <a:stCxn id="426" idx="3"/>
            <a:endCxn id="455" idx="3"/>
          </p:cNvCxnSpPr>
          <p:nvPr/>
        </p:nvCxnSpPr>
        <p:spPr>
          <a:xfrm flipH="1">
            <a:off x="3885480" y="4229280"/>
            <a:ext cx="153000" cy="1219680"/>
          </a:xfrm>
          <a:prstGeom prst="curvedConnector5">
            <a:avLst>
              <a:gd name="adj1" fmla="val -150000"/>
              <a:gd name="adj2" fmla="val 49985"/>
              <a:gd name="adj3" fmla="val -15000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0" name="Скругленная соединительная линия 36"/>
          <p:cNvCxnSpPr>
            <a:stCxn id="426" idx="3"/>
            <a:endCxn id="458" idx="0"/>
          </p:cNvCxnSpPr>
          <p:nvPr/>
        </p:nvCxnSpPr>
        <p:spPr>
          <a:xfrm flipH="1">
            <a:off x="3961800" y="4229280"/>
            <a:ext cx="76680" cy="1791360"/>
          </a:xfrm>
          <a:prstGeom prst="curvedConnector5">
            <a:avLst>
              <a:gd name="adj1" fmla="val -496698"/>
              <a:gd name="adj2" fmla="val 37246"/>
              <a:gd name="adj3" fmla="val -496698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201</cp:lastModifiedBy>
  <dcterms:modified xsi:type="dcterms:W3CDTF">2013-01-19T13:40:24Z</dcterms:modified>
  <cp:revision>10</cp:revision>
  <dc:subject/>
  <dc:title>Тара и тарные операции в торговле</dc:title>
</cp:coreProperties>
</file>