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143-90F9-4729-98C5-F147A4F7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0B2-DA1B-432E-9AF3-AA7B851B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D08-68D1-47E0-ACEA-92657393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7B0-FB83-453F-B2F4-295D0EB2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1BB6-F2F4-4D98-8728-6C082185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C933-08ED-41A1-8977-C6C40048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57DC-1CA6-44D3-B639-ECDEF0D0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8C27-0916-4185-883D-4491E655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D290-FE63-4464-8FCE-BA4AF2BF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7002-6367-4A36-8A1E-94DCD760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FD47-7809-4B47-A82F-24CDF66A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02E-6E2D-4B85-919C-EAF6148F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FDE4-8DBC-45C5-9C3C-F3D76DA9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EACA-6EC9-4C0E-AD22-7C64F79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B8B3-7790-431F-96FD-61F7F0A8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3AA2-D41E-43BC-AAAD-FC0A311F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4B46-C3AD-4901-B9CE-F7924556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B3A4-7043-4318-AF34-48770ABB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B1E5-8700-4474-8F98-3E7EF983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8980-578A-4C89-A371-55C6F0BE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6389-EE9E-4463-97A6-3EFF5ACF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974D-93F5-416B-885E-5FC4B813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2E6-E414-4D64-8A63-84C722DA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9D87-0831-4745-9102-B46A6BDE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BAF5-E150-42BD-AA18-26AA3C3B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6AEB-6FA5-4E82-B91B-6D53AD82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42A74-F2BC-42B2-A1AB-102BB6EA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7987-D3A9-49BC-BAFB-7AA9852F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F8DD-6998-4F6D-BE12-5C3A5A0E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7DA9E-9469-4CC3-BB43-FB01549E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F4A1F-2F3C-4AEF-B7C0-5A5B61CC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ABE0-8BD5-4555-B10A-6AF8F22C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EC2BE-D85D-49A3-8320-CCCF15AA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C0A-6DF9-40AD-9E0C-33DA6C73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C9CA-1E4E-4800-B90B-CF42FA9D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8780B-45B6-4BA7-A1D3-E678BED6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173D-4314-42FD-8E22-4AF5B996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37E0-F36C-47B9-8AC1-E2FAFA58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F3B6-D69F-4E2F-BB91-0A60B0F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3091-6351-4C96-89C1-A79B0C2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1816C-205E-46B8-8ACB-8F0B6A9F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663F3-C6DE-4C5D-A29C-960B27F6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532C-1C29-4F23-BB8E-734C0657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3AD8E-DFB7-438D-AB3E-1D5E667E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CB7-09E2-454D-9903-95CF2079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8525A-4B10-450A-B800-9BB40833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982EF-AD9B-44A2-B859-E628D93A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E2FB6-8652-47AE-B0DF-7DA9AB42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18E4A-2E88-4919-8758-7570A65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DD045-0020-471D-809A-FD838CE5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25775-7CE9-4AA0-B799-7F4F06E2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1C7B-931C-40AC-BE40-164B61F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0BD88-94D8-4596-A572-A94578BB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23359-1A0A-4F17-8518-DC2B1150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D5086-08A0-45B7-B049-280A5070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B29-C3EB-4AA8-AB18-7E7FA355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709EE-07E3-4FB9-82DF-54497235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699C-BDA7-4444-8A63-C8466F3F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813A6-0F8A-4455-899B-2A0B4118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27CA-6651-4B7D-BC1A-D1F770BB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483E9-5BC8-444F-843A-22DEB73E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3295D-0C45-43F1-8E4D-6DAEFC7E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2932E-624F-4FD3-A0F3-0EFE1E55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D3B5F-90C8-4698-8803-F9B0276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6AAD0-BCD6-4869-BCA2-3DCA73EA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3927E-F4BB-420F-B42F-F557C050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6C1-71CB-4FE4-9E91-7447D826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F508E-D594-46BB-A645-BF20F3F8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DA1D6-F253-43BF-B593-94E3DC22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12278-83EC-4578-BD7F-434F93EE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7720D-0371-480C-BEA2-F9CD4E77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0818F-CBDA-4FBC-B72A-1D54BF3E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EE41-F923-44CE-98F5-FF25E374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02D32-B8CF-4DC1-AD83-A3EEBFFA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60A26-B152-4698-B9C2-1BA91D9C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D199B-D870-4B31-88DB-F0BE87E6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E2513-3E68-4E33-B0FE-F60B1396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C1A-654C-4752-BD2B-A9550CF0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24AB2-D662-4ECB-AAC3-8BC728D3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F3AE1-CE77-4766-B400-D57A32FA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C262-4D9C-41A3-BA53-DE383D56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C0829-C8EB-472C-9109-A4E71B20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855BC-55BB-46F7-B2A1-EB039352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006D5-E948-4CF0-B2CF-4969D0AD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6D4BD-3CD6-4207-AE0A-9A08C0BA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174C3-6391-4775-9895-0772C3F2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7D756-DB4C-4BA9-9D1D-444BF316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DD7F3-C347-4D51-ABE6-05E53543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788-D351-4A17-88DA-07FC9394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76434-7923-4158-8A14-C5A505EC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7D11-127A-46A1-BC17-A4BE71B2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587C7-EFE2-45F5-8DFA-FCF907EC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09831-F37E-4086-83A8-D6D85D44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E9D27-B6C3-40EF-BD23-2CDD0096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A6F0A-8798-47A9-93ED-EE476D97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F1FA5-7FC6-4B7E-9EC8-B55F6E63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528C-4132-4132-975D-D424E0F65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3ACD-BBFF-4E38-B9FB-6E3EFE1CC9B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8018-60C4-4262-AE18-CF60FD81B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F030-4FEC-41AC-A477-6A6E7E063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FECA-AC97-4295-A511-A046308BA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9F9-DF9E-4FE8-B371-20503D31F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91A4-9852-4CE5-83F4-85D49BEBC50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FFB0-37C7-4EB8-89C9-0779B59D1B0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9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03360" y="463680"/>
            <a:ext cx="8656560" cy="2157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Скругленная прямоугольная выноска 1"/>
          <p:cNvGrpSpPr/>
          <p:nvPr/>
        </p:nvGrpSpPr>
        <p:grpSpPr>
          <a:xfrm>
            <a:off x="1212840" y="658800"/>
            <a:ext cx="4627440" cy="2017800"/>
            <a:chOff x="1212840" y="658800"/>
            <a:chExt cx="4627440" cy="2017800"/>
          </a:xfrm>
        </p:grpSpPr>
        <p:pic>
          <p:nvPicPr>
            <p:cNvPr id="538" name="Скругленная прямоугольная выноска 1" descr=""/>
            <p:cNvPicPr/>
            <p:nvPr/>
          </p:nvPicPr>
          <p:blipFill>
            <a:blip r:embed="rId1"/>
            <a:stretch/>
          </p:blipFill>
          <p:spPr>
            <a:xfrm>
              <a:off x="1212840" y="658800"/>
              <a:ext cx="462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343160" y="809640"/>
              <a:ext cx="440028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Типизация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Блок-схема: документ 2"/>
          <p:cNvGrpSpPr/>
          <p:nvPr/>
        </p:nvGrpSpPr>
        <p:grpSpPr>
          <a:xfrm>
            <a:off x="1743120" y="2682720"/>
            <a:ext cx="6993000" cy="3480120"/>
            <a:chOff x="1743120" y="2682720"/>
            <a:chExt cx="6993000" cy="3480120"/>
          </a:xfrm>
        </p:grpSpPr>
        <p:pic>
          <p:nvPicPr>
            <p:cNvPr id="541" name="Блок-схема: документ 2" descr=""/>
            <p:cNvPicPr/>
            <p:nvPr/>
          </p:nvPicPr>
          <p:blipFill>
            <a:blip r:embed="rId2"/>
            <a:stretch/>
          </p:blipFill>
          <p:spPr>
            <a:xfrm>
              <a:off x="1743120" y="2682720"/>
              <a:ext cx="6993000" cy="34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1828800" y="2819520"/>
              <a:ext cx="6858000" cy="26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истема мероприятий, направленных на отбор рациональных типов магазинов, которые являются экономически эффективными и обеспечивают высокое качество обслуживания насел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Прямоугольник с двумя вырезанными соседними углами 2"/>
          <p:cNvGrpSpPr/>
          <p:nvPr/>
        </p:nvGrpSpPr>
        <p:grpSpPr>
          <a:xfrm>
            <a:off x="981000" y="353880"/>
            <a:ext cx="7145280" cy="1432080"/>
            <a:chOff x="981000" y="353880"/>
            <a:chExt cx="7145280" cy="1432080"/>
          </a:xfrm>
        </p:grpSpPr>
        <p:pic>
          <p:nvPicPr>
            <p:cNvPr id="544" name="Прямоугольник с двумя вырезанными соседними углами 2" descr=""/>
            <p:cNvPicPr/>
            <p:nvPr/>
          </p:nvPicPr>
          <p:blipFill>
            <a:blip r:embed="rId1"/>
            <a:stretch/>
          </p:blipFill>
          <p:spPr>
            <a:xfrm>
              <a:off x="981000" y="353880"/>
              <a:ext cx="714528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1306440" y="696960"/>
              <a:ext cx="6531120" cy="10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Основные типы розничных торговых предприяти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Прямоугольник 3"/>
          <p:cNvGrpSpPr/>
          <p:nvPr/>
        </p:nvGrpSpPr>
        <p:grpSpPr>
          <a:xfrm>
            <a:off x="450720" y="2700360"/>
            <a:ext cx="3640320" cy="834840"/>
            <a:chOff x="450720" y="2700360"/>
            <a:chExt cx="3640320" cy="834840"/>
          </a:xfrm>
        </p:grpSpPr>
        <p:pic>
          <p:nvPicPr>
            <p:cNvPr id="54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50720" y="2700360"/>
              <a:ext cx="36403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33520" y="2819520"/>
              <a:ext cx="3504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ниверса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Прямоугольник 4"/>
          <p:cNvGrpSpPr/>
          <p:nvPr/>
        </p:nvGrpSpPr>
        <p:grpSpPr>
          <a:xfrm>
            <a:off x="450720" y="4071960"/>
            <a:ext cx="3640320" cy="834840"/>
            <a:chOff x="450720" y="4071960"/>
            <a:chExt cx="3640320" cy="834840"/>
          </a:xfrm>
        </p:grpSpPr>
        <p:pic>
          <p:nvPicPr>
            <p:cNvPr id="550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50720" y="4071960"/>
              <a:ext cx="36403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33520" y="4191120"/>
              <a:ext cx="3504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гастроно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Прямоугольник 5"/>
          <p:cNvGrpSpPr/>
          <p:nvPr/>
        </p:nvGrpSpPr>
        <p:grpSpPr>
          <a:xfrm>
            <a:off x="2736720" y="5370480"/>
            <a:ext cx="3640320" cy="835200"/>
            <a:chOff x="2736720" y="5370480"/>
            <a:chExt cx="3640320" cy="835200"/>
          </a:xfrm>
        </p:grpSpPr>
        <p:pic>
          <p:nvPicPr>
            <p:cNvPr id="553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736720" y="5370480"/>
              <a:ext cx="36403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2819520" y="5486400"/>
              <a:ext cx="3504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орговый до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Прямоугольник 6"/>
          <p:cNvGrpSpPr/>
          <p:nvPr/>
        </p:nvGrpSpPr>
        <p:grpSpPr>
          <a:xfrm>
            <a:off x="5022720" y="2700360"/>
            <a:ext cx="3640320" cy="834840"/>
            <a:chOff x="5022720" y="2700360"/>
            <a:chExt cx="3640320" cy="834840"/>
          </a:xfrm>
        </p:grpSpPr>
        <p:pic>
          <p:nvPicPr>
            <p:cNvPr id="556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5022720" y="2700360"/>
              <a:ext cx="36403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5105520" y="2819520"/>
              <a:ext cx="3504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ниверма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Прямоугольник 7"/>
          <p:cNvGrpSpPr/>
          <p:nvPr/>
        </p:nvGrpSpPr>
        <p:grpSpPr>
          <a:xfrm>
            <a:off x="5022720" y="4071960"/>
            <a:ext cx="3640320" cy="834840"/>
            <a:chOff x="5022720" y="4071960"/>
            <a:chExt cx="3640320" cy="834840"/>
          </a:xfrm>
        </p:grpSpPr>
        <p:pic>
          <p:nvPicPr>
            <p:cNvPr id="559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5022720" y="4071960"/>
              <a:ext cx="36403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5105520" y="4191120"/>
              <a:ext cx="3504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инимарке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61" name="Прямая со стрелкой 9"/>
          <p:cNvCxnSpPr>
            <a:stCxn id="544" idx="1"/>
            <a:endCxn id="547" idx="0"/>
          </p:cNvCxnSpPr>
          <p:nvPr/>
        </p:nvCxnSpPr>
        <p:spPr>
          <a:xfrm flipH="1">
            <a:off x="2285640" y="1752480"/>
            <a:ext cx="2286720" cy="106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2" name="Прямая со стрелкой 11"/>
          <p:cNvCxnSpPr>
            <a:stCxn id="544" idx="1"/>
            <a:endCxn id="556" idx="0"/>
          </p:cNvCxnSpPr>
          <p:nvPr/>
        </p:nvCxnSpPr>
        <p:spPr>
          <a:xfrm>
            <a:off x="4572000" y="1752480"/>
            <a:ext cx="2286720" cy="106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3" name="Прямая со стрелкой 13"/>
          <p:cNvCxnSpPr>
            <a:stCxn id="544" idx="1"/>
            <a:endCxn id="550" idx="3"/>
          </p:cNvCxnSpPr>
          <p:nvPr/>
        </p:nvCxnSpPr>
        <p:spPr>
          <a:xfrm flipH="1">
            <a:off x="4038120" y="1752480"/>
            <a:ext cx="534240" cy="278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4" name="Прямая со стрелкой 15"/>
          <p:cNvCxnSpPr>
            <a:stCxn id="544" idx="1"/>
            <a:endCxn id="559" idx="1"/>
          </p:cNvCxnSpPr>
          <p:nvPr/>
        </p:nvCxnSpPr>
        <p:spPr>
          <a:xfrm>
            <a:off x="4572000" y="1752480"/>
            <a:ext cx="534240" cy="278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5" name="Прямая со стрелкой 17"/>
          <p:cNvCxnSpPr>
            <a:stCxn id="544" idx="1"/>
            <a:endCxn id="553" idx="0"/>
          </p:cNvCxnSpPr>
          <p:nvPr/>
        </p:nvCxnSpPr>
        <p:spPr>
          <a:xfrm flipH="1">
            <a:off x="4570200" y="1753920"/>
            <a:ext cx="3600" cy="3734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Блок-схема: подготовка 1"/>
          <p:cNvGrpSpPr/>
          <p:nvPr/>
        </p:nvGrpSpPr>
        <p:grpSpPr>
          <a:xfrm>
            <a:off x="755640" y="573120"/>
            <a:ext cx="7755120" cy="1590480"/>
            <a:chOff x="755640" y="573120"/>
            <a:chExt cx="7755120" cy="1590480"/>
          </a:xfrm>
        </p:grpSpPr>
        <p:pic>
          <p:nvPicPr>
            <p:cNvPr id="567" name="Блок-схема: подготовка 1" descr=""/>
            <p:cNvPicPr/>
            <p:nvPr/>
          </p:nvPicPr>
          <p:blipFill>
            <a:blip r:embed="rId1"/>
            <a:stretch/>
          </p:blipFill>
          <p:spPr>
            <a:xfrm>
              <a:off x="755640" y="573120"/>
              <a:ext cx="77551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2362320" y="685800"/>
              <a:ext cx="45720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Факторы, влияющие на размещение магазинов в города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Прямоугольник с двумя скругленными противолежащими углами 2"/>
          <p:cNvGrpSpPr/>
          <p:nvPr/>
        </p:nvGrpSpPr>
        <p:grpSpPr>
          <a:xfrm>
            <a:off x="371520" y="4773600"/>
            <a:ext cx="3871800" cy="1047600"/>
            <a:chOff x="371520" y="4773600"/>
            <a:chExt cx="3871800" cy="1047600"/>
          </a:xfrm>
        </p:grpSpPr>
        <p:pic>
          <p:nvPicPr>
            <p:cNvPr id="570" name="Прямоугольник с двумя скругленными противолежащими углами 2" descr=""/>
            <p:cNvPicPr/>
            <p:nvPr/>
          </p:nvPicPr>
          <p:blipFill>
            <a:blip r:embed="rId2"/>
            <a:stretch/>
          </p:blipFill>
          <p:spPr>
            <a:xfrm>
              <a:off x="371520" y="4773600"/>
              <a:ext cx="38718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01480" y="4921200"/>
              <a:ext cx="364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ранспорт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Прямоугольник с двумя скругленными противолежащими углами 3"/>
          <p:cNvGrpSpPr/>
          <p:nvPr/>
        </p:nvGrpSpPr>
        <p:grpSpPr>
          <a:xfrm>
            <a:off x="371520" y="3097080"/>
            <a:ext cx="3871800" cy="1047960"/>
            <a:chOff x="371520" y="3097080"/>
            <a:chExt cx="3871800" cy="1047960"/>
          </a:xfrm>
        </p:grpSpPr>
        <p:pic>
          <p:nvPicPr>
            <p:cNvPr id="573" name="Прямоугольник с двумя скругленными противолежащими углами 3" descr=""/>
            <p:cNvPicPr/>
            <p:nvPr/>
          </p:nvPicPr>
          <p:blipFill>
            <a:blip r:embed="rId3"/>
            <a:stretch/>
          </p:blipFill>
          <p:spPr>
            <a:xfrm>
              <a:off x="371520" y="3097080"/>
              <a:ext cx="38718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501480" y="3244680"/>
              <a:ext cx="364500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радостроите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Прямоугольник с двумя скругленными противолежащими углами 4"/>
          <p:cNvGrpSpPr/>
          <p:nvPr/>
        </p:nvGrpSpPr>
        <p:grpSpPr>
          <a:xfrm>
            <a:off x="5022720" y="4773600"/>
            <a:ext cx="3865680" cy="1047600"/>
            <a:chOff x="5022720" y="4773600"/>
            <a:chExt cx="3865680" cy="1047600"/>
          </a:xfrm>
        </p:grpSpPr>
        <p:pic>
          <p:nvPicPr>
            <p:cNvPr id="576" name="Прямоугольник с двумя скругленными противолежащими углами 4" descr=""/>
            <p:cNvPicPr/>
            <p:nvPr/>
          </p:nvPicPr>
          <p:blipFill>
            <a:blip r:embed="rId4"/>
            <a:stretch/>
          </p:blipFill>
          <p:spPr>
            <a:xfrm>
              <a:off x="5022720" y="4773600"/>
              <a:ext cx="38656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5149800" y="4921200"/>
              <a:ext cx="364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Прямоугольник с двумя скругленными противолежащими углами 5"/>
          <p:cNvGrpSpPr/>
          <p:nvPr/>
        </p:nvGrpSpPr>
        <p:grpSpPr>
          <a:xfrm>
            <a:off x="4943520" y="3097080"/>
            <a:ext cx="3871800" cy="1047960"/>
            <a:chOff x="4943520" y="3097080"/>
            <a:chExt cx="3871800" cy="1047960"/>
          </a:xfrm>
        </p:grpSpPr>
        <p:pic>
          <p:nvPicPr>
            <p:cNvPr id="579" name="Прямоугольник с двумя скругленными противолежащими углами 5" descr=""/>
            <p:cNvPicPr/>
            <p:nvPr/>
          </p:nvPicPr>
          <p:blipFill>
            <a:blip r:embed="rId5"/>
            <a:stretch/>
          </p:blipFill>
          <p:spPr>
            <a:xfrm>
              <a:off x="4943520" y="3097080"/>
              <a:ext cx="38718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5073480" y="3244680"/>
              <a:ext cx="364500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Прямая со стрелкой 7"/>
          <p:cNvCxnSpPr>
            <a:stCxn id="567" idx="2"/>
            <a:endCxn id="573" idx="0"/>
          </p:cNvCxnSpPr>
          <p:nvPr/>
        </p:nvCxnSpPr>
        <p:spPr>
          <a:xfrm flipH="1">
            <a:off x="4190760" y="2133360"/>
            <a:ext cx="45792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2" name="Прямая со стрелкой 9"/>
          <p:cNvCxnSpPr>
            <a:stCxn id="567" idx="2"/>
            <a:endCxn id="579" idx="2"/>
          </p:cNvCxnSpPr>
          <p:nvPr/>
        </p:nvCxnSpPr>
        <p:spPr>
          <a:xfrm>
            <a:off x="4648320" y="2133360"/>
            <a:ext cx="38160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3" name="Прямая со стрелкой 11"/>
          <p:cNvCxnSpPr>
            <a:stCxn id="567" idx="2"/>
            <a:endCxn id="570" idx="0"/>
          </p:cNvCxnSpPr>
          <p:nvPr/>
        </p:nvCxnSpPr>
        <p:spPr>
          <a:xfrm flipH="1">
            <a:off x="4190760" y="2133720"/>
            <a:ext cx="457920" cy="320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4" name="Прямая со стрелкой 13"/>
          <p:cNvCxnSpPr>
            <a:stCxn id="567" idx="2"/>
            <a:endCxn id="576" idx="2"/>
          </p:cNvCxnSpPr>
          <p:nvPr/>
        </p:nvCxnSpPr>
        <p:spPr>
          <a:xfrm>
            <a:off x="4648320" y="2133720"/>
            <a:ext cx="457920" cy="320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Прямоугольник с двумя вырезанными противолежащими углами 1"/>
          <p:cNvGrpSpPr/>
          <p:nvPr/>
        </p:nvGrpSpPr>
        <p:grpSpPr>
          <a:xfrm>
            <a:off x="828720" y="433440"/>
            <a:ext cx="7602480" cy="1425600"/>
            <a:chOff x="828720" y="433440"/>
            <a:chExt cx="7602480" cy="1425600"/>
          </a:xfrm>
        </p:grpSpPr>
        <p:pic>
          <p:nvPicPr>
            <p:cNvPr id="586" name="Прямоугольник с двумя вырезанными противолежащими углами 1" descr=""/>
            <p:cNvPicPr/>
            <p:nvPr/>
          </p:nvPicPr>
          <p:blipFill>
            <a:blip r:embed="rId1"/>
            <a:stretch/>
          </p:blipFill>
          <p:spPr>
            <a:xfrm>
              <a:off x="828720" y="433440"/>
              <a:ext cx="76024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1201680" y="820800"/>
              <a:ext cx="6892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инципы рационального размещения сети розничных торговых предприяти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Прямоугольник 2"/>
          <p:cNvGrpSpPr/>
          <p:nvPr/>
        </p:nvGrpSpPr>
        <p:grpSpPr>
          <a:xfrm>
            <a:off x="371520" y="2335320"/>
            <a:ext cx="3719520" cy="1047600"/>
            <a:chOff x="371520" y="2335320"/>
            <a:chExt cx="3719520" cy="1047600"/>
          </a:xfrm>
        </p:grpSpPr>
        <p:pic>
          <p:nvPicPr>
            <p:cNvPr id="58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71520" y="2335320"/>
              <a:ext cx="371952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457200" y="2438280"/>
              <a:ext cx="3581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авномерн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Прямоугольник 3"/>
          <p:cNvGrpSpPr/>
          <p:nvPr/>
        </p:nvGrpSpPr>
        <p:grpSpPr>
          <a:xfrm>
            <a:off x="1895400" y="3638520"/>
            <a:ext cx="3719520" cy="1116000"/>
            <a:chOff x="1895400" y="3638520"/>
            <a:chExt cx="3719520" cy="1116000"/>
          </a:xfrm>
        </p:grpSpPr>
        <p:pic>
          <p:nvPicPr>
            <p:cNvPr id="59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95400" y="3638520"/>
              <a:ext cx="3719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1981080" y="3809880"/>
              <a:ext cx="3581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рупповое размещ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Прямоугольник 4"/>
          <p:cNvGrpSpPr/>
          <p:nvPr/>
        </p:nvGrpSpPr>
        <p:grpSpPr>
          <a:xfrm>
            <a:off x="2809800" y="5005440"/>
            <a:ext cx="5773680" cy="1657440"/>
            <a:chOff x="2809800" y="5005440"/>
            <a:chExt cx="5773680" cy="1657440"/>
          </a:xfrm>
        </p:grpSpPr>
        <p:pic>
          <p:nvPicPr>
            <p:cNvPr id="595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809800" y="5005440"/>
              <a:ext cx="57736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2895480" y="5105520"/>
              <a:ext cx="56390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риентация магазинов на определенную зону торгового обслужив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97" name="Shape 6"/>
          <p:cNvCxnSpPr>
            <a:stCxn id="586" idx="1"/>
            <a:endCxn id="589" idx="3"/>
          </p:cNvCxnSpPr>
          <p:nvPr/>
        </p:nvCxnSpPr>
        <p:spPr>
          <a:xfrm rot="5400000">
            <a:off x="3809520" y="2057040"/>
            <a:ext cx="1067400" cy="6105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8" name="Shape 8"/>
          <p:cNvCxnSpPr>
            <a:stCxn id="586" idx="1"/>
            <a:endCxn id="592" idx="3"/>
          </p:cNvCxnSpPr>
          <p:nvPr/>
        </p:nvCxnSpPr>
        <p:spPr>
          <a:xfrm flipH="1" rot="16200000">
            <a:off x="3886200" y="2590200"/>
            <a:ext cx="2439000" cy="915120"/>
          </a:xfrm>
          <a:prstGeom prst="curvedConnector5">
            <a:avLst>
              <a:gd name="adj1" fmla="val 39503"/>
              <a:gd name="adj2" fmla="val 69618"/>
              <a:gd name="adj3" fmla="val 3950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hape 11"/>
          <p:cNvCxnSpPr>
            <a:stCxn id="586" idx="1"/>
            <a:endCxn id="595" idx="3"/>
          </p:cNvCxnSpPr>
          <p:nvPr/>
        </p:nvCxnSpPr>
        <p:spPr>
          <a:xfrm flipH="1" rot="16200000">
            <a:off x="4571280" y="1904760"/>
            <a:ext cx="4039200" cy="3886920"/>
          </a:xfrm>
          <a:prstGeom prst="curvedConnector5">
            <a:avLst>
              <a:gd name="adj1" fmla="val 24342"/>
              <a:gd name="adj2" fmla="val 52936"/>
              <a:gd name="adj3" fmla="val 24342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Прямоугольник с двумя скругленными соседними углами 1"/>
          <p:cNvGrpSpPr/>
          <p:nvPr/>
        </p:nvGrpSpPr>
        <p:grpSpPr>
          <a:xfrm>
            <a:off x="1212840" y="281160"/>
            <a:ext cx="7066080" cy="1809720"/>
            <a:chOff x="1212840" y="281160"/>
            <a:chExt cx="7066080" cy="1809720"/>
          </a:xfrm>
        </p:grpSpPr>
        <p:pic>
          <p:nvPicPr>
            <p:cNvPr id="601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212840" y="281160"/>
              <a:ext cx="7066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1427040" y="512640"/>
              <a:ext cx="667080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соответствии с принципом ориентации магазинов на определенную зону обслуживания вся розничная торговая сеть делится н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Блок-схема: знак завершения 2"/>
          <p:cNvGrpSpPr/>
          <p:nvPr/>
        </p:nvGrpSpPr>
        <p:grpSpPr>
          <a:xfrm>
            <a:off x="371520" y="2487600"/>
            <a:ext cx="4249800" cy="1127160"/>
            <a:chOff x="371520" y="2487600"/>
            <a:chExt cx="4249800" cy="1127160"/>
          </a:xfrm>
        </p:grpSpPr>
        <p:pic>
          <p:nvPicPr>
            <p:cNvPr id="604" name="Блок-схема: знак завершения 2" descr=""/>
            <p:cNvPicPr/>
            <p:nvPr/>
          </p:nvPicPr>
          <p:blipFill>
            <a:blip r:embed="rId2"/>
            <a:stretch/>
          </p:blipFill>
          <p:spPr>
            <a:xfrm>
              <a:off x="371520" y="2487600"/>
              <a:ext cx="42498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650880" y="2735280"/>
              <a:ext cx="3727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газины местного знач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6" name="Блок-схема: знак завершения 3"/>
          <p:cNvGrpSpPr/>
          <p:nvPr/>
        </p:nvGrpSpPr>
        <p:grpSpPr>
          <a:xfrm>
            <a:off x="1822320" y="3938760"/>
            <a:ext cx="4402440" cy="1120680"/>
            <a:chOff x="1822320" y="3938760"/>
            <a:chExt cx="4402440" cy="1120680"/>
          </a:xfrm>
        </p:grpSpPr>
        <p:pic>
          <p:nvPicPr>
            <p:cNvPr id="607" name="Блок-схема: знак завершения 3" descr=""/>
            <p:cNvPicPr/>
            <p:nvPr/>
          </p:nvPicPr>
          <p:blipFill>
            <a:blip r:embed="rId3"/>
            <a:stretch/>
          </p:blipFill>
          <p:spPr>
            <a:xfrm>
              <a:off x="1822320" y="3938760"/>
              <a:ext cx="44024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2106720" y="4183200"/>
              <a:ext cx="386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газины общегородского знач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" name="Блок-схема: знак завершения 4"/>
          <p:cNvGrpSpPr/>
          <p:nvPr/>
        </p:nvGrpSpPr>
        <p:grpSpPr>
          <a:xfrm>
            <a:off x="4181400" y="5310360"/>
            <a:ext cx="4481640" cy="1120680"/>
            <a:chOff x="4181400" y="5310360"/>
            <a:chExt cx="4481640" cy="1120680"/>
          </a:xfrm>
        </p:grpSpPr>
        <p:pic>
          <p:nvPicPr>
            <p:cNvPr id="610" name="Блок-схема: знак завершения 4" descr=""/>
            <p:cNvPicPr/>
            <p:nvPr/>
          </p:nvPicPr>
          <p:blipFill>
            <a:blip r:embed="rId4"/>
            <a:stretch/>
          </p:blipFill>
          <p:spPr>
            <a:xfrm>
              <a:off x="4181400" y="5310360"/>
              <a:ext cx="4481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471920" y="5554800"/>
              <a:ext cx="3933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газины в составе торговый центр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12" name="Shape 6"/>
          <p:cNvCxnSpPr>
            <a:stCxn id="601" idx="1"/>
            <a:endCxn id="604" idx="3"/>
          </p:cNvCxnSpPr>
          <p:nvPr/>
        </p:nvCxnSpPr>
        <p:spPr>
          <a:xfrm rot="5400000">
            <a:off x="4151880" y="2476440"/>
            <a:ext cx="1029600" cy="1911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3" name="Shape 8"/>
          <p:cNvCxnSpPr>
            <a:stCxn id="601" idx="1"/>
            <a:endCxn id="607" idx="3"/>
          </p:cNvCxnSpPr>
          <p:nvPr/>
        </p:nvCxnSpPr>
        <p:spPr>
          <a:xfrm flipH="1" rot="16200000">
            <a:off x="4228920" y="2590200"/>
            <a:ext cx="2477160" cy="1410480"/>
          </a:xfrm>
          <a:prstGeom prst="curvedConnector5">
            <a:avLst>
              <a:gd name="adj1" fmla="val 40000"/>
              <a:gd name="adj2" fmla="val 68623"/>
              <a:gd name="adj3" fmla="val 4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4" name="Shape 11"/>
          <p:cNvCxnSpPr>
            <a:stCxn id="601" idx="1"/>
            <a:endCxn id="610" idx="3"/>
          </p:cNvCxnSpPr>
          <p:nvPr/>
        </p:nvCxnSpPr>
        <p:spPr>
          <a:xfrm flipH="1" rot="16200000">
            <a:off x="4761360" y="2057040"/>
            <a:ext cx="3848760" cy="3848760"/>
          </a:xfrm>
          <a:prstGeom prst="curvedConnector5">
            <a:avLst>
              <a:gd name="adj1" fmla="val 23695"/>
              <a:gd name="adj2" fmla="val 52965"/>
              <a:gd name="adj3" fmla="val 23695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Заголовок 1" descr=""/>
          <p:cNvPicPr/>
          <p:nvPr/>
        </p:nvPicPr>
        <p:blipFill>
          <a:blip r:embed="rId1"/>
          <a:stretch/>
        </p:blipFill>
        <p:spPr>
          <a:xfrm>
            <a:off x="378000" y="1682640"/>
            <a:ext cx="8242200" cy="255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extBox 1" descr=""/>
          <p:cNvPicPr/>
          <p:nvPr/>
        </p:nvPicPr>
        <p:blipFill>
          <a:blip r:embed="rId1"/>
          <a:stretch/>
        </p:blipFill>
        <p:spPr>
          <a:xfrm>
            <a:off x="378000" y="554040"/>
            <a:ext cx="8278560" cy="4846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Овал 1"/>
          <p:cNvGrpSpPr/>
          <p:nvPr/>
        </p:nvGrpSpPr>
        <p:grpSpPr>
          <a:xfrm>
            <a:off x="981000" y="128520"/>
            <a:ext cx="7755120" cy="1200240"/>
            <a:chOff x="981000" y="128520"/>
            <a:chExt cx="7755120" cy="1200240"/>
          </a:xfrm>
        </p:grpSpPr>
        <p:pic>
          <p:nvPicPr>
            <p:cNvPr id="348" name="Овал 1" descr=""/>
            <p:cNvPicPr/>
            <p:nvPr/>
          </p:nvPicPr>
          <p:blipFill>
            <a:blip r:embed="rId1"/>
            <a:stretch/>
          </p:blipFill>
          <p:spPr>
            <a:xfrm>
              <a:off x="981000" y="128520"/>
              <a:ext cx="77551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182680" y="384120"/>
              <a:ext cx="538812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лассификация розничных торговых предприяти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Прямоугольник 2"/>
          <p:cNvGrpSpPr/>
          <p:nvPr/>
        </p:nvGrpSpPr>
        <p:grpSpPr>
          <a:xfrm>
            <a:off x="122400" y="2871720"/>
            <a:ext cx="3389040" cy="1882800"/>
            <a:chOff x="122400" y="2871720"/>
            <a:chExt cx="3389040" cy="1882800"/>
          </a:xfrm>
        </p:grpSpPr>
        <p:pic>
          <p:nvPicPr>
            <p:cNvPr id="35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22400" y="2871720"/>
              <a:ext cx="338904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304920" y="2971800"/>
              <a:ext cx="2971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о особенностям устройств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Блок-схема: знак завершения 3"/>
          <p:cNvGrpSpPr/>
          <p:nvPr/>
        </p:nvGrpSpPr>
        <p:grpSpPr>
          <a:xfrm>
            <a:off x="3041640" y="1500120"/>
            <a:ext cx="3640320" cy="816120"/>
            <a:chOff x="3041640" y="1500120"/>
            <a:chExt cx="3640320" cy="816120"/>
          </a:xfrm>
        </p:grpSpPr>
        <p:pic>
          <p:nvPicPr>
            <p:cNvPr id="354" name="Блок-схема: знак завершения 3" descr=""/>
            <p:cNvPicPr/>
            <p:nvPr/>
          </p:nvPicPr>
          <p:blipFill>
            <a:blip r:embed="rId3"/>
            <a:stretch/>
          </p:blipFill>
          <p:spPr>
            <a:xfrm>
              <a:off x="3041640" y="1500120"/>
              <a:ext cx="36403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3289320" y="1700280"/>
              <a:ext cx="31748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агазин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Блок-схема: знак завершения 4"/>
          <p:cNvGrpSpPr/>
          <p:nvPr/>
        </p:nvGrpSpPr>
        <p:grpSpPr>
          <a:xfrm>
            <a:off x="4181400" y="2328840"/>
            <a:ext cx="3651480" cy="749160"/>
            <a:chOff x="4181400" y="2328840"/>
            <a:chExt cx="3651480" cy="749160"/>
          </a:xfrm>
        </p:grpSpPr>
        <p:pic>
          <p:nvPicPr>
            <p:cNvPr id="357" name="Блок-схема: знак завершения 4" descr=""/>
            <p:cNvPicPr/>
            <p:nvPr/>
          </p:nvPicPr>
          <p:blipFill>
            <a:blip r:embed="rId4"/>
            <a:stretch/>
          </p:blipFill>
          <p:spPr>
            <a:xfrm>
              <a:off x="4181400" y="2328840"/>
              <a:ext cx="36514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432320" y="2527200"/>
              <a:ext cx="31748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агазины-склады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Блок-схема: знак завершения 5"/>
          <p:cNvGrpSpPr/>
          <p:nvPr/>
        </p:nvGrpSpPr>
        <p:grpSpPr>
          <a:xfrm>
            <a:off x="4638600" y="3170160"/>
            <a:ext cx="3640320" cy="749520"/>
            <a:chOff x="4638600" y="3170160"/>
            <a:chExt cx="3640320" cy="749520"/>
          </a:xfrm>
        </p:grpSpPr>
        <p:pic>
          <p:nvPicPr>
            <p:cNvPr id="360" name="Блок-схема: знак завершения 5" descr=""/>
            <p:cNvPicPr/>
            <p:nvPr/>
          </p:nvPicPr>
          <p:blipFill>
            <a:blip r:embed="rId5"/>
            <a:stretch/>
          </p:blipFill>
          <p:spPr>
            <a:xfrm>
              <a:off x="4638600" y="3170160"/>
              <a:ext cx="36403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889520" y="3365640"/>
              <a:ext cx="31748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авильон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Блок-схема: знак завершения 6"/>
          <p:cNvGrpSpPr/>
          <p:nvPr/>
        </p:nvGrpSpPr>
        <p:grpSpPr>
          <a:xfrm>
            <a:off x="5553000" y="4005360"/>
            <a:ext cx="3640320" cy="749160"/>
            <a:chOff x="5553000" y="4005360"/>
            <a:chExt cx="3640320" cy="749160"/>
          </a:xfrm>
        </p:grpSpPr>
        <p:pic>
          <p:nvPicPr>
            <p:cNvPr id="363" name="Блок-схема: знак завершения 6" descr=""/>
            <p:cNvPicPr/>
            <p:nvPr/>
          </p:nvPicPr>
          <p:blipFill>
            <a:blip r:embed="rId6"/>
            <a:stretch/>
          </p:blipFill>
          <p:spPr>
            <a:xfrm>
              <a:off x="5553000" y="4005360"/>
              <a:ext cx="36403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803920" y="4203720"/>
              <a:ext cx="31748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иос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Блок-схема: знак завершения 7"/>
          <p:cNvGrpSpPr/>
          <p:nvPr/>
        </p:nvGrpSpPr>
        <p:grpSpPr>
          <a:xfrm>
            <a:off x="4486320" y="4853160"/>
            <a:ext cx="3639960" cy="815760"/>
            <a:chOff x="4486320" y="4853160"/>
            <a:chExt cx="3639960" cy="815760"/>
          </a:xfrm>
        </p:grpSpPr>
        <p:pic>
          <p:nvPicPr>
            <p:cNvPr id="366" name="Блок-схема: знак завершения 7" descr=""/>
            <p:cNvPicPr/>
            <p:nvPr/>
          </p:nvPicPr>
          <p:blipFill>
            <a:blip r:embed="rId7"/>
            <a:stretch/>
          </p:blipFill>
          <p:spPr>
            <a:xfrm>
              <a:off x="4486320" y="4853160"/>
              <a:ext cx="36399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737240" y="5052960"/>
              <a:ext cx="31748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алат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Блок-схема: знак завершения 8"/>
          <p:cNvGrpSpPr/>
          <p:nvPr/>
        </p:nvGrpSpPr>
        <p:grpSpPr>
          <a:xfrm>
            <a:off x="2809800" y="5767560"/>
            <a:ext cx="3640320" cy="815760"/>
            <a:chOff x="2809800" y="5767560"/>
            <a:chExt cx="3640320" cy="815760"/>
          </a:xfrm>
        </p:grpSpPr>
        <p:pic>
          <p:nvPicPr>
            <p:cNvPr id="369" name="Блок-схема: знак завершения 8" descr=""/>
            <p:cNvPicPr/>
            <p:nvPr/>
          </p:nvPicPr>
          <p:blipFill>
            <a:blip r:embed="rId8"/>
            <a:stretch/>
          </p:blipFill>
          <p:spPr>
            <a:xfrm>
              <a:off x="2809800" y="5767560"/>
              <a:ext cx="36403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3060720" y="5967360"/>
              <a:ext cx="31748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втомагазин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1" name="Прямая со стрелкой 13"/>
          <p:cNvCxnSpPr>
            <a:stCxn id="351" idx="3"/>
            <a:endCxn id="357" idx="1"/>
          </p:cNvCxnSpPr>
          <p:nvPr/>
        </p:nvCxnSpPr>
        <p:spPr>
          <a:xfrm flipV="1">
            <a:off x="3276360" y="2742480"/>
            <a:ext cx="991080" cy="1105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2" name="Shape 15"/>
          <p:cNvCxnSpPr>
            <a:stCxn id="351" idx="3"/>
            <a:endCxn id="354" idx="1"/>
          </p:cNvCxnSpPr>
          <p:nvPr/>
        </p:nvCxnSpPr>
        <p:spPr>
          <a:xfrm flipH="1" flipV="1">
            <a:off x="3123720" y="1942560"/>
            <a:ext cx="153360" cy="1905480"/>
          </a:xfrm>
          <a:prstGeom prst="curvedConnector5">
            <a:avLst>
              <a:gd name="adj1" fmla="val -149882"/>
              <a:gd name="adj2" fmla="val 31991"/>
              <a:gd name="adj3" fmla="val -149882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3" name="Прямая со стрелкой 19"/>
          <p:cNvCxnSpPr>
            <a:stCxn id="351" idx="3"/>
            <a:endCxn id="360" idx="1"/>
          </p:cNvCxnSpPr>
          <p:nvPr/>
        </p:nvCxnSpPr>
        <p:spPr>
          <a:xfrm flipV="1">
            <a:off x="3276360" y="3580920"/>
            <a:ext cx="1448280" cy="267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Прямая со стрелкой 21"/>
          <p:cNvCxnSpPr>
            <a:stCxn id="351" idx="3"/>
            <a:endCxn id="363" idx="1"/>
          </p:cNvCxnSpPr>
          <p:nvPr/>
        </p:nvCxnSpPr>
        <p:spPr>
          <a:xfrm>
            <a:off x="3276360" y="3848040"/>
            <a:ext cx="2362680" cy="57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Прямая со стрелкой 23"/>
          <p:cNvCxnSpPr>
            <a:stCxn id="351" idx="3"/>
            <a:endCxn id="366" idx="1"/>
          </p:cNvCxnSpPr>
          <p:nvPr/>
        </p:nvCxnSpPr>
        <p:spPr>
          <a:xfrm>
            <a:off x="3276720" y="3848040"/>
            <a:ext cx="1296000" cy="144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6" name="Прямая со стрелкой 25"/>
          <p:cNvCxnSpPr>
            <a:stCxn id="351" idx="3"/>
            <a:endCxn id="369" idx="0"/>
          </p:cNvCxnSpPr>
          <p:nvPr/>
        </p:nvCxnSpPr>
        <p:spPr>
          <a:xfrm>
            <a:off x="3276720" y="3847680"/>
            <a:ext cx="1372320" cy="2019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Прямоугольник 1"/>
          <p:cNvGrpSpPr/>
          <p:nvPr/>
        </p:nvGrpSpPr>
        <p:grpSpPr>
          <a:xfrm>
            <a:off x="298440" y="3925800"/>
            <a:ext cx="3335400" cy="1590840"/>
            <a:chOff x="298440" y="3925800"/>
            <a:chExt cx="3335400" cy="1590840"/>
          </a:xfrm>
        </p:grpSpPr>
        <p:pic>
          <p:nvPicPr>
            <p:cNvPr id="37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98440" y="3925800"/>
              <a:ext cx="333540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80880" y="4038480"/>
              <a:ext cx="32004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 размерам торговой площади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Прямоугольник 2"/>
          <p:cNvGrpSpPr/>
          <p:nvPr/>
        </p:nvGrpSpPr>
        <p:grpSpPr>
          <a:xfrm>
            <a:off x="371520" y="725400"/>
            <a:ext cx="3378240" cy="1590840"/>
            <a:chOff x="371520" y="725400"/>
            <a:chExt cx="3378240" cy="1590840"/>
          </a:xfrm>
        </p:grpSpPr>
        <p:pic>
          <p:nvPicPr>
            <p:cNvPr id="38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71520" y="725400"/>
              <a:ext cx="33782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57200" y="838080"/>
              <a:ext cx="32004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 видам (товарной специализации)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Блок-схема: знак завершения 3"/>
          <p:cNvGrpSpPr/>
          <p:nvPr/>
        </p:nvGrpSpPr>
        <p:grpSpPr>
          <a:xfrm>
            <a:off x="3956040" y="281160"/>
            <a:ext cx="3640320" cy="742680"/>
            <a:chOff x="3956040" y="281160"/>
            <a:chExt cx="3640320" cy="742680"/>
          </a:xfrm>
        </p:grpSpPr>
        <p:pic>
          <p:nvPicPr>
            <p:cNvPr id="384" name="Блок-схема: знак завершения 3" descr=""/>
            <p:cNvPicPr/>
            <p:nvPr/>
          </p:nvPicPr>
          <p:blipFill>
            <a:blip r:embed="rId3"/>
            <a:stretch/>
          </p:blipFill>
          <p:spPr>
            <a:xfrm>
              <a:off x="3956040" y="281160"/>
              <a:ext cx="364032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203720" y="469800"/>
              <a:ext cx="31748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универсальн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Блок-схема: знак завершения 4"/>
          <p:cNvGrpSpPr/>
          <p:nvPr/>
        </p:nvGrpSpPr>
        <p:grpSpPr>
          <a:xfrm>
            <a:off x="4260960" y="1042920"/>
            <a:ext cx="3639960" cy="743040"/>
            <a:chOff x="4260960" y="1042920"/>
            <a:chExt cx="3639960" cy="743040"/>
          </a:xfrm>
        </p:grpSpPr>
        <p:pic>
          <p:nvPicPr>
            <p:cNvPr id="387" name="Блок-схема: знак завершения 4" descr=""/>
            <p:cNvPicPr/>
            <p:nvPr/>
          </p:nvPicPr>
          <p:blipFill>
            <a:blip r:embed="rId4"/>
            <a:stretch/>
          </p:blipFill>
          <p:spPr>
            <a:xfrm>
              <a:off x="4260960" y="1042920"/>
              <a:ext cx="363996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4508640" y="1231920"/>
              <a:ext cx="31748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комбинированн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Блок-схема: знак завершения 5"/>
          <p:cNvGrpSpPr/>
          <p:nvPr/>
        </p:nvGrpSpPr>
        <p:grpSpPr>
          <a:xfrm>
            <a:off x="4565520" y="1725480"/>
            <a:ext cx="4249800" cy="743040"/>
            <a:chOff x="4565520" y="1725480"/>
            <a:chExt cx="4249800" cy="743040"/>
          </a:xfrm>
        </p:grpSpPr>
        <p:pic>
          <p:nvPicPr>
            <p:cNvPr id="390" name="Блок-схема: знак завершения 5" descr=""/>
            <p:cNvPicPr/>
            <p:nvPr/>
          </p:nvPicPr>
          <p:blipFill>
            <a:blip r:embed="rId5"/>
            <a:stretch/>
          </p:blipFill>
          <p:spPr>
            <a:xfrm>
              <a:off x="4565520" y="1725480"/>
              <a:ext cx="424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842000" y="1917720"/>
              <a:ext cx="3727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специализированн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Блок-схема: знак завершения 6"/>
          <p:cNvGrpSpPr/>
          <p:nvPr/>
        </p:nvGrpSpPr>
        <p:grpSpPr>
          <a:xfrm>
            <a:off x="5022720" y="2487600"/>
            <a:ext cx="3713400" cy="743040"/>
            <a:chOff x="5022720" y="2487600"/>
            <a:chExt cx="3713400" cy="743040"/>
          </a:xfrm>
        </p:grpSpPr>
        <p:pic>
          <p:nvPicPr>
            <p:cNvPr id="393" name="Блок-схема: знак завершения 6" descr=""/>
            <p:cNvPicPr/>
            <p:nvPr/>
          </p:nvPicPr>
          <p:blipFill>
            <a:blip r:embed="rId6"/>
            <a:stretch/>
          </p:blipFill>
          <p:spPr>
            <a:xfrm>
              <a:off x="5022720" y="2487600"/>
              <a:ext cx="37134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273640" y="2679840"/>
              <a:ext cx="3245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смешанн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Блок-схема: знак завершения 7"/>
          <p:cNvGrpSpPr/>
          <p:nvPr/>
        </p:nvGrpSpPr>
        <p:grpSpPr>
          <a:xfrm>
            <a:off x="4029120" y="3554280"/>
            <a:ext cx="3639960" cy="743040"/>
            <a:chOff x="4029120" y="3554280"/>
            <a:chExt cx="3639960" cy="743040"/>
          </a:xfrm>
        </p:grpSpPr>
        <p:pic>
          <p:nvPicPr>
            <p:cNvPr id="396" name="Блок-схема: знак завершения 7" descr=""/>
            <p:cNvPicPr/>
            <p:nvPr/>
          </p:nvPicPr>
          <p:blipFill>
            <a:blip r:embed="rId7"/>
            <a:stretch/>
          </p:blipFill>
          <p:spPr>
            <a:xfrm>
              <a:off x="4029120" y="3554280"/>
              <a:ext cx="363996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280040" y="3746520"/>
              <a:ext cx="31748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мелки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Блок-схема: знак завершения 8"/>
          <p:cNvGrpSpPr/>
          <p:nvPr/>
        </p:nvGrpSpPr>
        <p:grpSpPr>
          <a:xfrm>
            <a:off x="4565520" y="4316400"/>
            <a:ext cx="3640320" cy="743040"/>
            <a:chOff x="4565520" y="4316400"/>
            <a:chExt cx="3640320" cy="743040"/>
          </a:xfrm>
        </p:grpSpPr>
        <p:pic>
          <p:nvPicPr>
            <p:cNvPr id="399" name="Блок-схема: знак завершения 8" descr=""/>
            <p:cNvPicPr/>
            <p:nvPr/>
          </p:nvPicPr>
          <p:blipFill>
            <a:blip r:embed="rId8"/>
            <a:stretch/>
          </p:blipFill>
          <p:spPr>
            <a:xfrm>
              <a:off x="4565520" y="4316400"/>
              <a:ext cx="36403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813200" y="4508640"/>
              <a:ext cx="3175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средни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Блок-схема: знак завершения 9"/>
          <p:cNvGrpSpPr/>
          <p:nvPr/>
        </p:nvGrpSpPr>
        <p:grpSpPr>
          <a:xfrm>
            <a:off x="5095800" y="5078520"/>
            <a:ext cx="3640320" cy="742680"/>
            <a:chOff x="5095800" y="5078520"/>
            <a:chExt cx="3640320" cy="742680"/>
          </a:xfrm>
        </p:grpSpPr>
        <p:pic>
          <p:nvPicPr>
            <p:cNvPr id="402" name="Блок-схема: знак завершения 9" descr=""/>
            <p:cNvPicPr/>
            <p:nvPr/>
          </p:nvPicPr>
          <p:blipFill>
            <a:blip r:embed="rId9"/>
            <a:stretch/>
          </p:blipFill>
          <p:spPr>
            <a:xfrm>
              <a:off x="5095800" y="5078520"/>
              <a:ext cx="364032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346720" y="5270400"/>
              <a:ext cx="31748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крупн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Блок-схема: знак завершения 10"/>
          <p:cNvGrpSpPr/>
          <p:nvPr/>
        </p:nvGrpSpPr>
        <p:grpSpPr>
          <a:xfrm>
            <a:off x="5553000" y="5840280"/>
            <a:ext cx="3640320" cy="743040"/>
            <a:chOff x="5553000" y="5840280"/>
            <a:chExt cx="3640320" cy="743040"/>
          </a:xfrm>
        </p:grpSpPr>
        <p:pic>
          <p:nvPicPr>
            <p:cNvPr id="405" name="Блок-схема: знак завершения 10" descr=""/>
            <p:cNvPicPr/>
            <p:nvPr/>
          </p:nvPicPr>
          <p:blipFill>
            <a:blip r:embed="rId10"/>
            <a:stretch/>
          </p:blipFill>
          <p:spPr>
            <a:xfrm>
              <a:off x="5553000" y="5840280"/>
              <a:ext cx="36403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803920" y="6032520"/>
              <a:ext cx="31748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особо крупн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07" name="Прямая со стрелкой 12"/>
          <p:cNvCxnSpPr>
            <a:stCxn id="381" idx="3"/>
            <a:endCxn id="384" idx="1"/>
          </p:cNvCxnSpPr>
          <p:nvPr/>
        </p:nvCxnSpPr>
        <p:spPr>
          <a:xfrm flipV="1">
            <a:off x="3657600" y="685440"/>
            <a:ext cx="381600" cy="876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Прямая со стрелкой 14"/>
          <p:cNvCxnSpPr>
            <a:stCxn id="381" idx="3"/>
            <a:endCxn id="387" idx="1"/>
          </p:cNvCxnSpPr>
          <p:nvPr/>
        </p:nvCxnSpPr>
        <p:spPr>
          <a:xfrm flipV="1">
            <a:off x="3657240" y="1447200"/>
            <a:ext cx="686520" cy="11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9" name="Прямая со стрелкой 16"/>
          <p:cNvCxnSpPr>
            <a:stCxn id="381" idx="3"/>
            <a:endCxn id="390" idx="1"/>
          </p:cNvCxnSpPr>
          <p:nvPr/>
        </p:nvCxnSpPr>
        <p:spPr>
          <a:xfrm>
            <a:off x="3657600" y="1562040"/>
            <a:ext cx="991440" cy="57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Прямая со стрелкой 18"/>
          <p:cNvCxnSpPr>
            <a:stCxn id="381" idx="3"/>
            <a:endCxn id="393" idx="1"/>
          </p:cNvCxnSpPr>
          <p:nvPr/>
        </p:nvCxnSpPr>
        <p:spPr>
          <a:xfrm>
            <a:off x="3657600" y="1562040"/>
            <a:ext cx="1448640" cy="1334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1" name="Прямая со стрелкой 20"/>
          <p:cNvCxnSpPr>
            <a:stCxn id="378" idx="3"/>
            <a:endCxn id="396" idx="1"/>
          </p:cNvCxnSpPr>
          <p:nvPr/>
        </p:nvCxnSpPr>
        <p:spPr>
          <a:xfrm flipV="1">
            <a:off x="3581280" y="3962160"/>
            <a:ext cx="534240" cy="800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2" name="Прямая со стрелкой 22"/>
          <p:cNvCxnSpPr>
            <a:stCxn id="378" idx="3"/>
            <a:endCxn id="399" idx="1"/>
          </p:cNvCxnSpPr>
          <p:nvPr/>
        </p:nvCxnSpPr>
        <p:spPr>
          <a:xfrm flipV="1">
            <a:off x="3581280" y="4723920"/>
            <a:ext cx="1067760" cy="38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3" name="Прямая со стрелкой 24"/>
          <p:cNvCxnSpPr>
            <a:stCxn id="378" idx="3"/>
            <a:endCxn id="402" idx="1"/>
          </p:cNvCxnSpPr>
          <p:nvPr/>
        </p:nvCxnSpPr>
        <p:spPr>
          <a:xfrm>
            <a:off x="3580920" y="4762080"/>
            <a:ext cx="1600920" cy="72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4" name="Прямая со стрелкой 26"/>
          <p:cNvCxnSpPr>
            <a:stCxn id="378" idx="3"/>
            <a:endCxn id="405" idx="1"/>
          </p:cNvCxnSpPr>
          <p:nvPr/>
        </p:nvCxnSpPr>
        <p:spPr>
          <a:xfrm>
            <a:off x="3580920" y="4762440"/>
            <a:ext cx="2057760" cy="148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Прямоугольник 1"/>
          <p:cNvGrpSpPr/>
          <p:nvPr/>
        </p:nvGrpSpPr>
        <p:grpSpPr>
          <a:xfrm>
            <a:off x="401760" y="682560"/>
            <a:ext cx="3481200" cy="1560600"/>
            <a:chOff x="401760" y="682560"/>
            <a:chExt cx="3481200" cy="1560600"/>
          </a:xfrm>
        </p:grpSpPr>
        <p:pic>
          <p:nvPicPr>
            <p:cNvPr id="41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01760" y="682560"/>
              <a:ext cx="34812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33520" y="838080"/>
              <a:ext cx="3124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 учетом функциональных особенностей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Прямоугольник 2"/>
          <p:cNvGrpSpPr/>
          <p:nvPr/>
        </p:nvGrpSpPr>
        <p:grpSpPr>
          <a:xfrm>
            <a:off x="281160" y="4419720"/>
            <a:ext cx="3535200" cy="1554120"/>
            <a:chOff x="281160" y="4419720"/>
            <a:chExt cx="3535200" cy="1554120"/>
          </a:xfrm>
        </p:grpSpPr>
        <p:pic>
          <p:nvPicPr>
            <p:cNvPr id="41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81160" y="4419720"/>
              <a:ext cx="353520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457200" y="4572000"/>
              <a:ext cx="3124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 зависимости от организационно-правовой формы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Блок-схема: знак завершения 3"/>
          <p:cNvGrpSpPr/>
          <p:nvPr/>
        </p:nvGrpSpPr>
        <p:grpSpPr>
          <a:xfrm>
            <a:off x="5022720" y="122400"/>
            <a:ext cx="3945240" cy="749160"/>
            <a:chOff x="5022720" y="122400"/>
            <a:chExt cx="3945240" cy="749160"/>
          </a:xfrm>
        </p:grpSpPr>
        <p:pic>
          <p:nvPicPr>
            <p:cNvPr id="422" name="Блок-схема: знак завершения 3" descr=""/>
            <p:cNvPicPr/>
            <p:nvPr/>
          </p:nvPicPr>
          <p:blipFill>
            <a:blip r:embed="rId3"/>
            <a:stretch/>
          </p:blipFill>
          <p:spPr>
            <a:xfrm>
              <a:off x="5022720" y="122400"/>
              <a:ext cx="3945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5284800" y="317520"/>
              <a:ext cx="34513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тационар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Блок-схема: знак завершения 4"/>
          <p:cNvGrpSpPr/>
          <p:nvPr/>
        </p:nvGrpSpPr>
        <p:grpSpPr>
          <a:xfrm>
            <a:off x="4565520" y="884160"/>
            <a:ext cx="3945240" cy="749520"/>
            <a:chOff x="4565520" y="884160"/>
            <a:chExt cx="3945240" cy="749520"/>
          </a:xfrm>
        </p:grpSpPr>
        <p:pic>
          <p:nvPicPr>
            <p:cNvPr id="425" name="Блок-схема: знак завершения 4" descr=""/>
            <p:cNvPicPr/>
            <p:nvPr/>
          </p:nvPicPr>
          <p:blipFill>
            <a:blip r:embed="rId4"/>
            <a:stretch/>
          </p:blipFill>
          <p:spPr>
            <a:xfrm>
              <a:off x="4565520" y="884160"/>
              <a:ext cx="3945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827600" y="1079640"/>
              <a:ext cx="34513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ередвиж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Блок-схема: знак завершения 5"/>
          <p:cNvGrpSpPr/>
          <p:nvPr/>
        </p:nvGrpSpPr>
        <p:grpSpPr>
          <a:xfrm>
            <a:off x="4181400" y="1646280"/>
            <a:ext cx="3944880" cy="749160"/>
            <a:chOff x="4181400" y="1646280"/>
            <a:chExt cx="3944880" cy="749160"/>
          </a:xfrm>
        </p:grpSpPr>
        <p:pic>
          <p:nvPicPr>
            <p:cNvPr id="428" name="Блок-схема: знак завершения 5" descr=""/>
            <p:cNvPicPr/>
            <p:nvPr/>
          </p:nvPicPr>
          <p:blipFill>
            <a:blip r:embed="rId5"/>
            <a:stretch/>
          </p:blipFill>
          <p:spPr>
            <a:xfrm>
              <a:off x="4181400" y="1646280"/>
              <a:ext cx="39448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4446720" y="1841400"/>
              <a:ext cx="3450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езо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Блок-схема: знак завершения 6"/>
          <p:cNvGrpSpPr/>
          <p:nvPr/>
        </p:nvGrpSpPr>
        <p:grpSpPr>
          <a:xfrm>
            <a:off x="3346560" y="2408400"/>
            <a:ext cx="3944880" cy="749160"/>
            <a:chOff x="3346560" y="2408400"/>
            <a:chExt cx="3944880" cy="749160"/>
          </a:xfrm>
        </p:grpSpPr>
        <p:pic>
          <p:nvPicPr>
            <p:cNvPr id="431" name="Блок-схема: знак завершения 6" descr=""/>
            <p:cNvPicPr/>
            <p:nvPr/>
          </p:nvPicPr>
          <p:blipFill>
            <a:blip r:embed="rId6"/>
            <a:stretch/>
          </p:blipFill>
          <p:spPr>
            <a:xfrm>
              <a:off x="3346560" y="2408400"/>
              <a:ext cx="39448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608280" y="2603520"/>
              <a:ext cx="34513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сылоч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Блок-схема: знак завершения 7"/>
          <p:cNvGrpSpPr/>
          <p:nvPr/>
        </p:nvGrpSpPr>
        <p:grpSpPr>
          <a:xfrm>
            <a:off x="2127240" y="3170160"/>
            <a:ext cx="3944880" cy="749520"/>
            <a:chOff x="2127240" y="3170160"/>
            <a:chExt cx="3944880" cy="749520"/>
          </a:xfrm>
        </p:grpSpPr>
        <p:pic>
          <p:nvPicPr>
            <p:cNvPr id="434" name="Блок-схема: знак завершения 7" descr=""/>
            <p:cNvPicPr/>
            <p:nvPr/>
          </p:nvPicPr>
          <p:blipFill>
            <a:blip r:embed="rId7"/>
            <a:stretch/>
          </p:blipFill>
          <p:spPr>
            <a:xfrm>
              <a:off x="2127240" y="3170160"/>
              <a:ext cx="39448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389320" y="3365640"/>
              <a:ext cx="34509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миссио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Блок-схема: знак завершения 8"/>
          <p:cNvGrpSpPr/>
          <p:nvPr/>
        </p:nvGrpSpPr>
        <p:grpSpPr>
          <a:xfrm>
            <a:off x="4260960" y="4084560"/>
            <a:ext cx="3944880" cy="749520"/>
            <a:chOff x="4260960" y="4084560"/>
            <a:chExt cx="3944880" cy="749520"/>
          </a:xfrm>
        </p:grpSpPr>
        <p:pic>
          <p:nvPicPr>
            <p:cNvPr id="437" name="Блок-схема: знак завершения 8" descr=""/>
            <p:cNvPicPr/>
            <p:nvPr/>
          </p:nvPicPr>
          <p:blipFill>
            <a:blip r:embed="rId8"/>
            <a:stretch/>
          </p:blipFill>
          <p:spPr>
            <a:xfrm>
              <a:off x="4260960" y="4084560"/>
              <a:ext cx="39448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4522680" y="4280040"/>
              <a:ext cx="34513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осудар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Блок-схема: знак завершения 9"/>
          <p:cNvGrpSpPr/>
          <p:nvPr/>
        </p:nvGrpSpPr>
        <p:grpSpPr>
          <a:xfrm>
            <a:off x="5248440" y="4998960"/>
            <a:ext cx="3944880" cy="749520"/>
            <a:chOff x="5248440" y="4998960"/>
            <a:chExt cx="3944880" cy="749520"/>
          </a:xfrm>
        </p:grpSpPr>
        <p:pic>
          <p:nvPicPr>
            <p:cNvPr id="440" name="Блок-схема: знак завершения 9" descr=""/>
            <p:cNvPicPr/>
            <p:nvPr/>
          </p:nvPicPr>
          <p:blipFill>
            <a:blip r:embed="rId9"/>
            <a:stretch/>
          </p:blipFill>
          <p:spPr>
            <a:xfrm>
              <a:off x="5248440" y="4998960"/>
              <a:ext cx="39448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13400" y="5194440"/>
              <a:ext cx="34513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оператив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2" name="Блок-схема: знак завершения 10"/>
          <p:cNvGrpSpPr/>
          <p:nvPr/>
        </p:nvGrpSpPr>
        <p:grpSpPr>
          <a:xfrm>
            <a:off x="4260960" y="5834160"/>
            <a:ext cx="3944880" cy="749160"/>
            <a:chOff x="4260960" y="5834160"/>
            <a:chExt cx="3944880" cy="749160"/>
          </a:xfrm>
        </p:grpSpPr>
        <p:pic>
          <p:nvPicPr>
            <p:cNvPr id="443" name="Блок-схема: знак завершения 10" descr=""/>
            <p:cNvPicPr/>
            <p:nvPr/>
          </p:nvPicPr>
          <p:blipFill>
            <a:blip r:embed="rId10"/>
            <a:stretch/>
          </p:blipFill>
          <p:spPr>
            <a:xfrm>
              <a:off x="4260960" y="5834160"/>
              <a:ext cx="39448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22680" y="6032520"/>
              <a:ext cx="34513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част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45" name="Прямая со стрелкой 12"/>
          <p:cNvCxnSpPr>
            <a:stCxn id="416" idx="3"/>
            <a:endCxn id="422" idx="1"/>
          </p:cNvCxnSpPr>
          <p:nvPr/>
        </p:nvCxnSpPr>
        <p:spPr>
          <a:xfrm flipV="1">
            <a:off x="3657600" y="532800"/>
            <a:ext cx="1448640" cy="99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14"/>
          <p:cNvCxnSpPr>
            <a:stCxn id="416" idx="3"/>
            <a:endCxn id="425" idx="1"/>
          </p:cNvCxnSpPr>
          <p:nvPr/>
        </p:nvCxnSpPr>
        <p:spPr>
          <a:xfrm flipV="1">
            <a:off x="3657600" y="1294560"/>
            <a:ext cx="9914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Прямая со стрелкой 16"/>
          <p:cNvCxnSpPr>
            <a:stCxn id="416" idx="3"/>
            <a:endCxn id="428" idx="1"/>
          </p:cNvCxnSpPr>
          <p:nvPr/>
        </p:nvCxnSpPr>
        <p:spPr>
          <a:xfrm>
            <a:off x="3657240" y="1523880"/>
            <a:ext cx="61020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Прямая со стрелкой 18"/>
          <p:cNvCxnSpPr>
            <a:stCxn id="416" idx="2"/>
            <a:endCxn id="431" idx="1"/>
          </p:cNvCxnSpPr>
          <p:nvPr/>
        </p:nvCxnSpPr>
        <p:spPr>
          <a:xfrm>
            <a:off x="2095560" y="2209680"/>
            <a:ext cx="133416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9" name="Прямая со стрелкой 20"/>
          <p:cNvCxnSpPr>
            <a:stCxn id="416" idx="2"/>
            <a:endCxn id="434" idx="1"/>
          </p:cNvCxnSpPr>
          <p:nvPr/>
        </p:nvCxnSpPr>
        <p:spPr>
          <a:xfrm>
            <a:off x="2094480" y="2209680"/>
            <a:ext cx="114840" cy="137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0" name="Прямая со стрелкой 22"/>
          <p:cNvCxnSpPr>
            <a:stCxn id="419" idx="3"/>
            <a:endCxn id="437" idx="1"/>
          </p:cNvCxnSpPr>
          <p:nvPr/>
        </p:nvCxnSpPr>
        <p:spPr>
          <a:xfrm flipV="1">
            <a:off x="3580920" y="4494960"/>
            <a:ext cx="762840" cy="76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Прямая со стрелкой 24"/>
          <p:cNvCxnSpPr>
            <a:stCxn id="419" idx="3"/>
            <a:endCxn id="440" idx="1"/>
          </p:cNvCxnSpPr>
          <p:nvPr/>
        </p:nvCxnSpPr>
        <p:spPr>
          <a:xfrm>
            <a:off x="3580920" y="5257440"/>
            <a:ext cx="175356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Прямая со стрелкой 27"/>
          <p:cNvCxnSpPr>
            <a:stCxn id="419" idx="3"/>
            <a:endCxn id="443" idx="1"/>
          </p:cNvCxnSpPr>
          <p:nvPr/>
        </p:nvCxnSpPr>
        <p:spPr>
          <a:xfrm>
            <a:off x="3580920" y="5257800"/>
            <a:ext cx="762840" cy="99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Прямоугольник с двумя скругленными противолежащими углами 1"/>
          <p:cNvGrpSpPr/>
          <p:nvPr/>
        </p:nvGrpSpPr>
        <p:grpSpPr>
          <a:xfrm>
            <a:off x="219240" y="1805040"/>
            <a:ext cx="2957400" cy="3101760"/>
            <a:chOff x="219240" y="1805040"/>
            <a:chExt cx="2957400" cy="3101760"/>
          </a:xfrm>
        </p:grpSpPr>
        <p:pic>
          <p:nvPicPr>
            <p:cNvPr id="454" name="Прямоугольник с двумя скругленными противолежащими углами 1" descr=""/>
            <p:cNvPicPr/>
            <p:nvPr/>
          </p:nvPicPr>
          <p:blipFill>
            <a:blip r:embed="rId1"/>
            <a:stretch/>
          </p:blipFill>
          <p:spPr>
            <a:xfrm>
              <a:off x="219240" y="1805040"/>
              <a:ext cx="2957400" cy="31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492120" y="2092320"/>
              <a:ext cx="2444760" cy="25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сновные торговые функции предприятий розничной торгов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Скругленный прямоугольник 2"/>
          <p:cNvGrpSpPr/>
          <p:nvPr/>
        </p:nvGrpSpPr>
        <p:grpSpPr>
          <a:xfrm>
            <a:off x="4095720" y="281160"/>
            <a:ext cx="4610160" cy="1120680"/>
            <a:chOff x="4095720" y="281160"/>
            <a:chExt cx="4610160" cy="1120680"/>
          </a:xfrm>
        </p:grpSpPr>
        <p:pic>
          <p:nvPicPr>
            <p:cNvPr id="45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95720" y="281160"/>
              <a:ext cx="46101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238640" y="428760"/>
              <a:ext cx="42480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изучение покупательского спроса на товар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Скругленный прямоугольник 3"/>
          <p:cNvGrpSpPr/>
          <p:nvPr/>
        </p:nvGrpSpPr>
        <p:grpSpPr>
          <a:xfrm>
            <a:off x="4108320" y="1500120"/>
            <a:ext cx="4469040" cy="1120680"/>
            <a:chOff x="4108320" y="1500120"/>
            <a:chExt cx="4469040" cy="1120680"/>
          </a:xfrm>
        </p:grpSpPr>
        <p:pic>
          <p:nvPicPr>
            <p:cNvPr id="46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108320" y="1500120"/>
              <a:ext cx="44690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238640" y="1647720"/>
              <a:ext cx="42433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формирование ассортимента товаров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Скругленный прямоугольник 4"/>
          <p:cNvGrpSpPr/>
          <p:nvPr/>
        </p:nvGrpSpPr>
        <p:grpSpPr>
          <a:xfrm>
            <a:off x="4108320" y="2719440"/>
            <a:ext cx="4402440" cy="1120680"/>
            <a:chOff x="4108320" y="2719440"/>
            <a:chExt cx="4402440" cy="1120680"/>
          </a:xfrm>
        </p:grpSpPr>
        <p:pic>
          <p:nvPicPr>
            <p:cNvPr id="463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4108320" y="2719440"/>
              <a:ext cx="44024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4243320" y="2867040"/>
              <a:ext cx="416736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управление товарными запасам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Скругленный прямоугольник 5"/>
          <p:cNvGrpSpPr/>
          <p:nvPr/>
        </p:nvGrpSpPr>
        <p:grpSpPr>
          <a:xfrm>
            <a:off x="4108320" y="4011480"/>
            <a:ext cx="4475160" cy="1127160"/>
            <a:chOff x="4108320" y="4011480"/>
            <a:chExt cx="4475160" cy="1127160"/>
          </a:xfrm>
        </p:grpSpPr>
        <p:pic>
          <p:nvPicPr>
            <p:cNvPr id="466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4108320" y="4011480"/>
              <a:ext cx="4475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4238640" y="4162320"/>
              <a:ext cx="42480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составление заявок на завоз товаров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Скругленный прямоугольник 6"/>
          <p:cNvGrpSpPr/>
          <p:nvPr/>
        </p:nvGrpSpPr>
        <p:grpSpPr>
          <a:xfrm>
            <a:off x="4108320" y="5230800"/>
            <a:ext cx="4548240" cy="1127160"/>
            <a:chOff x="4108320" y="5230800"/>
            <a:chExt cx="4548240" cy="1127160"/>
          </a:xfrm>
        </p:grpSpPr>
        <p:pic>
          <p:nvPicPr>
            <p:cNvPr id="469" name="Скругленный 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4108320" y="5230800"/>
              <a:ext cx="45482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4238640" y="5381640"/>
              <a:ext cx="42480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рекламирование товаров и услуг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71" name="Прямая со стрелкой 8"/>
          <p:cNvCxnSpPr>
            <a:stCxn id="454" idx="0"/>
            <a:endCxn id="457" idx="1"/>
          </p:cNvCxnSpPr>
          <p:nvPr/>
        </p:nvCxnSpPr>
        <p:spPr>
          <a:xfrm flipV="1">
            <a:off x="3124080" y="875520"/>
            <a:ext cx="1067760" cy="251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2" name="Прямая со стрелкой 10"/>
          <p:cNvCxnSpPr>
            <a:stCxn id="454" idx="0"/>
            <a:endCxn id="460" idx="1"/>
          </p:cNvCxnSpPr>
          <p:nvPr/>
        </p:nvCxnSpPr>
        <p:spPr>
          <a:xfrm flipV="1">
            <a:off x="3124080" y="2095200"/>
            <a:ext cx="106776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3" name="Прямая со стрелкой 12"/>
          <p:cNvCxnSpPr>
            <a:stCxn id="454" idx="0"/>
            <a:endCxn id="463" idx="1"/>
          </p:cNvCxnSpPr>
          <p:nvPr/>
        </p:nvCxnSpPr>
        <p:spPr>
          <a:xfrm flipV="1">
            <a:off x="3123720" y="3314160"/>
            <a:ext cx="10724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4" name="Прямая со стрелкой 14"/>
          <p:cNvCxnSpPr>
            <a:stCxn id="454" idx="0"/>
            <a:endCxn id="466" idx="1"/>
          </p:cNvCxnSpPr>
          <p:nvPr/>
        </p:nvCxnSpPr>
        <p:spPr>
          <a:xfrm>
            <a:off x="3124080" y="3390480"/>
            <a:ext cx="1067760" cy="1220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5" name="Прямая со стрелкой 16"/>
          <p:cNvCxnSpPr>
            <a:stCxn id="454" idx="0"/>
            <a:endCxn id="469" idx="1"/>
          </p:cNvCxnSpPr>
          <p:nvPr/>
        </p:nvCxnSpPr>
        <p:spPr>
          <a:xfrm>
            <a:off x="3124080" y="3390840"/>
            <a:ext cx="1067760" cy="2439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Прямоугольник с двумя скругленными противолежащими углами 1"/>
          <p:cNvGrpSpPr/>
          <p:nvPr/>
        </p:nvGrpSpPr>
        <p:grpSpPr>
          <a:xfrm>
            <a:off x="219240" y="2030400"/>
            <a:ext cx="2725560" cy="2724120"/>
            <a:chOff x="219240" y="2030400"/>
            <a:chExt cx="2725560" cy="2724120"/>
          </a:xfrm>
        </p:grpSpPr>
        <p:pic>
          <p:nvPicPr>
            <p:cNvPr id="477" name="Прямоугольник с двумя скругленными противолежащими углами 1" descr=""/>
            <p:cNvPicPr/>
            <p:nvPr/>
          </p:nvPicPr>
          <p:blipFill>
            <a:blip r:embed="rId1"/>
            <a:stretch/>
          </p:blipFill>
          <p:spPr>
            <a:xfrm>
              <a:off x="219240" y="2030400"/>
              <a:ext cx="272556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31640" y="2260440"/>
              <a:ext cx="2337120" cy="23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Основные технологические функци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Скругленный прямоугольник 2"/>
          <p:cNvGrpSpPr/>
          <p:nvPr/>
        </p:nvGrpSpPr>
        <p:grpSpPr>
          <a:xfrm>
            <a:off x="3803760" y="103320"/>
            <a:ext cx="5084640" cy="993600"/>
            <a:chOff x="3803760" y="103320"/>
            <a:chExt cx="5084640" cy="993600"/>
          </a:xfrm>
        </p:grpSpPr>
        <p:pic>
          <p:nvPicPr>
            <p:cNvPr id="48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803760" y="103320"/>
              <a:ext cx="5084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3927600" y="270000"/>
              <a:ext cx="4870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емка поступивших товаров по количеству и качеств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Скругленный прямоугольник 3"/>
          <p:cNvGrpSpPr/>
          <p:nvPr/>
        </p:nvGrpSpPr>
        <p:grpSpPr>
          <a:xfrm>
            <a:off x="3803760" y="1195560"/>
            <a:ext cx="5084640" cy="815760"/>
            <a:chOff x="3803760" y="1195560"/>
            <a:chExt cx="5084640" cy="815760"/>
          </a:xfrm>
        </p:grpSpPr>
        <p:pic>
          <p:nvPicPr>
            <p:cNvPr id="48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803760" y="1195560"/>
              <a:ext cx="508464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19680" y="1328760"/>
              <a:ext cx="48862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хранение товар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5" name="Скругленный прямоугольник 4"/>
          <p:cNvGrpSpPr/>
          <p:nvPr/>
        </p:nvGrpSpPr>
        <p:grpSpPr>
          <a:xfrm>
            <a:off x="3571920" y="1901880"/>
            <a:ext cx="5475240" cy="1305000"/>
            <a:chOff x="3571920" y="1901880"/>
            <a:chExt cx="5475240" cy="1305000"/>
          </a:xfrm>
        </p:grpSpPr>
        <p:pic>
          <p:nvPicPr>
            <p:cNvPr id="486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571920" y="1901880"/>
              <a:ext cx="547524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3705120" y="2181240"/>
              <a:ext cx="52387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полнение операций, связанных с производственной доработкой товаров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Скругленный прямоугольник 5"/>
          <p:cNvGrpSpPr/>
          <p:nvPr/>
        </p:nvGrpSpPr>
        <p:grpSpPr>
          <a:xfrm>
            <a:off x="3571920" y="3090960"/>
            <a:ext cx="5468760" cy="1670040"/>
            <a:chOff x="3571920" y="3090960"/>
            <a:chExt cx="5468760" cy="1670040"/>
          </a:xfrm>
        </p:grpSpPr>
        <p:pic>
          <p:nvPicPr>
            <p:cNvPr id="489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3571920" y="3090960"/>
              <a:ext cx="54687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3728880" y="3348000"/>
              <a:ext cx="519120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нутримагазинное перемещение, размещение  и выкладка товаров на торговом оборудование в торговом зал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Скругленный прямоугольник 6"/>
          <p:cNvGrpSpPr/>
          <p:nvPr/>
        </p:nvGrpSpPr>
        <p:grpSpPr>
          <a:xfrm>
            <a:off x="3803760" y="4853160"/>
            <a:ext cx="5084640" cy="815760"/>
            <a:chOff x="3803760" y="4853160"/>
            <a:chExt cx="5084640" cy="815760"/>
          </a:xfrm>
        </p:grpSpPr>
        <p:pic>
          <p:nvPicPr>
            <p:cNvPr id="492" name="Скругленный 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3803760" y="4853160"/>
              <a:ext cx="508464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3919680" y="4986360"/>
              <a:ext cx="48862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дажа товар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Скругленный прямоугольник 7"/>
          <p:cNvGrpSpPr/>
          <p:nvPr/>
        </p:nvGrpSpPr>
        <p:grpSpPr>
          <a:xfrm>
            <a:off x="3803760" y="5662440"/>
            <a:ext cx="5084640" cy="1000440"/>
            <a:chOff x="3803760" y="5662440"/>
            <a:chExt cx="5084640" cy="1000440"/>
          </a:xfrm>
        </p:grpSpPr>
        <p:pic>
          <p:nvPicPr>
            <p:cNvPr id="495" name="Скругленный 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3803760" y="5662440"/>
              <a:ext cx="50846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3927600" y="5832360"/>
              <a:ext cx="4870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полнение расчетов с покупателям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7" name="Прямая со стрелкой 9"/>
          <p:cNvCxnSpPr>
            <a:stCxn id="477" idx="0"/>
            <a:endCxn id="480" idx="1"/>
          </p:cNvCxnSpPr>
          <p:nvPr/>
        </p:nvCxnSpPr>
        <p:spPr>
          <a:xfrm flipV="1">
            <a:off x="2895480" y="647280"/>
            <a:ext cx="991440" cy="278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8" name="Прямая со стрелкой 11"/>
          <p:cNvCxnSpPr>
            <a:stCxn id="477" idx="0"/>
            <a:endCxn id="483" idx="1"/>
          </p:cNvCxnSpPr>
          <p:nvPr/>
        </p:nvCxnSpPr>
        <p:spPr>
          <a:xfrm flipV="1">
            <a:off x="2895480" y="1638000"/>
            <a:ext cx="991440" cy="179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9" name="Прямая со стрелкой 13"/>
          <p:cNvCxnSpPr>
            <a:stCxn id="477" idx="0"/>
            <a:endCxn id="486" idx="1"/>
          </p:cNvCxnSpPr>
          <p:nvPr/>
        </p:nvCxnSpPr>
        <p:spPr>
          <a:xfrm flipV="1">
            <a:off x="2895120" y="2628720"/>
            <a:ext cx="762840" cy="800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0" name="Прямая со стрелкой 15"/>
          <p:cNvCxnSpPr>
            <a:stCxn id="477" idx="0"/>
            <a:endCxn id="489" idx="1"/>
          </p:cNvCxnSpPr>
          <p:nvPr/>
        </p:nvCxnSpPr>
        <p:spPr>
          <a:xfrm>
            <a:off x="2895120" y="3429000"/>
            <a:ext cx="762840" cy="57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1" name="Прямая со стрелкой 17"/>
          <p:cNvCxnSpPr>
            <a:stCxn id="477" idx="0"/>
            <a:endCxn id="492" idx="1"/>
          </p:cNvCxnSpPr>
          <p:nvPr/>
        </p:nvCxnSpPr>
        <p:spPr>
          <a:xfrm>
            <a:off x="2895480" y="3429000"/>
            <a:ext cx="991440" cy="1867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2" name="Прямая со стрелкой 19"/>
          <p:cNvCxnSpPr>
            <a:stCxn id="477" idx="0"/>
            <a:endCxn id="495" idx="1"/>
          </p:cNvCxnSpPr>
          <p:nvPr/>
        </p:nvCxnSpPr>
        <p:spPr>
          <a:xfrm>
            <a:off x="2895480" y="3429000"/>
            <a:ext cx="991440" cy="278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Прямоугольник с двумя вырезанными соседними углами 1"/>
          <p:cNvGrpSpPr/>
          <p:nvPr/>
        </p:nvGrpSpPr>
        <p:grpSpPr>
          <a:xfrm>
            <a:off x="828720" y="506520"/>
            <a:ext cx="7754760" cy="2114280"/>
            <a:chOff x="828720" y="506520"/>
            <a:chExt cx="7754760" cy="2114280"/>
          </a:xfrm>
        </p:grpSpPr>
        <p:pic>
          <p:nvPicPr>
            <p:cNvPr id="504" name="Прямоугольник с двумя выреза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828720" y="506520"/>
              <a:ext cx="775476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1239840" y="934920"/>
              <a:ext cx="696924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о ассортименту реализуемых товаров все магазины можно разделить на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Прямоугольник 2"/>
          <p:cNvGrpSpPr/>
          <p:nvPr/>
        </p:nvGrpSpPr>
        <p:grpSpPr>
          <a:xfrm>
            <a:off x="371520" y="3402000"/>
            <a:ext cx="3944880" cy="822240"/>
            <a:chOff x="371520" y="3402000"/>
            <a:chExt cx="3944880" cy="822240"/>
          </a:xfrm>
        </p:grpSpPr>
        <p:pic>
          <p:nvPicPr>
            <p:cNvPr id="50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71520" y="3402000"/>
              <a:ext cx="39448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57200" y="3505320"/>
              <a:ext cx="3809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доволь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Прямоугольник 3"/>
          <p:cNvGrpSpPr/>
          <p:nvPr/>
        </p:nvGrpSpPr>
        <p:grpSpPr>
          <a:xfrm>
            <a:off x="109440" y="4621320"/>
            <a:ext cx="4243320" cy="822240"/>
            <a:chOff x="109440" y="4621320"/>
            <a:chExt cx="4243320" cy="822240"/>
          </a:xfrm>
        </p:grpSpPr>
        <p:pic>
          <p:nvPicPr>
            <p:cNvPr id="51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09440" y="4621320"/>
              <a:ext cx="42433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228600" y="4724280"/>
              <a:ext cx="4038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епродоволь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2" name="Прямоугольник 4"/>
          <p:cNvGrpSpPr/>
          <p:nvPr/>
        </p:nvGrpSpPr>
        <p:grpSpPr>
          <a:xfrm>
            <a:off x="5022720" y="3402000"/>
            <a:ext cx="3945240" cy="822240"/>
            <a:chOff x="5022720" y="3402000"/>
            <a:chExt cx="3945240" cy="822240"/>
          </a:xfrm>
        </p:grpSpPr>
        <p:pic>
          <p:nvPicPr>
            <p:cNvPr id="513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5022720" y="3402000"/>
              <a:ext cx="39452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5105520" y="3505320"/>
              <a:ext cx="3809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меш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Прямоугольник 5"/>
          <p:cNvGrpSpPr/>
          <p:nvPr/>
        </p:nvGrpSpPr>
        <p:grpSpPr>
          <a:xfrm>
            <a:off x="5022720" y="4400640"/>
            <a:ext cx="3945240" cy="1116000"/>
            <a:chOff x="5022720" y="4400640"/>
            <a:chExt cx="3945240" cy="1116000"/>
          </a:xfrm>
        </p:grpSpPr>
        <p:pic>
          <p:nvPicPr>
            <p:cNvPr id="516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5022720" y="4400640"/>
              <a:ext cx="3945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5105520" y="4572000"/>
              <a:ext cx="3809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агазины прочей специализаци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18" name="Прямая со стрелкой 7"/>
          <p:cNvCxnSpPr>
            <a:stCxn id="504" idx="1"/>
            <a:endCxn id="507" idx="3"/>
          </p:cNvCxnSpPr>
          <p:nvPr/>
        </p:nvCxnSpPr>
        <p:spPr>
          <a:xfrm flipH="1">
            <a:off x="4266720" y="2590920"/>
            <a:ext cx="457920" cy="125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9" name="Прямая со стрелкой 9"/>
          <p:cNvCxnSpPr>
            <a:stCxn id="504" idx="1"/>
            <a:endCxn id="513" idx="1"/>
          </p:cNvCxnSpPr>
          <p:nvPr/>
        </p:nvCxnSpPr>
        <p:spPr>
          <a:xfrm>
            <a:off x="4723200" y="2590920"/>
            <a:ext cx="381960" cy="125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0" name="Прямая со стрелкой 11"/>
          <p:cNvCxnSpPr>
            <a:stCxn id="504" idx="1"/>
            <a:endCxn id="510" idx="3"/>
          </p:cNvCxnSpPr>
          <p:nvPr/>
        </p:nvCxnSpPr>
        <p:spPr>
          <a:xfrm flipH="1">
            <a:off x="4266720" y="2590560"/>
            <a:ext cx="457920" cy="2477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1" name="Прямая со стрелкой 13"/>
          <p:cNvCxnSpPr>
            <a:stCxn id="504" idx="1"/>
            <a:endCxn id="516" idx="1"/>
          </p:cNvCxnSpPr>
          <p:nvPr/>
        </p:nvCxnSpPr>
        <p:spPr>
          <a:xfrm>
            <a:off x="4723200" y="2590560"/>
            <a:ext cx="381960" cy="2439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Прямоугольник с двумя скругленными соседними углами 1"/>
          <p:cNvGrpSpPr/>
          <p:nvPr/>
        </p:nvGrpSpPr>
        <p:grpSpPr>
          <a:xfrm>
            <a:off x="1212840" y="353880"/>
            <a:ext cx="6913440" cy="1809720"/>
            <a:chOff x="1212840" y="353880"/>
            <a:chExt cx="6913440" cy="1809720"/>
          </a:xfrm>
        </p:grpSpPr>
        <p:pic>
          <p:nvPicPr>
            <p:cNvPr id="523" name="Прямоугольник с двумя скругленными соседними углами 1" descr=""/>
            <p:cNvPicPr/>
            <p:nvPr/>
          </p:nvPicPr>
          <p:blipFill>
            <a:blip r:embed="rId1"/>
            <a:stretch/>
          </p:blipFill>
          <p:spPr>
            <a:xfrm>
              <a:off x="1212840" y="353880"/>
              <a:ext cx="691344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1496880" y="658800"/>
              <a:ext cx="637884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довольственные и непродовольственные магазины подразделяются на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Овал 2"/>
          <p:cNvGrpSpPr/>
          <p:nvPr/>
        </p:nvGrpSpPr>
        <p:grpSpPr>
          <a:xfrm>
            <a:off x="219240" y="2719440"/>
            <a:ext cx="4633920" cy="1200240"/>
            <a:chOff x="219240" y="2719440"/>
            <a:chExt cx="4633920" cy="1200240"/>
          </a:xfrm>
        </p:grpSpPr>
        <p:pic>
          <p:nvPicPr>
            <p:cNvPr id="526" name="Овал 2" descr=""/>
            <p:cNvPicPr/>
            <p:nvPr/>
          </p:nvPicPr>
          <p:blipFill>
            <a:blip r:embed="rId2"/>
            <a:stretch/>
          </p:blipFill>
          <p:spPr>
            <a:xfrm>
              <a:off x="219240" y="2719440"/>
              <a:ext cx="46339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963720" y="2975040"/>
              <a:ext cx="31780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ниверс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8" name="Овал 3"/>
          <p:cNvGrpSpPr/>
          <p:nvPr/>
        </p:nvGrpSpPr>
        <p:grpSpPr>
          <a:xfrm>
            <a:off x="2889360" y="5230800"/>
            <a:ext cx="5694120" cy="1200240"/>
            <a:chOff x="2889360" y="5230800"/>
            <a:chExt cx="5694120" cy="1200240"/>
          </a:xfrm>
        </p:grpSpPr>
        <p:pic>
          <p:nvPicPr>
            <p:cNvPr id="529" name="Овал 3" descr=""/>
            <p:cNvPicPr/>
            <p:nvPr/>
          </p:nvPicPr>
          <p:blipFill>
            <a:blip r:embed="rId3"/>
            <a:stretch/>
          </p:blipFill>
          <p:spPr>
            <a:xfrm>
              <a:off x="2889360" y="5230800"/>
              <a:ext cx="56941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786120" y="5489640"/>
              <a:ext cx="393372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пециализирова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Овал 4"/>
          <p:cNvGrpSpPr/>
          <p:nvPr/>
        </p:nvGrpSpPr>
        <p:grpSpPr>
          <a:xfrm>
            <a:off x="1822320" y="3938760"/>
            <a:ext cx="4932360" cy="1199880"/>
            <a:chOff x="1822320" y="3938760"/>
            <a:chExt cx="4932360" cy="1199880"/>
          </a:xfrm>
        </p:grpSpPr>
        <p:pic>
          <p:nvPicPr>
            <p:cNvPr id="532" name="Овал 4" descr=""/>
            <p:cNvPicPr/>
            <p:nvPr/>
          </p:nvPicPr>
          <p:blipFill>
            <a:blip r:embed="rId4"/>
            <a:stretch/>
          </p:blipFill>
          <p:spPr>
            <a:xfrm>
              <a:off x="1822320" y="3938760"/>
              <a:ext cx="49323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2608200" y="4194000"/>
              <a:ext cx="3394080" cy="7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мбинирова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34" name="Shape 6"/>
          <p:cNvCxnSpPr>
            <a:stCxn id="523" idx="1"/>
          </p:cNvCxnSpPr>
          <p:nvPr/>
        </p:nvCxnSpPr>
        <p:spPr>
          <a:xfrm flipH="1" rot="16200000">
            <a:off x="4133160" y="2685960"/>
            <a:ext cx="1219680" cy="114840"/>
          </a:xfrm>
          <a:prstGeom prst="curvedConnector5">
            <a:avLst>
              <a:gd name="adj1" fmla="val 24741"/>
              <a:gd name="adj2" fmla="val 233962"/>
              <a:gd name="adj3" fmla="val 24741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5" name="Shape 12"/>
          <p:cNvCxnSpPr>
            <a:stCxn id="523" idx="1"/>
          </p:cNvCxnSpPr>
          <p:nvPr/>
        </p:nvCxnSpPr>
        <p:spPr>
          <a:xfrm flipH="1" rot="16200000">
            <a:off x="4475880" y="2342880"/>
            <a:ext cx="2439000" cy="2019960"/>
          </a:xfrm>
          <a:prstGeom prst="curvedConnector5">
            <a:avLst>
              <a:gd name="adj1" fmla="val 13300"/>
              <a:gd name="adj2" fmla="val 52780"/>
              <a:gd name="adj3" fmla="val 133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6" name="Shape 17"/>
          <p:cNvCxnSpPr>
            <a:stCxn id="523" idx="1"/>
          </p:cNvCxnSpPr>
          <p:nvPr/>
        </p:nvCxnSpPr>
        <p:spPr>
          <a:xfrm flipH="1" rot="16200000">
            <a:off x="4742640" y="2076120"/>
            <a:ext cx="3734280" cy="3848760"/>
          </a:xfrm>
          <a:prstGeom prst="curvedConnector5">
            <a:avLst>
              <a:gd name="adj1" fmla="val 5939"/>
              <a:gd name="adj2" fmla="val 50308"/>
              <a:gd name="adj3" fmla="val 5939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1</cp:lastModifiedBy>
  <dcterms:modified xsi:type="dcterms:W3CDTF">2013-01-19T13:47:43Z</dcterms:modified>
  <cp:revision>9</cp:revision>
  <dc:subject/>
  <dc:title>Розничная торговая сеть</dc:title>
</cp:coreProperties>
</file>