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8AC-D7DA-4283-ACD6-024484D2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CA34-B0FF-434D-80E1-EF18E961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834-D719-4A96-8ACB-0D58883E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046-576B-4386-8978-1472B1DE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8D1-2164-494E-8C81-CB5F2D3B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5A9-99A6-4401-8B94-D8893924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25D-5FC6-4A08-8C58-F2771588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E45-ED73-422C-B2FA-8552B899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EBC6-DFE6-4E38-9F28-2A915E3B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93B-9FE5-4D21-8A40-AE42D571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2D70-B514-43B7-97AF-7AD63525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24A-9966-4F3D-BCF3-B98638F2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8400-8216-4AB0-988F-1F4B85FA1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Конкурентоспособность предприятия и продукции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атегия производства в области конкурентоспособности в зависимости от стадии жизненного цикла това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03280" y="1557360"/>
            <a:ext cx="7128000" cy="4535640"/>
            <a:chOff x="1403280" y="1557360"/>
            <a:chExt cx="7128000" cy="4535640"/>
          </a:xfrm>
        </p:grpSpPr>
        <p:sp>
          <p:nvSpPr>
            <p:cNvPr id="117" name=""/>
            <p:cNvSpPr/>
            <p:nvPr/>
          </p:nvSpPr>
          <p:spPr>
            <a:xfrm flipV="1">
              <a:off x="1403280" y="155736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03280" y="3417840"/>
              <a:ext cx="712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03280" y="1878120"/>
              <a:ext cx="5780160" cy="1539720"/>
            </a:xfrm>
            <a:custGeom>
              <a:avLst/>
              <a:gdLst/>
              <a:ahLst/>
              <a:rect l="l" t="t" r="r" b="b"/>
              <a:pathLst>
                <a:path w="5400" h="2016">
                  <a:moveTo>
                    <a:pt x="0" y="2016"/>
                  </a:moveTo>
                  <a:cubicBezTo>
                    <a:pt x="360" y="1496"/>
                    <a:pt x="720" y="976"/>
                    <a:pt x="1080" y="660"/>
                  </a:cubicBezTo>
                  <a:cubicBezTo>
                    <a:pt x="1440" y="344"/>
                    <a:pt x="1620" y="0"/>
                    <a:pt x="2160" y="120"/>
                  </a:cubicBezTo>
                  <a:cubicBezTo>
                    <a:pt x="2700" y="240"/>
                    <a:pt x="3780" y="1110"/>
                    <a:pt x="4320" y="1380"/>
                  </a:cubicBezTo>
                  <a:cubicBezTo>
                    <a:pt x="4860" y="1650"/>
                    <a:pt x="5130" y="1695"/>
                    <a:pt x="5400" y="17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51120" y="1695600"/>
              <a:ext cx="0" cy="19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03280" y="3619440"/>
              <a:ext cx="13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92640" y="1695600"/>
              <a:ext cx="0" cy="31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34160" y="1695600"/>
              <a:ext cx="0" cy="38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51120" y="3619440"/>
              <a:ext cx="1541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51120" y="458136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4856040"/>
              <a:ext cx="7700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51120" y="4856040"/>
              <a:ext cx="154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92640" y="4856040"/>
              <a:ext cx="771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92640" y="513072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37040" y="5405400"/>
              <a:ext cx="1155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92640" y="5405400"/>
              <a:ext cx="154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34160" y="5405400"/>
              <a:ext cx="769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34160" y="595476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78200" y="5954760"/>
              <a:ext cx="1155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34160" y="5954760"/>
              <a:ext cx="19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0720" y="1636200"/>
            <a:ext cx="679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аж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03280" y="3789360"/>
            <a:ext cx="280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ализация продукции, новых технических принципов, формирование рын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486900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работка модификаций изделия, сегментация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32000" y="5445000"/>
            <a:ext cx="48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нижение издержек производства, ценовое сопернич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3280" y="5950080"/>
            <a:ext cx="432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пользование возможностей сложившейся инфраструктуры, снижение эксплуатационных зат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4360" y="3500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76360" y="260280"/>
            <a:ext cx="59752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азатели качества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19440" y="717480"/>
            <a:ext cx="56005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казатели назна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лассификационные (грузоподъемность, мощность, емк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ункциональной и технической эффективности (производительность станка, точ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нструктивные (габаритные размеры, наличие дополнительных устройст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става и 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19440" y="2203560"/>
            <a:ext cx="5600520" cy="12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Эргономические показ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игиенические (освещенность, температура, влажность, запыленность, излуч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тропометр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изиологические и психофиз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сихологические показ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19440" y="3575160"/>
            <a:ext cx="5600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казатели стандартизации и ун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эффициент применя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эффициент повторя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эффициент унификации для группы издел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19440" y="4603680"/>
            <a:ext cx="56005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Экологические показ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19440" y="5060880"/>
            <a:ext cx="56005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тентно-правовые показ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19440" y="5518080"/>
            <a:ext cx="5600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казатели экономного ис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дельный расход сырья, 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эффициент полезн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уммарная трудоемкость продукции при ее эксплуа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064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58784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51926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47354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39355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26780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76360" y="14209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5280" y="836640"/>
            <a:ext cx="8353440" cy="66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общающие показатели эффективности использования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754280"/>
            <a:ext cx="3068640" cy="243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затели наде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отказ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ов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монтоприго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храняе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лек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6480" y="1754280"/>
            <a:ext cx="4602240" cy="30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азатели транспортаб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яя продолжительность подготовки изделия к транспортир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яя трудоемкость подготовки изделия к транспортир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яя продолжительность погрузки изделия на средство транспорта определенного 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2360" y="4627440"/>
            <a:ext cx="194148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азатели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75120" y="5068800"/>
            <a:ext cx="2036880" cy="6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сте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3840" y="1533600"/>
            <a:ext cx="0" cy="30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75120" y="1533600"/>
            <a:ext cx="0" cy="353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28880" y="15336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62640" y="15336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611280" y="907920"/>
            <a:ext cx="7993080" cy="5545080"/>
            <a:chOff x="611280" y="907920"/>
            <a:chExt cx="7993080" cy="5545080"/>
          </a:xfrm>
        </p:grpSpPr>
        <p:sp>
          <p:nvSpPr>
            <p:cNvPr id="166" name=""/>
            <p:cNvSpPr/>
            <p:nvPr/>
          </p:nvSpPr>
          <p:spPr>
            <a:xfrm>
              <a:off x="611280" y="907920"/>
              <a:ext cx="7993080" cy="81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истема качества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– совокупность организационных и технических мер, необходимых для обеспечения потребителю гарантий стабильно высокого качества продукции и ее соответствия требованиям стандартов и контрак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98560" y="1989720"/>
              <a:ext cx="2305440" cy="40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Улучшение каче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85320" y="1989720"/>
              <a:ext cx="2459160" cy="40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Управление качеств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72080" y="1989720"/>
              <a:ext cx="2459160" cy="40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беспечение каче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72080" y="2530800"/>
              <a:ext cx="7531920" cy="40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беспечивать управление качеством на всех участках «петли качества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72080" y="2936520"/>
              <a:ext cx="7531920" cy="40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беспечивать участие в управлении качеством всех работников предприят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72080" y="3342240"/>
              <a:ext cx="7531920" cy="40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станавливать ответственность руководител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72080" y="3747960"/>
              <a:ext cx="7531920" cy="54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беспечивать неразрывность деятельности по качеству с деятельностью по снижению затр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72080" y="4289040"/>
              <a:ext cx="7531920" cy="54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беспечивать проведение профилактических проверок по предупреждению несоответствий и дефек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72080" y="4830120"/>
              <a:ext cx="7531920" cy="54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беспечивать обязательность выявления дефектов и препятствовать их допуску в производство и к потребител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72080" y="5371200"/>
              <a:ext cx="7531920" cy="54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станавливать порядок проведения периодических проверок, анализа и совершенствования систем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72080" y="5912280"/>
              <a:ext cx="7531920" cy="54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станавливать и обеспечивать порядок документального оформления всех процедур систем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1280" y="1719360"/>
              <a:ext cx="0" cy="44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1280" y="6183000"/>
              <a:ext cx="46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1280" y="5641920"/>
              <a:ext cx="46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1280" y="5100840"/>
              <a:ext cx="46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1280" y="4559760"/>
              <a:ext cx="46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1280" y="4018680"/>
              <a:ext cx="46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1280" y="3477600"/>
              <a:ext cx="46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1280" y="3071880"/>
              <a:ext cx="46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1280" y="2666160"/>
              <a:ext cx="46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01840" y="1719360"/>
              <a:ext cx="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68800" y="1719360"/>
              <a:ext cx="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28320" y="1719360"/>
              <a:ext cx="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кач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качества должна охватывать следующие стадии «петли качества»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стадии жизненного цикла продукци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ркетинг, поиск и изучение ры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ектирование и / или разработка технических требований к проду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ериально-техническое снабж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ка и разработка производственных 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извод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роль и испыт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аковка и хра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лизация и распределение проду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нтаж и эксплуат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хническая помощь в обслужива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тилизация после использования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ели стандартиз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зопасности продукции, работ, услуг (объектов стандартизации) для окружающей среды, жизни, здоровья и иму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зопасности хозяйствующих субъектов с учетом риска возникновения природных и техногенных катастроф и других чрезвычайных ситу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ение НТП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ышение конкурентоспособности продукции, работ, услу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хнической и информационной совместимости, а также взаимозаменяемости проду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ства измер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ономии всех видов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роноспособности и мобилизационной готовности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332000" y="476280"/>
            <a:ext cx="6481800" cy="5832360"/>
            <a:chOff x="1332000" y="476280"/>
            <a:chExt cx="6481800" cy="5832360"/>
          </a:xfrm>
        </p:grpSpPr>
        <p:sp>
          <p:nvSpPr>
            <p:cNvPr id="196" name=""/>
            <p:cNvSpPr/>
            <p:nvPr/>
          </p:nvSpPr>
          <p:spPr>
            <a:xfrm>
              <a:off x="2627280" y="476280"/>
              <a:ext cx="3960720" cy="56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инципы стандартиз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32000" y="1793880"/>
              <a:ext cx="6481800" cy="56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бровольное применение стандар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32000" y="2357280"/>
              <a:ext cx="6481800" cy="75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аксимальный учет при разработке стандартов законных интересов заинтересованных ли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32000" y="3110040"/>
              <a:ext cx="6481800" cy="75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именение международного стандарта как основы разработки национального стандар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32000" y="3862440"/>
              <a:ext cx="648180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допустимость создания препятствий производству и обращению продукции, выполнению работ и оказанию услуг в большей степени, чем это минимально необходимо для выполнения целей стандартиз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2000" y="4991040"/>
              <a:ext cx="6481800" cy="75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допустимость установления таких стандартов, которые противоречат техническим регламента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32000" y="5743440"/>
              <a:ext cx="6481800" cy="56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еспечение условий для единообразного применения стандар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68560" y="1041480"/>
              <a:ext cx="1408320" cy="752400"/>
            </a:xfrm>
            <a:prstGeom prst="downArrow">
              <a:avLst>
                <a:gd name="adj1" fmla="val 50000"/>
                <a:gd name="adj2" fmla="val 5208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ы стандар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4360" y="1628640"/>
            <a:ext cx="273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сударств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ы (ГОС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3213000"/>
            <a:ext cx="273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асл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ы (ОС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35640" y="170028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хнические условия (Т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4508640"/>
            <a:ext cx="273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ы предприятия и объединения (СТ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2924280"/>
            <a:ext cx="3311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учно-технических и инженерных обществ (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105264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564000" y="1052640"/>
            <a:ext cx="792000" cy="25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348000" y="1052640"/>
            <a:ext cx="1008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56000" y="1052640"/>
            <a:ext cx="647640" cy="25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1052640"/>
            <a:ext cx="86364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имущества предприятия при внедрение стандартов ИСО серии 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минимизировать риск отказа покупателя от продукции или ее возврата (вследствие нестабильности качества) и связанных с этим потер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конкурентоспособности предприят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инвестиционной привлекательности компа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лучшение экономических показателей деятельности предприят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эффективности менеджмента качества за счет улучшения документации - использования недвусмысленных процедур и рационального распределения полномочий и ответственности в области каче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лучшение отношения исполнителей к работе вследствие наличия необходимых инструкций, обучения, более простого представления информации о проблемах качества, ощущение надежности работы и д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престижа предприятия в глазах потребителей и общества, укрепление доверия к фирменной марке и, как следствие, рост заказов и увеличение объемов сбыта продук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чение преимуществ на поставку продукции для федеральных государственных нуж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чение или продление лицензий на осуществление деятельности и производство продукции (например, военной техник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имущество в тендерах на право участия предприятия в различных проек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яющие элементы, необходимые для включения в систему кач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О 9000–94 «Стандарты по общему руководству качеством и обеспечению качества». Основное назначение стандарта – помочь предприятию в выборе и применении стандартов ИСО 9000. Стандарт содержит ряд концептуальных положений о современных Системах качеств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О 9001 «Система качества. Модель обеспечения качества при проектировании, разработке, производстве, монтаже и обслуживании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О 9002 «Система качества. Модель обеспечения качества при производстве и монтаже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О 9003 «Система качества. Модель обеспечения качества при окончательном контроле и испытаниях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О 9004 «Общее руководство качеством и элементы системы качества. Руководящие указания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ле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курентоспособность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нятие конкурентоспособности продукции и показатели ее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итика предприятия в области качества. Стандарты и системы кач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енности редакции стандартов И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95280" y="620640"/>
          <a:ext cx="8291520" cy="6080040"/>
        </p:xfrm>
        <a:graphic>
          <a:graphicData uri="http://schemas.openxmlformats.org/drawingml/2006/table">
            <a:tbl>
              <a:tblPr/>
              <a:tblGrid>
                <a:gridCol w="2808360"/>
                <a:gridCol w="548316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акция,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ая редакция ИСО 9000 – (система менеджмента качества) издана в марте 1987г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ы ИСО носят рекомендательный характер, однако более чем в 90 странах мира они приняты в качестве национальных стандар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ая редакция основных стандартов в 1994 г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ы ИСО серии 9000 версии 1994 г. могут быть условно разделены на три отдельные группы: базовые стандарты, стандарты поддержки и методические руководства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тья редакция стандартов (ИСО 9000:2000) опубликована 15.12.200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зультате пересмотра комплекс стандартов ИСО 9000:2000 теперь содержит 5 базовых стандар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вертая редакция международного стандарта ИСО 9001:2008 издан 15 ноября 2008 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ана с изменениями в стандарте ИСО 9001:2000 и основана на восьмилетнем опыте внедрения стандарта во всем мире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енные изменения также призваны улучшить совместимость c международными стандартами ИСО 14001:2004 (система экологического менеджмента) и OHSAS 18001:2007 (система менеджмента охраны труда и промышленной безопасности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двадцать четыре месяца после опубликования ИСО 9001:2008 все действующие сертификаты ИСО 9001:2000 признаются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ействительным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версия стандарта</a:t>
                      </a: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О 9004 опубликована 30 октября 2009 г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усматривает модель «устойчивого (или постоянного) успеха» организации в условиях сложной и постоянно меняющейся сред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84360" y="404640"/>
            <a:ext cx="345600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ртификация (подтверждение соответствия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3716280"/>
            <a:ext cx="367164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ровольное подтвер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3645000"/>
            <a:ext cx="36720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язательное подтвер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87640" y="3213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08720" y="31417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63640" y="2421000"/>
            <a:ext cx="4969080" cy="77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ы сертиф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11640" y="19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468360" y="1125360"/>
            <a:ext cx="8424720" cy="5512320"/>
            <a:chOff x="468360" y="1125360"/>
            <a:chExt cx="8424720" cy="5512320"/>
          </a:xfrm>
        </p:grpSpPr>
        <p:sp>
          <p:nvSpPr>
            <p:cNvPr id="229" name=""/>
            <p:cNvSpPr/>
            <p:nvPr/>
          </p:nvSpPr>
          <p:spPr>
            <a:xfrm>
              <a:off x="3205080" y="1125360"/>
              <a:ext cx="2735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ертифик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8360" y="1990440"/>
              <a:ext cx="1728720" cy="78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пыт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57440" y="1990440"/>
              <a:ext cx="17287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верка производ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45080" y="1990440"/>
              <a:ext cx="17287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спекцион-ный контр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05800" y="1990440"/>
              <a:ext cx="208728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ругие способы доказательства соответств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28720" y="3141360"/>
              <a:ext cx="144144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1 Испытания типа (образцов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8720" y="4222440"/>
              <a:ext cx="14414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2.Испытание парт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8720" y="5014800"/>
              <a:ext cx="144144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3.Испытание каждого образц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44720" y="3141360"/>
              <a:ext cx="144144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.1 Анализ состояния произво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44720" y="4078080"/>
              <a:ext cx="144144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.2 Сертификация произво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44720" y="5014800"/>
              <a:ext cx="1441440" cy="9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2.3 Сертификациясистемы каче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05440" y="3070080"/>
              <a:ext cx="1441440" cy="9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.1Испытания образцов, отобранных в торговл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05440" y="4222440"/>
              <a:ext cx="1441440" cy="9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.2Испытания образцов, отобранных у изготовите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05440" y="5302080"/>
              <a:ext cx="1441440" cy="48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.3Контроль за производство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05440" y="5949720"/>
              <a:ext cx="1441440" cy="687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.4Контроль за системой качеств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37440" y="3214440"/>
              <a:ext cx="1655640" cy="115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.1Рассмотрение декларации о соответствии с прилагаемыми документ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8360" y="278280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8360" y="5373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8360" y="44384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8360" y="34304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7440" y="2638080"/>
              <a:ext cx="0" cy="28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57440" y="55180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7440" y="44384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57440" y="34304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45080" y="2638080"/>
              <a:ext cx="0" cy="352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45080" y="61657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5080" y="55180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5080" y="4725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45080" y="3573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05800" y="29257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05800" y="36464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92360" y="1774440"/>
              <a:ext cx="60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92360" y="17744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92720" y="17744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1800" y="17744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40720" y="17744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00720" y="148572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дуры схем сертиф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метры для анализа конкурентоспособности фир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2530440"/>
            <a:ext cx="2313000" cy="26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ирма-лидер должна обладать соизмеримостью следующих парам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16440" y="1628640"/>
            <a:ext cx="3895560" cy="158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арактеристик выпускаемой продукции по идентичности потребностей, удовлетворяемых с ее помощ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16440" y="3398760"/>
            <a:ext cx="3895560" cy="10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гментов рынка, для которых предназначена выпускаемая прод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24360" y="4653000"/>
            <a:ext cx="38955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зы жизненного цикла, в которой функционирует фи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429000" y="2746440"/>
            <a:ext cx="487440" cy="106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560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4119480"/>
            <a:ext cx="487440" cy="105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59280" y="549360"/>
            <a:ext cx="309708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кторы конкурентоспособности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084400"/>
            <a:ext cx="266400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Технико-экономические фактор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ределяю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ратегией фирмы, наличием и производительностью ресурсов, инновационным потенциалом, эффективностью менеджме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чество продук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на реализац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траты на эксплуатацию или потребление продукции или услуг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36840" y="2084400"/>
            <a:ext cx="25322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ммерческие фак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ределяют условия реализации товаров на конкретном рынке, включаю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лю рын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нъюнктуру рын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яемый серви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клам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идж фи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02280" y="2084400"/>
            <a:ext cx="25304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ормативно-правовые фак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целены на следующие виды безопас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хническую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кологическу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орально-этическу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также обеспеч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атентной чист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атентной защ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404800" y="1700280"/>
            <a:ext cx="65412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02040" y="1701720"/>
            <a:ext cx="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1700280"/>
            <a:ext cx="77796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611280" y="836640"/>
            <a:ext cx="7579800" cy="5040000"/>
            <a:chOff x="611280" y="836640"/>
            <a:chExt cx="7579800" cy="5040000"/>
          </a:xfrm>
        </p:grpSpPr>
        <p:sp>
          <p:nvSpPr>
            <p:cNvPr id="60" name=""/>
            <p:cNvSpPr/>
            <p:nvPr/>
          </p:nvSpPr>
          <p:spPr>
            <a:xfrm>
              <a:off x="2716560" y="836640"/>
              <a:ext cx="3930480" cy="18399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95200" y="1239840"/>
              <a:ext cx="3368880" cy="100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оказатели конкурентоспособности фи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1280" y="3054240"/>
              <a:ext cx="3509280" cy="28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отенциал конкурентоспособности фирмы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есурсы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издержк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ука и технологи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ганизация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управление производств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81800" y="3054240"/>
              <a:ext cx="3509280" cy="28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оказатели долгосрочной конкурентоспособности фирмы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отивация персонала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валификация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ультура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исциплина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езопас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16560" y="2651040"/>
              <a:ext cx="0" cy="40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47400" y="2651040"/>
              <a:ext cx="0" cy="40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чественные показатели конкурентоспособности продук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414160"/>
                <a:gridCol w="5815080"/>
              </a:tblGrid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показа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, входящие в групп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а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ство выполнения основной фун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версальность применения, совершенство выполнения вспомогательной фун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ежность в потребл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отказность, долговечность, ремонтопригодность, сохраняе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ргоном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ческие, антропометрические, психофизилогические, психолог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ет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ая выразительность, рациональность формы, целостность компози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ство производственного выпол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ьность товарного ви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имостные показатели конкурентоспособности продукц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оврем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затраты на приобретение това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затраты на эксплуатацию това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тов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 на эксплуата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транспортиров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мо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установки, монтажа и приведения товара в работоспособное состо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послегарантийное техническое обслужи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ховые взн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утилиза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ханизм формирования конкурентоспособности проду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15084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68360" y="1484280"/>
            <a:ext cx="8459640" cy="5113440"/>
            <a:chOff x="468360" y="1484280"/>
            <a:chExt cx="8459640" cy="5113440"/>
          </a:xfrm>
        </p:grpSpPr>
        <p:sp>
          <p:nvSpPr>
            <p:cNvPr id="73" name=""/>
            <p:cNvSpPr/>
            <p:nvPr/>
          </p:nvSpPr>
          <p:spPr>
            <a:xfrm>
              <a:off x="781200" y="1484280"/>
              <a:ext cx="4230360" cy="67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требительские предпочт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94200" y="1484280"/>
              <a:ext cx="2821320" cy="67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38160" y="3825720"/>
              <a:ext cx="2036880" cy="676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71640" y="2214720"/>
              <a:ext cx="2710080" cy="1015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21320" y="2214720"/>
              <a:ext cx="2036880" cy="1008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14640" y="3732120"/>
              <a:ext cx="1724040" cy="676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21320" y="3732120"/>
              <a:ext cx="2036880" cy="676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87880" y="5751360"/>
              <a:ext cx="3446280" cy="846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68360" y="1628280"/>
              <a:ext cx="0" cy="4611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8910720" y="1628640"/>
              <a:ext cx="17280" cy="4687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41760" y="322272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8360" y="1619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8615520" y="1619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35080" y="214632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5080" y="2771640"/>
              <a:ext cx="73656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108840" y="218448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481720" y="2714760"/>
              <a:ext cx="62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481720" y="288432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11560" y="1619280"/>
              <a:ext cx="78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44840" y="4834080"/>
              <a:ext cx="2976480" cy="66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51000" y="2108160"/>
              <a:ext cx="0" cy="178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75040" y="407052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638680" y="4070520"/>
              <a:ext cx="78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192040" y="5164200"/>
              <a:ext cx="125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192400" y="444672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421320" y="5164200"/>
              <a:ext cx="125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7675560" y="4408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572000" y="43653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8360" y="625968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734160" y="6259680"/>
              <a:ext cx="2193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826920" y="1628640"/>
            <a:ext cx="41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1628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ход покуп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2360" y="2276640"/>
            <a:ext cx="194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2276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тежеспособный 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16720" y="2276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оги и замен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3860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зность товара, усл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95640" y="3789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а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3789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держки на произв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4869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чество продукта, усл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58770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курентоспособность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акторы, определяющие конкурентоспособность продук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че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вень послепродажного обслужи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ффективность рекла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а сбы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и и технологии производ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мы прода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9:33:32Z</dcterms:created>
  <dc:creator>Елена</dc:creator>
  <dc:description/>
  <dc:language>en-US</dc:language>
  <cp:lastModifiedBy>201</cp:lastModifiedBy>
  <dcterms:modified xsi:type="dcterms:W3CDTF">2013-01-20T06:23:27Z</dcterms:modified>
  <cp:revision>27</cp:revision>
  <dc:subject/>
  <dc:title>Тема лекции: «Конкурентоспособность предприятия и продукции.  Стандарты и  системы качества.»</dc:title>
</cp:coreProperties>
</file>