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621-1041-4737-8423-AD0BFF6B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AEF-22D4-429E-9025-97FD0BD0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845-128D-4CEB-9539-A4AF256D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5B6-56BE-4168-8636-CF786B91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1FBC-AA2E-4D99-AB5F-68B5A9DB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8607-2A05-46EF-BFA7-41F37B7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66F-85E4-4AFC-89C5-01F5200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CD5-E2B7-443C-AA74-8A227081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07DC-3764-4887-BF05-7940289E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AFAE-092F-408A-8091-B69D130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97B1-C678-4A6A-BA2D-D82E0D1D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6D0-D803-4C75-9AE0-42EA13B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45D-2997-4A0A-ACD3-ED700F5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48AD-0397-4444-AAE2-ADD4A4C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B80-2DBD-413C-84B8-E391B4D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37E-3FA0-415C-8C1D-36C86B23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1BF-3DE7-40FE-951C-BE2F5C17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943-AA6D-4622-AA1F-9C985295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02A-3D48-40DB-874B-6AC72E8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431-01DF-4296-AF02-7595C64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022-ABE6-47B8-88DC-33D4BA27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9F6-1E66-4263-AB53-4058F14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C5D-0726-4423-A61E-98CA5FE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650-C60A-486B-9F25-C1B70A6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7295-3065-4954-9AE5-10EF8C10C0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263-D9EE-4537-A447-D35DC97933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ce8"/>
            </a:gs>
            <a:gs pos="100000">
              <a:srgbClr val="cc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5720" y="765000"/>
            <a:ext cx="684828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330066"/>
                </a:solidFill>
                <a:latin typeface="Stencil"/>
              </a:rPr>
              <a:t>Коммуникационная политика в маркетинге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Подготов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Мазур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. 10-501-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2736720" cy="2111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47973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400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тоды персональных продаж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067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67680" indent="248400" algn="ctr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3894"/>
                </a:solidFill>
                <a:latin typeface="Monotype Corsiva"/>
              </a:rPr>
              <a:t>По сбытовой концеп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6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Monotype Corsiva"/>
              </a:rPr>
              <a:t>предполагающей ее единообразие и привлекательность для всей группы возможных  потребителей данного това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680" indent="248400" algn="ctr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Monotype Corsiva"/>
              </a:rPr>
              <a:t>Качественный подх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6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Monotype Corsiva"/>
              </a:rPr>
              <a:t>учитывающий и удовлетворяющий персональные потребности каждого отдельного потребит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50000">
              <a:srgbClr val="ffffff"/>
            </a:gs>
            <a:gs pos="100000">
              <a:srgbClr val="0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14400" y="2349360"/>
            <a:ext cx="8229600" cy="30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Способствует возникновению самых разнообразных отношений: от формальных до дружеск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80"/>
                </a:solidFill>
                <a:latin typeface="Times New Roman"/>
              </a:rPr>
              <a:t>Вынуждает покупателя каким-то образом отреагировать на обра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Самое дорогое из средств стим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80"/>
                </a:solidFill>
                <a:latin typeface="Times New Roman"/>
              </a:rPr>
              <a:t>На некоторых этапах покупки самое эффективное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9640" y="333360"/>
            <a:ext cx="7105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арактерные черт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ых продаж: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187280" y="476280"/>
            <a:ext cx="6193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ыставки и ярмар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546560"/>
            <a:ext cx="741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Monotype Corsiva"/>
              </a:rPr>
              <a:t>Выставка</a:t>
            </a:r>
            <a:r>
              <a:rPr b="0" i="1" lang="en-US" sz="1800" spc="-1" strike="noStrike">
                <a:solidFill>
                  <a:srgbClr val="340068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публичная демонстрация достижений в области экономик, науки, техники, искусства и других областях обществен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2475000"/>
            <a:ext cx="709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Ярмарка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представляет собой крупный рынок товаров широкого потребления и (или) оборудования, действует в течение ограниченного времени в одном и том же месте и на которой экспонентам разрешается представлять образцы своей продукции для заключения торговых сделок в национальном и международном масштаб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905120" cy="2400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979640" y="4941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50920" y="620640"/>
            <a:ext cx="8552520" cy="5256000"/>
            <a:chOff x="250920" y="620640"/>
            <a:chExt cx="8552520" cy="5256000"/>
          </a:xfrm>
        </p:grpSpPr>
        <p:cxnSp>
          <p:nvCxnSpPr>
            <p:cNvPr id="215" name="_s39957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664240" y="1584720"/>
              <a:ext cx="1051920" cy="3327120"/>
            </a:xfrm>
            <a:prstGeom prst="bentConnector3">
              <a:avLst>
                <a:gd name="adj1" fmla="val 129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9949"/>
            <p:cNvCxnSpPr>
              <a:stCxn id="219" idx="0"/>
              <a:endCxn id="217" idx="2"/>
            </p:cNvCxnSpPr>
            <p:nvPr/>
          </p:nvCxnSpPr>
          <p:spPr>
            <a:xfrm flipV="1" rot="16200000">
              <a:off x="4555440" y="2693520"/>
              <a:ext cx="1051920" cy="1109520"/>
            </a:xfrm>
            <a:prstGeom prst="bentConnector3">
              <a:avLst>
                <a:gd name="adj1" fmla="val 129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39948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3446640" y="2693880"/>
              <a:ext cx="1051920" cy="1109160"/>
            </a:xfrm>
            <a:prstGeom prst="bentConnector3">
              <a:avLst>
                <a:gd name="adj1" fmla="val 129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39947"/>
            <p:cNvCxnSpPr>
              <a:stCxn id="223" idx="0"/>
              <a:endCxn id="217" idx="2"/>
            </p:cNvCxnSpPr>
            <p:nvPr/>
          </p:nvCxnSpPr>
          <p:spPr>
            <a:xfrm flipH="1" flipV="1" rot="5400000">
              <a:off x="2337840" y="1585440"/>
              <a:ext cx="1051920" cy="3326400"/>
            </a:xfrm>
            <a:prstGeom prst="bentConnector3">
              <a:avLst>
                <a:gd name="adj1" fmla="val 129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39943"/>
            <p:cNvSpPr/>
            <p:nvPr/>
          </p:nvSpPr>
          <p:spPr>
            <a:xfrm>
              <a:off x="3576600" y="620640"/>
              <a:ext cx="1900440" cy="2102400"/>
            </a:xfrm>
            <a:custGeom>
              <a:avLst/>
              <a:gdLst>
                <a:gd name="textAreaLeft" fmla="*/ 92520 w 1900440"/>
                <a:gd name="textAreaRight" fmla="*/ 1807920 w 1900440"/>
                <a:gd name="textAreaTop" fmla="*/ 92520 h 2102400"/>
                <a:gd name="textAreaBottom" fmla="*/ 2009880 h 2102400"/>
              </a:gdLst>
              <a:ahLst/>
              <a:rect l="textAreaLeft" t="textAreaTop" r="textAreaRight" b="textAreaBottom"/>
              <a:pathLst>
                <a:path w="21600" h="23895">
                  <a:moveTo>
                    <a:pt x="3600" y="0"/>
                  </a:moveTo>
                  <a:arcTo wR="3600" hR="3600" stAng="16200000" swAng="-5400000"/>
                  <a:lnTo>
                    <a:pt x="0" y="20295"/>
                  </a:lnTo>
                  <a:arcTo wR="3600" hR="3600" stAng="10800000" swAng="-5400000"/>
                  <a:lnTo>
                    <a:pt x="18000" y="238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66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 Old Style"/>
                </a:rPr>
                <a:t>Работ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 Old Style"/>
                </a:rPr>
                <a:t>проводим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 Old Style"/>
                </a:rPr>
                <a:t>на выставка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 Old Style"/>
                </a:rPr>
                <a:t>и ярмарка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44"/>
            <p:cNvSpPr/>
            <p:nvPr/>
          </p:nvSpPr>
          <p:spPr>
            <a:xfrm>
              <a:off x="250920" y="3774240"/>
              <a:ext cx="1900440" cy="2102400"/>
            </a:xfrm>
            <a:custGeom>
              <a:avLst/>
              <a:gdLst>
                <a:gd name="textAreaLeft" fmla="*/ 92520 w 1900440"/>
                <a:gd name="textAreaRight" fmla="*/ 1807920 w 1900440"/>
                <a:gd name="textAreaTop" fmla="*/ 92520 h 2102400"/>
                <a:gd name="textAreaBottom" fmla="*/ 2009880 h 2102400"/>
              </a:gdLst>
              <a:ahLst/>
              <a:rect l="textAreaLeft" t="textAreaTop" r="textAreaRight" b="textAreaBottom"/>
              <a:pathLst>
                <a:path w="21600" h="23895">
                  <a:moveTo>
                    <a:pt x="3600" y="0"/>
                  </a:moveTo>
                  <a:arcTo wR="3600" hR="3600" stAng="16200000" swAng="-5400000"/>
                  <a:lnTo>
                    <a:pt x="0" y="20295"/>
                  </a:lnTo>
                  <a:arcTo wR="3600" hR="3600" stAng="10800000" swAng="-5400000"/>
                  <a:lnTo>
                    <a:pt x="18000" y="238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водят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реговор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45"/>
            <p:cNvSpPr/>
            <p:nvPr/>
          </p:nvSpPr>
          <p:spPr>
            <a:xfrm>
              <a:off x="2468160" y="3774240"/>
              <a:ext cx="1900440" cy="2102400"/>
            </a:xfrm>
            <a:custGeom>
              <a:avLst/>
              <a:gdLst>
                <a:gd name="textAreaLeft" fmla="*/ 92520 w 1900440"/>
                <a:gd name="textAreaRight" fmla="*/ 1807920 w 1900440"/>
                <a:gd name="textAreaTop" fmla="*/ 92520 h 2102400"/>
                <a:gd name="textAreaBottom" fmla="*/ 2009880 h 2102400"/>
              </a:gdLst>
              <a:ahLst/>
              <a:rect l="textAreaLeft" t="textAreaTop" r="textAreaRight" b="textAreaBottom"/>
              <a:pathLst>
                <a:path w="21600" h="23895">
                  <a:moveTo>
                    <a:pt x="3600" y="0"/>
                  </a:moveTo>
                  <a:arcTo wR="3600" hR="3600" stAng="16200000" swAng="-5400000"/>
                  <a:lnTo>
                    <a:pt x="0" y="20295"/>
                  </a:lnTo>
                  <a:arcTo wR="3600" hR="3600" stAng="10800000" swAng="-5400000"/>
                  <a:lnTo>
                    <a:pt x="18000" y="238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дписывают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нтрак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39946"/>
            <p:cNvSpPr/>
            <p:nvPr/>
          </p:nvSpPr>
          <p:spPr>
            <a:xfrm>
              <a:off x="4685760" y="3774240"/>
              <a:ext cx="1900440" cy="2102400"/>
            </a:xfrm>
            <a:custGeom>
              <a:avLst/>
              <a:gdLst>
                <a:gd name="textAreaLeft" fmla="*/ 92520 w 1900440"/>
                <a:gd name="textAreaRight" fmla="*/ 1807920 w 1900440"/>
                <a:gd name="textAreaTop" fmla="*/ 92520 h 2102400"/>
                <a:gd name="textAreaBottom" fmla="*/ 2009880 h 2102400"/>
              </a:gdLst>
              <a:ahLst/>
              <a:rect l="textAreaLeft" t="textAreaTop" r="textAreaRight" b="textAreaBottom"/>
              <a:pathLst>
                <a:path w="21600" h="23895">
                  <a:moveTo>
                    <a:pt x="3600" y="0"/>
                  </a:moveTo>
                  <a:arcTo wR="3600" hR="3600" stAng="16200000" swAng="-5400000"/>
                  <a:lnTo>
                    <a:pt x="0" y="20295"/>
                  </a:lnTo>
                  <a:arcTo wR="3600" hR="3600" stAng="10800000" swAng="-5400000"/>
                  <a:lnTo>
                    <a:pt x="18000" y="238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здает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клам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39956"/>
            <p:cNvSpPr/>
            <p:nvPr/>
          </p:nvSpPr>
          <p:spPr>
            <a:xfrm>
              <a:off x="6903000" y="3774240"/>
              <a:ext cx="1900440" cy="2102400"/>
            </a:xfrm>
            <a:custGeom>
              <a:avLst/>
              <a:gdLst>
                <a:gd name="textAreaLeft" fmla="*/ 92520 w 1900440"/>
                <a:gd name="textAreaRight" fmla="*/ 1807920 w 1900440"/>
                <a:gd name="textAreaTop" fmla="*/ 92520 h 2102400"/>
                <a:gd name="textAreaBottom" fmla="*/ 2009880 h 2102400"/>
              </a:gdLst>
              <a:ahLst/>
              <a:rect l="textAreaLeft" t="textAreaTop" r="textAreaRight" b="textAreaBottom"/>
              <a:pathLst>
                <a:path w="21600" h="23895">
                  <a:moveTo>
                    <a:pt x="3600" y="0"/>
                  </a:moveTo>
                  <a:arcTo wR="3600" hR="3600" stAng="16200000" swAng="-5400000"/>
                  <a:lnTo>
                    <a:pt x="0" y="20295"/>
                  </a:lnTo>
                  <a:arcTo wR="3600" hR="3600" stAng="10800000" swAng="-5400000"/>
                  <a:lnTo>
                    <a:pt x="18000" y="238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рганизуют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мат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нферен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т.д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3d0c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-252360" y="260280"/>
            <a:ext cx="91058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0c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Понятие и фор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0c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0c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0c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прямого маркетинг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0c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1841760"/>
            <a:ext cx="67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рямой 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рактивная системуа маркетинга, в которой используется одно или несколько средств коммуникации для получения определенного отклика и / или  для совершения сделки в любом реги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340000" y="4829040"/>
            <a:ext cx="224784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2556000" cy="15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ce8"/>
            </a:gs>
            <a:gs pos="50000">
              <a:srgbClr val="dae2f7"/>
            </a:gs>
            <a:gs pos="100000">
              <a:srgbClr val="7e9ce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39640" y="476280"/>
            <a:ext cx="710568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>
                    <a:alpha val="66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Формы прямого маркетинг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>
                  <a:alpha val="66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637000"/>
          <a:ext cx="7643520" cy="2638440"/>
        </p:xfrm>
        <a:graphic>
          <a:graphicData uri="http://schemas.openxmlformats.org/drawingml/2006/table">
            <a:tbl>
              <a:tblPr/>
              <a:tblGrid>
                <a:gridCol w="3163680"/>
                <a:gridCol w="4479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ая продажа;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ажа по телевидению и через дру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ая почтовая рассыл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С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ажа по каталог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тевой маркетин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емаркетинг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91ab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e6c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7000"/>
                </a:solidFill>
                <a:latin typeface="Bookman Old Style"/>
              </a:rPr>
              <a:t>Преимущества прямого маркетинг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95280" y="1484280"/>
            <a:ext cx="7786440" cy="3670920"/>
            <a:chOff x="395280" y="1484280"/>
            <a:chExt cx="7786440" cy="3670920"/>
          </a:xfrm>
        </p:grpSpPr>
        <p:cxnSp>
          <p:nvCxnSpPr>
            <p:cNvPr id="233" name="_s43023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434920" y="1804680"/>
              <a:ext cx="734760" cy="302904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43020"/>
            <p:cNvCxnSpPr>
              <a:stCxn id="237" idx="0"/>
              <a:endCxn id="235" idx="2"/>
            </p:cNvCxnSpPr>
            <p:nvPr/>
          </p:nvCxnSpPr>
          <p:spPr>
            <a:xfrm flipV="1" rot="16200000">
              <a:off x="4425480" y="2814120"/>
              <a:ext cx="734760" cy="10101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43019"/>
            <p:cNvCxnSpPr>
              <a:stCxn id="239" idx="0"/>
              <a:endCxn id="235" idx="2"/>
            </p:cNvCxnSpPr>
            <p:nvPr/>
          </p:nvCxnSpPr>
          <p:spPr>
            <a:xfrm flipH="1" flipV="1" rot="5400000">
              <a:off x="3416400" y="2814480"/>
              <a:ext cx="734760" cy="100980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43018"/>
            <p:cNvCxnSpPr>
              <a:stCxn id="241" idx="0"/>
              <a:endCxn id="235" idx="2"/>
            </p:cNvCxnSpPr>
            <p:nvPr/>
          </p:nvCxnSpPr>
          <p:spPr>
            <a:xfrm flipH="1" flipV="1" rot="5400000">
              <a:off x="2406960" y="1805400"/>
              <a:ext cx="734760" cy="30283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5" name="_s43014"/>
            <p:cNvSpPr/>
            <p:nvPr/>
          </p:nvSpPr>
          <p:spPr>
            <a:xfrm>
              <a:off x="3422880" y="1484280"/>
              <a:ext cx="1730160" cy="14684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Для покупател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43015"/>
            <p:cNvSpPr/>
            <p:nvPr/>
          </p:nvSpPr>
          <p:spPr>
            <a:xfrm>
              <a:off x="395280" y="3686760"/>
              <a:ext cx="1730160" cy="1468440"/>
            </a:xfrm>
            <a:prstGeom prst="roundRect">
              <a:avLst>
                <a:gd name="adj" fmla="val 16667"/>
              </a:avLst>
            </a:prstGeom>
            <a:solidFill>
              <a:srgbClr val="7e9ce8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экономия времени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43016"/>
            <p:cNvSpPr/>
            <p:nvPr/>
          </p:nvSpPr>
          <p:spPr>
            <a:xfrm>
              <a:off x="2413800" y="3686760"/>
              <a:ext cx="1730160" cy="1468440"/>
            </a:xfrm>
            <a:prstGeom prst="roundRect">
              <a:avLst>
                <a:gd name="adj" fmla="val 16667"/>
              </a:avLst>
            </a:prstGeom>
            <a:solidFill>
              <a:srgbClr val="7e9ce8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озможность зак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товара, как 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себя, так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для други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43017"/>
            <p:cNvSpPr/>
            <p:nvPr/>
          </p:nvSpPr>
          <p:spPr>
            <a:xfrm>
              <a:off x="4432680" y="3686760"/>
              <a:ext cx="1730160" cy="1468440"/>
            </a:xfrm>
            <a:prstGeom prst="roundRect">
              <a:avLst>
                <a:gd name="adj" fmla="val 16667"/>
              </a:avLst>
            </a:prstGeom>
            <a:solidFill>
              <a:srgbClr val="7e9ce8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озмож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больше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ыбора товар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43022"/>
            <p:cNvSpPr/>
            <p:nvPr/>
          </p:nvSpPr>
          <p:spPr>
            <a:xfrm>
              <a:off x="6451560" y="3686760"/>
              <a:ext cx="1730160" cy="1468440"/>
            </a:xfrm>
            <a:prstGeom prst="roundRect">
              <a:avLst>
                <a:gd name="adj" fmla="val 16667"/>
              </a:avLst>
            </a:prstGeom>
            <a:solidFill>
              <a:srgbClr val="7e9ce8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озмож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избеж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стреч с торгов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представител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68360" y="5661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okman Old Style"/>
              </a:rPr>
              <a:t>Для продавца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главная выгода - в маркетинге отношений, где источником прибыли считается не товар, а кли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089c"/>
            </a:gs>
            <a:gs pos="100000">
              <a:srgbClr val="e4e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Times New Roman"/>
              </a:rPr>
              <a:t>Интегрированный прямой маркетинг -  максимаркетинг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Интегрированный прямой маркетинг направлен на решение задачи объединения и эффективного использования всех средств коммуникации для каждого потенциального потребителя при условии разработки программы последовательного воздействия на респонде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48440" y="4221000"/>
            <a:ext cx="2095560" cy="2190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5589720"/>
            <a:ext cx="280836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af"/>
            </a:gs>
            <a:gs pos="50000">
              <a:srgbClr val="ffffff"/>
            </a:gs>
            <a:gs pos="100000">
              <a:srgbClr val="afaf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d4d09"/>
                </a:solidFill>
                <a:latin typeface="Arial"/>
              </a:rPr>
              <a:t>Модель интегрированной коммуник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280360" cy="3241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632720" cy="62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987600">
            <a:off x="6877080" y="4437000"/>
            <a:ext cx="2016000" cy="1341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139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держание тем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58323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плекс маркетинговых коммуник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– связи с обществен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имулирование сбы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ичная прода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ставки и ярмар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нятие и формы прямого маркетин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нтегрированные маркетинговые коммуника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2333520" cy="196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401800">
            <a:off x="5219280" y="429264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4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4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44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94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44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94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44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94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44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94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7dbdb"/>
            </a:gs>
            <a:gs pos="100000">
              <a:srgbClr val="cc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-973080" y="62064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4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Отличительная особенность максимаркетин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возможность получения исчерпывающей информации о каждом потенциальном потребителе благодаря компьютерным базам данных, постоянно обновляемым и содержащим подробную характеристику клиента, включая его поведенчески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314172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673560" indent="-233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выполнения главной задачи - создания банка наиболее перспективных потенциальных клиентов - предлагаются такие методы, к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«выужив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«разработка месторождений потенциальных клиент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«промывк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создание собственной базы данных («постройк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d4d09"/>
                </a:solidFill>
                <a:latin typeface="Arial"/>
              </a:rPr>
              <a:t>«спелеология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560" indent="-233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f2e9d"/>
                </a:solidFill>
                <a:latin typeface="Cambria"/>
              </a:rPr>
              <a:t>Комплекс маркетинговых коммуникац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98900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2e9d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1f2e9d"/>
                </a:solidFill>
                <a:latin typeface="Arial"/>
              </a:rPr>
              <a:t>Маркетинговая коммуник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двусторонний процесс: с одной стороны, предполагается воздействие на целевые и иные аудитории, а с другой, - получение встречной информации о реакции этих аудиторий на осуществляемое фирмой воз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3357720"/>
            <a:ext cx="80028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Цели коммуникационной пол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Char char="-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информировать перспективных потребителей о своем продукте, услугах, условиях прода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Char char="-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убедить покупателя отдать предпочтение именно этим товарам и марк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Char char="-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заставить покупателя действовать – поведение потребителя направляется на то, что рынок предлагает в данный момент, а не откладывать покупку на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701720" y="697680"/>
            <a:ext cx="5742720" cy="5261400"/>
            <a:chOff x="1701720" y="697680"/>
            <a:chExt cx="5742720" cy="5261400"/>
          </a:xfrm>
        </p:grpSpPr>
        <p:sp>
          <p:nvSpPr>
            <p:cNvPr id="162" name="_s24627"/>
            <p:cNvSpPr/>
            <p:nvPr/>
          </p:nvSpPr>
          <p:spPr>
            <a:xfrm flipH="1" flipV="1">
              <a:off x="3150000" y="3092040"/>
              <a:ext cx="712440" cy="2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4626"/>
            <p:cNvSpPr/>
            <p:nvPr/>
          </p:nvSpPr>
          <p:spPr>
            <a:xfrm>
              <a:off x="1701720" y="2163960"/>
              <a:ext cx="1490400" cy="141624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50000">
                  <a:srgbClr val="5ea0e8"/>
                </a:gs>
                <a:gs pos="100000">
                  <a:srgbClr val="dcebf5"/>
                </a:gs>
              </a:gsLst>
              <a:lin ang="13500000"/>
            </a:gradFill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Выставки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ярмар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24625"/>
            <p:cNvSpPr/>
            <p:nvPr/>
          </p:nvSpPr>
          <p:spPr>
            <a:xfrm flipH="1">
              <a:off x="3693600" y="4101480"/>
              <a:ext cx="44100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4624"/>
            <p:cNvSpPr/>
            <p:nvPr/>
          </p:nvSpPr>
          <p:spPr>
            <a:xfrm>
              <a:off x="2511000" y="4540680"/>
              <a:ext cx="1490400" cy="141624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50000">
                  <a:srgbClr val="5ea0e8"/>
                </a:gs>
                <a:gs pos="100000">
                  <a:srgbClr val="dcebf5"/>
                </a:gs>
              </a:gsLst>
              <a:lin ang="13500000"/>
            </a:gradFill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Лич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продаж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4623"/>
            <p:cNvSpPr/>
            <p:nvPr/>
          </p:nvSpPr>
          <p:spPr>
            <a:xfrm>
              <a:off x="5009400" y="4101480"/>
              <a:ext cx="43848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24622"/>
            <p:cNvSpPr/>
            <p:nvPr/>
          </p:nvSpPr>
          <p:spPr>
            <a:xfrm>
              <a:off x="5140080" y="4542840"/>
              <a:ext cx="1490400" cy="141624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50000">
                  <a:srgbClr val="5ea0e8"/>
                </a:gs>
                <a:gs pos="100000">
                  <a:srgbClr val="dcebf5"/>
                </a:gs>
              </a:gsLst>
              <a:lin ang="13500000"/>
            </a:gradFill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Monotype Corsiva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4621"/>
            <p:cNvSpPr/>
            <p:nvPr/>
          </p:nvSpPr>
          <p:spPr>
            <a:xfrm flipV="1">
              <a:off x="5277960" y="3092040"/>
              <a:ext cx="712440" cy="21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4620"/>
            <p:cNvSpPr/>
            <p:nvPr/>
          </p:nvSpPr>
          <p:spPr>
            <a:xfrm>
              <a:off x="5954040" y="2166480"/>
              <a:ext cx="1490400" cy="141624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50000">
                  <a:srgbClr val="5ea0e8"/>
                </a:gs>
                <a:gs pos="100000">
                  <a:srgbClr val="dcebf5"/>
                </a:gs>
              </a:gsLst>
              <a:lin ang="13500000"/>
            </a:gradFill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Стимул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Monotype Corsiva"/>
                </a:rPr>
                <a:t>сбы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4619"/>
            <p:cNvSpPr/>
            <p:nvPr/>
          </p:nvSpPr>
          <p:spPr>
            <a:xfrm flipV="1">
              <a:off x="4570560" y="2112120"/>
              <a:ext cx="0" cy="71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4618"/>
            <p:cNvSpPr/>
            <p:nvPr/>
          </p:nvSpPr>
          <p:spPr>
            <a:xfrm>
              <a:off x="3826440" y="697680"/>
              <a:ext cx="1490400" cy="141624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50000">
                  <a:srgbClr val="5ea0e8"/>
                </a:gs>
                <a:gs pos="100000">
                  <a:srgbClr val="dcebf5"/>
                </a:gs>
              </a:gsLst>
              <a:lin ang="13500000"/>
            </a:gradFill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4617"/>
            <p:cNvSpPr/>
            <p:nvPr/>
          </p:nvSpPr>
          <p:spPr>
            <a:xfrm>
              <a:off x="3826440" y="2823840"/>
              <a:ext cx="1490400" cy="1416240"/>
            </a:xfrm>
            <a:prstGeom prst="ellips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onotype Corsiva"/>
                </a:rPr>
                <a:t>Комплекс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onotype Corsiva"/>
                </a:rPr>
                <a:t>коммуник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78100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fornian FB"/>
              </a:rPr>
              <a:t>Связи с общественностью (</a:t>
            </a:r>
            <a:r>
              <a:rPr b="1" i="1" lang="en-US" sz="2400" spc="-1" strike="noStrike">
                <a:solidFill>
                  <a:srgbClr val="cc0000"/>
                </a:solidFill>
                <a:latin typeface="Californian FB"/>
              </a:rPr>
              <a:t>public relations</a:t>
            </a:r>
            <a:r>
              <a:rPr b="1" i="1" lang="ru-RU" sz="2400" spc="-1" strike="noStrike">
                <a:solidFill>
                  <a:srgbClr val="cc0000"/>
                </a:solidFill>
                <a:latin typeface="Californian FB"/>
              </a:rPr>
              <a:t>,</a:t>
            </a:r>
            <a:r>
              <a:rPr b="1" i="1" lang="en-US" sz="2400" spc="-1" strike="noStrike">
                <a:solidFill>
                  <a:srgbClr val="cc0000"/>
                </a:solidFill>
                <a:latin typeface="Californian FB"/>
              </a:rPr>
              <a:t>PR</a:t>
            </a:r>
            <a:r>
              <a:rPr b="1" i="1" lang="ru-RU" sz="2400" spc="-1" strike="noStrike">
                <a:solidFill>
                  <a:srgbClr val="cc0000"/>
                </a:solidFill>
                <a:latin typeface="Californian FB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Californian FB"/>
              </a:rPr>
              <a:t>установление доброжелательных отношений с общественностью и управление этими отноше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5080" y="141840"/>
            <a:ext cx="7465320" cy="1594440"/>
            <a:chOff x="145080" y="141840"/>
            <a:chExt cx="7465320" cy="1594440"/>
          </a:xfrm>
        </p:grpSpPr>
        <p:sp>
          <p:nvSpPr>
            <p:cNvPr id="175" name=""/>
            <p:cNvSpPr txBox="1"/>
            <p:nvPr/>
          </p:nvSpPr>
          <p:spPr>
            <a:xfrm>
              <a:off x="1619280" y="476280"/>
              <a:ext cx="59911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8d8ec"/>
                      </a:gs>
                      <a:gs pos="100000">
                        <a:srgbClr val="2d6c14">
                          <a:alpha val="99215"/>
                        </a:srgbClr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empus Sans ITC"/>
                </a:rPr>
                <a:t>PR – связи с общественностью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8d8ec"/>
                    </a:gs>
                    <a:gs pos="100000">
                      <a:srgbClr val="2d6c14">
                        <a:alpha val="99215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rot="730800">
              <a:off x="250920" y="333000"/>
              <a:ext cx="1944720" cy="1211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76720" y="5084640"/>
            <a:ext cx="3384360" cy="1582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3384720" cy="1950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979640" cy="148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99"/>
            </a:gs>
            <a:gs pos="50000">
              <a:srgbClr val="ffffff"/>
            </a:gs>
            <a:gs pos="100000">
              <a:srgbClr val="66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57200" y="122400"/>
            <a:ext cx="8228160" cy="6007680"/>
            <a:chOff x="457200" y="122400"/>
            <a:chExt cx="8228160" cy="6007680"/>
          </a:xfrm>
        </p:grpSpPr>
        <p:cxnSp>
          <p:nvCxnSpPr>
            <p:cNvPr id="181" name="_s30732"/>
            <p:cNvCxnSpPr>
              <a:stCxn id="182" idx="1"/>
              <a:endCxn id="183" idx="2"/>
            </p:cNvCxnSpPr>
            <p:nvPr/>
          </p:nvCxnSpPr>
          <p:spPr>
            <a:xfrm rot="10800000">
              <a:off x="2925000" y="1213920"/>
              <a:ext cx="823320" cy="437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30731"/>
            <p:cNvCxnSpPr>
              <a:stCxn id="185" idx="1"/>
              <a:endCxn id="183" idx="2"/>
            </p:cNvCxnSpPr>
            <p:nvPr/>
          </p:nvCxnSpPr>
          <p:spPr>
            <a:xfrm rot="10800000">
              <a:off x="2925000" y="1213920"/>
              <a:ext cx="823320" cy="27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0730"/>
            <p:cNvCxnSpPr>
              <a:stCxn id="187" idx="1"/>
              <a:endCxn id="183" idx="2"/>
            </p:cNvCxnSpPr>
            <p:nvPr/>
          </p:nvCxnSpPr>
          <p:spPr>
            <a:xfrm rot="10800000">
              <a:off x="2925000" y="1213920"/>
              <a:ext cx="823320" cy="109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3" name="_s30726"/>
            <p:cNvSpPr/>
            <p:nvPr/>
          </p:nvSpPr>
          <p:spPr>
            <a:xfrm>
              <a:off x="457200" y="122400"/>
              <a:ext cx="4937040" cy="1092240"/>
            </a:xfrm>
            <a:prstGeom prst="roundRect">
              <a:avLst>
                <a:gd name="adj" fmla="val 16667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7e9ce8"/>
                  </a:solidFill>
                  <a:latin typeface="Arial"/>
                </a:rPr>
                <a:t>Специалис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7e9ce8"/>
                  </a:solidFill>
                  <a:latin typeface="Arial"/>
                </a:rPr>
                <a:t>по связям с общественность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27"/>
            <p:cNvSpPr/>
            <p:nvPr/>
          </p:nvSpPr>
          <p:spPr>
            <a:xfrm>
              <a:off x="3748320" y="1760760"/>
              <a:ext cx="4937040" cy="10922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00"/>
                  </a:solidFill>
                  <a:latin typeface="Arial"/>
                </a:rPr>
                <a:t>контролируют информацию о фирме и товарах</a:t>
              </a:r>
              <a:r>
                <a:rPr b="0" lang="en-US" sz="2800" spc="-1" strike="noStrike">
                  <a:solidFill>
                    <a:srgbClr val="cccc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30728"/>
            <p:cNvSpPr/>
            <p:nvPr/>
          </p:nvSpPr>
          <p:spPr>
            <a:xfrm>
              <a:off x="3748320" y="3399120"/>
              <a:ext cx="4937040" cy="10922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00"/>
                  </a:solidFill>
                  <a:latin typeface="Arial"/>
                </a:rPr>
                <a:t>отвечают за содержание интервь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00"/>
                  </a:solidFill>
                  <a:latin typeface="Arial"/>
                </a:rPr>
                <a:t>сотрудников фирм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729"/>
            <p:cNvSpPr/>
            <p:nvPr/>
          </p:nvSpPr>
          <p:spPr>
            <a:xfrm>
              <a:off x="3748320" y="5037840"/>
              <a:ext cx="4937040" cy="10922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00"/>
                  </a:solidFill>
                  <a:latin typeface="Arial"/>
                </a:rPr>
                <a:t>публикуют пресс-релизы, рекламные материал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00"/>
                  </a:solidFill>
                  <a:latin typeface="Arial"/>
                </a:rPr>
                <a:t>о фирме и т.д. 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900000" y="404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имулирование сбыта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2421000"/>
            <a:ext cx="71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00"/>
                </a:solidFill>
                <a:latin typeface="Arial"/>
              </a:rPr>
              <a:t>Стимулирование сб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 отличие от рекламы, которая направлена на приближение покупателя к товару, наоборот, приближает товар к потребителю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1935360" cy="290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908000" y="4438800"/>
            <a:ext cx="188604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468360" y="907920"/>
            <a:ext cx="7416360" cy="4536720"/>
            <a:chOff x="468360" y="907920"/>
            <a:chExt cx="7416360" cy="4536720"/>
          </a:xfrm>
        </p:grpSpPr>
        <p:sp>
          <p:nvSpPr>
            <p:cNvPr id="194" name=""/>
            <p:cNvSpPr/>
            <p:nvPr/>
          </p:nvSpPr>
          <p:spPr>
            <a:xfrm>
              <a:off x="468360" y="907920"/>
              <a:ext cx="3090240" cy="176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убъек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имул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480" y="3905640"/>
              <a:ext cx="2934720" cy="1308600"/>
            </a:xfrm>
            <a:prstGeom prst="parallelogram">
              <a:avLst>
                <a:gd name="adj" fmla="val 560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куп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18520" y="985320"/>
              <a:ext cx="2934720" cy="1308600"/>
            </a:xfrm>
            <a:prstGeom prst="parallelogram">
              <a:avLst>
                <a:gd name="adj" fmla="val 560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ргов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ерсон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0000" y="4136400"/>
              <a:ext cx="2934720" cy="1308240"/>
            </a:xfrm>
            <a:prstGeom prst="parallelogram">
              <a:avLst>
                <a:gd name="adj" fmla="val 560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лов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"/>
            <p:cNvCxnSpPr>
              <a:stCxn id="194" idx="6"/>
              <a:endCxn id="196" idx="5"/>
            </p:cNvCxnSpPr>
            <p:nvPr/>
          </p:nvCxnSpPr>
          <p:spPr>
            <a:xfrm flipV="1">
              <a:off x="3558240" y="1639080"/>
              <a:ext cx="152676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endCxn id="195" idx="0"/>
            </p:cNvCxnSpPr>
            <p:nvPr/>
          </p:nvCxnSpPr>
          <p:spPr>
            <a:xfrm>
              <a:off x="2014920" y="2636280"/>
              <a:ext cx="367200" cy="12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4" idx="5"/>
              <a:endCxn id="197" idx="5"/>
            </p:cNvCxnSpPr>
            <p:nvPr/>
          </p:nvCxnSpPr>
          <p:spPr>
            <a:xfrm>
              <a:off x="3105000" y="2415960"/>
              <a:ext cx="2211480" cy="23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ce8"/>
            </a:gs>
            <a:gs pos="50000">
              <a:srgbClr val="ffffff"/>
            </a:gs>
            <a:gs pos="100000">
              <a:srgbClr val="7e9ce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5040360" cy="342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75ad9"/>
                </a:solidFill>
                <a:latin typeface="Bookman Old Style"/>
              </a:rPr>
              <a:t>Персональные (личные, или прямые) продажи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это продажа товара непосредственно покупателю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16000" y="333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ая продаж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01:41Z</dcterms:created>
  <dc:creator>UserLib</dc:creator>
  <dc:description/>
  <dc:language>en-US</dc:language>
  <cp:lastModifiedBy>201</cp:lastModifiedBy>
  <dcterms:modified xsi:type="dcterms:W3CDTF">2013-01-20T05:43:06Z</dcterms:modified>
  <cp:revision>3</cp:revision>
  <dc:subject/>
  <dc:title>Коммуникационная политика в маркетинге</dc:title>
</cp:coreProperties>
</file>