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C5D-5677-4F84-B93A-D47FC3C6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CB4-0508-4165-939B-0A02BCE0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04B-CDE1-4EC0-BED9-A1235FF4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938-58B0-4692-9E43-86C1068E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8A8F-A736-4D2E-B4B1-8DBF8B72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61C5-9788-4892-ABDE-560640BD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C3FD-7828-4167-B586-A7272D78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F2DE-9C8B-4309-A07D-344F10FA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F97D-CB9A-4150-9DDF-0161A4CB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5539-AF11-4A0E-BA31-A14C8AE6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D067-5FB5-44FB-B81E-33A18FEE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6A8-779B-4E2E-A633-5B8233CF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EC0F-3467-4E31-BD2F-070E01A4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7EC8-5203-4177-B568-E72E77BF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A9B8-0A3C-462D-A37A-821EF5C7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7516-7098-44A1-A7C8-5B647A7A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B663-A889-4139-8929-BEB20531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A59-E71C-4D3A-9C6F-B2652950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922-209B-4C9D-AE0D-4574BC64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3EB-8D6A-41EF-9E58-9894BC97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0D2-DECB-4719-84E6-C4ED1EFD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6F0-68FB-42C5-9E91-3A2463DF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07E-669A-4D42-B096-2F088041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B54-D734-4BF3-BEB6-5C5DD6D0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9F36-1777-40DA-B081-73776CBD220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8993-C057-40AA-825E-704BACE5FBD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51120" y="3736800"/>
            <a:ext cx="50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1413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Маркетинг услуг и некоммерческих организа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Контрольная функцию маркетинга услуг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ализуя контрольную функцию маркетинга, предприятия сферы услуг должны соизмерять полученные результаты с поставленными целями для оценки правильности принятых решений и корректировки деятельности в дальнейшем. Осуществляя контроль за выполнением своих годовых планов, за прибыльностью и осуществляя стратегический контроль (т.е. регулярную проверку соответствия исходных стратегических установок фирмы имеющимся рыночным возможностям), эти фирмы также должны уделять внимание контролю уровня вовлечения клиентов в процесс предоставления услуг и контролю персон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358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2b2b2"/>
                </a:solidFill>
                <a:latin typeface="Arial"/>
              </a:rPr>
              <a:t>Маркетинг в сфере некоммерческой деятельност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коммерческий маркетинг осуществляется организациями и отдельными лицами, которые действуют в общественных интересах или выступают за какую-либо идею и не стремятся к получению финансовых прибылей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116360" y="1341360"/>
            <a:ext cx="6982920" cy="4370400"/>
            <a:chOff x="1116360" y="1341360"/>
            <a:chExt cx="6982920" cy="4370400"/>
          </a:xfrm>
        </p:grpSpPr>
        <p:sp>
          <p:nvSpPr>
            <p:cNvPr id="121" name="_s70679"/>
            <p:cNvSpPr/>
            <p:nvPr/>
          </p:nvSpPr>
          <p:spPr>
            <a:xfrm>
              <a:off x="3634920" y="1341360"/>
              <a:ext cx="4464360" cy="43704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70677"/>
            <p:cNvSpPr/>
            <p:nvPr/>
          </p:nvSpPr>
          <p:spPr>
            <a:xfrm>
              <a:off x="1116360" y="1341360"/>
              <a:ext cx="4679280" cy="43459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195640" y="260280"/>
            <a:ext cx="24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коммер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рганиза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260280"/>
            <a:ext cx="18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мер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рганиза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2276640"/>
            <a:ext cx="158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требители могут в принципе выбирать предложения различных организаций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249228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меряется финансовыми показателям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2060640"/>
            <a:ext cx="201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ктически все некоммерческие организации существуют в большей степени за счет спонсоров и благотворительных средств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бъектом маркетинга могут быть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ган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дельные лиц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ста в жилищных застройк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нах отдых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деи и другие объек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1280" y="620640"/>
            <a:ext cx="72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ркетинг организац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деятельность, предпринимаемая с целью создания, поддержания или изменения позиций целевых аудиторий по отношению к конкретным организация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3480" y="1576440"/>
            <a:ext cx="58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2133720"/>
            <a:ext cx="712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ркетинг отдельных ли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деятельность, предпринимаемая для создания, поддержания или изменения позиции по отношению к конкретным лицам. Наиболее распространенными формами этой деятельности являются маркетинг знаменитостей и маркетинг политических кандида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4221000"/>
            <a:ext cx="755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ркетинг мес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деятельность, предпринимаемая с целью создания, поддержания, изменения отношений, касающихся конкретных мест. Различают четыре типа маркетинга мест – маркетинг жилья, мест отдыха, зон хозяйственной постройки и инвестиций в земельную собстве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4221000"/>
            <a:ext cx="755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ркетинг мес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деятельность, предпринимаемая с целью создания, поддержания, изменения отношений, касающихся конкретных мест. Различают четыре типа маркетинга мест – маркетинг жилья, мест отдыха, зон хозяйственной постройки и инвестиций в земельную собстве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4221000"/>
            <a:ext cx="755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ркетинг мес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деятельность, предпринимаемая с целью создания, поддержания, изменения отношений, касающихся конкретных мест. Различают четыре типа маркетинга мест – маркетинг жилья, мест отдыха, зон хозяйственной постройки и инвестиций в земельную собстве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620640"/>
            <a:ext cx="72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ркетинг организац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деятельность, предпринимаемая с целью создания, поддержания или изменения позиций целевых аудиторий по отношению к конкретным организация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221000"/>
            <a:ext cx="755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ркетинг мес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деятельность, предпринимаемая с целью создания, поддержания, изменения отношений, касающихся конкретных мест. Различают четыре типа маркетинга мест – маркетинг жилья, мест отдыха, зон хозяйственной постройки и инвестиций в земельную собстве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2133720"/>
            <a:ext cx="712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ркетинг отдельных ли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деятельность, предпринимаемая для создания, поддержания или изменения позиции по отношению к конкретным лицам. Наиболее распространенными формами этой деятельности являются маркетинг знаменитостей и маркетинг политических кандида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4221000"/>
            <a:ext cx="755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ркетинг мес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деятельность, предпринимаемая с целью создания, поддержания, изменения отношений, касающихся конкретных мест. Различают четыре типа маркетинга мест – маркетинг жилья, мест отдыха, зон хозяйственной постройки и инвестиций в земельную собстве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620640"/>
            <a:ext cx="72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ркетинг организац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деятельность, предпринимаемая с целью создания, поддержания или изменения позиций целевых аудиторий по отношению к конкретным организация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133720"/>
            <a:ext cx="712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ркетинг отдельных ли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деятельность, предпринимаемая для создания, поддержания или изменения позиции по отношению к конкретным лицам. Наиболее распространенными формами этой деятельности являются маркетинг знаменитостей и маркетинг политических кандида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4221000"/>
            <a:ext cx="755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ркетинг мес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деятельность, предпринимаемая с целью создания, поддержания, изменения отношений, касающихся конкретных мест. Различают четыре типа маркетинга мест – маркетинг жилья, мест отдыха, зон хозяйственной постройки и инвестиций в земельную собстве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907920"/>
            <a:ext cx="705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ркетинг иде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это деятельность по предложению на рынке идей. Например, идея «Курение – вредно для здоровья человека», идеи по защите окружающей среды, идеи расового и национального равноправия и т.д. Эту деятельность иначе называют общественным маркетингом. Естественно, осуществить социальный сдвиг всегда очень сложно. Тем не менее общественный маркетинг уже нашел успешное применение в таких сферах, как планирование семьи, защита окружающей среды, борьба с курением и наркоманией и других проблемах общественной жизн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2b2b2"/>
                </a:solidFill>
                <a:latin typeface="Arial"/>
              </a:rPr>
              <a:t>Услуга и ее характеристика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фера услуг – одна их самых быстроразвивающихся отраслей эконом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услуго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обычно понимают любое мероприятие или выгоду, которые одна сторона может предложить другой; неосязаемые действия, не противоречащие к владению чем-либо. Ее предоставление может быть, а может и не быть связано с материальным продукт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Доля услуг в мировой торговл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ировой экономике доля этого сектора превысила 70%, в основном благодаря развитым странам. В ВВП США удельный вес сферы услуг составляет порядка 80%, на сельское хозяйство приходится 0,9%, промышленности – менее 20%. Наибольшее развитие на мировом рынке занимают услуги транспорта, туризма, связи, строительства, страхования, финансов, компьютерные, информационные, бизнеса, лизинга, посредничества. Так, в 2010 г. ИТ-услуги превысили 793 млрд. долл., сотовой связи 800 млрд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Доля услуг в казахстанской торговл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азахстане происходят прогрессивные сдвиги в структуре экономики. В 1994 г. доля промышленности составляла 81%, сельского хозяйства 26%. В 2010 г. эти показатели достигли 55%, сельского хозяйства – 7%, строительства – 9%, энергетики – 4%, сферы услуг – 25%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Отличие услуги от материального товара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 обусловлено следующими </a:t>
            </a: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факторами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родой продукции (неосязаемость, неуловимость, или нематериальный характер услуг; неотделимость услуг, как от производителя, так и от потребителя; изменчивость, недолговечность, невозможность хранения услуг и т.д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ложностью стандартизации и контроля каче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сутствием склада продук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ажностью временного факто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уктурой каналов распреде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собенности маркетинга услуг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маркетингом услуг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нимают управляемый социальный процесс, посредством которого индивиды и группы людей приобретают то, в чем они нуждаются, обмениваясь с другими созданными продуктами и ценностя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т процесс включает разработку, продвижение и реализацию услуг и ориентирован на выявление специфических потребностей клиентов. Определение маркетинга, охватывает и сферу материального производства, и сферу услуг. То же можно сказать о целях и принципах маркетинга. Маркетингу услуг присущи и все основные функции маркетинга: аналитическая, планирование, производственно-сбытовая и контроля. Однако каждая из перечисленных функций имеет свои особен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Аналитическая функция маркетинга услуг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реализации аналитической функции большое значение приобретает вопрос, связанный с восприятием клиентами качества услуги. Так как услуги трудно стандартизировать и оценить до их потребления, а некоторые из них невозможно оценить даже после их потребления (например, ряд медицинских операций), при выборе услуги клиенты руководствуются психологическими мотивами и некоторыми объективными критериями. При этом потребители принимают во внимание наличие информации, "осязаемые" качества услуг, ощущаемый риск, доверие марке, наличие альтернативных 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Функция планирования в маркетинге услуг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еализации функции планирования следует обратить внимание на увеличение числа составляющих комплекса маркетинга для фирм, работающих в сфере услуг. К традиционным "5 р" - пяти элементам маркетинга-микс, которыми являю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ова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product),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е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price),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бы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place),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promotion), - добавляются еще "2 р" 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бстанов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ил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круж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physical premises)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цес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proces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круж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то интерьер, создающий определенное настроение и способствующий привлечению клиен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изуя процесс потребления услуги, необходимо ответить на следующие вопрос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к осуществляется продажа и обслуживание клиент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колько времени тратит покупатель на приобретение услу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им образом, при разработке рыночной политики и программы маркетинга предприятиям сферы услуг необходимо определять стратегии и планы их реализации с учетом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ше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ляющих комплекса маркетинг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роизводственно-сбытовая функция маркетинга услуг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сфере услуг эта функция имеет свою специфику, которая заключается в том, что если для материальных товаров процессы производства и реализации разделены во времени, то при предоставлении услуг эти процессы протекают одновременно. Кроме того, в силу важной роли персонала фирмы и ее клиентов в системе оказания услуг при реализации планов особое внимание уделяется вопросам, связанным с кадровой политикой, а также окружающей средой услуги и процессом ее потреб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31:53Z</dcterms:created>
  <dc:creator>админ</dc:creator>
  <dc:description/>
  <dc:language>en-US</dc:language>
  <cp:lastModifiedBy>201</cp:lastModifiedBy>
  <dcterms:modified xsi:type="dcterms:W3CDTF">2013-01-20T05:43:02Z</dcterms:modified>
  <cp:revision>5</cp:revision>
  <dc:subject/>
  <dc:title>Слайд 1</dc:title>
</cp:coreProperties>
</file>