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D6F1-1EAE-4CCC-92CE-18A133F7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C831-2C9F-4C5D-9C78-9D4E7001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CA21-5456-4474-B87C-DD39D6A4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79AE-9F14-4EA4-A2FE-822BD267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F0B5-BD9A-4183-AA25-69B68EC5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1692-5A49-42A0-9F45-E51F0907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A92A-5E90-4670-A0E1-3C8093D9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4ACC-0713-454F-9821-6E300D14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3CBB-3DB2-415A-89D8-4ED99786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A899-12CA-495C-84FA-11EE4421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059F-68A7-4994-8C87-4896E4DF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AA73-E58B-4577-A381-CD0F8BE8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FB22-A1CA-49DC-8D03-7C34E602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3E6A-5947-436A-A622-0EC043BC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8B77-5507-41B4-B0DE-E2BEAEA7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23A4-F70B-4DB6-90D7-893CAF1E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0090-CE66-46BD-A073-2AFA0C61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EF863-7F8F-44A4-9A72-BE6E325D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CB2F3-8416-4D9D-8882-427DB8E6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4331D-58E3-4649-B69C-9ABAE238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2B948-56EA-4BE5-B0EF-2B319658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C8E85-39D8-4BE3-BC9E-685D3602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D0C7-E958-47A4-8456-BC3F64FA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ED134-700D-44BE-BCA8-5CD4CD9A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3CCA1-2253-4856-97DE-901148FD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F23B0-64B2-49B7-B327-685EB42A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432FB-7951-4C27-98E7-668B20D1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471F2-212D-4107-A623-E0D02766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86CCA-7A12-44CF-BE1F-4D0BDF31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B141E-FAED-450A-B189-F3A15B14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883D9-8B83-46B1-8DE8-CE914387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47A52-51ED-4A38-863A-35797A4A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99EBC-AB01-40C2-B062-BCB4F271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B849-F5DD-4C3C-9306-654CB395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01F79-A0CE-4CA2-91DB-4944550E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5E04E-C415-45DA-9938-5F64DFAA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DC548-5399-4081-8C11-F0AA239B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78123-1DD7-41F6-B551-5E223AE4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E2F40-CF3F-4020-BB47-B3FE87C0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10BD7-82C3-4D64-8F14-5874BF76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AF495-65A3-4299-A7FE-8FEEBA63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69DCC-CCE3-45A7-8B64-CC96B50B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DA5E3-AA67-457B-9A6C-BC54B523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14AA8-0CD2-4653-8734-C61FA299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E3BC-20D1-442E-A9A4-5314F088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F7EF4-1BD6-4562-9BF6-3F79DDC2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7945E-C3D1-4151-A5E0-A3F6FC80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A0351-9AB1-4D4B-A26E-96594A5C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D6333-1C4D-4DDE-B650-B3EB67C5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FE798-7F88-483B-A6A7-B5C6AC80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DF538-5080-4461-B344-17EA93E2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4CDD4-9E35-4425-9D31-0A63B90B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3BD9C-918B-4006-897A-619163EF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301F5-A2C0-4B89-B92C-C855F036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FB521-F529-47E7-B9C2-404AF6B0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2E4B-9908-4FBF-A12A-7A50EFD3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48079-4D43-4001-83DB-084780B9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CCA73-A8D4-4C43-9704-2F9C64B5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97AA9-0717-4F28-8F10-FF4CE45C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CEBEE-B196-4DEB-8A01-C0CEF2FD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FDBFD-39D4-46E2-88D6-8D88B25B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D677E-7D71-4EBF-8E18-C730D6B7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D57DC-4605-4E4E-8EF5-53978653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B52B1-9D5B-4D50-A76F-7FF0334E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5A3AE-17F1-4E33-A026-8ACD021B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463D4-2C1B-4CFD-A59B-90DB1307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C17C-737B-4D92-9AF5-83C7E08D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609E3-1E76-48E4-8F61-F5418056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F3B6B-9825-4AA4-9E9E-0DAA6044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CA071-161E-422B-8AB8-83BDE1B7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20A2D-8150-463F-ADD9-0DFE5D25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1D393-B88F-47D1-ADCC-4A1D7F86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91F45-3FC4-424E-9AEF-B0B15225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4E475-FDB3-45D6-A6A9-BE6E26D3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D5AE0-64A7-42FD-8736-F620602C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620A3-8A09-48A6-9B3D-79446F24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FF0F3-ED4D-4B12-817D-12C1BB48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E053-0B07-4567-8A13-593FB6D0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AC924-AC8D-4B7A-A96F-B10EF334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7FBCC-C20E-427D-B444-CD31D239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BEF48-3656-4231-AEA7-423974D1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3642D-759D-4E25-A771-C2EB6C0E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3FC1A-DA00-4039-A814-907A8E92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4DD6-A74E-480E-9FB2-91C9B8EC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092E-DAA8-4DF4-8B90-EB062AD75683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96D1-44E2-4C04-9D04-1CDC99EA7189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83E2-908E-4B2C-BD86-C6DA730D5234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0070-E72D-403F-8035-75CA243DB3DF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6D0C-DC94-4DD3-B86D-9F528A4615AB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8F80-A4C7-43B1-A342-6616C0DFC636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06C7-762F-4F38-BA39-FC49C8C48004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Object 12"/>
          <p:cNvGraphicFramePr/>
          <p:nvPr/>
        </p:nvGraphicFramePr>
        <p:xfrm>
          <a:off x="324000" y="115920"/>
          <a:ext cx="8496000" cy="6337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305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849600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87280" y="691920"/>
            <a:ext cx="692496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Impact"/>
              </a:rPr>
              <a:t>        </a:t>
            </a:r>
            <a:r>
              <a:rPr b="0" lang="en-US" sz="3200" spc="-1" strike="noStrike">
                <a:solidFill>
                  <a:srgbClr val="262626"/>
                </a:solidFill>
                <a:latin typeface="Impact"/>
              </a:rPr>
              <a:t>МИКРОСРЕДА ФИРМЫ</a:t>
            </a:r>
            <a:endParaRPr b="0" lang="en-US" sz="32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2"/>
          <a:stretch/>
        </p:blipFill>
        <p:spPr>
          <a:xfrm>
            <a:off x="1333440" y="1854360"/>
            <a:ext cx="6400800" cy="15490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Impact"/>
              </a:rPr>
              <a:t>Маркетинговые посредники обеспечивают: физическое перемещение товаров от мест производства к пунктам потребления или покупки; накопление и предпродажную подготовку товаров; кредитное обеспечение; страховую поддержку; поиск потребителей; стимулирование сбыта; послепродажное обслуживание.</a:t>
            </a:r>
            <a:endParaRPr b="0" lang="en-US" sz="18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2"/>
          <a:stretch/>
        </p:blipFill>
        <p:spPr>
          <a:xfrm>
            <a:off x="1328760" y="1325520"/>
            <a:ext cx="6410160" cy="26067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34544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Impact"/>
              </a:rPr>
              <a:t>            </a:t>
            </a:r>
            <a:r>
              <a:rPr b="0" lang="en-US" sz="3200" spc="-1" strike="noStrike">
                <a:solidFill>
                  <a:srgbClr val="262626"/>
                </a:solidFill>
                <a:latin typeface="Impact"/>
              </a:rPr>
              <a:t>Типы клиентурных рынков</a:t>
            </a:r>
            <a:endParaRPr b="0" lang="en-US" sz="32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2"/>
          <a:stretch/>
        </p:blipFill>
        <p:spPr>
          <a:xfrm>
            <a:off x="1333440" y="1805040"/>
            <a:ext cx="6400800" cy="16477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626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Impact"/>
              </a:rPr>
              <a:t>КОНТАКТНЫЕ АУДИТОРИИ</a:t>
            </a:r>
            <a:endParaRPr b="0" lang="en-US" sz="28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Times New Roman"/>
              </a:rPr>
              <a:t>Большое влияние на деятельность предприятия, ее имидж оказывают отношения с контактными аудиториями, которые представляют группы людей, проявляющие действительный или потенциальный интерес к предприятию и влияющие на достижение стоящих перед ним целей </a:t>
            </a:r>
            <a:endParaRPr b="0" lang="en-US" sz="1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Times New Roman"/>
              </a:rPr>
              <a:t>С точки зрения содействия или противодействия предприятию в достижении его целей контактные аудитории классифицируются на искомые, благотворные и нежелательные. </a:t>
            </a:r>
            <a:endParaRPr b="0" lang="en-US" sz="18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341" name="Picture 13" descr="P20"/>
          <p:cNvPicPr/>
          <p:nvPr/>
        </p:nvPicPr>
        <p:blipFill>
          <a:blip r:embed="rId2"/>
          <a:stretch/>
        </p:blipFill>
        <p:spPr>
          <a:xfrm>
            <a:off x="755640" y="3627360"/>
            <a:ext cx="7056360" cy="27543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3008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62626"/>
                </a:solidFill>
                <a:latin typeface="Impact"/>
              </a:rPr>
              <a:t>Важным элементом маркетинговой микросреды являются </a:t>
            </a:r>
            <a:r>
              <a:rPr b="1" lang="en-US" sz="2900" spc="-1" strike="noStrike">
                <a:solidFill>
                  <a:srgbClr val="262626"/>
                </a:solidFill>
                <a:latin typeface="Impact"/>
              </a:rPr>
              <a:t>конкуренты</a:t>
            </a:r>
            <a:r>
              <a:rPr b="0" lang="en-US" sz="3600" spc="-1" strike="noStrike">
                <a:solidFill>
                  <a:srgbClr val="262626"/>
                </a:solidFill>
                <a:latin typeface="Impact"/>
              </a:rPr>
              <a:t>. 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50920" y="980640"/>
            <a:ext cx="4255920" cy="509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Конкуренция среди фирм-производителей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ad01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Монополия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ad01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Олигополия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ad01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Монополистическая 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ad01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Чистая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ad01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ad010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148000" y="2852280"/>
            <a:ext cx="3297240" cy="28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Конкуренция покупательского выбора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ad01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Конкуренты –желания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ad01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Товарно-родовая конкуренция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ad01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Товарно-видовая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ad01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Марочная конкуренция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ad01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ad01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02920" y="764640"/>
            <a:ext cx="6193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Impact"/>
              </a:rPr>
              <a:t>       </a:t>
            </a:r>
            <a:r>
              <a:rPr b="0" lang="en-US" sz="2800" spc="-1" strike="noStrike">
                <a:solidFill>
                  <a:srgbClr val="262626"/>
                </a:solidFill>
                <a:latin typeface="Impact"/>
              </a:rPr>
              <a:t>МАКРОСРЕДА ФИРМЫ</a:t>
            </a:r>
            <a:endParaRPr b="0" lang="en-US" sz="28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2"/>
          <a:stretch/>
        </p:blipFill>
        <p:spPr>
          <a:xfrm>
            <a:off x="1444680" y="1425600"/>
            <a:ext cx="6178320" cy="24066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Impact"/>
              </a:rPr>
              <a:t>Демографический фактор макросреды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755280" y="19159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Численность и темпы роста населения. Территориальное размещение. Плотность населения. Миграционные потоки и тенденции. Возрастная структура. Состав семьи. Динамика рождаемости и смертности. Количество браков и разводов. Этническая и религиозная структура населения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6560" y="40428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Impact"/>
              </a:rPr>
              <a:t>Экономический фактор макросреды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0920" y="19886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Покупательная способность населения. Общехозяйственная конъюнктура. Структура потребления граждан. «Эластичность»  потребления. Уровень инфляции. Состояние финансовой системы. Уровень безработицы. Характер распределения доходов. Система налогообложения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62626"/>
                </a:solidFill>
                <a:latin typeface="Impact"/>
              </a:rPr>
              <a:t>Природный фактор макросреды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755280" y="184428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3030"/>
                </a:solidFill>
                <a:latin typeface="Times New Roman"/>
              </a:rPr>
              <a:t>Наличие и перспективы использования источников сырья и энергетических ресурсов. Состояние окружающей среды и уровень ее загрязнения. Направления и степень влияния государства на процессы рационального использования и воспроизводства природных ресурсов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Impact"/>
              </a:rPr>
              <a:t>Политико-правовой фактор макросреды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84000" y="134100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Общая политическая ситуация в стране. Правовая база, регулирующая хозяйственную деятельность. Государственная экономическая политика. Влияние общественности на решения, принимаемые государственными органами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62626"/>
                </a:solidFill>
                <a:latin typeface="Impact"/>
              </a:rPr>
              <a:t>Понятие маркетинговой среды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55280" y="19159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Маркетинговая среда фирмы - это совокупность активных субъектов и сил, действующих за пределами фирмы и влияющих на возможности руководства службой маркетинга устанавливать и поддерживать с целевыми клиентами отношения успешного сотрудничеств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Impact"/>
              </a:rPr>
              <a:t>Научно-технический фактор макросреды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99640" y="155700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Темпы технологических изменений в контролируемой и смежных отраслях. Направления и динамика ассигнований на НИОКР. Инновационный потенциал фирмы и ее ближайших конкурентов. Ужесточение государственного контроля над качеством и безопасностью технологических процессов и продукции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79280" y="-100440"/>
            <a:ext cx="8507520" cy="177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262626"/>
                </a:solidFill>
                <a:latin typeface="Impact"/>
              </a:rPr>
              <a:t>1. Маркетинговая среда подразделяется из микро- и макросреды</a:t>
            </a:r>
            <a:endParaRPr b="0" lang="en-US" sz="32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309" name="Picture 3" descr="IMAGE43"/>
          <p:cNvPicPr/>
          <p:nvPr/>
        </p:nvPicPr>
        <p:blipFill>
          <a:blip r:embed="rId2"/>
          <a:stretch/>
        </p:blipFill>
        <p:spPr>
          <a:xfrm>
            <a:off x="2124000" y="1994040"/>
            <a:ext cx="4587840" cy="40845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68360" y="764640"/>
            <a:ext cx="612000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Impact"/>
              </a:rPr>
              <a:t>Маркетинговая среда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68360" y="1483920"/>
            <a:ext cx="4038480" cy="466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593640" indent="-272880">
              <a:lnSpc>
                <a:spcPct val="80000"/>
              </a:lnSpc>
              <a:spcBef>
                <a:spcPts val="224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Микросреда представлена силами, имеющими непосредственное отношение к самой фирме и ее возможностям по обслуживанию клиентуры, т.е. поставщиками, маркетинговыми посредниками, клиентами, конкурентами и контактными аудиториями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648320" y="1483920"/>
            <a:ext cx="4038480" cy="464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Макросреда представлена силами более широкого социального плана, которые оказывают влияние на микросреду такими, как факторы демографического, экономического, технического, политического, культурного характера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Impact"/>
              </a:rPr>
              <a:t>2. Маркетинговая среда слагается из внутренней и внешней среды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Маркетинговая среда, с точки зрения ее изучения, может рассматриваться на трех уровнях: внутренняя среда, микросреда, макросреда. Микро - и макросреда представляют собой внешнюю среду фирмы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040" y="692280"/>
            <a:ext cx="747396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62626"/>
                </a:solidFill>
                <a:latin typeface="Impact"/>
              </a:rPr>
              <a:t>                   </a:t>
            </a:r>
            <a:r>
              <a:rPr b="0" lang="en-US" sz="2500" spc="-1" strike="noStrike">
                <a:solidFill>
                  <a:srgbClr val="262626"/>
                </a:solidFill>
                <a:latin typeface="Impact"/>
              </a:rPr>
              <a:t>ВНУТРЕННЯЯ СРЕДА</a:t>
            </a:r>
            <a:endParaRPr b="0" lang="en-US" sz="25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Внутренняя среда - часть маркетинговой среды, которая находится внутри предприятия и контролируется руководством .  Она включает структурные подразделения предприятия и складывающиеся между ними связи отношения. От состояния внутренней среды в значительной степени зависит стабильность функционирования, а значит и выживания в конкурентной борьбе. 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2"/>
          <a:stretch/>
        </p:blipFill>
        <p:spPr>
          <a:xfrm>
            <a:off x="4427640" y="1828800"/>
            <a:ext cx="4465440" cy="4302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Impact"/>
              </a:rPr>
              <a:t>3. Контролируемые и неконтролируемые</a:t>
            </a:r>
            <a:r>
              <a:rPr b="0" lang="en-US" sz="3200" spc="-1" strike="noStrike">
                <a:solidFill>
                  <a:srgbClr val="262626"/>
                </a:solidFill>
                <a:latin typeface="Impact"/>
              </a:rPr>
              <a:t> факторы маркетинговой среды.</a:t>
            </a:r>
            <a:endParaRPr b="0" lang="en-US" sz="32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900000" y="2204640"/>
            <a:ext cx="740592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По степени управления и влияния на результаты деятельности фирмы  факторы маркетинговой среды можно разделить на пять частей: контролируемые факторы, неконтролируемые факторы, уровень удачи или неудачи в достижении целей, обратные связи и адаптация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37"/>
          <p:cNvGrpSpPr/>
          <p:nvPr/>
        </p:nvGrpSpPr>
        <p:grpSpPr>
          <a:xfrm>
            <a:off x="1116000" y="1628640"/>
            <a:ext cx="6519960" cy="4643640"/>
            <a:chOff x="1116000" y="1628640"/>
            <a:chExt cx="6519960" cy="4643640"/>
          </a:xfrm>
        </p:grpSpPr>
        <p:sp>
          <p:nvSpPr>
            <p:cNvPr id="321" name="AutoShape 38"/>
            <p:cNvSpPr/>
            <p:nvPr/>
          </p:nvSpPr>
          <p:spPr>
            <a:xfrm>
              <a:off x="1116000" y="1628640"/>
              <a:ext cx="6519960" cy="464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39"/>
            <p:cNvSpPr/>
            <p:nvPr/>
          </p:nvSpPr>
          <p:spPr>
            <a:xfrm>
              <a:off x="2996640" y="3950280"/>
              <a:ext cx="2506680" cy="1963080"/>
            </a:xfrm>
            <a:custGeom>
              <a:avLst/>
              <a:gdLst/>
              <a:ahLst/>
              <a:rect l="l" t="t" r="r" b="b"/>
              <a:pathLst>
                <a:path w="3420" h="1980">
                  <a:moveTo>
                    <a:pt x="3420" y="0"/>
                  </a:moveTo>
                  <a:cubicBezTo>
                    <a:pt x="2805" y="990"/>
                    <a:pt x="2190" y="1980"/>
                    <a:pt x="1620" y="1980"/>
                  </a:cubicBezTo>
                  <a:cubicBezTo>
                    <a:pt x="1050" y="1980"/>
                    <a:pt x="270" y="33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40"/>
            <p:cNvSpPr/>
            <p:nvPr/>
          </p:nvSpPr>
          <p:spPr>
            <a:xfrm>
              <a:off x="2996640" y="3950280"/>
              <a:ext cx="5007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41"/>
            <p:cNvSpPr/>
            <p:nvPr/>
          </p:nvSpPr>
          <p:spPr>
            <a:xfrm>
              <a:off x="4876920" y="3771720"/>
              <a:ext cx="5018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42"/>
            <p:cNvSpPr/>
            <p:nvPr/>
          </p:nvSpPr>
          <p:spPr>
            <a:xfrm>
              <a:off x="3497760" y="2699640"/>
              <a:ext cx="1504440" cy="195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Степень удачи или неудачи в достижении целе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43"/>
            <p:cNvSpPr/>
            <p:nvPr/>
          </p:nvSpPr>
          <p:spPr>
            <a:xfrm>
              <a:off x="5378760" y="2342880"/>
              <a:ext cx="2006280" cy="321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Неконтролируемые фак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Потребител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buClr>
                  <a:srgbClr val="000000"/>
                </a:buClr>
                <a:buFont typeface="Times New Roman"/>
                <a:buChar char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Конкурент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buClr>
                  <a:srgbClr val="000000"/>
                </a:buClr>
                <a:buFont typeface="Times New Roman"/>
                <a:buChar char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Правительств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buClr>
                  <a:srgbClr val="000000"/>
                </a:buClr>
                <a:buFont typeface="Times New Roman"/>
                <a:buChar char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Экономи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.      Технолог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.      Независимые средства массовой информации и др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44"/>
            <p:cNvSpPr/>
            <p:nvPr/>
          </p:nvSpPr>
          <p:spPr>
            <a:xfrm flipH="1">
              <a:off x="2996280" y="3593520"/>
              <a:ext cx="500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45"/>
            <p:cNvSpPr/>
            <p:nvPr/>
          </p:nvSpPr>
          <p:spPr>
            <a:xfrm>
              <a:off x="1241280" y="2517120"/>
              <a:ext cx="1755000" cy="267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Контролируемые фак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Высшим руководством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buClr>
                  <a:srgbClr val="000000"/>
                </a:buClr>
                <a:buFont typeface="Times New Roman"/>
                <a:buChar char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службой маркетинг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Impact"/>
              </a:rPr>
              <a:t>контролируемые факторы, неконтролируемые факторы, уровень удачи или неудачи в достижении целей, обратные связи и адаптация.</a:t>
            </a:r>
            <a:endParaRPr b="0" lang="en-US" sz="2800" spc="-1" strike="noStrike">
              <a:solidFill>
                <a:srgbClr val="262626"/>
              </a:solidFill>
              <a:latin typeface="Impact"/>
            </a:endParaRPr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91520" cy="129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Impact"/>
              </a:rPr>
              <a:t> </a:t>
            </a:r>
            <a:r>
              <a:rPr b="0" lang="en-US" sz="2500" spc="-1" strike="noStrike">
                <a:solidFill>
                  <a:srgbClr val="262626"/>
                </a:solidFill>
                <a:latin typeface="Impact"/>
              </a:rPr>
              <a:t>К числу </a:t>
            </a:r>
            <a:r>
              <a:rPr b="1" lang="en-US" sz="2500" spc="-1" strike="noStrike">
                <a:solidFill>
                  <a:srgbClr val="262626"/>
                </a:solidFill>
                <a:latin typeface="Impact"/>
              </a:rPr>
              <a:t>контролируемых факторов</a:t>
            </a:r>
            <a:r>
              <a:rPr b="0" lang="en-US" sz="2500" spc="-1" strike="noStrike">
                <a:solidFill>
                  <a:srgbClr val="262626"/>
                </a:solidFill>
                <a:latin typeface="Impact"/>
              </a:rPr>
              <a:t> относятся те, которые управляются фирмой и ее сотрудниками по маркетингу.</a:t>
            </a:r>
            <a:endParaRPr b="0" lang="en-US" sz="25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84360" y="2060640"/>
            <a:ext cx="3657600" cy="37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303030"/>
                </a:solidFill>
                <a:latin typeface="Times New Roman"/>
              </a:rPr>
              <a:t>Факторы управляемые высшим руководством:</a:t>
            </a:r>
            <a:endParaRPr b="0" lang="en-US" sz="17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lnSpc>
                <a:spcPct val="80000"/>
              </a:lnSpc>
              <a:spcBef>
                <a:spcPts val="425"/>
              </a:spcBef>
              <a:buClr>
                <a:srgbClr val="8a2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Times New Roman"/>
              </a:rPr>
              <a:t>Область деятельности</a:t>
            </a:r>
            <a:endParaRPr b="0" lang="en-US" sz="17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lnSpc>
                <a:spcPct val="80000"/>
              </a:lnSpc>
              <a:spcBef>
                <a:spcPts val="425"/>
              </a:spcBef>
              <a:buClr>
                <a:srgbClr val="8a2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Times New Roman"/>
              </a:rPr>
              <a:t>Общие цели</a:t>
            </a:r>
            <a:endParaRPr b="0" lang="en-US" sz="17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lnSpc>
                <a:spcPct val="80000"/>
              </a:lnSpc>
              <a:spcBef>
                <a:spcPts val="425"/>
              </a:spcBef>
              <a:buClr>
                <a:srgbClr val="8a2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Times New Roman"/>
              </a:rPr>
              <a:t>Роль маркетинга</a:t>
            </a:r>
            <a:endParaRPr b="0" lang="en-US" sz="17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lnSpc>
                <a:spcPct val="80000"/>
              </a:lnSpc>
              <a:spcBef>
                <a:spcPts val="425"/>
              </a:spcBef>
              <a:buClr>
                <a:srgbClr val="8a2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Times New Roman"/>
              </a:rPr>
              <a:t>Роль других предпринимательских структур</a:t>
            </a:r>
            <a:endParaRPr b="0" lang="en-US" sz="17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lnSpc>
                <a:spcPct val="80000"/>
              </a:lnSpc>
              <a:spcBef>
                <a:spcPts val="425"/>
              </a:spcBef>
              <a:buClr>
                <a:srgbClr val="8a2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Times New Roman"/>
              </a:rPr>
              <a:t>Корпорационная культура</a:t>
            </a:r>
            <a:endParaRPr b="0" lang="en-US" sz="17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716360" y="1844640"/>
            <a:ext cx="365760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303030"/>
                </a:solidFill>
                <a:latin typeface="Times New Roman"/>
              </a:rPr>
              <a:t>Факторы, управляемые маркетингом</a:t>
            </a:r>
            <a:endParaRPr b="0" lang="en-US" sz="17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ad01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Times New Roman"/>
              </a:rPr>
              <a:t>Выбор целевого рынка (размер рынка, его характеристики)</a:t>
            </a:r>
            <a:endParaRPr b="0" lang="en-US" sz="17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ad01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Times New Roman"/>
              </a:rPr>
              <a:t>Цели маркетинга (образ компании у потребителей, сбыт, повторные покупки, прибыль, отличительные преимущества по сравнению с конкурентами)</a:t>
            </a:r>
            <a:endParaRPr b="0" lang="en-US" sz="17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ad01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Times New Roman"/>
              </a:rPr>
              <a:t>Организация маркетинга – структурное построение для управления маркетинговыми функциями</a:t>
            </a:r>
            <a:endParaRPr b="0" lang="en-US" sz="17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ad01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Times New Roman"/>
              </a:rPr>
              <a:t>Структура (комплекс) маркетинга</a:t>
            </a:r>
            <a:endParaRPr b="0" lang="en-US" sz="17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ad01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Times New Roman"/>
              </a:rPr>
              <a:t>Контроль и анализ деятельности (повседневный и периодический) </a:t>
            </a:r>
            <a:endParaRPr b="0" lang="en-US" sz="17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13:44:46Z</dcterms:created>
  <dc:creator>юра</dc:creator>
  <dc:description/>
  <dc:language>en-US</dc:language>
  <cp:lastModifiedBy>201</cp:lastModifiedBy>
  <dcterms:modified xsi:type="dcterms:W3CDTF">2013-01-20T05:29:45Z</dcterms:modified>
  <cp:revision>19</cp:revision>
  <dc:subject/>
  <dc:title>Слайд 1</dc:title>
</cp:coreProperties>
</file>