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968-D3E3-4514-B630-F6781E8A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21B-2CCC-4185-B9B2-BDF779A4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A12-AA2D-4D99-ABAC-2C0CE3DE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4C5-D3F6-4C34-8CCF-FE80AAD8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7A3C-8579-4B4F-897E-96E94F07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6B0C-9931-4994-BA26-B5DC7C64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5395-FFCF-4258-92F3-603F206A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A499-BCE0-45AE-883E-26823197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B8C1-C905-431E-A789-4635DE80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E241-4D90-4C8F-8EF6-A0F54258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17F7-2CE4-4663-8BC7-8C2EC2C2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911-2A40-41AF-98AB-34C09C21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799C-E6B5-4C28-B8FD-3965FBA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8180-A80F-40A5-941F-18856FB0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89F-6140-411F-959D-8551C589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051F-BFCC-4B7B-B23D-97B9AB77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2A3B-C5EE-4CB4-92D4-F1132624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8786-F3E0-417A-8222-5F2E22D0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37C8-880F-4F68-95EA-B41C9A91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7C19D-217C-4350-AB2E-5CB04A3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ECF5-CC59-4A8F-B9C4-E543A856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52D0-68CD-4F1C-AC66-961EDD48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C60-FC90-4578-804A-759C3F8C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4A6C-30D1-4555-8BE0-F67F22E8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E0C7-6CD7-4A0A-9541-006A95AB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228D-FAA1-49D2-9304-7961440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F4AC-303F-491E-8A21-8BDB14F5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8E27-2704-4F44-AC77-CC4A3223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BD6F-F1CD-4BA0-970C-B8A8F717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4BED-FA3F-4FBC-8201-3B5AC9B5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C98A-4CDB-421E-9D84-3C89B51E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747B-B80A-445D-810F-0D90B563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EC67-1E84-4679-AB96-3596BF50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870-319B-4F02-BC2F-80A0F7FB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26DE-EBD9-47B9-8C11-9D017F4B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FA15-4275-4AC2-9B20-93E945BD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5A91F-F030-47AA-B7B4-5C549E52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1373-0377-4464-B045-56E7E15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E2F3E-A762-4AA4-8266-81F9427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5741-4AD6-4507-B6CE-BE6040E2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8483-4985-4E5F-92D4-1B6BA381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4219-1144-472B-B504-50DB6427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04D0-6848-483F-A988-B8C98573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08A5-9694-4643-962B-16A051F6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61D-BFD4-425F-BA5F-E107D9D8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4DE0-7A53-4B38-8F93-1E493438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6176E-E11C-4225-9712-5FB3AE3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AE42F-20FA-415A-99DF-84430B7C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45B74-3E31-4CDC-9D35-BE785F82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38CD4-13C5-4D02-A414-0C54D404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87C6-AF58-4537-9C04-9DA3BE4E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01A9B-E811-4163-A34A-F4B7FE2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988C4-3EF8-448B-A3F2-C8255DE0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ADA6-CDFF-48A9-9CBF-5C013DDD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EF157-D5E4-458D-8674-F91F8D37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1BC-3BA6-4781-8DD0-E17BAE3F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3FECF-5D2A-4B9F-927B-21D0C4CD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8540-9847-4B7F-9B1E-69ED41C2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E783D-FABF-41E6-9376-36F9E0BA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CF836-A55D-48E9-97B9-0B0A47E0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941B-5188-432F-884A-21F35AF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2E178-B786-4713-A6B3-F489BA8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EA03-00AC-4514-9F18-D6B630CB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A3A86-FA8D-4318-918F-32D132B5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F86A6-E691-439D-B357-D9CD724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24E07-E479-454B-8E85-5776EDB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779-2424-4BA0-9CF7-7FC061ED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59DDC-F956-4FB1-9CA0-40B6BDB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A77BD-2858-473F-9065-E696AA48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29D23-42CA-4BFD-AF92-5DF224AE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FF265-6B1D-4E65-8B05-49ABC8CC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BA2D-B2FF-4D57-B963-CD7E1CB4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4ED0A-4E23-4E9F-ACDD-1E0579F1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4F470-7AE6-4033-B664-B598CD1F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A57FC-FBAB-41F1-992E-811C7D47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52C6-D9B7-429B-883D-AF052DB8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B0ED8-84C5-44D0-810D-10D6D43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89D-8A87-46CF-B163-A32E6B2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E05E-DB81-4601-ADBC-339D5C9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53C0D-CC1F-4C91-A21B-112C6285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3C01F-1977-4ED5-B444-DABEFF55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8773D-00E0-4C6B-9737-78AFA481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F1437-96FC-445A-B654-531B0664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93260-AD26-42B4-B1FB-F2C23DA4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4158C-1CC1-4F53-8183-2617B5EB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B478A-9215-41B4-B54B-FD2DB7A9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F9D9E-4911-41DE-8F93-B36EC9E8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DD5B1-CF22-4407-9095-186344AA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595-A8A6-46FD-A586-9F82FFBE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6A275-FD02-419A-8934-A4B5775A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97C02-52FF-48E3-A954-F8ECDD78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C802F-B53C-4CC0-9DC4-5CA8306D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91357-B0AF-46F4-928F-DF107D11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0B2FE-D7FF-4A49-8FC3-5C827296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198FE-A5CC-473E-AC81-BB434684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A98E6-CB0D-419B-BF99-D64FDABE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CC8E-66D8-4FCB-AF32-194B90B6C9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595F-9CA0-423F-9664-B323AFF7D0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CB19-C30C-4D0B-9686-734542E5AA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1DFA-B473-4F9F-B94F-6D7E7FFBE4E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F4F2-3C59-473A-A3C5-8647491E583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5128-A87F-4C1D-A385-3D434699213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A5AE-5C83-437D-A5CB-AC8B14EE83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E63F-2074-4C37-A0F8-F3D6A78A3C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В международном маркетинге важное значение придаетс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упаковке товара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Она, как и на внутреннем рынке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рассматривается в виде вместилища или оболочки, в которую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помещается товар и которая в большинстве своем надлежащи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образом оформле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Один и тот же товар может иметь несколько уровне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упаковки. При этом упаковку, использование которо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предназначено для обеспечения на должном уровне погрузк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и разгрузки товаров, их складирования и транспортировки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принято считать транспортной упаковко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или тарой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Маркировка товара на внешнем рынке представляет собой текст, условные обозначения или рисунок, нанесенные на упаковку и (или) товар, а также другие вспомогательные средства, предназначенные для идентификации товара или отдельных его свойств, доведения до потребителя информации об изготовителях (исполнителях), количественных и качественных характеристиках това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Маркировка выполняет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нформативную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дентифицирующую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эмоциональную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мотивационную функции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Ее носителями являются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этикетки, кольеретки, вкладыши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ярлыки, бирки, клейма, штампы, контрольные ленты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ценники, товарные или кассовые чек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установить страну товаропроизводителя, имя производителя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а также основные ингредиенты и составляющие товар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выявить срок годности товара и его качественные характеристики (например, сорт)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правильно потреблять товар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избегать негативных последствий от неправильного потребления товар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2"/>
          <a:stretch/>
        </p:blipFill>
        <p:spPr>
          <a:xfrm>
            <a:off x="42840" y="146160"/>
            <a:ext cx="8955000" cy="14875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наименование товар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масса нетто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ингредиентный состав товар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допустимый срок годности товар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название фирмы-изготовителя или   поставщи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трана происхождения това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5242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международное соглашение о транспортировке опасных товаров (ATR)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международный морской код для опасных грузов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(IMDG)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международное соглашение по маркировке опасных грузов, перевозимых воздушным путем (JATA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наличие отходов в процессе производства продукции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уровень загрязнения воды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степень загрязнения воздух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уровень загрязнения почвы и возможность ее эрозии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наличие шум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степень потребления природных ресурсов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количество потребляемой энерг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Благодаря штриховому кодированию каждому товару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присваивается индивидуальный, не повторяющийся нигд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в мире код, уникальность которого позволяет использовать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его не только для получения информации о производителе,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но и как основу для учета внутризаводских, внутрискладских, внутримагазинных перемещений. Это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является исходной базой для учета, анализа планировани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производства и реализации товаров и услуг как на внутреннем, так и на внешних рынках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2"/>
          <a:stretch/>
        </p:blipFill>
        <p:spPr>
          <a:xfrm>
            <a:off x="115920" y="146160"/>
            <a:ext cx="8881920" cy="14875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автоматизированную идентификацию товаров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автоматизированные учет и контроль товарных запасов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оперативное управление товародвижением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более высокий уровень культуры обслуживания покупателей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информационное обеспечение маркетинговых исследований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озданный EAN штриховой код может быть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3-разрядным, т.е. содержать 13 цифр (EAN-13)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8-разрядным (EAN-8)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4-разрядным (EAN-14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2"/>
          <a:stretch/>
        </p:blipFill>
        <p:spPr>
          <a:xfrm>
            <a:off x="115920" y="146160"/>
            <a:ext cx="8881920" cy="1487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охранение потребительских характеристик товара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защита товара от возможных повреждений во время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транспортировки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оздание удобств для перемещения и потребления то-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ара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формирование наиболее приемлемых единиц товара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(и&lt;&gt; массе и объему) для его продажи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In≫ 2X1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257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осуществление коммуникаций в процессе продажи и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отребления товар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2"/>
          <a:stretch/>
        </p:blipFill>
        <p:spPr>
          <a:xfrm>
            <a:off x="189000" y="-139680"/>
            <a:ext cx="8808840" cy="1974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соответствие размеров упаковки запросам потребителе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отдельных стран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наличие местных обычаев в отношении дизайна упаковки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существующие требования законодательства в област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упаковки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необходимость соответствия стоимости упаковки покупательно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способности потребителей товаров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целесообразность узнаваемости товара его потенциальным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покупателями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возможность восприятия упаковки товара в силу образовательного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и культурного уровня потребителей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читается, что наиболее приемлемой упаковкой для твердых продуктов пит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является упаковка продукта массой в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00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г, 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жидких продуктов таковой является упаковка объемом  250 м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Используемая на внешних рынках упаковка товаров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должна соответствовать местным обычаям в отношении ее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дизайна. Размер, форма, материал, цвет, текст, расположение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текста и других изображений оказывают непосредственное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влияние на покупателя, создавая у него определенное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отношение к товару. Особо важное значение имеют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языковые особенности страны восприятия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в состав упаковочного материала должно входить минимально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количество вредных для здоровья человека веществ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объем и масса упаковки должны быть минимальными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и обеспечивать сохранность товара и безопасность его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потребления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• </a:t>
            </a: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физические свойства товара и дизайн упаковки должны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быть пригодны для ее использования, а после окончани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срока потребления товара составляющие ее основные ценны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компоненты могут быть извлечены для их переработки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Для стран с невысоким уровнем доходов населения важное значение имеет стоимость упаковки. Если покупательная способность населения достаточно низкая, то целесообразно использовать более дешевую упаковк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Для многих товаров, и прежде всего для товаров повседневного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спроса, целесообразно иметь стандартную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упаковку. Наличие последней позволяет узнавать товар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зависимо от того, в какой стране он продается. Примерам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товаров, для которых такая упаковка используется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огут служить фотопленки Kodak или утоляющий жажду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апиток Coca-Cola. Достаточно одного взгляда потребителю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фотопленки или напитка на соответствующую упаковку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чтобы быть уверенным, что это знакомый ему товар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если раньше он его уже потреблял. Это особенно важно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для туристов, которые не всегда знают язык страны пребывани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Осуществляя поставку и продажу товаров на внешних рынках, следует учитывать, что во многих развивающихся странах не все потенциальные покупатели и потребители товара умеют читать. Поэтому наряду с текстом на упаковке товара целесообразно помещать соответствующие знаки, наличие которых позволяет каждому из покупателей сделать соответствующие выводы о назначении товара и возможном его использован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8:32:09Z</dcterms:created>
  <dc:creator>UserLib</dc:creator>
  <dc:description/>
  <dc:language>en-US</dc:language>
  <cp:lastModifiedBy>201</cp:lastModifiedBy>
  <dcterms:modified xsi:type="dcterms:W3CDTF">2013-01-20T06:00:31Z</dcterms:modified>
  <cp:revision>6</cp:revision>
  <dc:subject/>
  <dc:title>                    Презентация  на тему:  Упаковка и маркировка товаров в международном маркетинге  </dc:title>
</cp:coreProperties>
</file>