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287-BAFF-4DF8-8262-5DF4417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4B3-ECD8-4EBF-B25C-1654EB3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564-DF21-494E-9838-A2E04F66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2BE-2337-4F2F-8F4D-C1553727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E63C-760B-4926-9C60-5A4D68CF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10F-6B1B-4CB7-A27E-00191CE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3F7-068A-4E21-9825-6558DDF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981D-7EC2-4CC0-BEFF-36254BB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87B-E931-4F14-9D22-722D585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78B-DBCC-4D95-B6BB-8250A84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43E5-AB04-4BB3-8F7E-E507165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788-A408-4A13-8889-C27CA293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A636-4CF5-45B9-9617-0D280B4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96A-4333-46EF-AEB5-456819F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CD7-F3E2-429A-B9D5-B2803BB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EC8E-3536-4911-8AD7-C741F5B6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72C-EFD8-43D6-AF02-14E43F1B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A9E-F77B-4678-B9BC-E1555D48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D29-D2CE-4149-9149-3B0614C4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B8C-0C9B-499F-A595-D20F540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398-B7CD-4270-B187-9F748D2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9FE-5128-40F4-AF09-9EA1862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317-2D41-4855-9493-F6390CA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FE4-8188-4F4D-B404-DC82EB3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345-13EF-4723-B5B1-A09813DC08C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645-E4A4-4C8C-8531-DD467BFEA5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3" descr=""/>
          <p:cNvPicPr/>
          <p:nvPr/>
        </p:nvPicPr>
        <p:blipFill>
          <a:blip r:embed="rId3"/>
          <a:stretch/>
        </p:blipFill>
        <p:spPr>
          <a:xfrm>
            <a:off x="444600" y="1596960"/>
            <a:ext cx="8327880" cy="4718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рговая сеть характеризуется современными формами обслуживания, главным признаком которых являе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формат магази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совокупность характеристик магазина, определяющая ассортимент, размер торговой площади, формы и методы обслуживания кли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87580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-маркеты (бентамы) — 90-400 кв. 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версамы, супермаркеты, дискаунтеры    400-3000 кв. 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маркеты — свыше 3000 кв. 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 форму длительного коммерческого сотрудничества нескольких фирм, в рамках которого фирма-франчайзер передает права на продажу своих товаров и услуг другой фирме — франчайзи, получающей одновременно и права на использование торговой марки, маркетинговых технологий, стандартов обслуживания, фирменного дизайна и деловой репутации франчайзера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торговая структура любой организационно-правовой формы, созданная в целях розничной или мелкооптовой торговли товарами, отражающими производственный профиль ее учреди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"/>
          <p:cNvPicPr/>
          <p:nvPr/>
        </p:nvPicPr>
        <p:blipFill>
          <a:blip r:embed="rId2"/>
          <a:stretch/>
        </p:blipFill>
        <p:spPr>
          <a:xfrm>
            <a:off x="433440" y="768240"/>
            <a:ext cx="827244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407880" y="987480"/>
            <a:ext cx="829800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циально-экономическая сущность оптовой    торгов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зничная торговля - активный элемент маркетин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тевая торгов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рменная торговля - резерв эффективного сбыта готовой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вляется важным рычагом маневрирования материальными ресурсами, способствует сокращению излишних запасов продукции на всех уровнях сферы товарного обращения и устранению товарного дефицита, принимает участие в формировании региональных и отраслевых товарных рын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85400" cy="14508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"/>
          <p:cNvPicPr/>
          <p:nvPr/>
        </p:nvPicPr>
        <p:blipFill>
          <a:blip r:embed="rId3"/>
          <a:stretch/>
        </p:blipFill>
        <p:spPr>
          <a:xfrm>
            <a:off x="384120" y="1542960"/>
            <a:ext cx="82900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"/>
          <p:cNvPicPr/>
          <p:nvPr/>
        </p:nvPicPr>
        <p:blipFill>
          <a:blip r:embed="rId3"/>
          <a:stretch/>
        </p:blipFill>
        <p:spPr>
          <a:xfrm>
            <a:off x="353880" y="695160"/>
            <a:ext cx="824076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"/>
          <p:cNvPicPr/>
          <p:nvPr/>
        </p:nvPicPr>
        <p:blipFill>
          <a:blip r:embed="rId2"/>
          <a:stretch/>
        </p:blipFill>
        <p:spPr>
          <a:xfrm>
            <a:off x="523800" y="633240"/>
            <a:ext cx="8296200" cy="454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"/>
          <p:cNvPicPr/>
          <p:nvPr/>
        </p:nvPicPr>
        <p:blipFill>
          <a:blip r:embed="rId2"/>
          <a:stretch/>
        </p:blipFill>
        <p:spPr>
          <a:xfrm>
            <a:off x="480960" y="749160"/>
            <a:ext cx="8443800" cy="476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товарообменный процесс, направленный на удовлетворение потребностей людей путем свободной продажи товаров и услуг, представляющих ценность для покупа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853920" y="146160"/>
            <a:ext cx="8107560" cy="1444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"/>
          <p:cNvPicPr/>
          <p:nvPr/>
        </p:nvPicPr>
        <p:blipFill>
          <a:blip r:embed="rId3"/>
          <a:stretch/>
        </p:blipFill>
        <p:spPr>
          <a:xfrm>
            <a:off x="858960" y="1895400"/>
            <a:ext cx="7858080" cy="462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7:15:16Z</dcterms:created>
  <dc:creator>Admin</dc:creator>
  <dc:description/>
  <dc:language>en-US</dc:language>
  <cp:lastModifiedBy>201</cp:lastModifiedBy>
  <dcterms:modified xsi:type="dcterms:W3CDTF">2013-01-20T06:07:32Z</dcterms:modified>
  <cp:revision>8</cp:revision>
  <dc:subject/>
  <dc:title>Тема: Маркетинг торговли</dc:title>
</cp:coreProperties>
</file>