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502-0B1A-47D7-908C-58DF7161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13D-4456-40C2-B647-34A0269C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E76-E941-4DBE-84A1-77DD0E01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3F3-E9B5-4A47-B635-C5075818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3DF6-30C5-4A8A-A47C-7726174B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2649-1B8D-4DE4-8E55-893419F3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0EC-D4DA-4E17-B079-F97C167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D97-17CA-486C-9A95-6AC048E8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FD4-CA6E-4DB1-B503-24C8B368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C69-FB6D-4CAE-B468-C18C2CB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6B1B-A6FC-4BB3-A155-6029474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595-B9A1-4182-8113-4AA1433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DD8-E5BB-4889-9ED9-999359F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F05D-3C90-45D7-9264-9FEBEF0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045C-19D0-41F1-9288-CDB561D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CEC-2412-4DC5-8613-17494801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65B8-A8B1-4E2C-86AE-1C294BB4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92F-03B3-4AA9-BBBE-57BF4E1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EBF-0241-491E-AAD6-7ADE0B3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F2D-0ED4-4588-8E78-BC496FF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EB4-FD41-4257-8F16-A20F4806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164-77E7-4EB5-9048-4DF2549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16F-09EE-4A22-B3FB-464FCFE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B06-5850-40DA-A669-27462E7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CCE-F403-4C84-8A33-1281DD2AF2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6F9-C646-45B9-8F14-60814384EC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Т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Теория государственного и муниципального управления как самостоятельный комплекс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Место и роль муниципального управления в местном самоуправлении определяется следующими характеристиками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униципальное управление - конкретный вид деятельности по осуществлению местного  самоуправления, имеющий функциональную и компетенциональную специфику;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униципальное управление - это прерогатива только органов муниципального управления (местного самоуправл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муниципальное управление - в основном исполнительная деятельность, осуществляемая в процессе повседневного непосредственного руководства экономической, социальной, политической и духовной сферами муниципальн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муниципальное управление - подзаконная деятельность, регламентируемая муниципальным пра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97400" y="375120"/>
            <a:ext cx="78404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Принципы государственного и муниципального управл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бличная власть управляющег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государственного и муниципального управления необходимы право распоряжаться (полномочия) и сила, обеспечивающая исполнение распоряжений. Разумеется, полномочия и сила на уровне, с одной стороны, государственного, а с другой — муниципального управления не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динство руководства и разделение управленческого тру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 единого руководства возникает хаос, а разделение труда обеспечивает специализацию, т.е. качество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динство распорядительства по определенному кругу вопросов и конкретность исполнителе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множестве распорядителей, дающих указания по одному и тому же вопросу, возникает беспорядок, а без конкретного обозначения исполнителя распоряжения не выпол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чинение интересам государственного и муниципального управления иных интересов на государственной и муниципальной служб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умеется, у органа, должностного лица государства или муниципального образования есть и иные интересы, но во время исполнения служебных обязанностей приоритет имеют интересы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Принципы государственного и муниципального управл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обходимая степень централизации и иерархии в управлени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создают стабильность и обеспечивают деятельность управленческого механизма как единого це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стоянство управленческого персонал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учка руководителей и исполнителей вредна для 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праведливость в отношении начальников, подчиненных, сотрудников управляющего орга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ощрения и наказания должны быть соразмерны поступку и расцениваться коллективом как обоснованные, справедливые (легитим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ратная связь в управлени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вляющий должен учитывать результаты своих действий и корректировать их, если обратная связь указывает на необходимость э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знаграждение управленческого труд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т труд должен оплачиваться в соответствии с его общественной полезностью, количеством и ка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Теория государственного управления и административное прав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Наиболее близка к теории государственного управления наука административного права. Обе дисциплины имеют один объект административную деятельность государства, однако исследуют ее различные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Наука административного права в качестве предмета рассматривает совокупность административно-правовых норм, принципов и институтов, которые регламентируют управленческую деятельность, т.е. регулируют вопросы, связанные с деятельностью публичной администрации в отдельных сферах управления административно-политической, хозяйственно-экономической или социально-культур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51200" y="1781640"/>
            <a:ext cx="747252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В 1985 г. Комитетом министров Совета Европы была принята Европейская хартия местного самоуправления, определившая обще­европейские стандарты местного самоуправления, ценность которых признается во всем мире.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В соответствии со ст. 3 Хартии:</a:t>
            </a:r>
            <a:br>
              <a:rPr sz="2400"/>
            </a:br>
            <a:r>
              <a:rPr b="0" i="1" lang="en-US" sz="2400" spc="-1" strike="noStrike">
                <a:solidFill>
                  <a:srgbClr val="330033"/>
                </a:solidFill>
                <a:latin typeface="Arial"/>
              </a:rPr>
              <a:t>местное самоуправление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характеризуется как «право и способность местных властей в рамках закона регулировать и управлять значительной частью публичных дел, действуя под свою собственную ответственность и в интересах местного населения»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Муниципальное управление: отличительные черты и призна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Важным субъектом публичного управления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территориальная общность 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(городское или сельское поселение), осуществляющая </a:t>
            </a: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местное само­управление, 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т.е. деятельность населения по решению вопросов местного значения прямо или через органы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Термин «муниципальный» (от лат.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municipium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 -самоуправляющаяся община) обычно применяется в отношении органов местного самоуправления. В современном законодательстве понятия «местный» и «муниципальный» используются как тождеств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Местное управление отличает ряд признаков и черт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1599840"/>
            <a:ext cx="3824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оздание и действие от имени местного населения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одной стороны, органы местного самоуправления в отличие от министерств и ведомств не выступают от имени государства и не включаются ни в государственную, ни в централизованную публичную админист­рацию. С другой стороны, в отличие от публичных корпораций и других децентрализованных учреждений они действуют не от своего имени, а от имени и в интересах определенной социальной общно­сти. В связи с этим местное самоуправление является институтом публичного права, имеющим особый правовой стату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ерриториальная подведомствен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местное самоуправление ограничено соответствующей территорией. Обычно основой формирования местного самоуправления являетс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дминистративно-территориальное деление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кольку местные органы создаются в законодательно установленных административно-территориальных единиц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3. </a:t>
            </a:r>
            <a:r>
              <a:rPr b="0" i="1" lang="en-US" sz="3200" spc="-1" strike="noStrike">
                <a:solidFill>
                  <a:srgbClr val="330033"/>
                </a:solidFill>
                <a:latin typeface="Arial"/>
              </a:rPr>
              <a:t>Организационная </a:t>
            </a: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330033"/>
                </a:solidFill>
                <a:latin typeface="Arial"/>
              </a:rPr>
              <a:t>функциональная самостоятельность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рганы местного самоуправления, с одной стороны, действуют под собственную ответственность и вправе самостоятельно решать дела местного значения, а с другой -они обладают определенной независимостью во взаимоотношениях друг с другом и с центральными властями. Компетенция местного самоуправления должна определяться законом, а не актом управления, что является важнейшей гарантией независимости самоуправления. Причем из всей массы публичных дел закон должен выделить вопросы местного значения, которые муниципальные органы вправе решать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самостоятельно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ное самоуправление олицетворяет собой реализацию принципа территориальной децентрализации. Степень самостоятельности органов местного самоуправления может быть различ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Candara"/>
              </a:rPr>
              <a:t>Объект государственного и муниципального управл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щественны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я социальных, национальных и иных общностей людей, поведение общественных объединений, организаций, юридических лиц, поведение отдельных граждан, приобретающее общественное значение. Иногда общественное значение могут приобрести и личные отношения (например, алиментные обязанности детей в отношении престарелых родителей или запрет детям, не достигшим определенного возраста, посещать некоторые кинофильмы). В этом случае такие отношения могут быть подвергнуты государственному или муниципальному регулированию, т.е. с использованием публич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Цель занятия: изучить и освоить теорию государственного и муниципального управл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кт анализа – управляющее воз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 теории государственного упра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ория государственного управления и административное пра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ниципальное управление: отличительные черты и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Государственное и муниципальное управ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собого рода социальн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целенаправленному использованию на основ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о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иных правовых акт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убличной власти особой группой люд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рганов, должностных лиц), осуществляемая 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фессиональ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ах. Это приводит к установлению прямых и командных, обязывающих объект связей, но по общему правилу с учетом обратных связей объект — субъект. Под влиянием обратных связей действия субъекта могут измен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Элементы государственного и муниципального управл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и управления определяют сут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управленческого решения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ор действий, при помощи которых цели должны быть достигну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жнейшее значение имее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ческого решения. В таком решении- возможно полно следует учесть все обстоятельства, имеющее как прямое, так и косвенное отношение к решаемой задаче, факторы благоприятствующие и противодействующ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достижения успеха важное значение имее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табиль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ия. Не авралы, а настойчивая последовательная работа приносит результат. С этой точки зрения необходимо заранее просчитыват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ия: достижение наилучших результатов в возможно короткий срок с наименьшими затратами материальных ресурсов и управленческой энергии. Эффективность не связана с количественной стороной управления: слишком много управления (излишек управления) так же плохо, как и его недостаточность (мало управл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жнейшей материальной базой управления являютс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сурс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ия (наличие соответствующих органов, кадров, финансовых возможностей, управленческой техники и т.д.). Они весьма различны в государственном и муниципальном управлении. Решая ту или иную управленческую задачу, важно оценить предварительно наличие ресурсов (в том числе не только материальных, а и духовных) для э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жное значение имею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роки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ческая задача должна быть решена в срок. В противном случае может оказаться, что ее решение запоздало и просто больше не 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Объект анализа – управляющее воздейств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ия государственного управления представляет собой самостоятельный комплекс знаний, включающий различные уровни анализа государственного и публичного управления: национальный, региональный и местный. Это не единственная наука, изучающая административную деятельность как вид публичного управления, - существуют и иные науки об управл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ом анализа теории государственного управления является воздействие органов государственного администрирования и должностных лиц на сознание, поведение и деятельность людей с целью приведения их в соответствие с общезначимыми интересам и потребностями. Государственное администрирование ка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равляющее воздейств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ивно присуще обществу в силу неоднородности интересов и асимметрии возможностей людей, взаимодействующих друг с другом для реализации повседневных и общезначимых ц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7153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Государственное управление следует рассматривать как механизм властвования, ориентированный на 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консенсус 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общественных сил, основанный на балансе интересов, который поддерживается благодаря разнообразию механизмов и форм организации государственной власти, помноженный на профессионализм ее слу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В соответствии с Уставом муниципального образования могут образовываться следующие  органы местного самоуправления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дставительный орган местного само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лавное должностное лицо муниципа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сполнительный орган местного самоуправления.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Представительный орган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является ведущим в системе всех органов местного самоуправления, он именуется думой, муниципальным собранием, муниципальным комитетом или советом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Главное должностное лицо муниципального образования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, возглавляет деятельность по осуществлению местного самоуправления на территории муниципа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Исполнительный орган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местного самоуправления выполняет функции оперативно-распорядительного характера, т.е. исполняет законы  и решения представительного органа местного самоуправления. В системе местного самоуправления одни органы должны принимать решения, другие организовывать их исполнение. Исполнительные органы как раз и являются тем звеном цепи, на которое возложена задача по обеспечению выполнения приняты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rial"/>
              </a:rPr>
              <a:t>Предмет теории государственного управл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орией государственного управл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нимается комплекс взглядов, идей, концепций, направленных на толкование и объяснение структурных, функциональных и когнитивных компонентов системы административно - государственного управления, дающих целостное представление об организационных механизмах согласования разнородных интересов общества и формулирования их в политическом курсе и государственно-политической модели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едме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ории государственного управления являю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нцептуальные интерпрет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стем организации и функционирова­ния государственной власти, ее стратегических, политических и оперативных, административных функций, направленных на стабилизацию общественного развития. Круг проблем, составляющих содержание предмета теории государственного управления, включает две основные сферы — политическое государственное управление и административно-государственное управ­ление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ndara"/>
              </a:rPr>
              <a:t>Политическое 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состоит в формулировании государственной политики и реализации ее через систему административных учреждений. Стратегические функции политической государственной власти осуществляют депутаты парламента, руководители исполнительных органов государственной власти (президент, премьер-министр, министры), судьи на всех уровнях (федеральном, регио­нальном и местн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В основном функция разработки государственных программ возложена на кабинет министров (правительство) и министе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Административно-государственное управление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включает деятельность профессиональных государственных служащих по осуществлению государственной политики и оказанию услуг населению. Функции государственного администрирования -преимущественно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оперативные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и состоят в осуществлении текущих управленческих задач, исполнении решений правительства. Их выполнение возложено на государственные учреждения и государственных служащих всех ветвей и уровней государственного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4:33:25Z</dcterms:created>
  <dc:creator>таня</dc:creator>
  <dc:description/>
  <dc:language>en-US</dc:language>
  <cp:lastModifiedBy>User</cp:lastModifiedBy>
  <dcterms:modified xsi:type="dcterms:W3CDTF">2011-12-15T07:51:20Z</dcterms:modified>
  <cp:revision>9</cp:revision>
  <dc:subject/>
  <dc:title>Презентация </dc:title>
</cp:coreProperties>
</file>