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FDF-5C0C-4E33-8399-5C4E1F99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417-6BA8-4F6B-99FD-C791431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9F5-7B40-44DC-A67C-B985C8F0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CC0-BC3C-42BD-AD5B-06A111A6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25A-865B-4E15-AC9A-B0F181B6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72A-1FDC-4981-9E00-F277278F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245-96B2-439F-8AB2-0A5F4699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387-8005-464F-A77E-694B8389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922-38F8-4D52-A225-4E0B9234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B77-2D85-45CC-B4A3-6949BE9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6FC-B5CD-4C27-BCCB-E1E021E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579-EBB6-4B91-88EF-9B681FF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90A-5FA1-4D61-B7FC-7FAFC9E41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11280" y="1719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: Предмет и метод теории государственного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24000" y="112536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метом теории административно - государственного управления являетс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овокупность понятий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редством которых она описывает процесс достижения оптимальных целей государственного управления путем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79280" y="404640"/>
            <a:ext cx="871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сударственное администрирование, — по мнению американских исследователей Ф. Нигро и Л. Нигро, — означает скоординирован­ные групповые действия в государственных делах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язанные с тремя сферами власти — законодательной, исполнительной, судебной — и их взаимодействием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ющие важное значение в формировании государственной политики и являющиеся частью политического процесс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чительно отличающиеся от администрирования в частном сектор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) тесно связанные с многочисленными частными группами и индивидами, работающими в различных компаниях и общин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й подход —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ормальны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и структурны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акцентирует внимание на статусе административных учреждений, вторичном характере их деятельности по отношению к политической э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й подход —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ы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ли функцион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яет предмет государственного управления через анализ специфических функций и задач административных орг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24000" y="33480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российск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уке идея дуализма политических и административ­ных функций государственного управления, подчеркивающая поли­тическую нейтральность государственной службы, не получила рас­простра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24000" y="3141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ганы государственного управления были исключены из процесса принятия решений, и их функция сводилась преимуще­ственно к тому, чтобы обеспечить реализацию партийных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ерво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авление —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ортодоксально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последователи акцентируют внимание преимущественно на национальных формах и традициях административно - государственного управления и пытаются обосновать специфику административно-государственной науки в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торо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правление —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имитативно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сторонники полагают, что необходимо использовать уже отработанные эффективные современные формы управления, сложившиеся в западных странах, и перенести их в нашу жи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том, опираясь на западный опыт, некоторые отечественные исследователи расчленяют теорию государственного управления на два самостоятельных комплекса знаний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орию политического упра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орию администра­тивно - государственного управления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 об исследуемом предмете получают с помощью системы познавательных принципов, приемов, средств и способов, именуемы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ологи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ппы познавательных средств и методов в методологии теории государственного управл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а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подходов была ориентирована на описание сис­темы государственного управления как иерархически организован­ной целостности институтов и процедур принятия властных реше­ний, авторитарного распределения ресурсов в обществе и наличия у государства права на легитимное насилие. Это системный и струк­турно-функциональный подходы, а также институционализм и неоинституционали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тору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у методов составляют познавательные средства, ориентированные на описание системы государственного управления как механизма артикуляции групповых и частных интересов путем обмена ресурсов и предоставления услуг населению. Это рыночный, сетевой и синергетический подх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еть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у методов составляют познавательные приемы, ис­пользуемые для анализа поведения управленческой системы в усло­виях постиндустриального, информационного общества, формирую­щего новую социальную реальность, не основанную на детерминист­ских принципах и зависим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ая задача системного подхода состоит в оптимальном повышении эффективности работы организации в целом, что не обязательно означает оптимизацию деятельности всех без исключения ее элеме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ность системного подхода применительно к сфере публичного управления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-первых, к формулированию древа целей и выявлению их иерархии до начала какой-либо деятельности, связанной с управлением и принятием реш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-вторых, к получению максимального эффекта, т.е. достижению поставленных целей при минимальных затратах, путем сравнительного анализа альтернативных вариан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-третьих, к всесторонней количественной оценке целей, методов и средств их дости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611280" y="90792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просы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1484280"/>
            <a:ext cx="8207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нятие «руководство» и «управление». Соотношение теории государственного управления и политической нау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отношение понятий «государственное управление», «исполнительная власть», и «административная власть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падные теории административно - государственного управ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западные интерпретации административ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.   Методология теории государственного управ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808200" y="28116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65840"/>
            <a:ext cx="89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Цель заняти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зучить предмет и метод теории государственного упр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но-функциональный подхо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природу дисфункций, напряжений и противоречий, возни­кающих в социальной реальности в результате расхождения целей и результатов, и тем самым компенсировать недостаток системного анализа пытались сторонники структурно-функционального подхо­да. Этот подход более эмпиричен и ориентирован на решение прак­тических задач. Что должна делать система управления, т.е. какие функции должна выполнять? Как она это делает, при помощи каких структур и с какой эффективностью? По их мнению, сфера управле­ния представляет собой структурно расчлененную целостность, где каждый элемент имеет строго определенное функциональное назначение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ыночный подх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уть можно определить стремлением ответить на вопрос: «Как создать правительство, которое работает эффективно и лучше, а стоит меньше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тевой подх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етевая структу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это децентрализованный комплекс взаимосвязанных узлов открытого типа, способный неограниченно расширяться путем включения все новых и новых звеньев, что придает сети гибкость и динамич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ы — информационная сеть Интернет, сеть финансовых потоков, сеть средств массовой информации, сеть мафиозных структур. Сетевую структуру имеет управление Европейским Союзом: сегодня им руководит сеть советов министров различных европейских государ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сетевому признаку организованы транснациональные корпорации, многие бизнес - структуры  и  финансово-промышленные  группы.   Законом сетевых структур является ускорение времени и уплотнение пространства в рамках одной сети: любая информация максимально быстро распространяется именно по сетевому призна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туацион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суть состоит в учете всех (устойчивых и временных, объективных и субъективных) условий и обстоятельств, создающих социальную реальность, конкретный процесс, по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тличие от системного подхода, стремящегося выявить закономерности в организации и функционировании сферы государственного управления, ситуационный подход основывается на предположении, что конкретные ситуации и конкретные условия, в которых функционирует система управления, настолько разнообразны, что не существует универсальных принципов и методов администр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нергетически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личие и достоинство синергетического подхода в анализе государственного управления состоят в акцентированном внимании на сложные механизмы самоорган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тексте синергетической методологии процесс публичного управления рассматривается одновременно как действие механизма властвования, его компонентов и как результат опосредованного воздействия на общество случайных факторов (экономических, экологических, культурных, социальных, геополитических, географических, демографических), оказывающих влияние на общественное разви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39640" y="33660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еория государственного управления обладает рядом свойств, которые отличают ее от других дис­циплин в управлении: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предмет исследова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 те свойства, связи, отношения объективной действительности, которые включены в процесс позн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методы нау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 принципы познания, познавательные приемы и способы, с помощью которых исследуется предмет нау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категории науки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язык науки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 понятия, в которых выражается содержание познанно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формы знан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 законы, теории, описания, в которых выражаются суж­дения об объективной реа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— основные направления деятельности, связанные с удовлетво­рением актуальных потребностей человека и благодаря которым наука оказывается востребованной в общест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49120" y="22766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няти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«руководство»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пользуется в смысл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общего политического управления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торый включает многие значения других толкований терм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49120" y="26820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Теория государственного управлен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дставляет собой самостоятельный комплекс знаний, формулирующий законы функционирования и развития систем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публичного администр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22120" y="40053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няти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«управление»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ъясняет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способы координаци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заимодействия людей в обществе, таких, например, как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иерархи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рын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65040" y="476280"/>
            <a:ext cx="84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осударственное управление — наиболее важный, всеохватывающий и властный вид управл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797040" y="4292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убъект - Государ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11120" y="476280"/>
            <a:ext cx="8264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Функция государственного властвования обеспечива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утем издания законов и других нормативно-правовых актов, устанавливающих общеобязательные правила пове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седневной исполнительно-распорядительной деятельность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пециального аппарата по управлению обществ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уществлением правосудия, контроля за исполнением право­вых предпис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ением в соответствии с законом государственного принуждения и санкций в случае несоблюдения общепринятых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385920"/>
            <a:ext cx="85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уществует несколько точек зрения на  проблему соотношения «государственное управление», «исполнительная власть» и «административная власть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90600" y="184464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 многих странах понятия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исполнительной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административной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ласти разграничи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Согласно другому подходу исполнительная и административная власти считаются синони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В советской науке понятия «исполнительная власть» и «административная власть» использовались как парные катег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9280" y="5493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роанализировав содержание термина «государственное управление», необходимо отмет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ъем управляющего воз­действия государства (тотальная регламентация или оказание услуг в реализации общезначимых потребностей) всегда зависел от зрелости гражданского общест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институциональную и организационную структуры механизма властвования и управления, оптимальные для формулирования и адекватного отражения интересов и потребностей различных групп населения, определял доминирующий тип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24000" y="1812960"/>
            <a:ext cx="86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зарубежной теории административно - государственного управления в качестве объекта рассматриваетс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дминистративно-государственная деятельность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0:05:39Z</dcterms:created>
  <dc:creator>User</dc:creator>
  <dc:description/>
  <dc:language>en-US</dc:language>
  <cp:lastModifiedBy>User</cp:lastModifiedBy>
  <dcterms:modified xsi:type="dcterms:W3CDTF">2011-12-15T07:48:07Z</dcterms:modified>
  <cp:revision>8</cp:revision>
  <dc:subject/>
  <dc:title>Презентация PowerPoint</dc:title>
</cp:coreProperties>
</file>