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6F20-FAD9-439C-BE49-B2296A30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E35F-CB0A-4F55-8E94-3AB4793B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970-0DB3-4643-A9D0-AF517E34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199B-222B-4A85-B9E3-B3B7005E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3803-E0B6-4A07-AD16-BBAC3148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298E-0925-41F4-931D-7AEE0788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02F8-7E3D-4785-98A0-3B7FCB14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10BD-B1A1-43B9-942B-9D681F6A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D0F-DF6D-49CC-8F2F-0CA69451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6601-6098-43F8-978E-BB759CDF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2076-70F6-488B-8642-FB127264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C4C3-DCA0-4E74-94C8-2E181765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AAD7-3A40-4EA7-B0AB-EC95FBE371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: Государственная поли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иды государственной поли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Экономическая полит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е содержание составляют все виды деятельности, связанные с производством и оборотом потребительских това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многих странах государство контролирует различные сферы производства, но степень этого контроля существенно варьируется в каждом конкретном случа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иды государственной поли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оциальная политика более актуальная сфера деятельности государства, она имеет несколько направлений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Экстракционная поли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все виды деятельности государства, связанные с извлечением ресурсов (денег, товаров, людей и услуг) из внутренней и внешней сре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логовая полити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более распространенной формой извлечения ресурсов яв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логооблож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процесс сбора государством денег или товаров у физических и юридических л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иды государственной поли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истрибутивная полити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ключает все формы распределения средств (денег, товаров, услуг). Дистрибутивная способность системы госу­дарственного управления связана с распределением ею благ, услуг, знаков отличия отдельным лицам или групп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егулятивная полити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гулирующая способность власти касается управления, координации поведения индивидов и групп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иды государственной поли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ультурная (символическая) полит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равлена на укрепление национального самосознания и духа общности, солидарности и социального доверия. Для этого разрабатываются масштабные политические программы, которые предусматривают повышение роли национального языка или культуры, а также пропаганду верности общему политическому наслед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ректность сравнения и оценивания государственной политики различных стран требует определения критериев, которым должна соответствовать деятельность государ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8713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а государственного управления должна соответствовать по крайней мере трем важным измерения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итика, проводимая правительством, должна был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праведливой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нятие справедливости охватывает и одинаковое отношение к гражданам, и награду по заслугам (пропорционально вкладу в общее дело), и отклик на их потребности и нуж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сударственная политика не может быть набором мечтаний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а должна быть результативной и эффективной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аждан на стороне той политики, которая действительно веде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намеченной и желанной цели, а не политике, которая этой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и не достига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ечный критерий, позволяющий оценить итоги политического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рса, — это способность государства отстаивать и гарантировать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ободу. Признание, утверждение и защита свободы, граждански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политических прав человека — первостепенная задача государственной полити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324000" y="54936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овременные административные системы в западных странах существенно разнятся. Однако для лучшего понимания специфики организации и функционирования систем государственного администрирования их можно сгруппировать на основе сходства по ряду критерие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252360" y="620640"/>
            <a:ext cx="86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 первой группе можно отнести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англосаксонские страны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Вели­кобритания, США, Австралия, Новая Зеландия, Ирландия), где ве­лико политическое влияние администрации, в которых доминирует культура переговоров и сделок, рационализм и стремление к экономической эффективности государственного управления, развито местное самоуправл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250920" y="692280"/>
            <a:ext cx="871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торая группа —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«наполеоновские» страны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Франция, Италия, Испания, Бельгия, Люксембург, Нидерланды, Португалия, Греция), в ее основе лежит французская модель административной системы. Государственное администрирование в этих странах отличает силь­ное влияние центра на развитие страны, детальное правовое разде­ление и регулирование полномочий между различными уровнями государственного управления, правовой рационализм, сильное по­литическое влияние бюрократии, относительно стабильная государ­ственная служб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900000" y="620640"/>
            <a:ext cx="7859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 третьей группе западных стран относятся так называемые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«германские страны»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Германия, Австрия и частично Швейцария). Правовая культура этих стран определяет многие составляющие государственного управления и положение бюрократии. Здесь на­блюдается значительное регулирующее влияние центра на развитие территорий, но оно сочетается с кооперативными механизмами ор­ганизации управления территориями и значительной свободой в эффективном осуществлении собственных обязанност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395280" y="333360"/>
            <a:ext cx="8424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вертую группу стран составляю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еверные стран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Дания, Финляндия, Исландия, Норвегия, Швеция). Для них характерно сочетание «менеджериальных», правовых и «переговорных» управленческих культур и признаков на всех уровнях государства. Управленческая власть центра сочетается со значительными полномочиями местных органов и активным участием населения в процессе принятия решений на местах. Хотя, конечно, между этими странами можно обнаружить и довольно значимые различия, связанные со степенью проявления различных управленческих куль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Цель занятия: изучить сущность государственной поли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сударственная политика и ее модел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ы государственной полити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итерии оценивания государственной полит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ольные 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категорию «государственная политика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арактеризуйте либеральное государство (государство «ночной сторож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арактеризуйте «Полицейское» государст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арактеризуйте государства «всеобщего благоденств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виды государственной поли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ройте сущность экономической поли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арактеризуйте основные направления социальной поли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ная (символическая) полит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тегория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«государственная политика»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ьзуется для обозначения всех властных решений, направленных на выполнение тех политиче­ских целей и задач, которые сформулированы в политическом кур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ластные решения следует рассматривать как результаты функциониро­вания системы государственного управления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50920" y="83664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нятие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«государственная политика»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остаточно многогранно и нуждается в содержательном анализе его различных аспект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755640" y="2550960"/>
            <a:ext cx="79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 контексте управления государственная политика включа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определение коллективных целе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 конкретных областях жизни обществ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мобилизацию ресурс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принятие решений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обходимых для достижения этих ц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бор государственных политик начинается с выстраивания шкалы политических приоритетов, которые задаю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нституциональную модел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сударственного управ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ачестве приоритетных современных целей управления знача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зопаснос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цветани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развит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остность и солидарность обществ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щита демократии и прав человек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орядоченность и устойчивость социальной систем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минирующий набор функций позволяет выделять различные виды государства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ночной сторож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полицейское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всеобщего благоденствия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и различаются степенью вмешательства в жизнедеятельность общества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50920" y="836640"/>
            <a:ext cx="8691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Либеральное государство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государство «ночной сторож»), которое существовало 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., ограничивало свое участие в жизни общест­ва главным образом регулированием, направленным на поддержа­ние законности и порядка, создание нормальных условий для тор­говли и обеспечение безопасности граждан от агрессии изв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611280" y="692280"/>
            <a:ext cx="79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«Полицейское» государство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 которому относят государства с нацистскими, фашистскими, коммунистическими режимами, втор­гается в жизнь своих граждан значительно сильнее и извлекает ре­сурсы в более жесткой форме. Фашистские и коммунистические режимы, как правило, требуют, чтобы их граждане каждодневно проявляли различные формы лояльности и поддержки режи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826920" y="549360"/>
            <a:ext cx="7705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сударства «всеобщего благоденствия»,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никшие в высокоразвитых западно-европейских странах 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., берут на себя распределение ресурсов, предназначенных для здравоохранения, образования, жилищного строительства, занятости трудоспособного населе­ния и обязательства финансовой поддержки своих граждан в виде социальных выплат и пособий. Для выполнения этих задач они и ресурсы должны извлекать (т.е. взимать налоги) более экстенсивным пут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1:01:20Z</dcterms:created>
  <dc:creator>User</dc:creator>
  <dc:description/>
  <dc:language>en-US</dc:language>
  <cp:lastModifiedBy>User</cp:lastModifiedBy>
  <dcterms:modified xsi:type="dcterms:W3CDTF">2011-12-15T07:47:11Z</dcterms:modified>
  <cp:revision>6</cp:revision>
  <dc:subject/>
  <dc:title>Презентация PowerPoint</dc:title>
</cp:coreProperties>
</file>