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192-E79F-4936-9418-B86CC19F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1BA-496D-4B41-8740-25AC128B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099-911A-4264-B177-AFF0D711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9CA-3CDF-4609-9F45-269BC9EA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921-9729-43E0-952C-70291A04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2F3-FCDF-460C-8932-10043F08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39E-3D3C-4AC1-99CC-4A31090D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CEB-4D1A-4B9C-B69D-AEDA0F98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88D-3528-46CF-9A37-EA9D126D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621-4B5E-4FB9-8A40-11D1E0A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392-034A-4EA7-9683-2226363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005-01DF-4C5D-890C-2A9D846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9B9-2E99-4714-AEC6-2608A48EE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84728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ема -  Административная систе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ливо проявившаяся тенденция централизации власт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нашла свое выражение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нт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х полномочий в руках единоличного главы правительства (президента, премьера, канцлера и т.д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ривело к тому, что в государственном аппарате появились структурные подразделения (штабы), подчиняющиеся непосредственно главе исполнительной влас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омство Федерального канцлера в Герман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 Президента Франц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ариат премьер-министра Великобритании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полнительное управление Президента СШ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а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Белого до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т национальной безопас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дминистративное и бюджетное управле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еский сов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по развитию полити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парат специального представителя США по торговым переговора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ет по качеству окружающей сред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политики в области науки и техники и др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кретариат премьер-министра Великобритан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ретариат премьер-министра представляет собой небольшой по численности орган, состав которого формируется непосредственно премьер-министром сообразно его потребност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авило, в него вход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ретарь по связям с общественностью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тники по иностранным делам, по вопросам обороны и экономик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ретариат кабинета является органом, координирующим деятельность кабинета и правительства Великобритании. Общее руководство работой Секретариата осуществляет премьер-министр, а непосредственное руководство — глава Секретари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оводит работой этого органа статс-секретарь, исполняющий одновременно функции статс-секретаря федерального правительства. О той роли, которую Ведомство Федерального канцлера играет в механизме государственного управления, можно судить по полномочиям его статс-секретаря, закрепленным в Регламенте федерального правительства Герма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руководством статс-секретаря Ведомство Федерального канцлера обеспечивает «единую линию» в деятельности правитель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едомство Федерального канцлера Герм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ппарат Президента Фран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парат Президента Франции включает «дом президента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тором состоят чиновники высшего ранга, выполняющие функции помощников по особым поручениям, а также генеральный секретариат, контролирующий деятельность министерств и ведомств и помогающий главе государства выполнять функцию арбитра в системе государственного упра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нятие и функции Министерство — орган специализированного управления. Практически во всех зарубежных странах в основании пуб­личной администрации находится министерская система, которая строится, как правило, в соответствии 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раслевы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ом с тем, чтобы охватить важнейшие сферы государственного управле­ния и основные направления общественного развития. Отраслевой принцип позволяет создать профессиональный специализированный управленческий аппарат в тех сферах общественной жизни, которые правительство считает постоянным объектом правового регулирования; дает возможность «увязать» разрозненные институты в единую систему в рамках одной управленческ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адные административисты обычно выделяют следующие основные функции минист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рансформация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национальной   политики   в   конкретное управленческое действие — выработка форм и методов деятельности по достижению цели, для осуществления которой было создано министерств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правление службами министер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реализуется по трем основным направлениям: установление бюджета, подбор и перемещение личного состава, а также организация министерства, т.е. определение его структуры и распределение компетенции министерства между его структурными подразделе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начает регулирование повседневной управленческой деятельности и координацию деятельности ведом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ША центральные органы отраслевого управления называютс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партаментам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их руководители — секретарями. Президентская форма правления, сложившаяся в США, обусловила существование ряда специфических особенностей, отличающих американские департаменты от министерств в государствах с парламентарной формой пра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стоящее время министерства могут быть разделены на три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министерства, создаваемые в административно-политической сфере (обороны, внут­ренних дел и др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министерства, создаваемые в финансово-эко­номической и хозяйственной сферах (экономики, финансов, промыш­ленности, торговли, сельского хозяйства, транспорта и др.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мини­стерства, создаваемые в социально-культурной сфере (образования, культуры, здравоохранения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любого министерства характерно распределение его функций между различными структурными подразделениями, основными из которых являютс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ире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Франция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де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Великобрита­ния, Германия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парта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ольша)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ртикальные служб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оизводственные или отраслевые) направлены на реализацию основных функций министерства. Например, в Министерстве юстиции Германии созданы следующие отраслевые отделы: управление юстицией; судопроизводства; гражданского права; уголовного права; торгового и хозяйственного пр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ризонтальные служб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функциональные) оказывают опосредованное воздействие на осуществление министерством его основных функций. К ним могут быть отнесены подразделения, занимающиеся вопросами персонала, бюджета, международного сотрудничества, научных исследов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ехнические служб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истерства в своей деятельности связаны с «управленческой техникой»: архивы, подразделения, занимающиеся систематизацией документации, планированием, отчетностью, статистикой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руктуре министерства выделяют вертикальные, горизонтальные и технические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централизованные учреждения явля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номными структура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ой администрац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не подчиняются ни правительству, ни министерствам, а лишь контролируются ими по стратегическим вопросам управления. В оперативную, текущую деятельность этих учреждений министры вмешиваться не вправе. В основу работы этих учреждений положены принципы децентрализации, административной и финансовой автоном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централизованные учреждения являются органами управл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циальной компетен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ни вправе выполнять лишь те функции, приобретать права и нести обязанности, которые прямо указаны в акте об их создании. Следовательно, на них распространя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цип «разрешено лишь то, что прямо закреплено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централизованные учреждения явля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ъектами публичного прав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управления, которые обязаны выражать не частные, а общественные интересы. Они обладают распорядительными полномочиями по отношению к частным лицам, предприятиям и организациям государственного и частного секто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е черты, характерные для всех независимых ведомст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Цель занятия: изучить сущность административной сис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ые административные системы: страновые различ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изованная публичная администрация (аппарат правительства, министерства, ведомства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ональная децентрализованная администр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гулирующ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омочные принимать акты управления нормативно-правового характера и осуществлять контроль за соблюдением законности частными лицами и компа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ординирующ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призванные обеспечить согласованность действий предприятий, учреждений и организаций различных секторов Эти структуры могут и не иметь собственных материальных средств, а выполнять чисто управленческие функ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спределяющ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осуществляющие финансовую и иную поддержку частных лиц и компаний Законы, на основе которых они действую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ят разграничение между представителями различных социальных слоев (богатыми и бедными, молодыми и старым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лиентск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оказывающие услуги всем обратившимся к ни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мирительны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рассматривающие конфликтные ситуации 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лагающие общие пути их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но выделить следующие виды децентрализованных орган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троль за децентрализованными учреждениями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яют следующие виды контроля за децентрализованными учрежде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министративный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нансовы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деб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ламент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авило, централизованная администрация более жестко контролирует независимые ведомства, выполняющие социальные функции. Степень самостоятельности у торгово-промышленных учреждений значительно выше. Но более всего автономны в западных странах ведомства, координирующие работу средств массовой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ременные административные системы в западных странах существенно разня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лучшего понимания специфики организации и функционирования систем государственного администрирования их можно сгруппировать на основе сходства по ряду критериев культурного, правового, исторического и политического порядка, касающегося устройства и способа функционирования государственного и публичного управления различных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первой группе можно отнест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нглосаксонские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обритания, США, Австралия, Новая Зеландия, Ирландия, где велико политическое влияние администрации, в которых доминирует культура переговоров и сделок, рационализм и стремление к экономической эффективности государственного управления, развито местное самоуправ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торая группа —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наполеоновские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нция, Италия, Испания, Бельгия, Люксембург, Нидерланды, Португалия, Греция, в ее основе лежит французская модель административной системы. Государственное администрирование в этих странах отличает сильное влияние центра на развитие страны, детальное правовое разделение и регулирование полномочий между различными уровнями государственного управления, правовой рационализм, сильное политическое влияние бюрократии, относительно стабильная государственная служба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рмания, Австрия и частично Швейцария. Правовая культура этих стран определяет многие составляющие государственного управления и положение бюрократии. Здесь на­блюдается значительное регулирующее влияние центра на развитие территорий, но оно сочетается с кооперативными механизмами ор­ганизации управления территориями и значительной свободой в эффективном осуществлении собственных обязанностей. Админи­стративное поведение здесь понимается как комбинация строгости и гибкости при применении публичного права. На местном уровне не отрицается значение эффективности деятельности посредством ис­пользования рыночных механизмов в публичном управлении. Значи­тельное влияние на государственное управление оказывает политика социального государства в сочетании с этикой правового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третьей групп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германские стра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твертую группу стран составляют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еверные страны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91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ия, Финляндия, Исландия, Норвегия, Швеция. Для них характерно сочетание «менеджериальных», правовых и «переговорных» управленческих культур и признаков на всех уровнях государства. Управленческая власть центра сочетается со значительными полномочиями местных органов и активным участием населения в процессе принятия решений на местах. Хотя, конечно, между этими странами можно обнаружить и довольно значимые различия, связанные со степенью проявления различных управленческих культ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нейшие звенья централизованной администрации — аппарат правительства, министерства и ведом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тельство находится в центре политической жизни страны, решает преимущественн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осударственно-полит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и вследствие подверженности различным политическим потрясениям, как правило, крайне нестаби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том правительство, помимо государственно-политических, выполняет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дминистратив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, связанные с общим руководством публичной администрацией. Для реализации административных функций пра­вительства и создается его аппар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 аппарата, организационно-правовые формы его деятельности зависят от формы правления, сложившейся в конкретной стране, политического режима, утвердившегося там и ряда иных факторов, отражающих национальную и историческую специфику административной деятельности в данном государст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ах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зидентск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й правления и в немногочисленных сохранившихся до наших дней абсолютных монархиях аппарат главы государства, сосредоточившего в своих руках всю полноту исполнительной власти, является ключевым звеном в механизме публичной администрации и наделяется значительными дискреционными полномочиями (т.е. полномочиями, реализуемыми по собственному усмотрению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сударствах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ламентск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й правления аппарат правительства также играет заметную роль в механизме публичной администрации, однако он обладает меньшими полномочиями, выполняя, как правило, совещательные и консультативные функ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упрезидентск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публиках сильный аппарат имеется как у президента, так и у премьер-минис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1:01:20Z</dcterms:created>
  <dc:creator>User</dc:creator>
  <dc:description/>
  <dc:language>en-US</dc:language>
  <cp:lastModifiedBy>User</cp:lastModifiedBy>
  <dcterms:modified xsi:type="dcterms:W3CDTF">2011-12-15T07:50:11Z</dcterms:modified>
  <cp:revision>8</cp:revision>
  <dc:subject/>
  <dc:title>Презентация PowerPoint</dc:title>
</cp:coreProperties>
</file>