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3E0-7088-4C83-9CAA-350550FD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7E5-4A29-4B88-8562-1851ED3C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4C6-64A5-4F56-94F8-FF25AAB6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17B-F440-461E-9986-D79B3C8D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C27-F510-49C4-BCE2-6028C094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8F6-B29B-4285-A169-0A8F3DB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6E5-3403-48DA-B0B8-84BB2C0C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BE6-996A-438B-9E24-2C57291A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7A1-A638-4DBB-B951-64E2F960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25F-D51D-45C4-9C69-86479199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DE7-FD3E-4FA6-BD77-A16BE62D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468-AF69-4005-8635-37841C8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F0E2-A63B-464C-B04F-6664C7832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84728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временная Казахстанская модель государственного упра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арламен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совместном заседании Пал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предложению Президента Республики Казахстан вносит изменения и дополнения в Конституци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верждает отчеты Правительства и Счетного комитета по контролю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исполнением республиканского бюджета об исполнении республиканского бюдже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ет вопросы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слушивает ежегодные послания Конституционного Совета о состояни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ионной законности в Республике и друг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ламент  в  раздельном   заседании   Палат  путем  последовательного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мотрения  вопросов  вначале в Мажилисе,  а затем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ен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нимает конституционные законы и законы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ерждает  республиканский   бюджет,   вносит   в   него   изменения   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авливает и отменяет государственные налоги и сбо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авливает      порядок      решения      вопросов      административно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риториального устройства Казахста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реждает государственные награды, устанавливает почетные, воински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иные звания, классные чины, дипломатические ранги Республики, определяет государственные символы Республики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исключительному ведени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ажили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носитс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ятие к рассмотрению внесенных в Парламент проектов конституционных законов и законов и рассмотрение этих проек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инством голосов от общего числа депутатов Палаты дача согласия Президенту Республики на назначение Премьер-министра Республи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явление очередных выборов Президента Республики и друг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тель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яет    исполнительную    власть    Республик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захстан,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зглавляет   систему   исполнительных   органов   и   осуществляет руководство их деятельность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тельство   является   коллегиальным  органом   и   во   всей   свое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ятельности   ответственно   перед   Президентом   Республики,   а   в   случаях, предусмотренных    Конституцией,    -    перед    Мажилисом    Парламента    и Парламен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равительство РК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атывает основные направления социально-экономической политики государ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ет Парламенту республиканский бюджет и отчет о его исполнении, обеспечивает исполнение бюдже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ует управление государственной собственност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рабатывает меры по проведению внешней полит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 деятельностью министерств, государственных комитетов, иных центральных и местных исполнительных орган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начает на должность и освобождает от должности руководителей центральных исполнительных органов, не входящих в состав правитель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емьер-министр Р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ует и руководит деятельностью Правительства, персонально отвечает за его рабо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писывает постановления Правительства и друг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ституционный Со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ионный Совет РК состоит из 7 членов, полномочия которых длятся 5 л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ионный Сов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ает вопросы о правильности проведения выборов Президента РК, Депутатов Парламен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атривает до подписания Президентом принятые Парламентом законы, постано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атривает до ратификации международные договоры РК на соответствие их Конститу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ды и правосуд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осудие в РК осуществляется только суд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ами являются Верховный Суд РК, местные и другие суды, учреждаемые закон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ья подчиняется только Конституции и зак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енная служба – деятельность государственных служащих в государственных органах по исполнению должностных полномочий, направленная на реализацию задач и функций государственной в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сударственный служащий – гражданин РК, занимающийся в установленном законодательством порядке оплачиваемую из республиканского или местных бюджетов, либо из средств Национального банка РК должность в государственном органе и осуществляющий должностные полномочия в целях реализации задач и функций государ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госслужащих регламентируется законом РК «О государственной службе» принятым 23 июля 1999 года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ие в разработке и реализации государственных программ в области совершенствования и повышения эффективности государственной служб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предложений по совершенствованию нормативной правовой базы для осуществления деятельности государственной служб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и утверждение типовых квалификационных требований к категориям административных государственных долж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предложений по совершенствованию системы оплаты труда, социально-правовой защиты государственных служащ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лномоченный орган по делам государственной службы – государственный орган, непосредственно подчиненный и подотчетный Президенту РК, осуществляющий реализацию единой государственной политики в сфере государственной службы, на который возложены следующие полномоч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ь занятия: изучить и освоить современную Казахстанскую модель государственного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шие органы вла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ая служб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ное государственное управление и самоуправление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ные представительные органы – маслих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ают волю населения соответствующих административно- территориальных единиц и с учетом общегосударственных интере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т меры, необходимые для ее реализа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ют их осуществ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ведению маслихатов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ие планов, экономических и социальных программ развития территории, местного бюджета и отчетов об их исполне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отчетов руководителей местных исполнительных органов по вопросам, отнесенным законом к компетенции маслих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е постоянных комиссий и иных рабочих органов маслихата, заслушивание отчетов об их деятельности, решение иных вопросов, связанных с организацией работы маслих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стные исполнительные органы входят в единую систему исполнительных органов РК, обеспечивают проведение общегосударственной политики исполнительной власти в сочетании с интересами и потребностями развития соответствующей террит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едению местных исполнительных органов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ка планов, экономических и социальных программ развития территории, местного бюджета и обеспечение их исполн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равление коммунальной собственност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начение на должность и освобождение от должности руководителей местных исполнительных органов, решение иных вопросов, связанных с организацией работы местных исполнительных орган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ение в интересах местного государственного управления иных полномочий, возлагаемых на местные исполнительные органы законодательством Р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ация и деятельность местного самоуправления в Казахста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улируются законом  РК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 местном государственном управлении в Республике Казахстан» от 23 января 2001 года № 14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спублика Казахстан является унитарным государством с президентской формой правлени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569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зидент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спублики  Казахстан  является   главой   государства, его высшим должностным лицом, определяющим основные направления внутренней и внешней политики государства и представляющим Казахстан внутри страны и в международных отношениях, обеспечивает согласованное функционирование всех ветвей государственной власти и ответственность органов власти перед наро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идент Республики Казахстан избирается в соответствии с конституционным законом совершеннолетними гражданами Республики на основе всеобщего, равного и прямого избирательного права при тайном голосовании сроком на пять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3357720"/>
            <a:ext cx="82296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идент  Республики   Казахстан   вступает  в  должность  с   момента принесения народу  прися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 и то же лицо не может быть избрано Президентом Республики более двух раз подряд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оящее ограничение не распространяется на Первого Президента Республики Казахста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щается  ежегодным посланием к народу Казахстана о положении в стране и основных направлениях внутренней и внешней политики Республ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начает     очередные     и     внеочередные     выборы     в     Парламент Республики и его Палат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ывает первую сессию Парламента и принимае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сягу  его  депутатов  народу  Казахстана;  созывает  внеочередную  сессию Парлам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писывает представленный Сенатом Парламента закон в течение одного месяца, обнародует закон либо возвращает закон или отдельные его статьи для повторного обсуждения и голос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консультаций с фракциями политических партий, представленных в Мажилисе Парламента, вносит на рассмотрение Мажилиса для дачи согласия кандидатуру Премьер-министра Республики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зидент Республики Казахстан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зидент Республики Казахстан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согласия Мажилиса Парламента назначает   на   должность   Премьер-министра   Республики;   освобождает  его от должности;  по  представлению  Премьер-министра  определяет структуру Правительства Республики, образует, упраздняет и реорганизует центральные исполнительные органы  Республик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согласия Сената Парламента назначает на должности Председателя Национального   Банка,   Генерального   Прокурора   и   Председателя   Комитета национальной    безопасности    Республики    Казахстан;    освобождает   их    от долж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ует,     упраздняет     и     реорганизует     государственные     органы, непосредственно подчиненные и подотчетные Президенту Республики, назначает на должности и освобождает от должностей их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редставлению Премьер-министра Республики утверждает единую систему   финансирования   и   оплаты   труда   работников   для   всех   органов, содержащихся за счет государственного бюджета Республ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ламен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еспублики Казахстан является высшим представительны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ом Республики, осуществляющим законодательные функц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омочия Парламента начинаются с момента открытия его перво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ссии и заканчиваются с началом работы первой сессии Парламента нового созы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н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уют депутаты, представляющие в порядке, установленном конституционным   законом,   по   два   человека   от   каждой   области,   города республиканского   значения   и   столицы   Республики   Казахстан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ятнадцать депутатов Сената назначаются Президентом Республики с учетом необходимости обеспечения   представительства   в   Сенате  национально-культурных   и   иных значимых интересов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жил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оит   из   ста   семи   депутатов,   избираемых   в   порядке, установленном конституционным зако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путат Парламента не может быть одновременно членом обеих Пал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 полномочии  депутатов  Сената  -  шесть  лет,   срок  полномочий депутатов Мажилиса - пять лет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1:01:20Z</dcterms:created>
  <dc:creator>User</dc:creator>
  <dc:description/>
  <dc:language>en-US</dc:language>
  <cp:lastModifiedBy>User</cp:lastModifiedBy>
  <dcterms:modified xsi:type="dcterms:W3CDTF">2011-12-15T07:49:43Z</dcterms:modified>
  <cp:revision>6</cp:revision>
  <dc:subject/>
  <dc:title>Презентация PowerPoint</dc:title>
</cp:coreProperties>
</file>