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5F0F-1EE2-475A-A949-68F7FDF1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4C74-404F-489D-B984-7BDF3855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B4B6-4AF5-47C5-ACDB-62BA056B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00FA-4F54-4EE9-8B3C-F5045D0F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1682-FD83-4903-A0A9-E28D360F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A843-67F4-4288-802B-F8BD79D6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36D1-9980-4D62-84E5-EB537A44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978D-3F26-44B1-A6E9-D9001422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1054-D09A-45C9-8EB9-93707FAD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05A2-12A9-45AA-86C9-256434E8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F435-1B68-4825-8FB2-96D3A3F0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B1D-81AA-4E25-82C2-E3BDC599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3DB1-CE53-4BF2-9176-C1C7ABEE3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847280" cy="27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: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литическое управ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труктура и эффективность исполнительной власти зависят от формы прав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оответствии с ней формой правления классификация исполнительных органов может осуществляться по двум основаниям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зависимости от способа принятия решения —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ндивидуальны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оллектив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зависимости от порядка формирования и объема властных полномоч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—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еальны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церемониа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954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39640" y="260280"/>
          <a:ext cx="8229600" cy="6094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зидентская республи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ламентская республ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единого главы исполнительной вла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ховная исполнительная власть разделена между двумя должностными лиц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ремониальные и реальные функции практически всегда исполняются одним лицом — президен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зидент также является влиятельным главой исполнительной власти, который назначает премьер-министра и может распустить законодательное собрание и объявить новые выбор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ор членов кабинета обычно составляет прерогативу президент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 отбора членов кабинета носит совсем иной характер, поскольку кабинет должен пользоваться доверием парламентского большинства. Поэтому формирование кабинета зависит от результатов парламентских выборов и состава законодательного собран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а исполнительной власти в своих посланиях не только инициирует формирование политического курса, но и обладает последним словом в его формулировании, поскольку часто наделен правом вето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исполнительной власти меньше возможностей для реализации такого пра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ед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административны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ункций органов государственного управления выделяются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нение решени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служивани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гулировани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цензировани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бор информаци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креционная деятельнос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сперти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ичную функцию государственной администрации составляю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сполнение и проведение в жизн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нятых законов и политики, провозглашаемой исполнительной власть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и есть собственно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администрирование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зависит оно обычно от того, как будет проинтерпретировано бюрократией, а также от того, насколько активно и эффективно бюрократия будет реализовывать этот курс на практи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дебная система — самостоятельная ветвь власти, учрежденная в качестве альтернативы насилию с целью разрешения конфликтов, перманентно возникающих в обществе относительно законности решений и действий органов государственной вла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дебная власть создавалась в качестве гаранта демократических свобод путем предотвращения концентрации власти в государственных структура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ное назначение судебной власти —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тправление правосудия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существлении правосудия выражается функци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арант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ажданских прав и демократических свобод, реализуемая посредством института судебной защит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ды осуществляют и функцию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онтрол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дзо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осуществлением правовых предписа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дующее осмысление опыта двух успешных примеров представительной демократии (Великобритании и США) в тече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первой половин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. позволило сформулировать две чистые формы представительного демократического правительства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зидентскую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арламентскую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позж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мешанную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полупрезидентскую (Франция, Португал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зидентская система пра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ана на режим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жесткого разделения власте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предполагает наличие двух независимых друг от друга правительственных органов — исполнительного и законодательног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онодательная и исполнительная ветви власти самостоятельно избираются и санкционируются народом, имеют свой собственный источник легитим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ждая ветвь власти наделена особыми полномочиями в рамках конституции и избирается на определенный срок, причем ни одна из них не может с помощью обычных средств сместить другую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ламентский режим пра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ляет собой систему из двух взаимозависимых ветвей власти — исполнительной и законодательной, взаимодействующих на принцип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трудничест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таком устройстве непосредственно избирается только законодательная власть, тогда как кабинет (коллективное руководство исполнительной власти) вырастает из легислатуры. В кабинете председательствует премьер-министр (в Германии его именуют федеральным канцлером), который и отбирает министров кабинета. Важнейшим фактором, обусловливающим функционирование данной системы, являются отношени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довер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жду кабинетом и парламентским большинством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ешанный тип демократического правления (президентско-парламентский, или полупрезидентски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ан на принцип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двойной инвеститур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ительства. Такого рода смешанные системы совмещают в себе черты обоих «чистых» образцов: например, президент и законодательный орган избираются раздельно (как при президентской системе), но президент наделен властью распускать легислатуру (как при парламентской системе); кабинет назначается президентом (как при президентской системе), но парламент дает правом смещать его (как при парламентской системе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торой уровень структурной дифференциации правительственной власти в системе государственного управления связан с разделением политических ролей и функци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 вертика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жду ее различными уровнями —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центральны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естн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249228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о является территориальной организацией общества, целостность которого обеспечивается посредством либо централизации или децентрализации государственной вла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висимости от этого используются различные способы и приемы согласования общенациональных и региональных интерес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опираются на разные принципы политико-территориальной организации —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федерализм, унитаризм и федерализ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Цель занятия: изучить сущность политического управле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ительственные учреждения. Идеология вла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ституция – процедурные аспекты управл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онодательные органы в механизме государственного управл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итические исполнительные органы. Государственная администрация. Судебная вла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ципы политико-территориальной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более неэффективную модель согласования интересов и формулирования политического курса представляет собой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нфедерац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объединение суверенных государств, созданное для решения какой-то актуальной задачи. Даже учреждение конфедерацией общих органов управления не позволяет оперативно принимать и реализовывать политические решения, поскольку они не являются обязательными для стран — участниц сообщества и нуждаются в утверждении национальными парламентам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ьшинство государств мира 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нитарные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унитарных системах власть и полномочия сконцентрированы в руках центрального правительства. Региональные и местные единицы располагают только теми полномочиями, которые специально делегированы им центральным правительством. Центр вправе пересмотреть объем этих полномочий либо вообще отобрать их. При этом централизация власти и ресурсов позволяет унитарным правительствам адресно в случае необходимости перераспределять ресурсы из богатых регионов в более бедны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Федерациям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годня являются только 25 государств, что составляет менее 10% от их общего числа. федерации, как правило, учреждаются в крупных государствах, где существует неоднородность интересов, которые нуждаются в согласовании и реализации. Центральные и региональные единицы обладают автономией в определенных областях государственной политики, но распределение сфер компетенции и объема полномочий между центром и регионами там далеко не одинаков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процесс выработки политического курса вовлечены различные субъек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еди них выделяются политические партии, группы интересов, общественные организации и три типа правительственных институтов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онодательные собрания (ассамблеи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выборные или назначаемые исполнительные орган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 публичная администрация (высшие слои бюрократии)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нтральную роль в выработке политического курса играю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равительственные учреж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данное понятие включаются органы государственной вла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законодательная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ует политический курс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сполнительна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проводит и претворяет его в жизн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удебна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контролирует процесс его исполнения и выносит решения по возникающим в связи с этим спорам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литическое управл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процесс формулирования общезначимых целей и задач, а также принятия властных решений, направленных на их достижение, должен  осуществляться по определенным правилам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бор основополагающих правил, которые определяют порядок принятия решений и распределения власти в механизме государства, структуру высших органов власти, объем их полномочий и режим взаимодействия, содержится в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онститу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а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онституции прописаны фундаментальные процедурные аспекты управления. Все писаные конституции предусматривают возможность внесени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онституционных поправок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нные правила предоставляют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сполнительны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ам власти возможность выступать с предложениями относительно политического курса, других (в основном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аконодательн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рания) наделяют правом вносить в них поправки, отклонять или санкционировать их, принимать окончательное решение, третьих (бюрократию) — воплощать его, а судам — следить за его исполнением и применять судебные санкции в случае его наруш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амках каждого конкретного правительственного учреждения или другого политического института действуют многочисленные правила, которые существенно влияют на процесс выработки политического курса. Самыми важными из них являю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авила голосования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и основных функций, которые присущи законодательным органам во всех демократических системах, можно выделить следующие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тавительная функ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олицетворяет изначальную и непосредственную связь с народом и является законным органом для выражения воли наро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нкция законотворче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означает разработку, обсуждение и принятие общеобязательных правил поведения (законов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итическая функ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законодательный орган — коллективный орган для принятия решений. Большинство важнейших политических решений и действий, прежде чем обретут силу закона, должны быть рассмотрены и хотя бы формально одобрены этими орган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ьная функ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законодательные органы обычно контролируют решения правительства в различных сфера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дебные и учредительные полномоч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некоторые законодательные органы наделены важными полномочиями в сфере правительственных назначений, а часть из них выступает в качестве апелляционного суда, как, например, британская Палата лордов в уголовных дел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нкция рекрутации элит и политической социализ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Законодательные органы нередко играют ведущую роль в рекрутации (отбора) элиты, прежде всего в парламентских системах, где премьер-министр и министры кабинета обычно проходят через школу парламентской деятель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деляют три типа законодательных органов с точки зрения их участия в разработке политического кур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арламент-арен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ом может служить британский парла­мент, представляющий собой форум, на котором правительство демонстрирует свою власть. Парламент не использует властных функций  непосредственно,   поскольку контролируется  правительством, он выступает ареной, на которой обнародуются и отрабатываются различные политические ре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арламент-преобразователь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гресс США обладает и активно использует свои властные полномочия. Он играет весьма активную роль в трансформации идей и предложений в государственную политику, в формулировании и введении в силу закон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арламент-легитимизатор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нкции Всекитайского собрания народных представителей (КНР), которое редко собирается, в основном сводятся к тому, чтобы заслушивать заявления партийных лидеров и легитимировать решения, принятые ЦК КП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овременных государствах исполнительная власть представляет собой самую мощную и наиболее разветвленную отрасль управл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а включает широкий спектр органов исполнительной власти, построенных иерархически. На вершине исполнительной ветви находится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авительство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да, как правило, входит небольшое число высших руководителей и должностных лиц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1:01:20Z</dcterms:created>
  <dc:creator>User</dc:creator>
  <dc:description/>
  <dc:language>en-US</dc:language>
  <cp:lastModifiedBy>User</cp:lastModifiedBy>
  <dcterms:modified xsi:type="dcterms:W3CDTF">2011-12-15T08:12:29Z</dcterms:modified>
  <cp:revision>7</cp:revision>
  <dc:subject/>
  <dc:title>Презентация PowerPoint</dc:title>
</cp:coreProperties>
</file>