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196-29D2-4EA9-B22E-4147B280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81E-028A-4A6A-9205-4AC344B9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2D9-D7D5-4CB5-A885-B8E3D57E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344-E1B4-48CB-B144-1600DA08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808F-89F8-4A67-99FD-B307FD94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4622-557A-4BCB-8377-E1525943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BD11-9845-4F85-952E-6E36412A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0E4E-9327-4FEC-9CA1-5C27D3B0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F0C6-BEE2-4329-9655-2029E51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BF02-281D-4305-AAE6-B1A73790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5CFE-64E2-4F81-A2D6-6B6D5E9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548-F757-4B54-86EE-ABF5B4DF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5CA2-0ABF-49A9-A456-018C5B6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3B73-85A2-4EC9-A1DE-C67920D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E187-D23E-4E6E-99E8-ADE3DCB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D77-49A6-466A-ABDD-C6DC798F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D995-2993-4C36-9741-E1A81F2E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39E8-540F-4870-8B52-88C0F732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F170-B893-4108-9EA2-F9F11DA4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E138-19FC-4097-B146-FB886D8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4E9D-724A-4EAC-899C-06B5D5A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FAD6-BDB7-4349-8AF8-6E310CB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1E7-7692-4695-9464-457EBF71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FE36-7905-4239-AC31-E0A9CFC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80D5-DAAC-4819-A0D9-BC7096E4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C8DA-5BFD-4024-9FA6-4722FD4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DE7F-857E-4428-9CD1-03637C5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B78B-BE97-474A-8F58-117B497D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9396-BC08-4E3F-80DD-9AF155A9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EC13-A220-41E9-A294-8FBE7D70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079B-A8E8-42D7-BB09-F384788A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9717-3836-40BD-B0F8-6E8F59D9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AD3B-6E17-4836-A6D2-A5985835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3AA-76DE-4F7C-9012-FC6CB86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59F1-0C5C-4B0E-B333-FF9E59AE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2A37-792B-4531-AFE0-839ED1F8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8ABC-7CC6-47EF-9890-F29673B7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DAFF-B0D0-4784-ABB5-62AB161C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9F2F-E1CC-47C8-BE49-7078049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2F20-27D7-4A50-AD70-484C1D87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1EE4-0547-4A82-9628-DCA6F424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DF0F-BF2F-41E6-9200-6DACA6AE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A712-C665-4A30-887D-1B555212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F09-8415-49D3-BD23-81F01B43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014-A4D1-445F-ACD2-F66F3112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F05-9912-4FE0-B6C4-69BC27E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970-49C7-414C-BF1A-7FDC0CC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BEB-15BC-4668-9AC4-43CFE57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F797-5066-41D7-ACCC-08A4212874D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8BF-BB3A-4129-94AC-6DC311A2F5C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BA5C-FE0E-4922-81DB-A6BB32C3959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527F-8380-45DB-A704-EAD5282D077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1262160"/>
            <a:ext cx="833940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extBox 1" descr=""/>
          <p:cNvPicPr/>
          <p:nvPr/>
        </p:nvPicPr>
        <p:blipFill>
          <a:blip r:embed="rId1"/>
          <a:stretch/>
        </p:blipFill>
        <p:spPr>
          <a:xfrm>
            <a:off x="658800" y="944640"/>
            <a:ext cx="765000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extBox 3" descr=""/>
          <p:cNvPicPr/>
          <p:nvPr/>
        </p:nvPicPr>
        <p:blipFill>
          <a:blip r:embed="rId1"/>
          <a:stretch/>
        </p:blipFill>
        <p:spPr>
          <a:xfrm>
            <a:off x="755640" y="268200"/>
            <a:ext cx="7486560" cy="180972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 5" descr=""/>
          <p:cNvPicPr/>
          <p:nvPr/>
        </p:nvPicPr>
        <p:blipFill>
          <a:blip r:embed="rId2"/>
          <a:stretch/>
        </p:blipFill>
        <p:spPr>
          <a:xfrm>
            <a:off x="665280" y="2359080"/>
            <a:ext cx="810720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extBox 3" descr=""/>
          <p:cNvPicPr/>
          <p:nvPr/>
        </p:nvPicPr>
        <p:blipFill>
          <a:blip r:embed="rId1"/>
          <a:stretch/>
        </p:blipFill>
        <p:spPr>
          <a:xfrm>
            <a:off x="128520" y="1378080"/>
            <a:ext cx="8766360" cy="104760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 4" descr=""/>
          <p:cNvPicPr/>
          <p:nvPr/>
        </p:nvPicPr>
        <p:blipFill>
          <a:blip r:embed="rId2"/>
          <a:stretch/>
        </p:blipFill>
        <p:spPr>
          <a:xfrm>
            <a:off x="2541600" y="2382840"/>
            <a:ext cx="484020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 3" descr=""/>
          <p:cNvPicPr/>
          <p:nvPr/>
        </p:nvPicPr>
        <p:blipFill>
          <a:blip r:embed="rId1"/>
          <a:stretch/>
        </p:blipFill>
        <p:spPr>
          <a:xfrm>
            <a:off x="738360" y="334800"/>
            <a:ext cx="2754000" cy="92088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4" descr=""/>
          <p:cNvPicPr/>
          <p:nvPr/>
        </p:nvPicPr>
        <p:blipFill>
          <a:blip r:embed="rId2"/>
          <a:stretch/>
        </p:blipFill>
        <p:spPr>
          <a:xfrm>
            <a:off x="689040" y="1511280"/>
            <a:ext cx="7845480" cy="364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extBox 3" descr=""/>
          <p:cNvPicPr/>
          <p:nvPr/>
        </p:nvPicPr>
        <p:blipFill>
          <a:blip r:embed="rId1"/>
          <a:stretch/>
        </p:blipFill>
        <p:spPr>
          <a:xfrm>
            <a:off x="304920" y="865080"/>
            <a:ext cx="83883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4" descr=""/>
          <p:cNvPicPr/>
          <p:nvPr/>
        </p:nvPicPr>
        <p:blipFill>
          <a:blip r:embed="rId1"/>
          <a:stretch/>
        </p:blipFill>
        <p:spPr>
          <a:xfrm>
            <a:off x="487440" y="669960"/>
            <a:ext cx="8265960" cy="1512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324000" y="24526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Басқарушылық 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1763640" y="33638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Қалыпты даму 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3348000" y="26398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Адекваттық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489560" y="33638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Қызмет толылығы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3348000" y="4094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Өдігінен даму-өрістеу 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179280" y="41860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Анықтық 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6804000" y="418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Тиімділік 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6157800" y="24526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 Narrow"/>
              </a:rPr>
              <a:t>Құқықтық ілестірудің адекваттық принципі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324000" y="2173320"/>
            <a:ext cx="1800000" cy="101592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3311640" y="2530440"/>
            <a:ext cx="1728720" cy="94284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Овал 15"/>
          <p:cNvSpPr/>
          <p:nvPr/>
        </p:nvSpPr>
        <p:spPr>
          <a:xfrm>
            <a:off x="1790640" y="3191040"/>
            <a:ext cx="1728720" cy="94284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Овал 16"/>
          <p:cNvSpPr/>
          <p:nvPr/>
        </p:nvSpPr>
        <p:spPr>
          <a:xfrm>
            <a:off x="4778280" y="3137040"/>
            <a:ext cx="2016360" cy="98424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Овал 18"/>
          <p:cNvSpPr/>
          <p:nvPr/>
        </p:nvSpPr>
        <p:spPr>
          <a:xfrm>
            <a:off x="155520" y="4024440"/>
            <a:ext cx="2087640" cy="94284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Овал 19"/>
          <p:cNvSpPr/>
          <p:nvPr/>
        </p:nvSpPr>
        <p:spPr>
          <a:xfrm>
            <a:off x="6157800" y="2208240"/>
            <a:ext cx="2689200" cy="115560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Овал 20"/>
          <p:cNvSpPr/>
          <p:nvPr/>
        </p:nvSpPr>
        <p:spPr>
          <a:xfrm>
            <a:off x="3276720" y="4005360"/>
            <a:ext cx="1942920" cy="107928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Овал 21"/>
          <p:cNvSpPr/>
          <p:nvPr/>
        </p:nvSpPr>
        <p:spPr>
          <a:xfrm>
            <a:off x="6831000" y="3895560"/>
            <a:ext cx="1917720" cy="1071720"/>
          </a:xfrm>
          <a:prstGeom prst="ellipse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3" descr=""/>
          <p:cNvPicPr/>
          <p:nvPr/>
        </p:nvPicPr>
        <p:blipFill>
          <a:blip r:embed="rId1"/>
          <a:stretch/>
        </p:blipFill>
        <p:spPr>
          <a:xfrm>
            <a:off x="1474920" y="378000"/>
            <a:ext cx="5973480" cy="890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684360" y="1628640"/>
            <a:ext cx="720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TextBox 1" descr=""/>
          <p:cNvPicPr/>
          <p:nvPr/>
        </p:nvPicPr>
        <p:blipFill>
          <a:blip r:embed="rId2"/>
          <a:stretch/>
        </p:blipFill>
        <p:spPr>
          <a:xfrm>
            <a:off x="512640" y="1359000"/>
            <a:ext cx="829008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extBox 3" descr=""/>
          <p:cNvPicPr/>
          <p:nvPr/>
        </p:nvPicPr>
        <p:blipFill>
          <a:blip r:embed="rId1"/>
          <a:stretch/>
        </p:blipFill>
        <p:spPr>
          <a:xfrm>
            <a:off x="542880" y="993600"/>
            <a:ext cx="7747200" cy="32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хема 3" descr=""/>
          <p:cNvPicPr/>
          <p:nvPr/>
        </p:nvPicPr>
        <p:blipFill>
          <a:blip r:embed="rId1"/>
          <a:stretch/>
        </p:blipFill>
        <p:spPr>
          <a:xfrm>
            <a:off x="274680" y="237960"/>
            <a:ext cx="8448480" cy="607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Прямоугольник 3" descr=""/>
          <p:cNvPicPr/>
          <p:nvPr/>
        </p:nvPicPr>
        <p:blipFill>
          <a:blip r:embed="rId1"/>
          <a:stretch/>
        </p:blipFill>
        <p:spPr>
          <a:xfrm>
            <a:off x="1474920" y="378000"/>
            <a:ext cx="5973480" cy="89028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 4" descr=""/>
          <p:cNvPicPr/>
          <p:nvPr/>
        </p:nvPicPr>
        <p:blipFill>
          <a:blip r:embed="rId2"/>
          <a:stretch/>
        </p:blipFill>
        <p:spPr>
          <a:xfrm>
            <a:off x="755640" y="1494000"/>
            <a:ext cx="7937640" cy="267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Box 3" descr=""/>
          <p:cNvPicPr/>
          <p:nvPr/>
        </p:nvPicPr>
        <p:blipFill>
          <a:blip r:embed="rId1"/>
          <a:stretch/>
        </p:blipFill>
        <p:spPr>
          <a:xfrm>
            <a:off x="311040" y="762120"/>
            <a:ext cx="8508960" cy="419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25T18:59:24Z</dcterms:modified>
  <cp:revision>15</cp:revision>
  <dc:subject/>
  <dc:title>Презентация PowerPoint</dc:title>
</cp:coreProperties>
</file>