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B79-0F4B-44A1-916B-86888D3F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129-659F-4371-A5DE-BC55A6B5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F049-ECDC-4CAE-B318-8D891BE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6BBD1-7C1E-4CAB-A8EF-C338AD78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82095-8985-404A-8E9C-070F59F3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172C6-54DB-4B6F-A189-7A73F1B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4CF60-E936-4D36-A24E-A61639A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158C-9D69-468F-9FC3-7EA733D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D6EE7-3AF7-409B-81B2-43FDEC9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7356-D52D-4828-96CB-91C51AB0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C55B8-57EF-438A-ABA0-01DE29DC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FC6-5E8B-47B4-9557-3E3E4751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5E5-7D04-445A-A5D6-868AE22A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6E5-8F9F-4931-AC1D-114D4105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5AE8-D1F7-4042-8865-9D0E9D32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461-BA16-4997-9B1B-CF984E6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43A-4835-4A84-8CBA-3316A525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469-4D55-4B33-A898-0B9BA67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FB05-E9F0-4CEC-A68E-B01F080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31D9-C1CD-421D-80ED-A147346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762-685A-4841-972C-10F03FA7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DE93-D3E8-4FBA-B8A1-2C891C2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DF3C-AB9B-4BCF-B220-3915A69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9A1-B0F5-4E7A-AF0B-8366C98D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3199-796F-4AE3-A30D-C06EBB51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CD3-A568-4500-8DD8-336CC82C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905E-B766-4934-96B5-2322E4E7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E895-72C4-4F5B-8CB9-60D3B20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5C06-61DC-4863-AE74-C19EBBAA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5D60-0DF2-4DBE-A02B-78BED17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B6C0-A587-4804-8910-C48D9F7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CCB-95E6-49B2-84A5-05607C6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018A-5BA4-4C79-ADA7-DEA5D5A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0CBD-1D4F-4AB6-8F1F-19877B0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1483-256F-42BF-9285-39DCD4D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7BC7-91EB-49AA-AE7B-4B9D193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6BEB-B192-41EF-AF6C-E2327F17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1121-F70D-4F98-84F8-0775F0B1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76E4-D41F-4418-B0F8-10FFC1BB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C9A8-A4F4-4D2A-99D8-6B017846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F1B3-8EB1-44BA-BB16-FF9A2432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CE56-7C56-44E2-AC1C-EEB96D9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0E3-3ADF-4F4F-BA35-7889780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3A98-314B-4E00-9EEE-42B011A2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9FCD-45B7-40C5-8A56-8FB17FE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B031-C8BC-46FC-AB86-64B47676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063C-C0C9-4CD0-BDC1-5333690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F496B-DCD0-4231-8E3F-32A4B07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D911-BC83-47FE-85AA-4C41F6F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0F84-7017-453A-B3DC-44AD8513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AFEA-2CA0-4D67-A9B4-3B2433CD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FC7D-B016-4542-9EFE-071FD79C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560A7-8E62-49B6-AEE7-29AED6B4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268-B2B9-4EFE-AB57-A939BE3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2D8E-611A-441E-8E3F-D6C4E4B3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521E-BEC2-4502-97D3-3E590A9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14915-6887-480F-AD6F-F2700F4D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42F1-4906-455C-A538-227A994E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09CB-231A-44B0-853A-7889129E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F81D-3711-4CAE-8132-BCDA9223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43B6D-F2B9-4482-AA27-3B4274C6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DA90-96AE-47A2-9E40-93D8AAE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39461-5755-48B6-96E1-2F324C8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4F2E8-D1C4-4457-88CE-1C8F322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B89-A6C5-4DCE-8880-2FD3D12F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80F79-5BC7-4F8E-B883-E12A512C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8C2A-B85B-43C3-B889-E443A96C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06D0-2FA3-44DA-BCAA-137EBA56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A29B3-A918-408A-B095-80FD65CF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2875-1CBA-4A38-B243-A5B86C1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3364-9FEF-4F88-8A55-360303EA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16149-54A4-42A4-BB83-7E30645C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529DC-5DD5-444D-815D-BCBD7C3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E896-875A-4C7A-AE3D-7BBF2B5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66680-3A76-4E7D-B47C-BD6453F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E10-A1EC-4796-A65A-9F534143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ED932-CB0D-4A22-9636-7BB5E82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CC44-AA7C-46D4-8993-C205C2EF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C062F-91AF-49A0-AAF0-ED06CB31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2EBC5-076F-4E34-9417-A7AC2975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F502-F9F2-4618-AB39-573F5A20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1D90-F41D-4140-8FA9-729E448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7B7B-AFE8-470E-B144-1AFB883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9476C-1F8D-4997-B2DB-FA8E562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7304-C2F5-4301-8848-EC0D3ABA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D2EB-F475-4868-A790-CAA8DC0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5A9-6016-4D73-86F1-FEAC29D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90B5F-C62E-470F-BFF9-59ABCAB6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4122-250B-46BB-8CEF-DE9FA3C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95C0-04D6-40F4-95AE-71910E91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678E0-F755-4DCC-9A4D-C478FEC9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50203-7DB5-4781-97DA-DFCA3AA8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CB4E7-DED2-45D9-907B-E9833474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BB145-2CB1-4C9F-B38B-394733BC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A44F5-51AF-4A35-9CE1-A627A5D8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77AE6-E8F8-4A26-A904-38CAF04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7C78C-1A4F-4592-AFE6-49724F20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28E-AC3C-4EE7-9DE1-65C57C44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2775-57AE-4BFD-BA08-DB43D4BF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F003E-2970-40B2-8374-F777FEC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C3123-40FF-4488-ADCD-FA4033D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A1FF-4A0D-4104-B152-58572CA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FBAEB-A51F-490B-BA61-AD79D367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4AFA-EFA4-40DE-A33C-5C2D6745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AB360-D0EF-45C9-8EA3-4A8F766B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0AE27-3113-469B-806A-0DEA7A41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04D66-ADD6-4E4C-96D8-C39A03F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80F09-FEA5-4C77-B74F-5609189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5D96-9F03-4787-B22B-F55D22AB76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3519-0097-4301-9CDC-643D9E35DF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A160-8903-4BFB-A772-FB572F90BE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3E4-E30B-46F3-8969-0F61EAA1A4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96C-46D6-4EB8-BD79-83EED7F018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5E4F-27C0-4C90-B422-A254F111BE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C348-CD94-4B3B-8829-B451658BF9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1C5B-BC7E-4883-8D86-07EB0007A4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DE4A-8B91-4B57-9988-04C54E2FD8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d13b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6" descr=""/>
          <p:cNvPicPr/>
          <p:nvPr/>
        </p:nvPicPr>
        <p:blipFill>
          <a:blip r:embed="rId1"/>
          <a:stretch/>
        </p:blipFill>
        <p:spPr>
          <a:xfrm>
            <a:off x="317520" y="762120"/>
            <a:ext cx="843588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Полотно 80"/>
          <p:cNvGrpSpPr/>
          <p:nvPr/>
        </p:nvGrpSpPr>
        <p:grpSpPr>
          <a:xfrm>
            <a:off x="285840" y="285840"/>
            <a:ext cx="8429400" cy="5929200"/>
            <a:chOff x="285840" y="285840"/>
            <a:chExt cx="8429400" cy="5929200"/>
          </a:xfrm>
        </p:grpSpPr>
        <p:sp>
          <p:nvSpPr>
            <p:cNvPr id="457" name="AutoShape 14"/>
            <p:cNvSpPr/>
            <p:nvPr/>
          </p:nvSpPr>
          <p:spPr>
            <a:xfrm>
              <a:off x="285840" y="285840"/>
              <a:ext cx="8429400" cy="59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4"/>
            <p:cNvSpPr/>
            <p:nvPr/>
          </p:nvSpPr>
          <p:spPr>
            <a:xfrm>
              <a:off x="3500280" y="285840"/>
              <a:ext cx="1857240" cy="64044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нктер, сақтандыру , компаниялары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5"/>
            <p:cNvSpPr/>
            <p:nvPr/>
          </p:nvSpPr>
          <p:spPr>
            <a:xfrm>
              <a:off x="5958360" y="1887480"/>
              <a:ext cx="2191320" cy="146628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қша каражатын тұтынушылар (фирмалар, компаниялар, үкімет, жеке тұғалар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6"/>
            <p:cNvSpPr/>
            <p:nvPr/>
          </p:nvSpPr>
          <p:spPr>
            <a:xfrm>
              <a:off x="3476160" y="3811680"/>
              <a:ext cx="2044440" cy="224244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ысқа мерзімді қаржы нарығы (ақша нарығы), ұзақ мерзімді капитал нарығы (бағалы қағаздар нарығы, облигациялар, акциялар)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 flipH="1">
              <a:off x="2892600" y="926280"/>
              <a:ext cx="160488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>
              <a:off x="4497840" y="926280"/>
              <a:ext cx="146016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9"/>
            <p:cNvSpPr/>
            <p:nvPr/>
          </p:nvSpPr>
          <p:spPr>
            <a:xfrm>
              <a:off x="2892600" y="2368440"/>
              <a:ext cx="1605960" cy="14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4498920" y="2368080"/>
              <a:ext cx="1459080" cy="14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11"/>
            <p:cNvSpPr/>
            <p:nvPr/>
          </p:nvSpPr>
          <p:spPr>
            <a:xfrm>
              <a:off x="1011960" y="371520"/>
              <a:ext cx="2190240" cy="9612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позиттер мен және басқа жолмен берілген ақша қаражатта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2"/>
            <p:cNvSpPr/>
            <p:nvPr/>
          </p:nvSpPr>
          <p:spPr>
            <a:xfrm>
              <a:off x="5666760" y="445320"/>
              <a:ext cx="2628720" cy="128196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ймдар, жеке тұлғалардың салымдары және басқа шарттармен берілген ақша қаражатта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13"/>
            <p:cNvSpPr/>
            <p:nvPr/>
          </p:nvSpPr>
          <p:spPr>
            <a:xfrm>
              <a:off x="848160" y="3650400"/>
              <a:ext cx="2482920" cy="163872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ура инвестициялау, акциялар, облигациялар  және басқа қаржы құралдарын сату арқылы берілген ақша қаражатта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14"/>
            <p:cNvSpPr/>
            <p:nvPr/>
          </p:nvSpPr>
          <p:spPr>
            <a:xfrm>
              <a:off x="5812560" y="3650400"/>
              <a:ext cx="2483280" cy="144324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цияларды сату және басқа қаржы құралдарын нарықты сату арқылы тартылған  ақша қаражатта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5"/>
            <p:cNvSpPr/>
            <p:nvPr/>
          </p:nvSpPr>
          <p:spPr>
            <a:xfrm>
              <a:off x="848160" y="1690920"/>
              <a:ext cx="2044440" cy="160308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қша қаражатын тапсырушылар (фирмалар, компаниялар, үкімет, жеке тұғалар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Text Box 7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180280" cy="178596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8"/>
          <p:cNvSpPr/>
          <p:nvPr/>
        </p:nvSpPr>
        <p:spPr>
          <a:xfrm>
            <a:off x="468360" y="2852640"/>
            <a:ext cx="8136000" cy="255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тің аты және орналасқан жері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анк жүргізетін операциялардың тізімі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жарғылық қор мөлшері және банк ашатын басқа қорлардың тізімі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анктің басқару органдары туралы негізгі тұжырымдар, бақылаушы органдары, олардың құрылымы, құрылу тәртібі және қызметтері тур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банкті жабу тәртібі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9"/>
          <p:cNvSpPr/>
          <p:nvPr/>
        </p:nvSpPr>
        <p:spPr>
          <a:xfrm>
            <a:off x="2340000" y="1844640"/>
            <a:ext cx="4464000" cy="100800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1357200" y="214200"/>
            <a:ext cx="7500960" cy="5943240"/>
          </a:xfrm>
          <a:prstGeom prst="rect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d6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</a:rPr>
              <a:t>Мақсат</a:t>
            </a:r>
            <a:r>
              <a:rPr b="1" lang="kk-KZ" sz="4800" spc="-1" strike="noStrike">
                <a:solidFill>
                  <a:srgbClr val="ff0066"/>
                </a:solidFill>
                <a:latin typeface="Times New Roman"/>
              </a:rPr>
              <a:t>: ҚР банк жүйесімен, оның экономикадағы рөлімен, банк типтерімен оның қызметін ұйымдастырудың негізгі принциптерімен   таныстыру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kk-KZ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ee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5"/>
          <p:cNvSpPr/>
          <p:nvPr/>
        </p:nvSpPr>
        <p:spPr>
          <a:xfrm>
            <a:off x="2484360" y="5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Жоспар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395280" y="1700280"/>
            <a:ext cx="8569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cc"/>
                </a:solidFill>
                <a:latin typeface="Times New Roman"/>
              </a:rPr>
              <a:t>Банк және банк  жүйесі туралы ұғ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cc"/>
                </a:solidFill>
                <a:latin typeface="Times New Roman"/>
              </a:rPr>
              <a:t>Банк жүйесінің экономикадағы  қызмет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cc"/>
                </a:solidFill>
                <a:latin typeface="Times New Roman"/>
              </a:rPr>
              <a:t>Банк түрлері, оладың ерекшеліктері, жарғылық  және т.б. қорла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357120" y="357120"/>
            <a:ext cx="8535960" cy="5240520"/>
          </a:xfrm>
          <a:prstGeom prst="foldedCorner">
            <a:avLst>
              <a:gd name="adj" fmla="val 2994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d13b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6"/>
          <p:cNvSpPr/>
          <p:nvPr/>
        </p:nvSpPr>
        <p:spPr>
          <a:xfrm>
            <a:off x="1143000" y="714240"/>
            <a:ext cx="60008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kk-KZ" sz="2800" spc="-1" strike="noStrike">
                <a:solidFill>
                  <a:srgbClr val="0d5a50"/>
                </a:solidFill>
                <a:latin typeface="Times New Roman"/>
              </a:rPr>
              <a:t> Банк жүйесі кредит жүйесінің негізгі буыны, нарықтық экономиканың маңызды құрамдық бөліг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d5a5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d5a50"/>
                </a:solidFill>
                <a:latin typeface="Times New Roman"/>
              </a:rPr>
              <a:t>Банк жүйесі арқылы экономиканың барлық салалары қаржы ресурстарымен қамтамасыз етіледі, өндірістің қарқынды өсуіне жағдай туғызыла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ext Box 15" descr=""/>
          <p:cNvPicPr/>
          <p:nvPr/>
        </p:nvPicPr>
        <p:blipFill>
          <a:blip r:embed="rId1"/>
          <a:stretch/>
        </p:blipFill>
        <p:spPr>
          <a:xfrm>
            <a:off x="895320" y="725400"/>
            <a:ext cx="7645320" cy="19321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17"/>
          <p:cNvSpPr/>
          <p:nvPr/>
        </p:nvSpPr>
        <p:spPr>
          <a:xfrm>
            <a:off x="684360" y="692280"/>
            <a:ext cx="8135640" cy="1368360"/>
          </a:xfrm>
          <a:prstGeom prst="flowChartAlternateProcess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18"/>
          <p:cNvSpPr/>
          <p:nvPr/>
        </p:nvSpPr>
        <p:spPr>
          <a:xfrm>
            <a:off x="285840" y="3286080"/>
            <a:ext cx="2571840" cy="221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Бос ақш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қаражаттары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шоғырландырып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оны өзіне еме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Экономикадағ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басқа субъектілерг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қайтад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бөлу қызметі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9"/>
          <p:cNvSpPr/>
          <p:nvPr/>
        </p:nvSpPr>
        <p:spPr>
          <a:xfrm>
            <a:off x="3071880" y="3286080"/>
            <a:ext cx="2928960" cy="25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Ақша айналымы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реттеу функциясы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яғни банк арқылы 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кономикада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қаржылық есеп – айрысу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ақша айналы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капитал қозғалыс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Times New Roman"/>
              </a:rPr>
              <a:t>жүргізіледі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20"/>
          <p:cNvSpPr/>
          <p:nvPr/>
        </p:nvSpPr>
        <p:spPr>
          <a:xfrm>
            <a:off x="6227640" y="3284640"/>
            <a:ext cx="2559240" cy="221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лдалды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ызмет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ұл қызмет тек қа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өлем жүргізудег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лдалдық емес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1"/>
          <p:cNvSpPr/>
          <p:nvPr/>
        </p:nvSpPr>
        <p:spPr>
          <a:xfrm flipH="1">
            <a:off x="1692000" y="2060640"/>
            <a:ext cx="287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2"/>
          <p:cNvSpPr/>
          <p:nvPr/>
        </p:nvSpPr>
        <p:spPr>
          <a:xfrm>
            <a:off x="4572000" y="20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3"/>
          <p:cNvSpPr/>
          <p:nvPr/>
        </p:nvSpPr>
        <p:spPr>
          <a:xfrm>
            <a:off x="4572000" y="2060640"/>
            <a:ext cx="27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val 19"/>
          <p:cNvSpPr/>
          <p:nvPr/>
        </p:nvSpPr>
        <p:spPr>
          <a:xfrm>
            <a:off x="179280" y="2276640"/>
            <a:ext cx="3311640" cy="19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500040" y="2286000"/>
            <a:ext cx="27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«ҚР банктер  және банк қызметі туралы» заңында былайша жазылғ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4429080" y="714240"/>
            <a:ext cx="424836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00000"/>
                </a:solidFill>
                <a:latin typeface="Times New Roman"/>
              </a:rPr>
              <a:t>1. ҚР – да  екі деңгейлі банк жүйесі қызмет атқарады. Ұлттық банк –мемлекеттің Орталық банкі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4429080" y="3643200"/>
            <a:ext cx="4248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c00000"/>
                </a:solidFill>
                <a:latin typeface="Times New Roman"/>
              </a:rPr>
              <a:t>3. Шетелдік қатысушылары бар банкілерге: үштен бір акциялары а) ҚР резидент еместерінің, б) ҚР – ның резиденттер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4429080" y="5000760"/>
            <a:ext cx="424836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00000"/>
                </a:solidFill>
                <a:latin typeface="Times New Roman"/>
              </a:rPr>
              <a:t>4. Мемлекетаралық банк – халықаралық келісім – шарт негізінде құрылған бан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4429080" y="1857240"/>
            <a:ext cx="424836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00000"/>
                </a:solidFill>
                <a:latin typeface="Times New Roman"/>
              </a:rPr>
              <a:t>2.Айрықша мәртебесі бар Қазақстан даму банкісін қоспағанда барлық басқа банктер банк жүйесінің екінші деңгейін құрайды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27"/>
          <p:cNvSpPr/>
          <p:nvPr/>
        </p:nvSpPr>
        <p:spPr>
          <a:xfrm>
            <a:off x="3490920" y="3213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28"/>
          <p:cNvSpPr/>
          <p:nvPr/>
        </p:nvSpPr>
        <p:spPr>
          <a:xfrm flipV="1">
            <a:off x="3490920" y="1339560"/>
            <a:ext cx="936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9"/>
          <p:cNvSpPr/>
          <p:nvPr/>
        </p:nvSpPr>
        <p:spPr>
          <a:xfrm flipV="1">
            <a:off x="3490920" y="2276280"/>
            <a:ext cx="936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0"/>
          <p:cNvSpPr/>
          <p:nvPr/>
        </p:nvSpPr>
        <p:spPr>
          <a:xfrm>
            <a:off x="3490920" y="3213000"/>
            <a:ext cx="93672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071800" y="714240"/>
          <a:ext cx="6715080" cy="5437440"/>
        </p:xfrm>
        <a:graphic>
          <a:graphicData uri="http://schemas.openxmlformats.org/drawingml/2006/table">
            <a:tbl>
              <a:tblPr/>
              <a:tblGrid>
                <a:gridCol w="5543280"/>
                <a:gridCol w="1171800"/>
              </a:tblGrid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тер атау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лттық бан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лттық банктің аймақтық бөлімдер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інші деңгейдегі банктер, соның ішінде: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рциялық банктер, соның ішінде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тел капиталымен қатысуыме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млекеттік бан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т елдердің еншілес банкілер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тел банкілерінің өкілеттіктер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му банк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інші деңгейдегі банкілердің филиалда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птік кассалық бөлімд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лық ұйым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ке тұлғалардың депозиттерін сақтандыру қ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алық кредитті сақтандыру  ұйы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тік бю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Rectangle 1"/>
          <p:cNvSpPr/>
          <p:nvPr/>
        </p:nvSpPr>
        <p:spPr>
          <a:xfrm>
            <a:off x="571680" y="-60840"/>
            <a:ext cx="73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ҚР 01.01 2008 банк жүйесінің құрылымы төмендег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естеде көрсетілген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ffebfa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4"/>
          <p:cNvSpPr/>
          <p:nvPr/>
        </p:nvSpPr>
        <p:spPr>
          <a:xfrm>
            <a:off x="1071720" y="1000080"/>
            <a:ext cx="6786360" cy="2531160"/>
          </a:xfrm>
          <a:prstGeom prst="rect">
            <a:avLst/>
          </a:prstGeom>
          <a:solidFill>
            <a:srgbClr val="cc0066"/>
          </a:solidFill>
          <a:ln w="2844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ff00"/>
                </a:solidFill>
                <a:latin typeface="Times New Roman"/>
              </a:rPr>
              <a:t>2. Банк жүйесі – ақша нарығында жаңа талаптар мен міндеттемелерге келісім – шарт жасайтын нарық экономикасының ажырамас бөлігі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Oval 4" descr=""/>
          <p:cNvPicPr/>
          <p:nvPr/>
        </p:nvPicPr>
        <p:blipFill>
          <a:blip r:embed="rId2"/>
          <a:stretch/>
        </p:blipFill>
        <p:spPr>
          <a:xfrm>
            <a:off x="1432080" y="938160"/>
            <a:ext cx="6211800" cy="2658960"/>
          </a:xfrm>
          <a:prstGeom prst="rect">
            <a:avLst/>
          </a:prstGeom>
          <a:ln w="0">
            <a:noFill/>
          </a:ln>
        </p:spPr>
      </p:pic>
      <p:sp>
        <p:nvSpPr>
          <p:cNvPr id="445" name="Line 5"/>
          <p:cNvSpPr/>
          <p:nvPr/>
        </p:nvSpPr>
        <p:spPr>
          <a:xfrm>
            <a:off x="5857920" y="3214800"/>
            <a:ext cx="928800" cy="1000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Text Box 6" descr=""/>
          <p:cNvPicPr/>
          <p:nvPr/>
        </p:nvPicPr>
        <p:blipFill>
          <a:blip r:embed="rId3"/>
          <a:stretch/>
        </p:blipFill>
        <p:spPr>
          <a:xfrm>
            <a:off x="6066000" y="4164120"/>
            <a:ext cx="1955520" cy="809640"/>
          </a:xfrm>
          <a:prstGeom prst="rect">
            <a:avLst/>
          </a:prstGeom>
          <a:ln w="0">
            <a:noFill/>
          </a:ln>
        </p:spPr>
      </p:pic>
      <p:pic>
        <p:nvPicPr>
          <p:cNvPr id="447" name="Text Box 7" descr=""/>
          <p:cNvPicPr/>
          <p:nvPr/>
        </p:nvPicPr>
        <p:blipFill>
          <a:blip r:embed="rId4"/>
          <a:stretch/>
        </p:blipFill>
        <p:spPr>
          <a:xfrm>
            <a:off x="3749760" y="4492800"/>
            <a:ext cx="2638440" cy="841320"/>
          </a:xfrm>
          <a:prstGeom prst="rect">
            <a:avLst/>
          </a:prstGeom>
          <a:ln w="0">
            <a:noFill/>
          </a:ln>
        </p:spPr>
      </p:pic>
      <p:sp>
        <p:nvSpPr>
          <p:cNvPr id="448" name="Line 8"/>
          <p:cNvSpPr/>
          <p:nvPr/>
        </p:nvSpPr>
        <p:spPr>
          <a:xfrm>
            <a:off x="4786200" y="3357720"/>
            <a:ext cx="0" cy="1214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Text Box 9" descr=""/>
          <p:cNvPicPr/>
          <p:nvPr/>
        </p:nvPicPr>
        <p:blipFill>
          <a:blip r:embed="rId5"/>
          <a:stretch/>
        </p:blipFill>
        <p:spPr>
          <a:xfrm>
            <a:off x="1994040" y="4224240"/>
            <a:ext cx="1596960" cy="933480"/>
          </a:xfrm>
          <a:prstGeom prst="rect">
            <a:avLst/>
          </a:prstGeom>
          <a:ln w="0">
            <a:noFill/>
          </a:ln>
        </p:spPr>
      </p:pic>
      <p:sp>
        <p:nvSpPr>
          <p:cNvPr id="450" name="Line 10"/>
          <p:cNvSpPr/>
          <p:nvPr/>
        </p:nvSpPr>
        <p:spPr>
          <a:xfrm flipH="1">
            <a:off x="3000240" y="3214800"/>
            <a:ext cx="573120" cy="1143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Text Box 11" descr=""/>
          <p:cNvPicPr/>
          <p:nvPr/>
        </p:nvPicPr>
        <p:blipFill>
          <a:blip r:embed="rId6"/>
          <a:stretch/>
        </p:blipFill>
        <p:spPr>
          <a:xfrm>
            <a:off x="-109440" y="3876840"/>
            <a:ext cx="2925720" cy="811080"/>
          </a:xfrm>
          <a:prstGeom prst="rect">
            <a:avLst/>
          </a:prstGeom>
          <a:ln w="0">
            <a:noFill/>
          </a:ln>
        </p:spPr>
      </p:pic>
      <p:sp>
        <p:nvSpPr>
          <p:cNvPr id="452" name="Line 12"/>
          <p:cNvSpPr/>
          <p:nvPr/>
        </p:nvSpPr>
        <p:spPr>
          <a:xfrm flipH="1">
            <a:off x="1258920" y="2852640"/>
            <a:ext cx="936720" cy="1081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6929280" y="2928960"/>
            <a:ext cx="1071720" cy="857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Text Box 6" descr=""/>
          <p:cNvPicPr/>
          <p:nvPr/>
        </p:nvPicPr>
        <p:blipFill>
          <a:blip r:embed="rId7"/>
          <a:stretch/>
        </p:blipFill>
        <p:spPr>
          <a:xfrm>
            <a:off x="7132680" y="3664080"/>
            <a:ext cx="2071800" cy="81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85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385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385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385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8:43:22Z</dcterms:created>
  <dc:creator>User</dc:creator>
  <dc:description/>
  <dc:language>en-US</dc:language>
  <cp:lastModifiedBy>User</cp:lastModifiedBy>
  <dcterms:modified xsi:type="dcterms:W3CDTF">2012-01-24T03:45:25Z</dcterms:modified>
  <cp:revision>38</cp:revision>
  <dc:subject/>
  <dc:title>Слайд 1</dc:title>
</cp:coreProperties>
</file>