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D647-377C-4CBD-9B38-210F2BB0F6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D0EA-6865-4D5F-AEBA-66C88C47DC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12B-F64F-44BC-8A16-44B30B65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C7B-AED4-4B87-9556-872F2C98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468-0AE1-4A99-988F-E258AD95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BD8E-505F-447D-9E28-5D6A0D1D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D39E-CBFB-49DB-A651-C76AFCAD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17B1-3FDE-423C-B6D0-38CF0560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EB9E-7B59-4CF9-83F1-D4DF4181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008B-70E5-475B-8D1C-FDE7EF1A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A287-FC08-4D4B-A7BF-211AD26D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74C9-4FAB-4223-BA14-2A45DFE4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55CD-DC25-4299-8284-559CF40E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F68B-FD7A-48EB-8D27-3D9692BD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47EC-49D2-4B0D-BF2F-0C7734A6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C43F-3438-4BDE-9F0B-BBA64A98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A877-FCAB-4549-88F1-9D444BB8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CAFC-2FFB-46A8-BE87-F8BC4C6D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8A55-4E93-4835-9FED-FBCF92C7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A960-A62D-4286-8F8E-A8EED42E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EA2-367D-4E9E-89F1-CF6C1E40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56F5-FB35-40D8-8B1C-2B698689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8A92-A965-4D44-ACF4-9F7B891F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648D-1633-4D9F-B10D-EC679303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99A-0916-4188-B53C-FFC03B48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2FE5-06DC-444B-ADAB-8269E5AB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B88A-1AAA-4915-8943-5FB4C8FD2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0minfin2"/>
          <p:cNvPicPr/>
          <p:nvPr/>
        </p:nvPicPr>
        <p:blipFill>
          <a:blip r:embed="rId3"/>
          <a:stretch/>
        </p:blipFill>
        <p:spPr>
          <a:xfrm>
            <a:off x="7315200" y="103320"/>
            <a:ext cx="1676520" cy="12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0minfin2"/>
          <p:cNvPicPr/>
          <p:nvPr/>
        </p:nvPicPr>
        <p:blipFill>
          <a:blip r:embed="rId3"/>
          <a:stretch/>
        </p:blipFill>
        <p:spPr>
          <a:xfrm>
            <a:off x="2057400" y="3137040"/>
            <a:ext cx="990720" cy="749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6806-4C96-43B4-B469-9A777D5F8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9000" y="2666880"/>
            <a:ext cx="5410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пециальные налоговые режимы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с 1 января 2009 года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пециальные налоговые режимы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 Специальный налоговый режим для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субъектов малого  бизне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основе разового талона до 2011 год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основе патен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основе упрощенной декларации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   Специальный налоговый режим для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крестьянских или фермерских хозяйст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   Специальный налоговый режим для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юридических лиц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–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производителей сельскохозяйственной продукции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и сельских потребительских кооператив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пециальный налоговый режим для субъектов малого бизнеса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з перечня видов деятельности, на которые не распространяется СНР, исключены лицензируемые виды деятель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дополнение к действовавшим ограничениям по применению СНР,  введено положение, согласно которому  СНР также не вправе применять юридические лица, в которых доля участия других юридических лиц составляет более 25 %, а также юридические лица , у которых учредитель одновременно является учредителем другого юридического лица, применяющего СН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граничение по применению СНР в случае наличия иных обособленных структурных подразделений и объектов налогообложения в разных населенных пунктах не будет распространяться на налогоплательщиков, осуществляющих деятельность по сдаче в аренду имуще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пециальный налоговый режим на основе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атента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используют труд работников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уществляют деятельность в форме личного предпринимательства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ход не превышает   200 –кратного миним. размера заработной плат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числение патента: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%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т доход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лата в бюджет в виде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ндивид. под. налог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½ части стоимости патента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оциального налог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– ½ части стоимости патента за минусом социальных отчислен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962520" y="34290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809880" y="3429000"/>
            <a:ext cx="266724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371600" y="60199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говый период –календар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пециальный налоговый режим для субъектов малого бизнеса применяющий СНР на основе упрощенной декларации</a:t>
            </a:r>
            <a:br>
              <a:rPr sz="1800"/>
            </a:b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Organization Chart 10"/>
          <p:cNvGrpSpPr/>
          <p:nvPr/>
        </p:nvGrpSpPr>
        <p:grpSpPr>
          <a:xfrm>
            <a:off x="4876920" y="1600200"/>
            <a:ext cx="3428640" cy="3199320"/>
            <a:chOff x="4876920" y="1600200"/>
            <a:chExt cx="3428640" cy="3199320"/>
          </a:xfrm>
        </p:grpSpPr>
        <p:cxnSp>
          <p:nvCxnSpPr>
            <p:cNvPr id="103" name="_s1028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6732360" y="2737800"/>
              <a:ext cx="640440" cy="923400"/>
            </a:xfrm>
            <a:prstGeom prst="bentConnector3">
              <a:avLst>
                <a:gd name="adj1" fmla="val 177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29"/>
            <p:cNvCxnSpPr>
              <a:stCxn id="107" idx="0"/>
              <a:endCxn id="105" idx="2"/>
            </p:cNvCxnSpPr>
            <p:nvPr/>
          </p:nvCxnSpPr>
          <p:spPr>
            <a:xfrm flipH="1" flipV="1" rot="5400000">
              <a:off x="5809680" y="2737800"/>
              <a:ext cx="640440" cy="923760"/>
            </a:xfrm>
            <a:prstGeom prst="bentConnector3">
              <a:avLst>
                <a:gd name="adj1" fmla="val 177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030"/>
            <p:cNvSpPr/>
            <p:nvPr/>
          </p:nvSpPr>
          <p:spPr>
            <a:xfrm>
              <a:off x="5799960" y="1600200"/>
              <a:ext cx="1582560" cy="127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Юрид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лиц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1"/>
            <p:cNvSpPr/>
            <p:nvPr/>
          </p:nvSpPr>
          <p:spPr>
            <a:xfrm>
              <a:off x="4876920" y="3519720"/>
              <a:ext cx="1582560" cy="127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50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челове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2"/>
            <p:cNvSpPr/>
            <p:nvPr/>
          </p:nvSpPr>
          <p:spPr>
            <a:xfrm>
              <a:off x="6723000" y="3519720"/>
              <a:ext cx="1582560" cy="127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25 000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ысяч тенг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Organization Chart 20"/>
          <p:cNvGrpSpPr/>
          <p:nvPr/>
        </p:nvGrpSpPr>
        <p:grpSpPr>
          <a:xfrm>
            <a:off x="457200" y="1600200"/>
            <a:ext cx="3580920" cy="3276000"/>
            <a:chOff x="457200" y="1600200"/>
            <a:chExt cx="3580920" cy="3276000"/>
          </a:xfrm>
        </p:grpSpPr>
        <p:cxnSp>
          <p:nvCxnSpPr>
            <p:cNvPr id="109" name="_s1035"/>
            <p:cNvCxnSpPr>
              <a:stCxn id="110" idx="0"/>
              <a:endCxn id="111" idx="2"/>
            </p:cNvCxnSpPr>
            <p:nvPr/>
          </p:nvCxnSpPr>
          <p:spPr>
            <a:xfrm flipV="1" rot="16200000">
              <a:off x="2401560" y="2756160"/>
              <a:ext cx="655560" cy="964440"/>
            </a:xfrm>
            <a:prstGeom prst="bentConnector3">
              <a:avLst>
                <a:gd name="adj1" fmla="val 17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36"/>
            <p:cNvCxnSpPr>
              <a:stCxn id="113" idx="0"/>
              <a:endCxn id="111" idx="2"/>
            </p:cNvCxnSpPr>
            <p:nvPr/>
          </p:nvCxnSpPr>
          <p:spPr>
            <a:xfrm flipH="1" flipV="1" rot="5400000">
              <a:off x="1437840" y="2756160"/>
              <a:ext cx="655560" cy="964800"/>
            </a:xfrm>
            <a:prstGeom prst="bentConnector3">
              <a:avLst>
                <a:gd name="adj1" fmla="val 17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1" name="_s1037"/>
            <p:cNvSpPr/>
            <p:nvPr/>
          </p:nvSpPr>
          <p:spPr>
            <a:xfrm>
              <a:off x="1421280" y="1600200"/>
              <a:ext cx="1652760" cy="131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8"/>
            <p:cNvSpPr/>
            <p:nvPr/>
          </p:nvSpPr>
          <p:spPr>
            <a:xfrm>
              <a:off x="457200" y="3565800"/>
              <a:ext cx="1652760" cy="131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25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челове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9"/>
            <p:cNvSpPr/>
            <p:nvPr/>
          </p:nvSpPr>
          <p:spPr>
            <a:xfrm>
              <a:off x="2385360" y="3565800"/>
              <a:ext cx="1652760" cy="131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0 000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ысяч тенг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32"/>
          <p:cNvSpPr/>
          <p:nvPr/>
        </p:nvSpPr>
        <p:spPr>
          <a:xfrm>
            <a:off x="304920" y="5791320"/>
            <a:ext cx="7848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. период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лендарный         квар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счисление и корректировка СНР на основе упрощенной декларации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числение налогов производится самостоятельно путем применения к объекту налогообложения за отчетный налоговый период ставки в размере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3%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мма налогов подлежит корректировке в сторону уменьшения на сумму в размере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1,5%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суммы налога за каждого работника, исходя из среднесписочной численности работников, если среднемесячная заработная плата работников по итогам отчетного периода составила у ИП не менее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2-х кратно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юридических лиц – не менее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2,5-кратног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мального размера заработной платы, установленного на соответствующий финансовый год законом о республиканском бюджет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07:59:13Z</dcterms:created>
  <dc:creator>edurmagambetov</dc:creator>
  <dc:description/>
  <dc:language>en-US</dc:language>
  <cp:lastModifiedBy>Customer</cp:lastModifiedBy>
  <dcterms:modified xsi:type="dcterms:W3CDTF">2011-06-08T08:42:46Z</dcterms:modified>
  <cp:revision>113</cp:revision>
  <dc:subject/>
  <dc:title>Специальные налоговые режимы  с 1 января 2009 го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  <property fmtid="{D5CDD505-2E9C-101B-9397-08002B2CF9AE}" pid="3" name="Об утверждении Перечня товаров">
    <vt:lpwstr/>
  </property>
</Properties>
</file>