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E8A5-4597-4CF0-B41F-1D1793861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671D-C74B-43D0-84F8-8F41B1631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DC8D39-F506-4597-9A90-BB2433219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51873F-2B2D-45BA-B7BB-A8ED000E8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7E3856-2337-4D60-BAD6-5D376E9A4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74EC97-D09C-4392-876D-E26432E0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AFA887-54D6-4698-AFEE-30DDB96C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F9A8BD-026D-43AD-90FA-6AE41634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8546C9-95A6-4B3E-BFB1-40A44E4BF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896821-3902-4904-92A3-6FB4F5C37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21D19C-88A2-431E-A1E3-C80360115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356AB8-71A0-4FDE-AB8F-117225BEC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52E8-8214-42DD-A26B-948765EE4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FA6E47-2CF9-4807-8F76-398B1FFB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3278EF-3451-4DCB-9104-B4B136BC2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8753B1-EE51-49D3-BF3B-57F763719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471CC8-76F7-4144-B994-DF99D3D0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D5A9BD-082B-48B6-9CCC-35D945EB2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8217B4-93EB-490C-B597-400A0211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9E89BB-04BB-46D1-BDCE-153365EB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46F883-DCEE-4197-A286-2FB84744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38F46C-147D-4884-9779-8558CC173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23A553-33FD-4D13-923F-B645D988F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AB6D-6D82-442F-B1EE-68EAA9EA9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C07224-500B-4F80-9A4C-B33F102FE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B456AE-E683-42D8-9349-D57FC1983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020C11-6B53-46B1-AAAC-538FCE6E7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0EDF7B-0589-45D6-BB82-A4211208E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3F223E-1124-4F55-A8B6-F8BE74E31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9696E8-5A44-4DE2-9618-53D449F45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7EAFE1-C38D-42FF-9078-735A1C036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4F1426-15D7-4370-8059-4D77CA22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D01510-D8D4-4056-AFA2-6B4769EB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1A91A4-97C9-4C3D-B29C-1448D9C9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A427F-A5DE-4382-82F3-387E2EB8E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61497B-7C6F-4338-92F4-9176B2445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93E8DF-CB96-456E-AA38-8AD923852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3E6845-AB22-45EE-ABDB-6CC32C43F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F43EC1-63FB-4AE2-9E02-134D4DEBB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0F5BD5-E4B0-4776-91E4-0AE55E996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A729EC-9FCB-4A93-9B53-B7120A4F1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77BA19-88CB-4411-B610-74949989E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EBFF98-3912-43CB-8C80-A1B50FB41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028EF5-97AE-4B99-A75A-5EC9899D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3B784D-665B-462A-87CB-B3966549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95924-ADE1-446F-91CB-C735C6DDE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09E988-8F16-43E8-9CD2-388F8314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FAE7E6-F51E-4CD6-9AEC-94D183F3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4330CE-0C69-4413-9BB1-C14805951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1CC20D-F3C1-4AD3-B9D8-31E2765B1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C67631-CB21-42D4-A70E-D66F99871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74A18-C6C4-416F-960D-30926B115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63EEF-BC63-45C8-8FA2-69C3E51A1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48A9B-2EDC-4CDA-83FB-4BE79296C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C92EB-7B27-4938-A8CD-56387E568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3FFD9-BC9D-4F29-9F44-9B4C0C45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D2F1-1B5C-47FA-ABB4-E32AE3A6D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26024-DC49-4809-BB8E-1DA6D36A0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D5A8E-A643-4733-99FF-55EB877C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F6454-C74D-48E6-B326-552468BAE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B090C-40CC-498F-A948-D2DC39332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F35D7-721C-4037-BB78-93C2F1EE1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33AB6-62E9-4B62-93B1-8F7425DA6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D93CB-EA6D-41AE-AAC1-C7465DA59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9DD63-265F-4298-9BD2-83B6EADF6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DDDB4-0485-4B87-8740-645E13C58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0A82C-AE00-4885-B7C5-AC3B0AEDE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98EF-54B3-4B9F-94A6-A28F7068C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CFD9C-6FB9-4CE0-B4DC-D35E737F1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7601A-8F8E-4AD9-BF3E-EF5E2912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38A00-5C4A-4420-BDE8-6E1BE15A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7BAFC-A4B1-4409-AA30-48C669B1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A452E-7B46-4950-941A-E6CB0AEBB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CF4E2-7F93-4DB5-9673-C8996D877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9A9B4-0D04-470B-AC0A-FC3E109E0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A60A7-791A-497F-9CF5-29A45CE68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0440E-121D-4920-A164-8601CEC24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BF7F7-7741-4CB0-B80A-14E6E1D9D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5D03-721B-4A97-84DC-3A2232127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8588D-F640-48EF-B25F-17F2A46DE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8EAE6-6825-4644-A39F-A09C312C7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29DB0-887E-48EF-93E2-8DB652CF0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FE6BE-92E1-4624-A600-0F3FE420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3821F-8F63-4DFE-B477-F7B5EA53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88423-A7D9-4534-B8D1-884ADDA8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2C7CF-80F0-49E0-9C34-186197278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3C1A6-F692-4551-8B39-F79886D76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AD719-0ED5-4977-8217-C64F6E4CF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3FC22-AE80-4321-954C-9CD00C7DA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5D9F-E81B-4995-9970-0A03D1094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199D2-E217-42CA-9B66-7AEF00B1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0940D-D7FE-4C43-A192-92BB89887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E26B2-211E-4D88-A820-C10726F01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82416-03ED-4549-8017-F56F27BA7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1246E-B2D5-495C-870B-BFA3D40DF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4DA22-3186-4C09-B047-3E168E29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85306-F8A1-4548-BF73-22655D25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66F14-738E-4D21-B3DC-60319740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ECA0D-9EE9-48ED-AB57-288DCB509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0FEDF-77C1-4EBF-A6E3-FDC50E820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82AD-83C9-4E3F-82EF-EB4914458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F0FA8-97FC-4003-9B7C-5B5128270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B5D5EF-0448-43AE-BA38-D89891483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8BD5C-FC45-4894-92BB-08F2C5E77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624E2E-D6B6-4DCF-8E1F-6199F3524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9AFC03-8F5D-4592-B44B-547ED00BE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BAE34-CD3B-4C68-9B41-02D4A6F4A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94029A-F9CE-4F9C-A98C-5BC798EE7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CDF98-F91E-4384-A5FF-2152FF25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48F68-47B4-4565-A63D-BA18092F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1120E-924D-4FD7-B87F-DA91811B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46D7-16ED-4F21-966E-8A547FC1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BE56D-81D1-4EDA-AC5E-AC0E1F27B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4CAB05-B029-466E-BA26-BEACF618C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23C88-75F1-40E8-8EEF-6CCA02F97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228231-8354-4D2C-9FFE-16DB48C6B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265F8B-D766-4153-B097-62BC2CA70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01E3E5-31AB-4050-8347-D321C7CBA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0F688-4699-4161-92E1-1B1A0913E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1EFD6D-337C-40E6-81BB-8AFE3A26E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59E53-E673-4C5E-B527-45855D4E2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85BA57-AEAA-4162-BA97-284F14EC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6D6B-4C07-496D-ADBC-C3D9F6E9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5D7EE-C141-4BF4-9EA3-8F5AAF50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097FB-16C2-4C4A-BA21-5B1AE9AF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774C08-CE7F-47AD-A72B-43CE9C22D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CD13C-DF0D-46B7-981A-6D314C10F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38CE8-461E-4BC1-8F71-D8E0A63C1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F3332C-9559-45AB-91C5-A4074F980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5DB6C7-CDCB-4143-B56A-BC395BF7B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496F2D-CB0E-4BB4-89BB-692108D48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B9ED2C-1941-4374-800A-538C1C8A2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4D2D20-E6BC-42E3-8D14-4C1415183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5B46-7C61-4F5A-B533-35E7DE6E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3539EE-B2AD-4059-A5AA-67B2EE136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02E9AB-BAF5-46CA-A900-4B146854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AEC1CC-DD74-4626-AE37-A4DD13B4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70A34D-4662-415E-AC0C-5E224918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AFEEF5-C61D-4B76-A118-B5B4C947A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49228E-34F4-4C28-B0B6-A521150F4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23BA50-9DBB-449D-8F39-3C2BD9F97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9ACBE7-38E1-452C-991F-F512350EC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10765E-841A-4F50-87C2-06A3734EC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6E4BB3-E811-464B-9A4A-E399602B2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B9894-169F-4771-B337-0B1D2CB820F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67" name="PlaceHolder 1"/>
          <p:cNvSpPr>
            <a:spLocks noGrp="1"/>
          </p:cNvSpPr>
          <p:nvPr>
            <p:ph type="dt" idx="28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FA514-4C73-44A5-9462-2B210E10A52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508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6" name="PlaceHolder 1"/>
          <p:cNvSpPr>
            <a:spLocks noGrp="1"/>
          </p:cNvSpPr>
          <p:nvPr>
            <p:ph type="dt" idx="3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ftr" idx="3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sldNum" idx="3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14782-BB36-481F-B122-EA9CD7A81F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58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dt" idx="3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ftr" idx="3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D67D5-17BB-4B46-8780-1D93D228F3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0EA1B-5558-4EF2-99C4-E7E807D12C6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6A95-603A-4025-85A7-C735D6207C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21D2F-8778-4227-8857-021F649706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234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237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3B565-F127-44E5-A3E2-B4F4F249713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288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289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295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dt" idx="16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ftr" idx="17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sldNum" idx="18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4C1DC-75F0-4AAE-AF1A-C16BBF2AEDC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6A051-1D1C-4D62-8F3C-EC16D3BF09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AF578-C567-4774-851A-7E894CE9A3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2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23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2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25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27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1612D-0EAD-401B-A0FF-93AB442F4B3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23640" y="1767960"/>
            <a:ext cx="81342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dbbd71"/>
                </a:solidFill>
                <a:latin typeface="Arial"/>
              </a:rPr>
              <a:t>Налог на имущество</a:t>
            </a:r>
            <a:endParaRPr b="0" lang="en-US" sz="66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ransition advTm="1000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68360" y="-5544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4360" y="476280"/>
            <a:ext cx="800712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Налоговая ставка налога на имущество с юридических лиц определена в размер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) 1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) 2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) 3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) 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Налоговая  ставка налога на имущество для индивидуальных предпринимателей определена в размер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) 1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) 0,5 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) 1,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D) 2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) 2,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8028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837720" y="1052280"/>
            <a:ext cx="800748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Налоговой базой для физических лиц являетс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) стоимость объектов налогообложения установленный на 4.01. уполномоченным гос. орган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) стоимость объектов налогообложения установленный на 3.01. уполномоченным гос. орган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) стоимость объектов налогообложения установленный на 2.01. уполномоченным гос. орган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 стоимость объектов налогообложения установленный на 1.01. уполномоченным гос. орган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) нет верного отве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38512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b7"/>
                </a:solidFill>
                <a:latin typeface="Arial Black"/>
              </a:rPr>
              <a:t>Р Е З Ю М Е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755280" y="907920"/>
            <a:ext cx="800748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лог на имущество выступает разновидностью прямых налогов. По своей сути его исчисление осуществляется без учета уровня дохода налогоплательщи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логоплательщиками налога на имущество являются юридические лица, индивидуальные предприниматели и физические лиц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Юридические лица исчисляют налог на имущество по ставке 2% к среднегодовой стоимости объектов обложения. Индивидуальные предприниматели исчисляют налог на имущество по ставке 1% к среднегодовой стоимости объектов налогообложения. Юридические лица применяющие специальный налоговый режим применяют ставку 1%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плата налога производится в бюджет по месту нахождения объектов облож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логовый периодом для исчисления и уплаты налога на имущество является кварта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бъектом обложения для юридических лиц и ИП являются недвижимость, а для физических лиц объекты принадлежащие им на праве собствен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b7"/>
                </a:solidFill>
                <a:latin typeface="Arial Black"/>
              </a:rPr>
              <a:t>Список использованной литературы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Налоги и налогообложение в Республике Казахстан» Нурхалиева Д.М., Омирбаев С.М., Астана 2007 го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логовый Кодекс Республики Казахстан, 2009 го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Налоги в Казахстане» Сейдахметова Ф.С., Алматы 2002 го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Налоги развитых зарубежных государств» Ильясов К.К., Алматы 1997 го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124000" y="475920"/>
            <a:ext cx="489744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b7e7ff"/>
                </a:solidFill>
                <a:latin typeface="Cooper Black"/>
              </a:rPr>
              <a:t>План</a:t>
            </a:r>
            <a:endParaRPr b="0" lang="en-US" sz="8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39640" y="285264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Общая характеристика налога на имущест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Порядок исчисления и уплаты налога на имущест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Ставки налога на имущест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292929"/>
                </a:solidFill>
                <a:latin typeface="Times New Roman"/>
              </a:rPr>
              <a:t>1</a:t>
            </a:r>
            <a:r>
              <a:rPr b="0" i="1" lang="en-US" sz="4400" spc="-1" strike="noStrike">
                <a:solidFill>
                  <a:srgbClr val="292929"/>
                </a:solidFill>
                <a:latin typeface="Times New Roman"/>
              </a:rPr>
              <a:t>.</a:t>
            </a:r>
            <a:r>
              <a:rPr b="0" i="1" lang="en-US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292929"/>
                </a:solidFill>
                <a:latin typeface="Times New Roman"/>
              </a:rPr>
              <a:t>Общая характеристика налога на</a:t>
            </a:r>
            <a:r>
              <a:rPr b="0" i="1" lang="en-US" sz="44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292929"/>
                </a:solidFill>
                <a:latin typeface="Times New Roman"/>
              </a:rPr>
              <a:t>имущество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лательщики налога на имущество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Юридические лиц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Индивидуальные предпринимател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Физические лиц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1"/>
          <a:stretch/>
        </p:blipFill>
        <p:spPr>
          <a:xfrm>
            <a:off x="1187280" y="2320920"/>
            <a:ext cx="3168720" cy="3413160"/>
          </a:xfrm>
          <a:prstGeom prst="rect">
            <a:avLst/>
          </a:prstGeom>
          <a:ln w="0">
            <a:noFill/>
          </a:ln>
        </p:spPr>
      </p:pic>
    </p:spTree>
  </p:cSld>
  <p:transition advTm="1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00"/>
                </a:solidFill>
                <a:latin typeface="Tahoma"/>
              </a:rPr>
              <a:t>Объекты налогообложения налога на имущество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216320" cy="33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Для юридических лиц и индивидуальных предпринимателей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едвижим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54080" y="1981080"/>
            <a:ext cx="403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Для физических лиц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жилые помещения, дачные строения, гаражи и иные строения, сооружения, находящиеся на территории РК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объекты незавершенного строительст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Не являются объектами налогообложения: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 земля, являющаяся объектом обложения земельным налогом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 транспортные средства, являющиеся объектом обложения налогом на транспортные средств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. основные средства, находящиеся на консервации по решению Правительств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. государственные автомобильные дорог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. основные средства, вновь вводимые в эксплуатацию в рамках инвестиционного проект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6. объекты незавершенного строитель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2. Порядок исчисления  и уплаты налога  на имущество.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алоговая баз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e4005c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юридических лиц и индивидуа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принимателей – среднегодо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алансовая стоимость объ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лож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e4005c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физических лиц – стои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ъектов налогообложен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станавливаемая по состоянию на 1январ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00"/>
                </a:solidFill>
                <a:latin typeface="Arial"/>
              </a:rPr>
              <a:t>Исчисление налога на имущество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3367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Для юридически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лиц 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индивидуальны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предпринимателей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оизводится самостоятельно путем применения соответствующей ставки налога к налоговой баз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932000" y="1628640"/>
            <a:ext cx="40165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Для физических лиц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оизводится налоговыми органами по месту нахождения объекта налогообложения независимо от места жительства налогоплательщика путем применения соответствующей налоговой ставки к налоговой баз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"/>
          <p:cNvSpPr/>
          <p:nvPr/>
        </p:nvSpPr>
        <p:spPr>
          <a:xfrm>
            <a:off x="2411280" y="321300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6948360" y="1989000"/>
            <a:ext cx="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">
    <p:fad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38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00"/>
                </a:solidFill>
                <a:latin typeface="Arial Black"/>
              </a:rPr>
              <a:t>3. Ставки налога на имущество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623" name=""/>
          <p:cNvGraphicFramePr/>
          <p:nvPr/>
        </p:nvGraphicFramePr>
        <p:xfrm>
          <a:off x="250920" y="404640"/>
          <a:ext cx="8569080" cy="6494760"/>
        </p:xfrm>
        <a:graphic>
          <a:graphicData uri="http://schemas.openxmlformats.org/drawingml/2006/table">
            <a:tbl>
              <a:tblPr/>
              <a:tblGrid>
                <a:gridCol w="2139840"/>
                <a:gridCol w="2143080"/>
                <a:gridCol w="2144880"/>
                <a:gridCol w="214128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Субъек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налогооблож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Объек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налогооблож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Налоговая баз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Налоговая став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1. юридические лиц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основные средства и нематериальные актив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среднегодовая остаточная стоимость объектов облож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2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2. юридические лица, применяющие специальный налоговый режим на основе упрощенной декларации, индивидуальные предпринимател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основные средства и нематериальные актив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среднегодовая остаточная стоимость объектов облож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3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3. некоммерческие организации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- организации, осуществляющие деятельность в соц. сфере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- библиотечное обслуживание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- государственные предприятия, осуществляющие функции в области государственной аттестации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основные средства и нематериальные актив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среднегодовая остаточная стоимость объектов облож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,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4. физические лиц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объекты, принадлежащие им на праве собственнос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стоимость объектов обложения, устанавливаемая по состоянию на 1 январ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в зависимости от стоимости объектов налогооблож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000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3851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b7"/>
                </a:solidFill>
                <a:latin typeface="Arial Black"/>
              </a:rPr>
              <a:t>Тестовые вопросы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837720" y="907560"/>
            <a:ext cx="800748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Объектом обложения налогом на имущество не являетс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) оборудование, требующее монтажа  на объектах незавершенного производ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) основные сред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) нематериальные актив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 ответы В и 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) правильного ответа 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логовой базой для исчисления налога на имущество являетс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) прогрессивные став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) годовая остаточная стоим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) среднегодовая остаточная стоим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 усредненная остаточная стоим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) нет верного отве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12:12:04Z</dcterms:created>
  <dc:creator>Saule</dc:creator>
  <dc:description/>
  <dc:language>en-US</dc:language>
  <cp:lastModifiedBy>к</cp:lastModifiedBy>
  <dcterms:modified xsi:type="dcterms:W3CDTF">2010-06-18T03:15:14Z</dcterms:modified>
  <cp:revision>18</cp:revision>
  <dc:subject/>
  <dc:title>Налог на имущество</dc:title>
</cp:coreProperties>
</file>