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C9E-C98C-4000-A14D-6AAFEA23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6CF-7CAD-4C62-B155-029B75E9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320-C2FD-4C05-A773-427EC17D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03D-55D4-4929-AA3C-DCBC9A98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C1B8-6977-4703-8AE5-E264530A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DC36-74A3-4ABA-B1B5-3D988F9E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FB56-57FC-42E4-BB07-64FC75C5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CE82-575D-4362-B54C-EC6B0D98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16D1-9B11-42B7-945A-8B9DF946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2630-5255-4C3A-B477-CEC5F67D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1FE-081F-491B-9B5A-2A34AEDE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27E-ECB3-46D3-A393-3B0DC48D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DC01-663C-40BD-A618-7E39653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4787-C1DE-4B92-98F4-6436FEE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06DD-3DAA-4593-962B-42D333DD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8BD-85BC-48AC-A6B8-AD523A0E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F9C3-1C18-484D-812D-5087BF70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841-6B4D-4DA6-B6C3-691CEDF6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B13-0FA3-49AE-B218-BE2CDE8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D26-5137-4533-B79C-9C58A1DD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17E-E83C-4ADC-9B41-9109F39F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F47-9688-4350-B8B8-074D02FF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1E3-C56C-4DA2-90B7-2AFB54F7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753-CB58-44E0-911D-4B4E0A9B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7BD4-3B3F-494B-9123-DC289D9D27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3540-6989-4B1E-BB9E-03A4B5E258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484280"/>
            <a:ext cx="914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пециальные платежи и налог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 недропользова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щие положения о роял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оялти уплачивается недропользователем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в отдельности по каждому виду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обываемых на территории Республики Казахстан полезных ископаемых, независимо от того, были ли они реализованы (отгружены) покупателям или использованы на собственные нужд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роялти являются недропользователи, осуществляющи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добычу полезных ископаем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включая извлечение полезных ископаемых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из техногенных минеральн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разований, независимо от того, имела ли место их реализация в отчетном период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змер роялти определяется исходя из объекта налогообложения, базы исчисления и став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роки уплаты : роялти по всем видам полезных ископаемых уплачивается не позднее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Налоговым периодом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по уплате роялти является календарный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кларация: не позднее 20-числа месяца, следующего за налоговым период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 не уплачи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физическими лицами по </a:t>
            </a:r>
            <a:r>
              <a:rPr b="0" lang="ru-RU" sz="2000" spc="-1" strike="noStrike">
                <a:solidFill>
                  <a:srgbClr val="ff6699"/>
                </a:solidFill>
                <a:latin typeface="Georgia"/>
              </a:rPr>
              <a:t>подземным в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добываемым на земельных участках, принадлежащих им на праве частной собственности, при условии, что данные воды не реализуются на сторону и не используются на производство и технологические нужды при осуществлении предпринимательской деятель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государственными учреждениями, осуществляющими добычу подземных вод для собственных хозяйственных нужд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недропользователями при обратной закачке попутно добытых подземных вод для поддержания пластового давл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Ставки роялти по нефти, включая газовый конденса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 500000 тонн - 2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500000 до 1000000 тонн - 2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000000 до 1500000 тонн - 3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500000 до 2000000 тонн - 3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000000 до 2500000 тонн - 4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500000 до 3500000 тонн - 4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3500000 до 4500000 тонн - 5 процент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4500000 до 5000000 тонн - 5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свыше 5000000 тонн - 6 процент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стоимост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В целях исчисления роялти стоимость добытых нефти, общераспространенных полезных ископаемых, подземных вод и полезных ископаемых, за исключением золота, серебра и платины, определяется исходя из средневзвешенной цены реализации за налоговый период первого товарного продукта, полученного из добытых полезных ископаемых, без учета косвенных налогов и сумм фактических расходов на их транспортировку до пункта продажи (отгрузки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Стоимость добытых недропользователем за налоговый период золота, серебра и платины исчисляется исходя из средних цен этих металлов, сложившихся за налоговый период на Международной (Лондонской) бирж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В случае отсутствия реализации первого товарного продукта стоимость добытых нефти, подземных вод и полезных ископаемых, за исключением золота, серебра, платины и общераспространенных полезных ископаемых, определяется исходя из средневзвешенной цены реализации первого товарного продукта последнего налогового периода, в котором имела место такая реализац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690480"/>
          <a:ext cx="9144000" cy="6167520"/>
        </p:xfrm>
        <a:graphic>
          <a:graphicData uri="http://schemas.openxmlformats.org/drawingml/2006/table">
            <a:tbl>
              <a:tblPr/>
              <a:tblGrid>
                <a:gridCol w="2987640"/>
                <a:gridCol w="4897440"/>
                <a:gridCol w="12589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именование полезного ископаем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вка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оялти в 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рудное сырье для металлург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ые пески, глиноземосодержащи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олевой шпат, пегматит), известняки, долом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ово - доломитовые пор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и для пищевой промышлен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очее нерудное сырь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неупорные глины, каолин, вермикули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ль поваре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1295280" cy="1155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297080" cy="120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225440" cy="1139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79280" y="4788000"/>
            <a:ext cx="1368360" cy="122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692360" y="5516640"/>
            <a:ext cx="1008000" cy="942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5" name=""/>
          <p:cNvSpPr/>
          <p:nvPr/>
        </p:nvSpPr>
        <p:spPr>
          <a:xfrm>
            <a:off x="133200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тавки роялти по общераспространенным полезным ископаемым и подземным в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76360"/>
                <a:gridCol w="6912000"/>
                <a:gridCol w="755640"/>
              </a:tblGrid>
              <a:tr h="16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стные строительные материал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улканические пористые породы, вулкан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одосодержащие стекла и стекловидн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ерлит, обсидиан), галька и гравий, гравийн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есчаная смесь, гипс, гипсовый камень, ангидр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ажа, глина и глинистые породы (тугоплавкие 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егкоплавкие глины, суглинки, аргилл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левролиты, глинистые сланцы), мел, мергель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ргельно - меловые породы, кремнист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трепел, опоки, диатомит), кварцев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евошпатные породы, камень бутовый, осадочные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рженные и метаморфические породы (гран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азальт, диабаз, мрамор), песок (строительный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варцевый, кварцево - полевошпатный), кром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ого, песчаник, природные пигмен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кушеч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дземные в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11280" cy="132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440000" cy="1312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1079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6740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бщие положения о налоге 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сверхприбы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а на сверхприбыль являются недропользователи, за исключением осуществляющих деятельность по контрактам о разделе продукции, на добычу общераспространенных полезных ископаемых и подземных вод, а также строительство и эксплуатацию подземных сооружений, не связанных с разведкой и добыч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Объектом облож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м на сверхприбыль является часть чистого дохода недропользователя по каждому отдельному контракту за налоговый период, в котором отношение накопленны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доходов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 накопленны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расх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ыш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,2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овой базой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является часть чистого дохода недропользователя по каждому отдельному контракту за налоговый период, превышающая 20 процентов от суммы вычетов, предусмотренных статьями Налогового Кодекса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 на сверхприбыл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плачивается не поздне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5 апрел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од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68360" y="1268280"/>
          <a:ext cx="8280360" cy="5152680"/>
        </p:xfrm>
        <a:graphic>
          <a:graphicData uri="http://schemas.openxmlformats.org/drawingml/2006/table">
            <a:tbl>
              <a:tblPr/>
              <a:tblGrid>
                <a:gridCol w="5720040"/>
                <a:gridCol w="2560320"/>
              </a:tblGrid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олученное значение отношения накопленных доходов к накопленным расхода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тав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1,2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2 до 1,3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3 до 1,4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4 до 1,5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5 до 1,6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6 до 1,7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выше 1,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2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3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4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5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60 процен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Ставки налога на сверхприбыль</a:t>
            </a: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Налоговым периодом по платежам доли Республики Казахстан по разделу продукции является календарный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меся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уплачивается не позднее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-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договор, в соответствии с которым Республика Казахстан предоставляет недропользователю на платной основе на определенный срок право на проведение операций по недропользованию, включая нефтяные операции на контрактной территории, и ведение связанных с этим работ за его сче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должен содержать следующие основные условия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общего объема добытой продукции, прошедшей пункт замера, и ее стоим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которая передается в собственность недропользователю для возмещения затрат на выполнение работ по контракту (компенсационная продукция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подлежащей разделу после вычета компенсационной продукции (прибыльной продукци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и раздела (процента) между Республикой Казахстан и недропользовател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в прибыльной продукции в порядке, установленном Налоговым Кодексом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484280"/>
            <a:ext cx="91440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 л а 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Характеристика специальных налоговых режимов для недропользов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латежи и налоги с недропользователей: бонусы, роялти, налог на сверхприбы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по разделу продук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определяется как суммарная стоимость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прибыльной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подлежащей разделу между Республикой Казахстан и недропользователем, за вычетом доли недропользователя в прибыль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недропользователя в прибыльной продукции определяется как наименьшее из процентных значений, соответствующих нижеследующим трем триггерам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R-фактор (показатель доходности) - отношение накопленных доходов недропользователя к накопленным расходам по прое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нутренняя норма рентабельности (ВНР) подрядчика - ставка дисконтирования, при которой реальный чистый дисконтированный доход достигает своего нулевого знач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Р-фактор (ценовой коэффициент) - отношение дохода недропользователя к объему добычи за отчетный перио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51440"/>
                <a:gridCol w="4178160"/>
              </a:tblGrid>
              <a:tr h="14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R-фактора (показател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доходност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ьше или равно 1,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ьше или равно 1,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50920" y="189000"/>
            <a:ext cx="85690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47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внутренней нормы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рентабельности (ВНР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или равно 12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ее или равно 20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2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начение P-фактора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ценового коэффициента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нее или равно 12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олее или равно 27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змещаемые затра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- обоснованные и документально подтвержденные затраты недропользователя, фактически произведенные им при выполнении работ в рамках заключенного контракта о разделе продукции в соответствии с программой работ и бюджета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недропользователя уменьшаются на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сумму операционных доходов, связанных с получением арендной платы за сдачу в аренду имущества, созданного либо приобретенного по контракту, за вычетом затрат, связанных с их получени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сумму прочих доходов (неустойки (штрафа, пени) и других), полученных от деятельности в рамках контрак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ение затрат недропользователю осуществляется с момента начала пробной эксплуатации и (или) добычи полезных ископаемых в коммерческих в размере, не превышающем предельную долю компенсацион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состав возмещаемых затрат включаются следующие затраты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роизведенные недропользователем до вступления в силу контракта, в том числ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подготовку и разработку технико - экономического обоснования на стадии, предшествующей заключению контракт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оценку и разведку, произведенные до вступления в силу контракта и непосредственно связанные с его исполнением, которые должны быть отражены в смете затрат недропользователя на первый год работ по контра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фактически произведенные с даты вступления контракта в силу и в течение всего периода его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 затратам, не возмещаемым за счет компенсационной продукции, относятся следующие виды затрат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о уплате взноса на участие в конкурсе инвестиционных программ на получение права недропользования на условиях раздела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по приобретению геологической информа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по статьям затрат в части их превышения, по которым соглашением установлены ограничения, в том числе административные расход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4) по уплате платы за эмиссии в окружающую среду сверх установленных лимит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5) связанные с реализацией принадлежащей недропользователю компенсационной продукции и доли прибыльной проду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6) связанные с ревизией (аудитом) финансово - хозяйственной деятельности, осуществленной по требованию акционеров (учредителей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7) возникшие в связи с неисполнением или ненадлежащим исполнением недропользователем своих обязательств, установленных контракт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8) связанные с оплатой стоимости путевок на экскурсии и путешеств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9) выплаты вознаграждения за кредит (заем) и использование заемных средств, а также комиссионные выплаты и другие расходы, связанные с привлечением и использованием заемных средст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0) убытки, причиненные вследствие аварий, допущенных по вине недропользователя, в результате несоблюдения технологий и техники безопас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1) затраты по социальным проекта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2) расходы по добровольному страхованию работник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3) затраты, понесенные в связи с судебными разбирательства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4) штрафы и пени, взимаемые государственными органами с недропользовател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5) затраты, связанные с оплатой расходов на личное потребление работников, не предусмотренное законодательством Республики Казахстан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6) разовые фиксированные платежи за пользование недрами или бонусы коммерческого обнаруж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7) уплаченные налоги и обязательные платежи в бюдже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9) другие затраты, непосредственно не относящиеся к деятельности по контрак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ый платеж недропользовате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лательщиками дополнительного платежа недропользователя, осуществляющего деятельность по контракту о разделе продукции, являются недропользователи, заключившие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 исполнении контракта о разделе продукции доля поступлений государства в каждом налоговом периоде с момента начала добычи до момента возврата вложенных инвестиций не должна быть менее значения, установленного контрактом о разделе продукции в интервале от пяти до десяти процентов, и менее сорока процентов от объема продукции, полученной недропользователем в налоговом периоде, в последующих период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вым периодом по дополнительному платежу недропользователя, осуществляющего деятельность по контракту о разделе продукции, является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календарный го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Налоговый Кодекс РК устанавливает порядок исчисления и уплаты следующих налогов и специальных платежей недропользователей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лога на сверхприбыл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ециальных платежей недропользователе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нусов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ли Республики Казахстан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по разделу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ого платежа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недропользователя,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уществляющего деятельность по контракту о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деле продук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1916280"/>
            <a:ext cx="3384360" cy="366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5805360"/>
            <a:ext cx="2521080" cy="3668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3. 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413000"/>
            <a:ext cx="7921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ательщиками данного вида налога являются физические и юридические лица, реализующие на экспорт сырую нефть, газовый конденсат, за исключением недропользователей, заключивших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ъектом обложения рентным налогом на экспортируемую сырую нефть, газовый конденсат является объем сырой нефти, газового конденсата, реализуемый на экспор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508640"/>
            <a:ext cx="7272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ый период –календарный меся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плата- не позднее 20 числа месяца следующего за налоговым период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ая декларация – не позднее 20-числа месяц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Ставки рентного налог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5640" y="1119240"/>
          <a:ext cx="7354800" cy="5580000"/>
        </p:xfrm>
        <a:graphic>
          <a:graphicData uri="http://schemas.openxmlformats.org/drawingml/2006/table">
            <a:tbl>
              <a:tblPr/>
              <a:tblGrid>
                <a:gridCol w="6335640"/>
                <a:gridCol w="10191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нее 19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19 до 2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0 до 21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1 до 22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2 до 23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3 до 24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……………………………………………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38 до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олее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естовые вопросы по теме: «Недропользование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Раздел налогообложения недропользователей регулирует особенности налогообложения деятельности по проведению операций по недропользованию, и устанавливает порядок исчисления и уплаты следующих налогов и специальных платежей недропользователей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налога на сверхприбыл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специальных платежей недропользовател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бонусов (подписного, коммерческого обнаружения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роялт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се ответы вер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Все контракты на недропользование до их подписания должны проходить обязательную налоговую экспертизу в порядке и сроки, определяем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равительством Республики Казахста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Президентом Р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иректором предприят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Налоговым органо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нет правильного отве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Недропользователь, исходя из индивидуальных условий проведения недропользования, выплачивает следующие виды бонусо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одписно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коммерческого обнару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некоммерческ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личны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A) и 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Декларация по бонусу коммерческого обнаружения представляется недропользователем в налоговый орган по месту регистрации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до 1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до 1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о 2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до 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до 3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Стартовые размеры подписных бонусов определяются Правительством Республики Казахстан на основе расчета с учет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количества постоянных издерже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объема полезных ископаемы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площад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экономической ценност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B) и D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писок рекомендуемой литерату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Кодекс Республики Казахстан от 12.06.2001 N 209-2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"О НАЛОГАХ И ДРУГИХ ОБЯЗАТЕЛЬНЫХ ПЛАТЕЖАХ В БЮДЖЕТ (НАЛОГОВЫЙ КОДЕКС)" с исправлениями и дополнениями от от 05.07.2008 N 66-4 (c введением в действие с 01.01.200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. Юткина Т.Ф. «Налоги и нологообложение», 2001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. Карагусова Г. Т. «Налоги: сущность и практика», г. Алматы, 2004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одели налогового режима контрактов на недропользов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обложение недропользователей разделяется на </a:t>
            </a:r>
            <a:r>
              <a:rPr b="1" lang="ru-RU" sz="2000" spc="-1" strike="noStrike" u="sng">
                <a:solidFill>
                  <a:srgbClr val="ff6600"/>
                </a:solidFill>
                <a:uFillTx/>
                <a:latin typeface="Georgia"/>
              </a:rPr>
              <a:t>две моде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ервая - предусматривает уплату недропользователем налогов и других обязательных платежей, установленных настоящим Кодексом, за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исключени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торая - предусматривает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уплату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передачу) недропользователем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, а также уплату всех видов налогов и других обязательных платежей в бюджет, установленных настоящим Кодексом, з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исключением: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рентного налога на экспортируемую сырую нефть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газовый 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акциза на сырую нефть, газовый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роял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сверхприбыл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земельного налог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имуще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Налогообложение деятельности по проведению операций по недропользован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989000"/>
            <a:ext cx="828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 1-й модели исчисление налоговых обязательств производится в соответствии с НК РК, действующим на момент появления обязательств по их упла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, определенный в контрактах между Правительством РК отечественными или иностранными недропользователями заключенны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до 1 января 2009 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, сохраняется и действует в течение всего установленного срока их действия, и м.б. скорректирована в связи с изменением налогового законодательства РК по соглашению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 по второй модели определяется только 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контракте о разделе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заключенном в порядке, установленном законодательством Р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2. </a:t>
            </a:r>
            <a:r>
              <a:rPr b="1" lang="en-US" sz="3200" spc="-1" strike="noStrike">
                <a:solidFill>
                  <a:srgbClr val="ccecff"/>
                </a:solidFill>
                <a:latin typeface="Georgia"/>
              </a:rPr>
              <a:t>Общие положения о бонусах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7588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22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онусы являются фиксированными платежами недропользовател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63640" y="3284640"/>
            <a:ext cx="5976360" cy="2890080"/>
            <a:chOff x="1763640" y="3284640"/>
            <a:chExt cx="5976360" cy="2890080"/>
          </a:xfrm>
        </p:grpSpPr>
        <p:cxnSp>
          <p:nvCxnSpPr>
            <p:cNvPr id="166" name="_s615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266440" y="3924000"/>
              <a:ext cx="578520" cy="160992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6153"/>
            <p:cNvCxnSpPr>
              <a:stCxn id="170" idx="0"/>
              <a:endCxn id="168" idx="2"/>
            </p:cNvCxnSpPr>
            <p:nvPr/>
          </p:nvCxnSpPr>
          <p:spPr>
            <a:xfrm flipH="1" flipV="1" rot="5400000">
              <a:off x="3657960" y="3924720"/>
              <a:ext cx="578520" cy="160920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8" name="_s6149"/>
            <p:cNvSpPr/>
            <p:nvPr/>
          </p:nvSpPr>
          <p:spPr>
            <a:xfrm>
              <a:off x="3372120" y="328464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8787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Бонусы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6150"/>
            <p:cNvSpPr/>
            <p:nvPr/>
          </p:nvSpPr>
          <p:spPr>
            <a:xfrm>
              <a:off x="176364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Подписно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6151"/>
            <p:cNvSpPr/>
            <p:nvPr/>
          </p:nvSpPr>
          <p:spPr>
            <a:xfrm>
              <a:off x="498168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Коммерческ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обнаруж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одписной бону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является разовым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фиксированным платеж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едропользователя </a:t>
            </a:r>
            <a:r>
              <a:rPr b="1" i="1" lang="ru-RU" sz="2000" spc="-1" strike="noStrike">
                <a:solidFill>
                  <a:srgbClr val="ff6600"/>
                </a:solidFill>
                <a:latin typeface="Georgia"/>
              </a:rPr>
              <a:t>за право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существления деятельности по недропользованию на контрактной территор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тартовые размеры подписных бонусов определяются Правительством Республики Казахстан на основе расчета с учетом объема полезных ископаемых и экономической ценности месторожд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кончательный размер подписного бонуса устанавливается комиссией по результатам проведенного конкурса инвестиционных программ на получение права недропользования и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закрепляется в контракт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с учетом экономической ценности передаваемых для недропользования месторождений (контрактных территорий), но не ниже стартовых разм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уплачивается в бюджет не поздне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алендарных дней с даты вступления контракта в сил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ctr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оммерческое обнаружение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это запасы определенного вида полезных ископаемых, открытые в пределах контрактной территории, которые являются экономически эффективными для добыч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плата за каждое коммерческое обнаружение на контрактной территории, в том числе за обнаружение полезных ископаемых в ходе проведения дополнительной разведки месторождений, приводящей к увеличению первоначально установленных извлекаемых запа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змер бонуса коммерческого обнаружения определяется исходя из объекта налогообложения, базы исчисления и став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ля исчисления размера бонуса коммерческого обнаруж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268280"/>
            <a:ext cx="806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Объект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обложения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объ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твержденных уполномоченным для этих целей гос.органом извлекаемых полезных ископаемых на месторо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азой исчисл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латежа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стоимост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бъема утвержденных извлекаемых полезных ископаем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онус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оммерческого обнаружения уплачи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о ставк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0,1 %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от базы исчисления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рок уплаты: не позднее 90 дней со дня утверждения гос.органа объема извлекаем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екларация: до 15-го числа месяца, следующего за месяцем, в которм наступил срок упл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6:10:07Z</dcterms:created>
  <dc:creator>TVMUR</dc:creator>
  <dc:description/>
  <dc:language>en-US</dc:language>
  <cp:lastModifiedBy>к</cp:lastModifiedBy>
  <dcterms:modified xsi:type="dcterms:W3CDTF">2011-01-31T15:58:40Z</dcterms:modified>
  <cp:revision>9</cp:revision>
  <dc:subject/>
  <dc:title>Слайд 1</dc:title>
</cp:coreProperties>
</file>