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81DB-079F-4204-B339-35FF5FFF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D62-F696-405D-A293-B8672B0D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850-C0C4-4CAF-A42E-3D49A71F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FA4-FBF5-441F-97C5-6F5E3169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5342-4F82-4281-9201-565E8680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708A-8527-45F2-B46D-58CAE674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DA3C-DAEE-4AF5-8FB7-DA904BAC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E11E-6BE5-4939-8BEB-D24B6D21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FDAF-CBF4-438F-81CE-8CF958E4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CF01-878C-4F74-9608-B74708F7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816E-B9DF-4E6E-A373-90166BF2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D14-7B3F-4869-BC06-858493E3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5561-0CA6-4FBE-8988-C4280C77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8D2F-6539-4120-A1C6-00A91D08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9D43-FB65-48FF-B0AC-0CD8CBDE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86E3-4480-4514-A277-E73CA723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0E08-04A2-440A-B224-B3C39CAD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D22EC-7506-4697-AF5F-AA637E3F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C6D2-17F9-4CCD-BACA-A480ECDA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BF8E6-E12F-46DA-98C3-0B90AC17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31E4A-9039-41E5-BDE6-8D63EBA2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A9174-A87E-4CA4-980C-A47B4635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E63-7D2D-4168-A750-F8944FB6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4401-EBA1-44B3-A00A-1EF4F787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24BC-561C-4240-9310-0A3C2C22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B980-47C9-4DE1-BD2A-6CAD56B7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0CE0-7E21-437F-B7A2-119F7E86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AE376-B9A4-4562-8499-F35F4FFB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D5F79-331C-432F-9CDA-7EB69BE0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E9F0-EEF0-48B4-BCC7-64F39E59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39A09-C485-4B19-BE4D-43885C59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BBB5F-2250-47F1-A7FD-20EC4F15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9B988-DB3A-43F6-B007-3F0A2BFB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72B-C23D-4B0F-A277-B1E93D8D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66701-8029-483D-A773-617F5E99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3BF49-A128-4F2E-884D-91F19327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7B20E-BE1C-482C-951A-BB064508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3D514-E981-451F-8D58-7E75EB8E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3F68F-7D28-42AD-B30B-6B61038B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6A9F4-C63B-4A99-88C3-5531720A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D5DA3-06A7-4137-9CCB-E52B82C6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76857-9707-49AB-BBA4-C5162F95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23B60-0F32-4001-9307-6B78E688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1A217-9C74-4929-AB4E-2389DCF5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49E-4E90-41BD-89E4-5183C8CB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5EDF3-5B7F-4261-9017-BC30E090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10227-F842-45D3-9447-A65278D8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1458A-C6DB-4264-852C-D314083B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FAA89-47EF-4F5B-AB10-6466C414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02EA5-DA7E-4D36-BC86-4A068891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61435-758C-4578-8D63-3C4B223F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EFAE5-5611-4425-9EC1-36B5E1CE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73113-3DE2-4DF8-A7D7-D61051E3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6032F-42B8-483E-9BBA-16232161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A9DC2-D189-42B0-8C7F-437FB969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9A8-40EE-4DE8-8292-C05B32EA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0B99D-3B2B-413D-98CD-366DA64E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8EF97-51A6-4740-AE2A-C7A63B49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981F3-38CB-4727-BFCE-227D7F2B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2BF78-7645-47FA-808C-142E694A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0BBB6-D10F-4D0C-80D2-BBCFAB92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92591-07E0-4E49-9FAC-C398E3EC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FF2DD-04D9-4AAD-AF0F-FE72E1FF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9949C-3DE0-4115-A946-5B41BE8E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7A6A4-E471-4675-94AB-D376DFA0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839B4-C5A5-43AF-9C94-FCC485AD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D28-2D1C-41E9-B5BF-E1165010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30DE8-40BD-4280-A827-41783E77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8B47E-7EC6-489A-B951-F62C294B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22677-5584-46AB-B701-2B8D5F2B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E9A-BB21-4349-AB8D-D043F79D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EEA-CA76-4150-B63D-A4CE171B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B6A8-C683-4898-9E3E-8DAE85186EA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0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grpSp>
          <p:nvGrpSpPr>
            <p:cNvPr id="5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2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7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9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0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1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3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4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5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6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7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8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9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0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1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2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3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4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5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6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grpSp>
            <p:nvGrpSpPr>
              <p:cNvPr id="7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7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grpSp>
            <p:nvGrpSpPr>
              <p:cNvPr id="9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grpSp>
            <p:nvGrpSpPr>
              <p:cNvPr id="9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sp>
            <p:nvSpPr>
              <p:cNvPr id="106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07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08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09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1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1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1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1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3B6C-7C1A-46FC-80CD-7BE59B9A049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8266-10C5-4C19-854A-C906C1996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7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062B-EC7A-4EBD-98B4-E0FAD9C29CB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46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grpSp>
          <p:nvGrpSpPr>
            <p:cNvPr id="24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48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49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0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1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2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3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4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5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6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7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8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9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0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1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2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3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4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5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6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7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8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9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70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71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72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grpSp>
            <p:nvGrpSpPr>
              <p:cNvPr id="27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7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7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7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7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7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7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grpSp>
            <p:nvGrpSpPr>
              <p:cNvPr id="28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9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grpSp>
            <p:nvGrpSpPr>
              <p:cNvPr id="29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9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30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30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sp>
            <p:nvSpPr>
              <p:cNvPr id="302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3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4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5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9A2E-5126-46F8-A42D-7E1C742CAA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237B-C886-4B3C-A0F0-EFD8D3DFE0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23276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ru-RU" sz="10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WordArt 13"/>
          <p:cNvSpPr txBox="1"/>
          <p:nvPr/>
        </p:nvSpPr>
        <p:spPr>
          <a:xfrm>
            <a:off x="395280" y="1125360"/>
            <a:ext cx="8748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"/>
              </a:rPr>
              <a:t>Налог на добавленную стоимость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AutoShape 65"/>
          <p:cNvSpPr/>
          <p:nvPr/>
        </p:nvSpPr>
        <p:spPr>
          <a:xfrm>
            <a:off x="826920" y="333360"/>
            <a:ext cx="7490160" cy="612144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5454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i="1" lang="ru-RU" sz="1800" spc="-1" strike="noStrike" u="sng">
                <a:solidFill>
                  <a:srgbClr val="9900ff"/>
                </a:solidFill>
                <a:uFillTx/>
                <a:latin typeface="Arial"/>
              </a:rPr>
              <a:t>Порядок снятия с учета по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1. Плательщик НДС вправе, не ранее, чем по истечении двух лет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с момента постановки его на учет НДС стоимость, подать в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налоговый орган по месту регистрации заявление о снятии его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с учета по НДС, если за последний двенадцатимесячный период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размер облагаемого оборота не превышал минимум облагаемого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оборота.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2. Если лицо являющееся плательщиком НДС, прекратило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деятельность, связанную с облагаемыми оборотами, такое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Лицо  обязано подать заявление о снятии его с учета по НДС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не позднее, чем по истечении шести месяцев после налогового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периода, в котором была прекращена такая деятельность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buClr>
                <a:srgbClr val="5454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AutoShape 2"/>
          <p:cNvSpPr/>
          <p:nvPr/>
        </p:nvSpPr>
        <p:spPr>
          <a:xfrm>
            <a:off x="250920" y="260280"/>
            <a:ext cx="8496360" cy="616608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i="1" lang="ru-RU" sz="1800" spc="-1" strike="noStrike" u="sng">
                <a:solidFill>
                  <a:srgbClr val="9900ff"/>
                </a:solidFill>
                <a:uFillTx/>
                <a:latin typeface="Arial"/>
              </a:rPr>
              <a:t>Порядок снятия с учета по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3. В случае ликвидации юридического лица, являющегося плательщиком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налога на добавленную стоимость, такое лицо подлежит снятию с учета по </a:t>
            </a:r>
            <a:r>
              <a:rPr b="1" i="1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НДС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со дня исключения из государственного реестра налогоплательщиков.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4. Налогоплательщики, указанные в пункте 1 статьи 207 настоящего Кодекса,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перестают быть плательщиками налога на добавленную стоимость с первого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дня налогового периода, следующего за периодом, в котором подано заявление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о снятии с учета по налогу на добавленную стоимость, соответствующее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положениям настоящей статьи.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5. При снятии лица с учета по налогу на добавленную стоимость остатки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его товаров (в том числе основных средств), по которым налог на добавленную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стоимость был  отнесен в зачет в соответствии со статьей 235 настоящего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Кодекса, рассматриваются в качестве облагаемого оборота.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900000" y="404640"/>
            <a:ext cx="77724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i="1" lang="ru-RU" sz="2000" spc="-1" strike="noStrike">
                <a:solidFill>
                  <a:srgbClr val="ff6600"/>
                </a:solidFill>
                <a:latin typeface="Arial Black"/>
              </a:rPr>
              <a:t>Понятие и методика расчета облагаемого оборота и облагаемого им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6600"/>
                </a:solidFill>
                <a:uFillTx/>
                <a:latin typeface="Comic Sans MS"/>
              </a:rPr>
              <a:t>Облагаемым оборот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является оборот по реализации товаров (работ, услуг), совершаемый плательщиком налога на добавленную стоимость, за исключением оборот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1) освобожденного от налога на добавленную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    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стоимость в соответствии с Налоговым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кодекс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2) местом реализации которого не является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Республика Казахс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6600"/>
                </a:solidFill>
                <a:uFillTx/>
                <a:latin typeface="Comic Sans MS"/>
              </a:rPr>
              <a:t>Облагаемым импорт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являются товары, ввозимые или ввезенные на территорию Республики Казахстан (за исключением освобожденных от налога на добавленную стоимость в соответствии с Налоговым Кодексом РК), подлежащие декларированию в соответствии с таможенным законодательством Республики Казахст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5"/>
          <p:cNvSpPr/>
          <p:nvPr/>
        </p:nvSpPr>
        <p:spPr>
          <a:xfrm>
            <a:off x="4500720" y="4653000"/>
            <a:ext cx="1655640" cy="217440"/>
          </a:xfrm>
          <a:prstGeom prst="pi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70" name="AutoShape 6"/>
          <p:cNvSpPr/>
          <p:nvPr/>
        </p:nvSpPr>
        <p:spPr>
          <a:xfrm>
            <a:off x="4313160" y="1312920"/>
            <a:ext cx="1656000" cy="217440"/>
          </a:xfrm>
          <a:prstGeom prst="pi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39640" y="333360"/>
          <a:ext cx="8064720" cy="6207120"/>
        </p:xfrm>
        <a:graphic>
          <a:graphicData uri="http://schemas.openxmlformats.org/drawingml/2006/table">
            <a:tbl>
              <a:tblPr/>
              <a:tblGrid>
                <a:gridCol w="689040"/>
                <a:gridCol w="737568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ПРЕДЕЛЕНИЕ РАЗМЕРА ОБЛАГАЕМОГО ОБОР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ли осуществляется реализация товара, как передача прав собственности, то размер облагаемого оборота определяют на основе стоимости реализуемых товаров (работ, услуг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безвозмездной передаче товаров размер облагаемого оборота определяется учетом уровня цен, сложившихся на дату совершения оборота по реализации, не включая НДС, но не ниже их балансовой стоим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передаче залогового имущества (товара) размер облагаемого оборота у залогодателя определяется исходя из стоимости реализуемого залогового имущества (товара), но не ниже суммы заемных средств, полученных под залог данного имущества (товара), не включая НД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реализации товара на условиях рассрочки платежа размер облагаемого оборота определяется с учетом всех причитающихся платежей, предусмотренных условиями догово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предоставлении услуг, связанных с оплатой за третьих лиц, в размер облагаемого оборота включается комиссионное вознагражд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размер облагаемого оборота включаются суммы акциза по подакцизным товарам и видам деятельност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реализации товаров, по которым не предусмотрен зачет по НДС, размер облагаемого оборота определяется как положительная разница между стоимостью реализации и балансовой стоимостью това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передаче имущества в финансовый лизинг, за исключением передачи по договору возвратного лизинга, размер облагаемого оборота определяется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основе размера лизингового платежа, установленного в соответствии с договором финансового лизинга, без включения в него суммы вознаграждения и налога на добавленную стоимость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дату совершения оборота, на основе суммы всех периодических лизинговых платежей без включения в них суммы вознаграждения иНДС, дата наступления срока получения которых в соответствии с договором финансового лизинга установлена до даты передачи имущества лизингополучателю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дату совершения оборота, как разница между общей суммой всех лизинговых платежей, подлежащих получению по договору финансового лизинга без включения в них суммы вознаграждения иНДС, и размером облагаемого оборота, определяемого как сумма размеров облагаемых оборотов, приходящихся на предыдущие даты совершения оборота по реализации по данному договор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передаче имущества по договору возвратного лизинга, подлежащего получению лизингополучателем (продавцом) в качестве основного средства, размер оборота по реализации определяется в соответствии с применяемыми сторонами сделки ценами и тарифами, без включения в них НД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оказании услуг по договору транспортной экспедиции размер облагаемого оборота у экспедитора определяется на основе его вознагражде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457200" y="260280"/>
          <a:ext cx="8229600" cy="2562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ПРЕДЕЛЕНИЕ РАЗМЕРА ОБЛАГАЕМОГО ИМПОР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9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размер облагаемого импорта включается таможенная стоимость импортируемых товаров, определяемая в соответствии с таможенным законодательством Республики Казахстан, а также суммы налогов и других обязательных платежей, подлежащих уплате в бюджет при импорте товаров в Республику Казахстан, за исключением налога на добавленную стоимость на им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Rectangle 13"/>
          <p:cNvSpPr/>
          <p:nvPr/>
        </p:nvSpPr>
        <p:spPr>
          <a:xfrm>
            <a:off x="826920" y="3141720"/>
            <a:ext cx="78710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Задача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ания получила оборудование, включенное в перечень таможенной декларации. Таможенная стоимость оборудования составляет 1250000 тенге, а таможенные платежи – 105000 тенге. Определите размер облагаемого оборота?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50000 + 105000=1355000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Oval 35"/>
          <p:cNvSpPr/>
          <p:nvPr/>
        </p:nvSpPr>
        <p:spPr>
          <a:xfrm>
            <a:off x="165240" y="3759120"/>
            <a:ext cx="2842920" cy="2710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При реализации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и импорте товаров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(работ, услуг)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установлена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ставка 12%.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75" name="Oval 37"/>
          <p:cNvSpPr/>
          <p:nvPr/>
        </p:nvSpPr>
        <p:spPr>
          <a:xfrm>
            <a:off x="5667480" y="3846600"/>
            <a:ext cx="2954160" cy="2708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При реализации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Товаров  на экспорт,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а также оказании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услуг по международным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перевозкам и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реализации товаров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на территории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СЭЗ установлена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нулевая ставка.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86800" cy="324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i="1" lang="ru-RU" sz="1900" spc="-1" strike="noStrike">
                <a:solidFill>
                  <a:srgbClr val="3399ff"/>
                </a:solidFill>
                <a:latin typeface="Arial Black"/>
              </a:rPr>
              <a:t>Порядок исчисления и сроки уплаты  налога на добавленную стоимость</a:t>
            </a:r>
            <a:br>
              <a:rPr sz="1900"/>
            </a:br>
            <a:br>
              <a:rPr sz="1900"/>
            </a:br>
            <a:r>
              <a:rPr b="0" i="1" lang="ru-RU" sz="1900" spc="-1" strike="noStrike">
                <a:solidFill>
                  <a:srgbClr val="b2b2b2"/>
                </a:solidFill>
                <a:latin typeface="Arial Black"/>
              </a:rPr>
              <a:t>  </a:t>
            </a:r>
            <a:r>
              <a:rPr b="0" lang="ru-RU" sz="1900" spc="-1" strike="noStrike">
                <a:solidFill>
                  <a:srgbClr val="3399ff"/>
                </a:solidFill>
                <a:latin typeface="Arial"/>
              </a:rPr>
              <a:t>Налог на добавленную стоимость, подлежащий уплате в бюджет по облагаемому обороту, определяется как разница между суммами налога на добавленную стоимость, начисленными за реализованные товары (работы, услуги) - и суммами налога на добавленную стоимость, подлежащими уплате за полученные товары (работы, услуги)</a:t>
            </a:r>
            <a:br>
              <a:rPr sz="1900"/>
            </a:br>
            <a:endParaRPr b="0" lang="en-US" sz="1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7" name="Rectangle 45"/>
          <p:cNvSpPr/>
          <p:nvPr/>
        </p:nvSpPr>
        <p:spPr>
          <a:xfrm>
            <a:off x="1764000" y="3213000"/>
            <a:ext cx="58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cc66"/>
                </a:solidFill>
                <a:latin typeface="Arial"/>
                <a:ea typeface="Arial"/>
              </a:rPr>
              <a:t>Σ</a:t>
            </a:r>
            <a:r>
              <a:rPr b="1" i="1" lang="ru-RU" sz="18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ffcc66"/>
                </a:solidFill>
                <a:latin typeface="Arial"/>
              </a:rPr>
              <a:t>НДС в бюджет  =</a:t>
            </a:r>
            <a:r>
              <a:rPr b="1" i="1" lang="el-GR" sz="1800" spc="-1" strike="noStrike">
                <a:solidFill>
                  <a:srgbClr val="ffcc66"/>
                </a:solidFill>
                <a:latin typeface="Arial"/>
              </a:rPr>
              <a:t>Σ</a:t>
            </a:r>
            <a:r>
              <a:rPr b="1" i="1" lang="ru-RU" sz="1800" spc="-1" strike="noStrike">
                <a:solidFill>
                  <a:srgbClr val="ffcc66"/>
                </a:solidFill>
                <a:latin typeface="Arial"/>
              </a:rPr>
              <a:t> НДС полная  - </a:t>
            </a:r>
            <a:r>
              <a:rPr b="1" i="1" lang="el-GR" sz="1800" spc="-1" strike="noStrike">
                <a:solidFill>
                  <a:srgbClr val="ffcc66"/>
                </a:solidFill>
                <a:latin typeface="Arial"/>
              </a:rPr>
              <a:t>Σ</a:t>
            </a:r>
            <a:r>
              <a:rPr b="1" i="1" lang="ru-RU" sz="1800" spc="-1" strike="noStrike">
                <a:solidFill>
                  <a:srgbClr val="ffcc66"/>
                </a:solidFill>
                <a:latin typeface="Arial"/>
              </a:rPr>
              <a:t>НДС в зачет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78" name="AutoShape 46"/>
          <p:cNvSpPr/>
          <p:nvPr/>
        </p:nvSpPr>
        <p:spPr>
          <a:xfrm>
            <a:off x="2987640" y="4292640"/>
            <a:ext cx="2664000" cy="1800360"/>
          </a:xfrm>
          <a:prstGeom prst="leftRightArrow">
            <a:avLst>
              <a:gd name="adj1" fmla="val 50000"/>
              <a:gd name="adj2" fmla="val 29457"/>
            </a:avLst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10199"/>
                </a:solidFill>
                <a:latin typeface="Arial"/>
              </a:rPr>
              <a:t>Ставки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Organization Chart 9"/>
          <p:cNvGrpSpPr/>
          <p:nvPr/>
        </p:nvGrpSpPr>
        <p:grpSpPr>
          <a:xfrm>
            <a:off x="1979640" y="765000"/>
            <a:ext cx="5399640" cy="4462920"/>
            <a:chOff x="1979640" y="765000"/>
            <a:chExt cx="5399640" cy="4462920"/>
          </a:xfrm>
        </p:grpSpPr>
        <p:cxnSp>
          <p:nvCxnSpPr>
            <p:cNvPr id="480" name="_s4100"/>
            <p:cNvCxnSpPr>
              <a:stCxn id="481" idx="0"/>
              <a:endCxn id="482" idx="0"/>
            </p:cNvCxnSpPr>
            <p:nvPr/>
          </p:nvCxnSpPr>
          <p:spPr>
            <a:xfrm flipV="1">
              <a:off x="4678920" y="2549520"/>
              <a:ext cx="7560" cy="8931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82" name="_s4101"/>
            <p:cNvSpPr/>
            <p:nvPr/>
          </p:nvSpPr>
          <p:spPr>
            <a:xfrm>
              <a:off x="1979640" y="765000"/>
              <a:ext cx="5399640" cy="1785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0000a4"/>
                </a:gs>
                <a:gs pos="100000">
                  <a:srgbClr val="0099cc"/>
                </a:gs>
              </a:gsLst>
              <a:lin ang="8100000"/>
            </a:gra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99cc"/>
                  </a:solidFill>
                  <a:latin typeface="Arial"/>
                </a:rPr>
                <a:t>Налоговый </a:t>
              </a:r>
              <a:endParaRPr b="0" lang="en-US" sz="4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99cc"/>
                  </a:solidFill>
                  <a:latin typeface="Arial"/>
                </a:rPr>
                <a:t>период по НДС</a:t>
              </a:r>
              <a:endParaRPr b="0" lang="en-US" sz="46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81" name="_s4102"/>
            <p:cNvSpPr/>
            <p:nvPr/>
          </p:nvSpPr>
          <p:spPr>
            <a:xfrm>
              <a:off x="1979640" y="3442680"/>
              <a:ext cx="5399640" cy="1785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00a4"/>
                </a:gs>
                <a:gs pos="100000">
                  <a:srgbClr val="00cc99"/>
                </a:gs>
              </a:gsLst>
              <a:lin ang="8100000"/>
            </a:gradFill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cc99"/>
                  </a:solidFill>
                  <a:latin typeface="Arial"/>
                </a:rPr>
                <a:t>Квартал</a:t>
              </a:r>
              <a:endParaRPr b="0" lang="en-US" sz="46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</p:spTree>
  </p:cSld>
  <p:transition advTm="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" y="5660640"/>
            <a:ext cx="860436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Уплата НДС производится за каждый налоговый период после предоставления декларации не позднее 15 числа каждого месяца или квартала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13640" y="602640"/>
            <a:ext cx="2484000" cy="370296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Декларац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по НД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предоставля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за кажд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налого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период не поздн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15 числа месяц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следующ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за налогов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периодом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5076720" y="1413000"/>
            <a:ext cx="3168720" cy="417672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Обязательным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документом для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всех плательщиков НДС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является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чет – фактура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При определении суммы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налога подлежащего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взносу в бюджет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получатель товара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(работ, услуг) имеет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право на зачет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сумм НДС по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выставленным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счет - фактурам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2b2b2"/>
                </a:solidFill>
                <a:latin typeface="Arial"/>
              </a:rPr>
              <a:t>Контрольные вопросы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представляет собой налог на добавленную стоимос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являются плательщиками НД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является объектом обложения НД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овите ставки НДС  существующие в Казахста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аком случае производится снятие с учета по НД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овите сроки предоставления декларации по НД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Тестовые зад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НДС - эт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разновидность косвен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ога на товары и услуг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региональный налог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) местный налог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социальный налог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) подоходный нало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Кто является плательщиком НДС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международные организац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иностранные граждан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) организации и предприятия, имеющие статус юридического лица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физические лиц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) лица без граждан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 Объектом налогообложения НДС явля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оборот  товаров (работ, услуг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транспорт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) домашнее хозяйство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оборудовани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) стро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 Декларация по НДС предоставля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1 раз в год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через каждые 2 недел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) не позднее 15 числа месяц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едующего за налоговым периодом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2 раза в год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) через каждые 3 недел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Налогоплательщик НДС при реализации товаров должен выставить покупателю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доверен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счет-фактур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) расходный кассовый ордер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приходный кассовый ордер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) накладну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С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С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Общая характеристика налога на добавленную стои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Порядок постановки на учет и снятия с учета по налогу на добавленную стоим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Понятие и методика расчета облагаемого оборота и облагаемого им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Порядок исчисления и сроки уплаты  налога на добавленную стои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Контрольные вопро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Тестовые 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Список использованной литера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Список использованной литературы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Налоговый кодекс РК 2008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Нурхалиева Д.М., Омирбаев С.М., Омарова Ш.А. - Налоги и налогообложение в РК, Астана 2007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ttp//www tax.k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AutoShape 164"/>
          <p:cNvSpPr/>
          <p:nvPr/>
        </p:nvSpPr>
        <p:spPr>
          <a:xfrm>
            <a:off x="179280" y="476280"/>
            <a:ext cx="8964720" cy="1584360"/>
          </a:xfrm>
          <a:custGeom>
            <a:avLst/>
            <a:gdLst>
              <a:gd name="textAreaLeft" fmla="*/ 2241000 w 8964720"/>
              <a:gd name="textAreaRight" fmla="*/ 6723720 w 8964720"/>
              <a:gd name="textAreaTop" fmla="*/ 46800 h 1584360"/>
              <a:gd name="textAreaBottom" fmla="*/ 11883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80008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Налог на добавленную стоимость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97" name="Line 170"/>
          <p:cNvSpPr/>
          <p:nvPr/>
        </p:nvSpPr>
        <p:spPr>
          <a:xfrm flipH="1">
            <a:off x="4354560" y="1700280"/>
            <a:ext cx="1440" cy="52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98" name="Line 171"/>
          <p:cNvSpPr/>
          <p:nvPr/>
        </p:nvSpPr>
        <p:spPr>
          <a:xfrm flipH="1">
            <a:off x="1187280" y="2205000"/>
            <a:ext cx="3152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99" name="Line 174"/>
          <p:cNvSpPr/>
          <p:nvPr/>
        </p:nvSpPr>
        <p:spPr>
          <a:xfrm>
            <a:off x="4356000" y="220500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0" name="Line 175"/>
          <p:cNvSpPr/>
          <p:nvPr/>
        </p:nvSpPr>
        <p:spPr>
          <a:xfrm>
            <a:off x="1187280" y="2205000"/>
            <a:ext cx="0" cy="868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1" name="Line 176"/>
          <p:cNvSpPr/>
          <p:nvPr/>
        </p:nvSpPr>
        <p:spPr>
          <a:xfrm>
            <a:off x="7596360" y="2205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2" name="Line 178"/>
          <p:cNvSpPr/>
          <p:nvPr/>
        </p:nvSpPr>
        <p:spPr>
          <a:xfrm>
            <a:off x="4788000" y="2205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3" name="AutoShape 179"/>
          <p:cNvSpPr/>
          <p:nvPr/>
        </p:nvSpPr>
        <p:spPr>
          <a:xfrm>
            <a:off x="468360" y="3112920"/>
            <a:ext cx="2914560" cy="3745080"/>
          </a:xfrm>
          <a:prstGeom prst="flowChartDocument">
            <a:avLst/>
          </a:prstGeom>
          <a:solidFill>
            <a:srgbClr val="9933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едставляет собой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тчисления в бюджет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асти стоимости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благаемого оборота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 реализации,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обавленной в процессе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изводства и обращения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оваров(работ, услуг)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 также отчисления при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мпорте  на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ерриторию РК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4" name="AutoShape 180"/>
          <p:cNvSpPr/>
          <p:nvPr/>
        </p:nvSpPr>
        <p:spPr>
          <a:xfrm>
            <a:off x="6291360" y="3135240"/>
            <a:ext cx="2700360" cy="3456000"/>
          </a:xfrm>
          <a:prstGeom prst="flowChartDocumen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ямо связывает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логовое поступление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 ростом цен и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является эффективным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ычагом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едотвращения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нфляционного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цесса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юджетных средств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5" name="AutoShape 182"/>
          <p:cNvSpPr/>
          <p:nvPr/>
        </p:nvSpPr>
        <p:spPr>
          <a:xfrm>
            <a:off x="3780000" y="3213000"/>
            <a:ext cx="2158920" cy="3645000"/>
          </a:xfrm>
          <a:prstGeom prst="flowChartOffpage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первые был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веден во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ции в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54 году П. Лоре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Казахстане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ункционирует с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2 года.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10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лательщиками НДС являются лица, вставшие на учет по НДС, и импортирующие НДС</a:t>
            </a:r>
            <a:br>
              <a:rPr sz="1800"/>
            </a:b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407" name="Organization Chart 7"/>
          <p:cNvGrpSpPr/>
          <p:nvPr/>
        </p:nvGrpSpPr>
        <p:grpSpPr>
          <a:xfrm>
            <a:off x="395280" y="907920"/>
            <a:ext cx="8569080" cy="5838840"/>
            <a:chOff x="395280" y="907920"/>
            <a:chExt cx="8569080" cy="5838840"/>
          </a:xfrm>
        </p:grpSpPr>
        <p:cxnSp>
          <p:nvCxnSpPr>
            <p:cNvPr id="408" name="_s1028"/>
            <p:cNvCxnSpPr>
              <a:stCxn id="409" idx="0"/>
              <a:endCxn id="410" idx="2"/>
            </p:cNvCxnSpPr>
            <p:nvPr/>
          </p:nvCxnSpPr>
          <p:spPr>
            <a:xfrm flipV="1" rot="16200000">
              <a:off x="5717520" y="2183040"/>
              <a:ext cx="1213560" cy="3287880"/>
            </a:xfrm>
            <a:prstGeom prst="bentConnector3">
              <a:avLst>
                <a:gd name="adj1" fmla="val 10029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11" name="_s1029"/>
            <p:cNvCxnSpPr>
              <a:stCxn id="412" idx="0"/>
              <a:endCxn id="410" idx="2"/>
            </p:cNvCxnSpPr>
            <p:nvPr/>
          </p:nvCxnSpPr>
          <p:spPr>
            <a:xfrm flipV="1" rot="16200000">
              <a:off x="4621680" y="3278880"/>
              <a:ext cx="1213560" cy="1095840"/>
            </a:xfrm>
            <a:prstGeom prst="bentConnector3">
              <a:avLst>
                <a:gd name="adj1" fmla="val 10029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13" name="_s1030"/>
            <p:cNvCxnSpPr>
              <a:stCxn id="414" idx="0"/>
              <a:endCxn id="410" idx="2"/>
            </p:cNvCxnSpPr>
            <p:nvPr/>
          </p:nvCxnSpPr>
          <p:spPr>
            <a:xfrm flipH="1" flipV="1" rot="5400000">
              <a:off x="3525840" y="3278160"/>
              <a:ext cx="1213560" cy="1098000"/>
            </a:xfrm>
            <a:prstGeom prst="bentConnector3">
              <a:avLst>
                <a:gd name="adj1" fmla="val 10029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15" name="_s1031"/>
            <p:cNvCxnSpPr>
              <a:stCxn id="416" idx="0"/>
              <a:endCxn id="410" idx="2"/>
            </p:cNvCxnSpPr>
            <p:nvPr/>
          </p:nvCxnSpPr>
          <p:spPr>
            <a:xfrm flipH="1" flipV="1" rot="5400000">
              <a:off x="2430360" y="2183040"/>
              <a:ext cx="1213560" cy="3287880"/>
            </a:xfrm>
            <a:prstGeom prst="bentConnector3">
              <a:avLst>
                <a:gd name="adj1" fmla="val 10029"/>
              </a:avLst>
            </a:prstGeom>
            <a:ln w="28440">
              <a:solidFill>
                <a:srgbClr val="4d4d4d"/>
              </a:solidFill>
              <a:miter/>
            </a:ln>
          </p:spPr>
        </p:cxnSp>
        <p:sp>
          <p:nvSpPr>
            <p:cNvPr id="410" name="_s1032"/>
            <p:cNvSpPr/>
            <p:nvPr/>
          </p:nvSpPr>
          <p:spPr>
            <a:xfrm>
              <a:off x="3683160" y="907920"/>
              <a:ext cx="1991880" cy="2313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00"/>
              </a:solidFill>
              <a:miter/>
            </a:ln>
            <a:effectLst>
              <a:outerShdw dist="63504" dir="19383909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ПЛАТЕЛЬЩИКИ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16" name="_s1033"/>
            <p:cNvSpPr/>
            <p:nvPr/>
          </p:nvSpPr>
          <p:spPr>
            <a:xfrm>
              <a:off x="395280" y="4433760"/>
              <a:ext cx="1991880" cy="2313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ee941c"/>
              </a:solidFill>
              <a:miter/>
            </a:ln>
            <a:effectLst>
              <a:outerShdw dist="63504" dir="19383909" blurRad="0" rotWithShape="0">
                <a:srgbClr val="ee94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Индивидуальные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предприниматели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14" name="_s1034"/>
            <p:cNvSpPr/>
            <p:nvPr/>
          </p:nvSpPr>
          <p:spPr>
            <a:xfrm>
              <a:off x="2587680" y="4433760"/>
              <a:ext cx="1991880" cy="2313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ee941c"/>
              </a:solidFill>
              <a:miter/>
            </a:ln>
            <a:effectLst>
              <a:outerShdw dist="63504" dir="19383909" blurRad="0" rotWithShape="0">
                <a:srgbClr val="ee94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Юридические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лица, за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исключением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государственных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учреждений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12" name="_s1035"/>
            <p:cNvSpPr/>
            <p:nvPr/>
          </p:nvSpPr>
          <p:spPr>
            <a:xfrm>
              <a:off x="4780440" y="4433760"/>
              <a:ext cx="1991880" cy="2313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ee941c"/>
              </a:solidFill>
              <a:miter/>
            </a:ln>
            <a:effectLst>
              <a:outerShdw dist="63504" dir="19383909" blurRad="0" rotWithShape="0">
                <a:srgbClr val="ee94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Структурные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подразделения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юридического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лица, признанные 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самостоятельными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плательщиками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НДС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09" name="_s1036"/>
            <p:cNvSpPr/>
            <p:nvPr/>
          </p:nvSpPr>
          <p:spPr>
            <a:xfrm>
              <a:off x="6972480" y="4433760"/>
              <a:ext cx="1991880" cy="2313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ee941c"/>
              </a:solidFill>
              <a:miter/>
            </a:ln>
            <a:effectLst>
              <a:outerShdw dist="63504" dir="19383909" blurRad="0" rotWithShape="0">
                <a:srgbClr val="ee94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Нерезиденты,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осуществляющие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деятельность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в РК через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постоянное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учреждение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</p:spTree>
  </p:cSld>
  <p:transition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Organization Chart 63"/>
          <p:cNvGrpSpPr/>
          <p:nvPr/>
        </p:nvGrpSpPr>
        <p:grpSpPr>
          <a:xfrm>
            <a:off x="539640" y="260280"/>
            <a:ext cx="8208000" cy="5544000"/>
            <a:chOff x="539640" y="260280"/>
            <a:chExt cx="8208000" cy="5544000"/>
          </a:xfrm>
        </p:grpSpPr>
        <p:cxnSp>
          <p:nvCxnSpPr>
            <p:cNvPr id="418" name="_s2052"/>
            <p:cNvCxnSpPr>
              <a:stCxn id="419" idx="0"/>
              <a:endCxn id="420" idx="3"/>
            </p:cNvCxnSpPr>
            <p:nvPr/>
          </p:nvCxnSpPr>
          <p:spPr>
            <a:xfrm flipV="1" rot="16200000">
              <a:off x="6506640" y="4010040"/>
              <a:ext cx="693720" cy="122400"/>
            </a:xfrm>
            <a:prstGeom prst="bentConnector3">
              <a:avLst>
                <a:gd name="adj1" fmla="val 20508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21" name="_s2053"/>
            <p:cNvCxnSpPr>
              <a:stCxn id="422" idx="0"/>
              <a:endCxn id="423" idx="3"/>
            </p:cNvCxnSpPr>
            <p:nvPr/>
          </p:nvCxnSpPr>
          <p:spPr>
            <a:xfrm flipV="1" rot="16200000">
              <a:off x="2086920" y="4010040"/>
              <a:ext cx="693720" cy="122400"/>
            </a:xfrm>
            <a:prstGeom prst="bentConnector3">
              <a:avLst>
                <a:gd name="adj1" fmla="val 20508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24" name="_s2054"/>
            <p:cNvCxnSpPr>
              <a:stCxn id="420" idx="0"/>
              <a:endCxn id="425" idx="3"/>
            </p:cNvCxnSpPr>
            <p:nvPr/>
          </p:nvCxnSpPr>
          <p:spPr>
            <a:xfrm flipV="1" rot="16200000">
              <a:off x="5401440" y="825840"/>
              <a:ext cx="693720" cy="2333160"/>
            </a:xfrm>
            <a:prstGeom prst="bentConnector3">
              <a:avLst>
                <a:gd name="adj1" fmla="val 20404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26" name="_s2055"/>
            <p:cNvCxnSpPr>
              <a:stCxn id="423" idx="0"/>
              <a:endCxn id="425" idx="3"/>
            </p:cNvCxnSpPr>
            <p:nvPr/>
          </p:nvCxnSpPr>
          <p:spPr>
            <a:xfrm flipH="1" flipV="1" rot="5400000">
              <a:off x="3191760" y="948960"/>
              <a:ext cx="693720" cy="2087280"/>
            </a:xfrm>
            <a:prstGeom prst="bentConnector3">
              <a:avLst>
                <a:gd name="adj1" fmla="val 20404"/>
              </a:avLst>
            </a:prstGeom>
            <a:ln w="28440">
              <a:solidFill>
                <a:srgbClr val="4d4d4d"/>
              </a:solidFill>
              <a:miter/>
            </a:ln>
          </p:spPr>
        </p:cxnSp>
        <p:sp>
          <p:nvSpPr>
            <p:cNvPr id="425" name="_s2056"/>
            <p:cNvSpPr/>
            <p:nvPr/>
          </p:nvSpPr>
          <p:spPr>
            <a:xfrm>
              <a:off x="2750040" y="260280"/>
              <a:ext cx="3788280" cy="1386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cc">
                    <a:alpha val="40000"/>
                  </a:srgbClr>
                </a:gs>
                <a:gs pos="100000">
                  <a:srgbClr val="0000a4"/>
                </a:gs>
              </a:gsLst>
              <a:lin ang="5400000"/>
            </a:gra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808000"/>
                  </a:solidFill>
                  <a:latin typeface="Arial"/>
                </a:rPr>
                <a:t>Объекты</a:t>
              </a:r>
              <a:endParaRPr b="0" lang="en-US" sz="30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808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808000"/>
                  </a:solidFill>
                  <a:latin typeface="Arial"/>
                </a:rPr>
                <a:t>обложения</a:t>
              </a:r>
              <a:endParaRPr b="0" lang="en-US" sz="30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23" name="_s2057"/>
            <p:cNvSpPr/>
            <p:nvPr/>
          </p:nvSpPr>
          <p:spPr>
            <a:xfrm>
              <a:off x="539640" y="2339280"/>
              <a:ext cx="3788280" cy="1386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c99">
                    <a:alpha val="40000"/>
                  </a:srgbClr>
                </a:gs>
                <a:gs pos="100000">
                  <a:srgbClr val="0000a4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941c"/>
                  </a:solidFill>
                  <a:latin typeface="Arial"/>
                </a:rPr>
                <a:t>Облагаемый </a:t>
              </a:r>
              <a:endParaRPr b="0" lang="en-US" sz="24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941c"/>
                  </a:solidFill>
                  <a:latin typeface="Arial"/>
                </a:rPr>
                <a:t>оборот</a:t>
              </a:r>
              <a:endParaRPr b="0" lang="en-US" sz="24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20" name="_s2058"/>
            <p:cNvSpPr/>
            <p:nvPr/>
          </p:nvSpPr>
          <p:spPr>
            <a:xfrm>
              <a:off x="4959360" y="2339280"/>
              <a:ext cx="3788280" cy="1386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c99">
                    <a:alpha val="40000"/>
                  </a:srgbClr>
                </a:gs>
                <a:gs pos="100000">
                  <a:srgbClr val="0000a4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941c"/>
                  </a:solidFill>
                  <a:latin typeface="Arial"/>
                </a:rPr>
                <a:t>Облагаемый </a:t>
              </a:r>
              <a:endParaRPr b="0" lang="en-US" sz="24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941c"/>
                  </a:solidFill>
                  <a:latin typeface="Arial"/>
                </a:rPr>
                <a:t>импорт</a:t>
              </a:r>
              <a:endParaRPr b="0" lang="en-US" sz="24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22" name="_s2059"/>
            <p:cNvSpPr/>
            <p:nvPr/>
          </p:nvSpPr>
          <p:spPr>
            <a:xfrm>
              <a:off x="539640" y="4418280"/>
              <a:ext cx="3788280" cy="1386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0000a4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оборот по реализации товаров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работ, услуг) совершаемый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лательщиком НДС.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19" name="_s2060"/>
            <p:cNvSpPr/>
            <p:nvPr/>
          </p:nvSpPr>
          <p:spPr>
            <a:xfrm>
              <a:off x="4959360" y="4418280"/>
              <a:ext cx="3788280" cy="1386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0000a4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товары, ввозимые или ввезенные 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на территорию РК, подлежащие 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кларированию в соответствии с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таможенным законодательством РК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</p:spTree>
  </p:cSld>
  <p:transition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Порядок постановки на учет и снятия с учета по налогу на добавленную стоимость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AutoShape 79"/>
          <p:cNvSpPr/>
          <p:nvPr/>
        </p:nvSpPr>
        <p:spPr>
          <a:xfrm>
            <a:off x="755640" y="1052640"/>
            <a:ext cx="8064360" cy="1224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5b2ff"/>
                </a:solidFill>
                <a:latin typeface="Arial"/>
              </a:rPr>
              <a:t>Постановка на учет по НДС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29" name="Oval 91"/>
          <p:cNvSpPr/>
          <p:nvPr/>
        </p:nvSpPr>
        <p:spPr>
          <a:xfrm>
            <a:off x="7270920" y="2997360"/>
            <a:ext cx="1873080" cy="158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5b2ff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0" name="Oval 92"/>
          <p:cNvSpPr/>
          <p:nvPr/>
        </p:nvSpPr>
        <p:spPr>
          <a:xfrm>
            <a:off x="468360" y="2852640"/>
            <a:ext cx="1835280" cy="1441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5b2ff"/>
                </a:solidFill>
                <a:latin typeface="Arial"/>
              </a:rPr>
              <a:t>Обязательная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1" name="Oval 96"/>
          <p:cNvSpPr/>
          <p:nvPr/>
        </p:nvSpPr>
        <p:spPr>
          <a:xfrm>
            <a:off x="2700360" y="2565360"/>
            <a:ext cx="4319640" cy="403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бует от организаций подачи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явления в налоговый орган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позднее 15 календарных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ней со дня окончания любого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иода, но не более 12-месячного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итогам которого размер оборота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реализации продукции(работ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луг) превысил минимальный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.е 15000МРП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2" name="AutoShape 99"/>
          <p:cNvSpPr/>
          <p:nvPr/>
        </p:nvSpPr>
        <p:spPr>
          <a:xfrm>
            <a:off x="1187280" y="4292640"/>
            <a:ext cx="360360" cy="2565360"/>
          </a:xfrm>
          <a:prstGeom prst="downArrow">
            <a:avLst>
              <a:gd name="adj1" fmla="val 50000"/>
              <a:gd name="adj2" fmla="val 177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3" name="AutoShape 100"/>
          <p:cNvSpPr/>
          <p:nvPr/>
        </p:nvSpPr>
        <p:spPr>
          <a:xfrm>
            <a:off x="1476360" y="4869000"/>
            <a:ext cx="1295280" cy="288720"/>
          </a:xfrm>
          <a:prstGeom prst="rightArrow">
            <a:avLst>
              <a:gd name="adj1" fmla="val 50000"/>
              <a:gd name="adj2" fmla="val 11215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4" name="AutoShape 101"/>
          <p:cNvSpPr/>
          <p:nvPr/>
        </p:nvSpPr>
        <p:spPr>
          <a:xfrm>
            <a:off x="1187280" y="1700280"/>
            <a:ext cx="360360" cy="1152360"/>
          </a:xfrm>
          <a:prstGeom prst="downArrow">
            <a:avLst>
              <a:gd name="adj1" fmla="val 50000"/>
              <a:gd name="adj2" fmla="val 7994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5" name="AutoShape 102"/>
          <p:cNvSpPr/>
          <p:nvPr/>
        </p:nvSpPr>
        <p:spPr>
          <a:xfrm>
            <a:off x="8028000" y="170028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AutoShape 32"/>
          <p:cNvSpPr/>
          <p:nvPr/>
        </p:nvSpPr>
        <p:spPr>
          <a:xfrm>
            <a:off x="1547640" y="333360"/>
            <a:ext cx="3311640" cy="3097080"/>
          </a:xfrm>
          <a:prstGeom prst="flowChartConnector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и становятся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ельщиками НДС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ервый день месяца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едующего за месяцем,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тором они подали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явление  постановке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учет по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8" name="Oval 38"/>
          <p:cNvSpPr/>
          <p:nvPr/>
        </p:nvSpPr>
        <p:spPr>
          <a:xfrm>
            <a:off x="95400" y="3749760"/>
            <a:ext cx="3311280" cy="307008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.П. становится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ельщиком  НДС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 дня государственной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страции, если  подал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явление о постановке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учет по НДС не позднее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рабочих дней после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сударственной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страции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9" name="Oval 39"/>
          <p:cNvSpPr/>
          <p:nvPr/>
        </p:nvSpPr>
        <p:spPr>
          <a:xfrm>
            <a:off x="5651640" y="0"/>
            <a:ext cx="3492360" cy="350208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р.лица и нерезиденты,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авшие заявления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остановке на учет по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ДС не позднее 10 рабочих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ней после их 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сударственной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гистрации становятся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ательщиками НДС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 дня их гос.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гистрации в качестве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логоплательщиков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0" name="Oval 44"/>
          <p:cNvSpPr/>
          <p:nvPr/>
        </p:nvSpPr>
        <p:spPr>
          <a:xfrm>
            <a:off x="4500720" y="3716280"/>
            <a:ext cx="3311280" cy="31417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уктурные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разделения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р. лица-плательщика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новятся плательщиками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ДС в первый месяц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едующий за месяцем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тором поданы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явления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 постановке на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т по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1" name="AutoShape 48"/>
          <p:cNvSpPr/>
          <p:nvPr/>
        </p:nvSpPr>
        <p:spPr>
          <a:xfrm rot="10800000">
            <a:off x="3419280" y="5013360"/>
            <a:ext cx="1152360" cy="503280"/>
          </a:xfrm>
          <a:prstGeom prst="leftArrow">
            <a:avLst>
              <a:gd name="adj1" fmla="val 50000"/>
              <a:gd name="adj2" fmla="val 57242"/>
            </a:avLst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2" name="AutoShape 49"/>
          <p:cNvSpPr/>
          <p:nvPr/>
        </p:nvSpPr>
        <p:spPr>
          <a:xfrm rot="1878000">
            <a:off x="6643440" y="3331800"/>
            <a:ext cx="447480" cy="647640"/>
          </a:xfrm>
          <a:prstGeom prst="upArrow">
            <a:avLst>
              <a:gd name="adj1" fmla="val 50000"/>
              <a:gd name="adj2" fmla="val 36183"/>
            </a:avLst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3" name="AutoShape 50"/>
          <p:cNvSpPr/>
          <p:nvPr/>
        </p:nvSpPr>
        <p:spPr>
          <a:xfrm rot="16200000">
            <a:off x="5042520" y="948240"/>
            <a:ext cx="498600" cy="1150920"/>
          </a:xfrm>
          <a:prstGeom prst="upArrow">
            <a:avLst>
              <a:gd name="adj1" fmla="val 50000"/>
              <a:gd name="adj2" fmla="val 57708"/>
            </a:avLst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4" name="AutoShape 52"/>
          <p:cNvSpPr/>
          <p:nvPr/>
        </p:nvSpPr>
        <p:spPr>
          <a:xfrm rot="1618800">
            <a:off x="2017440" y="3074760"/>
            <a:ext cx="444240" cy="855360"/>
          </a:xfrm>
          <a:prstGeom prst="downArrow">
            <a:avLst>
              <a:gd name="adj1" fmla="val 50000"/>
              <a:gd name="adj2" fmla="val 48136"/>
            </a:avLst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5" name="AutoShape 53"/>
          <p:cNvSpPr/>
          <p:nvPr/>
        </p:nvSpPr>
        <p:spPr>
          <a:xfrm rot="5400000">
            <a:off x="617760" y="-222840"/>
            <a:ext cx="11383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При постановке на учет по НДС налоговый орган выдает организации свидетельство о его постановке на учет, в котором указываются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47" name="Diagram 7"/>
          <p:cNvGrpSpPr/>
          <p:nvPr/>
        </p:nvGrpSpPr>
        <p:grpSpPr>
          <a:xfrm>
            <a:off x="2399760" y="1924200"/>
            <a:ext cx="4728600" cy="4095360"/>
            <a:chOff x="2399760" y="1924200"/>
            <a:chExt cx="4728600" cy="4095360"/>
          </a:xfrm>
        </p:grpSpPr>
        <p:sp>
          <p:nvSpPr>
            <p:cNvPr id="448" name="_s3076"/>
            <p:cNvSpPr/>
            <p:nvPr/>
          </p:nvSpPr>
          <p:spPr>
            <a:xfrm>
              <a:off x="3321000" y="192420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49" name="_s3077"/>
            <p:cNvSpPr/>
            <p:nvPr/>
          </p:nvSpPr>
          <p:spPr>
            <a:xfrm rot="7200000">
              <a:off x="3715200" y="260568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50" name="_s3078"/>
            <p:cNvSpPr/>
            <p:nvPr/>
          </p:nvSpPr>
          <p:spPr>
            <a:xfrm rot="14400000">
              <a:off x="2928240" y="260568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51" name="_s3079"/>
            <p:cNvSpPr/>
            <p:nvPr/>
          </p:nvSpPr>
          <p:spPr>
            <a:xfrm>
              <a:off x="5554800" y="245124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РНН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             </a:t>
              </a: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налогоплательщика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52" name="_s3080"/>
            <p:cNvSpPr/>
            <p:nvPr/>
          </p:nvSpPr>
          <p:spPr>
            <a:xfrm>
              <a:off x="4187880" y="482436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5b2ff"/>
                  </a:solidFill>
                  <a:latin typeface="Arial"/>
                </a:rPr>
                <a:t>Дата, с которой налогоплательщик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5b2ff"/>
                  </a:solidFill>
                  <a:latin typeface="Arial"/>
                </a:rPr>
                <a:t>становится плательщиком НДС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53" name="_s3081"/>
            <p:cNvSpPr/>
            <p:nvPr/>
          </p:nvSpPr>
          <p:spPr>
            <a:xfrm>
              <a:off x="2814480" y="245268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Наименование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налогоплательщика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и его реквизиты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3"/>
          <p:cNvSpPr/>
          <p:nvPr/>
        </p:nvSpPr>
        <p:spPr>
          <a:xfrm>
            <a:off x="0" y="4365720"/>
            <a:ext cx="2987640" cy="2060640"/>
          </a:xfrm>
          <a:prstGeom prst="flowChartDecision">
            <a:avLst/>
          </a:prstGeom>
          <a:solidFill>
            <a:srgbClr val="8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99"/>
                </a:solidFill>
                <a:uFillTx/>
                <a:latin typeface="Arial"/>
              </a:rPr>
              <a:t>Место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99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cc0099"/>
                </a:solidFill>
                <a:uFillTx/>
                <a:latin typeface="Arial"/>
              </a:rPr>
              <a:t>постановки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99"/>
                </a:solidFill>
                <a:uFillTx/>
                <a:latin typeface="Arial"/>
              </a:rPr>
              <a:t>на учет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99"/>
                </a:solidFill>
                <a:uFillTx/>
                <a:latin typeface="Arial"/>
              </a:rPr>
              <a:t>по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55" name="AutoShape 24"/>
          <p:cNvSpPr/>
          <p:nvPr/>
        </p:nvSpPr>
        <p:spPr>
          <a:xfrm>
            <a:off x="3708360" y="4653000"/>
            <a:ext cx="5435640" cy="1871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ри осуществлении юридическим лицом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деятельности по строительству объектов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На  территории СЭЗ постановка на учет по НДС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такого юридического  лица либо его структурного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дразделения осуществляется в налоговом органе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на территории СЭЗ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56" name="AutoShape 26"/>
          <p:cNvSpPr/>
          <p:nvPr/>
        </p:nvSpPr>
        <p:spPr>
          <a:xfrm>
            <a:off x="324000" y="333360"/>
            <a:ext cx="4356000" cy="19432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становка на учет по налогу на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добавленную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стоимость осуществляется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 месту государственной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регистрации в качестве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налогоплательщика, если иное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не предусмотрено настоящей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статьей.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57" name="AutoShape 27"/>
          <p:cNvSpPr/>
          <p:nvPr/>
        </p:nvSpPr>
        <p:spPr>
          <a:xfrm>
            <a:off x="2484360" y="2565360"/>
            <a:ext cx="5400720" cy="17287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Если юридическое лицо не заявило о своей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становке на учет по НДС, то его структурное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дразделение, осуществляющее деятельность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 строительству объектов на территории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СЭЗ, рассматривается в качестве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самостоятельного плательщика НДС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без заявления указанного юридического лица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58" name="Line 32"/>
          <p:cNvSpPr/>
          <p:nvPr/>
        </p:nvSpPr>
        <p:spPr>
          <a:xfrm flipV="1">
            <a:off x="1476360" y="2276280"/>
            <a:ext cx="0" cy="20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59" name="Line 33"/>
          <p:cNvSpPr/>
          <p:nvPr/>
        </p:nvSpPr>
        <p:spPr>
          <a:xfrm>
            <a:off x="2987640" y="537372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0" name="Line 34"/>
          <p:cNvSpPr/>
          <p:nvPr/>
        </p:nvSpPr>
        <p:spPr>
          <a:xfrm>
            <a:off x="1476360" y="3429000"/>
            <a:ext cx="1079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1" name="Line 54"/>
          <p:cNvSpPr/>
          <p:nvPr/>
        </p:nvSpPr>
        <p:spPr>
          <a:xfrm>
            <a:off x="5651640" y="1484280"/>
            <a:ext cx="0" cy="1081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2" name="Line 55"/>
          <p:cNvSpPr/>
          <p:nvPr/>
        </p:nvSpPr>
        <p:spPr>
          <a:xfrm>
            <a:off x="8675640" y="1484280"/>
            <a:ext cx="0" cy="216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3" name="Line 56"/>
          <p:cNvSpPr/>
          <p:nvPr/>
        </p:nvSpPr>
        <p:spPr>
          <a:xfrm flipH="1">
            <a:off x="7884720" y="3645000"/>
            <a:ext cx="863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4" name="Line 57"/>
          <p:cNvSpPr/>
          <p:nvPr/>
        </p:nvSpPr>
        <p:spPr>
          <a:xfrm>
            <a:off x="8675640" y="3429000"/>
            <a:ext cx="0" cy="1224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5" name="Line 58"/>
          <p:cNvSpPr/>
          <p:nvPr/>
        </p:nvSpPr>
        <p:spPr>
          <a:xfrm>
            <a:off x="4629240" y="1469880"/>
            <a:ext cx="4032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3:44:00Z</dcterms:created>
  <dc:creator>Admin</dc:creator>
  <dc:description/>
  <dc:language>en-US</dc:language>
  <cp:lastModifiedBy>Windows XP Professional SP3</cp:lastModifiedBy>
  <dcterms:modified xsi:type="dcterms:W3CDTF">2011-06-07T18:43:04Z</dcterms:modified>
  <cp:revision>16</cp:revision>
  <dc:subject/>
  <dc:title>Налог на добавленную стоимость </dc:title>
</cp:coreProperties>
</file>