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6E298-C508-488F-B78E-88DA49A2F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CCE7E-7B9D-4654-94F4-A5359E69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21269-B32D-4E0A-AFD3-8CAD13733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7CDDD-E127-4AE9-9DB9-E0B20E388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4FBA-6C6F-4836-AF85-CF386817D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A42D-A0D2-49C2-A4CE-35D509A9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6A19-C15B-4724-9DBA-5417656C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7344-7D14-4A21-AF96-EF5E1B2C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6736-A98C-4107-B44A-7B977081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6F43-12C8-446B-BF58-30D3C499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1CD9-3A05-41DA-9C97-2F456AC5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E9599-DB9E-492D-89DF-5373DAFA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3DBA-EAFC-41F2-9BF9-49381776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A6F2-02F7-4237-BC71-39C5BF0E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417A-0745-4591-8B5E-6AA64271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3E7B-C965-4D90-97C5-95A0CAEDB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8CCD-2AB9-4F1B-8408-20511F19A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54183-0D33-4D3C-BC2E-A3515E23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08C8B-0CB0-4023-94F1-A1EFBC20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79824-2F04-48B0-A903-BC53C445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24E11-AB4B-4D39-B287-52214A18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E7CD7-48BA-4842-A33C-F3A0496F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32165-1B24-42A8-90C0-CE0F8CBE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92B7E-4177-4DE2-8F2A-F551E952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ADEC-E758-4EF3-AE3E-93FD0E9424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9f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14A6-2828-426D-A955-981AB0C675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ax.kz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457200"/>
            <a:ext cx="8569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8497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Понятие социального нал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Плательщики социального нал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Объекты налогообло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Ставки обложения нало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Порядок исчисления и порядок уплаты налога, налоговая деклара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64000" y="620640"/>
            <a:ext cx="5256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c2d7"/>
                </a:solidFill>
                <a:latin typeface="Arial"/>
              </a:rPr>
              <a:t>Социальный</a:t>
            </a:r>
            <a:r>
              <a:rPr b="0" lang="en-US" sz="2400" spc="-1" strike="noStrike">
                <a:solidFill>
                  <a:srgbClr val="9dc2d7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dc2d7"/>
                </a:solidFill>
                <a:latin typeface="Arial"/>
              </a:rPr>
              <a:t>на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Список использованных источников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«</a:t>
            </a:r>
            <a:r>
              <a:rPr b="0" i="1" lang="ru-RU" sz="3200" spc="-1" strike="noStrike">
                <a:solidFill>
                  <a:srgbClr val="3333cc"/>
                </a:solidFill>
                <a:latin typeface="Arial"/>
              </a:rPr>
              <a:t>Налоговый кодекс РК».(10 февраля 2008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Arial"/>
              </a:rPr>
              <a:t>«Налоги и налогообложение в РК» Нурхалиева Д.М., Омирбаев С.М., Омарова Ш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www.tax.k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Arial"/>
              </a:rPr>
              <a:t>Новый «Налоговый Кодекс РК» 2009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 u="sng">
                <a:solidFill>
                  <a:srgbClr val="ff3300"/>
                </a:solidFill>
                <a:uFillTx/>
                <a:latin typeface="Arial"/>
              </a:rPr>
              <a:t>Социальный налог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2276280"/>
            <a:ext cx="85075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4800" spc="-1" strike="noStrike">
                <a:solidFill>
                  <a:srgbClr val="ccccff"/>
                </a:solidFill>
                <a:latin typeface="Estrangelo Edessa"/>
              </a:rPr>
              <a:t>Один из видов прямых налогов, которые уплачивают организации, как работодатели, за своих работнико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Плательщики социального нало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Edwardian Script ITC"/>
              </a:rPr>
              <a:t>Индивидуальные предприниматели, за исключением осуществляющих расчеты с бюджета на основе разового тало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Edwardian Script ITC"/>
              </a:rPr>
              <a:t>Частные нотариусы, адвока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Edwardian Script ITC"/>
              </a:rPr>
              <a:t>Юридические лица – резиденты РК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Edwardian Script ITC"/>
              </a:rPr>
              <a:t>Нерезиденты, осуществляющих деятельность в РК через постоянное учреж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Объекты налогооб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entury Gothic"/>
              </a:rPr>
              <a:t>Расходы работодателя, выплачиваемые работникам – резидентам в виде доходов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entury Gothic"/>
              </a:rPr>
              <a:t>Доходы иностранного персонал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entury Gothic"/>
              </a:rPr>
              <a:t>Численность работников, включая самих работни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ffff"/>
                </a:solidFill>
                <a:uFillTx/>
                <a:latin typeface="Arial"/>
              </a:rPr>
              <a:t>Ставки обложения налог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оциальный налог исчисляется по ставке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11 процентов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Частные нотариусы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адвокаты уплачивают социальный налог в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2-кратном размере месячного расчетного показателя,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за себя и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1-кратном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размере месячного расчетного показателя за каждого работник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пециализированные организации, в которых работают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инвалиды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(численность в организации не менее 51%) по ставке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4,5 процен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авки социального налога для плательщиков, применяющие специальные налоговые режимы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(гл 62 НК)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ИП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1/2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стоимости патента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юридич.лица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1/2 от от исчисленной суммы налогов по упрощенной декларац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ельхоз.производителей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сумма соц.налога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уменьшена на 70%,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фермеры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20% от МРП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за каждого работника, а так же за главу и совершеннолетних членов крестьянского или фермерского хозяйства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8920" y="333360"/>
            <a:ext cx="79581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900" spc="-1" strike="noStrike" u="sng">
                <a:solidFill>
                  <a:srgbClr val="ff3300"/>
                </a:solidFill>
                <a:uFillTx/>
                <a:latin typeface="Arial"/>
              </a:rPr>
              <a:t>Порядок исчисления и порядок уплаты налога, налоговая декларация.</a:t>
            </a:r>
            <a:br>
              <a:rPr sz="40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1905120"/>
            <a:ext cx="859464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Forte"/>
              </a:rPr>
              <a:t>Исчисление социального налога</a:t>
            </a: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 производиться путем применения ставок к объекту налогообложения. Сумма соц. налога подлежит уменьшению на сумму соц.отчисл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Forte"/>
              </a:rPr>
              <a:t>Уплата социального налога</a:t>
            </a: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 производится не позднее 25 числа месяца, следующего за отчетным месяц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Forte"/>
              </a:rPr>
              <a:t>Декларация</a:t>
            </a: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 по социальному налогу предоставляется в налоговые органы ежекварта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rte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не позднее 15  числа второго месяца, следующего за отчетным кварта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Тестовые вопро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5280" y="1341000"/>
            <a:ext cx="7272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4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33cc"/>
                </a:solidFill>
                <a:uFillTx/>
                <a:latin typeface="Arial"/>
              </a:rPr>
              <a:t>Плательщиками социального налога являются: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А)  Индивидуальные предприниматели, за исключением осуществляющих расчеты с бюджета на основе разового тало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В) Частные нотариусы, адвока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С) Юридические лица – резиденты РК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Д) Нерезиденты, осуществляющих деятельность в РК через постоянное учрежде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Е) все варианты вер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0066"/>
                </a:solidFill>
                <a:uFillTx/>
                <a:latin typeface="Times New Roman"/>
              </a:rPr>
              <a:t>Что является объектом налогообложения для плательщиков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А)  расходы работодателя, выплачиваемые работникам- резидентам в виде доход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В) алименты на детей и иждивенце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С) единовременные выплаты из государственного бюджета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Д) социальные выплаты граждан, пострадавших вследствие экологического бедств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Е) адресная социальная помощь, пособия и компенс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Исчисление социального налога производи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А)  ежекварталь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В) ежегод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С) ежедекад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Д) еженедель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Е) ежемесячно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55640" y="1412640"/>
            <a:ext cx="7942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1" lang="en-US" sz="2000" spc="-1" strike="noStrike" u="sng">
                <a:solidFill>
                  <a:srgbClr val="ff0066"/>
                </a:solidFill>
                <a:uFillTx/>
                <a:latin typeface="Times New Roman"/>
              </a:rPr>
              <a:t>Декларация по социальному налогу предоставл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А)  не позднее 5  числа месяца, следующего за квартал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В) не позднее 20  числа месяца, следующего за квартал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С) не позднее 5 числа месяца, следующего за отчетным годо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Д) </a:t>
            </a:r>
            <a:r>
              <a:rPr b="0" i="1" lang="en-US" sz="2000" spc="-1" strike="noStrike">
                <a:solidFill>
                  <a:srgbClr val="000000"/>
                </a:solidFill>
                <a:latin typeface="Forte"/>
              </a:rPr>
              <a:t>не поздне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5 </a:t>
            </a:r>
            <a:r>
              <a:rPr b="0" i="1" lang="en-US" sz="2000" spc="-1" strike="noStrike">
                <a:solidFill>
                  <a:srgbClr val="000000"/>
                </a:solidFill>
                <a:latin typeface="Forte"/>
              </a:rPr>
              <a:t>числа второго месяца, следующего за отчетным кварталом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Е) в люб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Чему будет равна ставка социального налог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А) 13 %;  В) 15 %;С) 11 %;Д) 9 %;Е) 5 %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Тестовые вопро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950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ff"/>
                </a:solidFill>
                <a:latin typeface="Arial"/>
              </a:rPr>
              <a:t>Резю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41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оциальный налог, заменил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небюджетных платеж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оциальное страхов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бязательное медицинское страхов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Занятость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109760" y="1980720"/>
            <a:ext cx="4576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еимуществом социального налога, является то, что он не зависит от форм собственности хозяйствующего субъекта и конечного финансового результа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Методика расчета социального налога производится согласно применениям ставки налога- 11%,  к облагаемому дох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5:19:49Z</dcterms:created>
  <dc:creator>User</dc:creator>
  <dc:description/>
  <dc:language>en-US</dc:language>
  <cp:lastModifiedBy>test</cp:lastModifiedBy>
  <dcterms:modified xsi:type="dcterms:W3CDTF">2009-11-03T16:30:03Z</dcterms:modified>
  <cp:revision>12</cp:revision>
  <dc:subject/>
  <dc:title>Социальный налог</dc:title>
</cp:coreProperties>
</file>