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605E-7BFE-4547-B741-2CF83EB2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3707-3E61-486F-A994-9C739F02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BB7C-2303-4C5B-8ABC-B8D4A68C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3758-B83B-4050-8D06-D9AB19B1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F953-BC26-4811-8A8C-7D58B3CF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4FC3-B56F-4101-BAB7-651BBC72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2165-5B6D-4A6B-9B9C-7967EFD4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0222-2E28-4990-B452-46D59DA8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A7E2-1832-4610-997A-5B52C342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6466-779B-4BC2-AFF9-E1175971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91D0-15C8-4F1B-8B10-5AC1FCAD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3014-DC2A-4448-94B3-147A496E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464E-82FE-48B3-A7DC-89856D63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2939-70AE-4197-97BF-61043B01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08F7-9E37-462D-B5D4-61C3412D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E318-302A-4AF5-BF50-E7876F741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5FC9-FC38-4BAB-80E0-73F61C7C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767BE-7981-4CBC-B96C-43D4DFB0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0DA93-E3A0-47A6-AA78-07C73428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62713-644F-4F13-9438-CB352748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D41D8-5DC7-4BAB-B5BD-1773C35D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A89AF-83D8-400A-BCE6-E2226549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726A-4DE6-484D-9C8A-C351EF78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84AD5-929B-4957-94EF-EA4A5D3C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BF775-7070-4F94-A2D6-CB6837D0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69872-3D7A-4E92-9D95-C575C1F1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4844E-A98F-4A01-BF35-194E8D09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C9C34-C180-4CE5-B8F4-E2850606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9DFE8-494C-4034-BA7B-452E7759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5F9CB-A53E-4F02-BDB6-162BC5DA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F0AD1-E15B-46A2-80DD-4E5F2963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E093C-AD4F-4EE2-9548-526E14F6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7DB92-60F8-42B7-8480-AC83E041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2DF4-CAC6-4C5A-8C17-ACFF24F9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D6EF0-DA9B-46A3-807C-E4489A0C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E1E5B-1A48-47D7-BCCF-14924931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F7E69-D1CE-45D4-85AE-CD648191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576F5-BBC1-4A5F-AC2D-C58DE765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5621A-2597-42B8-AB95-DC8D3ADF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3F45F-B6BA-4EE5-A226-36F6ED4D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441DA-46C0-4510-9C2B-BBF00027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43616-EE9B-4336-8573-85AA7C16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78148-AC99-49F6-BF40-6186A459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E83C-06C9-4EA8-A5D5-127028D6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0D18-2517-4A1B-B5C5-56AF77E6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4E5C-15D1-4282-A192-5A9E34ED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9AF8-3841-43A5-995C-5383D401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F816-580B-4F27-882D-C584335A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4126-2788-4ADB-8175-8B72CF5B10A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BEF2-C3EB-4B83-A38D-7524E5FEDEE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A2D5-0663-4D6D-9593-CB411130B44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3E61-929F-4220-BB0A-CEE36790557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33240" y="1096920"/>
            <a:ext cx="7864560" cy="2011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86040" y="2356920"/>
            <a:ext cx="4286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4617b"/>
                </a:solidFill>
                <a:latin typeface="Calibri"/>
              </a:rPr>
              <a:t>КОНЕЦ</a:t>
            </a:r>
            <a:endParaRPr b="0" lang="en-US" sz="9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Содержимое 3" descr=""/>
          <p:cNvPicPr/>
          <p:nvPr/>
        </p:nvPicPr>
        <p:blipFill>
          <a:blip r:embed="rId1"/>
          <a:stretch/>
        </p:blipFill>
        <p:spPr>
          <a:xfrm>
            <a:off x="285840" y="208080"/>
            <a:ext cx="8572320" cy="6156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Содержимое 7" descr=""/>
          <p:cNvPicPr/>
          <p:nvPr/>
        </p:nvPicPr>
        <p:blipFill>
          <a:blip r:embed="rId1"/>
          <a:stretch/>
        </p:blipFill>
        <p:spPr>
          <a:xfrm>
            <a:off x="438120" y="841320"/>
            <a:ext cx="8261280" cy="5492880"/>
          </a:xfrm>
          <a:prstGeom prst="rect">
            <a:avLst/>
          </a:prstGeom>
          <a:ln w="0">
            <a:noFill/>
          </a:ln>
        </p:spPr>
      </p:pic>
      <p:cxnSp>
        <p:nvCxnSpPr>
          <p:cNvPr id="198" name="Прямая со стрелкой 12"/>
          <p:cNvCxnSpPr/>
          <p:nvPr/>
        </p:nvCxnSpPr>
        <p:spPr>
          <a:xfrm flipH="1">
            <a:off x="6571440" y="1500120"/>
            <a:ext cx="2520" cy="215280"/>
          </a:xfrm>
          <a:prstGeom prst="straightConnector1">
            <a:avLst/>
          </a:prstGeom>
          <a:ln w="1908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99" name="Прямая со стрелкой 13"/>
          <p:cNvCxnSpPr/>
          <p:nvPr/>
        </p:nvCxnSpPr>
        <p:spPr>
          <a:xfrm flipH="1">
            <a:off x="2356560" y="1500120"/>
            <a:ext cx="1080" cy="215280"/>
          </a:xfrm>
          <a:prstGeom prst="straightConnector1">
            <a:avLst/>
          </a:prstGeom>
          <a:ln w="1908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0" name="Прямая со стрелкой 14"/>
          <p:cNvCxnSpPr/>
          <p:nvPr/>
        </p:nvCxnSpPr>
        <p:spPr>
          <a:xfrm flipH="1">
            <a:off x="2356560" y="2428560"/>
            <a:ext cx="1080" cy="214920"/>
          </a:xfrm>
          <a:prstGeom prst="straightConnector1">
            <a:avLst/>
          </a:prstGeom>
          <a:ln w="1908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1" name="Прямая со стрелкой 15"/>
          <p:cNvCxnSpPr/>
          <p:nvPr/>
        </p:nvCxnSpPr>
        <p:spPr>
          <a:xfrm flipH="1">
            <a:off x="6714360" y="2357280"/>
            <a:ext cx="2520" cy="286560"/>
          </a:xfrm>
          <a:prstGeom prst="straightConnector1">
            <a:avLst/>
          </a:prstGeom>
          <a:ln w="19080">
            <a:solidFill>
              <a:srgbClr val="065093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704520"/>
            <a:ext cx="818676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Доходы, не подлежащие налогообложению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57120" y="1357200"/>
            <a:ext cx="8329680" cy="4967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1) адресная социальная помощь, пособия и компенсации, за исключением связанных с оплатой труда, выплачиваемые за счет средств государственного бюджета, в размерах, установленных законодательством Республики Казахстан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2) алименты, полученные на детей и иждивенцев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3) возмещение ущерба, причиненного работнику увечьем либо иным повреждением здоровья, связанным с исполнением им трудовых обязанностей, в соответствии с законодательством Республики Казахстан (кроме возмещения в части утраченного заработка)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4) вознаграждения, выплачиваемые физическим лицам по их вкладам в банках и организациях, осуществляющих отдельные виды банковских операций, имеющих лицензию Национального Банка Республики Казахстан, и вознаграждение по долговым ценным бумагам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5) доходы от операций с государственными ценными бумагами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6) все виды выплат военнослужащим и сотрудникам органов внутренних дел, получаемых ими в связи с исполнением обязанностей воинской службы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7) выигрыши по лотерее в пределах 5 месячных расчетных показателей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8) выплаты в связи с выполнением общественных работ и профессиональным обучением, осуществляемые за счет средств государственного бюджета и грантов, в размере минимальной заработной платы, установленной законодательным актом Республики Казахстан на соответствующий год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9) выплаты за счет средств грантов (кроме выплат в виде оплаты труда)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10) выплаты в случаях, когда постоянная работа протекает в пути или имеет разъездной характер либо в связи со служебными поездками в пределах обслуживаемых участков, в размерах, установленных законодательством Республики Казахстан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500"/>
                            </p:stCondLst>
                            <p:childTnLst>
                              <p:par>
                                <p:cTn id="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500"/>
                            </p:stCondLst>
                            <p:childTnLst>
                              <p:par>
                                <p:cTn id="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450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6500"/>
                            </p:stCondLst>
                            <p:childTnLst>
                              <p:par>
                                <p:cTn id="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500"/>
                            </p:stCondLst>
                            <p:childTnLst>
                              <p:par>
                                <p:cTn id="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50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4617b"/>
                </a:solidFill>
                <a:latin typeface="Calibri"/>
              </a:rPr>
              <a:t>Декларацию</a:t>
            </a: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 по индивидуальному подоходному налогу представляют следующие налогоплательщики-резиденты: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0040" y="2071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меющие доходы, не облагаемые у источника выплат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изические лица, получающие доходы за пределами Республики Казахстан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изические лица, имеющие деньги на счетах в иностранных банках, находящихся за пределами Республики Казахстан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ица, на которых возложена обязанность по подаче декларации в соответствии с законодательным актом Республики Казахстан о борьбе с коррупцие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епутаты Парламента Республики Казахстан, судь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тавки налог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Содержимое 2" descr=""/>
          <p:cNvPicPr/>
          <p:nvPr/>
        </p:nvPicPr>
        <p:blipFill>
          <a:blip r:embed="rId1"/>
          <a:stretch/>
        </p:blipFill>
        <p:spPr>
          <a:xfrm>
            <a:off x="378000" y="1884240"/>
            <a:ext cx="8424720" cy="3980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Налоговые вычеты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Содержимое 2" descr=""/>
          <p:cNvPicPr/>
          <p:nvPr/>
        </p:nvPicPr>
        <p:blipFill>
          <a:blip r:embed="rId1"/>
          <a:stretch/>
        </p:blipFill>
        <p:spPr>
          <a:xfrm>
            <a:off x="317520" y="1474920"/>
            <a:ext cx="8429760" cy="485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зюм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28760" y="171432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лательщикам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ИПН являютс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Физические лиц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имеющие объекты налогооблож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ъектам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обложения являютс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1) доходы, облагаемые у источника выплат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2) доходы, не облагаемые у источника выпла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авки налог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Доходы налогоплательщика подлежат обложению  по ставке 10 процент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500"/>
                            </p:stCondLst>
                            <p:childTnLst>
                              <p:par>
                                <p:cTn id="1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Список используемой литератур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Кодекс Республики Казахстан «О налогах и других обязательных платежах в бюджет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«Налоги и налогообложение» - учебник под ред. Юткиной Т.Ф. 2001 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«Налоговое право РК» Худяков А.И., Алматы: 200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3:05:46Z</dcterms:created>
  <dc:creator>Aikashev</dc:creator>
  <dc:description/>
  <dc:language>en-US</dc:language>
  <cp:lastModifiedBy>Customer</cp:lastModifiedBy>
  <dcterms:modified xsi:type="dcterms:W3CDTF">2011-06-08T08:43:54Z</dcterms:modified>
  <cp:revision>25</cp:revision>
  <dc:subject/>
  <dc:title>Индивидуальный подоходный налог</dc:title>
</cp:coreProperties>
</file>