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8198-39A5-43C4-B618-0A3A061C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F271-80C6-41A0-8DAB-97280D1C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2F0C-2FD3-4A53-908F-6AC6F351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8152-BABE-4722-97FD-7C9663E6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9AAD-706A-4F7A-89BA-A5705232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4D23-C734-4DCC-A534-2F476D1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3C45-03BE-4AD3-9C31-74083C4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4611-0844-4104-B43A-3D4075C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87BE-6A2B-43D1-830E-3F4A946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792B-714C-4F3E-A629-0146A453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4A02-D290-4D53-8EEE-D3B4378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4754-A161-4407-B3D0-D316484E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0A1-68E1-4B97-BB83-D23777C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BB40-B9A1-4257-829D-A21B929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9278-943D-452F-9963-B61A6213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F03F-3435-466D-83A8-3C53D69B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B733-33D7-46A9-B179-3CF3ADCE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9C21-0C6F-4E62-A1E9-C8F6A7E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59CE-B21F-4A14-A5B7-42FD995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89D3-61D1-4357-91C2-EC73F18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CDB5-F330-4395-BC84-5F9FEBF7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DF24-E243-4A17-8855-739A79B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7904-1A0C-4779-8A61-34D618B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E4C7-C056-4360-B85B-2335298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042-7025-498D-962A-4C401A051D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B353-8529-4440-9648-D358F2A98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69884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9400" y="82152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тавки корпоративного подоходного нал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57360"/>
          <a:ext cx="8217720" cy="4568400"/>
        </p:xfrm>
        <a:graphic>
          <a:graphicData uri="http://schemas.openxmlformats.org/drawingml/2006/table">
            <a:tbl>
              <a:tblPr/>
              <a:tblGrid>
                <a:gridCol w="6314040"/>
                <a:gridCol w="19036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охода, подлежащего облож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вка нал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облагаемый доход налогоплательщика с учетом корректировок, уменьшенный на сумму убыт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облагаемый доход налогоплательщика, для которого земля является основным средством произ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, облагаемые у источника выпл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тый доход юридического лица-нерезидента, осуществляющего деятельность в Республике Казахстан через постоянное учрежд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6000" y="259200"/>
            <a:ext cx="71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ля корпоративного подоходного налога налоговым периодом является календарный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043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лательщики корпоративного подоходного налога представляют налоговым органам декларацию по корпоративному подоходному налогу не позднее 31 марта года, следующего за отчетным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0811400">
            <a:off x="1042560" y="2401920"/>
            <a:ext cx="76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екларация по корпоративному подоходному налогу  состоит из декларации и приложений к ней по раскрытию информации об объектах налогообложения и объектах, связанных с налогообложением по корпоративному подоходному нало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3996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 исчисляется за налоговый период путем применения ставки к налогооблагаемому доходу с учетом корректировок, уменьшенному на сумму убыт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5146920"/>
            <a:ext cx="77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логоплательщик осуществляет окончательный расчет (уплату) по корпоративному подоходному налогу по итогам налогового периода не позднее десяти рабочих дней после срока, установленного для сдачи декла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25360" y="404280"/>
            <a:ext cx="36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Резюм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404000"/>
            <a:ext cx="729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 является одним из наиболее существенных видов налога, уплачиваемых предприятием. Введен Законом РК от 14.02.1991 г. «О подоходном налоге с предприятий, объединений и организаций». Основным объектом налогообложения корпоративным подоходным налогом является налогооблагаемый дох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79848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 плательщикам корпоративного подоходного налога относя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юридические лица- резиденты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) Национальный Банк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) государственные уч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 ответы В и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) правильного ответ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865800"/>
            <a:ext cx="821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Совокупный годовой доход юридического лица – резидента состоит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 доходов, получаемых им в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доходов, получаемых им в РК и за ее пределами в течении налоговог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доходов, получаемых им в течении последних 2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доходов, от прироста стоимости при реализации зд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доходов, получаемых в странах С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86616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Налогооблагаемый доход – э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 совокупный годовой до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прибыль плюс другие виды д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нормы, установленные законодательством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разница между совокупным годовым доходом и выче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доход, полученный в течении налогового периода в РК и за рубеж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93852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Расчет сумм авансовых платежей, подлежащих уплате за период до сдачи декларации по корпоративному подоходному налогу, составляется и предоставляется налогоплательщиком д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1 январ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20 январ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1 феврал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15 феврал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10 марта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104904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Для корпоративного подоходного налога налоговым периодом являет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календар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) 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) 6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 9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) 3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5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07480" y="835560"/>
            <a:ext cx="20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059200"/>
            <a:ext cx="76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новы построения корпоративн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доходн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00" y="335664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авки на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600" y="436464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рядок исчисления и сроки упл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60840" y="83556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писок используемой лите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800000">
            <a:off x="1402920" y="18334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декс РК «О налогах и других обязате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тежах в бюджет» по состоянию на 01.01.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2852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рхалиева Д.М. Налоги и налогообложение в Республике Казахстан, Астана –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9254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рмекбаева Б.Ж., Лесбеков Г.А. Основы налогообложения / учебное пособие. Алматы, 200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46760"/>
            <a:ext cx="55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удяков А.И. «Налоговое право РК». Алматы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24000" y="981000"/>
            <a:ext cx="4680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Корпоратив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доходный на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860640"/>
            <a:ext cx="3672000" cy="208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является прямым налог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торый соглас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Бюджетному Кодек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одлежит зачислению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спубликанский бюдж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860640"/>
            <a:ext cx="3600360" cy="208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был введен Законом 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 14.02.1991 г. «О подоход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логе с предприят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бъединений и организаци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43280" y="220500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220500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404640"/>
            <a:ext cx="763272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Корпоративный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доходный на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133720"/>
            <a:ext cx="295272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лательщики нал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2133720"/>
            <a:ext cx="295092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бъекты об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997360"/>
            <a:ext cx="2232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ица – резиденты Р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3933720"/>
            <a:ext cx="2232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ица – нерезиден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учающие до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з источников в 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5157720"/>
            <a:ext cx="2232000" cy="11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лиц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имен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пе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логовый 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2997360"/>
            <a:ext cx="302436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логооблагаемый до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645000"/>
            <a:ext cx="302436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оход, облагаемый 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сточника вы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581360"/>
            <a:ext cx="302436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Чистый доход нерезиден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существляющего 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РК через постоя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640" y="1268280"/>
            <a:ext cx="208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1268280"/>
            <a:ext cx="26654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637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429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508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508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2637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40720" y="321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44000" y="3213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740720" y="4076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4076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740720" y="5229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692280"/>
            <a:ext cx="727236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е являются плательщик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корпоративного подох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алог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357720"/>
            <a:ext cx="2952720" cy="71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циональный Банк Р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3357720"/>
            <a:ext cx="3673440" cy="71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осударственные учреж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4941720"/>
            <a:ext cx="475164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коммерческие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95280" y="2421000"/>
            <a:ext cx="208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421000"/>
            <a:ext cx="1944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421000"/>
            <a:ext cx="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сновным объектом налогообложения корпоративным подоходным  налогом является налогооблагаемый доход, величина которого определяется как разница между совокуп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одовым доходом и вычетам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400" y="2707560"/>
            <a:ext cx="35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логооблагаемый доход =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3080" y="27075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Совокупный годовой доход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2760" y="27075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Вычеты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515400"/>
            <a:ext cx="4037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вокупный годовой доход юридического лица – 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стоит из доходов, подлежащих получению им в РК и за ее пределами в течение налогового периода. В совокупный годовой доход включаются все виды доходов налогоплательщ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00000" y="2997360"/>
            <a:ext cx="259236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933720"/>
            <a:ext cx="332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асходы налогоплательщика, связанные с получением совокупного годового дохо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длежат вычету при определении налогооблагаемого дох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8720" y="2997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276120" y="836280"/>
            <a:ext cx="981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Вычету подлежат уплаченные в государств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бюджет налоги в пределах начисленных, кроме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1160" y="2275560"/>
            <a:ext cx="100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) налогов, исключаемых до определения совокупного годового доход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1528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) корпоративного подоходного налога и налогов на доход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лаченных на территории Республики Казахстан и в других государств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0" y="4364640"/>
            <a:ext cx="39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) налога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715400"/>
            <a:ext cx="273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Из налогооблагаемого дохода налогоплательщика подлеж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исключению в пределах трех процентов от налогооблагаемого дохода следующие расходы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3394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ходы, фактически понесенные налогоплательщиком на содержание объектов социальной сферы, в пределах суммы превышения расходов над доходами, полученными при эксплуатации объектов социальной сф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31467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 безвозмездно переданное имущество                некоммерческим организаци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80456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адресная социальная помощь, предоставленная физическим лиц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соответствии с законодательством  Республики Казахс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3429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1125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12536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877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7:49:01Z</dcterms:created>
  <dc:creator>SamLab.ws</dc:creator>
  <dc:description/>
  <dc:language>en-US</dc:language>
  <cp:lastModifiedBy>к</cp:lastModifiedBy>
  <dcterms:modified xsi:type="dcterms:W3CDTF">2010-10-20T17:12:26Z</dcterms:modified>
  <cp:revision>4</cp:revision>
  <dc:subject/>
  <dc:title>Слайд 1</dc:title>
</cp:coreProperties>
</file>