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16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33C-0631-416C-BD83-689424D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CF4-5AAB-4497-8EF0-4C15FAE6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A28-DDC3-4BEB-B9BE-6633D9BD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E74-EC95-4F42-86AB-3F9837FC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23A7-85E1-48F1-A729-7A7C4886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01FE-AF12-47A0-8840-F9F0B51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4D2-5795-488D-82E6-18F033D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729-885A-4650-8479-AA1A12E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F19-9372-4C1C-8BB5-13507C3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0E66-385A-46A6-934A-98FE68B0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61C4-78C7-46D2-B525-772451B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55B-079B-493A-92E3-8AF1626A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2238-493D-41A9-A070-F7E50A8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6D54-6DDE-4934-AB82-549562F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8465-F86A-496A-BF82-6B764F9C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421A-81CC-4FD1-8EBF-445E261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3E0-0F15-47D5-8421-D5350735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D1D-6850-43C6-B1CE-EB6A8AA8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868-6656-48C5-850F-AF5D18B2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470-8D05-480F-A583-836875E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FF7-2E27-49CC-8814-91C724F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6FA-9D5E-4BF5-8255-DA0F7AD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52-4C5C-41C1-A335-FD1EA3A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73B-DA33-4524-AEFE-BBE3270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F3F-5095-431B-96A1-A654DBB4C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A1D-0258-4AFA-A269-BB82B7D85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лог на транспортные сре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0" y="3914640"/>
            <a:ext cx="2087640" cy="15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80"/>
                </a:solidFill>
                <a:latin typeface="Tahoma"/>
              </a:rPr>
              <a:t>Катера, суда, буксиры, баржи, яхты (мощность двигателя в лошадиных силах)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 160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60 по 5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500 по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27640" y="2276640"/>
            <a:ext cx="895320" cy="366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1819080" cy="215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372360" y="4076640"/>
            <a:ext cx="277164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писок используемой литератур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в Казахстане: учебное пособие/ под ред. Сейдахметовой Ф.С.- Алматы, 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удяков А.И. Налоговое право РК.-Алматы: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декс Республики Казахстан «О налогах и других обязательных платежах в бюдже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нтроль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субъекты не подлежат обложению налог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и применения став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числение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является плательщиком налога на транспортные сре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является объектом 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тельщики налога и объекты его обло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ядок исчисления, сроки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лательщиками налога на транспортные средства являю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Юридические лица их филиалы представительства и иные обособленные структурные подразделения, имеющие объекты обложения на праве собственности, хозяйственного ведения или оперативного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ческие лица также имеющие объекты обложения на прав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0755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Не являются плательщиками налога на транспортные средств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тельщики единого земельного налога, пределы нормативов устанавливаются правительством Р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. учреждения по объектам обложения не используемые в предпринимательск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ВОВ и приравненные к ним лица, только по 1 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алиды по имеющимся в собственности мотоколяскам и автомобилям –по 1 авто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и Советского Союза и Герои Социалистического Труда, многодетные матери, удостоенные звания «Мать героиня» по одному автотранспортному ср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Объектами налогообложения являютс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Транспортные средства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 исключением прицепов, подлежащие государственной регистрации и состоящие на учете в Республике Казахст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862280" cy="13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869000"/>
            <a:ext cx="18734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 являются объектами налогооблож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ьерные автосамосвалы грузоподъемностью 40 тонн и вы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изированные медицинские транспортные сре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4305240"/>
            <a:ext cx="3382920" cy="20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08764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0000" y="333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Исчисление налога производится по следующим ставкам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установленным в месячных расчетных показателях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087280" cy="1751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160360" cy="181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627280" y="155736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гковые автомобили с объемом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игателя (куб.см)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3429000"/>
            <a:ext cx="2125800" cy="40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логовая ста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4437000"/>
            <a:ext cx="230508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100 по 1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4005360"/>
            <a:ext cx="24004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1100 включитель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486900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500 по 2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537372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000 по 2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5805360"/>
            <a:ext cx="2143080" cy="2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500 по 3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6267600"/>
            <a:ext cx="2143080" cy="59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3000 по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08720" y="4076640"/>
            <a:ext cx="5619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6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втобусы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3394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до 12 посадочных мес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12 по 25 посадочных мест 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25 посадочных м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720" y="2133720"/>
            <a:ext cx="42840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40360" y="364500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0360" y="537372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240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Мотоциклы, мотороллеры, мотосани, маломерные суда, мощность двигателя которых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3467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более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тоцикл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щность двигателя котор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ышает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40360" y="2060640"/>
            <a:ext cx="647640" cy="59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7280" y="5300640"/>
            <a:ext cx="720720" cy="615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816360" cy="24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29:21Z</dcterms:created>
  <dc:creator>User</dc:creator>
  <dc:description/>
  <dc:language>en-US</dc:language>
  <cp:lastModifiedBy>User</cp:lastModifiedBy>
  <dcterms:modified xsi:type="dcterms:W3CDTF">2008-11-19T16:15:06Z</dcterms:modified>
  <cp:revision>6</cp:revision>
  <dc:subject/>
  <dc:title>Налог на транспортные средства</dc:title>
</cp:coreProperties>
</file>