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790-3E9C-45AB-90FE-1FF7AE09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468-42F8-4B77-ACD6-F9494E39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1D047-9B48-44D2-815E-F21E4816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A1603-89AF-4A6B-8E56-75A9585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99C66C-D30A-4690-9943-F14EC9D9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06F99E-85C9-4D7D-B3CE-23BC7C4A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AF5603-667D-4713-B87E-122F69C1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F0566A-773C-45FD-9CDF-B3BE990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32C2E8-DDA4-4893-8734-FD3CA26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F1F6E-E528-475F-8C63-4BC259CF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BA5342-E106-41D2-96E0-92F70727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1880F-4D80-4CFD-8148-E5486C10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EEA-762F-41C9-8F58-24A1CC4A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79678-D87E-4FDF-8813-217E961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7B27D-9CBC-4E32-810A-AD8063C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BAC09-0DCB-45A1-973E-C989B81F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C5A74-11D1-4986-9F78-8604525A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ACF1C-E30A-4B8E-B699-94375CE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18C34-F468-49B7-910F-A9528FA7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B0FC4-830A-4796-BF72-710FB10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7934D-C2D4-4C82-B60D-77DC10F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9E2A3-78E6-470C-B6DD-2837374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5EB05-A602-4F5A-A79C-09A7CCC0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DB8-46B3-4AF0-AA47-89EE85B8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86E55-8688-4109-B66D-1F79C743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9A8AFA-A0F9-42A3-B997-CA4FFAFC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A4118B-0F05-4B1D-B815-26604609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6D2B63-DDD9-4F71-BF0B-5936FCC3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8C44AB-7FAF-4EC8-AEF2-621C187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DF446C-26FF-4582-8F5F-711AE6D3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7CED45-0161-45AD-9695-5774BF1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B871AA-8B83-4A30-9CB4-BED6875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5E4D6-3029-4117-9B7E-01B931A2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999401-2466-4A3C-9744-4AC8B6AE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3287-18DF-4ADC-88AB-7E87F331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CD164D-725F-414D-BFF7-E04CBCD5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C5D180-648C-4E9C-B774-F8399A7B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1EAAA0-4C02-4570-A876-998F0C50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4DFC9-F27D-4B0B-AF01-99EDE0A1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2E3D2-77F9-4F61-853E-7D87488F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D24AA-CD4C-400C-BD58-1E992837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B35B7-4A8F-4FD7-B7C6-F3461E16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6BDB3-936E-4A2B-98C5-7BB7F48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A7CE-43D4-437B-9887-F9C303A1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DEBC5-66DA-423A-86B6-673497E9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DE44-ED4F-4615-8B35-90ABDC05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EBDF9-DDE7-4252-B87B-3C28C33D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389C1-4A49-4677-8F8B-FB37A25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02DEA-69B9-43AF-8C16-09E463EE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69C20-BA70-495C-895A-404DDFD0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E5537-0BF8-435E-BDB2-13F1C675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51F82-D19B-44D9-9F81-641D42CC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8D84C-3BB8-4FDE-A3FE-905DF141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0FBA0-7F40-4A19-BC30-FFE0E965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787C8-AF5E-4AA5-B8AB-67E35E3A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6E614-26BA-4937-B4DD-F69082D3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B299-840C-4E14-A48E-F6EC21C9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87267-37BB-403B-8C98-0E6E4E74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4CDC8-5DA0-42DE-A152-BF0BBF12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F6F61-517B-49AE-9C99-5D75AD3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90347-5DCF-4AC6-AC17-1B92A299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AC48F-23B9-41A3-8E64-950BB1EC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BAF30-6164-416A-85D6-3DAFA7F2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9F050-3EC7-4820-895D-25022A2A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AA6A2-1ECD-4495-8618-DCD5631D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627DC-6ECF-4600-8E8E-C2D479C0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D7779-6DC8-40D4-83C1-403918A7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9BA8-0F75-4BE6-8F34-19E0BE95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CB4CB-62BF-458A-A357-C073129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B4FA0-746C-4D2F-9F66-CCFA3DF2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C5BFD-3AB2-46CF-986B-45BCC7F6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FBC29-09C1-4377-AC8C-D58D431D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3DCD4-51A1-4E15-85CB-91E0A8C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98022-BB8F-49B8-BAD0-5F660B26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83EC5-F1A1-4B9B-8D6E-5A83FF5B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80AC9-C163-4E23-8816-DA53D4A9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7EEA1-ED5A-4F13-9202-2AFF8E57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801C4-47FC-47C7-BFEA-1DB637EA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6DE1-7813-483C-A3F5-3ED69972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B3BA7-EC1A-4193-9501-D2310885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113AF-2A14-49DA-AF44-04C737D2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6B634-8700-43FD-8E8A-DB4002C7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E385B-F79E-40FB-BC98-A903992A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21EB8-8DB6-4243-9255-92F71FC5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79443-1BC7-4F63-A417-A7D00C2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BE891-54A4-4203-9975-45D10FA8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1742F-AA71-4EEF-B560-A0990E83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132DF-5F36-4314-BDEF-31756A6F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3798C-245E-4710-BC71-13045B90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C210-2BD1-4131-8E3C-A96CABEF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58011-1729-4FFE-9716-2FBF0772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97115-5164-4E4B-9A3F-3C516DC1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5F921-D6FB-422B-94DE-ECFF3FAC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AA634-2354-4B3E-9C90-1AD27ECC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35E88-BBBD-44A3-AFE6-EA8AA32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2C860-D8D2-46B9-A5B4-E23D0FB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36CDD-CD66-4B7D-B1DE-828D815A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05D6E-B9F8-4366-9601-0C7DF6A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0D425-55AF-41AC-A4AE-950435FC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6CA43-A6C4-42B2-A2A8-11A4321B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31F1-83BC-443F-9009-49D2236D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9B074-A78E-42BC-813C-1D2A3560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74CCB-D849-4174-8AFE-08B79BA2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E9E74-1B84-46E9-B3B6-9FD2CE2A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FFF-E432-4351-AAA2-0AD311A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F1C9-FA81-4841-ACE2-56E1A8E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AB1B-1DE8-40C2-93EE-B7C930EC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3341-8DCB-4517-A715-C629E4E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47D4-E1A6-4531-A54F-AAC65EC2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E027-3482-424F-8CCA-43BC12F8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5F1C-19AD-45D1-894F-8BA276C9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AA30-BD78-43FC-942D-3958434B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57D9-1937-4AEF-BEF9-087A115D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7472-F88A-4A7C-BF66-42099E87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E127-0E3C-4C8B-AF51-2E7852E8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B0B-C392-4C94-9A54-D73874A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39BE-3793-4A73-AC03-8493FEE4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6A33-7823-4826-A0CC-01F3320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4CB9-22A3-4F0D-AA5F-7921723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8D38-A08E-4598-8C93-7E18639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83D1-9CB7-43A8-8DF3-866C510F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EADA-54C5-4B6B-A01B-1161CACF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BD55-8F37-45BF-8D1D-99FDB6E6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BF0A-F8BD-4122-B09F-1BDF6B1A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0349-4929-40EF-B6ED-E913E7A9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1DAC-D001-43B5-A384-8AC87DB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742-5459-4D14-AE86-C0D9C66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A756-C7EE-4823-A81C-041C972B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918C1-5BC2-4069-AD33-702E7BD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212B-E032-4D06-8E97-66D14629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798D-A2F4-4FBE-BC3C-2DE38B2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3697-6C59-47BB-8B6A-4E66C44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B472D-25C0-4697-9648-C67FB5BA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52A8-06B4-4711-B7FB-20ADE2DC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5AD9-B23C-4C6B-986E-DDBC3746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73E3-4870-4D96-BFCB-D5CA957E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F45FC-83D1-4C08-A5D3-D3F599D1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B7C-83EF-4923-925A-B6F9EEF3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EA20EF-378F-42B2-8A74-06EBA1CB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6AC6BB-D60B-4B1F-B9AA-9C77951F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00ACC4-52D5-4C2A-8661-CDE4DC6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A4544-4D2E-45F0-BF29-8B360A5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FDFD8A-C811-4621-B7DC-41CD57E1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64E51-5A4F-493A-A19B-AD2E6A43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5C16CC-8B22-4340-8E74-18A8372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85E21-CC0C-4C82-A3AA-B3A2426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99CA0-1968-424B-9DA4-65EDD8E6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8B48F-A241-4CE0-B629-78F6F451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C31-2543-4D61-BA21-4DDCDBD1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E2AE8-347D-4BDB-B15B-9E9E3868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C5A53-A2B8-41EE-8B3A-2FA5E12F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4405B-4823-41F2-A009-1D88B250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43CCB-E2A5-41ED-B292-77971DEC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9EA8-3CE0-48CA-92CA-7C6BBA46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05CF-9E7A-489B-9985-51294A69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6D0B2-783D-4F35-9ECD-8C7E6F67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8A238-50F1-44D8-B022-EB511249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F0EDF-5430-48CA-9CCD-CAD32C2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49A70-CBD3-4AC4-97A0-FB05A3A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611-7DF0-4CEC-9005-9A2303D9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846F1-3808-4C73-B81E-DCB2A998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33C98-83D1-4CBA-8738-D5524759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699F-61F3-4F89-9A93-49667890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A7CAC-07D2-4D5C-A810-E3630811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DAAE-732A-4428-A935-180972CF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68C48-103C-46C9-8008-0845BF33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F5FE-3B95-4BC8-8EA6-3BA9B56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4AA2-1265-4879-AD4A-6C1CC1D5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3297E-A4E7-4A68-8145-925D65C6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581C0-7485-4C50-9E07-2E205C3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6A2-A886-4054-BA2A-274154C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DD49D-34DB-4F22-8D99-ABAFDAC3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00F3-CFA1-4F34-BB39-EE2977B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AA9E5-FFEA-4333-94D7-BF14E4EA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0450-2BD1-4637-8BA3-1C7F1884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AA4B6-40FA-443E-8F4F-6D98DF14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E1667-7747-4C47-A69D-EEB5AD6C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2EA0E-C61C-4C72-9566-7F69E4A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26FB9-C03D-4495-8B41-D819475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32196-FBED-4986-926A-B8EB839A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983C-9DB2-4CE9-BD52-D7460FD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7F0-C9F7-40D2-AE8D-C7A4B03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6A235-CBCF-4CDD-A939-8851F20F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B7548-686B-42E8-990A-2B8A19D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3AD1-B55F-4E05-B17E-4577B318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9E94A-9D71-4826-AED6-83471C77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FB301-7CE8-4EEE-8F24-31FFAE85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1C3C-440F-4514-876E-C36F102D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DA7C4-9517-45D4-A74D-CCEA4E3C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0AE482-148C-4244-B976-3B1E9A87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D0A680-718D-43B1-9D29-F649073D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D36673-6C52-46DE-A550-672336D2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070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8D6A-89DB-4BE9-85C6-2A10A39A8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3597-7969-4947-9587-7F976E870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7070-7597-4FF1-88F9-63CCF53FB34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0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90E1-941D-45D1-AD42-6F5E6E0B9C2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16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1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2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056A-699A-4CEA-9B65-C99062FA1A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6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6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sldNum" idx="4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6A1-43C2-4538-9879-55EFACBC8B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8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4506-2C87-42D3-9C97-EC5866C54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23C4-6C03-4BA2-A47A-12AFEFCEE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2FD8-14CF-473D-AA6D-DD305F00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29C2-4D62-44C3-AC05-9C2BB4091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D839-BD1C-49DE-9FE4-3D8A5FCFB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7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F171-2626-4166-8B12-AD205F4523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2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6203-50D3-4818-90DB-40B83424FB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8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4575-5D79-4184-9B48-8EF51A53D8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8B37-9B2E-4D9E-88CB-2C23B99947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AA0D-4C28-4334-81A6-F06DF68C5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0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ax.kz/" TargetMode="External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5256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Arial Black"/>
              </a:rPr>
              <a:t>Социальный</a:t>
            </a:r>
            <a:r>
              <a:rPr b="1" lang="en-US" sz="6600" spc="-1" strike="noStrike">
                <a:solidFill>
                  <a:srgbClr val="00cc00"/>
                </a:solidFill>
                <a:latin typeface="Arial Black"/>
              </a:rPr>
              <a:t> </a:t>
            </a:r>
            <a:r>
              <a:rPr b="0" lang="en-US" sz="6600" spc="-1" strike="noStrike">
                <a:solidFill>
                  <a:srgbClr val="00cc00"/>
                </a:solidFill>
                <a:latin typeface="Arial Black"/>
              </a:rPr>
              <a:t>налог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8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9" name=""/>
          <p:cNvGraphicFramePr/>
          <p:nvPr/>
        </p:nvGraphicFramePr>
        <p:xfrm>
          <a:off x="1116000" y="476280"/>
          <a:ext cx="223200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76280"/>
                    <a:ext cx="22320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91984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Резюм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Социальный налог, заменил 3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внебюджетных платежа: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Социальное страхование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Обязательное медицинское страхование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Занятость населения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88000" y="1981080"/>
            <a:ext cx="389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Преимуществом социального налога, является то, что он не зависит от форм собственности хозяйствующего субъекта и конечного финансового результата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Методика расчета социального налога производится согласно применениям ставки налога- 11%,  к облагаемому доходу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entury Schoolbook"/>
              </a:rPr>
              <a:t>Список использованных источников</a:t>
            </a:r>
            <a:r>
              <a:rPr b="0" lang="en-US" sz="3600" spc="-1" strike="noStrike">
                <a:solidFill>
                  <a:srgbClr val="006666"/>
                </a:solidFill>
                <a:latin typeface="Century Schoolbook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Налоговый кодекс РК».(10 февраля 2008г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«Налоги и налогообложение в РК» Нурхалиева Д.М., Омирбаев С.М., Омарова Ш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tax.k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Новый «Налоговый Кодекс РК» 2009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8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нятие социального нал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лательщики социального нал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Объекты налогооб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Ставки обложения налог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рядок исчисления и порядок уплаты налога, налоговая деклар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 u="sng">
                <a:solidFill>
                  <a:srgbClr val="ff3300"/>
                </a:solidFill>
                <a:uFillTx/>
                <a:latin typeface="Arial"/>
              </a:rPr>
              <a:t>Социальный налог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50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4800" spc="-1" strike="noStrike">
                <a:solidFill>
                  <a:srgbClr val="85b3b1"/>
                </a:solidFill>
                <a:latin typeface="Estrangelo Edessa"/>
              </a:rPr>
              <a:t>Один из видов прямых налогов, которые уплачивают организации, как работодатели, за своих работник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лательщики социального нало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Индивидуальные предприниматели, за исключением осуществляющих расчеты с бюджета на основе разового тало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астные нотариусы, адвок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Юридические лица – резиденты РК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Нерезиденты, осуществляющих деятельность в РК через постоянн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Объекты налогообло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Расходы работодателя, выплачиваемые работникам – резидентам в виде доход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Доходы иностранного персона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Численность работников, включая самих работни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ffff"/>
                </a:solidFill>
                <a:uFillTx/>
                <a:latin typeface="Arial"/>
              </a:rPr>
              <a:t>Ставки обложения налогом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оциальный налог исчисляется по ставке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1 процент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Индивидуальные предприниматели, за исключением применяющих специальные налоговые режимы, частные нотариусы, адвокаты уплачивают социальный налог в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2-кратном размере месячного расчетного показателя,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установленного законом о республиканском бюджете на соответствующий финансовый год, за себя и однократном размере месячного расчетного показателя за каждого работни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пециализированные организации, в которых работают инвалиды с нарушениями опорно-двигательного аппарата, по потере слуха, речи, зрения, уплачивают социальный налог по ставке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4,5 процента.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58920" y="333360"/>
            <a:ext cx="7958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2900" spc="-1" strike="noStrike" u="sng">
                <a:solidFill>
                  <a:srgbClr val="ff3300"/>
                </a:solidFill>
                <a:uFillTx/>
                <a:latin typeface="Arial Black"/>
              </a:rPr>
              <a:t>Порядок исчисления и порядок уплаты налога, налоговая декларация.</a:t>
            </a:r>
            <a:br>
              <a:rPr sz="4000"/>
            </a:br>
            <a:endParaRPr b="1" lang="en-US" sz="2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5946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Исчисление социального налога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роизводиться ежемесячно с нарастающим итогом в порядке, установленным уполномоченным государственным орга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Уплата социального налога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роизводится не позднее 25 числа месяца, следующего за отчетным месяц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Декларация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о социальному налогу предоставляется в налоговые органы ежекварталь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не позднее 15  числа второго месяца, следующего за отчетным кварта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272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cc"/>
                </a:solidFill>
                <a:uFillTx/>
                <a:latin typeface="Arial"/>
              </a:rPr>
              <a:t>Плательщиками социального налога являются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Индивидуальные предприниматели, за исключением осуществляющих расчеты с бюджета на основе разового тал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Частные нотариусы, адвока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Юридические лица – резиденты РК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Нерезиденты, осуществляющих деятельность в РК через постоянное учреж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все варианты вер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66"/>
                </a:solidFill>
                <a:uFillTx/>
                <a:latin typeface="Times New Roman"/>
              </a:rPr>
              <a:t>Что является объектом налогообложения для плательщ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расходы работодателя, выплачиваемые работникам- резидентам в виде дох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алименты на детей и иждивенц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диновременные выплаты из государственного бюджет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социальные выплаты граждан, пострадавших вследствие экологического б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адресная социальная помощь, пособия и компен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счисление социального налога производ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ежекварт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ежего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жедека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еженеде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ежемесяч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942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Times New Roman"/>
              </a:rPr>
              <a:t>Декларация по социальному налогу предоста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)  не позднее 5  числа месяца, следующего за кварта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) не позднее 20  числа месяца, следующего за кварта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) не позднее 5 числа месяца, следующего за отчетным год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1600" spc="-1" strike="noStrike">
                <a:solidFill>
                  <a:srgbClr val="000000"/>
                </a:solidFill>
                <a:latin typeface="Forte"/>
              </a:rPr>
              <a:t>не поздне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i="1" lang="en-US" sz="1600" spc="-1" strike="noStrike">
                <a:solidFill>
                  <a:srgbClr val="000000"/>
                </a:solidFill>
                <a:latin typeface="Forte"/>
              </a:rPr>
              <a:t>числа второго месяца, следующего за отчетным кварталом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) в люб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Чему будет равна ставка социального нало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) 13 %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) 15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) 11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) 9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) 5 %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9:49Z</dcterms:created>
  <dc:creator>User</dc:creator>
  <dc:description/>
  <dc:language>en-US</dc:language>
  <cp:lastModifiedBy>к</cp:lastModifiedBy>
  <dcterms:modified xsi:type="dcterms:W3CDTF">2010-06-18T03:10:27Z</dcterms:modified>
  <cp:revision>8</cp:revision>
  <dc:subject/>
  <dc:title>Социальный налог</dc:title>
</cp:coreProperties>
</file>