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749-F81B-4CBD-B8C4-E6CA29EA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D66-BC1C-41D3-A721-72529EC8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37E-3005-487D-81D4-0802F22B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151-721B-44AE-80E1-639CF906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6CC6-5C5F-44DD-B3F2-C8165C61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A858-CC30-41D9-8F3A-9357470D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CF4F-3EA7-4AC9-BC5F-68E1E40B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6645-7654-4263-88F3-E11F0CFF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577F-F810-4F22-B2A4-1A03B09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B128-5A1D-4E50-B61A-EE832CDE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4810-F089-4BED-ABC7-94F0F1A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216-0345-4033-9C66-E1360C2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6C3-59E7-451F-BC8A-8AD1D56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3FFF-117A-494B-B706-35BA87F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353D-F321-4440-9C28-EE010D7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602-8196-48C6-A2F1-7939314A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F26-D624-443E-A1B6-7BE7EA4B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771A-9B0B-470A-B85F-D205D4A2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FD4C-5E79-4409-897E-17F1E206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6148-529F-4097-838D-4DC8BB8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591D-AAF0-4969-B5B9-F4065034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9C09-2A87-4E0E-8478-BD558B6F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26E-E06C-4367-86DC-353E8869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E8AB-6285-49BB-8301-A96E58B4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94CC-ADB3-48E1-830B-EC87004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D48B-2E65-4658-97F7-7435538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F615-CEB4-49BC-A821-91673DD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E2CF-3601-4B68-98EA-7B2F0073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02DE-3C57-4C7A-A263-5167F5D9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B67B-7DD9-431A-A677-D84590DB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78C8-8F2B-4A9A-84F8-B2E63D0C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17F1-875F-4016-9296-C28126D1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65A8-D679-4C85-B2B2-36278F4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B4A-BD3E-45CD-8540-86A1ECE0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51B2-3551-4661-B0EF-26A751A3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6219-4796-481B-AD34-49079511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F199-9545-46CC-834D-41EEDBF0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0AD0-D464-4C84-B275-3B86993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9C97-6174-45AC-B4DD-F7FBECD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49FC-3681-484E-9F19-57E2712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6BC7-7A3D-4C11-9857-207A4157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EBC3-850B-42EB-8A4E-1A25AFB1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EA90-EC07-4174-921E-0194065B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86F-A695-4E3A-B8A8-9065676D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93C-6DBF-4E0D-B5FC-74642F01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CA8-3892-4189-9BFD-C692EF6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60D-1B26-4D4A-ACC8-337ECA8B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53C-E2D5-4B64-B1EE-C1B64EE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181A-A288-4578-9B53-E972BBB481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3F17-6A0C-4E75-97A8-6B21FE52182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5F15-62AE-4FF0-936F-2FAD95433D6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B159-B5F6-4A3A-B990-7539CD08F6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l:1026672.0%201001000099.0%2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jl:1008705.1%201001000099.0%20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06320" y="92088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логовый пери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Налоговым периодом по уплате роялти является календарный месяц, за исключением случаев, предусмотренных в пункте 2 настоящей стать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Если среднемесячные платежи за предыдущий квартал по роялти составляют менее тысячи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есячных расчетных показател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то налоговым периодом является кварта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с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К специальным платежам и налогам с недропользователей относится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земельный налог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акциз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НДС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социальный налог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Роялти- это…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разовый фиксированный платеж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коммерческое обнаружение месторождений полезных ископаемы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доход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право использования недрами в процессе добычи полезных ископаемых и переработки техногенных образован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Ставка роялти по общераспространенным полезным ископаемым и подземным водам установлены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фиксированном процентном выражении за весь период действия контракт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1% до 10%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о скользящей шкале в зависимости от объемов добы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0,5% до 2 %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5% до 25%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Налог на сверхприбыль недропользователя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доход, полученный сверх норматива, установленного Налоговым Кодексом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коммерческое обнаружение месторождений полезных ископаемы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разовый фиксированный платеж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право использования недрами в процессе добычи полезных ископаемых и переработки техногенных образова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Ставка роялти на нерудное сырье для металлургии составля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1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4,5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10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3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3,5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168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дропользов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огооблажение недропользоват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убък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ял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роки уплаты роял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оговый перио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с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логовый Кодекс РК за 2008 г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ропольз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- операции по недропльзованию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– работы, относящиеся к государственному геологическому изучению недр, разведке и добыче, в том числе работы, связанные с разведкой и добычей подземных вод, лечебных грязей, разведкой недр для сброса сточных вод, а также работы по строительству и эксплуатации подземных сооружений, не связанные с добыч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едропользовател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существляющие добычу полезных ископаемых до заключения контракта на недропользование, производят отчисления за пользование недрами в доход республиканского бюджета в виде роялти в 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размерах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устанавливаемых Правительством Республики Казахстан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 этом определение объектов обложения и сроков уплаты данных отчислений производится в порядке, установленном настоящим Кодексом для уплаты роял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логообложение недропользователей разделяется на две модели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85688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едусматривает уплату недропользователем налогов и других обязательных платежей, установленных настоящим Кодексом, за исключением доли Республики Казахстан по разделу продукци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едусматривает уплату (передачу) недропользователем доли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исключением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нтного налога на экспортируемую сырую нефть, газовый конденса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ялт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иза на сырую нефть, газовый конденса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га на сверхприбыл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ельного налог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га на имуще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Субъектами 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права недропользования могут быть физические и юридические лица, в том числе иностранные, а также иностранные государства, международные организации.</a:t>
            </a:r>
            <a:br>
              <a:rPr sz="24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циональные недроис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граждане Республики Казахстан и казахстанские юридические лиц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остранные недро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иностранные граждане, иностранные юридические лица, иностранные государства, международные орган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стоянные недро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лица, право недропльзования которых носит бессрочный характе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ременные недропльзовател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лица, право недропльзования которых ограниченно определенным сро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екты недропольз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дропользователь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подрядчик) – гражданин или юридическое лицо, государство и (или) международная организация, получившие право осуществлять операции по недропользовани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ял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ялти уплачивается недропользователем в отдельности по каждому виду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оки уплаты роял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ялти по всем видам полезных ископаемых уплачивается не позднее 20 числа месяца, следующего за налоговым период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5:33:37Z</dcterms:created>
  <dc:creator>050208</dc:creator>
  <dc:description/>
  <dc:language>en-US</dc:language>
  <cp:lastModifiedBy>Windows XP Professional SP3</cp:lastModifiedBy>
  <dcterms:modified xsi:type="dcterms:W3CDTF">2011-06-07T18:43:21Z</dcterms:modified>
  <cp:revision>8</cp:revision>
  <dc:subject/>
  <dc:title>Недропользование</dc:title>
</cp:coreProperties>
</file>