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35F1-F2CF-4E3D-8C8F-E470ABEA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0CCE-BF93-44C9-A485-9AC7B09C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821E-2273-4763-8541-CE2E9DA3B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C0BC-FAAB-48C6-A564-F487C11E3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D3AE-95A0-4F01-BD2F-72414B35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E015-5CA8-450C-B4A5-27AB15ED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388E-0861-4AB4-B3E5-06072505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92D3-D832-44C5-9C29-1FA89D44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0C78-6B13-4A0E-BA60-6A26E1D5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ECB0-91D3-40B8-A502-8D920C4A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9757-C6A1-4538-BC10-B68FBB34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F3C7-4134-4977-B11B-2524748F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98F9-CAF8-4BDB-BBD0-FB0F21211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ударственный бюдж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513480" y="476280"/>
            <a:ext cx="2630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кция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лан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Понятие бюджета. Экономическое содержание государственного бюдж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Характерные черты бюджета. Экономические и организационные формы         функционирования бюдж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Бюджет как финансовый план госуд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Функции государственного бюджета, границы их действия и особ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Бюдже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ентрализованный денежный фонд государства, предназначенный для финансового обеспечения реализации его задач и функци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юджет представляет собо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600200"/>
          <a:ext cx="8229240" cy="211572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105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фор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атериальной сущ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кономической сущ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юридическому оформлению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пл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лизованный фон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окупность экономических отнош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кономическая сущность бюдж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920" y="234720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изводственные отношения, выраженные в денежной форме (бюджетные отношения) и имеющие соответствующее им материально-вещественное вопло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ударственный бюдж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экономические отношения между государством и субъектами всех форм собственности и отдельными гражданами по поводу формирования централизованного фонда денежных средств, направленных на выполнение общегосударственных задач и функц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4:19:06Z</dcterms:created>
  <dc:creator>к</dc:creator>
  <dc:description/>
  <dc:language>en-US</dc:language>
  <cp:lastModifiedBy>к</cp:lastModifiedBy>
  <dcterms:modified xsi:type="dcterms:W3CDTF">2011-03-24T12:30:01Z</dcterms:modified>
  <cp:revision>3</cp:revision>
  <dc:subject/>
  <dc:title>Государственный бюджет</dc:title>
</cp:coreProperties>
</file>