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180A-9F27-47F5-B8CB-6903A59D25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F3E-615E-4732-A64A-9B92A0F72D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B566-0534-4D83-A4FE-F3EA10D5E2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бюджет объединяет республиканский и местные бюджеты, консолидированный бюджетвключает республиканский бюджет, бюджеты областей, города республиканского значения, столицы и посту-пления, направляемые в Национальный фонд РК, а бюджет области6 состоит из областного бюджета, бюджетоврайонов (городов областного значения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Дата 7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9B64-0E12-4C33-93D6-591E6AFF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3FF7-D0F0-4B9A-901A-22D6CCE9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783E-A5EF-447A-8B62-790F6DBA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8480-43AD-4524-93DC-3828BB5C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1726-38F7-4DA8-B28E-47D75486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967-DD5D-462C-AE36-8816F00C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16D-8272-4FF2-ACB2-BC37878F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EF1F-08BF-4EC7-A3FD-8C5A68E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3894-8738-4CA2-8953-73E60E11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343B-26D5-4E5C-B8E3-20F6B1A5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473-C11D-43B4-9C47-7178D89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DAE0-6010-4CD6-923B-7DE3A7A6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8F2D-9D78-45F7-B3E1-A6AC339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3B65-BB72-45ED-BF7D-F35A74D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88A3-AC6C-4D1E-B419-F65760B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F059-BA5C-4687-880A-2B39CAA4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850F-78DF-452E-B77F-4A491EA9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3587-82E0-40A6-A8B9-EE320DEE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586B-D922-49F9-A3A1-0C393AF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6B15-5D89-4B7B-A672-E791442B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00AA-3E1B-4C2C-A460-E1578AE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23CE-A397-412C-A5CE-BA0684B9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3EE5-C8F9-4A12-885D-BCB4C9C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7913-A233-4766-AF5C-F0B7387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61D9-676F-43A0-A8A3-F22EF51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E3752-21E5-435F-8DC2-74AE7D59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B87C-C50C-4140-8A1E-8BF6FB7A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9AAA-6397-4A04-A762-1E036BD8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6E8F-76A0-42BF-ACA8-A548A7C9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0229-D33C-4ED8-8E23-12E044FE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C3ED-14B2-4475-8252-5060CED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5402-6F83-4405-B8AF-CABB601E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23F5-208E-42D7-B03F-8F1051A8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24B6-D272-48DF-BF29-FF02725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7AE5-F1E9-4BAA-AE7B-3BF892A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FE03-D489-412D-9787-E28253B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709-A41F-43FA-B804-967EC9336F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A674-FCFB-4E29-8D68-82AF4E273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4882-D69A-47DA-8DB3-8BB7D088C4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Бюджетная система и принципы  ее организации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899640" y="2707920"/>
            <a:ext cx="748836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бюджетного устройства и бюджет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инципы построения бюджетной системы Казахст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Республиканский бюджет и его роль в решение общегосударственных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естные бюджеты и их значение в социаль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ческом развитии территориальных 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250920" y="333360"/>
            <a:ext cx="856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2. принцип полнот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отражение в бюджетах Республики Казахстан всех поступлений и расходов, предусмотренных законодательством Республики Казахстан, недопущение зачетов взаимных требований  с использованием бюджетных средств, равно как и уступок прав требований по бюджетным средства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324000" y="476280"/>
            <a:ext cx="849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3. принцип реалистичност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соответствие параметров бюджета показателям текущего состояния экономики, а также параметрам и направлениям социально-экономического развития Республики Казахстан  и регионо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50920" y="40464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4. принцип транспарент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обязательное опубликование нормативных правовых актов в области бюджетного законодательства, утвержденных (уточненных, скорректированных) бюджетов и отчетов об их исполнении, другой информации, касающейся фискальной политики государства, открытость бюджетного процесса, проведение государственного финансового контрол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250920" y="1341360"/>
            <a:ext cx="849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5. принцип последовательнос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соблюдение органами государственного управления принятых ранее решений в сфере бюджетных отношени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395280" y="4762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6. принцип эффективности и результатив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разработка и исполнение бюджетов, исходя из необходимости достижения определенных результатов с использованием оптимального объема бюджетных средств, необходимого для достижения этих результатов, предусмотренных паспортом бюджетных программ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50920" y="404640"/>
            <a:ext cx="86421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7. принцип самостоятельности бюджетов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установление стабильного распределения поступлений между бюджетами разных уровней и определение направлений их расходования , право всех уровней государственного управления самостоятельно осуществлять бюджетный процесс, недопустимость изъятия доходов, дополнительно полученных в ходе исполнения местных бюджетов, свободных остатков средств местных бюджетов в вышестоящий бюджет, недопустимость возложения на нижестоящие бюджеты дополнительных расходов без соответствующей компенсац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8. Принцип приоритет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9. Принцип ответств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3. Республиканский бюджет и его роль в решение общегосударственных задач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спубликанский бюджет представля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бой централизованный фонд денежных средств, формируемый за счет налоговых и иных поступлений и предназначенный для финансирования республиканских бюджетных программ и меропри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спубликанская бюджетная програм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юджетная программа, направленная на выполнение функций государственного управления и реализацию на республиканском уровне государственной политики. Рес­публиканская бюджетная программа утверждается Парламентом Рес­публики Казахстан на финансовый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1187280" y="693360"/>
            <a:ext cx="70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 Бюджетным кодексом Республики Казахстан поступления в республиканский бюджет включ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ходы республиканского бюдж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лученные официальные трансфер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озврат кредитов, выданных из республиканского бюдж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br>
              <a:rPr sz="32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900000" y="1032480"/>
            <a:ext cx="781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юджетный кодекс Р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мирбаев С.М.Бюджетная система РК., - Учебник для вузов. - Астана: ИД «Сарыарка», 2007. - С. 47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Утибаев Б.С., Жунусова Р.М., Саткалиева В.А.,Государственный бюджет: Учебник. Под общ. ред. к.э.н., доцента Б.С. Утибаева – Алматы: Экономика, 2006. – С.28-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Бюджетное устройство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государственного бюджета, как с экономической, так и организационно-правовой точки зр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.е состав и структура внутренних подразделений государственного бюджета, функциональное разграничение сфер их использования, соподчиненность, взаимодействие, а также правовая и процедурная сторона организации бюджета. Или бюджетное устройство - это организация бюджетной системы, принципы ее постро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Бюджетная система Республики Казахста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6880" y="2355480"/>
            <a:ext cx="792972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есть «совокупность бюджетов и Национального фонда, а также бюджетных процесса и отношений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ный бюджет объединяет республиканский и местные бюджеты, консолидированный бюджет включает республиканский бюджет, бюджеты областей, города республиканского значения, столицы и поступления, направляемые в Национальный фонд РК, а бюджет области состоит из областного бюджета, бюджетов районов (городов областного значения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7" descr=""/>
          <p:cNvPicPr/>
          <p:nvPr/>
        </p:nvPicPr>
        <p:blipFill>
          <a:blip r:embed="rId1"/>
          <a:srcRect l="0" t="44332" r="7225" b="6479"/>
          <a:stretch/>
        </p:blipFill>
        <p:spPr>
          <a:xfrm>
            <a:off x="468360" y="1125360"/>
            <a:ext cx="8207280" cy="51832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8"/>
          <p:cNvSpPr/>
          <p:nvPr/>
        </p:nvSpPr>
        <p:spPr>
          <a:xfrm>
            <a:off x="1116000" y="1557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сударственный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1332000" y="22050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спубликанский  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1332000" y="285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ый 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4067280" y="364500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3924360" y="436572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юджет района, города областного зна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3995640" y="537372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юджеты г.Алматы, Аста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>
            <a:off x="6372360" y="148428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солидирова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948360" y="234936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пл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правляемый в национальный фо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>
            <a:off x="3995640" y="2708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38"/>
          <p:cNvSpPr/>
          <p:nvPr/>
        </p:nvSpPr>
        <p:spPr>
          <a:xfrm>
            <a:off x="111600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ная система Республики Казах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ый фонд Республики Казахстан, ранее находящийся в составе государственного бюджет РК, с 1 июля 2006 года выделен  как самостоятельный, стабилизационный, денежный фонд стра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упления, направляемые в Национальный фонд, являются частью консолидированного бюджета, однако,сам Национальный фонд РК представляет собой активы государства в виде финансовых активов, сосредотачиваемых на счете Правительства РК в Национальном Банке РК, а также в виде иного имущества, за исключениемнематериальных активов . Фонд предназначен для обеспечения стабильного социально-экономического развития государства, накопления финансовых активов и иного имущества, за исключением нематериальных активов,снижения зависимости экономики от нефтяного сектора и воздействия неблагоприятных внешних фактор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468360" y="981000"/>
            <a:ext cx="8351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2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ная система Республики Казахстан основывается на следующих  принципах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539640" y="476280"/>
            <a:ext cx="81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. принцип  единств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обеспечение применения единого бюджетного законодательства, в том числе использование единой бюджетной классификации, единых процедур осуществления бюджетного процесса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2:55:57Z</dcterms:created>
  <dc:creator>к</dc:creator>
  <dc:description/>
  <dc:language>en-US</dc:language>
  <cp:lastModifiedBy>Customer</cp:lastModifiedBy>
  <dcterms:modified xsi:type="dcterms:W3CDTF">2011-06-08T08:37:22Z</dcterms:modified>
  <cp:revision>12</cp:revision>
  <dc:subject/>
  <dc:title>Бюджетная система и принципы  ее организации </dc:title>
</cp:coreProperties>
</file>