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3913-C9DE-4DCF-BD04-F4AC0E9D9C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7540-3271-4596-AC83-804E1CA50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293-4B33-4E91-9849-765A7B09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FC6-6DF3-4D27-874B-D540E08B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C4C-56AA-4F3A-BEC5-250E4119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707-51D6-45CC-B858-C55C6449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232-503F-40BF-8AF9-5BBD1CE3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74A-24C6-40CA-985F-84A14346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F9F-EE7D-4B6D-B4F2-FD7B8296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E6F-70AA-48CF-B145-30CD46FF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989-19A2-410B-BFA4-034FFFFD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282-06E9-48B3-BD8A-9A22144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5EB-8774-497F-ABF1-C5E4AB0E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06C-6C03-49DC-99B0-C064E690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D866-3879-47CE-BC17-5D862CAA5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зирование налоговых поступл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6920" y="2276280"/>
            <a:ext cx="70167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нозирование налоговых поступлений. Характеристика методики расчета налоговых поступ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нозирование поступлений по  внутренним налогам на товары, работы и услуги (косвенные нало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нозирование поступлений по налогам на международную торговлю и внешние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ноз по КПН определяется несколькими вариантами расчетов. По первому варианту используются сводные данные налоговых деклараций за отчетный период. По данным налоговых деклараций, в первую очередь, определяется налогооблагаемый доход на прогнозируемый период. При этом учитываются изменения в прогнозируемом году размеров вычетов, т.е. налогооблагаемый доход по отчетному периоду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ектиру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уровень инфля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кущего года и 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гнозируемый уровень инфля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налоговый год. В процессе анализа структуры вычетов, взятых из налоговых деклараций отдельных крупных налогоплательщиков, определяю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азмеры вычетов и прогнозируются оптимальные размеры на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редстоящий год. Также должны быть учтены следующие факторы - изменение переноса размеров убытков или прекращение сроков переноса убы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ноз по корпоративному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ходному нал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нозная сумма корпоративного подоходного налога   определяется по формуле: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т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I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/100%*In/100%*S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Рп - прогноз корпоративного подоходного налог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тч - налогооблагаемый доход за отчетный период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тек - индекс потребительских цен на текущий год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индекс потребительских цен на планируемый го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 - средняя ставка налога за отчетный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9640" y="1341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.Использование  сводных данных налоговых деклараций за отчетный пери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Ро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/100%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Рп - прогнозируемая сумма корпоративного подоходного нало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 - ожидаемое поступление налога за текущий г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  - индекс потребительских цен в планируемом году;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ндекс объема производства в планируемом год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формации о начисленной и уплаченной сумме корпоративного подоходного налога в разрезе крупных налогоплательщиков каждого региона, результаты годовых перерасчетов по налоговым деклара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ноз корпоративного подоходного налога с юридических лиц по организациям сырьевого сектора определяется по отдельному расчету в разрезе налогоплательщиков, входящих 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речень организаций сырьевого секто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верхплановые поступления по которым зачисляются в Национальный фонд 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прогноза поступлений КПН от организаций сырьевого с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 = (Овн   х Цвн) + (Оэ х Цэ)+ (Оснг  х Цснг  ) х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    — доход от реализации продукции (тыс. тенге);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н - объем поставок на внутренний рынок (тыс. тонн); Оэ   - объем поставок на экспорт (тыс. тонн);                 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г - объем поставок в страны СНГ (тыс. тонн); Цвн - цена реализации на внутренний рынок, скорректированная на постоянную среднюю мировую цену (доллар за тонну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н - цена реализации на экспорт, скорректированная на постоянную среднюю мировую цену (доллар за тонну); Цснг - цена реализации в страны СНГ, скорректированная на постоянную среднюю мировую цену (доллар за тонн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- курс тенге к доллару США;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 = (Др + Дпр)-В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Дн - налогооблагаемый дохо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 - доход от основной реализации;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п — доход от прочей реализации;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- выч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Н = ДнхСтавка%/100%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КПН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поративный подоходный налог;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 - налогооблагаемый дохо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вка% - ставка корпоративного подоходного нало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чета прогноз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дивидуального подоходного нало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доходов, облагаемых у источника выплаты, используются данны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логовых декла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едставляемых налогоплательщиками в налоговые орг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нозируя ИПН с доходов, не облагаемых у источника выплаты, используются данные налоговых деклараций за предыдущий год по доходу индивидуального предпринимателя, имущественному и прочим доходам, доходам адвокатов и частных нотари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ноз налога н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анспортные сре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ссчитывае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прямому счет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сновании сведений об их количестве в разрезе видов и групп транспортных средств по объемам двигателей, грузоподъемности, посадочных мест, предоставляемы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рганами внутренних дел Р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обеспечива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ный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х владель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3:53:08Z</dcterms:created>
  <dc:creator>к</dc:creator>
  <dc:description/>
  <dc:language>en-US</dc:language>
  <cp:lastModifiedBy>Customer</cp:lastModifiedBy>
  <dcterms:modified xsi:type="dcterms:W3CDTF">2011-06-08T08:36:25Z</dcterms:modified>
  <cp:revision>12</cp:revision>
  <dc:subject/>
  <dc:title>Прогнозирование налоговых поступлений </dc:title>
</cp:coreProperties>
</file>