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EA4-7695-406B-91E3-74D323EC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6EE-DC86-4B4A-A1AB-FFA0ACD3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87D-9B46-4FE1-849B-DF6D07C8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B59-E7D2-453E-8909-7BEB8923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C8E-1DB1-4EE0-9A6D-9B2D928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8F5-D215-4540-B3F8-12F6FD6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2E1-1272-4D11-AB63-4AB9C94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80D-3A1D-4FE3-A5A9-7E52688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F0F-B8FD-4CB1-8FB9-634FF0B2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081-788E-450E-BBA8-469B623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442-3283-496D-BA85-2B82186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113-A358-4755-992D-F572428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0371-2563-4CD3-B18F-56FA446835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КОНОМИЧЕСКОЕ СОДЕРЖАНИЕ И ХАРАКТЕРИСТИКА ОТДЕЛЬНЫХ ВИДОВ БЮДЖЕ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0" y="260280"/>
            <a:ext cx="9144000" cy="1223640"/>
            <a:chOff x="0" y="260280"/>
            <a:chExt cx="9144000" cy="1223640"/>
          </a:xfrm>
        </p:grpSpPr>
        <p:sp>
          <p:nvSpPr>
            <p:cNvPr id="66" name="Rectangle 5"/>
            <p:cNvSpPr/>
            <p:nvPr/>
          </p:nvSpPr>
          <p:spPr>
            <a:xfrm>
              <a:off x="0" y="260280"/>
              <a:ext cx="277164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Вид бюджета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651640" y="260280"/>
              <a:ext cx="349236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Докумен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твержда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бюдже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771640" y="260280"/>
              <a:ext cx="288000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орга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0" y="1844640"/>
            <a:ext cx="9144000" cy="2304360"/>
            <a:chOff x="0" y="1844640"/>
            <a:chExt cx="9144000" cy="2304360"/>
          </a:xfrm>
        </p:grpSpPr>
        <p:sp>
          <p:nvSpPr>
            <p:cNvPr id="70" name="Rectangle 9"/>
            <p:cNvSpPr/>
            <p:nvPr/>
          </p:nvSpPr>
          <p:spPr>
            <a:xfrm>
              <a:off x="0" y="1844640"/>
              <a:ext cx="277164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 района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)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5651640" y="1844640"/>
              <a:ext cx="349236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шение Маслиха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айона,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значения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на 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2771640" y="1844640"/>
              <a:ext cx="2880000" cy="23043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Маслиха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айона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0" y="4508640"/>
            <a:ext cx="9144000" cy="2015280"/>
            <a:chOff x="0" y="4508640"/>
            <a:chExt cx="9144000" cy="2015280"/>
          </a:xfrm>
        </p:grpSpPr>
        <p:sp>
          <p:nvSpPr>
            <p:cNvPr id="74" name="Rectangle 13"/>
            <p:cNvSpPr/>
            <p:nvPr/>
          </p:nvSpPr>
          <p:spPr>
            <a:xfrm>
              <a:off x="0" y="4508640"/>
              <a:ext cx="277164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Чрезвычай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сударств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51640" y="4508640"/>
              <a:ext cx="349236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Указ Президен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и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Казахстан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2771640" y="4508640"/>
              <a:ext cx="2880000" cy="20152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Централь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рган п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ному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планированию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395280" y="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х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258920" y="43164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логовые поступ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395280" y="187164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трат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95280" y="230364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онное сальд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58920" y="792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налоговые поступ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258920" y="115092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т продажи 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258920" y="151128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фициал. трансфер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395280" y="273528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стое бюджетное кредит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1258920" y="316692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юджетные креди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1258920" y="352728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гашение бюджетных кред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395280" y="388764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льдо по операциям в фин.акти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258920" y="431964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обретение фин.акт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1258920" y="4680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я от продажи фин.акт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395280" y="5040360"/>
            <a:ext cx="8424720" cy="43164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фицит (профицит)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395280" y="5445000"/>
            <a:ext cx="8424720" cy="43200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нан-ние дефицита (использ-е про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1258920" y="5877000"/>
            <a:ext cx="7561080" cy="360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займ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1258920" y="6237360"/>
            <a:ext cx="7561080" cy="28728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гашение зай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1"/>
          <p:cNvSpPr/>
          <p:nvPr/>
        </p:nvSpPr>
        <p:spPr>
          <a:xfrm>
            <a:off x="1258920" y="6524640"/>
            <a:ext cx="7561080" cy="333360"/>
          </a:xfrm>
          <a:prstGeom prst="flowChartAlternateProcess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вижение остатков бюджет.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Times New Roman"/>
              </a:rPr>
              <a:t>1 раздел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Доходами бюджета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выступают налоговые и другие обязательные платежи, официальные трансферты, деньги, передаваемые государству на безвозмездной основе, не носящие характера возвратности и не связанные с продажей финансовых активов государства, подлежащие зачислению в бюджет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поступле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ключают в себя налоги и другие обязательные платежи в бюджет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поступле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представлены в виде обязательных,  невозвратных платежей в бюджет, грантов и денег, передаваемых в бюджет на безвозмездной основе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ми от продажи основного капитала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являются деньги: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государственного имущества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товаров из гос. материального резерва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поступающие от продажи земельных участков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-от продажи гос. нематериальных активов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 официальных трансфертов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включают поступления трансфертов из одного уровня бюджета в другой, из Национального фонда РК в бюджет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2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Затраты бюдже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представляют собой бюджетные средства, выделяемые на невозвратной основ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) затраты, обеспечивающие деятельность государственных учреждений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) затраты, связанные с организацией и проведением мероприятий, не носящих постоянного характера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3)затраты на государственный заказ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денежные выплаты физическим лицам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5) субсидии юридическим лицам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6) официальные трансферты - выплаты трансфертов из одного уровня бюджета в другой, а также в Национальный фонд Республики Казахстан;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7) иные виды затрат на выполнение обязательств государств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84872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3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Операционное сальдо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есть разница между доходами и затратами бюдже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и этом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операционное сальдо может быть как </a:t>
            </a: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положительн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, так и </a:t>
            </a: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отрицательн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отрицательное операционное сальдо в структуре бюджета допускается при двух условиях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) присутствие в затратах бюджета бюджетных программ развит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) соответствие объемов текущих бюджетных программ размеру доходов бюджета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в обязательном порядке определяются пределы размера отрицательного операционного сальдо, отражаемые в среднесрочной фискальной политике государства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4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Чистое бюджетное кредитовани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между бюджетными кредитами и погашением бюджетных креди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е креди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редставляют собой деньги, выделяемые из бюджета на возвратной, срочной и платной основе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гашение бюджетных кредито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есть погашение заемщиком основного долга по бюджетному кредиту в соответствии с кредитным договором и законодательством Республики Казахста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5164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бюджетов и их характери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уктура бюджета и характеристика его разделов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распределения и закрепления доход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распределения и закрепления расход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5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Сальдо по операциям с финансовыми активам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между приобретением финансовых активов и поступлениями от продажи финансовых активов государств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приобретение финансовых актив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– это расходы бюджета, связанные с операциями по приобретению в гос.собственность долей участия, ценных бумаг юр.лиц, в том числе международных организаций;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я от продажи финансовых активов государства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- поступления в бюджет, связанные с операциями по продаже долей участия, ценных бумаг юр.лиц, в том числе международных организаций, находящихся в гос.собственности, гос.учреждений и гос.предприятий в виде имущественного комплекса, а также иного гос.имущества, находящегося в управлении гос.предприят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6 раздел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Дефицит (профицит) бюджет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определяется как разница трех итоговых разделов бюдже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7 разде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Финансирование дефицита (использование профицита) бюджет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прежде всего, основывается на принятии финансовых решений в части привлечения и распределения государством финансовых ресурс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54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пределение доходов и расходов в бюджетной системе осуществляется в соответствии со специальными принципами закрепления доходных полномочий и расходных полномочи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аспределение полномочий по обеспечению бюджетных поступлений между уровнями государственной структуры должно строиться с учетом таких факторов, как: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1) экономическая эффективность;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2) высокий уровень администрирования;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3) оптимальное распределение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налогового бремени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этом круг решаемых вопросов основывается на достижении таких условий, как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ртикальная сбалансирован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то есть соответствие доходной части бюджета и объема расходов всех уровней государственной власти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оризонтальная сбалансированно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то есть это границы колебаний неравномерности финансового потенциала органов власти одного уровня управл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Times New Roman"/>
              </a:rPr>
              <a:t>Основные принципы распределения доходных полномочий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е соответствие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расходные обязательства должны соответствовать налоговому потенциалу регион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 распределе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налоговые поступления в целях эффективности финансового перераспределения и макроэкономической стабильности должны контролироваться высшими органами власт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стабильность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разумнее закреплять налоговые поступления за органами с большей ответственностью и властью с целью использования налогов для стабилизации экономики страны;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экспортируемость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налоги не должны поддаваться экспорту и должны уплачиваться на закрепленной территории; 5) внутренние рынки – это эффективное распределение финансовых ресурсов за счет управления налогам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торговл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контроль за международными торговыми операциями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уклонение от уплаты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условия администрирован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миграци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фактор мобильности населения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административные возможнос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соответствие уровня администрирования и налоговых полномоч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В РК распределение доходов осуществляется в двух порядках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ия определенных видов доходов за бюджетами разных уровней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(закрепляющий метод, основной)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го регулировани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, включающего такие группы, как: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установление и распределение регулирующих источников доходов бюджет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перераспределение самих бюджетных источник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безвозмездная помощь нижестоящим бюджетам за счет вышестоящих бюджет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ссуды, выделяемые бюджетам из других бюджетов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В РК  утверждаются, исполняются и являются самостоятельными бюджеты следующих уровней: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республиканский бюджет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бластной бюджет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бюджет города республиканского значения, столицы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бюджет района (города областного значения);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резвычайный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осударственный бюджет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0000"/>
                </a:solidFill>
                <a:latin typeface="Times New Roman"/>
              </a:rPr>
              <a:t>Основные принципы распределения расходных полномочий: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соответстви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должна соблюдаться эффективность предоставляемых услуг; неэффективность услуг приведет к недофинансированию других услуг и к неоправданным тратам ресурсов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«нижний уровень»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- полномочия и ответственность возлагаются на самый низший уровень власти; низшие ступени государственной пирамиды эффективнее решают поставленные задачи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 масштаба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проявляется в объединении нескольких местных органов власти в один региональный и наделении его полномочиями; такое распределение обязанностей снижает общие затраты государства за счет масштабности охвата лиц, которым предоставляется услуга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я в результате диверсификации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универсальный характер предоставляемых услуг одним органом власти; снижение затрат государства; экономия регионов; эффективная координация услуг по их предоставлению;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фискальное неравенство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поступления налогов в бюджет не совпадает с расходами государства по объему и по времени; не пропорциональность развития разных регионов в силу неравномерности их благосостояния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imes New Roman"/>
              </a:rPr>
              <a:t>миграция населения и конкуренция между органами власти на горизонтальном уровн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– освоение новых видов деятельности; привлечение на свою территорию более налогоспособных предприятий, финансово и политически социально выгодных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3300"/>
                </a:solidFill>
                <a:latin typeface="Times New Roman"/>
              </a:rPr>
              <a:t>Республиканским бюджетом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</a:t>
            </a: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</a:rPr>
              <a:t>центральных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государственных органов, подведомственных им государственных учреждений и реализации общереспубликанских направлений государственной политики.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Областным бюджетом, бюджетом города республиканского значения, столиц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стных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х органо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ластно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ня, города республиканского значения, столицы, подведомственных им государственных учреждений и реализации государственной политики в соответствующей административно-территориальной единиц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60280"/>
            <a:ext cx="83534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Бюджетом района (города областного значе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вляется централизованный денежный фонд, формируемый за счет налоговых и других поступлений и предназначенный для финансового обеспечения задач и функций местных государственных органо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й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орода областного знач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, подведомственных им государственных учреждений и реализации государственной политики в соответствующем районе (городе областного значения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60280"/>
            <a:ext cx="83534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резвычайный государственный бюдж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формируется на основе республиканского и местных бюджетов и вводится в случаях чрезвычайного или военного положения в Республике Казахстан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Чрезвычайный госбюджет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5080" y="620640"/>
            <a:ext cx="41022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азрабатывается центральным уполномоченным органом по бюджетному планированию и утверждается Указом Президента Р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нованием для введения и прекращения действия чрезвычайного госбюджета является Указ Президента РК о введении и отмене на всей территории РК чрезвычайного или военного положе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7280" y="620640"/>
            <a:ext cx="439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а время действия чрезвычайного госбюджета действие закона о республиканском бюджете и решений маслихатов о местных бюджетах приостанавливаетс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 прекращением действия чрезвычайного госбюджета исполнение республик. и местного бюджетов осуществляется в соответствии с утвержденными документам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1"/>
          <p:cNvGrpSpPr/>
          <p:nvPr/>
        </p:nvGrpSpPr>
        <p:grpSpPr>
          <a:xfrm>
            <a:off x="0" y="260280"/>
            <a:ext cx="9144000" cy="1223640"/>
            <a:chOff x="0" y="260280"/>
            <a:chExt cx="9144000" cy="1223640"/>
          </a:xfrm>
        </p:grpSpPr>
        <p:sp>
          <p:nvSpPr>
            <p:cNvPr id="54" name="Rectangle 4"/>
            <p:cNvSpPr/>
            <p:nvPr/>
          </p:nvSpPr>
          <p:spPr>
            <a:xfrm>
              <a:off x="0" y="260280"/>
              <a:ext cx="277164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Вид бюджета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651640" y="260280"/>
              <a:ext cx="349236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Докумен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твержда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бюдже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2771640" y="260280"/>
              <a:ext cx="2880000" cy="12236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1f1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Уполномоченны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990000"/>
                  </a:solidFill>
                  <a:latin typeface="Times New Roman"/>
                </a:rPr>
                <a:t>орга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0" y="1844640"/>
            <a:ext cx="9144000" cy="1655280"/>
            <a:chOff x="0" y="1844640"/>
            <a:chExt cx="9144000" cy="1655280"/>
          </a:xfrm>
        </p:grpSpPr>
        <p:sp>
          <p:nvSpPr>
            <p:cNvPr id="58" name="Rectangle 13"/>
            <p:cNvSpPr/>
            <p:nvPr/>
          </p:nvSpPr>
          <p:spPr>
            <a:xfrm>
              <a:off x="0" y="1844640"/>
              <a:ext cx="277164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анск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5651640" y="1844640"/>
              <a:ext cx="349236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акон РК о РБ н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2771640" y="1844640"/>
              <a:ext cx="2880000" cy="1655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Парламент РК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0" y="3860640"/>
            <a:ext cx="9144000" cy="2662920"/>
            <a:chOff x="0" y="3860640"/>
            <a:chExt cx="9144000" cy="2662920"/>
          </a:xfrm>
        </p:grpSpPr>
        <p:sp>
          <p:nvSpPr>
            <p:cNvPr id="62" name="Rectangle 17"/>
            <p:cNvSpPr/>
            <p:nvPr/>
          </p:nvSpPr>
          <p:spPr>
            <a:xfrm>
              <a:off x="0" y="3860640"/>
              <a:ext cx="277164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но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бюджет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</a:rPr>
                <a:t>республиканского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51640" y="3860640"/>
              <a:ext cx="349236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шение Маслихат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и, 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республиканского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на соответствующий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финансовый год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2771640" y="3860640"/>
              <a:ext cx="2880000" cy="26629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Маслихат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области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города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Times New Roman"/>
                </a:rPr>
                <a:t>республиканского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значения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столицы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6-08T07:36:22Z</dcterms:modified>
  <cp:revision>46</cp:revision>
  <dc:subject/>
  <dc:title>PowerPoint Presentation</dc:title>
</cp:coreProperties>
</file>