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47D-C731-4133-A02D-A2E38EF8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AF3-3221-4594-A5CD-B4689D01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228-1FCE-4105-B01D-EED73343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99A-4953-40C8-9EB9-761563CB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A25-B84D-44E7-9F55-ACEEFCBB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758-16CC-4C8F-B1D9-E7C3C93C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E59-8D9F-48A7-A0A9-641B7150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EE5-D059-44BB-8CCC-675D175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A81-5397-4DC5-8CAA-6BA6B1EF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BE2-D2A6-4A1D-A170-5053F5D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F01-47AA-4BE8-9468-774F225C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8DB-25D3-41CF-9552-A4A4A0F8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4A2-FED3-4551-88F0-82213BB8A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300" t="42109" r="1509" b="10792"/>
          <a:stretch/>
        </p:blipFill>
        <p:spPr>
          <a:xfrm>
            <a:off x="611280" y="1628640"/>
            <a:ext cx="79930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0629" t="39172" r="6463" b="38419"/>
          <a:stretch/>
        </p:blipFill>
        <p:spPr>
          <a:xfrm>
            <a:off x="468360" y="1197000"/>
            <a:ext cx="806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4:14:46Z</dcterms:created>
  <dc:creator>к</dc:creator>
  <dc:description/>
  <dc:language>en-US</dc:language>
  <cp:lastModifiedBy>к</cp:lastModifiedBy>
  <dcterms:modified xsi:type="dcterms:W3CDTF">2011-03-01T15:32:44Z</dcterms:modified>
  <cp:revision>2</cp:revision>
  <dc:subject/>
  <dc:title>Слайд 1</dc:title>
</cp:coreProperties>
</file>