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6A7F-2D5B-44E4-8609-0491DBE34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E5E5-DF85-4370-8BB4-90CD1BAEB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C5D1-F783-47F9-9B9A-C0267FA33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2A8E-5CAD-45F4-8A52-469FB67AF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89D1-9C01-433D-8CC3-6A7C9D87B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3D85-8206-485E-9175-2281581A0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79FA-D5B3-42F7-87DD-1F4F033FE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4BE9-9B78-496A-983A-CFEE6F6A9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AD2C-2E16-4FDF-9490-F4AFC6558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1FF0-9343-4A51-9E3A-439E5CC55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A074-28A8-4FA6-A1E0-79BB9A0CD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8457-6AC6-4947-8075-1F67F82D0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5CE77-AFCC-493B-BC2D-C29755A5506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Понятие бюджетной систем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2362320"/>
            <a:ext cx="8229600" cy="39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ПРОС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нятие бюджетной систе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юджетное регулиро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правление в области бюдже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опрос 3. Управление в области бюдже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правление в области бюджета - это институт представляющий собой совокупность правовых норм, определяющих компетенцию общественно-территориальных образований в области бюджета, а также правомочий государственных органов, реализующих эту компетенц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юджетные права общественно-территориальных образований реализуются через компетенцию соответствующих представительных и исполнительных органов государственной вла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юджетные права РК реализуется через компетенцию Президента РК, Парламента РК, Правительства РК и другие центральные государственные орга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езидент РК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 определяет бюджетную политику государства, что, в частности, осуществляется им через ежегодное послание к народу Казахстана о положении в стране и основных направлениях внутренней и внешней политики РК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) вводит при определенных обстоятельствах чрезвычайный бюджет РК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) в случае, если Парламентом РК не будет принят в установленный срок закон о республиканском бюджете на очередной фин. год, вправе издать Указ «О республиканском финансовом плане на 1 квартал предстоящего фин. года», который действует до утверждения Парламентом республиканского бюдже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82296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арламент РК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 определяет бюджетную систему РК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) обсуждает и утверждает республиканский бюджет и отчеты о его исполнен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) устанавливает государственные налоги и сборы, решает вопросы о государственных займах, т.е. определяет источники доходов бюджет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) распределяет государственные доходы и расходы между различными звеньями бюджетной систем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) устанавливает долговременные размеры субвенций, передаваемых из республиканского бюджета в бюджеты областей, и бюджетных изъятий из бюджетов областей, городов Астаны и Алматы в республиканский бюдж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228600" y="10666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авительство РК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 разрабатывает и представляет Парламенту республиканский бюджет и отчет о его исполнен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) обеспечивает исполнение бюджет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) дает заключение на проекты законов, предусматривающих сокращение госдоходов или увеличение госрасходов, которые могут быть внесены лишь при наличии положительного заключения Правительства РК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) разрабатывает республик. бюджетные программы, а также утверждает программу госинвестиций, т.е. программу инвестирования правительственных и привлекаемых Правительством средств, в т.ч. под правительственные гарантии, по приоритетным секторам экономики. Все эти программы в конечном счете формируют состав расходов республиканского бюджет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) устанавливает лимит заимствования бюджетов областей и г.г. Астаны и Алматы на соответствующий финансовый год (т.е. устанавливает размеры местных государственных займов); определяет порядок заключения договоров займа и выпуска государственных эмиссионных ценных бумаг местных исполнительных орган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) устанавливает порядок и периодичность бюджетных изъятий из бюджетов областей и г.г. Астана и Алмат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) распоряжается резервом Правительства РК, образуемого в составе республиканского бюджета для финансирования непредвиденных расход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685800" y="1112760"/>
            <a:ext cx="7848720" cy="33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инистерства (ведомства)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К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23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 выступают в качестве администраторов республиканских бюджетных програм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23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) распределяют между подведомственными организациями полученные в централизованном порядке бюджетные ассигнова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23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) осуществляют контроль за законным и эффективным использованием подведомственными организациями полученных бюджетных ассигнова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23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ущественную роль в сфере бюджета играет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инистерство финансов Р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685440" y="762120"/>
            <a:ext cx="8001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естные исполнительные орган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 разрабатывают проекты местных бюджетов и представляют их на утверждение соответствующего маслихат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) обеспечивают исполнение бюджет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) разрабатывают местные бюджетные программы, утверждаемые местными представительными органами и финансируемые из местных бюджетов. При этом местные исполнительные органы по решению маслихатов вправе самостоятельно вводить бюджетные программы по направлениям, не противоречащим законодательству и не затрагивающим республиканских бюджетных програм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) образуют в составе местных бюджетов резервы местных исполнительных органов для финансирования непредвиденных расход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) предоставляют кредиты в пределах сумм, предусмотренных в местном бюджет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) осуществляют заимствование в соответствии с установленным порядк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СПАСИБО ЗА ВНИМАНИЕ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Object 4"/>
          <p:cNvGraphicFramePr/>
          <p:nvPr/>
        </p:nvGraphicFramePr>
        <p:xfrm>
          <a:off x="2209680" y="1981080"/>
          <a:ext cx="5029200" cy="312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1981080"/>
                    <a:ext cx="5029200" cy="31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5050"/>
                </a:solidFill>
                <a:latin typeface="Arial"/>
              </a:rPr>
              <a:t>ЛИТЕРАТУ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371600" indent="-457200" algn="just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удяков А.И. Учебник Финансовое право Республики Казахстан. Алматы. 2005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 algn="just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йманбаев С.М. Учебник Финансовое право Республики Казахстан. Алматы. 2006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 algn="just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удяков А.И. Основы теории финансового права. Алматы. 1995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 algn="just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ституция Республики Казахстан от 30.08.1995 года, с последующими изменениями и дополнени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опрос 1. Понятие бюджетной систем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Бюджетная систем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это совокупность бюджетов различных видов, организованных в определенную систему. Бюджетные системы могут быть 2 видов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истемы, основанные на принципе бюджетного централизма, когда каждый нижестоящий бюджет входит в состав вышестоящего бюджета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бюджетные системы, основанные на принц. автономности бюджетов административно-территориальных единиц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Бюджетный Кодекс РК», устанавливает, что бюджетная система РК основывается на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нципах единства, полноты, реальности, гласности и самостоятельности всех бюджето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динство бюджето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беспечивается использованием единой правовой бюджетной классификации, утверждаемой МФ РК, единством форм государственной финансовой статистики, передаваемой с одного уровня бюджета на другой, принципами бюджетной процедуры, единством денежной системы. Оно основано на взаимодействии бюджетов через перераспределение поступл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лнота бюджето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беспечивается обязательным и полным отражением в бюджетах всех поступлений, в т.ч. поступлений от национальных компаний, и расходов, определяемых налоговым и бюджетным законодательством Р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альность бюджето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достигается проведением их в соответствии с параметрами индикативного плана социально-экономического развития РК с учетом ежегодного послания Президента РК народу Казахста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ласность бюджето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беспечивается публикацией отчетов об их исполне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амостоятельность бюджето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беспечивается установлением стабильных нормативов распределения доходов между бюджетов различных уровней и правом определения направления расходования бюджетных средст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99036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о касается строения бюджетной системы РК, то она, как и у большинства унитарных государств, представлена бюджетами 2 уровней: республиканским и местными бюджет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спубликанский бюджет предназначе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для финансирования мероприятий, имеющих общегосударственное значение. За счет него содержатся центральные органы государственной власти: Президент, его аппарат, Парламент, Правительство 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естные бюджеты предназначен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для финансирования нужд административно-территориальных образований. За счет этих бюджетов содержатся местные представительные и исполнительные органы государственной власти, осуществляется финансирование деятельности на местном уровне, программы занятости населения, жилищные программы, промышленности и строительства объектов на местном уровне 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опрос 2. Бюджетное регулиров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юджетное регулировани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это обеспечение бездефицитности бюджетов, входящих в состав бюджетной системы государ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Цель бюджетного регулирова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обеспечение надлежащего взаимодействия всех компонентов бюджетной системы, сбалансирование каждого его элемента и всей системы в целом с тем, чтобы данный механиззм нормально функционировал и бесперебойно работа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Методами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бюджетного регулирова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являю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распределение расходов между отдельными видами бюджетов, входящих в бюджетную систем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установление постоянно закрепленных доходов для каждого звена бюджетной систем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установление доходов, передаваемых из вышестоящих бюджетов в нижестоящие в целях сбалансирования последних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(субвенция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9903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ежбюджетная дотац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юджетная ссуд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ежбюджетное кредитова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юджетные изъят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кращение бюджетных расходо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включая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еквестирова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ограничение – специальный механизм, предусматривающий запрет на расходование средств в определенных пределах, который вводится в случаях, когда при исполнении бюджета происходит превышение установленного уровня бюджетного дефицита, либо сокращаются поступления от доходных источников, в результате чего становится невозможным финансирование в полном объеме предусмотренных бюджетом расходов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ndows XP Professional SP3</cp:lastModifiedBy>
  <dcterms:modified xsi:type="dcterms:W3CDTF">2011-06-05T17:06:18Z</dcterms:modified>
  <cp:revision>28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