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10123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101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61920" y="758520"/>
            <a:ext cx="5060880" cy="37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61344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9613440"/>
            <a:ext cx="3027240" cy="506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6369BF92-F9DC-4A79-A2CB-73DE3081CBAA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6040" y="961380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0EAB9D7-5FAB-4381-884A-DA9616998AB2}" type="slidenum">
              <a:rPr b="0" lang="ru-RU" sz="13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6040" y="961380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2CA0B37C-9A52-49BC-8EF5-D661E5C4C5EA}" type="slidenum">
              <a:rPr b="0" lang="ru-RU" sz="13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56040" y="961380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680355D1-D1E3-4D5C-A6BB-6D7201BEFC3A}" type="slidenum">
              <a:rPr b="0" lang="ru-RU" sz="13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56040" y="961380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F5B966A-1C80-486F-97F1-2E6EB17399E2}" type="slidenum">
              <a:rPr b="0" lang="ru-RU" sz="13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56040" y="961380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0724F44-C092-4C80-B3EF-B25DCC7CC202}" type="slidenum">
              <a:rPr b="0" lang="ru-RU" sz="13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56040" y="9613800"/>
            <a:ext cx="3027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02B7354-BBB2-426D-B145-0338B7B8F05D}" type="slidenum">
              <a:rPr b="0" lang="ru-RU" sz="13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61920" y="758880"/>
            <a:ext cx="5060880" cy="37954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98040" y="4808520"/>
            <a:ext cx="558828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22F-521A-4630-95DE-7E5AA81E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2AE-4EEB-49CA-89C4-4252E1BD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4C1-9F49-43A1-B367-3A4498EA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768-0C1D-4CE2-8435-0236FE20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F89-DD35-4D07-AC92-A1FCCEA5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BEC-9FAB-43CE-B3E7-8ED2D925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160-79B8-4542-8E92-96460B94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21E-6A35-4FF3-BBF0-B3DA7084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B24-8EA2-40D2-A235-00E7045A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AF4-37A7-4E40-AE40-0016DBAF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259-2374-4755-A328-86470A89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F1D-8841-40E7-A395-8D1E645C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ACC7-6CC3-40E8-A6E5-378A12CA2199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944"/>
                </a:solidFill>
                <a:latin typeface="Arial"/>
              </a:rPr>
              <a:t>Новый бюджетный кодекс: </a:t>
            </a:r>
            <a:br>
              <a:rPr sz="2000"/>
            </a:br>
            <a:r>
              <a:rPr b="1" lang="ru-RU" sz="2000" spc="-1" strike="noStrike">
                <a:solidFill>
                  <a:srgbClr val="1d4944"/>
                </a:solidFill>
                <a:latin typeface="Arial"/>
              </a:rPr>
              <a:t>бюджет ориентированный на результат </a:t>
            </a:r>
            <a:endParaRPr b="1" lang="en-US" sz="2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5B16-CCD8-4876-8F98-A2EC040CC934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14240" y="178596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1d433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Фискальная политика – государственный регулятор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>
              <a:buClr>
                <a:srgbClr val="1d433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Проблемные вопросы среднесрочного планирования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>
              <a:buClr>
                <a:srgbClr val="1d433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6584-06B1-4EFF-A8BE-12584B53B51C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Фискальная политика –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государственный регулятор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348000" y="1989000"/>
            <a:ext cx="2519280" cy="581400"/>
          </a:xfrm>
          <a:prstGeom prst="rect">
            <a:avLst/>
          </a:prstGeom>
          <a:gradFill rotWithShape="0">
            <a:gsLst>
              <a:gs pos="0">
                <a:srgbClr val="15692b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Фискальная политика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39640" y="1989000"/>
            <a:ext cx="251964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84720" y="1989000"/>
            <a:ext cx="251964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Цели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8360" y="3429000"/>
            <a:ext cx="1224000" cy="110484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Гос. Расходы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908000" y="3429000"/>
            <a:ext cx="1151280" cy="107964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Налоги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419640" y="3429000"/>
            <a:ext cx="1728720" cy="14400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d4337"/>
                </a:solidFill>
                <a:latin typeface="Times New Roman"/>
              </a:rPr>
              <a:t>Индустриальное развитие, диверсификация экономики</a:t>
            </a:r>
            <a:endParaRPr b="0" lang="en-US" sz="15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203640" y="5589720"/>
            <a:ext cx="5256000" cy="759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Устойчивый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экономический рост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5364000" y="3429000"/>
            <a:ext cx="1657440" cy="14400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d4337"/>
                </a:solidFill>
                <a:latin typeface="Times New Roman"/>
              </a:rPr>
              <a:t>Увеличение поступлений в бюджет без увеличения налоговой нагрузки</a:t>
            </a:r>
            <a:endParaRPr b="0" lang="en-US" sz="15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7236000" y="3429000"/>
            <a:ext cx="1441440" cy="14400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d4337"/>
                </a:solidFill>
                <a:latin typeface="Times New Roman"/>
              </a:rPr>
              <a:t>Сдержанная, сбалансиро-ванная фискальная политика</a:t>
            </a:r>
            <a:endParaRPr b="0" lang="en-US" sz="15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116000" y="2997360"/>
            <a:ext cx="144000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1835280" y="2367000"/>
            <a:ext cx="0" cy="61128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1116000" y="2997360"/>
            <a:ext cx="0" cy="43164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2556000" y="2997360"/>
            <a:ext cx="0" cy="43164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4140360" y="2997360"/>
            <a:ext cx="388764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7308720" y="2367000"/>
            <a:ext cx="0" cy="61128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4140360" y="2997360"/>
            <a:ext cx="0" cy="43164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6012000" y="2997360"/>
            <a:ext cx="0" cy="43164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8028000" y="2997360"/>
            <a:ext cx="0" cy="43164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1" name="Line 26"/>
          <p:cNvSpPr/>
          <p:nvPr/>
        </p:nvSpPr>
        <p:spPr>
          <a:xfrm>
            <a:off x="8101080" y="4869000"/>
            <a:ext cx="0" cy="72072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2" name="Line 27"/>
          <p:cNvSpPr/>
          <p:nvPr/>
        </p:nvSpPr>
        <p:spPr>
          <a:xfrm>
            <a:off x="3059280" y="2133720"/>
            <a:ext cx="28872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3" name="Line 28"/>
          <p:cNvSpPr/>
          <p:nvPr/>
        </p:nvSpPr>
        <p:spPr>
          <a:xfrm>
            <a:off x="5867280" y="2133720"/>
            <a:ext cx="21744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4" name="Line 29"/>
          <p:cNvSpPr/>
          <p:nvPr/>
        </p:nvSpPr>
        <p:spPr>
          <a:xfrm>
            <a:off x="4284720" y="4869000"/>
            <a:ext cx="0" cy="71892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6227640" y="4869000"/>
            <a:ext cx="0" cy="68400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F451-B135-45DF-853A-CA04B443CF1A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Фискальная политика –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государственный регулятор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348000" y="1628640"/>
            <a:ext cx="2519280" cy="581400"/>
          </a:xfrm>
          <a:prstGeom prst="rect">
            <a:avLst/>
          </a:prstGeom>
          <a:gradFill rotWithShape="0">
            <a:gsLst>
              <a:gs pos="0">
                <a:srgbClr val="71ad49">
                  <a:alpha val="59215"/>
                </a:srgbClr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Фискальная политика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6156360" y="1989000"/>
            <a:ext cx="2401920" cy="825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Times New Roman"/>
              </a:rPr>
              <a:t>регулируемая стабилизация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539640" y="1989000"/>
            <a:ext cx="2519640" cy="825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Times New Roman"/>
              </a:rPr>
              <a:t>автоматическая стабилизация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324000" y="3068640"/>
            <a:ext cx="1223640" cy="5202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Бюджетный кодекс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1692360" y="3068640"/>
            <a:ext cx="1152360" cy="5202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Налоговый кодекс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250920" y="4437000"/>
            <a:ext cx="2160360" cy="94644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Концепция формирования и использования средств Национального фонда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4" name="Rectangle 31"/>
          <p:cNvSpPr/>
          <p:nvPr/>
        </p:nvSpPr>
        <p:spPr>
          <a:xfrm>
            <a:off x="2484360" y="3789360"/>
            <a:ext cx="1513080" cy="5202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Трудовой кодекс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5" name="Rectangle 32"/>
          <p:cNvSpPr/>
          <p:nvPr/>
        </p:nvSpPr>
        <p:spPr>
          <a:xfrm>
            <a:off x="2987640" y="3068640"/>
            <a:ext cx="1297080" cy="5202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Таможенный кодекс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6" name="Rectangle 33"/>
          <p:cNvSpPr/>
          <p:nvPr/>
        </p:nvSpPr>
        <p:spPr>
          <a:xfrm>
            <a:off x="2484360" y="4437000"/>
            <a:ext cx="1800360" cy="105768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Кодекс об административных правонарушениях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755640" y="3789360"/>
            <a:ext cx="1440000" cy="5202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Гражданский кодекс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179280" y="2924280"/>
            <a:ext cx="4248360" cy="2592360"/>
          </a:xfrm>
          <a:prstGeom prst="rect">
            <a:avLst/>
          </a:prstGeom>
          <a:noFill/>
          <a:ln w="25560">
            <a:solidFill>
              <a:srgbClr val="1d433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250920" y="5734080"/>
            <a:ext cx="410508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Нормативно-правовые акты в их реализацию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0" name="Text Box 37"/>
          <p:cNvSpPr/>
          <p:nvPr/>
        </p:nvSpPr>
        <p:spPr>
          <a:xfrm>
            <a:off x="4716360" y="3068640"/>
            <a:ext cx="1368360" cy="73332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Сдерживание текущих расходов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1" name="Text Box 38"/>
          <p:cNvSpPr/>
          <p:nvPr/>
        </p:nvSpPr>
        <p:spPr>
          <a:xfrm>
            <a:off x="6156360" y="3068640"/>
            <a:ext cx="1512720" cy="73332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Регулирование инфляционных процессов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2" name="Text Box 39"/>
          <p:cNvSpPr/>
          <p:nvPr/>
        </p:nvSpPr>
        <p:spPr>
          <a:xfrm>
            <a:off x="4643280" y="5734080"/>
            <a:ext cx="424980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Корректировка фискальной политики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4643280" y="6237360"/>
            <a:ext cx="424980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Уточнение республиканского бюджета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4" name="Text Box 41"/>
          <p:cNvSpPr/>
          <p:nvPr/>
        </p:nvSpPr>
        <p:spPr>
          <a:xfrm>
            <a:off x="7740720" y="3068640"/>
            <a:ext cx="1079280" cy="73332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Снижение ставок налогов 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5" name="Text Box 42"/>
          <p:cNvSpPr/>
          <p:nvPr/>
        </p:nvSpPr>
        <p:spPr>
          <a:xfrm>
            <a:off x="6588000" y="3933720"/>
            <a:ext cx="2232000" cy="73332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Повышение размера пенсионных выплат и пособий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3"/>
          <p:cNvSpPr/>
          <p:nvPr/>
        </p:nvSpPr>
        <p:spPr>
          <a:xfrm>
            <a:off x="6588000" y="4797360"/>
            <a:ext cx="2232000" cy="52020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Ребалансирование тарифов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7" name="Text Box 44"/>
          <p:cNvSpPr/>
          <p:nvPr/>
        </p:nvSpPr>
        <p:spPr>
          <a:xfrm>
            <a:off x="4716360" y="3933720"/>
            <a:ext cx="1728720" cy="1483920"/>
          </a:xfrm>
          <a:prstGeom prst="rect">
            <a:avLst/>
          </a:prstGeom>
          <a:gradFill rotWithShape="0">
            <a:gsLst>
              <a:gs pos="0">
                <a:srgbClr val="71ad49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Times New Roman"/>
              </a:rPr>
              <a:t>Изменение размеров гарантированного трансферта из Нац.фонда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8" name="Rectangle 45"/>
          <p:cNvSpPr/>
          <p:nvPr/>
        </p:nvSpPr>
        <p:spPr>
          <a:xfrm>
            <a:off x="4572000" y="2924280"/>
            <a:ext cx="4392720" cy="2592360"/>
          </a:xfrm>
          <a:prstGeom prst="rect">
            <a:avLst/>
          </a:prstGeom>
          <a:noFill/>
          <a:ln w="25560">
            <a:solidFill>
              <a:srgbClr val="1d433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4CA4-EC33-4025-8B3A-44EA9AD42544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Закон Республики Казахстан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«О бюджетной системе» </a:t>
            </a:r>
            <a:r>
              <a:rPr b="1" lang="kk-KZ" sz="2800" spc="-1" strike="noStrike">
                <a:solidFill>
                  <a:srgbClr val="1d4944"/>
                </a:solidFill>
                <a:latin typeface="Arial"/>
              </a:rPr>
              <a:t>с 1996 по 2004 годы</a:t>
            </a: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1" name="Rectangle 25"/>
          <p:cNvSpPr/>
          <p:nvPr/>
        </p:nvSpPr>
        <p:spPr>
          <a:xfrm>
            <a:off x="324000" y="198900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Times New Roman"/>
              </a:rPr>
              <a:t>Статья 2. Основа для разработки бюджета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     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Основой для разработки проектов бюджетов на предстоящий финансовый год и долгосрочного планирования прогнозных показателей государственного бюджета являются индикативный план социально-экономического развития Республики Казахстан, утверждаемый Правительством Республики Казахстан, экономические и социальные программы развития территорий, утверждаемые местными представительными органами, на соответствующий период с учетом ежегодного послания Президента Республики Казахстан к народу Казахстана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7B21-6288-456A-B7AA-447326F80D6A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Фискальная политика, как элемент средне-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и долгосрочного планирования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971640" y="5950080"/>
            <a:ext cx="712944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Среднесрочная  фискальная политика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5" name="Text Box 38"/>
          <p:cNvSpPr/>
          <p:nvPr/>
        </p:nvSpPr>
        <p:spPr>
          <a:xfrm>
            <a:off x="971640" y="2781360"/>
            <a:ext cx="70578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Среднесрочный план социально-экономического развития Республики Казахстан и региона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3419640" y="1628640"/>
            <a:ext cx="2160360" cy="848160"/>
          </a:xfrm>
          <a:prstGeom prst="rect">
            <a:avLst/>
          </a:prstGeom>
          <a:gradFill rotWithShape="0">
            <a:gsLst>
              <a:gs pos="0">
                <a:srgbClr val="15692b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Стратегия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</a:rPr>
              <a:t>Казахстан – 2030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7" name="Text Box 42"/>
          <p:cNvSpPr/>
          <p:nvPr/>
        </p:nvSpPr>
        <p:spPr>
          <a:xfrm>
            <a:off x="971640" y="3789360"/>
            <a:ext cx="705780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Государственные, отраслевые и региональные программы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8" name="Rectangle 44"/>
          <p:cNvSpPr/>
          <p:nvPr/>
        </p:nvSpPr>
        <p:spPr>
          <a:xfrm>
            <a:off x="971640" y="4508640"/>
            <a:ext cx="7129440" cy="10101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Закон об объемах официальных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трансфертов общего характера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9" name="Rectangle 45"/>
          <p:cNvSpPr/>
          <p:nvPr/>
        </p:nvSpPr>
        <p:spPr>
          <a:xfrm>
            <a:off x="611280" y="2565360"/>
            <a:ext cx="7848360" cy="3888000"/>
          </a:xfrm>
          <a:prstGeom prst="rect">
            <a:avLst/>
          </a:prstGeom>
          <a:noFill/>
          <a:ln w="25560">
            <a:solidFill>
              <a:srgbClr val="1d433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324000" y="1484280"/>
            <a:ext cx="8496000" cy="4105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1" name="Line 47"/>
          <p:cNvSpPr/>
          <p:nvPr/>
        </p:nvSpPr>
        <p:spPr>
          <a:xfrm>
            <a:off x="4572000" y="558972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2" name="Line 48"/>
          <p:cNvSpPr/>
          <p:nvPr/>
        </p:nvSpPr>
        <p:spPr>
          <a:xfrm flipH="1">
            <a:off x="2626920" y="2060640"/>
            <a:ext cx="792360" cy="504720"/>
          </a:xfrm>
          <a:prstGeom prst="line">
            <a:avLst/>
          </a:prstGeom>
          <a:ln w="63360">
            <a:solidFill>
              <a:srgbClr val="1d4337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3" name="Line 49"/>
          <p:cNvSpPr/>
          <p:nvPr/>
        </p:nvSpPr>
        <p:spPr>
          <a:xfrm>
            <a:off x="5586120" y="2051280"/>
            <a:ext cx="781200" cy="521640"/>
          </a:xfrm>
          <a:prstGeom prst="line">
            <a:avLst/>
          </a:prstGeom>
          <a:ln w="63360">
            <a:solidFill>
              <a:srgbClr val="1d4337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55640" y="1557360"/>
            <a:ext cx="2160720" cy="642600"/>
          </a:xfrm>
          <a:prstGeom prst="rect">
            <a:avLst/>
          </a:prstGeom>
          <a:gradFill rotWithShape="0">
            <a:gsLst>
              <a:gs pos="0">
                <a:srgbClr val="15692b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Послания Президента</a:t>
            </a:r>
            <a:r>
              <a:rPr b="1" lang="ru-RU" sz="16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5" name="Text Box 51"/>
          <p:cNvSpPr/>
          <p:nvPr/>
        </p:nvSpPr>
        <p:spPr>
          <a:xfrm>
            <a:off x="6227640" y="1628640"/>
            <a:ext cx="2160720" cy="580680"/>
          </a:xfrm>
          <a:prstGeom prst="rect">
            <a:avLst/>
          </a:prstGeom>
          <a:gradFill rotWithShape="0">
            <a:gsLst>
              <a:gs pos="0">
                <a:srgbClr val="15692b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</a:rPr>
              <a:t>Программа Правительства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E67A-8F32-4E95-9177-58273A2FBE0B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Место фискальной политики в системе бюджетного планирования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3672000" y="1268280"/>
            <a:ext cx="1539720" cy="987480"/>
          </a:xfrm>
          <a:prstGeom prst="triangle">
            <a:avLst>
              <a:gd name="adj" fmla="val 49167"/>
            </a:avLst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Республиканский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бюджет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0800000">
            <a:off x="1785600" y="2387160"/>
            <a:ext cx="5311800" cy="236880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Среднесрочная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фискальная политика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rot="10800000">
            <a:off x="1187280" y="4941000"/>
            <a:ext cx="6492960" cy="59220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</a:rPr>
              <a:t>Прогнозные показатели государственного бюджета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10800000">
            <a:off x="495000" y="5743080"/>
            <a:ext cx="7893000" cy="65736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</a:rPr>
              <a:t>Среднесрочный план социально-экономического развития Республики Казахстан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2595600" y="3579840"/>
            <a:ext cx="3670200" cy="118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Политика доходов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Политика расходов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Политика межбюджетных отношений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Политика в сфере государственного долга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3" name="AutoShape 13"/>
          <p:cNvSpPr/>
          <p:nvPr/>
        </p:nvSpPr>
        <p:spPr>
          <a:xfrm rot="18609000">
            <a:off x="232920" y="5200200"/>
            <a:ext cx="906480" cy="27792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8394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4" name="AutoShape 14"/>
          <p:cNvSpPr/>
          <p:nvPr/>
        </p:nvSpPr>
        <p:spPr>
          <a:xfrm rot="18609000">
            <a:off x="1298880" y="3940560"/>
            <a:ext cx="898560" cy="27792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8394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5" name="AutoShape 15"/>
          <p:cNvSpPr/>
          <p:nvPr/>
        </p:nvSpPr>
        <p:spPr>
          <a:xfrm rot="18609000">
            <a:off x="2382840" y="2653920"/>
            <a:ext cx="871560" cy="27756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8394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AutoShape 16"/>
          <p:cNvSpPr/>
          <p:nvPr/>
        </p:nvSpPr>
        <p:spPr>
          <a:xfrm rot="13771800">
            <a:off x="7824240" y="5174640"/>
            <a:ext cx="868680" cy="27756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323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AutoShape 17"/>
          <p:cNvSpPr/>
          <p:nvPr/>
        </p:nvSpPr>
        <p:spPr>
          <a:xfrm rot="13770600">
            <a:off x="6652440" y="3940560"/>
            <a:ext cx="869760" cy="27792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323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8" name="AutoShape 18"/>
          <p:cNvSpPr/>
          <p:nvPr/>
        </p:nvSpPr>
        <p:spPr>
          <a:xfrm rot="13848600">
            <a:off x="5572080" y="2571840"/>
            <a:ext cx="868320" cy="27792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3152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BB71-B6A9-41EF-8F60-6047B1455409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Проблемные вопросы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среднесрочного планирования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971640" y="1557360"/>
            <a:ext cx="720072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Необходимость количественного выражения как целей, так и необходимых ресурсов в многолетней перспективе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971640" y="2708280"/>
            <a:ext cx="720072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ddffdd"/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Нарушение принципа «от общего к частному»  -                                            от стратегии к бюджетным расходам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3" name="Oval 15"/>
          <p:cNvSpPr/>
          <p:nvPr/>
        </p:nvSpPr>
        <p:spPr>
          <a:xfrm>
            <a:off x="395280" y="1700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15692b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4" name="Oval 16"/>
          <p:cNvSpPr/>
          <p:nvPr/>
        </p:nvSpPr>
        <p:spPr>
          <a:xfrm>
            <a:off x="395280" y="2852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15692b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1908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395280" y="3789360"/>
            <a:ext cx="4537080" cy="2808360"/>
          </a:xfrm>
          <a:prstGeom prst="flowChartExtract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6" name="AutoShape 18"/>
          <p:cNvSpPr/>
          <p:nvPr/>
        </p:nvSpPr>
        <p:spPr>
          <a:xfrm rot="10800000">
            <a:off x="4140000" y="3789000"/>
            <a:ext cx="4392360" cy="2808360"/>
          </a:xfrm>
          <a:prstGeom prst="flowChartExtract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2124000" y="4508640"/>
            <a:ext cx="107964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1547640" y="5229360"/>
            <a:ext cx="223236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9" name="Line 26"/>
          <p:cNvSpPr/>
          <p:nvPr/>
        </p:nvSpPr>
        <p:spPr>
          <a:xfrm>
            <a:off x="971640" y="5950080"/>
            <a:ext cx="338436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4643280" y="4437000"/>
            <a:ext cx="338472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5219640" y="5157720"/>
            <a:ext cx="223200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5796000" y="5877000"/>
            <a:ext cx="1081080" cy="0"/>
          </a:xfrm>
          <a:prstGeom prst="line">
            <a:avLst/>
          </a:prstGeom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3" name="WordArt 30"/>
          <p:cNvSpPr txBox="1"/>
          <p:nvPr/>
        </p:nvSpPr>
        <p:spPr>
          <a:xfrm>
            <a:off x="1835280" y="3933720"/>
            <a:ext cx="1743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публиканский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юджет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WordArt 31"/>
          <p:cNvSpPr txBox="1"/>
          <p:nvPr/>
        </p:nvSpPr>
        <p:spPr>
          <a:xfrm>
            <a:off x="5508720" y="3860640"/>
            <a:ext cx="1743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публиканский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юджет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WordArt 32"/>
          <p:cNvSpPr txBox="1"/>
          <p:nvPr/>
        </p:nvSpPr>
        <p:spPr>
          <a:xfrm>
            <a:off x="1763640" y="5300640"/>
            <a:ext cx="1743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сударственные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раслевые программы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34"/>
          <p:cNvSpPr txBox="1"/>
          <p:nvPr/>
        </p:nvSpPr>
        <p:spPr>
          <a:xfrm>
            <a:off x="1403280" y="5950080"/>
            <a:ext cx="2519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есрочный план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циально-экономического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вития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WordArt 35"/>
          <p:cNvSpPr txBox="1"/>
          <p:nvPr/>
        </p:nvSpPr>
        <p:spPr>
          <a:xfrm>
            <a:off x="5076720" y="587700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есрочный план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циально-экономического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вития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WordArt 36"/>
          <p:cNvSpPr txBox="1"/>
          <p:nvPr/>
        </p:nvSpPr>
        <p:spPr>
          <a:xfrm>
            <a:off x="5508720" y="5229360"/>
            <a:ext cx="17431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сударственные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раслевые программы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37"/>
          <p:cNvSpPr txBox="1"/>
          <p:nvPr/>
        </p:nvSpPr>
        <p:spPr>
          <a:xfrm>
            <a:off x="1763640" y="4653000"/>
            <a:ext cx="1743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есрочная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скальная политика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WordArt 38"/>
          <p:cNvSpPr txBox="1"/>
          <p:nvPr/>
        </p:nvSpPr>
        <p:spPr>
          <a:xfrm>
            <a:off x="5435640" y="4581360"/>
            <a:ext cx="17431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есрочная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1d4337"/>
                  </a:solidFill>
                  <a:miter/>
                </a:ln>
                <a:solidFill>
                  <a:srgbClr val="1d4337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скальная политика</a:t>
            </a:r>
            <a:endParaRPr b="0" lang="en-US" sz="1800" spc="1" strike="noStrike">
              <a:ln cap="sq" w="9360">
                <a:solidFill>
                  <a:srgbClr val="1d4337"/>
                </a:solidFill>
                <a:miter/>
              </a:ln>
              <a:solidFill>
                <a:srgbClr val="1d4337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AutoShape 40"/>
          <p:cNvSpPr/>
          <p:nvPr/>
        </p:nvSpPr>
        <p:spPr>
          <a:xfrm rot="18852000">
            <a:off x="250560" y="4941360"/>
            <a:ext cx="1655640" cy="34128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8148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2" name="AutoShape 41"/>
          <p:cNvSpPr/>
          <p:nvPr/>
        </p:nvSpPr>
        <p:spPr>
          <a:xfrm rot="7890000">
            <a:off x="7370280" y="4878000"/>
            <a:ext cx="1656000" cy="341280"/>
          </a:xfrm>
          <a:prstGeom prst="pie">
            <a:avLst/>
          </a:prstGeom>
          <a:gradFill rotWithShape="0">
            <a:gsLst>
              <a:gs pos="0">
                <a:srgbClr val="15692b"/>
              </a:gs>
              <a:gs pos="100000">
                <a:srgbClr val="ffffff"/>
              </a:gs>
            </a:gsLst>
            <a:lin ang="19110000"/>
          </a:gradFill>
          <a:ln w="9360">
            <a:solidFill>
              <a:srgbClr val="156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0:22:41Z</dcterms:created>
  <dc:creator> </dc:creator>
  <dc:description/>
  <cp:keywords/>
  <dc:language>en-US</dc:language>
  <cp:lastModifiedBy>Customer</cp:lastModifiedBy>
  <dcterms:modified xsi:type="dcterms:W3CDTF">2011-06-08T08:38:49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