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335B-D06F-441D-B345-FF3564FFB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D958-86B1-49D0-80AC-9E61DC132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0DF6-A0F6-4118-BE73-E2131964F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AC79-FF77-4DA0-A38C-FAEA226C7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4F7-A2CC-4A6A-9724-74A245EB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021-6982-436F-A311-31BF1B8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C58-2864-460C-8170-26544588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0BE-04B4-49CF-8FD6-C56BB58D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FBDB-D627-4C88-A944-E7F4ADC1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224C-9049-4910-B040-4F2CDBD4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26C-C133-4708-BBDF-8150AA7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216-26A1-4A18-B1CB-60A3F9D5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448C-D62A-4135-BF19-C2369C73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6EC-A568-4B63-BE11-9D59FC93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32A1-3D78-416B-9A61-0DE2A2E9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37D-956F-4AE0-8653-D9FEE9F3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4B9F-E05A-4E48-84E8-A7B147F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37C2-D20C-490F-9DD8-06EC475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7E75-6714-444D-B3FA-E2467019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A6A-D920-40A4-8E8D-BC7B7C62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FC0F-14F0-4587-A9D5-6DC2B482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5CE-7D7F-459E-B547-15F5438D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3DB-7231-49B1-AE52-F2A629B0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F4F-C1B8-4148-A768-8502634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3A0-F836-4A39-B90F-783C88E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357-D7CA-46B2-B7C5-DD457BB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1ED-BAF7-4F90-B714-0478670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1E8-82B6-4BAE-9FB4-41BBDF5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2258-1501-4D14-B448-5B2489D0E5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E3F-69D3-4C62-93A6-C44AB5560B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8.wmf"/><Relationship Id="rId27" Type="http://schemas.openxmlformats.org/officeDocument/2006/relationships/image" Target="../media/image5.wmf"/><Relationship Id="rId28" Type="http://schemas.openxmlformats.org/officeDocument/2006/relationships/image" Target="../media/image9.wmf"/><Relationship Id="rId29" Type="http://schemas.openxmlformats.org/officeDocument/2006/relationships/image" Target="../media/image5.wmf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36360" y="0"/>
            <a:ext cx="9180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de5f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39680" y="2514600"/>
            <a:ext cx="8967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 rot="10800000">
            <a:off x="33480" y="3986640"/>
            <a:ext cx="62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635280" y="61657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500120" y="1714680"/>
            <a:ext cx="692964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сущность налогов. Основы построения налогов и налогообложения 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5280" y="2755800"/>
            <a:ext cx="3097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108000" y="3141720"/>
            <a:ext cx="896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00040" y="3049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рдые налоговые ста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685800" y="3505320"/>
            <a:ext cx="1676520" cy="3352680"/>
            <a:chOff x="685800" y="3505320"/>
            <a:chExt cx="1676520" cy="3352680"/>
          </a:xfrm>
        </p:grpSpPr>
        <p:sp>
          <p:nvSpPr>
            <p:cNvPr id="198" name="Freeform 4"/>
            <p:cNvSpPr/>
            <p:nvPr/>
          </p:nvSpPr>
          <p:spPr>
            <a:xfrm>
              <a:off x="685800" y="3505320"/>
              <a:ext cx="1676520" cy="3352680"/>
            </a:xfrm>
            <a:prstGeom prst="pie">
              <a:avLst/>
            </a:prstGeom>
            <a:solidFill>
              <a:srgbClr val="7f5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1341000" y="5038560"/>
              <a:ext cx="320040" cy="1733400"/>
            </a:xfrm>
            <a:prstGeom prst="pie">
              <a:avLst/>
            </a:pr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Object 2" descr=""/>
          <p:cNvPicPr/>
          <p:nvPr/>
        </p:nvPicPr>
        <p:blipFill>
          <a:blip r:embed="rId1"/>
          <a:stretch/>
        </p:blipFill>
        <p:spPr>
          <a:xfrm>
            <a:off x="3581280" y="2000160"/>
            <a:ext cx="5562720" cy="485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2362320" y="5935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 с 1 дерева -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20"/>
          <p:cNvGrpSpPr/>
          <p:nvPr/>
        </p:nvGrpSpPr>
        <p:grpSpPr>
          <a:xfrm>
            <a:off x="152280" y="293760"/>
            <a:ext cx="2749680" cy="2982960"/>
            <a:chOff x="152280" y="293760"/>
            <a:chExt cx="2749680" cy="2982960"/>
          </a:xfrm>
        </p:grpSpPr>
        <p:sp>
          <p:nvSpPr>
            <p:cNvPr id="203" name="Freeform 39"/>
            <p:cNvSpPr/>
            <p:nvPr/>
          </p:nvSpPr>
          <p:spPr>
            <a:xfrm>
              <a:off x="1352520" y="293760"/>
              <a:ext cx="606600" cy="3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19"/>
            <p:cNvGrpSpPr/>
            <p:nvPr/>
          </p:nvGrpSpPr>
          <p:grpSpPr>
            <a:xfrm>
              <a:off x="152280" y="541080"/>
              <a:ext cx="2749680" cy="2735640"/>
              <a:chOff x="152280" y="541080"/>
              <a:chExt cx="2749680" cy="2735640"/>
            </a:xfrm>
          </p:grpSpPr>
          <p:pic>
            <p:nvPicPr>
              <p:cNvPr id="205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1270080"/>
                <a:ext cx="274968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Freeform 34"/>
              <p:cNvSpPr/>
              <p:nvPr/>
            </p:nvSpPr>
            <p:spPr>
              <a:xfrm>
                <a:off x="1731960" y="1252440"/>
                <a:ext cx="311040" cy="77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5"/>
              <p:cNvSpPr/>
              <p:nvPr/>
            </p:nvSpPr>
            <p:spPr>
              <a:xfrm>
                <a:off x="1233360" y="1252440"/>
                <a:ext cx="371520" cy="79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8"/>
              <p:cNvSpPr/>
              <p:nvPr/>
            </p:nvSpPr>
            <p:spPr>
              <a:xfrm>
                <a:off x="1519200" y="692280"/>
                <a:ext cx="533520" cy="68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 flipH="1" rot="17286000">
                <a:off x="553320" y="892440"/>
                <a:ext cx="1197000" cy="63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1595520" y="746280"/>
                <a:ext cx="1189080" cy="66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1" name="Object 3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2362320" cy="101412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4" descr=""/>
          <p:cNvPicPr/>
          <p:nvPr/>
        </p:nvPicPr>
        <p:blipFill>
          <a:blip r:embed="rId4"/>
          <a:stretch/>
        </p:blipFill>
        <p:spPr>
          <a:xfrm>
            <a:off x="1371600" y="2209680"/>
            <a:ext cx="2362320" cy="1014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16"/>
          <p:cNvSpPr/>
          <p:nvPr/>
        </p:nvSpPr>
        <p:spPr>
          <a:xfrm>
            <a:off x="3581280" y="1066680"/>
            <a:ext cx="49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тся в абсолютной сумме на единицу налогооб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ата 1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28"/>
          <p:cNvSpPr/>
          <p:nvPr/>
        </p:nvSpPr>
        <p:spPr>
          <a:xfrm>
            <a:off x="5029200" y="914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ует в одинаковом процентном соотношении к объекту налога без учета дифференциации его велич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0"/>
          <p:cNvGrpSpPr/>
          <p:nvPr/>
        </p:nvGrpSpPr>
        <p:grpSpPr>
          <a:xfrm>
            <a:off x="152280" y="293760"/>
            <a:ext cx="2749680" cy="2982960"/>
            <a:chOff x="152280" y="293760"/>
            <a:chExt cx="2749680" cy="2982960"/>
          </a:xfrm>
        </p:grpSpPr>
        <p:sp>
          <p:nvSpPr>
            <p:cNvPr id="217" name="Freeform 141"/>
            <p:cNvSpPr/>
            <p:nvPr/>
          </p:nvSpPr>
          <p:spPr>
            <a:xfrm>
              <a:off x="1352520" y="293760"/>
              <a:ext cx="606600" cy="3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42"/>
            <p:cNvGrpSpPr/>
            <p:nvPr/>
          </p:nvGrpSpPr>
          <p:grpSpPr>
            <a:xfrm>
              <a:off x="152280" y="541080"/>
              <a:ext cx="2749680" cy="2735640"/>
              <a:chOff x="152280" y="541080"/>
              <a:chExt cx="2749680" cy="2735640"/>
            </a:xfrm>
          </p:grpSpPr>
          <p:pic>
            <p:nvPicPr>
              <p:cNvPr id="219" name="Object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270080"/>
                <a:ext cx="274968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Freeform 144"/>
              <p:cNvSpPr/>
              <p:nvPr/>
            </p:nvSpPr>
            <p:spPr>
              <a:xfrm>
                <a:off x="1731960" y="1252440"/>
                <a:ext cx="311040" cy="77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5"/>
              <p:cNvSpPr/>
              <p:nvPr/>
            </p:nvSpPr>
            <p:spPr>
              <a:xfrm>
                <a:off x="1233360" y="1252440"/>
                <a:ext cx="371520" cy="79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6"/>
              <p:cNvSpPr/>
              <p:nvPr/>
            </p:nvSpPr>
            <p:spPr>
              <a:xfrm>
                <a:off x="1519200" y="692280"/>
                <a:ext cx="533520" cy="68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7"/>
              <p:cNvSpPr/>
              <p:nvPr/>
            </p:nvSpPr>
            <p:spPr>
              <a:xfrm flipH="1" rot="17286000">
                <a:off x="553320" y="892440"/>
                <a:ext cx="1197000" cy="63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8"/>
              <p:cNvSpPr/>
              <p:nvPr/>
            </p:nvSpPr>
            <p:spPr>
              <a:xfrm>
                <a:off x="1595520" y="746280"/>
                <a:ext cx="1189080" cy="66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порциональная ста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126"/>
          <p:cNvGrpSpPr/>
          <p:nvPr/>
        </p:nvGrpSpPr>
        <p:grpSpPr>
          <a:xfrm>
            <a:off x="6019920" y="2444760"/>
            <a:ext cx="2971800" cy="1289160"/>
            <a:chOff x="6019920" y="2444760"/>
            <a:chExt cx="2971800" cy="1289160"/>
          </a:xfrm>
        </p:grpSpPr>
        <p:pic>
          <p:nvPicPr>
            <p:cNvPr id="227" name="Object 11" descr=""/>
            <p:cNvPicPr/>
            <p:nvPr/>
          </p:nvPicPr>
          <p:blipFill>
            <a:blip r:embed="rId2"/>
            <a:stretch/>
          </p:blipFill>
          <p:spPr>
            <a:xfrm>
              <a:off x="6019920" y="2479680"/>
              <a:ext cx="141588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12" descr=""/>
            <p:cNvPicPr/>
            <p:nvPr/>
          </p:nvPicPr>
          <p:blipFill>
            <a:blip r:embed="rId3"/>
            <a:stretch/>
          </p:blipFill>
          <p:spPr>
            <a:xfrm>
              <a:off x="6889680" y="2444760"/>
              <a:ext cx="141624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ject 13" descr=""/>
            <p:cNvPicPr/>
            <p:nvPr/>
          </p:nvPicPr>
          <p:blipFill>
            <a:blip r:embed="rId4"/>
            <a:stretch/>
          </p:blipFill>
          <p:spPr>
            <a:xfrm>
              <a:off x="7575480" y="2479680"/>
              <a:ext cx="1416240" cy="12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125"/>
          <p:cNvGrpSpPr/>
          <p:nvPr/>
        </p:nvGrpSpPr>
        <p:grpSpPr>
          <a:xfrm>
            <a:off x="5557680" y="5222880"/>
            <a:ext cx="2102040" cy="1254240"/>
            <a:chOff x="5557680" y="5222880"/>
            <a:chExt cx="2102040" cy="1254240"/>
          </a:xfrm>
        </p:grpSpPr>
        <p:pic>
          <p:nvPicPr>
            <p:cNvPr id="231" name="Object 9" descr=""/>
            <p:cNvPicPr/>
            <p:nvPr/>
          </p:nvPicPr>
          <p:blipFill>
            <a:blip r:embed="rId5"/>
            <a:stretch/>
          </p:blipFill>
          <p:spPr>
            <a:xfrm>
              <a:off x="5557680" y="5222880"/>
              <a:ext cx="1416240" cy="12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Object 10" descr=""/>
            <p:cNvPicPr/>
            <p:nvPr/>
          </p:nvPicPr>
          <p:blipFill>
            <a:blip r:embed="rId6"/>
            <a:stretch/>
          </p:blipFill>
          <p:spPr>
            <a:xfrm>
              <a:off x="6243480" y="5222880"/>
              <a:ext cx="1416240" cy="125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Object 2" descr=""/>
          <p:cNvPicPr/>
          <p:nvPr/>
        </p:nvPicPr>
        <p:blipFill>
          <a:blip r:embed="rId7"/>
          <a:stretch/>
        </p:blipFill>
        <p:spPr>
          <a:xfrm>
            <a:off x="685800" y="5257800"/>
            <a:ext cx="1415880" cy="125424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3" descr=""/>
          <p:cNvPicPr/>
          <p:nvPr/>
        </p:nvPicPr>
        <p:blipFill>
          <a:blip r:embed="rId8"/>
          <a:stretch/>
        </p:blipFill>
        <p:spPr>
          <a:xfrm>
            <a:off x="380880" y="1523880"/>
            <a:ext cx="1981440" cy="85104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4" descr=""/>
          <p:cNvPicPr/>
          <p:nvPr/>
        </p:nvPicPr>
        <p:blipFill>
          <a:blip r:embed="rId9"/>
          <a:stretch/>
        </p:blipFill>
        <p:spPr>
          <a:xfrm>
            <a:off x="762120" y="2590920"/>
            <a:ext cx="1981080" cy="85068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5" descr=""/>
          <p:cNvPicPr/>
          <p:nvPr/>
        </p:nvPicPr>
        <p:blipFill>
          <a:blip r:embed="rId10"/>
          <a:stretch/>
        </p:blipFill>
        <p:spPr>
          <a:xfrm>
            <a:off x="990720" y="2819520"/>
            <a:ext cx="1981080" cy="8506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6" descr=""/>
          <p:cNvPicPr/>
          <p:nvPr/>
        </p:nvPicPr>
        <p:blipFill>
          <a:blip r:embed="rId11"/>
          <a:stretch/>
        </p:blipFill>
        <p:spPr>
          <a:xfrm>
            <a:off x="2514600" y="1523880"/>
            <a:ext cx="1981080" cy="85104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7" descr=""/>
          <p:cNvPicPr/>
          <p:nvPr/>
        </p:nvPicPr>
        <p:blipFill>
          <a:blip r:embed="rId12"/>
          <a:stretch/>
        </p:blipFill>
        <p:spPr>
          <a:xfrm>
            <a:off x="2666880" y="1676520"/>
            <a:ext cx="1981440" cy="8506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8" descr=""/>
          <p:cNvPicPr/>
          <p:nvPr/>
        </p:nvPicPr>
        <p:blipFill>
          <a:blip r:embed="rId13"/>
          <a:stretch/>
        </p:blipFill>
        <p:spPr>
          <a:xfrm>
            <a:off x="2819520" y="1828800"/>
            <a:ext cx="1981080" cy="8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27"/>
          <p:cNvSpPr/>
          <p:nvPr/>
        </p:nvSpPr>
        <p:spPr>
          <a:xfrm>
            <a:off x="3048120" y="419112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 на им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32"/>
          <p:cNvGrpSpPr/>
          <p:nvPr/>
        </p:nvGrpSpPr>
        <p:grpSpPr>
          <a:xfrm>
            <a:off x="609480" y="4114800"/>
            <a:ext cx="1523880" cy="914400"/>
            <a:chOff x="609480" y="4114800"/>
            <a:chExt cx="1523880" cy="914400"/>
          </a:xfrm>
        </p:grpSpPr>
        <p:sp>
          <p:nvSpPr>
            <p:cNvPr id="242" name="AutoShape 130"/>
            <p:cNvSpPr/>
            <p:nvPr/>
          </p:nvSpPr>
          <p:spPr>
            <a:xfrm>
              <a:off x="609480" y="411480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1"/>
            <p:cNvSpPr/>
            <p:nvPr/>
          </p:nvSpPr>
          <p:spPr>
            <a:xfrm>
              <a:off x="1050840" y="449568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4"/>
          <p:cNvGrpSpPr/>
          <p:nvPr/>
        </p:nvGrpSpPr>
        <p:grpSpPr>
          <a:xfrm>
            <a:off x="4902480" y="4170960"/>
            <a:ext cx="1777320" cy="1563840"/>
            <a:chOff x="4902480" y="4170960"/>
            <a:chExt cx="1777320" cy="1563840"/>
          </a:xfrm>
        </p:grpSpPr>
        <p:sp>
          <p:nvSpPr>
            <p:cNvPr id="245" name="AutoShape 135"/>
            <p:cNvSpPr/>
            <p:nvPr/>
          </p:nvSpPr>
          <p:spPr>
            <a:xfrm rot="19760400">
              <a:off x="5028840" y="449568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6"/>
            <p:cNvSpPr/>
            <p:nvPr/>
          </p:nvSpPr>
          <p:spPr>
            <a:xfrm rot="19760400">
              <a:off x="5505120" y="478728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7"/>
          <p:cNvGrpSpPr/>
          <p:nvPr/>
        </p:nvGrpSpPr>
        <p:grpSpPr>
          <a:xfrm>
            <a:off x="4952880" y="2514240"/>
            <a:ext cx="914400" cy="1523880"/>
            <a:chOff x="4952880" y="2514240"/>
            <a:chExt cx="914400" cy="1523880"/>
          </a:xfrm>
        </p:grpSpPr>
        <p:sp>
          <p:nvSpPr>
            <p:cNvPr id="248" name="AutoShape 138"/>
            <p:cNvSpPr/>
            <p:nvPr/>
          </p:nvSpPr>
          <p:spPr>
            <a:xfrm rot="16200000">
              <a:off x="4647960" y="281880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9"/>
            <p:cNvSpPr/>
            <p:nvPr/>
          </p:nvSpPr>
          <p:spPr>
            <a:xfrm rot="16200000">
              <a:off x="5052600" y="294732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Дата 3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рессивная ст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505320" y="2819520"/>
            <a:ext cx="1155600" cy="2131920"/>
            <a:chOff x="3505320" y="2819520"/>
            <a:chExt cx="1155600" cy="2131920"/>
          </a:xfrm>
        </p:grpSpPr>
        <p:sp>
          <p:nvSpPr>
            <p:cNvPr id="253" name="Freeform 4"/>
            <p:cNvSpPr/>
            <p:nvPr/>
          </p:nvSpPr>
          <p:spPr>
            <a:xfrm flipH="1">
              <a:off x="3505320" y="3581280"/>
              <a:ext cx="365040" cy="68580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3511800" y="2819520"/>
              <a:ext cx="1069920" cy="2131920"/>
              <a:chOff x="3511800" y="2819520"/>
              <a:chExt cx="1069920" cy="2131920"/>
            </a:xfrm>
          </p:grpSpPr>
          <p:grpSp>
            <p:nvGrpSpPr>
              <p:cNvPr id="255" name="Group 6"/>
              <p:cNvGrpSpPr/>
              <p:nvPr/>
            </p:nvGrpSpPr>
            <p:grpSpPr>
              <a:xfrm>
                <a:off x="4023000" y="2819520"/>
                <a:ext cx="558720" cy="2131920"/>
                <a:chOff x="4023000" y="2819520"/>
                <a:chExt cx="558720" cy="2131920"/>
              </a:xfrm>
            </p:grpSpPr>
            <p:sp>
              <p:nvSpPr>
                <p:cNvPr id="256" name="Freeform 7"/>
                <p:cNvSpPr/>
                <p:nvPr/>
              </p:nvSpPr>
              <p:spPr>
                <a:xfrm flipH="1">
                  <a:off x="4033440" y="2819520"/>
                  <a:ext cx="287640" cy="396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8"/>
                <p:cNvSpPr/>
                <p:nvPr/>
              </p:nvSpPr>
              <p:spPr>
                <a:xfrm flipH="1">
                  <a:off x="4133880" y="3232080"/>
                  <a:ext cx="292320" cy="884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9"/>
                <p:cNvSpPr/>
                <p:nvPr/>
              </p:nvSpPr>
              <p:spPr>
                <a:xfrm flipH="1">
                  <a:off x="4022640" y="3952800"/>
                  <a:ext cx="307800" cy="9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0"/>
                <p:cNvSpPr/>
                <p:nvPr/>
              </p:nvSpPr>
              <p:spPr>
                <a:xfrm flipH="1">
                  <a:off x="4295880" y="3948120"/>
                  <a:ext cx="285840" cy="100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Freeform 11"/>
              <p:cNvSpPr/>
              <p:nvPr/>
            </p:nvSpPr>
            <p:spPr>
              <a:xfrm flipH="1">
                <a:off x="3511440" y="3274920"/>
                <a:ext cx="701640" cy="59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12"/>
            <p:cNvSpPr/>
            <p:nvPr/>
          </p:nvSpPr>
          <p:spPr>
            <a:xfrm flipH="1">
              <a:off x="4280040" y="3257640"/>
              <a:ext cx="380880" cy="52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3"/>
          <p:cNvGrpSpPr/>
          <p:nvPr/>
        </p:nvGrpSpPr>
        <p:grpSpPr>
          <a:xfrm>
            <a:off x="3048120" y="2666880"/>
            <a:ext cx="1828800" cy="2666880"/>
            <a:chOff x="3048120" y="2666880"/>
            <a:chExt cx="1828800" cy="2666880"/>
          </a:xfrm>
        </p:grpSpPr>
        <p:sp>
          <p:nvSpPr>
            <p:cNvPr id="263" name="Rectangle 14"/>
            <p:cNvSpPr/>
            <p:nvPr/>
          </p:nvSpPr>
          <p:spPr>
            <a:xfrm>
              <a:off x="3048120" y="2666880"/>
              <a:ext cx="182880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5"/>
            <p:cNvGrpSpPr/>
            <p:nvPr/>
          </p:nvGrpSpPr>
          <p:grpSpPr>
            <a:xfrm>
              <a:off x="3428640" y="2697120"/>
              <a:ext cx="1149480" cy="2117520"/>
              <a:chOff x="3428640" y="2697120"/>
              <a:chExt cx="1149480" cy="2117520"/>
            </a:xfrm>
          </p:grpSpPr>
          <p:sp>
            <p:nvSpPr>
              <p:cNvPr id="265" name="Freeform 16"/>
              <p:cNvSpPr/>
              <p:nvPr/>
            </p:nvSpPr>
            <p:spPr>
              <a:xfrm flipH="1">
                <a:off x="3574800" y="3444480"/>
                <a:ext cx="76320" cy="6858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"/>
              <p:cNvSpPr/>
              <p:nvPr/>
            </p:nvSpPr>
            <p:spPr>
              <a:xfrm flipH="1" rot="19700400">
                <a:off x="3733200" y="2742840"/>
                <a:ext cx="28728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"/>
              <p:cNvSpPr/>
              <p:nvPr/>
            </p:nvSpPr>
            <p:spPr>
              <a:xfrm flipH="1">
                <a:off x="4051080" y="3095280"/>
                <a:ext cx="292320" cy="88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9"/>
              <p:cNvSpPr/>
              <p:nvPr/>
            </p:nvSpPr>
            <p:spPr>
              <a:xfrm flipH="1">
                <a:off x="3939480" y="3816000"/>
                <a:ext cx="307800" cy="9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 flipH="1">
                <a:off x="4213080" y="3811320"/>
                <a:ext cx="285840" cy="10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3428280" y="3138120"/>
                <a:ext cx="701640" cy="59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 flipH="1">
                <a:off x="4197240" y="3120840"/>
                <a:ext cx="380880" cy="52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62"/>
          <p:cNvSpPr/>
          <p:nvPr/>
        </p:nvSpPr>
        <p:spPr>
          <a:xfrm>
            <a:off x="4572000" y="17524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ет снижение величины ставки по мере роста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3"/>
          <p:cNvGrpSpPr/>
          <p:nvPr/>
        </p:nvGrpSpPr>
        <p:grpSpPr>
          <a:xfrm>
            <a:off x="762120" y="1487520"/>
            <a:ext cx="2444760" cy="2601000"/>
            <a:chOff x="762120" y="1487520"/>
            <a:chExt cx="2444760" cy="2601000"/>
          </a:xfrm>
        </p:grpSpPr>
        <p:sp>
          <p:nvSpPr>
            <p:cNvPr id="274" name="Freeform 64"/>
            <p:cNvSpPr/>
            <p:nvPr/>
          </p:nvSpPr>
          <p:spPr>
            <a:xfrm>
              <a:off x="1829160" y="1487520"/>
              <a:ext cx="539280" cy="31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65"/>
            <p:cNvGrpSpPr/>
            <p:nvPr/>
          </p:nvGrpSpPr>
          <p:grpSpPr>
            <a:xfrm>
              <a:off x="762120" y="1701360"/>
              <a:ext cx="2444760" cy="2387160"/>
              <a:chOff x="762120" y="1701360"/>
              <a:chExt cx="2444760" cy="2387160"/>
            </a:xfrm>
          </p:grpSpPr>
          <p:pic>
            <p:nvPicPr>
              <p:cNvPr id="276" name="Object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338560"/>
                <a:ext cx="2444760" cy="174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Freeform 67"/>
              <p:cNvSpPr/>
              <p:nvPr/>
            </p:nvSpPr>
            <p:spPr>
              <a:xfrm>
                <a:off x="2166480" y="2323080"/>
                <a:ext cx="276480" cy="67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68"/>
              <p:cNvSpPr/>
              <p:nvPr/>
            </p:nvSpPr>
            <p:spPr>
              <a:xfrm>
                <a:off x="1723320" y="2323080"/>
                <a:ext cx="330120" cy="69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9"/>
              <p:cNvSpPr/>
              <p:nvPr/>
            </p:nvSpPr>
            <p:spPr>
              <a:xfrm>
                <a:off x="1977120" y="1834560"/>
                <a:ext cx="474120" cy="59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0"/>
              <p:cNvSpPr/>
              <p:nvPr/>
            </p:nvSpPr>
            <p:spPr>
              <a:xfrm flipH="1" rot="17286000">
                <a:off x="1129320" y="2004120"/>
                <a:ext cx="1044000" cy="56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1"/>
              <p:cNvSpPr/>
              <p:nvPr/>
            </p:nvSpPr>
            <p:spPr>
              <a:xfrm>
                <a:off x="2045160" y="1881720"/>
                <a:ext cx="1056960" cy="57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2" name="Object 2" descr=""/>
          <p:cNvPicPr/>
          <p:nvPr/>
        </p:nvPicPr>
        <p:blipFill>
          <a:blip r:embed="rId2"/>
          <a:stretch/>
        </p:blipFill>
        <p:spPr>
          <a:xfrm>
            <a:off x="911160" y="2817720"/>
            <a:ext cx="1774800" cy="71748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1116000" y="3009960"/>
            <a:ext cx="1776600" cy="71892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4" descr=""/>
          <p:cNvPicPr/>
          <p:nvPr/>
        </p:nvPicPr>
        <p:blipFill>
          <a:blip r:embed="rId4"/>
          <a:stretch/>
        </p:blipFill>
        <p:spPr>
          <a:xfrm>
            <a:off x="1252440" y="3138480"/>
            <a:ext cx="1776600" cy="71928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5" descr=""/>
          <p:cNvPicPr/>
          <p:nvPr/>
        </p:nvPicPr>
        <p:blipFill>
          <a:blip r:embed="rId5"/>
          <a:stretch/>
        </p:blipFill>
        <p:spPr>
          <a:xfrm>
            <a:off x="1389240" y="3267000"/>
            <a:ext cx="1776240" cy="71928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6" descr=""/>
          <p:cNvPicPr/>
          <p:nvPr/>
        </p:nvPicPr>
        <p:blipFill>
          <a:blip r:embed="rId6"/>
          <a:stretch/>
        </p:blipFill>
        <p:spPr>
          <a:xfrm>
            <a:off x="1525680" y="3395520"/>
            <a:ext cx="1776240" cy="719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7"/>
          <p:cNvSpPr/>
          <p:nvPr/>
        </p:nvSpPr>
        <p:spPr>
          <a:xfrm>
            <a:off x="2971800" y="19447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8"/>
          <p:cNvSpPr/>
          <p:nvPr/>
        </p:nvSpPr>
        <p:spPr>
          <a:xfrm>
            <a:off x="1295280" y="2554200"/>
            <a:ext cx="914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ject 7" descr=""/>
          <p:cNvPicPr/>
          <p:nvPr/>
        </p:nvPicPr>
        <p:blipFill>
          <a:blip r:embed="rId7"/>
          <a:stretch/>
        </p:blipFill>
        <p:spPr>
          <a:xfrm>
            <a:off x="911160" y="3808440"/>
            <a:ext cx="1774800" cy="71748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8" descr=""/>
          <p:cNvPicPr/>
          <p:nvPr/>
        </p:nvPicPr>
        <p:blipFill>
          <a:blip r:embed="rId8"/>
          <a:stretch/>
        </p:blipFill>
        <p:spPr>
          <a:xfrm>
            <a:off x="1116000" y="4000680"/>
            <a:ext cx="1776600" cy="718920"/>
          </a:xfrm>
          <a:prstGeom prst="rect">
            <a:avLst/>
          </a:prstGeom>
          <a:ln w="0">
            <a:noFill/>
          </a:ln>
        </p:spPr>
      </p:pic>
      <p:pic>
        <p:nvPicPr>
          <p:cNvPr id="291" name="Object 9" descr=""/>
          <p:cNvPicPr/>
          <p:nvPr/>
        </p:nvPicPr>
        <p:blipFill>
          <a:blip r:embed="rId9"/>
          <a:stretch/>
        </p:blipFill>
        <p:spPr>
          <a:xfrm>
            <a:off x="1252440" y="4129200"/>
            <a:ext cx="1776600" cy="718920"/>
          </a:xfrm>
          <a:prstGeom prst="rect">
            <a:avLst/>
          </a:prstGeom>
          <a:ln w="0">
            <a:noFill/>
          </a:ln>
        </p:spPr>
      </p:pic>
      <p:pic>
        <p:nvPicPr>
          <p:cNvPr id="292" name="Object 10" descr=""/>
          <p:cNvPicPr/>
          <p:nvPr/>
        </p:nvPicPr>
        <p:blipFill>
          <a:blip r:embed="rId10"/>
          <a:stretch/>
        </p:blipFill>
        <p:spPr>
          <a:xfrm>
            <a:off x="1389240" y="425772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293" name="Object 11" descr=""/>
          <p:cNvPicPr/>
          <p:nvPr/>
        </p:nvPicPr>
        <p:blipFill>
          <a:blip r:embed="rId11"/>
          <a:stretch/>
        </p:blipFill>
        <p:spPr>
          <a:xfrm>
            <a:off x="1525680" y="4386240"/>
            <a:ext cx="1776240" cy="71928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220"/>
          <p:cNvGrpSpPr/>
          <p:nvPr/>
        </p:nvGrpSpPr>
        <p:grpSpPr>
          <a:xfrm>
            <a:off x="5715000" y="2743200"/>
            <a:ext cx="2549520" cy="2254320"/>
            <a:chOff x="5715000" y="2743200"/>
            <a:chExt cx="2549520" cy="2254320"/>
          </a:xfrm>
        </p:grpSpPr>
        <p:grpSp>
          <p:nvGrpSpPr>
            <p:cNvPr id="295" name="Group 208"/>
            <p:cNvGrpSpPr/>
            <p:nvPr/>
          </p:nvGrpSpPr>
          <p:grpSpPr>
            <a:xfrm>
              <a:off x="6705360" y="3353040"/>
              <a:ext cx="1559160" cy="1644480"/>
              <a:chOff x="6705360" y="3353040"/>
              <a:chExt cx="1559160" cy="1644480"/>
            </a:xfrm>
          </p:grpSpPr>
          <p:sp>
            <p:nvSpPr>
              <p:cNvPr id="296" name="Freeform 204"/>
              <p:cNvSpPr/>
              <p:nvPr/>
            </p:nvSpPr>
            <p:spPr>
              <a:xfrm>
                <a:off x="6705360" y="3353040"/>
                <a:ext cx="1559160" cy="164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05"/>
              <p:cNvSpPr/>
              <p:nvPr/>
            </p:nvSpPr>
            <p:spPr>
              <a:xfrm>
                <a:off x="7318440" y="4000320"/>
                <a:ext cx="317520" cy="50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06"/>
              <p:cNvSpPr/>
              <p:nvPr/>
            </p:nvSpPr>
            <p:spPr>
              <a:xfrm>
                <a:off x="7024680" y="3976560"/>
                <a:ext cx="133200" cy="18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07"/>
              <p:cNvSpPr/>
              <p:nvPr/>
            </p:nvSpPr>
            <p:spPr>
              <a:xfrm>
                <a:off x="7920720" y="4428720"/>
                <a:ext cx="846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96"/>
            <p:cNvGrpSpPr/>
            <p:nvPr/>
          </p:nvGrpSpPr>
          <p:grpSpPr>
            <a:xfrm>
              <a:off x="5715000" y="2743200"/>
              <a:ext cx="1312920" cy="2160720"/>
              <a:chOff x="5715000" y="2743200"/>
              <a:chExt cx="1312920" cy="2160720"/>
            </a:xfrm>
          </p:grpSpPr>
          <p:grpSp>
            <p:nvGrpSpPr>
              <p:cNvPr id="301" name="Group 188"/>
              <p:cNvGrpSpPr/>
              <p:nvPr/>
            </p:nvGrpSpPr>
            <p:grpSpPr>
              <a:xfrm>
                <a:off x="6194160" y="2743200"/>
                <a:ext cx="833760" cy="1181160"/>
                <a:chOff x="6194160" y="2743200"/>
                <a:chExt cx="833760" cy="1181160"/>
              </a:xfrm>
            </p:grpSpPr>
            <p:sp>
              <p:nvSpPr>
                <p:cNvPr id="302" name="Freeform 186"/>
                <p:cNvSpPr/>
                <p:nvPr/>
              </p:nvSpPr>
              <p:spPr>
                <a:xfrm>
                  <a:off x="6743520" y="3497400"/>
                  <a:ext cx="284400" cy="42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187"/>
                <p:cNvSpPr/>
                <p:nvPr/>
              </p:nvSpPr>
              <p:spPr>
                <a:xfrm>
                  <a:off x="6194160" y="2743200"/>
                  <a:ext cx="617760" cy="83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95"/>
              <p:cNvGrpSpPr/>
              <p:nvPr/>
            </p:nvGrpSpPr>
            <p:grpSpPr>
              <a:xfrm>
                <a:off x="5715000" y="3056040"/>
                <a:ext cx="1206360" cy="1847880"/>
                <a:chOff x="5715000" y="3056040"/>
                <a:chExt cx="1206360" cy="1847880"/>
              </a:xfrm>
            </p:grpSpPr>
            <p:sp>
              <p:nvSpPr>
                <p:cNvPr id="305" name="Freeform 189"/>
                <p:cNvSpPr/>
                <p:nvPr/>
              </p:nvSpPr>
              <p:spPr>
                <a:xfrm>
                  <a:off x="5715000" y="3056040"/>
                  <a:ext cx="571320" cy="40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90"/>
                <p:cNvSpPr/>
                <p:nvPr/>
              </p:nvSpPr>
              <p:spPr>
                <a:xfrm>
                  <a:off x="6140520" y="3508200"/>
                  <a:ext cx="339480" cy="711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91"/>
                <p:cNvSpPr/>
                <p:nvPr/>
              </p:nvSpPr>
              <p:spPr>
                <a:xfrm>
                  <a:off x="6291000" y="3503520"/>
                  <a:ext cx="630360" cy="47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92"/>
                <p:cNvSpPr/>
                <p:nvPr/>
              </p:nvSpPr>
              <p:spPr>
                <a:xfrm>
                  <a:off x="6091200" y="3559320"/>
                  <a:ext cx="826920" cy="40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193"/>
                <p:cNvSpPr/>
                <p:nvPr/>
              </p:nvSpPr>
              <p:spPr>
                <a:xfrm>
                  <a:off x="6273720" y="4087800"/>
                  <a:ext cx="347760" cy="81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4"/>
                <p:cNvSpPr/>
                <p:nvPr/>
              </p:nvSpPr>
              <p:spPr>
                <a:xfrm>
                  <a:off x="5999040" y="4089240"/>
                  <a:ext cx="293760" cy="784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240"/>
          <p:cNvGrpSpPr/>
          <p:nvPr/>
        </p:nvGrpSpPr>
        <p:grpSpPr>
          <a:xfrm>
            <a:off x="4952880" y="2362320"/>
            <a:ext cx="3962520" cy="3276360"/>
            <a:chOff x="4952880" y="2362320"/>
            <a:chExt cx="3962520" cy="3276360"/>
          </a:xfrm>
        </p:grpSpPr>
        <p:sp>
          <p:nvSpPr>
            <p:cNvPr id="312" name="Rectangle 42"/>
            <p:cNvSpPr/>
            <p:nvPr/>
          </p:nvSpPr>
          <p:spPr>
            <a:xfrm>
              <a:off x="4952880" y="2362320"/>
              <a:ext cx="3962520" cy="32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50"/>
            <p:cNvGrpSpPr/>
            <p:nvPr/>
          </p:nvGrpSpPr>
          <p:grpSpPr>
            <a:xfrm>
              <a:off x="6705360" y="3276720"/>
              <a:ext cx="1600200" cy="1893600"/>
              <a:chOff x="6705360" y="3276720"/>
              <a:chExt cx="1600200" cy="1893600"/>
            </a:xfrm>
          </p:grpSpPr>
          <p:sp>
            <p:nvSpPr>
              <p:cNvPr id="314" name="Freeform 51"/>
              <p:cNvSpPr/>
              <p:nvPr/>
            </p:nvSpPr>
            <p:spPr>
              <a:xfrm>
                <a:off x="6705360" y="3276720"/>
                <a:ext cx="1600200" cy="18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2"/>
              <p:cNvSpPr/>
              <p:nvPr/>
            </p:nvSpPr>
            <p:spPr>
              <a:xfrm>
                <a:off x="7333560" y="4023360"/>
                <a:ext cx="327240" cy="58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3"/>
              <p:cNvSpPr/>
              <p:nvPr/>
            </p:nvSpPr>
            <p:spPr>
              <a:xfrm>
                <a:off x="7032600" y="3995640"/>
                <a:ext cx="137880" cy="20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4"/>
              <p:cNvSpPr/>
              <p:nvPr/>
            </p:nvSpPr>
            <p:spPr>
              <a:xfrm>
                <a:off x="7953480" y="4516200"/>
                <a:ext cx="85680" cy="14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10"/>
            <p:cNvGrpSpPr/>
            <p:nvPr/>
          </p:nvGrpSpPr>
          <p:grpSpPr>
            <a:xfrm>
              <a:off x="5620320" y="4233960"/>
              <a:ext cx="1174680" cy="1137960"/>
              <a:chOff x="5620320" y="4233960"/>
              <a:chExt cx="1174680" cy="1137960"/>
            </a:xfrm>
          </p:grpSpPr>
          <p:sp>
            <p:nvSpPr>
              <p:cNvPr id="319" name="Freeform 211"/>
              <p:cNvSpPr/>
              <p:nvPr/>
            </p:nvSpPr>
            <p:spPr>
              <a:xfrm rot="20450400">
                <a:off x="6448320" y="4910040"/>
                <a:ext cx="284040" cy="42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12"/>
              <p:cNvSpPr/>
              <p:nvPr/>
            </p:nvSpPr>
            <p:spPr>
              <a:xfrm rot="20450400">
                <a:off x="5740200" y="4312080"/>
                <a:ext cx="617400" cy="83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39"/>
            <p:cNvGrpSpPr/>
            <p:nvPr/>
          </p:nvGrpSpPr>
          <p:grpSpPr>
            <a:xfrm>
              <a:off x="5790960" y="2666880"/>
              <a:ext cx="1822320" cy="2408040"/>
              <a:chOff x="5790960" y="2666880"/>
              <a:chExt cx="1822320" cy="2408040"/>
            </a:xfrm>
          </p:grpSpPr>
          <p:sp>
            <p:nvSpPr>
              <p:cNvPr id="322" name="Freeform 228"/>
              <p:cNvSpPr/>
              <p:nvPr/>
            </p:nvSpPr>
            <p:spPr>
              <a:xfrm flipH="1">
                <a:off x="6522840" y="3308040"/>
                <a:ext cx="396720" cy="44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29"/>
              <p:cNvSpPr/>
              <p:nvPr/>
            </p:nvSpPr>
            <p:spPr>
              <a:xfrm flipH="1">
                <a:off x="6402240" y="3740040"/>
                <a:ext cx="355680" cy="79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30"/>
              <p:cNvSpPr/>
              <p:nvPr/>
            </p:nvSpPr>
            <p:spPr>
              <a:xfrm flipH="1">
                <a:off x="5816160" y="3304800"/>
                <a:ext cx="882360" cy="79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31"/>
              <p:cNvSpPr/>
              <p:nvPr/>
            </p:nvSpPr>
            <p:spPr>
              <a:xfrm flipH="1">
                <a:off x="5844960" y="3320640"/>
                <a:ext cx="727200" cy="51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32"/>
              <p:cNvSpPr/>
              <p:nvPr/>
            </p:nvSpPr>
            <p:spPr>
              <a:xfrm flipH="1">
                <a:off x="6538320" y="4401720"/>
                <a:ext cx="655560" cy="67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33"/>
              <p:cNvSpPr/>
              <p:nvPr/>
            </p:nvSpPr>
            <p:spPr>
              <a:xfrm flipH="1">
                <a:off x="5790600" y="4363920"/>
                <a:ext cx="871560" cy="66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35"/>
              <p:cNvSpPr/>
              <p:nvPr/>
            </p:nvSpPr>
            <p:spPr>
              <a:xfrm flipH="1">
                <a:off x="7194240" y="3686040"/>
                <a:ext cx="419040" cy="35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36"/>
              <p:cNvSpPr/>
              <p:nvPr/>
            </p:nvSpPr>
            <p:spPr>
              <a:xfrm flipH="1">
                <a:off x="6821280" y="2666880"/>
                <a:ext cx="339840" cy="39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37"/>
              <p:cNvSpPr/>
              <p:nvPr/>
            </p:nvSpPr>
            <p:spPr>
              <a:xfrm flipH="1">
                <a:off x="5995800" y="2749320"/>
                <a:ext cx="36504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Дата 8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11"/>
          <p:cNvGrpSpPr/>
          <p:nvPr/>
        </p:nvGrpSpPr>
        <p:grpSpPr>
          <a:xfrm>
            <a:off x="457200" y="304920"/>
            <a:ext cx="2444760" cy="2601000"/>
            <a:chOff x="457200" y="304920"/>
            <a:chExt cx="2444760" cy="2601000"/>
          </a:xfrm>
        </p:grpSpPr>
        <p:sp>
          <p:nvSpPr>
            <p:cNvPr id="333" name="Freeform 212"/>
            <p:cNvSpPr/>
            <p:nvPr/>
          </p:nvSpPr>
          <p:spPr>
            <a:xfrm>
              <a:off x="1524240" y="304920"/>
              <a:ext cx="539280" cy="31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213"/>
            <p:cNvGrpSpPr/>
            <p:nvPr/>
          </p:nvGrpSpPr>
          <p:grpSpPr>
            <a:xfrm>
              <a:off x="457200" y="518760"/>
              <a:ext cx="2444760" cy="2387160"/>
              <a:chOff x="457200" y="518760"/>
              <a:chExt cx="2444760" cy="2387160"/>
            </a:xfrm>
          </p:grpSpPr>
          <p:pic>
            <p:nvPicPr>
              <p:cNvPr id="335" name="Object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155960"/>
                <a:ext cx="2444760" cy="174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Freeform 215"/>
              <p:cNvSpPr/>
              <p:nvPr/>
            </p:nvSpPr>
            <p:spPr>
              <a:xfrm>
                <a:off x="1861560" y="1140480"/>
                <a:ext cx="276480" cy="67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16"/>
              <p:cNvSpPr/>
              <p:nvPr/>
            </p:nvSpPr>
            <p:spPr>
              <a:xfrm>
                <a:off x="1418400" y="1140480"/>
                <a:ext cx="330120" cy="69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17"/>
              <p:cNvSpPr/>
              <p:nvPr/>
            </p:nvSpPr>
            <p:spPr>
              <a:xfrm>
                <a:off x="1672200" y="651960"/>
                <a:ext cx="474120" cy="59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18"/>
              <p:cNvSpPr/>
              <p:nvPr/>
            </p:nvSpPr>
            <p:spPr>
              <a:xfrm flipH="1" rot="17286000">
                <a:off x="824400" y="821520"/>
                <a:ext cx="1044000" cy="56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19"/>
              <p:cNvSpPr/>
              <p:nvPr/>
            </p:nvSpPr>
            <p:spPr>
              <a:xfrm>
                <a:off x="1740240" y="699120"/>
                <a:ext cx="1056960" cy="57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21"/>
          <p:cNvGrpSpPr/>
          <p:nvPr/>
        </p:nvGrpSpPr>
        <p:grpSpPr>
          <a:xfrm>
            <a:off x="6095880" y="762120"/>
            <a:ext cx="2666880" cy="2320560"/>
            <a:chOff x="6095880" y="762120"/>
            <a:chExt cx="2666880" cy="2320560"/>
          </a:xfrm>
        </p:grpSpPr>
        <p:pic>
          <p:nvPicPr>
            <p:cNvPr id="342" name="Object 26" descr=""/>
            <p:cNvPicPr/>
            <p:nvPr/>
          </p:nvPicPr>
          <p:blipFill>
            <a:blip r:embed="rId2"/>
            <a:stretch/>
          </p:blipFill>
          <p:spPr>
            <a:xfrm>
              <a:off x="6095880" y="2138760"/>
              <a:ext cx="107748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Object 27" descr=""/>
            <p:cNvPicPr/>
            <p:nvPr/>
          </p:nvPicPr>
          <p:blipFill>
            <a:blip r:embed="rId3"/>
            <a:stretch/>
          </p:blipFill>
          <p:spPr>
            <a:xfrm>
              <a:off x="6757920" y="2112480"/>
              <a:ext cx="107712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Object 28" descr=""/>
            <p:cNvPicPr/>
            <p:nvPr/>
          </p:nvPicPr>
          <p:blipFill>
            <a:blip r:embed="rId4"/>
            <a:stretch/>
          </p:blipFill>
          <p:spPr>
            <a:xfrm>
              <a:off x="7279560" y="2138760"/>
              <a:ext cx="107712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Object 29" descr=""/>
            <p:cNvPicPr/>
            <p:nvPr/>
          </p:nvPicPr>
          <p:blipFill>
            <a:blip r:embed="rId5"/>
            <a:stretch/>
          </p:blipFill>
          <p:spPr>
            <a:xfrm>
              <a:off x="6345720" y="762120"/>
              <a:ext cx="2417040" cy="22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237"/>
          <p:cNvGrpSpPr/>
          <p:nvPr/>
        </p:nvGrpSpPr>
        <p:grpSpPr>
          <a:xfrm>
            <a:off x="6095880" y="533520"/>
            <a:ext cx="2895840" cy="3200400"/>
            <a:chOff x="6095880" y="533520"/>
            <a:chExt cx="2895840" cy="3200400"/>
          </a:xfrm>
        </p:grpSpPr>
        <p:sp>
          <p:nvSpPr>
            <p:cNvPr id="347" name="Rectangle 236"/>
            <p:cNvSpPr/>
            <p:nvPr/>
          </p:nvSpPr>
          <p:spPr>
            <a:xfrm>
              <a:off x="6095880" y="533520"/>
              <a:ext cx="289584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123"/>
            <p:cNvGrpSpPr/>
            <p:nvPr/>
          </p:nvGrpSpPr>
          <p:grpSpPr>
            <a:xfrm>
              <a:off x="6324480" y="686160"/>
              <a:ext cx="2133000" cy="2818440"/>
              <a:chOff x="6324480" y="686160"/>
              <a:chExt cx="2133000" cy="2818440"/>
            </a:xfrm>
          </p:grpSpPr>
          <p:grpSp>
            <p:nvGrpSpPr>
              <p:cNvPr id="349" name="Group 104"/>
              <p:cNvGrpSpPr/>
              <p:nvPr/>
            </p:nvGrpSpPr>
            <p:grpSpPr>
              <a:xfrm>
                <a:off x="6981120" y="686160"/>
                <a:ext cx="1476360" cy="2818440"/>
                <a:chOff x="6981120" y="686160"/>
                <a:chExt cx="1476360" cy="2818440"/>
              </a:xfrm>
            </p:grpSpPr>
            <p:grpSp>
              <p:nvGrpSpPr>
                <p:cNvPr id="350" name="Group 92"/>
                <p:cNvGrpSpPr/>
                <p:nvPr/>
              </p:nvGrpSpPr>
              <p:grpSpPr>
                <a:xfrm>
                  <a:off x="7212600" y="1410480"/>
                  <a:ext cx="1244880" cy="2094120"/>
                  <a:chOff x="7212600" y="1410480"/>
                  <a:chExt cx="1244880" cy="2094120"/>
                </a:xfrm>
              </p:grpSpPr>
              <p:sp>
                <p:nvSpPr>
                  <p:cNvPr id="351" name="Freeform 86"/>
                  <p:cNvSpPr/>
                  <p:nvPr/>
                </p:nvSpPr>
                <p:spPr>
                  <a:xfrm flipH="1">
                    <a:off x="7483680" y="1410480"/>
                    <a:ext cx="355320" cy="470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87"/>
                  <p:cNvSpPr/>
                  <p:nvPr/>
                </p:nvSpPr>
                <p:spPr>
                  <a:xfrm flipH="1">
                    <a:off x="7882200" y="1716840"/>
                    <a:ext cx="574920" cy="509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88"/>
                  <p:cNvSpPr/>
                  <p:nvPr/>
                </p:nvSpPr>
                <p:spPr>
                  <a:xfrm flipH="1">
                    <a:off x="7212600" y="1901880"/>
                    <a:ext cx="469440" cy="558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89"/>
                  <p:cNvSpPr/>
                  <p:nvPr/>
                </p:nvSpPr>
                <p:spPr>
                  <a:xfrm flipH="1">
                    <a:off x="7695000" y="2418480"/>
                    <a:ext cx="304200" cy="1086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90"/>
                  <p:cNvSpPr/>
                  <p:nvPr/>
                </p:nvSpPr>
                <p:spPr>
                  <a:xfrm flipH="1">
                    <a:off x="7338240" y="2480760"/>
                    <a:ext cx="597600" cy="847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91"/>
                  <p:cNvSpPr/>
                  <p:nvPr/>
                </p:nvSpPr>
                <p:spPr>
                  <a:xfrm flipH="1">
                    <a:off x="7730640" y="1922400"/>
                    <a:ext cx="390240" cy="919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03"/>
                <p:cNvGrpSpPr/>
                <p:nvPr/>
              </p:nvGrpSpPr>
              <p:grpSpPr>
                <a:xfrm>
                  <a:off x="6981120" y="686160"/>
                  <a:ext cx="1446840" cy="2511000"/>
                  <a:chOff x="6981120" y="686160"/>
                  <a:chExt cx="1446840" cy="2511000"/>
                </a:xfrm>
              </p:grpSpPr>
              <p:sp>
                <p:nvSpPr>
                  <p:cNvPr id="358" name="Freeform 93"/>
                  <p:cNvSpPr/>
                  <p:nvPr/>
                </p:nvSpPr>
                <p:spPr>
                  <a:xfrm flipH="1">
                    <a:off x="7899120" y="1197000"/>
                    <a:ext cx="208440" cy="248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94"/>
                  <p:cNvSpPr/>
                  <p:nvPr/>
                </p:nvSpPr>
                <p:spPr>
                  <a:xfrm flipH="1">
                    <a:off x="7783200" y="1031400"/>
                    <a:ext cx="135360" cy="222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Oval 95"/>
                  <p:cNvSpPr/>
                  <p:nvPr/>
                </p:nvSpPr>
                <p:spPr>
                  <a:xfrm flipH="1">
                    <a:off x="7731720" y="1280880"/>
                    <a:ext cx="55440" cy="60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96"/>
                  <p:cNvSpPr/>
                  <p:nvPr/>
                </p:nvSpPr>
                <p:spPr>
                  <a:xfrm flipH="1">
                    <a:off x="7400880" y="686160"/>
                    <a:ext cx="343800" cy="432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97"/>
                  <p:cNvSpPr/>
                  <p:nvPr/>
                </p:nvSpPr>
                <p:spPr>
                  <a:xfrm flipH="1">
                    <a:off x="7110000" y="1002960"/>
                    <a:ext cx="263880" cy="356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98"/>
                  <p:cNvSpPr/>
                  <p:nvPr/>
                </p:nvSpPr>
                <p:spPr>
                  <a:xfrm flipH="1">
                    <a:off x="7011720" y="1346760"/>
                    <a:ext cx="255600" cy="3006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9"/>
                  <p:cNvSpPr/>
                  <p:nvPr/>
                </p:nvSpPr>
                <p:spPr>
                  <a:xfrm flipH="1">
                    <a:off x="8099280" y="2791080"/>
                    <a:ext cx="175320" cy="232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100"/>
                  <p:cNvSpPr/>
                  <p:nvPr/>
                </p:nvSpPr>
                <p:spPr>
                  <a:xfrm flipH="1">
                    <a:off x="8194680" y="3030480"/>
                    <a:ext cx="232920" cy="109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101"/>
                  <p:cNvSpPr/>
                  <p:nvPr/>
                </p:nvSpPr>
                <p:spPr>
                  <a:xfrm flipH="1">
                    <a:off x="7151400" y="2985120"/>
                    <a:ext cx="209520" cy="212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02"/>
                  <p:cNvSpPr/>
                  <p:nvPr/>
                </p:nvSpPr>
                <p:spPr>
                  <a:xfrm flipH="1">
                    <a:off x="6981120" y="2934000"/>
                    <a:ext cx="154800" cy="204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68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4480" y="2340720"/>
                <a:ext cx="1016280" cy="100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61"/>
          <p:cNvGrpSpPr/>
          <p:nvPr/>
        </p:nvGrpSpPr>
        <p:grpSpPr>
          <a:xfrm>
            <a:off x="533520" y="4038480"/>
            <a:ext cx="2132640" cy="2438640"/>
            <a:chOff x="533520" y="4038480"/>
            <a:chExt cx="2132640" cy="2438640"/>
          </a:xfrm>
        </p:grpSpPr>
        <p:pic>
          <p:nvPicPr>
            <p:cNvPr id="370" name="Object 24" descr=""/>
            <p:cNvPicPr/>
            <p:nvPr/>
          </p:nvPicPr>
          <p:blipFill>
            <a:blip r:embed="rId7"/>
            <a:stretch/>
          </p:blipFill>
          <p:spPr>
            <a:xfrm>
              <a:off x="533520" y="5410440"/>
              <a:ext cx="1132560" cy="102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Group 160"/>
            <p:cNvGrpSpPr/>
            <p:nvPr/>
          </p:nvGrpSpPr>
          <p:grpSpPr>
            <a:xfrm>
              <a:off x="1411920" y="4038480"/>
              <a:ext cx="1254240" cy="2438640"/>
              <a:chOff x="1411920" y="4038480"/>
              <a:chExt cx="1254240" cy="2438640"/>
            </a:xfrm>
          </p:grpSpPr>
          <p:sp>
            <p:nvSpPr>
              <p:cNvPr id="372" name="Freeform 154"/>
              <p:cNvSpPr/>
              <p:nvPr/>
            </p:nvSpPr>
            <p:spPr>
              <a:xfrm>
                <a:off x="1411920" y="4785120"/>
                <a:ext cx="491040" cy="83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55"/>
              <p:cNvSpPr/>
              <p:nvPr/>
            </p:nvSpPr>
            <p:spPr>
              <a:xfrm>
                <a:off x="1848600" y="4749120"/>
                <a:ext cx="342360" cy="79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56"/>
              <p:cNvSpPr/>
              <p:nvPr/>
            </p:nvSpPr>
            <p:spPr>
              <a:xfrm>
                <a:off x="1944000" y="5440320"/>
                <a:ext cx="199080" cy="103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57"/>
              <p:cNvSpPr/>
              <p:nvPr/>
            </p:nvSpPr>
            <p:spPr>
              <a:xfrm>
                <a:off x="1664280" y="5442480"/>
                <a:ext cx="309600" cy="103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58"/>
              <p:cNvSpPr/>
              <p:nvPr/>
            </p:nvSpPr>
            <p:spPr>
              <a:xfrm>
                <a:off x="1722600" y="4152600"/>
                <a:ext cx="401400" cy="54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59"/>
              <p:cNvSpPr/>
              <p:nvPr/>
            </p:nvSpPr>
            <p:spPr>
              <a:xfrm>
                <a:off x="1870200" y="4038480"/>
                <a:ext cx="795960" cy="90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8" name="Object 2" descr=""/>
          <p:cNvPicPr/>
          <p:nvPr/>
        </p:nvPicPr>
        <p:blipFill>
          <a:blip r:embed="rId8"/>
          <a:stretch/>
        </p:blipFill>
        <p:spPr>
          <a:xfrm>
            <a:off x="228600" y="1792440"/>
            <a:ext cx="1774800" cy="71892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" descr=""/>
          <p:cNvPicPr/>
          <p:nvPr/>
        </p:nvPicPr>
        <p:blipFill>
          <a:blip r:embed="rId9"/>
          <a:stretch/>
        </p:blipFill>
        <p:spPr>
          <a:xfrm>
            <a:off x="911160" y="2168640"/>
            <a:ext cx="1774800" cy="717480"/>
          </a:xfrm>
          <a:prstGeom prst="rect">
            <a:avLst/>
          </a:prstGeom>
          <a:ln w="0">
            <a:noFill/>
          </a:ln>
        </p:spPr>
      </p:pic>
      <p:pic>
        <p:nvPicPr>
          <p:cNvPr id="380" name="Object 4" descr=""/>
          <p:cNvPicPr/>
          <p:nvPr/>
        </p:nvPicPr>
        <p:blipFill>
          <a:blip r:embed="rId10"/>
          <a:stretch/>
        </p:blipFill>
        <p:spPr>
          <a:xfrm>
            <a:off x="1116000" y="2360520"/>
            <a:ext cx="1776600" cy="719280"/>
          </a:xfrm>
          <a:prstGeom prst="rect">
            <a:avLst/>
          </a:prstGeom>
          <a:ln w="0">
            <a:noFill/>
          </a:ln>
        </p:spPr>
      </p:pic>
      <p:pic>
        <p:nvPicPr>
          <p:cNvPr id="381" name="Object 5" descr=""/>
          <p:cNvPicPr/>
          <p:nvPr/>
        </p:nvPicPr>
        <p:blipFill>
          <a:blip r:embed="rId11"/>
          <a:stretch/>
        </p:blipFill>
        <p:spPr>
          <a:xfrm>
            <a:off x="2344680" y="1728720"/>
            <a:ext cx="1776600" cy="71748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6" descr=""/>
          <p:cNvPicPr/>
          <p:nvPr/>
        </p:nvPicPr>
        <p:blipFill>
          <a:blip r:embed="rId12"/>
          <a:stretch/>
        </p:blipFill>
        <p:spPr>
          <a:xfrm>
            <a:off x="2481120" y="1857240"/>
            <a:ext cx="1776600" cy="71784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7" descr=""/>
          <p:cNvPicPr/>
          <p:nvPr/>
        </p:nvPicPr>
        <p:blipFill>
          <a:blip r:embed="rId13"/>
          <a:stretch/>
        </p:blipFill>
        <p:spPr>
          <a:xfrm>
            <a:off x="2617920" y="1986120"/>
            <a:ext cx="1776240" cy="71748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8" descr=""/>
          <p:cNvPicPr/>
          <p:nvPr/>
        </p:nvPicPr>
        <p:blipFill>
          <a:blip r:embed="rId14"/>
          <a:stretch/>
        </p:blipFill>
        <p:spPr>
          <a:xfrm>
            <a:off x="1252440" y="2489040"/>
            <a:ext cx="1776600" cy="71928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9" descr=""/>
          <p:cNvPicPr/>
          <p:nvPr/>
        </p:nvPicPr>
        <p:blipFill>
          <a:blip r:embed="rId15"/>
          <a:stretch/>
        </p:blipFill>
        <p:spPr>
          <a:xfrm>
            <a:off x="1389240" y="261792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10" descr=""/>
          <p:cNvPicPr/>
          <p:nvPr/>
        </p:nvPicPr>
        <p:blipFill>
          <a:blip r:embed="rId16"/>
          <a:stretch/>
        </p:blipFill>
        <p:spPr>
          <a:xfrm>
            <a:off x="1525680" y="274644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11" descr=""/>
          <p:cNvPicPr/>
          <p:nvPr/>
        </p:nvPicPr>
        <p:blipFill>
          <a:blip r:embed="rId17"/>
          <a:stretch/>
        </p:blipFill>
        <p:spPr>
          <a:xfrm>
            <a:off x="2754360" y="2114640"/>
            <a:ext cx="1776240" cy="71892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12" descr=""/>
          <p:cNvPicPr/>
          <p:nvPr/>
        </p:nvPicPr>
        <p:blipFill>
          <a:blip r:embed="rId18"/>
          <a:stretch/>
        </p:blipFill>
        <p:spPr>
          <a:xfrm>
            <a:off x="2892600" y="2243160"/>
            <a:ext cx="1774800" cy="71928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13" descr=""/>
          <p:cNvPicPr/>
          <p:nvPr/>
        </p:nvPicPr>
        <p:blipFill>
          <a:blip r:embed="rId19"/>
          <a:stretch/>
        </p:blipFill>
        <p:spPr>
          <a:xfrm>
            <a:off x="3029040" y="2371680"/>
            <a:ext cx="1774800" cy="71928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14" descr=""/>
          <p:cNvPicPr/>
          <p:nvPr/>
        </p:nvPicPr>
        <p:blipFill>
          <a:blip r:embed="rId20"/>
          <a:stretch/>
        </p:blipFill>
        <p:spPr>
          <a:xfrm>
            <a:off x="3165480" y="2500200"/>
            <a:ext cx="1774800" cy="719280"/>
          </a:xfrm>
          <a:prstGeom prst="rect">
            <a:avLst/>
          </a:prstGeom>
          <a:ln w="0">
            <a:noFill/>
          </a:ln>
        </p:spPr>
      </p:pic>
      <p:pic>
        <p:nvPicPr>
          <p:cNvPr id="391" name="Object 15" descr=""/>
          <p:cNvPicPr/>
          <p:nvPr/>
        </p:nvPicPr>
        <p:blipFill>
          <a:blip r:embed="rId21"/>
          <a:stretch/>
        </p:blipFill>
        <p:spPr>
          <a:xfrm>
            <a:off x="3301920" y="2629080"/>
            <a:ext cx="1774800" cy="71892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6" descr=""/>
          <p:cNvPicPr/>
          <p:nvPr/>
        </p:nvPicPr>
        <p:blipFill>
          <a:blip r:embed="rId22"/>
          <a:stretch/>
        </p:blipFill>
        <p:spPr>
          <a:xfrm>
            <a:off x="3438360" y="2757600"/>
            <a:ext cx="1775160" cy="718920"/>
          </a:xfrm>
          <a:prstGeom prst="rect">
            <a:avLst/>
          </a:prstGeom>
          <a:ln w="0">
            <a:noFill/>
          </a:ln>
        </p:spPr>
      </p:pic>
      <p:pic>
        <p:nvPicPr>
          <p:cNvPr id="393" name="Object 17" descr=""/>
          <p:cNvPicPr/>
          <p:nvPr/>
        </p:nvPicPr>
        <p:blipFill>
          <a:blip r:embed="rId23"/>
          <a:stretch/>
        </p:blipFill>
        <p:spPr>
          <a:xfrm>
            <a:off x="3575160" y="2886120"/>
            <a:ext cx="1774800" cy="71892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180"/>
          <p:cNvGrpSpPr/>
          <p:nvPr/>
        </p:nvGrpSpPr>
        <p:grpSpPr>
          <a:xfrm>
            <a:off x="5200560" y="1752120"/>
            <a:ext cx="819360" cy="1287720"/>
            <a:chOff x="5200560" y="1752120"/>
            <a:chExt cx="819360" cy="1287720"/>
          </a:xfrm>
        </p:grpSpPr>
        <p:sp>
          <p:nvSpPr>
            <p:cNvPr id="395" name="AutoShape 181"/>
            <p:cNvSpPr/>
            <p:nvPr/>
          </p:nvSpPr>
          <p:spPr>
            <a:xfrm rot="16200000">
              <a:off x="4966200" y="1986120"/>
              <a:ext cx="1287720" cy="819360"/>
            </a:xfrm>
            <a:prstGeom prst="upArrowCallout">
              <a:avLst>
                <a:gd name="adj1" fmla="val 39294"/>
                <a:gd name="adj2" fmla="val 39290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82"/>
            <p:cNvSpPr/>
            <p:nvPr/>
          </p:nvSpPr>
          <p:spPr>
            <a:xfrm rot="16200000">
              <a:off x="5330160" y="2087640"/>
              <a:ext cx="78588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84"/>
          <p:cNvSpPr/>
          <p:nvPr/>
        </p:nvSpPr>
        <p:spPr>
          <a:xfrm>
            <a:off x="2819520" y="4191120"/>
            <a:ext cx="31240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возрастание величины ставки по мере роста дох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огоплательщик уплачивает не только все большую абсолютную сумму дохода (по мере его роста), но и большую его до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95"/>
          <p:cNvGrpSpPr/>
          <p:nvPr/>
        </p:nvGrpSpPr>
        <p:grpSpPr>
          <a:xfrm>
            <a:off x="6477120" y="4191120"/>
            <a:ext cx="2285640" cy="2437920"/>
            <a:chOff x="6477120" y="4191120"/>
            <a:chExt cx="2285640" cy="2437920"/>
          </a:xfrm>
        </p:grpSpPr>
        <p:pic>
          <p:nvPicPr>
            <p:cNvPr id="399" name="Object 21" descr=""/>
            <p:cNvPicPr/>
            <p:nvPr/>
          </p:nvPicPr>
          <p:blipFill>
            <a:blip r:embed="rId24"/>
            <a:stretch/>
          </p:blipFill>
          <p:spPr>
            <a:xfrm>
              <a:off x="6477120" y="5644800"/>
              <a:ext cx="11160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Object 22" descr=""/>
            <p:cNvPicPr/>
            <p:nvPr/>
          </p:nvPicPr>
          <p:blipFill>
            <a:blip r:embed="rId25"/>
            <a:stretch/>
          </p:blipFill>
          <p:spPr>
            <a:xfrm>
              <a:off x="7017480" y="5644800"/>
              <a:ext cx="111600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Object 23" descr=""/>
            <p:cNvPicPr/>
            <p:nvPr/>
          </p:nvPicPr>
          <p:blipFill>
            <a:blip r:embed="rId26"/>
            <a:stretch/>
          </p:blipFill>
          <p:spPr>
            <a:xfrm>
              <a:off x="7652880" y="4191120"/>
              <a:ext cx="1109880" cy="21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Group 232"/>
          <p:cNvGrpSpPr/>
          <p:nvPr/>
        </p:nvGrpSpPr>
        <p:grpSpPr>
          <a:xfrm>
            <a:off x="380880" y="4038480"/>
            <a:ext cx="2286000" cy="2590560"/>
            <a:chOff x="380880" y="4038480"/>
            <a:chExt cx="2286000" cy="2590560"/>
          </a:xfrm>
        </p:grpSpPr>
        <p:sp>
          <p:nvSpPr>
            <p:cNvPr id="403" name="Rectangle 231"/>
            <p:cNvSpPr/>
            <p:nvPr/>
          </p:nvSpPr>
          <p:spPr>
            <a:xfrm>
              <a:off x="380880" y="4038480"/>
              <a:ext cx="228600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162"/>
            <p:cNvGrpSpPr/>
            <p:nvPr/>
          </p:nvGrpSpPr>
          <p:grpSpPr>
            <a:xfrm>
              <a:off x="380880" y="4038480"/>
              <a:ext cx="2285640" cy="2479680"/>
              <a:chOff x="380880" y="4038480"/>
              <a:chExt cx="2285640" cy="2479680"/>
            </a:xfrm>
          </p:grpSpPr>
          <p:pic>
            <p:nvPicPr>
              <p:cNvPr id="405" name="Object 19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0880" y="5480640"/>
                <a:ext cx="1117800" cy="103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Object 20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9320" y="4038480"/>
                <a:ext cx="1897200" cy="24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7" name="Group 174"/>
          <p:cNvGrpSpPr/>
          <p:nvPr/>
        </p:nvGrpSpPr>
        <p:grpSpPr>
          <a:xfrm>
            <a:off x="228600" y="3200400"/>
            <a:ext cx="1447920" cy="838080"/>
            <a:chOff x="228600" y="3200400"/>
            <a:chExt cx="1447920" cy="838080"/>
          </a:xfrm>
        </p:grpSpPr>
        <p:sp>
          <p:nvSpPr>
            <p:cNvPr id="408" name="AutoShape 175"/>
            <p:cNvSpPr/>
            <p:nvPr/>
          </p:nvSpPr>
          <p:spPr>
            <a:xfrm>
              <a:off x="228600" y="3200400"/>
              <a:ext cx="1447920" cy="838080"/>
            </a:xfrm>
            <a:prstGeom prst="upArrowCallout">
              <a:avLst>
                <a:gd name="adj1" fmla="val 43195"/>
                <a:gd name="adj2" fmla="val 43192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76"/>
            <p:cNvSpPr/>
            <p:nvPr/>
          </p:nvSpPr>
          <p:spPr>
            <a:xfrm>
              <a:off x="647640" y="3549240"/>
              <a:ext cx="88380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35"/>
          <p:cNvGrpSpPr/>
          <p:nvPr/>
        </p:nvGrpSpPr>
        <p:grpSpPr>
          <a:xfrm>
            <a:off x="6477120" y="4114800"/>
            <a:ext cx="2514600" cy="2514600"/>
            <a:chOff x="6477120" y="4114800"/>
            <a:chExt cx="2514600" cy="2514600"/>
          </a:xfrm>
        </p:grpSpPr>
        <p:sp>
          <p:nvSpPr>
            <p:cNvPr id="411" name="Rectangle 233"/>
            <p:cNvSpPr/>
            <p:nvPr/>
          </p:nvSpPr>
          <p:spPr>
            <a:xfrm>
              <a:off x="6477120" y="411480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143"/>
            <p:cNvGrpSpPr/>
            <p:nvPr/>
          </p:nvGrpSpPr>
          <p:grpSpPr>
            <a:xfrm>
              <a:off x="6782040" y="4190760"/>
              <a:ext cx="1675440" cy="2133360"/>
              <a:chOff x="6782040" y="4190760"/>
              <a:chExt cx="1675440" cy="2133360"/>
            </a:xfrm>
          </p:grpSpPr>
          <p:pic>
            <p:nvPicPr>
              <p:cNvPr id="413" name="Object 18" descr=""/>
              <p:cNvPicPr/>
              <p:nvPr/>
            </p:nvPicPr>
            <p:blipFill>
              <a:blip r:embed="rId29"/>
              <a:stretch/>
            </p:blipFill>
            <p:spPr>
              <a:xfrm>
                <a:off x="6782040" y="5357160"/>
                <a:ext cx="1051920" cy="96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4" name="Group 142"/>
              <p:cNvGrpSpPr/>
              <p:nvPr/>
            </p:nvGrpSpPr>
            <p:grpSpPr>
              <a:xfrm>
                <a:off x="7630920" y="4190760"/>
                <a:ext cx="826560" cy="2133360"/>
                <a:chOff x="7630920" y="4190760"/>
                <a:chExt cx="826560" cy="2133360"/>
              </a:xfrm>
            </p:grpSpPr>
            <p:sp>
              <p:nvSpPr>
                <p:cNvPr id="415" name="Freeform 135"/>
                <p:cNvSpPr/>
                <p:nvPr/>
              </p:nvSpPr>
              <p:spPr>
                <a:xfrm>
                  <a:off x="7837200" y="4297320"/>
                  <a:ext cx="476280" cy="48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36"/>
                <p:cNvSpPr/>
                <p:nvPr/>
              </p:nvSpPr>
              <p:spPr>
                <a:xfrm>
                  <a:off x="7813800" y="4806360"/>
                  <a:ext cx="330120" cy="708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37"/>
                <p:cNvSpPr/>
                <p:nvPr/>
              </p:nvSpPr>
              <p:spPr>
                <a:xfrm>
                  <a:off x="8075520" y="4828680"/>
                  <a:ext cx="366480" cy="63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38"/>
                <p:cNvSpPr/>
                <p:nvPr/>
              </p:nvSpPr>
              <p:spPr>
                <a:xfrm>
                  <a:off x="7837200" y="5364720"/>
                  <a:ext cx="399960" cy="959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39"/>
                <p:cNvSpPr/>
                <p:nvPr/>
              </p:nvSpPr>
              <p:spPr>
                <a:xfrm>
                  <a:off x="7641360" y="5390640"/>
                  <a:ext cx="330120" cy="800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40"/>
                <p:cNvSpPr/>
                <p:nvPr/>
              </p:nvSpPr>
              <p:spPr>
                <a:xfrm>
                  <a:off x="8076600" y="4206240"/>
                  <a:ext cx="380880" cy="470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41"/>
                <p:cNvSpPr/>
                <p:nvPr/>
              </p:nvSpPr>
              <p:spPr>
                <a:xfrm>
                  <a:off x="7630920" y="4190760"/>
                  <a:ext cx="471960" cy="73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Group 177"/>
          <p:cNvGrpSpPr/>
          <p:nvPr/>
        </p:nvGrpSpPr>
        <p:grpSpPr>
          <a:xfrm>
            <a:off x="5893200" y="3485160"/>
            <a:ext cx="1777320" cy="1563840"/>
            <a:chOff x="5893200" y="3485160"/>
            <a:chExt cx="1777320" cy="1563840"/>
          </a:xfrm>
        </p:grpSpPr>
        <p:sp>
          <p:nvSpPr>
            <p:cNvPr id="423" name="AutoShape 178"/>
            <p:cNvSpPr/>
            <p:nvPr/>
          </p:nvSpPr>
          <p:spPr>
            <a:xfrm rot="19760400">
              <a:off x="6019560" y="3809880"/>
              <a:ext cx="1523880" cy="914400"/>
            </a:xfrm>
            <a:prstGeom prst="upArrowCallout">
              <a:avLst>
                <a:gd name="adj1" fmla="val 41667"/>
                <a:gd name="adj2" fmla="val 41663"/>
                <a:gd name="adj3" fmla="val 16667"/>
                <a:gd name="adj4" fmla="val 6666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79"/>
            <p:cNvSpPr/>
            <p:nvPr/>
          </p:nvSpPr>
          <p:spPr>
            <a:xfrm rot="19760400">
              <a:off x="6495840" y="4101480"/>
              <a:ext cx="93024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ессивная ста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Дата 9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Rectangle 5"/>
          <p:cNvSpPr/>
          <p:nvPr/>
        </p:nvSpPr>
        <p:spPr>
          <a:xfrm>
            <a:off x="69840" y="2325600"/>
            <a:ext cx="89661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4. </a:t>
            </a:r>
            <a:r>
              <a:rPr b="1" lang="ru-RU" sz="4400" spc="-1" strike="noStrike">
                <a:solidFill>
                  <a:srgbClr val="e46c0a"/>
                </a:solidFill>
                <a:latin typeface="Verdana"/>
              </a:rPr>
              <a:t>Спосо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Verdana"/>
              </a:rPr>
              <a:t>исчисления нал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1"/>
          <p:cNvGrpSpPr/>
          <p:nvPr/>
        </p:nvGrpSpPr>
        <p:grpSpPr>
          <a:xfrm>
            <a:off x="1187280" y="549360"/>
            <a:ext cx="6769080" cy="717480"/>
            <a:chOff x="1187280" y="549360"/>
            <a:chExt cx="6769080" cy="717480"/>
          </a:xfrm>
        </p:grpSpPr>
        <p:sp>
          <p:nvSpPr>
            <p:cNvPr id="435" name="AutoShape 5"/>
            <p:cNvSpPr/>
            <p:nvPr/>
          </p:nvSpPr>
          <p:spPr>
            <a:xfrm>
              <a:off x="1187280" y="549360"/>
              <a:ext cx="6769080" cy="71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db8c8"/>
                </a:gs>
                <a:gs pos="50000">
                  <a:srgbClr val="ffe5f9"/>
                </a:gs>
                <a:gs pos="100000">
                  <a:srgbClr val="cdb8c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e46c0a"/>
                  </a:solidFill>
                  <a:latin typeface="Arial"/>
                </a:rPr>
                <a:t>Способы исчисления налогов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6"/>
            <p:cNvSpPr/>
            <p:nvPr/>
          </p:nvSpPr>
          <p:spPr>
            <a:xfrm>
              <a:off x="1401480" y="620640"/>
              <a:ext cx="6337440" cy="338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AutoShape 7"/>
          <p:cNvSpPr/>
          <p:nvPr/>
        </p:nvSpPr>
        <p:spPr>
          <a:xfrm flipH="1" rot="16200000">
            <a:off x="249840" y="1197000"/>
            <a:ext cx="86508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 rot="5400000">
            <a:off x="8027280" y="1195200"/>
            <a:ext cx="86544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214200" y="2143080"/>
            <a:ext cx="8786880" cy="128592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Кадастровый способ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счисления налогов предполагает использование кадастра – реест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который содержит перечень типичных объектов, классифицируемых по внешним признакам,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устанавливает  среднюю доходность объекта об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214200" y="3573360"/>
            <a:ext cx="8786880" cy="129564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ри декларационном способ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счисления налога налогоплательщик самостоятель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производит расчет его суммы на основе декларации. Декларация содержит перечень всех доход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полученных налогоплательщиком за истекший период, распространяющихся на него налог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кидок и льгот и на этой основе определение причитающей суммы налога в соответств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 действующей шкалой или ставкой об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4"/>
          <p:cNvSpPr/>
          <p:nvPr/>
        </p:nvSpPr>
        <p:spPr>
          <a:xfrm>
            <a:off x="214200" y="5084640"/>
            <a:ext cx="8786880" cy="127332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алогообложение путем приобретения разового талона или патен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рименяется в отношении индивидуальных предпринимателей, действующих на осно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специального налогового реж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2"/>
          <p:cNvSpPr/>
          <p:nvPr/>
        </p:nvSpPr>
        <p:spPr>
          <a:xfrm>
            <a:off x="4354560" y="3214800"/>
            <a:ext cx="43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1"/>
          <p:cNvGrpSpPr/>
          <p:nvPr/>
        </p:nvGrpSpPr>
        <p:grpSpPr>
          <a:xfrm>
            <a:off x="1000080" y="428760"/>
            <a:ext cx="7313400" cy="788760"/>
            <a:chOff x="1000080" y="428760"/>
            <a:chExt cx="7313400" cy="788760"/>
          </a:xfrm>
        </p:grpSpPr>
        <p:sp>
          <p:nvSpPr>
            <p:cNvPr id="448" name="AutoShape 5"/>
            <p:cNvSpPr/>
            <p:nvPr/>
          </p:nvSpPr>
          <p:spPr>
            <a:xfrm>
              <a:off x="1000080" y="500040"/>
              <a:ext cx="7313400" cy="71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db8c8"/>
                </a:gs>
                <a:gs pos="50000">
                  <a:srgbClr val="ffe5f9"/>
                </a:gs>
                <a:gs pos="100000">
                  <a:srgbClr val="cdb8c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Способы изъятия налогов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1142280" y="428760"/>
              <a:ext cx="6847200" cy="338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7"/>
          <p:cNvSpPr/>
          <p:nvPr/>
        </p:nvSpPr>
        <p:spPr>
          <a:xfrm flipH="1" rot="16200000">
            <a:off x="249840" y="1197000"/>
            <a:ext cx="86508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8"/>
          <p:cNvSpPr/>
          <p:nvPr/>
        </p:nvSpPr>
        <p:spPr>
          <a:xfrm rot="5400000">
            <a:off x="8027280" y="1195200"/>
            <a:ext cx="865440" cy="576360"/>
          </a:xfrm>
          <a:prstGeom prst="pie">
            <a:avLst/>
          </a:prstGeom>
          <a:gradFill rotWithShape="0">
            <a:gsLst>
              <a:gs pos="0">
                <a:srgbClr val="766a73"/>
              </a:gs>
              <a:gs pos="50000">
                <a:srgbClr val="ffe5f9"/>
              </a:gs>
              <a:gs pos="100000">
                <a:srgbClr val="766a73"/>
              </a:gs>
            </a:gsLst>
            <a:lin ang="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>
            <a:off x="142920" y="2071800"/>
            <a:ext cx="8786880" cy="115092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ъятие налога у источника выплаты доходов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– это и есть изъятие налога д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олучения субъектом  дохода. Классическим примером является индивиду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одоходный налог с заработной платы граждан, который исчисляется и уплачив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о месту получения дох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2"/>
          <p:cNvSpPr/>
          <p:nvPr/>
        </p:nvSpPr>
        <p:spPr>
          <a:xfrm>
            <a:off x="214200" y="3500280"/>
            <a:ext cx="8786880" cy="86688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ъятие налога в момент расходования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доходов при совершении покуп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Например, такие налоги, как налог с оборота, налог с продаж, акцизы, налог на доба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стоимость оплачиваются непосредственно покупа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214200" y="5715000"/>
            <a:ext cx="8786880" cy="79380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Административный способ,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при котором налоговые органы определяют вероя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размер ожидаемого дохода и вычисляют подлежащий к уплате нал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2"/>
          <p:cNvSpPr/>
          <p:nvPr/>
        </p:nvSpPr>
        <p:spPr>
          <a:xfrm>
            <a:off x="4214880" y="3429000"/>
            <a:ext cx="43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357120" y="4714920"/>
            <a:ext cx="8786880" cy="72216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ъятие налога в процессе потребления,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например, дорожные сборы с владельце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автотранспор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-857160" y="0"/>
            <a:ext cx="1157292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1"/>
          <a:stretch/>
        </p:blipFill>
        <p:spPr>
          <a:xfrm>
            <a:off x="-500040" y="274680"/>
            <a:ext cx="1078704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0" name="Rectangle 5"/>
          <p:cNvSpPr/>
          <p:nvPr/>
        </p:nvSpPr>
        <p:spPr>
          <a:xfrm>
            <a:off x="69840" y="2663640"/>
            <a:ext cx="85741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5. Методы определения объекта налогооб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-1071720" y="0"/>
            <a:ext cx="1164456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6143760" y="1713960"/>
            <a:ext cx="1014120" cy="1284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8"/>
          <p:cNvSpPr/>
          <p:nvPr/>
        </p:nvSpPr>
        <p:spPr>
          <a:xfrm flipH="1">
            <a:off x="1785960" y="1713960"/>
            <a:ext cx="1014480" cy="1284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4"/>
          <p:cNvGrpSpPr/>
          <p:nvPr/>
        </p:nvGrpSpPr>
        <p:grpSpPr>
          <a:xfrm>
            <a:off x="2714760" y="285840"/>
            <a:ext cx="3642840" cy="1584360"/>
            <a:chOff x="2714760" y="285840"/>
            <a:chExt cx="3642840" cy="1584360"/>
          </a:xfrm>
        </p:grpSpPr>
        <p:sp>
          <p:nvSpPr>
            <p:cNvPr id="468" name="AutoShape 5"/>
            <p:cNvSpPr/>
            <p:nvPr/>
          </p:nvSpPr>
          <p:spPr>
            <a:xfrm>
              <a:off x="2796840" y="285840"/>
              <a:ext cx="3394080" cy="158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e3dc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тоды определ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ъекта налогооблож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3"/>
            <p:cNvSpPr/>
            <p:nvPr/>
          </p:nvSpPr>
          <p:spPr>
            <a:xfrm>
              <a:off x="2714760" y="341640"/>
              <a:ext cx="3642840" cy="39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18"/>
          <p:cNvSpPr/>
          <p:nvPr/>
        </p:nvSpPr>
        <p:spPr>
          <a:xfrm>
            <a:off x="5214960" y="3071880"/>
            <a:ext cx="5072040" cy="165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етод исчисления – </a:t>
            </a: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метод исчис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налогооблагаемой базы, согласно котор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Независимо от времени оплаты доход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Расходы признаются с момента 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Работ, предоставления услуг, отгрузки тов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С целью их реализации и оприход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Arial"/>
              </a:rPr>
              <a:t>иму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6191280" y="2714760"/>
            <a:ext cx="2952720" cy="3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4"/>
          <p:cNvGrpSpPr/>
          <p:nvPr/>
        </p:nvGrpSpPr>
        <p:grpSpPr>
          <a:xfrm>
            <a:off x="-571680" y="2500200"/>
            <a:ext cx="4856040" cy="2210040"/>
            <a:chOff x="-571680" y="2500200"/>
            <a:chExt cx="4856040" cy="2210040"/>
          </a:xfrm>
        </p:grpSpPr>
        <p:sp>
          <p:nvSpPr>
            <p:cNvPr id="473" name="AutoShape 19"/>
            <p:cNvSpPr/>
            <p:nvPr/>
          </p:nvSpPr>
          <p:spPr>
            <a:xfrm>
              <a:off x="-571680" y="3054240"/>
              <a:ext cx="4713480" cy="1656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Под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кассовым методом </a:t>
              </a: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понимается метод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исчисления налогооблагаемой базы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при котором доходы и вычеты учитывают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с момента фактической оплаты покупа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выполненных налогоплательщик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работ, оказанных услуг или поставле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товаров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-37080" y="2500200"/>
              <a:ext cx="4321440" cy="338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-857160" y="0"/>
            <a:ext cx="1157292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-500040" y="274680"/>
            <a:ext cx="1078704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8" name="Rectangle 5"/>
          <p:cNvSpPr/>
          <p:nvPr/>
        </p:nvSpPr>
        <p:spPr>
          <a:xfrm>
            <a:off x="69840" y="2322000"/>
            <a:ext cx="8574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6. Функции нал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1fbff"/>
              </a:gs>
              <a:gs pos="100000">
                <a:srgbClr val="a6b9b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5280" y="2095560"/>
            <a:ext cx="900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64000" y="2035080"/>
            <a:ext cx="360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79640" y="1341360"/>
            <a:ext cx="806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1484280"/>
            <a:ext cx="70563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0" y="0"/>
            <a:ext cx="8785080" cy="6524640"/>
          </a:xfrm>
          <a:prstGeom prst="horizontalScroll">
            <a:avLst>
              <a:gd name="adj" fmla="val 416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98560" y="691920"/>
            <a:ext cx="770580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00040" y="1643040"/>
            <a:ext cx="828036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Экономическая сущность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.Основы построения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Виды налоговых ст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Способы исчисления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5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Методы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определения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объекта налогооб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6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Функции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.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ринципы налогооб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.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Виды на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457200" y="1052640"/>
          <a:ext cx="8229600" cy="5608440"/>
        </p:xfrm>
        <a:graphic>
          <a:graphicData uri="http://schemas.openxmlformats.org/drawingml/2006/table">
            <a:tbl>
              <a:tblPr/>
              <a:tblGrid>
                <a:gridCol w="281628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Вид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1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Особенности определения Н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1e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ьные расходы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5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тоимость тов-матер.ценностей определяется исходя из цен их приобретения, включая комиссионные, таможенные пошлины и сборы, расходы на траспортировку. При списании используется один из четырех методов оцен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b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оплату труда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5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Признаются по элементам расходов ежемесячно исходя из начисленных су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fe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ы амортизации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56-25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Начисляются ежемесячно по амортизируемому имуществу, находящемуся в собственности налогоплательщика, одним из двух методов, используя право ускоренной аморт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c6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ИОКР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т.26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cf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-   Расходы на формирование Российского  фонда технологического развития и финансирования НИОКР в пределах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%</a:t>
                      </a: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доходов (валовой выручк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- Расходы на НИОКР, выполняемые налогоплательщиками, уменьшают налоговую базу в течение трех лет после завершения работ. При положительном результате - в размере фактических затрат, при отрицательном - в размере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cfede"/>
                    </a:solidFill>
                  </a:tcPr>
                </a:tc>
              </a:tr>
            </a:tbl>
          </a:graphicData>
        </a:graphic>
      </p:graphicFrame>
      <p:sp>
        <p:nvSpPr>
          <p:cNvPr id="482" name="Rectangle 4"/>
          <p:cNvSpPr/>
          <p:nvPr/>
        </p:nvSpPr>
        <p:spPr>
          <a:xfrm>
            <a:off x="0" y="0"/>
            <a:ext cx="978696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928800" y="571680"/>
            <a:ext cx="7272360" cy="649080"/>
          </a:xfrm>
          <a:custGeom>
            <a:avLst/>
            <a:gdLst>
              <a:gd name="textAreaLeft" fmla="*/ 909000 w 7272360"/>
              <a:gd name="textAreaRight" fmla="*/ 6363360 w 7272360"/>
              <a:gd name="textAreaTop" fmla="*/ 8100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828671"/>
              </a:gs>
              <a:gs pos="50000">
                <a:srgbClr val="f5fed6"/>
              </a:gs>
              <a:gs pos="100000">
                <a:srgbClr val="82867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кции н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3"/>
          <p:cNvGrpSpPr/>
          <p:nvPr/>
        </p:nvGrpSpPr>
        <p:grpSpPr>
          <a:xfrm>
            <a:off x="285840" y="1117440"/>
            <a:ext cx="8642160" cy="1825560"/>
            <a:chOff x="285840" y="1117440"/>
            <a:chExt cx="8642160" cy="1825560"/>
          </a:xfrm>
        </p:grpSpPr>
        <p:sp>
          <p:nvSpPr>
            <p:cNvPr id="485" name="AutoShape 9"/>
            <p:cNvSpPr/>
            <p:nvPr/>
          </p:nvSpPr>
          <p:spPr>
            <a:xfrm>
              <a:off x="285840" y="1857240"/>
              <a:ext cx="8642160" cy="108576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Фискальн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это аккумуляция денежных средств в бюджете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финансирования государственных расходо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1"/>
            <p:cNvSpPr/>
            <p:nvPr/>
          </p:nvSpPr>
          <p:spPr>
            <a:xfrm>
              <a:off x="430200" y="1117440"/>
              <a:ext cx="83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3"/>
          <p:cNvGrpSpPr/>
          <p:nvPr/>
        </p:nvGrpSpPr>
        <p:grpSpPr>
          <a:xfrm>
            <a:off x="214200" y="2484360"/>
            <a:ext cx="9358200" cy="2087280"/>
            <a:chOff x="214200" y="2484360"/>
            <a:chExt cx="9358200" cy="2087280"/>
          </a:xfrm>
        </p:grpSpPr>
        <p:sp>
          <p:nvSpPr>
            <p:cNvPr id="488" name="AutoShape 9"/>
            <p:cNvSpPr/>
            <p:nvPr/>
          </p:nvSpPr>
          <p:spPr>
            <a:xfrm>
              <a:off x="214200" y="3357000"/>
              <a:ext cx="9358200" cy="121464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Распределительн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собирая налоги, государство тем самы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оказывает влияние на различные сферы экономики, осуществляя социальну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политику, перераспределяет доходы между группами населения, регионам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поддерживает малоимущих и т.д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1"/>
            <p:cNvSpPr/>
            <p:nvPr/>
          </p:nvSpPr>
          <p:spPr>
            <a:xfrm>
              <a:off x="358560" y="2484360"/>
              <a:ext cx="83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3"/>
          <p:cNvGrpSpPr/>
          <p:nvPr/>
        </p:nvGrpSpPr>
        <p:grpSpPr>
          <a:xfrm>
            <a:off x="285840" y="5000760"/>
            <a:ext cx="9214920" cy="1368360"/>
            <a:chOff x="285840" y="5000760"/>
            <a:chExt cx="9214920" cy="1368360"/>
          </a:xfrm>
        </p:grpSpPr>
        <p:sp>
          <p:nvSpPr>
            <p:cNvPr id="491" name="AutoShape 9"/>
            <p:cNvSpPr/>
            <p:nvPr/>
          </p:nvSpPr>
          <p:spPr>
            <a:xfrm>
              <a:off x="285840" y="5000760"/>
              <a:ext cx="9214920" cy="136836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Регулирующ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заключается в обеспечении пропорции межд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потреблением населения посредством изъятия части текущих доходов и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направления на развитие производ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1"/>
            <p:cNvSpPr/>
            <p:nvPr/>
          </p:nvSpPr>
          <p:spPr>
            <a:xfrm>
              <a:off x="439560" y="5072400"/>
              <a:ext cx="89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Дата 1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0"/>
            <a:ext cx="992988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/>
          <p:cNvSpPr/>
          <p:nvPr/>
        </p:nvSpPr>
        <p:spPr>
          <a:xfrm>
            <a:off x="214200" y="4500720"/>
            <a:ext cx="9501480" cy="1357200"/>
          </a:xfrm>
          <a:prstGeom prst="roundRect">
            <a:avLst>
              <a:gd name="adj" fmla="val 16667"/>
            </a:avLst>
          </a:prstGeom>
          <a:solidFill>
            <a:srgbClr val="e1fb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6c0a"/>
                </a:solidFill>
                <a:latin typeface="Arial"/>
              </a:rPr>
              <a:t>Контрольно-учетная функция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– учет доходов предприятий и групп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Объемов и структуры производства, движения финансовых пот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4"/>
          <p:cNvGrpSpPr/>
          <p:nvPr/>
        </p:nvGrpSpPr>
        <p:grpSpPr>
          <a:xfrm>
            <a:off x="285840" y="2714760"/>
            <a:ext cx="9286560" cy="1364760"/>
            <a:chOff x="285840" y="2714760"/>
            <a:chExt cx="9286560" cy="1364760"/>
          </a:xfrm>
        </p:grpSpPr>
        <p:sp>
          <p:nvSpPr>
            <p:cNvPr id="499" name="AutoShape 12"/>
            <p:cNvSpPr/>
            <p:nvPr/>
          </p:nvSpPr>
          <p:spPr>
            <a:xfrm>
              <a:off x="285840" y="2714760"/>
              <a:ext cx="9286560" cy="1364760"/>
            </a:xfrm>
            <a:prstGeom prst="roundRect">
              <a:avLst>
                <a:gd name="adj" fmla="val 16667"/>
              </a:avLst>
            </a:prstGeom>
            <a:solidFill>
              <a:srgbClr val="ecfede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Ограничительн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через налоговую политику государство мож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Сдерживать или ограничивать развитие тех или иных производст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22"/>
            <p:cNvSpPr/>
            <p:nvPr/>
          </p:nvSpPr>
          <p:spPr>
            <a:xfrm>
              <a:off x="440640" y="2714760"/>
              <a:ext cx="89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23"/>
          <p:cNvGrpSpPr/>
          <p:nvPr/>
        </p:nvGrpSpPr>
        <p:grpSpPr>
          <a:xfrm>
            <a:off x="214200" y="857160"/>
            <a:ext cx="9572400" cy="1368360"/>
            <a:chOff x="214200" y="857160"/>
            <a:chExt cx="9572400" cy="1368360"/>
          </a:xfrm>
        </p:grpSpPr>
        <p:sp>
          <p:nvSpPr>
            <p:cNvPr id="502" name="AutoShape 9"/>
            <p:cNvSpPr/>
            <p:nvPr/>
          </p:nvSpPr>
          <p:spPr>
            <a:xfrm>
              <a:off x="214200" y="857160"/>
              <a:ext cx="9572400" cy="1368360"/>
            </a:xfrm>
            <a:prstGeom prst="roundRect">
              <a:avLst>
                <a:gd name="adj" fmla="val 16667"/>
              </a:avLst>
            </a:prstGeom>
            <a:solidFill>
              <a:srgbClr val="fff1e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Arial"/>
                </a:rPr>
                <a:t>Стимулирующая функция </a:t>
              </a: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– создание различных стимулов по экономическом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Arial"/>
                </a:rPr>
                <a:t>росту, техническому обновлению, проведению НИОКР, росту народонаселе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1"/>
            <p:cNvSpPr/>
            <p:nvPr/>
          </p:nvSpPr>
          <p:spPr>
            <a:xfrm>
              <a:off x="293400" y="1214280"/>
              <a:ext cx="9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Rectangle 5"/>
          <p:cNvSpPr/>
          <p:nvPr/>
        </p:nvSpPr>
        <p:spPr>
          <a:xfrm>
            <a:off x="69840" y="2412720"/>
            <a:ext cx="8966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7. Принципы налогооб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-714240" y="0"/>
            <a:ext cx="12072960" cy="6858000"/>
          </a:xfrm>
          <a:prstGeom prst="rect">
            <a:avLst/>
          </a:prstGeom>
          <a:solidFill>
            <a:srgbClr val="e1f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0"/>
          <p:cNvGrpSpPr/>
          <p:nvPr/>
        </p:nvGrpSpPr>
        <p:grpSpPr>
          <a:xfrm>
            <a:off x="2484360" y="2637000"/>
            <a:ext cx="4176720" cy="1439640"/>
            <a:chOff x="2484360" y="2637000"/>
            <a:chExt cx="4176720" cy="1439640"/>
          </a:xfrm>
        </p:grpSpPr>
        <p:sp>
          <p:nvSpPr>
            <p:cNvPr id="512" name="AutoShape 7"/>
            <p:cNvSpPr/>
            <p:nvPr/>
          </p:nvSpPr>
          <p:spPr>
            <a:xfrm>
              <a:off x="2555640" y="2637000"/>
              <a:ext cx="403236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e3dc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2484360" y="2674800"/>
              <a:ext cx="4176720" cy="1223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f497d"/>
                  </a:solidFill>
                  <a:latin typeface="Verdana"/>
                </a:rPr>
                <a:t>Принципы налогообложения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– это базовые идеи и положения, применяе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 налоговой сфер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AutoShape 11"/>
          <p:cNvSpPr/>
          <p:nvPr/>
        </p:nvSpPr>
        <p:spPr>
          <a:xfrm>
            <a:off x="2843280" y="33336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7072200" y="2286000"/>
            <a:ext cx="4000680" cy="2000160"/>
          </a:xfrm>
          <a:prstGeom prst="roundRect">
            <a:avLst>
              <a:gd name="adj" fmla="val 14250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ринцип удобства </a:t>
            </a: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редполагает, ч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налог должен взиматься в та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время и таким способом, котор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редставляют наибольш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удобства для плательщ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-428760" y="2357280"/>
            <a:ext cx="2448000" cy="180036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6"/>
          <p:cNvSpPr/>
          <p:nvPr/>
        </p:nvSpPr>
        <p:spPr>
          <a:xfrm flipV="1">
            <a:off x="2771640" y="4724280"/>
            <a:ext cx="3673440" cy="1873440"/>
          </a:xfrm>
          <a:prstGeom prst="roundRect">
            <a:avLst>
              <a:gd name="adj" fmla="val 16667"/>
            </a:avLst>
          </a:prstGeom>
          <a:solidFill>
            <a:srgbClr val="ffe5f9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 flipV="1">
            <a:off x="4572000" y="213156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4572000" y="42926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23"/>
          <p:cNvGrpSpPr/>
          <p:nvPr/>
        </p:nvGrpSpPr>
        <p:grpSpPr>
          <a:xfrm>
            <a:off x="2195640" y="3068280"/>
            <a:ext cx="287280" cy="648000"/>
            <a:chOff x="2195640" y="3068280"/>
            <a:chExt cx="287280" cy="648000"/>
          </a:xfrm>
        </p:grpSpPr>
        <p:sp>
          <p:nvSpPr>
            <p:cNvPr id="521" name="Line 21"/>
            <p:cNvSpPr/>
            <p:nvPr/>
          </p:nvSpPr>
          <p:spPr>
            <a:xfrm flipH="1" flipV="1">
              <a:off x="2195640" y="3068280"/>
              <a:ext cx="287280" cy="144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 flipH="1">
              <a:off x="2195640" y="3573360"/>
              <a:ext cx="287280" cy="142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24"/>
          <p:cNvGrpSpPr/>
          <p:nvPr/>
        </p:nvGrpSpPr>
        <p:grpSpPr>
          <a:xfrm>
            <a:off x="6661080" y="3068280"/>
            <a:ext cx="287280" cy="648000"/>
            <a:chOff x="6661080" y="3068280"/>
            <a:chExt cx="287280" cy="648000"/>
          </a:xfrm>
        </p:grpSpPr>
        <p:sp>
          <p:nvSpPr>
            <p:cNvPr id="524" name="Line 25"/>
            <p:cNvSpPr/>
            <p:nvPr/>
          </p:nvSpPr>
          <p:spPr>
            <a:xfrm>
              <a:off x="6661080" y="3571920"/>
              <a:ext cx="287280" cy="144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6"/>
            <p:cNvSpPr/>
            <p:nvPr/>
          </p:nvSpPr>
          <p:spPr>
            <a:xfrm flipV="1">
              <a:off x="6661080" y="3068280"/>
              <a:ext cx="287280" cy="142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27"/>
          <p:cNvSpPr/>
          <p:nvPr/>
        </p:nvSpPr>
        <p:spPr>
          <a:xfrm>
            <a:off x="2987640" y="514440"/>
            <a:ext cx="32418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ринцип справедливости</a:t>
            </a: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, утверждающий всеобщность обложения и равномерность распределения налога между гражданами соразмерно их дохо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2771640" y="4797360"/>
            <a:ext cx="37450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нцип экономии, </a:t>
            </a:r>
            <a:r>
              <a:rPr b="1" lang="ru-RU" sz="1600" spc="-1" strike="noStrike">
                <a:solidFill>
                  <a:srgbClr val="1f497d"/>
                </a:solidFill>
                <a:latin typeface="Verdana"/>
              </a:rPr>
              <a:t>заключающийся в сокращении издержек взимания налога, в рационализации системы налогооб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-500040" y="2286000"/>
            <a:ext cx="2665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ринцип определенности, </a:t>
            </a: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требующий, чтобы сумма, способ и время платежа были совершенно точно заранее известны плательщ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Дата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609480" y="2514600"/>
            <a:ext cx="3783240" cy="9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лата по возможностям”  (“по платежеспособности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029200" y="2971800"/>
            <a:ext cx="2895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ющие преимуще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685800" y="38088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данные государства должны участвовать в содержании правительства соответственно доходу, каким они пользуются под покровительством и защитой государства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дам Сми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6"/>
          <p:cNvGrpSpPr/>
          <p:nvPr/>
        </p:nvGrpSpPr>
        <p:grpSpPr>
          <a:xfrm>
            <a:off x="4724280" y="3657600"/>
            <a:ext cx="3886200" cy="1617840"/>
            <a:chOff x="4724280" y="3657600"/>
            <a:chExt cx="3886200" cy="1617840"/>
          </a:xfrm>
        </p:grpSpPr>
        <p:sp>
          <p:nvSpPr>
            <p:cNvPr id="534" name="Text Box 8"/>
            <p:cNvSpPr/>
            <p:nvPr/>
          </p:nvSpPr>
          <p:spPr>
            <a:xfrm>
              <a:off x="4724280" y="4114800"/>
              <a:ext cx="3886200" cy="116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логообложение должно строиться на возмездной основе, т.е. тот кто платит больше налогов, тот и получает преимущество в получении общественных бла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8"/>
            <p:cNvSpPr/>
            <p:nvPr/>
          </p:nvSpPr>
          <p:spPr>
            <a:xfrm>
              <a:off x="64771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24"/>
          <p:cNvGrpSpPr/>
          <p:nvPr/>
        </p:nvGrpSpPr>
        <p:grpSpPr>
          <a:xfrm>
            <a:off x="457200" y="4572000"/>
            <a:ext cx="2895480" cy="1295280"/>
            <a:chOff x="457200" y="4572000"/>
            <a:chExt cx="2895480" cy="1295280"/>
          </a:xfrm>
        </p:grpSpPr>
        <p:sp>
          <p:nvSpPr>
            <p:cNvPr id="537" name="Text Box 4"/>
            <p:cNvSpPr/>
            <p:nvPr/>
          </p:nvSpPr>
          <p:spPr>
            <a:xfrm>
              <a:off x="457200" y="5076720"/>
              <a:ext cx="289548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cc00cc"/>
                  </a:solidFill>
                  <a:latin typeface="Arial"/>
                </a:rPr>
                <a:t>Справедливость по горизонтал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- равные по доходам лица выплачивают  равные на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9"/>
            <p:cNvSpPr/>
            <p:nvPr/>
          </p:nvSpPr>
          <p:spPr>
            <a:xfrm>
              <a:off x="1676520" y="4572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5"/>
          <p:cNvGrpSpPr/>
          <p:nvPr/>
        </p:nvGrpSpPr>
        <p:grpSpPr>
          <a:xfrm>
            <a:off x="3733920" y="4572000"/>
            <a:ext cx="2971800" cy="1781280"/>
            <a:chOff x="3733920" y="4572000"/>
            <a:chExt cx="2971800" cy="1781280"/>
          </a:xfrm>
        </p:grpSpPr>
        <p:sp>
          <p:nvSpPr>
            <p:cNvPr id="540" name="Text Box 5"/>
            <p:cNvSpPr/>
            <p:nvPr/>
          </p:nvSpPr>
          <p:spPr>
            <a:xfrm>
              <a:off x="3733920" y="5562720"/>
              <a:ext cx="297180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cc00cc"/>
                  </a:solidFill>
                  <a:latin typeface="Arial"/>
                </a:rPr>
                <a:t>Справедливость по вертикали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- неравные по доходам лица выплачивают неравные нало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3886200" y="4572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23"/>
          <p:cNvGrpSpPr/>
          <p:nvPr/>
        </p:nvGrpSpPr>
        <p:grpSpPr>
          <a:xfrm>
            <a:off x="660240" y="3505320"/>
            <a:ext cx="3606840" cy="1077840"/>
            <a:chOff x="660240" y="3505320"/>
            <a:chExt cx="3606840" cy="1077840"/>
          </a:xfrm>
        </p:grpSpPr>
        <p:sp>
          <p:nvSpPr>
            <p:cNvPr id="543" name="Text Box 6"/>
            <p:cNvSpPr/>
            <p:nvPr/>
          </p:nvSpPr>
          <p:spPr>
            <a:xfrm>
              <a:off x="660240" y="3809880"/>
              <a:ext cx="3606840" cy="77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.е. лица, имеющие высокий доход  должны платить больше налогов,   чем лица, имеющие низкие дохо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1"/>
            <p:cNvSpPr/>
            <p:nvPr/>
          </p:nvSpPr>
          <p:spPr>
            <a:xfrm>
              <a:off x="2362320" y="3505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Object 2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30480" cy="23623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концепции налогообло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alibri"/>
              </a:rPr>
              <a:t>Виды налог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Calibri"/>
              </a:rPr>
              <a:t>Прям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Подоходный н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Налог на прибы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Налог на имущ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Налог с владельцев транспортных сред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Налог на наслед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Calibri"/>
              </a:rPr>
              <a:t>Косве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НД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Налог с прод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Акцизный н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Таможенная пош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5943600" y="114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2209680" y="1066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6"/>
          <p:cNvSpPr/>
          <p:nvPr/>
        </p:nvSpPr>
        <p:spPr>
          <a:xfrm>
            <a:off x="468360" y="2723760"/>
            <a:ext cx="8281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3600" spc="-1" strike="noStrike">
                <a:solidFill>
                  <a:srgbClr val="800000"/>
                </a:solidFill>
                <a:latin typeface="Verdana"/>
              </a:rPr>
              <a:t>Экономическая сущность нало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09480" y="1619280"/>
            <a:ext cx="79646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НАЛ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бязательные платежи, взимаемые органами  власти с физических и юридических лиц в государственный бюд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d030b"/>
                </a:solidFill>
                <a:latin typeface="Calibri"/>
              </a:rPr>
              <a:t>Налог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642960" y="3500280"/>
            <a:ext cx="8001000" cy="135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логи как экономическая категория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ражают финансовые отношения, возникающие в процессе перераспределения стоимости национального дохода путем принудительного изъятия части доходов юридических и физических лиц в пользу государства для обеспечения его функций и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357800" y="29289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Rectangle 5"/>
          <p:cNvSpPr/>
          <p:nvPr/>
        </p:nvSpPr>
        <p:spPr>
          <a:xfrm>
            <a:off x="69840" y="2295720"/>
            <a:ext cx="8966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Verdana"/>
              </a:rPr>
              <a:t>2.</a:t>
            </a:r>
            <a:r>
              <a:rPr b="1" lang="ru-RU" sz="4800" spc="-1" strike="noStrike">
                <a:solidFill>
                  <a:srgbClr val="800000"/>
                </a:solidFill>
                <a:latin typeface="Verdana"/>
              </a:rPr>
              <a:t>Основ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Verdana"/>
              </a:rPr>
              <a:t>построения налог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7"/>
          <p:cNvGrpSpPr/>
          <p:nvPr/>
        </p:nvGrpSpPr>
        <p:grpSpPr>
          <a:xfrm>
            <a:off x="214200" y="142920"/>
            <a:ext cx="8642160" cy="1026000"/>
            <a:chOff x="214200" y="142920"/>
            <a:chExt cx="8642160" cy="1026000"/>
          </a:xfrm>
        </p:grpSpPr>
        <p:sp>
          <p:nvSpPr>
            <p:cNvPr id="124" name="AutoShape 5"/>
            <p:cNvSpPr/>
            <p:nvPr/>
          </p:nvSpPr>
          <p:spPr>
            <a:xfrm>
              <a:off x="214200" y="142920"/>
              <a:ext cx="8642160" cy="981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287280" y="283320"/>
              <a:ext cx="8496000" cy="885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e46c0a"/>
                  </a:solidFill>
                  <a:latin typeface="Verdana"/>
                </a:rPr>
                <a:t>Элементы</a:t>
              </a:r>
              <a:r>
                <a:rPr b="1" i="1" lang="ru-RU" sz="2000" spc="-1" strike="noStrike">
                  <a:solidFill>
                    <a:srgbClr val="e46c0a"/>
                  </a:solidFill>
                  <a:latin typeface="Verdana"/>
                </a:rPr>
                <a:t>	</a:t>
              </a:r>
              <a:r>
                <a:rPr b="1" i="1" lang="ru-RU" sz="2000" spc="-1" strike="noStrike">
                  <a:solidFill>
                    <a:srgbClr val="e46c0a"/>
                  </a:solidFill>
                  <a:latin typeface="Verdana"/>
                </a:rPr>
                <a:t>налога </a:t>
              </a:r>
              <a:r>
                <a:rPr b="1" lang="ru-RU" sz="16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1" lang="ru-RU" sz="1600" spc="-1" strike="noStrike">
                  <a:solidFill>
                    <a:srgbClr val="ff3300"/>
                  </a:solidFill>
                  <a:latin typeface="Verdana"/>
                </a:rPr>
                <a:t>это определяемые законодательными актами государства обязательные компоненты, принципы построения и организации взимания налог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250920" y="1357200"/>
            <a:ext cx="8893080" cy="946440"/>
            <a:chOff x="250920" y="1357200"/>
            <a:chExt cx="8893080" cy="946440"/>
          </a:xfrm>
        </p:grpSpPr>
        <p:sp>
          <p:nvSpPr>
            <p:cNvPr id="127" name="AutoShape 8"/>
            <p:cNvSpPr/>
            <p:nvPr/>
          </p:nvSpPr>
          <p:spPr>
            <a:xfrm>
              <a:off x="250920" y="1569600"/>
              <a:ext cx="8642160" cy="573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250920" y="1357200"/>
              <a:ext cx="8893080" cy="94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Verdana"/>
                </a:rPr>
                <a:t>Субъект налога или налогоплательщик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– это юридическое либо физическое лицо, на которое законом возложена обязанность уплачивать нало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214200" y="2286000"/>
            <a:ext cx="8642160" cy="520200"/>
            <a:chOff x="214200" y="2286000"/>
            <a:chExt cx="8642160" cy="520200"/>
          </a:xfrm>
        </p:grpSpPr>
        <p:sp>
          <p:nvSpPr>
            <p:cNvPr id="130" name="AutoShape 9"/>
            <p:cNvSpPr/>
            <p:nvPr/>
          </p:nvSpPr>
          <p:spPr>
            <a:xfrm>
              <a:off x="214200" y="2324160"/>
              <a:ext cx="8642160" cy="461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2"/>
            <p:cNvSpPr/>
            <p:nvPr/>
          </p:nvSpPr>
          <p:spPr>
            <a:xfrm>
              <a:off x="285480" y="2286000"/>
              <a:ext cx="849636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Verdana"/>
                </a:rPr>
                <a:t>Носитель налога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– это лицо, которое, в конечном итоге, принимает на себя тяжесть налога и действительно платит его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0" y="2928960"/>
            <a:ext cx="8964720" cy="868320"/>
            <a:chOff x="0" y="2928960"/>
            <a:chExt cx="8964720" cy="868320"/>
          </a:xfrm>
        </p:grpSpPr>
        <p:sp>
          <p:nvSpPr>
            <p:cNvPr id="133" name="AutoShape 10"/>
            <p:cNvSpPr/>
            <p:nvPr/>
          </p:nvSpPr>
          <p:spPr>
            <a:xfrm>
              <a:off x="142920" y="292896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e46c0a"/>
                  </a:solidFill>
                  <a:latin typeface="Times New Roman"/>
                  <a:ea typeface="Times New Roman"/>
                </a:rPr>
                <a:t>Объект налога </a:t>
              </a:r>
              <a:r>
                <a:rPr b="1" lang="ru-RU" sz="1800" spc="-1" strike="noStrike">
                  <a:solidFill>
                    <a:srgbClr val="e46c0a"/>
                  </a:solidFill>
                  <a:latin typeface="Times New Roman"/>
                  <a:ea typeface="Times New Roman"/>
                </a:rPr>
                <a:t>– предмет, подлежащий обложению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0" y="342864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трелка вниз 21"/>
          <p:cNvSpPr/>
          <p:nvPr/>
        </p:nvSpPr>
        <p:spPr>
          <a:xfrm>
            <a:off x="4143240" y="1143000"/>
            <a:ext cx="4842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0" y="3714840"/>
            <a:ext cx="8964720" cy="868320"/>
            <a:chOff x="0" y="3714840"/>
            <a:chExt cx="8964720" cy="868320"/>
          </a:xfrm>
        </p:grpSpPr>
        <p:sp>
          <p:nvSpPr>
            <p:cNvPr id="137" name="AutoShape 10"/>
            <p:cNvSpPr/>
            <p:nvPr/>
          </p:nvSpPr>
          <p:spPr>
            <a:xfrm>
              <a:off x="142920" y="371484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Налогооблагаемая база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– это количественная оценка объекта налогообложения</a:t>
              </a:r>
              <a:r>
                <a:rPr b="1" lang="ru-RU" sz="1600" spc="-1" strike="noStrike">
                  <a:solidFill>
                    <a:srgbClr val="e46c0a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0" y="421452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0" y="4429080"/>
            <a:ext cx="8964720" cy="868320"/>
            <a:chOff x="0" y="4429080"/>
            <a:chExt cx="8964720" cy="868320"/>
          </a:xfrm>
        </p:grpSpPr>
        <p:sp>
          <p:nvSpPr>
            <p:cNvPr id="140" name="AutoShape 10"/>
            <p:cNvSpPr/>
            <p:nvPr/>
          </p:nvSpPr>
          <p:spPr>
            <a:xfrm>
              <a:off x="142920" y="442908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e46c0a"/>
                  </a:solidFill>
                  <a:latin typeface="Arial"/>
                </a:rPr>
                <a:t>Единица обложения </a:t>
              </a:r>
              <a:r>
                <a:rPr b="1" lang="ru-RU" sz="1400" spc="-1" strike="noStrike">
                  <a:solidFill>
                    <a:srgbClr val="e46c0a"/>
                  </a:solidFill>
                  <a:latin typeface="Arial"/>
                </a:rPr>
                <a:t>– единица измерения объекта налог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0" y="492876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4"/>
          <p:cNvGrpSpPr/>
          <p:nvPr/>
        </p:nvGrpSpPr>
        <p:grpSpPr>
          <a:xfrm>
            <a:off x="0" y="5143680"/>
            <a:ext cx="8964720" cy="868320"/>
            <a:chOff x="0" y="5143680"/>
            <a:chExt cx="8964720" cy="868320"/>
          </a:xfrm>
        </p:grpSpPr>
        <p:sp>
          <p:nvSpPr>
            <p:cNvPr id="143" name="AutoShape 10"/>
            <p:cNvSpPr/>
            <p:nvPr/>
          </p:nvSpPr>
          <p:spPr>
            <a:xfrm>
              <a:off x="142920" y="5143680"/>
              <a:ext cx="8642160" cy="570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Arial"/>
                </a:rPr>
                <a:t>Источник налога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– доход субъекта, из которого оплачивается налог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0" y="564336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0" y="5786280"/>
            <a:ext cx="8964720" cy="868320"/>
            <a:chOff x="0" y="5786280"/>
            <a:chExt cx="8964720" cy="868320"/>
          </a:xfrm>
        </p:grpSpPr>
        <p:sp>
          <p:nvSpPr>
            <p:cNvPr id="146" name="AutoShape 10"/>
            <p:cNvSpPr/>
            <p:nvPr/>
          </p:nvSpPr>
          <p:spPr>
            <a:xfrm>
              <a:off x="142920" y="5786280"/>
              <a:ext cx="8642160" cy="572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79646"/>
                  </a:solidFill>
                  <a:latin typeface="Arial"/>
                </a:rPr>
                <a:t>Налоговая ставка </a:t>
              </a: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– величина налога на единицу обложения, то есть она представляет соб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величину налоговых начислений на единицу измерения налоговой баз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0" y="628596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feff"/>
              </a:gs>
              <a:gs pos="100000">
                <a:srgbClr val="6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7"/>
          <p:cNvGrpSpPr/>
          <p:nvPr/>
        </p:nvGrpSpPr>
        <p:grpSpPr>
          <a:xfrm>
            <a:off x="285840" y="214200"/>
            <a:ext cx="8642160" cy="714600"/>
            <a:chOff x="285840" y="214200"/>
            <a:chExt cx="8642160" cy="714600"/>
          </a:xfrm>
        </p:grpSpPr>
        <p:sp>
          <p:nvSpPr>
            <p:cNvPr id="152" name="AutoShape 5"/>
            <p:cNvSpPr/>
            <p:nvPr/>
          </p:nvSpPr>
          <p:spPr>
            <a:xfrm>
              <a:off x="285840" y="214200"/>
              <a:ext cx="8642160" cy="714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358920" y="315360"/>
              <a:ext cx="8496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e46c0a"/>
                  </a:solidFill>
                  <a:latin typeface="Verdana"/>
                </a:rPr>
                <a:t>Элементы</a:t>
              </a:r>
              <a:r>
                <a:rPr b="1" i="1" lang="ru-RU" sz="2400" spc="-1" strike="noStrike">
                  <a:solidFill>
                    <a:srgbClr val="e46c0a"/>
                  </a:solidFill>
                  <a:latin typeface="Verdana"/>
                </a:rPr>
                <a:t>	</a:t>
              </a:r>
              <a:r>
                <a:rPr b="1" i="1" lang="ru-RU" sz="2400" spc="-1" strike="noStrike">
                  <a:solidFill>
                    <a:srgbClr val="e46c0a"/>
                  </a:solidFill>
                  <a:latin typeface="Verdana"/>
                </a:rPr>
                <a:t>налог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250920" y="1357200"/>
            <a:ext cx="8893080" cy="946440"/>
            <a:chOff x="250920" y="1357200"/>
            <a:chExt cx="8893080" cy="946440"/>
          </a:xfrm>
        </p:grpSpPr>
        <p:sp>
          <p:nvSpPr>
            <p:cNvPr id="155" name="AutoShape 8"/>
            <p:cNvSpPr/>
            <p:nvPr/>
          </p:nvSpPr>
          <p:spPr>
            <a:xfrm>
              <a:off x="250920" y="1569600"/>
              <a:ext cx="8642160" cy="5734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0920" y="1357200"/>
              <a:ext cx="8893080" cy="94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Налоговая ставка, выраженная в процентах к доходу налогоплательщика, называется </a:t>
              </a:r>
              <a:r>
                <a:rPr b="0" lang="ru-RU" sz="1400" spc="-1" strike="noStrike">
                  <a:solidFill>
                    <a:srgbClr val="ff0000"/>
                  </a:solidFill>
                  <a:latin typeface="Verdana"/>
                </a:rPr>
                <a:t>налоговой квото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214200" y="2286000"/>
            <a:ext cx="8642160" cy="500040"/>
            <a:chOff x="214200" y="2286000"/>
            <a:chExt cx="8642160" cy="500040"/>
          </a:xfrm>
        </p:grpSpPr>
        <p:sp>
          <p:nvSpPr>
            <p:cNvPr id="158" name="AutoShape 9"/>
            <p:cNvSpPr/>
            <p:nvPr/>
          </p:nvSpPr>
          <p:spPr>
            <a:xfrm>
              <a:off x="214200" y="2324160"/>
              <a:ext cx="8642160" cy="461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85480" y="2286000"/>
              <a:ext cx="84963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Verdana"/>
                </a:rPr>
                <a:t>Налоговый оклад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– сумма налога, уплачиваемая субъектом с одного объект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4"/>
          <p:cNvGrpSpPr/>
          <p:nvPr/>
        </p:nvGrpSpPr>
        <p:grpSpPr>
          <a:xfrm>
            <a:off x="0" y="2928960"/>
            <a:ext cx="8964720" cy="868320"/>
            <a:chOff x="0" y="2928960"/>
            <a:chExt cx="8964720" cy="868320"/>
          </a:xfrm>
        </p:grpSpPr>
        <p:sp>
          <p:nvSpPr>
            <p:cNvPr id="161" name="AutoShape 10"/>
            <p:cNvSpPr/>
            <p:nvPr/>
          </p:nvSpPr>
          <p:spPr>
            <a:xfrm>
              <a:off x="142920" y="2928960"/>
              <a:ext cx="8642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</a:rPr>
                <a:t>Налоговая льгота </a:t>
              </a:r>
              <a:r>
                <a:rPr b="0" lang="ru-RU" sz="1400" spc="-1" strike="noStrike">
                  <a:solidFill>
                    <a:srgbClr val="f79646"/>
                  </a:solidFill>
                  <a:latin typeface="Arial"/>
                </a:rPr>
                <a:t>– </a:t>
              </a: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полное или частичное освобождение от налогов плательщиков в соответств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с законодательство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0" y="342864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Стрелка вниз 21"/>
          <p:cNvSpPr/>
          <p:nvPr/>
        </p:nvSpPr>
        <p:spPr>
          <a:xfrm>
            <a:off x="4286160" y="92880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0" y="3714840"/>
            <a:ext cx="9143640" cy="868320"/>
            <a:chOff x="0" y="3714840"/>
            <a:chExt cx="9143640" cy="868320"/>
          </a:xfrm>
        </p:grpSpPr>
        <p:sp>
          <p:nvSpPr>
            <p:cNvPr id="165" name="AutoShape 10"/>
            <p:cNvSpPr/>
            <p:nvPr/>
          </p:nvSpPr>
          <p:spPr>
            <a:xfrm>
              <a:off x="145440" y="3714840"/>
              <a:ext cx="88149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00"/>
                  </a:solidFill>
                  <a:latin typeface="Arial"/>
                </a:rPr>
                <a:t>Налоговый период </a:t>
              </a: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– </a:t>
              </a:r>
              <a:r>
                <a:rPr b="0" lang="ru-RU" sz="1400" spc="-1" strike="noStrike">
                  <a:solidFill>
                    <a:srgbClr val="e46c0a"/>
                  </a:solidFill>
                  <a:latin typeface="Arial"/>
                </a:rPr>
                <a:t>время, за которое производится обложение налогом соответствующего объект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0" y="4214520"/>
              <a:ext cx="914364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4"/>
          <p:cNvGrpSpPr/>
          <p:nvPr/>
        </p:nvGrpSpPr>
        <p:grpSpPr>
          <a:xfrm>
            <a:off x="0" y="4572000"/>
            <a:ext cx="9001080" cy="868320"/>
            <a:chOff x="0" y="4572000"/>
            <a:chExt cx="9001080" cy="868320"/>
          </a:xfrm>
        </p:grpSpPr>
        <p:sp>
          <p:nvSpPr>
            <p:cNvPr id="168" name="AutoShape 10"/>
            <p:cNvSpPr/>
            <p:nvPr/>
          </p:nvSpPr>
          <p:spPr>
            <a:xfrm>
              <a:off x="142920" y="4572000"/>
              <a:ext cx="8858160" cy="5716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</a:rPr>
                <a:t>Льготный период </a:t>
              </a:r>
              <a:r>
                <a:rPr b="0" lang="ru-RU" sz="14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0" lang="ru-RU" sz="1400" spc="-1" strike="noStrike">
                  <a:solidFill>
                    <a:srgbClr val="604a7b"/>
                  </a:solidFill>
                  <a:latin typeface="Arial"/>
                </a:rPr>
                <a:t>время, в течение которого действует установленная законом льгота по налог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0" y="5071680"/>
              <a:ext cx="8964720" cy="368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0" y="5643720"/>
            <a:ext cx="8964720" cy="714240"/>
            <a:chOff x="0" y="5643720"/>
            <a:chExt cx="8964720" cy="714240"/>
          </a:xfrm>
        </p:grpSpPr>
        <p:sp>
          <p:nvSpPr>
            <p:cNvPr id="171" name="AutoShape 10"/>
            <p:cNvSpPr/>
            <p:nvPr/>
          </p:nvSpPr>
          <p:spPr>
            <a:xfrm>
              <a:off x="214200" y="5643720"/>
              <a:ext cx="8642520" cy="7142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</a:rPr>
                <a:t>Налоговые каникулы </a:t>
              </a: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– определенный период времени, в течение которого плательщи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79646"/>
                  </a:solidFill>
                  <a:latin typeface="Arial"/>
                </a:rPr>
                <a:t>предоставляется льгота в виде освобождения от уплаты налог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0" y="5643720"/>
              <a:ext cx="8964720" cy="461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3e2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642160" cy="632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Rectangle 5"/>
          <p:cNvSpPr/>
          <p:nvPr/>
        </p:nvSpPr>
        <p:spPr>
          <a:xfrm>
            <a:off x="69840" y="2295720"/>
            <a:ext cx="8966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d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Verdana"/>
              </a:rPr>
              <a:t>3. </a:t>
            </a:r>
            <a:r>
              <a:rPr b="1" lang="ru-RU" sz="4800" spc="-1" strike="noStrike">
                <a:solidFill>
                  <a:srgbClr val="984807"/>
                </a:solidFill>
                <a:latin typeface="Verdana"/>
              </a:rPr>
              <a:t>Вид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Verdana"/>
              </a:rPr>
              <a:t>налоговых став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4"/>
          <p:cNvGrpSpPr/>
          <p:nvPr/>
        </p:nvGrpSpPr>
        <p:grpSpPr>
          <a:xfrm>
            <a:off x="762120" y="3200400"/>
            <a:ext cx="4952880" cy="1600200"/>
            <a:chOff x="762120" y="3200400"/>
            <a:chExt cx="4952880" cy="1600200"/>
          </a:xfrm>
        </p:grpSpPr>
        <p:sp>
          <p:nvSpPr>
            <p:cNvPr id="178" name="Line 14"/>
            <p:cNvSpPr/>
            <p:nvPr/>
          </p:nvSpPr>
          <p:spPr>
            <a:xfrm>
              <a:off x="3276720" y="3962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3657600" y="3200400"/>
              <a:ext cx="2057400" cy="106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Например, ставка подоходного налога с физических лиц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762120" y="3200400"/>
              <a:ext cx="259056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Пропорциональные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уют в одинаковом процентном соотношении к объекту налога без учета дифференциации его величин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3"/>
          <p:cNvGrpSpPr/>
          <p:nvPr/>
        </p:nvGrpSpPr>
        <p:grpSpPr>
          <a:xfrm>
            <a:off x="762120" y="1295280"/>
            <a:ext cx="4495680" cy="1767960"/>
            <a:chOff x="762120" y="1295280"/>
            <a:chExt cx="4495680" cy="1767960"/>
          </a:xfrm>
        </p:grpSpPr>
        <p:sp>
          <p:nvSpPr>
            <p:cNvPr id="182" name="Line 12"/>
            <p:cNvSpPr/>
            <p:nvPr/>
          </p:nvSpPr>
          <p:spPr>
            <a:xfrm>
              <a:off x="28195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3276720" y="1752480"/>
              <a:ext cx="1981080" cy="13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Например: акцизы на алкогольные напитки, табачные изделия и пр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"/>
            <p:cNvSpPr/>
            <p:nvPr/>
          </p:nvSpPr>
          <p:spPr>
            <a:xfrm>
              <a:off x="762120" y="1600200"/>
              <a:ext cx="2009520" cy="135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Твердые: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устанавливаются в абсолютной сумме на единицу налогообложени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243828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AutoShape 21"/>
          <p:cNvCxnSpPr>
            <a:stCxn id="187" idx="1"/>
            <a:endCxn id="180" idx="1"/>
          </p:cNvCxnSpPr>
          <p:nvPr/>
        </p:nvCxnSpPr>
        <p:spPr>
          <a:xfrm flipV="1" rot="10800000">
            <a:off x="761400" y="951480"/>
            <a:ext cx="1143720" cy="3048840"/>
          </a:xfrm>
          <a:prstGeom prst="bentConnector3">
            <a:avLst>
              <a:gd name="adj1" fmla="val 11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8" name="Group 25"/>
          <p:cNvGrpSpPr/>
          <p:nvPr/>
        </p:nvGrpSpPr>
        <p:grpSpPr>
          <a:xfrm>
            <a:off x="533520" y="3962520"/>
            <a:ext cx="2819160" cy="2286000"/>
            <a:chOff x="533520" y="3962520"/>
            <a:chExt cx="2819160" cy="2286000"/>
          </a:xfrm>
        </p:grpSpPr>
        <p:sp>
          <p:nvSpPr>
            <p:cNvPr id="189" name="Text Box 7"/>
            <p:cNvSpPr/>
            <p:nvPr/>
          </p:nvSpPr>
          <p:spPr>
            <a:xfrm>
              <a:off x="838080" y="5105520"/>
              <a:ext cx="25146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Регрессивные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олагают снижение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еличины ставки по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ере роста доход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AutoShape 22"/>
            <p:cNvCxnSpPr>
              <a:endCxn id="189" idx="1"/>
            </p:cNvCxnSpPr>
            <p:nvPr/>
          </p:nvCxnSpPr>
          <p:spPr>
            <a:xfrm flipH="1" rot="16200000">
              <a:off x="-171360" y="4667040"/>
              <a:ext cx="171504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1" name="Group 27"/>
          <p:cNvGrpSpPr/>
          <p:nvPr/>
        </p:nvGrpSpPr>
        <p:grpSpPr>
          <a:xfrm>
            <a:off x="5867280" y="1219320"/>
            <a:ext cx="2733840" cy="2895120"/>
            <a:chOff x="5867280" y="1219320"/>
            <a:chExt cx="2733840" cy="2895120"/>
          </a:xfrm>
        </p:grpSpPr>
        <p:sp>
          <p:nvSpPr>
            <p:cNvPr id="192" name="Text Box 6"/>
            <p:cNvSpPr/>
            <p:nvPr/>
          </p:nvSpPr>
          <p:spPr>
            <a:xfrm>
              <a:off x="5867280" y="1523880"/>
              <a:ext cx="273384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Прогрессивные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олагают возрастание величины ставки по мере роста дох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логоплательщик уплачивает не только все большую абсолютную сумму дохода (по мере его роста), но и большую его долю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6629400" y="1219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налоговых ста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6:19:25Z</dcterms:created>
  <dc:creator>Woewodenko</dc:creator>
  <dc:description/>
  <dc:language>en-US</dc:language>
  <cp:lastModifiedBy>Windows XP Professional SP3</cp:lastModifiedBy>
  <dcterms:modified xsi:type="dcterms:W3CDTF">2011-06-07T18:12:34Z</dcterms:modified>
  <cp:revision>46</cp:revision>
  <dc:subject/>
  <dc:title>Слайд 1</dc:title>
</cp:coreProperties>
</file>