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C9C1-90AF-421B-A90D-DE15361009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01E9-695D-4E92-9F18-1819DB6B1C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Дата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DA8A7-CDD0-44DE-B32E-DEC768FFE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A22F9-5083-48FA-8B80-B0325D0B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3ED4F-7EF2-4AD7-B3AD-F3A7F443A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BA58A-04D7-422A-8DCD-FF9BD87D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95D4-AFCA-469E-A458-DFC1BAA3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6F54-AA6B-4AEF-B9DF-C2F23998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5B62-7B64-4FA8-834F-9E55AC80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2A0A-0893-4029-B509-D3D6EDD4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0259-CDA5-4DEE-99E8-DF169204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72FF-E165-4943-A43B-D5B2C4D6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D1F5-4A2C-432A-922B-A58F7C5F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AD6BD-B4D4-4295-B006-6F4BE188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3EC3-B783-4163-879F-544BEA3B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8372-5328-4DB4-884C-E2E221E8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D333-DC7E-4969-8A1B-A1AAAFDA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7693-F870-48F9-A120-959778C2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1FF5-E7F2-4516-8E54-EE3A0967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7E4EE-150F-4309-8DD9-2CF4503C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39E5D-DF92-46E8-8136-2B395CDE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269D0-8456-45AE-AFF2-E801D5E7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DF2B7-D7DA-479F-A1DC-B2A66322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1943C-A295-4F00-953E-7F59EE03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81CE4-7D5C-4224-8398-5E8CCF78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F4AC1-8F29-43D3-8B31-6F0FDE58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F254-3464-4366-A88E-C6735BBC17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F398-336D-47D4-9754-63A6DB2B26A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fdef6"/>
                </a:solidFill>
                <a:latin typeface="Arial"/>
              </a:rPr>
              <a:t>Межбюджетные отношения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def6"/>
                </a:solidFill>
                <a:latin typeface="Arial"/>
              </a:rPr>
              <a:t>Транзакции трансфертов общего характера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9" name="Picture 7" descr=""/>
          <p:cNvPicPr/>
          <p:nvPr/>
        </p:nvPicPr>
        <p:blipFill>
          <a:blip r:embed="rId1"/>
          <a:srcRect l="11820" t="38759" r="7955" b="34617"/>
          <a:stretch/>
        </p:blipFill>
        <p:spPr>
          <a:xfrm>
            <a:off x="1187280" y="1600200"/>
            <a:ext cx="71298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539640" y="83628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ъемы трансфертов общего характера устанавливаются в абсолютном выражении на 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трехлетний перио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 разбивкой по годам и подлежат изменению каждые три года . Эти трансферты направлены на выравнивание уровня бюджетной обеспеченности регионов и обеспечение равных фискальных возможностей для предоставления гарантированных государством услуг в соответствии с направлениями расходов, закрепленными за каждым уровнем бюджета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определении трансфертов общего характера учитываются налоговый потенциал региона, численность потребителей государственных услуг в регионе, утвержденные стандарты государственных услуг  и факторы, влияющие на расходы по предоставлению государственных услуг в зависимости от специфики того или иного региона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4" descr=""/>
          <p:cNvPicPr/>
          <p:nvPr/>
        </p:nvPicPr>
        <p:blipFill>
          <a:blip r:embed="rId1"/>
          <a:srcRect l="15372" t="35472" r="21620" b="5451"/>
          <a:stretch/>
        </p:blipFill>
        <p:spPr>
          <a:xfrm>
            <a:off x="1116000" y="907920"/>
            <a:ext cx="74883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3" descr=""/>
          <p:cNvPicPr/>
          <p:nvPr/>
        </p:nvPicPr>
        <p:blipFill>
          <a:blip r:embed="rId1"/>
          <a:srcRect l="15007" t="13340" r="19368" b="19961"/>
          <a:stretch/>
        </p:blipFill>
        <p:spPr>
          <a:xfrm>
            <a:off x="684360" y="692280"/>
            <a:ext cx="77040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Organization Chart 5"/>
          <p:cNvGrpSpPr/>
          <p:nvPr/>
        </p:nvGrpSpPr>
        <p:grpSpPr>
          <a:xfrm>
            <a:off x="684360" y="549360"/>
            <a:ext cx="8063640" cy="5110200"/>
            <a:chOff x="684360" y="549360"/>
            <a:chExt cx="8063640" cy="5110200"/>
          </a:xfrm>
        </p:grpSpPr>
        <p:cxnSp>
          <p:nvCxnSpPr>
            <p:cNvPr id="544" name="_s1028"/>
            <p:cNvCxnSpPr>
              <a:stCxn id="545" idx="0"/>
              <a:endCxn id="546" idx="2"/>
            </p:cNvCxnSpPr>
            <p:nvPr/>
          </p:nvCxnSpPr>
          <p:spPr>
            <a:xfrm flipV="1" rot="16200000">
              <a:off x="5289480" y="2018160"/>
              <a:ext cx="1022760" cy="2171880"/>
            </a:xfrm>
            <a:prstGeom prst="bentConnector3">
              <a:avLst>
                <a:gd name="adj1" fmla="val 1257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7" name="_s1029"/>
            <p:cNvCxnSpPr>
              <a:stCxn id="548" idx="0"/>
              <a:endCxn id="546" idx="2"/>
            </p:cNvCxnSpPr>
            <p:nvPr/>
          </p:nvCxnSpPr>
          <p:spPr>
            <a:xfrm flipH="1" flipV="1" rot="5400000">
              <a:off x="3119040" y="2018520"/>
              <a:ext cx="1022760" cy="2171160"/>
            </a:xfrm>
            <a:prstGeom prst="bentConnector3">
              <a:avLst>
                <a:gd name="adj1" fmla="val 1257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46" name="_s1030"/>
            <p:cNvSpPr/>
            <p:nvPr/>
          </p:nvSpPr>
          <p:spPr>
            <a:xfrm>
              <a:off x="2854800" y="549360"/>
              <a:ext cx="3721680" cy="20440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Целевые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трансферты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_s1031"/>
            <p:cNvSpPr/>
            <p:nvPr/>
          </p:nvSpPr>
          <p:spPr>
            <a:xfrm>
              <a:off x="684360" y="3615480"/>
              <a:ext cx="3721680" cy="20440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целевые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текущие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трансферты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_s1032"/>
            <p:cNvSpPr/>
            <p:nvPr/>
          </p:nvSpPr>
          <p:spPr>
            <a:xfrm>
              <a:off x="5026320" y="3615480"/>
              <a:ext cx="3721680" cy="20440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целевые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трансферты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на развити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Понятие и принципы межбюджетных отнош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Методы регулирования межбюджетных отнош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Распределение поступлений и расходов между уровнями бюджетной систе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жбюджетными отношениями принято считать отношения, которые складываются в бюджетном процессе между вышестоящим и нижестоящим уровнями бюджет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Система межбюджетных отношений 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один из главных механизмов, посредством которых происходит взаимодействие субъектов управления, а именно взаимодействие между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иерархическим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уровнями вла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спубликанским и областным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ластным и районны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Принципы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венство бюджетов областей, городов республиканского значения, столицы во взаимоотношениях с республиканским бюджетом, бюджетов районов (городов областного значения) с областным бюджет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эффективное распределение поступлений с соблюдением критериев их разгранич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ыравнивание уровней минимальной бюджетной обеспеченности административно-территориальных единиц Р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 обеспечение  предоставления  местными  исполнительными органами одинакового уровня государственных услуг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максимальная эффективность и результативность предоставления бюджетных услуг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 максимальное приближение уровня предоставления бюджетной услуги к ее получателям за счет передачи исполнения услуг на возможно более низкий уровень бюджетной систем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тветственность каждого уровня бюджета за эффективное и целевое использование полученных официальных трансфертов и кредит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2. Формы межбюджетных отношений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жду республиканским и областным бюджетом, бюджетом города республиканского значения, столицы -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фициальные трансферт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юджетные кредит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жду областным бюджетом и бюджетом района (города областного значения) - официальные трансферты, бюджетные кредиты и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ормативы распределе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доход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Методы регулирования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Дот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это средства, которые передаются из вышестоящего бюджета в твердо установленной сумме для сбалансирования дефицита нижестоящих бюдже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убвенции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это средства, которые передаются из вышесто­ящего бюджета нижестоящим бюджетам на финансирование ме­роприятий со строго целевым назначени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Кредитные ресурс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это средства, которые передаются из вышестоящих бюджетов нижестоящим бюджетам в виде кредитов с обязательным возвратом без процентов или с процент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фициальные трансферт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это безвозмездные и невозвратные поступления в бюджет или затраты бюджета, кроме гран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трансферт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безвозмездные и невозвратные поступления в бюджет или затрат из бюджета 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оме грантов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фициальные трансферты подразделяются на трансферты общего характер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евые текущие трансферт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евые трансферты на развит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евые трансферты и кредитные ресурсы используются местными исполнительными органами только в соответствии с их целевым назначен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фициальными трансфертами общего характера являются бюджетные субвенции и бюджетные изъятия.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Бюджетные субвенци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— это финансовые средства, передаваемые из вышестоящих бюджетов в нижестоящие бюджеты в пределах сумм, утвержденных в республиканском или областном бюдже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12:51:15Z</dcterms:created>
  <dc:creator>к</dc:creator>
  <dc:description/>
  <dc:language>en-US</dc:language>
  <cp:lastModifiedBy>Customer</cp:lastModifiedBy>
  <dcterms:modified xsi:type="dcterms:W3CDTF">2011-06-08T08:37:57Z</dcterms:modified>
  <cp:revision>8</cp:revision>
  <dc:subject/>
  <dc:title>Межбюджетные отношения</dc:title>
</cp:coreProperties>
</file>