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5158C-2262-4699-B5CE-BDC714459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F9680-FEB8-492E-9E76-064D064F3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F73AE-5980-4D34-A4E9-4E4D145E3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4BCF4-3366-4E3F-BB33-CF1D5564A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EF108-BC39-43C0-8DAB-867BF3C08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12B2E-0744-4A05-BFE1-79BF101C7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53C66-8850-4182-894F-A3027C4A7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8428D-4A45-480B-8282-1A4F17863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4EAE3-A147-4D54-BAA1-377B3C918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545F4-BFDC-4708-B0E3-A99E6AC86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99D12-91DB-4E72-AB1F-5711939F8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FB263-15D8-47C8-8223-9F9865A41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0F76B-C265-4CFC-B7CA-CA64D93E2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0B196-2CB5-4541-9874-3F64C22A7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84B88-9602-4E1D-AE53-6ABA59229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AFED8-F2E1-4AE2-8D3C-97A4E1AE3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A2C93-B4DB-4613-AFB0-667BB169D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2680A-1B26-4008-8B2E-3B743105E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B1084-474C-487D-A9D5-11A399DF4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41CBE-D866-415B-9BA0-F68124FF4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13583-D335-43B2-BB3A-41D60C86B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E5185-4AE2-492D-B87C-18A675EFE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31CB4-286F-4952-9F87-87E56FFDD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C2360-60D1-4AB0-BA1F-2BF13BA69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F04DB-F24E-4CB6-90EF-2AECD61638A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37785-9038-40F2-8656-141E8A3CBFCE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3.jpeg"/><Relationship Id="rId5" Type="http://schemas.openxmlformats.org/officeDocument/2006/relationships/image" Target="../media/image13.jpeg"/><Relationship Id="rId6" Type="http://schemas.openxmlformats.org/officeDocument/2006/relationships/image" Target="../media/image13.jpeg"/><Relationship Id="rId7" Type="http://schemas.openxmlformats.org/officeDocument/2006/relationships/image" Target="../media/image13.jpeg"/><Relationship Id="rId8" Type="http://schemas.openxmlformats.org/officeDocument/2006/relationships/image" Target="../media/image13.jpeg"/><Relationship Id="rId9" Type="http://schemas.openxmlformats.org/officeDocument/2006/relationships/image" Target="../media/image13.jpe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8" descr="sd"/>
          <p:cNvPicPr/>
          <p:nvPr/>
        </p:nvPicPr>
        <p:blipFill>
          <a:blip r:embed="rId1"/>
          <a:stretch/>
        </p:blipFill>
        <p:spPr>
          <a:xfrm rot="21085800">
            <a:off x="3747600" y="1919160"/>
            <a:ext cx="2880000" cy="192096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95280" y="3715920"/>
            <a:ext cx="838512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 Black"/>
              </a:rPr>
              <a:t>Российская Федерация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0" name="Picture 4" descr="ol"/>
          <p:cNvPicPr/>
          <p:nvPr/>
        </p:nvPicPr>
        <p:blipFill>
          <a:blip r:embed="rId2"/>
          <a:stretch/>
        </p:blipFill>
        <p:spPr>
          <a:xfrm rot="21079200">
            <a:off x="250560" y="476280"/>
            <a:ext cx="3600360" cy="25192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5" descr="25"/>
          <p:cNvPicPr/>
          <p:nvPr/>
        </p:nvPicPr>
        <p:blipFill>
          <a:blip r:embed="rId3"/>
          <a:stretch/>
        </p:blipFill>
        <p:spPr>
          <a:xfrm rot="646200">
            <a:off x="5435640" y="404280"/>
            <a:ext cx="3365640" cy="1943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i"/>
          <p:cNvPicPr/>
          <p:nvPr/>
        </p:nvPicPr>
        <p:blipFill>
          <a:blip r:embed="rId4"/>
          <a:stretch/>
        </p:blipFill>
        <p:spPr>
          <a:xfrm>
            <a:off x="1547640" y="4941720"/>
            <a:ext cx="626436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244440"/>
            <a:ext cx="303516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План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284720" y="2421000"/>
            <a:ext cx="46800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бщие сведения. Макроэкономическая ситуац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енежно-кредитная систем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юджетная систем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логовая систем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лияние кризиса и антикризисные мер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Picture 4" descr="78"/>
          <p:cNvPicPr/>
          <p:nvPr/>
        </p:nvPicPr>
        <p:blipFill>
          <a:blip r:embed="rId1"/>
          <a:stretch/>
        </p:blipFill>
        <p:spPr>
          <a:xfrm rot="20807400">
            <a:off x="394920" y="2205000"/>
            <a:ext cx="3475080" cy="25225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3" descr="A4SQTCA9CPATXCAO4MX66CAA2D9HDCAZ4K67NCAU3MCMKCA3MVXLVCASKAZ5VCAKRHTVHCA672P9JCAX19RXZCAN1BFDVCAEXCITPCA3Z9BYACAYAZH3TCAOGEV04CA9ELHG6CAH1QO2LCA52HB53"/>
          <p:cNvPicPr/>
          <p:nvPr/>
        </p:nvPicPr>
        <p:blipFill>
          <a:blip r:embed="rId2"/>
          <a:stretch/>
        </p:blipFill>
        <p:spPr>
          <a:xfrm rot="21235200">
            <a:off x="4784400" y="266400"/>
            <a:ext cx="3960720" cy="1738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5" descr="11ICRCAXPDBOJCABQ3UFZCAKWT7WNCAXYFBKICAYY5GIICAN3KDAVCAEZZPUOCAH71XXUCAWVA888CA00XKVECA8WNNCTCA5BRHKBCA2MPHT9CALLZCKCCAN663C1CAS6NA4HCAC2QZURCANW0O17"/>
          <p:cNvPicPr/>
          <p:nvPr/>
        </p:nvPicPr>
        <p:blipFill>
          <a:blip r:embed="rId1"/>
          <a:stretch/>
        </p:blipFill>
        <p:spPr>
          <a:xfrm rot="1372200">
            <a:off x="6347880" y="4148280"/>
            <a:ext cx="2448000" cy="196200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b7"/>
                </a:solidFill>
                <a:latin typeface="Arial Black"/>
              </a:rPr>
              <a:t>      </a:t>
            </a:r>
            <a:r>
              <a:rPr b="1" lang="ru-RU" sz="2800" spc="-1" strike="noStrike">
                <a:solidFill>
                  <a:srgbClr val="ffffb7"/>
                </a:solidFill>
                <a:latin typeface="Arial Black"/>
              </a:rPr>
              <a:t>1.Общие сведения.  Макроэкономическая ситуация.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9" name="Picture 4" descr="0ZHZQCAN8DC39CA19O58YCAYFT05KCAWNGPU1CAAK7WC1CAOFG0MSCAYXYQ2VCACFTAITCAC8VDSSCAM2MNNACA295U05CAAV4FR6CAO2H5S5CA39YZJOCAVL3I2ACA0HSQ26CAS37DO0CAL1BNPL"/>
          <p:cNvPicPr/>
          <p:nvPr/>
        </p:nvPicPr>
        <p:blipFill>
          <a:blip r:embed="rId2"/>
          <a:stretch/>
        </p:blipFill>
        <p:spPr>
          <a:xfrm rot="20460000">
            <a:off x="5830920" y="1550520"/>
            <a:ext cx="2952720" cy="230364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66978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00"/>
                </a:solidFill>
                <a:latin typeface="Arial"/>
              </a:rPr>
              <a:t>Россия (Российская Федерация)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- самое крупное по площади государство на земном шаре. Россия занимает 32,5% материка Евразия, располагаясь в его северной части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лощадь равна </a:t>
            </a:r>
            <a:r>
              <a:rPr b="0" lang="ru-RU" sz="2000" spc="-1" strike="noStrike">
                <a:solidFill>
                  <a:srgbClr val="990000"/>
                </a:solidFill>
                <a:latin typeface="Arial"/>
              </a:rPr>
              <a:t>17,1 млн. км2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, что составляет около 1/6 части суши мира (без Антарктиды и Гренландии)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толица -  город </a:t>
            </a:r>
            <a:r>
              <a:rPr b="0" lang="ru-RU" sz="2000" spc="-1" strike="noStrike">
                <a:solidFill>
                  <a:srgbClr val="990000"/>
                </a:solidFill>
                <a:latin typeface="Arial"/>
              </a:rPr>
              <a:t>Москв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аселение - </a:t>
            </a:r>
            <a:r>
              <a:rPr b="0" lang="ru-RU" sz="2000" spc="-1" strike="noStrike">
                <a:solidFill>
                  <a:srgbClr val="990000"/>
                </a:solidFill>
                <a:latin typeface="Arial"/>
              </a:rPr>
              <a:t>146 млн. человек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, занимает 7-е место в мире, пропустив вперёд США (272 млн. человек),  Индонезию (212 млн. человек), Бразилию (168 млн. человек) и Пакистан (147 млн. человек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Большинство населения России (88%) принадлежит к народам </a:t>
            </a:r>
            <a:r>
              <a:rPr b="0" i="1" lang="ru-RU" sz="2000" spc="-1" strike="noStrike">
                <a:solidFill>
                  <a:srgbClr val="990000"/>
                </a:solidFill>
                <a:latin typeface="Arial"/>
              </a:rPr>
              <a:t>индоевропейской языковой семье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основном к её славянской группе. Русские составляют 82,5% всего населения России (120 млн. человек), ещё 4% приходится на украинцев  (4,4 млн. человек) и белорусов (1,2 млн. человек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Picture 7" descr="0U2T5CA4F2MV4CATDXZ0YCA32ZJ1VCARCLZOOCAM78WIECA7N2C0XCA2P0HCNCA8EG0VXCA5ZV3NOCAASDULBCABML3LHCA3BKE22CAT2OY75CA1S11MACARK373TCA1VDJ4YCA9HCMOICAA9G6V1"/>
          <p:cNvPicPr/>
          <p:nvPr/>
        </p:nvPicPr>
        <p:blipFill>
          <a:blip r:embed="rId3"/>
          <a:stretch/>
        </p:blipFill>
        <p:spPr>
          <a:xfrm>
            <a:off x="179280" y="168120"/>
            <a:ext cx="1440000" cy="95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4" descr="4c_01"/>
          <p:cNvPicPr/>
          <p:nvPr/>
        </p:nvPicPr>
        <p:blipFill>
          <a:blip r:embed="rId1"/>
          <a:stretch/>
        </p:blipFill>
        <p:spPr>
          <a:xfrm>
            <a:off x="826920" y="1125360"/>
            <a:ext cx="7201080" cy="547236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88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00"/>
                </a:solidFill>
                <a:latin typeface="Arial Black"/>
              </a:rPr>
              <a:t>Население Росси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16" descr="WSW3FCA8VJML1CAHNZRJJCA0A4HABCA7US0KJCAGHYPL9CAUK5UANCALW9SNOCA92WL8WCA9FYRZRCAVWMN33CAKHC6FJCAC7L3FDCAF8KE9XCAB31F7RCAC5F570CAFUM7MLCA5XM6EDCA7GV40T"/>
          <p:cNvPicPr/>
          <p:nvPr/>
        </p:nvPicPr>
        <p:blipFill>
          <a:blip r:embed="rId1"/>
          <a:stretch/>
        </p:blipFill>
        <p:spPr>
          <a:xfrm rot="756600">
            <a:off x="5724000" y="2852640"/>
            <a:ext cx="3152880" cy="23767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3" descr="m,"/>
          <p:cNvPicPr/>
          <p:nvPr/>
        </p:nvPicPr>
        <p:blipFill>
          <a:blip r:embed="rId2"/>
          <a:stretch/>
        </p:blipFill>
        <p:spPr>
          <a:xfrm flipH="1" rot="21166800">
            <a:off x="323280" y="3716280"/>
            <a:ext cx="2873160" cy="274968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395280" y="259920"/>
            <a:ext cx="829152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ерритория располагает огромными и разнообразными природными ресурсами. В ее недрах сосредоточено до 57% от бывших общемировых запасов углей, или 70% от бывших общесоюзных запасов, 37% природного газа, 41% железных руд, 54% калийных солей, до 30% фосфоритов, 11% гидроэнергоресурсов и до 9% ресурсов пресных вод. На территории сосредоточено до 92% от бывших общесоюзных запасов торфа и 75% потенциальных запасов гидроэнергоресурсов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трана занимает первое место в мире по размерам земельных ресурсов - около 137 млн. га и по размерам посевных площаде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Picture 7" descr="m,"/>
          <p:cNvPicPr/>
          <p:nvPr/>
        </p:nvPicPr>
        <p:blipFill>
          <a:blip r:embed="rId3"/>
          <a:stretch/>
        </p:blipFill>
        <p:spPr>
          <a:xfrm>
            <a:off x="4551480" y="3416400"/>
            <a:ext cx="41040" cy="252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8" descr="m,"/>
          <p:cNvPicPr/>
          <p:nvPr/>
        </p:nvPicPr>
        <p:blipFill>
          <a:blip r:embed="rId4"/>
          <a:stretch/>
        </p:blipFill>
        <p:spPr>
          <a:xfrm>
            <a:off x="4551480" y="3416400"/>
            <a:ext cx="41040" cy="252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9" descr="m,"/>
          <p:cNvPicPr/>
          <p:nvPr/>
        </p:nvPicPr>
        <p:blipFill>
          <a:blip r:embed="rId5"/>
          <a:stretch/>
        </p:blipFill>
        <p:spPr>
          <a:xfrm>
            <a:off x="4551480" y="3416400"/>
            <a:ext cx="41040" cy="252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0" descr="m,"/>
          <p:cNvPicPr/>
          <p:nvPr/>
        </p:nvPicPr>
        <p:blipFill>
          <a:blip r:embed="rId6"/>
          <a:stretch/>
        </p:blipFill>
        <p:spPr>
          <a:xfrm>
            <a:off x="4551480" y="3416400"/>
            <a:ext cx="41040" cy="252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1" descr="m,"/>
          <p:cNvPicPr/>
          <p:nvPr/>
        </p:nvPicPr>
        <p:blipFill>
          <a:blip r:embed="rId7"/>
          <a:stretch/>
        </p:blipFill>
        <p:spPr>
          <a:xfrm>
            <a:off x="4551480" y="3416400"/>
            <a:ext cx="41040" cy="252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2" descr="m,"/>
          <p:cNvPicPr/>
          <p:nvPr/>
        </p:nvPicPr>
        <p:blipFill>
          <a:blip r:embed="rId8"/>
          <a:stretch/>
        </p:blipFill>
        <p:spPr>
          <a:xfrm>
            <a:off x="4551480" y="3416400"/>
            <a:ext cx="41040" cy="252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4" descr="m,"/>
          <p:cNvPicPr/>
          <p:nvPr/>
        </p:nvPicPr>
        <p:blipFill>
          <a:blip r:embed="rId9"/>
          <a:stretch/>
        </p:blipFill>
        <p:spPr>
          <a:xfrm>
            <a:off x="4551480" y="3416400"/>
            <a:ext cx="41040" cy="2520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15"/>
          <p:cNvSpPr/>
          <p:nvPr/>
        </p:nvSpPr>
        <p:spPr>
          <a:xfrm>
            <a:off x="2752560" y="4508640"/>
            <a:ext cx="6391440" cy="21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Лесопокрытая площадь достигает 700 млн. га (больше, чем в США, Канаде, Швеции и Финляндии вместе взятых). В мировых запасах наиболее ценной хвойной древесины на долю России приходится свыше 50%, или 20% “лесного фонда мира”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250920" y="189000"/>
            <a:ext cx="864216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онституция Российской Федерации 1993 года провозглашает Россию федеративным государство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Глава государства – Медведев Дмитрий Анатольевич, который был избран в 2008 год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бъем ВВП по итогам 2007 года составит $1 трлн. 250 млрд. Это одиннадцатое место в мире. А к 2020 году при сохранении темпов роста ВВП на уровне 6–7% в год Россия может войти уже в пятерку ведущих стран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2007 году ВВП на душу населения достиг $12 тыс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бщий объем ВВП по ППС за 2005 год  1,7 трлн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бщий внешний долг  на конец 2007г. составил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33%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ВП. 4% ВВП составляет внешний государственный долг, остальное - банковский и корпоративный сектор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Picture 4" descr="i"/>
          <p:cNvPicPr/>
          <p:nvPr/>
        </p:nvPicPr>
        <p:blipFill>
          <a:blip r:embed="rId1"/>
          <a:stretch/>
        </p:blipFill>
        <p:spPr>
          <a:xfrm>
            <a:off x="684360" y="160200"/>
            <a:ext cx="2808000" cy="154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4" descr="FKM3RCA582IBQCAMWSKK8CA1MIK5LCA7HTVB1CAULIJW6CAQGRH7HCAG2G2MTCAEX0HX9CAN2NV00CA4QGNICCAEPX9A0CAGE4Z7QCAMBPL9ACATL1IFFCAZBDE3UCAPEVBBECACO63WICAP9BB00"/>
          <p:cNvPicPr/>
          <p:nvPr/>
        </p:nvPicPr>
        <p:blipFill>
          <a:blip r:embed="rId1"/>
          <a:stretch/>
        </p:blipFill>
        <p:spPr>
          <a:xfrm rot="2152800">
            <a:off x="5879880" y="2231640"/>
            <a:ext cx="2950920" cy="18223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68360" y="907560"/>
            <a:ext cx="6408720" cy="40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енежная система РФ функционирует в соответствии с Федеральным законом о Банке России (ЦБ РФ) от 12 апреля 1995 год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фициальная денежная единица – рубль. Введение на территории страны других денежных единиц запрещено. Соотношение между рублем и золотом или другими драгоценными металлами Законом не установлено. Официальный курс рубля к иностранным денежным единицам определяется ЦБ РФ и публикуется в печат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61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b7"/>
                </a:solidFill>
                <a:latin typeface="Arial Black"/>
              </a:rPr>
              <a:t>2.Денежно-кредитная система.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0" name="Rectangle 5"/>
          <p:cNvSpPr/>
          <p:nvPr/>
        </p:nvSpPr>
        <p:spPr>
          <a:xfrm>
            <a:off x="3780000" y="4724280"/>
            <a:ext cx="4822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сключительным правом эмиссии наличных денег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рганизации их обращения 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зъятие на территор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Ф обладает ЦБ РФ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Picture 6" descr="iu"/>
          <p:cNvPicPr/>
          <p:nvPr/>
        </p:nvPicPr>
        <p:blipFill>
          <a:blip r:embed="rId2"/>
          <a:stretch/>
        </p:blipFill>
        <p:spPr>
          <a:xfrm>
            <a:off x="587520" y="5041800"/>
            <a:ext cx="3071520" cy="155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4"/>
          <p:cNvSpPr/>
          <p:nvPr/>
        </p:nvSpPr>
        <p:spPr>
          <a:xfrm>
            <a:off x="2771640" y="2637000"/>
            <a:ext cx="3672000" cy="1150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Функции ЦБ РФ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Rectangle 10"/>
          <p:cNvSpPr/>
          <p:nvPr/>
        </p:nvSpPr>
        <p:spPr>
          <a:xfrm>
            <a:off x="468360" y="5229360"/>
            <a:ext cx="3024000" cy="1296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становление прави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ранения, перевозки 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кассации наличны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нег для организац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Rectangle 11"/>
          <p:cNvSpPr/>
          <p:nvPr/>
        </p:nvSpPr>
        <p:spPr>
          <a:xfrm>
            <a:off x="5651640" y="5229360"/>
            <a:ext cx="3024000" cy="1296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пределение признак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латежеспособност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нежных знаков 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авил замены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врежденных денег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Rectangle 14"/>
          <p:cNvSpPr/>
          <p:nvPr/>
        </p:nvSpPr>
        <p:spPr>
          <a:xfrm>
            <a:off x="468360" y="260280"/>
            <a:ext cx="3024000" cy="129708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гнозирование выпуска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ранения и перевоз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анкнот и моне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Rectangle 15"/>
          <p:cNvSpPr/>
          <p:nvPr/>
        </p:nvSpPr>
        <p:spPr>
          <a:xfrm>
            <a:off x="5651640" y="260280"/>
            <a:ext cx="3024000" cy="129708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работка поряд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дения кассовых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перации дл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редитных организац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Line 18"/>
          <p:cNvSpPr/>
          <p:nvPr/>
        </p:nvSpPr>
        <p:spPr>
          <a:xfrm flipH="1">
            <a:off x="2627280" y="4005360"/>
            <a:ext cx="936720" cy="107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19"/>
          <p:cNvSpPr/>
          <p:nvPr/>
        </p:nvSpPr>
        <p:spPr>
          <a:xfrm>
            <a:off x="5364000" y="4005360"/>
            <a:ext cx="1008360" cy="1008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Line 21"/>
          <p:cNvSpPr/>
          <p:nvPr/>
        </p:nvSpPr>
        <p:spPr>
          <a:xfrm flipH="1" flipV="1">
            <a:off x="2987280" y="1700280"/>
            <a:ext cx="863640" cy="792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 flipV="1">
            <a:off x="5435640" y="1700280"/>
            <a:ext cx="574560" cy="792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Oval 4"/>
          <p:cNvSpPr/>
          <p:nvPr/>
        </p:nvSpPr>
        <p:spPr>
          <a:xfrm>
            <a:off x="2411280" y="1773360"/>
            <a:ext cx="4032360" cy="26636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99"/>
                </a:solidFill>
                <a:latin typeface="Arial"/>
              </a:rPr>
              <a:t>ИНСТРУМЕНТ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99"/>
                </a:solidFill>
                <a:latin typeface="Arial"/>
              </a:rPr>
              <a:t>ЦБ РФ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Oval 5"/>
          <p:cNvSpPr/>
          <p:nvPr/>
        </p:nvSpPr>
        <p:spPr>
          <a:xfrm>
            <a:off x="468360" y="476280"/>
            <a:ext cx="2881440" cy="12240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Arial"/>
              </a:rPr>
              <a:t>Ставки учетного процент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Arial"/>
              </a:rPr>
              <a:t>(дисконтная политика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Oval 6"/>
          <p:cNvSpPr/>
          <p:nvPr/>
        </p:nvSpPr>
        <p:spPr>
          <a:xfrm>
            <a:off x="5796000" y="549360"/>
            <a:ext cx="2881440" cy="12240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Arial"/>
              </a:rPr>
              <a:t>Нормы обязательных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Arial"/>
              </a:rPr>
              <a:t>резервов кредитны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Arial"/>
              </a:rPr>
              <a:t>учрежден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Oval 7"/>
          <p:cNvSpPr/>
          <p:nvPr/>
        </p:nvSpPr>
        <p:spPr>
          <a:xfrm>
            <a:off x="468360" y="4508640"/>
            <a:ext cx="2881440" cy="1296720"/>
          </a:xfrm>
          <a:prstGeom prst="ellipse">
            <a:avLst/>
          </a:prstGeom>
          <a:solidFill>
            <a:srgbClr val="99cc00"/>
          </a:solidFill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Arial"/>
              </a:rPr>
              <a:t>Операции на отрыто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3300"/>
                </a:solidFill>
                <a:latin typeface="Arial"/>
              </a:rPr>
              <a:t>рынк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Oval 8"/>
          <p:cNvSpPr/>
          <p:nvPr/>
        </p:nvSpPr>
        <p:spPr>
          <a:xfrm>
            <a:off x="5651640" y="4508640"/>
            <a:ext cx="3025800" cy="1296720"/>
          </a:xfrm>
          <a:prstGeom prst="ellipse">
            <a:avLst/>
          </a:prstGeom>
          <a:solidFill>
            <a:srgbClr val="99cc00"/>
          </a:solidFill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Arial"/>
              </a:rPr>
              <a:t>Регламентаци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Arial"/>
              </a:rPr>
              <a:t>экономических норматив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Arial"/>
              </a:rPr>
              <a:t>для кредитны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Arial"/>
              </a:rPr>
              <a:t>учреждени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Line 9"/>
          <p:cNvSpPr/>
          <p:nvPr/>
        </p:nvSpPr>
        <p:spPr>
          <a:xfrm flipH="1">
            <a:off x="2771280" y="4221000"/>
            <a:ext cx="287640" cy="287640"/>
          </a:xfrm>
          <a:prstGeom prst="line">
            <a:avLst/>
          </a:prstGeom>
          <a:ln w="57240">
            <a:solidFill>
              <a:srgbClr val="99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Line 10"/>
          <p:cNvSpPr/>
          <p:nvPr/>
        </p:nvSpPr>
        <p:spPr>
          <a:xfrm flipH="1" flipV="1">
            <a:off x="2987280" y="1628640"/>
            <a:ext cx="289080" cy="214560"/>
          </a:xfrm>
          <a:prstGeom prst="line">
            <a:avLst/>
          </a:prstGeom>
          <a:ln w="57240">
            <a:solidFill>
              <a:srgbClr val="99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Line 11"/>
          <p:cNvSpPr/>
          <p:nvPr/>
        </p:nvSpPr>
        <p:spPr>
          <a:xfrm flipV="1">
            <a:off x="5867280" y="1700280"/>
            <a:ext cx="216000" cy="288720"/>
          </a:xfrm>
          <a:prstGeom prst="line">
            <a:avLst/>
          </a:prstGeom>
          <a:ln w="57240">
            <a:solidFill>
              <a:srgbClr val="99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Line 12"/>
          <p:cNvSpPr/>
          <p:nvPr/>
        </p:nvSpPr>
        <p:spPr>
          <a:xfrm>
            <a:off x="5940360" y="4221000"/>
            <a:ext cx="216000" cy="287640"/>
          </a:xfrm>
          <a:prstGeom prst="line">
            <a:avLst/>
          </a:prstGeom>
          <a:ln w="57240">
            <a:solidFill>
              <a:srgbClr val="99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Oval 13"/>
          <p:cNvSpPr/>
          <p:nvPr/>
        </p:nvSpPr>
        <p:spPr>
          <a:xfrm>
            <a:off x="468360" y="476280"/>
            <a:ext cx="2881440" cy="12240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Arial"/>
              </a:rPr>
              <a:t>Ставки учетного процент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Arial"/>
              </a:rPr>
              <a:t>(дисконтная политика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Oval 14"/>
          <p:cNvSpPr/>
          <p:nvPr/>
        </p:nvSpPr>
        <p:spPr>
          <a:xfrm>
            <a:off x="5796000" y="549360"/>
            <a:ext cx="2881440" cy="12240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Arial"/>
              </a:rPr>
              <a:t>Нормы обязательных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Arial"/>
              </a:rPr>
              <a:t>резервов кредитны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Arial"/>
              </a:rPr>
              <a:t>учрежден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0T10:59:33Z</dcterms:created>
  <dc:creator>student</dc:creator>
  <dc:description/>
  <dc:language>en-US</dc:language>
  <cp:lastModifiedBy>Customer</cp:lastModifiedBy>
  <dcterms:modified xsi:type="dcterms:W3CDTF">2011-06-08T08:46:36Z</dcterms:modified>
  <cp:revision>10</cp:revision>
  <dc:subject/>
  <dc:title>                            1.Общие сведения.             Макроэкономическая ситуация.</dc:title>
</cp:coreProperties>
</file>