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204-0D2F-4013-AE72-6157DB45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A8B-F35F-4180-A437-A732C7E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1D0-70B3-4FFD-8958-737E81C7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B4B-8149-4A61-B12B-73F815F3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7CE2-1522-43FA-B55C-4E870AAC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2A2B-1D58-4C5B-9C1B-78249716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F090-9D44-4523-98A8-4938CE5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4BC-BEC7-4EC4-994D-F67EE6F5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4E9-CB55-4EA0-8F47-884160C9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5BDE-499A-4AC0-A2DA-D368C70B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2F02-5F7D-4BD7-A3BA-F0F576C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CA0-1C8D-44D8-B831-7758BEC6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3E20-2917-42B4-8479-87C71D40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3A8F-EB78-4530-9F64-B115F073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3D6C-A090-4F20-8233-54C0B56E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97CB-2F97-4BCB-8E4A-B7BCD956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198B-6A7E-4D7D-9785-716DF9D4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8B2-B929-419D-8831-08BEDED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2BE-DB59-4E71-9BE6-5018C78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1D1-9FB4-4DC0-9424-42E301D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74A-F5D5-42F1-880A-0B4E70D5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ED0-D79E-4D8F-9E3E-57A272C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946-48BE-404D-B77B-AF811B2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49E-B422-43FC-8477-6F977D8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B55C-CF76-4F8C-A4D8-B21BD3900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0063-D380-4031-878F-D131804809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Финансовая система СШ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58560" y="1988640"/>
            <a:ext cx="7885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нежная и кредитная системы СШ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юджетная и финансовая системы СШ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логовая система СШ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временное состояние экономики государств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024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1. Денежная и кредитная системы США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рвые частные акционерные банки были созданы в 1784 г. В 1791 г. возник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rst Bank of United States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торый открыл филиалы во всех важных портовых городах. В 1913 г. в США функционировало 20 000 банков, из которых 7000 были эмиссионными национальными банка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результате банковского кризиса в период 1907-1913 гг. была создана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деральная резервная система СШ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РС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едеральная резервная система США (ФРС) –уникальная система центральных банков, число которых составляет 12.  Они называются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федеральными резервными банками (ФРБ)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и имеют ряд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8360" y="290520"/>
            <a:ext cx="71280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eec94"/>
                </a:solidFill>
                <a:latin typeface="Times New Roman"/>
              </a:rPr>
              <a:t>Уровни ФРС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Text Box 132"/>
          <p:cNvSpPr/>
          <p:nvPr/>
        </p:nvSpPr>
        <p:spPr>
          <a:xfrm>
            <a:off x="1258920" y="1197000"/>
            <a:ext cx="6842160" cy="520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управляющ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133"/>
          <p:cNvSpPr/>
          <p:nvPr/>
        </p:nvSpPr>
        <p:spPr>
          <a:xfrm>
            <a:off x="2916360" y="306864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34"/>
          <p:cNvSpPr/>
          <p:nvPr/>
        </p:nvSpPr>
        <p:spPr>
          <a:xfrm>
            <a:off x="2411280" y="2924280"/>
            <a:ext cx="64800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135"/>
          <p:cNvSpPr/>
          <p:nvPr/>
        </p:nvSpPr>
        <p:spPr>
          <a:xfrm>
            <a:off x="4788000" y="342900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136"/>
          <p:cNvSpPr/>
          <p:nvPr/>
        </p:nvSpPr>
        <p:spPr>
          <a:xfrm>
            <a:off x="3492360" y="3213000"/>
            <a:ext cx="64800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137"/>
          <p:cNvSpPr/>
          <p:nvPr/>
        </p:nvSpPr>
        <p:spPr>
          <a:xfrm>
            <a:off x="4140360" y="335772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138"/>
          <p:cNvSpPr/>
          <p:nvPr/>
        </p:nvSpPr>
        <p:spPr>
          <a:xfrm>
            <a:off x="1908000" y="2708280"/>
            <a:ext cx="64800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139"/>
          <p:cNvSpPr/>
          <p:nvPr/>
        </p:nvSpPr>
        <p:spPr>
          <a:xfrm>
            <a:off x="1332000" y="256536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41"/>
          <p:cNvSpPr/>
          <p:nvPr/>
        </p:nvSpPr>
        <p:spPr>
          <a:xfrm>
            <a:off x="5219640" y="321300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142"/>
          <p:cNvSpPr/>
          <p:nvPr/>
        </p:nvSpPr>
        <p:spPr>
          <a:xfrm>
            <a:off x="6300720" y="299736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143"/>
          <p:cNvSpPr/>
          <p:nvPr/>
        </p:nvSpPr>
        <p:spPr>
          <a:xfrm>
            <a:off x="5796000" y="314172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44"/>
          <p:cNvSpPr/>
          <p:nvPr/>
        </p:nvSpPr>
        <p:spPr>
          <a:xfrm>
            <a:off x="6804000" y="292428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45"/>
          <p:cNvSpPr/>
          <p:nvPr/>
        </p:nvSpPr>
        <p:spPr>
          <a:xfrm>
            <a:off x="7380360" y="2852640"/>
            <a:ext cx="647640" cy="449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6"/>
          <p:cNvSpPr/>
          <p:nvPr/>
        </p:nvSpPr>
        <p:spPr>
          <a:xfrm>
            <a:off x="2627280" y="465300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ал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6000 бан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47"/>
          <p:cNvSpPr/>
          <p:nvPr/>
        </p:nvSpPr>
        <p:spPr>
          <a:xfrm>
            <a:off x="2484360" y="371628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48"/>
          <p:cNvSpPr/>
          <p:nvPr/>
        </p:nvSpPr>
        <p:spPr>
          <a:xfrm>
            <a:off x="1763640" y="364500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49"/>
          <p:cNvSpPr/>
          <p:nvPr/>
        </p:nvSpPr>
        <p:spPr>
          <a:xfrm>
            <a:off x="1187280" y="357336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50"/>
          <p:cNvSpPr/>
          <p:nvPr/>
        </p:nvSpPr>
        <p:spPr>
          <a:xfrm>
            <a:off x="4932360" y="4149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51"/>
          <p:cNvSpPr/>
          <p:nvPr/>
        </p:nvSpPr>
        <p:spPr>
          <a:xfrm>
            <a:off x="3276720" y="436572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2"/>
          <p:cNvSpPr/>
          <p:nvPr/>
        </p:nvSpPr>
        <p:spPr>
          <a:xfrm>
            <a:off x="2556000" y="407664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3"/>
          <p:cNvSpPr/>
          <p:nvPr/>
        </p:nvSpPr>
        <p:spPr>
          <a:xfrm>
            <a:off x="5364000" y="4149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54"/>
          <p:cNvSpPr/>
          <p:nvPr/>
        </p:nvSpPr>
        <p:spPr>
          <a:xfrm>
            <a:off x="5940360" y="4149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55"/>
          <p:cNvSpPr/>
          <p:nvPr/>
        </p:nvSpPr>
        <p:spPr>
          <a:xfrm>
            <a:off x="6372360" y="414972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56"/>
          <p:cNvSpPr/>
          <p:nvPr/>
        </p:nvSpPr>
        <p:spPr>
          <a:xfrm>
            <a:off x="7236000" y="400536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57"/>
          <p:cNvSpPr/>
          <p:nvPr/>
        </p:nvSpPr>
        <p:spPr>
          <a:xfrm>
            <a:off x="5580000" y="436572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158"/>
          <p:cNvSpPr/>
          <p:nvPr/>
        </p:nvSpPr>
        <p:spPr>
          <a:xfrm>
            <a:off x="6877080" y="4221000"/>
            <a:ext cx="28872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59"/>
          <p:cNvSpPr/>
          <p:nvPr/>
        </p:nvSpPr>
        <p:spPr>
          <a:xfrm>
            <a:off x="5940360" y="393372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60"/>
          <p:cNvSpPr/>
          <p:nvPr/>
        </p:nvSpPr>
        <p:spPr>
          <a:xfrm>
            <a:off x="2771640" y="429264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61"/>
          <p:cNvSpPr/>
          <p:nvPr/>
        </p:nvSpPr>
        <p:spPr>
          <a:xfrm>
            <a:off x="3132000" y="386064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62"/>
          <p:cNvSpPr/>
          <p:nvPr/>
        </p:nvSpPr>
        <p:spPr>
          <a:xfrm>
            <a:off x="2124000" y="386064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63"/>
          <p:cNvSpPr/>
          <p:nvPr/>
        </p:nvSpPr>
        <p:spPr>
          <a:xfrm>
            <a:off x="2124000" y="422100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64"/>
          <p:cNvSpPr/>
          <p:nvPr/>
        </p:nvSpPr>
        <p:spPr>
          <a:xfrm>
            <a:off x="3492360" y="4581360"/>
            <a:ext cx="289080" cy="144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65"/>
          <p:cNvSpPr/>
          <p:nvPr/>
        </p:nvSpPr>
        <p:spPr>
          <a:xfrm>
            <a:off x="3924360" y="429264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66"/>
          <p:cNvSpPr/>
          <p:nvPr/>
        </p:nvSpPr>
        <p:spPr>
          <a:xfrm>
            <a:off x="4284720" y="4292640"/>
            <a:ext cx="28872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67"/>
          <p:cNvSpPr/>
          <p:nvPr/>
        </p:nvSpPr>
        <p:spPr>
          <a:xfrm>
            <a:off x="7451640" y="364500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168"/>
          <p:cNvSpPr/>
          <p:nvPr/>
        </p:nvSpPr>
        <p:spPr>
          <a:xfrm>
            <a:off x="6588000" y="3716280"/>
            <a:ext cx="289080" cy="144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171"/>
          <p:cNvSpPr/>
          <p:nvPr/>
        </p:nvSpPr>
        <p:spPr>
          <a:xfrm>
            <a:off x="2700360" y="2421000"/>
            <a:ext cx="4033800" cy="504720"/>
          </a:xfrm>
          <a:prstGeom prst="flowChartPunchedTap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ьные резервные бан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73"/>
          <p:cNvSpPr/>
          <p:nvPr/>
        </p:nvSpPr>
        <p:spPr>
          <a:xfrm>
            <a:off x="324000" y="2349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74"/>
          <p:cNvSpPr/>
          <p:nvPr/>
        </p:nvSpPr>
        <p:spPr>
          <a:xfrm>
            <a:off x="395280" y="537372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едеральны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митет по открытому рынку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75"/>
          <p:cNvSpPr/>
          <p:nvPr/>
        </p:nvSpPr>
        <p:spPr>
          <a:xfrm>
            <a:off x="5867280" y="5516640"/>
            <a:ext cx="30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едеральный консультационный сове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178"/>
          <p:cNvSpPr/>
          <p:nvPr/>
        </p:nvSpPr>
        <p:spPr>
          <a:xfrm rot="16200000">
            <a:off x="7273080" y="3896280"/>
            <a:ext cx="2698560" cy="468360"/>
          </a:xfrm>
          <a:custGeom>
            <a:avLst/>
            <a:gdLst>
              <a:gd name="textAreaLeft" fmla="*/ 471960 w 2698560"/>
              <a:gd name="textAreaRight" fmla="*/ 1956600 w 269856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180"/>
          <p:cNvSpPr/>
          <p:nvPr/>
        </p:nvSpPr>
        <p:spPr>
          <a:xfrm rot="11221800">
            <a:off x="250920" y="2491920"/>
            <a:ext cx="466560" cy="2808360"/>
          </a:xfrm>
          <a:custGeom>
            <a:avLst/>
            <a:gdLst>
              <a:gd name="textAreaLeft" fmla="*/ 62280 w 466560"/>
              <a:gd name="textAreaRight" fmla="*/ 404280 w 466560"/>
              <a:gd name="textAreaTop" fmla="*/ 491400 h 2808360"/>
              <a:gd name="textAreaBottom" fmla="*/ 20361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вет управляющи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онахождение – Вашингтон, округ Колумб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ая функция –формирование монетарной поли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 - 7 членов, назначаемых президентом США с одобрения сената сроком на 14 л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1280" y="3573360"/>
            <a:ext cx="81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т обладает исключительным правом установления уров­ня обязательных резервов депозитных учреждений, а также раз­деляет ответственность с федеральными резервными банками по проведению операций на открытом рынке и определению наи­более приемлемых банковских учетных 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eec94"/>
                </a:solidFill>
                <a:latin typeface="Times New Roman"/>
              </a:rPr>
              <a:t>Размещение федеральных резервных банков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600200"/>
          <a:ext cx="8229600" cy="3630600"/>
        </p:xfrm>
        <a:graphic>
          <a:graphicData uri="http://schemas.openxmlformats.org/drawingml/2006/table">
            <a:tbl>
              <a:tblPr/>
              <a:tblGrid>
                <a:gridCol w="1306440"/>
                <a:gridCol w="2386080"/>
                <a:gridCol w="1285920"/>
                <a:gridCol w="3251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9072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с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к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ью-Йор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-Лу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ладель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ннеапол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ивле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нзас-Си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чм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лл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лан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н-Францис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едеральный резервный бан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ет свой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ов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остоящий из девяти директоров, не являющихся служащими бан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ые резервные банки получают прибыль в основном из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оценто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соответствующих доле вкладов ФРС в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нные бума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и, в меньшей степени, из доходов от процентов на имеющуюся у ФРС валюту, а также от процентов по ссудам депозитным учреждениям и от валютного контро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вступления в ФРС каждый банк обязан приобрести в федеральном резервном банке своего округа некое количество акций на сумму, равную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%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собственного акционерного капитала и нераспределенной прибы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нгресс уполномочил федеральные резервные банки осуществлять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ыпуск наличных денег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ec94"/>
                </a:solidFill>
                <a:latin typeface="Times New Roman"/>
              </a:rPr>
              <a:t>Федеральный комитет по открытому рынку</a:t>
            </a:r>
            <a:r>
              <a:rPr b="0" lang="ru-RU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eec94"/>
                </a:solidFill>
                <a:latin typeface="Times New Roman"/>
              </a:rPr>
              <a:t>(ФКОР).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ит из 12 по­стоянных членов: 7 членов Совета управляющих ФРС;   5 президентов федеральных резервных банков; президент Нью-йоркского банка является постоянным членом ФКО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зиденты резервных банков обязаны присутствовать на ФКОР и проводить заседания восемь - девять раз в год. Ими разрабатывается стратегия операций на открытом рынке ценных бумаг. Комитет разрабатывает и прогнозирует экономические и финансовые решения. Решения комитета реализуются подразделением внешней торговли Нью-йоркского регионального ба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едеральный консультационный совет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ординационный консультативный орган для связи всей банковской сферы с ФР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оит из 12 членов, делегируемых региональными банками ФРС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Четыре ра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 год совет собирается на совместное заседание с управляющими ФРС для обмена мнениями по широкому спектру вопросов финансово-кредитных отношен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равляет национальной монетарной политикой путем влияния на денежное и кредитное обращение с целью достижения полной занятости и стабильных ц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олирует банковские учреждения и регулирует их деятельность для обеспечения безопасности и прочности бан­ковской и финансовой сист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ивает стабильность финансовой системы и уменьшает риск на финансовых рынка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оставляет финансовые услуги правительству США, общественности, финансовым учреждениям, играя также важную роль в управлении национальной системой расч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eec94"/>
                </a:solidFill>
                <a:latin typeface="Times New Roman"/>
              </a:rPr>
              <a:t>2. Бюджетная и финансовая системы США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юджетное устройств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американской федерации регламентируется Конституцией СШ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яет три основны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нк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держание государственной маши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аппарат управления, армия, суды и п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доходов между социальными слоями населения и территориями в целя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лагоприятного социального клима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предотвращения возможных очагов напряжен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бюджета в качестве инструмента дл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тимулирования экономического ро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ддержания условий развития предприниматель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7:46Z</dcterms:created>
  <dc:creator>д</dc:creator>
  <dc:description/>
  <dc:language>en-US</dc:language>
  <cp:lastModifiedBy>Customer</cp:lastModifiedBy>
  <dcterms:modified xsi:type="dcterms:W3CDTF">2011-06-08T08:49:10Z</dcterms:modified>
  <cp:revision>16</cp:revision>
  <dc:subject/>
  <dc:title>Финансовая система США</dc:title>
</cp:coreProperties>
</file>