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39A1-F652-4EC0-AB69-FD6F499D97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зничные банки-депозитная деятельнос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срочные кредит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ир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средствами вкладч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овые банки –возникли на торговых предприятиях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е постепенно освоили банковские операции. Долгое время основой их деятельности являлись акцептные операции, что позволяет относить торговые банки к числу акцептных домов. Некоторые современные торговые бан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яду с банковскими операциями выполняют промышленные и торговые фун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BF6E-9583-4799-9177-CEC1C4DF7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7140-B680-4B47-8AFE-FEA12B97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CE09-F266-40C4-8642-8A018DC80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252C-BDD9-4C3F-B413-B000E4119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03DA-4A2C-4B8E-8E5A-0007F6153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C7EE-29B5-4156-9B39-E8BB29F0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2E67-8B33-4CA2-AEBC-F231F7F9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D729-1AB8-4080-91FA-1A7B8D29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8E641-D735-46A3-88EB-3C26E176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F69F-23FD-42C2-B6B6-CEF4415A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C1B8-AAB4-43FB-9AF4-544B4D08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FCF0-E38F-4DE2-8280-B2F7F023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F0A3-1350-402B-AD1F-3DB85BD5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CD1D-A425-4ABE-B5FA-AEDFD12B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97399-E88F-4FA6-960D-B26A3CDB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9B5E-1E02-4AC5-9FB4-89AF4D04B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2E5DD-76CC-4957-B912-A6DEA7C3F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EB1B-273D-42A1-8A5B-D1AD848A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96F7-DE9D-4536-8046-15914D55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60CA-D0B6-4271-9E45-88C9CCFD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0FA5-C09A-46E5-B0A8-80D66D28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C055-5D31-4BD7-91FC-99040A8C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74A3-5560-498D-8D9E-8F67B304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73E4-3627-47D4-A4EC-0D12BA15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642C-7C97-4CFC-BD17-D5A67DAE7AE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BE2E-49B3-421F-8858-4C7054A32EF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Union_flag_1606_(Kings_Colors).svg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1368360" cy="64944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3"/>
          <a:stretch/>
        </p:blipFill>
        <p:spPr>
          <a:xfrm>
            <a:off x="2987640" y="1341360"/>
            <a:ext cx="1440000" cy="113976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5292720" y="836640"/>
            <a:ext cx="2987640" cy="270972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5"/>
          <a:stretch/>
        </p:blipFill>
        <p:spPr>
          <a:xfrm>
            <a:off x="971640" y="3552840"/>
            <a:ext cx="3529080" cy="25956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1403280" y="6308640"/>
            <a:ext cx="273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ролева Елизавет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651640" y="3789360"/>
            <a:ext cx="3168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арламент Великобритан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68360" y="260280"/>
            <a:ext cx="727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бъединенное Королевство Великобритании и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еверной Ирланд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301680" y="404640"/>
            <a:ext cx="8540640" cy="56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жную роль в развитии кредитной системы Великобритании играют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иностранны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банки,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исло которых стремительно увеличилось во второй половине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X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. и к концу столетия составило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более 50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Их совокупные активы превышают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60 %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ктивов всех банков Соединенного Королевства. На долю иностранных банков приходится почти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80 % всех депозит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 иностранной валют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Великобритании наибольшее количество банков из США, Японии, Франции и Германии. Их основными функциями являются финансирование внешней торговли, кредитование инвестиций, консультации и друг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Небанковские кредитно-финансовые институты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берегательные институ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траховые компан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нвестиционные трес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оверительные паевые фон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Финансовые корпор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Фирмы венчурного финансир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3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Бюджетная и финансовая системы Великобритании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826920" y="1844640"/>
            <a:ext cx="6985080" cy="503280"/>
          </a:xfrm>
          <a:prstGeom prst="rect">
            <a:avLst/>
          </a:prstGeom>
          <a:solidFill>
            <a:srgbClr val="333399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Финансовая систе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24000" y="2492280"/>
            <a:ext cx="3311640" cy="936720"/>
          </a:xfrm>
          <a:prstGeom prst="rect">
            <a:avLst/>
          </a:prstGeom>
          <a:solidFill>
            <a:srgbClr val="333399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осударствен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юдж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124000" y="3573360"/>
            <a:ext cx="3311640" cy="865440"/>
          </a:xfrm>
          <a:prstGeom prst="rect">
            <a:avLst/>
          </a:prstGeom>
          <a:solidFill>
            <a:srgbClr val="333399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ест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юдже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24000" y="4581360"/>
            <a:ext cx="3311640" cy="936720"/>
          </a:xfrm>
          <a:prstGeom prst="rect">
            <a:avLst/>
          </a:prstGeom>
          <a:solidFill>
            <a:srgbClr val="333399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пециаль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небюджетные фон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24000" y="5734080"/>
            <a:ext cx="3311640" cy="934920"/>
          </a:xfrm>
          <a:prstGeom prst="rect">
            <a:avLst/>
          </a:prstGeom>
          <a:solidFill>
            <a:srgbClr val="333399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Финан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осударствен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едприят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042920" y="2349360"/>
            <a:ext cx="0" cy="4248360"/>
          </a:xfrm>
          <a:prstGeom prst="line">
            <a:avLst/>
          </a:prstGeom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042920" y="2997360"/>
            <a:ext cx="1081080" cy="0"/>
          </a:xfrm>
          <a:prstGeom prst="line">
            <a:avLst/>
          </a:prstGeom>
          <a:ln w="9360">
            <a:solidFill>
              <a:srgbClr val="99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042920" y="4005360"/>
            <a:ext cx="1081080" cy="0"/>
          </a:xfrm>
          <a:prstGeom prst="line">
            <a:avLst/>
          </a:prstGeom>
          <a:ln w="9360">
            <a:solidFill>
              <a:srgbClr val="99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042920" y="5013360"/>
            <a:ext cx="1081080" cy="0"/>
          </a:xfrm>
          <a:prstGeom prst="line">
            <a:avLst/>
          </a:prstGeom>
          <a:ln w="9360">
            <a:solidFill>
              <a:srgbClr val="99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042920" y="6165720"/>
            <a:ext cx="1081080" cy="0"/>
          </a:xfrm>
          <a:prstGeom prst="line">
            <a:avLst/>
          </a:prstGeom>
          <a:ln w="9360">
            <a:solidFill>
              <a:srgbClr val="99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332000" y="549360"/>
            <a:ext cx="6408720" cy="1150920"/>
          </a:xfrm>
          <a:prstGeom prst="rect">
            <a:avLst/>
          </a:prstGeom>
          <a:solidFill>
            <a:srgbClr val="333399"/>
          </a:solidFill>
          <a:ln w="2232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Государственный бюдж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58920" y="1916280"/>
            <a:ext cx="3889440" cy="2160360"/>
          </a:xfrm>
          <a:prstGeom prst="ellipse">
            <a:avLst/>
          </a:prstGeom>
          <a:solidFill>
            <a:srgbClr val="333399"/>
          </a:solidFill>
          <a:ln w="2232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онсолидированный фон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текущ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оступления средств 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х расход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724360" y="2060640"/>
            <a:ext cx="2808360" cy="2017800"/>
          </a:xfrm>
          <a:prstGeom prst="ellipse">
            <a:avLst/>
          </a:prstGeom>
          <a:solidFill>
            <a:srgbClr val="333399"/>
          </a:solidFill>
          <a:ln w="2232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Национальный фон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займ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доходы и расходы государства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вязанные с движение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капитала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rot="1105800">
            <a:off x="178920" y="549360"/>
            <a:ext cx="785880" cy="2168280"/>
          </a:xfrm>
          <a:custGeom>
            <a:avLst/>
            <a:gdLst>
              <a:gd name="textAreaLeft" fmla="*/ 105120 w 785880"/>
              <a:gd name="textAreaRight" fmla="*/ 680760 w 785880"/>
              <a:gd name="textAreaTop" fmla="*/ 379440 h 2168280"/>
              <a:gd name="textAreaBottom" fmla="*/ 1572120 h 216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1051830"/>
                <a:lnTo>
                  <a:pt x="5565" y="19105"/>
                </a:lnTo>
                <a:lnTo>
                  <a:pt x="21600" y="17280"/>
                </a:lnTo>
                <a:lnTo>
                  <a:pt x="5565" y="10465"/>
                </a:lnTo>
                <a:lnTo>
                  <a:pt x="5565" y="12625"/>
                </a:lnTo>
                <a:arcTo wR="21600" hR="7560" stAng="9748170" swAng="694395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21378600">
            <a:off x="7885080" y="620280"/>
            <a:ext cx="1008000" cy="1801800"/>
          </a:xfrm>
          <a:custGeom>
            <a:avLst/>
            <a:gdLst>
              <a:gd name="textAreaLeft" fmla="*/ 135000 w 1008000"/>
              <a:gd name="textAreaRight" fmla="*/ 873000 w 1008000"/>
              <a:gd name="textAreaTop" fmla="*/ 303480 h 1801800"/>
              <a:gd name="textAreaBottom" fmla="*/ 1324800 h 180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283" stAng="-5400000" swAng="5400000"/>
                <a:lnTo>
                  <a:pt x="21600" y="12241"/>
                </a:lnTo>
                <a:arcTo wR="21600" hR="7283" stAng="0" swAng="1195404"/>
                <a:lnTo>
                  <a:pt x="14712" y="19649"/>
                </a:lnTo>
                <a:lnTo>
                  <a:pt x="0" y="17045"/>
                </a:lnTo>
                <a:lnTo>
                  <a:pt x="14712" y="10539"/>
                </a:lnTo>
                <a:lnTo>
                  <a:pt x="14712" y="12615"/>
                </a:lnTo>
                <a:arcTo wR="21600" hR="7283" stAng="1195404" swAng="-777869"/>
                <a:lnTo>
                  <a:pt x="20310" y="9762"/>
                </a:lnTo>
                <a:arcTo wR="21600" hR="7283" stAng="-417535" swAng="-4982465"/>
                <a:close/>
              </a:path>
              <a:path fill="darkenLess" w="21600" h="21600">
                <a:moveTo>
                  <a:pt x="0" y="0"/>
                </a:moveTo>
                <a:arcTo wR="21600" hR="7283" stAng="-5400000" swAng="5400000"/>
                <a:lnTo>
                  <a:pt x="21600" y="12241"/>
                </a:lnTo>
                <a:arcTo wR="21600" hR="7283" stAng="0" swAng="-417535"/>
                <a:lnTo>
                  <a:pt x="20310" y="9762"/>
                </a:lnTo>
                <a:arcTo wR="21600" hR="7283" stAng="-417535" swAng="-4982465"/>
                <a:close/>
              </a:path>
            </a:pathLst>
          </a:cu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00000" y="4653000"/>
            <a:ext cx="3672000" cy="133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логовые поступления -9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налоговые  - доходы от продажи гос.собственности, административные взыскания и д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292720" y="4653000"/>
            <a:ext cx="367200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за счет процентов поступающих от корпораций и местных органов власти как плата за кредит, часть прибыли Банка Англии, средства некоторых спец.фондов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7451640" y="414936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2916360" y="414936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476360" y="476280"/>
            <a:ext cx="7437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Структура расходов местных органов власт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94920" y="4076640"/>
            <a:ext cx="41036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 настоящее время из местных бюджетов финансируется всего 36 % всех государственных расход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"/>
          <p:cNvSpPr/>
          <p:nvPr/>
        </p:nvSpPr>
        <p:spPr>
          <a:xfrm>
            <a:off x="684360" y="5805360"/>
            <a:ext cx="45622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Бюджетный год в Великобритании начинается 1 апреля и заканчивается 31 март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3276720" y="549360"/>
          <a:ext cx="560844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549360"/>
                    <a:ext cx="560844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Специальные фонды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щее количество спец.фондов –более 8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дущее место занимает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онд национального страхован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Создается за счет взносов населения, гос.предприятий и дотаций правительства. Аккумулированные средства идут на выплату пенсий, пособий по безработице и болез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финансовую систему также входят и другие фонды, такие как пенсионные фонды, уравнительный валютный фонд, фонды гарантий экспортных кредитов. Они создаются за счет средств и дотаций предприятий и осуществляют расходы в соответствии со своим функциональным назначени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4167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4 Налоговая система Великобритании</a:t>
            </a:r>
            <a:br>
              <a:rPr sz="28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 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680" y="1052280"/>
            <a:ext cx="85406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временная налоговая система Великобритании продолжает реформироваться. Существенным изменениям она подверглась в 1965, 1973, 1990-х  гг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"/>
          <p:cNvSpPr/>
          <p:nvPr/>
        </p:nvSpPr>
        <p:spPr>
          <a:xfrm>
            <a:off x="2411280" y="1989000"/>
            <a:ext cx="4105440" cy="936720"/>
          </a:xfrm>
          <a:prstGeom prst="rect">
            <a:avLst/>
          </a:prstGeom>
          <a:solidFill>
            <a:srgbClr val="333399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логовая систе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39640" y="3716280"/>
            <a:ext cx="3456000" cy="1944720"/>
          </a:xfrm>
          <a:prstGeom prst="rect">
            <a:avLst/>
          </a:prstGeom>
          <a:solidFill>
            <a:srgbClr val="333399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щегосударстве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076720" y="3716280"/>
            <a:ext cx="3456000" cy="1944720"/>
          </a:xfrm>
          <a:prstGeom prst="rect">
            <a:avLst/>
          </a:prstGeom>
          <a:solidFill>
            <a:srgbClr val="333399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естные налог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556000" y="2997360"/>
            <a:ext cx="360360" cy="576000"/>
          </a:xfrm>
          <a:prstGeom prst="downArrow">
            <a:avLst>
              <a:gd name="adj1" fmla="val 50000"/>
              <a:gd name="adj2" fmla="val 39960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651640" y="2997360"/>
            <a:ext cx="360360" cy="576000"/>
          </a:xfrm>
          <a:prstGeom prst="downArrow">
            <a:avLst>
              <a:gd name="adj1" fmla="val 50000"/>
              <a:gd name="adj2" fmla="val 39960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39640" y="573408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более 90 % всех налоговых поступл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012720" y="581184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коло 10 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540640" cy="60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 налогов общегосударственного значения наибольшее распространение получили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прямые налоги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49 % всех общегосударственных налоговых поступлений):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подоходный налог, налог на капитал, налог на наследство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ля расчета подоходного налога доход делится на 6 частей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ходы от имущества: земли, строений и сооружений сдаваемых внаем жилых домов или кварти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ходы от лесных массивов, используемых в коммерческих целя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ходы от государственных ценных бума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ходы от производственной коммерческой деятельност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работная плата, пенсии, пособия и прочие трудовые доход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ивиденды и другие выплаты, осуществляемые компаниями Великобритан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доходный налог взимается за год начиная с 6 апрел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инимальная ставка подоходного налога - 20 %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animClr clrSpc="rgb">
                                      <p:cBhvr>
                                        <p:cTn id="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set>
                                      <p:cBhvr>
                                        <p:cTn id="6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Налог на капитал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зимается при реализации некоторых видов капитальных активов, которая приносит прибыл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целях улучшения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нвестиционного климата в марте 2000 г. с 40 до 10 % снижен налог на прирост капитала по активам, приобретенным не менее 4-х лет назад, уменьшены ставки по активам с более коротким сроком владения. Введена система "0%-ного амортизационного списания в первый год использования информационного оборудов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Налог на наследство и др. налог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лагается имущество, полученное по завещанию, а также завещанные дары, переданные в течение 7-ми лет после смерти. Другие перемещения имущества налогом не облагаются. Не подлежат налогу на наследство переход собственности от супруга к супругу и дары и пожертвования британским благотворительным фондам и основным политическим партиям. Ставка налога на наследство — 40 %. Но только около 3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%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сех случаев наследования облагаются этим налог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 прямым налогам можно отнести взносы на нужды социального страхования, расходуемые на выплату пенсий и пособий.Эти взносы уплачиваю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♦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ица наемного труда и работодатели по дифференцированным ставка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♦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самозанятые», т.е. лица, не состоящие в отношениях найма, уплачивают взносы по твердой ставке — 5,35 ф. ст. в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делю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♦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работающие граждане или граждане, которые не могут быть причислены к первым двум классам, — 5,25 ф. ст. в неделю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♦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самозанятые», если их доход превышает некоторую сумму, по ставке 6,3 %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2000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Финансовая система Великобрита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Особенности экономического развития Великобритании на современном этап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Денежная и кредитная система Великобритан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 </a:t>
            </a:r>
            <a:r>
              <a:rPr b="0" lang="en-US" sz="2800" spc="-1" strike="noStrike" u="sng">
                <a:solidFill>
                  <a:srgbClr val="a3c145"/>
                </a:solidFill>
                <a:uFillTx/>
                <a:latin typeface="Tahoma"/>
                <a:hlinkClick r:id="rId1" action="ppaction://hlinksldjump"/>
              </a:rPr>
              <a:t>Бюджетная и финансовая система Великобритан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225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Налоговая система Великобритан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64072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Косвенные налоги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 системе налогообложения Великобритании составляют меньшую долю, чем прямые . Главное место среди косвенных налогов занимает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налог на добавленную стоимость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о доле в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доходах он стоит на втором месте после подоходного налога и формирует примерно 17 % бюджета страны. Налог на добавленную стоимость был введен 1 апреля 1973 г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Базой обложения НДС является стоимость, добавленная на каждой стадии производства и реализации товаров и услуг. Стандартная ставка НДС -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17,5 %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Пониженная ставка, 5 %, применяется для домашнего топлива и энергии, а также энергосберегающих материал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торое место в группе косвенных налогов Великобритании занимают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акцизы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Нефтепродукты, используемые как топливо, облагаются более высокими акцизами, чем идущие на другие цел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301680" y="259920"/>
            <a:ext cx="854064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Некоторые переходы собственности из рук в руки облагаются еще одним косвенным налогом -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гербовым сбором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Это самые старые налоги в Великобритании. Впервые они были введены в 1694 г. как налоги на документы, а не на сделки. По закону 1891 г., который действует с некоторыми изменениями и поныне, налог взимается при оформлении гражданско-правовых сделок. Передача акций облагается гербовым сбором в размере 0;5 % стоимости передаваемой собственност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К косвенным также относятся налог с игорного бизнеса, сборы с бегов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конные скачки, собачьи бега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692360" y="3716280"/>
            <a:ext cx="6048360" cy="720720"/>
          </a:xfrm>
          <a:prstGeom prst="rect">
            <a:avLst/>
          </a:prstGeom>
          <a:solidFill>
            <a:srgbClr val="333399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рганы местного самоуправления имею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ва основных источников дох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042920" y="4941720"/>
            <a:ext cx="3024360" cy="505080"/>
          </a:xfrm>
          <a:prstGeom prst="rect">
            <a:avLst/>
          </a:prstGeom>
          <a:solidFill>
            <a:srgbClr val="333399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убсидии правитель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076720" y="4941720"/>
            <a:ext cx="3025800" cy="503280"/>
          </a:xfrm>
          <a:prstGeom prst="rect">
            <a:avLst/>
          </a:prstGeom>
          <a:solidFill>
            <a:srgbClr val="333399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естные налог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rot="10800000">
            <a:off x="2339640" y="4508280"/>
            <a:ext cx="360360" cy="360360"/>
          </a:xfrm>
          <a:prstGeom prst="downArrow">
            <a:avLst>
              <a:gd name="adj1" fmla="val 55074"/>
              <a:gd name="adj2" fmla="val 40532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rot="10800000">
            <a:off x="6443280" y="45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301680" y="188640"/>
            <a:ext cx="8540640" cy="59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сновным местным налогом является налог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на имущество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н взимается с собственников или арендаторов недвижимого имущества. Плательщиками налога являются лица, снимающие жилье и вносящие квартирную плату. Оценка стоимости недвижимого имущества проводится раз в 10 лет. Она представляет собой предполагаемую сумму годового дохода от сдачи имущества в аренду. Ставки налогообложения устанавливаются муниципалитетами в зависимости от степени потребности в финансовых ресурсах, поэтому заметно колеблются по графствам и городам Великобритан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156000" y="188640"/>
            <a:ext cx="298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Налоговые органы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680" y="1125360"/>
            <a:ext cx="8540640" cy="49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Казначейство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750600" y="2565360"/>
            <a:ext cx="441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Управление внутренних доходов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292720" y="256536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Управление пошлин и акциз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796000" y="1773360"/>
            <a:ext cx="720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3348000" y="1773360"/>
            <a:ext cx="50328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900000" y="335772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онтора главного налогового инспектора в Лондоне +700 контор по всей стра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372360" y="3284640"/>
            <a:ext cx="208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беспечение процесса функционирования всех косвенных налогов стра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3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3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3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3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Особенности экономического развития Великобритании на современном этапе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7640" y="1025280"/>
            <a:ext cx="8783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749"/>
              </a:spcAft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еликобритания (Объединенное Королевство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– островное государство, большая часть территории которого расположена на двух крупных островах, разделенных водами Ирландского мор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749"/>
              </a:spcAft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фициально страна называется Объединенное Королевство Великобритании и Северной Ирландии. В его состав  входят четыре страны: Англия, Шотландия и  Уэльс, расположенные на острове Британия, и Северная Ирландия. Последняя расположена на одном острове с Независимой Республикой Ирландия. Таким образом, общую сухопутную границу Великобритания имеет только с Ирландией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749"/>
              </a:spcAft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Столиц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Королевства –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.Лондо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749"/>
              </a:spcAft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Общая площадь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составляет 244 820 кв.км., из которой суши – 241 590 кв.к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воды – 3 290 кв.к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749"/>
              </a:spcAft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 июль 2008 г.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население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Британии оценивается в 60 776 238 чел., из них англичан – 80%, шотландцев – 15%. Экономически активного населения 67%;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средний возраст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жителя Великобритании – 39 лет и 4 месяц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89647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ffffff"/>
                </a:solidFill>
                <a:uFillTx/>
                <a:latin typeface="Times New Roman"/>
              </a:rPr>
              <a:t>Форма правления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 – парламентская </a:t>
            </a:r>
            <a:r>
              <a:rPr b="1" lang="ru-RU" sz="2300" spc="-1" strike="noStrike" u="sng">
                <a:solidFill>
                  <a:srgbClr val="ffffff"/>
                </a:solidFill>
                <a:uFillTx/>
                <a:latin typeface="Times New Roman"/>
              </a:rPr>
              <a:t>монархия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. Глава правительства – премьер-министр (Энтони Блэр, лейборист), глава государства – монарх (Великобританией правит королева Елизавета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 с 6 февраля 1952г.)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spcAft>
                <a:spcPts val="4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Парламент состоит из палаты лордов и палаты общин. Исполнительная власть распределена между кабинетом министров (20 человек) и правительством (100 человек)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ffffff"/>
                </a:solidFill>
                <a:uFillTx/>
                <a:latin typeface="Times New Roman"/>
              </a:rPr>
              <a:t>Общий ВВП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 – 859,1 млрд. ф.ст., </a:t>
            </a:r>
            <a:r>
              <a:rPr b="0" lang="ru-RU" sz="2300" spc="-1" strike="noStrike" u="sng">
                <a:solidFill>
                  <a:srgbClr val="ffffff"/>
                </a:solidFill>
                <a:uFillTx/>
                <a:latin typeface="Times New Roman"/>
              </a:rPr>
              <a:t>ВВП на душу населения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 равен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30 721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$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 ВНП – 16 070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$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По уровню социально-экономического развития Великобритания относиться к наиболее благополучным странам мира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В рейтинге стран по индексу развития человеческого потенциала Королевство стоит на 18-м месте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Процент </a:t>
            </a:r>
            <a:r>
              <a:rPr b="0" lang="ru-RU" sz="2300" spc="-1" strike="noStrike" u="sng">
                <a:solidFill>
                  <a:srgbClr val="ffffff"/>
                </a:solidFill>
                <a:uFillTx/>
                <a:latin typeface="Times New Roman"/>
              </a:rPr>
              <a:t>экономически активного населения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 (люди в возрасте от 15 до 64 лет) на 2008 г. – 67% или 30,07 млн.человек. Из них в сфере промышленности занято 23,7%, сфере услуг – 75,8% и в сельском хозяйстве до 0,5%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ffffff"/>
                </a:solidFill>
                <a:uFillTx/>
                <a:latin typeface="Times New Roman"/>
              </a:rPr>
              <a:t>Безработица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 составляет –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5,4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ffffff"/>
                </a:solidFill>
                <a:uFillTx/>
                <a:latin typeface="Times New Roman"/>
              </a:rPr>
              <a:t>Внешний долг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$10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 450 000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млн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5760" y="188640"/>
            <a:ext cx="82929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2 Денежная и кредитная системы Великобритани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енежная единица Великобритании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фунт стерлинго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появилась на Британских островах и из одного фунта серебра чеканили 240 пенсов, вследствие чего и появилось название «фунт стерлингов»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уществовавшая на протяжении четырех веков биметаллическая денежная система, была прекращена законом о золотом стандарте от 1816 г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1925 по 1931 г. просуществовал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золотослитковый стандарт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который сменила существующая ныне система неразменных кредитных денег. В 1925—1928 гг. была проведена денежная реформа, во время которой из обращения изымались казначейские билет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1931 г. Великобритания возглавила стерлинговый блок, преобразованный в начале Второй мировой войны в стерлинговую зону, на которую приходилось около 1/6 мирового товарного оборот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178920" y="404280"/>
            <a:ext cx="87138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55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К концу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XVII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века Англия оказалась на грани финансового краха. 50 лет почти непрерывных войн с Францией истощили экономику страны. Тогда правительственные чиновники решили создать банк Англии, который основан актом парламента 27 июля 1694 г. Капитал Банка представлял собой первый Государственный долг Великобритании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55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Банк функционировал как акционерная компания, включавшая 1268 акционеров. Банкноты Банка Англии могли свободно обмениваться на обращавшиеся металлические монеты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1987 г. Банк Англии получил дополнительные права и обязанности по надзору за банковской деятельностью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566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настоящее время Банк Англии осуществляет свою деятельность исходя из трех приоритетных целей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оддержка стоимости национальной валют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обеспечение стабильности финансовой систем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обеспечение и повышение эффективности и конкурентоспособности финансовой системы внутри страны и на международной арен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250920" y="549000"/>
            <a:ext cx="854064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Банк Англии выполняет следующие функции: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a3c14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лужит банком для коммерческих и других центральных банков, а также для правительств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a3c14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еализует монетарную политику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a3c14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является эмитентом банкнот и друг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ервая функция Банка Англии обслуживает три крупные группы клиентов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оммерческие банк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центральные банки других стран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авительств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Главной целью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онетарной политики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еликобритан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является достижение ценовой стабиль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Банковская система Великобритании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289080" y="1197000"/>
            <a:ext cx="8584200" cy="4839480"/>
            <a:chOff x="289080" y="1197000"/>
            <a:chExt cx="8584200" cy="4839480"/>
          </a:xfrm>
        </p:grpSpPr>
        <p:cxnSp>
          <p:nvCxnSpPr>
            <p:cNvPr id="410" name="_s176182"/>
            <p:cNvCxnSpPr/>
            <p:nvPr/>
          </p:nvCxnSpPr>
          <p:spPr>
            <a:xfrm flipV="1" rot="16200000">
              <a:off x="5412240" y="2936880"/>
              <a:ext cx="838080" cy="1224360"/>
            </a:xfrm>
            <a:prstGeom prst="bentConnector3">
              <a:avLst>
                <a:gd name="adj1" fmla="val 14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11" name="_s176180"/>
            <p:cNvCxnSpPr>
              <a:stCxn id="412" idx="3"/>
            </p:cNvCxnSpPr>
            <p:nvPr/>
          </p:nvCxnSpPr>
          <p:spPr>
            <a:xfrm flipH="1" flipV="1">
              <a:off x="6947280" y="3756600"/>
              <a:ext cx="1812240" cy="673200"/>
            </a:xfrm>
            <a:prstGeom prst="bentConnector3">
              <a:avLst>
                <a:gd name="adj1" fmla="val -62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13" name="_s176176"/>
            <p:cNvCxnSpPr>
              <a:stCxn id="414" idx="0"/>
              <a:endCxn id="415" idx="2"/>
            </p:cNvCxnSpPr>
            <p:nvPr/>
          </p:nvCxnSpPr>
          <p:spPr>
            <a:xfrm flipH="1" flipV="1" rot="5400000">
              <a:off x="4332960" y="3214440"/>
              <a:ext cx="702720" cy="1018080"/>
            </a:xfrm>
            <a:prstGeom prst="bentConnector3">
              <a:avLst>
                <a:gd name="adj1" fmla="val 1629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16" name="_s176174"/>
            <p:cNvCxnSpPr>
              <a:stCxn id="417" idx="3"/>
              <a:endCxn id="418" idx="2"/>
            </p:cNvCxnSpPr>
            <p:nvPr/>
          </p:nvCxnSpPr>
          <p:spPr>
            <a:xfrm flipV="1">
              <a:off x="2250720" y="3371760"/>
              <a:ext cx="388800" cy="904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19" name="_s176172"/>
            <p:cNvCxnSpPr/>
            <p:nvPr/>
          </p:nvCxnSpPr>
          <p:spPr>
            <a:xfrm flipV="1">
              <a:off x="6801480" y="3356640"/>
              <a:ext cx="127800" cy="2230920"/>
            </a:xfrm>
            <a:prstGeom prst="bentConnector4">
              <a:avLst>
                <a:gd name="adj1" fmla="val 113841"/>
                <a:gd name="adj2" fmla="val 5981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20" name="_s176170"/>
            <p:cNvCxnSpPr>
              <a:stCxn id="421" idx="0"/>
            </p:cNvCxnSpPr>
            <p:nvPr/>
          </p:nvCxnSpPr>
          <p:spPr>
            <a:xfrm flipH="1" flipV="1" rot="5400000">
              <a:off x="1748520" y="4277880"/>
              <a:ext cx="1730160" cy="27720"/>
            </a:xfrm>
            <a:prstGeom prst="bentConnector3">
              <a:avLst>
                <a:gd name="adj1" fmla="val 659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22" name="_s176168"/>
            <p:cNvCxnSpPr>
              <a:stCxn id="423" idx="0"/>
              <a:endCxn id="415" idx="2"/>
            </p:cNvCxnSpPr>
            <p:nvPr/>
          </p:nvCxnSpPr>
          <p:spPr>
            <a:xfrm flipH="1" flipV="1" rot="5400000">
              <a:off x="4299120" y="4262760"/>
              <a:ext cx="1784880" cy="3240"/>
            </a:xfrm>
            <a:prstGeom prst="bentConnector3">
              <a:avLst>
                <a:gd name="adj1" fmla="val 639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24" name="_s176166"/>
            <p:cNvCxnSpPr>
              <a:stCxn id="425" idx="0"/>
              <a:endCxn id="426" idx="2"/>
            </p:cNvCxnSpPr>
            <p:nvPr/>
          </p:nvCxnSpPr>
          <p:spPr>
            <a:xfrm flipV="1" rot="16200000">
              <a:off x="6078240" y="1188720"/>
              <a:ext cx="416160" cy="2191320"/>
            </a:xfrm>
            <a:prstGeom prst="bentConnector3">
              <a:avLst>
                <a:gd name="adj1" fmla="val 2744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27" name="_s176165"/>
            <p:cNvCxnSpPr>
              <a:stCxn id="415" idx="0"/>
              <a:endCxn id="426" idx="2"/>
            </p:cNvCxnSpPr>
            <p:nvPr/>
          </p:nvCxnSpPr>
          <p:spPr>
            <a:xfrm flipV="1" rot="16200000">
              <a:off x="4983480" y="2282760"/>
              <a:ext cx="416160" cy="3240"/>
            </a:xfrm>
            <a:prstGeom prst="bentConnector3">
              <a:avLst>
                <a:gd name="adj1" fmla="val 2744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28" name="_s176164"/>
            <p:cNvCxnSpPr>
              <a:stCxn id="418" idx="0"/>
              <a:endCxn id="426" idx="2"/>
            </p:cNvCxnSpPr>
            <p:nvPr/>
          </p:nvCxnSpPr>
          <p:spPr>
            <a:xfrm flipH="1" flipV="1" rot="5400000">
              <a:off x="3706560" y="1008360"/>
              <a:ext cx="416160" cy="2552400"/>
            </a:xfrm>
            <a:prstGeom prst="bentConnector3">
              <a:avLst>
                <a:gd name="adj1" fmla="val 2744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426" name="_s176160"/>
            <p:cNvSpPr/>
            <p:nvPr/>
          </p:nvSpPr>
          <p:spPr>
            <a:xfrm>
              <a:off x="4209480" y="1197000"/>
              <a:ext cx="1961640" cy="87984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ahoma"/>
                </a:rPr>
                <a:t>Банк Англии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_s176161"/>
            <p:cNvSpPr/>
            <p:nvPr/>
          </p:nvSpPr>
          <p:spPr>
            <a:xfrm>
              <a:off x="1764360" y="2492640"/>
              <a:ext cx="1750320" cy="87984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Розничные банк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_s176162"/>
            <p:cNvSpPr/>
            <p:nvPr/>
          </p:nvSpPr>
          <p:spPr>
            <a:xfrm>
              <a:off x="4284720" y="2492640"/>
              <a:ext cx="1815840" cy="87984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Оптовые банк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_s176163"/>
            <p:cNvSpPr/>
            <p:nvPr/>
          </p:nvSpPr>
          <p:spPr>
            <a:xfrm>
              <a:off x="6586920" y="2492640"/>
              <a:ext cx="1587240" cy="87984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Заграничные банк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_s176167"/>
            <p:cNvSpPr/>
            <p:nvPr/>
          </p:nvSpPr>
          <p:spPr>
            <a:xfrm>
              <a:off x="4209480" y="5156640"/>
              <a:ext cx="1961640" cy="87984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Эмиссионны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дом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_s176169"/>
            <p:cNvSpPr/>
            <p:nvPr/>
          </p:nvSpPr>
          <p:spPr>
            <a:xfrm>
              <a:off x="1619280" y="5156640"/>
              <a:ext cx="1961640" cy="87984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Депозитные банк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_s176171"/>
            <p:cNvSpPr/>
            <p:nvPr/>
          </p:nvSpPr>
          <p:spPr>
            <a:xfrm>
              <a:off x="6823080" y="5156640"/>
              <a:ext cx="1961640" cy="87984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Британские банк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за границей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_s176173"/>
            <p:cNvSpPr/>
            <p:nvPr/>
          </p:nvSpPr>
          <p:spPr>
            <a:xfrm>
              <a:off x="289080" y="3836880"/>
              <a:ext cx="1961640" cy="87984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Сберегательны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банк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_s176175"/>
            <p:cNvSpPr/>
            <p:nvPr/>
          </p:nvSpPr>
          <p:spPr>
            <a:xfrm>
              <a:off x="3419640" y="4075200"/>
              <a:ext cx="1511640" cy="87984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Торговы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банк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_s176179"/>
            <p:cNvSpPr/>
            <p:nvPr/>
          </p:nvSpPr>
          <p:spPr>
            <a:xfrm>
              <a:off x="7163280" y="3989880"/>
              <a:ext cx="1595880" cy="879840"/>
            </a:xfrm>
            <a:prstGeom prst="roundRect">
              <a:avLst>
                <a:gd name="adj" fmla="val 50000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Заграничны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банк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Великобритани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_s176181"/>
            <p:cNvSpPr/>
            <p:nvPr/>
          </p:nvSpPr>
          <p:spPr>
            <a:xfrm>
              <a:off x="5362920" y="3989880"/>
              <a:ext cx="1223640" cy="87984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Акцептны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дом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5:33:35Z</dcterms:created>
  <dc:creator>COMP</dc:creator>
  <dc:description/>
  <dc:language>en-US</dc:language>
  <cp:lastModifiedBy>test</cp:lastModifiedBy>
  <dcterms:modified xsi:type="dcterms:W3CDTF">2009-03-30T16:54:21Z</dcterms:modified>
  <cp:revision>35</cp:revision>
  <dc:subject/>
  <dc:title>Слайд 1</dc:title>
</cp:coreProperties>
</file>