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670-4A99-4428-BF1C-BC13064C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7FD-53AC-4195-8AAC-541919A1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FC4-2F58-4CAC-ADCF-555BFAB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B60-2A93-4C49-BB8B-C8189064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EBFE-8985-43D6-B839-E44C6161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8D71-7A79-4F9F-83C9-617319CD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2F5E-6DE7-4CDD-A84E-E282AC3E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93CC-4F4A-4DF9-955E-249384B1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0E73-DC1E-49BA-8583-DC4EEE9A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60DA-68C9-439E-9DE3-BEC906E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D2BE-1019-4273-8F77-685DC45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DD2-381C-4903-9449-BA07494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A46-ED78-45E0-993A-ACBEB8D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C168-34B9-40BE-8D4B-4D99F8B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D8DE-0553-4AF6-BB50-8647ADA9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EE4-19F1-4A46-A26A-7DC12D05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B6A-36B1-4E81-ABD6-33909125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580-6419-49D6-B455-63C05735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43A-B556-4F34-8DA8-0292A999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D00-F0FF-4631-9A7A-9A50680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BC9-0E42-4B00-872A-F523B8F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143-A8A6-45E9-A694-8AB1651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209-58AF-4ABE-A91F-DADBF717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C99-6C8B-40C1-B41C-6D34BDB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337-D85D-485C-B071-07A69A0B7AD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7B7B-E9A0-4365-B7E7-C75FC1603AE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7871040" cy="286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201600" y="493560"/>
            <a:ext cx="8588520" cy="455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523800" y="993600"/>
            <a:ext cx="7785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6360" y="493560"/>
            <a:ext cx="8869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6360" y="493560"/>
            <a:ext cx="87537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13840" y="5000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пония -   высокоразвитая  страна.  Располагая  2,5%  населения земли и 0,3%  площади,  она к настоящему времени по  своему экономическому потенциалу прочно закрепилась на 2-м после США месте в капиталистическом мире.  ВНП  страны (около  2,4 трлн.  $ в 1987) превышает 11%  мирового ВНП, по объему ВНП на душу населения Япония опередила США. На долю  Японии приходится около 12%  мирового промышленного производства.  Страна занимает первое место по производству судов, автомобилей, тракторов, металлообрабатывающего оборудования,  бытовой электронной техники,  роботов. Статистические данные  свидетельствуют  о  том,  что несмотря на значительное ухудшение конъюнктуры  в  мировом  капиталистическом хозяйстве, японская экономика в 80-е годы развивалась более высокими темпами, чем экономика стран Западной Европы и США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71680" y="714240"/>
            <a:ext cx="824832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на по прежнему лидирует в темпах роста;  ее валовый национальный продукт превзошел  ВНП Англии  и Франции,  вместе взятых;  в 1984 г.  он составил 1233,5 млрд.  $.  Огромных масштабов достигла внешняя торговля Японии: экспорт в 1984 г. составил более 146 млн. $, импорт - более 126 млрд. $.  Японские товары все  прочнее  занимают ведущие позиции на мировом рынке, вытесняя традиционно лидировавшие американские и западноевропейские  изделия  и  зачастую вызывая почти паническую реакцию конкурент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682560" y="1066680"/>
            <a:ext cx="79488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00:39Z</dcterms:created>
  <dc:creator>Admin</dc:creator>
  <dc:description/>
  <dc:language>en-US</dc:language>
  <cp:lastModifiedBy>Customer</cp:lastModifiedBy>
  <dcterms:modified xsi:type="dcterms:W3CDTF">2011-06-08T08:47:39Z</dcterms:modified>
  <cp:revision>41</cp:revision>
  <dc:subject/>
  <dc:title>Слайд 1</dc:title>
</cp:coreProperties>
</file>