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1F2-A606-48E1-A480-AA8FFD02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A8F-EC4A-4ACF-A375-4F9DA6F7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FCE-1391-46B4-B90D-C25FDB58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3F1-4678-45B5-A938-EA890EB7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2B7D-5B4C-496A-BD6C-A01CEDF3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CB5-65A1-4A68-AE90-C9C4F7F5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0134-57D0-489A-BBB8-F144A05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5B38-4DD9-4261-BFCD-F1C8B92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718-55DB-402D-8393-060A790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DC80-4148-4EC6-BA87-3361DF1D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A8F0-C3C9-4BEB-8E97-0752B2F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0D5-FB3B-4875-BA23-7092F6A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2A80-983B-4BC9-B680-6603FA0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5CBF-010D-447D-8CF4-279964F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D742-2F9A-43C5-B1E5-246299B0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AD1-648D-4B9D-9602-A68F0DA8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FA83-F9F6-4963-A693-9609FBBD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7CFE-C343-4499-AFC3-DCB951F6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37452-CBA7-4B98-894D-47E92C4D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C46FD-A0A9-4446-BE35-05D6A83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D17DF-8057-4C3F-86DA-26E906F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5B1AE-B68E-4ACC-A37B-6E9B25F0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D60-7E97-4F06-BDA1-D2B6C27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A58B4-F031-47CA-972A-4560E10C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7A864-8AAC-4DFE-97FF-59B9E7F1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CF435-A1EF-4239-9EBA-D727398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CF9EA-D6D4-4873-852B-D3C3FD9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9C30E-6373-4CC1-AE70-2E5480E2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DF185-9C55-431F-A01D-DD97BBE4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7A1D0-FAD6-4EB8-B317-B66ED95B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8BBC-5D02-4D52-B4BA-E3DDE47A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CC9C-8581-4BB7-B386-C2347D9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91296-B3E1-45DD-A9F8-9C45222B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B97-79B1-4290-90E3-7AA69987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526A-65C0-4B40-A20B-3BD8F238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D9B5-B389-423C-867D-31A594A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635A-7D13-45B3-A65D-330D42E4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F41B-349C-4F34-8036-898DEFB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448F-A8F0-4141-B04D-2118F1F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F871-5618-4B3F-B874-F929504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7537-222E-4103-A55D-913460F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82EF-19E4-454A-9ED7-CEC9D0A0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A5FC-4A81-4666-BB1B-CFB1CA4A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6320-5E29-44E8-9863-71C7E5FC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524-DB35-439F-A001-9FA01AF6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4A01D-25FE-400A-9B1B-2A09F36A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071A-0A8F-4FD5-A8B0-14EAF8D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A2D4-76F7-47EE-836F-C75DA47F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5133-204F-47C2-996E-7A511EB7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DA3E-BF16-4AF2-B846-00C57200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8BC33-AB70-4657-9498-69CD648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9D93-FCDD-4694-8D1C-8B53A09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2441-C4AF-42AF-87A4-1D4B547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1E13-0636-43FE-A626-34F636B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50B8-6A20-45F4-9FBA-CBA3CBB5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E05-7FD1-400F-BFF7-4B93366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6054-2FC3-401A-8613-86EB7894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2DA1-42B0-4C3A-B112-C7D4ED04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3D4C-534B-4FCE-8E6C-76CD52FE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A6D1-4CB1-4B89-97BA-E5D9731B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882C-7AC8-4884-9720-6854EFB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3A24E-6B51-4B24-A4CB-8F82B5CD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09D6-EB76-42B2-B4A5-80A98C8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68B7-DC74-4333-8AFB-151A57B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919EA-F2B6-4E06-B356-182128F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C9E4-7387-41C7-9308-5527461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86F-2A90-4A4F-BC39-0EF77F3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C733-9D6F-46E4-A2F6-CF029E9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80F3-7C4C-432C-8301-DC534F3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70C3-639A-4FD8-9243-8E8E1505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C89-ED51-48DC-8D4B-38B2D46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309-6572-4D3B-A25B-1B4815A5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948B-4C50-4A48-8702-5E8065BB7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8D1-C4B7-4FE0-99FC-766BD7B1E51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9F82-BFCF-42F9-B640-E5665866A0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027-9F72-492A-8553-D785020C9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4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5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DA2-69E8-4395-A720-F680F6D9C5F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E84-D2DB-4719-8580-F759DD747F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FZG/files/Book/Tema5.htm#z1#z1" TargetMode="External"/><Relationship Id="rId2" Type="http://schemas.openxmlformats.org/officeDocument/2006/relationships/hyperlink" Target="file:///FZG/files/Book/Tema5.htm#z2#z2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3;&#1086;&#1089;&#1091;&#1076;&#1072;&#1088;&#1089;&#1090;&#1074;&#1086;" TargetMode="External"/><Relationship Id="rId3" Type="http://schemas.openxmlformats.org/officeDocument/2006/relationships/hyperlink" Target="http://ru.wikipedia.org/wiki/&#1047;&#1077;&#1084;&#1083;&#1080;_&#1043;&#1077;&#1088;&#1084;&#1072;&#1085;&#1080;&#1080;" TargetMode="External"/><Relationship Id="rId4" Type="http://schemas.openxmlformats.org/officeDocument/2006/relationships/hyperlink" Target="http://ru.wikipedia.org/wiki/&#1045;&#1074;&#1088;&#1086;&#1087;&#1077;&#1081;&#1089;&#1082;&#1080;&#1081;_&#1089;&#1086;&#1102;&#1079;" TargetMode="External"/><Relationship Id="rId5" Type="http://schemas.openxmlformats.org/officeDocument/2006/relationships/hyperlink" Target="http://ru.wikipedia.org/wiki/&#1053;&#1040;&#1058;&#1054;" TargetMode="External"/><Relationship Id="rId6" Type="http://schemas.openxmlformats.org/officeDocument/2006/relationships/hyperlink" Target="http://ru.wikipedia.org/wiki/&#1042;&#1086;&#1081;&#1085;&#1072;_&#1053;&#1040;&#1058;&#1054;_&#1087;&#1088;&#1086;&#1090;&#1080;&#1074;_&#1070;&#1075;&#1086;&#1089;&#1083;&#1072;&#1074;&#1080;&#1080;" TargetMode="External"/><Relationship Id="rId7" Type="http://schemas.openxmlformats.org/officeDocument/2006/relationships/hyperlink" Target="http://ru.wikipedia.org/wiki/&#1041;&#1086;&#1083;&#1100;&#1096;&#1072;&#1103;_&#1074;&#1086;&#1089;&#1100;&#1084;&#1105;&#1088;&#1082;&#1072;" TargetMode="External"/><Relationship Id="rId8" Type="http://schemas.openxmlformats.org/officeDocument/2006/relationships/hyperlink" Target="http://ru.wikipedia.org/wiki/&#1057;&#1086;&#1074;&#1077;&#1090;_&#1041;&#1077;&#1079;&#1086;&#1087;&#1072;&#1089;&#1085;&#1086;&#1089;&#1090;&#1080;_&#1054;&#1054;&#1053;" TargetMode="External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43" TargetMode="External"/><Relationship Id="rId2" Type="http://schemas.openxmlformats.org/officeDocument/2006/relationships/hyperlink" Target="http://ru.wikipedia.org/wiki/18_&#1103;&#1085;&#1074;&#1072;&#1088;&#1103;" TargetMode="External"/><Relationship Id="rId3" Type="http://schemas.openxmlformats.org/officeDocument/2006/relationships/hyperlink" Target="http://ru.wikipedia.org/wiki/187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49" TargetMode="External"/><Relationship Id="rId6" Type="http://schemas.openxmlformats.org/officeDocument/2006/relationships/hyperlink" Target="http://ru.wikipedia.org/wiki/3_&#1086;&#1082;&#1090;&#1103;&#1073;&#1088;&#1103;" TargetMode="External"/><Relationship Id="rId7" Type="http://schemas.openxmlformats.org/officeDocument/2006/relationships/hyperlink" Target="http://ru.wikipedia.org/wiki/1990" TargetMode="External"/><Relationship Id="rId8" Type="http://schemas.openxmlformats.org/officeDocument/2006/relationships/hyperlink" Target="http://ru.wikipedia.org/wiki/&#1057;&#1090;&#1086;&#1083;&#1080;&#1094;&#1072;" TargetMode="External"/><Relationship Id="rId9" Type="http://schemas.openxmlformats.org/officeDocument/2006/relationships/hyperlink" Target="http://ru.wikipedia.org/wiki/&#1041;&#1077;&#1088;&#1083;&#1080;&#1085;" TargetMode="External"/><Relationship Id="rId10" Type="http://schemas.openxmlformats.org/officeDocument/2006/relationships/hyperlink" Target="http://ru.wikipedia.org/wiki/&#1060;&#1077;&#1076;&#1077;&#1088;&#1072;&#1094;&#1080;&#1103;" TargetMode="External"/><Relationship Id="rId11" Type="http://schemas.openxmlformats.org/officeDocument/2006/relationships/hyperlink" Target="http://ru.wikipedia.org/wiki/&#1055;&#1072;&#1088;&#1083;&#1072;&#1084;&#1077;&#1085;&#1090;&#1072;&#1088;&#1085;&#1072;&#1103;_&#1088;&#1077;&#1089;&#1087;&#1091;&#1073;&#1083;&#1080;&#1082;&#1072;" TargetMode="External"/><Relationship Id="rId12" Type="http://schemas.openxmlformats.org/officeDocument/2006/relationships/hyperlink" Target="http://ru.wikipedia.org/wiki/&#1041;&#1091;&#1085;&#1076;&#1077;&#1089;&#1082;&#1072;&#1085;&#1094;&#1083;&#1077;&#1088;" TargetMode="External"/><Relationship Id="rId13" Type="http://schemas.openxmlformats.org/officeDocument/2006/relationships/hyperlink" Target="http://ru.wikipedia.org/wiki/&#1052;&#1077;&#1088;&#1082;&#1077;&#1083;&#1100;,_&#1040;&#1085;&#1075;&#1077;&#1083;&#1072;" TargetMode="External"/><Relationship Id="rId14" Type="http://schemas.openxmlformats.org/officeDocument/2006/relationships/hyperlink" Target="http://ru.wikipedia.org/wiki/&#1058;&#1077;&#1088;&#1088;&#1080;&#1090;&#1086;&#1088;&#1080;&#1103;" TargetMode="External"/><Relationship Id="rId15" Type="http://schemas.openxmlformats.org/officeDocument/2006/relationships/hyperlink" Target="http://ru.wikipedia.org/wiki/&#1053;&#1072;&#1089;&#1077;&#1083;&#1077;&#1085;&#1080;&#1077;" TargetMode="External"/><Relationship Id="rId16" Type="http://schemas.openxmlformats.org/officeDocument/2006/relationships/hyperlink" Target="http://ru.wikipedia.org/wiki/2008" TargetMode="External"/><Relationship Id="rId17" Type="http://schemas.openxmlformats.org/officeDocument/2006/relationships/hyperlink" Target="http://ru.wikipedia.org/wiki/&#1055;&#1083;&#1086;&#1090;&#1085;&#1086;&#1089;&#1090;&#1100;_&#1085;&#1072;&#1089;&#1077;&#1083;&#1077;&#1085;&#1080;&#1103;" TargetMode="External"/><Relationship Id="rId18" Type="http://schemas.openxmlformats.org/officeDocument/2006/relationships/hyperlink" Target="http://ru.wikipedia.org/wiki/&#1057;&#1087;&#1080;&#1089;&#1086;&#1082;_&#1089;&#1090;&#1088;&#1072;&#1085;_&#1087;&#1086;_&#1042;&#1042;&#1055;" TargetMode="External"/><Relationship Id="rId1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Frankfurt_Germany_0407[1]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gerb[1]"/>
          <p:cNvPicPr/>
          <p:nvPr/>
        </p:nvPicPr>
        <p:blipFill>
          <a:blip r:embed="rId2"/>
          <a:stretch/>
        </p:blipFill>
        <p:spPr>
          <a:xfrm>
            <a:off x="0" y="0"/>
            <a:ext cx="1390680" cy="1628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flag[1]"/>
          <p:cNvPicPr/>
          <p:nvPr/>
        </p:nvPicPr>
        <p:blipFill>
          <a:blip r:embed="rId3"/>
          <a:stretch/>
        </p:blipFill>
        <p:spPr>
          <a:xfrm>
            <a:off x="6300720" y="0"/>
            <a:ext cx="2158920" cy="1295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0000" y="2276280"/>
            <a:ext cx="8244000" cy="29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Финансовая система и финансовая политика Германи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. Макроэкономическая ситуация единой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2. Денежная и кредитная системы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3. Бюджетная и финансовая системы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4. Налоговая система Герман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089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ла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6400" y="612720"/>
            <a:ext cx="7737480" cy="426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1. Макроэкономическая ситуация единой Германии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3" name="Picture 8" descr="R09SLCAQXMPAVCAAQ3NPJCAE22CRRCAHLZQ07CAFJBHVCCA83BAV2CA8BB4YACAF1UGR6CA4V9TGNCAYUTOGNCAG9FZFOCA4ER2STCA6JLEARCAR49WCACAM90P2DCABBRDLVCAUYPIY4"/>
          <p:cNvPicPr/>
          <p:nvPr/>
        </p:nvPicPr>
        <p:blipFill>
          <a:blip r:embed="rId1"/>
          <a:stretch/>
        </p:blipFill>
        <p:spPr>
          <a:xfrm>
            <a:off x="250920" y="260280"/>
            <a:ext cx="1001520" cy="10526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осударств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остоит из 16 частично независимых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земел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ермания является членом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Европей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ринимает активное участие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НАТ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(первые боевые действия после 1945-го — бомбардировк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Югослав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, входит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«Большую восьмёрку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претендует на постоянное членство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Совете Безопасности ООН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сновано</a:t>
            </a:r>
            <a:r>
              <a:rPr b="1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843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18 январ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1871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1949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3 октября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1990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толиц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Берли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а правления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Федеративна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арламентарная республ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Федеральный канцлер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Ангела Меркел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Территор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Всего-357 022 км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Насел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Всего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2008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- 82 060 000 че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 •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Плотность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230 чел./км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ВП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4-й в мир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того ВВП (2008) $3 322 147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• На душу населения $40 41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алю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вро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96760" y="612720"/>
            <a:ext cx="773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1. Макроэкономическая ситуация единой Герма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87"/>
          <p:cNvSpPr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ермания является локомотивом монетарной и политической интеграции Европейского союза. Развитие этого интеграционного объединения в большой степени зависит от динамики экономической системы ФРГ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ной занятости здесь рассчитывают достичь путем большей дифференциации заработной платы, что вполне совместимо с целями и принципами социального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дельный вес промышленных и торговых предприятий с     участием иностранного капитала равен 18 %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10_germany_photo_3[1]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2. Денежная и кредитная система Германии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ая денежно-кредитная система Германии сложилась в 1870-е гг., когда после провозглашения империи была введена денежная единица 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рейхсмарка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золотым содержанием 0,358423 г, что ознаменовало начало золотого монометалл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1976 г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олотой паритет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был отменен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 июля 1957 г., вступившего в силу 1 августа, была образована единая структура -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Немецкий федеральный банк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eutsche Bundesbank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cc"/>
                </a:solidFill>
                <a:latin typeface="Garamond"/>
              </a:rPr>
              <a:t>Немецкий федеральный банк</a:t>
            </a:r>
            <a:r>
              <a:rPr b="1" lang="ru-RU" sz="4400" spc="-1" strike="noStrike">
                <a:solidFill>
                  <a:srgbClr val="0099cc"/>
                </a:solidFill>
                <a:latin typeface="Garamond"/>
              </a:rPr>
              <a:t> </a:t>
            </a:r>
            <a:br>
              <a:rPr sz="44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Штаб-квартира во Франкфурте-на-Майне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Rectangle 148"/>
          <p:cNvSpPr/>
          <p:nvPr/>
        </p:nvSpPr>
        <p:spPr>
          <a:xfrm>
            <a:off x="468360" y="476280"/>
            <a:ext cx="3672000" cy="1224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тральные бан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49"/>
          <p:cNvSpPr/>
          <p:nvPr/>
        </p:nvSpPr>
        <p:spPr>
          <a:xfrm>
            <a:off x="5292720" y="476280"/>
            <a:ext cx="3240000" cy="115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нк немецки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мел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50"/>
          <p:cNvSpPr/>
          <p:nvPr/>
        </p:nvSpPr>
        <p:spPr>
          <a:xfrm>
            <a:off x="468360" y="2133720"/>
            <a:ext cx="3887640" cy="1150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авные управл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ойче Бундесбанка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152"/>
          <p:cNvSpPr/>
          <p:nvPr/>
        </p:nvSpPr>
        <p:spPr>
          <a:xfrm>
            <a:off x="2268360" y="1700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153"/>
          <p:cNvSpPr/>
          <p:nvPr/>
        </p:nvSpPr>
        <p:spPr>
          <a:xfrm>
            <a:off x="2268360" y="335772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154"/>
          <p:cNvSpPr/>
          <p:nvPr/>
        </p:nvSpPr>
        <p:spPr>
          <a:xfrm>
            <a:off x="6948360" y="162864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В структуру Немецкого федерального банка входят: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уководящий орган - Центральный совет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торый определяет монетарную политику страны. Возглавляет президент «Бундесбанка», в состав входят  также вице-президент и девять глав центральных банков земел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ление Немецкого федерального бан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 правлений центральных банков земел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30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вных отделений и филиал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7:46Z</dcterms:created>
  <dc:creator>д</dc:creator>
  <dc:description/>
  <dc:language>en-US</dc:language>
  <cp:lastModifiedBy>Customer</cp:lastModifiedBy>
  <dcterms:modified xsi:type="dcterms:W3CDTF">2011-06-08T08:48:10Z</dcterms:modified>
  <cp:revision>27</cp:revision>
  <dc:subject/>
  <dc:title>Финансовая система США</dc:title>
</cp:coreProperties>
</file>