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336-C6A8-40FA-8A63-5AB68F0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8C4-1BFD-4505-8C6A-DDAB8CCA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1B2-76E3-4201-8D09-DC7FEB6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952-D29F-49C8-8A1F-33F27A8B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498-D4E4-48D2-AA87-5E05B26E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507-BC2D-4729-BE65-F902AE2A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EB3B-F2F3-4A63-BBAF-56ABD80D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A5D-BBB0-4CB5-B990-AFA6E21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4F4F-9C0F-4610-849B-F5BBE45D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52CD-C57B-4094-95ED-2592732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61E0-9C20-42D3-9C8C-9E31503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3EB-AAC9-4B45-A965-328F8F2C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02E-2BFF-4C80-A9FD-2FEF474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741-614B-4907-8191-7C8C9D7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6C5-37F2-479F-BED5-2DBE8D6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9041-3904-492D-A455-3606DEC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B54-3B11-4922-98C5-F2B4015F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C03-DD7E-4F40-B58C-DEFDA9F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514-DB82-4B05-91DB-39F8E50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E59-7D55-48F8-8831-6F7DB51B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372-31DC-4D66-9CB6-7450CC15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D92-0E9B-485F-A2D9-4912D02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935-0554-4E55-A5BD-8A86C78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5DB-B658-4506-852A-895E445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BF1-01E2-457B-AA07-39725A802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5AF-9407-4FEC-8C39-CB3600B8E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7025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Методы анализа инвестиционных проектов. Анализ риск проек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86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6d1ec"/>
                </a:solidFill>
                <a:uFillTx/>
                <a:latin typeface="Monotype Corsiva"/>
              </a:rPr>
              <a:t>Анализ рисков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risk project analysis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 — методы оценки рисков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ыделяют 3 типа рис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диничный риск, когда риск проекта рассматривается изолированно, вне связи с другими проектами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ифирменный риск, когда риск проекта рассматривается в его связи с портфелем проектов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ыночный риск, когда риск проекта рассматривается в контексте диверсификации капитала акционеров предприятия на фондовом ры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ри метода проведения анализа риска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чув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ensitivity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выявления критических показателей проекта. В ходе анализа происходит проверка критериев эффективности проекта (чистой текущей стоимости и (или) внутренней нормы прибыли) в связи с изменениями исходной информации (инвестиционных и эксплуатационных издержек, цен на продукцию или услуг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сценарие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cenario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проведения А.р.п., в соответствии с которой с базовым сценарием сравниваются значения чистой текущей стоимости лучшей и худшей ситу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митационное моделирование по </a:t>
            </a:r>
            <a:r>
              <a:rPr b="0" lang="ru-RU" sz="2400" spc="-1" strike="noStrike">
                <a:solidFill>
                  <a:srgbClr val="86d1ec"/>
                </a:solidFill>
                <a:latin typeface="Monotype Corsiva"/>
              </a:rPr>
              <a:t>методу Монте-Карло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simulation modeling on MONTE-CARLO method) — методика А.р.п., основанная на анализе распределений вероятностей входных переменны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Процедура оценки и управления рис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075520" cy="508320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жизненного цикла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планирования и управления инвестиционными рисками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ланирование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ли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еализ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Управление выявленными рис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Завершение проект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одведение итогов проекта, анализ реализовавшихся рис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 практике управление проектами существует три способа снижения рис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рахова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ущность распределения риска заключается в том, чтобы сделать ответственным за риск того участника проекта, который в состоянии лучше всех рассчитывать и контролировать ри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спределение риска реализуется при разработке финансового плана проекта и контрактн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Для качественного распределения риска в проектах предлагается использовать так называемую концептуальную мод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Концептуальная модель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базируется на стандартных методах решений, основой которых является дерево «вероятностей и решений», используемое для установления последовательности решений по выбору того или иного заказа определяется на стадии формирования портфеля заказ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быль исполнителя, т.е.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оценка портфеля заказ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, может быть рассчитана по следующей формул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 = (К + У1)Р(У1) * (К + У2)Р(У2)...(К + Уn)Р(Уn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де П прибыль фирмы с учетом неопредел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 - первоначальный капитал фир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i - возможная прибыль фирмы (i = 1,2,3,...,n); n - число возможных исходов событий при выполнении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(Уi) - вероятность каждого ис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трахование рис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риск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есть по существу передача определенных рисков страховой комп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ассмотрим на примере возведения крупного строительного комплекса. Могут быть применены два основных способа страхования: имущественное страхование и страхование от несчастных случ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Имущественное страхов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может иметь следующи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риска подрядного стро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морских груз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орудования, принадлежащего подрядч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от несчастных случаев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щей гражданской ответ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профессиональной ответ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оздание резерва средств на покрытие непредвиденных расход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представляет собой способ борьбы с риском, предусматривающий установление соотношения между потенциальными рисками, влияющими на стоимость проекта, и размером расходов, необходимых для преодоления сбоев в выполнении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пределение структуры резерва на покрытие непредвиденных расходов может производиться на базе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двух под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При первом подходе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резерв делится на две части: на общий и специа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торой подход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к созданию структуры резерва предполагает определение непредвиденных расходов по видам затрат, например, на заработную плату, материалы, субконтра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риск проекта позволя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ыбрать проект по критерию наименьшего рис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равнить степень вероятности получения выгод для всех участников проекта и сопоставить значения дохода и риска по принципу — чем больше риск, тем больше доход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оработать на стадии подготовки документы, обслуживающие проект, например, сравнить выгоды от различных типов контрактов — сервисного контракта, контракта с постоянной долей продукции, контракта с изменяющимся масштабом доли продукции, контракта с фиксированной платой за единицу продукции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онятие инвестиционного проекта трактуется двоя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деятельность (мероприятие), предполагающая осуществление комплекса каких-либо действий, обеспечивающих достижение определенных ц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система, включающая определенный набор организационно-правовых и расчетно-финансовых документов, необходимых для осуществления каких-либо действий или описывающих эти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К основным методам анализа инвестиционных проектов относя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Динамическ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Статистическ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Статистические мет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татистические методы базируютс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на допущение равной значимости доходов и расходов в инвестиционной деятельности и не учитывают временную стоимость дене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К статистическим  метод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рок окупаемости инвестиций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(PP)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эффициент эффектив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аиболее важным из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рок окупаемост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, который показывает ликвидность данного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достатком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отсутствие учета фактора времен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Century Schoolbook"/>
              </a:rPr>
              <a:t>Срок окупаемости инвестиций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– это время, которое требуется чтобы инвестиция обеспечила достаточное поступление денег для возмещения инвестиционных рас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P =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∑CF&gt;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            PP 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CF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приток денежных средств в период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-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еличина исходных инвестиций на нача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n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чис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  <a:ea typeface="Arial"/>
              </a:rPr>
              <a:t>Коэффициент эффективности инвестиций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  <a:ea typeface="Arial"/>
              </a:rPr>
              <a:t> показывает какая часть инвестиционных затрат возмещается в виде прибыли в течение одного интервала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ARR = 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/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- инвестиции,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 – чистая прибыль от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Динамические мет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намические (дисконтные) методы учитывают временную стоимость денег отражают наиболее современные подходы к оценке эффективности инвестиций и преобладают в практике крупных и средних пред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 динамическим методам относят расчет таких показател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истая приведенная стоимость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декс рентабель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енняя норма прибыли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одифицированная норма прибыли (М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сконтированный срок окупаем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Чистая приведенная стоимость 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N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Этот метод основан на сопоставлении величины исходной инвестиций с общей суммой дисконтированных чистых денежных поступлений генерируемые его в течение прогнозируемого с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 = ∑ _CF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__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 = ∑ _CFt__ -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gt;0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lt;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0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0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Индекс рентабельности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PJ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Он удобен при выборе проекта из ряда альтернативных имеющие значение чистой приведенной стоимости, либо при комплектации инвестиции с максимальным суммарным значением чистой приведен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∑ _CFt__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gt; 1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lt;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нутренняя норма прибыли инвестиций </a:t>
            </a:r>
            <a:r>
              <a:rPr b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– показатель максимально допустимый относительный уровень расходов, которые могут ассоциируемые с данным проек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g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l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, то проект следует отвергну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0, то проект неприбыльный и неубыточ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Модифицированная норма прибыли (М</a:t>
            </a: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зволяет устранить  существенный недостаток внутренней нормы рентабельности проекта, который возникает в случае неоднократного оттока денежных сред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сновное отличие данного метода в том, что реинвестирование производится по безрисковой ставке, величина которой определяется на основе анализа финансового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Дисконтированный срок окупаемости инвестиций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DPP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страняет  недостаток статистического метода срока окупаемости инвестиций и учитывает стоимость денег во времени, а соответствующая формула для расчета дисконтированного срока окупаемости имеет 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 = min 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котором, очевидно, что, в случае дисконтирования срок окупаемости увеличивается, т.е. всегда </a:t>
            </a:r>
            <a:r>
              <a:rPr b="1" lang="en-US" sz="2400" spc="-1" strike="noStrike">
                <a:solidFill>
                  <a:srgbClr val="86d1ec"/>
                </a:solidFill>
                <a:latin typeface="Monotype Corsiva"/>
              </a:rPr>
              <a:t>DPP&gt;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использовании критериев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в оценке инвестиционных проектов решения могут приниматься исходя из следующих  </a:t>
            </a: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) проект принимается, если окупаемость  имеет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) проект принимается, только в том случае если срок окупаемости не превышает  установленного для конкретной компании предельного с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23:33Z</dcterms:created>
  <dc:creator>user</dc:creator>
  <dc:description/>
  <dc:language>en-US</dc:language>
  <cp:lastModifiedBy>Komp</cp:lastModifiedBy>
  <dcterms:modified xsi:type="dcterms:W3CDTF">2011-06-07T10:49:16Z</dcterms:modified>
  <cp:revision>7</cp:revision>
  <dc:subject/>
  <dc:title>М инвестиционных проетов</dc:title>
</cp:coreProperties>
</file>