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84B-B8F1-4A27-AE9F-693AFE06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4FF-11F4-4B6E-B171-D2D7E4EA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7D1-903F-402D-8D1C-DF7B170D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E1E-BDA3-4158-BCF1-6755AFC4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FB1-5C30-4DFB-ABB2-80A260E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FB8-C622-4A00-A6BC-2439E66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4DE-4852-4430-877D-2D646911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7F4-3850-4107-927E-E5C9DB2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407-A39A-499E-AFE1-49C21EBF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B2E-CF36-435C-B52E-DDA90FA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052-0438-478A-A024-94A152C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CEC-636A-45B6-A728-98E59E7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7F7-DB84-4F4C-A072-4EEFA97571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правление дивидендной политикой капитала - предпочтения инвест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кция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imes New Roman"/>
              </a:rPr>
              <a:t>Источники дивидендных выплат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истая прибыль отчетн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нераспределенная прибыль прошлых перио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специальные фонды, созданные для этой ц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99920" y="3522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рианты дивидендных выплат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ика постоянного процентного распределения приб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ика фиксированных дивидендных выплат, или называют политикой компромис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ель выплаты дивидендов по остаточному принцип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иденд в форме ак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бление ак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уск акци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Дивидендная политика -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принятие решения о том, выплачивать ли заработанные средства в виде дивидендов или оставлять их и реинвестировать в активы фирмы.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видендная политика, как и управление структурой капитала, оказывает существенное влияние на цену акций предприятия. Если компания увеличивает дивиденды, то это приведет к уменьшению объема реинвестиций, ожидаемый темп роста масштабов деятельности снижается, что, скорее всего, приведет к снижению цены акций. Ведь реинвестирование прибыли – более приемлемая и относительно дешевая форма финансирования предприятия, развивающего свою деятель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5481"/>
                </a:solidFill>
                <a:latin typeface="Tahoma"/>
              </a:rPr>
              <a:t>Существует различные подходы в теории дивидендной полит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042920" y="2205000"/>
            <a:ext cx="7632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 иррелевантности дивиденд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Ф. Модильяни и М. Миллер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 «синицы в руках»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М. Гордон и Д. Линтне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, основанная на налоговых эффект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Р. Литценбергером и К. Рамасван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еория иррелевантности дивидендов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(Ф. Модильяни и М. Миллера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тика выплат дивидендов не влияет на стоимость фирмы или цену ее капитала. По их мнению, стоимость фирмы определяется ее общей способностью приносить прибыль и степенью риска; более того, стоимость фирмы в большей степени зависит от инвестиционной политики, нежели от того, какая часть прибыли выплачивается в виде дивидендов, а какая реинвестируетс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ой вывод этих ученых – дивидендная политика не нуж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еория «синицы в руках»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(М. Гордон и Д. Линтнер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соглашаясь с Модельяни и Миллер, они доказывают, что дивиденды менее рисковые, чем доход от прироста капитала, поэтому фирма должна устанавливать высокий удельный вес дивидендных выплат в прибыли и предлагать высокую дивидендную доходность с тем, чтобы максимизировать свою стоим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ретья теория, основанная на налоговых эффектах, была преложена Р. Литценбергером и К. Рамасван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ция противоположна позиции Гордона и литера. Они утверждают, что, поскольку дивиденды облагаются налогами по значительно большей ставке, чем доход от прироста капитала, инвесторы должны требовать более выгодного дохода на акции с высокими ставками дивидендов. В соответствии с этой теорией фирма должна платить низкие (или нулевые) дивиденды в целях максимизации своей стои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оптимальной политики выплаты дивидендов чрезвычайно затруднительно. Отсюда, каждое предприятие должно выбирать свою субъективную политику исходя прежде всего из присущих ему особенносте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акторы, влияющие на дивидендную полити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ловия займ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ия, связанные с привилегированными акция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о эрозии капита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ичие денежных сред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трафной налог на неправильно накапливаемую прибы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цедура выплаты дивидендов стандартна и проходит в несколько этап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объявл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регистрации держателей акц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Экс-дивидендная да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выпла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8:22:27Z</dcterms:created>
  <dc:creator>Admin</dc:creator>
  <dc:description/>
  <dc:language>en-US</dc:language>
  <cp:lastModifiedBy>Customer</cp:lastModifiedBy>
  <dcterms:modified xsi:type="dcterms:W3CDTF">2011-06-08T06:35:58Z</dcterms:modified>
  <cp:revision>4</cp:revision>
  <dc:subject/>
  <dc:title>Управление дивидендной политикой</dc:title>
</cp:coreProperties>
</file>