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547-73E4-44CA-96F3-6E8DB78F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967-8FA1-4657-9401-62232F8C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9B7-2644-4788-BB6B-5582794B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33B-3B3F-4044-AF4F-9391A7A4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5CB5-FF31-49BB-ADD5-8B041ED4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FBB2-8D41-4ECC-833A-036C5B90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77F0-3C6F-4DAA-969F-EABBD24F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F764-7930-4F86-90A7-0DBE9ED5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BFC5-78F6-44D9-90E4-CF80804A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436C-A01F-4BF3-B15C-3414A995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C393-687E-4DFB-89EB-1CD8CA83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BD4-D88A-494D-B4BE-20E40DF1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7216-28DF-44E2-A1CA-BBC8444D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D348-42F0-4694-9266-35358849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15A0-F78A-4270-8F53-14EEF1B7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86F1-84CC-41A3-8B89-7060A122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93B5-CD7E-4D4A-824F-A02EA0B0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CBE4A-8126-47A4-987B-54D63E32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28AE2-49B7-4B1B-A336-06C236E8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B950-E1C4-4559-BFC9-3A9045ED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AF850-825E-465B-9357-1245C1F5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203C8-5B33-4054-8EF5-81776EB5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FBD-7388-450C-B1B1-AAF093D3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8BA63-6FC1-412B-9323-12DC5E9C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3448-80BB-4C59-AB97-5894D506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4012B-94A1-4FD3-89F9-74490953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C8639-DB34-48E3-95DA-304CD1BA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A180D-5B61-4C8D-A6C6-75799A9F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0E978-66F9-4C6C-88B6-9099FE33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74437-2001-4ADF-A231-5404518E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10396-DD73-46A5-A599-66582523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FD28C-E15F-4991-94F0-64C244CE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BA6DC-684B-4C55-A722-20CB7816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55E-2C96-4D77-9C4D-7AC95FEE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A7AC7-D3E3-4AC5-85B9-7C175812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0A35C-FD2B-42E5-B789-2CCBD262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8F1B0-9289-4D0F-982A-32DB3CB6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CCFD1-B1C7-44CD-9116-59214263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CE6E4-3D01-43B9-B0BC-06F69C48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FF54A-16DE-496A-81B0-0B8A149E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693F6-9EAB-4CC7-844C-4F196985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6417-8A33-4C22-BEF5-AAB2D9F7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4C470-DF2F-4F35-A2DE-922C7500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DE95E-849B-4A3F-9ACC-9DD16F76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C22-003B-4D15-BF28-89EFBAB4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9F27B-615E-4989-BC59-74364D8D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6DD7D-6659-4884-BF82-B1A002DD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6025B-F31A-4AFE-B37F-E3FE6703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7ADC8-AE4D-45BE-B9F4-E116396E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D5089-8EC1-448E-AD50-B20C9C00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73417-BF6D-494B-897B-7039D391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CB02F-F6EA-41E9-9106-5A57B6D6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DF5C7-AC4C-45DE-8845-FABF4C66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3470-AD0A-4C82-A30C-E08E7611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974FC-5341-4D17-9241-319C72F5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0D3-C6D5-468E-A867-DE01CFAF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B9EC1-A590-42E1-BFA1-FA11443E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4E586-EABF-4AAA-9C80-928BF4BE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3FB49-546B-427B-BFDF-8A6B6B63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8EC31-ABDD-4F97-9778-8B305207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4EBA8-E1F9-4B0F-A10D-42848121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1CA31-742A-44C3-B91B-7E593F0A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9BA08-1C7A-479F-B08E-FEB176B4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6F01E-E638-4F3A-A3C9-8FF7890A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2E164-4373-4976-8EA5-2845C6A5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9528F-5235-4578-8B4C-115F5353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963-89AD-497A-B819-DA297F87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FA7C3-06A9-4DCF-B858-638A7904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B5328-8BFB-46BB-AE56-6A86F59B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78B97-B9CF-46F7-85DC-264AB10E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D23-63AA-478B-80A5-F7F5C69F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425-8B33-44DB-866C-BDF0A51E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465C-843E-4F01-BFEE-F8F9CE3E235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F005-CBD6-4851-94BE-49586D96C8E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0AB8-AAA6-4ED6-82C8-EEB1A9E84C5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9ECD-673C-4840-9424-98597D817E3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279B-3466-4F39-8D2A-C38D19218B9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5153-AF26-49D0-8414-C44FF5C5480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856800" y="1856880"/>
            <a:ext cx="6480360" cy="19321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ффект операционного рычаг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16360" y="515772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екция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213840"/>
            <a:ext cx="8329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ующий показатель –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с финансовой проч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с фин.прочности = выручка от реализации – порог рентабель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мер финансовой прочности показывает, что у предприятия есть запас финансовой устойчивости, а значит, и прибыль. Но чем ниже разница между выручкой и порогом рентабельности, тем  больше риск получить убыт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85840" y="285840"/>
            <a:ext cx="85723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еременным затратам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оторые изменяются от изменения объема выпуска  продукции, относятся сырье и материалы, топливо и энергия для технологических целей, покупные изделия и полуфабрикаты и т.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остоянным (общефирменным) затратам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амортизационные отчисления, арендная плата, заработная плата административно-управленческого аппарата, %-ы за кредит и т.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матривая поведение переменных и постоянных затрат, следует анализировать состав и структуру затрат на единицу продукции в определенном периоде времени  и при определенном количестве продаж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т так характеризуется поведение переменных и постоянных затрат при изменении объема производства (сбыта)  (таблица 1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6840" y="500040"/>
            <a:ext cx="81867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временных условиях на предприятиях вопросы регулирования массы и динамики прибыли выходят на одно из первых мест в управлении финансовыми ресурсами. Решение данных вопросов входит в рамки операционного (производственного) финансового менеджмента. Известно, что предпринимательская деятельность связана со многими факторами, влияющими на ее результат. Все их можно разделить на две группы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группа факторов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зана с максимизацией прибыли за счет спроса и предложения, ценовой политики, рентабельности продукции, ее конкурентоспособност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ая группа факторов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зана с выявлением критических показателей по объему реализуемой продукции, наилучшим сочетанием предельной выручки и предельных затрат, с делением затрат на переменные и постоянны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115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1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дение переменных и постоянных затрат при изменении объема производства (сбыта)</a:t>
            </a: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14200" y="1857240"/>
          <a:ext cx="8715600" cy="2286000"/>
        </p:xfrm>
        <a:graphic>
          <a:graphicData uri="http://schemas.openxmlformats.org/drawingml/2006/table">
            <a:tbl>
              <a:tblPr/>
              <a:tblGrid>
                <a:gridCol w="2133720"/>
                <a:gridCol w="1835280"/>
                <a:gridCol w="1512720"/>
                <a:gridCol w="1469880"/>
                <a:gridCol w="1764000"/>
              </a:tblGrid>
              <a:tr h="39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производств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быт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ые издерж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е издерж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единицу продук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единицу продук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а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в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ьш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зм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зменн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зм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зменн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ьш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ваю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  <p:sp>
        <p:nvSpPr>
          <p:cNvPr id="260" name="Заголовок 1"/>
          <p:cNvSpPr/>
          <p:nvPr/>
        </p:nvSpPr>
        <p:spPr>
          <a:xfrm>
            <a:off x="642960" y="4214880"/>
            <a:ext cx="79725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14200" y="4572000"/>
            <a:ext cx="84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издержек не столько количественное отношение, сколько качественное. Тем не менее влияние динамики переменных и постоянных затрат на формирование финансовых результатов при изменении объема производства весьма существен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6840" y="500040"/>
            <a:ext cx="7467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нно со структурой затрат тесно связан операционный рыча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ционный рычаг или производственный леверидж (leverage в дословном переводе - рычаг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это механизм управления прибылью предприятия, основанный на оптимизации соотношения постоянных и переменных затрат. С его помощью можно прогнозировать изменение прибыли предприятия в зависимости от изменения объема продаж, а также определить точку безубыточ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6840" y="285480"/>
            <a:ext cx="74674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ционный анализ работает с такими параметрами деятельности предприятия, как затраты, объем реализации и прибыль. Большое значение для операционного анализа имеет разделение затрат на постоянные и переменные. Основными величинами, используемыми в операционном анализе, являются: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аловая маржа (сумма покрытия), сила операционного левериджа, порог рентабельности (точка безубыточности),  запас финансовой проч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Валовая маржа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прибыль от реализации + постоянные затр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клад (сумма покрытия)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выручка от реализации – переменные затр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ффект рычага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выручка от реализации – переменные затраты(вклад)) / прибыль от реализац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571320"/>
            <a:ext cx="8400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трактовать эффект воздействия операционного рычага как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е валовой марж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ее расчет позволит ответить на вопрос на сколько изменяется прибыль от увеличения объема (производства, сбыта) проду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яется выручка, изменяется сила рычага.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име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если сила рычага равна 8,5, а рост выручки планируется на 3%, то прибыль вырастет на: 8,5*3%=25,5%. Если выручка падает на 10%, то прибыль уменьшается на: 8,5*10%=8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ако при каждом росте выручки от реализации сила рычага меняется, а прибыль раст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6840" y="428760"/>
            <a:ext cx="8472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ет следующий показатель, который вытекает из операционного анализа, -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г рентабельности (или точка безубыточност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г рентабельности рассчитывается как отношение постоянных затрат к коэффициенту валовой мар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овой маржи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валовая маржа / выручка от реал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ю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г рентабельности = постоянные расходы / К 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овой марж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2:31:43Z</dcterms:created>
  <dc:creator>Users</dc:creator>
  <dc:description/>
  <dc:language>en-US</dc:language>
  <cp:lastModifiedBy>User</cp:lastModifiedBy>
  <dcterms:modified xsi:type="dcterms:W3CDTF">2011-06-07T10:01:41Z</dcterms:modified>
  <cp:revision>14</cp:revision>
  <dc:subject/>
  <dc:title>Слайд 1</dc:title>
</cp:coreProperties>
</file>