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5AB-435B-45EA-B058-BD24B30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99B-3645-41DA-A1ED-0BCFBBE8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1A8-2DB5-4B72-B8A5-E522D134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0C8-599B-4FB9-B051-B4CB3837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6EC-F822-4087-B901-CC54736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DDD1-4996-4117-80DF-ABD6569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0E2-8246-4112-BB1C-26BCB42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94BF-42C7-4248-BCFD-65CEE77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CF5D-70E0-478C-A5F8-B63400E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3EF2-7041-4FA8-A5DA-19860FC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A92-DD7E-47C5-BF1B-5C0D144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16A-F681-4974-BE02-943553C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FF68-1798-4D60-AE71-6D7AB8B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F3E4-BF2E-4561-A519-BA7E2BC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0524-403C-41D2-80AB-15182D4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7FD8-0EEA-4D56-92C4-E8E3A29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557D-8796-4FE9-97BA-AB5959C7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388-2041-433D-AC44-02F26A5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73E-0C76-4A6E-8C61-705550C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CD0-C9E0-48F7-811F-68D6C016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BF4-135F-4686-9F83-CCBA3B83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941-296B-4D8D-BAE4-2E287C5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3FD-00DD-405D-B1F5-19411DB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A34-7852-4661-8015-C38D0E5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BD1-CFC2-44C4-9FCB-2412D354ED5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5DF-1078-4AC9-89A4-EA3593F64D9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оимость капитал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4071600"/>
            <a:ext cx="21844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Лекция 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обилизации значительных объемов денежных средств и финансирования крупномасштабных инвестиционных проектов и программ на экономически выгодных для предприятия условиях без угрозы вмешательства инвесторов в управление его текущей финансово-хозяйственной деятельностью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аневрирования при определении характеристик выпуска: все параметры облигационного займа (объем эмиссии, процентная ставка, сроки, условия обращения и погашения и т.д.) определяются эмитентом самостоятельно с учетом характера осуществляемого за счет привлекаемых средств инвестиционного проект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аккумулирования денежных средств частных инвесторов, привлечения финансовых ресурсов юридических лиц на достаточно длительный срок (продолжительнее срока кредитов, предоставляемых коммерческими банками) и на более выгодных условиях с учетом реальной экономической обстановки и состояния финансового рынк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ение оптимального сочетания уровня доходности для инвесторов, с одной стороны, и уровня затрат предприятия-эмитента на подготовку и обслуживание облигационного займа, с другой сторон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44480" y="7524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b* = [ N q*  + (N – P)/n] / [(N + 2 P)/3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P – сумма, получаемая от размещения одной облигации с учетом расходов на эмисс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q*  -  купонная ставка, скорректированная  учетом «эффекта налогового щит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Гордон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  =   D1 / Pm (1 – L) + 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- стоимость акционерного капитал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 m - рыночная цена одной акции (цена размещения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D1 - дивиденд, выплачиваемый в первый год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 – ставка роста дивиденд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 – ставка, характеризующая расходы на эмиссию (в относительной величин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определения стоимости финансовых активов(САР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нимается решение о вложении капитала инвесторы учитывают два фактора – уровень доходности и уровень риска, связанный с данным финансовым активом. При этом их оценки данных параметров совпадаю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 и тот же инвестиционный горизон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аковое отношение к риску (это не инвесторы – спекулянты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существуют безрисковые активы и возможность брать и давать капитал взаймы под безрисковую процентную ставку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инансовые возможности инвесторов не влияют на их инвестиционные реш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цены активов не влияет поведение отдельных инвесто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отсутствуют операционные издерж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Р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= f + B (Em  - f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C s = 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 - требуемая доходность акций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f   - доходность безрискового актив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m  - средняя доходность на рынке ак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использования стоимости облиг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 s = YTM + (Em  - Emb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YTM – доходность к погашению облигационного займа, рассчитанная на полный срок жизни облиг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прибыли на акц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s =  EPS / Pm 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де EPS - величина прибыли на одну акцию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m - рыночная цена одной ак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ценка стоимости нераспределенной  прибыл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p   =   D1 / Pm + 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использовании других методов эмиссионные издержки не учитываются и формулы расчета не претерпевают никаких измен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едняя и предельная цена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ACC = ∑ Ck wk, г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k  - стоимость каждого источника средст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k  - доля данного источника в общей сумме инвестируемо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пита́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вокупность товаров, имущества, активов, используемых для получения прибыли, богатстваВ более узком смысле это источник дохода в виде средств производства (физический капитал). Под денежным капиталом понимают деньги, с помощью которых приобретается физический капитал. Направление материальных и денежных средств в экономику, в производство, называют также капиталовложениями или инвестициями. Направленные на потребление ресурсы капиталом не являю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9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ой капитал — переносит свою стоимость на продукт производства по частям за относительно большое время (например, станок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оротный капитал — переносит свою стоимость на продукт производства всю сразу (например, мука для выпечки хлеб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тоянный капитал — не изменяет размер стоимости, а лишь переносит её на результат производства сразу или по частям (все затраты, кроме заработной плат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менный капитал — используется для найма рабочей силы, имеет форму заработной платы, изменяет размер стоим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чий капитал — финансовый показатель, характеризующий ликвидность комп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на, которую предприятие платит за его использование, т.е. годовые расходы по обслуживанию задолженности перед инвесторами и кредиторами. Количественно она измеряется в виде процентной ставки, характеризующей отношение общей суммы данных расходов к сумме все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арактеризует тот уровень доходности инвестированного капитала, который должно обеспечить предприятие, чтобы не уменьшить свою рыночную стоим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асто используется в качестве ставки дисконтирования, в процессе анализа будущих денежных потоков и оценки эффективности производственных инвестиц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вляется также критерием принятия управленческих решений относительно использования лизинга  или  банковского кредита для приобретения основных производствен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казатель стоимости капитала в разрезе отдельных его элементов (стоимости заемных средств) используется в процессе управления структурой капитала на основе механизма финансового рыча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0160" y="983880"/>
            <a:ext cx="8345160" cy="30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Источники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средств компани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краткосрочных средст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3933360"/>
            <a:ext cx="40212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едиторская задолж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3280" y="3933720"/>
            <a:ext cx="4021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ткосрочные ссуды и зай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124000" y="2421000"/>
            <a:ext cx="122400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076720" y="2421000"/>
            <a:ext cx="86364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294192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ствен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50960" y="7491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867280" y="4005360"/>
            <a:ext cx="230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ем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1834920" y="2421000"/>
            <a:ext cx="1368360" cy="158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796000" y="2421000"/>
            <a:ext cx="1081080" cy="16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2000" y="2853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ценка стоимости облигационного займ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9:02Z</dcterms:created>
  <dc:creator>Пользователь</dc:creator>
  <dc:description/>
  <dc:language>en-US</dc:language>
  <cp:lastModifiedBy>Admin</cp:lastModifiedBy>
  <dcterms:modified xsi:type="dcterms:W3CDTF">2011-06-07T10:41:12Z</dcterms:modified>
  <cp:revision>3</cp:revision>
  <dc:subject/>
  <dc:title>стоимость капитала</dc:title>
</cp:coreProperties>
</file>