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740996-20E5-4165-83A3-705BE2AE6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B392FC-A203-44C3-9F9F-DCCAEB2D5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BF7A76-7A05-420F-A780-BBE16B5D1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0499AA-9600-4240-97B0-6AD60D04B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0E71F-6F64-4C06-BFF8-D00E42B2A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853AE-82AD-41D0-A642-249ADEB09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CE984-83FC-4ACD-9010-F6DF89017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965C1-0CF3-43C7-82C0-23E581A6F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5CC39-A40D-4018-A8F3-1B7DD6A23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2555E-23E1-4A95-985D-8C97CDC50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05030-6C6F-4C76-90CD-5DB052F52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FD2204-8E9E-4837-84A0-F346C3016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993A3-6894-4E8D-9703-DF2CDB722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A539B-8B6C-40B3-9B0E-21BF8FE30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F6F71-01E8-4354-8FBC-E3C05F447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4B1BE-2776-4F32-B543-B6BF995A8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2573E-BFEA-43DB-9F97-82EBCAC41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0511B9-EE9F-4586-B6C2-22226052B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6B20F0-78AB-4ABA-96EF-087A384F0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C44F51-9987-40C8-8FE1-8480CDD06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ECA828-CFC3-40B8-B3EF-CE978FB44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5C456E-CD69-44D0-872E-BCF667CEF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CD9E93-1840-4E0D-A257-BA723DF37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01A8FA-2C6B-4F36-86E9-0C6B6D81A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8CE25-91CB-45F2-AEF6-ED4E2D0CD6C0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D2782-8610-4964-80ED-FCA1E8B0AB67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ffffff"/>
                </a:solidFill>
                <a:latin typeface="Book Antiqua"/>
              </a:rPr>
              <a:t>Издержки                   </a:t>
            </a:r>
            <a:r>
              <a:rPr b="0" lang="ru-RU" sz="50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ru-RU" sz="5000" spc="-1" strike="noStrike">
                <a:solidFill>
                  <a:srgbClr val="ffffff"/>
                </a:solidFill>
                <a:latin typeface="Book Antiqua"/>
              </a:rPr>
              <a:t>производства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10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 flipV="1">
            <a:off x="1332000" y="1052640"/>
            <a:ext cx="0" cy="4171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32000" y="5224320"/>
            <a:ext cx="6840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619280" y="1557360"/>
            <a:ext cx="5418000" cy="3087720"/>
          </a:xfrm>
          <a:custGeom>
            <a:avLst/>
            <a:gdLst/>
            <a:ahLst/>
            <a:rect l="l" t="t" r="r" b="b"/>
            <a:pathLst>
              <a:path w="2767" h="1074">
                <a:moveTo>
                  <a:pt x="0" y="0"/>
                </a:moveTo>
                <a:cubicBezTo>
                  <a:pt x="495" y="416"/>
                  <a:pt x="990" y="832"/>
                  <a:pt x="1451" y="953"/>
                </a:cubicBezTo>
                <a:cubicBezTo>
                  <a:pt x="1912" y="1074"/>
                  <a:pt x="2339" y="900"/>
                  <a:pt x="2767" y="72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754360" y="2487600"/>
            <a:ext cx="3463920" cy="2435400"/>
          </a:xfrm>
          <a:custGeom>
            <a:avLst/>
            <a:gdLst/>
            <a:ahLst/>
            <a:rect l="l" t="t" r="r" b="b"/>
            <a:pathLst>
              <a:path w="1769" h="847">
                <a:moveTo>
                  <a:pt x="0" y="453"/>
                </a:moveTo>
                <a:cubicBezTo>
                  <a:pt x="351" y="650"/>
                  <a:pt x="703" y="847"/>
                  <a:pt x="998" y="771"/>
                </a:cubicBezTo>
                <a:cubicBezTo>
                  <a:pt x="1293" y="695"/>
                  <a:pt x="1531" y="347"/>
                  <a:pt x="1769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40440" y="1835280"/>
            <a:ext cx="1154160" cy="3682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M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105680" y="3530520"/>
            <a:ext cx="976320" cy="3682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550280" y="5356080"/>
            <a:ext cx="622080" cy="3682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39640" y="170028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81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92" dur="1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93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94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95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06" dur="3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7" dur="3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1" name=""/>
          <p:cNvGrpSpPr/>
          <p:nvPr/>
        </p:nvGrpSpPr>
        <p:grpSpPr>
          <a:xfrm>
            <a:off x="755640" y="1557360"/>
            <a:ext cx="1655640" cy="1663560"/>
            <a:chOff x="755640" y="1557360"/>
            <a:chExt cx="1655640" cy="1663560"/>
          </a:xfrm>
        </p:grpSpPr>
        <p:sp>
          <p:nvSpPr>
            <p:cNvPr id="192" name=""/>
            <p:cNvSpPr/>
            <p:nvPr/>
          </p:nvSpPr>
          <p:spPr>
            <a:xfrm flipV="1">
              <a:off x="755640" y="1557360"/>
              <a:ext cx="0" cy="1295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55640" y="2852640"/>
              <a:ext cx="1368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835280" y="2852640"/>
              <a:ext cx="576000" cy="3682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79280" y="1557360"/>
            <a:ext cx="8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3635280" y="3068640"/>
            <a:ext cx="1655640" cy="1663560"/>
            <a:chOff x="3635280" y="3068640"/>
            <a:chExt cx="1655640" cy="1663560"/>
          </a:xfrm>
        </p:grpSpPr>
        <p:sp>
          <p:nvSpPr>
            <p:cNvPr id="197" name=""/>
            <p:cNvSpPr/>
            <p:nvPr/>
          </p:nvSpPr>
          <p:spPr>
            <a:xfrm flipV="1">
              <a:off x="3635280" y="3068640"/>
              <a:ext cx="0" cy="1295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635280" y="4363920"/>
              <a:ext cx="1368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714920" y="4363920"/>
              <a:ext cx="576000" cy="3682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0" name=""/>
          <p:cNvSpPr/>
          <p:nvPr/>
        </p:nvSpPr>
        <p:spPr>
          <a:xfrm>
            <a:off x="3059280" y="3068640"/>
            <a:ext cx="8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6300720" y="4508640"/>
            <a:ext cx="1655640" cy="1663560"/>
            <a:chOff x="6300720" y="4508640"/>
            <a:chExt cx="1655640" cy="1663560"/>
          </a:xfrm>
        </p:grpSpPr>
        <p:sp>
          <p:nvSpPr>
            <p:cNvPr id="202" name=""/>
            <p:cNvSpPr/>
            <p:nvPr/>
          </p:nvSpPr>
          <p:spPr>
            <a:xfrm flipV="1">
              <a:off x="6300720" y="4508640"/>
              <a:ext cx="0" cy="1295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300720" y="5803920"/>
              <a:ext cx="1368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380360" y="5803920"/>
              <a:ext cx="576000" cy="3682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5" name=""/>
          <p:cNvSpPr/>
          <p:nvPr/>
        </p:nvSpPr>
        <p:spPr>
          <a:xfrm>
            <a:off x="5724360" y="4508640"/>
            <a:ext cx="8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635280" y="3716280"/>
            <a:ext cx="1295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rot="20940600">
            <a:off x="900000" y="1773000"/>
            <a:ext cx="419040" cy="1081080"/>
          </a:xfrm>
          <a:custGeom>
            <a:avLst/>
            <a:gdLst/>
            <a:ahLst/>
            <a:rect l="l" t="t" r="r" b="b"/>
            <a:pathLst>
              <a:path w="264" h="681">
                <a:moveTo>
                  <a:pt x="38" y="0"/>
                </a:moveTo>
                <a:cubicBezTo>
                  <a:pt x="19" y="193"/>
                  <a:pt x="0" y="386"/>
                  <a:pt x="38" y="499"/>
                </a:cubicBezTo>
                <a:cubicBezTo>
                  <a:pt x="76" y="612"/>
                  <a:pt x="170" y="646"/>
                  <a:pt x="264" y="681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443640" y="4653000"/>
            <a:ext cx="1511280" cy="901800"/>
          </a:xfrm>
          <a:custGeom>
            <a:avLst/>
            <a:gdLst/>
            <a:ahLst/>
            <a:rect l="l" t="t" r="r" b="b"/>
            <a:pathLst>
              <a:path w="952" h="568">
                <a:moveTo>
                  <a:pt x="0" y="136"/>
                </a:moveTo>
                <a:cubicBezTo>
                  <a:pt x="147" y="352"/>
                  <a:pt x="294" y="568"/>
                  <a:pt x="453" y="545"/>
                </a:cubicBezTo>
                <a:cubicBezTo>
                  <a:pt x="612" y="522"/>
                  <a:pt x="782" y="261"/>
                  <a:pt x="952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258920" y="242100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356000" y="328464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948360" y="465300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08000" y="220500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484360" y="371628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148360" y="52293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6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47" dur="3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64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75" dur="1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76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77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78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95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06" dur="3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Спасибо за внимание 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30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30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Рассматриваемые вопросы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1) Понятие и классификация издерже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2) Издержки производства в краткосрочном период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3) Издержки производства в долгосрочном период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769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" dur="769" fill="hold"/>
                                        <p:tgtEl>
                                          <p:spTgt spid="10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" dur="1231" fill="hold">
                                          <p:stCondLst>
                                            <p:cond delay="76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3" dur="769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4" dur="1231" fill="hold">
                                          <p:stCondLst>
                                            <p:cond delay="76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5" dur="769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6" dur="1231" fill="hold">
                                          <p:stCondLst>
                                            <p:cond delay="76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9640" y="-9637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1280" y="40464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Постоянные издержк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C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- это такие издержки, величина которых не изменяется в зависимости от изменения объёма производств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К постоянным издержкам относят затраты на оплату труда управленческого персонала, рентные платежи, страховые взносы, отчисления на амортизацию зданий и оборудов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Переменные издержк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VC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- это издержки, величина которых изменяется в зависимости от изменения объёма производств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К ним относят затраты на оплату труда работников, приобретение сырья, топлива, вспомогательных материалов, оплата транспортных услуг, соответствующие социальные отчисления и т.п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" dur="2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" dur="20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" dur="20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9" dur="20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 flipV="1">
            <a:off x="1332000" y="836640"/>
            <a:ext cx="0" cy="4680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332000" y="5516640"/>
            <a:ext cx="6119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332000" y="1052640"/>
            <a:ext cx="7056360" cy="2808000"/>
          </a:xfrm>
          <a:custGeom>
            <a:avLst/>
            <a:gdLst/>
            <a:ahLst/>
            <a:rect l="l" t="t" r="r" b="b"/>
            <a:pathLst>
              <a:path w="4445" h="1769">
                <a:moveTo>
                  <a:pt x="0" y="1769"/>
                </a:moveTo>
                <a:cubicBezTo>
                  <a:pt x="227" y="1546"/>
                  <a:pt x="454" y="1323"/>
                  <a:pt x="907" y="1134"/>
                </a:cubicBezTo>
                <a:cubicBezTo>
                  <a:pt x="1360" y="945"/>
                  <a:pt x="2222" y="779"/>
                  <a:pt x="2721" y="635"/>
                </a:cubicBezTo>
                <a:cubicBezTo>
                  <a:pt x="3220" y="491"/>
                  <a:pt x="3614" y="378"/>
                  <a:pt x="3901" y="272"/>
                </a:cubicBezTo>
                <a:cubicBezTo>
                  <a:pt x="4188" y="166"/>
                  <a:pt x="4316" y="83"/>
                  <a:pt x="4445" y="0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403280" y="2637000"/>
            <a:ext cx="7056360" cy="2808000"/>
          </a:xfrm>
          <a:custGeom>
            <a:avLst/>
            <a:gdLst/>
            <a:ahLst/>
            <a:rect l="l" t="t" r="r" b="b"/>
            <a:pathLst>
              <a:path w="4445" h="1769">
                <a:moveTo>
                  <a:pt x="0" y="1769"/>
                </a:moveTo>
                <a:cubicBezTo>
                  <a:pt x="227" y="1546"/>
                  <a:pt x="454" y="1323"/>
                  <a:pt x="907" y="1134"/>
                </a:cubicBezTo>
                <a:cubicBezTo>
                  <a:pt x="1360" y="945"/>
                  <a:pt x="2222" y="779"/>
                  <a:pt x="2721" y="635"/>
                </a:cubicBezTo>
                <a:cubicBezTo>
                  <a:pt x="3220" y="491"/>
                  <a:pt x="3614" y="378"/>
                  <a:pt x="3901" y="272"/>
                </a:cubicBezTo>
                <a:cubicBezTo>
                  <a:pt x="4188" y="166"/>
                  <a:pt x="4316" y="83"/>
                  <a:pt x="4445" y="0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332000" y="3860640"/>
            <a:ext cx="6624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95280" y="907920"/>
            <a:ext cx="87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88000" y="1052640"/>
            <a:ext cx="87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659640" y="2565360"/>
            <a:ext cx="87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C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524720" y="4149720"/>
            <a:ext cx="87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372360" y="5661000"/>
            <a:ext cx="87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67280" y="1773360"/>
            <a:ext cx="87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643280" y="3141720"/>
            <a:ext cx="87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 rot="7594800">
            <a:off x="6227280" y="4076640"/>
            <a:ext cx="87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867280" y="4076640"/>
            <a:ext cx="87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6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7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8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9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0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1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2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3" dur="1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4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5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6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360" y="1915920"/>
            <a:ext cx="8229600" cy="45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FC = FC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,      AVC = VC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ATC = TC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,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редние издержк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7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2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1403280" y="2421000"/>
                <a:ext cx="6345360" cy="12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C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Δ</m:t>
                        </m:r>
                        <m:r>
                          <m:rPr>
                            <m:lit/>
                            <m:nor/>
                          </m:rPr>
                          <m:t xml:space="preserve">TC</m:t>
                        </m:r>
                      </m:num>
                      <m:den>
                        <m:r>
                          <m:t xml:space="preserve">ΔQ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Δ</m:t>
                        </m:r>
                        <m:r>
                          <m:rPr>
                            <m:lit/>
                            <m:nor/>
                          </m:rPr>
                          <m:t xml:space="preserve">TC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8" name=""/>
          <p:cNvSpPr/>
          <p:nvPr/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редельные издержк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69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4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11280" y="-8920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1835280" y="980640"/>
            <a:ext cx="0" cy="4629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6200" y="5589720"/>
            <a:ext cx="63561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411280" y="1484280"/>
            <a:ext cx="3619800" cy="3106800"/>
          </a:xfrm>
          <a:custGeom>
            <a:avLst/>
            <a:gdLst/>
            <a:ahLst/>
            <a:rect l="l" t="t" r="r" b="b"/>
            <a:pathLst>
              <a:path w="1497" h="1156">
                <a:moveTo>
                  <a:pt x="0" y="680"/>
                </a:moveTo>
                <a:cubicBezTo>
                  <a:pt x="170" y="918"/>
                  <a:pt x="340" y="1156"/>
                  <a:pt x="590" y="1043"/>
                </a:cubicBezTo>
                <a:cubicBezTo>
                  <a:pt x="840" y="930"/>
                  <a:pt x="1168" y="465"/>
                  <a:pt x="1497" y="0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362320" y="2666880"/>
            <a:ext cx="3946320" cy="1441440"/>
          </a:xfrm>
          <a:custGeom>
            <a:avLst/>
            <a:gdLst/>
            <a:ahLst/>
            <a:rect l="l" t="t" r="r" b="b"/>
            <a:pathLst>
              <a:path w="1633" h="537">
                <a:moveTo>
                  <a:pt x="0" y="227"/>
                </a:moveTo>
                <a:cubicBezTo>
                  <a:pt x="249" y="382"/>
                  <a:pt x="499" y="537"/>
                  <a:pt x="771" y="499"/>
                </a:cubicBezTo>
                <a:cubicBezTo>
                  <a:pt x="1043" y="461"/>
                  <a:pt x="1489" y="83"/>
                  <a:pt x="1633" y="0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690640" y="1569960"/>
            <a:ext cx="3727800" cy="1727280"/>
          </a:xfrm>
          <a:custGeom>
            <a:avLst/>
            <a:gdLst/>
            <a:ahLst/>
            <a:rect l="l" t="t" r="r" b="b"/>
            <a:pathLst>
              <a:path w="1542" h="643">
                <a:moveTo>
                  <a:pt x="0" y="0"/>
                </a:moveTo>
                <a:cubicBezTo>
                  <a:pt x="257" y="268"/>
                  <a:pt x="514" y="537"/>
                  <a:pt x="771" y="590"/>
                </a:cubicBezTo>
                <a:cubicBezTo>
                  <a:pt x="1028" y="643"/>
                  <a:pt x="1285" y="480"/>
                  <a:pt x="1542" y="31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116240" y="4006800"/>
            <a:ext cx="0" cy="1582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1815840" y="4006800"/>
            <a:ext cx="23000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773600" y="3152880"/>
            <a:ext cx="0" cy="24368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1815840" y="3152880"/>
            <a:ext cx="2957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541840" y="2178000"/>
            <a:ext cx="0" cy="3411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1815840" y="2178000"/>
            <a:ext cx="372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761080" y="1081080"/>
            <a:ext cx="98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979960" y="1935000"/>
            <a:ext cx="120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979960" y="2787480"/>
            <a:ext cx="10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V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826920" y="3762360"/>
            <a:ext cx="10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155600" y="1935000"/>
            <a:ext cx="76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047600" y="836640"/>
            <a:ext cx="87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308720" y="5734080"/>
            <a:ext cx="6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995640" y="5445000"/>
            <a:ext cx="792360" cy="79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572000" y="5157720"/>
            <a:ext cx="936720" cy="79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130480" y="3141720"/>
            <a:ext cx="5189400" cy="2359080"/>
          </a:xfrm>
          <a:custGeom>
            <a:avLst/>
            <a:gdLst/>
            <a:ahLst/>
            <a:rect l="l" t="t" r="r" b="b"/>
            <a:pathLst>
              <a:path w="1769" h="907">
                <a:moveTo>
                  <a:pt x="0" y="0"/>
                </a:moveTo>
                <a:cubicBezTo>
                  <a:pt x="136" y="120"/>
                  <a:pt x="273" y="241"/>
                  <a:pt x="454" y="362"/>
                </a:cubicBezTo>
                <a:cubicBezTo>
                  <a:pt x="635" y="483"/>
                  <a:pt x="870" y="634"/>
                  <a:pt x="1089" y="725"/>
                </a:cubicBezTo>
                <a:cubicBezTo>
                  <a:pt x="1308" y="816"/>
                  <a:pt x="1538" y="861"/>
                  <a:pt x="1769" y="907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372360" y="4724280"/>
            <a:ext cx="109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Ғ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1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92" dur="1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93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94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95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6" dur="5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7" dur="3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2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3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2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3" dur="3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64" dur="1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65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66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67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2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3" dur="3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94" dur="1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95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96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97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8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Динамика издержек в краткосрочном период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Q     FC   VC   TC   AFC   AVC   ATC     M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0      10     -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-        -    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 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    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               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              1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              2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              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              3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              4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781360"/>
            <a:ext cx="828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95280" y="1628640"/>
            <a:ext cx="73080" cy="453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280" y="1628640"/>
            <a:ext cx="835344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95280" y="2205000"/>
            <a:ext cx="835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8748720" y="1700280"/>
            <a:ext cx="0" cy="453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6165720"/>
            <a:ext cx="828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95280" y="3357720"/>
            <a:ext cx="842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95280" y="3789360"/>
            <a:ext cx="835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365720"/>
            <a:ext cx="828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68360" y="4869000"/>
            <a:ext cx="835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68360" y="5445000"/>
            <a:ext cx="828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187280" y="1628640"/>
            <a:ext cx="0" cy="453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050920" y="1628640"/>
            <a:ext cx="0" cy="453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987640" y="1628640"/>
            <a:ext cx="0" cy="453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780000" y="1628640"/>
            <a:ext cx="0" cy="453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932360" y="1628640"/>
            <a:ext cx="0" cy="453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084720" y="1700280"/>
            <a:ext cx="71640" cy="4465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380360" y="1700280"/>
            <a:ext cx="0" cy="4465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5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99640" y="-1539720"/>
            <a:ext cx="821844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1187280" y="1628640"/>
            <a:ext cx="0" cy="3888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187280" y="5516640"/>
            <a:ext cx="647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39920" y="2577960"/>
            <a:ext cx="5629320" cy="2662200"/>
          </a:xfrm>
          <a:custGeom>
            <a:avLst/>
            <a:gdLst/>
            <a:ahLst/>
            <a:rect l="l" t="t" r="r" b="b"/>
            <a:pathLst>
              <a:path w="3312" h="1398">
                <a:moveTo>
                  <a:pt x="0" y="0"/>
                </a:moveTo>
                <a:cubicBezTo>
                  <a:pt x="540" y="525"/>
                  <a:pt x="1081" y="1050"/>
                  <a:pt x="1633" y="1224"/>
                </a:cubicBezTo>
                <a:cubicBezTo>
                  <a:pt x="2185" y="1398"/>
                  <a:pt x="2748" y="1220"/>
                  <a:pt x="3312" y="1043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92360" y="2492280"/>
            <a:ext cx="1311120" cy="808200"/>
          </a:xfrm>
          <a:custGeom>
            <a:avLst/>
            <a:gdLst/>
            <a:ahLst/>
            <a:rect l="l" t="t" r="r" b="b"/>
            <a:pathLst>
              <a:path w="771" h="424">
                <a:moveTo>
                  <a:pt x="0" y="0"/>
                </a:moveTo>
                <a:cubicBezTo>
                  <a:pt x="49" y="197"/>
                  <a:pt x="98" y="394"/>
                  <a:pt x="226" y="409"/>
                </a:cubicBezTo>
                <a:cubicBezTo>
                  <a:pt x="354" y="424"/>
                  <a:pt x="562" y="257"/>
                  <a:pt x="771" y="91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203640" y="2838600"/>
            <a:ext cx="1376280" cy="1814400"/>
          </a:xfrm>
          <a:custGeom>
            <a:avLst/>
            <a:gdLst/>
            <a:ahLst/>
            <a:rect l="l" t="t" r="r" b="b"/>
            <a:pathLst>
              <a:path w="810" h="953">
                <a:moveTo>
                  <a:pt x="38" y="0"/>
                </a:moveTo>
                <a:cubicBezTo>
                  <a:pt x="19" y="431"/>
                  <a:pt x="0" y="863"/>
                  <a:pt x="129" y="908"/>
                </a:cubicBezTo>
                <a:cubicBezTo>
                  <a:pt x="258" y="953"/>
                  <a:pt x="534" y="613"/>
                  <a:pt x="810" y="273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041800" y="3529080"/>
            <a:ext cx="1617840" cy="1322280"/>
          </a:xfrm>
          <a:custGeom>
            <a:avLst/>
            <a:gdLst/>
            <a:ahLst/>
            <a:rect l="l" t="t" r="r" b="b"/>
            <a:pathLst>
              <a:path w="952" h="695">
                <a:moveTo>
                  <a:pt x="0" y="91"/>
                </a:moveTo>
                <a:cubicBezTo>
                  <a:pt x="260" y="393"/>
                  <a:pt x="521" y="695"/>
                  <a:pt x="680" y="680"/>
                </a:cubicBezTo>
                <a:cubicBezTo>
                  <a:pt x="839" y="665"/>
                  <a:pt x="895" y="332"/>
                  <a:pt x="952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737400" y="4826160"/>
            <a:ext cx="92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419120" y="2060640"/>
            <a:ext cx="92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C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270320" y="2925720"/>
            <a:ext cx="84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C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659640" y="3270240"/>
            <a:ext cx="107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C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2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27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28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29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30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5" dur="3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6" dur="3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7" dur="3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8" dur="3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ользователь</cp:lastModifiedBy>
  <dcterms:modified xsi:type="dcterms:W3CDTF">2010-03-14T12:12:28Z</dcterms:modified>
  <cp:revision>11</cp:revision>
  <dc:subject/>
  <dc:title>PowerPoint Presentation</dc:title>
</cp:coreProperties>
</file>