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CF9-6B8E-4315-AFBF-890DC7FA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DC7-0260-4325-8025-64146D39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D96-5367-4010-AC5F-3E077C74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31C-AEBA-4380-90AB-0F5E929D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9FD2-2F00-4E11-9BA6-14F25388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6023-8638-44D9-9622-63620C0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1CC1-85F2-4CE8-A6B8-FB824201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AFDE-60E3-4549-8315-2ADBCAD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C658-7EEB-4C86-89E7-C42F1598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EE1D-BED8-4120-8222-C7A4B76C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C3BE-45F3-4026-962F-A24F65B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ABF-3623-40C6-B537-1DABA63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DE6F-3E6A-4C91-BD49-53C88061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A2FD-C795-4AC1-BDFE-110CE0D2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ED31-F7CA-4D2A-9A07-D04250B0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82FA-EA91-4082-8CF9-D326B4F6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DCC-3A5B-4D5D-BECC-80E3A29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6D4-64F4-4909-B83A-644FBDC4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94D-1DD9-4A35-AB5B-C76C1642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3D7-7F82-48F7-AFEF-56CC6991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781-231D-470C-8A72-73DF02CD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D8D-C311-4F53-927A-1C4BD25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AD3-1525-4E60-BF25-D2AF388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E75-3A66-4DAE-8A9B-87D63D9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CBD-0207-48D6-BFC0-4BFDAF0BA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9DF8-8B6C-4F43-B7E2-3FB7C9BED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ИГР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периоде все издержки являются перемен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В долгосрочном пери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редних переменных затрат имеет вид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C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Найти алгебраическое выражение для функции предельных затрат. Постоянные затраты равны 200 ден. 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значает продажа одинаковой продукции разным покупателям по разным це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Ценовая дискримин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черта рынка совершенной и монополистической конкуренци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800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Множество покупателей и продавц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издержки конкурентной фирмы описываются формул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 = 4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 изменится объем выпуска фирмы, если цена на продукцию с 200 ден. ед. за штуку упадет до 100 ден. ед. за шту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низится на 25 еди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2286000" cy="12189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8288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4290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держ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95288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 ры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9718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495288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8580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495288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29718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29718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68580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495288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495288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1" action="ppaction://hlinksldjump"/>
          </p:cNvPr>
          <p:cNvSpPr/>
          <p:nvPr/>
        </p:nvSpPr>
        <p:spPr>
          <a:xfrm>
            <a:off x="29718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68580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вая, точки которой показывают, по каким ценам в течение определенного времени покупатели могли бы приобрести различные количества товара –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1480" y="48769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Кривая с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закон утверждает, что существует прямая зависимость между ценой товара и объемом предлож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00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Закон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ы функции спроса и предложени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3P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про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-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функция предложения). Найдите равновесную цену и равновесный объе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9 и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йство товара или услуги удовлетворять потребность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72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цену товара А, если цена товара В 7 ден. 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66880" y="2666880"/>
            <a:ext cx="3885480" cy="2345400"/>
            <a:chOff x="2666880" y="2666880"/>
            <a:chExt cx="3885480" cy="2345400"/>
          </a:xfrm>
        </p:grpSpPr>
        <p:sp>
          <p:nvSpPr>
            <p:cNvPr id="134" name=""/>
            <p:cNvSpPr/>
            <p:nvPr/>
          </p:nvSpPr>
          <p:spPr>
            <a:xfrm>
              <a:off x="2822040" y="2666880"/>
              <a:ext cx="4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666880" y="2739600"/>
              <a:ext cx="3885480" cy="2272680"/>
              <a:chOff x="2666880" y="2739600"/>
              <a:chExt cx="3885480" cy="22726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3444120" y="2739600"/>
                <a:ext cx="0" cy="169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44120" y="4430880"/>
                <a:ext cx="279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44120" y="3328200"/>
                <a:ext cx="1864800" cy="1102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30640" y="4430880"/>
                <a:ext cx="62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6000" y="4430880"/>
                <a:ext cx="77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66880" y="3034080"/>
                <a:ext cx="69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32767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итель располагает доходом в 80 ден. ед. и приобретает 2 товара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 - ценой 5 ден.ед.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ценой 4 ден.ед. Какой из следующих товаров наборов недоступен для потреби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257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Х=1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траты на единицу выпускаемой продукции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редни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2-15T06:16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