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C66-A58F-426B-A03A-19B7A3FB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560A-6FF8-445D-BC09-B932A17F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F673-0B2E-4C0B-9046-FDB9FDB4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29B-8232-449D-B401-D6F18294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06C8E-D7B3-482F-8B50-D4DCF254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96548-8811-402B-BAF0-ED94B00E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0F2B2-81D9-40E0-8D35-04D46C57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9A543-8EC8-4DA0-B2EF-2A8FF3E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62FA6-353B-4709-9CAA-12AFFD93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D57BF-EB25-4A78-89FF-82A29D29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9171D-69FD-4DFB-8C6E-D3D7C1A2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959-FC1B-492F-8912-5575E1E7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24637-A900-4617-9CCB-8079ED8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5A237-6B69-4DC6-A4A0-455F90D1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4C7DC-E127-4A9B-AF50-AF33491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620D4-128B-474A-B64D-01A15CFF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34564-CC38-4235-AA64-3CB04AF8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528-10BA-4F79-8A7E-F4E60C26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216-13D0-4C0B-A881-898C378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A83-3A79-4C99-813F-9965FCEA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ED0-53B2-4185-894A-33B4D09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DDC5-41F1-40AE-B247-FF91D3C2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472-24FE-42EA-8FB8-CDF63B1C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EFB-6F6F-4EDC-9D75-0280BB4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9E8-3C8E-40F6-9AAA-EA80DC340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546C-371D-4150-BC57-F7AB27D6E2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Tahoma"/>
              </a:rPr>
              <a:t>Монополия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в рыночной экономик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1"/>
          <p:cNvSpPr/>
          <p:nvPr/>
        </p:nvSpPr>
        <p:spPr>
          <a:xfrm>
            <a:off x="539640" y="114480"/>
            <a:ext cx="7920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того, насколько высокой может быть цена монополиста связано со спросом и его эластичност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ны можно повышать, если соответствующее сокращение спроса не влечет падение дохода и прибыли монопол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ином случае монополия вынуждена ради повышения доходов идти на увеличение производства, что предполагает определенное понижение цены согласно действию закона спроса и предло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1619280" y="328464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8101080" y="6021360"/>
            <a:ext cx="93492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900000" y="3068640"/>
            <a:ext cx="5032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26"/>
          <p:cNvSpPr/>
          <p:nvPr/>
        </p:nvSpPr>
        <p:spPr>
          <a:xfrm>
            <a:off x="2556000" y="3357720"/>
            <a:ext cx="57600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3348000" y="5445000"/>
            <a:ext cx="576360" cy="505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7164360" y="4149720"/>
            <a:ext cx="72072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619280" y="4941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619280" y="4076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34"/>
          <p:cNvSpPr/>
          <p:nvPr/>
        </p:nvSpPr>
        <p:spPr>
          <a:xfrm>
            <a:off x="2916360" y="494172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35"/>
          <p:cNvSpPr/>
          <p:nvPr/>
        </p:nvSpPr>
        <p:spPr>
          <a:xfrm>
            <a:off x="2700360" y="407664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1042920" y="4797360"/>
            <a:ext cx="43344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971640" y="3933720"/>
            <a:ext cx="50472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2843280" y="6381720"/>
            <a:ext cx="360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2413080" y="638172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1619280" y="4076640"/>
            <a:ext cx="1081080" cy="86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2700360" y="4941720"/>
            <a:ext cx="21600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48"/>
          <p:cNvSpPr/>
          <p:nvPr/>
        </p:nvSpPr>
        <p:spPr>
          <a:xfrm>
            <a:off x="2771640" y="407664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9"/>
          <p:cNvSpPr/>
          <p:nvPr/>
        </p:nvSpPr>
        <p:spPr>
          <a:xfrm>
            <a:off x="2700360" y="4941720"/>
            <a:ext cx="475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Line 53"/>
          <p:cNvSpPr/>
          <p:nvPr/>
        </p:nvSpPr>
        <p:spPr>
          <a:xfrm>
            <a:off x="3203640" y="3573360"/>
            <a:ext cx="432108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54"/>
          <p:cNvSpPr/>
          <p:nvPr/>
        </p:nvSpPr>
        <p:spPr>
          <a:xfrm>
            <a:off x="4716360" y="4076640"/>
            <a:ext cx="0" cy="216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56"/>
          <p:cNvSpPr/>
          <p:nvPr/>
        </p:nvSpPr>
        <p:spPr>
          <a:xfrm>
            <a:off x="1619280" y="6237360"/>
            <a:ext cx="626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57"/>
          <p:cNvSpPr/>
          <p:nvPr/>
        </p:nvSpPr>
        <p:spPr>
          <a:xfrm>
            <a:off x="7451640" y="494172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58"/>
          <p:cNvSpPr/>
          <p:nvPr/>
        </p:nvSpPr>
        <p:spPr>
          <a:xfrm>
            <a:off x="4572000" y="6308640"/>
            <a:ext cx="28728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59"/>
          <p:cNvSpPr/>
          <p:nvPr/>
        </p:nvSpPr>
        <p:spPr>
          <a:xfrm>
            <a:off x="7236000" y="6308640"/>
            <a:ext cx="360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60"/>
          <p:cNvSpPr/>
          <p:nvPr/>
        </p:nvSpPr>
        <p:spPr>
          <a:xfrm>
            <a:off x="4716360" y="4941720"/>
            <a:ext cx="273528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63"/>
          <p:cNvSpPr/>
          <p:nvPr/>
        </p:nvSpPr>
        <p:spPr>
          <a:xfrm>
            <a:off x="1619280" y="4076640"/>
            <a:ext cx="3097080" cy="86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95280" y="407520"/>
            <a:ext cx="828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нополия ведет поиск цены руководствуясь тем же правилом, что и предприятия, действующие в условиях совершенного рын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Объем производства и соответствующего предложения товара должен быть таким, при котором предельные издержки (МС) равны предельной выручке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: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369072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Монополист рассматривает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ак базу для установления цены – она не должна быть ниже их. Однако на монополистическом предприятии в отличие от предприятий, действующих в условиях совершенной конкуренции, предельный доход меньше, чем цена (Р) и соответственно средняя выручка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&l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авило монополистического ценообраз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R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&gt;   МС=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89"/>
          <p:cNvSpPr/>
          <p:nvPr/>
        </p:nvSpPr>
        <p:spPr>
          <a:xfrm>
            <a:off x="1908000" y="3068640"/>
            <a:ext cx="2376720" cy="5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26920" y="5288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взаимодействия спроса и предложения на монопольном рынк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66"/>
          <p:cNvSpPr/>
          <p:nvPr/>
        </p:nvSpPr>
        <p:spPr>
          <a:xfrm flipV="1">
            <a:off x="1908000" y="1989000"/>
            <a:ext cx="0" cy="360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67"/>
          <p:cNvSpPr/>
          <p:nvPr/>
        </p:nvSpPr>
        <p:spPr>
          <a:xfrm>
            <a:off x="1908000" y="5589720"/>
            <a:ext cx="446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68"/>
          <p:cNvSpPr/>
          <p:nvPr/>
        </p:nvSpPr>
        <p:spPr>
          <a:xfrm>
            <a:off x="6588000" y="5516640"/>
            <a:ext cx="505080" cy="28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03280" y="1844640"/>
            <a:ext cx="432000" cy="2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70"/>
          <p:cNvSpPr/>
          <p:nvPr/>
        </p:nvSpPr>
        <p:spPr>
          <a:xfrm>
            <a:off x="2268360" y="1989000"/>
            <a:ext cx="324036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71"/>
          <p:cNvSpPr/>
          <p:nvPr/>
        </p:nvSpPr>
        <p:spPr>
          <a:xfrm>
            <a:off x="5651640" y="4797360"/>
            <a:ext cx="504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reeform 172"/>
          <p:cNvSpPr/>
          <p:nvPr/>
        </p:nvSpPr>
        <p:spPr>
          <a:xfrm>
            <a:off x="2556000" y="1557360"/>
            <a:ext cx="3408120" cy="3913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173"/>
          <p:cNvSpPr/>
          <p:nvPr/>
        </p:nvSpPr>
        <p:spPr>
          <a:xfrm>
            <a:off x="6012000" y="1700280"/>
            <a:ext cx="865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C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=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74"/>
          <p:cNvSpPr/>
          <p:nvPr/>
        </p:nvSpPr>
        <p:spPr>
          <a:xfrm>
            <a:off x="428472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prstDash val="lgDashDot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175"/>
          <p:cNvSpPr/>
          <p:nvPr/>
        </p:nvSpPr>
        <p:spPr>
          <a:xfrm>
            <a:off x="2411280" y="1844640"/>
            <a:ext cx="410544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76"/>
          <p:cNvSpPr/>
          <p:nvPr/>
        </p:nvSpPr>
        <p:spPr>
          <a:xfrm>
            <a:off x="6588000" y="4076640"/>
            <a:ext cx="6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77"/>
          <p:cNvSpPr/>
          <p:nvPr/>
        </p:nvSpPr>
        <p:spPr>
          <a:xfrm>
            <a:off x="3851280" y="5661000"/>
            <a:ext cx="647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п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78"/>
          <p:cNvSpPr/>
          <p:nvPr/>
        </p:nvSpPr>
        <p:spPr>
          <a:xfrm flipV="1">
            <a:off x="4284720" y="299700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179"/>
          <p:cNvSpPr/>
          <p:nvPr/>
        </p:nvSpPr>
        <p:spPr>
          <a:xfrm flipH="1">
            <a:off x="1908000" y="306864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80"/>
          <p:cNvSpPr/>
          <p:nvPr/>
        </p:nvSpPr>
        <p:spPr>
          <a:xfrm>
            <a:off x="1187280" y="2852640"/>
            <a:ext cx="57636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81"/>
          <p:cNvSpPr/>
          <p:nvPr/>
        </p:nvSpPr>
        <p:spPr>
          <a:xfrm flipH="1">
            <a:off x="1907640" y="335772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rc 182"/>
          <p:cNvSpPr/>
          <p:nvPr/>
        </p:nvSpPr>
        <p:spPr>
          <a:xfrm rot="8013000">
            <a:off x="3023280" y="1591200"/>
            <a:ext cx="2448000" cy="266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83"/>
          <p:cNvSpPr/>
          <p:nvPr/>
        </p:nvSpPr>
        <p:spPr>
          <a:xfrm>
            <a:off x="6300720" y="2781360"/>
            <a:ext cx="86364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184"/>
          <p:cNvSpPr/>
          <p:nvPr/>
        </p:nvSpPr>
        <p:spPr>
          <a:xfrm>
            <a:off x="1908000" y="3645000"/>
            <a:ext cx="237672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85"/>
          <p:cNvSpPr/>
          <p:nvPr/>
        </p:nvSpPr>
        <p:spPr>
          <a:xfrm>
            <a:off x="1187280" y="3213000"/>
            <a:ext cx="576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186"/>
          <p:cNvSpPr/>
          <p:nvPr/>
        </p:nvSpPr>
        <p:spPr>
          <a:xfrm>
            <a:off x="4859280" y="3141720"/>
            <a:ext cx="28728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87"/>
          <p:cNvSpPr/>
          <p:nvPr/>
        </p:nvSpPr>
        <p:spPr>
          <a:xfrm>
            <a:off x="1187280" y="3500280"/>
            <a:ext cx="64800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90"/>
          <p:cNvSpPr/>
          <p:nvPr/>
        </p:nvSpPr>
        <p:spPr>
          <a:xfrm>
            <a:off x="4716360" y="335772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91"/>
          <p:cNvSpPr/>
          <p:nvPr/>
        </p:nvSpPr>
        <p:spPr>
          <a:xfrm>
            <a:off x="4643280" y="5661000"/>
            <a:ext cx="505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92"/>
          <p:cNvSpPr/>
          <p:nvPr/>
        </p:nvSpPr>
        <p:spPr>
          <a:xfrm flipH="1">
            <a:off x="1042560" y="3500280"/>
            <a:ext cx="1584360" cy="2449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93"/>
          <p:cNvSpPr/>
          <p:nvPr/>
        </p:nvSpPr>
        <p:spPr>
          <a:xfrm>
            <a:off x="395280" y="5950080"/>
            <a:ext cx="180036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бы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нопол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755640" y="1165320"/>
            <a:ext cx="7777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Монопол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от греч. mono - один, poleo - продавец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ключительное право на осуществ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кого-либо вида деятельн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производства, торговли, промысла и т.п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оставляемое одному лиц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ной группе лиц или государст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77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полия предполагает выполнение следующих услов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нополист является единственным производителем данного това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дукция носит уникальный характер, не имеет близких замен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никновение в отрасль для других фирм закрыто целым рядом барьер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тепень влияния монополиста на рыночную цену очень выс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Барьеры для входа на рынок с наличием монопол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ключительные права, полученные от правительства или местных власте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тенты и авторские пра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о собственности на ресурсы, например источники сыр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имущество низких издержек крупного производ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1028880" y="549360"/>
            <a:ext cx="70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 низких издержек крупного производств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8"/>
          <p:cNvSpPr/>
          <p:nvPr/>
        </p:nvSpPr>
        <p:spPr>
          <a:xfrm flipV="1">
            <a:off x="1403280" y="1699920"/>
            <a:ext cx="0" cy="41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9"/>
          <p:cNvSpPr/>
          <p:nvPr/>
        </p:nvSpPr>
        <p:spPr>
          <a:xfrm>
            <a:off x="1403280" y="5805360"/>
            <a:ext cx="532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539640" y="1341360"/>
            <a:ext cx="792360" cy="57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6948360" y="5805360"/>
            <a:ext cx="71928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Freeform 14"/>
          <p:cNvSpPr/>
          <p:nvPr/>
        </p:nvSpPr>
        <p:spPr>
          <a:xfrm>
            <a:off x="1835280" y="1773360"/>
            <a:ext cx="4032000" cy="3155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4211640" y="4869000"/>
            <a:ext cx="0" cy="93636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1403280" y="4869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2556000" y="3500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1403280" y="350028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611280" y="3357720"/>
            <a:ext cx="720720" cy="358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611280" y="4581360"/>
            <a:ext cx="647640" cy="503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5076720" y="1557360"/>
            <a:ext cx="3743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к – средние затр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курентной фи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5076720" y="2421000"/>
            <a:ext cx="381636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ТСм- средние затрат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производст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рмы-монополи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2268360" y="5950080"/>
            <a:ext cx="5032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3995640" y="5877000"/>
            <a:ext cx="50508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684360" y="33948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иды монополий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826920" y="1413000"/>
            <a:ext cx="23050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кры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340000" y="2421000"/>
            <a:ext cx="251928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ткрыт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211640" y="3502080"/>
            <a:ext cx="259236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теств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940360" y="4437000"/>
            <a:ext cx="273528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кусствен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826920" y="765000"/>
            <a:ext cx="7921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крытая монополи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щищена от конкуренции с помощью юридических ограничений и запретов (чаще всего это государственная монополия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26920" y="2215080"/>
            <a:ext cx="78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ая монопол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монополия, при которой одна фирма, по крайней мере на некоторое время, становится единственным поставщиком продукта, но не имеет специальной защиты от конкуренци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26920" y="3645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ественная монопол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озникает в отрасли, в которой долгосрочные средние издержки достигают минимума только тогда, когда одна фирма обслуживает рынок цели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00000" y="491544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ая монополия -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динение предприятий, создаваемое ради получения сверхприбылей  и установления рыночной в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Особенности взаимодействия спроса и предложения на монопольном рынк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938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нополист обладает определенной властью над рынком, так как он один определяет предложение това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е того, он обладает властью и над ценой товара, но эта власть не является абсолютной, так как цена зависит и от спроса, а предложение зависит от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9040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ля измерения монопольной власти используют коэффициент Лернер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=(P-MC)/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,      г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коэффициент Лернер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це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– предельные издерж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21:21Z</dcterms:created>
  <dc:creator>1</dc:creator>
  <dc:description/>
  <dc:language>en-US</dc:language>
  <cp:lastModifiedBy>Таня</cp:lastModifiedBy>
  <dcterms:modified xsi:type="dcterms:W3CDTF">2009-11-25T15:29:48Z</dcterms:modified>
  <cp:revision>17</cp:revision>
  <dc:subject/>
  <dc:title>Монополия  в рыночной экономике</dc:title>
</cp:coreProperties>
</file>