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53E-77F5-48D6-B966-A16A26C3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902-4200-4861-8CC3-F27A91EC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7BD5-E908-4B48-84DE-4FFE4D03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F5E8-6A5A-4414-9C6C-248DC0C1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D656-0639-4FA6-A777-2E7F9CA5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C658-7705-4ED0-B8D6-A691C0A9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4158-A6C4-48EC-8CD0-C760280C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D38F-56EA-4548-A50A-EC7E2829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9C0C-2287-416F-8414-C15EDBCC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F91F-5FAD-45A9-979F-D7F8191E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39F3-3008-48B3-A6F9-65EC6266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48B-E7E7-4706-BF95-5080239C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7ADA-88BD-4EE0-BA45-EC57613C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E8F0-B9AB-437F-80E8-C299678A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7519-486E-4CEA-BD7C-16ACD908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5367-FC6C-4BAF-9BE8-4E715F5B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D36E-CF70-4F0C-A07E-870B421A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BF84-513E-4568-9EB1-D081783D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652-D743-428E-904A-B920E3AA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A28-3C67-47EE-A713-23CBE5E1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DC11-D642-4C8B-A64C-8FBCF9E0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F2E-DB22-4BC4-8B55-9AC95DDD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A31E-5264-4647-8C14-7CB76F08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DE9-4B57-4B06-9FD2-723DA145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20ED-5477-44C1-875D-1E4CDAD034C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5ED8-41A0-40EC-BE03-2A459218DC6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lackadder IT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763640" y="2060640"/>
            <a:ext cx="59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Теория производ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Экономическая рента – это выплата владельцу фактора производства чтобы предотвратить перевод факторов в другую сферу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Квазирента – это выплата владельцу фактора, предложения которого о воротком периоде фиксирован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Закон убывающей отдачи: преувеличении одного фактора производства и неизменной другом достигается определенной объем выпуска, с выше которого величина предельного продукта начинается снижаться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Экстенсивное производство- это производственный процесс при котором объем выпуска происходит за счет прироста переменного фактор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Интенсивное производство- это производственный процесс при котором главной причиной увеличения объема выпуска является повышение технического уровня производств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8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2" dur="2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Производством является – любая человеческая деятельность в процессе которой ресурсы превращаются в товары и услуги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Производство наряду с распределением, обменом и потреблением является одним из четырех основных видов активности, которые обеспечивают экономическое благополучие общества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Основные ресурсы, такие  как земля, труд, капитал, принято именовать факторами производства. Зависимость между ресурсом и конечным продуктом называется производственной функцией и является важнейшей категорией производства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Производственная функция : физическое отношение между производственным объемом выпуска и количества используемого фактора производства при предложении технической эффективности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Экономический анализ производства следует отношения между тратами и выпуском. Это отношение, известное как производственная функция определяет максимальный объем выпуска при определенных комбинациях факторов производств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В самой обшей форме производственной функции для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n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факторов производства может быть записана так: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           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Q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=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Q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I 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,…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In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Q-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 объем выпуска фирм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I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- объем затрат факторов производств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Двухфакторная производственная функция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Q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=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Q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, К 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Где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 и К – объемы применяемого труд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и капитала.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Краткосрочный период производства: самый продолжительный отрезок времени, в течении которого возможно изменить объем применения лишь одного ресурс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Долгосрочный период производства – период времени, достаточно для того, чтобы все имеющиеся ресурсы фирм могли стать переменными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1:16:31Z</dcterms:created>
  <dc:creator>UserLib</dc:creator>
  <dc:description/>
  <dc:language>en-US</dc:language>
  <cp:lastModifiedBy>UserLib</cp:lastModifiedBy>
  <dcterms:modified xsi:type="dcterms:W3CDTF">2009-12-12T04:27:50Z</dcterms:modified>
  <cp:revision>3</cp:revision>
  <dc:subject/>
  <dc:title>Теория производства</dc:title>
</cp:coreProperties>
</file>