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FA91-17ED-4898-8009-14CA5AA5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98B9-174C-4B4D-A254-A9093405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54BC-E335-4ADA-AE80-813819EF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1C44-6860-4658-8D8C-36A98C36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1620-404B-4283-8455-8BD692E1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62A2-7B38-48E8-B8B1-EA50E465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A124-5E23-4972-9DC4-473B6BF1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7C9C-122D-43BC-AF40-6FC63C8D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B789-236D-42CD-8A67-510D8F0E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60C8-E2BF-4846-A1F0-47DFDCCC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A060-2B78-491D-AB5F-C94D73A1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D101-924C-4773-BCB0-84FE5432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A928-4BE4-486B-B708-AE8E35CB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D469-6CE8-4759-A07E-BA7F4E90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DEF1-135D-4EFF-92AA-F29C6073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B8CA-3F02-46BF-9689-6C69EE7D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3193-3CDA-4ED8-966F-8102B326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7A0E-C014-41D8-97B3-6AEC8B9A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8417-D183-4351-B10A-118C8C02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476A-D44D-4FC3-9193-B7957B04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A6B2-D477-432F-A989-E5E2A1A4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40C3-A695-4FF3-9269-2E637193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663D-7A72-436E-915A-55787C2B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32C3-E512-4770-B989-B2D3A5F2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ADD1-3B2C-43EA-8F79-A0A7DBB4E8D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362E-5AD7-4B83-834D-2FF48F4534F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0" y="1600200"/>
            <a:ext cx="86104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 Эластичность спроса по цене 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Эластичность предложения по цене – это показатель степени чувствительности, реакция предложения на изменения цены товара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Выделяют 3 временных периода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) текущий период – это период времени в течении которого производители не могут приспособится к изменению уровня цен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1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1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17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17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1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18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8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Monotype Corsiva"/>
              </a:rPr>
              <a:t>2) Короткий период- это период времени в течении которого производители не успевают в полной степени приспособится к уровню цен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36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Monotype Corsiva"/>
              </a:rPr>
              <a:t>3) Долгий период- это период времени достаточный для того чтобы производители могли полностью приспособится к изменению цен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87 E">
                                      <p:cBhvr>
                                        <p:cTn id="191" dur="2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87 E">
                                      <p:cBhvr>
                                        <p:cTn id="195" dur="2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Различают 4 формы эластичности предложения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Эластичное предлож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Неэластичное предложение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Абсолютно эластичное предлож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Абсолютно неэластичное предлож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0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20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20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09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14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217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218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19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10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cc00"/>
                </a:solidFill>
                <a:latin typeface="Monotype Corsiva"/>
              </a:rPr>
              <a:t>Кривая предложения- линия, отражающая все соотношения количества предлагаемых благ и равновесной цены, характеризует предложение блага.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Monotype Corsiva"/>
              </a:rPr>
              <a:t>Точечная эластичность- это эластичность измеренная в одной точке кривой спроса или предложения, является постоянной величиной, вдоль линии спроса и предложения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2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24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5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1349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Дуговая эластичность- примерная степень реакции спроса или предложения на изменение цены, дохода и других факторов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6 0.125 0.16644 C 0.125 0.25831 0.069 0.33287 0 0.33287 C -0.069 0.33287 -0.125 0.25831 -0.125 0.16644 C -0.125 0.07456 -0.069 0 0 0 Z">
                                      <p:cBhvr>
                                        <p:cTn id="262" dur="2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cc00"/>
                </a:solidFill>
                <a:latin typeface="Monotype Corsiva"/>
              </a:rPr>
              <a:t>Эластичность – это степень реагирования одной переменой величины в ответ на изменение другой, связанной с первой величиной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cc00"/>
                </a:solidFill>
                <a:latin typeface="Monotype Corsiva"/>
              </a:rPr>
              <a:t>Кооффициент эластичности – это числовой показатель, показывающий процентное изменение одной переменой в результате однопроцентного изменения другой переменой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Виды эластичности :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Эластичность спроса по цене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Эластичность спроса по доходам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Эластичность предложения по цен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Перекрестная эластичность спроса по цен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Точная эластичность спрос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Дуговая эластичность спрос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5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5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6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7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Monotype Corsiva"/>
              </a:rPr>
              <a:t>Эластичность спроса по цене – это оценка изменения величины спроса на товар при изменении цены, или процентные изменения величины спроса, деленное на процентное изменение цены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Monotype Corsiva"/>
              </a:rPr>
              <a:t>Эластичность спроса по доходам – это мера чувствительность спроса к изменению дохода, отражает относительное изменение спроса на какое либо благо в следствии изменении дохода потребителя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10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108" dur="3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Monotype Corsiva"/>
              </a:rPr>
              <a:t>Эластичность спроса по доходу зависит от следующих факторов :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0640" indent="-26064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Monotype Corsiva"/>
              </a:rPr>
              <a:t>От значимости того или иного блага для бюджета  семьи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0640" indent="-26064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ffcc00"/>
                </a:solidFill>
                <a:latin typeface="Monotype Corsiva"/>
              </a:rPr>
              <a:t>является ли данное благо предметом роскоши или первой необходимости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0640" indent="-26064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Monotype Corsiva"/>
              </a:rPr>
              <a:t>От консерватизма спроса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cc00"/>
                </a:solidFill>
                <a:latin typeface="Monotype Corsiva"/>
              </a:rPr>
              <a:t>Перекрестная эластичность спроса по цене: выражает относительные изменения объема спроса на одно благо при изменении цены на другое благо при прочих равных условиях.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cc00"/>
                </a:solidFill>
                <a:latin typeface="Monotype Corsiva"/>
              </a:rPr>
              <a:t>различают 3 вида Перекрестной эластичности  спроса по цене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Monotype Corsiva"/>
              </a:rPr>
              <a:t> №</a:t>
            </a:r>
            <a:r>
              <a:rPr b="1" lang="en-US" sz="4400" spc="-1" strike="noStrike">
                <a:solidFill>
                  <a:srgbClr val="ffcc00"/>
                </a:solidFill>
                <a:latin typeface="Monotype Corsiva"/>
              </a:rPr>
              <a:t>1 положительная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Monotype Corsiva"/>
              </a:rPr>
              <a:t> №</a:t>
            </a:r>
            <a:r>
              <a:rPr b="1" lang="en-US" sz="4400" spc="-1" strike="noStrike">
                <a:solidFill>
                  <a:srgbClr val="ffcc00"/>
                </a:solidFill>
                <a:latin typeface="Monotype Corsiva"/>
              </a:rPr>
              <a:t>2 отрицательная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Monotype Corsiva"/>
              </a:rPr>
              <a:t> №</a:t>
            </a:r>
            <a:r>
              <a:rPr b="1" lang="en-US" sz="4400" spc="-1" strike="noStrike">
                <a:solidFill>
                  <a:srgbClr val="ffcc00"/>
                </a:solidFill>
                <a:latin typeface="Monotype Corsiva"/>
              </a:rPr>
              <a:t>3 нулевая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0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0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5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dent</cp:lastModifiedBy>
  <dcterms:modified xsi:type="dcterms:W3CDTF">2009-12-11T05:45:2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