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AC8-39C3-492C-A5AE-8A275350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863-DA20-45B2-88A8-72F59100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F0A-C70D-446F-91F1-7A1CEFDC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537-A8F6-4E1E-9D46-2EA638D1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7A1D-99AB-4DA6-BF2D-F7382599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A9E2-813D-41A6-851F-1EAAF36F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856A-43A8-44F1-87AE-7576F441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6665-122D-4EB1-B201-CA6B064C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93D2-E2AD-4467-AF34-764DCEC0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D45E-3534-4543-B418-598E9BF5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1ED7-B637-4D6F-9008-C2457FA0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08C-24AE-437C-B314-365DC885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4F64-7502-49E1-BF67-7E6049D8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0EE4-80F5-4268-90BE-644C9F4A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62F7-061E-48E8-9500-F9F34441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DD84-233E-4DC5-94B6-BEBDE275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D010-FDF7-4C3F-8FF8-6334F58F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8EE-F40A-4266-8120-CA25195B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9C9-3F40-4CFA-B5AE-B979164B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005-6BAF-4F13-9FD1-C2C3B311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C95-2A87-4B9F-ADE0-108E25CC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AFC-73C8-4273-BBC5-67E9C277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0EC-5321-48E3-93C2-6A4CF0BA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A1B-2298-462B-A2A6-AB529623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07AB-60A0-4B4B-AEF2-FA59C0CA5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3AC2-6428-403D-923D-512D11B82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3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b7"/>
                </a:solidFill>
                <a:latin typeface="Arial Black"/>
              </a:rPr>
              <a:t>ИГР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ком периоде все издержки являются переменн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5029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В долгосрочном пери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6095880"/>
            <a:ext cx="761760" cy="60984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13489" y="3837"/>
                </a:moveTo>
                <a:lnTo>
                  <a:pt x="16065" y="6448"/>
                </a:ln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lnTo>
                  <a:pt x="20452" y="10800"/>
                </a:lnTo>
                <a:lnTo>
                  <a:pt x="18798" y="10800"/>
                </a:lnTo>
                <a:lnTo>
                  <a:pt x="18798" y="17989"/>
                </a:lnTo>
                <a:lnTo>
                  <a:pt x="8180" y="17989"/>
                </a:lnTo>
                <a:lnTo>
                  <a:pt x="8180" y="10800"/>
                </a:lnTo>
                <a:lnTo>
                  <a:pt x="6526" y="10800"/>
                </a:lnTo>
                <a:close/>
              </a:path>
              <a:path fill="darkenLess" w="26978" h="21600">
                <a:moveTo>
                  <a:pt x="16065" y="6448"/>
                </a:move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close/>
              </a:path>
              <a:path fill="darkenLess" w="26978" h="21600">
                <a:moveTo>
                  <a:pt x="12566" y="14299"/>
                </a:moveTo>
                <a:lnTo>
                  <a:pt x="14411" y="14299"/>
                </a:lnTo>
                <a:lnTo>
                  <a:pt x="14411" y="17989"/>
                </a:lnTo>
                <a:lnTo>
                  <a:pt x="18798" y="17989"/>
                </a:lnTo>
                <a:lnTo>
                  <a:pt x="18798" y="10800"/>
                </a:lnTo>
                <a:lnTo>
                  <a:pt x="8180" y="10800"/>
                </a:lnTo>
                <a:lnTo>
                  <a:pt x="8180" y="17989"/>
                </a:lnTo>
                <a:lnTo>
                  <a:pt x="12566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средних переменных затрат имеет вид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C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Найти алгебраическое выражение для функции предельных затрат. Постоянные затраты равны 200 ден. е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5334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означает продажа одинаковой продукции разным покупателям по разным цена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4876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Ценовая дискримин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ая черта рынка совершенной и монополистической конкуренци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800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Множество покупателей и продавц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13495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4" y="10800"/>
                </a:lnTo>
                <a:lnTo>
                  <a:pt x="18804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2" y="10800"/>
                </a:lnTo>
                <a:close/>
              </a:path>
              <a:path fill="darkenLess" w="26990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0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4" y="17989"/>
                </a:lnTo>
                <a:lnTo>
                  <a:pt x="18804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ие издержки конкурентной фирмы описываются формуло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 = 4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к изменится объем выпуска фирмы, если цена на продукцию с 200 ден. ед. за штуку упадет до 100 ден. ед. за шту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5257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снизится на 25 един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04920"/>
            <a:ext cx="2286000" cy="12189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ос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д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828800"/>
            <a:ext cx="228600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о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ре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429000"/>
            <a:ext cx="228600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держ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952880"/>
            <a:ext cx="228600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ория рын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2971800" y="304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4952880" y="304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6858000" y="304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4952880" y="18288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2971800" y="18288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2971800" y="34290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7" action="ppaction://hlinksldjump"/>
          </p:cNvPr>
          <p:cNvSpPr/>
          <p:nvPr/>
        </p:nvSpPr>
        <p:spPr>
          <a:xfrm>
            <a:off x="6858000" y="18288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8" action="ppaction://hlinksldjump"/>
          </p:cNvPr>
          <p:cNvSpPr/>
          <p:nvPr/>
        </p:nvSpPr>
        <p:spPr>
          <a:xfrm>
            <a:off x="6858000" y="34290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9" action="ppaction://hlinksldjump"/>
          </p:cNvPr>
          <p:cNvSpPr/>
          <p:nvPr/>
        </p:nvSpPr>
        <p:spPr>
          <a:xfrm>
            <a:off x="4952880" y="34290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10" action="ppaction://hlinksldjump"/>
          </p:cNvPr>
          <p:cNvSpPr/>
          <p:nvPr/>
        </p:nvSpPr>
        <p:spPr>
          <a:xfrm>
            <a:off x="4952880" y="4876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1" action="ppaction://hlinksldjump"/>
          </p:cNvPr>
          <p:cNvSpPr/>
          <p:nvPr/>
        </p:nvSpPr>
        <p:spPr>
          <a:xfrm>
            <a:off x="2971800" y="4876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2" action="ppaction://hlinksldjump"/>
          </p:cNvPr>
          <p:cNvSpPr/>
          <p:nvPr/>
        </p:nvSpPr>
        <p:spPr>
          <a:xfrm>
            <a:off x="6858000" y="4876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вая, точки которой показывают, по каким ценам в течение определенного времени покупатели могли бы приобрести различные количества товара – э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1480" y="487692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Кривая спро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8153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й закон утверждает, что существует прямая зависимость между ценой товара и объемом предложени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800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Закон пред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153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ы функции спроса и предложения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3P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спрос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-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функция предложения). Найдите равновесную цену и равновесный объе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5257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9 и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153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йство товара или услуги удовлетворять потребность ес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724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4952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Полез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153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те цену товара А, если цена товара В 7 ден. е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666880" y="2666880"/>
            <a:ext cx="3885480" cy="2345400"/>
            <a:chOff x="2666880" y="2666880"/>
            <a:chExt cx="3885480" cy="2345400"/>
          </a:xfrm>
        </p:grpSpPr>
        <p:sp>
          <p:nvSpPr>
            <p:cNvPr id="134" name=""/>
            <p:cNvSpPr/>
            <p:nvPr/>
          </p:nvSpPr>
          <p:spPr>
            <a:xfrm>
              <a:off x="2822040" y="2666880"/>
              <a:ext cx="4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666880" y="2739600"/>
              <a:ext cx="3885480" cy="2272680"/>
              <a:chOff x="2666880" y="2739600"/>
              <a:chExt cx="3885480" cy="2272680"/>
            </a:xfrm>
          </p:grpSpPr>
          <p:sp>
            <p:nvSpPr>
              <p:cNvPr id="136" name=""/>
              <p:cNvSpPr/>
              <p:nvPr/>
            </p:nvSpPr>
            <p:spPr>
              <a:xfrm flipV="1">
                <a:off x="3444120" y="2739600"/>
                <a:ext cx="0" cy="169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44120" y="4430880"/>
                <a:ext cx="279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44120" y="3328200"/>
                <a:ext cx="1864800" cy="11023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930640" y="4430880"/>
                <a:ext cx="621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В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76000" y="4430880"/>
                <a:ext cx="77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66880" y="3034080"/>
                <a:ext cx="69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32767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итель располагает доходом в 80 ден. ед. и приобретает 2 товара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 - ценой 5 ден.ед.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ценой 4 ден.ед. Какой из следующих товаров наборов недоступен для потреби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5257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Х=10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=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траты на единицу выпускаемой продукции ес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029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Средние издерж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6095880"/>
            <a:ext cx="761760" cy="60984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13489" y="3837"/>
                </a:moveTo>
                <a:lnTo>
                  <a:pt x="16065" y="6448"/>
                </a:ln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lnTo>
                  <a:pt x="20452" y="10800"/>
                </a:lnTo>
                <a:lnTo>
                  <a:pt x="18798" y="10800"/>
                </a:lnTo>
                <a:lnTo>
                  <a:pt x="18798" y="17989"/>
                </a:lnTo>
                <a:lnTo>
                  <a:pt x="8180" y="17989"/>
                </a:lnTo>
                <a:lnTo>
                  <a:pt x="8180" y="10800"/>
                </a:lnTo>
                <a:lnTo>
                  <a:pt x="6526" y="10800"/>
                </a:lnTo>
                <a:close/>
              </a:path>
              <a:path fill="darkenLess" w="26978" h="21600">
                <a:moveTo>
                  <a:pt x="16065" y="6448"/>
                </a:move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close/>
              </a:path>
              <a:path fill="darkenLess" w="26978" h="21600">
                <a:moveTo>
                  <a:pt x="12566" y="14299"/>
                </a:moveTo>
                <a:lnTo>
                  <a:pt x="14411" y="14299"/>
                </a:lnTo>
                <a:lnTo>
                  <a:pt x="14411" y="17989"/>
                </a:lnTo>
                <a:lnTo>
                  <a:pt x="18798" y="17989"/>
                </a:lnTo>
                <a:lnTo>
                  <a:pt x="18798" y="10800"/>
                </a:lnTo>
                <a:lnTo>
                  <a:pt x="8180" y="10800"/>
                </a:lnTo>
                <a:lnTo>
                  <a:pt x="8180" y="17989"/>
                </a:lnTo>
                <a:lnTo>
                  <a:pt x="12566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9-12-15T06:16:2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