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C18F-3179-488A-AD72-70ACEDB0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2E44-2774-414D-8F43-8E4DF40A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BCDB-6D64-4320-963A-9CA43022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EC51-0D52-4034-9E7F-54896968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1F32B-44FE-476B-AE49-1403ED8A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C1F5F-1D99-48EE-BE46-0F4FBD04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74F7B-D5D5-401C-A637-169B5765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A43F3-124C-4A45-93CE-11F664C0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D0C34-0372-47C9-AC56-799887CB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4381F-BE54-4FE5-B0B3-C217CDA6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73CCD-D9CE-4472-8243-770BB923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DBD-8F14-46DC-B5CF-B94978CE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2C2B5-966A-4A73-8B23-9A8E9CA8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A2188-76D4-4978-9C57-37AF6C27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15356-61B4-4375-9A3F-11C363D2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FB89B-0A13-4E09-A077-2147F03B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001B4-3C55-438F-ACC2-286FF1F1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15A2-27DC-445D-B874-AA0493F5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01F8-A660-447C-907B-EEFD5482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1C5-0981-4FB1-B91A-B250B1EE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D1CB-27E3-491C-8CA2-9AAD3693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9E6E-E2A7-49C6-83BB-0D19DEA7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ED27-9561-4617-866A-5E789EA8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0D4-EA96-4805-860D-F8603E5D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CC37-3609-465E-A809-7384C8A1C2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E4C3-8014-46AB-BCC1-5E8CEBA9CE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2960" y="2286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 u="sng">
                <a:solidFill>
                  <a:srgbClr val="000000"/>
                </a:solidFill>
                <a:uFillTx/>
                <a:latin typeface="Tahoma"/>
              </a:rPr>
              <a:t>Монополия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в рыночной экономик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1"/>
          <p:cNvSpPr/>
          <p:nvPr/>
        </p:nvSpPr>
        <p:spPr>
          <a:xfrm>
            <a:off x="539640" y="114480"/>
            <a:ext cx="7920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ределение того, насколько высокой может быть цена монополиста связано со спросом и его эластичность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ены можно повышать, если соответствующее сокращение спроса не влечет падение дохода и прибыли монопол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ином случае монополия вынуждена ради повышения доходов идти на увеличение производства, что предполагает определенное понижение цены согласно действию закона спроса и предлож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22"/>
          <p:cNvSpPr/>
          <p:nvPr/>
        </p:nvSpPr>
        <p:spPr>
          <a:xfrm>
            <a:off x="1619280" y="3284640"/>
            <a:ext cx="0" cy="2952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8101080" y="6021360"/>
            <a:ext cx="93492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25"/>
          <p:cNvSpPr/>
          <p:nvPr/>
        </p:nvSpPr>
        <p:spPr>
          <a:xfrm>
            <a:off x="900000" y="3068640"/>
            <a:ext cx="50328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2556000" y="3357720"/>
            <a:ext cx="576000" cy="25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28"/>
          <p:cNvSpPr/>
          <p:nvPr/>
        </p:nvSpPr>
        <p:spPr>
          <a:xfrm>
            <a:off x="3348000" y="5445000"/>
            <a:ext cx="576360" cy="505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29"/>
          <p:cNvSpPr/>
          <p:nvPr/>
        </p:nvSpPr>
        <p:spPr>
          <a:xfrm>
            <a:off x="7164360" y="4149720"/>
            <a:ext cx="72072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1619280" y="494172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1619280" y="407664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34"/>
          <p:cNvSpPr/>
          <p:nvPr/>
        </p:nvSpPr>
        <p:spPr>
          <a:xfrm>
            <a:off x="2916360" y="494172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35"/>
          <p:cNvSpPr/>
          <p:nvPr/>
        </p:nvSpPr>
        <p:spPr>
          <a:xfrm>
            <a:off x="2700360" y="4076640"/>
            <a:ext cx="0" cy="216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36"/>
          <p:cNvSpPr/>
          <p:nvPr/>
        </p:nvSpPr>
        <p:spPr>
          <a:xfrm>
            <a:off x="1042920" y="4797360"/>
            <a:ext cx="43344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38"/>
          <p:cNvSpPr/>
          <p:nvPr/>
        </p:nvSpPr>
        <p:spPr>
          <a:xfrm>
            <a:off x="971640" y="3933720"/>
            <a:ext cx="50472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2843280" y="6381720"/>
            <a:ext cx="36036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40"/>
          <p:cNvSpPr/>
          <p:nvPr/>
        </p:nvSpPr>
        <p:spPr>
          <a:xfrm>
            <a:off x="2413080" y="6381720"/>
            <a:ext cx="2872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41"/>
          <p:cNvSpPr/>
          <p:nvPr/>
        </p:nvSpPr>
        <p:spPr>
          <a:xfrm>
            <a:off x="1619280" y="4076640"/>
            <a:ext cx="1081080" cy="865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42"/>
          <p:cNvSpPr/>
          <p:nvPr/>
        </p:nvSpPr>
        <p:spPr>
          <a:xfrm>
            <a:off x="2700360" y="4941720"/>
            <a:ext cx="216000" cy="129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48"/>
          <p:cNvSpPr/>
          <p:nvPr/>
        </p:nvSpPr>
        <p:spPr>
          <a:xfrm>
            <a:off x="2771640" y="407664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49"/>
          <p:cNvSpPr/>
          <p:nvPr/>
        </p:nvSpPr>
        <p:spPr>
          <a:xfrm>
            <a:off x="2700360" y="4941720"/>
            <a:ext cx="475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53"/>
          <p:cNvSpPr/>
          <p:nvPr/>
        </p:nvSpPr>
        <p:spPr>
          <a:xfrm>
            <a:off x="3203640" y="3573360"/>
            <a:ext cx="432108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54"/>
          <p:cNvSpPr/>
          <p:nvPr/>
        </p:nvSpPr>
        <p:spPr>
          <a:xfrm>
            <a:off x="4716360" y="4076640"/>
            <a:ext cx="0" cy="216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ine 56"/>
          <p:cNvSpPr/>
          <p:nvPr/>
        </p:nvSpPr>
        <p:spPr>
          <a:xfrm>
            <a:off x="1619280" y="6237360"/>
            <a:ext cx="626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57"/>
          <p:cNvSpPr/>
          <p:nvPr/>
        </p:nvSpPr>
        <p:spPr>
          <a:xfrm>
            <a:off x="7451640" y="494172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58"/>
          <p:cNvSpPr/>
          <p:nvPr/>
        </p:nvSpPr>
        <p:spPr>
          <a:xfrm>
            <a:off x="4572000" y="6308640"/>
            <a:ext cx="28728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59"/>
          <p:cNvSpPr/>
          <p:nvPr/>
        </p:nvSpPr>
        <p:spPr>
          <a:xfrm>
            <a:off x="7236000" y="6308640"/>
            <a:ext cx="36036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60"/>
          <p:cNvSpPr/>
          <p:nvPr/>
        </p:nvSpPr>
        <p:spPr>
          <a:xfrm>
            <a:off x="4716360" y="4941720"/>
            <a:ext cx="273528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63"/>
          <p:cNvSpPr/>
          <p:nvPr/>
        </p:nvSpPr>
        <p:spPr>
          <a:xfrm>
            <a:off x="1619280" y="4076640"/>
            <a:ext cx="3097080" cy="86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395280" y="407520"/>
            <a:ext cx="828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нополия ведет поиск цены руководствуясь тем же правилом, что и предприятия, действующие в условиях совершенного рын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Объем производства и соответствующего предложения товара должен быть таким, при котором предельные издержки (МС) равны предельной выручке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R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: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C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68360" y="3690720"/>
            <a:ext cx="813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Монополист рассматривает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R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ак базу для установления цены – она не должна быть ниже их. Однако на монополистическом предприятии в отличие от предприятий, действующих в условиях совершенной конкуренции, предельный доход меньше, чем цена (Р) и соответственно средняя выручка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R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&l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равило монополистического ценообразовани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R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&gt;   МС=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89"/>
          <p:cNvSpPr/>
          <p:nvPr/>
        </p:nvSpPr>
        <p:spPr>
          <a:xfrm>
            <a:off x="1908000" y="3068640"/>
            <a:ext cx="2376720" cy="57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826920" y="52884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обенности взаимодействия спроса и предложения на монопольном рынк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Line 166"/>
          <p:cNvSpPr/>
          <p:nvPr/>
        </p:nvSpPr>
        <p:spPr>
          <a:xfrm flipV="1">
            <a:off x="1908000" y="1989000"/>
            <a:ext cx="0" cy="360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167"/>
          <p:cNvSpPr/>
          <p:nvPr/>
        </p:nvSpPr>
        <p:spPr>
          <a:xfrm>
            <a:off x="1908000" y="5589720"/>
            <a:ext cx="446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168"/>
          <p:cNvSpPr/>
          <p:nvPr/>
        </p:nvSpPr>
        <p:spPr>
          <a:xfrm>
            <a:off x="6588000" y="5516640"/>
            <a:ext cx="505080" cy="28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03280" y="1844640"/>
            <a:ext cx="43200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170"/>
          <p:cNvSpPr/>
          <p:nvPr/>
        </p:nvSpPr>
        <p:spPr>
          <a:xfrm>
            <a:off x="2268360" y="1989000"/>
            <a:ext cx="324036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171"/>
          <p:cNvSpPr/>
          <p:nvPr/>
        </p:nvSpPr>
        <p:spPr>
          <a:xfrm>
            <a:off x="5651640" y="4797360"/>
            <a:ext cx="50472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Freeform 172"/>
          <p:cNvSpPr/>
          <p:nvPr/>
        </p:nvSpPr>
        <p:spPr>
          <a:xfrm>
            <a:off x="2556000" y="1557360"/>
            <a:ext cx="3408120" cy="3913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173"/>
          <p:cNvSpPr/>
          <p:nvPr/>
        </p:nvSpPr>
        <p:spPr>
          <a:xfrm>
            <a:off x="6012000" y="1700280"/>
            <a:ext cx="86508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C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=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174"/>
          <p:cNvSpPr/>
          <p:nvPr/>
        </p:nvSpPr>
        <p:spPr>
          <a:xfrm>
            <a:off x="4284720" y="393372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prstDash val="lgDashDotDot"/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Line 175"/>
          <p:cNvSpPr/>
          <p:nvPr/>
        </p:nvSpPr>
        <p:spPr>
          <a:xfrm>
            <a:off x="2411280" y="1844640"/>
            <a:ext cx="4105440" cy="266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176"/>
          <p:cNvSpPr/>
          <p:nvPr/>
        </p:nvSpPr>
        <p:spPr>
          <a:xfrm>
            <a:off x="6588000" y="4076640"/>
            <a:ext cx="64800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177"/>
          <p:cNvSpPr/>
          <p:nvPr/>
        </p:nvSpPr>
        <p:spPr>
          <a:xfrm>
            <a:off x="3851280" y="5661000"/>
            <a:ext cx="647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178"/>
          <p:cNvSpPr/>
          <p:nvPr/>
        </p:nvSpPr>
        <p:spPr>
          <a:xfrm flipV="1">
            <a:off x="4284720" y="2997000"/>
            <a:ext cx="0" cy="93636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179"/>
          <p:cNvSpPr/>
          <p:nvPr/>
        </p:nvSpPr>
        <p:spPr>
          <a:xfrm flipH="1">
            <a:off x="1908000" y="3068640"/>
            <a:ext cx="237672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180"/>
          <p:cNvSpPr/>
          <p:nvPr/>
        </p:nvSpPr>
        <p:spPr>
          <a:xfrm>
            <a:off x="1187280" y="2852640"/>
            <a:ext cx="57636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181"/>
          <p:cNvSpPr/>
          <p:nvPr/>
        </p:nvSpPr>
        <p:spPr>
          <a:xfrm flipH="1">
            <a:off x="1907640" y="3357720"/>
            <a:ext cx="2808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rc 182"/>
          <p:cNvSpPr/>
          <p:nvPr/>
        </p:nvSpPr>
        <p:spPr>
          <a:xfrm rot="8013000">
            <a:off x="3023280" y="1591200"/>
            <a:ext cx="2448000" cy="2665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183"/>
          <p:cNvSpPr/>
          <p:nvPr/>
        </p:nvSpPr>
        <p:spPr>
          <a:xfrm>
            <a:off x="6300720" y="2781360"/>
            <a:ext cx="86364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T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184"/>
          <p:cNvSpPr/>
          <p:nvPr/>
        </p:nvSpPr>
        <p:spPr>
          <a:xfrm>
            <a:off x="1908000" y="3645000"/>
            <a:ext cx="237672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185"/>
          <p:cNvSpPr/>
          <p:nvPr/>
        </p:nvSpPr>
        <p:spPr>
          <a:xfrm>
            <a:off x="1187280" y="3213000"/>
            <a:ext cx="576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186"/>
          <p:cNvSpPr/>
          <p:nvPr/>
        </p:nvSpPr>
        <p:spPr>
          <a:xfrm>
            <a:off x="4859280" y="3141720"/>
            <a:ext cx="2872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187"/>
          <p:cNvSpPr/>
          <p:nvPr/>
        </p:nvSpPr>
        <p:spPr>
          <a:xfrm>
            <a:off x="1187280" y="3500280"/>
            <a:ext cx="64800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T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90"/>
          <p:cNvSpPr/>
          <p:nvPr/>
        </p:nvSpPr>
        <p:spPr>
          <a:xfrm>
            <a:off x="4716360" y="335772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91"/>
          <p:cNvSpPr/>
          <p:nvPr/>
        </p:nvSpPr>
        <p:spPr>
          <a:xfrm>
            <a:off x="4643280" y="5661000"/>
            <a:ext cx="50508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92"/>
          <p:cNvSpPr/>
          <p:nvPr/>
        </p:nvSpPr>
        <p:spPr>
          <a:xfrm flipH="1">
            <a:off x="1042560" y="3500280"/>
            <a:ext cx="1584360" cy="2449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93"/>
          <p:cNvSpPr/>
          <p:nvPr/>
        </p:nvSpPr>
        <p:spPr>
          <a:xfrm>
            <a:off x="395280" y="5950080"/>
            <a:ext cx="180036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бы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нопол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755640" y="1165320"/>
            <a:ext cx="77770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Монопол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от греч. mono - один, poleo - продавец)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сключительное право на осуществле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акого-либо вида деятельно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производства, торговли, промысла и т.п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доставляемое одному лицу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ределенной группе лиц или государст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77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нополия предполагает выполнение следующих услови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нополист является единственным производителем данного това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одукция носит уникальный характер, не имеет близких заменител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оникновение в отрасль для других фирм закрыто целым рядом барьер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тепень влияния монополиста на рыночную цену очень высо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Барьеры для входа на рынок с наличием монополии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ключительные права, полученные от правительства или местных власт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атенты и авторские пра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о собственности на ресурсы, например источники сырь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имущество низких издержек крупного производст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1028880" y="549360"/>
            <a:ext cx="70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имущества низких издержек крупного производств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8"/>
          <p:cNvSpPr/>
          <p:nvPr/>
        </p:nvSpPr>
        <p:spPr>
          <a:xfrm flipV="1">
            <a:off x="1403280" y="1699920"/>
            <a:ext cx="0" cy="41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Line 9"/>
          <p:cNvSpPr/>
          <p:nvPr/>
        </p:nvSpPr>
        <p:spPr>
          <a:xfrm>
            <a:off x="1403280" y="5805360"/>
            <a:ext cx="532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539640" y="1341360"/>
            <a:ext cx="792360" cy="574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Т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6948360" y="5805360"/>
            <a:ext cx="71928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Freeform 14"/>
          <p:cNvSpPr/>
          <p:nvPr/>
        </p:nvSpPr>
        <p:spPr>
          <a:xfrm>
            <a:off x="1835280" y="1773360"/>
            <a:ext cx="4032000" cy="31557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4211640" y="4869000"/>
            <a:ext cx="0" cy="93636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1403280" y="4869000"/>
            <a:ext cx="280836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Line 18"/>
          <p:cNvSpPr/>
          <p:nvPr/>
        </p:nvSpPr>
        <p:spPr>
          <a:xfrm>
            <a:off x="2556000" y="350028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Line 20"/>
          <p:cNvSpPr/>
          <p:nvPr/>
        </p:nvSpPr>
        <p:spPr>
          <a:xfrm>
            <a:off x="1403280" y="350028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611280" y="3357720"/>
            <a:ext cx="720720" cy="358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С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22"/>
          <p:cNvSpPr/>
          <p:nvPr/>
        </p:nvSpPr>
        <p:spPr>
          <a:xfrm>
            <a:off x="611280" y="4581360"/>
            <a:ext cx="64764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ТС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23"/>
          <p:cNvSpPr/>
          <p:nvPr/>
        </p:nvSpPr>
        <p:spPr>
          <a:xfrm>
            <a:off x="5076720" y="1557360"/>
            <a:ext cx="374328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ТСк – средние затрат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курентной фир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24"/>
          <p:cNvSpPr/>
          <p:nvPr/>
        </p:nvSpPr>
        <p:spPr>
          <a:xfrm>
            <a:off x="5076720" y="2421000"/>
            <a:ext cx="3816360" cy="93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ТСм- средние затрат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производ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ирмы-монополис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25"/>
          <p:cNvSpPr/>
          <p:nvPr/>
        </p:nvSpPr>
        <p:spPr>
          <a:xfrm>
            <a:off x="2268360" y="5950080"/>
            <a:ext cx="50328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/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26"/>
          <p:cNvSpPr/>
          <p:nvPr/>
        </p:nvSpPr>
        <p:spPr>
          <a:xfrm>
            <a:off x="3995640" y="5877000"/>
            <a:ext cx="50508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684360" y="33948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Виды монополий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826920" y="1413000"/>
            <a:ext cx="230508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акрыт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340000" y="2421000"/>
            <a:ext cx="251928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ткрыт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211640" y="3502080"/>
            <a:ext cx="2592360" cy="718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Естествен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5940360" y="4437000"/>
            <a:ext cx="2735280" cy="863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скусствен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826920" y="765000"/>
            <a:ext cx="79218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крытая монополия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щищена от конкуренции с помощью юридических ограничений и запретов (чаще всего это государственная монополия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826920" y="2215080"/>
            <a:ext cx="788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ткрытая монопол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монополия, при которой одна фирма, по крайней мере на некоторое время, становится единственным поставщиком продукта, но не имеет специальной защиты от конкуренции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826920" y="364500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стественная монопол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возникает в отрасли, в которой долгосрочные средние издержки достигают минимума только тогда, когда одна фирма обслуживает рынок целик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900000" y="4915440"/>
            <a:ext cx="74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кусственная монополия -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ъединение предприятий, создаваемое ради получения сверхприбылей  и установления рыночной в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Особенности взаимодействия спроса и предложения на монопольном рынк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93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нополист обладает определенной властью над рынком, так как он один определяет предложение товар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оме того, он обладает властью и над ценой товара, но эта власть не является абсолютной, так как цена зависит и от спроса, а предложение зависит от це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90400" y="549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ля измерения монопольной власти используют коэффициент Лернер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=(P-MC)/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     г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– коэффициент Лернер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– цен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– предельные издерж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4:21:21Z</dcterms:created>
  <dc:creator>1</dc:creator>
  <dc:description/>
  <dc:language>en-US</dc:language>
  <cp:lastModifiedBy>Таня</cp:lastModifiedBy>
  <dcterms:modified xsi:type="dcterms:W3CDTF">2009-11-25T15:29:48Z</dcterms:modified>
  <cp:revision>17</cp:revision>
  <dc:subject/>
  <dc:title>Монополия  в рыночной экономике</dc:title>
</cp:coreProperties>
</file>