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BA8-F050-4EFE-A95A-4CD9CF2C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BC5-3EBC-4A07-A2F2-C5D2FA2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C6E45-05BD-4F4E-930C-896366C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1507F-2FC3-4944-975D-3EB8880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3DA48-5957-439C-A3FD-6D59ABE9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B4A73-B6C6-4976-AE66-0BBC11F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A4447-479D-4FE5-859B-EDF92C5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8E72B-A541-468E-8DFB-A4C4DC9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B3370-877D-406E-8741-5973997A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09AB1-6CB2-4595-A45B-73A06F76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8CF0E-B211-43B1-A3BF-6BD715E4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E1105-35F8-446B-91BE-4A20E809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4B7-3D00-469C-B1F1-67EF2BC5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28A2B-ADB8-4A37-82CC-19F60B96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711D-FBBC-4D08-9063-7637FD6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F9EDD-AC54-4BAD-9B0C-CC4A8E59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EC2E8-4D51-4677-82CC-45F75273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BF484-0AA5-439F-848C-693AA0E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CA0C-10B4-46E7-895B-18F35A0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8D4E2-2FE4-4FE4-84EC-77FC5E9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5404-2EBA-4282-AC60-3F496C4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6AFC2-72DC-4D2D-887E-5C75F2A4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7B5C8-FEF2-46E6-9E2E-40402A22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260-01F6-471E-9F89-DF369A6C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12EC7-0221-4642-87BE-3FDB9420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C38D2-7FB8-4DC7-BC9A-CD28B322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E2CF5-AA34-4C9A-A2EF-66830CD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A0FBD-FF54-4F97-B985-0DE35FB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6A7B-4469-48CB-83DB-4EC8F11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00B1A-22C2-4261-8700-E4BCA1D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6DE5-0A6C-43C1-B148-F0EFAD4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3FC89-884E-4F0A-A9A5-F4BD9CA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FEAFB-C32F-493E-8512-FF3A6A2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D0215-059E-4F97-BA2A-0BB8C5C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E15-F966-4BB7-BFA7-000511C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B2802-AB6A-478C-BE08-62B0E32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3E21-0E10-495D-808B-00C567EB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F1C0F-C12F-497C-A2A3-860F8E62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413CA-EF04-4E10-B6FC-921F89EE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7E05-7F93-438A-9E67-DF61D1E9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08D8E-7E16-4604-81C6-9552122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2F927-ACC4-4BDA-BE14-3AC3AD7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18127-81EE-4129-8BE7-5F60E9CC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A596B-E97B-4EA9-BD66-77F9C66F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23E75-C440-4A88-AD1E-5FFDBC3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273B-0AFB-43FF-9C72-D0954F5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955F7-213F-415E-AA62-17C18E4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70DB2-467B-4ED9-90FA-BF57126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1C061-9AA6-4337-BDC7-1C40AAC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B54CC-1961-4ADF-88E0-5DC5E116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8525C-CB52-428C-970E-DF41D240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21F23-0A79-4A8C-A039-5577D50B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1C451-0D0A-4329-A5BC-041557F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CBA9-B15B-475E-A0CB-8DB0060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2E60F-0E7F-41DC-A856-90818CA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42995-49DC-4918-86F3-861DB70C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35D8-2C95-441A-B3F0-5BF8AD86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281C2-3A37-4D2D-AD3A-8D0F9A6D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2F49A-1D27-49BD-8699-986E7E1A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23CBA-EE39-4597-B13E-A75A801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A4A17-EEEC-497C-ADC6-925919A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36D1E-0F68-486A-A963-AADCCED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9FC27-6FCA-477B-BF4A-46BB562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B3837-3ED2-41C1-BEF6-702A972B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C6BF0-0A01-4714-950C-757B0EA8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29BA7-0AA7-47CD-8F4D-7F51672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01431-593B-4239-8FF8-EF73C7D9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F83-EB01-4647-BA0F-91341F3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D1881-A12A-4442-B7EA-6C8F796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59E97-A9BC-49B5-BEEB-39CD286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1530E-0CD0-47D3-8424-B36F527C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497C8-588E-40ED-B699-639CAF3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D4649-1554-4E6A-8841-3600E15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0CE38-4FB7-4405-9AA4-5DB250C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913AD-1881-49BA-A688-600704C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FFA07-B743-4F51-A06A-25BC78B3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27BEC-4039-44BF-A5C3-5ECF5AA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91D76-84A2-4C7B-906B-A406637A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649-13AB-4DA8-8D8C-977E9EB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49390-7925-46B0-AC85-3EA8850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FA4F5-D2B4-478C-B1C8-5A58B07D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4F6BF-EC41-42BF-B935-22C470D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4FEF2-EC30-44DD-91C9-F4123CE5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D8E2B-158B-4B8C-BC08-7AE87C0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AE743-4364-42FE-B8AE-64BCE7C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180A9-5983-4938-A8F6-120378C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9AA88-8B57-49E6-B5E8-23473ADA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54F67-684C-4360-8A6D-22A315E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D1457-085C-4831-97D1-E4D04ABE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DFB-1927-4543-B581-43B6E86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489FF-3303-4BDB-B4BA-923A647C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C9CED-E2CC-4A75-8920-DDE38BF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E0E08-F608-4485-85CE-045C7E1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4496A-7F77-4AA9-94E5-3C4502F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35C0B-699E-4A4A-A0A4-CC776B0F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B169B-C99F-4642-8CBB-C5EFF19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39B93-B9BE-4E69-926E-246E159F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59425-2EEB-45B6-BB67-7CDE64E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41D59-4515-4C0D-9322-C45E255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C6875-24B7-4B60-ACAA-677925E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D0EE-B33F-4002-B9A4-75AD712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BB8AE-F0DD-48EE-AF71-6E5ECD29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2787C-FA45-450F-8665-AAF5D608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93FA2-C743-40BD-9C85-EB0C1178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DBBAE-CCA3-41E7-B121-772582F5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467BF-CF2E-4F09-88F4-ED59277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2ADC6-C02F-4DCF-9AA6-F717D8E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8C9D8-72EC-4FB9-BE8F-51F11B4F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77A85-277B-4439-BDEC-5F5FB6AF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C187E-9D6A-4E60-88E4-1429DF0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E0FC7-C42E-49D5-8CE7-A9966D0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64A-2671-48A3-BF24-1735276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6F60-AE0E-4C38-B37F-D957CE8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C5CDB-6A53-42C7-98B1-FFB7A05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5359C-3FF0-451F-8F6C-6E24C48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F55C0-3C60-49B2-ADE8-B32612C9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72937-BF4B-43EB-A375-7A0AADE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D41A0-0B95-4816-9A3F-9B215F0C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96064-3490-48AC-ADF7-D2BDAB5E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52FC3-9834-48BC-8A5A-88D817D2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4C87C-7FDF-450F-A3F3-FA011FF0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6376D-4AF4-449A-835A-4C5B14B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3A766-E801-496C-A747-440DB5B5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3A97-7608-4B57-97EE-CA00B4F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AA2EA-FA42-496C-9E1F-6BE167B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05CC4-55C3-4CE3-8A67-86F3686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A9469-4BE0-492C-80F8-4EB71BA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A95D9-C96D-43D3-858C-2A480D6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E2E5F-9E01-48A0-9D95-18369BD6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42C7C-0FF6-48EF-88BB-54B05930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FCD03-B609-4FD9-BBD6-0515EE66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E748F-19BB-46E2-B3CD-B71B3F25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39750-81A0-4936-AA75-3DFB240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16B8A-4A62-49F0-BE0B-17845CCC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265-7B24-424A-AA27-0F07A18C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11D71-7597-4052-8685-554D43E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5C2D9-8510-4503-97EF-5FEC2708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70AF0-73C7-466F-8D44-33AB27DC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98B83-00E1-4631-8056-EC79B6C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03455-A729-43B2-BC58-5A51AD5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86955-43DC-40F3-915F-DD8B537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C514E-2BC2-47CD-B489-DE8DC70A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87225-5513-43EA-A923-AF99F519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F2895-5841-4F15-95D9-9856964E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9F5B5-FA19-4E2A-8DCF-C5CA1D11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B04F-1F91-4734-95B4-013FB06F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EF374-3F50-44AC-91D7-44A33B72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ED215-5844-4F64-B2A8-331FD13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D727D-3597-42FA-97A7-DFD3D59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6825F-F3DB-40EF-B820-2D23DF5E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00144-FFE7-4656-A9DE-07D3587D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CBB1A-50DF-4073-A403-10687B5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4E3F9-9A94-431F-A3E2-D064A86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820E0-AB86-4BF1-ACCA-F89D08E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5DCCF-B7EB-496E-8CC3-E3FE658B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59D57-F9A8-4503-92A0-6FE80F7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59C-AC79-4D16-8739-7D54C82A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9A37A-45E6-40D4-BD59-8F913E67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8536E-63B5-4804-BD96-67EDD8BA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93A6E-CA01-4E7D-A872-8129B87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352FB-96CF-40F3-97D3-71F0E90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EC25B-D7F2-4F5B-B22E-2357A50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37A2C-75F5-46C5-A6FA-EE3394B6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B03D0-26EB-4DED-B921-9D4F6DA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2DEBB-B32B-422A-9BE5-D81DBF3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A0510-6D65-4442-B081-E7E7F56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2990A-783E-43C2-901F-EC828DC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A38D-F345-4D25-9E4F-1C868933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5A805-F38B-46E8-BE42-6966893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05A30-E05C-4BBA-A642-D77EF77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5C775-D3F2-4F61-B652-70026296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D9118-8426-4AE5-944B-A7DC3097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8E49C-9136-410B-8B4C-59886B12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C34BB-875E-4DEC-B2CD-1C299D17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A2CAF3-F116-4EE7-B49B-FC3CC52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DAEEA2-CB30-4569-AC72-3B89A72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44E78-1002-4270-A892-05E3BA3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A740D-728B-40EE-9364-2699E00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92DC-9EF2-426C-85E9-1A8B831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92001F-E7D3-41FA-B2E4-94922076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749D7-1DCC-41D2-80CE-85D7EC7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69B5F0-3090-4FE0-B322-23723154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82F9D-C951-40F6-9B17-94E6C978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4D438-1B5D-4FBD-A267-76F2715C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8926-46D3-4B12-8309-262E7C37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1A42-AB6A-4F66-A7C3-90CB38B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B02E-8CC5-4868-AAE8-D8DD0BA4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393-A296-4B5C-8514-B1619164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7C9C-033B-4F91-98C4-0FC64B6C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E1B0-D374-44F4-9AC9-0DE73E7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C23A-E07A-480B-8108-3FB69AA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1FDB-BDB4-4429-B0CB-2C708C5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075C-5A11-445E-A612-4787534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CD92-CEF7-4861-B5E8-B6D2B2BB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F726-664A-40C6-B716-61939E81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8B6E-9ECC-4739-99DD-1D45D7B1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1C16-0C12-4E4D-8863-903D1C2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C9F4-F7BF-4EF9-9C33-18B4AEF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BD0-64FF-4703-9CDD-F29EB385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A239-3776-431D-B333-B082249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02D1-414F-4636-931A-A595D5C5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CF02-B03F-476B-A1A7-18582CCF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698C-8382-43AB-BF7A-BC52D03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DA03-E9C3-400C-A888-A8637D7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E99A-165E-408F-9E72-9F45711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B6BA-A042-4DF3-837B-9082BADF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BC78-5B59-495B-AE2D-48538B54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F816-79BB-4761-A7D3-02E87933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433D-69CF-4573-9CFA-2562C448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61D-9ABB-4344-91DF-F936533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9F64-0A20-4CBE-92C9-542534E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2CFB-5089-4C71-B2DB-085BD74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3C0D-3EDC-4A62-9C5E-C5575F4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2409-BC6F-45B4-97C7-135319B0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CFAE-C149-4E85-A865-1F6EC0E1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0FB0-787F-475B-8B1A-C34E05E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AF6DF-7F97-4F86-8E00-D4BF1FE8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2A17-78CC-4B02-83D4-5961BF6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010D-45CE-42D8-98F0-EE08B66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E537-9045-42A2-896A-86FA47A3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378-5B08-48A2-BF8E-73F6D0C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3447-C25B-4636-AB97-B1EB3BC1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5BF6-F665-4524-BB10-CFDFA075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A3EA-B21B-4669-9666-924A882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71BAF-F459-4F5A-B7E5-D432407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BF82D-D5E8-455A-8622-8FD4ACD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7A3F-AA7B-482E-AF44-0148D071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DDC0-6109-4FB3-9965-E4874834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32C0-5B66-455D-AB4A-F9DC8D9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623A-FA04-455C-9341-5B488F4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F2041-8D3E-4F5B-82C3-0A0824C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8A0-9873-4EF6-95A4-DD60073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5ABD-9B18-4AA2-BB9C-2A714A0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11F8-3837-4594-9857-936F8EB6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E53C4-7244-4402-85E8-AF639052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506A-EBD7-4AE8-9D68-41B36D0E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6752-97CF-417E-A7AF-7B6E83C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6920F-2BA6-4AEA-BF71-7008FED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34FC-A185-421C-A8DD-E831BE8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76774-40F7-4C7B-BB0C-F1A89E38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8BE88-1952-4E04-9C85-82CDF978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90CA-F591-4218-B405-2150090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A58-DD32-4891-80B3-D0B63B0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E10B-AB21-4EC6-B6A2-F7BEEAF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15A0-16E7-4387-BA09-BFC4FB01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F884-2D93-4FB9-AF62-FD7D7808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9D24B-C343-499E-A952-341F94F3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2D97-C90F-4B56-923F-F01FBAE1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B878-885A-4C55-9B3F-FB37DEB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BCEC8-5D02-4BF6-8AEC-A102024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E28D7-F10F-4401-8922-E18BC7BB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9E9EF-0DC7-47FB-8D37-FDA6DFF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CED9-4FDB-4EE9-9834-7841D87C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42F-303C-4025-A714-77C8BA5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87AA-402D-415E-8554-745C140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522D-42F5-4BCA-A72C-0F0FF09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3C98-ADA4-4154-BCF2-55A1DD0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68CB-724F-4ED2-8A9E-38C1C09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8005-9F6E-43E3-84B1-6CD6B6B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6191-A669-41B5-A6F0-92812F1C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34D66-9FB6-49DF-B363-6CCB1B4D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D8F2-A921-4961-88BC-5304FA4E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F3B67-43AA-4ED6-A766-290B7901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EAEFB-AB3B-439F-895B-F7BC7464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B0FD-75F9-416A-85D6-AEA783144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054-1CF5-4976-9EAC-563F494502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5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6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6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673-4A49-4198-8E7A-A96A7EBD44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8E1-4B55-497F-A198-D691817F78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3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3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3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E5D-9F40-45F5-AEB4-C7D57ED5F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dt" idx="4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ftr" idx="4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sldNum" idx="4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7FA6-E376-4518-92A6-0A4614A1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8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85B5-E664-48F0-AA92-A3BDDF7E97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23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23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24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ftr" idx="4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sldNum" idx="4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2E36-81D0-4DAE-B32F-742134A800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9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6F3-A9EE-4BF1-A883-8786AE89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77D7-90F0-4E06-91E3-144A7AC1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C9D-F2F3-452F-91EC-4D324FE84B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9C0F-FB1C-4CD8-BE80-1C6421A591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B10-F5C6-4587-B8F5-5ACC041693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8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5D0F-0850-470B-B73F-BFD42A7F42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3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3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3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dt" idx="6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ftr" idx="6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D9C-29F2-418D-952D-23775A3F6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341-2416-4716-8DAA-EE1D1634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421-AC07-4A11-A76D-69B379CD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EB1-3B7B-40EA-91AC-5852CA0E7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185-7D60-4AF1-AA19-8FB090C144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9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9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9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0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0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1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06B-D477-4DA0-81DC-9D50A8A730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7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7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9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9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9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0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0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E94-455C-4809-996F-FB7D9DF17D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469E-AEEF-4F08-A2A5-A638CF8F92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6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9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9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9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1403280" y="476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Условия рынка совершенной конку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258920" y="1916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се продавцы на рынке будут совершенно конкурентными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79280" y="2924280"/>
            <a:ext cx="849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ждый из них мал относительно рынка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одукция является одно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окупатели хорошо информированы о ценах прода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одавцы действуют независим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Фирмы могут свободно входить в отрасль и выходить из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 flipV="1">
            <a:off x="1835280" y="620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835280" y="3357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835280" y="2421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835280" y="1773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99564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835280" y="2708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-35640" y="-1180440"/>
            <a:ext cx="475200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905400" y="-1971000"/>
            <a:ext cx="3521880" cy="460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9" y="266"/>
                </a:moveTo>
                <a:arcTo wR="10800" hR="10800" stAng="-6164299" swAng="6164299"/>
                <a:lnTo>
                  <a:pt x="10800" y="10800"/>
                </a:lnTo>
                <a:close/>
              </a:path>
              <a:path fill="none" w="21600" h="21600">
                <a:moveTo>
                  <a:pt x="8419" y="266"/>
                </a:moveTo>
                <a:arcTo wR="10800" hR="10800" stAng="-6164299" swAng="61642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1619640" y="-2115720"/>
            <a:ext cx="244728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68360" y="3860640"/>
            <a:ext cx="79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На рисунке цена превышает  величину средних совокупных издержек при объеме выпуск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Q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Фирма получает прибыль, равную (Р-АТС), в расчете на единицу выпуска при объеме выпуск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Q*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1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 flipV="1">
            <a:off x="2268360" y="620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68360" y="3213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68360" y="148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268360" y="1125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40360" y="112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68360" y="2205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424600" y="-271080"/>
            <a:ext cx="2577240" cy="134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319" y="1494"/>
                </a:moveTo>
                <a:arcTo wR="10800" hR="10800" stAng="-7229958" swAng="7229958"/>
                <a:lnTo>
                  <a:pt x="10800" y="10800"/>
                </a:lnTo>
                <a:close/>
              </a:path>
              <a:path fill="none" w="21600" h="21600">
                <a:moveTo>
                  <a:pt x="5319" y="1494"/>
                </a:moveTo>
                <a:arcTo wR="10800" hR="10800" stAng="-7229958" swAng="72299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402200" y="-1394280"/>
            <a:ext cx="288216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 rot="882000">
            <a:off x="1036440" y="-1733760"/>
            <a:ext cx="4182120" cy="40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0" y="102"/>
                </a:moveTo>
                <a:arcTo wR="10800" hR="10800" stAng="-5872635" swAng="5303232"/>
                <a:lnTo>
                  <a:pt x="10800" y="10800"/>
                </a:lnTo>
                <a:close/>
              </a:path>
              <a:path fill="none" w="21600" h="21600">
                <a:moveTo>
                  <a:pt x="9320" y="102"/>
                </a:moveTo>
                <a:arcTo wR="10800" hR="10800" stAng="-5872635" swAng="53032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68360" y="3716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 рисунке средние совокупные издержки выше цены при всех объемах выпу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Здесь не существует способа получить положительную приб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1042920" y="189000"/>
            <a:ext cx="7632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аткосрочные кривые предложения фирмы –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казывает объем выпуска который будет предлагать фирмы при каждом значении цены чтобы максимизировать прибыль или 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900000" y="33336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рма начнет производить по цене не ниже минимум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C c P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будет продолжать увеличивать выпуск д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Q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при Р3 минимизируя убытки, затем при росте цены  от Р3 до Р5 будет увеличивать выпуск о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до Р5, максимизируя прибы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1403280" y="333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раткосрочная кривая предложения фирмы совпадает с ее кривой предельных издержек для цен, превышающих минимальный уровень средних переменных издержек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VC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). Если цена ниже минимального уровн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VC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, которая называется краткосрочной ценой ликвидации, то фирма закроется и объем ее выпуска будет нуле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611280" y="54936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 долгосрочном периоде фирма, принимающая решение о функционировании, будет производить свой оптимальный положительный объем выпуска, такой, при котором цена равняется долгосрочным предельным издержк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3348000" y="3429000"/>
            <a:ext cx="439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=LMC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45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900000" y="98100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Фирме следует осуществлять свою деятельность в долгосрочном периоде только в том случае,  если цена выше или равна долгосрочным средним издерж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3851280" y="3716280"/>
            <a:ext cx="36622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&gt;LA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7" name=""/>
          <p:cNvSpPr/>
          <p:nvPr/>
        </p:nvSpPr>
        <p:spPr>
          <a:xfrm>
            <a:off x="4643280" y="5013360"/>
            <a:ext cx="576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75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46836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птимальный объем совершенно конкурентной фирмы объема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179280" y="1484280"/>
          <a:ext cx="8785440" cy="4533840"/>
        </p:xfrm>
        <a:graphic>
          <a:graphicData uri="http://schemas.openxmlformats.org/drawingml/2006/table">
            <a:tbl>
              <a:tblPr/>
              <a:tblGrid>
                <a:gridCol w="2376720"/>
                <a:gridCol w="2808000"/>
                <a:gridCol w="36007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ельные услов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ибыль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ср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объем выпуска при котором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=М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ь только в том случае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gt;AV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тить производство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AV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сроч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объем выпуска при котором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=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ь только в том случае если,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gt;LA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тить производство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LA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0" name=""/>
          <p:cNvSpPr/>
          <p:nvPr/>
        </p:nvSpPr>
        <p:spPr>
          <a:xfrm>
            <a:off x="7236000" y="3068640"/>
            <a:ext cx="21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164360" y="465300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25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684360" y="836640"/>
            <a:ext cx="813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олгосрочная кривая предложения фирмы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крива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M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расположенная выше долгосрочной цены безубыточности Ра, равной минимальному уровню долгосрочных средних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любой более высокой цене фирма имеет приб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любой цене, которая ниже Ра, в долгосрочном периоде фирма будет терять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550"/>
                            </p:stCondLst>
                            <p:childTnLst>
                              <p:par>
                                <p:cTn id="29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1,-1,-1)"/>
                                      </p:to>
                                    </p:se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1,-1,-1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250920" y="333360"/>
            <a:ext cx="860400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Долгосрочная цена безубыточности фирмы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наименьшая цена, при которой в долгосрочном периоде фирма может лишь возместить свои издер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а величина представляет собой минимальные долгосрочные издержки фирмы и соответствует низшей точке на ее кривой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A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e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611280" y="692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ложение в условиях совершенной конку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635280" y="25653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ршенно конкурентная фирма-это фирма, действующая в условиях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50"/>
                            </p:stCondLst>
                            <p:childTnLst>
                              <p:par>
                                <p:cTn id="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324000" y="333360"/>
            <a:ext cx="756108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бъем продаж совершенно-конкурентной фирмы составляет малую долю от общего предложения увеличение или уменьшение объема производства отдельной фирмой не повлияет на рыночную цен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аким образом, спрос на продукцию является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бсолютно эласт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640"/>
                            </p:stCondLst>
                            <p:childTnLst>
                              <p:par>
                                <p:cTn id="5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 flipV="1">
            <a:off x="1403280" y="1989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403280" y="465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403280" y="3500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292720" y="191628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292720" y="472428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92720" y="2924280"/>
            <a:ext cx="208764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50920" y="47628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ивая спроса совершенно-конкурентной фи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643280" y="18900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ивая спроса, с которой сталкивается несовершенный конкур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33200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л-во объема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292720" y="486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л-во объема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90000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788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84328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80400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50"/>
                            </p:stCondLst>
                            <p:childTnLst>
                              <p:par>
                                <p:cTn id="6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ffd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2050920" y="4046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ак как цена совершенно конкурентной фирмы задана рынком и не зависит от объема продаж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219640" y="2637000"/>
            <a:ext cx="309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TR=P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MR=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AR=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60"/>
                            </p:stCondLst>
                            <p:childTnLst>
                              <p:par>
                                <p:cTn id="86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60"/>
                            </p:stCondLst>
                            <p:childTnLst>
                              <p:par>
                                <p:cTn id="9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/>
          <p:nvPr/>
        </p:nvSpPr>
        <p:spPr>
          <a:xfrm>
            <a:off x="395280" y="692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и производстве дополнительной единицы продукции производитель несет дополнительные издержки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МС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, но также получает дополнительный доход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MR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, равный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TR2 – T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60"/>
                            </p:stCondLst>
                            <p:childTnLst>
                              <p:par>
                                <p:cTn id="107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 flipV="1">
            <a:off x="1258920" y="475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258920" y="278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258920" y="162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-252000" y="-1178640"/>
            <a:ext cx="403200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780000" y="54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34800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6352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49236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82692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403280" y="314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ъем вы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211640" y="32846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авило максимизации прибыли: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Р=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246560" y="465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 количество продукции при котором обеспечивается это равенство будет опт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692360" y="25092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Решение производить ли вообщ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11280" y="2060640"/>
            <a:ext cx="4105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P&gt;AT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AVC&lt;P&lt;AT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P&lt;AV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059280" y="1989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изводитель получает при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716360" y="3213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олжает производство с убы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276720" y="43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олжен закры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9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611280" y="47628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Так как в краткосрочном периоде постоянные издержки не влияют ни на предельные издержки, ни на средние переменные издержки, то изменения в стоимости постоянных факторов не оказывают абсолютно никакого воздействия на объем предложения в краткосрочном пери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3,11,34)"/>
                                      </p:to>
                                    </p:set>
                                    <p:set>
                                      <p:cBhvr>
                                        <p:cTn id="166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3,11,34)"/>
                                      </p:to>
                                    </p:set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30:06Z</dcterms:created>
  <dc:creator>1</dc:creator>
  <dc:description/>
  <dc:language>en-US</dc:language>
  <cp:lastModifiedBy>1</cp:lastModifiedBy>
  <dcterms:modified xsi:type="dcterms:W3CDTF">2009-11-18T16:58:0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