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A95-B0F8-4B01-B79A-51165B83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F1A-D02C-4ED8-80D9-B7C1F257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8A1-9865-4ED6-97A8-10C91E90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B92-E917-4EDC-9A03-D8D91618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AD3-AA1F-43EF-AF18-5D4980D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5B2-A5AF-4B56-9208-1490F6CD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063-7649-415A-BC35-8AE10052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DE3-52E4-44F4-9BA3-60728921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BE8-4D88-408F-9F86-9CDD75DB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F8D-C3A9-4AC8-B588-8A41C8CD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C5D-1F1D-4DFD-BEB4-7EBE134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AB4-1BED-4843-A364-5816B54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4B3F-6E0C-4E13-8240-0D2F4A0FD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требительский выбор и факторы его определяющие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Бюджетная линия и кривые безразлич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авила максимизации полез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ая из точек пересечения кривой безразличия и бюджетной линии фиксирует соответствующий набор товаров, полезность, которых может быть удовлетворена. Потребитель может располагаться в любой точке бюджетной линии, но рациональный потребитель только в точке равновесия (Е), где достиг максимальной полезности всех товаров из набора, приобретенного за счет личного бюдж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 – максимальная полезность товара (ед.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 – цена товара (у.е.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Любой потраченный рубль должен приносить одинаковое удовольств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42920" y="18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полезность максимизируется в том случае, когда денежный доход потребителя распределяется таким образом, что полезность на каждую потраченную денежную единицу равна любому купленному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алгебраической интерпретации правило максимизации полезности имеет следующий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436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7400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69280" y="23684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9800" y="2349360"/>
            <a:ext cx="6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27082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270828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2708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9640" y="27082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6564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4528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42000" y="265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1256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9364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17640" y="2513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1800" y="2492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2637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75840" y="258444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тим правилом можно пользоваться не только в сфере расходования денежного бюджета, но и бюджета времени, а так же при выборе других ценных ориент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 всех подобных случаях решается одна задача – распределение того или иного ограниченного ресурса между альтернативными сферами его прим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показано 3 набора безразличия двух товар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каждый из которых представляет различный уровень поле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ить кривую безразличия и определить, какая из них    отраж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иболее высо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иболее низ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1916280"/>
          <a:ext cx="6095880" cy="3241080"/>
        </p:xfrm>
        <a:graphic>
          <a:graphicData uri="http://schemas.openxmlformats.org/drawingml/2006/table">
            <a:tbl>
              <a:tblPr/>
              <a:tblGrid>
                <a:gridCol w="1015560"/>
                <a:gridCol w="1016280"/>
                <a:gridCol w="1015920"/>
                <a:gridCol w="1015920"/>
                <a:gridCol w="1015920"/>
                <a:gridCol w="1016280"/>
              </a:tblGrid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1484280"/>
          <a:ext cx="6095880" cy="4474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ор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971640" y="549360"/>
            <a:ext cx="0" cy="57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308640"/>
            <a:ext cx="720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58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486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342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989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623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564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80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2164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128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0272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42720" y="6256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8236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00" y="35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 flipH="1" flipV="1">
            <a:off x="6011640" y="5157360"/>
            <a:ext cx="721440" cy="936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8" name=""/>
          <p:cNvCxnSpPr/>
          <p:nvPr/>
        </p:nvCxnSpPr>
        <p:spPr>
          <a:xfrm flipH="1" flipV="1">
            <a:off x="4642920" y="3933360"/>
            <a:ext cx="136944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59" name=""/>
          <p:cNvCxnSpPr/>
          <p:nvPr/>
        </p:nvCxnSpPr>
        <p:spPr>
          <a:xfrm flipH="1" flipV="1">
            <a:off x="3923640" y="2923920"/>
            <a:ext cx="719640" cy="1010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0" name=""/>
          <p:cNvCxnSpPr/>
          <p:nvPr/>
        </p:nvCxnSpPr>
        <p:spPr>
          <a:xfrm flipH="1" flipV="1">
            <a:off x="3203280" y="1484280"/>
            <a:ext cx="721440" cy="1440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1" name=""/>
          <p:cNvCxnSpPr/>
          <p:nvPr/>
        </p:nvCxnSpPr>
        <p:spPr>
          <a:xfrm flipH="1" flipV="1">
            <a:off x="6011640" y="2923920"/>
            <a:ext cx="721440" cy="505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 flipH="1" flipV="1">
            <a:off x="5292360" y="2204640"/>
            <a:ext cx="720000" cy="7200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3" name=""/>
          <p:cNvCxnSpPr/>
          <p:nvPr/>
        </p:nvCxnSpPr>
        <p:spPr>
          <a:xfrm flipH="1" flipV="1">
            <a:off x="4571640" y="1412640"/>
            <a:ext cx="721440" cy="7927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4" name=""/>
          <p:cNvCxnSpPr/>
          <p:nvPr/>
        </p:nvCxnSpPr>
        <p:spPr>
          <a:xfrm>
            <a:off x="4572000" y="1413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/>
          <p:nvPr/>
        </p:nvCxnSpPr>
        <p:spPr>
          <a:xfrm flipH="1" flipV="1">
            <a:off x="3202920" y="548640"/>
            <a:ext cx="1369080" cy="864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6" name=""/>
          <p:cNvCxnSpPr/>
          <p:nvPr/>
        </p:nvCxnSpPr>
        <p:spPr>
          <a:xfrm flipH="1" flipV="1">
            <a:off x="6732000" y="2133000"/>
            <a:ext cx="719640" cy="719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7" name=""/>
          <p:cNvCxnSpPr/>
          <p:nvPr/>
        </p:nvCxnSpPr>
        <p:spPr>
          <a:xfrm flipH="1" flipV="1">
            <a:off x="6011640" y="1772640"/>
            <a:ext cx="7214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8" name=""/>
          <p:cNvCxnSpPr/>
          <p:nvPr/>
        </p:nvCxnSpPr>
        <p:spPr>
          <a:xfrm flipH="1" flipV="1">
            <a:off x="5292360" y="980280"/>
            <a:ext cx="720000" cy="793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69" name=""/>
          <p:cNvCxnSpPr/>
          <p:nvPr/>
        </p:nvCxnSpPr>
        <p:spPr>
          <a:xfrm flipH="1" flipV="1">
            <a:off x="4571640" y="332640"/>
            <a:ext cx="72144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70" name=""/>
          <p:cNvSpPr/>
          <p:nvPr/>
        </p:nvSpPr>
        <p:spPr>
          <a:xfrm>
            <a:off x="6732720" y="4076640"/>
            <a:ext cx="2157120" cy="1008000"/>
          </a:xfrm>
          <a:prstGeom prst="borderCallout1">
            <a:avLst>
              <a:gd name="adj1" fmla="val 18750"/>
              <a:gd name="adj2" fmla="val -8333"/>
              <a:gd name="adj3" fmla="val 97009"/>
              <a:gd name="adj4" fmla="val -3355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низ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53400" y="506520"/>
            <a:ext cx="1939680" cy="1193760"/>
          </a:xfrm>
          <a:prstGeom prst="borderCallout1">
            <a:avLst>
              <a:gd name="adj1" fmla="val 18750"/>
              <a:gd name="adj2" fmla="val -8333"/>
              <a:gd name="adj3" fmla="val 142287"/>
              <a:gd name="adj4" fmla="val -3925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высокий уровень поле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6892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1328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0360" y="35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отребительский выбор и факторы его определ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й выбор – процесс формирования спроса потребителей на разнообразные тов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требительский выбор определяется двумя основными фактор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 полезностью того или иного това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 доходом потреб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ыборе товара потребителя интересует его полезность, т.е. потребитель, руководствуясь своими вкусами и предпочтениями, дает субъективную оценку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! Товары имеют определенную цену, а денежный доход потребителя ограни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00"/>
            </a:gs>
            <a:gs pos="50000">
              <a:srgbClr val="00ff00"/>
            </a:gs>
            <a:gs pos="100000">
              <a:srgbClr val="0075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аким образом с помощью цен ставится предел желаниям потребителя в приобретении какого-либо товара. Потребитель идет на компромисс, выбирая между альтернативными благами, чтобы при ограниченном бюджете получить наиболее удовлетворяющий его набор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требительское поведение можно описать терминами и графиками бюджетного ограничения и кривыми безразлич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Бюджетная линия и кривые безразличия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вая безразличия – совокупность потребительских наборов , обеспечивающих один уровень удовлетворения потребностей покупател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3640" y="2491920"/>
            <a:ext cx="511164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ивая безразличия имеет отрицательный наклон: чем больше одного товара входит в набор, тем меньше количество другого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8360" y="3357720"/>
            <a:ext cx="0" cy="22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5589720"/>
            <a:ext cx="26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899640" y="1770480"/>
            <a:ext cx="4463280" cy="345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149720"/>
            <a:ext cx="574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149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1577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68000" y="515772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76640"/>
            <a:ext cx="730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730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472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21280" y="4745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5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2000" y="546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44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44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216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70520" y="558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ивая безразличия является выпуклой относительно началу координат, т.к. норма замещения одного товара другим, т.е. готовность потребителя заменить потребление одного товара другим, неодинаково при различных наборах и имеет тенденцию к сокра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по каким-либо причинам потребитель может увеличить в наборе количество потребляемых благ, то общий уровень его удовлетворения повышается. Кривая безразличия сдвигается вправо и ввер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2920" y="333360"/>
            <a:ext cx="40388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окупность кривых безразличия образует карту безразличия. Чем выше кривая безразличия, тем выше благосостояние потребителя. В какой точке карты безразличия находится потребитель зависит от цен и его до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очки зрения удовлетворения потребителей, потребителю  безразлично какой набор вдоль кривой он получит, однако каждый товар в наборе имеет цену, а поскольку бюджет потребителя ограничен, то и его выбор получает ограни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971640" y="1268280"/>
            <a:ext cx="0" cy="288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4149720"/>
            <a:ext cx="28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86920" y="-1397520"/>
            <a:ext cx="5327280" cy="533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692000" y="-892800"/>
            <a:ext cx="4317120" cy="432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195280" y="-388080"/>
            <a:ext cx="3310560" cy="33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692360" y="2421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11280" y="314172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71640" y="278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0920" y="2060640"/>
            <a:ext cx="2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308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964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4360" y="3736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34360" y="3160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4360" y="2584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ществует ряд возможных комбинаций товаров которые потребитель способен оплатить из имеющегося в его распоряжении бюджета. График этих возможностей образует бюджетную ли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юджетная линия иллюстрирует все комбинации товаров, которые потребитель способен приобрести при данном доходе и ц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292720" y="2708280"/>
            <a:ext cx="0" cy="28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558972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213000"/>
            <a:ext cx="2590920" cy="25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5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82360" y="553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4160" y="328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7800" y="558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аким образом кривая безразличия показывает, что потребитель хотел бы купить, а бюджетная линия показывает, что потребитель может куп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бинация кривой безразличия и бюджетной линии определяют, что потребитель вероятнее всего купит, поскольку его желания совпадают с его возможност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7517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Правила максимизации полез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ет существовать не один, а несколько вариантов сочетания товаров, которые приемлемы для данного потреб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411280" y="2707920"/>
            <a:ext cx="0" cy="360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30864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555640" y="-331560"/>
            <a:ext cx="6480000" cy="64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13" y="22"/>
                </a:moveTo>
                <a:arcTo wR="10800" hR="10800" stAng="-5618702" swAng="5860165"/>
                <a:lnTo>
                  <a:pt x="10800" y="10800"/>
                </a:lnTo>
                <a:close/>
              </a:path>
              <a:path fill="none" w="21600" h="21600">
                <a:moveTo>
                  <a:pt x="10113" y="22"/>
                </a:moveTo>
                <a:arcTo wR="10800" hR="10800" stAng="-5618702" swAng="586016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131640" y="-173520"/>
            <a:ext cx="5759280" cy="57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710880" y="-28800"/>
            <a:ext cx="5037120" cy="5042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6" y="44"/>
                </a:moveTo>
                <a:arcTo wR="10800" hR="10800" stAng="-5088908" swAng="4823725"/>
                <a:lnTo>
                  <a:pt x="10800" y="10800"/>
                </a:lnTo>
                <a:close/>
              </a:path>
              <a:path fill="none" w="21600" h="21600">
                <a:moveTo>
                  <a:pt x="11776" y="44"/>
                </a:moveTo>
                <a:arcTo wR="10800" hR="10800" stAng="-5088908" swAng="4823725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3213000"/>
            <a:ext cx="331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6000" y="3429000"/>
            <a:ext cx="71280" cy="712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24360" y="4723560"/>
            <a:ext cx="71280" cy="730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6093000"/>
            <a:ext cx="71640" cy="727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580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2720" y="3141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1000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76920" y="445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8360" y="5753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66360" y="47451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66360" y="53928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6880" y="5877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6928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45280" y="632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3:54:21Z</dcterms:created>
  <dc:creator>Юля</dc:creator>
  <dc:description/>
  <dc:language>en-US</dc:language>
  <cp:lastModifiedBy>Юля</cp:lastModifiedBy>
  <dcterms:modified xsi:type="dcterms:W3CDTF">2009-10-14T16:56:22Z</dcterms:modified>
  <cp:revision>8</cp:revision>
  <dc:subject/>
  <dc:title>Презентация </dc:title>
</cp:coreProperties>
</file>