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1EF-43E8-4123-BA1D-C07809D9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30A-EB2E-4581-B0C4-940180A2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387-8916-4039-8EEE-743F37E8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0FB-E36C-4FD9-9A4D-AFBE04C9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8E4C-FFCC-4EE3-91F0-51A3D24A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5B31-10BB-4696-99CD-22A2D9CF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9AD4-D55F-4353-AC0E-04530D29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1177-E85D-43D4-B840-3846D888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32B6-D898-42FE-A83F-E3C64E9D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4A5F-B307-483A-B6B9-EA6740EF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DA78-8836-4F6C-99AA-873BF8F4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0CB-AEE8-42C5-A156-4C7F529A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F178-0CB7-4103-909B-3514A3EB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BDB9-F78E-4270-9405-D53EDFC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868C-A445-4F6A-8DE0-27E737D0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B5E9-BAAD-4B49-A905-2EF2215CB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BB2C-8EC4-41B7-AC24-7BB57BAD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AB8-502A-4B50-A625-A08BCB03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DDB-86BC-4492-B420-B1526EE5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A36-D688-4767-8502-41E635C8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12A-5667-48C4-9DDF-FE51337C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460-2034-496F-800F-7B9BA5D6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791-AAFF-4CA0-9E95-86BA4B9D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E3B-3863-4809-A983-5D35D022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3F00-3A3B-4CDE-A839-7A4FA8ADA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46B8-FA2D-4C3B-981E-B0ACC5A7C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3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b7"/>
                </a:solidFill>
                <a:latin typeface="Arial Black"/>
              </a:rPr>
              <a:t>ИГР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периоде все издержки являются переменным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5029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В долгосрочном пери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77320" y="60958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3837"/>
                </a:moveTo>
                <a:lnTo>
                  <a:pt x="16065" y="6448"/>
                </a:ln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lnTo>
                  <a:pt x="20452" y="10800"/>
                </a:lnTo>
                <a:lnTo>
                  <a:pt x="18798" y="10800"/>
                </a:lnTo>
                <a:lnTo>
                  <a:pt x="18798" y="17989"/>
                </a:lnTo>
                <a:lnTo>
                  <a:pt x="8180" y="17989"/>
                </a:lnTo>
                <a:lnTo>
                  <a:pt x="8180" y="10800"/>
                </a:lnTo>
                <a:lnTo>
                  <a:pt x="6526" y="10800"/>
                </a:lnTo>
                <a:close/>
              </a:path>
              <a:path fill="darkenLess" w="26978" h="21600">
                <a:moveTo>
                  <a:pt x="16065" y="6448"/>
                </a:move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close/>
              </a:path>
              <a:path fill="darkenLess" w="26978" h="21600">
                <a:moveTo>
                  <a:pt x="12566" y="14299"/>
                </a:moveTo>
                <a:lnTo>
                  <a:pt x="14411" y="14299"/>
                </a:lnTo>
                <a:lnTo>
                  <a:pt x="14411" y="17989"/>
                </a:lnTo>
                <a:lnTo>
                  <a:pt x="18798" y="17989"/>
                </a:lnTo>
                <a:lnTo>
                  <a:pt x="18798" y="10800"/>
                </a:lnTo>
                <a:lnTo>
                  <a:pt x="8180" y="10800"/>
                </a:lnTo>
                <a:lnTo>
                  <a:pt x="8180" y="17989"/>
                </a:lnTo>
                <a:lnTo>
                  <a:pt x="12566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средних переменных затрат имеет вид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C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Найти алгебраическое выражение для функции предельных затрат. Постоянные затраты равны 200 ден. 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означает продажа одинаковой продукции разным покупателям по разным цена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876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Ценовая дискримин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ая черта рынка совершенной и монополистической конкуренции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800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Множество покупателей и продавц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ние издержки конкурентной фирмы описываются формуло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 = 4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к изменится объем выпуска фирмы, если цена на продукцию с 200 ден. ед. за штуку упадет до 100 ден. ед. за шту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257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снизится на 25 един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2286000" cy="12189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ед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82880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ре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42900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держ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952880"/>
            <a:ext cx="228600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ория ры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97180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495288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6858000" y="304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495288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297180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297180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6858000" y="18288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685800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4952880" y="342900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10" action="ppaction://hlinksldjump"/>
          </p:cNvPr>
          <p:cNvSpPr/>
          <p:nvPr/>
        </p:nvSpPr>
        <p:spPr>
          <a:xfrm>
            <a:off x="495288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1" action="ppaction://hlinksldjump"/>
          </p:cNvPr>
          <p:cNvSpPr/>
          <p:nvPr/>
        </p:nvSpPr>
        <p:spPr>
          <a:xfrm>
            <a:off x="297180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2" action="ppaction://hlinksldjump"/>
          </p:cNvPr>
          <p:cNvSpPr/>
          <p:nvPr/>
        </p:nvSpPr>
        <p:spPr>
          <a:xfrm>
            <a:off x="6858000" y="4876920"/>
            <a:ext cx="1219320" cy="114300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вая, точки которой показывают, по каким ценам в течение определенного времени покупатели могли бы приобрести различные количества товара – эт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1480" y="487692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Кривая спр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закон утверждает, что существует прямая зависимость между ценой товара и объемом предложени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800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Закон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ы функции спроса и предложения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3P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я спро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P-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функция предложения). Найдите равновесную цену и равновесный объе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9 и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йство товара или услуги удовлетворять потребность ес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724280"/>
            <a:ext cx="312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4952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153280" y="6172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е цену товара А, если цена товара В 7 ден. е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666880" y="2666880"/>
            <a:ext cx="3885480" cy="2345400"/>
            <a:chOff x="2666880" y="2666880"/>
            <a:chExt cx="3885480" cy="2345400"/>
          </a:xfrm>
        </p:grpSpPr>
        <p:sp>
          <p:nvSpPr>
            <p:cNvPr id="134" name=""/>
            <p:cNvSpPr/>
            <p:nvPr/>
          </p:nvSpPr>
          <p:spPr>
            <a:xfrm>
              <a:off x="2822040" y="2666880"/>
              <a:ext cx="4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666880" y="2739600"/>
              <a:ext cx="3885480" cy="2272680"/>
              <a:chOff x="2666880" y="2739600"/>
              <a:chExt cx="3885480" cy="227268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3444120" y="2739600"/>
                <a:ext cx="0" cy="169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44120" y="4430880"/>
                <a:ext cx="2797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44120" y="3328200"/>
                <a:ext cx="1864800" cy="1102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930640" y="4430880"/>
                <a:ext cx="621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В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76000" y="4430880"/>
                <a:ext cx="77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66880" y="3034080"/>
                <a:ext cx="69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327672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15424" y="3837"/>
                </a:moveTo>
                <a:lnTo>
                  <a:pt x="18001" y="6448"/>
                </a:ln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lnTo>
                  <a:pt x="22387" y="10800"/>
                </a:lnTo>
                <a:lnTo>
                  <a:pt x="20734" y="10800"/>
                </a:lnTo>
                <a:lnTo>
                  <a:pt x="20734" y="17989"/>
                </a:lnTo>
                <a:lnTo>
                  <a:pt x="10115" y="17989"/>
                </a:lnTo>
                <a:lnTo>
                  <a:pt x="10115" y="10800"/>
                </a:lnTo>
                <a:lnTo>
                  <a:pt x="8461" y="10800"/>
                </a:lnTo>
                <a:close/>
              </a:path>
              <a:path fill="darkenLess" w="30849" h="21600">
                <a:moveTo>
                  <a:pt x="18001" y="6448"/>
                </a:moveTo>
                <a:lnTo>
                  <a:pt x="18001" y="4707"/>
                </a:lnTo>
                <a:lnTo>
                  <a:pt x="19776" y="4707"/>
                </a:lnTo>
                <a:lnTo>
                  <a:pt x="19776" y="8224"/>
                </a:lnTo>
                <a:close/>
              </a:path>
              <a:path fill="darkenLess" w="30849" h="21600">
                <a:moveTo>
                  <a:pt x="14502" y="14299"/>
                </a:moveTo>
                <a:lnTo>
                  <a:pt x="16347" y="14299"/>
                </a:lnTo>
                <a:lnTo>
                  <a:pt x="16347" y="17989"/>
                </a:lnTo>
                <a:lnTo>
                  <a:pt x="20734" y="17989"/>
                </a:lnTo>
                <a:lnTo>
                  <a:pt x="20734" y="10800"/>
                </a:lnTo>
                <a:lnTo>
                  <a:pt x="10115" y="10800"/>
                </a:lnTo>
                <a:lnTo>
                  <a:pt x="10115" y="17989"/>
                </a:lnTo>
                <a:lnTo>
                  <a:pt x="14502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итель располагает доходом в 80 ден. ед. и приобретает 2 товара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 - ценой 5 ден.ед. 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ценой 4 ден.ед. Какой из следующих товаров наборов недоступен для потреби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5257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: Х=10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=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13503" y="3837"/>
                </a:moveTo>
                <a:lnTo>
                  <a:pt x="16079" y="6448"/>
                </a:ln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lnTo>
                  <a:pt x="20466" y="10800"/>
                </a:lnTo>
                <a:lnTo>
                  <a:pt x="18812" y="10800"/>
                </a:lnTo>
                <a:lnTo>
                  <a:pt x="18812" y="17989"/>
                </a:lnTo>
                <a:lnTo>
                  <a:pt x="8194" y="17989"/>
                </a:lnTo>
                <a:lnTo>
                  <a:pt x="8194" y="10800"/>
                </a:lnTo>
                <a:lnTo>
                  <a:pt x="6540" y="10800"/>
                </a:lnTo>
                <a:close/>
              </a:path>
              <a:path fill="darkenLess" w="27006" h="21600">
                <a:moveTo>
                  <a:pt x="16079" y="6448"/>
                </a:moveTo>
                <a:lnTo>
                  <a:pt x="16079" y="4707"/>
                </a:lnTo>
                <a:lnTo>
                  <a:pt x="17855" y="4707"/>
                </a:lnTo>
                <a:lnTo>
                  <a:pt x="17855" y="8224"/>
                </a:lnTo>
                <a:close/>
              </a:path>
              <a:path fill="darkenLess" w="27006" h="21600">
                <a:moveTo>
                  <a:pt x="12581" y="14299"/>
                </a:moveTo>
                <a:lnTo>
                  <a:pt x="14426" y="14299"/>
                </a:lnTo>
                <a:lnTo>
                  <a:pt x="14426" y="17989"/>
                </a:lnTo>
                <a:lnTo>
                  <a:pt x="18812" y="17989"/>
                </a:lnTo>
                <a:lnTo>
                  <a:pt x="18812" y="10800"/>
                </a:lnTo>
                <a:lnTo>
                  <a:pt x="8194" y="10800"/>
                </a:lnTo>
                <a:lnTo>
                  <a:pt x="8194" y="17989"/>
                </a:lnTo>
                <a:lnTo>
                  <a:pt x="12581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траты на единицу выпускаемой продукции есть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04920"/>
            <a:ext cx="1828800" cy="144756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5029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вет: Средние издерж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6095880"/>
            <a:ext cx="761760" cy="60984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78" h="21600">
                <a:moveTo>
                  <a:pt x="0" y="0"/>
                </a:moveTo>
                <a:lnTo>
                  <a:pt x="26978" y="0"/>
                </a:lnTo>
                <a:lnTo>
                  <a:pt x="26978" y="21600"/>
                </a:lnTo>
                <a:lnTo>
                  <a:pt x="0" y="21600"/>
                </a:lnTo>
                <a:close/>
              </a:path>
              <a:path fill="lightenLess" w="26978" h="21600">
                <a:moveTo>
                  <a:pt x="0" y="0"/>
                </a:moveTo>
                <a:lnTo>
                  <a:pt x="26978" y="0"/>
                </a:lnTo>
                <a:lnTo>
                  <a:pt x="25578" y="1400"/>
                </a:lnTo>
                <a:lnTo>
                  <a:pt x="1400" y="1400"/>
                </a:lnTo>
                <a:close/>
              </a:path>
              <a:path fill="darken" w="26978" h="21600">
                <a:moveTo>
                  <a:pt x="26978" y="0"/>
                </a:moveTo>
                <a:lnTo>
                  <a:pt x="26978" y="21600"/>
                </a:lnTo>
                <a:lnTo>
                  <a:pt x="25578" y="20200"/>
                </a:lnTo>
                <a:lnTo>
                  <a:pt x="25578" y="1400"/>
                </a:lnTo>
                <a:close/>
              </a:path>
              <a:path fill="darkenLess" w="26978" h="21600">
                <a:moveTo>
                  <a:pt x="26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8" y="20200"/>
                </a:lnTo>
                <a:close/>
              </a:path>
              <a:path fill="lighten" w="26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8" h="21600">
                <a:moveTo>
                  <a:pt x="13489" y="3837"/>
                </a:moveTo>
                <a:lnTo>
                  <a:pt x="16065" y="6448"/>
                </a:ln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lnTo>
                  <a:pt x="20452" y="10800"/>
                </a:lnTo>
                <a:lnTo>
                  <a:pt x="18798" y="10800"/>
                </a:lnTo>
                <a:lnTo>
                  <a:pt x="18798" y="17989"/>
                </a:lnTo>
                <a:lnTo>
                  <a:pt x="8180" y="17989"/>
                </a:lnTo>
                <a:lnTo>
                  <a:pt x="8180" y="10800"/>
                </a:lnTo>
                <a:lnTo>
                  <a:pt x="6526" y="10800"/>
                </a:lnTo>
                <a:close/>
              </a:path>
              <a:path fill="darkenLess" w="26978" h="21600">
                <a:moveTo>
                  <a:pt x="16065" y="6448"/>
                </a:moveTo>
                <a:lnTo>
                  <a:pt x="16065" y="4707"/>
                </a:lnTo>
                <a:lnTo>
                  <a:pt x="17841" y="4707"/>
                </a:lnTo>
                <a:lnTo>
                  <a:pt x="17841" y="8224"/>
                </a:lnTo>
                <a:close/>
              </a:path>
              <a:path fill="darkenLess" w="26978" h="21600">
                <a:moveTo>
                  <a:pt x="12566" y="14299"/>
                </a:moveTo>
                <a:lnTo>
                  <a:pt x="14411" y="14299"/>
                </a:lnTo>
                <a:lnTo>
                  <a:pt x="14411" y="17989"/>
                </a:lnTo>
                <a:lnTo>
                  <a:pt x="18798" y="17989"/>
                </a:lnTo>
                <a:lnTo>
                  <a:pt x="18798" y="10800"/>
                </a:lnTo>
                <a:lnTo>
                  <a:pt x="8180" y="10800"/>
                </a:lnTo>
                <a:lnTo>
                  <a:pt x="8180" y="17989"/>
                </a:lnTo>
                <a:lnTo>
                  <a:pt x="12566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09-12-15T06:16:2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