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26F-B9CA-4FB4-A59F-74E3969A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72E-C2E5-4CB1-BF26-E4C650E7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9F333-B5AA-4FDD-B088-3E47336C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36C0C-D394-46AA-A894-631C02A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F52FD-B776-4EFF-B872-2E309469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B9C4-B9C1-4383-B5ED-AE8D35E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0ECF-76F6-4CD6-BCEC-E9A799B9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6B2FB-66D8-4465-A9DC-E25CCC48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4AD5C-8F1B-4D3A-A701-754DAF7E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5FDA7-EFDD-48B2-A82A-D954F068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642CE-BEC4-4E4E-8FB6-9152DC03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EC4C1-61BD-46B3-9E6E-04DA2381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184-87CE-4C5E-8C0A-8B3C5253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C3A1E-9C57-4674-AB10-E1605C9A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F96DB-2FB8-4961-812C-5D68809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FEEB2-0032-4426-8064-B1B0C6F2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2B396-E5F8-499A-BE09-CBDAF391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DE659-85A4-4F20-B5EB-F45C090F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DCE4A-C344-4DF8-B91A-8C1E7AB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86F9B-3C7A-4C97-ABA6-C2A6560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BCD5F-A055-47BF-96F2-A545988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21254-2241-4531-9D75-EC99F551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3FC01-BA11-44D4-8D00-227B2CA9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8F8-30FD-4281-9ECC-40E71A3F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7B6FA-8BB5-47CB-8F2E-9A511C5A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2DA3CD-AD15-41D4-983B-77F18D0F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30FCC5-FE44-4BE3-A9A7-42E8D09B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639F20-94A8-42A2-B8DC-9B1EFAD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1DB363-4655-4044-847B-73E9B690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3E9E27-FFCF-4333-A2F9-1269230A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240DB-FCD3-4B95-AFE3-DB99662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ABBE07-6A9C-437B-8E09-AB03908B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01087-9B4F-4475-A6A9-0E90E45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1B1A6D-AAD2-43E9-84D9-F09D68E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E6C9-031E-4136-890E-B5CCF8F0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38BC5-A39D-408E-8C3A-2B4815AE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757A60-3901-4442-89DD-6AEA2D02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34457-9327-44F5-82C0-C1FF6776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EB19-45A0-4A11-A3CA-112CE546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6005CB-BD30-4A8D-8A9E-134AF5C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51F46-89D4-475B-81E2-E54EA9BF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21DEA-C994-4CCA-BEED-DEA2769A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94A75-06CD-472D-8C0A-F2B608F8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8B16F-2A62-4B66-BA23-6EB22541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B3918-D5A8-4884-9346-0F08040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FCE5-2AD7-4091-85BC-EC3BB22F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45CFB-8C13-4EC0-A815-50D043C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A381E-7FDE-409B-8D9A-5B8FB54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0CA7B-459B-4030-A507-5D42037E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C6601-66B8-4B98-94A2-E4B29F56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784F5-B14F-4A98-BEA4-1DF5FE19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C94B66-4F1B-4796-933B-B5A53D7F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C935D-9159-4792-9E69-2FC808CD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27545-91C3-4C6E-8987-68640293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96894-25F1-45E2-AE65-577C81D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D06C6-E25D-470B-9E9E-83F01754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0A26-B795-4428-B8B6-DBCF978E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2A1E4-F6D0-41B5-A9FB-C20281E4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BA4B8-96A4-4FE2-B38F-039CD24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D4711-A3F5-4C6C-8475-FA4CD7E6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E91D0C-5AC5-4B7F-8EE1-906F1CB8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D4E3D-78B2-4D1C-A76E-DFE02474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3003C-756B-43DC-8B71-5DF2DF16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55388C-86EF-4460-B702-84325DC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8B7E6-FCCA-4C38-997D-9C082D91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B22B4-2886-46F0-B2DB-AB5C4D8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83BAA-BB3E-4A06-AFE3-7ADB5A91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7D22-E7D6-40E1-A720-12D3D90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D4527-4D18-4DEE-B018-CE2CDC9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8DD66-3436-42D4-9DFC-1B46ED6B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AB9090-C8EE-47E3-A78A-82AF9901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F6CC2-3EFB-40F4-BA4C-FB7007D9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7ED98-D92D-4C31-902C-3873F312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E71E4-86B6-484C-A8EA-BE1AA6D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88496-D9F6-438A-B491-221BD456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4ECD3-07A2-4B49-8F5A-2EA53FA6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ED9EE-B474-4846-B281-564EF664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23512-A0DB-4BA9-9D7C-195BCD4C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7C0F-20BA-49FE-92C7-7D2AEC0B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35FE0-90A6-4048-ABE7-80551789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C0DE2-1073-404F-A02D-97D4EEAD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A38A2-16B1-43DD-9C19-6F55D16C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828E6-F6C4-49C1-BF34-EEB46B72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002C7-FA5A-448C-8C88-2BE97A6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D0ED3-63A3-4E42-B88F-6767B5E8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913F9-7D90-41E8-A7DA-F695C54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203B9-613C-4783-B270-EB945D3C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FC1AC-7B73-4901-93BD-D737D6C7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36FD6-AD02-4493-8314-E898CEC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8D6E-49FD-4F5D-9696-D138AB77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783B6-5BAC-4F6B-8066-DC54DE1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E944E-31CA-4574-A966-98C3BB21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2A150-8FA2-41EE-84B4-25672AAA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28C78-84BD-43CF-9251-D87A79FE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B4EFBD-3F51-440F-B9D2-BEB4D64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C67713-F62B-48D0-A30A-CE88A68D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04CBA-BB6A-49A1-BAA6-C97BD96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A88BF-5F18-475B-897B-AE51B4E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42814-7F32-4E8C-9747-22FA68D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6121F-A5C1-46D2-BB01-D583CFD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E54F-B20B-4B8D-B98A-E5AAA80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D8613B-CA99-424E-BDD3-A975754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27EFD-39BB-44AA-AC71-3E1ACC3B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01752-F8C3-401E-894B-837FBA01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9495F-3D59-4F77-8296-DF49B64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E5EBF-2698-4BFD-A993-6EE65F0B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11797-15AA-435F-AF57-D681343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4490F-2C67-41CD-885D-6D16CABF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28BB6-6AF9-46DB-B92A-7C9E8CF8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1F360-0A19-43A3-ADA0-68E12D0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DE2C6-2B51-4972-9DD6-E04D585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997-C34D-431D-8495-C3B336C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9713-8E3D-43CA-8DAC-F00335A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DB33B-44F3-48A3-8467-07EAA18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E970FB-DB46-4A26-886D-94E64A6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65374-AFC2-4AD8-B465-4290E5D4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199C9-6E22-4F31-A27D-35697EEC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CA3D0D-C59F-42B7-92CC-66E469D4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4ED839-037E-49BE-BB16-3B934860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A50AF8-67B4-4E01-9CAB-48E9C96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69BC2-3418-4775-9C9A-1B4A40AF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F4ED6-7A32-4C40-9E81-0A272745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8921B-C20F-45A5-B6CE-46A1A9EE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932-8223-47F2-BF58-3D8E5D9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02219-51D8-40CA-8C34-C9F65980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ED327-4CE9-48DA-B060-A3E8AFF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8BF6B-365D-4531-94D6-8B9C468C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CF29EA-8310-4C7D-B514-623F230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CB861-2A68-4E64-96BB-E9AFCDDB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0DC92-E15F-408C-9917-1BC8A620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5F4CC0-26A6-4BBC-8BC4-5277726F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7DEB28-CC09-4E82-8FA1-E36E9624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2595B98-5E83-42B1-A064-5FB64F5B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250793-E406-4685-8293-4B8F021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064-7EA8-4AA0-A1BF-913D2FC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CE1ACF-0312-4E0E-BD8C-49BB723D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39B3BF-C318-4A03-AB8E-0F13FD6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A63096-76FF-4678-A031-D1D7D666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7FB5B2-54F5-4028-9D78-4231468A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29914F-244E-4562-8B93-FD9EB01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27106D-9BC3-4B30-862F-3BDF565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53E975-A208-45CE-8024-E70345C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4ADDC4-451E-4BA3-A10E-6408F0A9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1D9C41-084E-4E0E-A803-D12C5532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8951CD-4221-4AF7-86A4-E2851EDB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7877-9B8A-4A49-B6F3-3B2F1784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FF789-ACAD-4B44-9F76-D9BFD4DD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964C8-C794-4D07-8B76-718414F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17B7B2-28E0-43A0-BD72-27AA231B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617431-1FAB-4969-A081-6ED7DBBA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EF41FE-A400-40C2-9A5E-8BA148EE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919742-8CA9-4873-9E89-EC8C661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20A7B7-6C0D-4BAC-B567-E6D6429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59FFC-4491-46E4-9324-5333132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01CB4-F5EA-4FBC-B870-145B9BC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FB262-310C-40BB-9818-8922B9B8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F5D-9149-403C-ABA5-C1E7BB60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18ED8-6D6A-4B76-AEE7-2258C05D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744BD70-F14C-4AE2-A32A-D43FAB99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CB71A8-3CEF-4829-975F-6E0EEC6C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9538DC-2D1A-4426-B71D-B8D4301E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188BB5-3BAF-4E58-9F30-90A67FA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D5DEBCB-ACBE-4930-A77D-223A70FC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C749A91-66C7-4352-9B7A-D588BAC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3538840-AA3A-4C4C-9AC3-0736D32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2581D0-C7CF-4ABE-B2B2-EB8469D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EE44FB-C4E8-4AA7-A37C-764DD1A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8C1D-65DC-459F-9785-7A1BB5C9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B4CBB4-4FB3-4C42-BACB-9CE26CA6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4DD6DA4-6855-4F48-A603-F8C7DE4A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E137D3-6783-4D9E-B04E-AC4912BF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5920F3-D800-4B35-8B7D-B54B451A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331D9B-A4EE-4E37-91E2-305B3C16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7B167-6AD9-40B6-9828-9FA5F07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B2382B-BEB7-4E63-9CEB-CE661E0D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2CC85-2D6D-438E-9901-D6F439FF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E9A4B9-D3D1-47EA-8271-E24B5EE5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A5A71-D0E7-48EA-9DDC-B95FED7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BC17D-E9B2-44DE-B79B-039D89CD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09326-17E5-439C-9EC0-816D2976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1306D2-7D26-448B-BB92-0BF63C2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19B46D-A455-4D85-B357-E826F3BB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6B6494-0083-4938-A505-DF3AF595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8671E8-991D-4568-BE74-B02F09F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67B09-0259-4AA8-9E01-11865443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4430-2B56-4602-9A24-DA913DA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82AB-31ED-43CD-B98E-CB473C4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5DB-5CA3-46F7-AEEB-893BAB8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36F3-5F23-4B6B-BA0C-C9C1C57C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FCD7-7BB5-4A92-9751-35F9D278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0C3C-6E97-4394-96A8-4E7EE8E4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75A0-F006-4634-B0E8-00A3B964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7164-F20D-43CD-BE05-1F86E66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DFAD-E00A-4681-938A-D55E93FB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F0E0A-A1FF-4208-AD0A-197BFB85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C8FEB-4302-41A5-B3AC-7DECCB3E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90698-E406-4043-8A9F-6229A2FF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54A0F-5B4B-4599-9ECE-1040942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7B5-B9BF-412F-8F4D-1450564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EAB1-BD11-4BF9-BF01-C4550BF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5BA3-A4C1-4338-8507-9B0E4A0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DFB0-B2A1-42E8-8746-9F584C9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18D7-AC91-4EF3-A726-D751FD3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78CF-95C5-4BE9-9A08-E3F097B0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F533-D85A-4E63-B796-61ABA478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EDA18-B424-43C8-9617-8DB920D7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5815-99AD-4E1C-9092-66D79400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E165D-7AE1-4722-8364-C5C26FF8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4BA08-2CF5-43D4-93C5-E39FDDFD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A0E-F161-458B-89C0-FDAE8D46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F206-9A32-41B9-AA05-A3D89B58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A3950-608E-40F2-895C-2465062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A666-8FE5-435C-986D-1FF38F1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EB95A-6A0B-497E-9862-15B2C2FF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A13D-604D-4EBC-A64A-08E058C4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4518-94B8-484C-98FF-91890C9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03DE-F033-47FC-B9F5-6F6AA33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9CBC-24D1-4F3E-8A6E-171E1D1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7C9A2-F3EB-46C0-928C-30A3BE8F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3158-6CF6-42A6-AD80-E01CD1DA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49C-4BEA-4EB3-975A-33EAC03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FB11-FE45-43AB-95B2-DCB0CB3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E7839-55AD-4605-A7D3-768F876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8F821-5741-4895-8CDF-853DDE2E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C7FD-67D8-4D42-A311-2DD697D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9B2B8-AB23-4659-AF42-DC594461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BCAC-23DF-4966-8424-9F3D0E24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CB41-E2EB-4C4C-B934-C8D5BE4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9E064-0674-4F1B-BFEB-6162CD2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48DD4-AB78-4748-9D90-F3AA070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D33AE-2D55-41EF-BA52-73535CBD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0FBC-681E-4D48-AE40-54F4CE5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CBF6-95FB-4E4B-94FB-3A63E21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CB71-ACC7-4B50-9096-4F1A829A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C0D0-4163-4446-A2DE-3F19BE73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71956-2636-4765-B135-A210089F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B487A-7F1F-4452-B289-5DCC0398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01DF-D004-4C0F-B16E-AA60B5F5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5D40-3BC1-4ABC-BA77-C1DEC09B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B656-1736-40EE-BFD3-BFF29338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0AE1-F201-4EB5-A04E-3FF683D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1354-1AEF-4BED-9AEC-A8C4146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859-86DD-49DE-9313-D71DC163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C9DD-6F5F-45C1-A8E9-2328DA6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B6D9-B4AF-4623-8D4B-E27626E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5304-434F-4CED-8BA9-C6AB6E73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E3800-0DB0-45E0-B594-EA91B8A8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7E430-D28A-4FD1-AD12-46E88D5B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5EDCC-D776-4BB1-B871-BA255EB4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2B27A-1CB3-4424-A862-151F7E28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4D2A8-3FF3-4C70-81D4-E0CEAFE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129A5-9DB4-453E-92DA-400FBCFF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64358-2747-49A4-B8E5-11391D2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944-1536-42A1-AD13-A2CD1BE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95D45-0219-4C18-B02C-9ADC3D75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B83CB-01A3-429A-91B6-2A57C55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54059-D9C0-4361-AFFB-F0F7E9A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2B396-2AC9-432E-A80D-26D2DB60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6301-217F-497F-B6F8-DF79660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E19E-355A-4FA3-8CB7-0426AA9F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664F0-EA24-49F2-8923-3612FCCF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A4B25-4FA1-45AE-ACED-4E4625DA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B1B87-BA6A-4F57-BEF4-1C4BD88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1A04-2BE7-447E-8B98-F29A573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5F15-7F1A-4A5A-8995-0A201B0285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1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28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29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1A88-4BD0-4355-9600-08695A8A2E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89A-D64E-4066-943B-185D8442BE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2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2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0362-E59B-4799-AC1E-BBEAF57A58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78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6626-45D6-4C61-9D73-61570F053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0F0A-CE0D-42E7-AADF-0EE651206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1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3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71A-9674-4C2E-9DE6-A2B4196051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0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2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0F35-E873-46D2-9231-2128D382BDA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0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0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0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0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0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1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2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2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4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455-6827-4F82-8EFA-03D432FF22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9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0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1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1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2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3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0DDD-4F70-4305-BB28-E483C6AE50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37BE-BE68-4A43-AE39-463074D1B5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9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0602-F416-455D-8B5F-1889C4C4AC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4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4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E9B-9EB8-47F0-8153-85A658ED6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80A-6551-4B8F-A8A9-CE39E637D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4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B76-23D8-4095-89B2-0B23B69785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98D2-D7D0-4482-8D4E-06B41E090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045-FF99-49F6-9318-69478EF35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0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0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F8A8-83CA-464A-829A-2D7536851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5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5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5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0A8-BC34-4D29-8BD1-5DB4E112C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5FFD-B02F-48A6-A485-078323D44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AAEE-BF27-4C04-83EC-029A0C726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25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ftr" idx="26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FC05-C86B-463A-92A5-9762D35D1E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826920" y="1844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Основы анализа спроса и предложе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/>
          <p:nvPr/>
        </p:nvSpPr>
        <p:spPr>
          <a:xfrm>
            <a:off x="250920" y="33336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Равновесие спроса и предложения достигается при пересечении кривых спроса и предлож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2340000" y="256536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340000" y="573408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-540720" y="910080"/>
            <a:ext cx="6336720" cy="417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10406400">
            <a:off x="2859840" y="904680"/>
            <a:ext cx="5472720" cy="417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2339640" y="479736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140360" y="479736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76364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835280" y="45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765800" y="5229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385128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924360" y="429264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"/>
          <p:cNvSpPr/>
          <p:nvPr/>
        </p:nvSpPr>
        <p:spPr>
          <a:xfrm>
            <a:off x="395280" y="76500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проса ведет к увеличению равновесной цены и к увеличению равновесного количества тов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5076720" y="5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V="1">
            <a:off x="3132000" y="-245520"/>
            <a:ext cx="446400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rot="9925200">
            <a:off x="5398200" y="207000"/>
            <a:ext cx="3456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 rot="10311000">
            <a:off x="5540040" y="-315000"/>
            <a:ext cx="4462200" cy="273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49" y="196"/>
                </a:moveTo>
                <a:arcTo wR="10800" hR="10800" stAng="-4743689" swAng="3828704"/>
                <a:lnTo>
                  <a:pt x="10800" y="10800"/>
                </a:lnTo>
                <a:close/>
              </a:path>
              <a:path fill="none" w="21600" h="21600">
                <a:moveTo>
                  <a:pt x="12849" y="196"/>
                </a:moveTo>
                <a:arcTo wR="10800" hR="10800" stAng="-4743689" swAng="3828704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95280" y="342900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ньшение спроса ведет к уменьшению равновесной цены и уменьшению количества тов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076720" y="2997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5435640" y="350028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 flipV="1" rot="3388800">
            <a:off x="4551120" y="1971000"/>
            <a:ext cx="4463280" cy="302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rot="6676800">
            <a:off x="4711320" y="2473560"/>
            <a:ext cx="345744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 rot="7362600">
            <a:off x="4684320" y="2302200"/>
            <a:ext cx="4462200" cy="273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49" y="196"/>
                </a:moveTo>
                <a:arcTo wR="10800" hR="10800" stAng="-4743689" swAng="3828704"/>
                <a:lnTo>
                  <a:pt x="10800" y="10800"/>
                </a:lnTo>
                <a:close/>
              </a:path>
              <a:path fill="none" w="21600" h="21600">
                <a:moveTo>
                  <a:pt x="12849" y="196"/>
                </a:moveTo>
                <a:arcTo wR="10800" hR="10800" stAng="-4743689" swAng="382870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435640" y="59500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6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395280" y="76500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предложения ведет к уменьшению равновесной цены и к увеличению количества тов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39640" y="357336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меньшение предложения ведет к увеличению равновесной цены и к уменьшению равновесного количества тов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076720" y="549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5580000" y="3645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5580000" y="6093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076720" y="299736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11111400">
            <a:off x="5421960" y="-242640"/>
            <a:ext cx="3168360" cy="27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67" y="378"/>
                </a:moveTo>
                <a:arcTo wR="10800" hR="10800" stAng="-6312398" swAng="6312398"/>
                <a:lnTo>
                  <a:pt x="10800" y="10800"/>
                </a:lnTo>
                <a:close/>
              </a:path>
              <a:path fill="none" w="21600" h="21600">
                <a:moveTo>
                  <a:pt x="7967" y="378"/>
                </a:moveTo>
                <a:arcTo wR="10800" hR="10800" stAng="-6312398" swAng="63123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3492360" y="547920"/>
            <a:ext cx="374328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3707280" y="116280"/>
            <a:ext cx="3888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10543200">
            <a:off x="5794560" y="2068560"/>
            <a:ext cx="3600000" cy="374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3924720" y="3499560"/>
            <a:ext cx="374256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3996360" y="3571200"/>
            <a:ext cx="403128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042920" y="2060640"/>
            <a:ext cx="792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латежеспособный спрос – потребность в товарах, обеспеченная денежными средствами покупател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1187280" y="33336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кон спрос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11280" y="1700280"/>
            <a:ext cx="81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ежду ценой и количеством покупаемого товара существует обратная зависимость, то есть чем ниже цена товара, тем больше его количество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 прочих равных условия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может быть куплено, и на оборо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800"/>
                            </p:stCondLst>
                            <p:childTnLst>
                              <p:par>
                                <p:cTn id="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11280" y="404640"/>
            <a:ext cx="70563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Кривая спроса 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ривая, точки на которой показывают, по каким ценам в течении определенного времени покупатели могли бы приобрести разное количество тов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5076720" y="371592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076720" y="6021360"/>
            <a:ext cx="24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10800000">
            <a:off x="5219640" y="3500640"/>
            <a:ext cx="316800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rot="10800000">
            <a:off x="5580000" y="3286800"/>
            <a:ext cx="3168000" cy="21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 rot="9963000">
            <a:off x="5934240" y="2846520"/>
            <a:ext cx="2733120" cy="21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643280" y="400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164360" y="6165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 flipV="1">
            <a:off x="1908000" y="404280"/>
            <a:ext cx="0" cy="2305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08000" y="2709720"/>
            <a:ext cx="2448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 rot="10800000">
            <a:off x="2050920" y="189000"/>
            <a:ext cx="3168000" cy="230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 rot="10800000">
            <a:off x="2411280" y="-25560"/>
            <a:ext cx="3168000" cy="21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 rot="9963000">
            <a:off x="2765880" y="-464400"/>
            <a:ext cx="2732400" cy="21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474920" y="69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3995640" y="2854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859280" y="1052640"/>
            <a:ext cx="39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рос на товары определяется всей кривой спр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582560" y="3860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двиг кривой спрос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прав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означает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велич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проса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лев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меньш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50920" y="53737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влияние цены происходит изменение объема спроса и движение происходит вдоль кривой спроса, при этом сама кривая не сдвиг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2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81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908000" y="692280"/>
            <a:ext cx="705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Факторы, смещающие кривую спроса: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потребительское ожидание, число покупателей, вкусы и доходы потребителей, цены на товары замен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Предложение – количество товаров, реализуемое производителем на рын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116000" y="162864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Кривая предложения – кривая, показывающая количество товара, которые продавцы предлагают к продаже по разным ценам в течение определенного пери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708360" y="4005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08360" y="623736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2698920" y="2922840"/>
            <a:ext cx="3888720" cy="302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2053440" y="2493000"/>
            <a:ext cx="417384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2267280" y="2851560"/>
            <a:ext cx="3456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"/>
          <p:cNvSpPr/>
          <p:nvPr/>
        </p:nvSpPr>
        <p:spPr>
          <a:xfrm>
            <a:off x="395280" y="26028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двиг кривой предложения вправо или влево означает, что предложение меняется по той же цене при влиянии неценовых факторов. При этом происходит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зменение предложен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403280" y="2997360"/>
            <a:ext cx="69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сли же  ни один фактор, влияющих на предложение, не меняется, а цена товара растет, то происходит перемещение вдоль кривой и происходи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менение объема предлож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и этом сама кривая не сдвигае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80"/>
                            </p:stCondLst>
                            <p:childTnLst>
                              <p:par>
                                <p:cTn id="9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1240"/>
                            </p:stCondLst>
                            <p:childTnLst>
                              <p:par>
                                <p:cTn id="10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04" dur="5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"/>
          <p:cNvSpPr/>
          <p:nvPr/>
        </p:nvSpPr>
        <p:spPr>
          <a:xfrm>
            <a:off x="0" y="476280"/>
            <a:ext cx="795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: цены на экономические ресурсы, потребительские ожидания, цены на другие товары, технология производства, число товаропроизводителей, нало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4:14:06Z</dcterms:created>
  <dc:creator>1</dc:creator>
  <dc:description/>
  <dc:language>en-US</dc:language>
  <cp:lastModifiedBy>1</cp:lastModifiedBy>
  <dcterms:modified xsi:type="dcterms:W3CDTF">2009-12-09T15:33:02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