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9265-17CF-4E20-90E4-91EAF2AF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DC93-0EAD-4152-A21C-317FB79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61E0-D305-4ECD-BBA5-953DFB53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C6E9-7DAA-4941-A560-920781A3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F842-0112-4198-A7DA-0336E3F3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81E2-9AE1-4F84-BF86-A2007A6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2750-E3DB-4896-B5FB-4BF3C58E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3917-C35E-4C4F-A96D-6F33BAE2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AF3A-B075-47AE-89DB-BADAE8D6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F59-3054-47AC-8A8F-5AB6E2D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D71-520D-4413-92EA-A1D07B1D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49E1-7797-4CB0-99BC-09618FF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EA39-2BEA-4F95-9187-CEBB007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651-1B46-4EF6-A004-72A3EFC5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293E-2F7B-48AE-AF4A-39AE9F4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3EBC-398A-4DF7-8C7E-20063E95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D9A3-4F4B-4074-AC18-D44D72FE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E897-BB5F-4B16-B381-26F778D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D6BE-5DE5-4B06-BF36-0AA2B5D2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35FE-C11A-4CF1-B045-EF7EFE3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0BC1-FB72-498E-A11B-F14DD03E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586A-1F48-46E2-92D2-FD83C5F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EE9C9-BC6C-4488-BD06-58FEEDC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C71B-2096-48CB-B12C-2FBAC2A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9E2-C509-4211-A36C-8810EA26C0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1CB5-0C45-4FE0-B612-164B2B565B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Издержки                   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5000" spc="-1" strike="noStrike">
                <a:solidFill>
                  <a:srgbClr val="ffffff"/>
                </a:solidFill>
                <a:latin typeface="Book Antiqua"/>
              </a:rPr>
              <a:t>производств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1332000" y="1052640"/>
            <a:ext cx="0" cy="41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5224320"/>
            <a:ext cx="684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1557360"/>
            <a:ext cx="5418000" cy="3087720"/>
          </a:xfrm>
          <a:custGeom>
            <a:avLst/>
            <a:gdLst/>
            <a:ahLst/>
            <a:rect l="l" t="t" r="r" b="b"/>
            <a:pathLst>
              <a:path w="2767" h="1074">
                <a:moveTo>
                  <a:pt x="0" y="0"/>
                </a:moveTo>
                <a:cubicBezTo>
                  <a:pt x="495" y="416"/>
                  <a:pt x="990" y="832"/>
                  <a:pt x="1451" y="953"/>
                </a:cubicBezTo>
                <a:cubicBezTo>
                  <a:pt x="1912" y="1074"/>
                  <a:pt x="2339" y="900"/>
                  <a:pt x="2767" y="7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54360" y="2487600"/>
            <a:ext cx="3463920" cy="2435400"/>
          </a:xfrm>
          <a:custGeom>
            <a:avLst/>
            <a:gdLst/>
            <a:ahLst/>
            <a:rect l="l" t="t" r="r" b="b"/>
            <a:pathLst>
              <a:path w="1769" h="847">
                <a:moveTo>
                  <a:pt x="0" y="453"/>
                </a:moveTo>
                <a:cubicBezTo>
                  <a:pt x="351" y="650"/>
                  <a:pt x="703" y="847"/>
                  <a:pt x="998" y="771"/>
                </a:cubicBezTo>
                <a:cubicBezTo>
                  <a:pt x="1293" y="695"/>
                  <a:pt x="1531" y="347"/>
                  <a:pt x="17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0440" y="1835280"/>
            <a:ext cx="1154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05680" y="3530520"/>
            <a:ext cx="9763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0280" y="5356080"/>
            <a:ext cx="622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1700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55640" y="1557360"/>
            <a:ext cx="1655640" cy="1663560"/>
            <a:chOff x="755640" y="1557360"/>
            <a:chExt cx="1655640" cy="1663560"/>
          </a:xfrm>
        </p:grpSpPr>
        <p:sp>
          <p:nvSpPr>
            <p:cNvPr id="192" name=""/>
            <p:cNvSpPr/>
            <p:nvPr/>
          </p:nvSpPr>
          <p:spPr>
            <a:xfrm flipV="1">
              <a:off x="755640" y="155736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" y="285264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35280" y="285264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79280" y="155736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35280" y="3068640"/>
            <a:ext cx="1655640" cy="1663560"/>
            <a:chOff x="3635280" y="3068640"/>
            <a:chExt cx="1655640" cy="1663560"/>
          </a:xfrm>
        </p:grpSpPr>
        <p:sp>
          <p:nvSpPr>
            <p:cNvPr id="197" name=""/>
            <p:cNvSpPr/>
            <p:nvPr/>
          </p:nvSpPr>
          <p:spPr>
            <a:xfrm flipV="1">
              <a:off x="3635280" y="306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35280" y="436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4920" y="436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59280" y="30686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300720" y="4508640"/>
            <a:ext cx="1655640" cy="1663560"/>
            <a:chOff x="6300720" y="4508640"/>
            <a:chExt cx="1655640" cy="1663560"/>
          </a:xfrm>
        </p:grpSpPr>
        <p:sp>
          <p:nvSpPr>
            <p:cNvPr id="202" name=""/>
            <p:cNvSpPr/>
            <p:nvPr/>
          </p:nvSpPr>
          <p:spPr>
            <a:xfrm flipV="1">
              <a:off x="6300720" y="450864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00720" y="580392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0360" y="5803920"/>
              <a:ext cx="57600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24360" y="450864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3716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940600">
            <a:off x="900000" y="1773000"/>
            <a:ext cx="419040" cy="1081080"/>
          </a:xfrm>
          <a:custGeom>
            <a:avLst/>
            <a:gdLst/>
            <a:ahLst/>
            <a:rect l="l" t="t" r="r" b="b"/>
            <a:pathLst>
              <a:path w="264" h="681">
                <a:moveTo>
                  <a:pt x="38" y="0"/>
                </a:moveTo>
                <a:cubicBezTo>
                  <a:pt x="19" y="193"/>
                  <a:pt x="0" y="386"/>
                  <a:pt x="38" y="499"/>
                </a:cubicBezTo>
                <a:cubicBezTo>
                  <a:pt x="76" y="612"/>
                  <a:pt x="170" y="646"/>
                  <a:pt x="264" y="68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43640" y="4653000"/>
            <a:ext cx="1511280" cy="901800"/>
          </a:xfrm>
          <a:custGeom>
            <a:avLst/>
            <a:gdLst/>
            <a:ahLst/>
            <a:rect l="l" t="t" r="r" b="b"/>
            <a:pathLst>
              <a:path w="952" h="568">
                <a:moveTo>
                  <a:pt x="0" y="136"/>
                </a:moveTo>
                <a:cubicBezTo>
                  <a:pt x="147" y="352"/>
                  <a:pt x="294" y="568"/>
                  <a:pt x="453" y="545"/>
                </a:cubicBezTo>
                <a:cubicBezTo>
                  <a:pt x="612" y="522"/>
                  <a:pt x="782" y="261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4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4836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4360" y="3716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48360" y="522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атриваемые вопро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) Понятие и классификация издерж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) Издержки производства в кратк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) Издержки производства в долгосрочном пери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9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9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9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стоя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такие издержки, величина которых не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постоянным издержкам относят затраты на оплату труда управленческого персонала, рентные платежи, страховые взносы, отчисления на амортизацию зданий и обору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менные издерж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V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- это издержки, величина которых изменяется в зависимости от изменения объёма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 ним относят затраты на оплату труда работников, приобретение сырья, топлива, вспомогательных материалов, оплата транспортных услуг, соответствующие социальные отчисления и т.п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 flipV="1">
            <a:off x="1332000" y="83664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516640"/>
            <a:ext cx="61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105264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637000"/>
            <a:ext cx="7056360" cy="2808000"/>
          </a:xfrm>
          <a:custGeom>
            <a:avLst/>
            <a:gdLst/>
            <a:ahLst/>
            <a:rect l="l" t="t" r="r" b="b"/>
            <a:pathLst>
              <a:path w="4445" h="1769">
                <a:moveTo>
                  <a:pt x="0" y="1769"/>
                </a:moveTo>
                <a:cubicBezTo>
                  <a:pt x="227" y="1546"/>
                  <a:pt x="454" y="1323"/>
                  <a:pt x="907" y="1134"/>
                </a:cubicBezTo>
                <a:cubicBezTo>
                  <a:pt x="1360" y="945"/>
                  <a:pt x="2222" y="779"/>
                  <a:pt x="2721" y="635"/>
                </a:cubicBezTo>
                <a:cubicBezTo>
                  <a:pt x="3220" y="491"/>
                  <a:pt x="3614" y="378"/>
                  <a:pt x="3901" y="272"/>
                </a:cubicBezTo>
                <a:cubicBezTo>
                  <a:pt x="4188" y="166"/>
                  <a:pt x="4316" y="83"/>
                  <a:pt x="4445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860640"/>
            <a:ext cx="662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90792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88000" y="1052640"/>
            <a:ext cx="8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56536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414972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566100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1773360"/>
            <a:ext cx="8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314172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7594800">
            <a:off x="622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407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45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C = F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      AVC = V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TC = TC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едни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03280" y="2421000"/>
                <a:ext cx="634536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едельные издерж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-892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35280" y="980640"/>
            <a:ext cx="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6200" y="5589720"/>
            <a:ext cx="635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1484280"/>
            <a:ext cx="3619800" cy="3106800"/>
          </a:xfrm>
          <a:custGeom>
            <a:avLst/>
            <a:gdLst/>
            <a:ahLst/>
            <a:rect l="l" t="t" r="r" b="b"/>
            <a:pathLst>
              <a:path w="1497" h="1156">
                <a:moveTo>
                  <a:pt x="0" y="680"/>
                </a:moveTo>
                <a:cubicBezTo>
                  <a:pt x="170" y="918"/>
                  <a:pt x="340" y="1156"/>
                  <a:pt x="590" y="1043"/>
                </a:cubicBezTo>
                <a:cubicBezTo>
                  <a:pt x="840" y="930"/>
                  <a:pt x="1168" y="465"/>
                  <a:pt x="149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2666880"/>
            <a:ext cx="3946320" cy="1441440"/>
          </a:xfrm>
          <a:custGeom>
            <a:avLst/>
            <a:gdLst/>
            <a:ahLst/>
            <a:rect l="l" t="t" r="r" b="b"/>
            <a:pathLst>
              <a:path w="1633" h="537">
                <a:moveTo>
                  <a:pt x="0" y="227"/>
                </a:moveTo>
                <a:cubicBezTo>
                  <a:pt x="249" y="382"/>
                  <a:pt x="499" y="537"/>
                  <a:pt x="771" y="499"/>
                </a:cubicBezTo>
                <a:cubicBezTo>
                  <a:pt x="1043" y="461"/>
                  <a:pt x="1489" y="83"/>
                  <a:pt x="1633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0640" y="1569960"/>
            <a:ext cx="3727800" cy="1727280"/>
          </a:xfrm>
          <a:custGeom>
            <a:avLst/>
            <a:gdLst/>
            <a:ahLst/>
            <a:rect l="l" t="t" r="r" b="b"/>
            <a:pathLst>
              <a:path w="1542" h="643">
                <a:moveTo>
                  <a:pt x="0" y="0"/>
                </a:moveTo>
                <a:cubicBezTo>
                  <a:pt x="257" y="268"/>
                  <a:pt x="514" y="537"/>
                  <a:pt x="771" y="590"/>
                </a:cubicBezTo>
                <a:cubicBezTo>
                  <a:pt x="1028" y="643"/>
                  <a:pt x="1285" y="480"/>
                  <a:pt x="1542" y="31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6240" y="400680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815840" y="4006800"/>
            <a:ext cx="230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3600" y="3152880"/>
            <a:ext cx="0" cy="2436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15840" y="31528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1840" y="2178000"/>
            <a:ext cx="0" cy="3411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15840" y="2178000"/>
            <a:ext cx="372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61080" y="1081080"/>
            <a:ext cx="9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79960" y="193500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79960" y="2787480"/>
            <a:ext cx="10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3762360"/>
            <a:ext cx="10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55600" y="1935000"/>
            <a:ext cx="7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7600" y="836640"/>
            <a:ext cx="8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08720" y="5734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5445000"/>
            <a:ext cx="79236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157720"/>
            <a:ext cx="93672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0480" y="3141720"/>
            <a:ext cx="5189400" cy="2359080"/>
          </a:xfrm>
          <a:custGeom>
            <a:avLst/>
            <a:gdLst/>
            <a:ahLst/>
            <a:rect l="l" t="t" r="r" b="b"/>
            <a:pathLst>
              <a:path w="1769" h="907">
                <a:moveTo>
                  <a:pt x="0" y="0"/>
                </a:moveTo>
                <a:cubicBezTo>
                  <a:pt x="136" y="120"/>
                  <a:pt x="273" y="241"/>
                  <a:pt x="454" y="362"/>
                </a:cubicBezTo>
                <a:cubicBezTo>
                  <a:pt x="635" y="483"/>
                  <a:pt x="870" y="634"/>
                  <a:pt x="1089" y="725"/>
                </a:cubicBezTo>
                <a:cubicBezTo>
                  <a:pt x="1308" y="816"/>
                  <a:pt x="1538" y="861"/>
                  <a:pt x="1769" y="90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47242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держек в краткосрочн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     FC   VC   TC   AFC   AVC   ATC    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     10     -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       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        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          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        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           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            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             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7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628640"/>
            <a:ext cx="7308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628640"/>
            <a:ext cx="83534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7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1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3357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789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36572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869000"/>
            <a:ext cx="83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44500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09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8764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3236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84720" y="1700280"/>
            <a:ext cx="7164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80360" y="1700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9640" y="-1539720"/>
            <a:ext cx="821844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87280" y="1628640"/>
            <a:ext cx="0" cy="388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516640"/>
            <a:ext cx="647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39920" y="2577960"/>
            <a:ext cx="5629320" cy="2662200"/>
          </a:xfrm>
          <a:custGeom>
            <a:avLst/>
            <a:gdLst/>
            <a:ahLst/>
            <a:rect l="l" t="t" r="r" b="b"/>
            <a:pathLst>
              <a:path w="3312" h="1398">
                <a:moveTo>
                  <a:pt x="0" y="0"/>
                </a:moveTo>
                <a:cubicBezTo>
                  <a:pt x="540" y="525"/>
                  <a:pt x="1081" y="1050"/>
                  <a:pt x="1633" y="1224"/>
                </a:cubicBezTo>
                <a:cubicBezTo>
                  <a:pt x="2185" y="1398"/>
                  <a:pt x="2748" y="1220"/>
                  <a:pt x="3312" y="104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2492280"/>
            <a:ext cx="1311120" cy="808200"/>
          </a:xfrm>
          <a:custGeom>
            <a:avLst/>
            <a:gdLst/>
            <a:ahLst/>
            <a:rect l="l" t="t" r="r" b="b"/>
            <a:pathLst>
              <a:path w="771" h="424">
                <a:moveTo>
                  <a:pt x="0" y="0"/>
                </a:moveTo>
                <a:cubicBezTo>
                  <a:pt x="49" y="197"/>
                  <a:pt x="98" y="394"/>
                  <a:pt x="226" y="409"/>
                </a:cubicBezTo>
                <a:cubicBezTo>
                  <a:pt x="354" y="424"/>
                  <a:pt x="562" y="257"/>
                  <a:pt x="771" y="9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838600"/>
            <a:ext cx="1376280" cy="1814400"/>
          </a:xfrm>
          <a:custGeom>
            <a:avLst/>
            <a:gdLst/>
            <a:ahLst/>
            <a:rect l="l" t="t" r="r" b="b"/>
            <a:pathLst>
              <a:path w="810" h="953">
                <a:moveTo>
                  <a:pt x="38" y="0"/>
                </a:moveTo>
                <a:cubicBezTo>
                  <a:pt x="19" y="431"/>
                  <a:pt x="0" y="863"/>
                  <a:pt x="129" y="908"/>
                </a:cubicBezTo>
                <a:cubicBezTo>
                  <a:pt x="258" y="953"/>
                  <a:pt x="534" y="613"/>
                  <a:pt x="810" y="2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41800" y="3529080"/>
            <a:ext cx="1617840" cy="1322280"/>
          </a:xfrm>
          <a:custGeom>
            <a:avLst/>
            <a:gdLst/>
            <a:ahLst/>
            <a:rect l="l" t="t" r="r" b="b"/>
            <a:pathLst>
              <a:path w="952" h="695">
                <a:moveTo>
                  <a:pt x="0" y="91"/>
                </a:moveTo>
                <a:cubicBezTo>
                  <a:pt x="260" y="393"/>
                  <a:pt x="521" y="695"/>
                  <a:pt x="680" y="680"/>
                </a:cubicBezTo>
                <a:cubicBezTo>
                  <a:pt x="839" y="665"/>
                  <a:pt x="895" y="332"/>
                  <a:pt x="9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82616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19120" y="206064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0320" y="292572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32702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0-03-14T12:12:28Z</dcterms:modified>
  <cp:revision>11</cp:revision>
  <dc:subject/>
  <dc:title>PowerPoint Presentation</dc:title>
</cp:coreProperties>
</file>