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9A3-6CA2-4E40-86B2-BF532817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66D-BAB6-4771-9D88-E25EF1C1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DD5-0B43-49CD-9CBE-6987B1DC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60A-4024-4CC9-A78F-CEA6AEED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B55-7454-406E-997B-7E4079D7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813-C0DC-49F5-8BFE-B86EE1CA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AA8-0941-4CB4-824F-8A459DE3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5BC-F945-486C-9C82-4A1902CC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5F9-1541-456E-8621-7C9F315B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024-6CF5-42C5-8C07-9C4C0ED3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9A8-D2F0-466C-A154-92A12E11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180-32BC-40D1-9DEE-79AD2954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0C94-4332-4AC5-8FD9-1A349E01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отребительский выбор и факторы его определяющие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Бюджетная линия и кривые безразличия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равила максимизации поле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ая из точек пересечения кривой безразличия и бюджетной линии фиксирует соответствующий набор товаров, полезность, которых может быть удовлетворена. Потребитель может располагаться в любой точке бюджетной линии, но рациональный потребитель только в точке равновесия (Е), где достиг максимальной полезности всех товаров из набора, приобретенного за счет личного бюдж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 – максимальная полезность товара (ед.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 – цена товара (у.е.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Любой потраченный рубль должен приносить одинаковое удоволь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42920" y="18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полезность максимизируется в том случае, когда денежный доход потребителя распределяется таким образом, что полезность на каждую потраченную денежную единицу равна любому купленному тов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алгебраической интерпретации правило максимизации полезности имеет следующий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4360" y="2368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74000" y="2368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69280" y="2368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9800" y="2349360"/>
            <a:ext cx="6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2708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708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2708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270828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65640" y="2655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45280" y="2655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42000" y="2655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12560" y="25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3640" y="25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7640" y="25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1800" y="2492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1080" y="2637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75840" y="258444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тим правилом можно пользоваться не только в сфере расходования денежного бюджета, но и бюджета времени, а так же при выборе других ценных ориент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 всех подобных случаях решается одна задача – распределение того или иного ограниченного ресурса между альтернативными сферами его при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показано 3 набора безразличия двух товаро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каждый из которых представляет различный уровень полез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оить кривую безразличия и определить, какая из них    отраж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иболее высокий уровень поле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иболее низкий уровень поле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1916280"/>
          <a:ext cx="6095880" cy="3241080"/>
        </p:xfrm>
        <a:graphic>
          <a:graphicData uri="http://schemas.openxmlformats.org/drawingml/2006/table">
            <a:tbl>
              <a:tblPr/>
              <a:tblGrid>
                <a:gridCol w="1015560"/>
                <a:gridCol w="1016280"/>
                <a:gridCol w="1015920"/>
                <a:gridCol w="1015920"/>
                <a:gridCol w="1015920"/>
                <a:gridCol w="101628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1484280"/>
          <a:ext cx="6095880" cy="447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ор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ор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ор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971640" y="549360"/>
            <a:ext cx="0" cy="57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6308640"/>
            <a:ext cx="720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4869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3429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989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623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623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623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623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64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180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800" y="17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21640" y="625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1280" y="625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02720" y="625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42720" y="625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8236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00" y="35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flipV="1">
            <a:off x="6011640" y="5157360"/>
            <a:ext cx="721440" cy="936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8" name=""/>
          <p:cNvCxnSpPr/>
          <p:nvPr/>
        </p:nvCxnSpPr>
        <p:spPr>
          <a:xfrm flipH="1" flipV="1">
            <a:off x="4642920" y="3933360"/>
            <a:ext cx="1369440" cy="1224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9" name=""/>
          <p:cNvCxnSpPr/>
          <p:nvPr/>
        </p:nvCxnSpPr>
        <p:spPr>
          <a:xfrm flipH="1" flipV="1">
            <a:off x="3923640" y="2923920"/>
            <a:ext cx="719640" cy="1010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0" name=""/>
          <p:cNvCxnSpPr/>
          <p:nvPr/>
        </p:nvCxnSpPr>
        <p:spPr>
          <a:xfrm flipH="1" flipV="1">
            <a:off x="3203280" y="1484280"/>
            <a:ext cx="721440" cy="1440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 flipH="1" flipV="1">
            <a:off x="6011640" y="2923920"/>
            <a:ext cx="721440" cy="505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 flipH="1" flipV="1">
            <a:off x="5292360" y="2204640"/>
            <a:ext cx="720000" cy="720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3" name=""/>
          <p:cNvCxnSpPr/>
          <p:nvPr/>
        </p:nvCxnSpPr>
        <p:spPr>
          <a:xfrm flipH="1" flipV="1">
            <a:off x="4571640" y="1412640"/>
            <a:ext cx="72144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4" name=""/>
          <p:cNvCxnSpPr/>
          <p:nvPr/>
        </p:nvCxnSpPr>
        <p:spPr>
          <a:xfrm>
            <a:off x="4572000" y="1413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/>
          <p:nvPr/>
        </p:nvCxnSpPr>
        <p:spPr>
          <a:xfrm flipH="1" flipV="1">
            <a:off x="3202920" y="548640"/>
            <a:ext cx="1369080" cy="864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6" name=""/>
          <p:cNvCxnSpPr/>
          <p:nvPr/>
        </p:nvCxnSpPr>
        <p:spPr>
          <a:xfrm flipH="1" flipV="1">
            <a:off x="6732000" y="2133000"/>
            <a:ext cx="719640" cy="719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7" name=""/>
          <p:cNvCxnSpPr/>
          <p:nvPr/>
        </p:nvCxnSpPr>
        <p:spPr>
          <a:xfrm flipH="1" flipV="1">
            <a:off x="6011640" y="1772640"/>
            <a:ext cx="72144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8" name=""/>
          <p:cNvCxnSpPr/>
          <p:nvPr/>
        </p:nvCxnSpPr>
        <p:spPr>
          <a:xfrm flipH="1" flipV="1">
            <a:off x="5292360" y="980280"/>
            <a:ext cx="720000" cy="793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" name=""/>
          <p:cNvCxnSpPr/>
          <p:nvPr/>
        </p:nvCxnSpPr>
        <p:spPr>
          <a:xfrm flipH="1" flipV="1">
            <a:off x="4571640" y="332640"/>
            <a:ext cx="72144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6732720" y="4076640"/>
            <a:ext cx="2157120" cy="1008000"/>
          </a:xfrm>
          <a:prstGeom prst="borderCallout1">
            <a:avLst>
              <a:gd name="adj1" fmla="val 18750"/>
              <a:gd name="adj2" fmla="val -8333"/>
              <a:gd name="adj3" fmla="val 97009"/>
              <a:gd name="adj4" fmla="val -33555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низкий уровень поле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53400" y="506520"/>
            <a:ext cx="1939680" cy="1193760"/>
          </a:xfrm>
          <a:prstGeom prst="borderCallout1">
            <a:avLst>
              <a:gd name="adj1" fmla="val 18750"/>
              <a:gd name="adj2" fmla="val -8333"/>
              <a:gd name="adj3" fmla="val 142287"/>
              <a:gd name="adj4" fmla="val -3925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высокий уровень поле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6892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1328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0360" y="35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отребительский выбор и факторы его определя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ительский выбор – процесс формирования спроса потребителей на разнообразны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ительский выбор определяется двумя основными фак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полезностью того или иного това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) доходом потреб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выборе товара потребителя интересует его полезность, т.е. потребитель, руководствуясь своими вкусами и предпочтениями, дает субъективную оценку тов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! Товары имеют определенную цену, а денежный доход потребителя огран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аким образом с помощью цен ставится предел желаниям потребителя в приобретении какого-либо товара. Потребитель идет на компромисс, выбирая между альтернативными благами, чтобы при ограниченном бюджете получить наиболее удовлетворяющий его набор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требительское поведение можно описать терминами и графиками бюджетного ограничения и кривыми безразлич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Бюджетная линия и кривые безразличия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ивая безразличия – совокупность потребительских наборов , обеспечивающих один уровень удовлетворения потребностей покуп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63640" y="2491920"/>
            <a:ext cx="511164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ивая безразличия имеет отрицательный наклон: чем больше одного товара входит в набор, тем меньше количество друг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8360" y="335772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58972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899640" y="1770480"/>
            <a:ext cx="4463280" cy="345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149720"/>
            <a:ext cx="57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149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15772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68000" y="51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076640"/>
            <a:ext cx="73080" cy="73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084640"/>
            <a:ext cx="73080" cy="73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21280" y="4745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56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2000" y="546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44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2160" y="558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70520" y="558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вая безразличия является выпуклой относительно началу координат, т.к. норма замещения одного товара другим, т.е. готовность потребителя заменить потребление одного товара другим, неодинаково при различных наборах и имеет тенденцию к сокра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по каким-либо причинам потребитель может увеличить в наборе количество потребляемых благ, то общий уровень его удовлетворения повышается. Кривая безразличия сдвигается вправо и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2920" y="333360"/>
            <a:ext cx="40388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окупность кривых безразличия образует карту безразличия. Чем выше кривая безразличия, тем выше благосостояние потребителя. В какой точке карты безразличия находится потребитель зависит от цен и его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точки зрения удовлетворения потребителей, потребителю  безразлично какой набор вдоль кривой он получит, однако каждый товар в наборе имеет цену, а поскольку бюджет потребителя ограничен, то и его выбор получает ограни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971640" y="1268280"/>
            <a:ext cx="0" cy="28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414972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86920" y="-1397520"/>
            <a:ext cx="5327280" cy="53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692000" y="-892800"/>
            <a:ext cx="4317120" cy="432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195280" y="-388080"/>
            <a:ext cx="3310560" cy="331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692360" y="2421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11280" y="314172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71640" y="278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050920" y="2060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3080" y="11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8964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34360" y="373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34360" y="3160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34360" y="2584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ществует ряд возможных комбинаций товаров которые потребитель способен оплатить из имеющегося в его распоряжении бюджета. График этих возможностей образует бюджетную ли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юджетная линия иллюстрирует все комбинации товаров, которые потребитель способен приобрести при данном доходе и ц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92720" y="270828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5589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3213000"/>
            <a:ext cx="259092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5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360" y="553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416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780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аким образом кривая безразличия показывает, что потребитель хотел бы купить, а бюджетная линия показывает, что потребитель может куп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мбинация кривой безразличия и бюджетной линии определяют, что потребитель вероятнее всего купит, поскольку его желания совпадают с его возможн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равила максимизации поле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ет существовать не один, а несколько вариантов сочетания товаров, которые приемлемы для данного потреб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411280" y="2707920"/>
            <a:ext cx="0" cy="36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308640"/>
            <a:ext cx="432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555640" y="-331560"/>
            <a:ext cx="6480000" cy="64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13" y="22"/>
                </a:moveTo>
                <a:arcTo wR="10800" hR="10800" stAng="-5618702" swAng="5860165"/>
                <a:lnTo>
                  <a:pt x="10800" y="10800"/>
                </a:lnTo>
                <a:close/>
              </a:path>
              <a:path fill="none" w="21600" h="21600">
                <a:moveTo>
                  <a:pt x="10113" y="22"/>
                </a:moveTo>
                <a:arcTo wR="10800" hR="10800" stAng="-5618702" swAng="586016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131640" y="-173520"/>
            <a:ext cx="5759280" cy="57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710880" y="-28800"/>
            <a:ext cx="5037120" cy="504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6" y="44"/>
                </a:moveTo>
                <a:arcTo wR="10800" hR="10800" stAng="-5088908" swAng="4823725"/>
                <a:lnTo>
                  <a:pt x="10800" y="10800"/>
                </a:lnTo>
                <a:close/>
              </a:path>
              <a:path fill="none" w="21600" h="21600">
                <a:moveTo>
                  <a:pt x="11776" y="44"/>
                </a:moveTo>
                <a:arcTo wR="10800" hR="10800" stAng="-5088908" swAng="482372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3213000"/>
            <a:ext cx="331164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3429000"/>
            <a:ext cx="71280" cy="71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24360" y="4723560"/>
            <a:ext cx="71280" cy="73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6093000"/>
            <a:ext cx="71640" cy="72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5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2720" y="3141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1000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76920" y="445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8360" y="5753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66360" y="4745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66360" y="5392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6880" y="5877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6928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656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4528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3:54:21Z</dcterms:created>
  <dc:creator>Юля</dc:creator>
  <dc:description/>
  <dc:language>en-US</dc:language>
  <cp:lastModifiedBy>Юля</cp:lastModifiedBy>
  <dcterms:modified xsi:type="dcterms:W3CDTF">2009-10-14T16:56:22Z</dcterms:modified>
  <cp:revision>8</cp:revision>
  <dc:subject/>
  <dc:title>Презентация </dc:title>
</cp:coreProperties>
</file>