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81F-9C5A-42CA-9F34-76B837B3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E53-C5EA-42BA-8B62-96518A29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C746-8675-474E-B042-DBC14A3B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220-99E3-47BA-8BA6-A104B7D6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0841-3E61-4F14-BD8F-E25AC218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FEC2-4091-4BAC-96F1-952A0198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AE7D-02DC-4742-89D6-6F78C5BA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A729-7F68-4F6F-951B-EFE41CBF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6556-F3C8-480C-AE6D-988528F7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6B07-209E-452B-A3EB-BC9F4F4B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C5A8-96B5-4224-8B36-4EC93FD5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933-6F2B-4054-816A-F2DCE7CB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B1C7-2924-4D97-AAFB-6A665939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6FF2-25CC-41CD-97EC-4A3AB329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EF37-EE84-4A98-AB83-E0580CE2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3E20-D28B-4FA0-827F-DA285979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72AA-51E2-474D-8F7B-08AE55FB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5764-77AE-4903-9C6B-0DB6124F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312A-5C96-4809-A4B3-5D562DBB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660B-8516-412A-B03D-400DBCE1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252-3981-429A-8B27-2093BDD6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CAB-0BB8-4EB7-A894-7B39AEE3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F97-F9C0-47D9-B82F-99265E21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4B7-D6DA-4373-A9A3-6D75A6AB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F693-068E-48D5-9F69-CD83C9C2A0B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B9F2-4B68-4ADD-9AED-B216562E8E8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1600200"/>
            <a:ext cx="86104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 Эластичность спроса по цене 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Эластичность предложения по цене – это показатель степени чувствительности, реакция предложения на изменения цены товара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Выделяют 3 временных периода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) текущий период – это период времени в течении которого производители не могут приспособится к изменению уровня цен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1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1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1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1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1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1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8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Monotype Corsiva"/>
              </a:rPr>
              <a:t>2) Короткий период- это период времени в течении которого производители не успевают в полной степени приспособится к уровню цен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36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Monotype Corsiva"/>
              </a:rPr>
              <a:t>3) Долгий период- это период времени достаточный для того чтобы производители могли полностью приспособится к изменению цен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87 E">
                                      <p:cBhvr>
                                        <p:cTn id="191" dur="2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87 E">
                                      <p:cBhvr>
                                        <p:cTn id="195" dur="2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Различают 4 формы эластичности предложения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Эластичное предлож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Неэластичное предложение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Абсолютно эластичное предлож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100000"/>
              </a:lnSpc>
              <a:spcBef>
                <a:spcPts val="1100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Monotype Corsiva"/>
              </a:rPr>
              <a:t>Абсолютно неэластичное предлож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20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9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4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217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218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9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10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cc00"/>
                </a:solidFill>
                <a:latin typeface="Monotype Corsiva"/>
              </a:rPr>
              <a:t>Кривая предложения- линия, отражающая все соотношения количества предлагаемых благ и равновесной цены, характеризует предложение блага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Monotype Corsiva"/>
              </a:rPr>
              <a:t>Точечная эластичность- это эластичность измеренная в одной точке кривой спроса или предложения, является постоянной величиной, вдоль линии спроса и предложения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2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2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134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Дуговая эластичность- примерная степень реакции спроса или предложения на изменение цены, дохода и других факторов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6 0.125 0.16644 C 0.125 0.25831 0.069 0.33287 0 0.33287 C -0.069 0.33287 -0.125 0.25831 -0.125 0.16644 C -0.125 0.07456 -0.069 0 0 0 Z">
                                      <p:cBhvr>
                                        <p:cTn id="262" dur="2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Эластичность – это степень реагирования одной переменой величины в ответ на изменение другой, связанной с первой величиной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mb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cc00"/>
                </a:solidFill>
                <a:latin typeface="Monotype Corsiva"/>
              </a:rPr>
              <a:t>Кооффициент эластичности – это числовой показатель, показывающий процентное изменение одной переменой в результате однопроцентного изменения другой переменой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Виды эластичности :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Эластичность спроса по цен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Эластичность спроса по доходам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Эластичность предложения по цен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Перекрестная эластичность спроса по цен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Точная эластичность спрос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Дуговая эластичность спрос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6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Эластичность спроса по цене – это оценка изменения величины спроса на товар при изменении цены, или процентные изменения величины спроса, деленное на процентное изменение цены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Эластичность спроса по доходам – это мера чувствительность спроса к изменению дохода, отражает относительное изменение спроса на какое либо благо в следствии изменении дохода потребителя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1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108" dur="3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Monotype Corsiva"/>
              </a:rPr>
              <a:t>Эластичность спроса по доходу зависит от следующих факторов :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0640" indent="-26064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Monotype Corsiva"/>
              </a:rPr>
              <a:t>От значимости того или иного блага для бюджета  семьи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0640" indent="-26064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Monotype Corsiva"/>
              </a:rPr>
              <a:t>является ли данное благо предметом роскоши или первой необходимости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60640" indent="-26064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Monotype Corsiva"/>
              </a:rPr>
              <a:t>От консерватизма спроса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Перекрестная эластичность спроса по цене: выражает относительные изменения объема спроса на одно благо при изменении цены на другое благо при прочих равных условиях.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различают 3 вида Перекрестной эластичности  спроса по цене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 №</a:t>
            </a: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1 положительная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 №</a:t>
            </a: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2 отрицательная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 №</a:t>
            </a:r>
            <a:r>
              <a:rPr b="1" lang="en-US" sz="4400" spc="-1" strike="noStrike">
                <a:solidFill>
                  <a:srgbClr val="ffcc00"/>
                </a:solidFill>
                <a:latin typeface="Monotype Corsiva"/>
              </a:rPr>
              <a:t>3 нулевая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dent</cp:lastModifiedBy>
  <dcterms:modified xsi:type="dcterms:W3CDTF">2009-12-11T05:45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