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9309-5CEE-4D94-A629-7104F0FE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20E2-9654-4527-B3A5-E06CAEA0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DE75-0D1F-4F1F-B1F1-0F099A85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EC5C-8CD4-4423-8ADC-140755A1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56B0-8523-4711-9B60-E4F2810F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C000-BA13-4105-A473-7312E512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AFA-728E-40DE-BF3B-AB242608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9F55-E0E1-43AF-BE6F-581B5DF5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A159-7709-4C2C-A4FC-0F8B937E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33EA-DE39-4917-B866-D1B1E6EE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9C5B-73BD-4090-9359-95D6971A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8D9-77C4-42FF-B3F7-F5026FCA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0550-BC89-483A-94AF-57508505B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360" y="2133720"/>
            <a:ext cx="792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это такая рыночная структура, при которой доминирует небольшое число продавцов, а вход в отрасль новых производителей ограничен высокими барьерами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69720" y="558720"/>
            <a:ext cx="5252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Monotype Corsiva"/>
              </a:rPr>
              <a:t>Олигопол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Monotype Corsiva"/>
              </a:rPr>
              <a:t>Модель Кур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татический анализ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заимоотношения двух фирм в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словиях дуополии (частный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остейший случай олигополии) был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едложен в 1838 году французским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экономистом Антуаном Курно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(1801-1877). Он исходил из следующих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едпосылок. Обе фирмы (А и Б)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оизводят однородный товар. Им известна кривая рыночного спроса. Обе фирмы принимают решения о производстве одновременно, самостоятельно и независимо друг от друга. Каждая из фирм предполагает выпуск конкурента постоянным, продавцы не могут иметь точной информации о своих ошиб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0" b="7625"/>
          <a:stretch/>
        </p:blipFill>
        <p:spPr>
          <a:xfrm>
            <a:off x="324000" y="1222200"/>
            <a:ext cx="431928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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одель равновесия Курно предполагает, что фирмы- дуополисты конкурируют друг с другом. Ситуация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ринципиально изменится, если дуополисты договорятся друг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 другом и будут коллективно намечать объем 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роме модели Курно есть и и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интерпретации дуополии – модели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Бертрана, Эджуорта и Штакельбер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1820" t="0" r="15030" b="10118"/>
          <a:stretch/>
        </p:blipFill>
        <p:spPr>
          <a:xfrm rot="21436200">
            <a:off x="608040" y="3138120"/>
            <a:ext cx="34876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Monotype Corsiva"/>
              </a:rPr>
              <a:t>Олигополия с точки зрения теории игр. «Дилемма заключенног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В настоящее время все большее значение для анализа олигополистических ситуаций получает теория игр. Теория игр – наука, исследующая математическими методами поведение участников в вероятностных ситуациях, связанных с принятием решением. Предметом этой теории является игровые ситуации с заранее установленными правилами (типа игры в карты или домино). В ходе игры возможны различные совместные действия – коалиции игроков, конфликты и т.д. Стратегия игроков определяется целевой функцией, которая показывает выигрыш или проигрыш участника. Формы игр разнообразны. Наиболее простая разновидность – игры с двумя участниками. Если в игре участвуют не менее трех игроков, возможно образование коалиций, что усложняет анали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С точки зрения платежной суммы игры делятся на 2 группы – с нулевой и ненулевой суммами. Игры с нулевой суммой называют еще антагонистическими: выигрыш одних в точности равен проигрышу других, а общая сумма выигрыша равна нулю. По характеру предварительной договоренности игры делятся на кооперативные (когда образуются коалиции игроков) и некооперативные (когда каждый играет за себя против все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иболее известный пример некооперативной игры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 нулевой суммой – модель Курно, а с ненулевой суммой – «дилемма заключенног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«Дилемма заключенного» наглядно показывает особенности олигополистического ценообразования. Возьмем простейшую разновидность олигополии, а именно дуополию. Допустим, одинаковый по качеству кокаин производят два колумбийских  наркокартеля – Медельинский и Кали. Возникает проблема: какую назначить цену на товар? Если обе фирмы назначат одинаковые цены, то их выручки тоже будут одинаковы. Однако, если один из наркокартелей назначит низкую цену, а другой – высокую, то их выручки будут сильно отличаться друг от друга. В данном случае пассивная политика высоких цен предпочтительнее, чем конкурентная политика низких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249192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333399"/>
                </a:solidFill>
                <a:latin typeface="Monotype Corsiva"/>
              </a:rPr>
              <a:t>Спасибо за внимание!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Monotype Corsiva"/>
              </a:rPr>
              <a:t>Характерные черты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Первая характерная черта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олигополии заключается в немногочисленности фирм в отрасли. Обычно их число не превышает десяти. Такая ситуация сложилась, например, в американской сталелитейной промышленности, в производстве первичного свинца, меди, стекла, изделий из гипса и др. Наиболее высока концентрация в автомобильной промышленности США: на три компании («Дженерал Моторс», «Форд», и «Крайслер») приходилось в 80-е годы свыше 95% национального производства автомоби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ледует отметить, что эти данные, как и все статистические показатели, обладают очевидными недостатками. Они либо преувеличивают, либо преуменьшают степень концентрации. Преувеличивают, так как не учитывают иностранной и межотраслевой конкуренции, а также конкуренции со стороны поставщиков. Преуменьшают, так как оценивается степень концентрации на общенациональном уровне, а не на уровне регионов или отдельных городов, где на рынках некоторых товаров и услуг часто господствует 2-3 местные комп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лигополистические ситуации могут возникать в отраслях, производящих как стандартизированные товары (алюминий, медь), так и дифференцированные (автомобили, стиральные порошки, сигареты, электробытовые приборы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Monotype Corsiva"/>
              </a:rPr>
              <a:t>Второй характерной чертой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 олигополии являются высокие барьеры для вступления в отрасль. Они связаны прежде всего с экономией на масштабе производства (эффект масштаба), которая выступает как важнейшая причина широкого распространения и длительного сохранения олигополистических структу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Monotype Corsiva"/>
              </a:rPr>
              <a:t>Эффект масштаб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важная, но не единственная причина, так как уровень концентрации во многих отраслях превышает оптимально эффективный уровень. Олигополистическая концентрация порождается и некоторыми другими барьерами для вхождения в отрасль. Это может быть связно с патентной монополией, как это происходит  в наукоемких отраслях, контролируемых фирмами типа «Ксерокс», «Кода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Monotype Corsiva"/>
              </a:rPr>
              <a:t>Среди других причин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 – монополия контроля над редкими источниками сырья, запредельно высокие расходы на рекламу.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Есть и некоторые и другие барьеры, естественно сложившиеся или искусственно созданные. Барьеры различны по прочности.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Хотя неопределимых барьеров нет, они возникают вновь и внов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Monotype Corsiva"/>
              </a:rPr>
              <a:t>Третьей характерной чертой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олигополии является всеобщая взаимозависимость. Олигополия возникает в том случае, если число фирм в отрасли настолько мало, что каждая из них при формировании своей экономической политики вынуждена принимать во внимание реакцию со стороны конкурентов. Всеобщая взаимозависимость проявляется и в условиях обострения конкурентной борьбы, и в условиях, когда достигается договоренность с другими олигополистами и возникает тенденция превращения отрасли в чисто монопольну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Monotype Corsiva"/>
              </a:rPr>
              <a:t>Ценовая вой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это цикл постепенного снижения существующего уровня цен с целью вытеснения конкурентов с олигополистического рынка. От ценовой войны выигрывают потребители и проигрывают производители. К несчастью для потребителей, ценовые войны скоротечны, и в настоящее время бывают очень редко. Конкурентная борьба друг с другом приводит к соглашениям, учитывающим возможные действия других производ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3:17:18Z</dcterms:created>
  <dc:creator>User</dc:creator>
  <dc:description/>
  <dc:language>en-US</dc:language>
  <cp:lastModifiedBy>User</cp:lastModifiedBy>
  <dcterms:modified xsi:type="dcterms:W3CDTF">2009-12-10T16:10:18Z</dcterms:modified>
  <cp:revision>4</cp:revision>
  <dc:subject/>
  <dc:title>Слайд 1</dc:title>
</cp:coreProperties>
</file>