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AAE6-B8C9-4B53-90AE-453C2AA28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AA75-7E55-4128-B86C-22DDF41A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9A89-56E3-4830-8D86-0B511F369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0462-C5C6-4E1D-B177-601AC0CD6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15D1-741C-4391-816A-CF623E257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9542-9072-4CB1-9555-37FC5B2B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DCD4-69AB-489B-895F-B0F3D6E1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60512-BA0C-4E0E-B4FC-CADBDC28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EB005-83C0-4842-AD3E-1617BE8F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431E-FFD2-47F0-A8D4-5A33C2D9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8B14-BA87-4D55-9134-7A9DF9E8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7509-5410-4539-9EE4-0AB488CE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A6D3-728C-4A66-A9B6-CBFED374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46CC-9C87-4B9B-9C6C-A80501C2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3DBB-813D-48F5-8415-50066BD0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9E82-D99D-40ED-94C2-2F5FDDD0F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7ABF9-99E5-48B1-80AE-972AB39FF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8E47-FA46-41E9-AE14-6BF56023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725D-F807-47E7-9461-581CB884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5F42-1755-4DF8-A42B-AFD707D2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CE3C-00E8-4CB1-89B4-D60B9CD3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E42A-B3BB-48C6-BB72-4BB50B4C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7555-AC04-4373-8546-D3A83132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B9AE-9E3B-4326-B0B9-01F13286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EDB1-AAFA-4CD9-B56C-4B5CCBF55B5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3F27-0D3C-480E-99DB-0106EEBD4F0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Blackadder IT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763640" y="2060640"/>
            <a:ext cx="5977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Impact"/>
              </a:rPr>
              <a:t>Теория производст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Экономическая рента – это выплата владельцу фактора производства чтобы предотвратить перевод факторов в другую сферу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Квазирента – это выплата владельцу фактора, предложения которого о воротком периоде фиксирована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Закон убывающей отдачи: преувеличении одного фактора производства и неизменной другом достигается определенной объем выпуска, с выше которого величина предельного продукта начинается снижаться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Экстенсивное производство- это производственный процесс при котором объем выпуска происходит за счет прироста переменного фактора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Интенсивное производство- это производственный процесс при котором главной причиной увеличения объема выпуска является повышение технического уровня производства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52" dur="2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56" dur="2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Производством является – любая человеческая деятельность в процессе которой ресурсы превращаются в товары и услуги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Производство наряду с распределением, обменом и потреблением является одним из четырех основных видов активности, которые обеспечивают экономическое благополучие общества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Основные ресурсы, такие  как земля, труд, капитал, принято именовать факторами производства. Зависимость между ресурсом и конечным продуктом называется производственной функцией и является важнейшей категорией производства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Производственная функция : физическое отношение между производственным объемом выпуска и количества используемого фактора производства при предложении технической эффективности.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Экономический анализ производства следует отношения между тратами и выпуском. Это отношение, известное как производственная функция определяет максимальный объем выпуска при определенных комбинациях факторов производства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4" dur="2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В самой обшей форме производственной функции для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n 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факторов производства может быть записана так: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       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              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Q</a:t>
            </a:r>
            <a:r>
              <a:rPr b="1" lang="ru-RU" sz="2800" spc="-1" strike="noStrike">
                <a:solidFill>
                  <a:srgbClr val="ffcc00"/>
                </a:solidFill>
                <a:latin typeface="Arial Black"/>
              </a:rPr>
              <a:t>=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Q</a:t>
            </a:r>
            <a:r>
              <a:rPr b="1" lang="ru-RU" sz="2800" spc="-1" strike="noStrike">
                <a:solidFill>
                  <a:srgbClr val="ffcc00"/>
                </a:solidFill>
                <a:latin typeface="Arial Black"/>
              </a:rPr>
              <a:t>(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I </a:t>
            </a:r>
            <a:r>
              <a:rPr b="1" lang="ru-RU" sz="2800" spc="-1" strike="noStrike">
                <a:solidFill>
                  <a:srgbClr val="ffcc00"/>
                </a:solidFill>
                <a:latin typeface="Arial Black"/>
              </a:rPr>
              <a:t>,… 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In</a:t>
            </a:r>
            <a:r>
              <a:rPr b="1" lang="ru-RU" sz="2800" spc="-1" strike="noStrike">
                <a:solidFill>
                  <a:srgbClr val="ffcc00"/>
                </a:solidFill>
                <a:latin typeface="Arial Black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Q-</a:t>
            </a:r>
            <a:r>
              <a:rPr b="1" lang="ru-RU" sz="2800" spc="-1" strike="noStrike">
                <a:solidFill>
                  <a:srgbClr val="ffcc00"/>
                </a:solidFill>
                <a:latin typeface="Arial Black"/>
              </a:rPr>
              <a:t> объем выпуска фирмы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I</a:t>
            </a:r>
            <a:r>
              <a:rPr b="1" lang="ru-RU" sz="2800" spc="-1" strike="noStrike">
                <a:solidFill>
                  <a:srgbClr val="ffcc00"/>
                </a:solidFill>
                <a:latin typeface="Arial Black"/>
              </a:rPr>
              <a:t>- объем затрат факторов производства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Двухфакторная производственная функция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               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              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Q</a:t>
            </a:r>
            <a:r>
              <a:rPr b="1" lang="ru-RU" sz="3200" spc="-1" strike="noStrike">
                <a:solidFill>
                  <a:srgbClr val="ffcc00"/>
                </a:solidFill>
                <a:latin typeface="Arial Black"/>
              </a:rPr>
              <a:t>=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Q</a:t>
            </a:r>
            <a:r>
              <a:rPr b="1" lang="ru-RU" sz="3200" spc="-1" strike="noStrike">
                <a:solidFill>
                  <a:srgbClr val="ffcc00"/>
                </a:solidFill>
                <a:latin typeface="Arial Black"/>
              </a:rPr>
              <a:t>(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I</a:t>
            </a:r>
            <a:r>
              <a:rPr b="1" lang="ru-RU" sz="3200" spc="-1" strike="noStrike">
                <a:solidFill>
                  <a:srgbClr val="ffcc00"/>
                </a:solidFill>
                <a:latin typeface="Arial Black"/>
              </a:rPr>
              <a:t>, К 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Arial Black"/>
              </a:rPr>
              <a:t>Где 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I</a:t>
            </a:r>
            <a:r>
              <a:rPr b="1" lang="ru-RU" sz="3200" spc="-1" strike="noStrike">
                <a:solidFill>
                  <a:srgbClr val="ffcc00"/>
                </a:solidFill>
                <a:latin typeface="Arial Black"/>
              </a:rPr>
              <a:t> и К – объемы применяемого труд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ru-RU" sz="3200" spc="-1" strike="noStrike">
                <a:solidFill>
                  <a:srgbClr val="ffcc00"/>
                </a:solidFill>
                <a:latin typeface="Arial Black"/>
              </a:rPr>
              <a:t>и капитала.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" dur="2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20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" dur="20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20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Краткосрочный период производства: самый продолжительный отрезок времени, в течении которого возможно изменить объем применения лишь одного ресурса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Долгосрочный период производства – период времени, достаточно для того, чтобы все имеющиеся ресурсы фирм могли стать переменными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11:16:31Z</dcterms:created>
  <dc:creator>UserLib</dc:creator>
  <dc:description/>
  <dc:language>en-US</dc:language>
  <cp:lastModifiedBy>UserLib</cp:lastModifiedBy>
  <dcterms:modified xsi:type="dcterms:W3CDTF">2009-12-12T04:27:50Z</dcterms:modified>
  <cp:revision>3</cp:revision>
  <dc:subject/>
  <dc:title>Теория производства</dc:title>
</cp:coreProperties>
</file>