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27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54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</p:sldMasterIdLst>
  <p:sldIdLst>
    <p:sldId id="256" r:id="rId24"/>
    <p:sldId id="257" r:id="rId25"/>
    <p:sldId id="258" r:id="rId26"/>
    <p:sldId id="259" r:id="rId27"/>
    <p:sldId id="260" r:id="rId28"/>
    <p:sldId id="261" r:id="rId29"/>
    <p:sldId id="262" r:id="rId30"/>
    <p:sldId id="263" r:id="rId31"/>
    <p:sldId id="264" r:id="rId32"/>
    <p:sldId id="265" r:id="rId33"/>
    <p:sldId id="266" r:id="rId34"/>
    <p:sldId id="267" r:id="rId35"/>
    <p:sldId id="268" r:id="rId36"/>
    <p:sldId id="269" r:id="rId37"/>
    <p:sldId id="270" r:id="rId38"/>
    <p:sldId id="271" r:id="rId39"/>
    <p:sldId id="272" r:id="rId40"/>
    <p:sldId id="273" r:id="rId41"/>
    <p:sldId id="27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" Target="slides/slide1.xml"/><Relationship Id="rId25" Type="http://schemas.openxmlformats.org/officeDocument/2006/relationships/slide" Target="slides/slide2.xml"/><Relationship Id="rId26" Type="http://schemas.openxmlformats.org/officeDocument/2006/relationships/slide" Target="slides/slide3.xml"/><Relationship Id="rId27" Type="http://schemas.openxmlformats.org/officeDocument/2006/relationships/slide" Target="slides/slide4.xml"/><Relationship Id="rId28" Type="http://schemas.openxmlformats.org/officeDocument/2006/relationships/slide" Target="slides/slide5.xml"/><Relationship Id="rId29" Type="http://schemas.openxmlformats.org/officeDocument/2006/relationships/slide" Target="slides/slide6.xml"/><Relationship Id="rId30" Type="http://schemas.openxmlformats.org/officeDocument/2006/relationships/slide" Target="slides/slide7.xml"/><Relationship Id="rId31" Type="http://schemas.openxmlformats.org/officeDocument/2006/relationships/slide" Target="slides/slide8.xml"/><Relationship Id="rId32" Type="http://schemas.openxmlformats.org/officeDocument/2006/relationships/slide" Target="slides/slide9.xml"/><Relationship Id="rId33" Type="http://schemas.openxmlformats.org/officeDocument/2006/relationships/slide" Target="slides/slide10.xml"/><Relationship Id="rId34" Type="http://schemas.openxmlformats.org/officeDocument/2006/relationships/slide" Target="slides/slide11.xml"/><Relationship Id="rId35" Type="http://schemas.openxmlformats.org/officeDocument/2006/relationships/slide" Target="slides/slide12.xml"/><Relationship Id="rId36" Type="http://schemas.openxmlformats.org/officeDocument/2006/relationships/slide" Target="slides/slide13.xml"/><Relationship Id="rId37" Type="http://schemas.openxmlformats.org/officeDocument/2006/relationships/slide" Target="slides/slide14.xml"/><Relationship Id="rId38" Type="http://schemas.openxmlformats.org/officeDocument/2006/relationships/slide" Target="slides/slide15.xml"/><Relationship Id="rId39" Type="http://schemas.openxmlformats.org/officeDocument/2006/relationships/slide" Target="slides/slide16.xml"/><Relationship Id="rId40" Type="http://schemas.openxmlformats.org/officeDocument/2006/relationships/slide" Target="slides/slide17.xml"/><Relationship Id="rId41" Type="http://schemas.openxmlformats.org/officeDocument/2006/relationships/slide" Target="slides/slide18.xml"/><Relationship Id="rId42" Type="http://schemas.openxmlformats.org/officeDocument/2006/relationships/slide" Target="slides/slide1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F19EC-84BB-4BE0-9361-DB6D81240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B9668-7794-4065-9FB7-C41945FFC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30468B-A8C1-483A-8E7C-20B632A02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C7847D-BB30-42EC-B577-DF4F84569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CA1520-5D6C-4BD0-9FE5-9717F4D01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893782-EDBB-406A-83A0-6164B8624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C557D2-1DC0-4CC0-A88A-FEF9AAF60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8FA3B4-07B6-4F0D-AFEE-FBE3D643E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63E834-8A83-4002-B853-0E2A640F9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43F940-7DCD-48B9-AC4D-794486792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EED994-DC56-4423-9B66-7B776EE5D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26CFD9-152A-481B-A1A4-F4FADD675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4B1D7-191D-478D-8054-0B32A4244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4F5EA5-0E83-4172-8408-F2445D851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5D5E0F-CD52-4B8C-82CF-F3062F1DE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A34E9D-09DD-49C0-B2E9-C42D1CCB1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87EF21-9F8B-4978-8CF9-2DA025CE3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A056CC-DDBA-4CD0-BEEF-7C42A58CC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2A117D-D7E2-4F74-A19D-A4201B78F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EE1D3D-8EF7-4E63-8131-4514D1D30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19EA5A-EBD3-4DE3-8484-EF0A93671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7CBC5D-D7F2-447A-9A9C-1FF8B0ECC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E93148-673A-4727-A921-F7B13F7FB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378FA-E2C0-49DB-81F9-43EA9B126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EC2163-7DEC-4325-9A76-2B11EE01C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6F833B-B0F1-4774-B2FB-6D0A0E0CD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6A7B28-EBDA-491C-ABF6-493679939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180A3D-6F17-4758-ABE7-9ABBD21C5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97100E-3069-445E-BA30-A50DF82DF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7DEA27-B269-4CF4-8DA8-254BB0694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344F68-05CA-449F-B1A3-7967E9F49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4289D8-076C-4D7D-A9AE-820E1308B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BE22B5-3B31-49F0-B6F2-CADF1B0E5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A401A8-5997-4EB3-B2ED-0684A1A86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B8FD7-A7EB-4C60-956D-71B54B90E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AE6BDA-CAEF-4FE3-9101-66B92EB3D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7EE911-B974-400B-8F28-AF3A86D43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93CE47-A271-48C3-B7F9-65A7756AD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DDF806-9F15-4E10-BDDA-2BBFC9C65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B5BE6F-F34E-4921-A73D-1839B6BEF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089D5D-8776-4576-BA89-3E2270FD4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6FFFC0-41F8-4501-926E-2BA9368E8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085FED-6670-42FE-B23B-A8953CDC7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DFF0FD-1867-491B-8CB3-63873EB68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300471-ABA8-4A41-B5E8-1CAAE8AF2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02D77-35FF-4F52-9414-DDBCD7616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84CCD7-CB05-4229-B2C9-0BBF8D244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DC0977-7987-4B1A-B2ED-D95D040D5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02EB71-6C16-411A-96CE-311F40457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104042-274C-4261-9621-B4C4F73F4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BF6BDD-B88B-49CC-9F6A-5DB473C02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6C6DD5F-E813-40C1-96FE-2AB7EE030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1220EB8-FF8C-4B8C-B1F8-14961C459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055FCEA-F3EF-48AF-A62E-7F7D998B7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6C39F0D-D048-49E3-8D87-F080D2DA1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A103B14-9266-4CD5-80DB-30FA71CE1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46E1A-C419-4B55-9E7D-38EB2C096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355B388-F803-43D7-900B-D133D54BD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758D764-9567-4AEF-9E93-3D7091B19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D0CEF1B-DEEB-40BF-ABC9-08ED40F0F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87EC6DA-5EC9-4A1B-89C5-A250F06EF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875E9B5-6BD5-4AD3-9235-DF9A8821A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1700B32-37E3-4813-8FD2-319D9E43D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EE1AB5E-173C-4F73-996A-0C809B29D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E840B2F-3057-43C5-9940-40C66A0FD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046A308-44B8-4DC5-9EF5-CD63FF134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82350F1-D811-4002-B34F-528582561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59E1E-725C-4ED0-B0E9-DD59EAC87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40250DD-BF79-4428-A300-CB563B200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4CAF536-2D81-4BEC-B018-CD2955C78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AEAB96A-6182-46CB-BC2E-9489B3575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E5AB855-297C-4239-B08E-B78375904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46A36CC-DEFE-444F-B358-F3E5EE285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AB5C09C-C74F-42F8-A0BB-BBCE3079A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2A42591-B898-4F14-B53D-9CA0F9956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F762836-73BE-4532-96A6-6678416C2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64089BA-F75A-4644-925E-B2EF30FC6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37CE93F-F10A-4FE5-9159-D7F2A221D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11539-C85E-43E7-9358-A7A3AFBB0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08B8E65-7EB9-46F6-973B-5F272AD1C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F03B5E6-501F-47B8-8739-51B6D5005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DD13D76-3395-4520-B205-B5FB2F28F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E5FAE7E-96F3-4CE1-AF24-BFA952CCF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A40AE97-CFC8-4BBC-AFC2-4732B145B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0C92C1C-F51A-4576-AF1F-F57AA689A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DFBCD57-E380-473C-8F13-7AC3BEE30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C38829D-2791-4DC9-AB34-23FE662CC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0313327-FCE4-449F-A62C-EE91F251F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A65A70B-290F-4C2D-BC96-31B1531E9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A1428-4B68-4538-BDBF-67E965CED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B440DFC-5CEF-4617-84AA-037BB9ADE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192FB50-370A-44AD-8E58-39E5FD884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165B740-6CD6-4343-A847-35085E9B7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6664F37-0647-4B94-BD39-55265B095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20EC8F7-4048-4350-9146-73663CB87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D9CB8A7-64FB-4FDE-8511-833DB4BBE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331F2C4-7204-4C52-9C1D-00C93D5C4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7161783-EE0E-4525-98C5-9B125F5F6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6288424-DF3E-4E26-86BA-5CF7F37AE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55AB547-749D-4839-9E3D-67B848D70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49C06-2A31-4ED7-9522-B8B1EC698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C6C0227-C806-473B-A144-AD36C971A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00CC7E3-738D-4CB7-AABC-0C006D081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79F8228-378E-4801-A683-99E39868D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8990807-233E-4016-8E7B-3D33213F3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0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0714950-38FF-476D-BE30-636C110E0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51678C8-D6A1-4315-89BB-144FE2D3B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2A17D05-014C-4D14-8F8A-6510DE475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E9FE209-8269-43CA-8222-E0E7BF5DC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25407FF-ED47-47C8-AF2E-1706DD2A9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0A8D511-B4C3-450B-A4E2-851270930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BC34C-CFD1-4E4E-AD75-DABD56D87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FB3AD-E7CD-4154-8630-655226B6E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5BE50F2-1FB6-4D14-A195-B5BA57141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78834F3-A7E6-4827-A40F-54D5C2EE1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80C838E-FBB0-48B3-A67F-09BBB59B3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F6C8C94-E89B-4C32-90FD-A5F47CEDB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72E5FF5-2C05-4F9F-AB45-572A26D3F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BFE15B7-1482-4126-9C3B-E7FB3B22F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E0E0F88-2D48-4867-971F-A543E8A5D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DC7CC42-FEFD-486F-8729-1F93FA0AB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F03AC4D-9268-4607-990B-198A9B77E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07FB7A8-4953-46C7-A780-86CD61B04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05D87-5F12-4C19-B9F2-F7A7A43A0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4766AFD-8BF0-4B7E-B77A-9501B1717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E8D8EE9-C001-4F4D-AF41-5E2C49BED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7A713C4-FC22-4237-B7E5-A234DA193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C202851-C24F-4CF1-A431-1EDD47C0F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0DE9F48-C3B0-4030-9FC9-BC3EF0A08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DA2914D-5C66-461A-BB01-DD58986BE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29C16A0-1822-4FFB-B3E0-85009E8B5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38D85BF-3BB6-4C6D-A069-DEF1C5BA3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AD31257-E018-4CAB-A74F-DBE7CC546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17A2AD7-AC38-421E-8EC0-FD78AD3AC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E1ED4-2A3E-44F2-A71B-A534B3994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2724055-E3E0-4283-8F53-2BCE7F999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A0B43F1-A6B6-47DE-856A-FACC140D3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FE0649F-69D8-4DCA-BA4C-C036075B5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8A28697-D2CB-4DDB-9784-5FEE23FBF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B8B11BA-67CA-4B5E-B98D-957598D91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7CC41E2-A5D2-498A-926F-777F19949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4346149-730B-4B7B-92C1-C74A5641C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130D40A-0410-44F7-9153-8171E39EA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9F78E21-7C7E-4707-911C-F8D9ED4A3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C941CB8-127A-4463-914D-FABCB3A08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0A4CA-3395-46DE-ABBE-130446DC4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4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C0B310A-7F44-4654-A89E-D8506C7CF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3997092-3B59-41ED-A5CC-D878E642C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A0D79C9-7F73-427A-A05E-C0599B253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20D7617-28B2-47C8-BCF0-9487AF1FB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3254056-62A3-42F0-B6E9-E7FF2EA41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2939FD8-8926-46AB-8CBB-95DFA7F11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D4A8303-5461-4382-AEC3-8E555309E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A6F0AB3-213C-4E74-AF8C-45AF49856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5125B6D-47DE-4C15-933B-8465258E6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470CDD1-0550-4D53-8E07-781DE4A01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6E6AB-9BA8-4267-B896-F22B70284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14FFABC-1180-44D5-B326-308CA8AE5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9E41F1A-DF01-4723-A127-3F01AFD9D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9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0D60B96-8A25-40F7-9E97-4CE6EBA9E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7A3CC6B-18DF-48E9-AE55-002366BE8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A33927E-8BD0-46F6-8505-39A519349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92EC01B-529B-4EC2-A235-42147AB14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135D5B5-2F53-45C1-8BDE-B615A013B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ECC33E6-9B22-49D5-9C5C-A77615B46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7893E7D-7E9A-4312-91CC-9B0D0FF6B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E71973A-4554-4EC7-BB7F-BD0C81112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04F440-0F00-4AF6-932B-97E812410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B26EE5A-4D21-43FD-9F32-C2971B333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48A3DEC-D4F9-470A-B29A-2C32A9834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46F98E2-6AD5-47D5-A19B-1FE564F24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9E54ABA-6625-4F5E-B596-1011ACEA1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4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848BDE7-F6BD-4003-B6A5-18C86BDC4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E04F7CD-355E-4C23-8C57-AC6AAEF27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E367172-5FB4-4DDE-A825-9F92F8E46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3018AF7-ADA9-4F32-8543-8E270DAA3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5E10291-2B67-4822-826E-849B5407A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45C09DD-4115-4446-9EE3-6151AEC10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05694E-87F4-4A83-A00E-1A4C79343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23772DB-2E96-44C7-8BE1-8081F460E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5D152F1-B4BB-4D88-93EE-C6EAA3610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5E4580D-F006-4DDC-8A06-6709DAC5A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18098A3-07AE-4234-8A3A-31501946B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5BB90CF-4E0F-4257-A1FB-4DCAD4F0B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888054-4280-4383-B913-76C7A16DB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899671-B49F-44E3-AD12-3F65756FA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FA27B9-3410-4B71-8E8E-4CA06EDEC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F98A9-044A-45E6-9F1A-65A060DE7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D7FFA3-6A34-427E-ACA7-718E7F467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C2AC5F-D89C-4140-9DF0-36D218CA1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375D8D-9608-4863-A5A0-AE98075B2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BF3982-C7C5-42FC-A2A2-7F861BF94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6C2243-FBBE-4875-9DA1-5B8DE2027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CC7C4B-5F6E-45F9-9574-E46F33760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8D24B7-4DFC-4673-B029-9C3AFA21E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B4FBAB-829F-42C8-80F1-543E295EB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150C89-0126-4BA2-88AD-B0E1EAED1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3A4454-6827-4CB7-90BD-3EFB51798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6CDCC-7B77-480A-8F3C-26725805D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25571C-6ED3-4682-8813-554449A95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8FF26B-700C-4E72-B1CE-19B4FE8A9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D81E35-523F-40A2-B054-5D2DD2396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638F19-938F-43CB-BC0B-9D4DF6BE0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8B11D5-DB6B-4F05-9197-BB234D568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CB92A4-46DD-4360-A0B2-DCB3DE79E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403C6E-AF9F-48B1-ACE5-FA468C17E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4A8203-6BF0-4B27-AA45-4F3A67C8F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45910D-0A25-4449-9576-0C6438A16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A3DB08-EFB8-478C-B79A-FDE0A415A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17B31-B8FD-4462-B7EE-12323F68B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3CF484-4883-4739-9057-966D4D546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3772BE-3D6E-4876-8028-5B3203131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04D9B1-BF7C-4B0C-96E9-415BE7D89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6D7900-3FC5-457B-8FC0-7277F816F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9F25A0-7006-4F76-9E78-0E197C89F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A3FDA6-19F6-4374-BF70-DDE02892E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09BDEA-0353-4A0E-9DAE-F27390226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1FA0D2-3770-4662-9E77-478D03D08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0CE6D6-0E3F-4463-AA72-F5AFAD566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57DA06-E5DC-40C5-BB73-A48528BCC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FED54-05A1-4F7A-A3F4-091908861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0F180B-1BBB-41C0-99C2-675F05FC9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449071-254E-40C0-952C-C3AF78D58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9C1055-93A8-4C57-9803-1C5A7ECAA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DB123E-A581-4B2B-A4C4-CA68AB99C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9E5434-D741-41CF-B3AC-69C44D3CB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E1C299-02FB-4917-AA73-C1761E90C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FA877A-3125-437E-9D2D-55DFE3158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B82B34-0AA9-4A15-955F-24FFCBB43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80B0B9-E6C9-40C9-B55C-321D2006D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82874E-5149-4075-A2D7-D0CCFEF19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D8C4E-7D2E-4344-BCE2-D7A2657C8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3F85D2-28A3-4A71-A7C2-900A0E16C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2098C1-7EED-431C-84AD-59A240E4E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3E6F73-AD27-427A-A8AB-DC940294B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A5D79E-1B15-4A14-8BD8-8FD74385E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F5B611-28EF-4592-9AEB-A7EC58FB6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3EC3D9-14D3-40F4-BDBD-AE300FB28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80395D-F9EC-4BB2-9C4B-C27A671E4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530C5D-C870-4E1F-81D0-747F349CD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7C18C8-6806-4F13-AAB4-EEAE1EA9C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B702F3-35A6-409F-AF45-F0F861728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27C27-69BF-443B-B456-93F3EE02F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25E84E-4566-4C61-9A66-A46A9DC15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7AE323-0ADB-4F8F-8FBB-9A50BF1E7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EAF503-38A1-4E9E-87E8-59561EB08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47BA58-57F1-48FF-A224-B22821FD8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605E0A-7C9E-4002-BF47-21F4916D6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9A386A-9BB7-4150-A0EA-740B32A8C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82B56F-3B9B-437A-A243-329BFDBC8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6E766F-FE4D-402E-A727-7BD879569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0E624D-D22D-4114-9A48-DD1718E2C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E00C8A-4F40-4CDF-8BD6-339D42703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2A0AC-4318-4940-96FD-226833845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B8EA32-31C0-4E9D-9C02-91861B10B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B1CA98-E760-4A66-A838-5D1E2FA63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CFB81C-D18D-453A-BFF2-F2C33D90C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18214A-EB3E-4101-9486-E9719D97E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5D3995-481E-4277-B059-84DC612D6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E42248-9539-4A14-8973-05088265D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438E0D-F0DE-4387-AB96-F080FD25E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3A5C91-2F42-4CC5-9D67-2853B86C3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5B8D89-A1FF-4292-A2F2-51CB4F2A2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CA53FA-5A81-4CDE-ABAC-2BA1CEF02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DE31F-D247-45C6-A378-D45F91757BC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FF701-2C4D-4188-8351-27192AA885D6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9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50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53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54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59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60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3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964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69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DEFAF-0974-453F-8298-82F18ADA8DB4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 type="ftr" idx="3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2A6CA-A783-4D9A-8E25-88B3B1247D11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 type="dt" idx="37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4"/>
          <p:cNvSpPr>
            <a:spLocks noGrp="1"/>
          </p:cNvSpPr>
          <p:nvPr>
            <p:ph type="ftr" idx="38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5"/>
          <p:cNvSpPr>
            <a:spLocks noGrp="1"/>
          </p:cNvSpPr>
          <p:nvPr>
            <p:ph type="sldNum" idx="39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26200-8F66-48C3-9680-449696D0F3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PlaceHolder 2"/>
          <p:cNvSpPr>
            <a:spLocks noGrp="1"/>
          </p:cNvSpPr>
          <p:nvPr>
            <p:ph type="dt" idx="40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3"/>
          <p:cNvSpPr>
            <a:spLocks noGrp="1"/>
          </p:cNvSpPr>
          <p:nvPr>
            <p:ph type="ftr" idx="41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PlaceHolder 4"/>
          <p:cNvSpPr>
            <a:spLocks noGrp="1"/>
          </p:cNvSpPr>
          <p:nvPr>
            <p:ph type="sldNum" idx="42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CA668-9700-4B1C-8B04-7328E6B754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1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182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4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1185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3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6" name="PlaceHolder 3"/>
          <p:cNvSpPr>
            <a:spLocks noGrp="1"/>
          </p:cNvSpPr>
          <p:nvPr>
            <p:ph type="dt" idx="43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PlaceHolder 4"/>
          <p:cNvSpPr>
            <a:spLocks noGrp="1"/>
          </p:cNvSpPr>
          <p:nvPr>
            <p:ph type="ftr" idx="44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PlaceHolder 5"/>
          <p:cNvSpPr>
            <a:spLocks noGrp="1"/>
          </p:cNvSpPr>
          <p:nvPr>
            <p:ph type="sldNum" idx="45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AB95F-3799-4137-A47B-C91E03B008E9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5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1236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1237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8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39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42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1243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4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6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7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8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49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50" name="PlaceHolder 2"/>
          <p:cNvSpPr>
            <a:spLocks noGrp="1"/>
          </p:cNvSpPr>
          <p:nvPr>
            <p:ph type="dt" idx="46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PlaceHolder 3"/>
          <p:cNvSpPr>
            <a:spLocks noGrp="1"/>
          </p:cNvSpPr>
          <p:nvPr>
            <p:ph type="ftr" idx="47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PlaceHolder 4"/>
          <p:cNvSpPr>
            <a:spLocks noGrp="1"/>
          </p:cNvSpPr>
          <p:nvPr>
            <p:ph type="sldNum" idx="48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7623B-87CD-44FE-824E-F5EFE85AEA18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9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290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8" name="PlaceHolder 1"/>
          <p:cNvSpPr>
            <a:spLocks noGrp="1"/>
          </p:cNvSpPr>
          <p:nvPr>
            <p:ph type="dt" idx="49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PlaceHolder 2"/>
          <p:cNvSpPr>
            <a:spLocks noGrp="1"/>
          </p:cNvSpPr>
          <p:nvPr>
            <p:ph type="ftr" idx="50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PlaceHolder 3"/>
          <p:cNvSpPr>
            <a:spLocks noGrp="1"/>
          </p:cNvSpPr>
          <p:nvPr>
            <p:ph type="sldNum" idx="51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1E4DD-607F-48DE-9AA9-F2FEC14055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02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39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1340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 type="dt" idx="52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PlaceHolder 3"/>
          <p:cNvSpPr>
            <a:spLocks noGrp="1"/>
          </p:cNvSpPr>
          <p:nvPr>
            <p:ph type="ftr" idx="53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PlaceHolder 4"/>
          <p:cNvSpPr>
            <a:spLocks noGrp="1"/>
          </p:cNvSpPr>
          <p:nvPr>
            <p:ph type="sldNum" idx="54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D657C-45C3-454D-AD91-9CC3C62341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6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387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9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6" name="PlaceHolder 3"/>
          <p:cNvSpPr>
            <a:spLocks noGrp="1"/>
          </p:cNvSpPr>
          <p:nvPr>
            <p:ph type="dt" idx="5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PlaceHolder 4"/>
          <p:cNvSpPr>
            <a:spLocks noGrp="1"/>
          </p:cNvSpPr>
          <p:nvPr>
            <p:ph type="ftr" idx="5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F1E3D-0715-4A91-8E68-DC730C58767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F1531-8D78-460A-9498-4867A58B0D3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5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436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3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44" name="PlaceHolder 2"/>
          <p:cNvSpPr>
            <a:spLocks noGrp="1"/>
          </p:cNvSpPr>
          <p:nvPr>
            <p:ph type="dt" idx="5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PlaceHolder 3"/>
          <p:cNvSpPr>
            <a:spLocks noGrp="1"/>
          </p:cNvSpPr>
          <p:nvPr>
            <p:ph type="ftr" idx="5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PlaceHolder 4"/>
          <p:cNvSpPr>
            <a:spLocks noGrp="1"/>
          </p:cNvSpPr>
          <p:nvPr>
            <p:ph type="sldNum" idx="6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B99DE-0C45-4316-8D64-C7E425600A3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3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484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85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1486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7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89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PlaceHolder 3"/>
          <p:cNvSpPr>
            <a:spLocks noGrp="1"/>
          </p:cNvSpPr>
          <p:nvPr>
            <p:ph type="dt" idx="6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PlaceHolder 4"/>
          <p:cNvSpPr>
            <a:spLocks noGrp="1"/>
          </p:cNvSpPr>
          <p:nvPr>
            <p:ph type="ftr" idx="6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PlaceHolder 5"/>
          <p:cNvSpPr>
            <a:spLocks noGrp="1"/>
          </p:cNvSpPr>
          <p:nvPr>
            <p:ph type="sldNum" idx="6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7D5BB-80ED-4DF8-BDDF-13B9EE512AE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30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1531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32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1533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4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5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36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1537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8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39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40" name="PlaceHolder 2"/>
          <p:cNvSpPr>
            <a:spLocks noGrp="1"/>
          </p:cNvSpPr>
          <p:nvPr>
            <p:ph type="dt" idx="6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1" name="PlaceHolder 3"/>
          <p:cNvSpPr>
            <a:spLocks noGrp="1"/>
          </p:cNvSpPr>
          <p:nvPr>
            <p:ph type="ftr" idx="6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PlaceHolder 4"/>
          <p:cNvSpPr>
            <a:spLocks noGrp="1"/>
          </p:cNvSpPr>
          <p:nvPr>
            <p:ph type="sldNum" idx="6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6893A-83EB-4346-A60E-9A466D6960E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0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1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2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14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33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0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1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8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11C2B-2DAF-4CC9-ADD8-B5433E6661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05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6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207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8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219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7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238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5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256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3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264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FF6D3-70D6-41E0-9345-B32EFF1085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8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309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310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3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324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dt" idx="13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71E21-2B01-47CF-85E1-D53AEF692C8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50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50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5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dt" idx="16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2F724-1685-47D9-B024-5E34D18FC907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1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692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93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694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97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98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699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04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705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6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7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08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709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2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713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6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717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20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 type="dt" idx="1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29DD5-7919-413D-B484-09A16D4D103B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5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776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777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84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90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791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4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795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8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799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2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803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6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807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0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7" name="PlaceHolder 1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 type="sldNum" idx="2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D6EFD-6F71-4981-81B5-5FEF8821FAE3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 type="dt" idx="25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 type="ftr" idx="26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5"/>
          <p:cNvSpPr>
            <a:spLocks noGrp="1"/>
          </p:cNvSpPr>
          <p:nvPr>
            <p:ph type="sldNum" idx="27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1240A-F71E-41FA-BDD0-518087E3835F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866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5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876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877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8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9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80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83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884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5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6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7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8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9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0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1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892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893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5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896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897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98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899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0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1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2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3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4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5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6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07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4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9" name=""/>
          <p:cNvSpPr/>
          <p:nvPr/>
        </p:nvSpPr>
        <p:spPr>
          <a:xfrm>
            <a:off x="1403280" y="476280"/>
            <a:ext cx="774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ahoma"/>
              </a:rPr>
              <a:t>Условия рынка совершенной конкуренц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0" name=""/>
          <p:cNvSpPr/>
          <p:nvPr/>
        </p:nvSpPr>
        <p:spPr>
          <a:xfrm>
            <a:off x="1258920" y="1916280"/>
            <a:ext cx="763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Все продавцы на рынке будут совершенно конкурентными есл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"/>
          <p:cNvSpPr/>
          <p:nvPr/>
        </p:nvSpPr>
        <p:spPr>
          <a:xfrm>
            <a:off x="179280" y="2924280"/>
            <a:ext cx="849636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Каждый из них мал относительно рынка в цел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Продукция является однородн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Покупатели хорошо информированы о ценах продавц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Продавцы действуют независимо друг от дру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Фирмы могут свободно входить в отрасль и выходить из не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5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5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5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8600"/>
                            </p:stCondLst>
                            <p:childTnLst>
                              <p:par>
                                <p:cTn id="1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" dur="80"/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15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" dur="80"/>
                                        <p:tgtEl>
                                          <p:spTgt spid="15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680"/>
                            </p:stCondLst>
                            <p:childTnLst>
                              <p:par>
                                <p:cTn id="1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15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" dur="80"/>
                                        <p:tgtEl>
                                          <p:spTgt spid="15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" dur="80"/>
                                        <p:tgtEl>
                                          <p:spTgt spid="15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0" name=""/>
          <p:cNvSpPr/>
          <p:nvPr/>
        </p:nvSpPr>
        <p:spPr>
          <a:xfrm flipV="1">
            <a:off x="1835280" y="620280"/>
            <a:ext cx="0" cy="273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"/>
          <p:cNvSpPr/>
          <p:nvPr/>
        </p:nvSpPr>
        <p:spPr>
          <a:xfrm>
            <a:off x="1835280" y="3357720"/>
            <a:ext cx="3168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2" name=""/>
          <p:cNvSpPr/>
          <p:nvPr/>
        </p:nvSpPr>
        <p:spPr>
          <a:xfrm>
            <a:off x="1835280" y="2421000"/>
            <a:ext cx="21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3" name=""/>
          <p:cNvSpPr/>
          <p:nvPr/>
        </p:nvSpPr>
        <p:spPr>
          <a:xfrm>
            <a:off x="1835280" y="1773360"/>
            <a:ext cx="2665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4" name=""/>
          <p:cNvSpPr/>
          <p:nvPr/>
        </p:nvSpPr>
        <p:spPr>
          <a:xfrm>
            <a:off x="3995640" y="1773360"/>
            <a:ext cx="0" cy="165564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5" name=""/>
          <p:cNvSpPr/>
          <p:nvPr/>
        </p:nvSpPr>
        <p:spPr>
          <a:xfrm>
            <a:off x="1835280" y="2708280"/>
            <a:ext cx="216036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6" name=""/>
          <p:cNvSpPr/>
          <p:nvPr/>
        </p:nvSpPr>
        <p:spPr>
          <a:xfrm flipV="1">
            <a:off x="-35640" y="-1180440"/>
            <a:ext cx="4752000" cy="3168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7" name=""/>
          <p:cNvSpPr/>
          <p:nvPr/>
        </p:nvSpPr>
        <p:spPr>
          <a:xfrm flipV="1">
            <a:off x="905400" y="-1971000"/>
            <a:ext cx="3521880" cy="4606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419" y="266"/>
                </a:moveTo>
                <a:arcTo wR="10800" hR="10800" stAng="-6164299" swAng="6164299"/>
                <a:lnTo>
                  <a:pt x="10800" y="10800"/>
                </a:lnTo>
                <a:close/>
              </a:path>
              <a:path fill="none" w="21600" h="21600">
                <a:moveTo>
                  <a:pt x="8419" y="266"/>
                </a:moveTo>
                <a:arcTo wR="10800" hR="10800" stAng="-6164299" swAng="6164299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8" name=""/>
          <p:cNvSpPr/>
          <p:nvPr/>
        </p:nvSpPr>
        <p:spPr>
          <a:xfrm flipV="1">
            <a:off x="1619640" y="-2115720"/>
            <a:ext cx="2447280" cy="503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9" name=""/>
          <p:cNvSpPr/>
          <p:nvPr/>
        </p:nvSpPr>
        <p:spPr>
          <a:xfrm>
            <a:off x="468360" y="3860640"/>
            <a:ext cx="799308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На рисунке цена превышает  величину средних совокупных издержек при объеме выпуска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Q*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Фирма получает прибыль, равную (Р-АТС), в расчете на единицу выпуска при объеме выпуска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Q*</a:t>
            </a: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 единиц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1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4150"/>
                            </p:stCondLst>
                            <p:childTnLst>
                              <p:par>
                                <p:cTn id="18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6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6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6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6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16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0" name=""/>
          <p:cNvSpPr/>
          <p:nvPr/>
        </p:nvSpPr>
        <p:spPr>
          <a:xfrm flipV="1">
            <a:off x="2268360" y="620280"/>
            <a:ext cx="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1" name=""/>
          <p:cNvSpPr/>
          <p:nvPr/>
        </p:nvSpPr>
        <p:spPr>
          <a:xfrm>
            <a:off x="2268360" y="321300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2" name=""/>
          <p:cNvSpPr/>
          <p:nvPr/>
        </p:nvSpPr>
        <p:spPr>
          <a:xfrm>
            <a:off x="2268360" y="1484280"/>
            <a:ext cx="266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3" name=""/>
          <p:cNvSpPr/>
          <p:nvPr/>
        </p:nvSpPr>
        <p:spPr>
          <a:xfrm>
            <a:off x="2268360" y="1125360"/>
            <a:ext cx="187200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4" name=""/>
          <p:cNvSpPr/>
          <p:nvPr/>
        </p:nvSpPr>
        <p:spPr>
          <a:xfrm>
            <a:off x="4140360" y="1125360"/>
            <a:ext cx="0" cy="208764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5" name=""/>
          <p:cNvSpPr/>
          <p:nvPr/>
        </p:nvSpPr>
        <p:spPr>
          <a:xfrm>
            <a:off x="2268360" y="2205000"/>
            <a:ext cx="187200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/>
          <p:nvPr/>
        </p:nvSpPr>
        <p:spPr>
          <a:xfrm flipV="1">
            <a:off x="2424600" y="-271080"/>
            <a:ext cx="2577240" cy="1349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5319" y="1494"/>
                </a:moveTo>
                <a:arcTo wR="10800" hR="10800" stAng="-7229958" swAng="7229958"/>
                <a:lnTo>
                  <a:pt x="10800" y="10800"/>
                </a:lnTo>
                <a:close/>
              </a:path>
              <a:path fill="none" w="21600" h="21600">
                <a:moveTo>
                  <a:pt x="5319" y="1494"/>
                </a:moveTo>
                <a:arcTo wR="10800" hR="10800" stAng="-7229958" swAng="7229958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"/>
          <p:cNvSpPr/>
          <p:nvPr/>
        </p:nvSpPr>
        <p:spPr>
          <a:xfrm flipV="1">
            <a:off x="1402200" y="-1394280"/>
            <a:ext cx="2882160" cy="3885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8" name=""/>
          <p:cNvSpPr/>
          <p:nvPr/>
        </p:nvSpPr>
        <p:spPr>
          <a:xfrm flipV="1" rot="882000">
            <a:off x="1036440" y="-1733760"/>
            <a:ext cx="4182120" cy="4035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320" y="102"/>
                </a:moveTo>
                <a:arcTo wR="10800" hR="10800" stAng="-5872635" swAng="5303232"/>
                <a:lnTo>
                  <a:pt x="10800" y="10800"/>
                </a:lnTo>
                <a:close/>
              </a:path>
              <a:path fill="none" w="21600" h="21600">
                <a:moveTo>
                  <a:pt x="9320" y="102"/>
                </a:moveTo>
                <a:arcTo wR="10800" hR="10800" stAng="-5872635" swAng="5303232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9" name=""/>
          <p:cNvSpPr/>
          <p:nvPr/>
        </p:nvSpPr>
        <p:spPr>
          <a:xfrm>
            <a:off x="468360" y="3716280"/>
            <a:ext cx="835164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На рисунке средние совокупные издержки выше цены при всех объемах выпуск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Здесь не существует способа получить положительную прибыл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6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6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6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1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"/>
          <p:cNvSpPr/>
          <p:nvPr/>
        </p:nvSpPr>
        <p:spPr>
          <a:xfrm>
            <a:off x="1042920" y="189000"/>
            <a:ext cx="763272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Краткосрочные кривые предложения фирмы –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показывает объем выпуска который будет предлагать фирмы при каждом значении цены чтобы максимизировать прибыль или минимизировать затра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6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6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1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1000"/>
                            </p:stCondLst>
                            <p:childTnLst>
                              <p:par>
                                <p:cTn id="208" nodeType="after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209" dur="500" fill="hold"/>
                                        <p:tgtEl>
                                          <p:spTgt spid="16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66ff"/>
                                      </p:to>
                                    </p:animClr>
                                    <p:animClr clrSpc="rgb">
                                      <p:cBhvr>
                                        <p:cTn id="210" dur="500" fill="hold"/>
                                        <p:tgtEl>
                                          <p:spTgt spid="16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ff"/>
                                      </p:to>
                                    </p:animClr>
                                    <p:set>
                                      <p:cBhvr>
                                        <p:cTn id="211" dur="500" fill="hold"/>
                                        <p:tgtEl>
                                          <p:spTgt spid="16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212" dur="500" fill="hold"/>
                                        <p:tgtEl>
                                          <p:spTgt spid="164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1" name=""/>
          <p:cNvSpPr/>
          <p:nvPr/>
        </p:nvSpPr>
        <p:spPr>
          <a:xfrm>
            <a:off x="900000" y="333360"/>
            <a:ext cx="79930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Фирма начнет производить по цене не ниже минимума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VC c P1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и будет продолжать увеличивать выпуск до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Q3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при Р3 минимизируя убытки, затем при росте цены  от Р3 до Р5 будет увеличивать выпуск от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Q3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до Р5, максимизируя прибыл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0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16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6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6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2" name=""/>
          <p:cNvSpPr/>
          <p:nvPr/>
        </p:nvSpPr>
        <p:spPr>
          <a:xfrm>
            <a:off x="1403280" y="333360"/>
            <a:ext cx="73454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Краткосрочная кривая предложения фирмы совпадает с ее кривой предельных издержек для цен, превышающих минимальный уровень средних переменных издержек (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AVC</a:t>
            </a: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). Если цена ниже минимального уровня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AVC</a:t>
            </a: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, которая называется краткосрочной ценой ликвидации, то фирма закроется и объем ее выпуска будет нулевы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0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1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20b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3" name=""/>
          <p:cNvSpPr/>
          <p:nvPr/>
        </p:nvSpPr>
        <p:spPr>
          <a:xfrm>
            <a:off x="611280" y="549360"/>
            <a:ext cx="79930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В долгосрочном периоде фирма, принимающая решение о функционировании, будет производить свой оптимальный положительный объем выпуска, такой, при котором цена равняется долгосрочным предельным издержкам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4" name=""/>
          <p:cNvSpPr txBox="1"/>
          <p:nvPr/>
        </p:nvSpPr>
        <p:spPr>
          <a:xfrm>
            <a:off x="3348000" y="3429000"/>
            <a:ext cx="43927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P=LMC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66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0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6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6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1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9450"/>
                            </p:stCondLst>
                            <p:childTnLst>
                              <p:par>
                                <p:cTn id="24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6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6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1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"/>
          <p:cNvSpPr/>
          <p:nvPr/>
        </p:nvSpPr>
        <p:spPr>
          <a:xfrm>
            <a:off x="900000" y="981000"/>
            <a:ext cx="77043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ahoma"/>
              </a:rPr>
              <a:t>Фирме следует осуществлять свою деятельность в долгосрочном периоде только в том случае,  если цена выше или равна долгосрочным средним издержка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6" name=""/>
          <p:cNvSpPr txBox="1"/>
          <p:nvPr/>
        </p:nvSpPr>
        <p:spPr>
          <a:xfrm>
            <a:off x="3851280" y="3716280"/>
            <a:ext cx="3662280" cy="1577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P&gt;LAC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47" name=""/>
          <p:cNvSpPr/>
          <p:nvPr/>
        </p:nvSpPr>
        <p:spPr>
          <a:xfrm>
            <a:off x="4643280" y="5013360"/>
            <a:ext cx="576360" cy="1443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0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6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6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6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1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6750"/>
                            </p:stCondLst>
                            <p:childTnLst>
                              <p:par>
                                <p:cTn id="26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2" dur="2000"/>
                                        <p:tgtEl>
                                          <p:spTgt spid="1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"/>
          <p:cNvSpPr/>
          <p:nvPr/>
        </p:nvSpPr>
        <p:spPr>
          <a:xfrm>
            <a:off x="468360" y="333360"/>
            <a:ext cx="828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Оптимальный объем совершенно конкурентной фирмы объема предлож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49" name=""/>
          <p:cNvGraphicFramePr/>
          <p:nvPr/>
        </p:nvGraphicFramePr>
        <p:xfrm>
          <a:off x="179280" y="1484280"/>
          <a:ext cx="8785440" cy="4533840"/>
        </p:xfrm>
        <a:graphic>
          <a:graphicData uri="http://schemas.openxmlformats.org/drawingml/2006/table">
            <a:tbl>
              <a:tblPr/>
              <a:tblGrid>
                <a:gridCol w="2376720"/>
                <a:gridCol w="2808000"/>
                <a:gridCol w="3600720"/>
              </a:tblGrid>
              <a:tr h="89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иод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дельные условия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верка прибылью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7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аткосрочны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брать объем выпуска при котором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=МС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изводить только в том случае если, 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&gt;AVC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кратить производство если, 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&lt;AVC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5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лгосрочный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брать объем выпуска при котором </a:t>
                      </a: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=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MC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изводить только в том случае если,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&gt;LAC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кратить производство если, 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&lt;LAC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50" name=""/>
          <p:cNvSpPr/>
          <p:nvPr/>
        </p:nvSpPr>
        <p:spPr>
          <a:xfrm>
            <a:off x="7236000" y="3068640"/>
            <a:ext cx="2156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1" name=""/>
          <p:cNvSpPr/>
          <p:nvPr/>
        </p:nvSpPr>
        <p:spPr>
          <a:xfrm>
            <a:off x="7164360" y="4653000"/>
            <a:ext cx="216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0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6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6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15250"/>
                            </p:stCondLst>
                            <p:childTnLst>
                              <p:par>
                                <p:cTn id="27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6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6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1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2" name=""/>
          <p:cNvSpPr/>
          <p:nvPr/>
        </p:nvSpPr>
        <p:spPr>
          <a:xfrm>
            <a:off x="684360" y="836640"/>
            <a:ext cx="8137440" cy="40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ahoma"/>
              </a:rPr>
              <a:t>Долгосрочная кривая предложения фирмы –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это кривая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MC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 расположенная выше долгосрочной цены безубыточности Ра, равной минимальному уровню долгосрочных средних издерже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 любой более высокой цене фирма имеет прибыл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 любой цене, которая ниже Ра, в долгосрочном периоде фирма будет терять деньг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0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6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6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500"/>
                                        <p:tgtEl>
                                          <p:spTgt spid="1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13550"/>
                            </p:stCondLst>
                            <p:childTnLst>
                              <p:par>
                                <p:cTn id="292" nodeType="after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93" dur="500" fill="hold"/>
                                        <p:tgtEl>
                                          <p:spTgt spid="16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31,-1,-1)"/>
                                      </p:to>
                                    </p:set>
                                    <p:set>
                                      <p:cBhvr>
                                        <p:cTn id="294" dur="500" fill="hold"/>
                                        <p:tgtEl>
                                          <p:spTgt spid="16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31,-1,-1)"/>
                                      </p:to>
                                    </p:set>
                                    <p:set>
                                      <p:cBhvr>
                                        <p:cTn id="295" dur="500" fill="hold"/>
                                        <p:tgtEl>
                                          <p:spTgt spid="16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"/>
          <p:cNvSpPr/>
          <p:nvPr/>
        </p:nvSpPr>
        <p:spPr>
          <a:xfrm>
            <a:off x="250920" y="333360"/>
            <a:ext cx="8604000" cy="32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3300"/>
                </a:solidFill>
                <a:latin typeface="Tahoma"/>
              </a:rPr>
              <a:t>Долгосрочная цена безубыточности фирмы</a:t>
            </a:r>
            <a:r>
              <a:rPr b="1" i="1" lang="ru-RU" sz="3200" spc="-1" strike="noStrike">
                <a:solidFill>
                  <a:srgbClr val="000000"/>
                </a:solidFill>
                <a:latin typeface="Tahoma"/>
              </a:rPr>
              <a:t> –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это наименьшая цена, при которой в долгосрочном периоде фирма может лишь возместить свои издерж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Эта величина представляет собой минимальные долгосрочные издержки фирмы и соответствует низшей точке на ее кривой </a:t>
            </a:r>
            <a:r>
              <a:rPr b="1" lang="en-US" sz="3200" spc="-1" strike="noStrike">
                <a:solidFill>
                  <a:srgbClr val="ff3300"/>
                </a:solidFill>
                <a:latin typeface="Tahoma"/>
              </a:rPr>
              <a:t>LAC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0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2" dur="1000"/>
                                        <p:tgtEl>
                                          <p:spTgt spid="1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1000"/>
                            </p:stCondLst>
                            <p:childTnLst>
                              <p:par>
                                <p:cTn id="304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305" dur="2000" fill="hold"/>
                                        <p:tgtEl>
                                          <p:spTgt spid="165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cc"/>
            </a:gs>
            <a:gs pos="100000">
              <a:srgbClr val="00e4a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"/>
          <p:cNvSpPr/>
          <p:nvPr/>
        </p:nvSpPr>
        <p:spPr>
          <a:xfrm>
            <a:off x="611280" y="692280"/>
            <a:ext cx="792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Предложение в условиях совершенной конкуренц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3" name=""/>
          <p:cNvSpPr/>
          <p:nvPr/>
        </p:nvSpPr>
        <p:spPr>
          <a:xfrm>
            <a:off x="3635280" y="2565360"/>
            <a:ext cx="4824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овершенно конкурентная фирма-это фирма, действующая в условиях совершенной конкуренц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5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5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5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5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15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2550"/>
                            </p:stCondLst>
                            <p:childTnLst>
                              <p:par>
                                <p:cTn id="34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6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5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"/>
          <p:cNvSpPr/>
          <p:nvPr/>
        </p:nvSpPr>
        <p:spPr>
          <a:xfrm>
            <a:off x="324000" y="333360"/>
            <a:ext cx="7561080" cy="443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Объем продаж совершенно-конкурентной фирмы составляет малую долю от общего предложения увеличение или уменьшение объема производства отдельной фирмой не повлияет на рыночную цену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таким образом, спрос на продукцию является </a:t>
            </a:r>
            <a:r>
              <a:rPr b="1" i="1" lang="en-US" sz="3200" spc="-1" strike="noStrike">
                <a:solidFill>
                  <a:srgbClr val="000000"/>
                </a:solidFill>
                <a:latin typeface="Tahoma"/>
              </a:rPr>
              <a:t>абсолютно эластичны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" dur="80"/>
                                        <p:tgtEl>
                                          <p:spTgt spid="15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125,-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69,-63,-9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" dur="80"/>
                                        <p:tgtEl>
                                          <p:spTgt spid="15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125,-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69,-63,-9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" dur="80"/>
                                        <p:tgtEl>
                                          <p:spTgt spid="15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8640"/>
                            </p:stCondLst>
                            <p:childTnLst>
                              <p:par>
                                <p:cTn id="51" nodeType="after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" dur="500" autoRev="1" fill="hold"/>
                                        <p:tgtEl>
                                          <p:spTgt spid="15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-1,0)"/>
                                      </p:to>
                                    </p:set>
                                    <p:set>
                                      <p:cBhvr>
                                        <p:cTn id="53" dur="500" autoRev="1" fill="hold"/>
                                        <p:tgtEl>
                                          <p:spTgt spid="15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-1,0)"/>
                                      </p:to>
                                    </p:set>
                                    <p:set>
                                      <p:cBhvr>
                                        <p:cTn id="54" dur="500" autoRev="1" fill="hold"/>
                                        <p:tgtEl>
                                          <p:spTgt spid="15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5" name=""/>
          <p:cNvSpPr/>
          <p:nvPr/>
        </p:nvSpPr>
        <p:spPr>
          <a:xfrm flipV="1">
            <a:off x="1403280" y="1989000"/>
            <a:ext cx="0" cy="2664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6" name=""/>
          <p:cNvSpPr/>
          <p:nvPr/>
        </p:nvSpPr>
        <p:spPr>
          <a:xfrm>
            <a:off x="1403280" y="4653000"/>
            <a:ext cx="2232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7" name=""/>
          <p:cNvSpPr/>
          <p:nvPr/>
        </p:nvSpPr>
        <p:spPr>
          <a:xfrm>
            <a:off x="1403280" y="3500280"/>
            <a:ext cx="1800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/>
          <p:nvPr/>
        </p:nvSpPr>
        <p:spPr>
          <a:xfrm flipV="1">
            <a:off x="5292720" y="1916280"/>
            <a:ext cx="0" cy="2808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"/>
          <p:cNvSpPr/>
          <p:nvPr/>
        </p:nvSpPr>
        <p:spPr>
          <a:xfrm>
            <a:off x="5292720" y="4724280"/>
            <a:ext cx="25192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0" name=""/>
          <p:cNvSpPr/>
          <p:nvPr/>
        </p:nvSpPr>
        <p:spPr>
          <a:xfrm>
            <a:off x="5292720" y="2924280"/>
            <a:ext cx="2087640" cy="144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"/>
          <p:cNvSpPr/>
          <p:nvPr/>
        </p:nvSpPr>
        <p:spPr>
          <a:xfrm>
            <a:off x="250920" y="476280"/>
            <a:ext cx="374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Кривая спроса совершенно-конкурентной фир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2" name=""/>
          <p:cNvSpPr/>
          <p:nvPr/>
        </p:nvSpPr>
        <p:spPr>
          <a:xfrm>
            <a:off x="4643280" y="189000"/>
            <a:ext cx="3600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Кривая спроса, с которой сталкивается несовершенный конкурен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3" name=""/>
          <p:cNvSpPr/>
          <p:nvPr/>
        </p:nvSpPr>
        <p:spPr>
          <a:xfrm>
            <a:off x="1332000" y="479736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Кол-во объема спро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"/>
          <p:cNvSpPr/>
          <p:nvPr/>
        </p:nvSpPr>
        <p:spPr>
          <a:xfrm>
            <a:off x="5292720" y="486900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Кол-во объема спро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5" name=""/>
          <p:cNvSpPr/>
          <p:nvPr/>
        </p:nvSpPr>
        <p:spPr>
          <a:xfrm>
            <a:off x="900000" y="206064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6" name=""/>
          <p:cNvSpPr/>
          <p:nvPr/>
        </p:nvSpPr>
        <p:spPr>
          <a:xfrm>
            <a:off x="4788000" y="1989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"/>
          <p:cNvSpPr/>
          <p:nvPr/>
        </p:nvSpPr>
        <p:spPr>
          <a:xfrm>
            <a:off x="2843280" y="3141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8" name=""/>
          <p:cNvSpPr/>
          <p:nvPr/>
        </p:nvSpPr>
        <p:spPr>
          <a:xfrm>
            <a:off x="6804000" y="357336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6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1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6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6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6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450"/>
                            </p:stCondLst>
                            <p:childTnLst>
                              <p:par>
                                <p:cTn id="65" nodeType="after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6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2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6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6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6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2dffd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"/>
          <p:cNvSpPr/>
          <p:nvPr/>
        </p:nvSpPr>
        <p:spPr>
          <a:xfrm>
            <a:off x="2050920" y="404640"/>
            <a:ext cx="6913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Так как цена совершенно конкурентной фирмы задана рынком и не зависит от объема продаж, т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"/>
          <p:cNvSpPr/>
          <p:nvPr/>
        </p:nvSpPr>
        <p:spPr>
          <a:xfrm>
            <a:off x="5219640" y="2637000"/>
            <a:ext cx="309744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ahoma"/>
              </a:rPr>
              <a:t>TR=PQ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ahoma"/>
              </a:rPr>
              <a:t>MR=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ahoma"/>
              </a:rPr>
              <a:t>AR=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5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5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000"/>
                            </p:stCondLst>
                            <p:childTnLst>
                              <p:par>
                                <p:cTn id="8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2" dur="80"/>
                                        <p:tgtEl>
                                          <p:spTgt spid="16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3" dur="80"/>
                                        <p:tgtEl>
                                          <p:spTgt spid="16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" dur="80"/>
                                        <p:tgtEl>
                                          <p:spTgt spid="16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560"/>
                            </p:stCondLst>
                            <p:childTnLst>
                              <p:par>
                                <p:cTn id="86" nodeType="after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87" dur="500" fill="hold"/>
                                        <p:tgtEl>
                                          <p:spTgt spid="15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88" dur="500" fill="hold"/>
                                        <p:tgtEl>
                                          <p:spTgt spid="15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89" dur="500" fill="hold"/>
                                        <p:tgtEl>
                                          <p:spTgt spid="159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90" dur="500" fill="hold"/>
                                        <p:tgtEl>
                                          <p:spTgt spid="15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2060"/>
                            </p:stCondLst>
                            <p:childTnLst>
                              <p:par>
                                <p:cTn id="92" nodeType="after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93" dur="500" fill="hold"/>
                                        <p:tgtEl>
                                          <p:spTgt spid="16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bf7ff"/>
                                      </p:to>
                                    </p:animClr>
                                    <p:animClr clrSpc="rgb">
                                      <p:cBhvr>
                                        <p:cTn id="94" dur="500" fill="hold"/>
                                        <p:tgtEl>
                                          <p:spTgt spid="16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bf7ff"/>
                                      </p:to>
                                    </p:animClr>
                                    <p:set>
                                      <p:cBhvr>
                                        <p:cTn id="95" dur="500" fill="hold"/>
                                        <p:tgtEl>
                                          <p:spTgt spid="16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96" dur="500" fill="hold"/>
                                        <p:tgtEl>
                                          <p:spTgt spid="160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"/>
          <p:cNvSpPr/>
          <p:nvPr/>
        </p:nvSpPr>
        <p:spPr>
          <a:xfrm>
            <a:off x="395280" y="692280"/>
            <a:ext cx="72723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ahoma"/>
              </a:rPr>
              <a:t>При производстве дополнительной единицы продукции производитель несет дополнительные издержки </a:t>
            </a:r>
            <a:r>
              <a:rPr b="1" i="1" lang="ru-RU" sz="3600" spc="-1" strike="noStrike">
                <a:solidFill>
                  <a:srgbClr val="ff0000"/>
                </a:solidFill>
                <a:latin typeface="Tahoma"/>
              </a:rPr>
              <a:t>МС</a:t>
            </a:r>
            <a:r>
              <a:rPr b="1" i="1" lang="ru-RU" sz="3600" spc="-1" strike="noStrike">
                <a:solidFill>
                  <a:srgbClr val="000000"/>
                </a:solidFill>
                <a:latin typeface="Tahoma"/>
              </a:rPr>
              <a:t>, но также получает дополнительный доход </a:t>
            </a:r>
            <a:r>
              <a:rPr b="1" i="1" lang="en-US" sz="3600" spc="-1" strike="noStrike">
                <a:solidFill>
                  <a:srgbClr val="ff0000"/>
                </a:solidFill>
                <a:latin typeface="Tahoma"/>
              </a:rPr>
              <a:t>MR</a:t>
            </a:r>
            <a:r>
              <a:rPr b="1" i="1" lang="ru-RU" sz="3600" spc="-1" strike="noStrike">
                <a:solidFill>
                  <a:srgbClr val="000000"/>
                </a:solidFill>
                <a:latin typeface="Tahoma"/>
              </a:rPr>
              <a:t>, равный </a:t>
            </a:r>
            <a:r>
              <a:rPr b="1" i="1" lang="en-US" sz="3600" spc="-1" strike="noStrike">
                <a:solidFill>
                  <a:srgbClr val="ff0000"/>
                </a:solidFill>
                <a:latin typeface="Tahoma"/>
              </a:rPr>
              <a:t>TR2 – TR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3" dur="80"/>
                                        <p:tgtEl>
                                          <p:spTgt spid="16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4" dur="80"/>
                                        <p:tgtEl>
                                          <p:spTgt spid="16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" dur="80"/>
                                        <p:tgtEl>
                                          <p:spTgt spid="16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560"/>
                            </p:stCondLst>
                            <p:childTnLst>
                              <p:par>
                                <p:cTn id="107" nodeType="afterEffect" fill="hold" presetClass="emph" presetID="3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hsl" dir="cw">
                                      <p:cBhvr>
                                        <p:cTn id="108" dur="500" fill="hold"/>
                                        <p:tgtEl>
                                          <p:spTgt spid="16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09" dur="500" fill="hold"/>
                                        <p:tgtEl>
                                          <p:spTgt spid="16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10" dur="500" fill="hold"/>
                                        <p:tgtEl>
                                          <p:spTgt spid="160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111" dur="500" fill="hold"/>
                                        <p:tgtEl>
                                          <p:spTgt spid="16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2" name=""/>
          <p:cNvSpPr/>
          <p:nvPr/>
        </p:nvSpPr>
        <p:spPr>
          <a:xfrm flipV="1">
            <a:off x="1258920" y="47592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"/>
          <p:cNvSpPr/>
          <p:nvPr/>
        </p:nvSpPr>
        <p:spPr>
          <a:xfrm>
            <a:off x="1258920" y="2781360"/>
            <a:ext cx="2521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4" name=""/>
          <p:cNvSpPr/>
          <p:nvPr/>
        </p:nvSpPr>
        <p:spPr>
          <a:xfrm>
            <a:off x="1258920" y="1628640"/>
            <a:ext cx="252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5" name=""/>
          <p:cNvSpPr/>
          <p:nvPr/>
        </p:nvSpPr>
        <p:spPr>
          <a:xfrm flipV="1">
            <a:off x="-252000" y="-1178640"/>
            <a:ext cx="4032000" cy="345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6" name=""/>
          <p:cNvSpPr/>
          <p:nvPr/>
        </p:nvSpPr>
        <p:spPr>
          <a:xfrm>
            <a:off x="3780000" y="54936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M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7" name=""/>
          <p:cNvSpPr/>
          <p:nvPr/>
        </p:nvSpPr>
        <p:spPr>
          <a:xfrm>
            <a:off x="3348000" y="1628640"/>
            <a:ext cx="0" cy="1152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8" name=""/>
          <p:cNvSpPr/>
          <p:nvPr/>
        </p:nvSpPr>
        <p:spPr>
          <a:xfrm>
            <a:off x="3635280" y="170028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" name=""/>
          <p:cNvSpPr/>
          <p:nvPr/>
        </p:nvSpPr>
        <p:spPr>
          <a:xfrm>
            <a:off x="3492360" y="2781360"/>
            <a:ext cx="57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Q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0" name=""/>
          <p:cNvSpPr/>
          <p:nvPr/>
        </p:nvSpPr>
        <p:spPr>
          <a:xfrm>
            <a:off x="826920" y="1341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1" name=""/>
          <p:cNvSpPr/>
          <p:nvPr/>
        </p:nvSpPr>
        <p:spPr>
          <a:xfrm>
            <a:off x="1403280" y="314172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Объем выпус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"/>
          <p:cNvSpPr/>
          <p:nvPr/>
        </p:nvSpPr>
        <p:spPr>
          <a:xfrm>
            <a:off x="4211640" y="3284640"/>
            <a:ext cx="4932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Правило максимизации прибыли: </a:t>
            </a:r>
            <a:r>
              <a:rPr b="1" i="1" lang="en-US" sz="2800" spc="-1" strike="noStrike">
                <a:solidFill>
                  <a:srgbClr val="ff0000"/>
                </a:solidFill>
                <a:latin typeface="Tahoma"/>
              </a:rPr>
              <a:t>Р=М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3" name=""/>
          <p:cNvSpPr/>
          <p:nvPr/>
        </p:nvSpPr>
        <p:spPr>
          <a:xfrm>
            <a:off x="4246560" y="4653000"/>
            <a:ext cx="4897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То количество продукции при котором обеспечивается это равенство будет оптимальны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16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16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16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8000"/>
                            </p:stCondLst>
                            <p:childTnLst>
                              <p:par>
                                <p:cTn id="12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4" dur="500"/>
                                        <p:tgtEl>
                                          <p:spTgt spid="1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4" name=""/>
          <p:cNvSpPr/>
          <p:nvPr/>
        </p:nvSpPr>
        <p:spPr>
          <a:xfrm>
            <a:off x="1692360" y="250920"/>
            <a:ext cx="6696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ahoma"/>
              </a:rPr>
              <a:t>Решение производить ли вообщ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"/>
          <p:cNvSpPr/>
          <p:nvPr/>
        </p:nvSpPr>
        <p:spPr>
          <a:xfrm>
            <a:off x="611280" y="2060640"/>
            <a:ext cx="4105080" cy="30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ahoma"/>
              </a:rPr>
              <a:t>P&gt;ATC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ahoma"/>
              </a:rPr>
              <a:t>AVC&lt;P&lt;ATC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ahoma"/>
              </a:rPr>
              <a:t>P&lt;AVC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"/>
          <p:cNvSpPr/>
          <p:nvPr/>
        </p:nvSpPr>
        <p:spPr>
          <a:xfrm>
            <a:off x="3059280" y="1989000"/>
            <a:ext cx="5327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Производитель получает прибы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7" name=""/>
          <p:cNvSpPr/>
          <p:nvPr/>
        </p:nvSpPr>
        <p:spPr>
          <a:xfrm>
            <a:off x="4716360" y="3213000"/>
            <a:ext cx="421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Продолжает производство с убытк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"/>
          <p:cNvSpPr/>
          <p:nvPr/>
        </p:nvSpPr>
        <p:spPr>
          <a:xfrm>
            <a:off x="3276720" y="4365720"/>
            <a:ext cx="50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Должен закрыть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1" dur="2000"/>
                                        <p:tgtEl>
                                          <p:spTgt spid="1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5" dur="500"/>
                                        <p:tgtEl>
                                          <p:spTgt spid="1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2500"/>
                            </p:stCondLst>
                            <p:childTnLst>
                              <p:par>
                                <p:cTn id="1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9" dur="80"/>
                                        <p:tgtEl>
                                          <p:spTgt spid="16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0" dur="80"/>
                                        <p:tgtEl>
                                          <p:spTgt spid="16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1" dur="80"/>
                                        <p:tgtEl>
                                          <p:spTgt spid="16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3660"/>
                            </p:stCondLst>
                            <p:childTnLst>
                              <p:par>
                                <p:cTn id="1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5" dur="80"/>
                                        <p:tgtEl>
                                          <p:spTgt spid="16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6" dur="80"/>
                                        <p:tgtEl>
                                          <p:spTgt spid="16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7" dur="80"/>
                                        <p:tgtEl>
                                          <p:spTgt spid="16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4900"/>
                            </p:stCondLst>
                            <p:childTnLst>
                              <p:par>
                                <p:cTn id="1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1" dur="80"/>
                                        <p:tgtEl>
                                          <p:spTgt spid="16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2" dur="80"/>
                                        <p:tgtEl>
                                          <p:spTgt spid="16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3" dur="80"/>
                                        <p:tgtEl>
                                          <p:spTgt spid="16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6009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9" name=""/>
          <p:cNvSpPr/>
          <p:nvPr/>
        </p:nvSpPr>
        <p:spPr>
          <a:xfrm>
            <a:off x="611280" y="476280"/>
            <a:ext cx="79930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Так как в краткосрочном периоде постоянные издержки не влияют ни на предельные издержки, ни на средние переменные издержки, то изменения в стоимости постоянных факторов не оказывают абсолютно никакого воздействия на объем предложения в краткосрочном период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0" dur="80"/>
                                        <p:tgtEl>
                                          <p:spTgt spid="1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1" dur="80"/>
                                        <p:tgtEl>
                                          <p:spTgt spid="1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2" dur="80"/>
                                        <p:tgtEl>
                                          <p:spTgt spid="1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9000"/>
                            </p:stCondLst>
                            <p:childTnLst>
                              <p:par>
                                <p:cTn id="164" nodeType="after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5" dur="1000" fill="hold"/>
                                        <p:tgtEl>
                                          <p:spTgt spid="1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53,11,34)"/>
                                      </p:to>
                                    </p:set>
                                    <p:set>
                                      <p:cBhvr>
                                        <p:cTn id="166" dur="1000" fill="hold"/>
                                        <p:tgtEl>
                                          <p:spTgt spid="1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53,11,34)"/>
                                      </p:to>
                                    </p:set>
                                    <p:set>
                                      <p:cBhvr>
                                        <p:cTn id="167" dur="1000" fill="hold"/>
                                        <p:tgtEl>
                                          <p:spTgt spid="1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7T13:30:06Z</dcterms:created>
  <dc:creator>1</dc:creator>
  <dc:description/>
  <dc:language>en-US</dc:language>
  <cp:lastModifiedBy>1</cp:lastModifiedBy>
  <dcterms:modified xsi:type="dcterms:W3CDTF">2009-11-18T16:58:08Z</dcterms:modified>
  <cp:revision>4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9</vt:r8>
  </property>
</Properties>
</file>