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9B59F-1107-4090-8D76-91E666F6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B8FC-35CD-40C9-80A8-AA2568C1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D960-D8EB-476D-A2FE-76DC7FA5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B4F4-9921-4FAF-82BB-FD5260C3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F9C4-868B-485A-AF29-03C060CE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BA62-9719-46E6-A3FD-64D53E07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781D-BCEF-4BD8-81F6-10F1D807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2AF7-4BED-4623-A232-C3BB71FE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B141-3878-4EB6-82FE-BD8875AA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D5D3-BCD2-4801-A6A1-4E784C4D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7568-87F9-43DB-B778-9A40963D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A2E3-61E3-40C5-872E-1153121E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922B-C8ED-478E-9C95-00D9C714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B4DA-F6FF-472F-8FF8-6F639D96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CDFA-4C1A-4F22-896B-503241FE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38F9-058C-4308-A992-FE60D53F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F4A0-3833-4EC0-9708-DFF5E900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A74BB-6990-4BAC-93FC-B15E4483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B6CCD-DD7A-4E57-A1BB-16EE88E4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C606E-1DA4-4582-B2A8-71A295DB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C783-E990-4542-B3A4-10CE2D88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004CC-3C7A-4DE5-83CC-DDFA2C0A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0B55-AD35-4663-AACB-B819F4B6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2BAFC-C019-4B47-A27C-B75F7DC0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369A-1370-4833-AB85-0FD3929A49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95B6-117F-4346-8E1B-DA547CB906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Book Antiqua"/>
              </a:rPr>
              <a:t>Издержки                   </a:t>
            </a:r>
            <a:r>
              <a:rPr b="0" lang="ru-RU" sz="5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5000" spc="-1" strike="noStrike">
                <a:solidFill>
                  <a:srgbClr val="ffffff"/>
                </a:solidFill>
                <a:latin typeface="Book Antiqua"/>
              </a:rPr>
              <a:t>производств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flipV="1">
            <a:off x="1332000" y="1052640"/>
            <a:ext cx="0" cy="41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5224320"/>
            <a:ext cx="684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19280" y="1557360"/>
            <a:ext cx="5418000" cy="3087720"/>
          </a:xfrm>
          <a:custGeom>
            <a:avLst/>
            <a:gdLst/>
            <a:ahLst/>
            <a:rect l="l" t="t" r="r" b="b"/>
            <a:pathLst>
              <a:path w="2767" h="1074">
                <a:moveTo>
                  <a:pt x="0" y="0"/>
                </a:moveTo>
                <a:cubicBezTo>
                  <a:pt x="495" y="416"/>
                  <a:pt x="990" y="832"/>
                  <a:pt x="1451" y="953"/>
                </a:cubicBezTo>
                <a:cubicBezTo>
                  <a:pt x="1912" y="1074"/>
                  <a:pt x="2339" y="900"/>
                  <a:pt x="2767" y="72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54360" y="2487600"/>
            <a:ext cx="3463920" cy="2435400"/>
          </a:xfrm>
          <a:custGeom>
            <a:avLst/>
            <a:gdLst/>
            <a:ahLst/>
            <a:rect l="l" t="t" r="r" b="b"/>
            <a:pathLst>
              <a:path w="1769" h="847">
                <a:moveTo>
                  <a:pt x="0" y="453"/>
                </a:moveTo>
                <a:cubicBezTo>
                  <a:pt x="351" y="650"/>
                  <a:pt x="703" y="847"/>
                  <a:pt x="998" y="771"/>
                </a:cubicBezTo>
                <a:cubicBezTo>
                  <a:pt x="1293" y="695"/>
                  <a:pt x="1531" y="347"/>
                  <a:pt x="17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40440" y="1835280"/>
            <a:ext cx="1154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05680" y="3530520"/>
            <a:ext cx="9763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0280" y="5356080"/>
            <a:ext cx="622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17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755640" y="1557360"/>
            <a:ext cx="1655640" cy="1663560"/>
            <a:chOff x="755640" y="1557360"/>
            <a:chExt cx="1655640" cy="1663560"/>
          </a:xfrm>
        </p:grpSpPr>
        <p:sp>
          <p:nvSpPr>
            <p:cNvPr id="192" name=""/>
            <p:cNvSpPr/>
            <p:nvPr/>
          </p:nvSpPr>
          <p:spPr>
            <a:xfrm flipV="1">
              <a:off x="755640" y="155736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5640" y="285264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35280" y="2852640"/>
              <a:ext cx="5760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79280" y="155736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635280" y="3068640"/>
            <a:ext cx="1655640" cy="1663560"/>
            <a:chOff x="3635280" y="3068640"/>
            <a:chExt cx="1655640" cy="1663560"/>
          </a:xfrm>
        </p:grpSpPr>
        <p:sp>
          <p:nvSpPr>
            <p:cNvPr id="197" name=""/>
            <p:cNvSpPr/>
            <p:nvPr/>
          </p:nvSpPr>
          <p:spPr>
            <a:xfrm flipV="1">
              <a:off x="3635280" y="306864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35280" y="436392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4920" y="4363920"/>
              <a:ext cx="5760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059280" y="3068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300720" y="4508640"/>
            <a:ext cx="1655640" cy="1663560"/>
            <a:chOff x="6300720" y="4508640"/>
            <a:chExt cx="1655640" cy="1663560"/>
          </a:xfrm>
        </p:grpSpPr>
        <p:sp>
          <p:nvSpPr>
            <p:cNvPr id="202" name=""/>
            <p:cNvSpPr/>
            <p:nvPr/>
          </p:nvSpPr>
          <p:spPr>
            <a:xfrm flipV="1">
              <a:off x="6300720" y="450864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00720" y="580392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80360" y="5803920"/>
              <a:ext cx="5760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724360" y="450864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35280" y="3716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940600">
            <a:off x="900000" y="1773000"/>
            <a:ext cx="419040" cy="1081080"/>
          </a:xfrm>
          <a:custGeom>
            <a:avLst/>
            <a:gdLst/>
            <a:ahLst/>
            <a:rect l="l" t="t" r="r" b="b"/>
            <a:pathLst>
              <a:path w="264" h="681">
                <a:moveTo>
                  <a:pt x="38" y="0"/>
                </a:moveTo>
                <a:cubicBezTo>
                  <a:pt x="19" y="193"/>
                  <a:pt x="0" y="386"/>
                  <a:pt x="38" y="499"/>
                </a:cubicBezTo>
                <a:cubicBezTo>
                  <a:pt x="76" y="612"/>
                  <a:pt x="170" y="646"/>
                  <a:pt x="264" y="68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43640" y="4653000"/>
            <a:ext cx="1511280" cy="901800"/>
          </a:xfrm>
          <a:custGeom>
            <a:avLst/>
            <a:gdLst/>
            <a:ahLst/>
            <a:rect l="l" t="t" r="r" b="b"/>
            <a:pathLst>
              <a:path w="952" h="568">
                <a:moveTo>
                  <a:pt x="0" y="136"/>
                </a:moveTo>
                <a:cubicBezTo>
                  <a:pt x="147" y="352"/>
                  <a:pt x="294" y="568"/>
                  <a:pt x="453" y="545"/>
                </a:cubicBezTo>
                <a:cubicBezTo>
                  <a:pt x="612" y="522"/>
                  <a:pt x="782" y="261"/>
                  <a:pt x="9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24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328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4836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8000" y="22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37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48360" y="522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мые вопро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) Понятие и классификация издерж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) Издержки производства в краткосрочном пери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) Издержки производства в долгосрочном пери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9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9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9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9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-96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стоянные издерж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- это такие издержки, величина которых не изменяется в зависимости от изменения объёма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 постоянным издержкам относят затраты на оплату труда управленческого персонала, рентные платежи, страховые взносы, отчисления на амортизацию зданий и обору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еменные издерж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V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- это издержки, величина которых изменяется в зависимости от изменения объёма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 ним относят затраты на оплату труда работников, приобретение сырья, топлива, вспомогательных материалов, оплата транспортных услуг, соответствующие социальные отчисления и т.п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flipV="1">
            <a:off x="1332000" y="83664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516640"/>
            <a:ext cx="611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1052640"/>
            <a:ext cx="7056360" cy="2808000"/>
          </a:xfrm>
          <a:custGeom>
            <a:avLst/>
            <a:gdLst/>
            <a:ahLst/>
            <a:rect l="l" t="t" r="r" b="b"/>
            <a:pathLst>
              <a:path w="4445" h="1769">
                <a:moveTo>
                  <a:pt x="0" y="1769"/>
                </a:moveTo>
                <a:cubicBezTo>
                  <a:pt x="227" y="1546"/>
                  <a:pt x="454" y="1323"/>
                  <a:pt x="907" y="1134"/>
                </a:cubicBezTo>
                <a:cubicBezTo>
                  <a:pt x="1360" y="945"/>
                  <a:pt x="2222" y="779"/>
                  <a:pt x="2721" y="635"/>
                </a:cubicBezTo>
                <a:cubicBezTo>
                  <a:pt x="3220" y="491"/>
                  <a:pt x="3614" y="378"/>
                  <a:pt x="3901" y="272"/>
                </a:cubicBezTo>
                <a:cubicBezTo>
                  <a:pt x="4188" y="166"/>
                  <a:pt x="4316" y="83"/>
                  <a:pt x="4445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2637000"/>
            <a:ext cx="7056360" cy="2808000"/>
          </a:xfrm>
          <a:custGeom>
            <a:avLst/>
            <a:gdLst/>
            <a:ahLst/>
            <a:rect l="l" t="t" r="r" b="b"/>
            <a:pathLst>
              <a:path w="4445" h="1769">
                <a:moveTo>
                  <a:pt x="0" y="1769"/>
                </a:moveTo>
                <a:cubicBezTo>
                  <a:pt x="227" y="1546"/>
                  <a:pt x="454" y="1323"/>
                  <a:pt x="907" y="1134"/>
                </a:cubicBezTo>
                <a:cubicBezTo>
                  <a:pt x="1360" y="945"/>
                  <a:pt x="2222" y="779"/>
                  <a:pt x="2721" y="635"/>
                </a:cubicBezTo>
                <a:cubicBezTo>
                  <a:pt x="3220" y="491"/>
                  <a:pt x="3614" y="378"/>
                  <a:pt x="3901" y="272"/>
                </a:cubicBezTo>
                <a:cubicBezTo>
                  <a:pt x="4188" y="166"/>
                  <a:pt x="4316" y="83"/>
                  <a:pt x="4445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3860640"/>
            <a:ext cx="66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90792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1052640"/>
            <a:ext cx="8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2565360"/>
            <a:ext cx="8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4149720"/>
            <a:ext cx="8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566100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177336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314172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 rot="7594800">
            <a:off x="6227280" y="40766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40766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45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C = FC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,      AVC = VC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TC = TC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редние издерж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03280" y="2421000"/>
                <a:ext cx="634536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едельные издерж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-892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835280" y="980640"/>
            <a:ext cx="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6200" y="5589720"/>
            <a:ext cx="635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1484280"/>
            <a:ext cx="3619800" cy="3106800"/>
          </a:xfrm>
          <a:custGeom>
            <a:avLst/>
            <a:gdLst/>
            <a:ahLst/>
            <a:rect l="l" t="t" r="r" b="b"/>
            <a:pathLst>
              <a:path w="1497" h="1156">
                <a:moveTo>
                  <a:pt x="0" y="680"/>
                </a:moveTo>
                <a:cubicBezTo>
                  <a:pt x="170" y="918"/>
                  <a:pt x="340" y="1156"/>
                  <a:pt x="590" y="1043"/>
                </a:cubicBezTo>
                <a:cubicBezTo>
                  <a:pt x="840" y="930"/>
                  <a:pt x="1168" y="465"/>
                  <a:pt x="1497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666880"/>
            <a:ext cx="3946320" cy="1441440"/>
          </a:xfrm>
          <a:custGeom>
            <a:avLst/>
            <a:gdLst/>
            <a:ahLst/>
            <a:rect l="l" t="t" r="r" b="b"/>
            <a:pathLst>
              <a:path w="1633" h="537">
                <a:moveTo>
                  <a:pt x="0" y="227"/>
                </a:moveTo>
                <a:cubicBezTo>
                  <a:pt x="249" y="382"/>
                  <a:pt x="499" y="537"/>
                  <a:pt x="771" y="499"/>
                </a:cubicBezTo>
                <a:cubicBezTo>
                  <a:pt x="1043" y="461"/>
                  <a:pt x="1489" y="83"/>
                  <a:pt x="1633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0640" y="1569960"/>
            <a:ext cx="3727800" cy="1727280"/>
          </a:xfrm>
          <a:custGeom>
            <a:avLst/>
            <a:gdLst/>
            <a:ahLst/>
            <a:rect l="l" t="t" r="r" b="b"/>
            <a:pathLst>
              <a:path w="1542" h="643">
                <a:moveTo>
                  <a:pt x="0" y="0"/>
                </a:moveTo>
                <a:cubicBezTo>
                  <a:pt x="257" y="268"/>
                  <a:pt x="514" y="537"/>
                  <a:pt x="771" y="590"/>
                </a:cubicBezTo>
                <a:cubicBezTo>
                  <a:pt x="1028" y="643"/>
                  <a:pt x="1285" y="480"/>
                  <a:pt x="1542" y="31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6240" y="400680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815840" y="4006800"/>
            <a:ext cx="2300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73600" y="3152880"/>
            <a:ext cx="0" cy="2436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815840" y="31528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41840" y="2178000"/>
            <a:ext cx="0" cy="3411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815840" y="2178000"/>
            <a:ext cx="372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61080" y="1081080"/>
            <a:ext cx="9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79960" y="193500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79960" y="2787480"/>
            <a:ext cx="10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3762360"/>
            <a:ext cx="10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55600" y="1935000"/>
            <a:ext cx="7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7600" y="8366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5734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5445000"/>
            <a:ext cx="7923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157720"/>
            <a:ext cx="93672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0480" y="3141720"/>
            <a:ext cx="5189400" cy="2359080"/>
          </a:xfrm>
          <a:custGeom>
            <a:avLst/>
            <a:gdLst/>
            <a:ahLst/>
            <a:rect l="l" t="t" r="r" b="b"/>
            <a:pathLst>
              <a:path w="1769" h="907">
                <a:moveTo>
                  <a:pt x="0" y="0"/>
                </a:moveTo>
                <a:cubicBezTo>
                  <a:pt x="136" y="120"/>
                  <a:pt x="273" y="241"/>
                  <a:pt x="454" y="362"/>
                </a:cubicBezTo>
                <a:cubicBezTo>
                  <a:pt x="635" y="483"/>
                  <a:pt x="870" y="634"/>
                  <a:pt x="1089" y="725"/>
                </a:cubicBezTo>
                <a:cubicBezTo>
                  <a:pt x="1308" y="816"/>
                  <a:pt x="1538" y="861"/>
                  <a:pt x="1769" y="90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4724280"/>
            <a:ext cx="10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намика издержек в краткосрочном пери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     FC   VC   TC   AFC   AVC   ATC    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     10     -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       -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          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           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            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            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            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             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78136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628640"/>
            <a:ext cx="7308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628640"/>
            <a:ext cx="83534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2205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748720" y="1700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3357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789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486900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44500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092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8764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1700280"/>
            <a:ext cx="7164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1700280"/>
            <a:ext cx="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99640" y="-1539720"/>
            <a:ext cx="82184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187280" y="1628640"/>
            <a:ext cx="0" cy="388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5516640"/>
            <a:ext cx="647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39920" y="2577960"/>
            <a:ext cx="5629320" cy="2662200"/>
          </a:xfrm>
          <a:custGeom>
            <a:avLst/>
            <a:gdLst/>
            <a:ahLst/>
            <a:rect l="l" t="t" r="r" b="b"/>
            <a:pathLst>
              <a:path w="3312" h="1398">
                <a:moveTo>
                  <a:pt x="0" y="0"/>
                </a:moveTo>
                <a:cubicBezTo>
                  <a:pt x="540" y="525"/>
                  <a:pt x="1081" y="1050"/>
                  <a:pt x="1633" y="1224"/>
                </a:cubicBezTo>
                <a:cubicBezTo>
                  <a:pt x="2185" y="1398"/>
                  <a:pt x="2748" y="1220"/>
                  <a:pt x="3312" y="104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2492280"/>
            <a:ext cx="1311120" cy="808200"/>
          </a:xfrm>
          <a:custGeom>
            <a:avLst/>
            <a:gdLst/>
            <a:ahLst/>
            <a:rect l="l" t="t" r="r" b="b"/>
            <a:pathLst>
              <a:path w="771" h="424">
                <a:moveTo>
                  <a:pt x="0" y="0"/>
                </a:moveTo>
                <a:cubicBezTo>
                  <a:pt x="49" y="197"/>
                  <a:pt x="98" y="394"/>
                  <a:pt x="226" y="409"/>
                </a:cubicBezTo>
                <a:cubicBezTo>
                  <a:pt x="354" y="424"/>
                  <a:pt x="562" y="257"/>
                  <a:pt x="771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2838600"/>
            <a:ext cx="1376280" cy="1814400"/>
          </a:xfrm>
          <a:custGeom>
            <a:avLst/>
            <a:gdLst/>
            <a:ahLst/>
            <a:rect l="l" t="t" r="r" b="b"/>
            <a:pathLst>
              <a:path w="810" h="953">
                <a:moveTo>
                  <a:pt x="38" y="0"/>
                </a:moveTo>
                <a:cubicBezTo>
                  <a:pt x="19" y="431"/>
                  <a:pt x="0" y="863"/>
                  <a:pt x="129" y="908"/>
                </a:cubicBezTo>
                <a:cubicBezTo>
                  <a:pt x="258" y="953"/>
                  <a:pt x="534" y="613"/>
                  <a:pt x="810" y="2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41800" y="3529080"/>
            <a:ext cx="1617840" cy="1322280"/>
          </a:xfrm>
          <a:custGeom>
            <a:avLst/>
            <a:gdLst/>
            <a:ahLst/>
            <a:rect l="l" t="t" r="r" b="b"/>
            <a:pathLst>
              <a:path w="952" h="695">
                <a:moveTo>
                  <a:pt x="0" y="91"/>
                </a:moveTo>
                <a:cubicBezTo>
                  <a:pt x="260" y="393"/>
                  <a:pt x="521" y="695"/>
                  <a:pt x="680" y="680"/>
                </a:cubicBezTo>
                <a:cubicBezTo>
                  <a:pt x="839" y="665"/>
                  <a:pt x="895" y="332"/>
                  <a:pt x="9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37400" y="482616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19120" y="206064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70320" y="292572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32702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0-03-14T12:12:28Z</dcterms:modified>
  <cp:revision>11</cp:revision>
  <dc:subject/>
  <dc:title>PowerPoint Presentation</dc:title>
</cp:coreProperties>
</file>