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0E0-3E3F-45B9-9784-36E5B560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29E-66A0-451E-AD0B-CBBECBC6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97A-29D4-4BAC-874C-6DF888F6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E07-B9F5-4EAC-A85E-BD5C2103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D98D-9843-4195-9403-BFCB4368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5BB0-7115-4E4F-AA8B-5034DD07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BFF4-9383-4E75-8C33-7E3893DE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4C1A-2956-475F-B42F-E2A117CE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7F28-DFE0-429E-A0A8-39D5C553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03F2-D08B-41CE-B9F0-68AE5E8A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0423-0806-49A1-B7BC-B0A9AF69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182-B8D4-4A2C-A1AD-F6D69611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28A8-B480-4AC1-AD92-3C9DB2E8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9FCA-D695-4C95-9C21-2BEE657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D9E8-89A5-4EA8-A33B-29DB9326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1A68-956F-4FD0-94A4-1A9C6A99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2E13-89D2-4DEB-B311-2E1345EA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340-EC81-4F36-90AE-DCF39445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C33-3343-4857-8D83-FC4B2B0E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367-9B6C-4356-B88A-350A7739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FCC-C934-44E1-893B-76FB54EC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453-1DDA-451D-9DEF-63358EAB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C3B-4984-4FD3-BF02-3491E015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C2B-C681-4B58-82A2-5BB002F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8DEC-8933-424A-B008-3E1B21D2B34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B30E-A439-4181-A658-0577AC9F79F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3080" y="-73080"/>
            <a:ext cx="9272520" cy="4273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71680" y="5000400"/>
            <a:ext cx="77832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Comic Sans MS"/>
              </a:rPr>
              <a:t>Выполнила: Кочутова Альб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512640" y="378000"/>
            <a:ext cx="8502840" cy="263988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4" descr="clip_image002.gif"/>
          <p:cNvPicPr/>
          <p:nvPr/>
        </p:nvPicPr>
        <p:blipFill>
          <a:blip r:embed="rId2"/>
          <a:stretch/>
        </p:blipFill>
        <p:spPr>
          <a:xfrm>
            <a:off x="2714760" y="3500280"/>
            <a:ext cx="35719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396720" y="328680"/>
            <a:ext cx="8948880" cy="3004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85920" y="2928600"/>
            <a:ext cx="640080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В экономической науке выделяют четыре группы факторов производства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родные ресурс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ловеческие ресурс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приниматель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175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75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675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750"/>
                            </p:stCondLst>
                            <p:childTnLst>
                              <p:par>
                                <p:cTn id="61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14360" y="944640"/>
            <a:ext cx="8516880" cy="2408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357200" y="3714480"/>
            <a:ext cx="64008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80"/>
                </a:solidFill>
                <a:latin typeface="Times New Roman"/>
              </a:rPr>
              <a:t>Расходы, которые несут фирмы при приобретении ресурсов, выступают в общем виде как доходы их владельцев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на рынке ресурсов </a:t>
            </a:r>
            <a:r>
              <a:rPr b="1" lang="ru-RU" sz="2600" spc="-1" strike="noStrike" u="sng">
                <a:solidFill>
                  <a:srgbClr val="0000cc"/>
                </a:solidFill>
                <a:uFillTx/>
                <a:latin typeface="Times New Roman"/>
              </a:rPr>
              <a:t>фирмы выступают покупателями</a:t>
            </a:r>
            <a:r>
              <a:rPr b="1" lang="ru-RU" sz="2600" spc="-1" strike="noStrike">
                <a:solidFill>
                  <a:srgbClr val="0000cc"/>
                </a:solidFill>
                <a:latin typeface="Times New Roman"/>
              </a:rPr>
              <a:t>, а </a:t>
            </a:r>
            <a:r>
              <a:rPr b="1" lang="ru-RU" sz="2600" spc="-1" strike="noStrike" u="sng">
                <a:solidFill>
                  <a:srgbClr val="0000cc"/>
                </a:solidFill>
                <a:uFillTx/>
                <a:latin typeface="Times New Roman"/>
              </a:rPr>
              <a:t>домашние хозяйства - продавц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208080" y="133200"/>
            <a:ext cx="8869320" cy="3232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240" y="3332160"/>
            <a:ext cx="66294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Еще одной особенностью спроса на факторы производства является то, что их </a:t>
            </a:r>
            <a:r>
              <a:rPr b="1" lang="ru-RU" sz="2400" spc="-1" strike="noStrike" u="sng">
                <a:solidFill>
                  <a:srgbClr val="000066"/>
                </a:solidFill>
                <a:uFillTx/>
                <a:latin typeface="Comic Sans MS"/>
              </a:rPr>
              <a:t>потребление взаимосвязано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. Они не используются по отдельности и не могут функционировать изолированно друг от друг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3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536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6840" y="1600200"/>
            <a:ext cx="30430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Производственная функция (</a:t>
            </a:r>
            <a:r>
              <a:rPr b="1" i="1" lang="en-US" sz="2000" spc="-1" strike="noStrike">
                <a:solidFill>
                  <a:srgbClr val="0000cc"/>
                </a:solidFill>
                <a:latin typeface="Book Antiqua"/>
              </a:rPr>
              <a:t>Y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) - это техническое соотношение, отражающее взаимосвязь между совокупными затратами факторов производства (а</a:t>
            </a:r>
            <a:r>
              <a:rPr b="1" i="1" lang="ru-RU" sz="20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, а</a:t>
            </a:r>
            <a:r>
              <a:rPr b="1" i="1" lang="ru-RU" sz="20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cc"/>
                </a:solidFill>
                <a:latin typeface="Book Antiqua"/>
              </a:rPr>
              <a:t>a</a:t>
            </a:r>
            <a:r>
              <a:rPr b="1" i="1" lang="en-US" sz="2000" spc="-1" strike="noStrike" baseline="-25000">
                <a:solidFill>
                  <a:srgbClr val="0000cc"/>
                </a:solidFill>
                <a:latin typeface="Book Antiqua"/>
              </a:rPr>
              <a:t>n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) максимальным выпуском продукци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786120" y="1600200"/>
          <a:ext cx="4900680" cy="3479760"/>
        </p:xfrm>
        <a:graphic>
          <a:graphicData uri="http://schemas.openxmlformats.org/drawingml/2006/table">
            <a:tbl>
              <a:tblPr/>
              <a:tblGrid>
                <a:gridCol w="1285920"/>
                <a:gridCol w="928800"/>
                <a:gridCol w="928440"/>
                <a:gridCol w="928800"/>
                <a:gridCol w="828720"/>
              </a:tblGrid>
              <a:tr h="506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Земля (кол-во единиц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руд (количество единиц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0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2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4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07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4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7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0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7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1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4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4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4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8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3" descr=""/>
          <p:cNvPicPr/>
          <p:nvPr/>
        </p:nvPicPr>
        <p:blipFill>
          <a:blip r:embed="rId1"/>
          <a:stretch/>
        </p:blipFill>
        <p:spPr>
          <a:xfrm>
            <a:off x="268200" y="146160"/>
            <a:ext cx="8479080" cy="1963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713880" y="2214720"/>
            <a:ext cx="3357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8000"/>
                </a:solidFill>
                <a:latin typeface="Times New Roman"/>
              </a:rPr>
              <a:t>Условием минимизации общих затрат фирмы при заданном объеме производства и неизменных ценах на ресурсы является равенство предельных производительностей всех используемых ресурсов, приходящихся на одну денежную единицу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357440" y="2143080"/>
            <a:ext cx="432900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M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/ 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= M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 b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/ 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 b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= ...= M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z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/ 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 z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где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M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… M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 - предельные продукты всех используемых ресурсов от а до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 …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1" lang="en-US" sz="2200" spc="-1" strike="noStrike" baseline="-25000">
                <a:solidFill>
                  <a:srgbClr val="ffff00"/>
                </a:solidFill>
                <a:latin typeface="Comic Sans MS"/>
              </a:rPr>
              <a:t> z</a:t>
            </a: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 - цены на эти ресурсы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91960" y="23760"/>
            <a:ext cx="8413920" cy="1920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2285640"/>
            <a:ext cx="4038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В условиях совершенной конкуренции на рынках готовой продукции предельная доходность ресурса будет рассчитываться по формуле: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MPR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 =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MP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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MR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где </a:t>
            </a: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MP</a:t>
            </a: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 - предельный продукт фактора производства, </a:t>
            </a:r>
            <a:r>
              <a:rPr b="1" lang="en-US" sz="1700" spc="-1" strike="noStrike">
                <a:solidFill>
                  <a:srgbClr val="ff0000"/>
                </a:solidFill>
                <a:latin typeface="Comic Sans MS"/>
              </a:rPr>
              <a:t>MR</a:t>
            </a:r>
            <a:r>
              <a:rPr b="1" lang="ru-RU" sz="1700" spc="-1" strike="noStrike">
                <a:solidFill>
                  <a:srgbClr val="ff0000"/>
                </a:solidFill>
                <a:latin typeface="Comic Sans MS"/>
              </a:rPr>
              <a:t> - предельный доход от продажи дополнительной единицы продукци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2214360"/>
            <a:ext cx="403848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81680" indent="-36144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В данном случае предельная выручка (то есть выручка от продажи дополнительной единицы продукта) будет равна рыночной цене единицы продукта, то есть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MR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P</a:t>
            </a:r>
            <a:r>
              <a:rPr b="1" i="1" lang="ru-RU" sz="2800" spc="-1" strike="noStrike" baseline="-25000">
                <a:solidFill>
                  <a:srgbClr val="ffff00"/>
                </a:solidFill>
                <a:latin typeface="Times New Roman"/>
              </a:rPr>
              <a:t>х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8" nodeType="after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3" descr=""/>
          <p:cNvPicPr/>
          <p:nvPr/>
        </p:nvPicPr>
        <p:blipFill>
          <a:blip r:embed="rId1"/>
          <a:stretch/>
        </p:blipFill>
        <p:spPr>
          <a:xfrm>
            <a:off x="743040" y="208080"/>
            <a:ext cx="8327880" cy="352260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7" descr="clip_image002.gif"/>
          <p:cNvPicPr/>
          <p:nvPr/>
        </p:nvPicPr>
        <p:blipFill>
          <a:blip r:embed="rId2"/>
          <a:stretch/>
        </p:blipFill>
        <p:spPr>
          <a:xfrm>
            <a:off x="5143680" y="3786120"/>
            <a:ext cx="382716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6" descr="clip_image002.gif"/>
          <p:cNvPicPr/>
          <p:nvPr/>
        </p:nvPicPr>
        <p:blipFill>
          <a:blip r:embed="rId3"/>
          <a:stretch/>
        </p:blipFill>
        <p:spPr>
          <a:xfrm>
            <a:off x="365040" y="3852720"/>
            <a:ext cx="354816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210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0"/>
                            </p:stCondLst>
                            <p:childTnLst>
                              <p:par>
                                <p:cTn id="217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69800" y="536400"/>
            <a:ext cx="8399520" cy="321804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4" descr="clip_image002.gif"/>
          <p:cNvPicPr/>
          <p:nvPr/>
        </p:nvPicPr>
        <p:blipFill>
          <a:blip r:embed="rId2"/>
          <a:stretch/>
        </p:blipFill>
        <p:spPr>
          <a:xfrm>
            <a:off x="1143000" y="4000680"/>
            <a:ext cx="3417840" cy="264312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5" descr="clip_image002.gif"/>
          <p:cNvPicPr/>
          <p:nvPr/>
        </p:nvPicPr>
        <p:blipFill>
          <a:blip r:embed="rId3"/>
          <a:stretch/>
        </p:blipFill>
        <p:spPr>
          <a:xfrm>
            <a:off x="5500800" y="3786120"/>
            <a:ext cx="3301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1:43:14Z</dcterms:created>
  <dc:creator>Alba</dc:creator>
  <dc:description/>
  <dc:language>en-US</dc:language>
  <cp:lastModifiedBy>student</cp:lastModifiedBy>
  <dcterms:modified xsi:type="dcterms:W3CDTF">2009-12-12T07:04:39Z</dcterms:modified>
  <cp:revision>25</cp:revision>
  <dc:subject/>
  <dc:title>Рынки факторов производства</dc:title>
</cp:coreProperties>
</file>