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C02-2CE7-4C18-81E8-90C9DE94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EFB-B9E7-4797-B302-643E8C99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0CA33-1C37-488A-ABE5-28F5830B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E4458-D80E-4D76-9386-99F1BFD5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71985-AD65-4B68-BA6A-83C10E53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9B4DE-E67F-46B4-93A5-0E842382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DF84D-B2E8-4B6C-A807-DA94AB78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30B17-62E3-4AC4-A21C-FD29E0A3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5B236-597E-4CF4-83DC-8067A305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7C3BE-111D-4D79-AB15-3BDF4F61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F332D-0BFE-4C8E-8F51-F3C69A83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15AFC-374F-46D6-9CE1-A05BBEDC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D38-7B86-4A22-A506-D4CE903C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388E0-DAF7-4D3D-BD9C-4D80A300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9DDD4-2343-4788-876A-9037338C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8966B-0DBF-47AD-91B1-96996F42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E0D0B-4F4F-4200-840B-F4364ACE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E4B2C-DD09-441D-A796-6CC1D47A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CC4C8-B5D6-464E-9130-900E131F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91343-5F79-43E8-8BE3-0D157AB8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C91F8-8BBA-4C17-85B1-1A582450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DD25A-CD25-45B8-AE44-F253985B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F972D-786A-4C67-B675-F1752D2F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7FBF-21AC-4DD5-AC13-56264ED4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7613B-B52D-408C-AA71-70406031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33B88A-61E8-45E0-AAD3-0CF5F243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CAADC3-27A2-4F3A-9CCC-BA6F122A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3A8D95-385E-4509-B3C4-352411DB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DB5C02-33F5-4C0C-8BF2-4BACEB61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F01095-C5D8-4086-979D-2469B928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72E7C6-8A76-4754-B00A-AF339828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C6CC47-02D3-46A8-95A7-2D00E1D4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E89669-F18D-4E26-8F8C-27E7BC99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FBD9DB-25FC-47D4-A2F4-2E8157AB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7592-97D9-4F92-9266-DB8DB608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27C84F-5C9F-4E01-8146-74E31FEE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2AD6A1-82F3-415D-867C-04CC600A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FCA800-B697-449D-8A29-2C71D3D7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81B24-196B-4F20-AC91-F4A2000F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218C8-B22F-4689-8B2B-834EC1BE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3E98E-E0C1-44F8-9B07-8D4E0836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3233A-CE7D-467C-8CD6-5906F037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17EA6-FE60-4CC1-BF26-91AE5DB0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ADAAE-0547-489E-8435-A1CDA042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149A3-D92A-412A-9C71-2185A31E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4BFE-9FD3-4E34-94B9-DFB94182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73321-C62F-47D1-87A1-50FB8F42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8A3B4-BDDA-49EC-A7F5-63F8528E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C9A6C-B168-4648-8470-DDB12E6F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BA2C6-C52E-4B59-909D-6883697E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6610F-89DA-40CA-9D5B-09926D31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59F6B-49CB-4F4D-8297-40BDF1AE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03B5F0-76ED-4C8A-87B7-86516D29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AEE3BE-279A-4FC0-89A7-A11E0FC6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EB44E-BC91-4721-BA70-D46D298B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7777F-695A-49BD-AC67-97D041B4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ECE6-58CF-42BB-BCAA-F0353578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99D6F4-42CF-4824-BFAB-58B308DA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57C34-CE7F-4C30-96AF-9A648E79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E479E-1100-41C9-AE20-07CB425D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8D8AA-93BE-4CAC-B260-65387881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B34C4C-8478-47E5-A8DC-04F7F124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68C8FF-9D77-4667-8331-E29C46AB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78E8B-7361-4A1D-B70B-54A6251C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559EE-C2DD-433C-9D68-0402CD52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61013-72AC-4026-8EE5-11EEB710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0BBEF4-2E69-4512-82ED-D4070071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9B3B-DA01-4B22-A584-A14C0464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1D436F-4085-4827-A616-5A6BA28B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2711ED-F389-49B9-8DBA-8BAFCC48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3215A8-FCFE-4A61-BBB4-90A2D71F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6E9357-D321-43D7-9410-DBF8DE58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42A4D-D75B-4461-B052-7EA0FBFA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1943D-449C-458A-87E3-02B673E6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0671C3-2AFE-4BBE-8921-455495AC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15824-CE59-4E85-903F-74AB5AA2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A5073-E10E-4F20-B3DF-B2A1380A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C1E02B-2E21-4B37-93EA-0B2DBAF6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225E-93E2-47B5-9F83-D416CD95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F99AC8-C297-4A3B-8692-0E39916D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CC5077-C2C5-45A6-AE03-19DD9D95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A6F2A7-8A82-4B5F-BDAB-D78E2A2E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1E177-06A8-43F9-852E-E0315137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1C6677-5A87-4DD5-BE5F-19426D56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8CDCE5-4C63-4745-9F2B-4240ED29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C3E208-FD2F-43BF-83ED-502FD905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D65CD-F012-4987-BE6F-7961DD92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8B7AAA-776E-4F4B-9671-0B5A507C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DFCC6E-0D00-43AC-93DF-50C0DC97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3D18-235F-48AB-B536-CCAE1EE4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A9D3CC-CB17-4A27-8457-A0A5CF09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ACFDB7-CB74-4737-8D5E-82B31D4D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6E95FD-624F-4AD3-8594-65DEC524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5D3343-9030-4962-A54E-42775631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AF2A22-66B5-4971-AE0A-58EBA8FD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89620-C08F-4A0A-B154-C063478C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8E39D2-151A-492A-BC65-38E8C14E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E3D26-8444-498E-9ABE-85769497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7282D8-93E1-4EC2-AAA1-761CAE73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DC105A-9F86-4087-A65F-7CDB1F5E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A5FD-1286-4C04-B599-99D7A2AF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6E7280-A1AF-4182-A67E-320B1154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45ED90-9A43-49EA-AA67-A83C3B60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6DE858-CF92-43A3-A77F-EDC00F15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7059F1-4787-4E93-9E46-5541FC44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8DDBEB-AC6E-41D2-938C-FC264E1F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742B8C-2A07-4850-A725-07484B79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61CD83-C744-489F-9254-DB4EB628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041AB0-EF4B-465D-92EE-4CAD72B2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F812F7-2233-4BC3-AE3B-C8D8BEEE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2B7BD5-20E2-42D6-B314-025EDE31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5A9C-C59E-4E5F-BDA3-31965873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0FBD-73F7-4C6A-A277-D3177CD9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E847D3-3948-4AB8-ADBD-B77530B8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48810A-5C08-45E7-B954-987734A9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6FC453-9E76-40E4-851F-CA682EC2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A846AB-473B-4CDF-A592-2267CE6C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AD3D63-502F-4019-9BDD-A7874E1E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F0996A-E8E7-4799-939E-81BDDB56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AF59E8-3ACE-4F49-8151-650670B8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04390A-2F4E-4F75-9F41-920BD0E1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BBD3AD-DC30-4F3B-98DC-BFBC26FD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B2CBAE-0DD2-40BB-9557-D5A08228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204D-60C4-4031-84F2-A3187AEF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8F023D-325C-48BD-B390-D89DBC89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D9CCF4-9E1D-44ED-B9A0-FD45A3B1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AA9F5D-A0C4-473B-8270-01731BB5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E85F13-CD12-42FC-89B9-CD6B6FA6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87728E-4588-4DE9-8F7D-B104C95E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E3189A-3884-47B6-AD1A-17F802B6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F55536-C2B5-4055-8B6E-14C8BE39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D22446-7727-4BD9-A2BF-B2EE4328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D320F78-C70D-4870-887A-3E38D9B1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11094AF-70BD-4148-A248-EE48012C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A562-91E8-4BBF-8588-C697CD29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3E1C307-80F2-47A8-8D43-ACCEB094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A68E49E-7C39-4927-89FF-8559E619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9487E8A-BA7A-4E0A-A5E6-39D82C6C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6A77FE1-F3D1-4F22-9A6A-770899E1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466CA1F-508A-4E5B-B813-50FD400B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E1C9098-B27B-4A93-9F7E-FC53017B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C1E315F-7B39-45CB-AEF1-AC315287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536ADCD-49AC-4031-9E65-F9199923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D67A9B8-129D-45E6-82E3-289B8C5C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02AEFC-3774-4549-BD31-0976AAAC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68EC-FFFE-404E-AB39-C1B27B1E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F1426C-3BF0-49C6-82A8-715B76C4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E974DB-4FAE-4515-A1AE-761B3B7F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0D4138-EEE6-43E7-A160-D10A396A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81A929-5DFB-4E05-9604-838DCE50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F2DB26-005C-4406-9010-B6E4CB30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78FA95-27D6-4043-9E3F-940909F7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5EA3EB-C14B-43C7-9687-CB6909F4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D5F4CF-B705-4C09-B092-F50A9053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A38127-816D-4C4C-B050-2F2CAAF8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0933E8-B460-483F-8B6B-BA748BE1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D9A7-D8C7-4366-944A-A3CC1F3A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0DD07E-A317-43FD-AB48-536E94D8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79407C6-B8E3-4AA2-B07C-C245658F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ECB7717-8C6E-4D30-B8A7-6DC2142C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CE7597C-AFF4-4464-9D0F-BC1400C6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9A0633A-C14B-47E5-8EA1-ADABC0D1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DD68725-7307-4A77-8FE9-2B15BBCA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269D4A6-E194-44FA-9B8B-E7A6C72A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42F4330-323B-47D7-BE59-ED9D27F7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816C9BD-3B80-450F-93B7-B841B563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D24307F-CA2E-4CF3-B5EF-8BBC40C7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A56E7-E196-4973-9C82-63813DA3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609E4C9-34DA-41A0-A407-12CA6F56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6A23C1B-BF93-462B-9A2C-3A4435A6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F963A69-1F00-45F4-9772-7995F79A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D4F65D-073B-44D5-87BF-77928B3A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A1971B-4E24-4B4D-BCCB-C80B47E0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88C020-891F-45F5-BB2F-EAD18A13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F2B974-43D4-41FC-88ED-735C8CFD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49FEE9-D875-402F-B0FE-514FE748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0C4CF7-E7E3-4671-BA4C-AF6F7BB4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16492C-1D75-4A1B-AE4E-37D18781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3BDC7-1CF5-4B33-95C3-13239A44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11D9EB-D797-4F5E-8510-77AB7BA9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E397D3-42DA-4684-9589-42B7A07F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77E11C-C70E-4EBD-9386-DB9E60D2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94EA14-1BA6-4F27-9C2A-68658495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2175AE-83BB-4AD3-AEB1-CF9DC4C8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627EE-563B-4FF7-9253-612FD0E0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4D619-F67F-4006-8E95-BCCF9449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1E3E2-321D-4270-B51B-AC5BBC29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0B49-9FD4-4C45-A887-0A9310A7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3CE97-5467-4674-B8C1-A72C7E49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E4599-D053-49B7-A23A-00BF2B89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2ABF6-7B29-4ED6-8646-AA67A0ED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B5FD9-CE38-4174-B6E4-221BB198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4D2B8-636D-4BB8-8CAA-1FA14E74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13B70-81EC-4842-9918-3CC0C6B1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171C1-F9C5-429B-8255-F4E63C39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DA1D8-3096-4D7C-ABFD-BA6C9876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96321-AD4A-45E5-9BB7-641A2506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FE2CF-DBA3-4D46-8371-3F85EB2F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267-1758-476A-96E8-48D2213B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0D5C2-3B55-4B5B-B256-AAF662F9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F5E49-EE1B-463E-83ED-85352E39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1167E-4F77-423B-A626-3CEE8E8C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9B387-E4EF-4FE4-9880-84192729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2C3EB-A847-4D7B-B87B-B203E7EC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5F6E1-E51D-4267-BF0E-C7D51250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DD409-4C77-4D56-BE28-828F8E27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438DE-184E-40ED-BF12-A5BA4C3A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0E6D6-44BD-4262-9594-004A09DD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1AB7A-BBCB-4D1F-8A47-D910C1C5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C177-8602-4372-A172-58D6AFA4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2DD12-AE3B-473E-AED8-73096D72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8C81E-7BA5-4500-8348-B8A530DA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95B07-FD74-42BB-AD75-BDF6BA0B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0AC36-9E04-42F8-ABB4-5D6B6BF0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C781C-A6B0-4D03-9DFD-7421FA7E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C17E9-38D5-4DF0-845C-D0216C21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1BE5A-7BDF-4116-A940-3B867474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27715-1E5E-4486-A2D4-6AF5D204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07E3E-13A0-46B5-B611-0FF0F7FA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A50C5-9BDC-46E9-81FE-B491BA76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CD28-EF87-4225-ADC2-BC108381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C1AE4-3F69-4AF3-8930-858C0641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BEBF7-51CC-4EA7-8831-1FECD8A3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76988-2E41-4B42-AA6A-7290E0E3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55D7D-2831-4BFD-9198-BCDE8C2F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0E2D1-00DA-47DE-9A4F-87541365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2462E-5D2B-4995-B18F-867FC04B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BFDF6-BA2F-4793-91EA-8731B2EE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69CA2-5FC0-4E96-AEDC-6FBAEDE8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7432A-9A4D-4FA3-9C85-5C02E0D9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B64E9-F8F1-4C50-BEC5-D804BCB0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AC3-D4F2-47BE-86D0-6CF313D3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E7C7E-BD3C-4EA0-94E3-469B9B97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D2648-A157-4D20-BFD3-2DB29E73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4A20B-7768-4F54-8914-58060273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77A28-866F-4B47-8B50-F5EA936A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A7278-A17C-4D02-A13E-A0F6F878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F5C15-4588-496F-927E-F4D6E26E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30C3C-9C68-4B58-A105-E08B15B1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8349A-2980-40A7-A1E4-4B89A844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06818-9D7C-4A95-B3BF-7F13E72E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5AB10-3278-49B9-9246-238DB162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11D-767F-48B1-A7E8-75E48170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9EA4D-91D3-4119-B270-873E5CA4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90B11-DADF-4153-9679-553C1DEC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334E2-B1FC-4A99-BFD0-A956ADE9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0B85B-ED46-4911-A0B6-5AA2B748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807F7-72DF-4D38-9CDB-C041E918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CCCD7-C043-4B60-9284-4B042B33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E559C-1D43-40A9-8A71-674922C1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6C3E6-EBC1-4C36-A817-1284626C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5E556-645D-4C1B-9214-794421B9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919D9-3054-4083-A9A0-D404B539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4E0-C8AC-49E2-857F-3BF98ADE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076E3-5A7E-44EA-B2A7-9D38D57E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1DCD7-DB2E-4981-99E8-3399C077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A0AA3-8BBF-48ED-912F-0198443B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14D3C-3954-4D10-B99A-967346EB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FD2AF-3778-4274-8E6B-83531BE4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724E5-C8A3-4F60-95A2-DA5CDE03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5A89B-5441-4BBD-9DCB-0C30891D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DE9D4-48E7-48C5-BE20-267B4C3A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8591C-7E59-4D36-BFCB-BCCD6ADA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29CE5-BC30-4B5F-A92D-D3C54D4D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93.xml"/><Relationship Id="rId35" Type="http://schemas.openxmlformats.org/officeDocument/2006/relationships/slideLayout" Target="../slideLayouts/slideLayout194.xml"/><Relationship Id="rId36" Type="http://schemas.openxmlformats.org/officeDocument/2006/relationships/slideLayout" Target="../slideLayouts/slideLayout195.xml"/><Relationship Id="rId37" Type="http://schemas.openxmlformats.org/officeDocument/2006/relationships/slideLayout" Target="../slideLayouts/slideLayout196.xml"/><Relationship Id="rId38" Type="http://schemas.openxmlformats.org/officeDocument/2006/relationships/slideLayout" Target="../slideLayouts/slideLayout197.xml"/><Relationship Id="rId39" Type="http://schemas.openxmlformats.org/officeDocument/2006/relationships/slideLayout" Target="../slideLayouts/slideLayout198.xml"/><Relationship Id="rId40" Type="http://schemas.openxmlformats.org/officeDocument/2006/relationships/slideLayout" Target="../slideLayouts/slideLayout199.xml"/><Relationship Id="rId41" Type="http://schemas.openxmlformats.org/officeDocument/2006/relationships/slideLayout" Target="../slideLayouts/slideLayout200.xml"/><Relationship Id="rId42" Type="http://schemas.openxmlformats.org/officeDocument/2006/relationships/slideLayout" Target="../slideLayouts/slideLayout201.xml"/><Relationship Id="rId43" Type="http://schemas.openxmlformats.org/officeDocument/2006/relationships/slideLayout" Target="../slideLayouts/slideLayout202.xml"/><Relationship Id="rId44" Type="http://schemas.openxmlformats.org/officeDocument/2006/relationships/slideLayout" Target="../slideLayouts/slideLayout203.xml"/><Relationship Id="rId4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205.xml"/><Relationship Id="rId32" Type="http://schemas.openxmlformats.org/officeDocument/2006/relationships/slideLayout" Target="../slideLayouts/slideLayout206.xml"/><Relationship Id="rId33" Type="http://schemas.openxmlformats.org/officeDocument/2006/relationships/slideLayout" Target="../slideLayouts/slideLayout207.xml"/><Relationship Id="rId34" Type="http://schemas.openxmlformats.org/officeDocument/2006/relationships/slideLayout" Target="../slideLayouts/slideLayout208.xml"/><Relationship Id="rId35" Type="http://schemas.openxmlformats.org/officeDocument/2006/relationships/slideLayout" Target="../slideLayouts/slideLayout209.xml"/><Relationship Id="rId36" Type="http://schemas.openxmlformats.org/officeDocument/2006/relationships/slideLayout" Target="../slideLayouts/slideLayout210.xml"/><Relationship Id="rId37" Type="http://schemas.openxmlformats.org/officeDocument/2006/relationships/slideLayout" Target="../slideLayouts/slideLayout211.xml"/><Relationship Id="rId38" Type="http://schemas.openxmlformats.org/officeDocument/2006/relationships/slideLayout" Target="../slideLayouts/slideLayout212.xml"/><Relationship Id="rId39" Type="http://schemas.openxmlformats.org/officeDocument/2006/relationships/slideLayout" Target="../slideLayouts/slideLayout213.xml"/><Relationship Id="rId40" Type="http://schemas.openxmlformats.org/officeDocument/2006/relationships/slideLayout" Target="../slideLayouts/slideLayout214.xml"/><Relationship Id="rId41" Type="http://schemas.openxmlformats.org/officeDocument/2006/relationships/slideLayout" Target="../slideLayouts/slideLayout215.xml"/><Relationship Id="rId42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B7A6-A8D9-49D1-90B3-FF0CFA907A2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1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2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dt" idx="28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ftr" idx="29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0A24-B47F-4939-A61E-EF7F95AB6F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8BFD-676F-42BE-A76F-94EED7890E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29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2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933C-1FAF-43FA-8A66-91CD6A6FE2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785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5914-CA1D-4D7E-AB81-5DBE02771E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F278-13E2-4904-9EB3-5F276FCC33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1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1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3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0195-7496-45F1-B22A-A58B06046D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10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11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2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dt" idx="4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7BF3-B318-4ECB-8DE0-0C88408812B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0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30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30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30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30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31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2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32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4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dt" idx="4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 type="ftr" idx="5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 type="sldNum" idx="5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1F51-86F5-459F-A899-BC4533F729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4"/>
    <p:sldLayoutId id="2147483858" r:id="rId35"/>
    <p:sldLayoutId id="2147483859" r:id="rId36"/>
    <p:sldLayoutId id="2147483860" r:id="rId37"/>
    <p:sldLayoutId id="2147483861" r:id="rId38"/>
    <p:sldLayoutId id="2147483862" r:id="rId39"/>
    <p:sldLayoutId id="2147483863" r:id="rId40"/>
    <p:sldLayoutId id="2147483864" r:id="rId41"/>
    <p:sldLayoutId id="2147483865" r:id="rId42"/>
    <p:sldLayoutId id="2147483866" r:id="rId43"/>
    <p:sldLayoutId id="2147483867" r:id="rId44"/>
    <p:sldLayoutId id="2147483868" r:id="rId4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9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0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0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0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1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1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42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3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dt" idx="5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 type="ftr" idx="5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 type="sldNum" idx="5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7281-9864-43AC-84ED-34A456FA96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1"/>
    <p:sldLayoutId id="2147483871" r:id="rId32"/>
    <p:sldLayoutId id="2147483872" r:id="rId33"/>
    <p:sldLayoutId id="2147483873" r:id="rId34"/>
    <p:sldLayoutId id="2147483874" r:id="rId35"/>
    <p:sldLayoutId id="2147483875" r:id="rId36"/>
    <p:sldLayoutId id="2147483876" r:id="rId37"/>
    <p:sldLayoutId id="2147483877" r:id="rId38"/>
    <p:sldLayoutId id="2147483878" r:id="rId39"/>
    <p:sldLayoutId id="2147483879" r:id="rId40"/>
    <p:sldLayoutId id="2147483880" r:id="rId41"/>
    <p:sldLayoutId id="2147483881" r:id="rId42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dt" idx="5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ldNum" idx="5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7A62-1BF0-4752-9E89-3FD61135B2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9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9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 type="ftr" idx="5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930B-40F2-4BED-BE1C-5F89F031D11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4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4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dt" idx="5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ftr" idx="5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sldNum" idx="6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EB94-7DD7-4724-B59C-3EA58414D5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sldNum" idx="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5C7C-D254-4984-A193-E0489F5843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9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dt" idx="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4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4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4" name="PlaceHolder 1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DD7C-5171-48CB-9297-0AA6C5B8FE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64D4-83ED-4030-85F8-DA074B5F4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7D29-F77D-4608-A09E-97C380305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06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08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7311-6064-4FCB-BD10-639C010D2F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3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55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59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91BC-D546-4A0C-81D2-30DA5FB09A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0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0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1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3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5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014A-536B-4592-AF0E-E6372FA36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0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1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2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4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5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93F9-8618-40B6-BCEE-51813BF72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1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1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dt" idx="25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ftr" idx="26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FD47-1254-468A-BC93-790829A101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/>
          <p:nvPr/>
        </p:nvSpPr>
        <p:spPr>
          <a:xfrm>
            <a:off x="826920" y="1844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сновы анализа спроса и предложени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250920" y="333360"/>
            <a:ext cx="82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Равновесие спроса и предложения достигается при пересечении кривых спроса и предлож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 flipV="1">
            <a:off x="2340000" y="2565360"/>
            <a:ext cx="0" cy="31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2340000" y="573408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-540720" y="910080"/>
            <a:ext cx="6336720" cy="417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 rot="10406400">
            <a:off x="2859840" y="904680"/>
            <a:ext cx="5472720" cy="41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2339640" y="479736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4140360" y="479736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763640" y="3789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35280" y="45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765800" y="52293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3851280" y="5877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3924360" y="429264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"/>
          <p:cNvSpPr/>
          <p:nvPr/>
        </p:nvSpPr>
        <p:spPr>
          <a:xfrm>
            <a:off x="395280" y="76500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проса ведет к увеличению равновесной цены и к увеличению равновесного количества това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flipV="1">
            <a:off x="5076720" y="549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flipV="1">
            <a:off x="3132000" y="-245520"/>
            <a:ext cx="4464000" cy="302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rot="9925200">
            <a:off x="5398200" y="207000"/>
            <a:ext cx="345672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rot="10311000">
            <a:off x="5540040" y="-315000"/>
            <a:ext cx="4462200" cy="273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49" y="196"/>
                </a:moveTo>
                <a:arcTo wR="10800" hR="10800" stAng="-4743689" swAng="3828704"/>
                <a:lnTo>
                  <a:pt x="10800" y="10800"/>
                </a:lnTo>
                <a:close/>
              </a:path>
              <a:path fill="none" w="21600" h="21600">
                <a:moveTo>
                  <a:pt x="12849" y="196"/>
                </a:moveTo>
                <a:arcTo wR="10800" hR="10800" stAng="-4743689" swAng="3828704"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395280" y="3429000"/>
            <a:ext cx="40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меньшение спроса ведет к уменьшению равновесной цены и уменьшению количества тов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5076720" y="299736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5435640" y="350028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 rot="3388800">
            <a:off x="4551120" y="1971000"/>
            <a:ext cx="4463280" cy="302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rot="6676800">
            <a:off x="4711320" y="2473560"/>
            <a:ext cx="345744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rot="7362600">
            <a:off x="4684320" y="2302200"/>
            <a:ext cx="4462200" cy="273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49" y="196"/>
                </a:moveTo>
                <a:arcTo wR="10800" hR="10800" stAng="-4743689" swAng="3828704"/>
                <a:lnTo>
                  <a:pt x="10800" y="10800"/>
                </a:lnTo>
                <a:close/>
              </a:path>
              <a:path fill="none" w="21600" h="21600">
                <a:moveTo>
                  <a:pt x="12849" y="196"/>
                </a:moveTo>
                <a:arcTo wR="10800" hR="10800" stAng="-4743689" swAng="382870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5435640" y="595008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6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/>
          <p:nvPr/>
        </p:nvSpPr>
        <p:spPr>
          <a:xfrm>
            <a:off x="395280" y="765000"/>
            <a:ext cx="43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предложения ведет к уменьшению равновесной цены и к увеличению количества тов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539640" y="3573360"/>
            <a:ext cx="410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меньшение предложения ведет к увеличению равновесной цены и к уменьшению равновесного количества това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5076720" y="549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5580000" y="3645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5580000" y="6093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5076720" y="299736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rot="11111400">
            <a:off x="5421960" y="-242640"/>
            <a:ext cx="3168360" cy="27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67" y="378"/>
                </a:moveTo>
                <a:arcTo wR="10800" hR="10800" stAng="-6312398" swAng="6312398"/>
                <a:lnTo>
                  <a:pt x="10800" y="10800"/>
                </a:lnTo>
                <a:close/>
              </a:path>
              <a:path fill="none" w="21600" h="21600">
                <a:moveTo>
                  <a:pt x="7967" y="378"/>
                </a:moveTo>
                <a:arcTo wR="10800" hR="10800" stAng="-6312398" swAng="631239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3492360" y="547920"/>
            <a:ext cx="3743280" cy="15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3707280" y="116280"/>
            <a:ext cx="388872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rot="10543200">
            <a:off x="5794560" y="2068560"/>
            <a:ext cx="3600000" cy="374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3924720" y="3499560"/>
            <a:ext cx="3742560" cy="18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3996360" y="3571200"/>
            <a:ext cx="4031280" cy="21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"/>
          <p:cNvSpPr/>
          <p:nvPr/>
        </p:nvSpPr>
        <p:spPr>
          <a:xfrm>
            <a:off x="1042920" y="2060640"/>
            <a:ext cx="792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латежеспособный спрос – потребность в товарах, обеспеченная денежными средствами покупател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/>
          <p:nvPr/>
        </p:nvSpPr>
        <p:spPr>
          <a:xfrm>
            <a:off x="1187280" y="33336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Закон спрос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11280" y="1700280"/>
            <a:ext cx="813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ежду ценой и количеством покупаемого товара существует обратная зависимость, то есть чем ниже цена товара, тем больше его количество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 прочих равных условия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может быть куплено, и на оборо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800"/>
                            </p:stCondLst>
                            <p:childTnLst>
                              <p:par>
                                <p:cTn id="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/>
          <p:nvPr/>
        </p:nvSpPr>
        <p:spPr>
          <a:xfrm>
            <a:off x="611280" y="404640"/>
            <a:ext cx="70563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Кривая спроса 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ривая, точки на которой показывают, по каким ценам в течении определенного времени покупатели могли бы приобрести разное количество това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 flipV="1">
            <a:off x="5076720" y="371592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5076720" y="6021360"/>
            <a:ext cx="24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rot="10800000">
            <a:off x="5219640" y="3500640"/>
            <a:ext cx="3168000" cy="230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 rot="10800000">
            <a:off x="5580000" y="3286800"/>
            <a:ext cx="3168000" cy="215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 rot="9963000">
            <a:off x="5934240" y="2846520"/>
            <a:ext cx="2733120" cy="21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4643280" y="4005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164360" y="6165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"/>
          <p:cNvSpPr/>
          <p:nvPr/>
        </p:nvSpPr>
        <p:spPr>
          <a:xfrm flipV="1">
            <a:off x="1908000" y="404280"/>
            <a:ext cx="0" cy="2305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1908000" y="2709720"/>
            <a:ext cx="2448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 rot="10800000">
            <a:off x="2050920" y="189000"/>
            <a:ext cx="3168000" cy="230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 rot="10800000">
            <a:off x="2411280" y="-25560"/>
            <a:ext cx="3168000" cy="21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 rot="9963000">
            <a:off x="2765880" y="-464400"/>
            <a:ext cx="2732400" cy="216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1474920" y="69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3995640" y="2854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4859280" y="1052640"/>
            <a:ext cx="395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рос на товары определяется всей кривой спро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1582560" y="386064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двиг кривой спрос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прав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означае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велич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спроса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лев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меньш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250920" y="53737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влияние цены происходит изменение объема спроса и движение происходит вдоль кривой спроса, при этом сама кривая не сдвиг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20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400"/>
                            </p:stCondLst>
                            <p:childTnLst>
                              <p:par>
                                <p:cTn id="5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1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"/>
          <p:cNvSpPr/>
          <p:nvPr/>
        </p:nvSpPr>
        <p:spPr>
          <a:xfrm>
            <a:off x="1908000" y="692280"/>
            <a:ext cx="7056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Факторы, смещающие кривую спроса: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потребительское ожидание, число покупателей, вкусы и доходы потребителей, цены на товары заменит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Предложение – количество товаров, реализуемое производителем на рын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1116000" y="1628640"/>
            <a:ext cx="76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Кривая предложения – кривая, показывающая количество товара, которые продавцы предлагают к продаже по разным ценам в течение определенного пери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 flipV="1">
            <a:off x="3708360" y="4005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708360" y="623736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2698920" y="2922840"/>
            <a:ext cx="3888720" cy="302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 flipV="1">
            <a:off x="2053440" y="2493000"/>
            <a:ext cx="4173840" cy="331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V="1">
            <a:off x="2267280" y="2851560"/>
            <a:ext cx="345672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"/>
          <p:cNvSpPr/>
          <p:nvPr/>
        </p:nvSpPr>
        <p:spPr>
          <a:xfrm>
            <a:off x="395280" y="26028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двиг кривой предложения вправо или влево означает, что предложение меняется по той же цене при влиянии неценовых факторов. При этом происходит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зменение предложе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1403280" y="2997360"/>
            <a:ext cx="691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же  ни один фактор, влияющих на предложение, не меняется, а цена товара растет, то происходит перемещение вдоль кривой и происходит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зменение объема предложе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ри этом сама кривая не сдвига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880"/>
                            </p:stCondLst>
                            <p:childTnLst>
                              <p:par>
                                <p:cTn id="9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1240"/>
                            </p:stCondLst>
                            <p:childTnLst>
                              <p:par>
                                <p:cTn id="100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04" dur="5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"/>
          <p:cNvSpPr/>
          <p:nvPr/>
        </p:nvSpPr>
        <p:spPr>
          <a:xfrm>
            <a:off x="0" y="476280"/>
            <a:ext cx="795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акторы, смещающие кривую предложения: цены на экономические ресурсы, потребительские ожидания, цены на другие товары, технология производства, число товаропроизводителей, налог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4:14:06Z</dcterms:created>
  <dc:creator>1</dc:creator>
  <dc:description/>
  <dc:language>en-US</dc:language>
  <cp:lastModifiedBy>1</cp:lastModifiedBy>
  <dcterms:modified xsi:type="dcterms:W3CDTF">2009-12-09T15:33:02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