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56A-F988-4EE9-AA5D-915AE2D8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F5E-587B-4BEF-92DD-F930CBAC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E2B-C509-4341-B29B-EB4A6A42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8F2-C85B-4293-BA67-8AC2DEB8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D49F-92CD-424E-B87F-2D6A2695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00FA-8AA4-461B-A4D6-1E03F36D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A7E9-69B9-446F-A7CA-2DCA9782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F33C-3BB0-4B0E-9ED2-77B4C27F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8429-8E98-45CC-894B-BC302E69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0F19-639E-4A73-8C12-EEC3C7CF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EAE6-6113-4483-878A-BCDB19F9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AB4-B4A6-43CA-9882-3A8519A2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3559-EE09-4094-8637-54D8DE1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C0EC-C57C-4E14-B2FE-92AAFBF6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E2C9-33B2-4E73-A5CD-166017E2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1AB2-555E-477F-A057-3D1CD80C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FB98-4737-42E6-B282-0A6004AA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E8C-28C4-4085-B96F-35A85C5B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204-7346-4E0A-91E8-04CD3D4C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520-1D5C-49CC-946F-E739A419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0B5-6D18-48C3-A0BE-5782CD12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A94-8170-406E-A52C-F93DD95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D6F-7F17-4637-8E16-1AF21E90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F7B-078D-412D-8D84-EA5E431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85AC-DBAA-477E-982C-2BE567025A5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7B66-5FFE-46C9-BB5C-50C96111056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3080" y="-73080"/>
            <a:ext cx="9272520" cy="4273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1680" y="5000400"/>
            <a:ext cx="77832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Выполнила: Кочутова Альб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512640" y="378000"/>
            <a:ext cx="8502840" cy="263988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4" descr="clip_image002.gif"/>
          <p:cNvPicPr/>
          <p:nvPr/>
        </p:nvPicPr>
        <p:blipFill>
          <a:blip r:embed="rId2"/>
          <a:stretch/>
        </p:blipFill>
        <p:spPr>
          <a:xfrm>
            <a:off x="2714760" y="3500280"/>
            <a:ext cx="35719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96720" y="328680"/>
            <a:ext cx="8948880" cy="3004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85920" y="2928600"/>
            <a:ext cx="64008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В экономической науке выделяют четыре группы факторов производства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родные ресурс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ловеческие ресурс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приниматель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175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75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675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75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14360" y="944640"/>
            <a:ext cx="8516880" cy="2408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57200" y="3714480"/>
            <a:ext cx="64008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80"/>
                </a:solidFill>
                <a:latin typeface="Times New Roman"/>
              </a:rPr>
              <a:t>Расходы, которые несут фирмы при приобретении ресурсов, выступают в общем виде как доходы их владельце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на рынке ресурсов </a:t>
            </a:r>
            <a:r>
              <a:rPr b="1" lang="ru-RU" sz="2600" spc="-1" strike="noStrike" u="sng">
                <a:solidFill>
                  <a:srgbClr val="0000cc"/>
                </a:solidFill>
                <a:uFillTx/>
                <a:latin typeface="Times New Roman"/>
              </a:rPr>
              <a:t>фирмы выступают покупателями</a:t>
            </a: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, а </a:t>
            </a:r>
            <a:r>
              <a:rPr b="1" lang="ru-RU" sz="2600" spc="-1" strike="noStrike" u="sng">
                <a:solidFill>
                  <a:srgbClr val="0000cc"/>
                </a:solidFill>
                <a:uFillTx/>
                <a:latin typeface="Times New Roman"/>
              </a:rPr>
              <a:t>домашние хозяйства - продавц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8869320" cy="3232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240" y="3332160"/>
            <a:ext cx="66294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Еще одной особенностью спроса на факторы производства является то, что их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Comic Sans MS"/>
              </a:rPr>
              <a:t>потребление взаимосвязано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 Они не используются по отдельности и не могут функционировать изолированно друг от друг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536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6840" y="1600200"/>
            <a:ext cx="30430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Производственная функция (</a:t>
            </a:r>
            <a:r>
              <a:rPr b="1" i="1" lang="en-US" sz="2000" spc="-1" strike="noStrike">
                <a:solidFill>
                  <a:srgbClr val="0000cc"/>
                </a:solidFill>
                <a:latin typeface="Book Antiqua"/>
              </a:rPr>
              <a:t>Y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) - это техническое соотношение, отражающее взаимосвязь между совокупными затратами факторов производства (а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, а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cc"/>
                </a:solidFill>
                <a:latin typeface="Book Antiqua"/>
              </a:rPr>
              <a:t>a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Book Antiqua"/>
              </a:rPr>
              <a:t>n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) максимальным выпуском продукц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786120" y="1600200"/>
          <a:ext cx="4900680" cy="3479760"/>
        </p:xfrm>
        <a:graphic>
          <a:graphicData uri="http://schemas.openxmlformats.org/drawingml/2006/table">
            <a:tbl>
              <a:tblPr/>
              <a:tblGrid>
                <a:gridCol w="1285920"/>
                <a:gridCol w="928800"/>
                <a:gridCol w="928440"/>
                <a:gridCol w="928800"/>
                <a:gridCol w="828720"/>
              </a:tblGrid>
              <a:tr h="506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Земля (кол-во единиц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руд (количество единиц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2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4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4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7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0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7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4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4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3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79080" cy="1963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13880" y="2214720"/>
            <a:ext cx="3357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Условием минимизации общих затрат фирмы при заданном объеме производства и неизменных ценах на ресурсы является равенство предельных производительностей всех используемых ресурсов, приходящихся на одну денежную единицу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57440" y="2143080"/>
            <a:ext cx="43290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/ 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= 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 b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/ 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 b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= ...= 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z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/ 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 z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где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… 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 - предельные продукты всех используемых ресурсов от а до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 …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 z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 - цены на эти ресурс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91960" y="23760"/>
            <a:ext cx="8413920" cy="192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В условиях совершенной конкуренции на рынках готовой продукции предельная доходность ресурса будет рассчитываться по формуле: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MPR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=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MP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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MR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где </a:t>
            </a: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MP</a:t>
            </a: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 - предельный продукт фактора производства, </a:t>
            </a: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MR</a:t>
            </a: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 - предельный доход от продажи дополнительной единицы продукци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2214360"/>
            <a:ext cx="403848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81680" indent="-36144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 данном случае предельная выручка (то есть выручка от продажи дополнительной единицы продукта) будет равна рыночной цене единицы продукта, то есть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MR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P</a:t>
            </a:r>
            <a:r>
              <a:rPr b="1" i="1" lang="ru-RU" sz="2800" spc="-1" strike="noStrike" baseline="-25000">
                <a:solidFill>
                  <a:srgbClr val="ffff00"/>
                </a:solidFill>
                <a:latin typeface="Times New Roman"/>
              </a:rPr>
              <a:t>х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500"/>
                            </p:stCondLst>
                            <p:childTnLst>
                              <p:par>
                                <p:cTn id="194" nodeType="afterEffect" fill="hold" presetClass="entr" presetID="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743040" y="208080"/>
            <a:ext cx="8327880" cy="352260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7" descr="clip_image002.gif"/>
          <p:cNvPicPr/>
          <p:nvPr/>
        </p:nvPicPr>
        <p:blipFill>
          <a:blip r:embed="rId2"/>
          <a:stretch/>
        </p:blipFill>
        <p:spPr>
          <a:xfrm>
            <a:off x="5143680" y="3786120"/>
            <a:ext cx="382716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6" descr="clip_image002.gif"/>
          <p:cNvPicPr/>
          <p:nvPr/>
        </p:nvPicPr>
        <p:blipFill>
          <a:blip r:embed="rId3"/>
          <a:stretch/>
        </p:blipFill>
        <p:spPr>
          <a:xfrm>
            <a:off x="365040" y="3852720"/>
            <a:ext cx="354816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69800" y="536400"/>
            <a:ext cx="8399520" cy="321804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4" descr="clip_image002.gif"/>
          <p:cNvPicPr/>
          <p:nvPr/>
        </p:nvPicPr>
        <p:blipFill>
          <a:blip r:embed="rId2"/>
          <a:stretch/>
        </p:blipFill>
        <p:spPr>
          <a:xfrm>
            <a:off x="1143000" y="4000680"/>
            <a:ext cx="341784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5" descr="clip_image002.gif"/>
          <p:cNvPicPr/>
          <p:nvPr/>
        </p:nvPicPr>
        <p:blipFill>
          <a:blip r:embed="rId3"/>
          <a:stretch/>
        </p:blipFill>
        <p:spPr>
          <a:xfrm>
            <a:off x="5500800" y="3786120"/>
            <a:ext cx="330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1:43:14Z</dcterms:created>
  <dc:creator>Alba</dc:creator>
  <dc:description/>
  <dc:language>en-US</dc:language>
  <cp:lastModifiedBy>student</cp:lastModifiedBy>
  <dcterms:modified xsi:type="dcterms:W3CDTF">2009-12-12T07:04:39Z</dcterms:modified>
  <cp:revision>25</cp:revision>
  <dc:subject/>
  <dc:title>Рынки факторов производства</dc:title>
</cp:coreProperties>
</file>