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9.jpeg" ContentType="image/jpeg"/>
  <Override PartName="/ppt/media/image11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6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2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png" ContentType="image/png"/>
  <Override PartName="/ppt/media/image6.png" ContentType="image/png"/>
  <Override PartName="/ppt/media/image37.jpeg" ContentType="image/jpeg"/>
  <Override PartName="/ppt/media/image30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0F7-7541-4038-B85B-9F3DEC35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2E1-5CC4-4C9D-AE45-EC3CB49E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113-EA96-4051-B919-FACF3338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4C4-3D2A-4A61-A985-6BC3D8CE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453E-1003-4857-B21B-09E92CC9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8A78-9F3B-48CA-8AB6-0FF2C533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C489-8A5C-4BF3-9C2D-A819436E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084E-DB10-497B-83D6-7987F515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5A02-A250-47A0-8C96-0F9CB9B9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F89B-71E5-403C-BF54-5A9EA125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AEA-6B4C-4DEB-B97B-93D71255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7AD-BE51-43C1-BCF2-38436EBB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3392-DBCD-4A09-9C50-6D19D1E2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523F-84E5-40B0-8040-BE194AF8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ADBB-3E0D-44AF-9498-ADFA0FD8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1EC9-B477-4AA2-8F9E-E685A49B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64F7-6177-46A7-8267-8316ACEB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FBF7-E416-467F-9AF4-5378ADAE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B970-0D31-411D-BFBA-A56F3EEC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93CA-0828-4112-8F28-DAE32180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B9F1-FE7D-4457-B33F-E557BA99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27224-989E-4CE1-B349-ABB97690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5BF-F865-4FDB-A57B-A9F0718A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F90D-A81F-4E64-85A2-27DACE70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A6B8-D088-4457-AB23-4D9190AB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F6911-2D1C-43C4-8CB6-58E0D435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1379-5785-4DEE-8BCB-DE3AA821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052C-5905-41AB-A77B-063B8AB0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A178-A898-488A-B74F-20CA1793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E1F09-E9F8-43E7-B315-558F1FF8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F78A-AA9D-42FC-B668-CD5BEEFC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F77E-5C07-49BA-A56D-DEDD164A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4D66-11D1-4B1E-A61E-134069BC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3CD-AB07-4AC8-ADD5-2EA6CE0F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67AA-6724-4F94-94E8-F33ABE1C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3343-A18C-418C-9C78-D1B57BB0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552F0-FC58-4E59-9858-44F04CBD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8B44-D9C5-4536-88FC-7487A041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929D3-63EB-4DA3-87F9-205E5395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303B0-7BFF-41D3-9289-95E37FB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BBC45-BC3E-42DB-9EEA-7E412B93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F21D-BCC2-42F2-9014-2F48A21C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A64FB-8A11-435C-B627-B5C79473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C60D-0915-4A89-BADD-9C74E111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60B-BB1E-4AF3-9CA4-C119F447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F2D99-56CE-4803-8FA4-FF301F66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5333C-8292-43D3-84AB-F32A8384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F81A1-580A-4CE5-A1AE-A0550B51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EF027-C412-4F15-85E6-51B0D0F8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7A296-8EFA-427C-8A83-3242BC0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112F0-008A-42F8-93B0-16EE5ABB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B6936-47C5-4068-B441-04BA3C4A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4F651-55B8-43CC-ABCF-DCC65F7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B3B87-B5A2-4DF9-A8AE-FB92A8C4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8A62C-7FCC-4497-8412-A175C1E5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F71-6708-489A-B9DF-FD35C2EC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3412C-12F5-4359-8EB0-7D82F5B8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88CB1-0AD8-402F-B6DB-E45AD96D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D6799-030B-4866-8B2C-1CBC0C39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A5AD6-AFCE-44E8-BE34-4FB094A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5346E-C3A5-429C-AA9D-20E28A24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64F33-32F2-408A-A820-5F6A0E98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6A10E-41D5-45BE-AC6D-621C75B0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3888F-76B4-44B2-9DAB-6A7680F2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4BC2E-EC30-48FF-8BAF-34FBB214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8F6BF-283F-427E-AA65-C16013D6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D83-F039-458F-87E8-4C97F6B2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46602-3A79-420E-8C77-5128B45C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CC45D-F3BB-4FEF-A3CC-197AD1CA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68E94-239E-4361-86F9-F429A8D7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AAA-EC1A-4E09-B87E-AA337AE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17D-600C-4D2F-B9BE-4A0600F9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26F4-7C03-4F7E-BFA7-4445E97F977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2F52-248C-4E97-9388-85D4A9F74A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269E-6685-4736-9D70-711AC8D1EE5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9322-3D54-47C6-9182-F763BF7763C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7EC8-CB0B-4298-B6DC-4C605326707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1981-D3A8-46E0-BBA1-C86547329B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r-style.ru/range/169/1607/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841320" y="2352600"/>
            <a:ext cx="7596360" cy="14810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-468720" y="37162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916360" y="765000"/>
            <a:ext cx="30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dbf5f9"/>
                </a:solidFill>
                <a:latin typeface="Times New Roman"/>
              </a:rPr>
              <a:t>БИЗНЕС – Ж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857160" y="157176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Франция технологиясы бойынша стильді іскерлік киімді, қазақ ұлттық киімді және ұлттық бұйымдарды тігу бойынша цехті ұйымдасты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2556000" y="602208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останай, 2010  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358" descr="http://www.cor-style.ru/upload/iblock/e1b/11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357" descr="http://www.cor-style.ru/upload/iblock/216/21.jpg"/>
          <p:cNvPicPr/>
          <p:nvPr/>
        </p:nvPicPr>
        <p:blipFill>
          <a:blip r:embed="rId2"/>
          <a:stretch/>
        </p:blipFill>
        <p:spPr>
          <a:xfrm>
            <a:off x="5003640" y="189000"/>
            <a:ext cx="4140360" cy="65530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8548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4" name="Содержимое 3" descr=""/>
          <p:cNvPicPr/>
          <p:nvPr/>
        </p:nvPicPr>
        <p:blipFill>
          <a:blip r:embed="rId3"/>
          <a:stretch/>
        </p:blipFill>
        <p:spPr>
          <a:xfrm>
            <a:off x="-6480" y="255600"/>
            <a:ext cx="8869320" cy="6078600"/>
          </a:xfrm>
          <a:prstGeom prst="rect">
            <a:avLst/>
          </a:prstGeom>
          <a:ln w="0">
            <a:noFill/>
          </a:ln>
        </p:spPr>
      </p:pic>
      <p:sp>
        <p:nvSpPr>
          <p:cNvPr id="345" name="Выгнутая влево стрелка 4"/>
          <p:cNvSpPr/>
          <p:nvPr/>
        </p:nvSpPr>
        <p:spPr>
          <a:xfrm rot="2626800">
            <a:off x="1279440" y="12600"/>
            <a:ext cx="928800" cy="2214720"/>
          </a:xfrm>
          <a:custGeom>
            <a:avLst/>
            <a:gdLst>
              <a:gd name="textAreaLeft" fmla="*/ 124200 w 928800"/>
              <a:gd name="textAreaRight" fmla="*/ 804600 w 928800"/>
              <a:gd name="textAreaTop" fmla="*/ 466560 h 2214720"/>
              <a:gd name="textAreaBottom" fmla="*/ 1632240 h 221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02" stAng="-5400000" swAng="-5400000"/>
                <a:lnTo>
                  <a:pt x="0" y="11367"/>
                </a:lnTo>
                <a:arcTo wR="21600" hR="9102" stAng="10800000" swAng="-3510085"/>
                <a:lnTo>
                  <a:pt x="16200" y="21311"/>
                </a:lnTo>
                <a:lnTo>
                  <a:pt x="21600" y="19336"/>
                </a:lnTo>
                <a:lnTo>
                  <a:pt x="16200" y="16782"/>
                </a:lnTo>
                <a:lnTo>
                  <a:pt x="16200" y="17914"/>
                </a:lnTo>
                <a:arcTo wR="21600" hR="9102" stAng="7289915" swAng="3328599"/>
                <a:lnTo>
                  <a:pt x="168" y="10234"/>
                </a:lnTo>
                <a:arcTo wR="21600" hR="9102" stAng="-10618514" swAng="5218514"/>
                <a:close/>
              </a:path>
              <a:path fill="darkenLess" w="21600" h="21600">
                <a:moveTo>
                  <a:pt x="21600" y="0"/>
                </a:moveTo>
                <a:arcTo wR="21600" hR="9102" stAng="-5400000" swAng="-5400000"/>
                <a:lnTo>
                  <a:pt x="0" y="9102"/>
                </a:lnTo>
                <a:arcTo wR="21600" hR="9102" stAng="10800000" swAng="-181486"/>
                <a:lnTo>
                  <a:pt x="168" y="10234"/>
                </a:lnTo>
                <a:arcTo wR="21600" hR="9102" stAng="-10618514" swAng="5218514"/>
                <a:close/>
              </a:path>
            </a:pathLst>
          </a:cu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Выгнутая вправо стрелка 5"/>
          <p:cNvSpPr/>
          <p:nvPr/>
        </p:nvSpPr>
        <p:spPr>
          <a:xfrm rot="19053000">
            <a:off x="6560640" y="41040"/>
            <a:ext cx="1000440" cy="2260440"/>
          </a:xfrm>
          <a:custGeom>
            <a:avLst/>
            <a:gdLst>
              <a:gd name="textAreaLeft" fmla="*/ 133920 w 1000440"/>
              <a:gd name="textAreaRight" fmla="*/ 866520 w 1000440"/>
              <a:gd name="textAreaTop" fmla="*/ 471240 h 2260440"/>
              <a:gd name="textAreaBottom" fmla="*/ 1664280 h 22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8" stAng="-5400000" swAng="5400000"/>
                <a:lnTo>
                  <a:pt x="21600" y="11398"/>
                </a:lnTo>
                <a:arcTo wR="21600" hR="9008" stAng="0" swAng="3494234"/>
                <a:lnTo>
                  <a:pt x="5400" y="21314"/>
                </a:lnTo>
                <a:lnTo>
                  <a:pt x="0" y="19211"/>
                </a:lnTo>
                <a:lnTo>
                  <a:pt x="5400" y="16536"/>
                </a:lnTo>
                <a:lnTo>
                  <a:pt x="5400" y="17730"/>
                </a:lnTo>
                <a:arcTo wR="21600" hR="9008" stAng="3494234" swAng="-3302547"/>
                <a:lnTo>
                  <a:pt x="21409" y="10203"/>
                </a:lnTo>
                <a:arcTo wR="21600" hR="9008" stAng="-191687" swAng="-5208313"/>
                <a:close/>
              </a:path>
              <a:path fill="darkenLess" w="21600" h="21600">
                <a:moveTo>
                  <a:pt x="0" y="0"/>
                </a:moveTo>
                <a:arcTo wR="21600" hR="9008" stAng="-5400000" swAng="5400000"/>
                <a:lnTo>
                  <a:pt x="21600" y="11398"/>
                </a:lnTo>
                <a:arcTo wR="21600" hR="9008" stAng="0" swAng="-191687"/>
                <a:lnTo>
                  <a:pt x="21409" y="10203"/>
                </a:lnTo>
                <a:arcTo wR="21600" hR="9008" stAng="-191687" swAng="-5208313"/>
                <a:close/>
              </a:path>
            </a:pathLst>
          </a:cu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357120" y="2143080"/>
            <a:ext cx="2357640" cy="1000080"/>
          </a:xfrm>
          <a:prstGeom prst="rect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ЛОВАЯ О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5929200" y="2214720"/>
            <a:ext cx="2643480" cy="1000080"/>
          </a:xfrm>
          <a:prstGeom prst="rect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ҚАЗ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ҰЛТТЫҚ БҰЙЫМД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кругленный прямоугольник 8"/>
          <p:cNvSpPr/>
          <p:nvPr/>
        </p:nvSpPr>
        <p:spPr>
          <a:xfrm>
            <a:off x="7000920" y="442908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ОО «Султ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трелка вниз 9"/>
          <p:cNvSpPr/>
          <p:nvPr/>
        </p:nvSpPr>
        <p:spPr>
          <a:xfrm>
            <a:off x="857160" y="3286080"/>
            <a:ext cx="357120" cy="150012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трелка вниз 10"/>
          <p:cNvSpPr/>
          <p:nvPr/>
        </p:nvSpPr>
        <p:spPr>
          <a:xfrm>
            <a:off x="6000840" y="3286080"/>
            <a:ext cx="214200" cy="11430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трелка вниз 11"/>
          <p:cNvSpPr/>
          <p:nvPr/>
        </p:nvSpPr>
        <p:spPr>
          <a:xfrm>
            <a:off x="8143920" y="3286080"/>
            <a:ext cx="214200" cy="1071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Штриховая стрелка вправо 12"/>
          <p:cNvSpPr/>
          <p:nvPr/>
        </p:nvSpPr>
        <p:spPr>
          <a:xfrm rot="3564000">
            <a:off x="2712240" y="2683800"/>
            <a:ext cx="611280" cy="320400"/>
          </a:xfrm>
          <a:prstGeom prst="pie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трелка влево 14"/>
          <p:cNvSpPr/>
          <p:nvPr/>
        </p:nvSpPr>
        <p:spPr>
          <a:xfrm rot="19620000">
            <a:off x="4873680" y="2752200"/>
            <a:ext cx="914400" cy="327240"/>
          </a:xfrm>
          <a:prstGeom prst="leftArrow">
            <a:avLst>
              <a:gd name="adj1" fmla="val 50000"/>
              <a:gd name="adj2" fmla="val 49973"/>
            </a:avLst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8"/>
          <p:cNvSpPr/>
          <p:nvPr/>
        </p:nvSpPr>
        <p:spPr>
          <a:xfrm>
            <a:off x="2916360" y="333360"/>
            <a:ext cx="2879640" cy="21589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НЕГІЗГІ БӘСЕКЕЛЕ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9"/>
          <p:cNvSpPr/>
          <p:nvPr/>
        </p:nvSpPr>
        <p:spPr>
          <a:xfrm>
            <a:off x="3276720" y="3068640"/>
            <a:ext cx="1582560" cy="1152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рб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ігінш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324000" y="2133720"/>
            <a:ext cx="2376360" cy="10080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ІСКЕРЛІК КИІ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1"/>
          <p:cNvSpPr/>
          <p:nvPr/>
        </p:nvSpPr>
        <p:spPr>
          <a:xfrm>
            <a:off x="250920" y="4869000"/>
            <a:ext cx="1873080" cy="79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ШС “БАТЫР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2"/>
          <p:cNvSpPr/>
          <p:nvPr/>
        </p:nvSpPr>
        <p:spPr>
          <a:xfrm>
            <a:off x="4716360" y="4508640"/>
            <a:ext cx="2016360" cy="93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К “КУДЛАЙ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3"/>
          <p:cNvSpPr/>
          <p:nvPr/>
        </p:nvSpPr>
        <p:spPr>
          <a:xfrm>
            <a:off x="7020000" y="4437000"/>
            <a:ext cx="1873080" cy="1008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ШС “СУЛТАН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5940360" y="2205000"/>
            <a:ext cx="2592360" cy="936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АЗАҚ ҰЛТТ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ҰЙЫМД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Инвести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циялаудың оптималдық құрылымы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95280" y="1916280"/>
            <a:ext cx="82296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рыз сомасы – 310000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рыз валютасы – теңг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телу мерзімі – 1,2 жы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7" descr="07-02-10_1718"/>
          <p:cNvPicPr/>
          <p:nvPr/>
        </p:nvPicPr>
        <p:blipFill>
          <a:blip r:embed="rId2"/>
          <a:stretch/>
        </p:blipFill>
        <p:spPr>
          <a:xfrm>
            <a:off x="0" y="5084640"/>
            <a:ext cx="4140360" cy="1773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4"/>
          <p:cNvSpPr/>
          <p:nvPr/>
        </p:nvSpPr>
        <p:spPr>
          <a:xfrm>
            <a:off x="2286000" y="2286000"/>
            <a:ext cx="4357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000160" y="2286000"/>
          <a:ext cx="6000840" cy="3500280"/>
        </p:xfrm>
        <a:graphic>
          <a:graphicData uri="http://schemas.openxmlformats.org/drawingml/2006/table">
            <a:tbl>
              <a:tblPr/>
              <a:tblGrid>
                <a:gridCol w="638280"/>
                <a:gridCol w="3759120"/>
                <a:gridCol w="1603440"/>
              </a:tblGrid>
              <a:tr h="87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Көрсеткіш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1 айғ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Өнімді сатудан пайда болған ақшалай табыс, т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415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Пайдаға салық, т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0247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Өндірістік шығындар, т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5642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Таза табыс, т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14903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Рентабельділік деңгейі</a:t>
                      </a: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Прямоугольник 7"/>
          <p:cNvSpPr/>
          <p:nvPr/>
        </p:nvSpPr>
        <p:spPr>
          <a:xfrm>
            <a:off x="1143000" y="135720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Monotype Corsiva"/>
                <a:ea typeface="MS Mincho"/>
              </a:rPr>
              <a:t>Таблица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1</a:t>
            </a:r>
            <a:r>
              <a:rPr b="1" lang="kk-KZ" sz="1800" spc="-1" strike="noStrike">
                <a:solidFill>
                  <a:srgbClr val="000000"/>
                </a:solidFill>
                <a:latin typeface="Monotype Corsiva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2428920" y="16430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1 айға экономикалық тиімділіктің көрсеткіштер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0"/>
          <p:cNvSpPr/>
          <p:nvPr/>
        </p:nvSpPr>
        <p:spPr>
          <a:xfrm>
            <a:off x="1547640" y="62064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Жобаның экономикалық тиімділіг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260280"/>
            <a:ext cx="8229600" cy="58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Monotype Corsiva"/>
                <a:ea typeface="MS Mincho"/>
              </a:rPr>
              <a:t>Таблица 2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Жобаның 1 жылға экономикалық тиімділігі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692360" y="1052640"/>
          <a:ext cx="6246720" cy="5089320"/>
        </p:xfrm>
        <a:graphic>
          <a:graphicData uri="http://schemas.openxmlformats.org/drawingml/2006/table">
            <a:tbl>
              <a:tblPr/>
              <a:tblGrid>
                <a:gridCol w="637920"/>
                <a:gridCol w="4005360"/>
                <a:gridCol w="1603440"/>
              </a:tblGrid>
              <a:tr h="68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өрсеткіште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жы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Өнімді сатудан пайда болған ақшалай табыс, 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989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Пайдаға салық, 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29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Жалпы шығындар, оның құрамында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2770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Кәсіпорынның тіркелуі, 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2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Еңбекақы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84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Жалға алу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,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4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Жабдықтарға амортизациялық бөліністер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03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Шикізатқа және маталарға шығындар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4065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Жарнама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,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573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Коммуналдық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шығындар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0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Құрал-жабдықтарға шығындар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568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Басқа да шығындар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3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Таза пайда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т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9788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Рентабельділік деңгейі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Өтелу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 мерзімі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angal"/>
                        </a:rPr>
                        <a:t>жы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356" descr="http://www.cor-style.ru/upload/iblock/8fc/10.jpg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үтілетін нәтижелер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8568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Қостанай қаласында іскерлік киім нарығын дамыт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Отандық өнімнің сапасын көтер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Әлуетті тұтынушыларды тарт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Қазақ ұлттық бұйымдарына халық сұранысын қанағаттанды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Швейная машина Brother 2340CV"/>
          <p:cNvPicPr/>
          <p:nvPr/>
        </p:nvPicPr>
        <p:blipFill>
          <a:blip r:embed="rId1"/>
          <a:stretch/>
        </p:blipFill>
        <p:spPr>
          <a:xfrm>
            <a:off x="0" y="1125360"/>
            <a:ext cx="3024360" cy="2592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http://www.sewtex.ru/upload/iblock/398/TY-1130M.jpg"/>
          <p:cNvPicPr/>
          <p:nvPr/>
        </p:nvPicPr>
        <p:blipFill>
          <a:blip r:embed="rId2"/>
          <a:stretch/>
        </p:blipFill>
        <p:spPr>
          <a:xfrm>
            <a:off x="324000" y="4292640"/>
            <a:ext cx="2857320" cy="2171520"/>
          </a:xfrm>
          <a:prstGeom prst="rect">
            <a:avLst/>
          </a:prstGeom>
          <a:ln w="0">
            <a:noFill/>
          </a:ln>
        </p:spPr>
      </p:pic>
      <p:sp>
        <p:nvSpPr>
          <p:cNvPr id="379" name="WordArt 8"/>
          <p:cNvSpPr txBox="1"/>
          <p:nvPr/>
        </p:nvSpPr>
        <p:spPr>
          <a:xfrm>
            <a:off x="468360" y="765000"/>
            <a:ext cx="21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верлок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11"/>
          <p:cNvSpPr txBox="1"/>
          <p:nvPr/>
        </p:nvSpPr>
        <p:spPr>
          <a:xfrm>
            <a:off x="3132000" y="5734080"/>
            <a:ext cx="554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Өндірістік тігін машинас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12"/>
          <p:cNvSpPr txBox="1"/>
          <p:nvPr/>
        </p:nvSpPr>
        <p:spPr>
          <a:xfrm>
            <a:off x="3564000" y="1557360"/>
            <a:ext cx="541800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мпьютерленген тігін машинас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2" name="Picture 2" descr="C:\Documents and Settings\student\Рабочий стол\01-02-10_1534.jpg"/>
          <p:cNvPicPr/>
          <p:nvPr/>
        </p:nvPicPr>
        <p:blipFill>
          <a:blip r:embed="rId3"/>
          <a:stretch/>
        </p:blipFill>
        <p:spPr>
          <a:xfrm>
            <a:off x="4427640" y="2205000"/>
            <a:ext cx="3919320" cy="2745000"/>
          </a:xfrm>
          <a:prstGeom prst="rect">
            <a:avLst/>
          </a:prstGeom>
          <a:ln w="0">
            <a:noFill/>
          </a:ln>
        </p:spPr>
      </p:pic>
      <p:sp>
        <p:nvSpPr>
          <p:cNvPr id="383" name="WordArt 20"/>
          <p:cNvSpPr txBox="1"/>
          <p:nvPr/>
        </p:nvSpPr>
        <p:spPr>
          <a:xfrm>
            <a:off x="4427640" y="476280"/>
            <a:ext cx="424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ігін құрал-жабдықтары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0" descr="как снимать мерки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5950080"/>
            <a:ext cx="822960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6" name="Picture 4" descr="07-02-10_1739"/>
          <p:cNvPicPr/>
          <p:nvPr/>
        </p:nvPicPr>
        <p:blipFill>
          <a:blip r:embed="rId2"/>
          <a:stretch/>
        </p:blipFill>
        <p:spPr>
          <a:xfrm>
            <a:off x="0" y="3933720"/>
            <a:ext cx="1476360" cy="2924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07-02-10_1741"/>
          <p:cNvPicPr/>
          <p:nvPr/>
        </p:nvPicPr>
        <p:blipFill>
          <a:blip r:embed="rId3"/>
          <a:stretch/>
        </p:blipFill>
        <p:spPr>
          <a:xfrm>
            <a:off x="1476360" y="3933720"/>
            <a:ext cx="2232000" cy="2924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07-02-10_1742"/>
          <p:cNvPicPr/>
          <p:nvPr/>
        </p:nvPicPr>
        <p:blipFill>
          <a:blip r:embed="rId4"/>
          <a:stretch/>
        </p:blipFill>
        <p:spPr>
          <a:xfrm>
            <a:off x="0" y="1197000"/>
            <a:ext cx="158436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07-02-10_1744"/>
          <p:cNvPicPr/>
          <p:nvPr/>
        </p:nvPicPr>
        <p:blipFill>
          <a:blip r:embed="rId5"/>
          <a:stretch/>
        </p:blipFill>
        <p:spPr>
          <a:xfrm>
            <a:off x="1547640" y="1197000"/>
            <a:ext cx="3888000" cy="2736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07-02-10_1745"/>
          <p:cNvPicPr/>
          <p:nvPr/>
        </p:nvPicPr>
        <p:blipFill>
          <a:blip r:embed="rId6"/>
          <a:stretch/>
        </p:blipFill>
        <p:spPr>
          <a:xfrm>
            <a:off x="3635280" y="3933720"/>
            <a:ext cx="1800360" cy="292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1"/>
          <p:cNvSpPr/>
          <p:nvPr/>
        </p:nvSpPr>
        <p:spPr>
          <a:xfrm>
            <a:off x="250920" y="115920"/>
            <a:ext cx="59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66ff66"/>
                </a:solidFill>
                <a:uFillTx/>
                <a:latin typeface="Arial"/>
              </a:rPr>
              <a:t>Өлшемдерді және қағаз үлгілерд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66ff66"/>
                </a:solidFill>
                <a:uFillTx/>
                <a:latin typeface="Arial"/>
              </a:rPr>
              <a:t>шешу жолд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32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6021360"/>
            <a:ext cx="82296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4" name="Picture 4" descr="07-02-10_1731"/>
          <p:cNvPicPr/>
          <p:nvPr/>
        </p:nvPicPr>
        <p:blipFill>
          <a:blip r:embed="rId1"/>
          <a:stretch/>
        </p:blipFill>
        <p:spPr>
          <a:xfrm>
            <a:off x="0" y="0"/>
            <a:ext cx="3780000" cy="4076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07-02-10_1733"/>
          <p:cNvPicPr/>
          <p:nvPr/>
        </p:nvPicPr>
        <p:blipFill>
          <a:blip r:embed="rId2"/>
          <a:stretch/>
        </p:blipFill>
        <p:spPr>
          <a:xfrm>
            <a:off x="3780000" y="0"/>
            <a:ext cx="2447640" cy="4076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07-02-10_1734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4076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07-02-10_1737"/>
          <p:cNvPicPr/>
          <p:nvPr/>
        </p:nvPicPr>
        <p:blipFill>
          <a:blip r:embed="rId4"/>
          <a:stretch/>
        </p:blipFill>
        <p:spPr>
          <a:xfrm>
            <a:off x="0" y="4076640"/>
            <a:ext cx="2882880" cy="2781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07-02-10_1736"/>
          <p:cNvPicPr/>
          <p:nvPr/>
        </p:nvPicPr>
        <p:blipFill>
          <a:blip r:embed="rId5"/>
          <a:stretch/>
        </p:blipFill>
        <p:spPr>
          <a:xfrm>
            <a:off x="2843280" y="4076640"/>
            <a:ext cx="3009960" cy="278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07-02-10_1735"/>
          <p:cNvPicPr/>
          <p:nvPr/>
        </p:nvPicPr>
        <p:blipFill>
          <a:blip r:embed="rId6"/>
          <a:stretch/>
        </p:blipFill>
        <p:spPr>
          <a:xfrm>
            <a:off x="5867280" y="4076640"/>
            <a:ext cx="3276720" cy="278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ӨҢІЛ БӨЛГЕНДЕРІҢІЗГЕ РАХМЕТ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9"/>
          <p:cNvSpPr/>
          <p:nvPr/>
        </p:nvSpPr>
        <p:spPr>
          <a:xfrm>
            <a:off x="755640" y="704880"/>
            <a:ext cx="77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обаның мақсаты: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Франция технологиясы бойынша стильді іскерлік киімді, қазақ ұлттық киімді және ұлттық бұйымдарды тігу бойынша цехті ұйымдасты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9" descr=""/>
          <p:cNvPicPr/>
          <p:nvPr/>
        </p:nvPicPr>
        <p:blipFill>
          <a:blip r:embed="rId1"/>
          <a:stretch/>
        </p:blipFill>
        <p:spPr>
          <a:xfrm>
            <a:off x="120600" y="2708280"/>
            <a:ext cx="2219400" cy="4040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"/>
          <p:cNvPicPr/>
          <p:nvPr/>
        </p:nvPicPr>
        <p:blipFill>
          <a:blip r:embed="rId2"/>
          <a:stretch/>
        </p:blipFill>
        <p:spPr>
          <a:xfrm>
            <a:off x="6948360" y="2349360"/>
            <a:ext cx="2065320" cy="4365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3" descr=""/>
          <p:cNvPicPr/>
          <p:nvPr/>
        </p:nvPicPr>
        <p:blipFill>
          <a:blip r:embed="rId3"/>
          <a:stretch/>
        </p:blipFill>
        <p:spPr>
          <a:xfrm>
            <a:off x="2771640" y="323532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328608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4"/>
          <p:cNvSpPr/>
          <p:nvPr/>
        </p:nvSpPr>
        <p:spPr>
          <a:xfrm>
            <a:off x="250920" y="1087560"/>
            <a:ext cx="828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3b7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0000ff"/>
                </a:solidFill>
                <a:latin typeface="Arial"/>
              </a:rPr>
              <a:t>Жобаның тапсырмалары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0000"/>
                </a:solidFill>
                <a:latin typeface="Arial"/>
              </a:rPr>
              <a:t>Тұтынушылардың іскерлік стильді киімге және қазақ ұлттық бұйымдарға қажеттіліктерін қанағаттанды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0000"/>
                </a:solidFill>
                <a:latin typeface="Arial"/>
              </a:rPr>
              <a:t>Нарықты отандық сапалы өніммен толты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0000"/>
                </a:solidFill>
                <a:latin typeface="Arial"/>
              </a:rPr>
              <a:t>Отандық тауарөндірушілердің бәсеге қабілеттілігін көтеру.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9440" y="572760"/>
            <a:ext cx="795816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Ұйымдастырулық жосп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Рисунок 52" descr="http://www.cor-style.ru/upload/iblock/c55/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1720"/>
            <a:ext cx="2232000" cy="30956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8"/>
          <p:cNvSpPr/>
          <p:nvPr/>
        </p:nvSpPr>
        <p:spPr>
          <a:xfrm>
            <a:off x="2700360" y="1844640"/>
            <a:ext cx="6264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әсіпорынды заңды рәсімде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Ғимаратты жалға 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Құрал-жабдықтарды сатып алу және орналас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Маталарды және шикізаттарды сатып 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омпанияның жарнамасын және 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ын өткі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68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68" fill="hold"/>
                                        <p:tgtEl>
                                          <p:spTgt spid="2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998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Схема 1" descr=""/>
          <p:cNvPicPr/>
          <p:nvPr/>
        </p:nvPicPr>
        <p:blipFill>
          <a:blip r:embed="rId1"/>
          <a:stretch/>
        </p:blipFill>
        <p:spPr>
          <a:xfrm>
            <a:off x="353880" y="1542960"/>
            <a:ext cx="8508960" cy="5119920"/>
          </a:xfrm>
          <a:prstGeom prst="rect">
            <a:avLst/>
          </a:prstGeom>
          <a:ln w="0">
            <a:noFill/>
          </a:ln>
        </p:spPr>
      </p:pic>
      <p:sp>
        <p:nvSpPr>
          <p:cNvPr id="294" name="Выноска со стрелкой вниз 2"/>
          <p:cNvSpPr/>
          <p:nvPr/>
        </p:nvSpPr>
        <p:spPr>
          <a:xfrm>
            <a:off x="571680" y="214200"/>
            <a:ext cx="7929360" cy="1143000"/>
          </a:xfrm>
          <a:prstGeom prst="downArrowCallout">
            <a:avLst>
              <a:gd name="adj1" fmla="val -23739"/>
              <a:gd name="adj2" fmla="val 24987"/>
              <a:gd name="adj3" fmla="val 25000"/>
              <a:gd name="adj4" fmla="val 64977"/>
            </a:avLst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Қажетті қызметкерле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http://www.asterbro.com.ua/images/s7200A.jpg"/>
          <p:cNvPicPr/>
          <p:nvPr/>
        </p:nvPicPr>
        <p:blipFill>
          <a:blip r:embed="rId2"/>
          <a:stretch/>
        </p:blipFill>
        <p:spPr>
          <a:xfrm>
            <a:off x="500040" y="5000760"/>
            <a:ext cx="2357640" cy="1657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"/>
          <p:cNvPicPr/>
          <p:nvPr/>
        </p:nvPicPr>
        <p:blipFill>
          <a:blip r:embed="rId3"/>
          <a:stretch/>
        </p:blipFill>
        <p:spPr>
          <a:xfrm>
            <a:off x="7072200" y="1285920"/>
            <a:ext cx="1479600" cy="24508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541" descr="http://www.c-style.ru/upload/iblock/10c/33.jpg"/>
          <p:cNvPicPr/>
          <p:nvPr/>
        </p:nvPicPr>
        <p:blipFill>
          <a:blip r:embed="rId4"/>
          <a:stretch/>
        </p:blipFill>
        <p:spPr>
          <a:xfrm>
            <a:off x="285840" y="1214280"/>
            <a:ext cx="1500120" cy="20368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8"/>
          <p:cNvSpPr/>
          <p:nvPr/>
        </p:nvSpPr>
        <p:spPr>
          <a:xfrm>
            <a:off x="4859280" y="3789360"/>
            <a:ext cx="1873440" cy="36036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ішуші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530280" y="291960"/>
            <a:ext cx="7864560" cy="1043280"/>
          </a:xfrm>
          <a:prstGeom prst="rect">
            <a:avLst/>
          </a:prstGeom>
          <a:ln w="0">
            <a:noFill/>
          </a:ln>
        </p:spPr>
      </p:pic>
      <p:sp>
        <p:nvSpPr>
          <p:cNvPr id="300" name="Блок-схема: процесс 4"/>
          <p:cNvSpPr/>
          <p:nvPr/>
        </p:nvSpPr>
        <p:spPr>
          <a:xfrm>
            <a:off x="1928880" y="1428840"/>
            <a:ext cx="3643200" cy="2428920"/>
          </a:xfrm>
          <a:prstGeom prst="flowChartProcess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Пішу бөлім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Блок-схема: процесс 6"/>
          <p:cNvSpPr/>
          <p:nvPr/>
        </p:nvSpPr>
        <p:spPr>
          <a:xfrm>
            <a:off x="1928880" y="3857760"/>
            <a:ext cx="2143080" cy="1643040"/>
          </a:xfrm>
          <a:prstGeom prst="flowChartProcess">
            <a:avLst/>
          </a:prstGeom>
          <a:gradFill rotWithShape="0">
            <a:gsLst>
              <a:gs pos="0">
                <a:srgbClr val="509e36"/>
              </a:gs>
              <a:gs pos="100000">
                <a:srgbClr val="71db4e"/>
              </a:gs>
            </a:gsLst>
            <a:lin ang="16200000"/>
          </a:gradFill>
          <a:ln cap="rnd" w="6480">
            <a:solidFill>
              <a:srgbClr val="78c85d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фис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с двумя вырезанными соседними углами 7"/>
          <p:cNvSpPr/>
          <p:nvPr/>
        </p:nvSpPr>
        <p:spPr>
          <a:xfrm>
            <a:off x="4143240" y="5500800"/>
            <a:ext cx="285840" cy="71280"/>
          </a:xfrm>
          <a:prstGeom prst="pie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с двумя вырезанными соседними углами 8"/>
          <p:cNvSpPr/>
          <p:nvPr/>
        </p:nvSpPr>
        <p:spPr>
          <a:xfrm>
            <a:off x="4929120" y="3786120"/>
            <a:ext cx="357120" cy="71640"/>
          </a:xfrm>
          <a:prstGeom prst="pie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с двумя вырезанными соседними углами 11"/>
          <p:cNvSpPr/>
          <p:nvPr/>
        </p:nvSpPr>
        <p:spPr>
          <a:xfrm>
            <a:off x="5572080" y="4071960"/>
            <a:ext cx="71640" cy="214200"/>
          </a:xfrm>
          <a:prstGeom prst="pie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с двумя вырезанными соседними углами 12"/>
          <p:cNvSpPr/>
          <p:nvPr/>
        </p:nvSpPr>
        <p:spPr>
          <a:xfrm>
            <a:off x="5572080" y="4000680"/>
            <a:ext cx="46080" cy="357120"/>
          </a:xfrm>
          <a:prstGeom prst="pie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с двумя вырезанными соседними углами 13"/>
          <p:cNvSpPr/>
          <p:nvPr/>
        </p:nvSpPr>
        <p:spPr>
          <a:xfrm>
            <a:off x="4714920" y="3857760"/>
            <a:ext cx="500040" cy="46080"/>
          </a:xfrm>
          <a:prstGeom prst="pie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Блок-схема: процесс 15"/>
          <p:cNvSpPr/>
          <p:nvPr/>
        </p:nvSpPr>
        <p:spPr>
          <a:xfrm>
            <a:off x="5572080" y="1428840"/>
            <a:ext cx="2714760" cy="4071960"/>
          </a:xfrm>
          <a:prstGeom prst="flowChartProcess">
            <a:avLst/>
          </a:prstGeom>
          <a:solidFill>
            <a:srgbClr val="0bd0d9"/>
          </a:solidFill>
          <a:ln w="4788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ігін цех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Блок-схема: процесс 18"/>
          <p:cNvSpPr/>
          <p:nvPr/>
        </p:nvSpPr>
        <p:spPr>
          <a:xfrm>
            <a:off x="4572000" y="4724280"/>
            <a:ext cx="1008000" cy="785880"/>
          </a:xfrm>
          <a:prstGeom prst="flowChart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648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уз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с двумя вырезанными соседними углами 22"/>
          <p:cNvSpPr/>
          <p:nvPr/>
        </p:nvSpPr>
        <p:spPr>
          <a:xfrm>
            <a:off x="4071960" y="4000680"/>
            <a:ext cx="46080" cy="357120"/>
          </a:xfrm>
          <a:prstGeom prst="pie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Подзаголовок 23"/>
          <p:cNvGrpSpPr/>
          <p:nvPr/>
        </p:nvGrpSpPr>
        <p:grpSpPr>
          <a:xfrm>
            <a:off x="4041720" y="3828960"/>
            <a:ext cx="1560600" cy="914400"/>
            <a:chOff x="4041720" y="3828960"/>
            <a:chExt cx="1560600" cy="914400"/>
          </a:xfrm>
        </p:grpSpPr>
        <p:pic>
          <p:nvPicPr>
            <p:cNvPr id="311" name="Подзаголовок 23" descr=""/>
            <p:cNvPicPr/>
            <p:nvPr/>
          </p:nvPicPr>
          <p:blipFill>
            <a:blip r:embed="rId2"/>
            <a:stretch/>
          </p:blipFill>
          <p:spPr>
            <a:xfrm>
              <a:off x="4041720" y="3828960"/>
              <a:ext cx="1560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071960" y="3857760"/>
              <a:ext cx="15001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70c0"/>
                  </a:solidFill>
                  <a:latin typeface="Constantia"/>
                </a:rPr>
                <a:t>Коридор</a:t>
              </a:r>
              <a:r>
                <a:rPr b="0" lang="ru-RU" sz="26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Прямоугольник с двумя вырезанными соседними углами 24"/>
          <p:cNvSpPr/>
          <p:nvPr/>
        </p:nvSpPr>
        <p:spPr>
          <a:xfrm>
            <a:off x="5000760" y="4643280"/>
            <a:ext cx="285480" cy="71640"/>
          </a:xfrm>
          <a:prstGeom prst="pie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с двумя вырезанными соседними углами 25"/>
          <p:cNvSpPr/>
          <p:nvPr/>
        </p:nvSpPr>
        <p:spPr>
          <a:xfrm>
            <a:off x="5500800" y="4143240"/>
            <a:ext cx="71280" cy="285840"/>
          </a:xfrm>
          <a:prstGeom prst="pie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Блок-схема: процесс 26"/>
          <p:cNvGrpSpPr/>
          <p:nvPr/>
        </p:nvGrpSpPr>
        <p:grpSpPr>
          <a:xfrm>
            <a:off x="4041720" y="4681440"/>
            <a:ext cx="633600" cy="847800"/>
            <a:chOff x="4041720" y="4681440"/>
            <a:chExt cx="633600" cy="847800"/>
          </a:xfrm>
        </p:grpSpPr>
        <p:pic>
          <p:nvPicPr>
            <p:cNvPr id="316" name="Блок-схема: процесс 26" descr=""/>
            <p:cNvPicPr/>
            <p:nvPr/>
          </p:nvPicPr>
          <p:blipFill>
            <a:blip r:embed="rId3"/>
            <a:stretch/>
          </p:blipFill>
          <p:spPr>
            <a:xfrm>
              <a:off x="4041720" y="4681440"/>
              <a:ext cx="6336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071960" y="4714920"/>
              <a:ext cx="5713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Прямоугольник с двумя вырезанными соседними углами 27"/>
          <p:cNvSpPr/>
          <p:nvPr/>
        </p:nvSpPr>
        <p:spPr>
          <a:xfrm>
            <a:off x="4071960" y="4143240"/>
            <a:ext cx="46080" cy="285840"/>
          </a:xfrm>
          <a:prstGeom prst="pie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http://www.sewtex.ru/upload/iblock/398/TY-1130M.jpg"/>
          <p:cNvPicPr/>
          <p:nvPr/>
        </p:nvPicPr>
        <p:blipFill>
          <a:blip r:embed="rId4"/>
          <a:stretch/>
        </p:blipFill>
        <p:spPr>
          <a:xfrm>
            <a:off x="7143840" y="4357800"/>
            <a:ext cx="890640" cy="6760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540" descr="http://www.c-style.ru/upload/iblock/10f/32.jpg"/>
          <p:cNvPicPr/>
          <p:nvPr/>
        </p:nvPicPr>
        <p:blipFill>
          <a:blip r:embed="rId5"/>
          <a:stretch/>
        </p:blipFill>
        <p:spPr>
          <a:xfrm>
            <a:off x="0" y="260280"/>
            <a:ext cx="1763640" cy="28083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355" descr="http://www.cor-style.ru/upload/iblock/60f/8.jpg"/>
          <p:cNvPicPr/>
          <p:nvPr/>
        </p:nvPicPr>
        <p:blipFill>
          <a:blip r:embed="rId6"/>
          <a:stretch/>
        </p:blipFill>
        <p:spPr>
          <a:xfrm>
            <a:off x="179280" y="3645000"/>
            <a:ext cx="1584360" cy="25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544" descr="http://www.c-style.ru/upload/iblock/9bb/35.jpg"/>
          <p:cNvPicPr/>
          <p:nvPr/>
        </p:nvPicPr>
        <p:blipFill>
          <a:blip r:embed="rId1"/>
          <a:stretch/>
        </p:blipFill>
        <p:spPr>
          <a:xfrm>
            <a:off x="5435640" y="1916280"/>
            <a:ext cx="3708360" cy="49417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45" descr="http://www.c-style.ru/upload/iblock/915/25.jpg"/>
          <p:cNvPicPr/>
          <p:nvPr/>
        </p:nvPicPr>
        <p:blipFill>
          <a:blip r:embed="rId2"/>
          <a:stretch/>
        </p:blipFill>
        <p:spPr>
          <a:xfrm>
            <a:off x="0" y="189000"/>
            <a:ext cx="2987640" cy="4032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Маркетинг. 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Нарықты талдау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28400" y="3357720"/>
            <a:ext cx="87152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73440" indent="-73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ff0000"/>
                </a:solidFill>
                <a:latin typeface="Arial"/>
              </a:rPr>
              <a:t>Тауарды сатып алу кезінде тұтынушыларда пайда болатын қиындықта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3440" indent="-7344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оғары бағ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3440" indent="-7344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ай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3440" indent="-7344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Өлшемде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3440" indent="-7344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Жасына байланысты қажетті түстің болмау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3440" indent="-7344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а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3440" indent="-7344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Блок-схема: альтернативный процесс 4"/>
          <p:cNvSpPr/>
          <p:nvPr/>
        </p:nvSpPr>
        <p:spPr>
          <a:xfrm>
            <a:off x="571680" y="1000080"/>
            <a:ext cx="7858080" cy="1000080"/>
          </a:xfrm>
          <a:prstGeom prst="flowChartAlternateProcess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Қостанай қаласының киім нарығында импорт үлесі 70% шамасын құрай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1763640" y="2637000"/>
            <a:ext cx="575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рықты зерттеу барысында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07-02-10_1747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6" descr="http://www.fabrika-rassvet.ru/images/content/big-man1.jpg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521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1" name="Содержимое 5" descr=""/>
          <p:cNvPicPr/>
          <p:nvPr/>
        </p:nvPicPr>
        <p:blipFill>
          <a:blip r:embed="rId3"/>
          <a:stretch/>
        </p:blipFill>
        <p:spPr>
          <a:xfrm>
            <a:off x="281160" y="353880"/>
            <a:ext cx="8412120" cy="629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1" descr="25-11-09_1817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25-11-09_1822"/>
          <p:cNvPicPr/>
          <p:nvPr/>
        </p:nvPicPr>
        <p:blipFill>
          <a:blip r:embed="rId2"/>
          <a:stretch/>
        </p:blipFill>
        <p:spPr>
          <a:xfrm>
            <a:off x="0" y="0"/>
            <a:ext cx="4788000" cy="67420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237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5" name="Содержимое 3" descr=""/>
          <p:cNvPicPr/>
          <p:nvPr/>
        </p:nvPicPr>
        <p:blipFill>
          <a:blip r:embed="rId3"/>
          <a:stretch/>
        </p:blipFill>
        <p:spPr>
          <a:xfrm>
            <a:off x="0" y="857160"/>
            <a:ext cx="8675640" cy="5776920"/>
          </a:xfrm>
          <a:prstGeom prst="rect">
            <a:avLst/>
          </a:prstGeom>
          <a:ln w="0">
            <a:noFill/>
          </a:ln>
        </p:spPr>
      </p:pic>
      <p:sp>
        <p:nvSpPr>
          <p:cNvPr id="336" name="Oval 12"/>
          <p:cNvSpPr/>
          <p:nvPr/>
        </p:nvSpPr>
        <p:spPr>
          <a:xfrm>
            <a:off x="3924360" y="2637000"/>
            <a:ext cx="2735280" cy="230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азақ ұлтт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ұйымдарғ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негізгі тұтынушыл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4572000" y="907920"/>
            <a:ext cx="1440000" cy="14414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отбасы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7143840" y="3143160"/>
            <a:ext cx="1439640" cy="1440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Турист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5"/>
          <p:cNvSpPr/>
          <p:nvPr/>
        </p:nvSpPr>
        <p:spPr>
          <a:xfrm>
            <a:off x="108000" y="2997360"/>
            <a:ext cx="3024000" cy="1584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Мәдениетті-ағартушы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қызметімен айналысат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ұйым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6"/>
          <p:cNvSpPr/>
          <p:nvPr/>
        </p:nvSpPr>
        <p:spPr>
          <a:xfrm>
            <a:off x="4140360" y="5373720"/>
            <a:ext cx="2304720" cy="1150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Тараптық ұйым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4:48:43Z</dcterms:created>
  <dc:creator>student</dc:creator>
  <dc:description/>
  <dc:language>en-US</dc:language>
  <cp:lastModifiedBy>ноут</cp:lastModifiedBy>
  <dcterms:modified xsi:type="dcterms:W3CDTF">2011-06-06T10:05:33Z</dcterms:modified>
  <cp:revision>87</cp:revision>
  <dc:subject/>
  <dc:title> Тема проекта: Производство деловой стильной одежды по французской технологий со средней ценовой нишей и казахских традиционных изделий</dc:title>
</cp:coreProperties>
</file>