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465-AAED-43C9-8907-CD073A49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3AC-D888-4FB3-BD54-1DDC82B3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CBD-7E61-4276-A104-17B34E5D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327-8607-4A82-A71E-DCFBEF50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BD86A-12F9-4714-AD2D-7542D1DC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14B6-E68A-458F-83B7-7431E68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3714-F7A7-46DD-8F16-B415738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AE6C2-ADD2-4467-9A73-FFE29796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89258-CC38-42EC-B22F-8A66802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5FB1-75DC-483F-8773-057275E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7796-44C7-4163-B701-C022EA1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D1E-8DD2-4CC7-85BB-6E609FD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5196-441D-4619-9CC3-02FE105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3CB43-8B3F-4EB4-BEA8-77D17FA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073B4-3B4F-49ED-A457-E032745D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BC28-EE78-42E7-83A2-404069D7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0CEC-7E0E-422C-A8A2-DFA9628D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EDE-4609-457E-A4FA-3668D5D7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00A2-E52B-4A2A-A2DB-27B172A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1425-26AB-4946-AA13-20A4127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1D65-3432-4AE7-A67A-26E39973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C06A-D433-4601-8BBE-A2744CB6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5BA-B4CB-409B-9477-6E7DB88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6BDE-DFE4-4390-84FD-58217C26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A598-3691-4F97-9981-BBCCB05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6518-9022-4FC2-9026-21A6554D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D4D2-C717-4F13-8E98-D289C5B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58EB-6211-4B3E-8567-FCEE8CF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6695-4B81-4D4B-A33A-277E0A62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4F20-1EC5-4819-A4AD-D6F3D3CF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1094-0D4B-475F-A0D4-7928F43A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C2D1-6269-4F2C-8B23-35247D2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1F90-BE41-44CF-9645-3DB63DC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A60-538F-4E01-9A93-B7A0400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649E-AB67-4367-9EF9-6B39163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D5D6-E0B3-45BF-AC4A-E27E5DE4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722A-8DB8-403C-95FA-E89F5B7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EDD8-D06E-4119-B19F-B53E5DF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0E88-9D68-4A2E-BB04-83A27FC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DB92-4393-419B-90DD-9B3FE90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2935-9322-4F53-B87A-4516829C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0F37-2B34-478F-9881-28B1B131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DC48-1685-40CA-A162-170F074D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8322-439E-47B9-9292-40ED226F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D3F-57B7-4994-B1BA-9CFEC01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9685-7CBD-498E-AB12-74B01F1D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5DFE-0EF1-43F7-9AF5-0E860458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DB51-E61F-496A-9B60-4D8CE7D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D83B-BB53-4B01-96F5-945B96FA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37D6-656D-40BE-B790-2A32CCF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A839-4F26-4F77-B01F-9C1F74C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B116-8091-4B99-8B26-F6795F5B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84CD-BFA9-4DA7-AEA9-1677D03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6BD2-F7A4-495E-A5AF-B23AA675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BB23-CAD9-40F4-87A5-53C7205E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11C-D149-4344-8FC5-A15A530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7C08B-0F58-476E-BDF1-D04CCB85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D71A-8CD0-4FA1-901E-02BE83B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83A4-B7C3-4617-A497-044BD395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0294-C3AA-4EEE-8D05-E762B21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F6B5-D766-40C2-9C7C-F031E1C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E029-EDBA-4FAB-95B1-32A4032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6170-DD04-4CF7-B1E9-098197CC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C71BC-4D62-4D60-9180-5A633C0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E259-AB7F-4068-9D6C-2F35ACD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2415-1837-4EA2-A695-1B44FF5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79B-2B00-4CD9-940F-D658854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5BF07-005A-4F08-BA52-5B555FC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CB9E-198E-41AB-93C6-DA9D1CC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281C-371E-4BB3-9D60-D9107D69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BC19-3FE0-46C2-981B-62CF1EEE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9BB4-DAD4-43B7-83D3-9B02A4D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848E-CAA1-4046-860F-3151AD5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3182-FC44-4366-8AE8-A773BCB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5F99-D06F-4C7B-A89C-73CA333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0573-37B8-4E5D-A2AA-76759BB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C6CD9-A4F3-47D3-935C-C2B954D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A94-B26C-4139-98DA-E16793D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E4A9-2B6F-4733-AD85-8C4B7EC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74E1-5C37-4379-89C9-37CAC08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7E06C-1A0B-46E9-8361-3B4D036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BB9A-91E2-4705-B7A5-6D44D8D1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67177-48E6-46D2-A811-D73C9854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8F6-ACD6-4C84-9324-DC2C5C3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0CE9-1C33-4DB1-8D77-2CCDFBF8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6881-E91E-4806-BE48-B8B24517E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9D15-3B02-4D93-B21B-FAE85EF13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491F-413F-44AF-AC73-D066FCE668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09B5-CE76-405A-B6F6-D8BCEB0B26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4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3E38-FBFA-49F3-BD12-64FDEA6FB3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5302-9AC0-468B-8762-6C13458DDD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295280" y="1905120"/>
            <a:ext cx="6705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әсіпорын қаржы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38080" y="75420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ә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іпкерлік капит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айда алу ж</a:t>
            </a:r>
            <a:r>
              <a:rPr b="0" lang="kk-KZ" sz="2000" spc="-1" strike="noStrike">
                <a:solidFill>
                  <a:srgbClr val="cc0099"/>
                </a:solidFill>
                <a:latin typeface="Arial"/>
              </a:rPr>
              <a:t>ә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не кәсіпорынды басқару кұкығын иемдену мақсатымен салынған (инвестицияланған) капитал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98560" y="2220840"/>
            <a:ext cx="71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иелік капит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б</a:t>
            </a:r>
            <a:r>
              <a:rPr b="0" lang="kk-KZ" sz="2000" spc="-1" strike="noStrike">
                <a:solidFill>
                  <a:srgbClr val="cc0099"/>
                </a:solidFill>
                <a:latin typeface="Arial"/>
              </a:rPr>
              <a:t>ұ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л өсім түрінде ақы төлеп қайта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талабымен несиеге берілетін ақша капитал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3541680"/>
            <a:ext cx="833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иелік қаржы ресурстары көбінесе мына түрлерде кездесед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нктік несие мен басқа да несиел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ә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іпорын облигацияларын шығару ж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ә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 с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рықтың өзге банктік емес субъектілерінен алынған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қарыз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971800" y="60948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оспар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1901880"/>
            <a:ext cx="7207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Кәсіпорын қаржысы түсінігі, принциптері, қызметі және қаржылық қатына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Кәсіпорынның қаржылық тұрақтылығы мен іскерлік белсенділігін арттыр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жылық кәсіпкерлік і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жы механиз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52280" y="245160"/>
            <a:ext cx="86108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1. Кәсіпорын қаржысы түсінігі, принциптері, қызметі және қаржылық қатынасы</a:t>
            </a: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99"/>
                </a:solidFill>
                <a:latin typeface="Arial"/>
              </a:rPr>
              <a:t>Кәсіпорын қаржысы – бұл қаржы қатынастарының жүйесі, айналым процесіндегі қаржылық қордың қолданылуын және қалыптасуын білдіреді.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 rot="5400000">
            <a:off x="-1062360" y="3881520"/>
            <a:ext cx="38005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инцптері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057400"/>
          <a:ext cx="3946680" cy="3382920"/>
        </p:xfrm>
        <a:graphic>
          <a:graphicData uri="http://schemas.openxmlformats.org/drawingml/2006/table">
            <a:tbl>
              <a:tblPr/>
              <a:tblGrid>
                <a:gridCol w="3946680"/>
              </a:tblGrid>
              <a:tr h="369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өзінд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өз-өзін қаржыланды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жұмыс нәтижесі мен жауапкершілігіне қызығушылығ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қаржылық резервтердің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құрылу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қаражаттың меншік және қарыз болып бөліну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млекет алдында бірінші орында міндеттемені орында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1904040" y="5180760"/>
            <a:ext cx="552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кәсіпорын қызметіне қаржылық бақыла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3429000"/>
            <a:ext cx="533520" cy="1219320"/>
          </a:xfrm>
          <a:custGeom>
            <a:avLst/>
            <a:gdLst>
              <a:gd name="textAreaLeft" fmla="*/ 83160 w 533520"/>
              <a:gd name="textAreaRight" fmla="*/ 466920 w 53352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057400" y="2895480"/>
            <a:ext cx="4495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әсіпорын қатынастары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371600"/>
            <a:ext cx="8077320" cy="5335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Бөліп тұратын (Кәсіпорын қорлары және бүкіл қарж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кірістері қолданылады және қалыптасад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2057400"/>
            <a:ext cx="8077320" cy="5335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Бақылау (қаржылық ресурстар бухгалтерлік, статистик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және оперативтік есеп беру және қаржылық әсерінің қозғалы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533520"/>
            <a:ext cx="4495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әсіпорын қызыметтері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39840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онтрагенттер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әсіпорындар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німді тұтынушылар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ақтандыру мекемелері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нктік системалар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млекет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оғары тұрған басқару құрылымы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724280" y="234396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cc0099"/>
                </a:solidFill>
                <a:latin typeface="Arial"/>
              </a:rPr>
              <a:t>Кәсіпорынның қаржылық тұрақтылығы - бұл тәуекелділіктің мүмкін болатын деңгейінде төлем қабілеттілігі мен несие қабілеттілігін сақтай отырып, табысты өсіру негізінде қаржыны тарату мен пайдалану арқылы кәсіпорынның дамуын көрсететін қаржы реурсының жағдайы</a:t>
            </a: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80880" y="2362320"/>
          <a:ext cx="407052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407052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4920" y="4572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2.Кәсіпорынның қаржылық тұрақтылығы мен іскерлік белсенділігін артт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71360"/>
            <a:ext cx="9144000" cy="685800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200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2060640"/>
            <a:ext cx="858816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ерциялық банк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— акционерлік түрдегі төлем негізінде коммерц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ұйымдарды несиелендіретін, а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қш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ай салымдарды қабылайтын (депозиттерді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ә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 клиенттердің басқа да өтініштерін, талаптарын орындайт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қаржылай-кредиттік мек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1280" y="260280"/>
            <a:ext cx="808668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Қаржылық кәсіпкерлік іс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60280"/>
            <a:ext cx="8839080" cy="8064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886200"/>
            <a:ext cx="85885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ммерциялық банктің кірісінің көзі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— депозиттік пайыздық ш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н  кредиттің пайыздық мөлшерінің айырмасы болып табы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733920" y="549360"/>
            <a:ext cx="4894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Қаржы механизмі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3880" y="3124080"/>
            <a:ext cx="685800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ялар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365720"/>
            <a:ext cx="3024360" cy="14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қарж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ресурстар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жұмылдыру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59280" y="4941720"/>
            <a:ext cx="3168360" cy="141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2. қаржыланд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00720" y="5418000"/>
            <a:ext cx="2843280" cy="14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3. ынталанды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басқалары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cc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7640" y="1538640"/>
            <a:ext cx="958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Қаржы механизмі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– экономикалық және әлеуметтік даму үшін қолай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жағдайлар жасау мақсатында қоғам қолданатын қаржылық қатынастар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ұйымдастыру нысандарының, қаржы ресурстарын қалыптастырып, пайдала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әдістерінің жиынтығ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09480" y="138744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ржы ресурстарының мәні және оны сарала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әсіпорынның каржы ресурсы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б</a:t>
            </a:r>
            <a:r>
              <a:rPr b="0" lang="kk-KZ" sz="2400" spc="-1" strike="noStrike">
                <a:solidFill>
                  <a:srgbClr val="ff6600"/>
                </a:solidFill>
                <a:latin typeface="Arial"/>
              </a:rPr>
              <a:t>ұ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 қаржылық міндеттемелерді орындауға ж</a:t>
            </a:r>
            <a:r>
              <a:rPr b="0" lang="kk-KZ" sz="2400" spc="-1" strike="noStrike">
                <a:solidFill>
                  <a:srgbClr val="ff6600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не кеңейтілген қайта жаңғыртуды қамтамасыз етуге арналған ақша қаражаттарының табыстары ж</a:t>
            </a:r>
            <a:r>
              <a:rPr b="0" lang="kk-KZ" sz="2400" spc="-1" strike="noStrike">
                <a:solidFill>
                  <a:srgbClr val="ff6600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не амортизациялар, сыртқы табыстар мен кідіртілген төлемдер түріндегі бір бөліг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1"/>
          <p:cNvSpPr/>
          <p:nvPr/>
        </p:nvSpPr>
        <p:spPr>
          <a:xfrm>
            <a:off x="8985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44"/>
          <p:cNvSpPr/>
          <p:nvPr/>
        </p:nvSpPr>
        <p:spPr>
          <a:xfrm>
            <a:off x="304920" y="228600"/>
            <a:ext cx="80769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8"/>
          <p:cNvSpPr/>
          <p:nvPr/>
        </p:nvSpPr>
        <p:spPr>
          <a:xfrm rot="10800000">
            <a:off x="228600" y="4724280"/>
            <a:ext cx="4038480" cy="1905120"/>
          </a:xfrm>
          <a:prstGeom prst="wedgeRectCallout">
            <a:avLst>
              <a:gd name="adj1" fmla="val 18435"/>
              <a:gd name="adj2" fmla="val 697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мортизациялық төлем аударылып отырған жабдықтар немесе өзге де нысандардың қызмет ету мерзімі ішінде жинақталған амортизациялық аударымдар негізгі капитал істен шыққанға дейін уақыт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ос ақшалай караж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5943600" y="1752480"/>
            <a:ext cx="3048120" cy="838440"/>
          </a:xfrm>
          <a:prstGeom prst="wedgeRectCallout">
            <a:avLst>
              <a:gd name="adj1" fmla="val -23592"/>
              <a:gd name="adj2" fmla="val 1293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артылғ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8"/>
          <p:cNvSpPr/>
          <p:nvPr/>
        </p:nvSpPr>
        <p:spPr>
          <a:xfrm>
            <a:off x="5791320" y="5715000"/>
            <a:ext cx="3124080" cy="838080"/>
          </a:xfrm>
          <a:prstGeom prst="wedgeRectCallout">
            <a:avLst>
              <a:gd name="adj1" fmla="val -18240"/>
              <a:gd name="adj2" fmla="val -1759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сиеге алынғ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981080" y="380880"/>
            <a:ext cx="5058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әсіпорынның қаржы ресурста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3276720"/>
            <a:ext cx="2362320" cy="10666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3276720"/>
            <a:ext cx="2667240" cy="990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8"/>
          <p:cNvSpPr/>
          <p:nvPr/>
        </p:nvSpPr>
        <p:spPr>
          <a:xfrm rot="5400000">
            <a:off x="1142640" y="838080"/>
            <a:ext cx="1295640" cy="3124080"/>
          </a:xfrm>
          <a:prstGeom prst="wedgeRectCallout">
            <a:avLst>
              <a:gd name="adj1" fmla="val 66907"/>
              <a:gd name="adj2" fmla="val 14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есептеліп жатқан амортизация к</a:t>
            </a:r>
            <a:r>
              <a:rPr b="0" lang="kk-KZ" sz="1600" spc="-1" strike="noStrike">
                <a:solidFill>
                  <a:srgbClr val="0000ff"/>
                </a:solidFill>
                <a:latin typeface="Arial"/>
              </a:rPr>
              <a:t>ә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іпорынның қаражат қ</a:t>
            </a:r>
            <a:r>
              <a:rPr b="0" lang="kk-KZ" sz="1600" spc="-1" strike="noStrike">
                <a:solidFill>
                  <a:srgbClr val="0000ff"/>
                </a:solidFill>
                <a:latin typeface="Arial"/>
              </a:rPr>
              <a:t>ұ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амынан алынып тасталмай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2819160" y="1676520"/>
            <a:ext cx="1066680" cy="30477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267080" y="1676520"/>
            <a:ext cx="1119240" cy="3047760"/>
          </a:xfrm>
          <a:custGeom>
            <a:avLst/>
            <a:gdLst>
              <a:gd name="textAreaLeft" fmla="*/ 0 w 1119240"/>
              <a:gd name="textAreaRight" fmla="*/ 1119600 w 1119240"/>
              <a:gd name="textAreaTop" fmla="*/ 360 h 3047760"/>
              <a:gd name="textAreaBottom" fmla="*/ 30484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34290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Ішк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меншікті)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72200" y="34290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ыртқы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тартылған)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28T15:52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