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68A2-DFB4-4D8A-A3F9-839681E3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A6F4-EEA1-4678-9001-C927C4A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6816-22BB-45FE-9781-2393BE27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8176-4B38-4D0D-81AF-9D8A2ACA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7615-A3FB-443C-8BE6-CF4EB63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706-6FFD-4B4C-ABBF-00B6026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1D3F-8673-414A-BDED-D55F366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8E53-A56B-4ECE-B546-0177307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521-EEC8-4806-8492-1BC9D7B3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2817-367E-4B95-8C3C-F4F3F90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045-A94F-48B9-84E0-D166D63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E480-3A78-4855-910F-1D05410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B531-2D4C-42C3-8972-ED7530E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370-A3B0-497C-9382-4322645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BDC4-D0D3-4AA7-9228-B61D9F7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B9A-5D06-424D-9AF6-A4DA856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01D-6BC4-486B-BC17-C645BEB1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62E8-9B07-4061-81E3-C615ADA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B085-CE62-462F-B81B-07EE64F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EB6D-0E7B-4CF8-962B-2B055DB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052D-63E8-4174-9E4F-06C187B1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C8C4-32AD-49A2-9337-5CF9AEB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DA11-4BC2-4958-9AB8-71C6906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E178-CFCF-4BD5-9BE9-212BC8D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8C5-1A0D-44FE-860E-EE66B286B6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2BCA-2D33-4172-9D65-DC00A47017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1828800"/>
            <a:ext cx="84200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ffff"/>
                </a:solidFill>
                <a:latin typeface="Arial"/>
              </a:rPr>
              <a:t>Өнімнің бәсекеге қабілеттілігін қамтамасыз е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4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Диаграмма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1848960" y="571680"/>
            <a:ext cx="44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знесті жүргізу тиімділіг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857240" y="1071720"/>
            <a:ext cx="27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34 орын  29 о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309920" y="90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329000" y="9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869840" y="5645160"/>
            <a:ext cx="24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4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4329000" y="9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214280" y="56451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1591200" y="42876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Инфрақұрылымдардың дам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Диаграмма 9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0"/>
          <p:cNvSpPr/>
          <p:nvPr/>
        </p:nvSpPr>
        <p:spPr>
          <a:xfrm>
            <a:off x="2229120" y="11430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44 орын   39 ор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ға белгілеу кезеңдер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қсатты таңдап а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ұранысты анықт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Шығынды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әсекелестердің              бағасына 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аға белгілеуді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ісін талд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7120" y="1856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үпкілікті бағаны белгіле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ркетинг, нарық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деу және зертте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арастырылатын сұрақта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әсеке, бәсекеге қабілеттілік ұғымдары және олардың жіктелуі. Қазақстан Республикасы экономикасының бәсекеге қабілеттілік деңгей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Өнімге қойылатын техникалық талаптарды жобалау және зертте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териалды-техникалық жағынан қамтамасыз 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Өндірістік процесстерді дайынд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Өнді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ақылау және сан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Өнімді орау және сақ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Өнімді өткіз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онтаждау және пайдалану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Қызмет атқаруына қажетті техникалық көмек көрс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Өнімді пайдаланып болғаннан кейін қалдықтарды пайдаға ж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Өнімнің бәсекеге қабілеттілігін өсірудегі бағаның рө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тау дегеніміз - орындау үшін міндетті және ұсынылатын талаптарды, нормаларды, ережелерді, сипаттамаларды жасау және  бекітілу бойынша і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Қазақстанның бәсекеге қабілеттілігі мол туристік аймақ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янауы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ноут\Desktop\Новая папка\30fc9617.jpg"/>
          <p:cNvPicPr/>
          <p:nvPr/>
        </p:nvPicPr>
        <p:blipFill>
          <a:blip r:embed="rId1"/>
          <a:stretch/>
        </p:blipFill>
        <p:spPr>
          <a:xfrm>
            <a:off x="428760" y="35712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Users\ноут\Desktop\Новая папка\1503292000a1b002226b69381b15b725128d25a5c4.jpg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қаралы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ноут\Desktop\Новая папка\03.jpg"/>
          <p:cNvPicPr/>
          <p:nvPr/>
        </p:nvPicPr>
        <p:blipFill>
          <a:blip r:embed="rId1"/>
          <a:stretch/>
        </p:blipFill>
        <p:spPr>
          <a:xfrm>
            <a:off x="428760" y="285840"/>
            <a:ext cx="832788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ноут\Desktop\Новая папка\ch14-02.jpg"/>
          <p:cNvPicPr/>
          <p:nvPr/>
        </p:nvPicPr>
        <p:blipFill>
          <a:blip r:embed="rId1"/>
          <a:stretch/>
        </p:blipFill>
        <p:spPr>
          <a:xfrm>
            <a:off x="357120" y="285840"/>
            <a:ext cx="81597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абай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ноут\Desktop\Новая папка\BOROV-5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Өнім сапасы: түсінігі, көрсеткіштері және деңгейін өсіру жолд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ноут\Desktop\Новая папка\1702105.jpg"/>
          <p:cNvPicPr/>
          <p:nvPr/>
        </p:nvPicPr>
        <p:blipFill>
          <a:blip r:embed="rId1"/>
          <a:stretch/>
        </p:blipFill>
        <p:spPr>
          <a:xfrm>
            <a:off x="285840" y="500040"/>
            <a:ext cx="85532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ырзым қорығ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ноут\Desktop\Новая папка\ValStudio-5591_fs.jpg"/>
          <p:cNvPicPr/>
          <p:nvPr/>
        </p:nvPicPr>
        <p:blipFill>
          <a:blip r:embed="rId1"/>
          <a:stretch/>
        </p:blipFill>
        <p:spPr>
          <a:xfrm>
            <a:off x="428760" y="1357200"/>
            <a:ext cx="82389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лары</a:t>
            </a:r>
            <a:r>
              <a:rPr b="1" i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ызға рахм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Қазақстан кәсіпорындары өнімдерінің бәсекеге қабілеттілігін арттырудағы Кедендік Одақтың, ДСҰ рө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жүзілік экономикалық форум әзірлеген әлем экономикасының бәсекеге қабілеттілік рейтингі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428840"/>
          <a:ext cx="9001080" cy="5422680"/>
        </p:xfrm>
        <a:graphic>
          <a:graphicData uri="http://schemas.openxmlformats.org/drawingml/2006/table">
            <a:tbl>
              <a:tblPr/>
              <a:tblGrid>
                <a:gridCol w="1852560"/>
                <a:gridCol w="1435320"/>
                <a:gridCol w="2063520"/>
                <a:gridCol w="2065320"/>
                <a:gridCol w="1584360"/>
              </a:tblGrid>
              <a:tr h="979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де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һандық бәсекеқабілеттілік рейтинг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һандық бәсекеқабілеттілік рейтинг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Өзгері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 жж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ҒАЛА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ӨЗГЕРІ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гапу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зірбайжа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Қазақ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әлімет жоқ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әлімет жо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гол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әжік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9760" rIns="59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Қырғыз Республикас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535788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9ж   2010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6 орын    33 оры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8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9"/>
          <p:cNvSpPr/>
          <p:nvPr/>
        </p:nvSpPr>
        <p:spPr>
          <a:xfrm>
            <a:off x="802080" y="50004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әсекеқабілеттіл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9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0"/>
          <p:cNvSpPr/>
          <p:nvPr/>
        </p:nvSpPr>
        <p:spPr>
          <a:xfrm>
            <a:off x="1600920" y="50004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Экономикалық да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1857240" y="56437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9ж          2010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1643040" y="10717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4 орын      43 ор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4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Диаграмма 6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7"/>
          <p:cNvSpPr/>
          <p:nvPr/>
        </p:nvSpPr>
        <p:spPr>
          <a:xfrm>
            <a:off x="1940040" y="7142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Үкімет тиімділіг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1785960" y="1214280"/>
            <a:ext cx="31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21 орын    20 оры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1357200" y="5429160"/>
            <a:ext cx="3643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2009         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</cp:lastModifiedBy>
  <dcterms:modified xsi:type="dcterms:W3CDTF">2010-11-05T05:45:04Z</dcterms:modified>
  <cp:revision>31</cp:revision>
  <dc:subject/>
  <dc:title>PowerPoint Presentation</dc:title>
</cp:coreProperties>
</file>