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52D9-5987-40FA-9556-9605789E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A31B-376D-47AA-99CC-78D4EF0E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E33A-D333-4086-951E-FB00419A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B612B-D829-4FA2-AD78-6C389AA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93E87-F054-4596-8AEC-B0B115C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85F5F-9133-4230-B127-CD07449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706B1-FD7F-474C-81C6-35C775E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164B3-C09F-4D49-A00D-76609039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5B538-5FDE-46CA-BAC4-633C6D14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3CBED-70BB-4F47-B1D9-2DF35520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127D8-C15B-4D87-91AD-7468C7CE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6F069-1174-4EEF-8B79-77F153E8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326B-C509-4DF8-850E-7F0BACF4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6D1DE-BF56-4764-B3F2-56BFBA07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ABF76-D982-42B8-BC6D-BD3A985E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FB266-417C-43DB-AF93-107BFAB8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BF634-DA63-41E3-BBF0-7B4C3749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3956-96DE-44F8-BC91-ADB291F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32FA2-6363-41CD-859F-9C93BA2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943F7-DA52-4594-87DE-795749F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823B1-2CD2-42E6-BCD3-E94D4C78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ACE1E-EDB1-477C-9106-1E203E1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B763A-4834-46D5-AF9D-71EA13BB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AC4A-73A9-4E11-AC4A-6BA99DE1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7FDCE-6230-4FF6-8377-98DB20BE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07D13-E1F3-4D74-A9BF-0FF4CDA3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68DA-7D16-4260-A568-162DB5E8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3F70F-2EE4-46FC-BC13-76488685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0F828-A1DD-4156-9EA1-A2E3522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0B9C0-11E7-4356-9680-C5B5ADD3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B9901-4866-4C4C-A87B-1CB46E9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67C6B-FEB8-4F05-85E8-73201DA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8C57-DEE7-4F34-B923-DED087F5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B99DE-B125-4E17-8400-D495A3D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891A-EB79-47F4-9E58-FC63D4D5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D1517-8BC8-4EE3-B7AF-F7083C66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5C9F5-819B-415F-828C-77F2BABA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4F589-B405-4326-B53C-51707C9D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6FD2B-52F7-47BB-A5B5-C397357E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D9618-1036-4DAD-8E63-FC1CC557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4B719-800D-4906-875B-B491B8D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D465E-D7F7-42EC-9573-91ED48B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26C69-0E8F-43CE-94AA-2B608B5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338DF-FFB9-459B-AF76-5B74B3B8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0B63D-C6CE-42EE-9C1C-894BD9F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98DD-44C0-4961-9CCD-18D289F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81BBF-4DFF-42C2-8928-D6B9B67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63FD0-31D7-44B7-B56F-BAE5057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D1312-B508-4F92-AC43-1310E54F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B7D0D-59D4-4EA7-A2C1-11F376A3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25F35-FFB9-43AB-9D89-01ABB46E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A10985-69C9-49FF-98C8-DC805814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8D2E78-3E79-4A1B-AD79-9C3E30A6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FB9659-8F67-4314-B25E-B90D388F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216CCD-70C6-4F95-96E2-A9F1813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D36B74-BD6C-44CD-B56F-55C0C87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7688-C50E-4773-98D9-AF10AE60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EC7B3A-4ADF-47C4-A18E-90D4987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9C6631-F777-4873-99A5-2C56D87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32D8E9-D0AD-4FB1-9DBE-97829122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0B563A-7078-44E6-A148-D4CC7E5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DB4C86-94C5-400A-8E0E-C717C6EF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5DE8E2-F815-4855-9BAE-AC852FBF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8EA8FF-55BA-4912-83A2-15539352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5D305-BF4E-4A61-BA00-A87FBFCD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4AB9A-D3E7-4018-855B-12E06C21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E50D7-10C9-468D-8E9B-F14B308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6029-0196-4A05-B05C-C578B96F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D5D01-4E99-40E5-8F66-80CC2C37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7991F-61F8-4E9D-8708-6E2BA7E2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15245-1862-49DD-BED6-BF76DE5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CCD21-8389-4118-8319-BC626DB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ED95B-DF77-4A3A-BA32-617B8F1F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FB9F8-63A2-49ED-94FF-3363B7FD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7CC00-C0DE-4644-8AE0-71732574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B7FCD-E855-4A5D-9903-099068E6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20F79-13E3-4CB6-95EA-DDCEB476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3DFF8-C02E-428C-9589-237B5C08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FC3E-ACC1-44D9-82CC-E1A7181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39B59-5F56-4888-B1B7-88AC269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F8643-25AE-4C0B-BBFF-B52CF31A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F86EE-A78F-4A93-B2A8-64C31B8D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87572-314A-46BB-9D99-08C2B6D9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37847-2C65-4DF1-A78B-845B672F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667BC-4ABF-4619-AEE8-52ADD20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D6461-AD75-4929-BAE7-7C9522F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43481-69E7-4415-9984-B00D7FF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7CAA4-2D74-4ECD-83DF-A6197EC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D79FD-59BC-4001-B90E-55AAB75C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AB76-4F06-4E7E-8F9F-CD07DC8B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3F778-00AA-40DF-87EF-666CA905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5AF4D-655D-4D40-B3CD-B6A55848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66CF2-BCD2-4054-B6E7-9EA73E8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2F958-18EF-40A2-BF9B-74D7853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6FC1D-6875-4D0F-ACC9-4BF4E627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2F554-63C4-46E1-B2D4-5647E3D5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DEE82-2CF0-4FDE-9A9E-F285CEC8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3F1D8-EF62-4342-8663-925776FC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22553-B01D-41DF-AB4D-E1AB6BF9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571DC-7463-41EF-A265-9A3C119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7D2-1DA1-48FA-8481-DB4D18F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3C15D-7AC5-472C-9683-725C0D2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23DBD-DC7B-464A-ABE7-9BAADA63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DC3EF-1299-414B-B41A-34FBE717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1E06-07DC-449C-BC1D-29A4951C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FF51-411A-40F6-92C8-4AD060F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4E68-E392-45C5-BA27-466913FE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7511-E374-4E19-8B66-3D3ED958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4382-D106-4123-A742-4E183AD3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B522-7976-4325-9B39-867272CE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9E70-05E8-47A1-9C7A-7A763052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3D55-F7A1-48D4-9ECD-B1560882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016A-79F7-47E3-ADCB-CC5BCA04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81A1-C23E-4133-A2DB-85B9D72E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1EAB-C9FD-4FFD-846E-2536D70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CF45-5458-4E4E-99A6-B1C1B68F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597F-58AB-418B-9AF9-8A731A73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B90D-CCFE-4D04-8D32-05EDD4E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E229-5BEF-4770-A260-F73EC8FB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11CA-8732-4691-9914-F9CFBA61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FF55-D335-4AA7-904E-25047162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C547-5465-4F1D-85DE-B761C13B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DA74-C4D7-4CD1-AB3E-5B938897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A4AF-0FC8-4657-BA86-52118146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36A7-1F24-421E-A5F7-3398005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F5D8-84EB-4046-83CF-ECBEF9D5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F35F-2F7D-4EC9-83F1-F80103BA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70F5-F6AC-4547-BB4A-DC2E555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F812-F59F-40C3-B8C4-6B55719C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27B2-7A38-4368-8701-690283D1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6A06-B9B4-4E3E-AE20-C9B26A4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63B9-A7D6-45E7-9BF8-BB17ADE6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D62E-C605-41FC-9BAA-6826FAB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7119-D35F-4478-B739-2CFEE0D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372F-307E-4646-A4FF-AD38265E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CF467-08BD-4E00-8D81-5D67D460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635FE-D406-4B8C-8F3E-F0B2912E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881B-FC25-4B57-889A-9C5FE77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C0DEB-142F-4B37-9A33-BD1843BB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6A24-C777-47A9-99CC-78DBED4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F10AD-6141-48BF-B504-7243C0A4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BAE2-F382-4474-8468-17BFD0F9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392F-E3AB-4DB0-B97A-BE07E11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9B96-12D9-4AE5-B2D2-FE65A85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4D1C-5668-4C58-8B32-14DDDAB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E752-B5F2-4AFA-AF81-8D83FC6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399E-2B45-4953-9458-150BFF3E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8E57-2EA7-411C-91A2-76DA4C75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97BF-DD4B-48FE-A712-50D32C31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B236-7CA3-4852-B581-BDA9CC9E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339A-493E-4477-A1CA-2642D29B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96354-5867-4E11-ACE5-B560B5C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6BDE-2918-4508-B684-DB5D094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ED560-684E-4C47-A585-AB933F16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DC6E-3764-45FD-A4DF-E36F805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0913-2CF6-4C69-83C7-7CBC9752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B794-B893-4646-B7B8-ECD054B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94C1-BA25-44DA-8439-FA62183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A55E-6180-4797-A597-2459CA0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7812-A3AC-4171-A0C3-AE616CF2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F768-4A95-44D6-97D4-82C4200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9653-1647-4DD3-8855-8B21CB58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3C7D4-047B-42C5-9207-EE8EF2EF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86E9-ABDB-4AC9-A8A6-3BDEE6D5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0F9E3-B96F-4EB9-AB0A-3E1D418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DD29A-CBFE-4B2B-B514-02E2AC5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A0522-7BD0-4C1C-9387-431EFBD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F950-EA5F-4F56-9E8C-BBF89BB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9AF9-55D6-42BE-8B8F-C10DDCB8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B283-9416-46FC-9512-BB5B4B9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3AF2-5C03-4FA3-8F45-AC413EDB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D2B5-452C-4130-B4F2-34E2535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D79A-D38D-41E0-BF68-E19EA37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BCC7-A930-4F63-996B-7D9522CE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22D0-93E9-462A-B6B5-D171F524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5D97-9EA3-4848-9748-6E4F23B4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B014F-1D6D-4D1A-A072-DE1B06B6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0D38D-9D3D-4EEE-9A19-D50E5C69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46C0-E359-452C-8009-CF17D06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6131-05BA-4280-9D5A-88EED195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8EBD-DD13-4471-917C-04B0E23F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05E6-6FE0-4E49-8651-66A1109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C6CA-CCFA-4AE4-B25F-BCF262D1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59205-55BB-4A49-B7E3-A3826C5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E55B1-AE3D-47AA-BC85-FC84181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B809-D75E-4E1C-9236-C0F8282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077C0-EDAC-4A43-A45D-3AEA02C2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F5B85-0A14-4A63-83B7-15246583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7AE79-F139-49A8-A64A-AF78620C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DCB40-1101-4503-9473-F552A054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79850-E9D9-4A81-9C6E-E4054B97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DB0E7-5C2B-4AA0-AA5B-9D1A14F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F798-1141-4E9F-9CB8-A1EBDF5885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27FF-04DA-4188-8584-1D1D128727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EF1F-8D5E-4989-B2DE-F3BB4DB92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7A81-E092-40BD-9ED1-309F24AC9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5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27E9-E35A-4EEA-BC5D-C15E62AA9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1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A189-3A2F-46B9-886D-BB231DE8F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7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47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1C88-8309-4E17-98B9-C6A602CE973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7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4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ftr" idx="4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B3C-3A0D-431B-9E16-1F6AE46F34D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B1AE-50EC-4BD3-BDCE-814E6D41A2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78B-F66A-4FFA-B43C-F63DEA44A8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6D8-A3C5-4AF5-8BF1-59363B07CE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EDE4-9113-43E7-AE3D-B0D9A421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F3DE-EAF3-4A26-B11F-19E2054DB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9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B7F-5E0A-459E-9ED4-D0721851B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14A1-E4A9-48B5-A114-47970C420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032-5374-497F-A81C-A44A2EB811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2296080" y="3107880"/>
            <a:ext cx="45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Tahoma"/>
              </a:rPr>
              <a:t>Тақырып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Tahoma"/>
              </a:rPr>
              <a:t>КӘСІПОРЫННЫҢ НЕГІЗГІ КАПИТ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rot="5400000">
            <a:off x="5615280" y="4401360"/>
            <a:ext cx="3672000" cy="43164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 rot="16200000">
            <a:off x="-145080" y="4545000"/>
            <a:ext cx="3671640" cy="576360"/>
          </a:xfrm>
          <a:custGeom>
            <a:avLst/>
            <a:gdLst>
              <a:gd name="textAreaLeft" fmla="*/ -360 w 3671640"/>
              <a:gd name="textAreaRight" fmla="*/ 3671640 w 367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0" y="3876840"/>
            <a:ext cx="4067280" cy="2981160"/>
          </a:xfrm>
          <a:prstGeom prst="rect">
            <a:avLst/>
          </a:prstGeom>
          <a:ln w="0">
            <a:noFill/>
          </a:ln>
        </p:spPr>
      </p:pic>
      <p:grpSp>
        <p:nvGrpSpPr>
          <p:cNvPr id="1685" name=""/>
          <p:cNvGrpSpPr/>
          <p:nvPr/>
        </p:nvGrpSpPr>
        <p:grpSpPr>
          <a:xfrm>
            <a:off x="3987720" y="549360"/>
            <a:ext cx="5156280" cy="5545080"/>
            <a:chOff x="3987720" y="549360"/>
            <a:chExt cx="5156280" cy="5545080"/>
          </a:xfrm>
        </p:grpSpPr>
        <p:sp>
          <p:nvSpPr>
            <p:cNvPr id="1686" name=""/>
            <p:cNvSpPr/>
            <p:nvPr/>
          </p:nvSpPr>
          <p:spPr>
            <a:xfrm>
              <a:off x="4030560" y="549360"/>
              <a:ext cx="5113440" cy="5545080"/>
            </a:xfrm>
            <a:prstGeom prst="wedgeRectCallout">
              <a:avLst>
                <a:gd name="adj1" fmla="val -95046"/>
                <a:gd name="adj2" fmla="val 2609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987720" y="766800"/>
              <a:ext cx="515628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Негізгі қорлар өндірістік процесте бірнеше рет пайдаланып, өзінің натуралдық формасын сақтайтын бірте-бірте тозуға ұшырайтын және өзінің құнын өндірілетін тауарға бірте-бірте ауыстыратын еңбек құралы. Кәсіпорынның өндіріс қоры үнемі қозғалыста болып, айналымда болады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Негізгі қорлар өндірістік және өндірістік емес болып бөлінеді. Өндірістік қорлар - өнімді өндіру немесе қызметті қызметті көрсету процесіне  қатысады. Олар: станоктар, машиналар, өндіріс құрал-жабдықтары және т.с.с. Өндірістік емес негізгі қорлар өнімді өндіру процесіне қатыспайды. Оларға: тұрғын үйлер, мектептер, бала бақшалар, стадиондар, клубтар, емханалар және т.б. жатады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 rot="18515400">
            <a:off x="245880" y="914040"/>
            <a:ext cx="30592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9" name=""/>
          <p:cNvGrpSpPr/>
          <p:nvPr/>
        </p:nvGrpSpPr>
        <p:grpSpPr>
          <a:xfrm>
            <a:off x="307800" y="338040"/>
            <a:ext cx="8533800" cy="6109560"/>
            <a:chOff x="307800" y="338040"/>
            <a:chExt cx="8533800" cy="6109560"/>
          </a:xfrm>
        </p:grpSpPr>
        <p:sp>
          <p:nvSpPr>
            <p:cNvPr id="1690" name="_s11289"/>
            <p:cNvSpPr/>
            <p:nvPr/>
          </p:nvSpPr>
          <p:spPr>
            <a:xfrm flipH="1" flipV="1">
              <a:off x="3047400" y="2148840"/>
              <a:ext cx="900360" cy="776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_s11288"/>
            <p:cNvSpPr/>
            <p:nvPr/>
          </p:nvSpPr>
          <p:spPr>
            <a:xfrm>
              <a:off x="1452960" y="902520"/>
              <a:ext cx="195084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Жоғарыға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кірме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қалған негізгі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қорлар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_s11287"/>
            <p:cNvSpPr/>
            <p:nvPr/>
          </p:nvSpPr>
          <p:spPr>
            <a:xfrm flipH="1" flipV="1">
              <a:off x="2235960" y="3166920"/>
              <a:ext cx="1380960" cy="17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_s11286"/>
            <p:cNvSpPr/>
            <p:nvPr/>
          </p:nvSpPr>
          <p:spPr>
            <a:xfrm>
              <a:off x="307800" y="2335320"/>
              <a:ext cx="1950120" cy="1412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Шаруашылық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заттар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_s11285"/>
            <p:cNvSpPr/>
            <p:nvPr/>
          </p:nvSpPr>
          <p:spPr>
            <a:xfrm flipH="1">
              <a:off x="2518920" y="3816720"/>
              <a:ext cx="1212120" cy="50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_s11284"/>
            <p:cNvSpPr/>
            <p:nvPr/>
          </p:nvSpPr>
          <p:spPr>
            <a:xfrm>
              <a:off x="702360" y="3966480"/>
              <a:ext cx="1950120" cy="1412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Өндірістік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инвентарь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_s11283"/>
            <p:cNvSpPr/>
            <p:nvPr/>
          </p:nvSpPr>
          <p:spPr>
            <a:xfrm flipH="1">
              <a:off x="3763440" y="4125600"/>
              <a:ext cx="476640" cy="95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_s11282"/>
            <p:cNvSpPr/>
            <p:nvPr/>
          </p:nvSpPr>
          <p:spPr>
            <a:xfrm>
              <a:off x="2452320" y="5033160"/>
              <a:ext cx="195012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Еңбек құралдары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_s11281"/>
            <p:cNvSpPr/>
            <p:nvPr/>
          </p:nvSpPr>
          <p:spPr>
            <a:xfrm>
              <a:off x="4905720" y="4125600"/>
              <a:ext cx="480240" cy="95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_s11280"/>
            <p:cNvSpPr/>
            <p:nvPr/>
          </p:nvSpPr>
          <p:spPr>
            <a:xfrm>
              <a:off x="4740480" y="5035680"/>
              <a:ext cx="195012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Көліктер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_s11279"/>
            <p:cNvSpPr/>
            <p:nvPr/>
          </p:nvSpPr>
          <p:spPr>
            <a:xfrm>
              <a:off x="5415120" y="3814200"/>
              <a:ext cx="1212120" cy="507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_s11278"/>
            <p:cNvSpPr/>
            <p:nvPr/>
          </p:nvSpPr>
          <p:spPr>
            <a:xfrm>
              <a:off x="6493320" y="3971160"/>
              <a:ext cx="195084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Машиналар мен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құрал-жабдықтар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_s11276"/>
            <p:cNvSpPr/>
            <p:nvPr/>
          </p:nvSpPr>
          <p:spPr>
            <a:xfrm flipV="1">
              <a:off x="5529240" y="3164760"/>
              <a:ext cx="1378080" cy="17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_s11275"/>
            <p:cNvSpPr/>
            <p:nvPr/>
          </p:nvSpPr>
          <p:spPr>
            <a:xfrm>
              <a:off x="6891480" y="2340000"/>
              <a:ext cx="195012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Энерги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берілетін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құралдар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_s11274"/>
            <p:cNvSpPr/>
            <p:nvPr/>
          </p:nvSpPr>
          <p:spPr>
            <a:xfrm flipV="1">
              <a:off x="5195160" y="2148840"/>
              <a:ext cx="900360" cy="776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_s11273"/>
            <p:cNvSpPr/>
            <p:nvPr/>
          </p:nvSpPr>
          <p:spPr>
            <a:xfrm>
              <a:off x="5749200" y="904680"/>
              <a:ext cx="195012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Өндірістік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қондырғылар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_s11272"/>
            <p:cNvSpPr/>
            <p:nvPr/>
          </p:nvSpPr>
          <p:spPr>
            <a:xfrm flipV="1">
              <a:off x="4571640" y="1747440"/>
              <a:ext cx="0" cy="101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_s11271"/>
            <p:cNvSpPr/>
            <p:nvPr/>
          </p:nvSpPr>
          <p:spPr>
            <a:xfrm>
              <a:off x="3598200" y="338040"/>
              <a:ext cx="195012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Ғимараттар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_s11270"/>
            <p:cNvSpPr/>
            <p:nvPr/>
          </p:nvSpPr>
          <p:spPr>
            <a:xfrm>
              <a:off x="3598200" y="2761560"/>
              <a:ext cx="1950120" cy="141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000000"/>
                  </a:solidFill>
                  <a:latin typeface="Tahoma"/>
                </a:rPr>
                <a:t>Өндірістік қорлар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9" name=""/>
          <p:cNvGrpSpPr/>
          <p:nvPr/>
        </p:nvGrpSpPr>
        <p:grpSpPr>
          <a:xfrm>
            <a:off x="395280" y="0"/>
            <a:ext cx="8496720" cy="1557000"/>
            <a:chOff x="395280" y="0"/>
            <a:chExt cx="8496720" cy="1557000"/>
          </a:xfrm>
        </p:grpSpPr>
        <p:cxnSp>
          <p:nvCxnSpPr>
            <p:cNvPr id="1710" name="_s22539"/>
            <p:cNvCxnSpPr>
              <a:stCxn id="1711" idx="0"/>
              <a:endCxn id="1712" idx="2"/>
            </p:cNvCxnSpPr>
            <p:nvPr/>
          </p:nvCxnSpPr>
          <p:spPr>
            <a:xfrm flipV="1" rot="16200000">
              <a:off x="5630400" y="-366480"/>
              <a:ext cx="313560" cy="2288880"/>
            </a:xfrm>
            <a:prstGeom prst="bentConnector3">
              <a:avLst>
                <a:gd name="adj1" fmla="val 965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3" name="_s22538"/>
            <p:cNvCxnSpPr>
              <a:stCxn id="1714" idx="0"/>
              <a:endCxn id="1712" idx="2"/>
            </p:cNvCxnSpPr>
            <p:nvPr/>
          </p:nvCxnSpPr>
          <p:spPr>
            <a:xfrm flipH="1" flipV="1" rot="5400000">
              <a:off x="3342600" y="-365760"/>
              <a:ext cx="313560" cy="2287800"/>
            </a:xfrm>
            <a:prstGeom prst="bentConnector3">
              <a:avLst>
                <a:gd name="adj1" fmla="val 965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2" name="_s22534"/>
            <p:cNvSpPr/>
            <p:nvPr/>
          </p:nvSpPr>
          <p:spPr>
            <a:xfrm>
              <a:off x="2682360" y="0"/>
              <a:ext cx="3921480" cy="62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ahoma"/>
                </a:rPr>
                <a:t>Негізгі қорлар</a:t>
              </a: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_s22535"/>
            <p:cNvSpPr/>
            <p:nvPr/>
          </p:nvSpPr>
          <p:spPr>
            <a:xfrm>
              <a:off x="395280" y="934920"/>
              <a:ext cx="3921480" cy="62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ahoma"/>
                </a:rPr>
                <a:t>натуралдық</a:t>
              </a: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_s22536"/>
            <p:cNvSpPr/>
            <p:nvPr/>
          </p:nvSpPr>
          <p:spPr>
            <a:xfrm>
              <a:off x="4970520" y="934920"/>
              <a:ext cx="3921480" cy="62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ahoma"/>
                </a:rPr>
                <a:t>ақшалай</a:t>
              </a: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0" y="1989000"/>
            <a:ext cx="8892360" cy="4534200"/>
            <a:chOff x="0" y="1989000"/>
            <a:chExt cx="8892360" cy="4534200"/>
          </a:xfrm>
        </p:grpSpPr>
        <p:cxnSp>
          <p:nvCxnSpPr>
            <p:cNvPr id="1716" name="_s22550"/>
            <p:cNvCxnSpPr>
              <a:stCxn id="1717" idx="0"/>
              <a:endCxn id="1718" idx="2"/>
            </p:cNvCxnSpPr>
            <p:nvPr/>
          </p:nvCxnSpPr>
          <p:spPr>
            <a:xfrm flipV="1" rot="16200000">
              <a:off x="5548320" y="2699280"/>
              <a:ext cx="907560" cy="311292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9" name="_s22549"/>
            <p:cNvCxnSpPr>
              <a:stCxn id="1720" idx="0"/>
              <a:endCxn id="1718" idx="2"/>
            </p:cNvCxnSpPr>
            <p:nvPr/>
          </p:nvCxnSpPr>
          <p:spPr>
            <a:xfrm flipV="1">
              <a:off x="4446000" y="3801960"/>
              <a:ext cx="3240" cy="90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1" name="_s22548"/>
            <p:cNvCxnSpPr>
              <a:stCxn id="1722" idx="0"/>
              <a:endCxn id="1718" idx="2"/>
            </p:cNvCxnSpPr>
            <p:nvPr/>
          </p:nvCxnSpPr>
          <p:spPr>
            <a:xfrm flipH="1" flipV="1" rot="5400000">
              <a:off x="2436120" y="2699280"/>
              <a:ext cx="907560" cy="311292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8" name="_s22544"/>
            <p:cNvSpPr/>
            <p:nvPr/>
          </p:nvSpPr>
          <p:spPr>
            <a:xfrm>
              <a:off x="3112200" y="1989000"/>
              <a:ext cx="2667600" cy="1813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Tahoma"/>
                </a:rPr>
                <a:t>Өндірістік қорларды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Tahoma"/>
                </a:rPr>
                <a:t>ақшалай мәнінд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Tahoma"/>
                </a:rPr>
                <a:t>нықтаудың мынанда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Tahoma"/>
                </a:rPr>
                <a:t>түрлері бар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_s22545"/>
            <p:cNvSpPr/>
            <p:nvPr/>
          </p:nvSpPr>
          <p:spPr>
            <a:xfrm>
              <a:off x="0" y="4709520"/>
              <a:ext cx="2667600" cy="1813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Бастапқы құны арқыл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бағалау. Оған негізгі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қорды әкелу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орналастыру, құру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шығындары кіреді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_s22546"/>
            <p:cNvSpPr/>
            <p:nvPr/>
          </p:nvSpPr>
          <p:spPr>
            <a:xfrm>
              <a:off x="3112200" y="4709520"/>
              <a:ext cx="2667600" cy="1813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Қайта жаңғыртылғанн</a:t>
              </a:r>
              <a:r>
                <a:rPr b="0" lang="kk-KZ" sz="1600" spc="-1" strike="noStrike">
                  <a:solidFill>
                    <a:srgbClr val="000000"/>
                  </a:solidFill>
                  <a:latin typeface="Tahoma"/>
                </a:rPr>
                <a:t>ан</a:t>
              </a: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кейінгі бағалау. Мұнд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негізгі қорды қайт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өңдеуден өткізгенне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кейінгі бағалау есепк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алынады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_s22547"/>
            <p:cNvSpPr/>
            <p:nvPr/>
          </p:nvSpPr>
          <p:spPr>
            <a:xfrm>
              <a:off x="6224760" y="4709520"/>
              <a:ext cx="2667600" cy="1813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Негізгі қордың тозуын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есептегеннен кейінгі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бастапқы бағалау, мұн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қалдық бағалау де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ahoma"/>
                </a:rPr>
                <a:t>атайды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1042920" y="260280"/>
            <a:ext cx="6842160" cy="360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егізгі қорлар әдетте тозуға ұшырайд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!!!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3699720" y="1009800"/>
            <a:ext cx="1674360" cy="4313160"/>
            <a:chOff x="3699720" y="1009800"/>
            <a:chExt cx="1674360" cy="4313160"/>
          </a:xfrm>
        </p:grpSpPr>
        <p:sp>
          <p:nvSpPr>
            <p:cNvPr id="1725" name="_s28685"/>
            <p:cNvSpPr/>
            <p:nvPr/>
          </p:nvSpPr>
          <p:spPr>
            <a:xfrm>
              <a:off x="4536000" y="3703680"/>
              <a:ext cx="0" cy="54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_s28684"/>
            <p:cNvSpPr/>
            <p:nvPr/>
          </p:nvSpPr>
          <p:spPr>
            <a:xfrm>
              <a:off x="3699720" y="4245120"/>
              <a:ext cx="1674360" cy="10778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ffffff"/>
                  </a:solidFill>
                  <a:latin typeface="Tahoma"/>
                </a:rPr>
                <a:t>сапалық тозу</a:t>
              </a:r>
              <a:r>
                <a:rPr b="0" lang="kk-KZ" sz="12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_s28681"/>
            <p:cNvSpPr/>
            <p:nvPr/>
          </p:nvSpPr>
          <p:spPr>
            <a:xfrm flipV="1">
              <a:off x="4536000" y="2085840"/>
              <a:ext cx="0" cy="54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_s28680"/>
            <p:cNvSpPr/>
            <p:nvPr/>
          </p:nvSpPr>
          <p:spPr>
            <a:xfrm>
              <a:off x="3699720" y="1009800"/>
              <a:ext cx="1674360" cy="10778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ffffff"/>
                  </a:solidFill>
                  <a:latin typeface="Tahoma"/>
                </a:rPr>
                <a:t>табиғи тозу</a:t>
              </a:r>
              <a:r>
                <a:rPr b="0" lang="kk-KZ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_s28679"/>
            <p:cNvSpPr/>
            <p:nvPr/>
          </p:nvSpPr>
          <p:spPr>
            <a:xfrm>
              <a:off x="3699720" y="2627280"/>
              <a:ext cx="1674360" cy="1078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2400" spc="-1" strike="noStrike">
                  <a:solidFill>
                    <a:srgbClr val="ffffff"/>
                  </a:solidFill>
                  <a:latin typeface="Tahoma"/>
                </a:rPr>
                <a:t>Тозу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0" name=""/>
          <p:cNvSpPr/>
          <p:nvPr/>
        </p:nvSpPr>
        <p:spPr>
          <a:xfrm>
            <a:off x="5580000" y="3068640"/>
            <a:ext cx="1728720" cy="201600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1619280" y="1196640"/>
            <a:ext cx="1800360" cy="2160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 rot="2490600">
            <a:off x="684000" y="3933720"/>
            <a:ext cx="2376360" cy="17226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 rot="2472000">
            <a:off x="6084360" y="1341000"/>
            <a:ext cx="237672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4" name=""/>
          <p:cNvGrpSpPr/>
          <p:nvPr/>
        </p:nvGrpSpPr>
        <p:grpSpPr>
          <a:xfrm>
            <a:off x="0" y="0"/>
            <a:ext cx="9143280" cy="6856920"/>
            <a:chOff x="0" y="0"/>
            <a:chExt cx="9143280" cy="6856920"/>
          </a:xfrm>
        </p:grpSpPr>
        <p:cxnSp>
          <p:nvCxnSpPr>
            <p:cNvPr id="1735" name="_s33809"/>
            <p:cNvCxnSpPr>
              <a:stCxn id="1736" idx="0"/>
              <a:endCxn id="1737" idx="2"/>
            </p:cNvCxnSpPr>
            <p:nvPr/>
          </p:nvCxnSpPr>
          <p:spPr>
            <a:xfrm flipV="1" rot="16200000">
              <a:off x="6276600" y="2486160"/>
              <a:ext cx="623520" cy="1883520"/>
            </a:xfrm>
            <a:prstGeom prst="bentConnector3">
              <a:avLst>
                <a:gd name="adj1" fmla="val 18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8" name="_s33807"/>
            <p:cNvCxnSpPr>
              <a:stCxn id="1739" idx="0"/>
              <a:endCxn id="1737" idx="2"/>
            </p:cNvCxnSpPr>
            <p:nvPr/>
          </p:nvCxnSpPr>
          <p:spPr>
            <a:xfrm flipH="1" flipV="1" rot="5400000">
              <a:off x="4393800" y="2486880"/>
              <a:ext cx="623520" cy="1882440"/>
            </a:xfrm>
            <a:prstGeom prst="bentConnector3">
              <a:avLst>
                <a:gd name="adj1" fmla="val 18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0" name="_s33803"/>
            <p:cNvCxnSpPr>
              <a:stCxn id="1741" idx="1"/>
              <a:endCxn id="1742" idx="2"/>
            </p:cNvCxnSpPr>
            <p:nvPr/>
          </p:nvCxnSpPr>
          <p:spPr>
            <a:xfrm rot="10800000">
              <a:off x="1612800" y="1245960"/>
              <a:ext cx="2420280" cy="498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3" name="_s33802"/>
            <p:cNvCxnSpPr>
              <a:stCxn id="1737" idx="1"/>
              <a:endCxn id="1742" idx="2"/>
            </p:cNvCxnSpPr>
            <p:nvPr/>
          </p:nvCxnSpPr>
          <p:spPr>
            <a:xfrm rot="10800000">
              <a:off x="1612800" y="1245960"/>
              <a:ext cx="2420280" cy="124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2" name="_s33798"/>
            <p:cNvSpPr/>
            <p:nvPr/>
          </p:nvSpPr>
          <p:spPr>
            <a:xfrm>
              <a:off x="0" y="0"/>
              <a:ext cx="3227040" cy="1246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ffffff"/>
                  </a:solidFill>
                  <a:latin typeface="Tahoma"/>
                </a:rPr>
                <a:t>Табиғи тозу дегеніміз – негізгі қордың он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ffffff"/>
                  </a:solidFill>
                  <a:latin typeface="Tahoma"/>
                </a:rPr>
                <a:t>пайдалану барысында ескіру салдарынан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ffffff"/>
                  </a:solidFill>
                  <a:latin typeface="Tahoma"/>
                </a:rPr>
                <a:t>бастапқы тұтынушылық бағасының бірте 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kk-KZ" sz="1200" spc="-1" strike="noStrike">
                  <a:solidFill>
                    <a:srgbClr val="ffffff"/>
                  </a:solidFill>
                  <a:latin typeface="Tahoma"/>
                </a:rPr>
                <a:t>бірте жоғалтуы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_s33799"/>
            <p:cNvSpPr/>
            <p:nvPr/>
          </p:nvSpPr>
          <p:spPr>
            <a:xfrm>
              <a:off x="4033440" y="1869840"/>
              <a:ext cx="3227040" cy="1246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900" spc="-1" strike="noStrike">
                  <a:solidFill>
                    <a:srgbClr val="ffffff"/>
                  </a:solidFill>
                  <a:latin typeface="Tahoma"/>
                </a:rPr>
                <a:t>Табиғи тозудың ұзақтығы негізгі қорлардың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900" spc="-1" strike="noStrike">
                  <a:solidFill>
                    <a:srgbClr val="ffffff"/>
                  </a:solidFill>
                  <a:latin typeface="Tahoma"/>
                </a:rPr>
                <a:t>сапасына, оның техникалық жетілдірілуіне,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900" spc="-1" strike="noStrike">
                  <a:solidFill>
                    <a:srgbClr val="ffffff"/>
                  </a:solidFill>
                  <a:latin typeface="Tahoma"/>
                </a:rPr>
                <a:t>беріктігіне, өндіріске белгілі бір аралық арасында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900" spc="-1" strike="noStrike">
                  <a:solidFill>
                    <a:srgbClr val="ffffff"/>
                  </a:solidFill>
                  <a:latin typeface="Tahoma"/>
                </a:rPr>
                <a:t>қаншалықты араласу ұзақтығына, оларды күтіп-баптауға,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900" spc="-1" strike="noStrike">
                  <a:solidFill>
                    <a:srgbClr val="ffffff"/>
                  </a:solidFill>
                  <a:latin typeface="Tahoma"/>
                </a:rPr>
                <a:t>сыртқы әсерден қорғауға, негізгі қормен жұмыс істейтін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900" spc="-1" strike="noStrike">
                  <a:solidFill>
                    <a:srgbClr val="ffffff"/>
                  </a:solidFill>
                  <a:latin typeface="Tahoma"/>
                </a:rPr>
                <a:t>жұмысшылардың біліктілігіне т.б. факторларға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900" spc="-1" strike="noStrike">
                  <a:solidFill>
                    <a:srgbClr val="ffffff"/>
                  </a:solidFill>
                  <a:latin typeface="Tahoma"/>
                </a:rPr>
                <a:t>байланысты болады.</a:t>
              </a: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_s33800"/>
            <p:cNvSpPr/>
            <p:nvPr/>
          </p:nvSpPr>
          <p:spPr>
            <a:xfrm>
              <a:off x="4033440" y="5610240"/>
              <a:ext cx="3227040" cy="1246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000" spc="-1" strike="noStrike">
                  <a:solidFill>
                    <a:srgbClr val="ffffff"/>
                  </a:solidFill>
                  <a:latin typeface="Tahoma"/>
                </a:rPr>
                <a:t>Сапалық тозу</a:t>
              </a: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 дегеніміз негізгі қордың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экономикалық тұрғыдан тиімсіз болып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қалуы. Басқаша сөзбен айтқанда сапалық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тозуға ұшыраған негізгі қор әлі ескірмеген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болуы мүмкін, бірақ қызмет атқару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барысында оның техникалық сипаттамасы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экономикалық тиімділігі қазіргі қажеттілікке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kk-KZ" sz="1000" spc="-1" strike="noStrike">
                  <a:solidFill>
                    <a:srgbClr val="ffffff"/>
                  </a:solidFill>
                  <a:latin typeface="Tahoma"/>
                </a:rPr>
                <a:t>сұранысқа сай келмейді</a:t>
              </a: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_s33806"/>
            <p:cNvSpPr/>
            <p:nvPr/>
          </p:nvSpPr>
          <p:spPr>
            <a:xfrm>
              <a:off x="2151360" y="3740040"/>
              <a:ext cx="3227040" cy="1246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Толық тозуда қорлар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толығымен жойылады дақ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жетінде жаңасыме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ауыстырылады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_s33808"/>
            <p:cNvSpPr/>
            <p:nvPr/>
          </p:nvSpPr>
          <p:spPr>
            <a:xfrm>
              <a:off x="5916240" y="3740040"/>
              <a:ext cx="3227040" cy="1246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Бөлшектеліп тозу жөндеу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арқылы қалпына келтіріледі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4" name=""/>
          <p:cNvGraphicFramePr/>
          <p:nvPr/>
        </p:nvGraphicFramePr>
        <p:xfrm>
          <a:off x="0" y="274680"/>
          <a:ext cx="9143640" cy="236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440"/>
                <a:gridCol w="1828800"/>
                <a:gridCol w="1828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яи мөлшері</a:t>
                      </a: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рқайтарым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ылық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р сыйымдылы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ғы</a:t>
                      </a: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ңбек өнімділігі</a:t>
                      </a: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ыйымдылы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ғы</a:t>
                      </a: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 = (Қб.к –Қж)/ Қб.к *t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қ=Жө/Қорт.ж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с= Қорт.ж /Ж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ө= Жө/Еш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= Еш /Ж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5" name=""/>
          <p:cNvSpPr/>
          <p:nvPr/>
        </p:nvSpPr>
        <p:spPr>
          <a:xfrm>
            <a:off x="-105840" y="2708280"/>
            <a:ext cx="473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ұндағ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а-амортизация мөлшер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б.к – негізгі қорлардың бастапқы құ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ж- жойылу құ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tа- негізгі қордың қызмет мерзім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-325440" y="4076280"/>
            <a:ext cx="106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ө -(жылдық өнім) кәсіпорынның жыл бойы өндірген өнімнің табиғи немесе ақшалай құ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орт.ж- қордың орташа жылдық құ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-52920" y="465228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ө - жылдық жалпы өні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Еш  - еңбек шығы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395280" y="11592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ahoma"/>
              </a:rPr>
              <a:t>Амортизацяи мөлшері</a:t>
            </a: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 дегеніміз белгіленген негізгі қорлардың жылдық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пайыздық өтелу және жыл сайынғы амортизациялық көшірім сомас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95280" y="1268280"/>
            <a:ext cx="8424720" cy="100836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ahoma"/>
              </a:rPr>
              <a:t>Қорқайтарымдылық</a:t>
            </a: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 дегеніміз жалпы өнім құнының негізгі өндірісті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қордың орта жылдық құнына қатынас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95280" y="242100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Қорқайтарымдылығына кері шама </a:t>
            </a:r>
            <a:r>
              <a:rPr b="1" lang="kk-KZ" sz="1800" spc="-1" strike="noStrike">
                <a:solidFill>
                  <a:srgbClr val="000000"/>
                </a:solidFill>
                <a:latin typeface="Tahoma"/>
              </a:rPr>
              <a:t>қор сыйымдылығы</a:t>
            </a: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 (Қс) деп аталады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95280" y="357336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ahoma"/>
              </a:rPr>
              <a:t>Еңбек өнімділігі</a:t>
            </a: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 – бұл уақыт бірлігіндегі жұмыскерлердің еңбек шығын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95280" y="4724280"/>
            <a:ext cx="8424720" cy="100836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ahoma"/>
              </a:rPr>
              <a:t>Еңбек өнімділігіне кері шама </a:t>
            </a:r>
            <a:r>
              <a:rPr b="1" lang="kk-KZ" sz="1800" spc="-1" strike="noStrike">
                <a:solidFill>
                  <a:srgbClr val="000000"/>
                </a:solidFill>
                <a:latin typeface="Tahoma"/>
              </a:rPr>
              <a:t>еңбек сыйымдылығ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4:51Z</dcterms:created>
  <dc:creator>Admin</dc:creator>
  <dc:description/>
  <dc:language>en-US</dc:language>
  <cp:lastModifiedBy>Admin</cp:lastModifiedBy>
  <dcterms:modified xsi:type="dcterms:W3CDTF">2011-05-09T16:19:23Z</dcterms:modified>
  <cp:revision>2</cp:revision>
  <dc:subject/>
  <dc:title>Слайд 1</dc:title>
</cp:coreProperties>
</file>