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64D-2E83-4F68-A0FD-D137045E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9CF-CE62-4D6E-9BBD-850EFDAE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106-4FD6-432D-8A41-52DE15AE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566-26EB-4157-889D-802DB82C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FA41-498A-4DBE-8B8F-0CFD5E6F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162D-F738-4656-9F8F-53C32B3C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B4C2-6A9C-474D-8187-4D80DBDF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4C99-8220-4A0C-B0E0-E4A3CA59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02BD-DE7C-4B7B-AE3C-2CB64CFA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7DE4-1EB9-46B4-967D-BA3646CE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1471-8249-4434-BD64-69DB2A2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C53-08F0-455D-B338-094826B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2AE6-02F0-4706-BCEC-734EE7AD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4A9D-612B-4D65-A7A7-B88D86B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ECD5-C8DB-4CAD-A8A6-ECCCA701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D24C-B335-4775-BF45-8B770596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D31E-6EA6-4708-B5BA-5C09F497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780-6082-470B-8722-54A40E36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8CB-33FF-45A3-99D1-8E8ABC9A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2DE-9B2A-4961-84C8-E9ACA7FB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1AD-74A3-421B-B8B5-A0FCB1D8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1B4-9810-4C3E-8D95-6273AE7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6CF-8A86-4752-ABEB-59F1D95A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98D-1557-4D6E-A1BA-2FD2157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535D-A87A-4A02-A6FF-C0D327F1E46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366E-B735-4C39-A628-0E31D5381E0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хема 3" descr=""/>
          <p:cNvPicPr/>
          <p:nvPr/>
        </p:nvPicPr>
        <p:blipFill>
          <a:blip r:embed="rId1"/>
          <a:stretch/>
        </p:blipFill>
        <p:spPr>
          <a:xfrm>
            <a:off x="1103400" y="1706400"/>
            <a:ext cx="7553160" cy="318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5091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"/>
          <p:cNvPicPr/>
          <p:nvPr/>
        </p:nvPicPr>
        <p:blipFill>
          <a:blip r:embed="rId1"/>
          <a:stretch/>
        </p:blipFill>
        <p:spPr>
          <a:xfrm>
            <a:off x="493560" y="1066680"/>
            <a:ext cx="8259840" cy="5078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рындаған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800" spc="-1" strike="noStrike">
                <a:solidFill>
                  <a:srgbClr val="000000"/>
                </a:solidFill>
                <a:latin typeface="Times New Roman"/>
              </a:rPr>
              <a:t>Тексерген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9997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 u="sng">
                <a:solidFill>
                  <a:srgbClr val="ffff00"/>
                </a:solidFill>
                <a:uFillTx/>
                <a:latin typeface="Times New Roman"/>
              </a:rPr>
              <a:t>Жоспа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Тақырып бойынша қысқаша теор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Кадр даярлаудағы негізгі міндет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Жоғары деңгейдегі мамандық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wheel spokes="2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"/>
          <p:cNvPicPr/>
          <p:nvPr/>
        </p:nvPicPr>
        <p:blipFill>
          <a:blip r:embed="rId1"/>
          <a:stretch/>
        </p:blipFill>
        <p:spPr>
          <a:xfrm>
            <a:off x="324000" y="768240"/>
            <a:ext cx="8424720" cy="4741920"/>
          </a:xfrm>
          <a:prstGeom prst="rect">
            <a:avLst/>
          </a:prstGeom>
          <a:ln w="0">
            <a:noFill/>
          </a:ln>
        </p:spPr>
      </p:pic>
    </p:spTree>
  </p:cSld>
  <p:transition advTm="71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133200"/>
            <a:ext cx="8242560" cy="1293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7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p:transition advTm="93000">
    <p:plus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"/>
          <p:cNvPicPr/>
          <p:nvPr/>
        </p:nvPicPr>
        <p:blipFill>
          <a:blip r:embed="rId3"/>
          <a:stretch/>
        </p:blipFill>
        <p:spPr>
          <a:xfrm>
            <a:off x="444600" y="1596960"/>
            <a:ext cx="8278560" cy="4718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5" descr=""/>
          <p:cNvPicPr/>
          <p:nvPr/>
        </p:nvPicPr>
        <p:blipFill>
          <a:blip r:embed="rId2"/>
          <a:stretch/>
        </p:blipFill>
        <p:spPr>
          <a:xfrm>
            <a:off x="450720" y="622440"/>
            <a:ext cx="8242560" cy="5705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3" descr=""/>
          <p:cNvPicPr/>
          <p:nvPr/>
        </p:nvPicPr>
        <p:blipFill>
          <a:blip r:embed="rId2"/>
          <a:stretch/>
        </p:blipFill>
        <p:spPr>
          <a:xfrm>
            <a:off x="738360" y="1054080"/>
            <a:ext cx="7912080" cy="5595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19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0000"/>
                </a:solidFill>
                <a:latin typeface="Times New Roman"/>
              </a:rPr>
              <a:t>Жұмысшылар біліктілігіне қарай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біліксіз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біліктілігі аз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білікті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жоғары білікті болып бөлініп, тиісті разряд бойынша анықталад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0000"/>
                </a:solidFill>
                <a:latin typeface="Times New Roman"/>
              </a:rPr>
              <a:t>Мамандар біліктілік категориясына қарай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бірінші категориялы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екінші  категориялы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үшінші  категориялы  болып табылад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0000"/>
                </a:solidFill>
                <a:latin typeface="Times New Roman"/>
              </a:rPr>
              <a:t>Кәсіпорын жетекшілері өндіріс  құрамы және бөлімдері басқару реттеріне қарай жіктеледі. Басқару құрамы бойынш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сызықтық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функциялық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0000"/>
                </a:solidFill>
                <a:latin typeface="Times New Roman"/>
              </a:rPr>
              <a:t>Бөлімдерді басқару жүйесі бойынш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жоғары то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орта топ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7030a0"/>
                </a:solidFill>
                <a:latin typeface="Times New Roman"/>
              </a:rPr>
              <a:t>төменгі топ болып бөлінеді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6:47:16Z</dcterms:created>
  <dc:creator>UserLib</dc:creator>
  <dc:description/>
  <dc:language>en-US</dc:language>
  <cp:lastModifiedBy>Талга</cp:lastModifiedBy>
  <dcterms:modified xsi:type="dcterms:W3CDTF">2011-05-09T09:36:37Z</dcterms:modified>
  <cp:revision>23</cp:revision>
  <dc:subject/>
  <dc:title>Слайд 1</dc:title>
</cp:coreProperties>
</file>