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EC6-0A34-42DE-A023-16FECED1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463-4F1C-4882-BC0A-F340036F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5FD-7D72-4F21-8C99-D1AA4478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286-A9F7-4CDE-BA0B-C2A03090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281C-D7B7-4D0C-BCB9-4B005456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1827-6579-4030-8FFD-94ED9007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863A-979A-4907-B766-4CCF0CBB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B4F0-2332-4BC3-9F87-E5F315AF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4228-5FE0-4500-9A25-0B8CC989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C839-D3B5-4DFF-845C-109A1E4A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40AC-9BDE-4CBF-A93B-D25A3B67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D2C-5EF4-42CE-B0FC-12C8A814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52E0-2DDF-47CA-B31C-7E06C602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9EB7-1EF7-478C-BEBB-21AACA9D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82D4-FE48-4CBB-86BF-799419D5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C5BA-C2A5-4453-865F-8D42F5CF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86B1-78EB-4C43-82D3-42010605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449A8-94A8-4B68-8572-24B00541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8C677-4179-433A-99C3-31F7AED1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4EBC1-9FEC-44F3-8291-C133393E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49EF4-7477-43F1-B16A-C1185E01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12D6E-FB11-401D-B62E-A1CD7BB7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419-2506-424C-B419-30675845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37BB8-5256-4B73-AAC4-27B310C0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6E4A-FC05-4A64-A071-D3AB9BCD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7B0D7-7BA8-4311-967B-610115F6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31ADE-71AA-4190-A571-B8639CF3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C0D70-FE4E-487A-B017-C3C9CA90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11916-665E-4014-8FB9-6039E3CA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3BB74-9C1A-44B3-9425-4A56F18B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5FF6F-011C-4FA5-92A5-E89F5B8E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0074A-4FDF-4C57-AF19-0DF5B4C7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A90CE-60DA-4B09-8960-5591AEEB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68B-B7A8-4895-923F-DD6E42F9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E3EF1-AD61-41DB-829F-D7546B66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8E346-BA56-4183-904A-53550222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EA0BF-B1C5-4C7E-AC03-7B311121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D6503-98E8-4569-B9A1-C138EB3B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A302-239B-4403-810D-DEE03BE2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7A7A3-0775-4141-976D-0B9C6DDE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9CCF7-9E21-4013-A6F5-563C60F0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979B-2B72-4774-B97A-9F874119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9056B-6948-4863-980D-4B45246B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D40-9D59-41C1-BB8E-256B0436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FDD-0BFB-47AF-A5CA-B73954BC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0A4F-9977-4EE3-ABEB-169B26CB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69AA-9349-4A4D-9544-617AB7E8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22C-B6E0-4279-B2E3-8E21FAB4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50AB-58C8-4CF0-A4B5-0CBC58C18D3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9465-1592-4CEC-8DD9-6F10695B0DF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A333-03F7-42B3-882F-0A90548BA5B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DC2E-FE5F-4390-8998-14C4B484C21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-6480" y="542880"/>
            <a:ext cx="1002852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6800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итогам первого полугодия 2008г. основными покупателями казахстанской продукции были Италия (18,5% всего экспорта республики), Швейцария (15,6%), Китай (9,4%), Россия (8,9%).Основными импортерами Казахстана были Россия (37,5% от общего объема импорта), Китай (10,8%), Германия (6,5%), Украина (5,1%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казатели за 2009 г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Казахстане в январе-феврале 2009 года внешнеторговый оборот уменьшился сразу на 38,8% по сравнению с аналогичным периодом прошлого года - до $9,1 млрд. В том числе экспорт составил $5,3 млрд. (сокращение почти на 50%), импорт - $3,8 млрд. (сокращение на 17%). В результате, положительное сальдо внешней торговли РК в первые два месяца 2009 года снизилось в 3,8 раза – до $1,5 млрд. против $5,7 млрд. в январе-феврале 2008 год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042920" y="0"/>
            <a:ext cx="623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нешняя торговля - торговля между странами, состоящая из вывоза (экспорта) и ввоза (импорта) товаров и услу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казатели за 2006 г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лавными  импортерами товаров из Казахстана в 2006 г.были страны Западной Европы, особенно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талия и Швейцар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на долю которых приходилось  35,6% всего импорта,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ранц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(8,8% ), а также  Германия, Англия и др.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Росс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мела в экспорте Казахстана почти 10%, а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ита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9,4%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структуре  импорта Казахстана   в 2006 г. приходилось 38,3% на долю России,  8% -а долю Китая, 7,6% -Германии, 4,7% -США и 4,2% - Укра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казатели за 2008 г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2008г. Казахстан вошел в число 35 стран мира, товарооборот которых составил свыше 100 млрд. дол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кспорт товаров республики вырос в сравнении с 2007г. на 49% и составил более чем 71 млрд. долл. В экспорте страны доминируют три товарные группы: минеральные продукты (преимущественно топливо и руда), продукты животного и растительного происхождения (зерно, мука, крупа, корма для животных), металлы (в основном черные) и изделия из ни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-73080" y="0"/>
            <a:ext cx="9613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мпорт в 2008г. составил почти 38 млрд. долл., что на 15,7% выше, чем в 2007г. Причем объемы импорта увеличились по всем товарным группам, кроме непродовольственных товаров. Снижение импорта непродовольственных товаров в основном обусловлено резким сокращением ввоза в Казахстан легковых автомобилей – почти на 50% или на 1,2 млрд. долл. У основных поставщиков импорта (Россия, Китай, Германия и др.) Казахстан закупает в основном различное промышленное оборудование и изделия из черных металлов. Кроме того, из России поставляется топливо, из Франции – летательные аппараты и фармацевтическая продукция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-254160" y="260280"/>
            <a:ext cx="93981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новные партнеры Казахстана во внешней торговле по итогам 2008г. – европейские страны (47,1%), за ними следуют государства СНГ – 26,2% и страны Азии – 22,3%. В разрезе отдельных стран первое место занимает Российская Федерация – 18,3% товарооборота. Далее следует Италия (12,1%), Китай (11,2%) и Швейцария (10,5%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2:58:55Z</dcterms:created>
  <dc:creator>1</dc:creator>
  <dc:description/>
  <dc:language>en-US</dc:language>
  <cp:lastModifiedBy>Di</cp:lastModifiedBy>
  <dcterms:modified xsi:type="dcterms:W3CDTF">2010-10-29T16:01:18Z</dcterms:modified>
  <cp:revision>4</cp:revision>
  <dc:subject/>
  <dc:title>Внешняя торговля Республики Казахстан</dc:title>
</cp:coreProperties>
</file>