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B717A-B053-45E4-A737-B2819E22C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00B84-5F0F-46F8-A9BE-DEE2C705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6AB46-826D-4F18-BAE8-F3F357891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24AE7-6EFB-4C4F-9264-13E916619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77C1-A2D2-449C-B0E5-1EE551B21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106FD-648D-4288-AF24-CB3F9015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45DDE-7546-47FC-AD46-3F18F8B4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6FB57-521B-47D4-810F-2CF135F2D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3E53F-4389-443D-9B24-BC6201CFF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F23B-3DF2-4F10-9C72-554547C1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9256-4178-49AC-982A-44CB5B92B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6A99-4FC5-4238-9F0C-DEE391B3A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CF98-C5A2-4FE1-B9AE-ECF54C91AA1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44240" y="2130120"/>
            <a:ext cx="83516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МИРОВОЙ РЫНОК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ировой рынок имеет ряд отличительных особенностей относительно национальных рынков:</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первых, на мировом рынке объективно учитываются не только экономические интересы, реализуемые в процессе обмена товарами и услугами отдельных производителей и потребителей, но и интересы отдельных стран — национальные интересы, и интересы мирового сообщества— интернациональные интерес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вторых, субъектами предложения на мировом рынке выступают не все национальные фирмы, функционирующие внутри отдельных стран, а только выходящие с предложением за национальные границы; при этом мировой рынок ставит жесткие требования к эффективности и конкурентоспособности этих субъект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третьих, основная масса субъектов (малые предприятия) выступает на мировом рынке не непосредственно, а через транснациональные корпорации, с которыми они имеют долгосрочные контрак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четвертых, механизм обмена на мировом рынке предполагает не столько прямые отношения между субъектами, сколько опосредованные функционированием мировых товарных, фондовых и валютных бир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пятых, методом осуществления отношений на мировом рынке становятся не только традиционные экономические рычага, обусловливающие движение товаров на национальных рынках — налоги, цены, плата за ресурсы, ссудный процент и т.д., но и внешнеэкономическая политика отдельных государст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475920"/>
            <a:ext cx="822960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временный мировой рынок — способ или механизм обмена экономическими благами между отдельными национальными хозяйствами и их объединениями, обусловливающий возникновение и воспроизводство экономических отношений между ним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к экономическая система, мировой рынок отображает совокупность взаимодополняющих экономических отношений, развивающихся по схеме: внутренний рынок — национальный рынок — международный рынок — мировой рынок и основывающихся на международном разделении труда и других факторов производств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временный мировой рынок характеризует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эффективностью распределения ресурсов,  направляемых на производство необходимых товар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птимальным использованием результатов НТР;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гибкостью и  высокой  адаптированностью к изменяющимся экономическим условия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овышающейся способностью к удовлетворению разнообразных потребностей, улучшению качества товаров и услу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устойчивостью товарно-денежных отношений между странам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Его главной чертой является специализация стран, основанная на международном разделении труда, и предполагающая по мере развития мирового рынка, все большее замещение изделий, произведенных  в одних странах, продуктами других стра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условиях расширенного производства, когда данный процесс становится экономической закономерностью, налицо стремительное расширение мирового рынка,  интенсификация связей и отношений между странами по мере увеличения масштабов производств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Эволюция форм рынка</a:t>
            </a:r>
            <a:endParaRPr b="0" lang="en-US" sz="4000" spc="-1" strike="noStrike">
              <a:solidFill>
                <a:srgbClr val="000000"/>
              </a:solidFill>
              <a:latin typeface="Arial"/>
            </a:endParaRPr>
          </a:p>
        </p:txBody>
      </p:sp>
      <p:pic>
        <p:nvPicPr>
          <p:cNvPr id="55" name="Picture 4" descr="Untitled-1"/>
          <p:cNvPicPr/>
          <p:nvPr/>
        </p:nvPicPr>
        <p:blipFill>
          <a:blip r:embed="rId1"/>
          <a:stretch/>
        </p:blipFill>
        <p:spPr>
          <a:xfrm>
            <a:off x="900000" y="907920"/>
            <a:ext cx="7417080" cy="576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варообмен на мировом рынке существенно отличается от движения товаров на внутреннем рынке. Его специфику можно наблюдать по направления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объекту торговли — циркуляция не всей национальной продукции, а наиболее конкурентоспособно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характеру конкуренции — более жесткий уровень, удержаться на котором сложнее, чем на внутреннем рынк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тепени динамики — более высокая степень динамизма, как по объемам потоков товаров, услуг и факторов производства, так и по изменениям их структур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условиям формирования продажных цен — особая система мировых цен на основе мировой, а не национальной конъюнктур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4920" y="404280"/>
            <a:ext cx="8497800" cy="6224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ru-RU" sz="3200" spc="-1" strike="noStrike">
                <a:solidFill>
                  <a:srgbClr val="ffffff"/>
                </a:solidFill>
                <a:latin typeface="Arial"/>
              </a:rPr>
              <a:t>Мировой рынок — не сумма национальных рынков. Динамизм, свойственный ему, привел к тому, что внешняя сфера экономики развивается быстрее внутреннего производств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ru-RU" sz="3200" spc="-1" strike="noStrike">
                <a:solidFill>
                  <a:srgbClr val="ffffff"/>
                </a:solidFill>
                <a:latin typeface="Arial"/>
              </a:rPr>
              <a:t>Все больше возрастает та часть национального производства, которая направляется на продажу за пределы страны (экспорт). По мере роста благосостояния стран возрастает и внутреннее потребление, покрываемое за счет ввезенных иностранных товар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убъекты мирового</a:t>
            </a:r>
            <a:r>
              <a:rPr b="1" lang="ru-RU" sz="4400" spc="-1" strike="noStrike">
                <a:solidFill>
                  <a:srgbClr val="ffffff"/>
                </a:solidFill>
                <a:latin typeface="Arial"/>
              </a:rPr>
              <a:t> </a:t>
            </a:r>
            <a:r>
              <a:rPr b="0" lang="ru-RU" sz="4400" spc="-1" strike="noStrike">
                <a:solidFill>
                  <a:srgbClr val="ffffff"/>
                </a:solidFill>
                <a:latin typeface="Arial"/>
              </a:rPr>
              <a:t>рынка</a:t>
            </a:r>
            <a:endParaRPr b="0" lang="en-US" sz="4400" spc="-1" strike="noStrike">
              <a:solidFill>
                <a:srgbClr val="000000"/>
              </a:solidFill>
              <a:latin typeface="Arial"/>
            </a:endParaRPr>
          </a:p>
        </p:txBody>
      </p:sp>
      <p:sp>
        <p:nvSpPr>
          <p:cNvPr id="59" name="PlaceHolder 2"/>
          <p:cNvSpPr>
            <a:spLocks noGrp="1"/>
          </p:cNvSpPr>
          <p:nvPr>
            <p:ph/>
          </p:nvPr>
        </p:nvSpPr>
        <p:spPr>
          <a:xfrm>
            <a:off x="457200" y="1341360"/>
            <a:ext cx="8229600" cy="5516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уществуют четыре группы рыночных субъектов мирового рынк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циональные предпринимательские фирмы, использующие международные стратег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Государства, которые проводят внешнеэкономическую политик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Международные организации, регулирующие единый порядок международной экономической деятельности и способствующие стабилизации мирового рынк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Частные лица, чьи экономические интересы реализуются на хозяйственном поле мирового рынка (к примеру, владельцы активов, перемещающих их в страны с более высокой процентной ставко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указанные рыночные субъекты могут работать и на внутреннем рынке. Субъектами же мирового рынка они становятся только в том случае, если их хозяйственные стратегии реализуются через международные экономические сдел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250920" y="188640"/>
            <a:ext cx="8642160" cy="63356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ru-RU" sz="3200" spc="-1" strike="noStrike">
                <a:solidFill>
                  <a:srgbClr val="ffffff"/>
                </a:solidFill>
                <a:latin typeface="Arial"/>
              </a:rPr>
              <a:t>Каждое правительство, допуская на свой рынок иностранные товары и капиталы, должно следить за тем, чтобы интересы собственных хозяйственных субъектов не были ущемлены в угоду их иностранным партнерам.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ru-RU" sz="3200" spc="-1" strike="noStrike">
                <a:solidFill>
                  <a:srgbClr val="ffffff"/>
                </a:solidFill>
                <a:latin typeface="Arial"/>
              </a:rPr>
              <a:t>Для выполнения такой миссии следует четко определиться в вопросах разграничения «своих» и «чужих» хозяйствующих субъектов. Для этой цели были выделены такие категории, как </a:t>
            </a:r>
            <a:r>
              <a:rPr b="1" i="1" lang="ru-RU" sz="3200" spc="-1" strike="noStrike">
                <a:solidFill>
                  <a:srgbClr val="ffffff"/>
                </a:solidFill>
                <a:latin typeface="Arial"/>
              </a:rPr>
              <a:t>резиденты </a:t>
            </a:r>
            <a:r>
              <a:rPr b="0" i="1" lang="ru-RU" sz="3200" spc="-1" strike="noStrike">
                <a:solidFill>
                  <a:srgbClr val="ffffff"/>
                </a:solidFill>
                <a:latin typeface="Arial"/>
              </a:rPr>
              <a:t>и </a:t>
            </a:r>
            <a:r>
              <a:rPr b="1" i="1" lang="ru-RU" sz="3200" spc="-1" strike="noStrike">
                <a:solidFill>
                  <a:srgbClr val="ffffff"/>
                </a:solidFill>
                <a:latin typeface="Arial"/>
              </a:rPr>
              <a:t>нерезиденты</a:t>
            </a:r>
            <a:r>
              <a:rPr b="1" i="1" lang="en-US" sz="3200" spc="-1" strike="noStrike">
                <a:solidFill>
                  <a:srgbClr val="ffffff"/>
                </a:solidFill>
                <a:latin typeface="Arial"/>
              </a:rPr>
              <a:t> </a:t>
            </a:r>
            <a:r>
              <a:rPr b="0" i="1" lang="ru-RU" sz="3200" spc="-1" strike="noStrike">
                <a:solidFill>
                  <a:srgbClr val="ffffff"/>
                </a:solidFill>
                <a:latin typeface="Arial"/>
              </a:rPr>
              <a:t>страны</a:t>
            </a:r>
            <a:r>
              <a:rPr b="0" lang="ru-RU" sz="3200" spc="-1" strike="noStrike">
                <a:solidFill>
                  <a:srgbClr val="ffffff"/>
                </a:solidFill>
                <a:latin typeface="Arial"/>
              </a:rPr>
              <a:t>, зафиксированные Международным валютным фондом (МВФ).</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50560" y="259920"/>
            <a:ext cx="8713800" cy="6264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Резиденты страны — ее хозяйствующие субъекты, реализующие свои экономические интересы и хозяйственную деятельность в данной стране.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Это может быть участие как в бизнесе, так и в любом другом виде деятельности, приносящей доход.</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В качестве субъектов выступаю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омохозяйства и индивиды, ведущие хозяйство;</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едприятия (корпорации и квазикорпорации, такие как филиалы прямых инвесторов-нерезиденто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екоммерческие организаци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авительственные организ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50560" y="475920"/>
            <a:ext cx="8713800" cy="6381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ерезидентами считаются те экономические субъекты, экономические интересы которых находятся за пределами данной стран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езидент, в отличие от гражданина, является понятием не политическим, а экономически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ак правило, к резидентам относят тех, кто постоянно проживает на территории данной страны независимо от гражданства и даже от принадлежности капитала. Иностранный капитал, работая на внутреннем рынке, расширяет его емкость и вливается в хозяйственный оборот страны. Поэтому, несмотря на его происхождение, его причисляют к резидентам стран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К числу нерезидентов относят тех, кто постоянно находится на территории иностранного государства, даже если они являются филиалами институциональных единиц данной стран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Конъюнктура мирового рынка</a:t>
            </a:r>
            <a:endParaRPr b="0" lang="en-US" sz="4000" spc="-1" strike="noStrike">
              <a:solidFill>
                <a:srgbClr val="000000"/>
              </a:solidFill>
              <a:latin typeface="Arial"/>
            </a:endParaRPr>
          </a:p>
        </p:txBody>
      </p:sp>
      <p:sp>
        <p:nvSpPr>
          <p:cNvPr id="64" name="PlaceHolder 2"/>
          <p:cNvSpPr>
            <a:spLocks noGrp="1"/>
          </p:cNvSpPr>
          <p:nvPr>
            <p:ph/>
          </p:nvPr>
        </p:nvSpPr>
        <p:spPr>
          <a:xfrm>
            <a:off x="457200" y="836280"/>
            <a:ext cx="822960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 условии равенства прочих факторов экономического развития отдельных стран (экономический рост, конкурентоспособность, применяемые технологии и др.), эффективность функционирования стран на мировом рынке в определяющей степени зависит от его конъюнктур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ff"/>
                </a:solidFill>
                <a:latin typeface="Arial"/>
              </a:rPr>
              <a:t>Конъюнктура мирового рынка</a:t>
            </a:r>
            <a:r>
              <a:rPr b="0" lang="ru-RU" sz="2800" spc="-1" strike="noStrike">
                <a:solidFill>
                  <a:srgbClr val="ffffff"/>
                </a:solidFill>
                <a:latin typeface="Arial"/>
              </a:rPr>
              <a:t> — совокупность условий, факторов, показателей, характеризующих состояние мировой экономики в определенный период времени. Основная характеристика конъюнктуры рынка — степень сбалансированности спроса и предлож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33300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курентоспособность национальных экономик</a:t>
            </a:r>
            <a:br>
              <a:rPr sz="2400"/>
            </a:br>
            <a:endParaRPr b="0" lang="en-US" sz="2400" spc="-1" strike="noStrike">
              <a:solidFill>
                <a:srgbClr val="000000"/>
              </a:solidFill>
              <a:latin typeface="Arial"/>
            </a:endParaRPr>
          </a:p>
        </p:txBody>
      </p:sp>
      <p:sp>
        <p:nvSpPr>
          <p:cNvPr id="43" name="PlaceHolder 2"/>
          <p:cNvSpPr>
            <a:spLocks noGrp="1"/>
          </p:cNvSpPr>
          <p:nvPr>
            <p:ph/>
          </p:nvPr>
        </p:nvSpPr>
        <p:spPr>
          <a:xfrm>
            <a:off x="457200" y="836640"/>
            <a:ext cx="8229600" cy="568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современных условиях глобализации и интернационализации проблемы международной конкуренции выходят на первый пла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курентоспособность - это сложная экономическая категория, которая может рассматриваться на нескольких уровнях:</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курентоспособность товар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курентоспособность товаропроизводителя (или фирмы)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раслевая конкурентоспособность </a:t>
            </a:r>
            <a:r>
              <a:rPr b="0" lang="ru-RU"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курентоспособность стра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жду всеми этими уровнями конкурентоспособности существует тесная внутренняя и внешняя зависимост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циональная и отраслевая конкурентоспособность в конечном итоге зависит от способностей национального товаропроизводителя выпускать конкурентоспособный това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акторы конкурентоспособности:</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о-естественные (географическое положение, климатические особенности, обеспеченность природными ресурсами)</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обретенные (высокий технологический уровень производства, научный, образовательный потенциа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Устойчивость экономической конъюнктуры мирового рынка периодически нарушается действием ряда факторов циклического и нециклического характер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ff"/>
                </a:solidFill>
                <a:latin typeface="Arial"/>
              </a:rPr>
              <a:t>Факторы циклического характера</a:t>
            </a:r>
            <a:r>
              <a:rPr b="0" lang="ru-RU" sz="2800" spc="-1" strike="noStrike">
                <a:solidFill>
                  <a:srgbClr val="ffffff"/>
                </a:solidFill>
                <a:latin typeface="Arial"/>
              </a:rPr>
              <a:t>, как правило, обусловливают колебания фаз экономического цикла во всех или в большинстве стран, проявляющиеся в динамике производства, строительства, состоянии внешней и внутренней торговли, товарных запасов, курса ценных бумаг, уровня безработицы и т.п.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ff"/>
                </a:solidFill>
                <a:latin typeface="Arial"/>
              </a:rPr>
              <a:t>К нециклическим факторам</a:t>
            </a:r>
            <a:r>
              <a:rPr b="0" lang="ru-RU" sz="2800" spc="-1" strike="noStrike">
                <a:solidFill>
                  <a:srgbClr val="ffffff"/>
                </a:solidFill>
                <a:latin typeface="Arial"/>
              </a:rPr>
              <a:t>, определяющим конъюнктуру мирового рынка, относятся изменение политической обстановки, стихийные бедствия и т.п.</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Тенденции развития мирового рынка</a:t>
            </a:r>
            <a:endParaRPr b="0" lang="en-US" sz="3600" spc="-1" strike="noStrike">
              <a:solidFill>
                <a:srgbClr val="000000"/>
              </a:solidFill>
              <a:latin typeface="Arial"/>
            </a:endParaRPr>
          </a:p>
        </p:txBody>
      </p:sp>
      <p:sp>
        <p:nvSpPr>
          <p:cNvPr id="67"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ировой рынок — динамическая, в значительной мере саморегулируемая система, адекватно реагирующая на изменения. Переход от индустриального к информационному обществу, осуществляемый на рубеже веков, вызывает ряд новых тенденций в развитии мирового рынк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50560" y="333000"/>
            <a:ext cx="8435880" cy="6335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первых, на мировом рынке наблюдаются воспроизводственные структурные сдвиги; возрастающее значение приобретает сфера личного потребления, которая все больше влияет на масштабы, структуру и качественные параметры обмена между странами.</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вторых, в массе экономических благ на мировом рынке все большую роль играют не стандартные материальные блага, а научно-техническая продукция (изобретения, разработки, передача технологий, экспертных образцов, алгоритмы и программы для ЭВМ и т.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третьих, новые технологии подрывают значимость природных ресурсов и дешевого труда на мировом рынке; возрастает значение не имеющих материального воплощения ресурсов (научный потенциал, качество рабочей силы, экологические условия) и результатов производства (социальный, информационный, экологический эффект).</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четвертых, обмен коммерческой информацией происходит все чаще не непосредственно между продавцом и покупателем, а на компьютерном уровне.</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пятых, усиливается взаимосвязь функциональных элементов мирового рынка — рынков потребительских товаров, инвестиционных товаров, валютного рынка, рынка рабочей силы, и применяемых на них экономических показателей и оценок.</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50560" y="189000"/>
            <a:ext cx="8713800" cy="640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i="1" lang="ru-RU" sz="2800" spc="-1" strike="noStrike">
                <a:solidFill>
                  <a:srgbClr val="ffffff"/>
                </a:solidFill>
                <a:latin typeface="Arial"/>
              </a:rPr>
              <a:t>Простейшая модель равновесия  на мировом рынке</a:t>
            </a:r>
            <a:r>
              <a:rPr b="0" lang="ru-RU" sz="2800" spc="-1" strike="noStrike">
                <a:solidFill>
                  <a:srgbClr val="ffffff"/>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казывает, как он определяет мировые цены и объемы товарных потоков. Она исходит из предположения, что из двух стран одна - экспортирует товар, другая его поглощает как импортер. Если бы страны развивались на основе автаркии, одна страна страдала бы от товарных излишков, другая — от избыточного спроса. В результате у одной страны излишки понижали бы внутренние цены, а у другой избыточный спрос вел бы к росту цен. В условиях мировой торговли излишки продукции направляются стране-импортер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Механизм формирования равновесных цен мирового рынка</a:t>
            </a:r>
            <a:endParaRPr b="0" lang="en-US" sz="4000" spc="-1" strike="noStrike">
              <a:solidFill>
                <a:srgbClr val="000000"/>
              </a:solidFill>
              <a:latin typeface="Arial"/>
            </a:endParaRPr>
          </a:p>
        </p:txBody>
      </p:sp>
      <p:pic>
        <p:nvPicPr>
          <p:cNvPr id="72" name="Picture 4" descr="Мировой рынок рис"/>
          <p:cNvPicPr/>
          <p:nvPr/>
        </p:nvPicPr>
        <p:blipFill>
          <a:blip r:embed="rId1"/>
          <a:stretch/>
        </p:blipFill>
        <p:spPr>
          <a:xfrm>
            <a:off x="468360" y="1700280"/>
            <a:ext cx="828036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Untitled-1"/>
          <p:cNvPicPr/>
          <p:nvPr/>
        </p:nvPicPr>
        <p:blipFill>
          <a:blip r:embed="rId1"/>
          <a:stretch/>
        </p:blipFill>
        <p:spPr>
          <a:xfrm>
            <a:off x="0" y="307800"/>
            <a:ext cx="9144000" cy="6145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78920" y="260280"/>
            <a:ext cx="8713800" cy="6408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формулируем выводы из анализа простейшей модели равновесия на мировом рынк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 Величина экспорта одной страны является импортом для друг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 Размеры экспорта определяются избытком предложения товара по сравнению с внутренним спрос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Размеры импорта определяются избыточным спросом товара по сравнению с возможностями внутреннего предложени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4. Мировая цена оказывается в диапазоне между максимальным и минимальным уровнями внутренних цен стран — участниц торгов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уществуют определенные последствия неравновесных ситуаций на мировом рынк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увеличении в стране избытка нереализованной продукции, предназначенной для экспорта, величина зарубежных поставок не изменяется. Внутренние же цены на рынке экспортера могут упасть, так как избыток не вывезенной за границу продукции попадет на свой рынок. Это в свою очередь может повлиять на уровень мировых це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равновесие на мировом рынке может возникнуть, если страна-импортер увеличивает спрос на ввозимую продукцию. До тех пор пока экспортер не сможет нарастить экспортное производство, величина импорта и соответственно экспорта у страны-экспортера окажется без изменений. Но повышенный мировой спрос может привести к росту мировых це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менение количества экспортируемых и импортируемых товаров приводит к изменениям мировых цен. Возможно и обратное влияние мировых цен на объемы экспортной и импортной продук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сходя из определения, которое мы дали мировой экономике,  мы рассматриваем ее как единую экономическую рыночную систему, в которой существуют определенные экономические тенденции. Для этой системы действуют в принципе те же закономерности, что и для любой макросистемы, для описания которой используют категории </a:t>
            </a:r>
            <a:r>
              <a:rPr b="1" lang="ru-RU" sz="3200" spc="-1" strike="noStrike">
                <a:solidFill>
                  <a:srgbClr val="ffffff"/>
                </a:solidFill>
                <a:latin typeface="Arial"/>
              </a:rPr>
              <a:t>совокупного спроса, совокупного предложения, равновесной цены.</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настоящее время на первый план в мировой конкуренции выходят неценовые факторы, из которых важнейшее значение приобретают: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чество товара,</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го новизн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укоёмкость и интеллектоёмкость товаро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этому большинство стран мира обеспечивают повышение своей конкурентоспособности за счет формирования и использования приобретенных факторов (инновации, разработки высокотехнологичных продуктов, создание которых невозможно без развития научно-технического потенциал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её оценки используется такой показатель как затраты на инновации. Данный показатель отражает способность страны к инновационной деятельности и, кроме величины расходов на НИОКР, учитывает расходы на дизайн и маркетинг, численность занятых в научной сфере, число полученных патентов внутри страны и за рубежом, степень защиты интеллектуальной собственности, развитость сферы образован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конце 20 века рейтинг стран по этому показателю возглавляли Япония, Швейцария и СШ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3640" y="260280"/>
            <a:ext cx="8569080" cy="633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ложность реализации модели спроса-предложения для такого объекта, как мировая экономика, заключается в следующем:</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се субъекты мирового хозяйства имеют различные внутренние экономические законодательства (государственное регулирование экономики);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зличные уровни производительности труда (ПТ), эффективности производства и темпы экономического роста;</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зличные уровни доходов населения и потребительские предпочтения</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50560" y="404280"/>
            <a:ext cx="8713800" cy="6264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 связи с этим одно и то же воздействие на мировой рынок может привести и приводит к различным последствиям в разных странах, и следует учитывать это комплексное воздействие на параметры мирового рынка.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Это могут быть внешние воздействия (например, ужесточение иммиграционных законов, что снизит предложение труда и, следовательно, понизит ставки заработной платы), а может быть внутреннее изменение (например, рост или снижение производительности труда).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404640"/>
            <a:ext cx="8229600" cy="604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Совокупный спрос </a:t>
            </a:r>
            <a:r>
              <a:rPr b="0" lang="ru-RU" sz="2800" spc="-1" strike="noStrike">
                <a:solidFill>
                  <a:srgbClr val="ffffff"/>
                </a:solidFill>
                <a:latin typeface="Arial"/>
              </a:rPr>
              <a:t>- это модель, которая показывает различные объемы товаров и услуг, т.е. реальный объем национального производства, который потребители, предприятия и правительства готовы купить при возможном уровне це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 прочих равных условиях, чем ниже уровень цен, тем большую часть реального объема национального производства захотят приобрести потребители как внутри страны, так и за рубежом. И наоборот, чем выше уровень цен, тем меньший объем национального продукта они захотят купить, Таким образом, между уровнем цен и реальным объемом национального производства, на который предъявлен спрос, существует обратная зависимост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549000"/>
            <a:ext cx="8229600" cy="60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Совокупное предложение </a:t>
            </a:r>
            <a:r>
              <a:rPr b="0" lang="ru-RU" sz="2800" spc="-1" strike="noStrike">
                <a:solidFill>
                  <a:srgbClr val="ffffff"/>
                </a:solidFill>
                <a:latin typeface="Arial"/>
              </a:rPr>
              <a:t>- это   модель,    которая   показывает уровень наличного реального объема производства при каждом возможном уровне цен.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лее высокие уровни цен создают стимулы для производства дополнительного количества товаров и предложения их для продажи. Более низкие уровни цен вызывают сокращение производства товаров.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этому между уровнем цен и объемом национального продукта, который предприятия выбрасывают на рынок, зависимость прямая, или положительна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Международная (мировая) цена</a:t>
            </a:r>
            <a:r>
              <a:rPr b="0" lang="ru-RU" sz="2800" spc="-1" strike="noStrike">
                <a:solidFill>
                  <a:srgbClr val="ffffff"/>
                </a:solidFill>
                <a:latin typeface="Arial"/>
              </a:rPr>
              <a:t> — денежное выражение интернациональной (мировой) цены производства, складывающейся на мировом рынке.</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Формирование и реализация мировой цены находятся в тесной взаимозависимости с выполнением деньгами их функций на мировом уровне, и, прежде всего, такой функции, как м</a:t>
            </a:r>
            <a:r>
              <a:rPr b="1" lang="ru-RU" sz="2800" spc="-1" strike="noStrike">
                <a:solidFill>
                  <a:srgbClr val="ffffff"/>
                </a:solidFill>
                <a:latin typeface="Arial"/>
              </a:rPr>
              <a:t>ера стоимости. </a:t>
            </a:r>
            <a:r>
              <a:rPr b="0" lang="ru-RU" sz="2800" spc="-1" strike="noStrike">
                <a:solidFill>
                  <a:srgbClr val="ffffff"/>
                </a:solidFill>
                <a:latin typeface="Arial"/>
              </a:rPr>
              <a:t>Реализация этой функции на мировом уровне  опосредуется международными валютными отношениям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68360" y="333360"/>
            <a:ext cx="8229600" cy="6191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 условиях развитой мировой торговли рыночная стоимость и рыночная цена формируются в международном масштабе. На основе различных национальных стоимостей и цен производства товара, конкуренция действующая в различных видах на мировой рынке, стихийно приводит к образованию </a:t>
            </a:r>
            <a:r>
              <a:rPr b="1" lang="ru-RU" sz="3200" spc="-1" strike="noStrike">
                <a:solidFill>
                  <a:srgbClr val="ffffff"/>
                </a:solidFill>
                <a:latin typeface="Arial"/>
              </a:rPr>
              <a:t>интернациональной </a:t>
            </a:r>
            <a:r>
              <a:rPr b="0" lang="ru-RU" sz="3200" spc="-1" strike="noStrike">
                <a:solidFill>
                  <a:srgbClr val="ffffff"/>
                </a:solidFill>
                <a:latin typeface="Arial"/>
              </a:rPr>
              <a:t>(мировой) </a:t>
            </a:r>
            <a:r>
              <a:rPr b="1" lang="ru-RU" sz="3200" spc="-1" strike="noStrike">
                <a:solidFill>
                  <a:srgbClr val="ffffff"/>
                </a:solidFill>
                <a:latin typeface="Arial"/>
              </a:rPr>
              <a:t>стоимости, </a:t>
            </a:r>
            <a:r>
              <a:rPr b="0" lang="ru-RU" sz="3200" spc="-1" strike="noStrike">
                <a:solidFill>
                  <a:srgbClr val="ffffff"/>
                </a:solidFill>
                <a:latin typeface="Arial"/>
              </a:rPr>
              <a:t>а в дальнейшем - интернациональной цены производства и соответствующей ей интернациональной (мировой) цен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79280" y="333360"/>
            <a:ext cx="8785440" cy="652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Значение мировых цен </a:t>
            </a:r>
            <a:r>
              <a:rPr b="0" lang="ru-RU" sz="2800" spc="-1" strike="noStrike">
                <a:solidFill>
                  <a:srgbClr val="ffffff"/>
                </a:solidFill>
                <a:latin typeface="Arial"/>
              </a:rPr>
              <a:t>заключается в том, что они являются гарантией стабильности на мировом рынке, а это, в свою очередь, способствует его нормальному функционированию.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 возникновении единичных возмущающих воздействий рынок будет реагировать очень спокойно, и лишь ажиотажный спрос или предложение могут вызывать заметные изменения в ситуации на рынке.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этом серьезное преимущество </a:t>
            </a:r>
            <a:r>
              <a:rPr b="1" lang="ru-RU" sz="2800" spc="-1" strike="noStrike">
                <a:solidFill>
                  <a:srgbClr val="ffffff"/>
                </a:solidFill>
                <a:latin typeface="Arial"/>
              </a:rPr>
              <a:t>мирового </a:t>
            </a:r>
            <a:r>
              <a:rPr b="0" lang="ru-RU" sz="2800" spc="-1" strike="noStrike">
                <a:solidFill>
                  <a:srgbClr val="ffffff"/>
                </a:solidFill>
                <a:latin typeface="Arial"/>
              </a:rPr>
              <a:t>рынка: он дает возможность спокойно работать, прогнозируя ситуацию всем субъектам рын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Цикличность функционирования мировой экономики</a:t>
            </a:r>
            <a:endParaRPr b="0" lang="en-US" sz="3600" spc="-1" strike="noStrike">
              <a:solidFill>
                <a:srgbClr val="000000"/>
              </a:solidFill>
              <a:latin typeface="Arial"/>
            </a:endParaRPr>
          </a:p>
        </p:txBody>
      </p:sp>
      <p:sp>
        <p:nvSpPr>
          <p:cNvPr id="85" name="PlaceHolder 2"/>
          <p:cNvSpPr>
            <a:spLocks noGrp="1"/>
          </p:cNvSpPr>
          <p:nvPr>
            <p:ph/>
          </p:nvPr>
        </p:nvSpPr>
        <p:spPr>
          <a:xfrm>
            <a:off x="457200" y="1413000"/>
            <a:ext cx="8229600" cy="5184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ировая система как целостная система рыночного хозяйства подвержена тем же закономерностям циклического развития, которые характерны для национальной экономики.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этих позиций следует отметить совпадение крупных национальных и мировых кризисов в </a:t>
            </a:r>
            <a:r>
              <a:rPr b="0" lang="en-US" sz="2800" spc="-1" strike="noStrike">
                <a:solidFill>
                  <a:srgbClr val="ffffff"/>
                </a:solidFill>
                <a:latin typeface="Arial"/>
              </a:rPr>
              <a:t>XX </a:t>
            </a:r>
            <a:r>
              <a:rPr b="0" lang="ru-RU" sz="2800" spc="-1" strike="noStrike">
                <a:solidFill>
                  <a:srgbClr val="ffffff"/>
                </a:solidFill>
                <a:latin typeface="Arial"/>
              </a:rPr>
              <a:t>– </a:t>
            </a:r>
            <a:r>
              <a:rPr b="0" lang="en-US" sz="2800" spc="-1" strike="noStrike">
                <a:solidFill>
                  <a:srgbClr val="ffffff"/>
                </a:solidFill>
                <a:latin typeface="Arial"/>
              </a:rPr>
              <a:t>XXI </a:t>
            </a:r>
            <a:r>
              <a:rPr b="0" lang="ru-RU" sz="2800" spc="-1" strike="noStrike">
                <a:solidFill>
                  <a:srgbClr val="ffffff"/>
                </a:solidFill>
                <a:latin typeface="Arial"/>
              </a:rPr>
              <a:t>вв. Прежде всего это знаменитая Великая депрессия 1929-1933 гг.,  а также кризисы 1948-1949, 1957-1958, 1974-1975, 1980-1982, 1998, 2008 -…г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ассмотрении мирового экономического развития после второй мировой войны видно, что вплоть до 70-х годов господствовала повышательная динамика, а с начала 70-х годов ее сменила динамика понижения экономического роста.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ркое проявление этой новой тенденции дал спад 1974-1975 гг., в ходе которого физический объем производства всех индустриально развитых стран снизился на </a:t>
            </a:r>
            <a:r>
              <a:rPr b="0" i="1" lang="ru-RU" sz="2400" spc="-1" strike="noStrike">
                <a:solidFill>
                  <a:srgbClr val="ffffff"/>
                </a:solidFill>
                <a:latin typeface="Arial"/>
              </a:rPr>
              <a:t>5%, </a:t>
            </a:r>
            <a:r>
              <a:rPr b="0" lang="ru-RU" sz="2400" spc="-1" strike="noStrike">
                <a:solidFill>
                  <a:srgbClr val="ffffff"/>
                </a:solidFill>
                <a:latin typeface="Arial"/>
              </a:rPr>
              <a:t>а международный товарооборот  на 4%.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ле кратковременного оживления 1976-1979 гг. мировое хозяйство вошло в полосу самого длительного послевоенного спада. Своей низшей точки он достиг в 1982 г. при совокупном объеме выпуска промышленной продукции по отношению к 1979 г., сократившемуся более чем на 6%, в том числе в развитых странах - на 4% (США - 7%), а во всех развивающихся странах - более чем на 1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ле 1982 г. показатели поползли вверх,  но весьма медленно. Только к середине 80-х годов они превысили рубеж 1979 г. по общему объему промышленной продукции. Это было время существенной перестройки экономики. Так, для США спад 1980-1982 гг. наглядно показал слабую конкурентоспособность американских товаров на мировом рынке (даже в традиционно "американской" отрасли -автомобилестроении). За период 1980-1986 гг. отрицательное сальдо торгового баланса США выросло более чем в пять раз (до 145 млрд. долл.), государственный долг вырос вдвое (до 1.7 трлн. долл.), дефицит платежного баланса увеличился до 133 млрд. долл. (против 1 млрд. в 1979 г.).</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ИННОВАЦИИ</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бы выявить роль инноваций в формировании международной конкурентоспособности страны, необходимо дать определение самому понятию инноваци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новация - это конечный результат внедрения в производство новшества, приносящий больший доход, чем простой экстенсивный рост, связанный с вложением дополнительных трудовых, земельных или капитальных ресурсов. Под новшеством здесь понимается любая новая идея, связанная с:</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зданием новой улучшенной продукции или производственного процесс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ьзованием более дешевого сырья для производства уже известного товара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менением маркетинговой политики</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ходом на новые рынки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вым уровнем сервис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амое важное свойство инноваций состоит в том, что они приносят гораздо больший доход, чем обычные рискованные деловые предприят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6191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ледовавшая структурная модернизация американской экономики стала приносить плоды на завершающемся этапе циклического подъема. В 1987-1989 гг. темпы роста промышленного производства составили 13%, а ВВП - 10%, физический объем экспорта вырос более чем на 40%.</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 началу 90-х годов наметилась тенденция к очередному циклическому спаду. Так, совокупные темпы роста производства основных индустриальных стран снизились с 5. 5% в 1988 г. до 3, 5% в 1989, и почти до 1,5% в 1990 г., причем в 1990 г. и в начале 1991 г. в ряде развитых стран наблюдалось снижение объемов производств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259920"/>
            <a:ext cx="8229600" cy="626436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   </a:t>
            </a:r>
            <a:r>
              <a:rPr b="0" lang="ru-RU" sz="3500" spc="-1" strike="noStrike">
                <a:solidFill>
                  <a:srgbClr val="ffffff"/>
                </a:solidFill>
                <a:latin typeface="Arial"/>
              </a:rPr>
              <a:t>Вывод: интернационализация мирового производства привела к формированию мирового рынка, основными параметрами которого являются мировые спрос, предложение и цены. </a:t>
            </a:r>
            <a:endParaRPr b="0" lang="en-US" sz="35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ff"/>
                </a:solidFill>
                <a:latin typeface="Arial"/>
              </a:rPr>
              <a:t>   </a:t>
            </a:r>
            <a:r>
              <a:rPr b="0" lang="ru-RU" sz="3500" spc="-1" strike="noStrike">
                <a:solidFill>
                  <a:srgbClr val="ffffff"/>
                </a:solidFill>
                <a:latin typeface="Arial"/>
              </a:rPr>
              <a:t>Для мирового рыночного хозяйства характерны тенденции циклического развития производства, известные нам из курса экономической теории и относящиеся также к национальному рынку.</a:t>
            </a:r>
            <a:endParaRPr b="0" lang="en-US" sz="35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404640"/>
            <a:ext cx="8229600" cy="6120000"/>
          </a:xfrm>
          <a:prstGeom prst="rect">
            <a:avLst/>
          </a:prstGeom>
          <a:noFill/>
          <a:ln w="0">
            <a:noFill/>
          </a:ln>
        </p:spPr>
        <p:txBody>
          <a:bodyPr anchor="t">
            <a:normAutofit fontScale="99000"/>
          </a:bodyPr>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ff"/>
                </a:solidFill>
                <a:latin typeface="Arial"/>
              </a:rPr>
              <a:t>  </a:t>
            </a:r>
            <a:r>
              <a:rPr b="1" i="1" lang="ru-RU" sz="4000" spc="-1" strike="noStrike">
                <a:solidFill>
                  <a:srgbClr val="ffffff"/>
                </a:solidFill>
                <a:latin typeface="Arial"/>
              </a:rPr>
              <a:t>Мировой экономический цикл — </a:t>
            </a:r>
            <a:r>
              <a:rPr b="1" lang="ru-RU" sz="4000" spc="-1" strike="noStrike">
                <a:solidFill>
                  <a:srgbClr val="ffffff"/>
                </a:solidFill>
                <a:latin typeface="Arial"/>
              </a:rPr>
              <a:t>это совокупность среднесрочных конъюнктурообразующих факторов, характеризующих состояние мировой экономики.</a:t>
            </a:r>
            <a:endParaRPr b="0" lang="en-US" sz="4000" spc="-1" strike="noStrike">
              <a:solidFill>
                <a:srgbClr val="000000"/>
              </a:solidFill>
              <a:latin typeface="Arial"/>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endParaRPr b="0" lang="en-US" sz="4000" spc="-1" strike="noStrike">
              <a:solidFill>
                <a:srgbClr val="000000"/>
              </a:solidFill>
              <a:latin typeface="Arial"/>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  </a:t>
            </a:r>
            <a:r>
              <a:rPr b="0" lang="ru-RU" sz="4000" spc="-1" strike="noStrike">
                <a:solidFill>
                  <a:srgbClr val="ffffff"/>
                </a:solidFill>
                <a:latin typeface="Arial"/>
              </a:rPr>
              <a:t>В рамках марксистского подхода выделяют </a:t>
            </a:r>
            <a:r>
              <a:rPr b="0" i="1" lang="ru-RU" sz="4000" spc="-1" strike="noStrike">
                <a:solidFill>
                  <a:srgbClr val="ffffff"/>
                </a:solidFill>
                <a:latin typeface="Arial"/>
              </a:rPr>
              <a:t>четыре стадии (фазы) экономического цикл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404640"/>
            <a:ext cx="8229600" cy="612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  </a:t>
            </a:r>
            <a:r>
              <a:rPr b="1" i="1" lang="ru-RU" sz="2800" spc="-1" strike="noStrike">
                <a:solidFill>
                  <a:srgbClr val="ffffff"/>
                </a:solidFill>
                <a:latin typeface="Arial"/>
              </a:rPr>
              <a:t>Кризис</a:t>
            </a:r>
            <a:r>
              <a:rPr b="0" i="1" lang="ru-RU" sz="2800" spc="-1" strike="noStrike">
                <a:solidFill>
                  <a:srgbClr val="ffffff"/>
                </a:solidFill>
                <a:latin typeface="Arial"/>
              </a:rPr>
              <a:t> — </a:t>
            </a:r>
            <a:r>
              <a:rPr b="0" lang="ru-RU" sz="2800" spc="-1" strike="noStrike">
                <a:solidFill>
                  <a:srgbClr val="ffffff"/>
                </a:solidFill>
                <a:latin typeface="Arial"/>
              </a:rPr>
              <a:t>ситуация в экономике, при которой объем производства превышает объем потребления, как следствие, начинает падать объем производства, увеличиваются неиспользованные производственные мощности, растет безработица и, как следствие, падает спрос.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ризису обычно предшествуют такие признаки изменения рыночной конъюнктуры, как падение товарных цен, курсов акций, объема международной торговли, рост процентов и др., т. е. симптомы начала кризиса проявляются в сфере обращения и кредита, затем в сфере произ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59920"/>
            <a:ext cx="8229600" cy="6193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 </a:t>
            </a:r>
            <a:r>
              <a:rPr b="1" i="1" lang="ru-RU" sz="2800" spc="-1" strike="noStrike">
                <a:solidFill>
                  <a:srgbClr val="ffffff"/>
                </a:solidFill>
                <a:latin typeface="Arial"/>
              </a:rPr>
              <a:t>Депрессия</a:t>
            </a:r>
            <a:r>
              <a:rPr b="0" i="1" lang="ru-RU" sz="2800" spc="-1" strike="noStrike">
                <a:solidFill>
                  <a:srgbClr val="ffffff"/>
                </a:solidFill>
                <a:latin typeface="Arial"/>
              </a:rPr>
              <a:t> — </a:t>
            </a:r>
            <a:r>
              <a:rPr b="0" lang="ru-RU" sz="2800" spc="-1" strike="noStrike">
                <a:solidFill>
                  <a:srgbClr val="ffffff"/>
                </a:solidFill>
                <a:latin typeface="Arial"/>
              </a:rPr>
              <a:t>застой в экономике.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озникает следующая цепочка зависимосте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окращение производства =&gt;Уменьшение поступления товаров на рынок (снижение предложения) =&gt; Прекращение падения цен =&gt;Стабилизация спроса =&gt;Уменьшение товарных запасов =&gt;Создание предпосылок для роста предложени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Главный элемент перехода от кризиса к застою — нет ни падения производства, ни его роста; не наблюдается повышения цен; прекращаются увольнения, но при этом нет увеличения количества рабочих мест; а также отсутствует рост товарных запасов.</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3.   </a:t>
            </a:r>
            <a:r>
              <a:rPr b="0" i="1" lang="ru-RU" sz="2800" spc="-1" strike="noStrike">
                <a:solidFill>
                  <a:srgbClr val="ffffff"/>
                </a:solidFill>
                <a:latin typeface="Arial"/>
              </a:rPr>
              <a:t>Оживление </a:t>
            </a:r>
            <a:r>
              <a:rPr b="0" lang="ru-RU" sz="2800" spc="-1" strike="noStrike">
                <a:solidFill>
                  <a:srgbClr val="ffffff"/>
                </a:solidFill>
                <a:latin typeface="Arial"/>
              </a:rPr>
              <a:t>— рост производства за счет нарастающего обновления основного капитал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Это происходит за счет снижения издержек за счет:</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либо экономии рабочей силы (безработный рост);</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ибо интенсивного приобретения капитальных товаров.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ступление крупных инвестиций в основные отрасли =&gt; Модернизация =&gt; Увеличение спроса =&gt; Рост цен =&gt;Увеличение потребности в ссудном капитале =&gt; Рост прибы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692280"/>
            <a:ext cx="822960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4.  </a:t>
            </a:r>
            <a:r>
              <a:rPr b="0" i="1" lang="ru-RU" sz="3200" spc="-1" strike="noStrike">
                <a:solidFill>
                  <a:srgbClr val="ffffff"/>
                </a:solidFill>
                <a:latin typeface="Arial"/>
              </a:rPr>
              <a:t>Подъем — </a:t>
            </a:r>
            <a:r>
              <a:rPr b="0" lang="ru-RU" sz="3200" spc="-1" strike="noStrike">
                <a:solidFill>
                  <a:srgbClr val="ffffff"/>
                </a:solidFill>
                <a:latin typeface="Arial"/>
              </a:rPr>
              <a:t>достижение уровня производства, превосходящего уровень предшествующего пика производства:  -- появление новых предприяти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рост занят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рост объема производства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классическом подходе к анализу экономического цикла выделяют 3 фаз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ум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ецессия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пресс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Рецессия – спад производства или замедление темпов экономического рос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США подсчитали, что норма прибыли от 17 самых удачных нововведений, сделанных в 70-х годах, составила в среднем около 56%. В тоже время средняя норма прибыли от всех инвестиций в Американский бизнес за последние 30 лет составляет всего лишь 1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ЙТИНГ КОНКУРЕНТОСПОСОБНОСТ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следованием рейтинга конкурентоспособности национальных экономик в системе мирового хозяйства занимаются несколько авторитетных международных организаций.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иболее репрезентативный показатель конкурентоспособности впервые был разработан известной международной организацией - Мировым экономическим форумом в 1986 г. Ежегодный доклад по конкурентоспособности стран в системе мирового хозяйства готовится под эгидой Мирового экономического форума Международным институтом менеджмента (г. Лозан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692280"/>
            <a:ext cx="8229600" cy="568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подсчета рейтинга конкурентоспособности анализируется 290 показателей, из них 41 показатель используется лишь как вводная информация о стране и в конечном рейтинге не отражае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альные 249 критериев, которые находят отражение в конечном рейтинге, сгруппированы в восемь агрегированных факторов: внутренний экономический потенциал, внешнеэкономические связи, государственное регулирование, кредитно-финансовая система, инфраструктура, система управления, научно-технический потенциал, трудовые ресурсы.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грегированные факторы конкурентоспособности в свою очередь разделяются на подфакторы</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475920"/>
            <a:ext cx="8229600" cy="5977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годы исследования конкурентоспособности стран в системе мирового хозяйства и факторов ее определяющих специалистами института были разработаны "золотые правила" конкурентоспособности, следую которым страна добьется повышения или сохранения своей конкурентоспособности. Формулируются они в таком порядке: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табильное и предсказуемое законодательство;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Гибкая структура экономики;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 Инвестиции в традиционную и технологическую инфраструктуру;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Стимулирование частных сбережений и внутренних инвестиц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 Повышение агрессивности экспорта наряду с привлечение прямых иностранных инвестици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 Улучшение качества, оперативности и прозрачности управления и администрировани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 Взаимообусловленность заработной платы, производительности труда и налог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 Сокращение разрыва между минимальными и максимальными заработками в стране и укрепление среднего класс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 Крупные инвестиции в образование, особенно среднее, а также в непрерывное повышение квалификации работающих;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 Баланс преимуществ глобализации экономики и национальных особенностей и предпочтений (то есть наряду с осознанием принадлежности к мировому сообществу должна существовать национальная идея, национальное самоопредел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ировой рынок.</a:t>
            </a:r>
            <a:r>
              <a:rPr b="0" lang="ru-RU" sz="2400" spc="-1" strike="noStrike">
                <a:solidFill>
                  <a:srgbClr val="ffffff"/>
                </a:solidFill>
                <a:latin typeface="Arial"/>
              </a:rPr>
              <a:t> </a:t>
            </a:r>
            <a:r>
              <a:rPr b="1" lang="ru-RU" sz="2400" spc="-1" strike="noStrike">
                <a:solidFill>
                  <a:srgbClr val="ffffff"/>
                </a:solidFill>
                <a:latin typeface="Arial"/>
              </a:rPr>
              <a:t>Сущность и характерные черты.</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ОЗНИК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результате интернационализации хозяйственной жизни, переплетения экономических процессов и явлений на глобальном уровне как сфера обмена между государственно обособленными хозяйствам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ак определенная целостность он оформился к концу </a:t>
            </a:r>
            <a:r>
              <a:rPr b="1" lang="en-US" sz="2000" spc="-1" strike="noStrike">
                <a:solidFill>
                  <a:srgbClr val="ffffff"/>
                </a:solidFill>
                <a:latin typeface="Arial"/>
              </a:rPr>
              <a:t>XIX </a:t>
            </a:r>
            <a:r>
              <a:rPr b="1" lang="ru-RU" sz="2000" spc="-1" strike="noStrike">
                <a:solidFill>
                  <a:srgbClr val="ffffff"/>
                </a:solidFill>
                <a:latin typeface="Arial"/>
              </a:rPr>
              <a:t>— началу </a:t>
            </a:r>
            <a:r>
              <a:rPr b="1" lang="en-US" sz="2000" spc="-1" strike="noStrike">
                <a:solidFill>
                  <a:srgbClr val="ffffff"/>
                </a:solidFill>
                <a:latin typeface="Arial"/>
              </a:rPr>
              <a:t>XX </a:t>
            </a:r>
            <a:r>
              <a:rPr b="1" lang="ru-RU" sz="2000" spc="-1" strike="noStrike">
                <a:solidFill>
                  <a:srgbClr val="ffffff"/>
                </a:solidFill>
                <a:latin typeface="Arial"/>
              </a:rPr>
              <a:t>века, выступая производным от внутренних рынков национальных государств.</a:t>
            </a:r>
            <a:r>
              <a:rPr b="0" lang="ru-RU" sz="2000" spc="-1" strike="noStrike">
                <a:solidFill>
                  <a:srgbClr val="ffffff"/>
                </a:solidFill>
                <a:latin typeface="Arial"/>
              </a:rPr>
              <a:t> </a:t>
            </a:r>
            <a:r>
              <a:rPr b="1" lang="ru-RU" sz="2000" spc="-1" strike="noStrike">
                <a:solidFill>
                  <a:srgbClr val="ffffff"/>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ировой рынок — сфера устойчивых товарно-денежных</a:t>
            </a:r>
            <a:r>
              <a:rPr b="0" lang="ru-RU" sz="2000" spc="-1" strike="noStrike">
                <a:solidFill>
                  <a:srgbClr val="ffffff"/>
                </a:solidFill>
                <a:latin typeface="Arial"/>
              </a:rPr>
              <a:t> </a:t>
            </a:r>
            <a:r>
              <a:rPr b="1" lang="ru-RU" sz="2000" spc="-1" strike="noStrike">
                <a:solidFill>
                  <a:srgbClr val="ffffff"/>
                </a:solidFill>
                <a:latin typeface="Arial"/>
              </a:rPr>
              <a:t>отношений между странами, основанная на МРТ.</a:t>
            </a:r>
            <a:r>
              <a:rPr b="0" lang="ru-RU"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и внутренний рынок, состоит из рынка товаров и услуг, рынка рабочей силы и рынка капиталов. Но хозяйственное поле мирового рынка приняло масштабы всего мир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ровой рынок по сравнению с внутренним имеет в своей структуре </a:t>
            </a:r>
            <a:r>
              <a:rPr b="0" i="1" lang="ru-RU" sz="2000" spc="-1" strike="noStrike">
                <a:solidFill>
                  <a:srgbClr val="ffffff"/>
                </a:solidFill>
                <a:latin typeface="Arial"/>
              </a:rPr>
              <a:t>два дополнительных блок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валютный рынок, соизмеряющий ценности национальных денежных едини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специальную инфраструктуру.</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14:44:35Z</dcterms:created>
  <dc:creator>Igor</dc:creator>
  <dc:description/>
  <dc:language>en-US</dc:language>
  <cp:lastModifiedBy>Admin</cp:lastModifiedBy>
  <dcterms:modified xsi:type="dcterms:W3CDTF">2010-10-27T18:58:38Z</dcterms:modified>
  <cp:revision>70</cp:revision>
  <dc:subject/>
  <dc:title>МИРОВОЙ РЫНОК И ЕГО ФУНКЦИОНИРОВАНИЕ</dc:title>
</cp:coreProperties>
</file>