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757-B821-489F-89FB-56BF8530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B15-3E0D-4AF5-AE6A-4309DC5A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A79-8153-4D2B-A641-F92AC203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0A1-6DFE-4395-92F2-CCAE879F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76B5-66A5-44CD-94DF-6B6D8024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CFA8-23C8-40EB-9454-880A77A1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3238-2CC1-45B6-B484-113FB8FA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EC8B-D0CF-4B37-A902-A9642BFA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BFCE-78F9-4FEE-97B0-B65AD270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1951-A104-4746-8507-55E5CEF9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FAAF-C1C5-449D-9570-79BD175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EA6-9F0C-4192-B17F-593B1D2B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215E-F952-4637-8B11-C92A8455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C869-8931-454F-8623-B6C790B7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9A82-27CD-449D-ABAA-993E66F4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9CE5-FF5C-4F91-B4D6-61B8392B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2586-FC1C-4D96-B692-56B7AD67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39A-9289-4C5A-8998-5853D63A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BD8-B79E-4B60-9268-E583AEC8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DEA-C29B-40A8-A1F0-6E5C69B0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65E-1E2B-4361-A391-90281E8A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EE6-8754-43BB-BC23-1DBC521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C25-5A80-48F1-A45E-4D1BD22F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BEB-F5A8-47DE-A516-A4E262D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2B6C-CA91-4293-B2EE-0007596D89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453E-092E-489A-BD7F-549ECCAE0F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dbbd71"/>
                </a:solidFill>
                <a:latin typeface="Arial"/>
              </a:rPr>
              <a:t>Межгосударственное перемещение рабочей силы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Общеэкономический анализ последствий миг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Международная трудовая миграция и мировые рынки тр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Государственное регулирование миг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2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Международная трудовая миграция и мировые рынки труд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ждународная миграция рабочей сил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процесс перемещения трудовых ресурсов из одной страны в другую с целью трудоустройства на более выгодных условиях, чем в стране происхождения, определяющихся соотношением спроса и предложения на рынке тр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ждународная трудовая миграция включает в себ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ммиграционные и эмиграционные потоки и реэмигр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2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Международная трудовая миграция и мировые рынки труд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еограф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ычно основные потоки мигрантов направлялись из бедных стран в богат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первом мест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ША, Канада и Австрал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более развиты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аны Западной Европ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тягивают рабочую силу из менее развитых европейских стран, арабских и африканских стра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 70-х годов - нефтедобывающие стра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влекают дешевую рабочую силу из соседних арабских стран, Индии, Пакистана, Бангладеш, Кореи, Филипп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80-х годах - Южная Корея, Сингапур, Гонконг, Тайван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 середины 90-х годах Аргентина, Бразилия, Венесуэл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Сюда направляются эмигранты из других стран Латинской Америки, Азии и Афр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2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Международная трудовая миграция и мировые рынки труд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ля оценки масштабов трудовой миграции используются различные показате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асштабы выбытий 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быт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альдо миграции или чистая мигр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ловая миграция, или общая миграц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платежном балансе страны показатели, связанные с трудовой миграцией, отражаются как реальные и денежные потоки и классифицируются по статья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рудовой доход иммигрантов (включая 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ыплаты в пенсионные, страховые фонд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емещения мигрантов 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нежная оценка имущества мигрант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нежные переводы работников-мигрантов в страну, из которой они выбыл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2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Международная трудовая миграция и мировые рынки труд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ровой рынок труда —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это система экономических механизмов, норм, инструментов, обеспечивающих взаимодействие спроса на труд и его предложения на межгосударственном уров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ецифика това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его рын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чая сила является не тольк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объектом, но и субъектом международных экономических отноше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чая сила всегда прод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 временное пользова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е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льзя накаплив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ыми принципами этого рынка являетс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свободный найм и увольне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ока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ластичность спроса по зарпла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 трудовых отношений в различных странах зависит от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циально-политической среды, традиций и законодатель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иливается дифференциация спроса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рабочую силу в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висимости от принадлежности к определенн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рофессиональной и квалификационной груп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2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Международная трудовая миграция и мировые рынки труд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обенности современных мировых рынков тру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ст масштабов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ждународной трудовой миг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нонаправленность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х потоков миграции рабочей си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ст доли молодежи, женщин и дете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играционном процесс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ие продолжительности пребывания мигрантов в стране занят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нижение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и активности международной трудовой миграции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 80-х год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грация ученых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«утечки умов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менение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этнической структуры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миг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«черного» рын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Государственное регулирование мигр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 миграционной политикой понимается совокупность мер по государственному и межгосударственному регулированию миграционных потоков населения на законодательной осно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инство развитых стран проводя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текционистскую миграционную политик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проведении миграционной политики используются меры ограничительного характера: профессиональные, возрастные, социально-эконом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уществляе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ичественное квотир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пределяющее  долю иммигрантов в национальной экономике и отдельных отрасл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ю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ременные огранич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ебывания иностранных рабочих на территории принимающей стра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Государственное регулирование мигр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ономическое регулирование мигр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ощрение иммигрантов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уществляющие инвестиции в экономику принимающей стра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зимание с иммигрантов пошлин за трудоустройство, уплата налогов предпринимателями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спользующими труд иммигра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уществле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ифференцированной поддержки территор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редпочтительных для иммиграции, поощрение притока иммигрантов в развивающиеся регио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Государственное регулирование мигр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ъектом регулирования является не только иммиграция, но и реэмиграц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иболее распространены такие ме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ани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атериальной помощи лица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желающим выехать из страны (Германия, Франция, Нидерланд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фессиональное обучение иммигрант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Франция, Германия, Швейцар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казание экономической помощи странам массовой эмигр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 созданию новых рабочих мест (Германия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Государственное регулирование мигр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ждународные организации по проблемам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г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миссия ООН по народонаселени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убсидирование национальных программы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ждународная организация труд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регулированием миграци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ждународная организация по мигр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рганизация межстрановой миграци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орум мигрант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контроль за обустройством жизни мигрант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ЕС действует ряд конвенций, регулирующих международные миграционные поток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мский договор 1957 г., вступивший в силу в 1968 г.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енгенское соглашение 1985 г., вступившее в силу в 1993 г.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ублинская конвенция 1990 г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Общеэкономический анализ последствий мигр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классическая теория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лаготворное влияние эмиграции из страны-донора в страну-реципи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кейнсианство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рицательные последствия для страны, экспортирующей высококвалифицированную рабочую сил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. Равенстейном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ория международной трудовой миг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конца 60-х годов XX в. проблемы трудовой миграции исследуются в рамках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ории экономического роста: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ижение труда веде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 выравниванию уровней оплаты труда в различных страна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роисходит более эффективное использование трудовых ресурсов за счет более рационального их размещ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Общеэкономический анализ последствий мигр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отсутствии формальных барьеров к миграции, рабочие будут отправляться в страны с более высоким уровнем оплаты тру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ог для двух стра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игрыш мигрантов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лучение более высокой зарпл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игрыш рабочих страны-донора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нижение конкуренции за рабочие места повышает часовые ставки зарпла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держки конкурирующих рабочих в принимающей стране: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ст конкуренции за рабочие места, снижение зарпл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игрыш работодателей в принимающей стране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увеличивают прибыль, поскольку могут платить работникам более низкую зарпла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держки работодателей страны-донора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теряют часть прибылей, поскольку вынуждены платить работникам более высокую зарпла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Общеэкономический анализ последствий мигр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лияние на экономику и государственные расходы и доход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трана-донор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меньшение безработиц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ток добровольных переводов, направляемых родственникам с места работы мигрант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ьше средств расходуется на социальные нуж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гранты перестают платить налоги в своей родной стран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ана-донор затратила определенные средства на мигрантов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удоспособного возраста (в качестве компенсации Дж. Бхагвати предложил налог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«утечку умов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ток добровольных переводов, направляемых родственникам с места работы мигран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Общеэкономический анализ последствий мигр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лияние на экономику и государственные расходы и дох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инимающая стра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грант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латят налоги в принимающей стра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ана привлекает высококвалифицированных специалис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игранты представляют собой излишнее бремя для бюджета принимающей страны из-за роста выплат пособий по бедности, перегрузки общественных школ, роста издержек на поддержание общественного поряд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Общеэкономический анализ последствий мигр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нерыночные издержки и выигрыш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лучение знан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Миграция ведет к международному переносу знаний, обладающих значительной экономической цен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енаселен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Иммиграция может вызвать внерыночные издержки, сопровождающие излишнюю плотность населения — излишний шум, конфликты, преступ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циальные тр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облемы, связанные с этническими, расовыми, религиозными и культурными отличиями иммигрантов от коренного насе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2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Международная трудовая миграция и мировые рынки труд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зависимости от сроков миграции: окончательная и врем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кончательную миграцию подразделяют на внешнюю — международную и внутренню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причинам перемещения населения: добровольная и вынужд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 характеру перемещения: периодическая, сезонная и маятников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2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Международная трудовая миграция и мировые рынки труд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Согласно классификации МОТ, выделяют пять типов потоков международной миграции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1. Переселенцы.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2. Работающие по контракту.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3. Профессионалы.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4. Нелегальные иммигранты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ahoma"/>
              </a:rPr>
              <a:t>5. Поток вынужденных мигрантов.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Вопрос 2.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Международная трудовая миграция и мировые рынки труд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новные причины трудовой мигра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личный уровень экономического развития отдельных стра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личная степень обеспеченности стран трудовыми ресурс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рубежная деятельность транснациональных корпорац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безработицы в стране (усиливает трудовую миграцию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ждународное движение трудовых ресурсов порождается и неэкономическими факторами: политическими, религиозными, экологическими, семейными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LaT</cp:lastModifiedBy>
  <dcterms:modified xsi:type="dcterms:W3CDTF">2010-10-29T04:55:09Z</dcterms:modified>
  <cp:revision>2</cp:revision>
  <dc:subject/>
  <dc:title>PowerPoint Presentation</dc:title>
</cp:coreProperties>
</file>