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77DD-EFBC-4961-B711-78FEC443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0D35-3EB8-40C5-A07F-0AA10657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70B1-FEB5-42E6-85E1-DEC1F2F70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394F-6B39-4E91-AB80-B70DC458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72FB-71E5-4806-847D-0E299408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F378-AA06-443C-B5CE-7F812E46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AA6D-3817-47D8-ADEB-A9F78540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D355-2805-4206-AC0F-E6837907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5D79-C833-41CC-A425-A6832C10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06C4-DA40-423C-B301-CFA53D69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53FB-F9BF-4E82-88FC-9B3EE355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1012-4CA8-4834-9FEB-FDD10F9A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080D-212B-46CF-B995-B38A8E79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EDF5-F4B6-4EC7-AF25-B474C7FB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9156-3CC1-49ED-8B6F-A057912C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C1C2-3710-41B2-B5C3-160C6989B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2A29-0DDF-4AF5-A11C-D24A9360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01EE-D184-4A5D-B615-0C10B85E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2DA5-D19F-4781-B362-F724DEE9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32F5-04E7-4818-AA44-F3F48ABE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CF3F-8233-4D50-8C2B-F614C3CB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0E13-BFFE-49EE-96B0-6A37AC04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361F-41B6-4B58-AD9D-1403968D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E7B2-5D4E-4A1F-9D7A-50C52208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3BEF-A5FB-4E1B-B7BC-B9D524C437E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5862-6CC8-43AF-89A0-12F0C4C21AC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38EF-B65C-425E-9CF1-AD183AB4372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20FB-1AFA-460B-A63D-937EE340FF4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7280" y="2349000"/>
            <a:ext cx="6707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Современное мировое хозяйство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631656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360" y="4581360"/>
            <a:ext cx="2124000" cy="1590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443640" y="404640"/>
            <a:ext cx="218124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8060-B958-430C-AB55-635D5F69278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D735EB-A2A6-4C6D-B5D9-C3C6DBD36789}" type="datetime1">
              <a:rPr lang="en-US"/>
              <a:t>07/29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324000" y="304920"/>
          <a:ext cx="8820000" cy="6968880"/>
        </p:xfrm>
        <a:graphic>
          <a:graphicData uri="http://schemas.openxmlformats.org/drawingml/2006/table">
            <a:tbl>
              <a:tblPr/>
              <a:tblGrid>
                <a:gridCol w="2124000"/>
                <a:gridCol w="6696000"/>
              </a:tblGrid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Экономический союз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Возникает на этапе высокого экономического развития. Проводится согласованная (или даже единая) экономическая политика и на этой основе идет снятие всех препятствий. Создаются межгосударственные (надгосударственные) органы. Идут крупные экономические преобразования во всех странах-участницах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Валютный союз</a:t>
                      </a:r>
                      <a:r>
                        <a:rPr b="1" i="1" lang="ru-RU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Форма экономического союза и одновременно его крупная составляющая. Характерными чертами валютного союза являются: 1) согласованное (совместное) плавание национальных валют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2) установление по соглашению фиксированных валютных курсов, которые целенаправленно поддерживаются Центробанками стран-участниц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3) создание единой региональной валюты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4) формирование единого регионального банка, являющегося эмиссионным центром этой международной валютной единицы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Полная экономическая интеграция</a:t>
                      </a:r>
                      <a:r>
                        <a:rPr b="1" i="1" lang="ru-RU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Единая экономическая политика и, как следствие, унификация законодательной базы. Условия: 1) общая налоговая система; 2) наличие единых стандартов; 3) единое трудовое законодательство и т.д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9431-685D-44B5-966D-9FA31A1B0FD4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053432-4ADA-4677-95A7-586124C7F2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15184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Направления и формы международных экономических отношений:</a:t>
            </a:r>
            <a:r>
              <a:rPr b="0" lang="ru-RU" sz="4000" spc="-1" strike="noStrike">
                <a:solidFill>
                  <a:srgbClr val="99ff33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341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Times New Roman"/>
              </a:rPr>
              <a:t>- международная торговля товарами, работами, услугам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Times New Roman"/>
              </a:rPr>
              <a:t>- международная специализация производства и научно-технических работ, или международный научно-технический обмен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Times New Roman"/>
              </a:rPr>
              <a:t>- обмен научно-техническими результатам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Times New Roman"/>
              </a:rPr>
              <a:t>- информационные, валютно-финансовые и кредитные связи между странам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Times New Roman"/>
              </a:rPr>
              <a:t>- движение капитала (инвестиции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Times New Roman"/>
              </a:rPr>
              <a:t>- движение (миграция) рабочей силы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Times New Roman"/>
              </a:rPr>
              <a:t>- деятельность международных экономических организаций, хозяйственное сотрудничество в решении глобальных пробл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0095-5DBE-4619-8421-2CE6F56AC5E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57131B-C178-43F4-9834-63B11E1313D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6480360" cy="638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CE36-3029-4983-87B0-E5D7DF608148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2FE36D-5C8A-473D-BCD7-04A312439A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ff33"/>
                </a:solidFill>
                <a:latin typeface="Arial"/>
              </a:rPr>
              <a:t>Международная экономи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1268280"/>
            <a:ext cx="842472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Times New Roman"/>
              </a:rPr>
              <a:t>Международную экономику можно определить как совокупность национальных хозяйств и негосударственных структур, объединенных международными отношени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Times New Roman"/>
              </a:rPr>
              <a:t>Международная экономика возникла благодаря международному разделению труда, что повлекло за собой как разделение производства (то есть международную специализацию), так и его объединение — коопераци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Times New Roman"/>
              </a:rPr>
              <a:t>Основные характеристик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99ff33"/>
                </a:solidFill>
                <a:latin typeface="Times New Roman"/>
              </a:rPr>
              <a:t>Иерархичность (наличие наднациональных институтов, например ООН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99ff33"/>
                </a:solidFill>
                <a:latin typeface="Times New Roman"/>
              </a:rPr>
              <a:t>Многоуровнев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99ff33"/>
                </a:solidFill>
                <a:latin typeface="Times New Roman"/>
              </a:rPr>
              <a:t>Структур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99ff33"/>
                </a:solidFill>
                <a:latin typeface="Times New Roman"/>
              </a:rPr>
              <a:t>Неравномерность распределения экономической мощи (на 32 развитые страны мира приходится 80% мировой покупательной способности граждан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99ff33"/>
                </a:solidFill>
                <a:latin typeface="Times New Roman"/>
              </a:rPr>
              <a:t>Наличие определенного мирового поряд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50B0-2F27-47C3-A601-5E99B1685242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CFEF3F-66D8-473B-95E4-F12A1EA63F5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ff"/>
                </a:solidFill>
                <a:latin typeface="Arial"/>
              </a:rPr>
              <a:t>Субъекты мировых хозяйственных отношений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ff"/>
                </a:solidFill>
                <a:latin typeface="Tahoma"/>
              </a:rPr>
              <a:t>Транснациональные корпорации (ТНК) и их долгосрочные альянсы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ff"/>
                </a:solidFill>
                <a:latin typeface="Tahoma"/>
              </a:rPr>
              <a:t>Транснациональные банк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ff"/>
                </a:solidFill>
                <a:latin typeface="Tahoma"/>
              </a:rPr>
              <a:t>Финансово-промышленные группы — объединение ТНК и ТНБ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ff"/>
                </a:solidFill>
                <a:latin typeface="Tahoma"/>
              </a:rPr>
              <a:t>Биржи (особенно крупные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ff"/>
                </a:solidFill>
                <a:latin typeface="Tahoma"/>
              </a:rPr>
              <a:t>Крупные предпринимател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ff"/>
                </a:solidFill>
                <a:latin typeface="Tahoma"/>
              </a:rPr>
              <a:t>Государства, и приравненные к ним территории, а также административные единицы данных государств и территорий; Мировые финансовые и экономические организации (включая крупных инвесторов и организации-объединения крупных компаний, занимающиеся контролем определенных международных рынков, объединения стран внутри региона — СНГ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494172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ff"/>
                </a:solidFill>
                <a:latin typeface="Times New Roman"/>
              </a:rPr>
              <a:t>Рост мировой экономики за 2005 год составил 4,4 %. Суммарный ВВП всех стран составил на конец 2005 года — 43,07 трлн долл. США в номинальном выражении. В среднем ВВП на душу населения составляет около 9500 долл. (ППП) на человека. Сейчас в мире насчитывается около 30 тысяч транснациональных корпораций и около 300 тысяч их филиал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807C-100C-4150-94B9-4820984E073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EDB6EF-9950-4740-BD64-E34EE2D04E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411480"/>
            <a:ext cx="82090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</a:t>
            </a:r>
            <a:r>
              <a:rPr b="1" i="1" lang="uk-UA" sz="2000" spc="-1" strike="noStrike">
                <a:solidFill>
                  <a:srgbClr val="ffff00"/>
                </a:solidFill>
                <a:latin typeface="Times New Roman"/>
              </a:rPr>
              <a:t>изучения мировой экономики </a:t>
            </a: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. Мировая экономика представляет собой особую сферу научного познания, сформировавшуюся на основе общей политико-экономической теори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4360" y="404640"/>
            <a:ext cx="20574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ъектом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2922840"/>
            <a:ext cx="8355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cc"/>
                </a:solidFill>
                <a:latin typeface="Times New Roman"/>
              </a:rPr>
              <a:t>                </a:t>
            </a:r>
            <a:r>
              <a:rPr b="1" i="1" lang="kk-KZ" sz="2000" spc="-1" strike="noStrike">
                <a:solidFill>
                  <a:srgbClr val="ff66cc"/>
                </a:solidFill>
                <a:latin typeface="Times New Roman"/>
              </a:rPr>
              <a:t>             </a:t>
            </a:r>
            <a:r>
              <a:rPr b="1" i="1" lang="uk-UA" sz="2000" spc="-1" strike="noStrike">
                <a:solidFill>
                  <a:srgbClr val="ff66cc"/>
                </a:solidFill>
                <a:latin typeface="Times New Roman"/>
              </a:rPr>
              <a:t>изучения мировой экономики тот же, что и у общей теории политической экономии: взаимоотношения между людьми по поводу производства, распределения, обмена и потребления жизненных благ. Специфика же мирового хозяйства и, соответственно, мирохозяйственных связей определяется тем обстоятельством, что эти взаимоотношения осуществляются через государственные границы и предстают в качестве международных экономических отношений. Отсюда - и различия в методологии рассмотрения исторически развивающихся категорий, соотношения между поняти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9640" y="2852640"/>
            <a:ext cx="18957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дмет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E1F2-46C2-4765-B09A-86B5D0BE1172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AAEB3-F3C5-497A-BB32-A7AD46296B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04000" y="4869000"/>
            <a:ext cx="2160720" cy="1655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1873080" cy="1655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5280" y="2342160"/>
            <a:ext cx="849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ff33"/>
                </a:solidFill>
                <a:latin typeface="Times New Roman"/>
              </a:rPr>
              <a:t>           </a:t>
            </a:r>
            <a:r>
              <a:rPr b="1" lang="uk-UA" sz="2400" spc="-1" strike="noStrike">
                <a:solidFill>
                  <a:srgbClr val="99ff33"/>
                </a:solidFill>
                <a:latin typeface="Times New Roman"/>
              </a:rPr>
              <a:t>изучения мировой экономики - изучить всемирное хозяйство во всей его сложной противоречивой целостности, разные части которой находятся в той или иной взаимосвязи как между собой, так и между отдельными частями и системой в цел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9640" y="2421000"/>
            <a:ext cx="107964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ь </a:t>
            </a:r>
            <a:endParaRPr b="0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AE37-1B57-4E2E-9C1A-236598FA3CCC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D521F2-A537-4B24-82D7-2275E2FFF3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539640" y="1341360"/>
          <a:ext cx="7824960" cy="5132520"/>
        </p:xfrm>
        <a:graphic>
          <a:graphicData uri="http://schemas.openxmlformats.org/drawingml/2006/table">
            <a:tbl>
              <a:tblPr/>
              <a:tblGrid>
                <a:gridCol w="701640"/>
                <a:gridCol w="1584360"/>
                <a:gridCol w="55389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Номер</a:t>
                      </a:r>
                      <a:br>
                        <a:rPr sz="1400"/>
                      </a:br>
                      <a:r>
                        <a:rPr b="1" i="1" lang="ru-RU" sz="1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эта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Продолжитель-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XV-XVII вв.н.э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Зарождение мирового капиталистического рынка:</a:t>
                      </a:r>
                      <a:br>
                        <a:rPr sz="1400"/>
                      </a:br>
                      <a:r>
                        <a:rPr b="1" i="1" lang="ru-RU" sz="1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-          великие географические открытия,</a:t>
                      </a:r>
                      <a:br>
                        <a:rPr sz="1400"/>
                      </a:br>
                      <a:r>
                        <a:rPr b="1" i="1" lang="ru-RU" sz="1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-          появление колоний,</a:t>
                      </a:r>
                      <a:br>
                        <a:rPr sz="1400"/>
                      </a:br>
                      <a:r>
                        <a:rPr b="1" i="1" lang="ru-RU" sz="1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-          революция цен,</a:t>
                      </a:r>
                      <a:br>
                        <a:rPr sz="1400"/>
                      </a:br>
                      <a:r>
                        <a:rPr b="1" i="1" lang="ru-RU" sz="1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-          мануфактурный пери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XVIII-XIX вв.н.э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Формирование мирового капиталистического рынка, зарождение и развитие общемирового разделения труда:</a:t>
                      </a:r>
                      <a:br>
                        <a:rPr sz="1400"/>
                      </a:br>
                      <a:r>
                        <a:rPr b="1" i="1" lang="ru-RU" sz="1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-          промышленный переворот,</a:t>
                      </a:r>
                      <a:br>
                        <a:rPr sz="1400"/>
                      </a:br>
                      <a:r>
                        <a:rPr b="1" i="1" lang="ru-RU" sz="1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-          буржуазные революции,</a:t>
                      </a:r>
                      <a:br>
                        <a:rPr sz="1400"/>
                      </a:br>
                      <a:r>
                        <a:rPr b="1" i="1" lang="ru-RU" sz="1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-          переход от мануфактурной к фабричной систем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Конец XIX – первая половина XX в.н.э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Формирование системы общемирового разделения труда и на этой основе всемирного хозяйства:</a:t>
                      </a:r>
                      <a:br>
                        <a:rPr sz="1400"/>
                      </a:br>
                      <a:r>
                        <a:rPr b="1" i="1" lang="ru-RU" sz="1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-          электротехническая революция,</a:t>
                      </a:r>
                      <a:br>
                        <a:rPr sz="1400"/>
                      </a:br>
                      <a:r>
                        <a:rPr b="1" i="1" lang="ru-RU" sz="1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-          двигатели внутреннего сгорания,</a:t>
                      </a:r>
                      <a:br>
                        <a:rPr sz="1400"/>
                      </a:br>
                      <a:r>
                        <a:rPr b="1" i="1" lang="ru-RU" sz="1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-          экономический раздел мира,</a:t>
                      </a:r>
                      <a:br>
                        <a:rPr sz="1400"/>
                      </a:br>
                      <a:r>
                        <a:rPr b="1" i="1" lang="ru-RU" sz="1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-          переход к монополистическому капитализм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С 50-х гг. XX в. до настоящего време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Функционирование системы общемирового разделения труда, усиление взаимозависимости экономик всех стран:</a:t>
                      </a:r>
                      <a:br>
                        <a:rPr sz="1400"/>
                      </a:br>
                      <a:r>
                        <a:rPr b="1" i="1" lang="ru-RU" sz="1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-          научно-техническая революция,</a:t>
                      </a:r>
                      <a:br>
                        <a:rPr sz="1400"/>
                      </a:br>
                      <a:r>
                        <a:rPr b="1" i="1" lang="ru-RU" sz="1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-          процессы интернационализации и интегр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 txBox="1"/>
          <p:nvPr/>
        </p:nvSpPr>
        <p:spPr>
          <a:xfrm>
            <a:off x="2195640" y="189000"/>
            <a:ext cx="45147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ff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этапы </a:t>
            </a:r>
            <a:endParaRPr b="1" lang="en-US" sz="2400" spc="1" strike="noStrike">
              <a:ln w="25560">
                <a:solidFill>
                  <a:srgbClr val="00ff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ff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звития мировой экономики</a:t>
            </a:r>
            <a:endParaRPr b="1" lang="en-US" sz="2400" spc="1" strike="noStrike">
              <a:ln w="25560">
                <a:solidFill>
                  <a:srgbClr val="00ff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69DA-7789-4E5D-912F-3479B18B368B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DA1434-DA08-4573-AC7D-22F8F13484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08000" y="541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79640" y="260280"/>
            <a:ext cx="5545080" cy="612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3E6F-F4DD-4C28-B5EC-6F4A341F13B6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D8B4B8-C25F-49DC-977C-F76F7CEDA1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9640" y="907920"/>
            <a:ext cx="77724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1) развитая инфраструктура;</a:t>
            </a:r>
            <a:br>
              <a:rPr sz="2000"/>
            </a:br>
            <a:r>
              <a:rPr b="1" i="1" lang="ru-RU" sz="2000" spc="-1" strike="noStrike">
                <a:solidFill>
                  <a:srgbClr val="ff0066"/>
                </a:solidFill>
                <a:latin typeface="Times New Roman"/>
              </a:rPr>
              <a:t>2) наличие политических решений правительства (создание условий для интеграции – политическая и экономическая база);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11280" y="2421000"/>
          <a:ext cx="7848360" cy="3963960"/>
        </p:xfrm>
        <a:graphic>
          <a:graphicData uri="http://schemas.openxmlformats.org/drawingml/2006/table">
            <a:tbl>
              <a:tblPr/>
              <a:tblGrid>
                <a:gridCol w="2057400"/>
                <a:gridCol w="5790960"/>
              </a:tblGrid>
              <a:tr h="75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Тип интегр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Призна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Зона свободной торговл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Форма соглашения, когда участники договариваются о снятии таможенных тарифов и квот в отношении друг друга. При этом к третьим странам – у каждого своя политика. Примеры: НАФТА, ЕЭС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Таможенный союз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Полное устранение препятствий для перемещений всех факторов производства между странами-участницами. В процессе решения находятся такие вопросы, как: полное согласование экономической политики и т.д., выравнивание экономических показателей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260280"/>
            <a:ext cx="808056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Условия и типы интеграции: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5FF7-3E04-43C2-BB8A-9601DE8D2815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31371-0144-4E28-9218-F96DB7871A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4:11:11Z</dcterms:created>
  <dc:creator>Надежда</dc:creator>
  <dc:description/>
  <dc:language>en-US</dc:language>
  <cp:lastModifiedBy>User</cp:lastModifiedBy>
  <dcterms:modified xsi:type="dcterms:W3CDTF">2011-06-09T11:55:11Z</dcterms:modified>
  <cp:revision>10</cp:revision>
  <dc:subject/>
  <dc:title>Международная торгов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