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4BD-8E5E-4347-A418-F684B0FE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021-1103-431D-B978-E4C44D9A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D57-36B9-41F6-8319-76DA156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7A1-386E-4C24-935B-4EC0B94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12FA-C0CA-48E2-B768-BDEB10A4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443-8455-4B8F-9DE0-5562511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2DC-F4A7-4876-9484-49A8953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A646-D46C-40B5-90E8-FC4551E4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5BE-53E8-4B72-A458-DCB2C39B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1B4A-A80D-4AAF-8039-F1278B1A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4A3B-9E15-4209-92AC-5642161E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503-37FA-483A-A69F-AC4FB6F0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DB2-669E-42F0-8B5F-E955381F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A8C5-E95A-459A-8FCD-49131C3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BD58-6F15-495A-A0E3-DB07029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A136-23A7-4E95-9D0D-5112D611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CEEA-1549-4865-BC78-389DC01C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8F1-11B2-4138-AF50-7162BA05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742-065F-4C2C-AE11-1D732C6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3D3-685B-4899-B764-FD935F1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D6F-3A7D-4CE2-BC3B-81D64892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449-D5DC-4B6D-92DC-1634947B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625-6F26-4199-9DF6-209FF9B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29B-5A50-4F2F-B679-896A580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F1F-2786-4823-AA4D-54B1D7BAEA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BD4-B1FB-4674-8E14-3BF057CDFE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езентация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а тему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ЗАХСТАН В СОВРЕМЕННОМ МИРОВОМ ХОЗЯЙ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Промышленность строительных материал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укция промышленности строительных материалов в общем объеме промышленного производства Республики занимает более 5 %. На предприятиях отрасли производится цемент, шифер, асбестоцементные трубы, мягкие кровельные материалы, линолеум, санитарно-строительный фаянс, облицовочные керамические плитки для полов и отделки зданий, панели и другие конструкции для крупнопанельного домостроения, каолин для бумажной промышленности, радиаторы, конвекторы и ряд других видов строительных материалов и конструкц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02800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Сельское хозяйств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а севере Казахстана климатические условия благоприятствуют выращиванию яровой пшеницы, овса, ячменя и других зерновых культур, а также позволяют развивать овощеводство, бахчеводство и возделывать ряд технических культур - подсолнечника, льна-кудряша, табака и др. На юге республики, в предгорной полосе и в долинах рек, где много тепла, при искусственном орошении дают высокие урожаи хлопчатник, сахарная свекла, желтые табаки, рис, плодоносят сады и виноградники. По производству зерна Казахстан занимает третье место в СНГ после России и Украин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республике традиционно занимаются овцеводством, коневодством, верблюдоводством, разведением крупного рогатого скота. Пустынные и полупустынные территории в центральной и юго-западной частях Казахстана широко используются как сезонные пастбища для скота. В качестве летних пастбищ используются горные луга на востоке и юго-востоке республик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471000">
            <a:off x="5435280" y="2637000"/>
            <a:ext cx="3108240" cy="280800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09308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11897" y="3837"/>
                </a:moveTo>
                <a:lnTo>
                  <a:pt x="14474" y="6448"/>
                </a:lnTo>
                <a:lnTo>
                  <a:pt x="14474" y="4707"/>
                </a:lnTo>
                <a:lnTo>
                  <a:pt x="16249" y="4707"/>
                </a:lnTo>
                <a:lnTo>
                  <a:pt x="16249" y="8224"/>
                </a:lnTo>
                <a:lnTo>
                  <a:pt x="18860" y="10800"/>
                </a:lnTo>
                <a:lnTo>
                  <a:pt x="17207" y="10800"/>
                </a:lnTo>
                <a:lnTo>
                  <a:pt x="17207" y="17989"/>
                </a:lnTo>
                <a:lnTo>
                  <a:pt x="6588" y="17989"/>
                </a:lnTo>
                <a:lnTo>
                  <a:pt x="6588" y="10800"/>
                </a:lnTo>
                <a:lnTo>
                  <a:pt x="4934" y="10800"/>
                </a:lnTo>
                <a:close/>
              </a:path>
              <a:path fill="darkenLess" w="23795" h="21600">
                <a:moveTo>
                  <a:pt x="14474" y="6448"/>
                </a:moveTo>
                <a:lnTo>
                  <a:pt x="14474" y="4707"/>
                </a:lnTo>
                <a:lnTo>
                  <a:pt x="16249" y="4707"/>
                </a:lnTo>
                <a:lnTo>
                  <a:pt x="16249" y="8224"/>
                </a:lnTo>
                <a:close/>
              </a:path>
              <a:path fill="darkenLess" w="23795" h="21600">
                <a:moveTo>
                  <a:pt x="10975" y="14299"/>
                </a:moveTo>
                <a:lnTo>
                  <a:pt x="12820" y="14299"/>
                </a:lnTo>
                <a:lnTo>
                  <a:pt x="12820" y="17989"/>
                </a:lnTo>
                <a:lnTo>
                  <a:pt x="17207" y="17989"/>
                </a:lnTo>
                <a:lnTo>
                  <a:pt x="17207" y="10800"/>
                </a:lnTo>
                <a:lnTo>
                  <a:pt x="6588" y="10800"/>
                </a:lnTo>
                <a:lnTo>
                  <a:pt x="6588" y="17989"/>
                </a:lnTo>
                <a:lnTo>
                  <a:pt x="10975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Внешняя торговл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 В структуре казахстанского экспорта основную долю занимают нефть и нефтепродукты (35%), другими важными товарными группами являются цветные металлы (17%), черные металлы (16%), руды (12%), определенная часть экспорта приходится на зерновые культуры (9%). Основной импортируемой продукцией являются машины и оборудование, средства транспорта, приборы и автоматы, химическая продукция, топливо минеральное, продовольственные товары, готовые изделия и товары народного потребл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оля торговли с традиционными партнерами - странами СНГ и Балтии - все еще велика: на них приходится около 59% экспорта и до 63 % импорта. При этом основным торговым партнером остается Россия. Из государств дальнего зарубежья успешно развиваются торговые связи с Германией, Турцией, Швейцарией, Чехией, Италией, Китаем, США, Великобританией, Южной Кореей и др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410544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10800"/>
                </a:moveTo>
                <a:lnTo>
                  <a:pt x="18187" y="3794"/>
                </a:lnTo>
                <a:lnTo>
                  <a:pt x="1818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6093000"/>
            <a:ext cx="792360" cy="765000"/>
          </a:xfrm>
          <a:custGeom>
            <a:avLst/>
            <a:gdLst>
              <a:gd name="textAreaLeft" fmla="*/ 49320 w 792360"/>
              <a:gd name="textAreaRight" fmla="*/ 743040 w 792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72" h="21600">
                <a:moveTo>
                  <a:pt x="0" y="0"/>
                </a:moveTo>
                <a:lnTo>
                  <a:pt x="22372" y="0"/>
                </a:lnTo>
                <a:lnTo>
                  <a:pt x="22372" y="21600"/>
                </a:lnTo>
                <a:lnTo>
                  <a:pt x="0" y="21600"/>
                </a:lnTo>
                <a:close/>
              </a:path>
              <a:path fill="lightenLess" w="22372" h="21600">
                <a:moveTo>
                  <a:pt x="0" y="0"/>
                </a:moveTo>
                <a:lnTo>
                  <a:pt x="22372" y="0"/>
                </a:lnTo>
                <a:lnTo>
                  <a:pt x="20972" y="1400"/>
                </a:lnTo>
                <a:lnTo>
                  <a:pt x="1400" y="1400"/>
                </a:lnTo>
                <a:close/>
              </a:path>
              <a:path fill="darken" w="22372" h="21600">
                <a:moveTo>
                  <a:pt x="22372" y="0"/>
                </a:moveTo>
                <a:lnTo>
                  <a:pt x="22372" y="21600"/>
                </a:lnTo>
                <a:lnTo>
                  <a:pt x="20972" y="20200"/>
                </a:lnTo>
                <a:lnTo>
                  <a:pt x="20972" y="1400"/>
                </a:lnTo>
                <a:close/>
              </a:path>
              <a:path fill="darkenLess" w="22372" h="21600">
                <a:moveTo>
                  <a:pt x="22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2" y="20200"/>
                </a:lnTo>
                <a:close/>
              </a:path>
              <a:path fill="lighten" w="22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2" h="21600">
                <a:moveTo>
                  <a:pt x="11186" y="3837"/>
                </a:moveTo>
                <a:lnTo>
                  <a:pt x="13762" y="6448"/>
                </a:ln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lnTo>
                  <a:pt x="18149" y="10800"/>
                </a:lnTo>
                <a:lnTo>
                  <a:pt x="16495" y="10800"/>
                </a:lnTo>
                <a:lnTo>
                  <a:pt x="16495" y="17989"/>
                </a:lnTo>
                <a:lnTo>
                  <a:pt x="5877" y="17989"/>
                </a:lnTo>
                <a:lnTo>
                  <a:pt x="5877" y="10800"/>
                </a:lnTo>
                <a:lnTo>
                  <a:pt x="4223" y="10800"/>
                </a:lnTo>
                <a:close/>
              </a:path>
              <a:path fill="darkenLess" w="22372" h="21600">
                <a:moveTo>
                  <a:pt x="13762" y="6448"/>
                </a:moveTo>
                <a:lnTo>
                  <a:pt x="13762" y="4707"/>
                </a:lnTo>
                <a:lnTo>
                  <a:pt x="15538" y="4707"/>
                </a:lnTo>
                <a:lnTo>
                  <a:pt x="15538" y="8224"/>
                </a:lnTo>
                <a:close/>
              </a:path>
              <a:path fill="darkenLess" w="22372" h="21600">
                <a:moveTo>
                  <a:pt x="10263" y="14299"/>
                </a:moveTo>
                <a:lnTo>
                  <a:pt x="12109" y="14299"/>
                </a:lnTo>
                <a:lnTo>
                  <a:pt x="12109" y="17989"/>
                </a:lnTo>
                <a:lnTo>
                  <a:pt x="16495" y="17989"/>
                </a:lnTo>
                <a:lnTo>
                  <a:pt x="16495" y="10800"/>
                </a:lnTo>
                <a:lnTo>
                  <a:pt x="5877" y="10800"/>
                </a:lnTo>
                <a:lnTo>
                  <a:pt x="5877" y="17989"/>
                </a:lnTo>
                <a:lnTo>
                  <a:pt x="10263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Инвестиционные возможн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ачиная с 1993 года, валовый приток прямых иностранных инвестиций в экономику Казахстана достиг 28,4 млрд. долларов СШ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приоритетными направлениями для инвестиций являются: топливно-энергетический комплекс; агропромышленный комплекс; инфраструктура, включая транспорт, телекоммуникации, социальную инфраструктуру. Перспективными формами привлечения иностранного капитала представляются такие как финансовый лизинг, продажа акций крупных предприятий иностранным компаниям, привлечение иностранных инвестиций в венчурное производство (при долевом участии государства или правительственной гаранти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236000" y="58770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5877000"/>
            <a:ext cx="718920" cy="79200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95">
                <a:moveTo>
                  <a:pt x="0" y="0"/>
                </a:moveTo>
                <a:lnTo>
                  <a:pt x="21600" y="0"/>
                </a:lnTo>
                <a:lnTo>
                  <a:pt x="21600" y="23795"/>
                </a:lnTo>
                <a:lnTo>
                  <a:pt x="0" y="23795"/>
                </a:lnTo>
                <a:close/>
              </a:path>
              <a:path fill="lightenLess" w="21600" h="237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95">
                <a:moveTo>
                  <a:pt x="21600" y="0"/>
                </a:moveTo>
                <a:lnTo>
                  <a:pt x="21600" y="23795"/>
                </a:lnTo>
                <a:lnTo>
                  <a:pt x="20200" y="22395"/>
                </a:lnTo>
                <a:lnTo>
                  <a:pt x="20200" y="1400"/>
                </a:lnTo>
                <a:close/>
              </a:path>
              <a:path fill="darkenLess" w="21600" h="23795">
                <a:moveTo>
                  <a:pt x="21600" y="23795"/>
                </a:moveTo>
                <a:lnTo>
                  <a:pt x="0" y="23795"/>
                </a:lnTo>
                <a:lnTo>
                  <a:pt x="1400" y="22395"/>
                </a:lnTo>
                <a:lnTo>
                  <a:pt x="20200" y="22395"/>
                </a:lnTo>
                <a:close/>
              </a:path>
              <a:path fill="lighten" w="21600" h="23795">
                <a:moveTo>
                  <a:pt x="0" y="237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95"/>
                </a:lnTo>
                <a:close/>
              </a:path>
              <a:path fill="darken" w="21600" h="23795">
                <a:moveTo>
                  <a:pt x="10800" y="4934"/>
                </a:moveTo>
                <a:lnTo>
                  <a:pt x="13376" y="7545"/>
                </a:lnTo>
                <a:lnTo>
                  <a:pt x="13376" y="5805"/>
                </a:lnTo>
                <a:lnTo>
                  <a:pt x="15152" y="5805"/>
                </a:lnTo>
                <a:lnTo>
                  <a:pt x="15152" y="9321"/>
                </a:lnTo>
                <a:lnTo>
                  <a:pt x="17763" y="11897"/>
                </a:lnTo>
                <a:lnTo>
                  <a:pt x="16109" y="11897"/>
                </a:lnTo>
                <a:lnTo>
                  <a:pt x="16109" y="19087"/>
                </a:lnTo>
                <a:lnTo>
                  <a:pt x="5491" y="19087"/>
                </a:lnTo>
                <a:lnTo>
                  <a:pt x="5491" y="11897"/>
                </a:lnTo>
                <a:lnTo>
                  <a:pt x="3837" y="11897"/>
                </a:lnTo>
                <a:close/>
              </a:path>
              <a:path fill="darkenLess" w="21600" h="23795">
                <a:moveTo>
                  <a:pt x="13376" y="7545"/>
                </a:moveTo>
                <a:lnTo>
                  <a:pt x="13376" y="5805"/>
                </a:lnTo>
                <a:lnTo>
                  <a:pt x="15152" y="5805"/>
                </a:lnTo>
                <a:lnTo>
                  <a:pt x="15152" y="9321"/>
                </a:lnTo>
                <a:close/>
              </a:path>
              <a:path fill="darkenLess" w="21600" h="23795">
                <a:moveTo>
                  <a:pt x="9877" y="15396"/>
                </a:moveTo>
                <a:lnTo>
                  <a:pt x="11723" y="15396"/>
                </a:lnTo>
                <a:lnTo>
                  <a:pt x="11723" y="19087"/>
                </a:lnTo>
                <a:lnTo>
                  <a:pt x="16109" y="19087"/>
                </a:lnTo>
                <a:lnTo>
                  <a:pt x="16109" y="11897"/>
                </a:lnTo>
                <a:lnTo>
                  <a:pt x="5491" y="11897"/>
                </a:lnTo>
                <a:lnTo>
                  <a:pt x="5491" y="19087"/>
                </a:lnTo>
                <a:lnTo>
                  <a:pt x="9877" y="1908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ahoma"/>
              </a:rPr>
              <a:t>Химическая, нефтеперерабатывающая и нефтехимическая промышлен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360" y="1916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ассортименте предприятий химической и нефтехимической промышленности республики - пластмассы, химические волокна и нити, шины для автомобилей и сельхозмашин, широкий ассортимент резинотехнических изделий, хромовые соединения, карбид кальция, каустическая сода и др. продукция. В республике действуют три нефтеперерабатывающих завода, производящие автобензин, дизельное, котельное топливо, авиационный керосин, нефтебитумы и другие нефтепродук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 rot="20848200">
            <a:off x="1403280" y="2565000"/>
            <a:ext cx="3456000" cy="266400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10800"/>
                </a:moveTo>
                <a:lnTo>
                  <a:pt x="18909" y="3794"/>
                </a:lnTo>
                <a:lnTo>
                  <a:pt x="1890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2800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Казахстан и ВТ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роцесс вступления Республики Казахстан в ВТО начался 26 января 1996 года, когда Казахстан подал в Секретариат ВТО официальное заявление о вступлении в эту организацию. В феврале того же года Казахстану присвоен статус страны-наблюдателя в ВТО. Одновременно с этим была создана Рабочая группа по вступлению Казахстана в ВТО, в состав которой в настоящее время входят 39 стран - основные торговые партнеры республики (США, ЕС, Канада, Япония, Австралия, Швейцария, Китай, Республика Корея и др.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721800">
            <a:off x="5219280" y="2565360"/>
            <a:ext cx="3240000" cy="244800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59500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Казахстан и ВТ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ях координации процесса вступления в организацию в 1996 году Постановлением Правительства Республики Казахстан была создана Межведомственная комиссия по вопросам ВТО (МВК). В настоящее время она преобразована в МВК по вопросам таможенно-тарифной политики и участия в международных экономических организация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амках процесса вступления Казахстана в ВТО переговоры ведутся на многостороннем и двустороннем уровнях по четырем основным направления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ереговоры по системным вопрос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переговоры по вопросам сельского хозяй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переговоры по доступу на рынок това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переговоры по доступу на рынок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10800"/>
                </a:moveTo>
                <a:lnTo>
                  <a:pt x="18994" y="3794"/>
                </a:lnTo>
                <a:lnTo>
                  <a:pt x="1899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85080" y="602136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11994" y="3837"/>
                </a:moveTo>
                <a:lnTo>
                  <a:pt x="14570" y="6448"/>
                </a:ln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lnTo>
                  <a:pt x="18957" y="10800"/>
                </a:lnTo>
                <a:lnTo>
                  <a:pt x="17303" y="10800"/>
                </a:lnTo>
                <a:lnTo>
                  <a:pt x="17303" y="17989"/>
                </a:lnTo>
                <a:lnTo>
                  <a:pt x="6685" y="17989"/>
                </a:lnTo>
                <a:lnTo>
                  <a:pt x="6685" y="10800"/>
                </a:lnTo>
                <a:lnTo>
                  <a:pt x="5031" y="10800"/>
                </a:lnTo>
                <a:close/>
              </a:path>
              <a:path fill="darkenLess" w="23988" h="21600">
                <a:moveTo>
                  <a:pt x="14570" y="6448"/>
                </a:moveTo>
                <a:lnTo>
                  <a:pt x="14570" y="4707"/>
                </a:lnTo>
                <a:lnTo>
                  <a:pt x="16346" y="4707"/>
                </a:lnTo>
                <a:lnTo>
                  <a:pt x="16346" y="8224"/>
                </a:lnTo>
                <a:close/>
              </a:path>
              <a:path fill="darkenLess" w="23988" h="21600">
                <a:moveTo>
                  <a:pt x="11071" y="14299"/>
                </a:moveTo>
                <a:lnTo>
                  <a:pt x="12917" y="14299"/>
                </a:lnTo>
                <a:lnTo>
                  <a:pt x="12917" y="17989"/>
                </a:lnTo>
                <a:lnTo>
                  <a:pt x="17303" y="17989"/>
                </a:lnTo>
                <a:lnTo>
                  <a:pt x="17303" y="10800"/>
                </a:lnTo>
                <a:lnTo>
                  <a:pt x="6685" y="10800"/>
                </a:lnTo>
                <a:lnTo>
                  <a:pt x="6685" y="17989"/>
                </a:lnTo>
                <a:lnTo>
                  <a:pt x="11071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Содерж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еополитическое полож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кономические рай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Цветная металлург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рная металлург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шиностроительный компл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мышленность строительных материа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нешняя торгов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вестиционные возмож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мическая, нефтедобывающая и нефтехимическая промышл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захстан и В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317080" y="198900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8317080" y="227664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525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508" h="21600">
                <a:moveTo>
                  <a:pt x="2525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508" h="21600">
                <a:moveTo>
                  <a:pt x="22678" y="8224"/>
                </a:moveTo>
                <a:lnTo>
                  <a:pt x="26542" y="8224"/>
                </a:lnTo>
                <a:lnTo>
                  <a:pt x="26542" y="15221"/>
                </a:lnTo>
                <a:lnTo>
                  <a:pt x="27830" y="15221"/>
                </a:lnTo>
                <a:lnTo>
                  <a:pt x="27830" y="16144"/>
                </a:lnTo>
                <a:lnTo>
                  <a:pt x="22678" y="16144"/>
                </a:lnTo>
                <a:lnTo>
                  <a:pt x="22678" y="15221"/>
                </a:lnTo>
                <a:lnTo>
                  <a:pt x="23966" y="15221"/>
                </a:lnTo>
                <a:lnTo>
                  <a:pt x="23966" y="9129"/>
                </a:lnTo>
                <a:lnTo>
                  <a:pt x="22678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8317080" y="256536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8317080" y="285264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5" action="ppaction://hlinksldjump"/>
          </p:cNvPr>
          <p:cNvSpPr/>
          <p:nvPr/>
        </p:nvSpPr>
        <p:spPr>
          <a:xfrm>
            <a:off x="8317080" y="314172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6" action="ppaction://hlinksldjump"/>
          </p:cNvPr>
          <p:cNvSpPr/>
          <p:nvPr/>
        </p:nvSpPr>
        <p:spPr>
          <a:xfrm>
            <a:off x="8317080" y="342900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7" action="ppaction://hlinksldjump"/>
          </p:cNvPr>
          <p:cNvSpPr/>
          <p:nvPr/>
        </p:nvSpPr>
        <p:spPr>
          <a:xfrm>
            <a:off x="8317080" y="378936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8" action="ppaction://hlinksldjump"/>
          </p:cNvPr>
          <p:cNvSpPr/>
          <p:nvPr/>
        </p:nvSpPr>
        <p:spPr>
          <a:xfrm>
            <a:off x="8317080" y="414972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9" action="ppaction://hlinksldjump"/>
          </p:cNvPr>
          <p:cNvSpPr/>
          <p:nvPr/>
        </p:nvSpPr>
        <p:spPr>
          <a:xfrm>
            <a:off x="8317080" y="443700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8317080" y="4724280"/>
            <a:ext cx="502920" cy="217440"/>
          </a:xfrm>
          <a:custGeom>
            <a:avLst/>
            <a:gdLst>
              <a:gd name="textAreaLeft" fmla="*/ 14040 w 502920"/>
              <a:gd name="textAreaRight" fmla="*/ 488880 w 502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9912" h="21600">
                <a:moveTo>
                  <a:pt x="0" y="0"/>
                </a:moveTo>
                <a:lnTo>
                  <a:pt x="49912" y="0"/>
                </a:lnTo>
                <a:lnTo>
                  <a:pt x="49912" y="21600"/>
                </a:lnTo>
                <a:lnTo>
                  <a:pt x="0" y="21600"/>
                </a:lnTo>
                <a:close/>
              </a:path>
              <a:path fill="lightenLess" w="49912" h="21600">
                <a:moveTo>
                  <a:pt x="0" y="0"/>
                </a:moveTo>
                <a:lnTo>
                  <a:pt x="49912" y="0"/>
                </a:lnTo>
                <a:lnTo>
                  <a:pt x="48512" y="1400"/>
                </a:lnTo>
                <a:lnTo>
                  <a:pt x="1400" y="1400"/>
                </a:lnTo>
                <a:close/>
              </a:path>
              <a:path fill="darken" w="49912" h="21600">
                <a:moveTo>
                  <a:pt x="49912" y="0"/>
                </a:moveTo>
                <a:lnTo>
                  <a:pt x="49912" y="21600"/>
                </a:lnTo>
                <a:lnTo>
                  <a:pt x="48512" y="20200"/>
                </a:lnTo>
                <a:lnTo>
                  <a:pt x="48512" y="1400"/>
                </a:lnTo>
                <a:close/>
              </a:path>
              <a:path fill="darkenLess" w="49912" h="21600">
                <a:moveTo>
                  <a:pt x="4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12" y="20200"/>
                </a:lnTo>
                <a:close/>
              </a:path>
              <a:path fill="lighten" w="4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12" h="21600">
                <a:moveTo>
                  <a:pt x="249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9912" h="21600">
                <a:moveTo>
                  <a:pt x="249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9912" h="21600">
                <a:moveTo>
                  <a:pt x="22380" y="8224"/>
                </a:moveTo>
                <a:lnTo>
                  <a:pt x="26244" y="8224"/>
                </a:lnTo>
                <a:lnTo>
                  <a:pt x="26244" y="15221"/>
                </a:lnTo>
                <a:lnTo>
                  <a:pt x="27532" y="15221"/>
                </a:lnTo>
                <a:lnTo>
                  <a:pt x="27532" y="16144"/>
                </a:lnTo>
                <a:lnTo>
                  <a:pt x="22380" y="16144"/>
                </a:lnTo>
                <a:lnTo>
                  <a:pt x="22380" y="15221"/>
                </a:lnTo>
                <a:lnTo>
                  <a:pt x="23668" y="15221"/>
                </a:lnTo>
                <a:lnTo>
                  <a:pt x="23668" y="9129"/>
                </a:lnTo>
                <a:lnTo>
                  <a:pt x="22380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1" action="ppaction://hlinksldjump"/>
          </p:cNvPr>
          <p:cNvSpPr/>
          <p:nvPr/>
        </p:nvSpPr>
        <p:spPr>
          <a:xfrm>
            <a:off x="8317080" y="537372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2521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424" h="21600">
                <a:moveTo>
                  <a:pt x="2521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424" h="21600">
                <a:moveTo>
                  <a:pt x="22636" y="8224"/>
                </a:moveTo>
                <a:lnTo>
                  <a:pt x="26500" y="8224"/>
                </a:lnTo>
                <a:lnTo>
                  <a:pt x="26500" y="15221"/>
                </a:lnTo>
                <a:lnTo>
                  <a:pt x="27788" y="15221"/>
                </a:lnTo>
                <a:lnTo>
                  <a:pt x="27788" y="16144"/>
                </a:lnTo>
                <a:lnTo>
                  <a:pt x="22636" y="16144"/>
                </a:lnTo>
                <a:lnTo>
                  <a:pt x="22636" y="15221"/>
                </a:lnTo>
                <a:lnTo>
                  <a:pt x="23924" y="15221"/>
                </a:lnTo>
                <a:lnTo>
                  <a:pt x="23924" y="9129"/>
                </a:lnTo>
                <a:lnTo>
                  <a:pt x="2263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2" action="ppaction://hlinksldjump"/>
          </p:cNvPr>
          <p:cNvSpPr/>
          <p:nvPr/>
        </p:nvSpPr>
        <p:spPr>
          <a:xfrm>
            <a:off x="8317080" y="566100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2512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0244" h="21600">
                <a:moveTo>
                  <a:pt x="2512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0244" h="21600">
                <a:moveTo>
                  <a:pt x="22546" y="8224"/>
                </a:moveTo>
                <a:lnTo>
                  <a:pt x="26410" y="8224"/>
                </a:lnTo>
                <a:lnTo>
                  <a:pt x="26410" y="15221"/>
                </a:lnTo>
                <a:lnTo>
                  <a:pt x="27698" y="15221"/>
                </a:lnTo>
                <a:lnTo>
                  <a:pt x="27698" y="16144"/>
                </a:lnTo>
                <a:lnTo>
                  <a:pt x="22546" y="16144"/>
                </a:lnTo>
                <a:lnTo>
                  <a:pt x="22546" y="15221"/>
                </a:lnTo>
                <a:lnTo>
                  <a:pt x="23834" y="15221"/>
                </a:lnTo>
                <a:lnTo>
                  <a:pt x="23834" y="9129"/>
                </a:lnTo>
                <a:lnTo>
                  <a:pt x="22546" y="912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244000" y="6237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7493"/>
                </a:moveTo>
                <a:lnTo>
                  <a:pt x="11964" y="7493"/>
                </a:lnTo>
                <a:lnTo>
                  <a:pt x="11964" y="12828"/>
                </a:lnTo>
                <a:cubicBezTo>
                  <a:pt x="11964" y="13751"/>
                  <a:pt x="12765" y="14482"/>
                  <a:pt x="13800" y="14482"/>
                </a:cubicBezTo>
                <a:lnTo>
                  <a:pt x="15463" y="14482"/>
                </a:lnTo>
                <a:cubicBezTo>
                  <a:pt x="16498" y="14482"/>
                  <a:pt x="17299" y="13751"/>
                  <a:pt x="17299" y="12828"/>
                </a:cubicBezTo>
                <a:lnTo>
                  <a:pt x="17299" y="7493"/>
                </a:lnTo>
                <a:lnTo>
                  <a:pt x="15463" y="7493"/>
                </a:lnTo>
                <a:lnTo>
                  <a:pt x="18970" y="3985"/>
                </a:lnTo>
                <a:lnTo>
                  <a:pt x="22643" y="7493"/>
                </a:lnTo>
                <a:lnTo>
                  <a:pt x="20807" y="7493"/>
                </a:lnTo>
                <a:lnTo>
                  <a:pt x="20807" y="12828"/>
                </a:lnTo>
                <a:cubicBezTo>
                  <a:pt x="20807" y="15596"/>
                  <a:pt x="18231" y="18155"/>
                  <a:pt x="15463" y="18155"/>
                </a:cubicBezTo>
                <a:lnTo>
                  <a:pt x="13800" y="18155"/>
                </a:lnTo>
                <a:cubicBezTo>
                  <a:pt x="11033" y="18155"/>
                  <a:pt x="8456" y="15596"/>
                  <a:pt x="8456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Геополитическое положение Казахста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захстан расположен на стыке Европы и Азии, где скрещиваются транспортные и коммуникационные линии, соединяющие Запад и Вост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ывая свое положение, Казахстан на международной арене проводит многовекторную полити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824200">
            <a:off x="1066680" y="2633760"/>
            <a:ext cx="3695760" cy="28098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16436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3794" y="11988"/>
                </a:moveTo>
                <a:lnTo>
                  <a:pt x="17806" y="4982"/>
                </a:lnTo>
                <a:lnTo>
                  <a:pt x="17806" y="189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7956720" y="595008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" w="21600" h="23976">
                <a:moveTo>
                  <a:pt x="10800" y="5025"/>
                </a:moveTo>
                <a:lnTo>
                  <a:pt x="13376" y="7636"/>
                </a:lnTo>
                <a:lnTo>
                  <a:pt x="13376" y="5895"/>
                </a:lnTo>
                <a:lnTo>
                  <a:pt x="15152" y="5895"/>
                </a:lnTo>
                <a:lnTo>
                  <a:pt x="15152" y="9412"/>
                </a:lnTo>
                <a:lnTo>
                  <a:pt x="17763" y="11988"/>
                </a:lnTo>
                <a:lnTo>
                  <a:pt x="16109" y="11988"/>
                </a:lnTo>
                <a:lnTo>
                  <a:pt x="16109" y="19177"/>
                </a:lnTo>
                <a:lnTo>
                  <a:pt x="5491" y="19177"/>
                </a:lnTo>
                <a:lnTo>
                  <a:pt x="5491" y="11988"/>
                </a:lnTo>
                <a:lnTo>
                  <a:pt x="3837" y="11988"/>
                </a:lnTo>
                <a:close/>
              </a:path>
              <a:path fill="darkenLess" w="21600" h="23976">
                <a:moveTo>
                  <a:pt x="13376" y="7636"/>
                </a:moveTo>
                <a:lnTo>
                  <a:pt x="13376" y="5895"/>
                </a:lnTo>
                <a:lnTo>
                  <a:pt x="15152" y="5895"/>
                </a:lnTo>
                <a:lnTo>
                  <a:pt x="15152" y="9412"/>
                </a:lnTo>
                <a:close/>
              </a:path>
              <a:path fill="darkenLess" w="21600" h="23976">
                <a:moveTo>
                  <a:pt x="9877" y="15487"/>
                </a:moveTo>
                <a:lnTo>
                  <a:pt x="11723" y="15487"/>
                </a:lnTo>
                <a:lnTo>
                  <a:pt x="11723" y="19177"/>
                </a:lnTo>
                <a:lnTo>
                  <a:pt x="16109" y="19177"/>
                </a:lnTo>
                <a:lnTo>
                  <a:pt x="16109" y="11988"/>
                </a:lnTo>
                <a:lnTo>
                  <a:pt x="5491" y="11988"/>
                </a:lnTo>
                <a:lnTo>
                  <a:pt x="5491" y="19177"/>
                </a:lnTo>
                <a:lnTo>
                  <a:pt x="9877" y="1917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Экономические район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1944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3860280"/>
            <a:ext cx="7543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На Севере развиты зерновое хозяйство, добыча железной руды и каменного угля, машиностроение, производство нефтепродуктов и ферросплавов, энергетика. В Восточном Казахстане преобладают цветная металлургия, энергетика, машиностроение и лесное хозяйство. Западный Казахстан - крупнейший нефтегазодобывающий регион не только Казахстана, но и СНГ. Основные отрасли хозяйства Центрального Казахстана - черная и цветная металлургия, машиностроение, животноводство. В Южном Казахстане производятся хлопок, рис, шерсть, зерно, фрукты, овощи, виноград; развиты цветная металлургия, приборостроение, легкая и пищевая промышленность, рыбное и лесное хозяй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3794" y="11463"/>
                </a:moveTo>
                <a:lnTo>
                  <a:pt x="17806" y="4457"/>
                </a:lnTo>
                <a:lnTo>
                  <a:pt x="17806" y="1847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8101080" y="6093000"/>
            <a:ext cx="718920" cy="76500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84">
                <a:moveTo>
                  <a:pt x="0" y="0"/>
                </a:moveTo>
                <a:lnTo>
                  <a:pt x="21600" y="0"/>
                </a:lnTo>
                <a:lnTo>
                  <a:pt x="21600" y="22984"/>
                </a:lnTo>
                <a:lnTo>
                  <a:pt x="0" y="22984"/>
                </a:lnTo>
                <a:close/>
              </a:path>
              <a:path fill="lightenLess" w="21600" h="229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84">
                <a:moveTo>
                  <a:pt x="21600" y="0"/>
                </a:moveTo>
                <a:lnTo>
                  <a:pt x="21600" y="22984"/>
                </a:lnTo>
                <a:lnTo>
                  <a:pt x="20200" y="21584"/>
                </a:lnTo>
                <a:lnTo>
                  <a:pt x="20200" y="1400"/>
                </a:lnTo>
                <a:close/>
              </a:path>
              <a:path fill="darkenLess" w="21600" h="22984">
                <a:moveTo>
                  <a:pt x="21600" y="22984"/>
                </a:moveTo>
                <a:lnTo>
                  <a:pt x="0" y="22984"/>
                </a:lnTo>
                <a:lnTo>
                  <a:pt x="1400" y="21584"/>
                </a:lnTo>
                <a:lnTo>
                  <a:pt x="20200" y="21584"/>
                </a:lnTo>
                <a:close/>
              </a:path>
              <a:path fill="lighten" w="21600" h="22984">
                <a:moveTo>
                  <a:pt x="0" y="229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84"/>
                </a:lnTo>
                <a:close/>
              </a:path>
              <a:path fill="darken" w="21600" h="22984">
                <a:moveTo>
                  <a:pt x="10800" y="4529"/>
                </a:moveTo>
                <a:lnTo>
                  <a:pt x="13376" y="7140"/>
                </a:ln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lnTo>
                  <a:pt x="17763" y="11492"/>
                </a:lnTo>
                <a:lnTo>
                  <a:pt x="16109" y="11492"/>
                </a:lnTo>
                <a:lnTo>
                  <a:pt x="16109" y="18681"/>
                </a:lnTo>
                <a:lnTo>
                  <a:pt x="5491" y="18681"/>
                </a:lnTo>
                <a:lnTo>
                  <a:pt x="5491" y="11492"/>
                </a:lnTo>
                <a:lnTo>
                  <a:pt x="3837" y="11492"/>
                </a:lnTo>
                <a:close/>
              </a:path>
              <a:path fill="darkenLess" w="21600" h="22984">
                <a:moveTo>
                  <a:pt x="13376" y="7140"/>
                </a:moveTo>
                <a:lnTo>
                  <a:pt x="13376" y="5399"/>
                </a:lnTo>
                <a:lnTo>
                  <a:pt x="15152" y="5399"/>
                </a:lnTo>
                <a:lnTo>
                  <a:pt x="15152" y="8916"/>
                </a:lnTo>
                <a:close/>
              </a:path>
              <a:path fill="darkenLess" w="21600" h="22984">
                <a:moveTo>
                  <a:pt x="9877" y="14991"/>
                </a:moveTo>
                <a:lnTo>
                  <a:pt x="11723" y="14991"/>
                </a:lnTo>
                <a:lnTo>
                  <a:pt x="11723" y="18681"/>
                </a:lnTo>
                <a:lnTo>
                  <a:pt x="16109" y="18681"/>
                </a:lnTo>
                <a:lnTo>
                  <a:pt x="16109" y="11492"/>
                </a:lnTo>
                <a:lnTo>
                  <a:pt x="5491" y="11492"/>
                </a:lnTo>
                <a:lnTo>
                  <a:pt x="5491" y="18681"/>
                </a:lnTo>
                <a:lnTo>
                  <a:pt x="9877" y="1868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Цветная металлур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ельный вес цветной металлургии в общем объеме промышленного производства превышает 12%. Из извлекаемых руд производятся медь, свинец, цинк, титан, магний, редкие и редкоземельные металлы, прокат на основе меди, свинца и т.д. По уровню производства Казахстан входит в число крупных в мире производителей и экспортеров рафинированной меди. Доля республики в мировом производстве меди составляет 2,3%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азахстан является третьим среди новых независимых государств, производителем золота, добыча и производство которого увеличивается с каждым годом. В стране зарегистрировано свыше 170 золотоносных месторождений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523200">
            <a:off x="5579640" y="191628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719280" cy="765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72">
                <a:moveTo>
                  <a:pt x="0" y="0"/>
                </a:moveTo>
                <a:lnTo>
                  <a:pt x="21600" y="0"/>
                </a:lnTo>
                <a:lnTo>
                  <a:pt x="21600" y="22972"/>
                </a:lnTo>
                <a:lnTo>
                  <a:pt x="0" y="22972"/>
                </a:lnTo>
                <a:close/>
              </a:path>
              <a:path fill="lightenLess" w="21600" h="229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2">
                <a:moveTo>
                  <a:pt x="21600" y="0"/>
                </a:moveTo>
                <a:lnTo>
                  <a:pt x="21600" y="22972"/>
                </a:lnTo>
                <a:lnTo>
                  <a:pt x="20200" y="21572"/>
                </a:lnTo>
                <a:lnTo>
                  <a:pt x="20200" y="1400"/>
                </a:lnTo>
                <a:close/>
              </a:path>
              <a:path fill="darkenLess" w="21600" h="22972">
                <a:moveTo>
                  <a:pt x="21600" y="22972"/>
                </a:moveTo>
                <a:lnTo>
                  <a:pt x="0" y="22972"/>
                </a:lnTo>
                <a:lnTo>
                  <a:pt x="1400" y="21572"/>
                </a:lnTo>
                <a:lnTo>
                  <a:pt x="20200" y="21572"/>
                </a:lnTo>
                <a:close/>
              </a:path>
              <a:path fill="lighten" w="21600" h="22972">
                <a:moveTo>
                  <a:pt x="0" y="229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2"/>
                </a:lnTo>
                <a:close/>
              </a:path>
              <a:path fill="darken" w="21600" h="22972">
                <a:moveTo>
                  <a:pt x="3794" y="11486"/>
                </a:moveTo>
                <a:lnTo>
                  <a:pt x="17806" y="4480"/>
                </a:lnTo>
                <a:lnTo>
                  <a:pt x="17806" y="18493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101080" y="609300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11181" y="3837"/>
                </a:moveTo>
                <a:lnTo>
                  <a:pt x="13757" y="6448"/>
                </a:ln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lnTo>
                  <a:pt x="18144" y="10800"/>
                </a:lnTo>
                <a:lnTo>
                  <a:pt x="16490" y="10800"/>
                </a:lnTo>
                <a:lnTo>
                  <a:pt x="16490" y="17989"/>
                </a:lnTo>
                <a:lnTo>
                  <a:pt x="5872" y="17989"/>
                </a:lnTo>
                <a:lnTo>
                  <a:pt x="5872" y="10800"/>
                </a:lnTo>
                <a:lnTo>
                  <a:pt x="4218" y="10800"/>
                </a:lnTo>
                <a:close/>
              </a:path>
              <a:path fill="darkenLess" w="22362" h="21600">
                <a:moveTo>
                  <a:pt x="13757" y="6448"/>
                </a:moveTo>
                <a:lnTo>
                  <a:pt x="13757" y="4707"/>
                </a:lnTo>
                <a:lnTo>
                  <a:pt x="15533" y="4707"/>
                </a:lnTo>
                <a:lnTo>
                  <a:pt x="15533" y="8224"/>
                </a:lnTo>
                <a:close/>
              </a:path>
              <a:path fill="darkenLess" w="22362" h="21600">
                <a:moveTo>
                  <a:pt x="10258" y="14299"/>
                </a:moveTo>
                <a:lnTo>
                  <a:pt x="12104" y="14299"/>
                </a:lnTo>
                <a:lnTo>
                  <a:pt x="12104" y="17989"/>
                </a:lnTo>
                <a:lnTo>
                  <a:pt x="16490" y="17989"/>
                </a:lnTo>
                <a:lnTo>
                  <a:pt x="16490" y="10800"/>
                </a:lnTo>
                <a:lnTo>
                  <a:pt x="5872" y="10800"/>
                </a:lnTo>
                <a:lnTo>
                  <a:pt x="5872" y="17989"/>
                </a:lnTo>
                <a:lnTo>
                  <a:pt x="10258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Черная металлург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запасам железной руды Казахстан занимает восьмое место в мире. Его доля в мировых запасах составляет 6%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ная металлургия Казахстана производит более 12,5 % республиканского объема промышленной продукции. Флагманом индустрии республики является Карагандинский металлургический комбинат "Испат-Кармет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азахстане имеются большие запасы хромитовых руд, на базе которых работают ферросплавные заводы республи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0827" y="3837"/>
                </a:moveTo>
                <a:lnTo>
                  <a:pt x="13403" y="6448"/>
                </a:ln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lnTo>
                  <a:pt x="17790" y="10800"/>
                </a:lnTo>
                <a:lnTo>
                  <a:pt x="16136" y="10800"/>
                </a:lnTo>
                <a:lnTo>
                  <a:pt x="16136" y="17989"/>
                </a:lnTo>
                <a:lnTo>
                  <a:pt x="5518" y="17989"/>
                </a:lnTo>
                <a:lnTo>
                  <a:pt x="5518" y="10800"/>
                </a:lnTo>
                <a:lnTo>
                  <a:pt x="3864" y="10800"/>
                </a:lnTo>
                <a:close/>
              </a:path>
              <a:path fill="darkenLess" w="21654" h="21600">
                <a:moveTo>
                  <a:pt x="13403" y="6448"/>
                </a:moveTo>
                <a:lnTo>
                  <a:pt x="13403" y="4707"/>
                </a:lnTo>
                <a:lnTo>
                  <a:pt x="15179" y="4707"/>
                </a:lnTo>
                <a:lnTo>
                  <a:pt x="15179" y="8224"/>
                </a:lnTo>
                <a:close/>
              </a:path>
              <a:path fill="darkenLess" w="21654" h="21600">
                <a:moveTo>
                  <a:pt x="9904" y="14299"/>
                </a:moveTo>
                <a:lnTo>
                  <a:pt x="11750" y="14299"/>
                </a:lnTo>
                <a:lnTo>
                  <a:pt x="11750" y="17989"/>
                </a:lnTo>
                <a:lnTo>
                  <a:pt x="16136" y="17989"/>
                </a:lnTo>
                <a:lnTo>
                  <a:pt x="16136" y="10800"/>
                </a:lnTo>
                <a:lnTo>
                  <a:pt x="5518" y="10800"/>
                </a:lnTo>
                <a:lnTo>
                  <a:pt x="5518" y="17989"/>
                </a:lnTo>
                <a:lnTo>
                  <a:pt x="9904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Машиностроительный комплекс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375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дукция машиностроительного комплекса в общем объеме промышленного производства республики составляет около 8%. Машиностроительные предприятия Казахстана выпускают: кузнечно-прессовое оборудование (г.Шымкент), металлорежущие станки (г.Алматы), аккумуляторы (г.Талды-Корган), центробежные насосы (г.Астана), рентгеновское оборудование (г.Актобе) и т.д. В настоящее время в развитие машиностроения привлекаются иностранные инвестиции для организации в республике новых производств, в том числе медицинского оборудования, сельскохозяйственной техники, дизельных двигателей, оборудования для пищевой промышленности, электродвигателей и других изделий производственно-технического назначен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rot="20829600">
            <a:off x="826920" y="2349360"/>
            <a:ext cx="3745080" cy="302436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164360" y="6021360"/>
            <a:ext cx="792360" cy="836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07">
                <a:moveTo>
                  <a:pt x="0" y="0"/>
                </a:moveTo>
                <a:lnTo>
                  <a:pt x="21600" y="0"/>
                </a:lnTo>
                <a:lnTo>
                  <a:pt x="21600" y="22807"/>
                </a:lnTo>
                <a:lnTo>
                  <a:pt x="0" y="22807"/>
                </a:lnTo>
                <a:close/>
              </a:path>
              <a:path fill="lightenLess" w="21600" h="22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7">
                <a:moveTo>
                  <a:pt x="21600" y="0"/>
                </a:moveTo>
                <a:lnTo>
                  <a:pt x="21600" y="22807"/>
                </a:lnTo>
                <a:lnTo>
                  <a:pt x="20200" y="21407"/>
                </a:lnTo>
                <a:lnTo>
                  <a:pt x="20200" y="1400"/>
                </a:lnTo>
                <a:close/>
              </a:path>
              <a:path fill="darkenLess" w="21600" h="22807">
                <a:moveTo>
                  <a:pt x="21600" y="22807"/>
                </a:moveTo>
                <a:lnTo>
                  <a:pt x="0" y="22807"/>
                </a:lnTo>
                <a:lnTo>
                  <a:pt x="1400" y="21407"/>
                </a:lnTo>
                <a:lnTo>
                  <a:pt x="20200" y="21407"/>
                </a:lnTo>
                <a:close/>
              </a:path>
              <a:path fill="lighten" w="21600" h="22807">
                <a:moveTo>
                  <a:pt x="0" y="22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7"/>
                </a:lnTo>
                <a:close/>
              </a:path>
              <a:path fill="darken" w="21600" h="22807">
                <a:moveTo>
                  <a:pt x="3794" y="11403"/>
                </a:moveTo>
                <a:lnTo>
                  <a:pt x="17806" y="4397"/>
                </a:lnTo>
                <a:lnTo>
                  <a:pt x="17806" y="1841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8101080" y="6021360"/>
            <a:ext cx="718920" cy="83664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lnTo>
                  <a:pt x="21600" y="0"/>
                </a:lnTo>
                <a:lnTo>
                  <a:pt x="21600" y="25135"/>
                </a:lnTo>
                <a:lnTo>
                  <a:pt x="0" y="25135"/>
                </a:lnTo>
                <a:close/>
              </a:path>
              <a:path fill="lightenLess" w="21600" h="251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35">
                <a:moveTo>
                  <a:pt x="21600" y="0"/>
                </a:moveTo>
                <a:lnTo>
                  <a:pt x="21600" y="25135"/>
                </a:lnTo>
                <a:lnTo>
                  <a:pt x="20200" y="23735"/>
                </a:lnTo>
                <a:lnTo>
                  <a:pt x="20200" y="1400"/>
                </a:lnTo>
                <a:close/>
              </a:path>
              <a:path fill="darkenLess" w="21600" h="25135">
                <a:moveTo>
                  <a:pt x="21600" y="25135"/>
                </a:moveTo>
                <a:lnTo>
                  <a:pt x="0" y="25135"/>
                </a:lnTo>
                <a:lnTo>
                  <a:pt x="1400" y="23735"/>
                </a:lnTo>
                <a:lnTo>
                  <a:pt x="20200" y="23735"/>
                </a:lnTo>
                <a:close/>
              </a:path>
              <a:path fill="lighten" w="21600" h="25135">
                <a:moveTo>
                  <a:pt x="0" y="251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35"/>
                </a:lnTo>
                <a:close/>
              </a:path>
              <a:path fill="darken" w="21600" h="25135">
                <a:moveTo>
                  <a:pt x="10800" y="5605"/>
                </a:moveTo>
                <a:lnTo>
                  <a:pt x="13376" y="8216"/>
                </a:ln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lnTo>
                  <a:pt x="17763" y="12568"/>
                </a:lnTo>
                <a:lnTo>
                  <a:pt x="16109" y="12568"/>
                </a:lnTo>
                <a:lnTo>
                  <a:pt x="16109" y="19757"/>
                </a:lnTo>
                <a:lnTo>
                  <a:pt x="5491" y="19757"/>
                </a:lnTo>
                <a:lnTo>
                  <a:pt x="5491" y="12568"/>
                </a:lnTo>
                <a:lnTo>
                  <a:pt x="3837" y="12568"/>
                </a:lnTo>
                <a:close/>
              </a:path>
              <a:path fill="darkenLess" w="21600" h="25135">
                <a:moveTo>
                  <a:pt x="13376" y="8216"/>
                </a:moveTo>
                <a:lnTo>
                  <a:pt x="13376" y="6475"/>
                </a:lnTo>
                <a:lnTo>
                  <a:pt x="15152" y="6475"/>
                </a:lnTo>
                <a:lnTo>
                  <a:pt x="15152" y="9991"/>
                </a:lnTo>
                <a:close/>
              </a:path>
              <a:path fill="darkenLess" w="21600" h="25135">
                <a:moveTo>
                  <a:pt x="9877" y="16066"/>
                </a:moveTo>
                <a:lnTo>
                  <a:pt x="11723" y="16066"/>
                </a:lnTo>
                <a:lnTo>
                  <a:pt x="11723" y="19757"/>
                </a:lnTo>
                <a:lnTo>
                  <a:pt x="16109" y="19757"/>
                </a:lnTo>
                <a:lnTo>
                  <a:pt x="16109" y="12568"/>
                </a:lnTo>
                <a:lnTo>
                  <a:pt x="5491" y="12568"/>
                </a:lnTo>
                <a:lnTo>
                  <a:pt x="5491" y="19757"/>
                </a:lnTo>
                <a:lnTo>
                  <a:pt x="9877" y="197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ранспор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ротяженность наземных транспортных магистралей республики составляет 106 тыс. км. Из них 13,5 тыс. км - магистральные железные дороги, 87,4 тыс. км - автомобильные магистрали общего пользования с твердым покрытием, 4 тыс. км. - речные пути. Строительство пограничного железнодорожного перехода Дружба - Алашанькоу между Казахстаном и Китаем и открытие железнодорожного перехода Серахс - Мешхед между Туркменистаном и Ираном открыли новые транзитные коридоры по маршруту Великого шелкового пути: от тихоокеанских портов Китая - Ляньюньган, Циньдао, Тяньцзин - в Казахстан, Кыргызстан, Узбекистан, Туркменистан, Иран, Турцию, к портам Средиземноморья и Персидского зали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308720" y="5877000"/>
            <a:ext cx="719280" cy="79200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83">
                <a:moveTo>
                  <a:pt x="0" y="0"/>
                </a:moveTo>
                <a:lnTo>
                  <a:pt x="21600" y="0"/>
                </a:lnTo>
                <a:lnTo>
                  <a:pt x="21600" y="23783"/>
                </a:lnTo>
                <a:lnTo>
                  <a:pt x="0" y="23783"/>
                </a:lnTo>
                <a:close/>
              </a:path>
              <a:path fill="lightenLess" w="21600" h="23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83">
                <a:moveTo>
                  <a:pt x="21600" y="0"/>
                </a:moveTo>
                <a:lnTo>
                  <a:pt x="21600" y="23783"/>
                </a:lnTo>
                <a:lnTo>
                  <a:pt x="20200" y="22383"/>
                </a:lnTo>
                <a:lnTo>
                  <a:pt x="20200" y="1400"/>
                </a:lnTo>
                <a:close/>
              </a:path>
              <a:path fill="darkenLess" w="21600" h="23783">
                <a:moveTo>
                  <a:pt x="21600" y="23783"/>
                </a:moveTo>
                <a:lnTo>
                  <a:pt x="0" y="23783"/>
                </a:lnTo>
                <a:lnTo>
                  <a:pt x="1400" y="22383"/>
                </a:lnTo>
                <a:lnTo>
                  <a:pt x="20200" y="22383"/>
                </a:lnTo>
                <a:close/>
              </a:path>
              <a:path fill="lighten" w="21600" h="23783">
                <a:moveTo>
                  <a:pt x="0" y="23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83"/>
                </a:lnTo>
                <a:close/>
              </a:path>
              <a:path fill="darken" w="21600" h="23783">
                <a:moveTo>
                  <a:pt x="3794" y="11891"/>
                </a:moveTo>
                <a:lnTo>
                  <a:pt x="17806" y="4885"/>
                </a:lnTo>
                <a:lnTo>
                  <a:pt x="17806" y="1889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172360" y="5877000"/>
            <a:ext cx="720720" cy="792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92000"/>
              <a:gd name="textAreaBottom" fmla="*/ 745560 h 792000"/>
            </a:gdLst>
            <a:ahLst/>
            <a:rect l="textAreaLeft" t="textAreaTop" r="textAreaRight" b="textAreaBottom"/>
            <a:pathLst>
              <a:path w="21600" h="23735">
                <a:moveTo>
                  <a:pt x="0" y="0"/>
                </a:moveTo>
                <a:lnTo>
                  <a:pt x="21600" y="0"/>
                </a:lnTo>
                <a:lnTo>
                  <a:pt x="21600" y="23735"/>
                </a:lnTo>
                <a:lnTo>
                  <a:pt x="0" y="23735"/>
                </a:lnTo>
                <a:close/>
              </a:path>
              <a:path fill="lightenLess" w="21600" h="23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5">
                <a:moveTo>
                  <a:pt x="21600" y="0"/>
                </a:moveTo>
                <a:lnTo>
                  <a:pt x="21600" y="23735"/>
                </a:lnTo>
                <a:lnTo>
                  <a:pt x="20200" y="22335"/>
                </a:lnTo>
                <a:lnTo>
                  <a:pt x="20200" y="1400"/>
                </a:lnTo>
                <a:close/>
              </a:path>
              <a:path fill="darkenLess" w="21600" h="23735">
                <a:moveTo>
                  <a:pt x="21600" y="23735"/>
                </a:moveTo>
                <a:lnTo>
                  <a:pt x="0" y="23735"/>
                </a:lnTo>
                <a:lnTo>
                  <a:pt x="1400" y="22335"/>
                </a:lnTo>
                <a:lnTo>
                  <a:pt x="20200" y="22335"/>
                </a:lnTo>
                <a:close/>
              </a:path>
              <a:path fill="lighten" w="21600" h="23735">
                <a:moveTo>
                  <a:pt x="0" y="23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5"/>
                </a:lnTo>
                <a:close/>
              </a:path>
              <a:path fill="darken" w="21600" h="23735">
                <a:moveTo>
                  <a:pt x="10800" y="4905"/>
                </a:moveTo>
                <a:lnTo>
                  <a:pt x="13376" y="7516"/>
                </a:ln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lnTo>
                  <a:pt x="17763" y="11868"/>
                </a:lnTo>
                <a:lnTo>
                  <a:pt x="16109" y="11868"/>
                </a:lnTo>
                <a:lnTo>
                  <a:pt x="16109" y="19057"/>
                </a:lnTo>
                <a:lnTo>
                  <a:pt x="5491" y="19057"/>
                </a:lnTo>
                <a:lnTo>
                  <a:pt x="5491" y="11868"/>
                </a:lnTo>
                <a:lnTo>
                  <a:pt x="3837" y="11868"/>
                </a:lnTo>
                <a:close/>
              </a:path>
              <a:path fill="darkenLess" w="21600" h="23735">
                <a:moveTo>
                  <a:pt x="13376" y="7516"/>
                </a:moveTo>
                <a:lnTo>
                  <a:pt x="13376" y="5775"/>
                </a:lnTo>
                <a:lnTo>
                  <a:pt x="15152" y="5775"/>
                </a:lnTo>
                <a:lnTo>
                  <a:pt x="15152" y="9291"/>
                </a:lnTo>
                <a:close/>
              </a:path>
              <a:path fill="darkenLess" w="21600" h="23735">
                <a:moveTo>
                  <a:pt x="9877" y="15366"/>
                </a:moveTo>
                <a:lnTo>
                  <a:pt x="11723" y="15366"/>
                </a:lnTo>
                <a:lnTo>
                  <a:pt x="11723" y="19057"/>
                </a:lnTo>
                <a:lnTo>
                  <a:pt x="16109" y="19057"/>
                </a:lnTo>
                <a:lnTo>
                  <a:pt x="16109" y="11868"/>
                </a:lnTo>
                <a:lnTo>
                  <a:pt x="5491" y="11868"/>
                </a:lnTo>
                <a:lnTo>
                  <a:pt x="5491" y="19057"/>
                </a:lnTo>
                <a:lnTo>
                  <a:pt x="9877" y="1905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Транспор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41144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меющаяся сеть автодорог дает выход на Россию и бывшие союзные республики, а также в Китай, Турцию и Иран, что обеспечивает выход к портам Черного и Средиземного морей и Индийского океана. Морское судоходство осуществляется на Каспийском море (порт Актау) с выходом через речные пути России на Черное и Балтийское море. Национальной авиакомпанией "Эйр Астана" освоены маршруты по Казахстану, странам СНГ и дальнего зарубежья. В республике также работают ведущие иностранные компании, такие как: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ritish Airway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ufthans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LM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aero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I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urkish Airlines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ran Ai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д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72000" cy="216036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7236000" y="6021360"/>
            <a:ext cx="792000" cy="836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00" y="21417"/>
                </a:lnTo>
                <a:lnTo>
                  <a:pt x="20200" y="140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400" y="21417"/>
                </a:lnTo>
                <a:lnTo>
                  <a:pt x="20200" y="2141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7"/>
                </a:lnTo>
                <a:close/>
              </a:path>
              <a:path fill="darken" w="21600" h="22817">
                <a:moveTo>
                  <a:pt x="3794" y="11408"/>
                </a:moveTo>
                <a:lnTo>
                  <a:pt x="17806" y="4402"/>
                </a:lnTo>
                <a:lnTo>
                  <a:pt x="17806" y="18415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8101080" y="6021360"/>
            <a:ext cx="792000" cy="83664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836640"/>
              <a:gd name="textAreaBottom" fmla="*/ 785520 h 836640"/>
            </a:gdLst>
            <a:ahLst/>
            <a:rect l="textAreaLeft" t="textAreaTop" r="textAreaRight" b="textAreaBottom"/>
            <a:pathLst>
              <a:path w="21600" h="22817">
                <a:moveTo>
                  <a:pt x="0" y="0"/>
                </a:moveTo>
                <a:lnTo>
                  <a:pt x="21600" y="0"/>
                </a:lnTo>
                <a:lnTo>
                  <a:pt x="21600" y="22817"/>
                </a:lnTo>
                <a:lnTo>
                  <a:pt x="0" y="22817"/>
                </a:lnTo>
                <a:close/>
              </a:path>
              <a:path fill="lightenLess" w="21600" h="228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17">
                <a:moveTo>
                  <a:pt x="21600" y="0"/>
                </a:moveTo>
                <a:lnTo>
                  <a:pt x="21600" y="22817"/>
                </a:lnTo>
                <a:lnTo>
                  <a:pt x="20200" y="21417"/>
                </a:lnTo>
                <a:lnTo>
                  <a:pt x="20200" y="1400"/>
                </a:lnTo>
                <a:close/>
              </a:path>
              <a:path fill="darkenLess" w="21600" h="22817">
                <a:moveTo>
                  <a:pt x="21600" y="22817"/>
                </a:moveTo>
                <a:lnTo>
                  <a:pt x="0" y="22817"/>
                </a:lnTo>
                <a:lnTo>
                  <a:pt x="1400" y="21417"/>
                </a:lnTo>
                <a:lnTo>
                  <a:pt x="20200" y="21417"/>
                </a:lnTo>
                <a:close/>
              </a:path>
              <a:path fill="lighten" w="21600" h="22817">
                <a:moveTo>
                  <a:pt x="0" y="228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17"/>
                </a:lnTo>
                <a:close/>
              </a:path>
              <a:path fill="darken" w="21600" h="22817">
                <a:moveTo>
                  <a:pt x="10800" y="4445"/>
                </a:moveTo>
                <a:lnTo>
                  <a:pt x="13376" y="7057"/>
                </a:lnTo>
                <a:lnTo>
                  <a:pt x="13376" y="5316"/>
                </a:lnTo>
                <a:lnTo>
                  <a:pt x="15152" y="5316"/>
                </a:lnTo>
                <a:lnTo>
                  <a:pt x="15152" y="8832"/>
                </a:lnTo>
                <a:lnTo>
                  <a:pt x="17763" y="11408"/>
                </a:lnTo>
                <a:lnTo>
                  <a:pt x="16109" y="11408"/>
                </a:lnTo>
                <a:lnTo>
                  <a:pt x="16109" y="18598"/>
                </a:lnTo>
                <a:lnTo>
                  <a:pt x="5491" y="18598"/>
                </a:lnTo>
                <a:lnTo>
                  <a:pt x="5491" y="11408"/>
                </a:lnTo>
                <a:lnTo>
                  <a:pt x="3837" y="11408"/>
                </a:lnTo>
                <a:close/>
              </a:path>
              <a:path fill="darkenLess" w="21600" h="22817">
                <a:moveTo>
                  <a:pt x="13376" y="7057"/>
                </a:moveTo>
                <a:lnTo>
                  <a:pt x="13376" y="5316"/>
                </a:lnTo>
                <a:lnTo>
                  <a:pt x="15152" y="5316"/>
                </a:lnTo>
                <a:lnTo>
                  <a:pt x="15152" y="8832"/>
                </a:lnTo>
                <a:close/>
              </a:path>
              <a:path fill="darkenLess" w="21600" h="22817">
                <a:moveTo>
                  <a:pt x="9877" y="14907"/>
                </a:moveTo>
                <a:lnTo>
                  <a:pt x="11723" y="14907"/>
                </a:lnTo>
                <a:lnTo>
                  <a:pt x="11723" y="18598"/>
                </a:lnTo>
                <a:lnTo>
                  <a:pt x="16109" y="18598"/>
                </a:lnTo>
                <a:lnTo>
                  <a:pt x="16109" y="11408"/>
                </a:lnTo>
                <a:lnTo>
                  <a:pt x="5491" y="11408"/>
                </a:lnTo>
                <a:lnTo>
                  <a:pt x="5491" y="18598"/>
                </a:lnTo>
                <a:lnTo>
                  <a:pt x="9877" y="1859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56:09Z</dcterms:created>
  <dc:creator>Admin</dc:creator>
  <dc:description/>
  <dc:language>en-US</dc:language>
  <cp:lastModifiedBy>Admin</cp:lastModifiedBy>
  <dcterms:modified xsi:type="dcterms:W3CDTF">2010-10-26T17:17:30Z</dcterms:modified>
  <cp:revision>2</cp:revision>
  <dc:subject/>
  <dc:title>Презентация  на тему</dc:title>
</cp:coreProperties>
</file>