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DD96-63DE-4CD1-8E4B-CB4A1B2339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C8A5-BA3B-417B-B5A5-5EDF17FA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2506-B456-491B-BDCB-250A5A2C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C720-EB1F-4D6C-BDC5-B5639A71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FC57-B104-4D3E-916A-2A0903C0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22B-26BC-4BCC-AB1F-DA1DF44A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E05F-FCF6-44F8-8F75-DC0ED98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C99D-D596-4987-8811-6ADD7C39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D2FF-5280-4358-962D-8204824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5D7D-45CD-4A7D-B76B-5272DAB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6834-03CB-4C27-95D9-0B83C2FB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8387-95B4-4C7A-8BE3-E235B37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707D-878E-405F-9FCE-72B38498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5FB3-626C-42BE-B7C1-CDCB72E4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ACC2-2FC2-4C9C-A734-D39BE949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68E-DCD6-4DFC-ABC5-19D83BF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AA8D-BB9A-4E9D-B40E-ED28A3FE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636-53BB-4DE0-9A87-F17B3DD7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405E6-5E51-48E4-BE6B-65221C3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5003-7252-4BAD-92A3-5EFEFEF8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7E3E-ADE6-4233-9145-DE2EA3BD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2E0C-BC9D-4B7E-9BC0-C5F35F2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2D66-35C7-4687-8CAF-EEBEEEC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00BB-8973-493F-B2F6-0EA14932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E320-5386-46B5-98E4-095C65CD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589-D527-4992-BBCE-FA54D454B9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604-B0FC-4AB6-9BDB-BF19BD8C7B6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br.ru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Глобализация мирового хозяйст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нятия регионализации и интеграции, их взаимосвязь и особенности по странам и формам внешнеэкономических связ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нешнеэкономическая регионализац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ориентация внешнеэкономических связей страны на свой и соседние регионы. Наиболее отчетливо она проявляется в международной торговле и международной миграции рабочей силы, менее отчетливо – в остальных формах экономических связей между странами.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Во внешнеторговом обороте России в 2007г. на страны СНГ приходится 15%, на страны Европы – 55%, на соседние азиатские страны, прежде всего Китай -1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одолжение предыдущего слайд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еждународная экономическая интеграц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процесс срастания экономик соседних стран в единый хозяйственный комплекс на основе глубоких и устойчивых связей прежде всего между их компаниями. Базой для международной экономической интеграции является внешнеэкономическая региона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теграционное объединени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хозяйственная группировка, созданная для регулирования интеграционных процессов между ее странами-участницами. Наиболее значимыми интеграционными объединениями являются ЕС и НАФТА в развитых странах, МЕРКОСУР и АСЕАН в развивающихся экономиках, СНГ в переход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Уровень интеграции определяется долей взаимной торговли в интеграционной группировке: по данным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DI,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в 2005г. этот показатель в ЕС составил 66%, НАФТА-56%, СНГ-17%, МЕРКОСУР-13%, АСЕАН-23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нятие ТНК и их роль в мировой экономик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определению ЮНКТАД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анснациональная корпорация (ТНК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зяйственная структура, которая включает родительскую компанию и ее зарубежные филиалы (аффилированные фирмы). К последним относят те, в которых у родительской компании есть прямые инвестиции, т.е. она владеет не менее 10% уставного капитала каждой из этих зарубежных фир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насчитывается около 77 тыс. ТНК (в т.ч. 55 тыс. из развитых стран) с 773 тыс. зарубежных филиалов.  Родительские компании производят, по оценке, окол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5-20% мирового ВВ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их зарубежные филиалы – ещ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0%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.н. зарубежное производство). На их взаимную торговлю приходится около 1/3 мировой торгов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онятие либерализации экономической деятельности и ее особенности в различных странах и регионах мир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Либерализация экономической деятельности (дерегулирование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процесс уменьшения государственного регулирования хозяйственной деятельности. Различают внутри- и внешнеэкономическую либерализац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цесс внутриэкономической либерализации идет бурно в переходных экономиках, заметно - в развивающихся и развит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вень внешнеэкономической либерализации наиболее высок в развитых экономиках, менее – в развивающихся и переход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65828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Изменение соотношения между реальным и финансовым сектором в экономике: причины и последствия для национального и мирового х-в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Финансовый сектор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часть экономики, которая занята обслуживанием финансового капитала, т.е. банки, казначейские и налоговые организации, финансовые компании, страховые, пенсионные, паевые и другие фонды, фондовые биржи и другие учреждения рынка ценных бум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Реальный сектор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стальная часть экономики, которая базируется на реальном капитале и занята производством товаров и нефинансовых услу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Окончание предыдущего слай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чины роста масштабов и автономности финансового сектор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ст такого в современной экономике такого ресурса, как капитал (в т.ч. финансовог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сложнение хозяйственного обор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следствия усиления роли финансового сектор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ономика все больше зависит от состояния финан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 рост зависимости стран мира от международного движения капит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ущность постиндустриализации, основные черты постиндустриальной экономики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тиндустриализац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переход от индустриального общества к постиндустриальному, т.е. от вторичного сектора (индустриального) к третичному (сектору услуг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черты постиндустриальной экономи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изменение структуры производства и потреб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ревращение науки в непосредственную производственную си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рост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овое отношение к тру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вышение внимания к окружающей сре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уманизация (социализация)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информатизация об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ренессанс малого бизн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облемы постиндустриализации и ее воздействие на мировое хозяйство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блемы постиндустриализации (для развитых стран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иление структурной и квалификационной безработ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еиндустриа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ействие постиндустриализации на мировое хозяйств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изменяется структура производства,потребления и внеш.торгов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растет значение такого экономического фактора, как 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информатизация стимулирует международное движение капит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нятие глобализац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обализация экономи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цесс превращения мирового хозяйства в единый рынок товаров, услуг, капитала, рабочей силы и знан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Он выражается в растущем уровне участии каждой страны в мировом хозяйстве (уровне интернационализации) и измеряется рядом показателей (их подбор может отличатьс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можно назвать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казателями участия страны в мировой экономике (показателями интерна-ционализации той или иной национальной экономики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2aa68"/>
                </a:solidFill>
                <a:latin typeface="Tahoma"/>
              </a:rPr>
              <a:t>Данные показате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можно объединить в следующие четыре группы и рассмотреть их на примере Росс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о данным за 2006г. из последнего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orld Development Report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», Россия в цифрах 2007и сайта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cbr.ru)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онятие глобализации –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одолже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Показатели участия страны в мировой торговл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экспортная квота (отношение экспорта товаров и услуг из страны к ее ВВП) или внешнеторговая квота (отношение экспорта и импорта товаров и услуг к ВВП 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кспорт товаров и услуг 335млрд.долл : ВВП по обменному курсу 986 млрд.долл = 34%. Но если брать ВВП по ППС (примерно 1988 млрд.долл), то 17%, т.е. ниже ведущих стран ЕС, на уровне Японии и выше США, Китая, Индии и Бразил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оля импорта в розничном товарообороте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46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бъем экспорта товаров и услуг на душу населения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2,4 тыс долл против примерно 16 тыс. в Германии,  6 тыс в Японии,  4 тыс в США,  0,8 тыс в Китае, 0,1 тыс в Индии и 0,8 тыс. в Бразил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нятие глобализации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одолже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казатели участия страны в МД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размеры ввоза капитала в страну и размеры вывоза капитала из страны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по данным </a:t>
            </a: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cbr.ru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чистый ввоз/вывоз капитала), в России импорт капитала = 106 млрд.долл, а экспорт = 64 млр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бъем накопленных зарубежных инвестиций страны и объем накопленных в стране иностранных инвести-ций по отношению к ее ВВП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216 млрд.прямых + 13 млрд.портфельных +199 млрд. прочих=428 активов против 266 млрд.прямых + 263 млрд. портфельных +238 млрд. прочих =767 млрд.обязательств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доля иностранного капитала в ежегодных внутренних капиталовложениях страны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по данным «России в цифрах», 7% - чисто иностранные к/в и 10% -смешанные, а если брать приток ПИИ к к/в, то, по данным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WIR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, в России это16%, ФРГ-8%,Японии- -1%, США – 7%, Китае -8%, Индии -9%, Бразилии -10,5%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 отсутствии данных по к/в можно сравнивать объемы ВВП и притока П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нятие глобализации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долж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бъем внешнего долга страны по отношению к ее ВВП (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по данным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cbr.ru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, это 49 млрд.госдолга + 262 млрд. частного =311 млрд.внешнего долга, т.е. 31,5%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Заметим, что у развитых стран формально нет внешнего долга (почему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объем платежей по обслуживанию внешнего долга по отношению к экспорту товаров и услуг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около 1/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нятие глобализации - продолжени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Показатели участия страны в международной миграции рабочей сил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ля иностранной рабочей силы в общей численности заняты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 оценке ФМС, в 2007г. легально оформ-лено на работу 2 млн. мигрантов, нелегально работают еще 2 млн.чел, т.е. по отношению к 69 млн. занятых это примерно 5,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ленность занятой за рубежом отечественной рабочей силы по отношению к отечественной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несколько сотен тысяч, по оцен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альдо внешней миграции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на постоянное местожительство + 160 тыс.че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сальдо переводов мигрантов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(7,5 млрд.долл. переводов пришло от физлиц, 19 млрд. ушло, в т.ч. 14 от мигрантов, по оценк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онятие глобализации - окончани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Показатели участия страны в международном обмене знаниям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исло зарегистрированных за рубежом отечественных патентов и лицензий и зарегистрированных в стране иностранных патентов и лиценз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меры экспорта и импорта технологии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(по данным «России в цифрах», в 2006г. поступления составили 0,5 млрд.долл., платежи – 1,2 млрд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исленность иностранных студентов в стране и отечественных студентов за рубежом </a:t>
            </a:r>
            <a:r>
              <a:rPr b="0" lang="en-US" sz="2400" spc="-1" strike="noStrike">
                <a:solidFill>
                  <a:srgbClr val="ebf25a"/>
                </a:solidFill>
                <a:latin typeface="Tahoma"/>
              </a:rPr>
              <a:t>(42 тыс. в государственных и муниципальных вуза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лияние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глобализации на мировое и национальное хозяйство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глобализации есть два главных последств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Ускорение экономического роста активно участвующих в глобализации стран вследствие использования ими своих преимуществ на мировых рынках товаров, услуг, капитала, рабочей силы и зн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Усиление взаимозависимости всех участников мирового хозяйства, что ведет к последствиям, которые условно можно разделить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позитивны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прежде всего доступность внешних рынков и внешних ресур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егативны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прежде всего рост зависимости национальных хозяйств от конъюнктуры мирового хозяйств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еоднозначны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прежде всего усиление конкуренции на внутреннем рынке и уменьшение госрегулирования национальных экономи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Антиглобализ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нтиглобализ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широкое международное гражданское движение по критике глобализации. С точки зрения антиглобалистов, глобализация приводит к таким отрицательным последствиям, ка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асимметричность в распределении выгод и издержек глобализ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аргинализация стран и социальных групп, особенно из-за снижения (консервации) социальных стандар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размывание национального суверенитета и куль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4:14:04Z</dcterms:created>
  <dc:creator>b</dc:creator>
  <dc:description/>
  <dc:language>en-US</dc:language>
  <cp:lastModifiedBy>Admin</cp:lastModifiedBy>
  <dcterms:modified xsi:type="dcterms:W3CDTF">2010-11-01T07:50:20Z</dcterms:modified>
  <cp:revision>45</cp:revision>
  <dc:subject/>
  <dc:title>Слайд 1</dc:title>
</cp:coreProperties>
</file>