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A8F7-B8CD-46ED-BFA8-A8EECB133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EE3D-8027-47FF-BFBA-E077545F1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805E-393D-4AB0-9397-BED439AD6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2D12-E3F2-4CEE-94F8-E7CADD328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C87D8-B5B1-44EC-A733-E837089EB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A2255-0F91-41AE-B336-B9E5B5A43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8DDEF-A8C5-4785-B8BF-98288286D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35105-AF5E-4D87-9EAD-EC8423697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2537C-F782-468E-A721-0E7E4B720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F4E27-C0E4-49D7-9E00-BED7EF9AC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81A6F-EB11-4F28-9BC0-559682AB0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D26C-918F-49FA-9E6D-ABC3B52F6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50E2F-7AA2-4729-ACAA-0F0D10C68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EE123-C70D-458F-8B7E-404D5FEB6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10997-129F-468F-8E28-206A1AFD1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CCD3C-D8EA-4EA5-9B55-31ED9EFD5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F54D0-3C16-406C-A776-018C5A310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2501-092B-43E4-BB79-8D079048F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C259-95AF-4ABC-8585-AA2D786F0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F4DD-1F78-4853-8C03-2CE29B3A4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B7AD-C747-42D2-8163-A4D591554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612A-E2E9-4ABE-8E6A-2B6FF7109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CB15-D767-4D27-90AD-FABE1B5F9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22DF-4A50-4CB5-BE44-B4313E115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BA86B-EC35-417F-AB44-C4A93E6D95C4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5DEB5-6833-4AE4-AFA9-FB1C404AA389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" Target="slide10.xml"/><Relationship Id="rId8" Type="http://schemas.openxmlformats.org/officeDocument/2006/relationships/slide" Target="slide11.xml"/><Relationship Id="rId9" Type="http://schemas.openxmlformats.org/officeDocument/2006/relationships/slide" Target="slide12.xml"/><Relationship Id="rId10" Type="http://schemas.openxmlformats.org/officeDocument/2006/relationships/slide" Target="slide13.xml"/><Relationship Id="rId11" Type="http://schemas.openxmlformats.org/officeDocument/2006/relationships/slide" Target="slide14.xml"/><Relationship Id="rId12" Type="http://schemas.openxmlformats.org/officeDocument/2006/relationships/slide" Target="slide15.xml"/><Relationship Id="rId1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Презентация </a:t>
            </a:r>
            <a:br>
              <a:rPr sz="4400"/>
            </a:b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на тему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КАЗАХСТАН В СОВРЕМЕННОМ МИРОВОМ ХОЗЯЙСТВ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eaeaea"/>
                </a:solidFill>
                <a:latin typeface="Tahoma"/>
              </a:rPr>
              <a:t>Промышленность строительных материалов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родукция промышленности строительных материалов в общем объеме промышленного производства Республики занимает более 5 %. На предприятиях отрасли производится цемент, шифер, асбестоцементные трубы, мягкие кровельные материалы, линолеум, санитарно-строительный фаянс, облицовочные керамические плитки для полов и отделки зданий, панели и другие конструкции для крупнопанельного домостроения, каолин для бумажной промышленности, радиаторы, конвекторы и ряд других видов строительных материалов и конструкций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">
            <a:hlinkClick r:id="" action="ppaction://hlinkshowjump?jump=previousslide"/>
          </p:cNvPr>
          <p:cNvSpPr/>
          <p:nvPr/>
        </p:nvSpPr>
        <p:spPr>
          <a:xfrm>
            <a:off x="7093080" y="5950080"/>
            <a:ext cx="792000" cy="718920"/>
          </a:xfrm>
          <a:custGeom>
            <a:avLst/>
            <a:gdLst>
              <a:gd name="textAreaLeft" fmla="*/ 46440 w 792000"/>
              <a:gd name="textAreaRight" fmla="*/ 745560 w 79200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3795" h="21600">
                <a:moveTo>
                  <a:pt x="0" y="0"/>
                </a:moveTo>
                <a:lnTo>
                  <a:pt x="23795" y="0"/>
                </a:lnTo>
                <a:lnTo>
                  <a:pt x="23795" y="21600"/>
                </a:lnTo>
                <a:lnTo>
                  <a:pt x="0" y="21600"/>
                </a:lnTo>
                <a:close/>
              </a:path>
              <a:path fill="lightenLess" w="23795" h="21600">
                <a:moveTo>
                  <a:pt x="0" y="0"/>
                </a:moveTo>
                <a:lnTo>
                  <a:pt x="23795" y="0"/>
                </a:lnTo>
                <a:lnTo>
                  <a:pt x="22395" y="1400"/>
                </a:lnTo>
                <a:lnTo>
                  <a:pt x="1400" y="1400"/>
                </a:lnTo>
                <a:close/>
              </a:path>
              <a:path fill="darken" w="23795" h="21600">
                <a:moveTo>
                  <a:pt x="23795" y="0"/>
                </a:moveTo>
                <a:lnTo>
                  <a:pt x="23795" y="21600"/>
                </a:lnTo>
                <a:lnTo>
                  <a:pt x="22395" y="20200"/>
                </a:lnTo>
                <a:lnTo>
                  <a:pt x="22395" y="1400"/>
                </a:lnTo>
                <a:close/>
              </a:path>
              <a:path fill="darkenLess" w="23795" h="21600">
                <a:moveTo>
                  <a:pt x="23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95" y="20200"/>
                </a:lnTo>
                <a:close/>
              </a:path>
              <a:path fill="lighten" w="23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95" h="21600">
                <a:moveTo>
                  <a:pt x="4891" y="10800"/>
                </a:moveTo>
                <a:lnTo>
                  <a:pt x="18904" y="3794"/>
                </a:lnTo>
                <a:lnTo>
                  <a:pt x="18904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>
            <a:hlinkClick r:id="rId1" action="ppaction://hlinksldjump"/>
          </p:cNvPr>
          <p:cNvSpPr/>
          <p:nvPr/>
        </p:nvSpPr>
        <p:spPr>
          <a:xfrm>
            <a:off x="8028000" y="5950080"/>
            <a:ext cx="720720" cy="71892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1654" h="21600">
                <a:moveTo>
                  <a:pt x="0" y="0"/>
                </a:moveTo>
                <a:lnTo>
                  <a:pt x="21654" y="0"/>
                </a:lnTo>
                <a:lnTo>
                  <a:pt x="21654" y="21600"/>
                </a:lnTo>
                <a:lnTo>
                  <a:pt x="0" y="21600"/>
                </a:lnTo>
                <a:close/>
              </a:path>
              <a:path fill="lightenLess" w="21654" h="21600">
                <a:moveTo>
                  <a:pt x="0" y="0"/>
                </a:moveTo>
                <a:lnTo>
                  <a:pt x="21654" y="0"/>
                </a:lnTo>
                <a:lnTo>
                  <a:pt x="20254" y="1400"/>
                </a:lnTo>
                <a:lnTo>
                  <a:pt x="1400" y="1400"/>
                </a:lnTo>
                <a:close/>
              </a:path>
              <a:path fill="darken" w="21654" h="21600">
                <a:moveTo>
                  <a:pt x="21654" y="0"/>
                </a:moveTo>
                <a:lnTo>
                  <a:pt x="21654" y="21600"/>
                </a:lnTo>
                <a:lnTo>
                  <a:pt x="20254" y="20200"/>
                </a:lnTo>
                <a:lnTo>
                  <a:pt x="20254" y="1400"/>
                </a:lnTo>
                <a:close/>
              </a:path>
              <a:path fill="darkenLess" w="21654" h="21600">
                <a:moveTo>
                  <a:pt x="216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54" y="20200"/>
                </a:lnTo>
                <a:close/>
              </a:path>
              <a:path fill="lighten" w="216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54" h="21600">
                <a:moveTo>
                  <a:pt x="10827" y="3837"/>
                </a:moveTo>
                <a:lnTo>
                  <a:pt x="13403" y="6448"/>
                </a:lnTo>
                <a:lnTo>
                  <a:pt x="13403" y="4707"/>
                </a:lnTo>
                <a:lnTo>
                  <a:pt x="15179" y="4707"/>
                </a:lnTo>
                <a:lnTo>
                  <a:pt x="15179" y="8224"/>
                </a:lnTo>
                <a:lnTo>
                  <a:pt x="17790" y="10800"/>
                </a:lnTo>
                <a:lnTo>
                  <a:pt x="16136" y="10800"/>
                </a:lnTo>
                <a:lnTo>
                  <a:pt x="16136" y="17989"/>
                </a:lnTo>
                <a:lnTo>
                  <a:pt x="5518" y="17989"/>
                </a:lnTo>
                <a:lnTo>
                  <a:pt x="5518" y="10800"/>
                </a:lnTo>
                <a:lnTo>
                  <a:pt x="3864" y="10800"/>
                </a:lnTo>
                <a:close/>
              </a:path>
              <a:path fill="darkenLess" w="21654" h="21600">
                <a:moveTo>
                  <a:pt x="13403" y="6448"/>
                </a:moveTo>
                <a:lnTo>
                  <a:pt x="13403" y="4707"/>
                </a:lnTo>
                <a:lnTo>
                  <a:pt x="15179" y="4707"/>
                </a:lnTo>
                <a:lnTo>
                  <a:pt x="15179" y="8224"/>
                </a:lnTo>
                <a:close/>
              </a:path>
              <a:path fill="darkenLess" w="21654" h="21600">
                <a:moveTo>
                  <a:pt x="9904" y="14299"/>
                </a:moveTo>
                <a:lnTo>
                  <a:pt x="11750" y="14299"/>
                </a:lnTo>
                <a:lnTo>
                  <a:pt x="11750" y="17989"/>
                </a:lnTo>
                <a:lnTo>
                  <a:pt x="16136" y="17989"/>
                </a:lnTo>
                <a:lnTo>
                  <a:pt x="16136" y="10800"/>
                </a:lnTo>
                <a:lnTo>
                  <a:pt x="5518" y="10800"/>
                </a:lnTo>
                <a:lnTo>
                  <a:pt x="5518" y="17989"/>
                </a:lnTo>
                <a:lnTo>
                  <a:pt x="9904" y="17989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4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eaeaea"/>
                </a:solidFill>
                <a:latin typeface="Tahoma"/>
              </a:rPr>
              <a:t>Сельское хозяйство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just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На севере Казахстана климатические условия благоприятствуют выращиванию яровой пшеницы, овса, ячменя и других зерновых культур, а также позволяют развивать овощеводство, бахчеводство и возделывать ряд технических культур - подсолнечника, льна-кудряша, табака и др. На юге республики, в предгорной полосе и в долинах рек, где много тепла, при искусственном орошении дают высокие урожаи хлопчатник, сахарная свекла, желтые табаки, рис, плодоносят сады и виноградники. По производству зерна Казахстан занимает третье место в СНГ после России и Украины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 algn="just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В республике традиционно занимаются овцеводством, коневодством, верблюдоводством, разведением крупного рогатого скота. Пустынные и полупустынные территории в центральной и юго-западной частях Казахстана широко используются как сезонные пастбища для скота. В качестве летних пастбищ используются горные луга на востоке и юго-востоке республики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 rot="471000">
            <a:off x="5435280" y="2637000"/>
            <a:ext cx="3108240" cy="2808000"/>
          </a:xfrm>
          <a:prstGeom prst="rect">
            <a:avLst/>
          </a:prstGeom>
          <a:ln w="0">
            <a:noFill/>
          </a:ln>
        </p:spPr>
      </p:pic>
      <p:sp>
        <p:nvSpPr>
          <p:cNvPr id="167" name="">
            <a:hlinkClick r:id="" action="ppaction://hlinkshowjump?jump=previousslide"/>
          </p:cNvPr>
          <p:cNvSpPr/>
          <p:nvPr/>
        </p:nvSpPr>
        <p:spPr>
          <a:xfrm>
            <a:off x="7093080" y="5950080"/>
            <a:ext cx="792000" cy="718920"/>
          </a:xfrm>
          <a:custGeom>
            <a:avLst/>
            <a:gdLst>
              <a:gd name="textAreaLeft" fmla="*/ 46440 w 792000"/>
              <a:gd name="textAreaRight" fmla="*/ 745560 w 79200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3795" h="21600">
                <a:moveTo>
                  <a:pt x="0" y="0"/>
                </a:moveTo>
                <a:lnTo>
                  <a:pt x="23795" y="0"/>
                </a:lnTo>
                <a:lnTo>
                  <a:pt x="23795" y="21600"/>
                </a:lnTo>
                <a:lnTo>
                  <a:pt x="0" y="21600"/>
                </a:lnTo>
                <a:close/>
              </a:path>
              <a:path fill="lightenLess" w="23795" h="21600">
                <a:moveTo>
                  <a:pt x="0" y="0"/>
                </a:moveTo>
                <a:lnTo>
                  <a:pt x="23795" y="0"/>
                </a:lnTo>
                <a:lnTo>
                  <a:pt x="22395" y="1400"/>
                </a:lnTo>
                <a:lnTo>
                  <a:pt x="1400" y="1400"/>
                </a:lnTo>
                <a:close/>
              </a:path>
              <a:path fill="darken" w="23795" h="21600">
                <a:moveTo>
                  <a:pt x="23795" y="0"/>
                </a:moveTo>
                <a:lnTo>
                  <a:pt x="23795" y="21600"/>
                </a:lnTo>
                <a:lnTo>
                  <a:pt x="22395" y="20200"/>
                </a:lnTo>
                <a:lnTo>
                  <a:pt x="22395" y="1400"/>
                </a:lnTo>
                <a:close/>
              </a:path>
              <a:path fill="darkenLess" w="23795" h="21600">
                <a:moveTo>
                  <a:pt x="23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95" y="20200"/>
                </a:lnTo>
                <a:close/>
              </a:path>
              <a:path fill="lighten" w="23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95" h="21600">
                <a:moveTo>
                  <a:pt x="4891" y="10800"/>
                </a:moveTo>
                <a:lnTo>
                  <a:pt x="18904" y="3794"/>
                </a:lnTo>
                <a:lnTo>
                  <a:pt x="18904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>
            <a:hlinkClick r:id="rId2" action="ppaction://hlinksldjump"/>
          </p:cNvPr>
          <p:cNvSpPr/>
          <p:nvPr/>
        </p:nvSpPr>
        <p:spPr>
          <a:xfrm>
            <a:off x="7956720" y="5950080"/>
            <a:ext cx="792000" cy="718920"/>
          </a:xfrm>
          <a:custGeom>
            <a:avLst/>
            <a:gdLst>
              <a:gd name="textAreaLeft" fmla="*/ 46440 w 792000"/>
              <a:gd name="textAreaRight" fmla="*/ 745560 w 79200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3795" h="21600">
                <a:moveTo>
                  <a:pt x="0" y="0"/>
                </a:moveTo>
                <a:lnTo>
                  <a:pt x="23795" y="0"/>
                </a:lnTo>
                <a:lnTo>
                  <a:pt x="23795" y="21600"/>
                </a:lnTo>
                <a:lnTo>
                  <a:pt x="0" y="21600"/>
                </a:lnTo>
                <a:close/>
              </a:path>
              <a:path fill="lightenLess" w="23795" h="21600">
                <a:moveTo>
                  <a:pt x="0" y="0"/>
                </a:moveTo>
                <a:lnTo>
                  <a:pt x="23795" y="0"/>
                </a:lnTo>
                <a:lnTo>
                  <a:pt x="22395" y="1400"/>
                </a:lnTo>
                <a:lnTo>
                  <a:pt x="1400" y="1400"/>
                </a:lnTo>
                <a:close/>
              </a:path>
              <a:path fill="darken" w="23795" h="21600">
                <a:moveTo>
                  <a:pt x="23795" y="0"/>
                </a:moveTo>
                <a:lnTo>
                  <a:pt x="23795" y="21600"/>
                </a:lnTo>
                <a:lnTo>
                  <a:pt x="22395" y="20200"/>
                </a:lnTo>
                <a:lnTo>
                  <a:pt x="22395" y="1400"/>
                </a:lnTo>
                <a:close/>
              </a:path>
              <a:path fill="darkenLess" w="23795" h="21600">
                <a:moveTo>
                  <a:pt x="23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95" y="20200"/>
                </a:lnTo>
                <a:close/>
              </a:path>
              <a:path fill="lighten" w="23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95" h="21600">
                <a:moveTo>
                  <a:pt x="11897" y="3837"/>
                </a:moveTo>
                <a:lnTo>
                  <a:pt x="14474" y="6448"/>
                </a:lnTo>
                <a:lnTo>
                  <a:pt x="14474" y="4707"/>
                </a:lnTo>
                <a:lnTo>
                  <a:pt x="16249" y="4707"/>
                </a:lnTo>
                <a:lnTo>
                  <a:pt x="16249" y="8224"/>
                </a:lnTo>
                <a:lnTo>
                  <a:pt x="18860" y="10800"/>
                </a:lnTo>
                <a:lnTo>
                  <a:pt x="17207" y="10800"/>
                </a:lnTo>
                <a:lnTo>
                  <a:pt x="17207" y="17989"/>
                </a:lnTo>
                <a:lnTo>
                  <a:pt x="6588" y="17989"/>
                </a:lnTo>
                <a:lnTo>
                  <a:pt x="6588" y="10800"/>
                </a:lnTo>
                <a:lnTo>
                  <a:pt x="4934" y="10800"/>
                </a:lnTo>
                <a:close/>
              </a:path>
              <a:path fill="darkenLess" w="23795" h="21600">
                <a:moveTo>
                  <a:pt x="14474" y="6448"/>
                </a:moveTo>
                <a:lnTo>
                  <a:pt x="14474" y="4707"/>
                </a:lnTo>
                <a:lnTo>
                  <a:pt x="16249" y="4707"/>
                </a:lnTo>
                <a:lnTo>
                  <a:pt x="16249" y="8224"/>
                </a:lnTo>
                <a:close/>
              </a:path>
              <a:path fill="darkenLess" w="23795" h="21600">
                <a:moveTo>
                  <a:pt x="10975" y="14299"/>
                </a:moveTo>
                <a:lnTo>
                  <a:pt x="12820" y="14299"/>
                </a:lnTo>
                <a:lnTo>
                  <a:pt x="12820" y="17989"/>
                </a:lnTo>
                <a:lnTo>
                  <a:pt x="17207" y="17989"/>
                </a:lnTo>
                <a:lnTo>
                  <a:pt x="17207" y="10800"/>
                </a:lnTo>
                <a:lnTo>
                  <a:pt x="6588" y="10800"/>
                </a:lnTo>
                <a:lnTo>
                  <a:pt x="6588" y="17989"/>
                </a:lnTo>
                <a:lnTo>
                  <a:pt x="10975" y="17989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eaeaea"/>
                </a:solidFill>
                <a:latin typeface="Tahoma"/>
              </a:rPr>
              <a:t>Внешняя торговля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914720" y="1981080"/>
            <a:ext cx="369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. В структуре казахстанского экспорта основную долю занимают нефть и нефтепродукты (35%), другими важными товарными группами являются цветные металлы (17%), черные металлы (16%), руды (12%), определенная часть экспорта приходится на зерновые культуры (9%). Основной импортируемой продукцией являются машины и оборудование, средства транспорта, приборы и автоматы, химическая продукция, топливо минеральное, продовольственные товары, готовые изделия и товары народного потребления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 algn="just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доля торговли с традиционными партнерами - странами СНГ и Балтии - все еще велика: на них приходится около 59% экспорта и до 63 % импорта. При этом основным торговым партнером остается Россия. Из государств дальнего зарубежья успешно развиваются торговые связи с Германией, Турцией, Швейцарией, Чехией, Италией, Китаем, США, Великобританией, Южной Кореей и др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826920" y="2205000"/>
            <a:ext cx="4105440" cy="3384720"/>
          </a:xfrm>
          <a:prstGeom prst="rect">
            <a:avLst/>
          </a:prstGeom>
          <a:ln w="0">
            <a:noFill/>
          </a:ln>
        </p:spPr>
      </p:pic>
      <p:sp>
        <p:nvSpPr>
          <p:cNvPr id="172" name="">
            <a:hlinkClick r:id="" action="ppaction://hlinkshowjump?jump=previousslide"/>
          </p:cNvPr>
          <p:cNvSpPr/>
          <p:nvPr/>
        </p:nvSpPr>
        <p:spPr>
          <a:xfrm>
            <a:off x="324000" y="6093000"/>
            <a:ext cx="792000" cy="765000"/>
          </a:xfrm>
          <a:custGeom>
            <a:avLst/>
            <a:gdLst>
              <a:gd name="textAreaLeft" fmla="*/ 49320 w 792000"/>
              <a:gd name="textAreaRight" fmla="*/ 742680 w 79200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22362" h="21600">
                <a:moveTo>
                  <a:pt x="0" y="0"/>
                </a:moveTo>
                <a:lnTo>
                  <a:pt x="22362" y="0"/>
                </a:lnTo>
                <a:lnTo>
                  <a:pt x="22362" y="21600"/>
                </a:lnTo>
                <a:lnTo>
                  <a:pt x="0" y="21600"/>
                </a:lnTo>
                <a:close/>
              </a:path>
              <a:path fill="lightenLess" w="22362" h="21600">
                <a:moveTo>
                  <a:pt x="0" y="0"/>
                </a:moveTo>
                <a:lnTo>
                  <a:pt x="22362" y="0"/>
                </a:lnTo>
                <a:lnTo>
                  <a:pt x="20962" y="1400"/>
                </a:lnTo>
                <a:lnTo>
                  <a:pt x="1400" y="1400"/>
                </a:lnTo>
                <a:close/>
              </a:path>
              <a:path fill="darken" w="22362" h="21600">
                <a:moveTo>
                  <a:pt x="22362" y="0"/>
                </a:moveTo>
                <a:lnTo>
                  <a:pt x="22362" y="21600"/>
                </a:lnTo>
                <a:lnTo>
                  <a:pt x="20962" y="20200"/>
                </a:lnTo>
                <a:lnTo>
                  <a:pt x="20962" y="1400"/>
                </a:lnTo>
                <a:close/>
              </a:path>
              <a:path fill="darkenLess" w="22362" h="21600">
                <a:moveTo>
                  <a:pt x="223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62" y="20200"/>
                </a:lnTo>
                <a:close/>
              </a:path>
              <a:path fill="lighten" w="223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362" h="21600">
                <a:moveTo>
                  <a:pt x="4175" y="10800"/>
                </a:moveTo>
                <a:lnTo>
                  <a:pt x="18187" y="3794"/>
                </a:lnTo>
                <a:lnTo>
                  <a:pt x="18187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>
            <a:hlinkClick r:id="rId2" action="ppaction://hlinksldjump"/>
          </p:cNvPr>
          <p:cNvSpPr/>
          <p:nvPr/>
        </p:nvSpPr>
        <p:spPr>
          <a:xfrm>
            <a:off x="1187280" y="6093000"/>
            <a:ext cx="792360" cy="765000"/>
          </a:xfrm>
          <a:custGeom>
            <a:avLst/>
            <a:gdLst>
              <a:gd name="textAreaLeft" fmla="*/ 49320 w 792360"/>
              <a:gd name="textAreaRight" fmla="*/ 743040 w 792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22372" h="21600">
                <a:moveTo>
                  <a:pt x="0" y="0"/>
                </a:moveTo>
                <a:lnTo>
                  <a:pt x="22372" y="0"/>
                </a:lnTo>
                <a:lnTo>
                  <a:pt x="22372" y="21600"/>
                </a:lnTo>
                <a:lnTo>
                  <a:pt x="0" y="21600"/>
                </a:lnTo>
                <a:close/>
              </a:path>
              <a:path fill="lightenLess" w="22372" h="21600">
                <a:moveTo>
                  <a:pt x="0" y="0"/>
                </a:moveTo>
                <a:lnTo>
                  <a:pt x="22372" y="0"/>
                </a:lnTo>
                <a:lnTo>
                  <a:pt x="20972" y="1400"/>
                </a:lnTo>
                <a:lnTo>
                  <a:pt x="1400" y="1400"/>
                </a:lnTo>
                <a:close/>
              </a:path>
              <a:path fill="darken" w="22372" h="21600">
                <a:moveTo>
                  <a:pt x="22372" y="0"/>
                </a:moveTo>
                <a:lnTo>
                  <a:pt x="22372" y="21600"/>
                </a:lnTo>
                <a:lnTo>
                  <a:pt x="20972" y="20200"/>
                </a:lnTo>
                <a:lnTo>
                  <a:pt x="20972" y="1400"/>
                </a:lnTo>
                <a:close/>
              </a:path>
              <a:path fill="darkenLess" w="22372" h="21600">
                <a:moveTo>
                  <a:pt x="223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72" y="20200"/>
                </a:lnTo>
                <a:close/>
              </a:path>
              <a:path fill="lighten" w="223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372" h="21600">
                <a:moveTo>
                  <a:pt x="11186" y="3837"/>
                </a:moveTo>
                <a:lnTo>
                  <a:pt x="13762" y="6448"/>
                </a:lnTo>
                <a:lnTo>
                  <a:pt x="13762" y="4707"/>
                </a:lnTo>
                <a:lnTo>
                  <a:pt x="15538" y="4707"/>
                </a:lnTo>
                <a:lnTo>
                  <a:pt x="15538" y="8224"/>
                </a:lnTo>
                <a:lnTo>
                  <a:pt x="18149" y="10800"/>
                </a:lnTo>
                <a:lnTo>
                  <a:pt x="16495" y="10800"/>
                </a:lnTo>
                <a:lnTo>
                  <a:pt x="16495" y="17989"/>
                </a:lnTo>
                <a:lnTo>
                  <a:pt x="5877" y="17989"/>
                </a:lnTo>
                <a:lnTo>
                  <a:pt x="5877" y="10800"/>
                </a:lnTo>
                <a:lnTo>
                  <a:pt x="4223" y="10800"/>
                </a:lnTo>
                <a:close/>
              </a:path>
              <a:path fill="darkenLess" w="22372" h="21600">
                <a:moveTo>
                  <a:pt x="13762" y="6448"/>
                </a:moveTo>
                <a:lnTo>
                  <a:pt x="13762" y="4707"/>
                </a:lnTo>
                <a:lnTo>
                  <a:pt x="15538" y="4707"/>
                </a:lnTo>
                <a:lnTo>
                  <a:pt x="15538" y="8224"/>
                </a:lnTo>
                <a:close/>
              </a:path>
              <a:path fill="darkenLess" w="22372" h="21600">
                <a:moveTo>
                  <a:pt x="10263" y="14299"/>
                </a:moveTo>
                <a:lnTo>
                  <a:pt x="12109" y="14299"/>
                </a:lnTo>
                <a:lnTo>
                  <a:pt x="12109" y="17989"/>
                </a:lnTo>
                <a:lnTo>
                  <a:pt x="16495" y="17989"/>
                </a:lnTo>
                <a:lnTo>
                  <a:pt x="16495" y="10800"/>
                </a:lnTo>
                <a:lnTo>
                  <a:pt x="5877" y="10800"/>
                </a:lnTo>
                <a:lnTo>
                  <a:pt x="5877" y="17989"/>
                </a:lnTo>
                <a:lnTo>
                  <a:pt x="10263" y="17989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4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9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eaeaea"/>
                </a:solidFill>
                <a:latin typeface="Tahoma"/>
              </a:rPr>
              <a:t>Инвестиционные возможности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 Начиная с 1993 года, валовый приток прямых иностранных инвестиций в экономику Казахстана достиг 28,4 млрд. долларов СШ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настоящее время приоритетными направлениями для инвестиций являются: топливно-энергетический комплекс; агропромышленный комплекс; инфраструктура, включая транспорт, телекоммуникации, социальную инфраструктуру. Перспективными формами привлечения иностранного капитала представляются такие как финансовый лизинг, продажа акций крупных предприятий иностранным компаниям, привлечение иностранных инвестиций в венчурное производство (при долевом участии государства или правительственной гарантии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">
            <a:hlinkClick r:id="" action="ppaction://hlinkshowjump?jump=previousslide"/>
          </p:cNvPr>
          <p:cNvSpPr/>
          <p:nvPr/>
        </p:nvSpPr>
        <p:spPr>
          <a:xfrm>
            <a:off x="7236000" y="5877000"/>
            <a:ext cx="792000" cy="792000"/>
          </a:xfrm>
          <a:custGeom>
            <a:avLst/>
            <a:gdLst>
              <a:gd name="textAreaLeft" fmla="*/ 51120 w 792000"/>
              <a:gd name="textAreaRight" fmla="*/ 740880 w 79200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>
            <a:hlinkClick r:id="rId1" action="ppaction://hlinksldjump"/>
          </p:cNvPr>
          <p:cNvSpPr/>
          <p:nvPr/>
        </p:nvSpPr>
        <p:spPr>
          <a:xfrm>
            <a:off x="8101080" y="5877000"/>
            <a:ext cx="718920" cy="792000"/>
          </a:xfrm>
          <a:custGeom>
            <a:avLst/>
            <a:gdLst>
              <a:gd name="textAreaLeft" fmla="*/ 46440 w 718920"/>
              <a:gd name="textAreaRight" fmla="*/ 672480 w 718920"/>
              <a:gd name="textAreaTop" fmla="*/ 46440 h 792000"/>
              <a:gd name="textAreaBottom" fmla="*/ 745560 h 792000"/>
            </a:gdLst>
            <a:ahLst/>
            <a:rect l="textAreaLeft" t="textAreaTop" r="textAreaRight" b="textAreaBottom"/>
            <a:pathLst>
              <a:path w="21600" h="23795">
                <a:moveTo>
                  <a:pt x="0" y="0"/>
                </a:moveTo>
                <a:lnTo>
                  <a:pt x="21600" y="0"/>
                </a:lnTo>
                <a:lnTo>
                  <a:pt x="21600" y="23795"/>
                </a:lnTo>
                <a:lnTo>
                  <a:pt x="0" y="23795"/>
                </a:lnTo>
                <a:close/>
              </a:path>
              <a:path fill="lightenLess" w="21600" h="2379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95">
                <a:moveTo>
                  <a:pt x="21600" y="0"/>
                </a:moveTo>
                <a:lnTo>
                  <a:pt x="21600" y="23795"/>
                </a:lnTo>
                <a:lnTo>
                  <a:pt x="20200" y="22395"/>
                </a:lnTo>
                <a:lnTo>
                  <a:pt x="20200" y="1400"/>
                </a:lnTo>
                <a:close/>
              </a:path>
              <a:path fill="darkenLess" w="21600" h="23795">
                <a:moveTo>
                  <a:pt x="21600" y="23795"/>
                </a:moveTo>
                <a:lnTo>
                  <a:pt x="0" y="23795"/>
                </a:lnTo>
                <a:lnTo>
                  <a:pt x="1400" y="22395"/>
                </a:lnTo>
                <a:lnTo>
                  <a:pt x="20200" y="22395"/>
                </a:lnTo>
                <a:close/>
              </a:path>
              <a:path fill="lighten" w="21600" h="23795">
                <a:moveTo>
                  <a:pt x="0" y="23795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95"/>
                </a:lnTo>
                <a:close/>
              </a:path>
              <a:path fill="darken" w="21600" h="23795">
                <a:moveTo>
                  <a:pt x="10800" y="4934"/>
                </a:moveTo>
                <a:lnTo>
                  <a:pt x="13376" y="7545"/>
                </a:lnTo>
                <a:lnTo>
                  <a:pt x="13376" y="5805"/>
                </a:lnTo>
                <a:lnTo>
                  <a:pt x="15152" y="5805"/>
                </a:lnTo>
                <a:lnTo>
                  <a:pt x="15152" y="9321"/>
                </a:lnTo>
                <a:lnTo>
                  <a:pt x="17763" y="11897"/>
                </a:lnTo>
                <a:lnTo>
                  <a:pt x="16109" y="11897"/>
                </a:lnTo>
                <a:lnTo>
                  <a:pt x="16109" y="19087"/>
                </a:lnTo>
                <a:lnTo>
                  <a:pt x="5491" y="19087"/>
                </a:lnTo>
                <a:lnTo>
                  <a:pt x="5491" y="11897"/>
                </a:lnTo>
                <a:lnTo>
                  <a:pt x="3837" y="11897"/>
                </a:lnTo>
                <a:close/>
              </a:path>
              <a:path fill="darkenLess" w="21600" h="23795">
                <a:moveTo>
                  <a:pt x="13376" y="7545"/>
                </a:moveTo>
                <a:lnTo>
                  <a:pt x="13376" y="5805"/>
                </a:lnTo>
                <a:lnTo>
                  <a:pt x="15152" y="5805"/>
                </a:lnTo>
                <a:lnTo>
                  <a:pt x="15152" y="9321"/>
                </a:lnTo>
                <a:close/>
              </a:path>
              <a:path fill="darkenLess" w="21600" h="23795">
                <a:moveTo>
                  <a:pt x="9877" y="15396"/>
                </a:moveTo>
                <a:lnTo>
                  <a:pt x="11723" y="15396"/>
                </a:lnTo>
                <a:lnTo>
                  <a:pt x="11723" y="19087"/>
                </a:lnTo>
                <a:lnTo>
                  <a:pt x="16109" y="19087"/>
                </a:lnTo>
                <a:lnTo>
                  <a:pt x="16109" y="11897"/>
                </a:lnTo>
                <a:lnTo>
                  <a:pt x="5491" y="11897"/>
                </a:lnTo>
                <a:lnTo>
                  <a:pt x="5491" y="19087"/>
                </a:lnTo>
                <a:lnTo>
                  <a:pt x="9877" y="19087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35" dur="2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40" dur="2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aeaea"/>
                </a:solidFill>
                <a:latin typeface="Tahoma"/>
              </a:rPr>
              <a:t>Химическая, нефтеперерабатывающая и нефтехимическая промышленность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932360" y="19162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 ассортименте предприятий химической и нефтехимической промышленности республики - пластмассы, химические волокна и нити, шины для автомобилей и сельхозмашин, широкий ассортимент резинотехнических изделий, хромовые соединения, карбид кальция, каустическая сода и др. продукция. В республике действуют три нефтеперерабатывающих завода, производящие автобензин, дизельное, котельное топливо, авиационный керосин, нефтебитумы и другие нефтепродукты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 rot="20848200">
            <a:off x="1403280" y="2565000"/>
            <a:ext cx="3456000" cy="2664000"/>
          </a:xfrm>
          <a:prstGeom prst="rect">
            <a:avLst/>
          </a:prstGeom>
          <a:ln w="0">
            <a:noFill/>
          </a:ln>
        </p:spPr>
      </p:pic>
      <p:sp>
        <p:nvSpPr>
          <p:cNvPr id="181" name="">
            <a:hlinkClick r:id="" action="ppaction://hlinkshowjump?jump=previousslide"/>
          </p:cNvPr>
          <p:cNvSpPr/>
          <p:nvPr/>
        </p:nvSpPr>
        <p:spPr>
          <a:xfrm>
            <a:off x="7164360" y="5950080"/>
            <a:ext cx="792360" cy="718920"/>
          </a:xfrm>
          <a:custGeom>
            <a:avLst/>
            <a:gdLst>
              <a:gd name="textAreaLeft" fmla="*/ 46440 w 792360"/>
              <a:gd name="textAreaRight" fmla="*/ 745920 w 79236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3805" h="21600">
                <a:moveTo>
                  <a:pt x="0" y="0"/>
                </a:moveTo>
                <a:lnTo>
                  <a:pt x="23805" y="0"/>
                </a:lnTo>
                <a:lnTo>
                  <a:pt x="23805" y="21600"/>
                </a:lnTo>
                <a:lnTo>
                  <a:pt x="0" y="21600"/>
                </a:lnTo>
                <a:close/>
              </a:path>
              <a:path fill="lightenLess" w="23805" h="21600">
                <a:moveTo>
                  <a:pt x="0" y="0"/>
                </a:moveTo>
                <a:lnTo>
                  <a:pt x="23805" y="0"/>
                </a:lnTo>
                <a:lnTo>
                  <a:pt x="22405" y="1400"/>
                </a:lnTo>
                <a:lnTo>
                  <a:pt x="1400" y="1400"/>
                </a:lnTo>
                <a:close/>
              </a:path>
              <a:path fill="darken" w="23805" h="21600">
                <a:moveTo>
                  <a:pt x="23805" y="0"/>
                </a:moveTo>
                <a:lnTo>
                  <a:pt x="23805" y="21600"/>
                </a:lnTo>
                <a:lnTo>
                  <a:pt x="22405" y="20200"/>
                </a:lnTo>
                <a:lnTo>
                  <a:pt x="22405" y="1400"/>
                </a:lnTo>
                <a:close/>
              </a:path>
              <a:path fill="darkenLess" w="23805" h="21600">
                <a:moveTo>
                  <a:pt x="238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405" y="20200"/>
                </a:lnTo>
                <a:close/>
              </a:path>
              <a:path fill="lighten" w="238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805" h="21600">
                <a:moveTo>
                  <a:pt x="4896" y="10800"/>
                </a:moveTo>
                <a:lnTo>
                  <a:pt x="18909" y="3794"/>
                </a:lnTo>
                <a:lnTo>
                  <a:pt x="18909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>
            <a:hlinkClick r:id="rId2" action="ppaction://hlinksldjump"/>
          </p:cNvPr>
          <p:cNvSpPr/>
          <p:nvPr/>
        </p:nvSpPr>
        <p:spPr>
          <a:xfrm>
            <a:off x="8028000" y="5950080"/>
            <a:ext cx="720720" cy="71892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1654" h="21600">
                <a:moveTo>
                  <a:pt x="0" y="0"/>
                </a:moveTo>
                <a:lnTo>
                  <a:pt x="21654" y="0"/>
                </a:lnTo>
                <a:lnTo>
                  <a:pt x="21654" y="21600"/>
                </a:lnTo>
                <a:lnTo>
                  <a:pt x="0" y="21600"/>
                </a:lnTo>
                <a:close/>
              </a:path>
              <a:path fill="lightenLess" w="21654" h="21600">
                <a:moveTo>
                  <a:pt x="0" y="0"/>
                </a:moveTo>
                <a:lnTo>
                  <a:pt x="21654" y="0"/>
                </a:lnTo>
                <a:lnTo>
                  <a:pt x="20254" y="1400"/>
                </a:lnTo>
                <a:lnTo>
                  <a:pt x="1400" y="1400"/>
                </a:lnTo>
                <a:close/>
              </a:path>
              <a:path fill="darken" w="21654" h="21600">
                <a:moveTo>
                  <a:pt x="21654" y="0"/>
                </a:moveTo>
                <a:lnTo>
                  <a:pt x="21654" y="21600"/>
                </a:lnTo>
                <a:lnTo>
                  <a:pt x="20254" y="20200"/>
                </a:lnTo>
                <a:lnTo>
                  <a:pt x="20254" y="1400"/>
                </a:lnTo>
                <a:close/>
              </a:path>
              <a:path fill="darkenLess" w="21654" h="21600">
                <a:moveTo>
                  <a:pt x="216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54" y="20200"/>
                </a:lnTo>
                <a:close/>
              </a:path>
              <a:path fill="lighten" w="216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54" h="21600">
                <a:moveTo>
                  <a:pt x="10827" y="3837"/>
                </a:moveTo>
                <a:lnTo>
                  <a:pt x="13403" y="6448"/>
                </a:lnTo>
                <a:lnTo>
                  <a:pt x="13403" y="4707"/>
                </a:lnTo>
                <a:lnTo>
                  <a:pt x="15179" y="4707"/>
                </a:lnTo>
                <a:lnTo>
                  <a:pt x="15179" y="8224"/>
                </a:lnTo>
                <a:lnTo>
                  <a:pt x="17790" y="10800"/>
                </a:lnTo>
                <a:lnTo>
                  <a:pt x="16136" y="10800"/>
                </a:lnTo>
                <a:lnTo>
                  <a:pt x="16136" y="17989"/>
                </a:lnTo>
                <a:lnTo>
                  <a:pt x="5518" y="17989"/>
                </a:lnTo>
                <a:lnTo>
                  <a:pt x="5518" y="10800"/>
                </a:lnTo>
                <a:lnTo>
                  <a:pt x="3864" y="10800"/>
                </a:lnTo>
                <a:close/>
              </a:path>
              <a:path fill="darkenLess" w="21654" h="21600">
                <a:moveTo>
                  <a:pt x="13403" y="6448"/>
                </a:moveTo>
                <a:lnTo>
                  <a:pt x="13403" y="4707"/>
                </a:lnTo>
                <a:lnTo>
                  <a:pt x="15179" y="4707"/>
                </a:lnTo>
                <a:lnTo>
                  <a:pt x="15179" y="8224"/>
                </a:lnTo>
                <a:close/>
              </a:path>
              <a:path fill="darkenLess" w="21654" h="21600">
                <a:moveTo>
                  <a:pt x="9904" y="14299"/>
                </a:moveTo>
                <a:lnTo>
                  <a:pt x="11750" y="14299"/>
                </a:lnTo>
                <a:lnTo>
                  <a:pt x="11750" y="17989"/>
                </a:lnTo>
                <a:lnTo>
                  <a:pt x="16136" y="17989"/>
                </a:lnTo>
                <a:lnTo>
                  <a:pt x="16136" y="10800"/>
                </a:lnTo>
                <a:lnTo>
                  <a:pt x="5518" y="10800"/>
                </a:lnTo>
                <a:lnTo>
                  <a:pt x="5518" y="17989"/>
                </a:lnTo>
                <a:lnTo>
                  <a:pt x="9904" y="17989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eaeaea"/>
                </a:solidFill>
                <a:latin typeface="Tahoma"/>
              </a:rPr>
              <a:t>Казахстан и ВТО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Процесс вступления Республики Казахстан в ВТО начался 26 января 1996 года, когда Казахстан подал в Секретариат ВТО официальное заявление о вступлении в эту организацию. В феврале того же года Казахстану присвоен статус страны-наблюдателя в ВТО. Одновременно с этим была создана Рабочая группа по вступлению Казахстана в ВТО, в состав которой в настоящее время входят 39 стран - основные торговые партнеры республики (США, ЕС, Канада, Япония, Австралия, Швейцария, Китай, Республика Корея и др.)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 rot="721800">
            <a:off x="5219280" y="2565360"/>
            <a:ext cx="3240000" cy="2448000"/>
          </a:xfrm>
          <a:prstGeom prst="rect">
            <a:avLst/>
          </a:prstGeom>
          <a:ln w="0">
            <a:noFill/>
          </a:ln>
        </p:spPr>
      </p:pic>
      <p:sp>
        <p:nvSpPr>
          <p:cNvPr id="186" name="">
            <a:hlinkClick r:id="" action="ppaction://hlinkshowjump?jump=previousslide"/>
          </p:cNvPr>
          <p:cNvSpPr/>
          <p:nvPr/>
        </p:nvSpPr>
        <p:spPr>
          <a:xfrm>
            <a:off x="7164360" y="5950080"/>
            <a:ext cx="719280" cy="71892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1611" h="21600">
                <a:moveTo>
                  <a:pt x="0" y="0"/>
                </a:moveTo>
                <a:lnTo>
                  <a:pt x="21611" y="0"/>
                </a:lnTo>
                <a:lnTo>
                  <a:pt x="21611" y="21600"/>
                </a:lnTo>
                <a:lnTo>
                  <a:pt x="0" y="21600"/>
                </a:lnTo>
                <a:close/>
              </a:path>
              <a:path fill="lightenLess" w="21611" h="21600">
                <a:moveTo>
                  <a:pt x="0" y="0"/>
                </a:moveTo>
                <a:lnTo>
                  <a:pt x="21611" y="0"/>
                </a:lnTo>
                <a:lnTo>
                  <a:pt x="20211" y="1400"/>
                </a:lnTo>
                <a:lnTo>
                  <a:pt x="1400" y="1400"/>
                </a:lnTo>
                <a:close/>
              </a:path>
              <a:path fill="darken" w="21611" h="21600">
                <a:moveTo>
                  <a:pt x="21611" y="0"/>
                </a:moveTo>
                <a:lnTo>
                  <a:pt x="21611" y="21600"/>
                </a:lnTo>
                <a:lnTo>
                  <a:pt x="20211" y="20200"/>
                </a:lnTo>
                <a:lnTo>
                  <a:pt x="20211" y="1400"/>
                </a:lnTo>
                <a:close/>
              </a:path>
              <a:path fill="darkenLess" w="21611" h="21600">
                <a:moveTo>
                  <a:pt x="216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1" y="20200"/>
                </a:lnTo>
                <a:close/>
              </a:path>
              <a:path fill="lighten" w="216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1" h="21600">
                <a:moveTo>
                  <a:pt x="3799" y="10800"/>
                </a:moveTo>
                <a:lnTo>
                  <a:pt x="17812" y="3794"/>
                </a:lnTo>
                <a:lnTo>
                  <a:pt x="17812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>
            <a:hlinkClick r:id="rId2" action="ppaction://hlinksldjump"/>
          </p:cNvPr>
          <p:cNvSpPr/>
          <p:nvPr/>
        </p:nvSpPr>
        <p:spPr>
          <a:xfrm>
            <a:off x="7956720" y="5950080"/>
            <a:ext cx="718920" cy="718920"/>
          </a:xfrm>
          <a:custGeom>
            <a:avLst/>
            <a:gdLst>
              <a:gd name="textAreaLeft" fmla="*/ 46440 w 718920"/>
              <a:gd name="textAreaRight" fmla="*/ 672480 w 71892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6" dur="8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7" dur="8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8" dur="8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eaeaea"/>
                </a:solidFill>
                <a:latin typeface="Tahoma"/>
              </a:rPr>
              <a:t>Казахстан и ВТО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целях координации процесса вступления в организацию в 1996 году Постановлением Правительства Республики Казахстан была создана Межведомственная комиссия по вопросам ВТО (МВК). В настоящее время она преобразована в МВК по вопросам таможенно-тарифной политики и участия в международных экономических организациях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рамках процесса вступления Казахстана в ВТО переговоры ведутся на многостороннем и двустороннем уровнях по четырем основным направлениям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. переговоры по системным вопросам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. переговоры по вопросам сельского хозяйства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3. переговоры по доступу на рынок товаров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4. переговоры по доступу на рынок услуг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">
            <a:hlinkClick r:id="" action="ppaction://hlinkshowjump?jump=previousslide"/>
          </p:cNvPr>
          <p:cNvSpPr/>
          <p:nvPr/>
        </p:nvSpPr>
        <p:spPr>
          <a:xfrm>
            <a:off x="7093080" y="6021360"/>
            <a:ext cx="718920" cy="647640"/>
          </a:xfrm>
          <a:custGeom>
            <a:avLst/>
            <a:gdLst>
              <a:gd name="textAreaLeft" fmla="*/ 41760 w 718920"/>
              <a:gd name="textAreaRight" fmla="*/ 677160 w 718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3976" h="21600">
                <a:moveTo>
                  <a:pt x="0" y="0"/>
                </a:moveTo>
                <a:lnTo>
                  <a:pt x="23976" y="0"/>
                </a:lnTo>
                <a:lnTo>
                  <a:pt x="23976" y="21600"/>
                </a:lnTo>
                <a:lnTo>
                  <a:pt x="0" y="21600"/>
                </a:lnTo>
                <a:close/>
              </a:path>
              <a:path fill="lightenLess" w="23976" h="21600">
                <a:moveTo>
                  <a:pt x="0" y="0"/>
                </a:moveTo>
                <a:lnTo>
                  <a:pt x="23976" y="0"/>
                </a:lnTo>
                <a:lnTo>
                  <a:pt x="22576" y="1400"/>
                </a:lnTo>
                <a:lnTo>
                  <a:pt x="1400" y="1400"/>
                </a:lnTo>
                <a:close/>
              </a:path>
              <a:path fill="darken" w="23976" h="21600">
                <a:moveTo>
                  <a:pt x="23976" y="0"/>
                </a:moveTo>
                <a:lnTo>
                  <a:pt x="23976" y="21600"/>
                </a:lnTo>
                <a:lnTo>
                  <a:pt x="22576" y="20200"/>
                </a:lnTo>
                <a:lnTo>
                  <a:pt x="22576" y="1400"/>
                </a:lnTo>
                <a:close/>
              </a:path>
              <a:path fill="darkenLess" w="23976" h="21600">
                <a:moveTo>
                  <a:pt x="239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76" y="20200"/>
                </a:lnTo>
                <a:close/>
              </a:path>
              <a:path fill="lighten" w="239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76" h="21600">
                <a:moveTo>
                  <a:pt x="4982" y="10800"/>
                </a:moveTo>
                <a:lnTo>
                  <a:pt x="18994" y="3794"/>
                </a:lnTo>
                <a:lnTo>
                  <a:pt x="18994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885080" y="6021360"/>
            <a:ext cx="719280" cy="647640"/>
          </a:xfrm>
          <a:custGeom>
            <a:avLst/>
            <a:gdLst>
              <a:gd name="textAreaLeft" fmla="*/ 41760 w 719280"/>
              <a:gd name="textAreaRight" fmla="*/ 677520 w 7192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3988" h="21600">
                <a:moveTo>
                  <a:pt x="0" y="0"/>
                </a:moveTo>
                <a:lnTo>
                  <a:pt x="23988" y="0"/>
                </a:lnTo>
                <a:lnTo>
                  <a:pt x="23988" y="21600"/>
                </a:lnTo>
                <a:lnTo>
                  <a:pt x="0" y="21600"/>
                </a:lnTo>
                <a:close/>
              </a:path>
              <a:path fill="lightenLess" w="23988" h="21600">
                <a:moveTo>
                  <a:pt x="0" y="0"/>
                </a:moveTo>
                <a:lnTo>
                  <a:pt x="23988" y="0"/>
                </a:lnTo>
                <a:lnTo>
                  <a:pt x="22588" y="1400"/>
                </a:lnTo>
                <a:lnTo>
                  <a:pt x="1400" y="1400"/>
                </a:lnTo>
                <a:close/>
              </a:path>
              <a:path fill="darken" w="23988" h="21600">
                <a:moveTo>
                  <a:pt x="23988" y="0"/>
                </a:moveTo>
                <a:lnTo>
                  <a:pt x="23988" y="21600"/>
                </a:lnTo>
                <a:lnTo>
                  <a:pt x="22588" y="20200"/>
                </a:lnTo>
                <a:lnTo>
                  <a:pt x="22588" y="1400"/>
                </a:lnTo>
                <a:close/>
              </a:path>
              <a:path fill="darkenLess" w="23988" h="21600">
                <a:moveTo>
                  <a:pt x="239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88" y="20200"/>
                </a:lnTo>
                <a:close/>
              </a:path>
              <a:path fill="lighten" w="239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88" h="21600">
                <a:moveTo>
                  <a:pt x="11994" y="3837"/>
                </a:moveTo>
                <a:lnTo>
                  <a:pt x="14570" y="6448"/>
                </a:lnTo>
                <a:lnTo>
                  <a:pt x="14570" y="4707"/>
                </a:lnTo>
                <a:lnTo>
                  <a:pt x="16346" y="4707"/>
                </a:lnTo>
                <a:lnTo>
                  <a:pt x="16346" y="8224"/>
                </a:lnTo>
                <a:lnTo>
                  <a:pt x="18957" y="10800"/>
                </a:lnTo>
                <a:lnTo>
                  <a:pt x="17303" y="10800"/>
                </a:lnTo>
                <a:lnTo>
                  <a:pt x="17303" y="17989"/>
                </a:lnTo>
                <a:lnTo>
                  <a:pt x="6685" y="17989"/>
                </a:lnTo>
                <a:lnTo>
                  <a:pt x="6685" y="10800"/>
                </a:lnTo>
                <a:lnTo>
                  <a:pt x="5031" y="10800"/>
                </a:lnTo>
                <a:close/>
              </a:path>
              <a:path fill="darkenLess" w="23988" h="21600">
                <a:moveTo>
                  <a:pt x="14570" y="6448"/>
                </a:moveTo>
                <a:lnTo>
                  <a:pt x="14570" y="4707"/>
                </a:lnTo>
                <a:lnTo>
                  <a:pt x="16346" y="4707"/>
                </a:lnTo>
                <a:lnTo>
                  <a:pt x="16346" y="8224"/>
                </a:lnTo>
                <a:close/>
              </a:path>
              <a:path fill="darkenLess" w="23988" h="21600">
                <a:moveTo>
                  <a:pt x="11071" y="14299"/>
                </a:moveTo>
                <a:lnTo>
                  <a:pt x="12917" y="14299"/>
                </a:lnTo>
                <a:lnTo>
                  <a:pt x="12917" y="17989"/>
                </a:lnTo>
                <a:lnTo>
                  <a:pt x="17303" y="17989"/>
                </a:lnTo>
                <a:lnTo>
                  <a:pt x="17303" y="10800"/>
                </a:lnTo>
                <a:lnTo>
                  <a:pt x="6685" y="10800"/>
                </a:lnTo>
                <a:lnTo>
                  <a:pt x="6685" y="17989"/>
                </a:lnTo>
                <a:lnTo>
                  <a:pt x="11071" y="17989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3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8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3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8" dur="5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3" dur="5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8" dur="500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eaeaea"/>
                </a:solidFill>
                <a:latin typeface="Tahoma"/>
              </a:rPr>
              <a:t>Туризм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Казахстан предоставляет практически все существующие виды туризма - познавательный, развлекательный, этнический, экологический, оздоровительный, детский, спортивный, охотничий, конный, приключенчески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 rot="340800">
            <a:off x="4932000" y="2133720"/>
            <a:ext cx="3889440" cy="3265200"/>
          </a:xfrm>
          <a:prstGeom prst="rect">
            <a:avLst/>
          </a:prstGeom>
          <a:ln w="0">
            <a:noFill/>
          </a:ln>
        </p:spPr>
      </p:pic>
      <p:sp>
        <p:nvSpPr>
          <p:cNvPr id="195" name="">
            <a:hlinkClick r:id="" action="ppaction://hlinkshowjump?jump=previousslide"/>
          </p:cNvPr>
          <p:cNvSpPr/>
          <p:nvPr/>
        </p:nvSpPr>
        <p:spPr>
          <a:xfrm>
            <a:off x="7020000" y="5805360"/>
            <a:ext cx="792000" cy="836640"/>
          </a:xfrm>
          <a:custGeom>
            <a:avLst/>
            <a:gdLst>
              <a:gd name="textAreaLeft" fmla="*/ 51120 w 792000"/>
              <a:gd name="textAreaRight" fmla="*/ 740880 w 792000"/>
              <a:gd name="textAreaTop" fmla="*/ 51120 h 836640"/>
              <a:gd name="textAreaBottom" fmla="*/ 785520 h 836640"/>
            </a:gdLst>
            <a:ahLst/>
            <a:rect l="textAreaLeft" t="textAreaTop" r="textAreaRight" b="textAreaBottom"/>
            <a:pathLst>
              <a:path w="21600" h="22817">
                <a:moveTo>
                  <a:pt x="0" y="0"/>
                </a:moveTo>
                <a:lnTo>
                  <a:pt x="21600" y="0"/>
                </a:lnTo>
                <a:lnTo>
                  <a:pt x="21600" y="22817"/>
                </a:lnTo>
                <a:lnTo>
                  <a:pt x="0" y="22817"/>
                </a:lnTo>
                <a:close/>
              </a:path>
              <a:path fill="lightenLess" w="21600" h="2281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817">
                <a:moveTo>
                  <a:pt x="21600" y="0"/>
                </a:moveTo>
                <a:lnTo>
                  <a:pt x="21600" y="22817"/>
                </a:lnTo>
                <a:lnTo>
                  <a:pt x="20200" y="21417"/>
                </a:lnTo>
                <a:lnTo>
                  <a:pt x="20200" y="1400"/>
                </a:lnTo>
                <a:close/>
              </a:path>
              <a:path fill="darkenLess" w="21600" h="22817">
                <a:moveTo>
                  <a:pt x="21600" y="22817"/>
                </a:moveTo>
                <a:lnTo>
                  <a:pt x="0" y="22817"/>
                </a:lnTo>
                <a:lnTo>
                  <a:pt x="1400" y="21417"/>
                </a:lnTo>
                <a:lnTo>
                  <a:pt x="20200" y="21417"/>
                </a:lnTo>
                <a:close/>
              </a:path>
              <a:path fill="lighten" w="21600" h="22817">
                <a:moveTo>
                  <a:pt x="0" y="22817"/>
                </a:moveTo>
                <a:lnTo>
                  <a:pt x="0" y="0"/>
                </a:lnTo>
                <a:lnTo>
                  <a:pt x="1400" y="1400"/>
                </a:lnTo>
                <a:lnTo>
                  <a:pt x="1400" y="21417"/>
                </a:lnTo>
                <a:close/>
              </a:path>
              <a:path fill="darken" w="21600" h="22817">
                <a:moveTo>
                  <a:pt x="3794" y="11408"/>
                </a:moveTo>
                <a:lnTo>
                  <a:pt x="17806" y="4402"/>
                </a:lnTo>
                <a:lnTo>
                  <a:pt x="17806" y="18415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85080" y="5805360"/>
            <a:ext cx="790560" cy="863640"/>
          </a:xfrm>
          <a:custGeom>
            <a:avLst/>
            <a:gdLst>
              <a:gd name="textAreaLeft" fmla="*/ 51120 w 790560"/>
              <a:gd name="textAreaRight" fmla="*/ 739440 w 790560"/>
              <a:gd name="textAreaTop" fmla="*/ 51120 h 863640"/>
              <a:gd name="textAreaBottom" fmla="*/ 812520 h 863640"/>
            </a:gdLst>
            <a:ahLst/>
            <a:rect l="textAreaLeft" t="textAreaTop" r="textAreaRight" b="textAreaBottom"/>
            <a:pathLst>
              <a:path w="21600" h="23596">
                <a:moveTo>
                  <a:pt x="0" y="0"/>
                </a:moveTo>
                <a:lnTo>
                  <a:pt x="21600" y="0"/>
                </a:lnTo>
                <a:lnTo>
                  <a:pt x="21600" y="23596"/>
                </a:lnTo>
                <a:lnTo>
                  <a:pt x="0" y="23596"/>
                </a:lnTo>
                <a:close/>
              </a:path>
              <a:path fill="lightenLess" w="21600" h="2359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96">
                <a:moveTo>
                  <a:pt x="21600" y="0"/>
                </a:moveTo>
                <a:lnTo>
                  <a:pt x="21600" y="23596"/>
                </a:lnTo>
                <a:lnTo>
                  <a:pt x="20200" y="22196"/>
                </a:lnTo>
                <a:lnTo>
                  <a:pt x="20200" y="1400"/>
                </a:lnTo>
                <a:close/>
              </a:path>
              <a:path fill="darkenLess" w="21600" h="23596">
                <a:moveTo>
                  <a:pt x="21600" y="23596"/>
                </a:moveTo>
                <a:lnTo>
                  <a:pt x="0" y="23596"/>
                </a:lnTo>
                <a:lnTo>
                  <a:pt x="1400" y="22196"/>
                </a:lnTo>
                <a:lnTo>
                  <a:pt x="20200" y="22196"/>
                </a:lnTo>
                <a:close/>
              </a:path>
              <a:path fill="lighten" w="21600" h="23596">
                <a:moveTo>
                  <a:pt x="0" y="2359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96"/>
                </a:lnTo>
                <a:close/>
              </a:path>
              <a:path fill="darken" w="21600" h="23596">
                <a:moveTo>
                  <a:pt x="10800" y="4835"/>
                </a:moveTo>
                <a:lnTo>
                  <a:pt x="13376" y="7446"/>
                </a:lnTo>
                <a:lnTo>
                  <a:pt x="13376" y="5705"/>
                </a:lnTo>
                <a:lnTo>
                  <a:pt x="15152" y="5705"/>
                </a:lnTo>
                <a:lnTo>
                  <a:pt x="15152" y="9222"/>
                </a:lnTo>
                <a:lnTo>
                  <a:pt x="17763" y="11798"/>
                </a:lnTo>
                <a:lnTo>
                  <a:pt x="16109" y="11798"/>
                </a:lnTo>
                <a:lnTo>
                  <a:pt x="16109" y="18987"/>
                </a:lnTo>
                <a:lnTo>
                  <a:pt x="5491" y="18987"/>
                </a:lnTo>
                <a:lnTo>
                  <a:pt x="5491" y="11798"/>
                </a:lnTo>
                <a:lnTo>
                  <a:pt x="3837" y="11798"/>
                </a:lnTo>
                <a:close/>
              </a:path>
              <a:path fill="darkenLess" w="21600" h="23596">
                <a:moveTo>
                  <a:pt x="13376" y="7446"/>
                </a:moveTo>
                <a:lnTo>
                  <a:pt x="13376" y="5705"/>
                </a:lnTo>
                <a:lnTo>
                  <a:pt x="15152" y="5705"/>
                </a:lnTo>
                <a:lnTo>
                  <a:pt x="15152" y="9222"/>
                </a:lnTo>
                <a:close/>
              </a:path>
              <a:path fill="darkenLess" w="21600" h="23596">
                <a:moveTo>
                  <a:pt x="9877" y="15297"/>
                </a:moveTo>
                <a:lnTo>
                  <a:pt x="11723" y="15297"/>
                </a:lnTo>
                <a:lnTo>
                  <a:pt x="11723" y="18987"/>
                </a:lnTo>
                <a:lnTo>
                  <a:pt x="16109" y="18987"/>
                </a:lnTo>
                <a:lnTo>
                  <a:pt x="16109" y="11798"/>
                </a:lnTo>
                <a:lnTo>
                  <a:pt x="5491" y="11798"/>
                </a:lnTo>
                <a:lnTo>
                  <a:pt x="5491" y="18987"/>
                </a:lnTo>
                <a:lnTo>
                  <a:pt x="9877" y="18987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9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eaeaea"/>
                </a:solidFill>
                <a:latin typeface="Tahoma"/>
              </a:rPr>
              <a:t>Туризм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914720" y="1981080"/>
            <a:ext cx="369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Южный Казахстан (Алматинская, Жамбылская, Южно-Казахстанская, Кызылординская области) - регион древней истории и культуры с известными памятниками средневекового зодчества (мавзолей Айша-Биби, Карахана, Бабаджи-Хатун в гор.Таразе, комплекс Ходжа Ахмеда Яссави в Туркестане и др.), с уникальными скифскими курганами в Семиречье (Алматинская область). В регионе расположен космодром Байконур. Кроме того, регион располагает уникальными климатическими возможностями для отдыха, лечения, охоты, занятий альпинизмом, горнолыжным и конькобежным спортом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1066680" y="2349360"/>
            <a:ext cx="3792600" cy="2951280"/>
          </a:xfrm>
          <a:prstGeom prst="rect">
            <a:avLst/>
          </a:prstGeom>
          <a:ln w="0">
            <a:noFill/>
          </a:ln>
        </p:spPr>
      </p:pic>
      <p:sp>
        <p:nvSpPr>
          <p:cNvPr id="200" name="">
            <a:hlinkClick r:id="" action="ppaction://hlinkshowjump?jump=previousslide"/>
          </p:cNvPr>
          <p:cNvSpPr/>
          <p:nvPr/>
        </p:nvSpPr>
        <p:spPr>
          <a:xfrm>
            <a:off x="684360" y="5950080"/>
            <a:ext cx="934920" cy="907920"/>
          </a:xfrm>
          <a:custGeom>
            <a:avLst/>
            <a:gdLst>
              <a:gd name="textAreaLeft" fmla="*/ 58680 w 934920"/>
              <a:gd name="textAreaRight" fmla="*/ 876240 w 934920"/>
              <a:gd name="textAreaTop" fmla="*/ 58680 h 907920"/>
              <a:gd name="textAreaBottom" fmla="*/ 849240 h 907920"/>
            </a:gdLst>
            <a:ahLst/>
            <a:rect l="textAreaLeft" t="textAreaTop" r="textAreaRight" b="textAreaBottom"/>
            <a:pathLst>
              <a:path w="22242" h="21600">
                <a:moveTo>
                  <a:pt x="0" y="0"/>
                </a:moveTo>
                <a:lnTo>
                  <a:pt x="22242" y="0"/>
                </a:lnTo>
                <a:lnTo>
                  <a:pt x="22242" y="21600"/>
                </a:lnTo>
                <a:lnTo>
                  <a:pt x="0" y="21600"/>
                </a:lnTo>
                <a:close/>
              </a:path>
              <a:path fill="lightenLess" w="22242" h="21600">
                <a:moveTo>
                  <a:pt x="0" y="0"/>
                </a:moveTo>
                <a:lnTo>
                  <a:pt x="22242" y="0"/>
                </a:lnTo>
                <a:lnTo>
                  <a:pt x="20842" y="1400"/>
                </a:lnTo>
                <a:lnTo>
                  <a:pt x="1400" y="1400"/>
                </a:lnTo>
                <a:close/>
              </a:path>
              <a:path fill="darken" w="22242" h="21600">
                <a:moveTo>
                  <a:pt x="22242" y="0"/>
                </a:moveTo>
                <a:lnTo>
                  <a:pt x="22242" y="21600"/>
                </a:lnTo>
                <a:lnTo>
                  <a:pt x="20842" y="20200"/>
                </a:lnTo>
                <a:lnTo>
                  <a:pt x="20842" y="1400"/>
                </a:lnTo>
                <a:close/>
              </a:path>
              <a:path fill="darkenLess" w="22242" h="21600">
                <a:moveTo>
                  <a:pt x="222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842" y="20200"/>
                </a:lnTo>
                <a:close/>
              </a:path>
              <a:path fill="lighten" w="222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242" h="21600">
                <a:moveTo>
                  <a:pt x="4115" y="10800"/>
                </a:moveTo>
                <a:lnTo>
                  <a:pt x="18128" y="3794"/>
                </a:lnTo>
                <a:lnTo>
                  <a:pt x="18128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692360" y="5950080"/>
            <a:ext cx="936720" cy="907920"/>
          </a:xfrm>
          <a:custGeom>
            <a:avLst/>
            <a:gdLst>
              <a:gd name="textAreaLeft" fmla="*/ 58680 w 936720"/>
              <a:gd name="textAreaRight" fmla="*/ 878040 w 936720"/>
              <a:gd name="textAreaTop" fmla="*/ 58680 h 907920"/>
              <a:gd name="textAreaBottom" fmla="*/ 849240 h 907920"/>
            </a:gdLst>
            <a:ahLst/>
            <a:rect l="textAreaLeft" t="textAreaTop" r="textAreaRight" b="textAreaBottom"/>
            <a:pathLst>
              <a:path w="22285" h="21600">
                <a:moveTo>
                  <a:pt x="0" y="0"/>
                </a:moveTo>
                <a:lnTo>
                  <a:pt x="22285" y="0"/>
                </a:lnTo>
                <a:lnTo>
                  <a:pt x="22285" y="21600"/>
                </a:lnTo>
                <a:lnTo>
                  <a:pt x="0" y="21600"/>
                </a:lnTo>
                <a:close/>
              </a:path>
              <a:path fill="lightenLess" w="22285" h="21600">
                <a:moveTo>
                  <a:pt x="0" y="0"/>
                </a:moveTo>
                <a:lnTo>
                  <a:pt x="22285" y="0"/>
                </a:lnTo>
                <a:lnTo>
                  <a:pt x="20885" y="1400"/>
                </a:lnTo>
                <a:lnTo>
                  <a:pt x="1400" y="1400"/>
                </a:lnTo>
                <a:close/>
              </a:path>
              <a:path fill="darken" w="22285" h="21600">
                <a:moveTo>
                  <a:pt x="22285" y="0"/>
                </a:moveTo>
                <a:lnTo>
                  <a:pt x="22285" y="21600"/>
                </a:lnTo>
                <a:lnTo>
                  <a:pt x="20885" y="20200"/>
                </a:lnTo>
                <a:lnTo>
                  <a:pt x="20885" y="1400"/>
                </a:lnTo>
                <a:close/>
              </a:path>
              <a:path fill="darkenLess" w="22285" h="21600">
                <a:moveTo>
                  <a:pt x="222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885" y="20200"/>
                </a:lnTo>
                <a:close/>
              </a:path>
              <a:path fill="lighten" w="222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285" h="21600">
                <a:moveTo>
                  <a:pt x="11142" y="3837"/>
                </a:moveTo>
                <a:lnTo>
                  <a:pt x="13719" y="6448"/>
                </a:lnTo>
                <a:lnTo>
                  <a:pt x="13719" y="4707"/>
                </a:lnTo>
                <a:lnTo>
                  <a:pt x="15494" y="4707"/>
                </a:lnTo>
                <a:lnTo>
                  <a:pt x="15494" y="8224"/>
                </a:lnTo>
                <a:lnTo>
                  <a:pt x="18105" y="10800"/>
                </a:lnTo>
                <a:lnTo>
                  <a:pt x="16452" y="10800"/>
                </a:lnTo>
                <a:lnTo>
                  <a:pt x="16452" y="17989"/>
                </a:lnTo>
                <a:lnTo>
                  <a:pt x="5833" y="17989"/>
                </a:lnTo>
                <a:lnTo>
                  <a:pt x="5833" y="10800"/>
                </a:lnTo>
                <a:lnTo>
                  <a:pt x="4179" y="10800"/>
                </a:lnTo>
                <a:close/>
              </a:path>
              <a:path fill="darkenLess" w="22285" h="21600">
                <a:moveTo>
                  <a:pt x="13719" y="6448"/>
                </a:moveTo>
                <a:lnTo>
                  <a:pt x="13719" y="4707"/>
                </a:lnTo>
                <a:lnTo>
                  <a:pt x="15494" y="4707"/>
                </a:lnTo>
                <a:lnTo>
                  <a:pt x="15494" y="8224"/>
                </a:lnTo>
                <a:close/>
              </a:path>
              <a:path fill="darkenLess" w="22285" h="21600">
                <a:moveTo>
                  <a:pt x="10220" y="14299"/>
                </a:moveTo>
                <a:lnTo>
                  <a:pt x="12065" y="14299"/>
                </a:lnTo>
                <a:lnTo>
                  <a:pt x="12065" y="17989"/>
                </a:lnTo>
                <a:lnTo>
                  <a:pt x="16452" y="17989"/>
                </a:lnTo>
                <a:lnTo>
                  <a:pt x="16452" y="10800"/>
                </a:lnTo>
                <a:lnTo>
                  <a:pt x="5833" y="10800"/>
                </a:lnTo>
                <a:lnTo>
                  <a:pt x="5833" y="17989"/>
                </a:lnTo>
                <a:lnTo>
                  <a:pt x="10220" y="17989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9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eaeaea"/>
                </a:solidFill>
                <a:latin typeface="Tahoma"/>
              </a:rPr>
              <a:t>Туризм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Западный Казахстан (Актюбинская, Атырауская, Мангистауская области) - расположен на стыке Европейского и Азиатского континентов в бассейне Каспийского моря, Волги, Урала. Здесь находится вторая глубокая точка планеты - впадина Карагие, лежащая на 132 м ниже уровня моря, знаменитые меловые утесы. Имеются богатые охотничьи угодья, условия для любителей рыбной ловли, развития водных видов спорта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 rot="535200">
            <a:off x="4716360" y="1989000"/>
            <a:ext cx="4103640" cy="3435480"/>
          </a:xfrm>
          <a:prstGeom prst="rect">
            <a:avLst/>
          </a:prstGeom>
          <a:ln w="0">
            <a:noFill/>
          </a:ln>
        </p:spPr>
      </p:pic>
      <p:sp>
        <p:nvSpPr>
          <p:cNvPr id="205" name="">
            <a:hlinkClick r:id="" action="ppaction://hlinkshowjump?jump=previousslide"/>
          </p:cNvPr>
          <p:cNvSpPr/>
          <p:nvPr/>
        </p:nvSpPr>
        <p:spPr>
          <a:xfrm>
            <a:off x="6804000" y="5950080"/>
            <a:ext cx="936720" cy="907920"/>
          </a:xfrm>
          <a:custGeom>
            <a:avLst/>
            <a:gdLst>
              <a:gd name="textAreaLeft" fmla="*/ 58680 w 936720"/>
              <a:gd name="textAreaRight" fmla="*/ 878040 w 936720"/>
              <a:gd name="textAreaTop" fmla="*/ 58680 h 907920"/>
              <a:gd name="textAreaBottom" fmla="*/ 849240 h 907920"/>
            </a:gdLst>
            <a:ahLst/>
            <a:rect l="textAreaLeft" t="textAreaTop" r="textAreaRight" b="textAreaBottom"/>
            <a:pathLst>
              <a:path w="22285" h="21600">
                <a:moveTo>
                  <a:pt x="0" y="0"/>
                </a:moveTo>
                <a:lnTo>
                  <a:pt x="22285" y="0"/>
                </a:lnTo>
                <a:lnTo>
                  <a:pt x="22285" y="21600"/>
                </a:lnTo>
                <a:lnTo>
                  <a:pt x="0" y="21600"/>
                </a:lnTo>
                <a:close/>
              </a:path>
              <a:path fill="lightenLess" w="22285" h="21600">
                <a:moveTo>
                  <a:pt x="0" y="0"/>
                </a:moveTo>
                <a:lnTo>
                  <a:pt x="22285" y="0"/>
                </a:lnTo>
                <a:lnTo>
                  <a:pt x="20885" y="1400"/>
                </a:lnTo>
                <a:lnTo>
                  <a:pt x="1400" y="1400"/>
                </a:lnTo>
                <a:close/>
              </a:path>
              <a:path fill="darken" w="22285" h="21600">
                <a:moveTo>
                  <a:pt x="22285" y="0"/>
                </a:moveTo>
                <a:lnTo>
                  <a:pt x="22285" y="21600"/>
                </a:lnTo>
                <a:lnTo>
                  <a:pt x="20885" y="20200"/>
                </a:lnTo>
                <a:lnTo>
                  <a:pt x="20885" y="1400"/>
                </a:lnTo>
                <a:close/>
              </a:path>
              <a:path fill="darkenLess" w="22285" h="21600">
                <a:moveTo>
                  <a:pt x="222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885" y="20200"/>
                </a:lnTo>
                <a:close/>
              </a:path>
              <a:path fill="lighten" w="222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285" h="21600">
                <a:moveTo>
                  <a:pt x="4136" y="10800"/>
                </a:moveTo>
                <a:lnTo>
                  <a:pt x="18149" y="3794"/>
                </a:lnTo>
                <a:lnTo>
                  <a:pt x="18149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885080" y="5950080"/>
            <a:ext cx="934920" cy="907920"/>
          </a:xfrm>
          <a:custGeom>
            <a:avLst/>
            <a:gdLst>
              <a:gd name="textAreaLeft" fmla="*/ 58680 w 934920"/>
              <a:gd name="textAreaRight" fmla="*/ 876240 w 934920"/>
              <a:gd name="textAreaTop" fmla="*/ 58680 h 907920"/>
              <a:gd name="textAreaBottom" fmla="*/ 849240 h 907920"/>
            </a:gdLst>
            <a:ahLst/>
            <a:rect l="textAreaLeft" t="textAreaTop" r="textAreaRight" b="textAreaBottom"/>
            <a:pathLst>
              <a:path w="22242" h="21600">
                <a:moveTo>
                  <a:pt x="0" y="0"/>
                </a:moveTo>
                <a:lnTo>
                  <a:pt x="22242" y="0"/>
                </a:lnTo>
                <a:lnTo>
                  <a:pt x="22242" y="21600"/>
                </a:lnTo>
                <a:lnTo>
                  <a:pt x="0" y="21600"/>
                </a:lnTo>
                <a:close/>
              </a:path>
              <a:path fill="lightenLess" w="22242" h="21600">
                <a:moveTo>
                  <a:pt x="0" y="0"/>
                </a:moveTo>
                <a:lnTo>
                  <a:pt x="22242" y="0"/>
                </a:lnTo>
                <a:lnTo>
                  <a:pt x="20842" y="1400"/>
                </a:lnTo>
                <a:lnTo>
                  <a:pt x="1400" y="1400"/>
                </a:lnTo>
                <a:close/>
              </a:path>
              <a:path fill="darken" w="22242" h="21600">
                <a:moveTo>
                  <a:pt x="22242" y="0"/>
                </a:moveTo>
                <a:lnTo>
                  <a:pt x="22242" y="21600"/>
                </a:lnTo>
                <a:lnTo>
                  <a:pt x="20842" y="20200"/>
                </a:lnTo>
                <a:lnTo>
                  <a:pt x="20842" y="1400"/>
                </a:lnTo>
                <a:close/>
              </a:path>
              <a:path fill="darkenLess" w="22242" h="21600">
                <a:moveTo>
                  <a:pt x="222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842" y="20200"/>
                </a:lnTo>
                <a:close/>
              </a:path>
              <a:path fill="lighten" w="222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242" h="21600">
                <a:moveTo>
                  <a:pt x="11121" y="3837"/>
                </a:moveTo>
                <a:lnTo>
                  <a:pt x="13697" y="6448"/>
                </a:lnTo>
                <a:lnTo>
                  <a:pt x="13697" y="4707"/>
                </a:lnTo>
                <a:lnTo>
                  <a:pt x="15473" y="4707"/>
                </a:lnTo>
                <a:lnTo>
                  <a:pt x="15473" y="8224"/>
                </a:lnTo>
                <a:lnTo>
                  <a:pt x="18084" y="10800"/>
                </a:lnTo>
                <a:lnTo>
                  <a:pt x="16430" y="10800"/>
                </a:lnTo>
                <a:lnTo>
                  <a:pt x="16430" y="17989"/>
                </a:lnTo>
                <a:lnTo>
                  <a:pt x="5812" y="17989"/>
                </a:lnTo>
                <a:lnTo>
                  <a:pt x="5812" y="10800"/>
                </a:lnTo>
                <a:lnTo>
                  <a:pt x="4158" y="10800"/>
                </a:lnTo>
                <a:close/>
              </a:path>
              <a:path fill="darkenLess" w="22242" h="21600">
                <a:moveTo>
                  <a:pt x="13697" y="6448"/>
                </a:moveTo>
                <a:lnTo>
                  <a:pt x="13697" y="4707"/>
                </a:lnTo>
                <a:lnTo>
                  <a:pt x="15473" y="4707"/>
                </a:lnTo>
                <a:lnTo>
                  <a:pt x="15473" y="8224"/>
                </a:lnTo>
                <a:close/>
              </a:path>
              <a:path fill="darkenLess" w="22242" h="21600">
                <a:moveTo>
                  <a:pt x="10198" y="14299"/>
                </a:moveTo>
                <a:lnTo>
                  <a:pt x="12044" y="14299"/>
                </a:lnTo>
                <a:lnTo>
                  <a:pt x="12044" y="17989"/>
                </a:lnTo>
                <a:lnTo>
                  <a:pt x="16430" y="17989"/>
                </a:lnTo>
                <a:lnTo>
                  <a:pt x="16430" y="10800"/>
                </a:lnTo>
                <a:lnTo>
                  <a:pt x="5812" y="10800"/>
                </a:lnTo>
                <a:lnTo>
                  <a:pt x="5812" y="17989"/>
                </a:lnTo>
                <a:lnTo>
                  <a:pt x="10198" y="17989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0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eaeaea"/>
                </a:solidFill>
                <a:latin typeface="Tahoma"/>
              </a:rPr>
              <a:t>Содержание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Геополитическое положение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Экономические район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Цветная металлург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Черная металлург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Машиностроительный комплекс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Транспор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ромышленность строительных материало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ельское хозяйств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нешняя торговл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Инвестиционные возможност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Химическая, нефтедобывающая и нефтехимическая промышленност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Казахстан и ВТ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Туриз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4716360" y="1989000"/>
            <a:ext cx="503280" cy="216000"/>
          </a:xfrm>
          <a:custGeom>
            <a:avLst/>
            <a:gdLst>
              <a:gd name="textAreaLeft" fmla="*/ 13680 w 503280"/>
              <a:gd name="textAreaRight" fmla="*/ 489600 w 503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0280" h="21600">
                <a:moveTo>
                  <a:pt x="0" y="0"/>
                </a:moveTo>
                <a:lnTo>
                  <a:pt x="50280" y="0"/>
                </a:lnTo>
                <a:lnTo>
                  <a:pt x="50280" y="21600"/>
                </a:lnTo>
                <a:lnTo>
                  <a:pt x="0" y="21600"/>
                </a:lnTo>
                <a:close/>
              </a:path>
              <a:path fill="lightenLess" w="50280" h="21600">
                <a:moveTo>
                  <a:pt x="0" y="0"/>
                </a:moveTo>
                <a:lnTo>
                  <a:pt x="50280" y="0"/>
                </a:lnTo>
                <a:lnTo>
                  <a:pt x="48880" y="1400"/>
                </a:lnTo>
                <a:lnTo>
                  <a:pt x="1400" y="1400"/>
                </a:lnTo>
                <a:close/>
              </a:path>
              <a:path fill="darken" w="50280" h="21600">
                <a:moveTo>
                  <a:pt x="50280" y="0"/>
                </a:moveTo>
                <a:lnTo>
                  <a:pt x="50280" y="21600"/>
                </a:lnTo>
                <a:lnTo>
                  <a:pt x="48880" y="20200"/>
                </a:lnTo>
                <a:lnTo>
                  <a:pt x="48880" y="1400"/>
                </a:lnTo>
                <a:close/>
              </a:path>
              <a:path fill="darkenLess" w="50280" h="21600">
                <a:moveTo>
                  <a:pt x="50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880" y="20200"/>
                </a:lnTo>
                <a:close/>
              </a:path>
              <a:path fill="lighten" w="50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280" h="21600">
                <a:moveTo>
                  <a:pt x="2514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50280" h="21600">
                <a:moveTo>
                  <a:pt x="2514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50280" h="21600">
                <a:moveTo>
                  <a:pt x="22564" y="8224"/>
                </a:moveTo>
                <a:lnTo>
                  <a:pt x="26428" y="8224"/>
                </a:lnTo>
                <a:lnTo>
                  <a:pt x="26428" y="15221"/>
                </a:lnTo>
                <a:lnTo>
                  <a:pt x="27716" y="15221"/>
                </a:lnTo>
                <a:lnTo>
                  <a:pt x="27716" y="16144"/>
                </a:lnTo>
                <a:lnTo>
                  <a:pt x="22564" y="16144"/>
                </a:lnTo>
                <a:lnTo>
                  <a:pt x="22564" y="15221"/>
                </a:lnTo>
                <a:lnTo>
                  <a:pt x="23852" y="15221"/>
                </a:lnTo>
                <a:lnTo>
                  <a:pt x="23852" y="9129"/>
                </a:lnTo>
                <a:lnTo>
                  <a:pt x="22564" y="9129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>
            <a:hlinkClick r:id="rId2" action="ppaction://hlinksldjump"/>
          </p:cNvPr>
          <p:cNvSpPr/>
          <p:nvPr/>
        </p:nvSpPr>
        <p:spPr>
          <a:xfrm>
            <a:off x="4140360" y="2276640"/>
            <a:ext cx="504720" cy="215640"/>
          </a:xfrm>
          <a:custGeom>
            <a:avLst/>
            <a:gdLst>
              <a:gd name="textAreaLeft" fmla="*/ 13680 w 504720"/>
              <a:gd name="textAreaRight" fmla="*/ 491040 w 50472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50508" h="21600">
                <a:moveTo>
                  <a:pt x="0" y="0"/>
                </a:moveTo>
                <a:lnTo>
                  <a:pt x="50508" y="0"/>
                </a:lnTo>
                <a:lnTo>
                  <a:pt x="50508" y="21600"/>
                </a:lnTo>
                <a:lnTo>
                  <a:pt x="0" y="21600"/>
                </a:lnTo>
                <a:close/>
              </a:path>
              <a:path fill="lightenLess" w="50508" h="21600">
                <a:moveTo>
                  <a:pt x="0" y="0"/>
                </a:moveTo>
                <a:lnTo>
                  <a:pt x="50508" y="0"/>
                </a:lnTo>
                <a:lnTo>
                  <a:pt x="49108" y="1400"/>
                </a:lnTo>
                <a:lnTo>
                  <a:pt x="1400" y="1400"/>
                </a:lnTo>
                <a:close/>
              </a:path>
              <a:path fill="darken" w="50508" h="21600">
                <a:moveTo>
                  <a:pt x="50508" y="0"/>
                </a:moveTo>
                <a:lnTo>
                  <a:pt x="50508" y="21600"/>
                </a:lnTo>
                <a:lnTo>
                  <a:pt x="49108" y="20200"/>
                </a:lnTo>
                <a:lnTo>
                  <a:pt x="49108" y="1400"/>
                </a:lnTo>
                <a:close/>
              </a:path>
              <a:path fill="darkenLess" w="50508" h="21600">
                <a:moveTo>
                  <a:pt x="505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108" y="20200"/>
                </a:lnTo>
                <a:close/>
              </a:path>
              <a:path fill="lighten" w="505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508" h="21600">
                <a:moveTo>
                  <a:pt x="25254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50508" h="21600">
                <a:moveTo>
                  <a:pt x="25254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50508" h="21600">
                <a:moveTo>
                  <a:pt x="22678" y="8224"/>
                </a:moveTo>
                <a:lnTo>
                  <a:pt x="26542" y="8224"/>
                </a:lnTo>
                <a:lnTo>
                  <a:pt x="26542" y="15221"/>
                </a:lnTo>
                <a:lnTo>
                  <a:pt x="27830" y="15221"/>
                </a:lnTo>
                <a:lnTo>
                  <a:pt x="27830" y="16144"/>
                </a:lnTo>
                <a:lnTo>
                  <a:pt x="22678" y="16144"/>
                </a:lnTo>
                <a:lnTo>
                  <a:pt x="22678" y="15221"/>
                </a:lnTo>
                <a:lnTo>
                  <a:pt x="23966" y="15221"/>
                </a:lnTo>
                <a:lnTo>
                  <a:pt x="23966" y="9129"/>
                </a:lnTo>
                <a:lnTo>
                  <a:pt x="22678" y="9129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3924360" y="2565360"/>
            <a:ext cx="503280" cy="216000"/>
          </a:xfrm>
          <a:custGeom>
            <a:avLst/>
            <a:gdLst>
              <a:gd name="textAreaLeft" fmla="*/ 13680 w 503280"/>
              <a:gd name="textAreaRight" fmla="*/ 489600 w 503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0280" h="21600">
                <a:moveTo>
                  <a:pt x="0" y="0"/>
                </a:moveTo>
                <a:lnTo>
                  <a:pt x="50280" y="0"/>
                </a:lnTo>
                <a:lnTo>
                  <a:pt x="50280" y="21600"/>
                </a:lnTo>
                <a:lnTo>
                  <a:pt x="0" y="21600"/>
                </a:lnTo>
                <a:close/>
              </a:path>
              <a:path fill="lightenLess" w="50280" h="21600">
                <a:moveTo>
                  <a:pt x="0" y="0"/>
                </a:moveTo>
                <a:lnTo>
                  <a:pt x="50280" y="0"/>
                </a:lnTo>
                <a:lnTo>
                  <a:pt x="48880" y="1400"/>
                </a:lnTo>
                <a:lnTo>
                  <a:pt x="1400" y="1400"/>
                </a:lnTo>
                <a:close/>
              </a:path>
              <a:path fill="darken" w="50280" h="21600">
                <a:moveTo>
                  <a:pt x="50280" y="0"/>
                </a:moveTo>
                <a:lnTo>
                  <a:pt x="50280" y="21600"/>
                </a:lnTo>
                <a:lnTo>
                  <a:pt x="48880" y="20200"/>
                </a:lnTo>
                <a:lnTo>
                  <a:pt x="48880" y="1400"/>
                </a:lnTo>
                <a:close/>
              </a:path>
              <a:path fill="darkenLess" w="50280" h="21600">
                <a:moveTo>
                  <a:pt x="50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880" y="20200"/>
                </a:lnTo>
                <a:close/>
              </a:path>
              <a:path fill="lighten" w="50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280" h="21600">
                <a:moveTo>
                  <a:pt x="2514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50280" h="21600">
                <a:moveTo>
                  <a:pt x="2514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50280" h="21600">
                <a:moveTo>
                  <a:pt x="22564" y="8224"/>
                </a:moveTo>
                <a:lnTo>
                  <a:pt x="26428" y="8224"/>
                </a:lnTo>
                <a:lnTo>
                  <a:pt x="26428" y="15221"/>
                </a:lnTo>
                <a:lnTo>
                  <a:pt x="27716" y="15221"/>
                </a:lnTo>
                <a:lnTo>
                  <a:pt x="27716" y="16144"/>
                </a:lnTo>
                <a:lnTo>
                  <a:pt x="22564" y="16144"/>
                </a:lnTo>
                <a:lnTo>
                  <a:pt x="22564" y="15221"/>
                </a:lnTo>
                <a:lnTo>
                  <a:pt x="23852" y="15221"/>
                </a:lnTo>
                <a:lnTo>
                  <a:pt x="23852" y="9129"/>
                </a:lnTo>
                <a:lnTo>
                  <a:pt x="22564" y="9129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3780000" y="2852640"/>
            <a:ext cx="502920" cy="216000"/>
          </a:xfrm>
          <a:custGeom>
            <a:avLst/>
            <a:gdLst>
              <a:gd name="textAreaLeft" fmla="*/ 13680 w 502920"/>
              <a:gd name="textAreaRight" fmla="*/ 489240 w 5029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0244" h="21600">
                <a:moveTo>
                  <a:pt x="0" y="0"/>
                </a:moveTo>
                <a:lnTo>
                  <a:pt x="50244" y="0"/>
                </a:lnTo>
                <a:lnTo>
                  <a:pt x="50244" y="21600"/>
                </a:lnTo>
                <a:lnTo>
                  <a:pt x="0" y="21600"/>
                </a:lnTo>
                <a:close/>
              </a:path>
              <a:path fill="lightenLess" w="50244" h="21600">
                <a:moveTo>
                  <a:pt x="0" y="0"/>
                </a:moveTo>
                <a:lnTo>
                  <a:pt x="50244" y="0"/>
                </a:lnTo>
                <a:lnTo>
                  <a:pt x="48844" y="1400"/>
                </a:lnTo>
                <a:lnTo>
                  <a:pt x="1400" y="1400"/>
                </a:lnTo>
                <a:close/>
              </a:path>
              <a:path fill="darken" w="50244" h="21600">
                <a:moveTo>
                  <a:pt x="50244" y="0"/>
                </a:moveTo>
                <a:lnTo>
                  <a:pt x="50244" y="21600"/>
                </a:lnTo>
                <a:lnTo>
                  <a:pt x="48844" y="20200"/>
                </a:lnTo>
                <a:lnTo>
                  <a:pt x="48844" y="1400"/>
                </a:lnTo>
                <a:close/>
              </a:path>
              <a:path fill="darkenLess" w="50244" h="21600">
                <a:moveTo>
                  <a:pt x="502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844" y="20200"/>
                </a:lnTo>
                <a:close/>
              </a:path>
              <a:path fill="lighten" w="502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244" h="21600">
                <a:moveTo>
                  <a:pt x="25122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50244" h="21600">
                <a:moveTo>
                  <a:pt x="25122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50244" h="21600">
                <a:moveTo>
                  <a:pt x="22546" y="8224"/>
                </a:moveTo>
                <a:lnTo>
                  <a:pt x="26410" y="8224"/>
                </a:lnTo>
                <a:lnTo>
                  <a:pt x="26410" y="15221"/>
                </a:lnTo>
                <a:lnTo>
                  <a:pt x="27698" y="15221"/>
                </a:lnTo>
                <a:lnTo>
                  <a:pt x="27698" y="16144"/>
                </a:lnTo>
                <a:lnTo>
                  <a:pt x="22546" y="16144"/>
                </a:lnTo>
                <a:lnTo>
                  <a:pt x="22546" y="15221"/>
                </a:lnTo>
                <a:lnTo>
                  <a:pt x="23834" y="15221"/>
                </a:lnTo>
                <a:lnTo>
                  <a:pt x="23834" y="9129"/>
                </a:lnTo>
                <a:lnTo>
                  <a:pt x="22546" y="9129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>
            <a:hlinkClick r:id="rId5" action="ppaction://hlinksldjump"/>
          </p:cNvPr>
          <p:cNvSpPr/>
          <p:nvPr/>
        </p:nvSpPr>
        <p:spPr>
          <a:xfrm>
            <a:off x="4932360" y="3068640"/>
            <a:ext cx="503280" cy="216000"/>
          </a:xfrm>
          <a:custGeom>
            <a:avLst/>
            <a:gdLst>
              <a:gd name="textAreaLeft" fmla="*/ 13680 w 503280"/>
              <a:gd name="textAreaRight" fmla="*/ 489600 w 503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0280" h="21600">
                <a:moveTo>
                  <a:pt x="0" y="0"/>
                </a:moveTo>
                <a:lnTo>
                  <a:pt x="50280" y="0"/>
                </a:lnTo>
                <a:lnTo>
                  <a:pt x="50280" y="21600"/>
                </a:lnTo>
                <a:lnTo>
                  <a:pt x="0" y="21600"/>
                </a:lnTo>
                <a:close/>
              </a:path>
              <a:path fill="lightenLess" w="50280" h="21600">
                <a:moveTo>
                  <a:pt x="0" y="0"/>
                </a:moveTo>
                <a:lnTo>
                  <a:pt x="50280" y="0"/>
                </a:lnTo>
                <a:lnTo>
                  <a:pt x="48880" y="1400"/>
                </a:lnTo>
                <a:lnTo>
                  <a:pt x="1400" y="1400"/>
                </a:lnTo>
                <a:close/>
              </a:path>
              <a:path fill="darken" w="50280" h="21600">
                <a:moveTo>
                  <a:pt x="50280" y="0"/>
                </a:moveTo>
                <a:lnTo>
                  <a:pt x="50280" y="21600"/>
                </a:lnTo>
                <a:lnTo>
                  <a:pt x="48880" y="20200"/>
                </a:lnTo>
                <a:lnTo>
                  <a:pt x="48880" y="1400"/>
                </a:lnTo>
                <a:close/>
              </a:path>
              <a:path fill="darkenLess" w="50280" h="21600">
                <a:moveTo>
                  <a:pt x="50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880" y="20200"/>
                </a:lnTo>
                <a:close/>
              </a:path>
              <a:path fill="lighten" w="50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280" h="21600">
                <a:moveTo>
                  <a:pt x="2514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50280" h="21600">
                <a:moveTo>
                  <a:pt x="2514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50280" h="21600">
                <a:moveTo>
                  <a:pt x="22564" y="8224"/>
                </a:moveTo>
                <a:lnTo>
                  <a:pt x="26428" y="8224"/>
                </a:lnTo>
                <a:lnTo>
                  <a:pt x="26428" y="15221"/>
                </a:lnTo>
                <a:lnTo>
                  <a:pt x="27716" y="15221"/>
                </a:lnTo>
                <a:lnTo>
                  <a:pt x="27716" y="16144"/>
                </a:lnTo>
                <a:lnTo>
                  <a:pt x="22564" y="16144"/>
                </a:lnTo>
                <a:lnTo>
                  <a:pt x="22564" y="15221"/>
                </a:lnTo>
                <a:lnTo>
                  <a:pt x="23852" y="15221"/>
                </a:lnTo>
                <a:lnTo>
                  <a:pt x="23852" y="9129"/>
                </a:lnTo>
                <a:lnTo>
                  <a:pt x="22564" y="9129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>
            <a:hlinkClick r:id="rId6" action="ppaction://hlinksldjump"/>
          </p:cNvPr>
          <p:cNvSpPr/>
          <p:nvPr/>
        </p:nvSpPr>
        <p:spPr>
          <a:xfrm>
            <a:off x="2771640" y="3357720"/>
            <a:ext cx="503280" cy="215640"/>
          </a:xfrm>
          <a:custGeom>
            <a:avLst/>
            <a:gdLst>
              <a:gd name="textAreaLeft" fmla="*/ 13680 w 503280"/>
              <a:gd name="textAreaRight" fmla="*/ 489600 w 50328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50364" h="21600">
                <a:moveTo>
                  <a:pt x="0" y="0"/>
                </a:moveTo>
                <a:lnTo>
                  <a:pt x="50364" y="0"/>
                </a:lnTo>
                <a:lnTo>
                  <a:pt x="50364" y="21600"/>
                </a:lnTo>
                <a:lnTo>
                  <a:pt x="0" y="21600"/>
                </a:lnTo>
                <a:close/>
              </a:path>
              <a:path fill="lightenLess" w="50364" h="21600">
                <a:moveTo>
                  <a:pt x="0" y="0"/>
                </a:moveTo>
                <a:lnTo>
                  <a:pt x="50364" y="0"/>
                </a:lnTo>
                <a:lnTo>
                  <a:pt x="48964" y="1400"/>
                </a:lnTo>
                <a:lnTo>
                  <a:pt x="1400" y="1400"/>
                </a:lnTo>
                <a:close/>
              </a:path>
              <a:path fill="darken" w="50364" h="21600">
                <a:moveTo>
                  <a:pt x="50364" y="0"/>
                </a:moveTo>
                <a:lnTo>
                  <a:pt x="50364" y="21600"/>
                </a:lnTo>
                <a:lnTo>
                  <a:pt x="48964" y="20200"/>
                </a:lnTo>
                <a:lnTo>
                  <a:pt x="48964" y="1400"/>
                </a:lnTo>
                <a:close/>
              </a:path>
              <a:path fill="darkenLess" w="50364" h="21600">
                <a:moveTo>
                  <a:pt x="503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64" y="20200"/>
                </a:lnTo>
                <a:close/>
              </a:path>
              <a:path fill="lighten" w="503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364" h="21600">
                <a:moveTo>
                  <a:pt x="25182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50364" h="21600">
                <a:moveTo>
                  <a:pt x="25182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50364" h="21600">
                <a:moveTo>
                  <a:pt x="22606" y="8224"/>
                </a:moveTo>
                <a:lnTo>
                  <a:pt x="26470" y="8224"/>
                </a:lnTo>
                <a:lnTo>
                  <a:pt x="26470" y="15221"/>
                </a:lnTo>
                <a:lnTo>
                  <a:pt x="27758" y="15221"/>
                </a:lnTo>
                <a:lnTo>
                  <a:pt x="27758" y="16144"/>
                </a:lnTo>
                <a:lnTo>
                  <a:pt x="22606" y="16144"/>
                </a:lnTo>
                <a:lnTo>
                  <a:pt x="22606" y="15221"/>
                </a:lnTo>
                <a:lnTo>
                  <a:pt x="23894" y="15221"/>
                </a:lnTo>
                <a:lnTo>
                  <a:pt x="23894" y="9129"/>
                </a:lnTo>
                <a:lnTo>
                  <a:pt x="22606" y="9129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>
            <a:hlinkClick r:id="rId7" action="ppaction://hlinksldjump"/>
          </p:cNvPr>
          <p:cNvSpPr/>
          <p:nvPr/>
        </p:nvSpPr>
        <p:spPr>
          <a:xfrm>
            <a:off x="6300720" y="3645000"/>
            <a:ext cx="503280" cy="215640"/>
          </a:xfrm>
          <a:custGeom>
            <a:avLst/>
            <a:gdLst>
              <a:gd name="textAreaLeft" fmla="*/ 13680 w 503280"/>
              <a:gd name="textAreaRight" fmla="*/ 489600 w 50328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50364" h="21600">
                <a:moveTo>
                  <a:pt x="0" y="0"/>
                </a:moveTo>
                <a:lnTo>
                  <a:pt x="50364" y="0"/>
                </a:lnTo>
                <a:lnTo>
                  <a:pt x="50364" y="21600"/>
                </a:lnTo>
                <a:lnTo>
                  <a:pt x="0" y="21600"/>
                </a:lnTo>
                <a:close/>
              </a:path>
              <a:path fill="lightenLess" w="50364" h="21600">
                <a:moveTo>
                  <a:pt x="0" y="0"/>
                </a:moveTo>
                <a:lnTo>
                  <a:pt x="50364" y="0"/>
                </a:lnTo>
                <a:lnTo>
                  <a:pt x="48964" y="1400"/>
                </a:lnTo>
                <a:lnTo>
                  <a:pt x="1400" y="1400"/>
                </a:lnTo>
                <a:close/>
              </a:path>
              <a:path fill="darken" w="50364" h="21600">
                <a:moveTo>
                  <a:pt x="50364" y="0"/>
                </a:moveTo>
                <a:lnTo>
                  <a:pt x="50364" y="21600"/>
                </a:lnTo>
                <a:lnTo>
                  <a:pt x="48964" y="20200"/>
                </a:lnTo>
                <a:lnTo>
                  <a:pt x="48964" y="1400"/>
                </a:lnTo>
                <a:close/>
              </a:path>
              <a:path fill="darkenLess" w="50364" h="21600">
                <a:moveTo>
                  <a:pt x="503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64" y="20200"/>
                </a:lnTo>
                <a:close/>
              </a:path>
              <a:path fill="lighten" w="503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364" h="21600">
                <a:moveTo>
                  <a:pt x="25182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50364" h="21600">
                <a:moveTo>
                  <a:pt x="25182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50364" h="21600">
                <a:moveTo>
                  <a:pt x="22606" y="8224"/>
                </a:moveTo>
                <a:lnTo>
                  <a:pt x="26470" y="8224"/>
                </a:lnTo>
                <a:lnTo>
                  <a:pt x="26470" y="15221"/>
                </a:lnTo>
                <a:lnTo>
                  <a:pt x="27758" y="15221"/>
                </a:lnTo>
                <a:lnTo>
                  <a:pt x="27758" y="16144"/>
                </a:lnTo>
                <a:lnTo>
                  <a:pt x="22606" y="16144"/>
                </a:lnTo>
                <a:lnTo>
                  <a:pt x="22606" y="15221"/>
                </a:lnTo>
                <a:lnTo>
                  <a:pt x="23894" y="15221"/>
                </a:lnTo>
                <a:lnTo>
                  <a:pt x="23894" y="9129"/>
                </a:lnTo>
                <a:lnTo>
                  <a:pt x="22606" y="9129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>
            <a:hlinkClick r:id="rId8" action="ppaction://hlinksldjump"/>
          </p:cNvPr>
          <p:cNvSpPr/>
          <p:nvPr/>
        </p:nvSpPr>
        <p:spPr>
          <a:xfrm>
            <a:off x="3708360" y="3933720"/>
            <a:ext cx="503280" cy="216000"/>
          </a:xfrm>
          <a:custGeom>
            <a:avLst/>
            <a:gdLst>
              <a:gd name="textAreaLeft" fmla="*/ 13680 w 503280"/>
              <a:gd name="textAreaRight" fmla="*/ 489600 w 503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0280" h="21600">
                <a:moveTo>
                  <a:pt x="0" y="0"/>
                </a:moveTo>
                <a:lnTo>
                  <a:pt x="50280" y="0"/>
                </a:lnTo>
                <a:lnTo>
                  <a:pt x="50280" y="21600"/>
                </a:lnTo>
                <a:lnTo>
                  <a:pt x="0" y="21600"/>
                </a:lnTo>
                <a:close/>
              </a:path>
              <a:path fill="lightenLess" w="50280" h="21600">
                <a:moveTo>
                  <a:pt x="0" y="0"/>
                </a:moveTo>
                <a:lnTo>
                  <a:pt x="50280" y="0"/>
                </a:lnTo>
                <a:lnTo>
                  <a:pt x="48880" y="1400"/>
                </a:lnTo>
                <a:lnTo>
                  <a:pt x="1400" y="1400"/>
                </a:lnTo>
                <a:close/>
              </a:path>
              <a:path fill="darken" w="50280" h="21600">
                <a:moveTo>
                  <a:pt x="50280" y="0"/>
                </a:moveTo>
                <a:lnTo>
                  <a:pt x="50280" y="21600"/>
                </a:lnTo>
                <a:lnTo>
                  <a:pt x="48880" y="20200"/>
                </a:lnTo>
                <a:lnTo>
                  <a:pt x="48880" y="1400"/>
                </a:lnTo>
                <a:close/>
              </a:path>
              <a:path fill="darkenLess" w="50280" h="21600">
                <a:moveTo>
                  <a:pt x="50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880" y="20200"/>
                </a:lnTo>
                <a:close/>
              </a:path>
              <a:path fill="lighten" w="50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280" h="21600">
                <a:moveTo>
                  <a:pt x="2514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50280" h="21600">
                <a:moveTo>
                  <a:pt x="2514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50280" h="21600">
                <a:moveTo>
                  <a:pt x="22564" y="8224"/>
                </a:moveTo>
                <a:lnTo>
                  <a:pt x="26428" y="8224"/>
                </a:lnTo>
                <a:lnTo>
                  <a:pt x="26428" y="15221"/>
                </a:lnTo>
                <a:lnTo>
                  <a:pt x="27716" y="15221"/>
                </a:lnTo>
                <a:lnTo>
                  <a:pt x="27716" y="16144"/>
                </a:lnTo>
                <a:lnTo>
                  <a:pt x="22564" y="16144"/>
                </a:lnTo>
                <a:lnTo>
                  <a:pt x="22564" y="15221"/>
                </a:lnTo>
                <a:lnTo>
                  <a:pt x="23852" y="15221"/>
                </a:lnTo>
                <a:lnTo>
                  <a:pt x="23852" y="9129"/>
                </a:lnTo>
                <a:lnTo>
                  <a:pt x="22564" y="9129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>
            <a:hlinkClick r:id="rId9" action="ppaction://hlinksldjump"/>
          </p:cNvPr>
          <p:cNvSpPr/>
          <p:nvPr/>
        </p:nvSpPr>
        <p:spPr>
          <a:xfrm>
            <a:off x="3564000" y="4221000"/>
            <a:ext cx="503280" cy="216000"/>
          </a:xfrm>
          <a:custGeom>
            <a:avLst/>
            <a:gdLst>
              <a:gd name="textAreaLeft" fmla="*/ 13680 w 503280"/>
              <a:gd name="textAreaRight" fmla="*/ 489600 w 503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0280" h="21600">
                <a:moveTo>
                  <a:pt x="0" y="0"/>
                </a:moveTo>
                <a:lnTo>
                  <a:pt x="50280" y="0"/>
                </a:lnTo>
                <a:lnTo>
                  <a:pt x="50280" y="21600"/>
                </a:lnTo>
                <a:lnTo>
                  <a:pt x="0" y="21600"/>
                </a:lnTo>
                <a:close/>
              </a:path>
              <a:path fill="lightenLess" w="50280" h="21600">
                <a:moveTo>
                  <a:pt x="0" y="0"/>
                </a:moveTo>
                <a:lnTo>
                  <a:pt x="50280" y="0"/>
                </a:lnTo>
                <a:lnTo>
                  <a:pt x="48880" y="1400"/>
                </a:lnTo>
                <a:lnTo>
                  <a:pt x="1400" y="1400"/>
                </a:lnTo>
                <a:close/>
              </a:path>
              <a:path fill="darken" w="50280" h="21600">
                <a:moveTo>
                  <a:pt x="50280" y="0"/>
                </a:moveTo>
                <a:lnTo>
                  <a:pt x="50280" y="21600"/>
                </a:lnTo>
                <a:lnTo>
                  <a:pt x="48880" y="20200"/>
                </a:lnTo>
                <a:lnTo>
                  <a:pt x="48880" y="1400"/>
                </a:lnTo>
                <a:close/>
              </a:path>
              <a:path fill="darkenLess" w="50280" h="21600">
                <a:moveTo>
                  <a:pt x="50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880" y="20200"/>
                </a:lnTo>
                <a:close/>
              </a:path>
              <a:path fill="lighten" w="50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280" h="21600">
                <a:moveTo>
                  <a:pt x="2514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50280" h="21600">
                <a:moveTo>
                  <a:pt x="2514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50280" h="21600">
                <a:moveTo>
                  <a:pt x="22564" y="8224"/>
                </a:moveTo>
                <a:lnTo>
                  <a:pt x="26428" y="8224"/>
                </a:lnTo>
                <a:lnTo>
                  <a:pt x="26428" y="15221"/>
                </a:lnTo>
                <a:lnTo>
                  <a:pt x="27716" y="15221"/>
                </a:lnTo>
                <a:lnTo>
                  <a:pt x="27716" y="16144"/>
                </a:lnTo>
                <a:lnTo>
                  <a:pt x="22564" y="16144"/>
                </a:lnTo>
                <a:lnTo>
                  <a:pt x="22564" y="15221"/>
                </a:lnTo>
                <a:lnTo>
                  <a:pt x="23852" y="15221"/>
                </a:lnTo>
                <a:lnTo>
                  <a:pt x="23852" y="9129"/>
                </a:lnTo>
                <a:lnTo>
                  <a:pt x="22564" y="9129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>
            <a:hlinkClick r:id="rId10" action="ppaction://hlinksldjump"/>
          </p:cNvPr>
          <p:cNvSpPr/>
          <p:nvPr/>
        </p:nvSpPr>
        <p:spPr>
          <a:xfrm>
            <a:off x="4859280" y="4508640"/>
            <a:ext cx="503280" cy="217440"/>
          </a:xfrm>
          <a:custGeom>
            <a:avLst/>
            <a:gdLst>
              <a:gd name="textAreaLeft" fmla="*/ 14040 w 503280"/>
              <a:gd name="textAreaRight" fmla="*/ 489240 w 503280"/>
              <a:gd name="textAreaTop" fmla="*/ 14040 h 217440"/>
              <a:gd name="textAreaBottom" fmla="*/ 203400 h 217440"/>
            </a:gdLst>
            <a:ahLst/>
            <a:rect l="textAreaLeft" t="textAreaTop" r="textAreaRight" b="textAreaBottom"/>
            <a:pathLst>
              <a:path w="49948" h="21600">
                <a:moveTo>
                  <a:pt x="0" y="0"/>
                </a:moveTo>
                <a:lnTo>
                  <a:pt x="49948" y="0"/>
                </a:lnTo>
                <a:lnTo>
                  <a:pt x="49948" y="21600"/>
                </a:lnTo>
                <a:lnTo>
                  <a:pt x="0" y="21600"/>
                </a:lnTo>
                <a:close/>
              </a:path>
              <a:path fill="lightenLess" w="49948" h="21600">
                <a:moveTo>
                  <a:pt x="0" y="0"/>
                </a:moveTo>
                <a:lnTo>
                  <a:pt x="49948" y="0"/>
                </a:lnTo>
                <a:lnTo>
                  <a:pt x="48548" y="1400"/>
                </a:lnTo>
                <a:lnTo>
                  <a:pt x="1400" y="1400"/>
                </a:lnTo>
                <a:close/>
              </a:path>
              <a:path fill="darken" w="49948" h="21600">
                <a:moveTo>
                  <a:pt x="49948" y="0"/>
                </a:moveTo>
                <a:lnTo>
                  <a:pt x="49948" y="21600"/>
                </a:lnTo>
                <a:lnTo>
                  <a:pt x="48548" y="20200"/>
                </a:lnTo>
                <a:lnTo>
                  <a:pt x="48548" y="1400"/>
                </a:lnTo>
                <a:close/>
              </a:path>
              <a:path fill="darkenLess" w="49948" h="21600">
                <a:moveTo>
                  <a:pt x="499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548" y="20200"/>
                </a:lnTo>
                <a:close/>
              </a:path>
              <a:path fill="lighten" w="499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9948" h="21600">
                <a:moveTo>
                  <a:pt x="24974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9948" h="21600">
                <a:moveTo>
                  <a:pt x="24974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9948" h="21600">
                <a:moveTo>
                  <a:pt x="22398" y="8224"/>
                </a:moveTo>
                <a:lnTo>
                  <a:pt x="26262" y="8224"/>
                </a:lnTo>
                <a:lnTo>
                  <a:pt x="26262" y="15221"/>
                </a:lnTo>
                <a:lnTo>
                  <a:pt x="27550" y="15221"/>
                </a:lnTo>
                <a:lnTo>
                  <a:pt x="27550" y="16144"/>
                </a:lnTo>
                <a:lnTo>
                  <a:pt x="22398" y="16144"/>
                </a:lnTo>
                <a:lnTo>
                  <a:pt x="22398" y="15221"/>
                </a:lnTo>
                <a:lnTo>
                  <a:pt x="23686" y="15221"/>
                </a:lnTo>
                <a:lnTo>
                  <a:pt x="23686" y="9129"/>
                </a:lnTo>
                <a:lnTo>
                  <a:pt x="22398" y="9129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>
            <a:hlinkClick r:id="rId11" action="ppaction://hlinksldjump"/>
          </p:cNvPr>
          <p:cNvSpPr/>
          <p:nvPr/>
        </p:nvSpPr>
        <p:spPr>
          <a:xfrm>
            <a:off x="7093080" y="4724280"/>
            <a:ext cx="504720" cy="216000"/>
          </a:xfrm>
          <a:custGeom>
            <a:avLst/>
            <a:gdLst>
              <a:gd name="textAreaLeft" fmla="*/ 13680 w 504720"/>
              <a:gd name="textAreaRight" fmla="*/ 491040 w 5047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0424" h="21600">
                <a:moveTo>
                  <a:pt x="0" y="0"/>
                </a:moveTo>
                <a:lnTo>
                  <a:pt x="50424" y="0"/>
                </a:lnTo>
                <a:lnTo>
                  <a:pt x="50424" y="21600"/>
                </a:lnTo>
                <a:lnTo>
                  <a:pt x="0" y="21600"/>
                </a:lnTo>
                <a:close/>
              </a:path>
              <a:path fill="lightenLess" w="50424" h="21600">
                <a:moveTo>
                  <a:pt x="0" y="0"/>
                </a:moveTo>
                <a:lnTo>
                  <a:pt x="50424" y="0"/>
                </a:lnTo>
                <a:lnTo>
                  <a:pt x="49024" y="1400"/>
                </a:lnTo>
                <a:lnTo>
                  <a:pt x="1400" y="1400"/>
                </a:lnTo>
                <a:close/>
              </a:path>
              <a:path fill="darken" w="50424" h="21600">
                <a:moveTo>
                  <a:pt x="50424" y="0"/>
                </a:moveTo>
                <a:lnTo>
                  <a:pt x="50424" y="21600"/>
                </a:lnTo>
                <a:lnTo>
                  <a:pt x="49024" y="20200"/>
                </a:lnTo>
                <a:lnTo>
                  <a:pt x="49024" y="1400"/>
                </a:lnTo>
                <a:close/>
              </a:path>
              <a:path fill="darkenLess" w="50424" h="21600">
                <a:moveTo>
                  <a:pt x="504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024" y="20200"/>
                </a:lnTo>
                <a:close/>
              </a:path>
              <a:path fill="lighten" w="504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424" h="21600">
                <a:moveTo>
                  <a:pt x="25212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50424" h="21600">
                <a:moveTo>
                  <a:pt x="25212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50424" h="21600">
                <a:moveTo>
                  <a:pt x="22636" y="8224"/>
                </a:moveTo>
                <a:lnTo>
                  <a:pt x="26500" y="8224"/>
                </a:lnTo>
                <a:lnTo>
                  <a:pt x="26500" y="15221"/>
                </a:lnTo>
                <a:lnTo>
                  <a:pt x="27788" y="15221"/>
                </a:lnTo>
                <a:lnTo>
                  <a:pt x="27788" y="16144"/>
                </a:lnTo>
                <a:lnTo>
                  <a:pt x="22636" y="16144"/>
                </a:lnTo>
                <a:lnTo>
                  <a:pt x="22636" y="15221"/>
                </a:lnTo>
                <a:lnTo>
                  <a:pt x="23924" y="15221"/>
                </a:lnTo>
                <a:lnTo>
                  <a:pt x="23924" y="9129"/>
                </a:lnTo>
                <a:lnTo>
                  <a:pt x="22636" y="9129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>
            <a:hlinkClick r:id="rId12" action="ppaction://hlinksldjump"/>
          </p:cNvPr>
          <p:cNvSpPr/>
          <p:nvPr/>
        </p:nvSpPr>
        <p:spPr>
          <a:xfrm>
            <a:off x="3348000" y="5229360"/>
            <a:ext cx="503280" cy="215640"/>
          </a:xfrm>
          <a:custGeom>
            <a:avLst/>
            <a:gdLst>
              <a:gd name="textAreaLeft" fmla="*/ 13680 w 503280"/>
              <a:gd name="textAreaRight" fmla="*/ 489600 w 50328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50364" h="21600">
                <a:moveTo>
                  <a:pt x="0" y="0"/>
                </a:moveTo>
                <a:lnTo>
                  <a:pt x="50364" y="0"/>
                </a:lnTo>
                <a:lnTo>
                  <a:pt x="50364" y="21600"/>
                </a:lnTo>
                <a:lnTo>
                  <a:pt x="0" y="21600"/>
                </a:lnTo>
                <a:close/>
              </a:path>
              <a:path fill="lightenLess" w="50364" h="21600">
                <a:moveTo>
                  <a:pt x="0" y="0"/>
                </a:moveTo>
                <a:lnTo>
                  <a:pt x="50364" y="0"/>
                </a:lnTo>
                <a:lnTo>
                  <a:pt x="48964" y="1400"/>
                </a:lnTo>
                <a:lnTo>
                  <a:pt x="1400" y="1400"/>
                </a:lnTo>
                <a:close/>
              </a:path>
              <a:path fill="darken" w="50364" h="21600">
                <a:moveTo>
                  <a:pt x="50364" y="0"/>
                </a:moveTo>
                <a:lnTo>
                  <a:pt x="50364" y="21600"/>
                </a:lnTo>
                <a:lnTo>
                  <a:pt x="48964" y="20200"/>
                </a:lnTo>
                <a:lnTo>
                  <a:pt x="48964" y="1400"/>
                </a:lnTo>
                <a:close/>
              </a:path>
              <a:path fill="darkenLess" w="50364" h="21600">
                <a:moveTo>
                  <a:pt x="503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64" y="20200"/>
                </a:lnTo>
                <a:close/>
              </a:path>
              <a:path fill="lighten" w="503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364" h="21600">
                <a:moveTo>
                  <a:pt x="25182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50364" h="21600">
                <a:moveTo>
                  <a:pt x="25182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50364" h="21600">
                <a:moveTo>
                  <a:pt x="22606" y="8224"/>
                </a:moveTo>
                <a:lnTo>
                  <a:pt x="26470" y="8224"/>
                </a:lnTo>
                <a:lnTo>
                  <a:pt x="26470" y="15221"/>
                </a:lnTo>
                <a:lnTo>
                  <a:pt x="27758" y="15221"/>
                </a:lnTo>
                <a:lnTo>
                  <a:pt x="27758" y="16144"/>
                </a:lnTo>
                <a:lnTo>
                  <a:pt x="22606" y="16144"/>
                </a:lnTo>
                <a:lnTo>
                  <a:pt x="22606" y="15221"/>
                </a:lnTo>
                <a:lnTo>
                  <a:pt x="23894" y="15221"/>
                </a:lnTo>
                <a:lnTo>
                  <a:pt x="23894" y="9129"/>
                </a:lnTo>
                <a:lnTo>
                  <a:pt x="22606" y="9129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>
            <a:hlinkClick r:id="" action="ppaction://hlinkshowjump?jump=previousslide"/>
          </p:cNvPr>
          <p:cNvSpPr/>
          <p:nvPr/>
        </p:nvSpPr>
        <p:spPr>
          <a:xfrm>
            <a:off x="8244000" y="6237360"/>
            <a:ext cx="720720" cy="503280"/>
          </a:xfrm>
          <a:custGeom>
            <a:avLst/>
            <a:gdLst>
              <a:gd name="textAreaLeft" fmla="*/ 32400 w 720720"/>
              <a:gd name="textAreaRight" fmla="*/ 688320 w 7207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0926" h="21600">
                <a:moveTo>
                  <a:pt x="0" y="0"/>
                </a:moveTo>
                <a:lnTo>
                  <a:pt x="30926" y="0"/>
                </a:lnTo>
                <a:lnTo>
                  <a:pt x="30926" y="21600"/>
                </a:lnTo>
                <a:lnTo>
                  <a:pt x="0" y="21600"/>
                </a:lnTo>
                <a:close/>
              </a:path>
              <a:path fill="lightenLess" w="30926" h="21600">
                <a:moveTo>
                  <a:pt x="0" y="0"/>
                </a:moveTo>
                <a:lnTo>
                  <a:pt x="30926" y="0"/>
                </a:lnTo>
                <a:lnTo>
                  <a:pt x="29526" y="1400"/>
                </a:lnTo>
                <a:lnTo>
                  <a:pt x="1400" y="1400"/>
                </a:lnTo>
                <a:close/>
              </a:path>
              <a:path fill="darken" w="30926" h="21600">
                <a:moveTo>
                  <a:pt x="30926" y="0"/>
                </a:moveTo>
                <a:lnTo>
                  <a:pt x="30926" y="21600"/>
                </a:lnTo>
                <a:lnTo>
                  <a:pt x="29526" y="20200"/>
                </a:lnTo>
                <a:lnTo>
                  <a:pt x="29526" y="1400"/>
                </a:lnTo>
                <a:close/>
              </a:path>
              <a:path fill="darkenLess" w="30926" h="21600">
                <a:moveTo>
                  <a:pt x="309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526" y="20200"/>
                </a:lnTo>
                <a:close/>
              </a:path>
              <a:path fill="lighten" w="309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926" h="21600">
                <a:moveTo>
                  <a:pt x="8456" y="7493"/>
                </a:moveTo>
                <a:lnTo>
                  <a:pt x="11964" y="7493"/>
                </a:lnTo>
                <a:lnTo>
                  <a:pt x="11964" y="12828"/>
                </a:lnTo>
                <a:cubicBezTo>
                  <a:pt x="11964" y="13751"/>
                  <a:pt x="12765" y="14482"/>
                  <a:pt x="13800" y="14482"/>
                </a:cubicBezTo>
                <a:lnTo>
                  <a:pt x="15463" y="14482"/>
                </a:lnTo>
                <a:cubicBezTo>
                  <a:pt x="16498" y="14482"/>
                  <a:pt x="17299" y="13751"/>
                  <a:pt x="17299" y="12828"/>
                </a:cubicBezTo>
                <a:lnTo>
                  <a:pt x="17299" y="7493"/>
                </a:lnTo>
                <a:lnTo>
                  <a:pt x="15463" y="7493"/>
                </a:lnTo>
                <a:lnTo>
                  <a:pt x="18970" y="3985"/>
                </a:lnTo>
                <a:lnTo>
                  <a:pt x="22643" y="7493"/>
                </a:lnTo>
                <a:lnTo>
                  <a:pt x="20807" y="7493"/>
                </a:lnTo>
                <a:lnTo>
                  <a:pt x="20807" y="12828"/>
                </a:lnTo>
                <a:cubicBezTo>
                  <a:pt x="20807" y="15596"/>
                  <a:pt x="18231" y="18155"/>
                  <a:pt x="15463" y="18155"/>
                </a:cubicBezTo>
                <a:lnTo>
                  <a:pt x="13800" y="18155"/>
                </a:lnTo>
                <a:cubicBezTo>
                  <a:pt x="11033" y="18155"/>
                  <a:pt x="8456" y="15596"/>
                  <a:pt x="8456" y="12828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411280" y="5516640"/>
            <a:ext cx="505080" cy="217440"/>
          </a:xfrm>
          <a:custGeom>
            <a:avLst/>
            <a:gdLst>
              <a:gd name="textAreaLeft" fmla="*/ 14040 w 505080"/>
              <a:gd name="textAreaRight" fmla="*/ 491040 w 505080"/>
              <a:gd name="textAreaTop" fmla="*/ 14040 h 217440"/>
              <a:gd name="textAreaBottom" fmla="*/ 203400 h 217440"/>
            </a:gdLst>
            <a:ahLst/>
            <a:rect l="textAreaLeft" t="textAreaTop" r="textAreaRight" b="textAreaBottom"/>
            <a:pathLst>
              <a:path w="50126" h="21600">
                <a:moveTo>
                  <a:pt x="0" y="0"/>
                </a:moveTo>
                <a:lnTo>
                  <a:pt x="50126" y="0"/>
                </a:lnTo>
                <a:lnTo>
                  <a:pt x="50126" y="21600"/>
                </a:lnTo>
                <a:lnTo>
                  <a:pt x="0" y="21600"/>
                </a:lnTo>
                <a:close/>
              </a:path>
              <a:path fill="lightenLess" w="50126" h="21600">
                <a:moveTo>
                  <a:pt x="0" y="0"/>
                </a:moveTo>
                <a:lnTo>
                  <a:pt x="50126" y="0"/>
                </a:lnTo>
                <a:lnTo>
                  <a:pt x="48726" y="1400"/>
                </a:lnTo>
                <a:lnTo>
                  <a:pt x="1400" y="1400"/>
                </a:lnTo>
                <a:close/>
              </a:path>
              <a:path fill="darken" w="50126" h="21600">
                <a:moveTo>
                  <a:pt x="50126" y="0"/>
                </a:moveTo>
                <a:lnTo>
                  <a:pt x="50126" y="21600"/>
                </a:lnTo>
                <a:lnTo>
                  <a:pt x="48726" y="20200"/>
                </a:lnTo>
                <a:lnTo>
                  <a:pt x="48726" y="1400"/>
                </a:lnTo>
                <a:close/>
              </a:path>
              <a:path fill="darkenLess" w="50126" h="21600">
                <a:moveTo>
                  <a:pt x="501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726" y="20200"/>
                </a:lnTo>
                <a:close/>
              </a:path>
              <a:path fill="lighten" w="501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126" h="21600">
                <a:moveTo>
                  <a:pt x="25063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50126" h="21600">
                <a:moveTo>
                  <a:pt x="25063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50126" h="21600">
                <a:moveTo>
                  <a:pt x="22487" y="8224"/>
                </a:moveTo>
                <a:lnTo>
                  <a:pt x="26351" y="8224"/>
                </a:lnTo>
                <a:lnTo>
                  <a:pt x="26351" y="15221"/>
                </a:lnTo>
                <a:lnTo>
                  <a:pt x="27639" y="15221"/>
                </a:lnTo>
                <a:lnTo>
                  <a:pt x="27639" y="16144"/>
                </a:lnTo>
                <a:lnTo>
                  <a:pt x="22487" y="16144"/>
                </a:lnTo>
                <a:lnTo>
                  <a:pt x="22487" y="15221"/>
                </a:lnTo>
                <a:lnTo>
                  <a:pt x="23775" y="15221"/>
                </a:lnTo>
                <a:lnTo>
                  <a:pt x="23775" y="9129"/>
                </a:lnTo>
                <a:lnTo>
                  <a:pt x="22487" y="9129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" dur="5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2" dur="500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7" dur="500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2" dur="500"/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7" dur="500"/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2" dur="500"/>
                                        <p:tgtEl>
                                          <p:spTgt spid="1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eaeaea"/>
                </a:solidFill>
                <a:latin typeface="Tahoma"/>
              </a:rPr>
              <a:t>Туризм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еверный Казахстан - ландшафт, климатические условия региона располагают к различным видам туристского отдыха - автомобильному, велосипедному, водному. Курорты Кокшетау, Баян-аул, Муялды представляют отдых с лечением, заповедники Кургальджино и Наурзум представляют интерес для любителей научного туризм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 rot="352800">
            <a:off x="4915080" y="1988640"/>
            <a:ext cx="3695400" cy="3435480"/>
          </a:xfrm>
          <a:prstGeom prst="rect">
            <a:avLst/>
          </a:prstGeom>
          <a:ln w="0">
            <a:noFill/>
          </a:ln>
        </p:spPr>
      </p:pic>
      <p:sp>
        <p:nvSpPr>
          <p:cNvPr id="210" name="">
            <a:hlinkClick r:id="" action="ppaction://hlinkshowjump?jump=previousslide"/>
          </p:cNvPr>
          <p:cNvSpPr/>
          <p:nvPr/>
        </p:nvSpPr>
        <p:spPr>
          <a:xfrm>
            <a:off x="7020000" y="5950080"/>
            <a:ext cx="934920" cy="907920"/>
          </a:xfrm>
          <a:custGeom>
            <a:avLst/>
            <a:gdLst>
              <a:gd name="textAreaLeft" fmla="*/ 58680 w 934920"/>
              <a:gd name="textAreaRight" fmla="*/ 876240 w 934920"/>
              <a:gd name="textAreaTop" fmla="*/ 58680 h 907920"/>
              <a:gd name="textAreaBottom" fmla="*/ 849240 h 907920"/>
            </a:gdLst>
            <a:ahLst/>
            <a:rect l="textAreaLeft" t="textAreaTop" r="textAreaRight" b="textAreaBottom"/>
            <a:pathLst>
              <a:path w="22242" h="21600">
                <a:moveTo>
                  <a:pt x="0" y="0"/>
                </a:moveTo>
                <a:lnTo>
                  <a:pt x="22242" y="0"/>
                </a:lnTo>
                <a:lnTo>
                  <a:pt x="22242" y="21600"/>
                </a:lnTo>
                <a:lnTo>
                  <a:pt x="0" y="21600"/>
                </a:lnTo>
                <a:close/>
              </a:path>
              <a:path fill="lightenLess" w="22242" h="21600">
                <a:moveTo>
                  <a:pt x="0" y="0"/>
                </a:moveTo>
                <a:lnTo>
                  <a:pt x="22242" y="0"/>
                </a:lnTo>
                <a:lnTo>
                  <a:pt x="20842" y="1400"/>
                </a:lnTo>
                <a:lnTo>
                  <a:pt x="1400" y="1400"/>
                </a:lnTo>
                <a:close/>
              </a:path>
              <a:path fill="darken" w="22242" h="21600">
                <a:moveTo>
                  <a:pt x="22242" y="0"/>
                </a:moveTo>
                <a:lnTo>
                  <a:pt x="22242" y="21600"/>
                </a:lnTo>
                <a:lnTo>
                  <a:pt x="20842" y="20200"/>
                </a:lnTo>
                <a:lnTo>
                  <a:pt x="20842" y="1400"/>
                </a:lnTo>
                <a:close/>
              </a:path>
              <a:path fill="darkenLess" w="22242" h="21600">
                <a:moveTo>
                  <a:pt x="222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842" y="20200"/>
                </a:lnTo>
                <a:close/>
              </a:path>
              <a:path fill="lighten" w="222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242" h="21600">
                <a:moveTo>
                  <a:pt x="4115" y="10800"/>
                </a:moveTo>
                <a:lnTo>
                  <a:pt x="18128" y="3794"/>
                </a:lnTo>
                <a:lnTo>
                  <a:pt x="18128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8172360" y="5950080"/>
            <a:ext cx="971640" cy="907920"/>
          </a:xfrm>
          <a:custGeom>
            <a:avLst/>
            <a:gdLst>
              <a:gd name="textAreaLeft" fmla="*/ 58680 w 971640"/>
              <a:gd name="textAreaRight" fmla="*/ 912960 w 971640"/>
              <a:gd name="textAreaTop" fmla="*/ 58680 h 907920"/>
              <a:gd name="textAreaBottom" fmla="*/ 849240 h 907920"/>
            </a:gdLst>
            <a:ahLst/>
            <a:rect l="textAreaLeft" t="textAreaTop" r="textAreaRight" b="textAreaBottom"/>
            <a:pathLst>
              <a:path w="23115" h="21600">
                <a:moveTo>
                  <a:pt x="0" y="0"/>
                </a:moveTo>
                <a:lnTo>
                  <a:pt x="23115" y="0"/>
                </a:lnTo>
                <a:lnTo>
                  <a:pt x="23115" y="21600"/>
                </a:lnTo>
                <a:lnTo>
                  <a:pt x="0" y="21600"/>
                </a:lnTo>
                <a:close/>
              </a:path>
              <a:path fill="lightenLess" w="23115" h="21600">
                <a:moveTo>
                  <a:pt x="0" y="0"/>
                </a:moveTo>
                <a:lnTo>
                  <a:pt x="23115" y="0"/>
                </a:lnTo>
                <a:lnTo>
                  <a:pt x="21715" y="1400"/>
                </a:lnTo>
                <a:lnTo>
                  <a:pt x="1400" y="1400"/>
                </a:lnTo>
                <a:close/>
              </a:path>
              <a:path fill="darken" w="23115" h="21600">
                <a:moveTo>
                  <a:pt x="23115" y="0"/>
                </a:moveTo>
                <a:lnTo>
                  <a:pt x="23115" y="21600"/>
                </a:lnTo>
                <a:lnTo>
                  <a:pt x="21715" y="20200"/>
                </a:lnTo>
                <a:lnTo>
                  <a:pt x="21715" y="1400"/>
                </a:lnTo>
                <a:close/>
              </a:path>
              <a:path fill="darkenLess" w="23115" h="21600">
                <a:moveTo>
                  <a:pt x="231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715" y="20200"/>
                </a:lnTo>
                <a:close/>
              </a:path>
              <a:path fill="lighten" w="231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115" h="21600">
                <a:moveTo>
                  <a:pt x="11558" y="3837"/>
                </a:moveTo>
                <a:lnTo>
                  <a:pt x="14134" y="6448"/>
                </a:lnTo>
                <a:lnTo>
                  <a:pt x="14134" y="4707"/>
                </a:lnTo>
                <a:lnTo>
                  <a:pt x="15910" y="4707"/>
                </a:lnTo>
                <a:lnTo>
                  <a:pt x="15910" y="8224"/>
                </a:lnTo>
                <a:lnTo>
                  <a:pt x="18521" y="10800"/>
                </a:lnTo>
                <a:lnTo>
                  <a:pt x="16867" y="10800"/>
                </a:lnTo>
                <a:lnTo>
                  <a:pt x="16867" y="17989"/>
                </a:lnTo>
                <a:lnTo>
                  <a:pt x="6248" y="17989"/>
                </a:lnTo>
                <a:lnTo>
                  <a:pt x="6248" y="10800"/>
                </a:lnTo>
                <a:lnTo>
                  <a:pt x="4595" y="10800"/>
                </a:lnTo>
                <a:close/>
              </a:path>
              <a:path fill="darkenLess" w="23115" h="21600">
                <a:moveTo>
                  <a:pt x="14134" y="6448"/>
                </a:moveTo>
                <a:lnTo>
                  <a:pt x="14134" y="4707"/>
                </a:lnTo>
                <a:lnTo>
                  <a:pt x="15910" y="4707"/>
                </a:lnTo>
                <a:lnTo>
                  <a:pt x="15910" y="8224"/>
                </a:lnTo>
                <a:close/>
              </a:path>
              <a:path fill="darkenLess" w="23115" h="21600">
                <a:moveTo>
                  <a:pt x="10635" y="14299"/>
                </a:moveTo>
                <a:lnTo>
                  <a:pt x="12480" y="14299"/>
                </a:lnTo>
                <a:lnTo>
                  <a:pt x="12480" y="17989"/>
                </a:lnTo>
                <a:lnTo>
                  <a:pt x="16867" y="17989"/>
                </a:lnTo>
                <a:lnTo>
                  <a:pt x="16867" y="10800"/>
                </a:lnTo>
                <a:lnTo>
                  <a:pt x="6248" y="10800"/>
                </a:lnTo>
                <a:lnTo>
                  <a:pt x="6248" y="17989"/>
                </a:lnTo>
                <a:lnTo>
                  <a:pt x="10635" y="17989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5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10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eaeaea"/>
                </a:solidFill>
                <a:latin typeface="Tahoma"/>
              </a:rPr>
              <a:t>Туризм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914720" y="1981080"/>
            <a:ext cx="369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Центральном Казахстане (Карагандинская область) расположено одно из самых больших озер мира - озеро Балхаш, уникальный Каркаралинский горно-лесной оазис. В крае много памятных мест, в которых сохранились археологические и этнографические объекты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just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осточный Казахстан - это Алтай и его предгорные лесистые районы, река Иртыш и озера Зайсан, Маркаколь, Алаколь, Саускан. Богаты и разнообразны фауна и флора региона. Семипалатинский регион - родина великого казахского поэта-просветителя Абая Кунанбаева, выдающегося писателя Мухтара Ауэзова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 rot="21223200">
            <a:off x="971280" y="2276280"/>
            <a:ext cx="3671640" cy="3168360"/>
          </a:xfrm>
          <a:prstGeom prst="rect">
            <a:avLst/>
          </a:prstGeom>
          <a:ln w="0">
            <a:noFill/>
          </a:ln>
        </p:spPr>
      </p:pic>
      <p:sp>
        <p:nvSpPr>
          <p:cNvPr id="215" name="">
            <a:hlinkClick r:id="" action="ppaction://hlinkshowjump?jump=previousslide"/>
          </p:cNvPr>
          <p:cNvSpPr/>
          <p:nvPr/>
        </p:nvSpPr>
        <p:spPr>
          <a:xfrm>
            <a:off x="826920" y="5950080"/>
            <a:ext cx="1008360" cy="907920"/>
          </a:xfrm>
          <a:custGeom>
            <a:avLst/>
            <a:gdLst>
              <a:gd name="textAreaLeft" fmla="*/ 58680 w 1008360"/>
              <a:gd name="textAreaRight" fmla="*/ 949680 w 1008360"/>
              <a:gd name="textAreaTop" fmla="*/ 58680 h 907920"/>
              <a:gd name="textAreaBottom" fmla="*/ 849240 h 907920"/>
            </a:gdLst>
            <a:ahLst/>
            <a:rect l="textAreaLeft" t="textAreaTop" r="textAreaRight" b="textAreaBottom"/>
            <a:pathLst>
              <a:path w="23989" h="21600">
                <a:moveTo>
                  <a:pt x="0" y="0"/>
                </a:moveTo>
                <a:lnTo>
                  <a:pt x="23989" y="0"/>
                </a:lnTo>
                <a:lnTo>
                  <a:pt x="23989" y="21600"/>
                </a:lnTo>
                <a:lnTo>
                  <a:pt x="0" y="21600"/>
                </a:lnTo>
                <a:close/>
              </a:path>
              <a:path fill="lightenLess" w="23989" h="21600">
                <a:moveTo>
                  <a:pt x="0" y="0"/>
                </a:moveTo>
                <a:lnTo>
                  <a:pt x="23989" y="0"/>
                </a:lnTo>
                <a:lnTo>
                  <a:pt x="22589" y="1400"/>
                </a:lnTo>
                <a:lnTo>
                  <a:pt x="1400" y="1400"/>
                </a:lnTo>
                <a:close/>
              </a:path>
              <a:path fill="darken" w="23989" h="21600">
                <a:moveTo>
                  <a:pt x="23989" y="0"/>
                </a:moveTo>
                <a:lnTo>
                  <a:pt x="23989" y="21600"/>
                </a:lnTo>
                <a:lnTo>
                  <a:pt x="22589" y="20200"/>
                </a:lnTo>
                <a:lnTo>
                  <a:pt x="22589" y="1400"/>
                </a:lnTo>
                <a:close/>
              </a:path>
              <a:path fill="darkenLess" w="23989" h="21600">
                <a:moveTo>
                  <a:pt x="23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89" y="20200"/>
                </a:lnTo>
                <a:close/>
              </a:path>
              <a:path fill="lighten" w="23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89" h="21600">
                <a:moveTo>
                  <a:pt x="4988" y="10800"/>
                </a:moveTo>
                <a:lnTo>
                  <a:pt x="19001" y="3794"/>
                </a:lnTo>
                <a:lnTo>
                  <a:pt x="19001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979640" y="5950080"/>
            <a:ext cx="936720" cy="907920"/>
          </a:xfrm>
          <a:custGeom>
            <a:avLst/>
            <a:gdLst>
              <a:gd name="textAreaLeft" fmla="*/ 58680 w 936720"/>
              <a:gd name="textAreaRight" fmla="*/ 878040 w 936720"/>
              <a:gd name="textAreaTop" fmla="*/ 58680 h 907920"/>
              <a:gd name="textAreaBottom" fmla="*/ 849240 h 907920"/>
            </a:gdLst>
            <a:ahLst/>
            <a:rect l="textAreaLeft" t="textAreaTop" r="textAreaRight" b="textAreaBottom"/>
            <a:pathLst>
              <a:path w="22285" h="21600">
                <a:moveTo>
                  <a:pt x="0" y="0"/>
                </a:moveTo>
                <a:lnTo>
                  <a:pt x="22285" y="0"/>
                </a:lnTo>
                <a:lnTo>
                  <a:pt x="22285" y="21600"/>
                </a:lnTo>
                <a:lnTo>
                  <a:pt x="0" y="21600"/>
                </a:lnTo>
                <a:close/>
              </a:path>
              <a:path fill="lightenLess" w="22285" h="21600">
                <a:moveTo>
                  <a:pt x="0" y="0"/>
                </a:moveTo>
                <a:lnTo>
                  <a:pt x="22285" y="0"/>
                </a:lnTo>
                <a:lnTo>
                  <a:pt x="20885" y="1400"/>
                </a:lnTo>
                <a:lnTo>
                  <a:pt x="1400" y="1400"/>
                </a:lnTo>
                <a:close/>
              </a:path>
              <a:path fill="darken" w="22285" h="21600">
                <a:moveTo>
                  <a:pt x="22285" y="0"/>
                </a:moveTo>
                <a:lnTo>
                  <a:pt x="22285" y="21600"/>
                </a:lnTo>
                <a:lnTo>
                  <a:pt x="20885" y="20200"/>
                </a:lnTo>
                <a:lnTo>
                  <a:pt x="20885" y="1400"/>
                </a:lnTo>
                <a:close/>
              </a:path>
              <a:path fill="darkenLess" w="22285" h="21600">
                <a:moveTo>
                  <a:pt x="222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885" y="20200"/>
                </a:lnTo>
                <a:close/>
              </a:path>
              <a:path fill="lighten" w="222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285" h="21600">
                <a:moveTo>
                  <a:pt x="11142" y="3837"/>
                </a:moveTo>
                <a:lnTo>
                  <a:pt x="13719" y="6448"/>
                </a:lnTo>
                <a:lnTo>
                  <a:pt x="13719" y="4707"/>
                </a:lnTo>
                <a:lnTo>
                  <a:pt x="15494" y="4707"/>
                </a:lnTo>
                <a:lnTo>
                  <a:pt x="15494" y="8224"/>
                </a:lnTo>
                <a:lnTo>
                  <a:pt x="18105" y="10800"/>
                </a:lnTo>
                <a:lnTo>
                  <a:pt x="16452" y="10800"/>
                </a:lnTo>
                <a:lnTo>
                  <a:pt x="16452" y="17989"/>
                </a:lnTo>
                <a:lnTo>
                  <a:pt x="5833" y="17989"/>
                </a:lnTo>
                <a:lnTo>
                  <a:pt x="5833" y="10800"/>
                </a:lnTo>
                <a:lnTo>
                  <a:pt x="4179" y="10800"/>
                </a:lnTo>
                <a:close/>
              </a:path>
              <a:path fill="darkenLess" w="22285" h="21600">
                <a:moveTo>
                  <a:pt x="13719" y="6448"/>
                </a:moveTo>
                <a:lnTo>
                  <a:pt x="13719" y="4707"/>
                </a:lnTo>
                <a:lnTo>
                  <a:pt x="15494" y="4707"/>
                </a:lnTo>
                <a:lnTo>
                  <a:pt x="15494" y="8224"/>
                </a:lnTo>
                <a:close/>
              </a:path>
              <a:path fill="darkenLess" w="22285" h="21600">
                <a:moveTo>
                  <a:pt x="10220" y="14299"/>
                </a:moveTo>
                <a:lnTo>
                  <a:pt x="12065" y="14299"/>
                </a:lnTo>
                <a:lnTo>
                  <a:pt x="12065" y="17989"/>
                </a:lnTo>
                <a:lnTo>
                  <a:pt x="16452" y="17989"/>
                </a:lnTo>
                <a:lnTo>
                  <a:pt x="16452" y="10800"/>
                </a:lnTo>
                <a:lnTo>
                  <a:pt x="5833" y="10800"/>
                </a:lnTo>
                <a:lnTo>
                  <a:pt x="5833" y="17989"/>
                </a:lnTo>
                <a:lnTo>
                  <a:pt x="10220" y="17989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4" dur="5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eaeaea"/>
                </a:solidFill>
                <a:latin typeface="Tahoma"/>
              </a:rPr>
              <a:t>Геополитическое положение Казахстан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914720" y="1981080"/>
            <a:ext cx="369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азахстан расположен на стыке Европы и Азии, где скрещиваются транспортные и коммуникационные линии, соединяющие Запад и Восток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Учитывая свое положение, Казахстан на международной арене проводит многовекторную политику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 rot="20824200">
            <a:off x="1066680" y="2633760"/>
            <a:ext cx="3695760" cy="2809800"/>
          </a:xfrm>
          <a:prstGeom prst="rect">
            <a:avLst/>
          </a:prstGeom>
          <a:ln w="0">
            <a:noFill/>
          </a:ln>
        </p:spPr>
      </p:pic>
      <p:sp>
        <p:nvSpPr>
          <p:cNvPr id="130" name="">
            <a:hlinkClick r:id="" action="ppaction://hlinkshowjump?jump=previousslide"/>
          </p:cNvPr>
          <p:cNvSpPr/>
          <p:nvPr/>
        </p:nvSpPr>
        <p:spPr>
          <a:xfrm>
            <a:off x="7164360" y="5950080"/>
            <a:ext cx="647640" cy="71892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718920"/>
              <a:gd name="textAreaBottom" fmla="*/ 677160 h 718920"/>
            </a:gdLst>
            <a:ahLst/>
            <a:rect l="textAreaLeft" t="textAreaTop" r="textAreaRight" b="textAreaBottom"/>
            <a:pathLst>
              <a:path w="21600" h="23976">
                <a:moveTo>
                  <a:pt x="0" y="0"/>
                </a:moveTo>
                <a:lnTo>
                  <a:pt x="21600" y="0"/>
                </a:lnTo>
                <a:lnTo>
                  <a:pt x="21600" y="23976"/>
                </a:lnTo>
                <a:lnTo>
                  <a:pt x="0" y="23976"/>
                </a:lnTo>
                <a:close/>
              </a:path>
              <a:path fill="lightenLess" w="21600" h="239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76">
                <a:moveTo>
                  <a:pt x="21600" y="0"/>
                </a:moveTo>
                <a:lnTo>
                  <a:pt x="21600" y="23976"/>
                </a:lnTo>
                <a:lnTo>
                  <a:pt x="20200" y="22576"/>
                </a:lnTo>
                <a:lnTo>
                  <a:pt x="20200" y="1400"/>
                </a:lnTo>
                <a:close/>
              </a:path>
              <a:path fill="darkenLess" w="21600" h="23976">
                <a:moveTo>
                  <a:pt x="21600" y="23976"/>
                </a:moveTo>
                <a:lnTo>
                  <a:pt x="0" y="23976"/>
                </a:lnTo>
                <a:lnTo>
                  <a:pt x="1400" y="22576"/>
                </a:lnTo>
                <a:lnTo>
                  <a:pt x="20200" y="22576"/>
                </a:lnTo>
                <a:close/>
              </a:path>
              <a:path fill="lighten" w="21600" h="23976">
                <a:moveTo>
                  <a:pt x="0" y="239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76"/>
                </a:lnTo>
                <a:close/>
              </a:path>
              <a:path fill="darken" w="21600" h="23976">
                <a:moveTo>
                  <a:pt x="3794" y="11988"/>
                </a:moveTo>
                <a:lnTo>
                  <a:pt x="17806" y="4982"/>
                </a:lnTo>
                <a:lnTo>
                  <a:pt x="17806" y="18994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>
            <a:hlinkClick r:id="rId2" action="ppaction://hlinksldjump"/>
          </p:cNvPr>
          <p:cNvSpPr/>
          <p:nvPr/>
        </p:nvSpPr>
        <p:spPr>
          <a:xfrm>
            <a:off x="7956720" y="5950080"/>
            <a:ext cx="647640" cy="71892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718920"/>
              <a:gd name="textAreaBottom" fmla="*/ 677160 h 718920"/>
            </a:gdLst>
            <a:ahLst/>
            <a:rect l="textAreaLeft" t="textAreaTop" r="textAreaRight" b="textAreaBottom"/>
            <a:pathLst>
              <a:path w="21600" h="23976">
                <a:moveTo>
                  <a:pt x="0" y="0"/>
                </a:moveTo>
                <a:lnTo>
                  <a:pt x="21600" y="0"/>
                </a:lnTo>
                <a:lnTo>
                  <a:pt x="21600" y="23976"/>
                </a:lnTo>
                <a:lnTo>
                  <a:pt x="0" y="23976"/>
                </a:lnTo>
                <a:close/>
              </a:path>
              <a:path fill="lightenLess" w="21600" h="239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76">
                <a:moveTo>
                  <a:pt x="21600" y="0"/>
                </a:moveTo>
                <a:lnTo>
                  <a:pt x="21600" y="23976"/>
                </a:lnTo>
                <a:lnTo>
                  <a:pt x="20200" y="22576"/>
                </a:lnTo>
                <a:lnTo>
                  <a:pt x="20200" y="1400"/>
                </a:lnTo>
                <a:close/>
              </a:path>
              <a:path fill="darkenLess" w="21600" h="23976">
                <a:moveTo>
                  <a:pt x="21600" y="23976"/>
                </a:moveTo>
                <a:lnTo>
                  <a:pt x="0" y="23976"/>
                </a:lnTo>
                <a:lnTo>
                  <a:pt x="1400" y="22576"/>
                </a:lnTo>
                <a:lnTo>
                  <a:pt x="20200" y="22576"/>
                </a:lnTo>
                <a:close/>
              </a:path>
              <a:path fill="lighten" w="21600" h="23976">
                <a:moveTo>
                  <a:pt x="0" y="239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76"/>
                </a:lnTo>
                <a:close/>
              </a:path>
              <a:path fill="darken" w="21600" h="23976">
                <a:moveTo>
                  <a:pt x="10800" y="5025"/>
                </a:moveTo>
                <a:lnTo>
                  <a:pt x="13376" y="7636"/>
                </a:lnTo>
                <a:lnTo>
                  <a:pt x="13376" y="5895"/>
                </a:lnTo>
                <a:lnTo>
                  <a:pt x="15152" y="5895"/>
                </a:lnTo>
                <a:lnTo>
                  <a:pt x="15152" y="9412"/>
                </a:lnTo>
                <a:lnTo>
                  <a:pt x="17763" y="11988"/>
                </a:lnTo>
                <a:lnTo>
                  <a:pt x="16109" y="11988"/>
                </a:lnTo>
                <a:lnTo>
                  <a:pt x="16109" y="19177"/>
                </a:lnTo>
                <a:lnTo>
                  <a:pt x="5491" y="19177"/>
                </a:lnTo>
                <a:lnTo>
                  <a:pt x="5491" y="11988"/>
                </a:lnTo>
                <a:lnTo>
                  <a:pt x="3837" y="11988"/>
                </a:lnTo>
                <a:close/>
              </a:path>
              <a:path fill="darkenLess" w="21600" h="23976">
                <a:moveTo>
                  <a:pt x="13376" y="7636"/>
                </a:moveTo>
                <a:lnTo>
                  <a:pt x="13376" y="5895"/>
                </a:lnTo>
                <a:lnTo>
                  <a:pt x="15152" y="5895"/>
                </a:lnTo>
                <a:lnTo>
                  <a:pt x="15152" y="9412"/>
                </a:lnTo>
                <a:close/>
              </a:path>
              <a:path fill="darkenLess" w="21600" h="23976">
                <a:moveTo>
                  <a:pt x="9877" y="15487"/>
                </a:moveTo>
                <a:lnTo>
                  <a:pt x="11723" y="15487"/>
                </a:lnTo>
                <a:lnTo>
                  <a:pt x="11723" y="19177"/>
                </a:lnTo>
                <a:lnTo>
                  <a:pt x="16109" y="19177"/>
                </a:lnTo>
                <a:lnTo>
                  <a:pt x="16109" y="11988"/>
                </a:lnTo>
                <a:lnTo>
                  <a:pt x="5491" y="11988"/>
                </a:lnTo>
                <a:lnTo>
                  <a:pt x="5491" y="19177"/>
                </a:lnTo>
                <a:lnTo>
                  <a:pt x="9877" y="19177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3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eaeaea"/>
                </a:solidFill>
                <a:latin typeface="Tahoma"/>
              </a:rPr>
              <a:t>Экономические районы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411280" y="1700280"/>
            <a:ext cx="4392720" cy="19447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3860280"/>
            <a:ext cx="7543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. На Севере развиты зерновое хозяйство, добыча железной руды и каменного угля, машиностроение, производство нефтепродуктов и ферросплавов, энергетика. В Восточном Казахстане преобладают цветная металлургия, энергетика, машиностроение и лесное хозяйство. Западный Казахстан - крупнейший нефтегазодобывающий регион не только Казахстана, но и СНГ. Основные отрасли хозяйства Центрального Казахстана - черная и цветная металлургия, машиностроение, животноводство. В Южном Казахстане производятся хлопок, рис, шерсть, зерно, фрукты, овощи, виноград; развиты цветная металлургия, приборостроение, легкая и пищевая промышленность, рыбное и лесное хозяйство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">
            <a:hlinkClick r:id="" action="ppaction://hlinkshowjump?jump=previousslide"/>
          </p:cNvPr>
          <p:cNvSpPr/>
          <p:nvPr/>
        </p:nvSpPr>
        <p:spPr>
          <a:xfrm>
            <a:off x="7308720" y="6093000"/>
            <a:ext cx="720720" cy="76500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65000"/>
              <a:gd name="textAreaBottom" fmla="*/ 718560 h 765000"/>
            </a:gdLst>
            <a:ahLst/>
            <a:rect l="textAreaLeft" t="textAreaTop" r="textAreaRight" b="textAreaBottom"/>
            <a:pathLst>
              <a:path w="21600" h="22926">
                <a:moveTo>
                  <a:pt x="0" y="0"/>
                </a:moveTo>
                <a:lnTo>
                  <a:pt x="21600" y="0"/>
                </a:lnTo>
                <a:lnTo>
                  <a:pt x="21600" y="22926"/>
                </a:lnTo>
                <a:lnTo>
                  <a:pt x="0" y="22926"/>
                </a:lnTo>
                <a:close/>
              </a:path>
              <a:path fill="lightenLess" w="21600" h="229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926">
                <a:moveTo>
                  <a:pt x="21600" y="0"/>
                </a:moveTo>
                <a:lnTo>
                  <a:pt x="21600" y="22926"/>
                </a:lnTo>
                <a:lnTo>
                  <a:pt x="20200" y="21526"/>
                </a:lnTo>
                <a:lnTo>
                  <a:pt x="20200" y="1400"/>
                </a:lnTo>
                <a:close/>
              </a:path>
              <a:path fill="darkenLess" w="21600" h="22926">
                <a:moveTo>
                  <a:pt x="21600" y="22926"/>
                </a:moveTo>
                <a:lnTo>
                  <a:pt x="0" y="22926"/>
                </a:lnTo>
                <a:lnTo>
                  <a:pt x="1400" y="21526"/>
                </a:lnTo>
                <a:lnTo>
                  <a:pt x="20200" y="21526"/>
                </a:lnTo>
                <a:close/>
              </a:path>
              <a:path fill="lighten" w="21600" h="22926">
                <a:moveTo>
                  <a:pt x="0" y="229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1526"/>
                </a:lnTo>
                <a:close/>
              </a:path>
              <a:path fill="darken" w="21600" h="22926">
                <a:moveTo>
                  <a:pt x="3794" y="11463"/>
                </a:moveTo>
                <a:lnTo>
                  <a:pt x="17806" y="4457"/>
                </a:lnTo>
                <a:lnTo>
                  <a:pt x="17806" y="18470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>
            <a:hlinkClick r:id="rId2" action="ppaction://hlinksldjump"/>
          </p:cNvPr>
          <p:cNvSpPr/>
          <p:nvPr/>
        </p:nvSpPr>
        <p:spPr>
          <a:xfrm>
            <a:off x="8101080" y="6093000"/>
            <a:ext cx="718920" cy="765000"/>
          </a:xfrm>
          <a:custGeom>
            <a:avLst/>
            <a:gdLst>
              <a:gd name="textAreaLeft" fmla="*/ 46440 w 718920"/>
              <a:gd name="textAreaRight" fmla="*/ 672480 w 718920"/>
              <a:gd name="textAreaTop" fmla="*/ 46440 h 765000"/>
              <a:gd name="textAreaBottom" fmla="*/ 718560 h 765000"/>
            </a:gdLst>
            <a:ahLst/>
            <a:rect l="textAreaLeft" t="textAreaTop" r="textAreaRight" b="textAreaBottom"/>
            <a:pathLst>
              <a:path w="21600" h="22984">
                <a:moveTo>
                  <a:pt x="0" y="0"/>
                </a:moveTo>
                <a:lnTo>
                  <a:pt x="21600" y="0"/>
                </a:lnTo>
                <a:lnTo>
                  <a:pt x="21600" y="22984"/>
                </a:lnTo>
                <a:lnTo>
                  <a:pt x="0" y="22984"/>
                </a:lnTo>
                <a:close/>
              </a:path>
              <a:path fill="lightenLess" w="21600" h="2298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984">
                <a:moveTo>
                  <a:pt x="21600" y="0"/>
                </a:moveTo>
                <a:lnTo>
                  <a:pt x="21600" y="22984"/>
                </a:lnTo>
                <a:lnTo>
                  <a:pt x="20200" y="21584"/>
                </a:lnTo>
                <a:lnTo>
                  <a:pt x="20200" y="1400"/>
                </a:lnTo>
                <a:close/>
              </a:path>
              <a:path fill="darkenLess" w="21600" h="22984">
                <a:moveTo>
                  <a:pt x="21600" y="22984"/>
                </a:moveTo>
                <a:lnTo>
                  <a:pt x="0" y="22984"/>
                </a:lnTo>
                <a:lnTo>
                  <a:pt x="1400" y="21584"/>
                </a:lnTo>
                <a:lnTo>
                  <a:pt x="20200" y="21584"/>
                </a:lnTo>
                <a:close/>
              </a:path>
              <a:path fill="lighten" w="21600" h="22984">
                <a:moveTo>
                  <a:pt x="0" y="22984"/>
                </a:moveTo>
                <a:lnTo>
                  <a:pt x="0" y="0"/>
                </a:lnTo>
                <a:lnTo>
                  <a:pt x="1400" y="1400"/>
                </a:lnTo>
                <a:lnTo>
                  <a:pt x="1400" y="21584"/>
                </a:lnTo>
                <a:close/>
              </a:path>
              <a:path fill="darken" w="21600" h="22984">
                <a:moveTo>
                  <a:pt x="10800" y="4529"/>
                </a:moveTo>
                <a:lnTo>
                  <a:pt x="13376" y="7140"/>
                </a:lnTo>
                <a:lnTo>
                  <a:pt x="13376" y="5399"/>
                </a:lnTo>
                <a:lnTo>
                  <a:pt x="15152" y="5399"/>
                </a:lnTo>
                <a:lnTo>
                  <a:pt x="15152" y="8916"/>
                </a:lnTo>
                <a:lnTo>
                  <a:pt x="17763" y="11492"/>
                </a:lnTo>
                <a:lnTo>
                  <a:pt x="16109" y="11492"/>
                </a:lnTo>
                <a:lnTo>
                  <a:pt x="16109" y="18681"/>
                </a:lnTo>
                <a:lnTo>
                  <a:pt x="5491" y="18681"/>
                </a:lnTo>
                <a:lnTo>
                  <a:pt x="5491" y="11492"/>
                </a:lnTo>
                <a:lnTo>
                  <a:pt x="3837" y="11492"/>
                </a:lnTo>
                <a:close/>
              </a:path>
              <a:path fill="darkenLess" w="21600" h="22984">
                <a:moveTo>
                  <a:pt x="13376" y="7140"/>
                </a:moveTo>
                <a:lnTo>
                  <a:pt x="13376" y="5399"/>
                </a:lnTo>
                <a:lnTo>
                  <a:pt x="15152" y="5399"/>
                </a:lnTo>
                <a:lnTo>
                  <a:pt x="15152" y="8916"/>
                </a:lnTo>
                <a:close/>
              </a:path>
              <a:path fill="darkenLess" w="21600" h="22984">
                <a:moveTo>
                  <a:pt x="9877" y="14991"/>
                </a:moveTo>
                <a:lnTo>
                  <a:pt x="11723" y="14991"/>
                </a:lnTo>
                <a:lnTo>
                  <a:pt x="11723" y="18681"/>
                </a:lnTo>
                <a:lnTo>
                  <a:pt x="16109" y="18681"/>
                </a:lnTo>
                <a:lnTo>
                  <a:pt x="16109" y="11492"/>
                </a:lnTo>
                <a:lnTo>
                  <a:pt x="5491" y="11492"/>
                </a:lnTo>
                <a:lnTo>
                  <a:pt x="5491" y="18681"/>
                </a:lnTo>
                <a:lnTo>
                  <a:pt x="9877" y="18681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8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eaeaea"/>
                </a:solidFill>
                <a:latin typeface="Tahoma"/>
              </a:rPr>
              <a:t>Цветная металлургия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Удельный вес цветной металлургии в общем объеме промышленного производства превышает 12%. Из извлекаемых руд производятся медь, свинец, цинк, титан, магний, редкие и редкоземельные металлы, прокат на основе меди, свинца и т.д. По уровню производства Казахстан входит в число крупных в мире производителей и экспортеров рафинированной меди. Доля республики в мировом производстве меди составляет 2,3%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Казахстан является третьим среди новых независимых государств, производителем золота, добыча и производство которого увеличивается с каждым годом. В стране зарегистрировано свыше 170 золотоносных месторождений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 rot="523200">
            <a:off x="5579640" y="1916280"/>
            <a:ext cx="2808360" cy="3743280"/>
          </a:xfrm>
          <a:prstGeom prst="rect">
            <a:avLst/>
          </a:prstGeom>
          <a:ln w="0">
            <a:noFill/>
          </a:ln>
        </p:spPr>
      </p:pic>
      <p:sp>
        <p:nvSpPr>
          <p:cNvPr id="140" name="">
            <a:hlinkClick r:id="" action="ppaction://hlinkshowjump?jump=previousslide"/>
          </p:cNvPr>
          <p:cNvSpPr/>
          <p:nvPr/>
        </p:nvSpPr>
        <p:spPr>
          <a:xfrm>
            <a:off x="7308720" y="6093000"/>
            <a:ext cx="719280" cy="76500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765000"/>
              <a:gd name="textAreaBottom" fmla="*/ 718560 h 765000"/>
            </a:gdLst>
            <a:ahLst/>
            <a:rect l="textAreaLeft" t="textAreaTop" r="textAreaRight" b="textAreaBottom"/>
            <a:pathLst>
              <a:path w="21600" h="22972">
                <a:moveTo>
                  <a:pt x="0" y="0"/>
                </a:moveTo>
                <a:lnTo>
                  <a:pt x="21600" y="0"/>
                </a:lnTo>
                <a:lnTo>
                  <a:pt x="21600" y="22972"/>
                </a:lnTo>
                <a:lnTo>
                  <a:pt x="0" y="22972"/>
                </a:lnTo>
                <a:close/>
              </a:path>
              <a:path fill="lightenLess" w="21600" h="2297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972">
                <a:moveTo>
                  <a:pt x="21600" y="0"/>
                </a:moveTo>
                <a:lnTo>
                  <a:pt x="21600" y="22972"/>
                </a:lnTo>
                <a:lnTo>
                  <a:pt x="20200" y="21572"/>
                </a:lnTo>
                <a:lnTo>
                  <a:pt x="20200" y="1400"/>
                </a:lnTo>
                <a:close/>
              </a:path>
              <a:path fill="darkenLess" w="21600" h="22972">
                <a:moveTo>
                  <a:pt x="21600" y="22972"/>
                </a:moveTo>
                <a:lnTo>
                  <a:pt x="0" y="22972"/>
                </a:lnTo>
                <a:lnTo>
                  <a:pt x="1400" y="21572"/>
                </a:lnTo>
                <a:lnTo>
                  <a:pt x="20200" y="21572"/>
                </a:lnTo>
                <a:close/>
              </a:path>
              <a:path fill="lighten" w="21600" h="22972">
                <a:moveTo>
                  <a:pt x="0" y="22972"/>
                </a:moveTo>
                <a:lnTo>
                  <a:pt x="0" y="0"/>
                </a:lnTo>
                <a:lnTo>
                  <a:pt x="1400" y="1400"/>
                </a:lnTo>
                <a:lnTo>
                  <a:pt x="1400" y="21572"/>
                </a:lnTo>
                <a:close/>
              </a:path>
              <a:path fill="darken" w="21600" h="22972">
                <a:moveTo>
                  <a:pt x="3794" y="11486"/>
                </a:moveTo>
                <a:lnTo>
                  <a:pt x="17806" y="4480"/>
                </a:lnTo>
                <a:lnTo>
                  <a:pt x="17806" y="18493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>
            <a:hlinkClick r:id="rId2" action="ppaction://hlinksldjump"/>
          </p:cNvPr>
          <p:cNvSpPr/>
          <p:nvPr/>
        </p:nvSpPr>
        <p:spPr>
          <a:xfrm>
            <a:off x="8101080" y="6093000"/>
            <a:ext cx="792000" cy="765000"/>
          </a:xfrm>
          <a:custGeom>
            <a:avLst/>
            <a:gdLst>
              <a:gd name="textAreaLeft" fmla="*/ 49320 w 792000"/>
              <a:gd name="textAreaRight" fmla="*/ 742680 w 79200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22362" h="21600">
                <a:moveTo>
                  <a:pt x="0" y="0"/>
                </a:moveTo>
                <a:lnTo>
                  <a:pt x="22362" y="0"/>
                </a:lnTo>
                <a:lnTo>
                  <a:pt x="22362" y="21600"/>
                </a:lnTo>
                <a:lnTo>
                  <a:pt x="0" y="21600"/>
                </a:lnTo>
                <a:close/>
              </a:path>
              <a:path fill="lightenLess" w="22362" h="21600">
                <a:moveTo>
                  <a:pt x="0" y="0"/>
                </a:moveTo>
                <a:lnTo>
                  <a:pt x="22362" y="0"/>
                </a:lnTo>
                <a:lnTo>
                  <a:pt x="20962" y="1400"/>
                </a:lnTo>
                <a:lnTo>
                  <a:pt x="1400" y="1400"/>
                </a:lnTo>
                <a:close/>
              </a:path>
              <a:path fill="darken" w="22362" h="21600">
                <a:moveTo>
                  <a:pt x="22362" y="0"/>
                </a:moveTo>
                <a:lnTo>
                  <a:pt x="22362" y="21600"/>
                </a:lnTo>
                <a:lnTo>
                  <a:pt x="20962" y="20200"/>
                </a:lnTo>
                <a:lnTo>
                  <a:pt x="20962" y="1400"/>
                </a:lnTo>
                <a:close/>
              </a:path>
              <a:path fill="darkenLess" w="22362" h="21600">
                <a:moveTo>
                  <a:pt x="223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62" y="20200"/>
                </a:lnTo>
                <a:close/>
              </a:path>
              <a:path fill="lighten" w="223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362" h="21600">
                <a:moveTo>
                  <a:pt x="11181" y="3837"/>
                </a:moveTo>
                <a:lnTo>
                  <a:pt x="13757" y="6448"/>
                </a:lnTo>
                <a:lnTo>
                  <a:pt x="13757" y="4707"/>
                </a:lnTo>
                <a:lnTo>
                  <a:pt x="15533" y="4707"/>
                </a:lnTo>
                <a:lnTo>
                  <a:pt x="15533" y="8224"/>
                </a:lnTo>
                <a:lnTo>
                  <a:pt x="18144" y="10800"/>
                </a:lnTo>
                <a:lnTo>
                  <a:pt x="16490" y="10800"/>
                </a:lnTo>
                <a:lnTo>
                  <a:pt x="16490" y="17989"/>
                </a:lnTo>
                <a:lnTo>
                  <a:pt x="5872" y="17989"/>
                </a:lnTo>
                <a:lnTo>
                  <a:pt x="5872" y="10800"/>
                </a:lnTo>
                <a:lnTo>
                  <a:pt x="4218" y="10800"/>
                </a:lnTo>
                <a:close/>
              </a:path>
              <a:path fill="darkenLess" w="22362" h="21600">
                <a:moveTo>
                  <a:pt x="13757" y="6448"/>
                </a:moveTo>
                <a:lnTo>
                  <a:pt x="13757" y="4707"/>
                </a:lnTo>
                <a:lnTo>
                  <a:pt x="15533" y="4707"/>
                </a:lnTo>
                <a:lnTo>
                  <a:pt x="15533" y="8224"/>
                </a:lnTo>
                <a:close/>
              </a:path>
              <a:path fill="darkenLess" w="22362" h="21600">
                <a:moveTo>
                  <a:pt x="10258" y="14299"/>
                </a:moveTo>
                <a:lnTo>
                  <a:pt x="12104" y="14299"/>
                </a:lnTo>
                <a:lnTo>
                  <a:pt x="12104" y="17989"/>
                </a:lnTo>
                <a:lnTo>
                  <a:pt x="16490" y="17989"/>
                </a:lnTo>
                <a:lnTo>
                  <a:pt x="16490" y="10800"/>
                </a:lnTo>
                <a:lnTo>
                  <a:pt x="5872" y="10800"/>
                </a:lnTo>
                <a:lnTo>
                  <a:pt x="5872" y="17989"/>
                </a:lnTo>
                <a:lnTo>
                  <a:pt x="10258" y="17989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eaeaea"/>
                </a:solidFill>
                <a:latin typeface="Tahoma"/>
              </a:rPr>
              <a:t>Черная металлургия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 запасам железной руды Казахстан занимает восьмое место в мире. Его доля в мировых запасах составляет 6%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Черная металлургия Казахстана производит более 12,5 % республиканского объема промышленной продукции. Флагманом индустрии республики является Карагандинский металлургический комбинат "Испат-Кармет"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Казахстане имеются большие запасы хромитовых руд, на базе которых работают ферросплавные заводы республик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">
            <a:hlinkClick r:id="" action="ppaction://hlinkshowjump?jump=previousslide"/>
          </p:cNvPr>
          <p:cNvSpPr/>
          <p:nvPr/>
        </p:nvSpPr>
        <p:spPr>
          <a:xfrm>
            <a:off x="7380360" y="5950080"/>
            <a:ext cx="720720" cy="71892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1654" h="21600">
                <a:moveTo>
                  <a:pt x="0" y="0"/>
                </a:moveTo>
                <a:lnTo>
                  <a:pt x="21654" y="0"/>
                </a:lnTo>
                <a:lnTo>
                  <a:pt x="21654" y="21600"/>
                </a:lnTo>
                <a:lnTo>
                  <a:pt x="0" y="21600"/>
                </a:lnTo>
                <a:close/>
              </a:path>
              <a:path fill="lightenLess" w="21654" h="21600">
                <a:moveTo>
                  <a:pt x="0" y="0"/>
                </a:moveTo>
                <a:lnTo>
                  <a:pt x="21654" y="0"/>
                </a:lnTo>
                <a:lnTo>
                  <a:pt x="20254" y="1400"/>
                </a:lnTo>
                <a:lnTo>
                  <a:pt x="1400" y="1400"/>
                </a:lnTo>
                <a:close/>
              </a:path>
              <a:path fill="darken" w="21654" h="21600">
                <a:moveTo>
                  <a:pt x="21654" y="0"/>
                </a:moveTo>
                <a:lnTo>
                  <a:pt x="21654" y="21600"/>
                </a:lnTo>
                <a:lnTo>
                  <a:pt x="20254" y="20200"/>
                </a:lnTo>
                <a:lnTo>
                  <a:pt x="20254" y="1400"/>
                </a:lnTo>
                <a:close/>
              </a:path>
              <a:path fill="darkenLess" w="21654" h="21600">
                <a:moveTo>
                  <a:pt x="216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54" y="20200"/>
                </a:lnTo>
                <a:close/>
              </a:path>
              <a:path fill="lighten" w="216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54" h="21600">
                <a:moveTo>
                  <a:pt x="3821" y="10800"/>
                </a:moveTo>
                <a:lnTo>
                  <a:pt x="17834" y="3794"/>
                </a:lnTo>
                <a:lnTo>
                  <a:pt x="17834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>
            <a:hlinkClick r:id="rId1" action="ppaction://hlinksldjump"/>
          </p:cNvPr>
          <p:cNvSpPr/>
          <p:nvPr/>
        </p:nvSpPr>
        <p:spPr>
          <a:xfrm>
            <a:off x="8172360" y="5950080"/>
            <a:ext cx="720720" cy="71892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1654" h="21600">
                <a:moveTo>
                  <a:pt x="0" y="0"/>
                </a:moveTo>
                <a:lnTo>
                  <a:pt x="21654" y="0"/>
                </a:lnTo>
                <a:lnTo>
                  <a:pt x="21654" y="21600"/>
                </a:lnTo>
                <a:lnTo>
                  <a:pt x="0" y="21600"/>
                </a:lnTo>
                <a:close/>
              </a:path>
              <a:path fill="lightenLess" w="21654" h="21600">
                <a:moveTo>
                  <a:pt x="0" y="0"/>
                </a:moveTo>
                <a:lnTo>
                  <a:pt x="21654" y="0"/>
                </a:lnTo>
                <a:lnTo>
                  <a:pt x="20254" y="1400"/>
                </a:lnTo>
                <a:lnTo>
                  <a:pt x="1400" y="1400"/>
                </a:lnTo>
                <a:close/>
              </a:path>
              <a:path fill="darken" w="21654" h="21600">
                <a:moveTo>
                  <a:pt x="21654" y="0"/>
                </a:moveTo>
                <a:lnTo>
                  <a:pt x="21654" y="21600"/>
                </a:lnTo>
                <a:lnTo>
                  <a:pt x="20254" y="20200"/>
                </a:lnTo>
                <a:lnTo>
                  <a:pt x="20254" y="1400"/>
                </a:lnTo>
                <a:close/>
              </a:path>
              <a:path fill="darkenLess" w="21654" h="21600">
                <a:moveTo>
                  <a:pt x="216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54" y="20200"/>
                </a:lnTo>
                <a:close/>
              </a:path>
              <a:path fill="lighten" w="216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54" h="21600">
                <a:moveTo>
                  <a:pt x="10827" y="3837"/>
                </a:moveTo>
                <a:lnTo>
                  <a:pt x="13403" y="6448"/>
                </a:lnTo>
                <a:lnTo>
                  <a:pt x="13403" y="4707"/>
                </a:lnTo>
                <a:lnTo>
                  <a:pt x="15179" y="4707"/>
                </a:lnTo>
                <a:lnTo>
                  <a:pt x="15179" y="8224"/>
                </a:lnTo>
                <a:lnTo>
                  <a:pt x="17790" y="10800"/>
                </a:lnTo>
                <a:lnTo>
                  <a:pt x="16136" y="10800"/>
                </a:lnTo>
                <a:lnTo>
                  <a:pt x="16136" y="17989"/>
                </a:lnTo>
                <a:lnTo>
                  <a:pt x="5518" y="17989"/>
                </a:lnTo>
                <a:lnTo>
                  <a:pt x="5518" y="10800"/>
                </a:lnTo>
                <a:lnTo>
                  <a:pt x="3864" y="10800"/>
                </a:lnTo>
                <a:close/>
              </a:path>
              <a:path fill="darkenLess" w="21654" h="21600">
                <a:moveTo>
                  <a:pt x="13403" y="6448"/>
                </a:moveTo>
                <a:lnTo>
                  <a:pt x="13403" y="4707"/>
                </a:lnTo>
                <a:lnTo>
                  <a:pt x="15179" y="4707"/>
                </a:lnTo>
                <a:lnTo>
                  <a:pt x="15179" y="8224"/>
                </a:lnTo>
                <a:close/>
              </a:path>
              <a:path fill="darkenLess" w="21654" h="21600">
                <a:moveTo>
                  <a:pt x="9904" y="14299"/>
                </a:moveTo>
                <a:lnTo>
                  <a:pt x="11750" y="14299"/>
                </a:lnTo>
                <a:lnTo>
                  <a:pt x="11750" y="17989"/>
                </a:lnTo>
                <a:lnTo>
                  <a:pt x="16136" y="17989"/>
                </a:lnTo>
                <a:lnTo>
                  <a:pt x="16136" y="10800"/>
                </a:lnTo>
                <a:lnTo>
                  <a:pt x="5518" y="10800"/>
                </a:lnTo>
                <a:lnTo>
                  <a:pt x="5518" y="17989"/>
                </a:lnTo>
                <a:lnTo>
                  <a:pt x="9904" y="17989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8" dur="2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3" dur="20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8" dur="20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eaeaea"/>
                </a:solidFill>
                <a:latin typeface="Tahoma"/>
              </a:rPr>
              <a:t>Машиностроительный комплекс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859280" y="1981080"/>
            <a:ext cx="3751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Продукция машиностроительного комплекса в общем объеме промышленного производства республики составляет около 8%. Машиностроительные предприятия Казахстана выпускают: кузнечно-прессовое оборудование (г.Шымкент), металлорежущие станки (г.Алматы), аккумуляторы (г.Талды-Корган), центробежные насосы (г.Астана), рентгеновское оборудование (г.Актобе) и т.д. В настоящее время в развитие машиностроения привлекаются иностранные инвестиции для организации в республике новых производств, в том числе медицинского оборудования, сельскохозяйственной техники, дизельных двигателей, оборудования для пищевой промышленности, электродвигателей и других изделий производственно-технического назначения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 rot="20829600">
            <a:off x="826920" y="2349360"/>
            <a:ext cx="3745080" cy="3024360"/>
          </a:xfrm>
          <a:prstGeom prst="rect">
            <a:avLst/>
          </a:prstGeom>
          <a:ln w="0">
            <a:noFill/>
          </a:ln>
        </p:spPr>
      </p:pic>
      <p:sp>
        <p:nvSpPr>
          <p:cNvPr id="149" name="">
            <a:hlinkClick r:id="" action="ppaction://hlinkshowjump?jump=previousslide"/>
          </p:cNvPr>
          <p:cNvSpPr/>
          <p:nvPr/>
        </p:nvSpPr>
        <p:spPr>
          <a:xfrm>
            <a:off x="7164360" y="6021360"/>
            <a:ext cx="792360" cy="836640"/>
          </a:xfrm>
          <a:custGeom>
            <a:avLst/>
            <a:gdLst>
              <a:gd name="textAreaLeft" fmla="*/ 51120 w 792360"/>
              <a:gd name="textAreaRight" fmla="*/ 741240 w 792360"/>
              <a:gd name="textAreaTop" fmla="*/ 51120 h 836640"/>
              <a:gd name="textAreaBottom" fmla="*/ 785520 h 836640"/>
            </a:gdLst>
            <a:ahLst/>
            <a:rect l="textAreaLeft" t="textAreaTop" r="textAreaRight" b="textAreaBottom"/>
            <a:pathLst>
              <a:path w="21600" h="22807">
                <a:moveTo>
                  <a:pt x="0" y="0"/>
                </a:moveTo>
                <a:lnTo>
                  <a:pt x="21600" y="0"/>
                </a:lnTo>
                <a:lnTo>
                  <a:pt x="21600" y="22807"/>
                </a:lnTo>
                <a:lnTo>
                  <a:pt x="0" y="22807"/>
                </a:lnTo>
                <a:close/>
              </a:path>
              <a:path fill="lightenLess" w="21600" h="228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807">
                <a:moveTo>
                  <a:pt x="21600" y="0"/>
                </a:moveTo>
                <a:lnTo>
                  <a:pt x="21600" y="22807"/>
                </a:lnTo>
                <a:lnTo>
                  <a:pt x="20200" y="21407"/>
                </a:lnTo>
                <a:lnTo>
                  <a:pt x="20200" y="1400"/>
                </a:lnTo>
                <a:close/>
              </a:path>
              <a:path fill="darkenLess" w="21600" h="22807">
                <a:moveTo>
                  <a:pt x="21600" y="22807"/>
                </a:moveTo>
                <a:lnTo>
                  <a:pt x="0" y="22807"/>
                </a:lnTo>
                <a:lnTo>
                  <a:pt x="1400" y="21407"/>
                </a:lnTo>
                <a:lnTo>
                  <a:pt x="20200" y="21407"/>
                </a:lnTo>
                <a:close/>
              </a:path>
              <a:path fill="lighten" w="21600" h="22807">
                <a:moveTo>
                  <a:pt x="0" y="228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1407"/>
                </a:lnTo>
                <a:close/>
              </a:path>
              <a:path fill="darken" w="21600" h="22807">
                <a:moveTo>
                  <a:pt x="3794" y="11403"/>
                </a:moveTo>
                <a:lnTo>
                  <a:pt x="17806" y="4397"/>
                </a:lnTo>
                <a:lnTo>
                  <a:pt x="17806" y="18410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>
            <a:hlinkClick r:id="rId2" action="ppaction://hlinksldjump"/>
          </p:cNvPr>
          <p:cNvSpPr/>
          <p:nvPr/>
        </p:nvSpPr>
        <p:spPr>
          <a:xfrm>
            <a:off x="8101080" y="6021360"/>
            <a:ext cx="718920" cy="836640"/>
          </a:xfrm>
          <a:custGeom>
            <a:avLst/>
            <a:gdLst>
              <a:gd name="textAreaLeft" fmla="*/ 46440 w 718920"/>
              <a:gd name="textAreaRight" fmla="*/ 672480 w 718920"/>
              <a:gd name="textAreaTop" fmla="*/ 46440 h 836640"/>
              <a:gd name="textAreaBottom" fmla="*/ 790200 h 836640"/>
            </a:gdLst>
            <a:ahLst/>
            <a:rect l="textAreaLeft" t="textAreaTop" r="textAreaRight" b="textAreaBottom"/>
            <a:pathLst>
              <a:path w="21600" h="25135">
                <a:moveTo>
                  <a:pt x="0" y="0"/>
                </a:moveTo>
                <a:lnTo>
                  <a:pt x="21600" y="0"/>
                </a:lnTo>
                <a:lnTo>
                  <a:pt x="21600" y="25135"/>
                </a:lnTo>
                <a:lnTo>
                  <a:pt x="0" y="25135"/>
                </a:lnTo>
                <a:close/>
              </a:path>
              <a:path fill="lightenLess" w="21600" h="2513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35">
                <a:moveTo>
                  <a:pt x="21600" y="0"/>
                </a:moveTo>
                <a:lnTo>
                  <a:pt x="21600" y="25135"/>
                </a:lnTo>
                <a:lnTo>
                  <a:pt x="20200" y="23735"/>
                </a:lnTo>
                <a:lnTo>
                  <a:pt x="20200" y="1400"/>
                </a:lnTo>
                <a:close/>
              </a:path>
              <a:path fill="darkenLess" w="21600" h="25135">
                <a:moveTo>
                  <a:pt x="21600" y="25135"/>
                </a:moveTo>
                <a:lnTo>
                  <a:pt x="0" y="25135"/>
                </a:lnTo>
                <a:lnTo>
                  <a:pt x="1400" y="23735"/>
                </a:lnTo>
                <a:lnTo>
                  <a:pt x="20200" y="23735"/>
                </a:lnTo>
                <a:close/>
              </a:path>
              <a:path fill="lighten" w="21600" h="25135">
                <a:moveTo>
                  <a:pt x="0" y="25135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35"/>
                </a:lnTo>
                <a:close/>
              </a:path>
              <a:path fill="darken" w="21600" h="25135">
                <a:moveTo>
                  <a:pt x="10800" y="5605"/>
                </a:moveTo>
                <a:lnTo>
                  <a:pt x="13376" y="8216"/>
                </a:lnTo>
                <a:lnTo>
                  <a:pt x="13376" y="6475"/>
                </a:lnTo>
                <a:lnTo>
                  <a:pt x="15152" y="6475"/>
                </a:lnTo>
                <a:lnTo>
                  <a:pt x="15152" y="9991"/>
                </a:lnTo>
                <a:lnTo>
                  <a:pt x="17763" y="12568"/>
                </a:lnTo>
                <a:lnTo>
                  <a:pt x="16109" y="12568"/>
                </a:lnTo>
                <a:lnTo>
                  <a:pt x="16109" y="19757"/>
                </a:lnTo>
                <a:lnTo>
                  <a:pt x="5491" y="19757"/>
                </a:lnTo>
                <a:lnTo>
                  <a:pt x="5491" y="12568"/>
                </a:lnTo>
                <a:lnTo>
                  <a:pt x="3837" y="12568"/>
                </a:lnTo>
                <a:close/>
              </a:path>
              <a:path fill="darkenLess" w="21600" h="25135">
                <a:moveTo>
                  <a:pt x="13376" y="8216"/>
                </a:moveTo>
                <a:lnTo>
                  <a:pt x="13376" y="6475"/>
                </a:lnTo>
                <a:lnTo>
                  <a:pt x="15152" y="6475"/>
                </a:lnTo>
                <a:lnTo>
                  <a:pt x="15152" y="9991"/>
                </a:lnTo>
                <a:close/>
              </a:path>
              <a:path fill="darkenLess" w="21600" h="25135">
                <a:moveTo>
                  <a:pt x="9877" y="16066"/>
                </a:moveTo>
                <a:lnTo>
                  <a:pt x="11723" y="16066"/>
                </a:lnTo>
                <a:lnTo>
                  <a:pt x="11723" y="19757"/>
                </a:lnTo>
                <a:lnTo>
                  <a:pt x="16109" y="19757"/>
                </a:lnTo>
                <a:lnTo>
                  <a:pt x="16109" y="12568"/>
                </a:lnTo>
                <a:lnTo>
                  <a:pt x="5491" y="12568"/>
                </a:lnTo>
                <a:lnTo>
                  <a:pt x="5491" y="19757"/>
                </a:lnTo>
                <a:lnTo>
                  <a:pt x="9877" y="19757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9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2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eaeaea"/>
                </a:solidFill>
                <a:latin typeface="Tahoma"/>
              </a:rPr>
              <a:t>Транспорт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 Протяженность наземных транспортных магистралей республики составляет 106 тыс. км. Из них 13,5 тыс. км - магистральные железные дороги, 87,4 тыс. км - автомобильные магистрали общего пользования с твердым покрытием, 4 тыс. км. - речные пути. Строительство пограничного железнодорожного перехода Дружба - Алашанькоу между Казахстаном и Китаем и открытие железнодорожного перехода Серахс - Мешхед между Туркменистаном и Ираном открыли новые транзитные коридоры по маршруту Великого шелкового пути: от тихоокеанских портов Китая - Ляньюньган, Циньдао, Тяньцзин - в Казахстан, Кыргызстан, Узбекистан, Туркменистан, Иран, Турцию, к портам Средиземноморья и Персидского залив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">
            <a:hlinkClick r:id="" action="ppaction://hlinkshowjump?jump=previousslide"/>
          </p:cNvPr>
          <p:cNvSpPr/>
          <p:nvPr/>
        </p:nvSpPr>
        <p:spPr>
          <a:xfrm>
            <a:off x="7308720" y="5877000"/>
            <a:ext cx="719280" cy="79200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792000"/>
              <a:gd name="textAreaBottom" fmla="*/ 745560 h 792000"/>
            </a:gdLst>
            <a:ahLst/>
            <a:rect l="textAreaLeft" t="textAreaTop" r="textAreaRight" b="textAreaBottom"/>
            <a:pathLst>
              <a:path w="21600" h="23783">
                <a:moveTo>
                  <a:pt x="0" y="0"/>
                </a:moveTo>
                <a:lnTo>
                  <a:pt x="21600" y="0"/>
                </a:lnTo>
                <a:lnTo>
                  <a:pt x="21600" y="23783"/>
                </a:lnTo>
                <a:lnTo>
                  <a:pt x="0" y="23783"/>
                </a:lnTo>
                <a:close/>
              </a:path>
              <a:path fill="lightenLess" w="21600" h="2378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83">
                <a:moveTo>
                  <a:pt x="21600" y="0"/>
                </a:moveTo>
                <a:lnTo>
                  <a:pt x="21600" y="23783"/>
                </a:lnTo>
                <a:lnTo>
                  <a:pt x="20200" y="22383"/>
                </a:lnTo>
                <a:lnTo>
                  <a:pt x="20200" y="1400"/>
                </a:lnTo>
                <a:close/>
              </a:path>
              <a:path fill="darkenLess" w="21600" h="23783">
                <a:moveTo>
                  <a:pt x="21600" y="23783"/>
                </a:moveTo>
                <a:lnTo>
                  <a:pt x="0" y="23783"/>
                </a:lnTo>
                <a:lnTo>
                  <a:pt x="1400" y="22383"/>
                </a:lnTo>
                <a:lnTo>
                  <a:pt x="20200" y="22383"/>
                </a:lnTo>
                <a:close/>
              </a:path>
              <a:path fill="lighten" w="21600" h="23783">
                <a:moveTo>
                  <a:pt x="0" y="2378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83"/>
                </a:lnTo>
                <a:close/>
              </a:path>
              <a:path fill="darken" w="21600" h="23783">
                <a:moveTo>
                  <a:pt x="3794" y="11891"/>
                </a:moveTo>
                <a:lnTo>
                  <a:pt x="17806" y="4885"/>
                </a:lnTo>
                <a:lnTo>
                  <a:pt x="17806" y="18898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>
            <a:hlinkClick r:id="rId1" action="ppaction://hlinksldjump"/>
          </p:cNvPr>
          <p:cNvSpPr/>
          <p:nvPr/>
        </p:nvSpPr>
        <p:spPr>
          <a:xfrm>
            <a:off x="8172360" y="5877000"/>
            <a:ext cx="720720" cy="79200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92000"/>
              <a:gd name="textAreaBottom" fmla="*/ 745560 h 792000"/>
            </a:gdLst>
            <a:ahLst/>
            <a:rect l="textAreaLeft" t="textAreaTop" r="textAreaRight" b="textAreaBottom"/>
            <a:pathLst>
              <a:path w="21600" h="23735">
                <a:moveTo>
                  <a:pt x="0" y="0"/>
                </a:moveTo>
                <a:lnTo>
                  <a:pt x="21600" y="0"/>
                </a:lnTo>
                <a:lnTo>
                  <a:pt x="21600" y="23735"/>
                </a:lnTo>
                <a:lnTo>
                  <a:pt x="0" y="23735"/>
                </a:lnTo>
                <a:close/>
              </a:path>
              <a:path fill="lightenLess" w="21600" h="2373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35">
                <a:moveTo>
                  <a:pt x="21600" y="0"/>
                </a:moveTo>
                <a:lnTo>
                  <a:pt x="21600" y="23735"/>
                </a:lnTo>
                <a:lnTo>
                  <a:pt x="20200" y="22335"/>
                </a:lnTo>
                <a:lnTo>
                  <a:pt x="20200" y="1400"/>
                </a:lnTo>
                <a:close/>
              </a:path>
              <a:path fill="darkenLess" w="21600" h="23735">
                <a:moveTo>
                  <a:pt x="21600" y="23735"/>
                </a:moveTo>
                <a:lnTo>
                  <a:pt x="0" y="23735"/>
                </a:lnTo>
                <a:lnTo>
                  <a:pt x="1400" y="22335"/>
                </a:lnTo>
                <a:lnTo>
                  <a:pt x="20200" y="22335"/>
                </a:lnTo>
                <a:close/>
              </a:path>
              <a:path fill="lighten" w="21600" h="23735">
                <a:moveTo>
                  <a:pt x="0" y="23735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35"/>
                </a:lnTo>
                <a:close/>
              </a:path>
              <a:path fill="darken" w="21600" h="23735">
                <a:moveTo>
                  <a:pt x="10800" y="4905"/>
                </a:moveTo>
                <a:lnTo>
                  <a:pt x="13376" y="7516"/>
                </a:lnTo>
                <a:lnTo>
                  <a:pt x="13376" y="5775"/>
                </a:lnTo>
                <a:lnTo>
                  <a:pt x="15152" y="5775"/>
                </a:lnTo>
                <a:lnTo>
                  <a:pt x="15152" y="9291"/>
                </a:lnTo>
                <a:lnTo>
                  <a:pt x="17763" y="11868"/>
                </a:lnTo>
                <a:lnTo>
                  <a:pt x="16109" y="11868"/>
                </a:lnTo>
                <a:lnTo>
                  <a:pt x="16109" y="19057"/>
                </a:lnTo>
                <a:lnTo>
                  <a:pt x="5491" y="19057"/>
                </a:lnTo>
                <a:lnTo>
                  <a:pt x="5491" y="11868"/>
                </a:lnTo>
                <a:lnTo>
                  <a:pt x="3837" y="11868"/>
                </a:lnTo>
                <a:close/>
              </a:path>
              <a:path fill="darkenLess" w="21600" h="23735">
                <a:moveTo>
                  <a:pt x="13376" y="7516"/>
                </a:moveTo>
                <a:lnTo>
                  <a:pt x="13376" y="5775"/>
                </a:lnTo>
                <a:lnTo>
                  <a:pt x="15152" y="5775"/>
                </a:lnTo>
                <a:lnTo>
                  <a:pt x="15152" y="9291"/>
                </a:lnTo>
                <a:close/>
              </a:path>
              <a:path fill="darkenLess" w="21600" h="23735">
                <a:moveTo>
                  <a:pt x="9877" y="15366"/>
                </a:moveTo>
                <a:lnTo>
                  <a:pt x="11723" y="15366"/>
                </a:lnTo>
                <a:lnTo>
                  <a:pt x="11723" y="19057"/>
                </a:lnTo>
                <a:lnTo>
                  <a:pt x="16109" y="19057"/>
                </a:lnTo>
                <a:lnTo>
                  <a:pt x="16109" y="11868"/>
                </a:lnTo>
                <a:lnTo>
                  <a:pt x="5491" y="11868"/>
                </a:lnTo>
                <a:lnTo>
                  <a:pt x="5491" y="19057"/>
                </a:lnTo>
                <a:lnTo>
                  <a:pt x="9877" y="19057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eaeaea"/>
                </a:solidFill>
                <a:latin typeface="Tahoma"/>
              </a:rPr>
              <a:t>Транспорт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66320" y="4114440"/>
            <a:ext cx="7543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. Имеющаяся сеть автодорог дает выход на Россию и бывшие союзные республики, а также в Китай, Турцию и Иран, что обеспечивает выход к портам Черного и Средиземного морей и Индийского океана. Морское судоходство осуществляется на Каспийском море (порт Актау) с выходом через речные пути России на Черное и Балтийское море. Национальной авиакомпанией "Эйр Астана" освоены маршруты по Казахстану, странам СНГ и дальнего зарубежья. В республике также работают ведущие иностранные компании, такие как: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British Airways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Lufthansa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KLM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Transaero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PIA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Turkish Airlines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Iran Air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и др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771640" y="1700280"/>
            <a:ext cx="3672000" cy="2160360"/>
          </a:xfrm>
          <a:prstGeom prst="rect">
            <a:avLst/>
          </a:prstGeom>
          <a:ln w="0">
            <a:noFill/>
          </a:ln>
        </p:spPr>
      </p:pic>
      <p:sp>
        <p:nvSpPr>
          <p:cNvPr id="158" name="">
            <a:hlinkClick r:id="" action="ppaction://hlinkshowjump?jump=previousslide"/>
          </p:cNvPr>
          <p:cNvSpPr/>
          <p:nvPr/>
        </p:nvSpPr>
        <p:spPr>
          <a:xfrm>
            <a:off x="7236000" y="6021360"/>
            <a:ext cx="792000" cy="836640"/>
          </a:xfrm>
          <a:custGeom>
            <a:avLst/>
            <a:gdLst>
              <a:gd name="textAreaLeft" fmla="*/ 51120 w 792000"/>
              <a:gd name="textAreaRight" fmla="*/ 740880 w 792000"/>
              <a:gd name="textAreaTop" fmla="*/ 51120 h 836640"/>
              <a:gd name="textAreaBottom" fmla="*/ 785520 h 836640"/>
            </a:gdLst>
            <a:ahLst/>
            <a:rect l="textAreaLeft" t="textAreaTop" r="textAreaRight" b="textAreaBottom"/>
            <a:pathLst>
              <a:path w="21600" h="22817">
                <a:moveTo>
                  <a:pt x="0" y="0"/>
                </a:moveTo>
                <a:lnTo>
                  <a:pt x="21600" y="0"/>
                </a:lnTo>
                <a:lnTo>
                  <a:pt x="21600" y="22817"/>
                </a:lnTo>
                <a:lnTo>
                  <a:pt x="0" y="22817"/>
                </a:lnTo>
                <a:close/>
              </a:path>
              <a:path fill="lightenLess" w="21600" h="2281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817">
                <a:moveTo>
                  <a:pt x="21600" y="0"/>
                </a:moveTo>
                <a:lnTo>
                  <a:pt x="21600" y="22817"/>
                </a:lnTo>
                <a:lnTo>
                  <a:pt x="20200" y="21417"/>
                </a:lnTo>
                <a:lnTo>
                  <a:pt x="20200" y="1400"/>
                </a:lnTo>
                <a:close/>
              </a:path>
              <a:path fill="darkenLess" w="21600" h="22817">
                <a:moveTo>
                  <a:pt x="21600" y="22817"/>
                </a:moveTo>
                <a:lnTo>
                  <a:pt x="0" y="22817"/>
                </a:lnTo>
                <a:lnTo>
                  <a:pt x="1400" y="21417"/>
                </a:lnTo>
                <a:lnTo>
                  <a:pt x="20200" y="21417"/>
                </a:lnTo>
                <a:close/>
              </a:path>
              <a:path fill="lighten" w="21600" h="22817">
                <a:moveTo>
                  <a:pt x="0" y="22817"/>
                </a:moveTo>
                <a:lnTo>
                  <a:pt x="0" y="0"/>
                </a:lnTo>
                <a:lnTo>
                  <a:pt x="1400" y="1400"/>
                </a:lnTo>
                <a:lnTo>
                  <a:pt x="1400" y="21417"/>
                </a:lnTo>
                <a:close/>
              </a:path>
              <a:path fill="darken" w="21600" h="22817">
                <a:moveTo>
                  <a:pt x="3794" y="11408"/>
                </a:moveTo>
                <a:lnTo>
                  <a:pt x="17806" y="4402"/>
                </a:lnTo>
                <a:lnTo>
                  <a:pt x="17806" y="18415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>
            <a:hlinkClick r:id="rId2" action="ppaction://hlinksldjump"/>
          </p:cNvPr>
          <p:cNvSpPr/>
          <p:nvPr/>
        </p:nvSpPr>
        <p:spPr>
          <a:xfrm>
            <a:off x="8101080" y="6021360"/>
            <a:ext cx="792000" cy="836640"/>
          </a:xfrm>
          <a:custGeom>
            <a:avLst/>
            <a:gdLst>
              <a:gd name="textAreaLeft" fmla="*/ 51120 w 792000"/>
              <a:gd name="textAreaRight" fmla="*/ 740880 w 792000"/>
              <a:gd name="textAreaTop" fmla="*/ 51120 h 836640"/>
              <a:gd name="textAreaBottom" fmla="*/ 785520 h 836640"/>
            </a:gdLst>
            <a:ahLst/>
            <a:rect l="textAreaLeft" t="textAreaTop" r="textAreaRight" b="textAreaBottom"/>
            <a:pathLst>
              <a:path w="21600" h="22817">
                <a:moveTo>
                  <a:pt x="0" y="0"/>
                </a:moveTo>
                <a:lnTo>
                  <a:pt x="21600" y="0"/>
                </a:lnTo>
                <a:lnTo>
                  <a:pt x="21600" y="22817"/>
                </a:lnTo>
                <a:lnTo>
                  <a:pt x="0" y="22817"/>
                </a:lnTo>
                <a:close/>
              </a:path>
              <a:path fill="lightenLess" w="21600" h="2281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817">
                <a:moveTo>
                  <a:pt x="21600" y="0"/>
                </a:moveTo>
                <a:lnTo>
                  <a:pt x="21600" y="22817"/>
                </a:lnTo>
                <a:lnTo>
                  <a:pt x="20200" y="21417"/>
                </a:lnTo>
                <a:lnTo>
                  <a:pt x="20200" y="1400"/>
                </a:lnTo>
                <a:close/>
              </a:path>
              <a:path fill="darkenLess" w="21600" h="22817">
                <a:moveTo>
                  <a:pt x="21600" y="22817"/>
                </a:moveTo>
                <a:lnTo>
                  <a:pt x="0" y="22817"/>
                </a:lnTo>
                <a:lnTo>
                  <a:pt x="1400" y="21417"/>
                </a:lnTo>
                <a:lnTo>
                  <a:pt x="20200" y="21417"/>
                </a:lnTo>
                <a:close/>
              </a:path>
              <a:path fill="lighten" w="21600" h="22817">
                <a:moveTo>
                  <a:pt x="0" y="22817"/>
                </a:moveTo>
                <a:lnTo>
                  <a:pt x="0" y="0"/>
                </a:lnTo>
                <a:lnTo>
                  <a:pt x="1400" y="1400"/>
                </a:lnTo>
                <a:lnTo>
                  <a:pt x="1400" y="21417"/>
                </a:lnTo>
                <a:close/>
              </a:path>
              <a:path fill="darken" w="21600" h="22817">
                <a:moveTo>
                  <a:pt x="10800" y="4445"/>
                </a:moveTo>
                <a:lnTo>
                  <a:pt x="13376" y="7057"/>
                </a:lnTo>
                <a:lnTo>
                  <a:pt x="13376" y="5316"/>
                </a:lnTo>
                <a:lnTo>
                  <a:pt x="15152" y="5316"/>
                </a:lnTo>
                <a:lnTo>
                  <a:pt x="15152" y="8832"/>
                </a:lnTo>
                <a:lnTo>
                  <a:pt x="17763" y="11408"/>
                </a:lnTo>
                <a:lnTo>
                  <a:pt x="16109" y="11408"/>
                </a:lnTo>
                <a:lnTo>
                  <a:pt x="16109" y="18598"/>
                </a:lnTo>
                <a:lnTo>
                  <a:pt x="5491" y="18598"/>
                </a:lnTo>
                <a:lnTo>
                  <a:pt x="5491" y="11408"/>
                </a:lnTo>
                <a:lnTo>
                  <a:pt x="3837" y="11408"/>
                </a:lnTo>
                <a:close/>
              </a:path>
              <a:path fill="darkenLess" w="21600" h="22817">
                <a:moveTo>
                  <a:pt x="13376" y="7057"/>
                </a:moveTo>
                <a:lnTo>
                  <a:pt x="13376" y="5316"/>
                </a:lnTo>
                <a:lnTo>
                  <a:pt x="15152" y="5316"/>
                </a:lnTo>
                <a:lnTo>
                  <a:pt x="15152" y="8832"/>
                </a:lnTo>
                <a:close/>
              </a:path>
              <a:path fill="darkenLess" w="21600" h="22817">
                <a:moveTo>
                  <a:pt x="9877" y="14907"/>
                </a:moveTo>
                <a:lnTo>
                  <a:pt x="11723" y="14907"/>
                </a:lnTo>
                <a:lnTo>
                  <a:pt x="11723" y="18598"/>
                </a:lnTo>
                <a:lnTo>
                  <a:pt x="16109" y="18598"/>
                </a:lnTo>
                <a:lnTo>
                  <a:pt x="16109" y="11408"/>
                </a:lnTo>
                <a:lnTo>
                  <a:pt x="5491" y="11408"/>
                </a:lnTo>
                <a:lnTo>
                  <a:pt x="5491" y="18598"/>
                </a:lnTo>
                <a:lnTo>
                  <a:pt x="9877" y="18598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3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8" dur="2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6T14:56:09Z</dcterms:created>
  <dc:creator>Admin</dc:creator>
  <dc:description/>
  <dc:language>en-US</dc:language>
  <cp:lastModifiedBy>Admin</cp:lastModifiedBy>
  <dcterms:modified xsi:type="dcterms:W3CDTF">2010-10-28T17:29:35Z</dcterms:modified>
  <cp:revision>3</cp:revision>
  <dc:subject/>
  <dc:title>Презентация  на тему</dc:title>
</cp:coreProperties>
</file>