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D52-FF91-4B5E-879F-5313BFB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A94-CB0E-4A2A-8BCB-B445EC4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E88-C9C1-42F6-B027-16081F97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25F-2ED9-49F5-BBAA-89E4A7FA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73E-B4F1-4F51-89C1-29232378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035-085D-42EE-8960-9DD172FB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52D-EBA3-4BA9-9EB2-6D3E8DA4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3F3-3547-4CAF-BF42-620B0411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8F9-3C21-43CA-A982-B7DE6BB5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B98-6BE1-4070-8E03-95229AF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98D-9D18-4650-9117-574F1B9B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910-5287-4622-9165-9789F7DC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5742-D157-4E79-8C58-9FB664642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6436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1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ая эконом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енова Кульбагиля Казиевн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арший преподавател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федры экономики 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 мировой рынок включает в себя рынок товаров, труда, капиталов, а также рынки достижений НТП. Территориально-географический мировой рынок подразделяется на региональные и континентальные се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пешного ведения торговли на мировом рынке необходимо располагать экспортными ресурсами, средствами оплаты импорта, а также иметь свою внешнеторговую инфраструктуру, т. е. систему, обеспечивающую продвижение товара от производителя к потребителю в другой стране. Она складывается из материально-технической базы внешней торговли — склады, оснащенные современным оборудованием для погрузки, разгрузки, сортировки; транспортные средства; средства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ые расчеты по внешнеторговым операциям и кредитование внешней торговли производятся банковскими учреждениями, страхование грузов — учреждениями страхового бизнеса. Если страна не обладает внешнеторговой инфраструктурой, то она вынуждена нести большие расходы по обеспечению доступа к внешнеторговой инфраструктуре других ст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торгов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фера международных торгово-деловых отношений, представляющая собой совокупность внешней торговли всех стран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торговля состоит из двух встречных потоков товаров: экспорта и импорта – и характеризуется торговым сальдо и торговым обо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дажа товара, предусматривающая его вывоз за гра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ор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купка товара, предусматривающая его ввоз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ое саль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ность стоимостных объемов экспорта и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ый оборот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умма стоимостных объемов экспорта и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абсолютных преимущест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ается в том, что страны экспортируют те товары, которые они производят с минимальными издержками, т.е. в производстве которых они имеют абсолютное преимущество и импортируют те товары, которые производятся другими странами с меньшими издержками, т.е. в производстве которых преимущество принадлежит их торговым партн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сравнительных преимущест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ается в том, что если страны специализируются на производстве тех товаров, которые они могут производить с относительно более низкими издержками по сравнению с другими странами, то торговля будет взаимовыгодной для обеих стран, независимо от того, является ли производство в одной из них абсолютно более эффективным, чем в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й модификацией теории сравнительных издержек является теория международной торговли, основанная на разделении факторов производства, которая получила название по имени ее создател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 Хекшера – Ол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еория основана на предположении, что различия в относительных ценах объясняются разной обеспеченностью стран факторами производства, и наиболее важными ее допущениями являются различная фактороинтенсивность отдельных товаров и различная факторонасыщ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оинтенсив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казатель, определяющий относительные затраты факторов производства на создание определенного товара (товар 2 является относительно более капиталоемким, чем товар 1, если соотношение затрат капитала и труда на производство товара 2 больше, чем соотношение этих же затрат на производство товара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онасыщенно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казатель, определяющий относительную обеспеченность страны факторами производства, который может быть определен двумя способами: через относительные цены каждого из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торговой политик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а обычно понимается деятельность, направленная на развитие и регулирование торговых отношений с другими странами. У большинства современных государств существует обширный набор инструментов, позволяющих осуществлять торговую поли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между экспортом и импортом регулируется государством путем проведения политики протекционизма и фритред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циониз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олитика, направленная на защиту национальной экономики от иностранных товаров и ограничивающая им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тредер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олитика свободной торговли. Как реакция на протекционизм оно появилось в конц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;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оно стало официальной экономической политикой Англии. Основой фритредерства стала «теория сравнительных издержек» Д. Рикар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дни фритредерство победило в большинстве стран и включилось в теорию «открытой»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им инструментом регулирования внешней торговли являютс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оженные тариф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истематизированный перечень таможенных пошлин, которыми облагаются товары при импорте, а в отдельных случаях – при экспорте из данной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оженная пош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функцию налога, взимаемого при пересечении товаром таможенной границы, который повышает цену импортируемых (или экспортируемых) товаров и оказывает тем самым влияние на объем и структуру внешнеторгового обо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арифные методы торговой полит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вотирование, лицензирование и «добровольное» ограничение эк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о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контингенты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ют количество и номенклатуру товаров, разрешенных к экспорту или импорту. Экономическое различие между тарифом и квотой заключается в разном содержании перераспределительного эффекта и в разной силе ограничительного воздействия, которое они оказывают на импор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нз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являться составной частью процесса квотирования или быть самостоятельным инструментом государственного регулирования внешней торговли. Лицензии бывают разовые, генеральные, глобальные и автоматические. Лицензионная система предполагает, что государство через специально уполномоченное ведомство выдает разрешение на внешнюю торговлю определенными, включенными в списки лицензируемых по экспорту и импорту това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бровольное» ограничение экспор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экспортную квоту, в одностороннем порядке вводимую правительством экспортирующей страны под политическим давлением со стороны импор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й рын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сферу острой конкурентной борьбы между экспортерами аналогичных или взаимозаменяемых товаров, а также столкновений интересов экспортеров и импортеров. Некоторые торговые конфликты уподобляются войнам: так, периодически вспыхивают «текстильные», «автомобильные», «компьютерные» войны. Конфликт между ЕС, с одной стороны, США и латиноамериканскими странами – с другой, по поводу квотных ограничений на поставку бананов в страны ЕС получил название «банановой вой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561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арактеризовать сущность мирового хозяйства и факторов, влияющих на его 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понятие мирового рынка, его структур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ле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  Мировое хозяйство, его становление и его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Мировой ры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условиях высокими темпами растет международная торговля машинами и оборудованием. В этом отражается углубление международного разделения труда между развитыми странами в ходе НТР. Кроме того, увеличиваются закупки машин и оборудования развивающимися странами, осуществляющими индустриализацию и модернизацию своего хозяйства. В товарной группе «машины и оборудование» наиболее быстрыми темпами увеличивается торговля продукцией электротехнической промышленности, особенно электронным оборудованием, в том числе компьютерами. Развитые страны Запада выступают основными экспортерами наукоемких товаров, тогда как развивающиеся - преимущественно их импорте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е хозяйство, его становление и его эле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е хозяй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национальных хозяйств, связанных между собой международным разделением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е хозяйство следует рассматривать как объективный результат экономического роста, а также как результат непрерывно углубляющегося разделения труда, специализации, интернационализации производства, свободного перемещения в геоэкономическом пространстве товаров и капиталов.       Характерными особенностями этого процесса являются тенденции к усилению процессов интеграции и глобализации на базе роста интернационализированных связей, расширения и совершенствования  форм международных экономических связей, усложнения межнациональных механизмов хозяйственного взаимодействия между странами. Особенностью современного этапа развития мирового хозяйства является движение национальных хозяйств ко все большей включенности в международное разделение труда и все большая открытость эконом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й экономик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ется такое хозяйство, направление развития которого определяется тенденциями, действующими в мировом хозяйстве, внешнеэкономические связи усил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два направления при анализе современного мирового рынка. С одной стороны, в его структуре  выделяются рынки товаров, труда, капитала, а также достижений НТП. С другой стороны, территориально-географический подход позволяет выделить на мировом рынке региональные и континентальные секторы. Мировая торговля как специфическая форма международных экономических отношений, базируясь на торговом обмене, демонстрирует противоречивое взаимодействие протекционистских и либеральных методов, используемых национальными правительствами для сохранения национальной экономической безопасности и одновременного расширения товарообмена с другими стра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й составной частью мирового рынка является рынок капит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динамики мирового хозя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е разделение и специализац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ационализация производства, капитала и НТ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конкуренция и миграция капиталов, товаров, рабочей силы, результатов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ми мирового хозяй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е 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е объединения и союзы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 транснациональные корпо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финансовые, торговые и другие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е элементы (материальная основа М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ровой рынок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ок капит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ынок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ок достижений НТ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ок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углубления М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вномерность НТ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ная насыщенность национальных рынков и разная структура 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требность выравнивания уровней жизни и социально-экономического развития отдель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требность в обмене опытом хозяй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Э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ждународная 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ждународное движение капит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грация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ждународный обмен научно-технической информацией и технолог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ждународные валютно-финансов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участия в МР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спортна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м экспорта * 10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ота                      Объем ВВ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овом хозяйстве развертывается и становится все более масштабной специфическая форма экономических отношений — мировая торговля, которая предполагает перемещение товаров и услуг за пределы государственных г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продавцов и покупателей здесь могут играть не только государственные организации, но и отдельные лица, частные, акционерные и кооперативные предприятия. Ввозимые товары (импорт) и вывозимые (экспорт) составляю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торговый товарооборот стра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ница между импортом и экспортом за определенный промежуток времени образуе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ьдо торгового баланс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бывает активное, положительное, если экспорт превышает импорт, пассивное или отрицательное, если экспорт меньше импорта. В этом случае пассивное сальдо покрывается золотом или конвертируемой валю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0:45:19Z</dcterms:created>
  <dc:creator>Gleb M. Schukin</dc:creator>
  <dc:description/>
  <dc:language>en-US</dc:language>
  <cp:lastModifiedBy>K213-03</cp:lastModifiedBy>
  <dcterms:modified xsi:type="dcterms:W3CDTF">2012-06-14T08:45:09Z</dcterms:modified>
  <cp:revision>59</cp:revision>
  <dc:subject/>
  <dc:title>Макроэкономическая нестабильность: экономические циклы, безработица, инфляция</dc:title>
</cp:coreProperties>
</file>