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297-E3BB-41D7-805B-8F3FCCCA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CB1-1AAC-4081-8FC7-DFA05E67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91E-7BB9-4933-84D4-76785F79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610-1253-4CB5-B992-E8622292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D725-E70B-48E5-8811-A77D52C6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E27-A9F3-44B3-ABB4-810A664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B98D-C912-4012-B55D-3CAFD414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DE2-40B9-44C2-AA3F-4CE0659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9DB3-96F4-451C-97E6-236FEE6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71FE-EFAD-473E-9282-B894C409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CBE7-4318-49B9-9162-257D6F4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8C8-D567-48B2-8BB3-24E383E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BA3-E3F8-4F32-BBB5-554D7F3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5F0-E75C-4002-8BFE-8A1B47E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8B24-CAF8-4D50-AD45-5C755D89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E9C7-BFE9-4F20-85BE-AD7AE2A2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C3CE-1774-4962-8126-003210C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026-4683-4E23-9616-C3654FB1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410-87D2-4FAE-A884-5ABC07A4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6EF-0438-4170-9E95-B920CE2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558-100C-4A86-B017-03D580A4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5B6-3E0A-41CE-82C5-C758A09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4E1-EEC6-4EF1-BCD8-0C82279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428-E7BD-45B0-904E-494E5E8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AB3-6509-4CBE-AF77-168450AD7C8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D452-6B0A-43CB-8924-8FC796ABA34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35344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МА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Потребление и сбережение, их значение в экономик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66"/>
                </a:solidFill>
                <a:latin typeface="Verdana"/>
              </a:rPr>
              <a:t>Кусенова Кульбагиля Казиевна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66"/>
                </a:solidFill>
                <a:latin typeface="Verdana"/>
              </a:rPr>
              <a:t>старший преподаватель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66"/>
                </a:solidFill>
                <a:latin typeface="Verdana"/>
              </a:rPr>
              <a:t>кафедры экономики и управления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3. Наличие процентной ставки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мена настоящего потребления на равновеликое будущее не выгодна для экономического агента, т.к. сбережения в настоящем способны из-за наличия процентной ставки увеличить богатство в будуще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898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Средняя склонность к потреблению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АРС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 – это доля располагаемого дохода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, которая тратится на потребление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24000" y="4653000"/>
                <a:ext cx="658800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Р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Потребление </m:t>
                        </m:r>
                        <m:r>
                          <m:t xml:space="preserve">(</m:t>
                        </m:r>
                        <m:r>
                          <m:t xml:space="preserve">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оход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24000" y="0"/>
            <a:ext cx="8820000" cy="4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 Кейнсианская функция потребления и сбережения. Её критика другими школам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898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Средняя склонность к сбережению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АР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 – это доля располагаемого дохода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, которая сберегается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95360" y="4653000"/>
                <a:ext cx="631512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Р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Сбережения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оход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898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редельная склонность к потреблению (МРС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доля изменения потребительских расходов в каждой дополнительной денежной единице дохода, которая его вызвала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26920" y="5229360"/>
                <a:ext cx="774072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 в потреблении </m:t>
                        </m:r>
                        <m:r>
                          <m:t xml:space="preserve">(</m:t>
                        </m:r>
                        <m:r>
                          <m:t xml:space="preserve">ΔС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 в доходе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898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Предельная склонность к сбережению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МРS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 – доля изменения сбережений в каждой дополнительной денежной единице дохода, которая его вызвала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044720" y="4869000"/>
                <a:ext cx="7127640" cy="11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 в сбережениях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  в доходе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Δ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+ Δ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S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= Δ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Yd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РC + МРS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=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00000" y="2997360"/>
                <a:ext cx="7634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МР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89080"/>
            <a:ext cx="7918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оложения кейнсианской теории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1. Потребление (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) есть функция располагаемого дохода (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Yd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):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 С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Yd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).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2. Величина предельной склонности к потреблению (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М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) характеризует прирост потребительских расходов на единицу прироста располагаемого дохода и находится в пределах от 0 до 1, т. е. 0 &lt;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М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&lt; 1. Больше 0 означает, что потребление растет; меньше 1 означает, что потребление растет меньше, чем доход.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3. По мере роста дохода растут и потребление, и сбережения; но доля дохода, направляемая на потребление, уменьшается в соответствии с «основным психологическим законом»;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Yd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↑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А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↓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АРS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↑.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При этом: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М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&lt;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А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Кейнсианская простейшая функция потребления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 Са + МРС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· </a:t>
            </a:r>
            <a:r>
              <a:rPr b="1" i="1" lang="ru-RU" sz="20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i="1" lang="en-US" sz="2000" spc="-1" strike="noStrike">
                <a:solidFill>
                  <a:srgbClr val="ccec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635280" y="4365720"/>
                <a:ext cx="201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↑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↓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11280" y="404640"/>
          <a:ext cx="81360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4640"/>
                    <a:ext cx="81360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ри основных гипотезы относительного влияния дохода на потребление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1. Гипотеза абсолютного доход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2. Гипотеза относительного доход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3. Гипотеза перманентного доход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8515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4. Неоклассическая функция потребления и сбережения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ь неоклассической функции потреблен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ункция построена на концепции эндогенного дохода; экономический субъект сам определяет какова будет величина его дохода посредством распределения своего календарного времени на рабочее и свободно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424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-838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ребление и сбережения: понятия, взаимосвязь. 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Основные мотивы сбережений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Кейнсианская функция потребления и сбережения. Её критика другими школами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3. Оптимальное распределение дохода между потреблением и сбережением. Теория межвременного выбора Ирвинга Фишер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4. Неоклассическая функция потребления и сбереже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00000" y="115920"/>
          <a:ext cx="741708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5920"/>
                    <a:ext cx="74170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4149720"/>
            <a:ext cx="842472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концепции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еоклассический школы: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сбережения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пределяются как функция от ставки %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, а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отреблени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статочным методом: остаток от той суммы, из которой были сделаны сбереже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бъем потребления – убывающая функция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C(r)= Ca –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r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· r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+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·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ункция сбережений – возрастающая функция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)= -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a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· r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a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– независимый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бъем потребления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·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– параметр реакции потребления/сбережения при изменении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на один пунк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ход складывается из дохода от труда и дохода от имуществ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-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тавка заработной пла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рабочее врем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оход от имущества, равный доходу от прежних сбереж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16360" y="2349360"/>
                <a:ext cx="40384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N</m:t>
                    </m:r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номическому субъекту нужно определить, сколько времени он должен посвятить работе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и тем самым сформировать свой дох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лендарное время (К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+ 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 –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вободное врем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я полезнос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=f(y, 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556000" y="2421000"/>
                <a:ext cx="403848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акторы, влияющие на динамику потребления и сбере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алог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ровень це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Экономические ожида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огатств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редлож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отребление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) представляет собой индивидуальное и совместное использование потребительских благ, направленное на удовлетворение материальных и духовных потребностей людей.                В стоимостной форме это та сумма денег, которая тратится населением на приобретение товаров и услуг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Потребление и сбережения: понятия, взаимосвязь. </a:t>
            </a:r>
            <a:r>
              <a:rPr b="1" lang="ru-RU" sz="1200" spc="-1" strike="noStrike">
                <a:solidFill>
                  <a:srgbClr val="ffffff"/>
                </a:solidFill>
                <a:latin typeface="Arial Unicode MS"/>
              </a:rPr>
              <a:t>Основные мотивы сбереж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52360" y="-1693800"/>
            <a:ext cx="9972720" cy="100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бережения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 – это отсроченное на будущее потребление или часть дохода, которая не потребляется в настоящее время.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Они равны разнице между доходами (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 и текущим потреблением (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, т. е.,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Y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 С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+ </a:t>
            </a: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;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S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–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заимосвязь дохода и потребления, дохода и сбережения называется,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функцией потребления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 f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и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функцией сбережения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S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=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f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ри основных мотива сбережений: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1. Нивелирование потребления во времени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2. Формирование постоянного богатства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3. Наличие процентной став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-838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чина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ивелирования потребления во време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отока потребления заключена в законе убывающей предельной полезности, согласно которому настоящее и будущее потребление должны осуществляться так, чтобы выполнялось условие нивелирования во времени предельной полезност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2. Формирование постоянного богатства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ля создания богатства существуют разные мотивы: сбережения, связанные с наследством, престиж и власть, мотив предосторожност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6:31:33Z</dcterms:created>
  <dc:creator>1</dc:creator>
  <dc:description/>
  <dc:language>en-US</dc:language>
  <cp:lastModifiedBy>User</cp:lastModifiedBy>
  <dcterms:modified xsi:type="dcterms:W3CDTF">2012-06-15T04:21:11Z</dcterms:modified>
  <cp:revision>43</cp:revision>
  <dc:subject/>
  <dc:title>ЛЕКЦИЯ 16</dc:title>
</cp:coreProperties>
</file>