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EF7-9C0B-4A29-8811-7FC493BE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A85-EF85-460F-9539-3C4A7936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B3D-5A17-404A-9531-0B291267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10D-C303-4BDF-9106-DA1BA128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EA0F-74E4-4886-A25D-06439027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4433-915D-4EC5-A286-9C4EF823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E21-09F7-4920-87E4-E040F93C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DA98-4226-4BF5-B9B6-E1CE91FB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CFA3-4626-49DE-A19E-6B934F3E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C004-5174-4C5A-85AA-F8096658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5C47-97C8-4490-9E20-A17A97BA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685-BD0D-4476-97FF-13C3D284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667C-6E91-4234-91DC-469CAE3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1D65-2DC4-4C75-825A-B6F33E7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BFBF-97FE-4EC5-9DB7-6378AFB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AD31-F531-4BE2-9DBE-A20AD3FE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8932-C02E-45EC-9399-7C187CEB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4A4-8568-42AA-8494-F3D410BA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29D-CC34-4127-B50E-4A66C605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AED-A799-46A9-8916-4F976DC4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14F-4B70-4994-96F5-D528E0EE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71F-8A57-493F-AB7C-7E68D8E4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0EC-B64E-44A1-A1E5-0EBE4A1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B3F-6D88-4970-8B60-7E24863D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ACF8-5DE2-45E4-BDE6-A051F3B96DD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08E8-01AE-42D8-8B1D-64CF1210891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35344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М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Макроэкономическая нестабильность. Экономические циклы и экономический рост.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ffff66"/>
                </a:solidFill>
                <a:latin typeface="Verdana"/>
              </a:rPr>
              <a:t>Кусенова Кульбагиля Казиевна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ffff66"/>
                </a:solidFill>
                <a:latin typeface="Verdana"/>
              </a:rPr>
              <a:t>старший преподаватель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ffff66"/>
                </a:solidFill>
                <a:latin typeface="Verdana"/>
              </a:rPr>
              <a:t>кафедры экономики и управления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ибольшее внимание всегда уделялось деловому (классическому) циклу. Последний начал выделяться более 170 лет назад, когда развитая денежная экономика стала заменять общество с относительно натуральным хозяйством. 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н охватывает самые разные стороны экономической жизни: производство, занятость, доход, цены и др. и включает в себя четыре фазы</a:t>
            </a: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экспансию (подъем), сжатие (кризис), депрессию, оживление</a:t>
            </a: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Фазы экономического цикла: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 – сжатия (кризиса), 2 – депрессии, 3 – оживления,  4 – экспансии (подъема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1197000"/>
          <a:ext cx="867564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6756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аза </a:t>
            </a:r>
            <a:r>
              <a:rPr b="0" lang="ru-RU" sz="3200" spc="-1" strike="noStrike" u="sng">
                <a:solidFill>
                  <a:srgbClr val="ccecff"/>
                </a:solidFill>
                <a:uFillTx/>
                <a:latin typeface="Arial"/>
              </a:rPr>
              <a:t>экспансии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характеризуется ростом цен производителей, объемов производства, занятости, инвестиций, личных доходов и заканчивается бумом - периодом сверхвысокой занятости и перегрузки производственных мощностей. Во время</a:t>
            </a:r>
            <a:r>
              <a:rPr b="0" lang="ru-RU" sz="3200" spc="-1" strike="noStrike" u="sng">
                <a:solidFill>
                  <a:srgbClr val="ccecff"/>
                </a:solidFill>
                <a:uFillTx/>
                <a:latin typeface="Arial"/>
              </a:rPr>
              <a:t> бума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уровень цен, ставка зарплаты и норма процента очень высоки. В высшей точке цикла, называемой </a:t>
            </a:r>
            <a:r>
              <a:rPr b="0" lang="ru-RU" sz="3200" spc="-1" strike="noStrike" u="sng">
                <a:solidFill>
                  <a:srgbClr val="ccecff"/>
                </a:solidFill>
                <a:uFillTx/>
                <a:latin typeface="Arial"/>
              </a:rPr>
              <a:t>вершиной или пиком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, все вышеназванные показатели достигают максимального значения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еизбежным следствием бума является поворот в развитии цикла, когда рост производства сменяется его падением. Это свидетельствует о наступлении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фазы </a:t>
            </a:r>
            <a:r>
              <a:rPr b="0" lang="ru-RU" sz="2800" spc="-1" strike="noStrike" u="sng">
                <a:solidFill>
                  <a:srgbClr val="ccecff"/>
                </a:solidFill>
                <a:uFillTx/>
                <a:latin typeface="Arial"/>
              </a:rPr>
              <a:t>кризиса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Возрастание нереализуемых товарных запасов приводит к снижению объемов производства. Сокращаются производственные инвестиции и, следовательно, падает спрос на рабочую силу. Это означает рост безработицы, сокращение продолжительности рабочей недели. Падает спрос на сырье, а затем и предложение сырья. Происходит снижение или замедление роста товарных цен. Наблюдается резкое уменьшение прибылей, ослабевает спрос на кредит, снижается процентная ставк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 фазе </a:t>
            </a:r>
            <a:r>
              <a:rPr b="0" lang="ru-RU" sz="2800" spc="-1" strike="noStrike" u="sng">
                <a:solidFill>
                  <a:srgbClr val="ccecff"/>
                </a:solidFill>
                <a:uFillTx/>
                <a:latin typeface="Arial"/>
              </a:rPr>
              <a:t>депресси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сохраняется падение национального дохода и увеличение безработицы, объем инвестиций близок к нулю. Через определенное время экономическая система преодолевает низшую точку цикла, называемую дном, и начинается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живление</a:t>
            </a:r>
            <a:r>
              <a:rPr b="0" i="1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ри нем движение всех экономических показателей меняет направление, доход и занятость вновь начинают расти. Когда предприятия доводят объем производства до высшей точки, достигнутой в предыдущем цикле, то с этого момента начинается экономический подъем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се многообразие подходов экономистов к объяснению причин циклов можно подразделить на следующие: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1) объясняют цикл экзогенными (внешними) факторами (явления вне экономической системы: рост или уменьшение численности населения; коренные изменения технологии; политические события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) эндогенными (внутренними) факторами (внутри экономической системы: влияние потребления (С); инвестирования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) и деятельности правительств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искальная и денежно-кредитная политика);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) синтезом тех и других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нтициклическая поли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иод подъема государство в целях предотвращения «перегрева» экономики проводит политику сдерживания деловой актив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иод спада все мероприятия государства направлены на стимулирование деловой актив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овременная теория связана с моделью делового цикла Самуэльсона-Хикса.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 ней цикл рассматривается как результат взаимодействия НД (или ВНП), потребления и накопления капитал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Данная связь является устойчивой и характеризуется мультипликатором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оказывает зависимость прироста НД (или ВНП) от прироста капиталовложений (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и акселератором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зависимость прироста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ложений от прироста НД (ВНП)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216000"/>
            <a:ext cx="7559640" cy="333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. Модель делового цикла Самуэльсона-Хикса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292720" y="4508640"/>
                <a:ext cx="2519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ВНП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инвестиций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53080"/>
            <a:ext cx="84978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Самуэльсон и Хикс считают, что соединение принципа акселератора с мультипликатором может воссоздать такой же цикл, как и в реальной жизн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Предположим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экономика идет к полной занятости: ВНП увеличивается, реализация продукции осуществляется при растущих темпах. Тогда по принципу акселератора увеличение реализации продукции приводит к высокому уровню Y, а благодаря мультипликатору повышение уровня инвестиций способствует дальнейшему росту ВНП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Экономика в этом случае пребывает в фазе подъема. Возможна обратная ситу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95280" y="620640"/>
            <a:ext cx="8353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Экономический (деловой) цикл. Причины и фазы цикла. Основные мероприятия антикризисной полити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одель делового цикла Самуэльсона-Хикс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одель экономического роста Соло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одель экономического роста Харрода-Домара (самостоятельно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«Золотое правило накопления» Фэлпса (самостоятельно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283680"/>
            <a:ext cx="864216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модели Самуэльсона-Хикса уравнение инвестиций, основанное на принципе аксел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t = B (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-1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- У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-2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-1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продукт (t-1) года;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-2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продукт (t-2) года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Из условия равновесия спроса и предложения следует, что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Уt = Ct + It, а Ct = Со + Су · Уt;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тогда м</a:t>
            </a: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ожно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записать следующее динамическое уравнение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Уt = Со + Су 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-1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+ B (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-1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- 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-2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) =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(Су + B) 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-1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- В У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-2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+ Со + Iо +Gо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ведем автономные инвести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государст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енные расхо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А – экзогенная величина автономного спроса</a:t>
            </a:r>
            <a:r>
              <a:rPr b="0" lang="ru-RU" sz="27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 + Iо +G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116784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ученная формула выражает изменение дохода во врем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величина дохода постоянна, 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= 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1 = 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2 = ... 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= 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реобразовав наше уравнение динамического равновесия получ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= (Су +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у – В · у + А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=у · Су + Ву – Ву + 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– Су ·У = А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=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/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-C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3205080" y="-1755720"/>
            <a:ext cx="15984360" cy="99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567720"/>
            <a:ext cx="8353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Колебания рассматриваемой системы начнутся при возникновении внешнего толчка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Причиной этого толчка является изменение экзогенной величины автономного спроса  А (точнее, хотя бы одной из ее составляющих) Со, Iо, G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828720" y="-1467000"/>
            <a:ext cx="11714040" cy="916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75240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арактер изменения ∆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зависит от дискриминанта равного величи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Су + В)2 – 4В = Д. Если Д &gt;0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 величина дохода 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зменяется монотонно (зоны I  и IV). Если Д&lt;0, то величина дохода 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зменяется колебательного (II, III, V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тематически доказывается, что данное уравнение имеет характеристический вид и общее решение. В зависимости от значения коэффициента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акселератора В) из модели Самуэльсона-Хикса выводятся 4 вида экономической динам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9888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404640"/>
          <a:ext cx="9144000" cy="585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58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050920" y="1628640"/>
            <a:ext cx="640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&lt;B&lt;D          D&lt;B&lt;1          1&lt;B&lt;D          B&gt;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91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Неоклассические модели экономического роста строятся с использованием аппарата производственных функций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Значительную роль в разработке моделей макроэкономического роста на базе производственных функций сыграл Р. Солоу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 1956 г. он опубликовал статью, в которой предложил простую непрерывную, односекторную модель экономической динамики. Она позволяет математически выразить наиболее важные процессы и результаты экономического роста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Макроэкономика в модели Солоу представлена 5 переменными и описывается системой из 5 уравнений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Переменные У, С, S – валовые накопления, L – объем наличных трудовых ресурсов, К – объем наличного основного капитала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равнения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) У = F (K, 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) У = C + 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) S =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· У, гд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– норма накопления 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0 &lt;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&lt; 1;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– соn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·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гд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постоянный коэффициент выбытия элементов основного капитала 0 &lt;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&lt; 1, M – соnst,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чистый прирост капитал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) L = d ·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коэффициент пропорционального прироста рабочей силы в зависимости от ее объема d- соnst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чистый прирост К, описываемый производной в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L – прирост рабочей силы (производная в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можности модели Солоу весьма широки. Она позволяет находить тенденцию макроэкономического развития с требуемой капиталовооруженностью и оптимальную норму накопления, моделировать виды технического прогресса (автономный, материализованный, нейтральный), решать другие задач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втономный (экзогенный) НТП представлен производственной функцией описывающей изменение технологии в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езависимо от изменений переменных состояний экономики (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времени) Это изменяется в специализации, кооперации, управлении и т.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зличные подходы к определению экономической цикличности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1.</a:t>
            </a:r>
            <a:r>
              <a:rPr b="0" i="1" lang="ru-RU" sz="2800" spc="-1" strike="noStrike">
                <a:solidFill>
                  <a:srgbClr val="ccecff"/>
                </a:solidFill>
                <a:latin typeface="Arial"/>
              </a:rPr>
              <a:t> Экономический цикл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редставляет собой единый процесс, последовательно проходящий через фазы кризисов и подъемов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ачиная с 60-х годов XIX в., когда К. Жугляр статистически доказал наличие 10-летней периодичности, объектом изучения стал весь цикл развития экономики, а не его отдельная фаза – кризис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216000"/>
            <a:ext cx="7559640" cy="476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Arial"/>
              </a:rPr>
              <a:t>1. </a:t>
            </a:r>
            <a:r>
              <a:rPr b="1" i="1" lang="ru-RU" sz="1400" spc="-1" strike="noStrike">
                <a:solidFill>
                  <a:srgbClr val="ccecff"/>
                </a:solidFill>
                <a:latin typeface="Arial"/>
              </a:rPr>
              <a:t>Экономический (деловой) цикл. Причины и фазы цикла. Основные мероприятия антикризисной политики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ьный (овеществленный) НТП характеризуется переменными, которые принимают активное участие в изменении производственной функции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, t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йтральный НТП определяется такими техническими изменениями (автономного или материализованного вида), которые не нарушают равновесия, т.е. экономически и социально безопасны для общ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ccecff"/>
                </a:solidFill>
                <a:latin typeface="Arial"/>
              </a:rPr>
              <a:t>Экономический цикл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является многокомпонентным процессом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Общее колебательное движение складывается из нескольких составляющих, которые выражают динамику наиболее важных агрегатов экономики и имеют разные периоды и механизмы колебани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деляют следующие деловые циклы: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- «длинные волны Кондратьева» (45 – 60 лет),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- «циклы С. Кузнеца» (15 – 25 лет),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- классический цикл Маркса – Жугляра, продолжительность которого составляла раньше 7 – 11 лет, теперь 5 – 7 лет,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- «циклы Китчина» (2 – 3 года) и др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3. Существует взгляд на цикл как на колебание, происходящее вокруг положения равновес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 классической теории экономическое равновесие ассоциировалось с полной занятостью.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лассики считали, что в период кризисов происходит срыв с равновесной траектории вниз, а в период подъемов постепенное возвращение к предкризисному уровню.         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Дж. М. Кейнс доказал возможность экономического равновесия при неполной занятости на основании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чего в дальнейшем возобладал взгляд на цикл как на колебание, происходящее вокруг положения равновесия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4. Циклические колебания происходят вокруг трендовой траектории хозяйственного роста (долговременный экономический рост)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 50-х гг. XX в. с помощью новых теоретических моделей удалось доказать независимость колебательных механизмов от трендового движения. Следствием этого явилось глубокое размежевание между теориями цикла и роста. Однако на графике циклические колебания изображаются как отклонения от линии, представляющей долговременную тенденцию. При этом тренд механически накладывается на бестрендовую модель колебаний.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5. Цикличность – способ саморегулирования рыночной экономики.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днако если ничего не предпринимать в отношении циклических колебаний, то они способны усиливаться и могут разрушить экономическую систему. Поэтому для экономистов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цикл является не только предметом изучения, но и объектом управления.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ни смотрят на него и как на стихийно возникающий, и как на сознательно формируемый феномен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период, когда господствовали представления об эффективности механизма свободной конкуренции, провозглашалось невмешательство государства в экономическую жизнь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период зарождения кейнсианства считалось обязательным активное антикризисное регулирование со стороны государства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настоящее время обоснована возможность и необходимость государственного вмешательства в ход общественного воспроизводства, но усиленно дискутируются вопросы о путях и интенсивности этого вмешательства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осударство должно осторожно осуществлять антициклические мероприятия, поскольку непродуманные действия могут негативно сказаться на экономическом развитии страны спустя несколько лет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640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период, когда господствовали представления об эффективности механизма свободной конкуренции, провозглашалось невмешательство государства в экономическую жизнь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период зарождения кейнсианства считалось обязательным активное антикризисное регулирование со стороны государства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настоящее время обоснована возможность и необходимость государственного вмешательства в ход общественного воспроизводства, но усиленно дискутируются вопросы о путях и интенсивности этого вмешательства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осударство должно осторожно осуществлять антициклические мероприятия, поскольку непродуманные действия могут негативно сказаться на экономическом развитии страны спустя несколько лет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5T04:20:37Z</dcterms:modified>
  <cp:revision>61</cp:revision>
  <dc:subject/>
  <dc:title>PowerPoint Presentation</dc:title>
</cp:coreProperties>
</file>