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98FF-9A5E-45ED-B7BE-9A2378A70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1C89-9670-4950-AB17-0FCA5A0CA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FFA8-79CE-4625-BE12-CE93D3943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13C3-4983-49B6-802F-10FEF3548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399D5-5420-4D03-BCDE-7AD9C36D0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6CADA-A0BF-4971-8C36-23412C7CF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A9504-069D-4FA7-BAA5-3D970435E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1A2D2-3859-48A1-84B0-37A260D46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EABA9-5169-4480-B469-6C4632E83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B6041-AC35-4283-8559-F8104042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9BB4B-17D8-40E8-81F3-A135060F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A340-14CD-4EC5-9F0C-5D4A44005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63F46-8C72-46B7-8145-BE5C2FF0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C7BDB-6A98-4110-A359-6862D3C5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1F480-2669-4CB9-86D8-0512E05F9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0E0C2-55FF-4A48-B170-7E46CF04F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8AC87-6761-4EA7-8F35-0EF4E0207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E418-0D23-49A7-B72D-94A547B7C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29AD-7D40-4E6B-BE6B-A3AE6AB57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B197-64C0-4D80-AEEF-DBECEA271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2BA5-C8B3-4C85-B41D-246337BB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DC45-06AB-42A9-8C00-9034A77E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8E27-E81A-429E-9B13-B1F0508F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5B32-3209-4AEE-8150-20ED2FD1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1720F-3845-4E41-A794-2F7B9879593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63C24-70C1-49AE-BE72-099A90E0F5A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e5ec"/>
            </a:gs>
            <a:gs pos="50000">
              <a:srgbClr val="ffffff"/>
            </a:gs>
            <a:gs pos="100000">
              <a:srgbClr val="a6e5e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680"/>
            <a:ext cx="7239240" cy="381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Тема 13</a:t>
            </a:r>
            <a:br>
              <a:rPr sz="4000"/>
            </a:b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Платежный баланс страны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i="1" lang="ru-RU" sz="1800" spc="-1" strike="noStrike">
                <a:solidFill>
                  <a:srgbClr val="006666"/>
                </a:solidFill>
                <a:latin typeface="Arial"/>
              </a:rPr>
              <a:t>Кусенова Кульбагиля Казиевна</a:t>
            </a:r>
            <a:br>
              <a:rPr sz="1800"/>
            </a:br>
            <a:r>
              <a:rPr b="0" i="1" lang="ru-RU" sz="1800" spc="-1" strike="noStrike">
                <a:solidFill>
                  <a:srgbClr val="006666"/>
                </a:solidFill>
                <a:latin typeface="Arial"/>
              </a:rPr>
              <a:t>старший преподаватель</a:t>
            </a:r>
            <a:br>
              <a:rPr sz="1800"/>
            </a:br>
            <a:r>
              <a:rPr b="0" i="1" lang="ru-RU" sz="1800" spc="-1" strike="noStrike">
                <a:solidFill>
                  <a:srgbClr val="006666"/>
                </a:solidFill>
                <a:latin typeface="Arial"/>
              </a:rPr>
              <a:t>кафедры экономики и управления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e5ec"/>
            </a:gs>
            <a:gs pos="50000">
              <a:srgbClr val="ffffff"/>
            </a:gs>
            <a:gs pos="100000">
              <a:srgbClr val="a6e5e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Активное сальдо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Активное сальдо платежного баланса используется государством для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погашения (в том числе досрочного) внешней задолженности страны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предоставления кредитов иностранным государствам;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увеличения официальных золотовалютных резервов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вывоза капитала в целях создания второй экономики за рубежом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e5ec"/>
            </a:gs>
            <a:gs pos="50000">
              <a:srgbClr val="ffffff"/>
            </a:gs>
            <a:gs pos="100000">
              <a:srgbClr val="a6e5e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Дефицит платежного баланса и методы его регулировани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450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Дефицит платежного баланса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–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макроэкономический показатель, отражающий ситуацию, при которой суммарные чистые поступления в страну иностранной валюты на текущий счет и счет движения капиталов являются отрицательными.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e5ec"/>
            </a:gs>
            <a:gs pos="50000">
              <a:srgbClr val="ffffff"/>
            </a:gs>
            <a:gs pos="100000">
              <a:srgbClr val="a6e5e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369800" y="1628640"/>
            <a:ext cx="73134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Государственное регулирование платежного баланса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- это совокупность экономических, в том числе валютных, финансовых, денежно-кредитных мероприятий государства, направленных на формирование основных статей платежного баланса ,а также покрытие сложившегося сальдо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Дефицит платежного баланса и методы его регулировани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e5ec"/>
            </a:gs>
            <a:gs pos="50000">
              <a:srgbClr val="ffffff"/>
            </a:gs>
            <a:gs pos="100000">
              <a:srgbClr val="a6e5e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369800" y="1628640"/>
            <a:ext cx="7313400" cy="43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Материальной основой регулирования платежного баланса служат: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1)государственная собственность, в том числе официальные золото - валютные резервы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2)возрастание доли (до 40-50%) национального дохода,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перераспределяемого через государственный бюджет 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3)непосредственное участие государства в международных экономических отношениях как экспортера капиталов кредитора, гаранта , заемщика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4)регламентация внешнеэкономических операций с помощью нормативных актов и органов государственного контроля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Дефицит платежного баланса и методы его регулировани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e5ec"/>
            </a:gs>
            <a:gs pos="50000">
              <a:srgbClr val="ffffff"/>
            </a:gs>
            <a:gs pos="100000">
              <a:srgbClr val="a6e5e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транами, c дефицитным платежным балансом, предпринимаются мероприятия с целью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стимулирования экспорта;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сдерживания импорта товаров;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привлечения иностранных капиталов;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ограничения вывоза капиталов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Дефицит платежного баланса и методы его регулировани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e5ec"/>
            </a:gs>
            <a:gs pos="50000">
              <a:srgbClr val="ffffff"/>
            </a:gs>
            <a:gs pos="100000">
              <a:srgbClr val="a6e5e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Проводимые мероприяти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Дефляционная политик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Изменение валютного курс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Валютные ограничени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Финансовая и денежно-кредитная политик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Специальные меры государственного воздействи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Дефицит платежного баланса и методы его регулировани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e5ec"/>
            </a:gs>
            <a:gs pos="50000">
              <a:srgbClr val="ffffff"/>
            </a:gs>
            <a:gs pos="100000">
              <a:srgbClr val="a6e5e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258920" y="1700280"/>
            <a:ext cx="7313760" cy="46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ефляционная политика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литика, направленная на сокращение внутреннего спроса, включает ограничение бюджетных расходов преимущественно на гражданские цели, замораживание цен и заработной плат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дним из важнейших ее инструментов служат финансовые и денежно-кредитные меры: уменьшение бюджетного дефицита, изменения учетной ставки центрального банка (дисконтная политика), кредитные ограничения, установление пределов роста денежной масс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пециальные меры государственного воздействи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на платежный баланс в ходе формирования его основных статей - торгового баланса, «невидимых» операций, движения капитал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e5ec"/>
            </a:gs>
            <a:gs pos="50000">
              <a:srgbClr val="ffffff"/>
            </a:gs>
            <a:gs pos="100000">
              <a:srgbClr val="a6e5e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258920" y="1628280"/>
            <a:ext cx="7313760" cy="44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алютные ограничения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Блокирование инвалютной выручки экспортеров, лицензирование продажи иностранной валюты импортерам, сосредоточение валютных операций в уполномоченных банках направлены на устранение дефицита платежного баланса путем ограничения экспорта капитала и стимулирования его притока, сдерживания импорта товаров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Финансовая и денежно-кредитная политика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Для уменьшения дефицита платежного баланса используются бюджетные субсидии экспортерам, протекционистское повышение импортных пошлин, отмена налога с процентов, выплачиваемых иностранным держателям ценных бумаг в целях притока капитала в стран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e5ec"/>
            </a:gs>
            <a:gs pos="50000">
              <a:srgbClr val="ffffff"/>
            </a:gs>
            <a:gs pos="100000">
              <a:srgbClr val="a6e5e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Валютный курс и влияние его на платежный баланс страны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Содержимое 2"/>
          <p:cNvSpPr/>
          <p:nvPr/>
        </p:nvSpPr>
        <p:spPr>
          <a:xfrm>
            <a:off x="1000080" y="1785960"/>
            <a:ext cx="7683480" cy="43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ютный кур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цена денежной единицы одной страны, выраженная в денежной единице другой стра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или понижение курса немедленно и непосредственно воздействует на экономическое положение стра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яются ее внешнеэкономические показатели, валютные резервы, задолженность, динамика товарных и финансовых поток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e5ec"/>
            </a:gs>
            <a:gs pos="50000">
              <a:srgbClr val="ffffff"/>
            </a:gs>
            <a:gs pos="100000">
              <a:srgbClr val="a6e5e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Основные типы валютный курсов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71640" y="1827360"/>
            <a:ext cx="771192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«Плавающий» -  курс национальной валюты по отношению к иностранным свободно колеблется в зависимости от спроса и предложен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Фиксированный курс – национальная валюта жестко привязана к другой валюте или к другому паритет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преимуществам «плавающего» валютного курса относится возможность правительства проводить относительно независимую национальную экономическую политик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имущества фиксированного курса заключаются в возможности более точного прогнозирования будущих поступлений от внешнеэкономической деятельности, осуществления длительных контрактных соглашений, коммерческих сделок и т.д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e5ec"/>
            </a:gs>
            <a:gs pos="50000">
              <a:srgbClr val="ffffff"/>
            </a:gs>
            <a:gs pos="100000">
              <a:srgbClr val="a6e5e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лан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Понятие платежного баланса. Его характеристика и структура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Факторы состояния платежного баланса страны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Сальдо и регулирование дефицита платежного баланса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Валютный курс как средство регулирования платежного баланса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ff9f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Девальваци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40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нижение курса национальной валюты направлено на стимулирование экспорта и содержание импорта товар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140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140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евальвация стимулирует экспорт товаров лишь при наличии экспортного потенциала конкурентоспособных товаров и услуг и благоприятной ситуации на мировом рынке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140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e5ec"/>
            </a:gs>
            <a:gs pos="50000">
              <a:srgbClr val="ffffff"/>
            </a:gs>
            <a:gs pos="100000">
              <a:srgbClr val="a6e5e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Поняти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31640" y="1700280"/>
            <a:ext cx="7313400" cy="441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латежный баланс (ПБ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представляет собой количественное и качественное выражение масштабов, структуры и характера внешнеэкономических связей государств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Платежный баланс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–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это соотношение фактических платежей, произведенных данной страной за границей, и поступлений, полученных ею из-за границы, за определенный период времени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e5ec"/>
            </a:gs>
            <a:gs pos="50000">
              <a:srgbClr val="ffffff"/>
            </a:gs>
            <a:gs pos="100000">
              <a:srgbClr val="a6e5e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Структура платежного баланс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Платежный баланс имеет следующие разделы 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торговый баланс, т.е. соотношение между вывозом и ввозом товаров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баланс услуг и некоммерческих платежей (баланс «невидимых» операций);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баланс движения капиталов и кредитов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e5ec"/>
            </a:gs>
            <a:gs pos="50000">
              <a:srgbClr val="ffffff"/>
            </a:gs>
            <a:gs pos="100000">
              <a:srgbClr val="a6e5e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116000" y="1557000"/>
            <a:ext cx="7313760" cy="56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Торговый баланс -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это сопоставление поступлений от экспорта и платежей по импорту товаров. В ПБ входит только та часть торгового баланса, по которой платежи уже совершены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57120" indent="-35712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Баланс услуг и некоммерческих платежей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включает поступления и платежи по различного рода услугам: платежи и поступления по транспортным перевозкам; по почтово-телеграфной, по телефонной, по электронной и теле космической связи; по туризму; по научному и культурному обмену; и др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Торговый баланс страны и баланс услуг и некоммерческих платежей образуют 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текущий баланс</a:t>
            </a: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 (баланс текущих операций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57120" indent="-35712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Баланс движения капиталов и кредитов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отражает приток и вывоз капиталов, а также предоставление и получение международных кредитов.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Структура платежного баланс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e5ec"/>
            </a:gs>
            <a:gs pos="50000">
              <a:srgbClr val="ffffff"/>
            </a:gs>
            <a:gs pos="100000">
              <a:srgbClr val="a6e5e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Характеристика платежного баланс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Активный ПБ - валютные поступления превышают платеж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Пассивный ПБ - платежи превышают поступления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Дебетовая сторона платежного баланса соответствует понятию «платежи», «расходы», и относимые на нее цифры сопровождаются знаком «минус» (-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Кредитовая сторона соответствует понятию «поступления», «доходы», и относимые на нее цифры либо сопровождаются знаком «плюс» (+), либо проводятся вовсе без всякого знака.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e5ec"/>
            </a:gs>
            <a:gs pos="50000">
              <a:srgbClr val="ffffff"/>
            </a:gs>
            <a:gs pos="100000">
              <a:srgbClr val="a6e5e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369800" y="188640"/>
            <a:ext cx="7313400" cy="57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Платежный баланс дает представление об участии страны в мировом хозяйстве, масштабах, структуре и характере ее внешнеэкономических связей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В платежном балансе отражаются :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Структурные диспозиции экономики, определяющие разные возможности экспорта и потребности импорта товаров, капиталов и услуг;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Изменения в соотношении рыночного и государственного регулирования экономики;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Конъюнктурные факторы (степень международной конкуренции, инфляции, изменения валютного курса и др.)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e5ec"/>
            </a:gs>
            <a:gs pos="50000">
              <a:srgbClr val="ffffff"/>
            </a:gs>
            <a:gs pos="100000">
              <a:srgbClr val="a6e5e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15640" y="301320"/>
            <a:ext cx="7567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Факторы состояния платежного баланса: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Неравномерность экономического и политического развития стран, международная конкуренци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Циклические колебания экономик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Рост заграничных государственных расходов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Милитаризация экономики и военные расходы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Усиление международной финансовой взаимозависимост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Изменения в международной торговле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Отрицательное влияние инфля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Чрезвычайные обстоятельства - неурожай, стихийные бедствия, катастрофы и т.д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e5ec"/>
            </a:gs>
            <a:gs pos="50000">
              <a:srgbClr val="ffffff"/>
            </a:gs>
            <a:gs pos="100000">
              <a:srgbClr val="a6e5e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альдо платежного баланса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При определении сальдо платежного баланса его статьи подразделяются на 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основные и балансирующие.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В числе 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основных статей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– операции, влияющие на сальдо платежного баланса и обладающие относительной самостоятельностью: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текущие операции и движение долгосрочного капитал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К 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балансирующим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статьям относятся операции, не имеющие самостоятельности или обладающие ограниченной самостоятельностью: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внешние государственные займы, кредиты международных валютно-кредитных организаций и т.п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08:01:26Z</dcterms:created>
  <dc:creator>Komp</dc:creator>
  <dc:description/>
  <dc:language>en-US</dc:language>
  <cp:lastModifiedBy>K213-03</cp:lastModifiedBy>
  <dcterms:modified xsi:type="dcterms:W3CDTF">2012-06-14T08:47:46Z</dcterms:modified>
  <cp:revision>8</cp:revision>
  <dc:subject/>
  <dc:title>Платежный баланс страны</dc:title>
</cp:coreProperties>
</file>