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61A-C7EE-4317-91FA-814D3179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BCA-7F99-4C52-9DA3-5A340B31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A37-8591-4FE5-98F3-78E51775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091-45BA-4B0B-B681-362353DA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889C-BF2B-433C-BEC6-2F0363FC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675B-AE6E-4A8A-BC36-953D862B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E519-4C70-455A-BC09-760044CB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E94C-5FC8-40AF-BEE7-31C9BF67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28EC-1448-4A06-949E-87B70ACF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0F1C-8AA8-4226-9483-A91CAFCD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25D1-7EEB-44C8-B49B-AFA2F936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65D-6DF5-4C70-88F2-673737F5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D32B-82D0-4208-8AF4-421FE4B6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F442-7497-4884-B550-A8649C9E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2A8D-7762-4F8C-8023-B57AFF0C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FFEA-110F-4B7C-967C-225A7B26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97E9-5DBF-4C88-B22D-01F74C48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3C6-D504-4FB9-9BE9-FF28CA05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0D8-016A-4791-8DC3-8A2261C3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D29-DA1B-43D1-95E9-A785C20F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1D7-CB0D-465B-BB06-9D857956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FD9-C59B-46E8-B4D9-FB561497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0E4-A924-49A9-8F14-EE35113E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F57-AAA6-4A17-9188-FF50EFD2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4425-A6AC-4D10-A91F-0D73C0D9011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EF5E-805D-4FC3-AEFC-6AACB1D60A0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ТЕМА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ВЕДЕНИЕ В МАКРОЭКОНОМИКУ. ОСНОВНЫЕ МАКРОЭКОНОМИЧЕСКИЕ ПОКАЗАТЕЛ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66"/>
                </a:solidFill>
                <a:latin typeface="Verdana"/>
              </a:rPr>
              <a:t>Кусенова Кульбагиля Казиевна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66"/>
                </a:solidFill>
                <a:latin typeface="Verdana"/>
              </a:rPr>
              <a:t>старший преподаватель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66"/>
                </a:solidFill>
                <a:latin typeface="Verdana"/>
              </a:rPr>
              <a:t>кафедры экономики и управления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Unicode MS"/>
              </a:rPr>
              <a:t>Четыре агрегированных рынка: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Unicode MS"/>
              </a:rPr>
              <a:t>1) рынок благ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Unicode MS"/>
              </a:rPr>
              <a:t>2) рынок труда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Unicode MS"/>
              </a:rPr>
              <a:t>3) рынок денег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Unicode MS"/>
              </a:rPr>
              <a:t>4) рынок ценных бума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85690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Национальная экономик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в целом – это сумма усилий отдельных хозяйств; экономические отношения между отдельными хозяйствами, возникающими внутри одного государства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1224000" y="-1827360"/>
            <a:ext cx="10980720" cy="9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321840"/>
            <a:ext cx="868680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Verdana"/>
              </a:rPr>
              <a:t>Условие равновесия открытой экономики может быть представлено следующим уравнением: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Verdana"/>
              </a:rPr>
              <a:t>Y </a:t>
            </a: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i="1" lang="en-US" sz="3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500" spc="-1" strike="noStrike">
                <a:solidFill>
                  <a:srgbClr val="ffffff"/>
                </a:solidFill>
                <a:latin typeface="Verdana"/>
              </a:rPr>
              <a:t>С</a:t>
            </a:r>
            <a:r>
              <a:rPr b="1" i="1" lang="en-US" sz="3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i="1" lang="en-US" sz="3500" spc="-1" strike="noStrike">
                <a:solidFill>
                  <a:srgbClr val="ffffff"/>
                </a:solidFill>
                <a:latin typeface="Verdana"/>
              </a:rPr>
              <a:t> I </a:t>
            </a: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i="1" lang="en-US" sz="3500" spc="-1" strike="noStrike">
                <a:solidFill>
                  <a:srgbClr val="ffffff"/>
                </a:solidFill>
                <a:latin typeface="Verdana"/>
              </a:rPr>
              <a:t> G </a:t>
            </a: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i="1" lang="en-US" sz="3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500" spc="-1" strike="noStrike">
                <a:solidFill>
                  <a:srgbClr val="ffffff"/>
                </a:solidFill>
                <a:latin typeface="Verdana"/>
              </a:rPr>
              <a:t>Х</a:t>
            </a:r>
            <a:r>
              <a:rPr b="1" i="1" lang="en-US" sz="35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Verdana"/>
              </a:rPr>
              <a:t>- это основное макроэкономическое тождество</a:t>
            </a:r>
            <a:r>
              <a:rPr b="1" lang="ru-RU" sz="31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Verdana"/>
              </a:rPr>
              <a:t>Его левая часть представляет собой величину дохода в народном хозяйстве (ВВП или ВНП) или совокупное предложение, правая часть – совокупный спрос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284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3. Система национальных счетов (СНС) и ее показатели. Номинальные и реальные показател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5280" y="549360"/>
            <a:ext cx="846144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022400"/>
            <a:ext cx="8497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Система национальных счетов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 (СНС)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– система взаимосвязанных показателей, используемая для описания и анализа макроэкономических процессов, характеризующих объемы производства, распределения, потребления конечного продукта и национального дохода.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СНС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траж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ются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то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движения стоимости экономических благ по фазам кругооборота, строятся балансовые таблицы, где показаны динамика национального богатства и межотраслевого баланса, представляющего движение стоимости благ в отраслевом (продуктовом) разрез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821844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Полноправные в хозяйственном отношении субъекты, экономическая деятельность которых отражается в </a:t>
            </a:r>
            <a:r>
              <a:rPr b="0" i="1" lang="ru-RU" sz="2500" spc="-1" strike="noStrike">
                <a:solidFill>
                  <a:srgbClr val="ccecff"/>
                </a:solidFill>
                <a:latin typeface="Arial"/>
              </a:rPr>
              <a:t>СНС</a:t>
            </a: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, называются </a:t>
            </a:r>
            <a:r>
              <a:rPr b="1" i="1" lang="ru-RU" sz="3500" spc="-1" strike="noStrike">
                <a:solidFill>
                  <a:srgbClr val="ccecff"/>
                </a:solidFill>
                <a:latin typeface="Arial"/>
              </a:rPr>
              <a:t>институциональными единицами</a:t>
            </a: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500"/>
            </a:b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1) нефинансовые предприятия (фирмы);</a:t>
            </a:r>
            <a:br>
              <a:rPr sz="2500"/>
            </a:b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2) финансовые учреждения (банки, финансовые компании);</a:t>
            </a:r>
            <a:br>
              <a:rPr sz="2500"/>
            </a:b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3) государственные учреждения (государство, правительственные учреждения и фонды);</a:t>
            </a:r>
            <a:br>
              <a:rPr sz="2500"/>
            </a:b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4) некоммерческие организации, обслуживающие домашние хозяйства;</a:t>
            </a:r>
            <a:br>
              <a:rPr sz="2500"/>
            </a:b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5) домашние хозяйства.</a:t>
            </a: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8469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ecff"/>
                </a:solidFill>
                <a:latin typeface="Arial"/>
              </a:rPr>
              <a:t>ВНП </a:t>
            </a:r>
            <a:r>
              <a:rPr b="0" lang="ru-RU" sz="3000" spc="-1" strike="noStrike">
                <a:solidFill>
                  <a:srgbClr val="ccecff"/>
                </a:solidFill>
                <a:latin typeface="Arial"/>
              </a:rPr>
              <a:t>– </a:t>
            </a:r>
            <a:r>
              <a:rPr b="1" i="1" lang="ru-RU" sz="3000" spc="-1" strike="noStrike">
                <a:solidFill>
                  <a:srgbClr val="ccecff"/>
                </a:solidFill>
                <a:latin typeface="Arial"/>
              </a:rPr>
              <a:t>валовой национальный продукт</a:t>
            </a:r>
            <a:r>
              <a:rPr b="0" lang="ru-RU" sz="3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редставляет собой рыночную стоимость всех конечных товаров и услуг, произведенных в экономике за определенный период времени с использованием факторов производства, находящихся в собственности 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езидентов,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в том числе и на территории других стран.</a:t>
            </a:r>
            <a:r>
              <a:rPr b="0" lang="ru-RU" sz="3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000"/>
            </a:br>
            <a:r>
              <a:rPr b="1" i="1" lang="ru-RU" sz="3000" spc="-1" strike="noStrike">
                <a:solidFill>
                  <a:srgbClr val="ccecff"/>
                </a:solidFill>
                <a:latin typeface="Arial"/>
              </a:rPr>
              <a:t>ВВП</a:t>
            </a:r>
            <a:r>
              <a:rPr b="1" lang="ru-RU" sz="30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1" i="1" lang="ru-RU" sz="3000" spc="-1" strike="noStrike">
                <a:solidFill>
                  <a:srgbClr val="ccecff"/>
                </a:solidFill>
                <a:latin typeface="Arial"/>
              </a:rPr>
              <a:t>валовой внутренний продукт</a:t>
            </a:r>
            <a:r>
              <a:rPr b="0" lang="ru-RU" sz="3000" spc="-1" strike="noStrike">
                <a:solidFill>
                  <a:srgbClr val="ccecff"/>
                </a:solidFill>
                <a:latin typeface="Arial"/>
              </a:rPr>
              <a:t> – рыночная стоимость конечной продукции, произведенная </a:t>
            </a:r>
            <a:r>
              <a:rPr b="1" lang="ru-RU" sz="3000" spc="-1" strike="noStrike">
                <a:solidFill>
                  <a:srgbClr val="ccecff"/>
                </a:solidFill>
                <a:latin typeface="Arial"/>
              </a:rPr>
              <a:t>на территории данной страны</a:t>
            </a:r>
            <a:r>
              <a:rPr b="0" lang="ru-RU" sz="3000" spc="-1" strike="noStrike">
                <a:solidFill>
                  <a:srgbClr val="ccecff"/>
                </a:solidFill>
                <a:latin typeface="Arial"/>
              </a:rPr>
              <a:t> как резидентами, так и нерезидентами за определенный период времени.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8469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Три способа измерения ВНП (ВВП):</a:t>
            </a: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по расходам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(метод конечного использования);</a:t>
            </a: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по добавленной стоимости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(производственный метод);</a:t>
            </a: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по доходам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(распределительный метод)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88930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cecff"/>
                </a:solidFill>
                <a:latin typeface="Arial"/>
              </a:rPr>
              <a:t>Расчет ВНП по расходам</a:t>
            </a:r>
            <a:r>
              <a:rPr b="1" lang="ru-RU" sz="25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 В данном случае, суммируются расходы всех экономических  субъектов: домашних хозяйств, фирм, государства и заграницы:</a:t>
            </a:r>
            <a:br>
              <a:rPr sz="2500"/>
            </a:br>
            <a:r>
              <a:rPr b="0" i="1" lang="ru-RU" sz="2500" spc="-1" strike="noStrike">
                <a:solidFill>
                  <a:srgbClr val="ccecff"/>
                </a:solidFill>
                <a:latin typeface="Arial"/>
              </a:rPr>
              <a:t>Y</a:t>
            </a: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 (ВНП) = </a:t>
            </a:r>
            <a:r>
              <a:rPr b="0" i="1" lang="ru-RU" sz="2500" spc="-1" strike="noStrike">
                <a:solidFill>
                  <a:srgbClr val="ccecff"/>
                </a:solidFill>
                <a:latin typeface="Arial"/>
              </a:rPr>
              <a:t>C</a:t>
            </a: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 + </a:t>
            </a:r>
            <a:r>
              <a:rPr b="0" i="1" lang="ru-RU" sz="2500" spc="-1" strike="noStrike">
                <a:solidFill>
                  <a:srgbClr val="ccecff"/>
                </a:solidFill>
                <a:latin typeface="Arial"/>
              </a:rPr>
              <a:t>I </a:t>
            </a: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+ </a:t>
            </a:r>
            <a:r>
              <a:rPr b="0" i="1" lang="ru-RU" sz="2500" spc="-1" strike="noStrike">
                <a:solidFill>
                  <a:srgbClr val="ccecff"/>
                </a:solidFill>
                <a:latin typeface="Arial"/>
              </a:rPr>
              <a:t>G</a:t>
            </a: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 + </a:t>
            </a:r>
            <a:r>
              <a:rPr b="0" i="1" lang="ru-RU" sz="2500" spc="-1" strike="noStrike">
                <a:solidFill>
                  <a:srgbClr val="ccecff"/>
                </a:solidFill>
                <a:latin typeface="Arial"/>
              </a:rPr>
              <a:t>Xn</a:t>
            </a: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,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- </a:t>
            </a:r>
            <a:r>
              <a:rPr b="1" i="1" lang="ru-RU" sz="2500" spc="-1" strike="noStrike">
                <a:solidFill>
                  <a:srgbClr val="ccecff"/>
                </a:solidFill>
                <a:latin typeface="Arial"/>
              </a:rPr>
              <a:t>Расчет ВНП по добавленной стоимости</a:t>
            </a:r>
            <a:r>
              <a:rPr b="1" lang="ru-RU" sz="25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 Суммируется стоимость, добавленная на каждой стадии производства конечного продукта.</a:t>
            </a:r>
            <a:br>
              <a:rPr sz="2500"/>
            </a:br>
            <a:br>
              <a:rPr sz="2500"/>
            </a:br>
            <a:r>
              <a:rPr b="0" i="1" lang="ru-RU" sz="2500" spc="-1" strike="noStrike">
                <a:solidFill>
                  <a:srgbClr val="ccecff"/>
                </a:solidFill>
                <a:latin typeface="Arial"/>
              </a:rPr>
              <a:t>Добавленная стоимость</a:t>
            </a: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 – разность между стоимостью продукции, произведенной фирмой, и уплаченной за приобретение факторов производства у других фирм. Данный метод позволяет исключить возможность двойного счета конечной продукции.</a:t>
            </a:r>
            <a:br>
              <a:rPr sz="2500"/>
            </a:b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. Предмет макроэкономики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2.Метод макроэкономики: агрегирование, моделирование, макроэкономическое равновесие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3. Система национальных счетов (СНС) и ее показатели. Номинальные и реальные показател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151920"/>
            <a:ext cx="8497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ecff"/>
                </a:solidFill>
                <a:latin typeface="Arial"/>
              </a:rPr>
              <a:t>Расчет ВНП по доходам</a:t>
            </a:r>
            <a:r>
              <a:rPr b="1" lang="ru-RU" sz="3000" spc="-1" strike="noStrike">
                <a:solidFill>
                  <a:srgbClr val="ccecff"/>
                </a:solidFill>
                <a:latin typeface="Arial"/>
              </a:rPr>
              <a:t>. </a:t>
            </a:r>
            <a:br>
              <a:rPr sz="3000"/>
            </a:br>
            <a:r>
              <a:rPr b="0" lang="ru-RU" sz="3000" spc="-1" strike="noStrike">
                <a:solidFill>
                  <a:srgbClr val="ccecff"/>
                </a:solidFill>
                <a:latin typeface="Arial"/>
              </a:rPr>
              <a:t>Суммируются все виды факторных доходов (например, заработная плата, прибыль, проценты, рента и т.п.) и два элемента, не являющиеся доходами (амортизационные отчисления и чистые косвенные налоги на бизнес (налоги-субсидии)).</a:t>
            </a:r>
            <a:br>
              <a:rPr sz="3000"/>
            </a:br>
            <a:r>
              <a:rPr b="0" lang="ru-RU" sz="3000" spc="-1" strike="noStrike">
                <a:solidFill>
                  <a:srgbClr val="ccecff"/>
                </a:solidFill>
                <a:latin typeface="Arial"/>
              </a:rPr>
              <a:t>Факторные доходы:</a:t>
            </a:r>
            <a:br>
              <a:rPr sz="3000"/>
            </a:br>
            <a:r>
              <a:rPr b="0" lang="ru-RU" sz="3000" spc="-1" strike="noStrike">
                <a:solidFill>
                  <a:srgbClr val="ccecff"/>
                </a:solidFill>
                <a:latin typeface="Arial"/>
              </a:rPr>
              <a:t>1) оплата за труд работающим по найму </a:t>
            </a:r>
            <a:br>
              <a:rPr sz="3000"/>
            </a:br>
            <a:r>
              <a:rPr b="0" lang="ru-RU" sz="3000" spc="-1" strike="noStrike">
                <a:solidFill>
                  <a:srgbClr val="ccecff"/>
                </a:solidFill>
                <a:latin typeface="Arial"/>
              </a:rPr>
              <a:t>2) доходы собственников </a:t>
            </a:r>
            <a:br>
              <a:rPr sz="3000"/>
            </a:br>
            <a:r>
              <a:rPr b="0" lang="ru-RU" sz="3000" spc="-1" strike="noStrike">
                <a:solidFill>
                  <a:srgbClr val="ccecff"/>
                </a:solidFill>
                <a:latin typeface="Arial"/>
              </a:rPr>
              <a:t>3) рентные доходы </a:t>
            </a:r>
            <a:br>
              <a:rPr sz="3000"/>
            </a:br>
            <a:r>
              <a:rPr b="0" lang="ru-RU" sz="3000" spc="-1" strike="noStrike">
                <a:solidFill>
                  <a:srgbClr val="ccecff"/>
                </a:solidFill>
                <a:latin typeface="Arial"/>
              </a:rPr>
              <a:t>4) прибыль </a:t>
            </a:r>
            <a:br>
              <a:rPr sz="3000"/>
            </a:br>
            <a:r>
              <a:rPr b="0" lang="ru-RU" sz="3000" spc="-1" strike="noStrike">
                <a:solidFill>
                  <a:srgbClr val="ccecff"/>
                </a:solidFill>
                <a:latin typeface="Arial"/>
              </a:rPr>
              <a:t>5) чистый процент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151920"/>
            <a:ext cx="8497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cecff"/>
                </a:solidFill>
                <a:latin typeface="Arial"/>
              </a:rPr>
              <a:t>Номинальный ВНП</a:t>
            </a:r>
            <a:r>
              <a:rPr b="0" lang="ru-RU" sz="3500" spc="-1" strike="noStrike">
                <a:solidFill>
                  <a:srgbClr val="ccecff"/>
                </a:solidFill>
                <a:latin typeface="Arial"/>
              </a:rPr>
              <a:t> – рассчитанный в ценах текущего года.</a:t>
            </a:r>
            <a:br>
              <a:rPr sz="3500"/>
            </a:br>
            <a:r>
              <a:rPr b="1" i="1" lang="ru-RU" sz="3500" spc="-1" strike="noStrike">
                <a:solidFill>
                  <a:srgbClr val="ccecff"/>
                </a:solidFill>
                <a:latin typeface="Arial"/>
              </a:rPr>
              <a:t>Реальный ВНП</a:t>
            </a:r>
            <a:r>
              <a:rPr b="0" lang="ru-RU" sz="3500" spc="-1" strike="noStrike">
                <a:solidFill>
                  <a:srgbClr val="ccecff"/>
                </a:solidFill>
                <a:latin typeface="Arial"/>
              </a:rPr>
              <a:t> рассчитывается с помощью корректировки номинального ВНП на индекс цен.</a:t>
            </a:r>
            <a:br>
              <a:rPr sz="3500"/>
            </a:br>
            <a:r>
              <a:rPr b="1" lang="ru-RU" sz="3500" spc="-1" strike="noStrike">
                <a:solidFill>
                  <a:srgbClr val="ccecff"/>
                </a:solidFill>
                <a:latin typeface="Arial"/>
              </a:rPr>
              <a:t>Реальный ВНП = номинальный ВНП/ индекс цен. </a:t>
            </a:r>
            <a:br>
              <a:rPr sz="3500"/>
            </a:br>
            <a:r>
              <a:rPr b="0" lang="ru-RU" sz="3500" spc="-1" strike="noStrike">
                <a:solidFill>
                  <a:srgbClr val="ccecff"/>
                </a:solidFill>
                <a:latin typeface="Arial"/>
              </a:rPr>
              <a:t>Индексы цен используются для оценки изменения темпов инфляции и динамики стоимости жизни.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51920"/>
            <a:ext cx="8497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cecff"/>
                </a:solidFill>
                <a:latin typeface="Arial"/>
              </a:rPr>
              <a:t>ЧНП</a:t>
            </a:r>
            <a:r>
              <a:rPr b="1" lang="ru-RU" sz="3500" spc="-1" strike="noStrike">
                <a:solidFill>
                  <a:srgbClr val="ccecff"/>
                </a:solidFill>
                <a:latin typeface="Arial"/>
              </a:rPr>
              <a:t> (</a:t>
            </a:r>
            <a:r>
              <a:rPr b="1" i="1" lang="ru-RU" sz="3500" spc="-1" strike="noStrike">
                <a:solidFill>
                  <a:srgbClr val="ccecff"/>
                </a:solidFill>
                <a:latin typeface="Arial"/>
              </a:rPr>
              <a:t>чистый национальный продукт</a:t>
            </a:r>
            <a:r>
              <a:rPr b="1" lang="ru-RU" sz="35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ru-RU" sz="3500" spc="-1" strike="noStrike">
                <a:solidFill>
                  <a:srgbClr val="ccecff"/>
                </a:solidFill>
                <a:latin typeface="Arial"/>
              </a:rPr>
              <a:t> – разность между ВНП и амортизационными отчислениями,</a:t>
            </a:r>
            <a:br>
              <a:rPr sz="3500"/>
            </a:br>
            <a:br>
              <a:rPr sz="3500"/>
            </a:br>
            <a:r>
              <a:rPr b="1" i="1" lang="ru-RU" sz="3500" spc="-1" strike="noStrike">
                <a:solidFill>
                  <a:srgbClr val="ccecff"/>
                </a:solidFill>
                <a:latin typeface="Arial"/>
              </a:rPr>
              <a:t>НД</a:t>
            </a:r>
            <a:r>
              <a:rPr b="1" lang="ru-RU" sz="3500" spc="-1" strike="noStrike">
                <a:solidFill>
                  <a:srgbClr val="ccecff"/>
                </a:solidFill>
                <a:latin typeface="Arial"/>
              </a:rPr>
              <a:t> (</a:t>
            </a:r>
            <a:r>
              <a:rPr b="1" i="1" lang="ru-RU" sz="3500" spc="-1" strike="noStrike">
                <a:solidFill>
                  <a:srgbClr val="ccecff"/>
                </a:solidFill>
                <a:latin typeface="Arial"/>
              </a:rPr>
              <a:t>национальный доход</a:t>
            </a:r>
            <a:r>
              <a:rPr b="1" lang="ru-RU" sz="35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ru-RU" sz="3500" spc="-1" strike="noStrike">
                <a:solidFill>
                  <a:srgbClr val="ccecff"/>
                </a:solidFill>
                <a:latin typeface="Arial"/>
              </a:rPr>
              <a:t> – разность между ЧНП и косвенными налогами на бизнес (НДС, акцизы, импортные пошлины и др.). НД представляет собой суммарный доход населения страны.</a:t>
            </a:r>
            <a:br>
              <a:rPr sz="3500"/>
            </a:b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151920"/>
            <a:ext cx="8497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cecff"/>
                </a:solidFill>
                <a:latin typeface="Arial"/>
              </a:rPr>
              <a:t>ЛД (личный доход)</a:t>
            </a:r>
            <a:r>
              <a:rPr b="0" lang="ru-RU" sz="2900" spc="-1" strike="noStrike">
                <a:solidFill>
                  <a:srgbClr val="ccecff"/>
                </a:solidFill>
                <a:latin typeface="Arial"/>
              </a:rPr>
              <a:t> определяется путем вычитания из национального дохода взносов на социальное страхование, налогов на прибыль корпораций, нераспределенной прибыли корпораций, чистого процента и добавления суммы трансфертных платежей, личных доходов, полученных в виде процента, в том числе процент по государственному долгу.</a:t>
            </a: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ccecff"/>
                </a:solidFill>
                <a:latin typeface="Arial"/>
              </a:rPr>
              <a:t>РЛД</a:t>
            </a:r>
            <a:r>
              <a:rPr b="1" lang="ru-RU" sz="2900" spc="-1" strike="noStrike">
                <a:solidFill>
                  <a:srgbClr val="ccecff"/>
                </a:solidFill>
                <a:latin typeface="Arial"/>
              </a:rPr>
              <a:t> (</a:t>
            </a:r>
            <a:r>
              <a:rPr b="1" i="1" lang="ru-RU" sz="2900" spc="-1" strike="noStrike">
                <a:solidFill>
                  <a:srgbClr val="ccecff"/>
                </a:solidFill>
                <a:latin typeface="Arial"/>
              </a:rPr>
              <a:t>располагаемый личный доход</a:t>
            </a:r>
            <a:r>
              <a:rPr b="1" lang="ru-RU" sz="29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ru-RU" sz="2900" spc="-1" strike="noStrike">
                <a:solidFill>
                  <a:srgbClr val="ccecff"/>
                </a:solidFill>
                <a:latin typeface="Arial"/>
              </a:rPr>
              <a:t> – рассчитывается как разность между личным доходом и суммой подоходного налога с граждан и неналоговых платежей государству.</a:t>
            </a:r>
            <a:r>
              <a:rPr b="0" lang="ru-RU" sz="2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151920"/>
            <a:ext cx="8497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Национальное богатство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– совокупность ресурсов (активов) страны, представляющих собой условия производства экономических благ и обеспечения жизни людей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. Предмет макроэконом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8469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cecff"/>
                </a:solidFill>
                <a:latin typeface="Arial"/>
              </a:rPr>
              <a:t>Макроэкономика</a:t>
            </a:r>
            <a:r>
              <a:rPr b="1" lang="ru-RU" sz="3500" spc="-1" strike="noStrike">
                <a:solidFill>
                  <a:srgbClr val="ccecff"/>
                </a:solidFill>
                <a:latin typeface="Arial"/>
              </a:rPr>
              <a:t> – отрасль экономической науки, изучающая функционирование экономики в целом (общеэкономические явления - инфляция, безработица, экономический рост и взаимодействие с внешним миром).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7760" y="1844280"/>
            <a:ext cx="8256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2.Метод макроэкономики: агрегирование, моделирование, макроэкономическое равновесие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Макроэкономика оперирует всеми типичными экономическими методами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зитивный и нормативный метод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тод абстрактного и конкретного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тод анализа и синтез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тод индукции и дедукци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тод исторического и логического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Вместе с тем специфическими методам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грегировани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делировани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цип макроэкономического равновес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185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Метод агрегирования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– метод совокупных величин, когда суммируются какие-либо однородные показатели (величины) с целью получения более общих, обобщенных о них представлений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185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ecff"/>
                </a:solidFill>
                <a:latin typeface="Arial"/>
              </a:rPr>
              <a:t>Макроэкономические субъекты:</a:t>
            </a:r>
            <a:r>
              <a:rPr b="0" lang="ru-RU" sz="2600" spc="-1" strike="noStrike">
                <a:solidFill>
                  <a:srgbClr val="ccecff"/>
                </a:solidFill>
                <a:latin typeface="Arial"/>
              </a:rPr>
              <a:t> критерий выделения - специфическая роль, которую каждый из них выполняет в экономической жизни: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ccecff"/>
                </a:solidFill>
                <a:latin typeface="Arial"/>
              </a:rPr>
              <a:t>1)</a:t>
            </a:r>
            <a:r>
              <a:rPr b="0" i="1" lang="ru-RU" sz="2600" spc="-1" strike="noStrike">
                <a:solidFill>
                  <a:srgbClr val="ccecff"/>
                </a:solidFill>
                <a:latin typeface="Arial"/>
              </a:rPr>
              <a:t> сектор домашних хозяйств</a:t>
            </a:r>
            <a:r>
              <a:rPr b="0" lang="ru-RU" sz="2600" spc="-1" strike="noStrike">
                <a:solidFill>
                  <a:srgbClr val="ccecff"/>
                </a:solidFill>
                <a:latin typeface="Arial"/>
              </a:rPr>
              <a:t>, который формирует предложение рабочей силы и спрос на блага, потребляет часть получаемого дохода, а другую его часть сберегает.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ccecff"/>
                </a:solidFill>
                <a:latin typeface="Arial"/>
              </a:rPr>
              <a:t>2) </a:t>
            </a:r>
            <a:r>
              <a:rPr b="0" i="1" lang="ru-RU" sz="2600" spc="-1" strike="noStrike">
                <a:solidFill>
                  <a:srgbClr val="ccecff"/>
                </a:solidFill>
                <a:latin typeface="Arial"/>
              </a:rPr>
              <a:t>предпринимательский сектор</a:t>
            </a:r>
            <a:r>
              <a:rPr b="0" lang="ru-RU" sz="2600" spc="-1" strike="noStrike">
                <a:solidFill>
                  <a:srgbClr val="ccecff"/>
                </a:solidFill>
                <a:latin typeface="Arial"/>
              </a:rPr>
              <a:t> – совокупность всех фирм в стране, которые предъявляют спрос на факторы производства, создают предложение благ и производят инвестирование.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185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3) 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государственный сектор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, создающий такие специфические блага, как безопасность, наука, услуги инфраструктур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Госсектор создает условия для оптимального функционирования народного хозяйства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При этом как макроэкономический субъект государство производит и закупает блага, взимает налоги, выплачивает трансферты, формирует предложение денег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4) 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сектор заграницы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, представляющий собой совокупность экономических субъектов за границей и иностранных государственных институтов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ектор заграница исследуется главным образом для определения состояния национального платежного баланса и валютного курс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6:31:33Z</dcterms:created>
  <dc:creator>1</dc:creator>
  <dc:description/>
  <dc:language>en-US</dc:language>
  <cp:lastModifiedBy>User</cp:lastModifiedBy>
  <dcterms:modified xsi:type="dcterms:W3CDTF">2012-06-15T04:19:42Z</dcterms:modified>
  <cp:revision>59</cp:revision>
  <dc:subject/>
  <dc:title>ЛЕКЦИЯ 16</dc:title>
</cp:coreProperties>
</file>