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983-F426-4F53-A832-31AAB50A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702-D077-46EF-92B0-BD0AE15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AFB-5261-40F2-9710-A655F69B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FC8-4DFA-49F1-B6A0-3934764C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A51-DDCD-4BE8-A46B-29B3337B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0E97-B3DB-4961-A8BC-BCF5D7D2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FA3-0283-4098-8CD9-1625129A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FB03-9802-4D0F-B81C-23EDC5C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CC64-A841-4C6E-B28D-2130B67A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C1DC-764A-455D-B950-9D0AD56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0747-D111-43CB-B4D1-AB20672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A5D-7743-4C52-AC03-2AC3D125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3F98-03D0-4D99-804F-41E956A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F2C6-4261-421C-8F46-E48C0F2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F84-F061-478D-9FB5-1123194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4C60-3B9A-4B10-A7DB-1CEB3A48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F2DF-4A8C-4803-B515-E4E45985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915-4F9B-40F0-8481-941D180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D8E-86FC-40AD-B093-79B10B7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1D5-A48F-4AB1-971C-F9FBC23E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49B-0B62-4DCC-B63C-A4AA168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92F-D50B-4CB3-ABB9-6611FEE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DEF-5AEB-416D-8280-4EFE24A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FC1-A2B8-4B8E-8660-C236203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0CD-CE09-40DB-958A-95EDFF9768C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2B83-9DF3-44C2-9C04-877618892B0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35344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МА 5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енежно-кредитная и фискальная политика</a:t>
            </a: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66"/>
                </a:solidFill>
                <a:latin typeface="Verdana"/>
              </a:rPr>
              <a:t>Кусенова Кульбагиля Казиевн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66"/>
                </a:solidFill>
                <a:latin typeface="Verdana"/>
              </a:rPr>
              <a:t>старший преподаватель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66"/>
                </a:solidFill>
                <a:latin typeface="Verdana"/>
              </a:rPr>
              <a:t>кафедры экономики и управления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82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Современная кредитно-банковская система имеет двухуровневую структуру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: первый уровень представлен Центральным банком (или эмиссионным), второй уровень – коммерческими банками и небанковскими финансово-кредитными институтами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Verdana"/>
              </a:rPr>
              <a:t>Банк</a:t>
            </a: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– это организация, созданная для привлечения денежных средств и размещения их от своего имени на условиях возвратности, платности и срочности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Основное назначение банка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 – посредничество в перемещении денежных средств от кредиторов к заемщикам. Именно через банки деньги поступают в экономику, позволяя ей функционировать и развиваться. Они являются основными участниками в управлении всей денежной массой, обращающейся в стране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Банки, имеющие право выпуска кредитных денег в форме наличных банкнот, называются </a:t>
            </a:r>
            <a:r>
              <a:rPr b="1" i="1" lang="ru-RU" sz="2300" spc="-1" strike="noStrike">
                <a:solidFill>
                  <a:srgbClr val="ffffff"/>
                </a:solidFill>
                <a:latin typeface="Verdana"/>
              </a:rPr>
              <a:t>эмиссионными (центральными) банками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60280"/>
            <a:ext cx="820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Банковская система, её структура и функц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Коммерческий бан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это учреждение, осуществляющее кредитование хозяйствующих субъектов и частных лиц, их расчетно-кассовое обслуживан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мерческие банки являются основной базой двухуровневой кредитной системы. На них ложится обязанность мобилизации и распределения ссудного капитала, кредитование реального сектора экономики, проведение безналичных денежных расчетов и осуществление посреднических операц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лассифицируют банки по следующим признака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о функциям и характеру деятельности. К таким банкам относят депозитные, сберегательные, инвестиционные, ипотечные, универсальные банки и т.д.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о форме собственности. По данному признаку банки делятся на государственные, муниципальные, частные, смешанны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о способу формирования уставного капитала. Здесь банки делятся на акционерные (открытого и закрытого типов), паевы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о национальной или территориальной принадлежности. Согласно данному признаку классификации выделяют банки национальные, межгосударственные, международные, региональн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Небанковские кредитно-финансовые институты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– это специализированные организации, имеющие право осуществлять отдельные банковские операции. Именно узкая специализация отличает их от коммерческих банков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 ним относят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инансовые компании, занимающиеся коммерческим кредитованием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инвестиционные компании, оказывающие посреднические услуги на фондовых рынках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инвестиционные фонды, в том числе паевые инвестиционные фонды – индустрия коллективных инвестиций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негосударственные пенсионные фонды, мобилизующие средства для выплаты пенсий гражданам страны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траховые компании – сфера материального обеспечения при наступлении страхового случая и возмещения ущерба и ряд других небанковских финансово-кредитных институтов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Роль Центрального банка в кредитной системе проявляется в выполнении им следующих функций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Центральный банк имеет монопольное право на выпуск в обращении кредитных денег в виде банкнот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Центральный банк является банком для коммерческих банков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Центральный банк регулирует деятельность специализированных кредитных организаций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Центральный банк осуществляет надзор и контроль за деятельностью коммерческих банков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Центральный банк разрабатывает и проводит денежно-кредитную политику, или, иначе, монетарную политику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Коммерческие банки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являются самостоятельными коммерческими предприятиями, конечной целью которых является получение прибыли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и не подчиняются в административном порядке Центробанку, а лишь выполняют его указания в пределах норм, определяемых закона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ммерческие банки функционируют на основании лицензий, выдаваемых Центральным банком России. Эти лицензии имеют универсальный характер и дают право на осуществление ряда банковских операций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ерческие банки опираются на следующие принципы деятельност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ерческие банки должны работать в лимитах реально имеющихся ресурс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ерческие банки обладают экономической самостоятельность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заимоотношение коммерческого банка со своими клиентами носит коммерческий характер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ерческие банки выполняют ряд функций, к которым относят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осредничество в кредит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тимулирование накоплений в хозяйств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осредничество в платежа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осредничество на финансовых рынках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ятельность коммерческих банков складывается из пассивных и активных операц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ассивные операци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это действия коммерческого банка по формированию ресурсов. Основными источниками формирования денежных ресурсов банка являются собственные, эмиссионные и привлеченные сред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бственным средства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относят фонды денежных средств, образованные в процессе создания или учреждения банка, уставной капитал (акционерный капитал), полученный в процессе коммерческой деятельности (прибыль), резервный капитал (денежный фонд, сформированный за счет текущей прибыли на цели покрытия непредвиденных убытков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Эмиссионными средствами банк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являются облигационные займы и выпуск банковских вексел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ивлеченным средства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относят межбанковские кредиты и средства, сформированные в процессе осуществления банком депозитных операц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ктивные операции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– это операции банка по размещению привлеченных ресурсов с целью дальнейшей их капитализации и получения прибы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Активные операции коммерческих банков можно условно разделить на четыре большие групп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- первая группа – ссудные опер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- вторая группа – учетные опер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- третья группа – инвестиционные опер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- четвертая группа – посреднические операци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3. Инструменты денежно-кредитной политики государств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ющиеся в распоряжении ЦБ инструменты различаю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.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о непосредственным объектам воздейств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ложение денег        спрос на деньг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I.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о форм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дминистративные (прямые)          рыночные (косвенны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II.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о характеру параметров, устанавливаемых в ходе регулиро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личественные         качественны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 по срокам воздейств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лгосрочные          краткосрочны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987640" y="213372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2133720"/>
            <a:ext cx="15130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987640" y="306864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3068640"/>
            <a:ext cx="15130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16000" y="4292640"/>
            <a:ext cx="1439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4292640"/>
            <a:ext cx="15130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87640" y="522936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5229360"/>
            <a:ext cx="15130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Выделяют три основные инструмента монетарной политики, с помощью которых ЦБ осуществляет регулирование денежно-кредитной сферы: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Изменение учетной ставки процента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Изменение нормы резервирования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876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Операции на открытом рынке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3. Инструменты денежно-кредитной политики государств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424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-838080" algn="ctr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едложение денег. Денежный мультипликатор.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. Банковская система, её структура и функции.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3. Инструменты денежно-кредитной политики государства.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4. Равновесие на денежном рынке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4. Равновесие на денежном рынк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40000" y="836640"/>
          <a:ext cx="468000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836640"/>
                    <a:ext cx="46800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971640" y="508464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еоклассическая модель равновесия на денежном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1640" y="482436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ейнсианская теория спроса на деньг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49120" y="1268280"/>
          <a:ext cx="24544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268280"/>
                    <a:ext cx="24544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17800" y="1268280"/>
          <a:ext cx="2733840" cy="261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1268280"/>
                    <a:ext cx="273384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867280" y="1268280"/>
          <a:ext cx="2808360" cy="262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268280"/>
                    <a:ext cx="28083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1640" y="482436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ейнсианская модель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авновесия на денежном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627280" y="549360"/>
          <a:ext cx="410364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49360"/>
                    <a:ext cx="41036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Основными субъектами в макроэкономике являе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центральный бан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домохозяйст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фирм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рынок товаров и услуг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) государств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. ВВП не включ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 продукцию, произведенную внутри страны национальным капитало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) поступления из-за рубежа, связанные с факторными дохода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) материальные и нематериальные услуги, оказанные внутри стран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) продукцию, произведенную внутри страны иностранным капитал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Переведенный в США доход на капитал, вложенный американским гражданином в предприятие, находящееся на территори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захстан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, включае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в ВНП Казахстан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в ЧНП Казахстан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в ВНП СШ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в ВВП СШ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Какой из способов исчисления ВВП определяется как сумма личных потребительских расходов, государственных закупок товаров и услуг, валовых инвестиций фирм и чистого экспор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производственный метод (по добавленной стоимости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распределительный (по доходам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метод конечного использования (по расходам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. Номинальный ВВП – эт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ВВП, рассчитанный в текущих ценах данного период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ВВП, рассчитанный в сопоставимых ценах определенного (базового) период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ВВП, рассчитанный в текущих ценах данного периода и откорректированный дефлятор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6. Совокупный спрос – эт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спрос домохозяйств и чистый экспорт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государственные расходы и инвестиционный спрос предприят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спрос всех экономических субъектов относительно покупок всех объемов конечных благ, производимых в стране в течение определенного периода времен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7. Смещение кривой совокупного спроса вправо является результато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роста процентной став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уменьшения ставок подоходного налог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увеличение объема предлагаемых товар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роста государственных расход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лавная роль в обеспечении предложения денег принадлежит государству в лице органа, осуществляющего денежно-кредитную политику: ЦБ в Казахстане, ФРС в США. Монетарная (денежно-кредитная) – предусматривает манипулирование в области предложения денег, процентной ставки и условий кредитования с целью регулирования экономической активности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1. Предложение денег. Денежный мультипликатор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8. Классический отрезок на кривой совокупного предлож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имеет положительной наклон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имеет отрицательный наклон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представлен вертикальной лини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представлен горизонтальной лини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. Сбережения – эт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все накопленное имущество домохозяйств и сбережения насе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реальные кассовые остатки всех рыночных субъект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часть дохода, вложенная в ценные бумаг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часть дохода домохозяйств, не израсходованная в данном периоде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0. Автономное потребление равн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среднему объему потреб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максимальному объему потреб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минимальному объему потребления при нулевом доход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) потреблению при нулевых сбережен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ожение денег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ключает наличность и депозиты, которые экономические агенты при необходимости могут использовать для сде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= C+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личность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(банкноты и монеты) – создает Ц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позиты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создаются коммерческими ба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Современная банковская система – это система с частичным резервным покрытием: только часть своих депозитов банки хранят в виде резервов, а остальные используют для выдачи ссуд.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Verdana"/>
              </a:rPr>
              <a:t>Доля резервов от всех депозитов называется нормой резервирования.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0628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Б создает не только наличность, но и обязательные резервы. Наличность (С) и общие резервы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 образуют базовые деньги или денежную базу Н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= С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тавшиеся в распоряжении КБ средства – избыточные резервы (Е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уммарное предложение денег рав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первоначальный вклад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r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норма резервир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348000" y="3789360"/>
                <a:ext cx="31687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цесс эмиссии платежных средств в рамках системы коммерческих банков получил название эффекта денежного (банковского; кредитного) мультипликатор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.к.            то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4960" y="4724280"/>
                <a:ext cx="21654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70280" y="4724280"/>
                <a:ext cx="19540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19760" y="4724280"/>
                <a:ext cx="19018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628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ее общая модель предложения денег строится с учетом роли ЦБ, а также с учетом возможного оттока части денег с депозитов в наличнос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 –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оэффициент депонировани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r 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рма резервир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8000" y="2852640"/>
                <a:ext cx="561672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06280" y="126792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ежный мультипликатор означает возможность появления максимального количества новых денег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19280" y="3405240"/>
                <a:ext cx="56167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6:31:33Z</dcterms:created>
  <dc:creator>1</dc:creator>
  <dc:description/>
  <dc:language>en-US</dc:language>
  <cp:lastModifiedBy>User</cp:lastModifiedBy>
  <dcterms:modified xsi:type="dcterms:W3CDTF">2012-06-15T04:22:16Z</dcterms:modified>
  <cp:revision>81</cp:revision>
  <dc:subject/>
  <dc:title>ЛЕКЦИЯ 16</dc:title>
</cp:coreProperties>
</file>