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2FA-8AF1-4DE6-8ED5-FCADE182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C43-3F0D-40F2-9373-ACE530F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6E054-10D3-431C-835E-034C91F5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713DF-1640-4DE2-BF3C-BB4B5BE9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B6B0-CA2B-471C-A517-4A1A93D9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3FC5-EEFD-4A36-9909-D828C8E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593B1-7E76-43E4-A892-D0936598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1B7E4-5087-4A43-ABBC-DCA47A8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D2A5C-4422-4A5A-93C8-3B0D73CC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1F695-23D6-463D-B741-4CC4BFFD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14737-D35D-4318-A31F-C581B8E0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9ED-0BB9-4630-A904-A6BD2F0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12E-2CF6-485F-A633-6CB4C4FB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483A-33AD-4FB5-892F-4056D949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CD3B-5494-4374-A728-AA8C9672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C415-59A9-479C-9620-44E1645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79C7-24B3-4294-BB00-734CD40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CAB1-017A-4F8E-92C0-DC9E210D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4814-A328-48A4-8DF9-90CAB4C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1BE8-8C07-4A1F-ACDD-1670596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750-2716-4936-A358-49FE2D0F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617-0564-4924-A006-78EA0F5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048A-2CA8-4B76-BC91-6906361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6873-D0B2-4BBA-83B6-187BEC5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0CA-D389-4A94-8977-1448C117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D353-2851-403E-B9F9-E55F715F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C900-7BC4-4CA2-B117-3FACE370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D80B-93F5-4D32-A2B7-C31965D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744D-85B5-4399-BB4C-5CF2975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E5B2-17D7-4C54-AE1B-F3BD5D8F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377E-B8B9-494C-8A40-93EE459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A8C-DEB2-43C6-AD84-B688C6CB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83AF-FEB8-4164-809F-6678B39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4A19-1DC7-481D-9852-EA1CE143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EB00-B497-4E02-A209-D4C8999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354F-57D3-4B5C-8ADD-AC75FEE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C28A-10ED-4E68-8779-8050DE93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E1CA-8D83-4277-B5C4-BF04E5C6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8724-0694-476A-BAB3-BB027A56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2841-CBED-4C34-9464-2CEF05D2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B649B-3918-4359-9381-D4D3D945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2DFA-84D8-4771-B9B9-2D8B1B0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C4F-D8EB-4828-94EE-8069159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A83B-188B-4B2B-AFD4-1BED6552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A376-194D-4FEC-BB67-1EB186C3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D1D4-AB4F-4EF9-9388-F99DA7C6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0CAE-1172-4002-96BE-699760F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3075-9D56-41E1-BE1C-AD1DBA36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5C13-790D-45F6-9DD7-FB48130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41DDD-5B48-4ABF-B039-6B0CC811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806F-3447-46CA-9097-BE390C8F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A8DC-D8F8-431E-9270-50F6BC86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009E-85C4-4C8F-8AE2-5EFB3786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29D-E14F-4DAE-A60B-F6C9ECD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A7426-0DF9-4796-AB40-6C8CFE4B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8D5EB-30F4-4265-94DB-8E6CD699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5BE6-4109-49FA-876A-D47767C0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42F1-2F6E-4D27-8EAF-7669EC07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2233-D63C-4B8F-BA78-42462AB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3561-9A6E-48BB-9963-89BDF8C8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55DF-BE19-4484-9E1C-FAA02D57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4440-C299-4D24-A6F1-29EF0A0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B889-B448-4BD5-9FB3-D626DD87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6D36-82BA-44BB-9502-BBAA6D0A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6F7-FE26-4EBA-865B-971E0E55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D5DA-6650-4508-8961-405044EB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8FF6E-6C10-41EF-8262-7E7C835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A3BA-8CF0-462A-8ADB-3ECA227E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39E5A-5189-46E4-AE2E-7F2720C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3F4B8-8AF6-4ECF-9E12-86E70F0D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B664-25BD-4B78-B201-73842435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258D-8CCD-42CB-A1F2-FDA51F8E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B26E7-11C8-4B82-8023-B84107B0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0E30-0BCA-4D4F-BA2D-292F73B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1030-3FF0-46A6-B746-924F25ED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86E-6EF0-4365-810F-A8ED834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DAE7-110B-4AA2-BD62-F512694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CEA7-29B4-4434-A38A-0DA8297C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CFE58-EF44-4E55-ADC7-2CC95F9A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9956-E7F7-449E-9F52-00120AE2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3C23-E4B2-4313-ADA3-958B1847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75A4-8DEE-41DC-832D-6B1010DB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1E9A3-4C45-4C28-B250-4618DB05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75E0-DA25-4C4D-AF03-9C31B86D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4A22-F853-4C73-A438-76C04EA8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01EB-B84B-467B-91B2-C4AD1FE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17B-50C9-44A2-94EC-F4B07A9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2696-FADE-4736-8794-07A54F6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FEF69-59B6-4809-B9A3-C1369DE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5C466-1FEA-4AD1-94C9-919A0779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726E5-B54E-4283-87D8-43057E57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1CC9F-80CC-4F23-A21D-AAEEA638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D955-DAF8-488D-AA2C-A125C763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7B48-898B-4819-A03C-A9D400A5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6041E-9CA9-4E48-B692-4C788763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3CC2D-CC51-44ED-A0DA-0AF61A20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9F05B-AE76-4FCC-85D9-5EAD7AD9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B6E-F6EA-4230-B032-CFED86F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C30B-F1D1-4797-86BC-666CD8AA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14EE9-2E0A-4E36-97F0-C4C3AA8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285B-0863-4048-B5C9-75319DD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67B67-C681-446C-A802-007CD9B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BD059-9C04-4366-A37B-36EE3FB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78F27-8685-468C-852F-D20EE040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F7B2B-C604-4144-8D1F-F559C819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7C8C6-D552-4578-B5BD-F25FDFCB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75109-8BDD-40BE-9E1F-E495D75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777C0-AAE8-41A9-8DDA-57762B35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01B2-C497-447F-957A-30EACBF591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E178-973F-4790-9E12-14BCDDB507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BC1A-4DC4-40A2-8ACB-C231AD7517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7C9-A028-47B5-A02D-7A31347EFB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9117-8B3D-45A2-8D60-E50BEFF7F7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BCE-1D47-4106-A51C-636A2C83B5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932B-3290-4995-B3CC-4AE6E4050E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87F-854C-410E-A0B0-AC07A2C6C4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C3F8-AD0D-4155-87D2-71081BC2B5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Тема 10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Теория международной торговл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Кусенова Кульбагиля Казиев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старший преподавател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кафедры эконоимки и управлени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464646"/>
                </a:solidFill>
                <a:uFillTx/>
                <a:latin typeface="Lucida Sans Unicode"/>
              </a:rPr>
              <a:t>Если при расчёте национального дохода учитывать все составляющие, то получим формул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64646"/>
                </a:solidFill>
                <a:latin typeface="Lucida Sans Unicode"/>
              </a:rPr>
              <a:t>Y=C+I+G+Xn</a:t>
            </a:r>
            <a:r>
              <a:rPr b="0" i="1" lang="ru-RU" sz="23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где: </a:t>
            </a:r>
            <a:r>
              <a:rPr b="0" lang="en-US" sz="1600" spc="-1" strike="noStrike">
                <a:solidFill>
                  <a:srgbClr val="464646"/>
                </a:solidFill>
                <a:latin typeface="Lucida Sans Unicode"/>
              </a:rPr>
              <a:t>Y</a:t>
            </a: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– доходы государства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           </a:t>
            </a:r>
            <a:r>
              <a:rPr b="0" lang="en-US" sz="1600" spc="-1" strike="noStrike">
                <a:solidFill>
                  <a:srgbClr val="464646"/>
                </a:solidFill>
                <a:latin typeface="Lucida Sans Unicode"/>
              </a:rPr>
              <a:t>C – </a:t>
            </a: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потребительские расходы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           </a:t>
            </a:r>
            <a:r>
              <a:rPr b="0" lang="en-US" sz="1600" spc="-1" strike="noStrike">
                <a:solidFill>
                  <a:srgbClr val="464646"/>
                </a:solidFill>
                <a:latin typeface="Lucida Sans Unicode"/>
              </a:rPr>
              <a:t>I – </a:t>
            </a: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инвестиции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           </a:t>
            </a:r>
            <a:r>
              <a:rPr b="0" lang="en-US" sz="1600" spc="-1" strike="noStrike">
                <a:solidFill>
                  <a:srgbClr val="464646"/>
                </a:solidFill>
                <a:latin typeface="Lucida Sans Unicode"/>
              </a:rPr>
              <a:t>G</a:t>
            </a: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– государственные расходы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           </a:t>
            </a:r>
            <a:r>
              <a:rPr b="0" lang="en-US" sz="1600" spc="-1" strike="noStrike">
                <a:solidFill>
                  <a:srgbClr val="464646"/>
                </a:solidFill>
                <a:latin typeface="Lucida Sans Unicode"/>
              </a:rPr>
              <a:t>Xn</a:t>
            </a: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– чистый экспорт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Lucida Sans Unicod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0" y="990720"/>
            <a:ext cx="9144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Разность экспорта и импорта товаров и услуг называется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истым экспортом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а величина может быть как положительной (экспорт превышает импорт), так и отрицательной (импорт превышает экспор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Rectangle 2" descr=""/>
          <p:cNvPicPr/>
          <p:nvPr/>
        </p:nvPicPr>
        <p:blipFill>
          <a:blip r:embed="rId2"/>
          <a:stretch/>
        </p:blipFill>
        <p:spPr>
          <a:xfrm>
            <a:off x="-115920" y="-30240"/>
            <a:ext cx="9266400" cy="26082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3"/>
          <p:cNvSpPr/>
          <p:nvPr/>
        </p:nvSpPr>
        <p:spPr>
          <a:xfrm>
            <a:off x="0" y="3200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 странами выгода распредел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ледующим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0" y="44197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е-импорте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а имеет место из-за того, что польза для потребителей намного превосходит потери производителей продукции, конкурирующей с импорт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е-экспорте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щий прирост благосостояния обеспечивается за счёт большего выгод для производителей, хотя потребители несут поте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теории международного обмена товар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533520"/>
          <a:ext cx="9144000" cy="6346800"/>
        </p:xfrm>
        <a:graphic>
          <a:graphicData uri="http://schemas.openxmlformats.org/drawingml/2006/table">
            <a:tbl>
              <a:tblPr/>
              <a:tblGrid>
                <a:gridCol w="990720"/>
                <a:gridCol w="1218960"/>
                <a:gridCol w="1905120"/>
                <a:gridCol w="2743200"/>
                <a:gridCol w="228600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е, учитываемые в теории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е теоретические вы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ь современного приме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См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солютных преиму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торговля взаимовыгодна при наличии абсолютных преимуществ одной страны перед другой при производстве всех товар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Рикар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ль-ных издерж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ная дифференци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ждой стране целесообразно специализироваться в производстве таких товаров, по которым она имеет сравнительно более низкие затраты труда и капита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международного обмена, связанная с различиями природно-климатических условий и минерально-сырьевых ресурсов отдельных ст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Харбер-л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тернати-вных издерж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вая производственных возможностей страны; производство альтернативных то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льное преимущество страны при производстве альтернативных товаров определяются объёмом товаров, который приходится сокращать для увеличения производства друг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ство альтернативных для экспорта то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.ХекшенБ.О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Хекшера-О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авномерность распределения материальных и людских ресурсов между странами и интенсивность их зат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экспортирует товары, производство которых требует большего количества ресурсов, имеющихся у неё в избытке. В процессе международной торговли происходит выравнивание цен на факторы производ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международного обмена, связанные с использованием квалифицированного и неквалифицированного труда, капитала и сельхозугод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теории международного обмена товар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2600" y="533520"/>
          <a:ext cx="9144000" cy="61164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904760"/>
                <a:gridCol w="2743200"/>
                <a:gridCol w="228600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е, учитываемые в теории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е теоретические вы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ь современного приме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Леонт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докс Леонтьева: США экспортировали трудоёмкие товары, а импортировали капиталоёмкие тов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докс разрешается, если учитывать более двух факторов производства, в т.ч. виды труда (квалифицированный, неквалифицированный), капитал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ый избыток квалифицированного или неквалифицированного труда ведёт к экспорту товаров, требующих больших затрат соответствующего тру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 же, что и для модели Хекшера-О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Поз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хнологического взры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технологических преимуществ в стране-новаторе или производство нового (ранее неизвестного)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никающий технологический взрыв между странами обуславливает международную торговлю до момента преодоления этого разрыва. Постоянно существующая международная торговля объясняется в результате «потока нововведений» в разных странах и отрасл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торговля наукоёмкими товарами, в т.ч. внутриотраслевая торговля различными това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Верн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.Киндель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.Уэль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ория жизненного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 жизненного цикла продукта: внедрение, расширение, зрелость, ста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специализируются на экспорте одного и того же товара на разных стадиях его жи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ая специализация на экспорте одних и тех же то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6094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нешняя политик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целенаправленное воздействие государств на торговые отношения с другими стран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19051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внешней поли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28195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экономического рос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внивание структуры платё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стабильн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стратегии и тактики включения страны в международное разделение тру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олитической и экономической независимости стра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экономического и военного превосход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 формы международной торговой полит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17"/>
          <p:cNvGrpSpPr/>
          <p:nvPr/>
        </p:nvGrpSpPr>
        <p:grpSpPr>
          <a:xfrm>
            <a:off x="609480" y="1219320"/>
            <a:ext cx="8153640" cy="4240440"/>
            <a:chOff x="609480" y="1219320"/>
            <a:chExt cx="8153640" cy="4240440"/>
          </a:xfrm>
        </p:grpSpPr>
        <p:sp>
          <p:nvSpPr>
            <p:cNvPr id="515" name="Text Box 4"/>
            <p:cNvSpPr/>
            <p:nvPr/>
          </p:nvSpPr>
          <p:spPr>
            <a:xfrm>
              <a:off x="609480" y="1219320"/>
              <a:ext cx="3581640" cy="24382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ротекциониз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литика государства, направленная на защиту отечественных производителей от иностранной конкуренции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5"/>
            <p:cNvSpPr/>
            <p:nvPr/>
          </p:nvSpPr>
          <p:spPr>
            <a:xfrm>
              <a:off x="5181480" y="1219320"/>
              <a:ext cx="3581640" cy="24314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Фритредерств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литика государства, направленная на воздержание от непосредственного воздействия на внешнюю торговлю, оставляющая роль основного регулятора за рынком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6"/>
            <p:cNvSpPr/>
            <p:nvPr/>
          </p:nvSpPr>
          <p:spPr>
            <a:xfrm>
              <a:off x="1371600" y="3962520"/>
              <a:ext cx="281952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аможенные пошлин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7"/>
            <p:cNvSpPr/>
            <p:nvPr/>
          </p:nvSpPr>
          <p:spPr>
            <a:xfrm>
              <a:off x="1371600" y="4527720"/>
              <a:ext cx="281952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етарифные барьер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8"/>
            <p:cNvSpPr/>
            <p:nvPr/>
          </p:nvSpPr>
          <p:spPr>
            <a:xfrm>
              <a:off x="1371600" y="5060880"/>
              <a:ext cx="2819520" cy="398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ддержка экспор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9"/>
            <p:cNvSpPr/>
            <p:nvPr/>
          </p:nvSpPr>
          <p:spPr>
            <a:xfrm>
              <a:off x="914400" y="411480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0"/>
            <p:cNvSpPr/>
            <p:nvPr/>
          </p:nvSpPr>
          <p:spPr>
            <a:xfrm>
              <a:off x="914400" y="47242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11"/>
            <p:cNvSpPr/>
            <p:nvPr/>
          </p:nvSpPr>
          <p:spPr>
            <a:xfrm>
              <a:off x="914400" y="525780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 flipV="1">
              <a:off x="914400" y="365724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4"/>
            <p:cNvSpPr/>
            <p:nvPr/>
          </p:nvSpPr>
          <p:spPr>
            <a:xfrm>
              <a:off x="5867280" y="4419720"/>
              <a:ext cx="2819520" cy="7038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литика без торговых барьер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5"/>
            <p:cNvSpPr/>
            <p:nvPr/>
          </p:nvSpPr>
          <p:spPr>
            <a:xfrm>
              <a:off x="5486400" y="480060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6"/>
            <p:cNvSpPr/>
            <p:nvPr/>
          </p:nvSpPr>
          <p:spPr>
            <a:xfrm flipV="1">
              <a:off x="5486400" y="3657240"/>
              <a:ext cx="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инусы и плюсы протекционизм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27"/>
          <p:cNvGrpSpPr/>
          <p:nvPr/>
        </p:nvGrpSpPr>
        <p:grpSpPr>
          <a:xfrm>
            <a:off x="380880" y="1143000"/>
            <a:ext cx="8610840" cy="5375160"/>
            <a:chOff x="380880" y="1143000"/>
            <a:chExt cx="8610840" cy="5375160"/>
          </a:xfrm>
        </p:grpSpPr>
        <p:sp>
          <p:nvSpPr>
            <p:cNvPr id="529" name="Text Box 3"/>
            <p:cNvSpPr/>
            <p:nvPr/>
          </p:nvSpPr>
          <p:spPr>
            <a:xfrm>
              <a:off x="380880" y="1143000"/>
              <a:ext cx="533520" cy="5375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4"/>
            <p:cNvSpPr/>
            <p:nvPr/>
          </p:nvSpPr>
          <p:spPr>
            <a:xfrm>
              <a:off x="1181160" y="1905120"/>
              <a:ext cx="180324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люс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5"/>
            <p:cNvSpPr/>
            <p:nvPr/>
          </p:nvSpPr>
          <p:spPr>
            <a:xfrm>
              <a:off x="1143000" y="4892760"/>
              <a:ext cx="190512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минус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191120" y="114300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равновешивает ТОРГОВЫЙ БАЛАН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4191120" y="172728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защищает от ДЕМПИНГ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4165560" y="234936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защищает МОЛОДЫЕ ОТРАСЛ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4191120" y="297180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тимулирует РОСТ производств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4191120" y="419112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адает ЭФФЕКТИВНОСТЬ производств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4191120" y="477504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стут ЦЕНЫ, меньше ВЫБОР товаров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4165560" y="539748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е используются преимущества МР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4191120" y="6019920"/>
              <a:ext cx="48006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дрываются возможности ЭКСПОР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5"/>
            <p:cNvSpPr/>
            <p:nvPr/>
          </p:nvSpPr>
          <p:spPr>
            <a:xfrm>
              <a:off x="3733920" y="6248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733920" y="5638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7"/>
            <p:cNvSpPr/>
            <p:nvPr/>
          </p:nvSpPr>
          <p:spPr>
            <a:xfrm>
              <a:off x="3733920" y="5029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8"/>
            <p:cNvSpPr/>
            <p:nvPr/>
          </p:nvSpPr>
          <p:spPr>
            <a:xfrm>
              <a:off x="373392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9"/>
            <p:cNvSpPr/>
            <p:nvPr/>
          </p:nvSpPr>
          <p:spPr>
            <a:xfrm>
              <a:off x="373392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20"/>
            <p:cNvSpPr/>
            <p:nvPr/>
          </p:nvSpPr>
          <p:spPr>
            <a:xfrm>
              <a:off x="3733920" y="25527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21"/>
            <p:cNvSpPr/>
            <p:nvPr/>
          </p:nvSpPr>
          <p:spPr>
            <a:xfrm>
              <a:off x="3733920" y="1981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2"/>
            <p:cNvSpPr/>
            <p:nvPr/>
          </p:nvSpPr>
          <p:spPr>
            <a:xfrm>
              <a:off x="3733920" y="1371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3"/>
            <p:cNvSpPr/>
            <p:nvPr/>
          </p:nvSpPr>
          <p:spPr>
            <a:xfrm flipV="1">
              <a:off x="3733920" y="44197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4"/>
            <p:cNvSpPr/>
            <p:nvPr/>
          </p:nvSpPr>
          <p:spPr>
            <a:xfrm flipV="1">
              <a:off x="3733920" y="137160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5"/>
            <p:cNvSpPr/>
            <p:nvPr/>
          </p:nvSpPr>
          <p:spPr>
            <a:xfrm flipH="1">
              <a:off x="3047760" y="5334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6"/>
            <p:cNvSpPr/>
            <p:nvPr/>
          </p:nvSpPr>
          <p:spPr>
            <a:xfrm flipH="1">
              <a:off x="3009600" y="2286000"/>
              <a:ext cx="72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имущества свободной торгов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15"/>
          <p:cNvGrpSpPr/>
          <p:nvPr/>
        </p:nvGrpSpPr>
        <p:grpSpPr>
          <a:xfrm>
            <a:off x="380880" y="1143000"/>
            <a:ext cx="8458200" cy="5336640"/>
            <a:chOff x="380880" y="1143000"/>
            <a:chExt cx="8458200" cy="5336640"/>
          </a:xfrm>
        </p:grpSpPr>
        <p:sp>
          <p:nvSpPr>
            <p:cNvPr id="554" name="Text Box 4"/>
            <p:cNvSpPr/>
            <p:nvPr/>
          </p:nvSpPr>
          <p:spPr>
            <a:xfrm>
              <a:off x="380880" y="1143000"/>
              <a:ext cx="8458200" cy="76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400" spc="-1" strike="noStrike">
                  <a:solidFill>
                    <a:srgbClr val="000000"/>
                  </a:solidFill>
                  <a:latin typeface="Times New Roman"/>
                </a:rPr>
                <a:t>Свободная торговл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6"/>
            <p:cNvSpPr/>
            <p:nvPr/>
          </p:nvSpPr>
          <p:spPr>
            <a:xfrm>
              <a:off x="2286000" y="2362320"/>
              <a:ext cx="64771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тимулиру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НКУРЕНЦИЮ, ограничивает МОНОПОЛИЗ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7"/>
            <p:cNvSpPr/>
            <p:nvPr/>
          </p:nvSpPr>
          <p:spPr>
            <a:xfrm>
              <a:off x="2286000" y="3645000"/>
              <a:ext cx="64771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ше ЭФФЕКТИВНОСТЬ производства, ниже ЦЕ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8"/>
            <p:cNvSpPr/>
            <p:nvPr/>
          </p:nvSpPr>
          <p:spPr>
            <a:xfrm>
              <a:off x="2286000" y="4952880"/>
              <a:ext cx="64771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ольше ВЫБОР товаров для потребител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9"/>
            <p:cNvSpPr/>
            <p:nvPr/>
          </p:nvSpPr>
          <p:spPr>
            <a:xfrm>
              <a:off x="2286000" y="6019920"/>
              <a:ext cx="64771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лностью используются преимущества МР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>
              <a:off x="1676520" y="6248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1"/>
            <p:cNvSpPr/>
            <p:nvPr/>
          </p:nvSpPr>
          <p:spPr>
            <a:xfrm>
              <a:off x="1676520" y="5181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>
              <a:off x="1676520" y="4038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1676520" y="2743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 flipV="1">
              <a:off x="1676520" y="1904760"/>
              <a:ext cx="0" cy="43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0" y="83664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Инструменты внешнеторговой политики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468360" y="1989000"/>
            <a:ext cx="867564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рифные ограничения (таможенные тарифы, таможенные пошли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арифные ограничения (импортные квоты, лицензирование, затраты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вободные экономические зон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33"/>
          <p:cNvGrpSpPr/>
          <p:nvPr/>
        </p:nvGrpSpPr>
        <p:grpSpPr>
          <a:xfrm>
            <a:off x="304920" y="1219320"/>
            <a:ext cx="8686800" cy="4681080"/>
            <a:chOff x="304920" y="1219320"/>
            <a:chExt cx="8686800" cy="4681080"/>
          </a:xfrm>
        </p:grpSpPr>
        <p:sp>
          <p:nvSpPr>
            <p:cNvPr id="568" name="Text Box 3"/>
            <p:cNvSpPr/>
            <p:nvPr/>
          </p:nvSpPr>
          <p:spPr>
            <a:xfrm>
              <a:off x="457200" y="1219320"/>
              <a:ext cx="220968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услов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4"/>
            <p:cNvSpPr/>
            <p:nvPr/>
          </p:nvSpPr>
          <p:spPr>
            <a:xfrm>
              <a:off x="3200400" y="1219320"/>
              <a:ext cx="220968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цел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5"/>
            <p:cNvSpPr/>
            <p:nvPr/>
          </p:nvSpPr>
          <p:spPr>
            <a:xfrm>
              <a:off x="6248520" y="1219320"/>
              <a:ext cx="220968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вид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609480" y="2514600"/>
              <a:ext cx="24386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аможенные льго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609480" y="3200400"/>
              <a:ext cx="243864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вобода перемещения ресурс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8"/>
            <p:cNvSpPr/>
            <p:nvPr/>
          </p:nvSpPr>
          <p:spPr>
            <a:xfrm>
              <a:off x="609480" y="4114800"/>
              <a:ext cx="236232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льготное налогооблож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9"/>
            <p:cNvSpPr/>
            <p:nvPr/>
          </p:nvSpPr>
          <p:spPr>
            <a:xfrm>
              <a:off x="609480" y="5029200"/>
              <a:ext cx="236232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ощрение инвест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>
              <a:off x="304920" y="1905120"/>
              <a:ext cx="0" cy="350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>
              <a:off x="304920" y="54100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304920" y="44956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>
              <a:off x="304920" y="35812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30492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3657600" y="2286000"/>
              <a:ext cx="243828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звитие данного регион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6"/>
            <p:cNvSpPr/>
            <p:nvPr/>
          </p:nvSpPr>
          <p:spPr>
            <a:xfrm>
              <a:off x="3657600" y="3200400"/>
              <a:ext cx="243828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владение мировым опыт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3657600" y="4114800"/>
              <a:ext cx="2438280" cy="91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ост внешнеэкономических связ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3657600" y="5257800"/>
              <a:ext cx="243828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спытание нововведени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6781680" y="2438280"/>
              <a:ext cx="221004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вободные таможенные зон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6781680" y="3276720"/>
              <a:ext cx="221004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оны свободной торгов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781680" y="4114800"/>
              <a:ext cx="221004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оны экспортного производст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6781680" y="4952880"/>
              <a:ext cx="221004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крытые районы и город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3"/>
            <p:cNvSpPr/>
            <p:nvPr/>
          </p:nvSpPr>
          <p:spPr>
            <a:xfrm>
              <a:off x="3429000" y="25909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4"/>
            <p:cNvSpPr/>
            <p:nvPr/>
          </p:nvSpPr>
          <p:spPr>
            <a:xfrm>
              <a:off x="3429000" y="3581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>
              <a:off x="3429000" y="4572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6"/>
            <p:cNvSpPr/>
            <p:nvPr/>
          </p:nvSpPr>
          <p:spPr>
            <a:xfrm>
              <a:off x="3429000" y="55627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7"/>
            <p:cNvSpPr/>
            <p:nvPr/>
          </p:nvSpPr>
          <p:spPr>
            <a:xfrm flipV="1">
              <a:off x="3429000" y="190512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8"/>
            <p:cNvSpPr/>
            <p:nvPr/>
          </p:nvSpPr>
          <p:spPr>
            <a:xfrm>
              <a:off x="632448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>
              <a:off x="632448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30"/>
            <p:cNvSpPr/>
            <p:nvPr/>
          </p:nvSpPr>
          <p:spPr>
            <a:xfrm>
              <a:off x="6324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31"/>
            <p:cNvSpPr/>
            <p:nvPr/>
          </p:nvSpPr>
          <p:spPr>
            <a:xfrm>
              <a:off x="632448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32"/>
            <p:cNvSpPr/>
            <p:nvPr/>
          </p:nvSpPr>
          <p:spPr>
            <a:xfrm flipV="1">
              <a:off x="6324480" y="190476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-171360" y="-60480"/>
            <a:ext cx="932184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77"/>
          <p:cNvGrpSpPr/>
          <p:nvPr/>
        </p:nvGrpSpPr>
        <p:grpSpPr>
          <a:xfrm>
            <a:off x="152280" y="1359000"/>
            <a:ext cx="8763120" cy="4723920"/>
            <a:chOff x="152280" y="1359000"/>
            <a:chExt cx="8763120" cy="4723920"/>
          </a:xfrm>
        </p:grpSpPr>
        <p:sp>
          <p:nvSpPr>
            <p:cNvPr id="421" name="Text Box 36"/>
            <p:cNvSpPr/>
            <p:nvPr/>
          </p:nvSpPr>
          <p:spPr>
            <a:xfrm>
              <a:off x="380880" y="1359000"/>
              <a:ext cx="8534520" cy="459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ъекты международных экономических отнош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152280" y="2362320"/>
              <a:ext cx="2362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овары в материальной форм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38"/>
            <p:cNvSpPr/>
            <p:nvPr/>
          </p:nvSpPr>
          <p:spPr>
            <a:xfrm>
              <a:off x="2666880" y="2362320"/>
              <a:ext cx="1219320" cy="6858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слу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9"/>
            <p:cNvSpPr/>
            <p:nvPr/>
          </p:nvSpPr>
          <p:spPr>
            <a:xfrm>
              <a:off x="4203720" y="2362320"/>
              <a:ext cx="1600200" cy="6858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40"/>
            <p:cNvSpPr/>
            <p:nvPr/>
          </p:nvSpPr>
          <p:spPr>
            <a:xfrm>
              <a:off x="7391520" y="2362320"/>
              <a:ext cx="1523880" cy="6858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бочая сил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41"/>
            <p:cNvSpPr/>
            <p:nvPr/>
          </p:nvSpPr>
          <p:spPr>
            <a:xfrm>
              <a:off x="5918040" y="2362320"/>
              <a:ext cx="1371600" cy="6858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пита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42"/>
            <p:cNvSpPr/>
            <p:nvPr/>
          </p:nvSpPr>
          <p:spPr>
            <a:xfrm>
              <a:off x="609480" y="3276720"/>
              <a:ext cx="1752840" cy="733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ырьевые, продовольственные това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43"/>
            <p:cNvSpPr/>
            <p:nvPr/>
          </p:nvSpPr>
          <p:spPr>
            <a:xfrm>
              <a:off x="7162920" y="3276720"/>
              <a:ext cx="1523880" cy="9464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ямые и портфельные зарубежные инвести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7162920" y="4648320"/>
              <a:ext cx="1523880" cy="520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еждународный креди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5"/>
            <p:cNvSpPr/>
            <p:nvPr/>
          </p:nvSpPr>
          <p:spPr>
            <a:xfrm>
              <a:off x="5029200" y="3276720"/>
              <a:ext cx="1523880" cy="733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атентные и беспатентные лиценз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46"/>
            <p:cNvSpPr/>
            <p:nvPr/>
          </p:nvSpPr>
          <p:spPr>
            <a:xfrm>
              <a:off x="5029200" y="4343400"/>
              <a:ext cx="1523880" cy="3070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варные зна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47"/>
            <p:cNvSpPr/>
            <p:nvPr/>
          </p:nvSpPr>
          <p:spPr>
            <a:xfrm>
              <a:off x="3048120" y="3276720"/>
              <a:ext cx="1523880" cy="520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еждународный инжиниринг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8"/>
            <p:cNvSpPr/>
            <p:nvPr/>
          </p:nvSpPr>
          <p:spPr>
            <a:xfrm>
              <a:off x="3048120" y="3962520"/>
              <a:ext cx="1523880" cy="3070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онсалтин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49"/>
            <p:cNvSpPr/>
            <p:nvPr/>
          </p:nvSpPr>
          <p:spPr>
            <a:xfrm>
              <a:off x="3048120" y="4495680"/>
              <a:ext cx="1523880" cy="3070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Лизин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50"/>
            <p:cNvSpPr/>
            <p:nvPr/>
          </p:nvSpPr>
          <p:spPr>
            <a:xfrm>
              <a:off x="3048120" y="4952880"/>
              <a:ext cx="1523880" cy="3070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уриз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51"/>
            <p:cNvSpPr/>
            <p:nvPr/>
          </p:nvSpPr>
          <p:spPr>
            <a:xfrm>
              <a:off x="609480" y="4191120"/>
              <a:ext cx="1752840" cy="3070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Готовые издел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52"/>
            <p:cNvSpPr/>
            <p:nvPr/>
          </p:nvSpPr>
          <p:spPr>
            <a:xfrm>
              <a:off x="609480" y="4648320"/>
              <a:ext cx="1752840" cy="733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одукция обрабатывающей промышле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53"/>
            <p:cNvSpPr/>
            <p:nvPr/>
          </p:nvSpPr>
          <p:spPr>
            <a:xfrm>
              <a:off x="609480" y="5562720"/>
              <a:ext cx="2133720" cy="520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ашино-техническая 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54"/>
            <p:cNvSpPr/>
            <p:nvPr/>
          </p:nvSpPr>
          <p:spPr>
            <a:xfrm>
              <a:off x="304920" y="36576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55"/>
            <p:cNvSpPr/>
            <p:nvPr/>
          </p:nvSpPr>
          <p:spPr>
            <a:xfrm>
              <a:off x="304920" y="43434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56"/>
            <p:cNvSpPr/>
            <p:nvPr/>
          </p:nvSpPr>
          <p:spPr>
            <a:xfrm>
              <a:off x="304920" y="50292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57"/>
            <p:cNvSpPr/>
            <p:nvPr/>
          </p:nvSpPr>
          <p:spPr>
            <a:xfrm>
              <a:off x="304920" y="58672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>
              <a:off x="2819520" y="35053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59"/>
            <p:cNvSpPr/>
            <p:nvPr/>
          </p:nvSpPr>
          <p:spPr>
            <a:xfrm>
              <a:off x="2819520" y="411480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60"/>
            <p:cNvSpPr/>
            <p:nvPr/>
          </p:nvSpPr>
          <p:spPr>
            <a:xfrm>
              <a:off x="2819520" y="46483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61"/>
            <p:cNvSpPr/>
            <p:nvPr/>
          </p:nvSpPr>
          <p:spPr>
            <a:xfrm>
              <a:off x="2819520" y="51055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62"/>
            <p:cNvSpPr/>
            <p:nvPr/>
          </p:nvSpPr>
          <p:spPr>
            <a:xfrm>
              <a:off x="4800600" y="35812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63"/>
            <p:cNvSpPr/>
            <p:nvPr/>
          </p:nvSpPr>
          <p:spPr>
            <a:xfrm>
              <a:off x="4800600" y="44956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64"/>
            <p:cNvSpPr/>
            <p:nvPr/>
          </p:nvSpPr>
          <p:spPr>
            <a:xfrm>
              <a:off x="6934320" y="373392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5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66"/>
            <p:cNvSpPr/>
            <p:nvPr/>
          </p:nvSpPr>
          <p:spPr>
            <a:xfrm flipV="1">
              <a:off x="304920" y="3047760"/>
              <a:ext cx="0" cy="28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67"/>
            <p:cNvSpPr/>
            <p:nvPr/>
          </p:nvSpPr>
          <p:spPr>
            <a:xfrm flipV="1">
              <a:off x="2819520" y="3047760"/>
              <a:ext cx="0" cy="205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68"/>
            <p:cNvSpPr/>
            <p:nvPr/>
          </p:nvSpPr>
          <p:spPr>
            <a:xfrm flipV="1">
              <a:off x="4800600" y="3047760"/>
              <a:ext cx="0" cy="1447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69"/>
            <p:cNvSpPr/>
            <p:nvPr/>
          </p:nvSpPr>
          <p:spPr>
            <a:xfrm flipV="1">
              <a:off x="6934320" y="3047760"/>
              <a:ext cx="0" cy="190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70"/>
            <p:cNvSpPr/>
            <p:nvPr/>
          </p:nvSpPr>
          <p:spPr>
            <a:xfrm>
              <a:off x="1219320" y="21337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71"/>
            <p:cNvSpPr/>
            <p:nvPr/>
          </p:nvSpPr>
          <p:spPr>
            <a:xfrm>
              <a:off x="3200400" y="21337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72"/>
            <p:cNvSpPr/>
            <p:nvPr/>
          </p:nvSpPr>
          <p:spPr>
            <a:xfrm>
              <a:off x="4952880" y="21337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73"/>
            <p:cNvSpPr/>
            <p:nvPr/>
          </p:nvSpPr>
          <p:spPr>
            <a:xfrm>
              <a:off x="6553080" y="21337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74"/>
            <p:cNvSpPr/>
            <p:nvPr/>
          </p:nvSpPr>
          <p:spPr>
            <a:xfrm>
              <a:off x="8153280" y="21337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5"/>
            <p:cNvSpPr/>
            <p:nvPr/>
          </p:nvSpPr>
          <p:spPr>
            <a:xfrm>
              <a:off x="1219320" y="2133720"/>
              <a:ext cx="6933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76"/>
            <p:cNvSpPr/>
            <p:nvPr/>
          </p:nvSpPr>
          <p:spPr>
            <a:xfrm>
              <a:off x="4343400" y="182880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0"/>
          <p:cNvGrpSpPr/>
          <p:nvPr/>
        </p:nvGrpSpPr>
        <p:grpSpPr>
          <a:xfrm>
            <a:off x="-152280" y="228600"/>
            <a:ext cx="9601200" cy="5773320"/>
            <a:chOff x="-152280" y="228600"/>
            <a:chExt cx="9601200" cy="5773320"/>
          </a:xfrm>
        </p:grpSpPr>
        <p:sp>
          <p:nvSpPr>
            <p:cNvPr id="599" name="Rectangle 2"/>
            <p:cNvSpPr/>
            <p:nvPr/>
          </p:nvSpPr>
          <p:spPr>
            <a:xfrm>
              <a:off x="0" y="2286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3581280" y="2819520"/>
              <a:ext cx="182880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ффшорная комп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4"/>
            <p:cNvSpPr/>
            <p:nvPr/>
          </p:nvSpPr>
          <p:spPr>
            <a:xfrm>
              <a:off x="5867280" y="2666880"/>
              <a:ext cx="18288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вары по «нормальной» цен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5"/>
            <p:cNvSpPr/>
            <p:nvPr/>
          </p:nvSpPr>
          <p:spPr>
            <a:xfrm>
              <a:off x="1295280" y="2666880"/>
              <a:ext cx="18288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вары по заниженной цен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438280" y="1295280"/>
              <a:ext cx="41148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оффшорной зоне третьей страны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7"/>
            <p:cNvSpPr/>
            <p:nvPr/>
          </p:nvSpPr>
          <p:spPr>
            <a:xfrm>
              <a:off x="1371600" y="4356000"/>
              <a:ext cx="34290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ополнительная прибыль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8"/>
            <p:cNvSpPr/>
            <p:nvPr/>
          </p:nvSpPr>
          <p:spPr>
            <a:xfrm>
              <a:off x="31240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9"/>
            <p:cNvSpPr/>
            <p:nvPr/>
          </p:nvSpPr>
          <p:spPr>
            <a:xfrm>
              <a:off x="54100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0"/>
            <p:cNvSpPr/>
            <p:nvPr/>
          </p:nvSpPr>
          <p:spPr>
            <a:xfrm>
              <a:off x="8153280" y="1327320"/>
              <a:ext cx="762120" cy="45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1"/>
            <p:cNvSpPr/>
            <p:nvPr/>
          </p:nvSpPr>
          <p:spPr>
            <a:xfrm>
              <a:off x="228600" y="1219320"/>
              <a:ext cx="762120" cy="478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2"/>
            <p:cNvSpPr/>
            <p:nvPr/>
          </p:nvSpPr>
          <p:spPr>
            <a:xfrm>
              <a:off x="76960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3"/>
            <p:cNvSpPr/>
            <p:nvPr/>
          </p:nvSpPr>
          <p:spPr>
            <a:xfrm>
              <a:off x="990720" y="3200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4"/>
            <p:cNvSpPr/>
            <p:nvPr/>
          </p:nvSpPr>
          <p:spPr>
            <a:xfrm>
              <a:off x="4267080" y="3581280"/>
              <a:ext cx="12956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5"/>
            <p:cNvSpPr/>
            <p:nvPr/>
          </p:nvSpPr>
          <p:spPr>
            <a:xfrm flipH="1">
              <a:off x="4800240" y="4572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6"/>
            <p:cNvSpPr/>
            <p:nvPr/>
          </p:nvSpPr>
          <p:spPr>
            <a:xfrm flipH="1">
              <a:off x="990720" y="4648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-152280" y="609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стране 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7620120" y="5176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стране Х или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19"/>
            <p:cNvSpPr/>
            <p:nvPr/>
          </p:nvSpPr>
          <p:spPr>
            <a:xfrm>
              <a:off x="3733920" y="1905120"/>
              <a:ext cx="1523880" cy="6858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2"/>
          <a:stretch/>
        </p:blipFill>
        <p:spPr>
          <a:xfrm>
            <a:off x="-171360" y="-60480"/>
            <a:ext cx="932184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59"/>
          <p:cNvGrpSpPr/>
          <p:nvPr/>
        </p:nvGrpSpPr>
        <p:grpSpPr>
          <a:xfrm>
            <a:off x="304920" y="1523880"/>
            <a:ext cx="8610480" cy="4437360"/>
            <a:chOff x="304920" y="1523880"/>
            <a:chExt cx="8610480" cy="4437360"/>
          </a:xfrm>
        </p:grpSpPr>
        <p:sp>
          <p:nvSpPr>
            <p:cNvPr id="464" name="Text Box 45"/>
            <p:cNvSpPr/>
            <p:nvPr/>
          </p:nvSpPr>
          <p:spPr>
            <a:xfrm>
              <a:off x="304920" y="1523880"/>
              <a:ext cx="8610480" cy="9471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убъекты международных экономических отношений на микроуровн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46"/>
            <p:cNvSpPr/>
            <p:nvPr/>
          </p:nvSpPr>
          <p:spPr>
            <a:xfrm>
              <a:off x="304920" y="3276720"/>
              <a:ext cx="1752480" cy="3682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Фирм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47"/>
            <p:cNvSpPr/>
            <p:nvPr/>
          </p:nvSpPr>
          <p:spPr>
            <a:xfrm>
              <a:off x="3352680" y="3276720"/>
              <a:ext cx="19814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еждународные корпора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48"/>
            <p:cNvSpPr/>
            <p:nvPr/>
          </p:nvSpPr>
          <p:spPr>
            <a:xfrm>
              <a:off x="6781680" y="3276720"/>
              <a:ext cx="205740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юзы предпринимател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50"/>
            <p:cNvSpPr/>
            <p:nvPr/>
          </p:nvSpPr>
          <p:spPr>
            <a:xfrm>
              <a:off x="1447920" y="4495680"/>
              <a:ext cx="2209680" cy="1465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еждународные организации, осуществляющие инвестиционное строитель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51"/>
            <p:cNvSpPr/>
            <p:nvPr/>
          </p:nvSpPr>
          <p:spPr>
            <a:xfrm>
              <a:off x="5105520" y="4495680"/>
              <a:ext cx="2514600" cy="1465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осударственные органы и организации (занимающиеся внешнеэкономической деятельностью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52"/>
            <p:cNvSpPr/>
            <p:nvPr/>
          </p:nvSpPr>
          <p:spPr>
            <a:xfrm>
              <a:off x="4572000" y="251460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53"/>
            <p:cNvSpPr/>
            <p:nvPr/>
          </p:nvSpPr>
          <p:spPr>
            <a:xfrm>
              <a:off x="1143000" y="2743200"/>
              <a:ext cx="6705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54"/>
            <p:cNvSpPr/>
            <p:nvPr/>
          </p:nvSpPr>
          <p:spPr>
            <a:xfrm>
              <a:off x="1143000" y="274320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55"/>
            <p:cNvSpPr/>
            <p:nvPr/>
          </p:nvSpPr>
          <p:spPr>
            <a:xfrm>
              <a:off x="2616120" y="2743200"/>
              <a:ext cx="0" cy="175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56"/>
            <p:cNvSpPr/>
            <p:nvPr/>
          </p:nvSpPr>
          <p:spPr>
            <a:xfrm>
              <a:off x="4267080" y="274320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57"/>
            <p:cNvSpPr/>
            <p:nvPr/>
          </p:nvSpPr>
          <p:spPr>
            <a:xfrm>
              <a:off x="6095880" y="2743200"/>
              <a:ext cx="0" cy="175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58"/>
            <p:cNvSpPr/>
            <p:nvPr/>
          </p:nvSpPr>
          <p:spPr>
            <a:xfrm>
              <a:off x="7835760" y="27432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2"/>
          <a:stretch/>
        </p:blipFill>
        <p:spPr>
          <a:xfrm>
            <a:off x="-171360" y="-60480"/>
            <a:ext cx="9321840" cy="121284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17"/>
          <p:cNvGrpSpPr/>
          <p:nvPr/>
        </p:nvGrpSpPr>
        <p:grpSpPr>
          <a:xfrm>
            <a:off x="228600" y="1523880"/>
            <a:ext cx="8686800" cy="3401280"/>
            <a:chOff x="228600" y="1523880"/>
            <a:chExt cx="8686800" cy="3401280"/>
          </a:xfrm>
        </p:grpSpPr>
        <p:sp>
          <p:nvSpPr>
            <p:cNvPr id="479" name="Text Box 4"/>
            <p:cNvSpPr/>
            <p:nvPr/>
          </p:nvSpPr>
          <p:spPr>
            <a:xfrm>
              <a:off x="304920" y="1523880"/>
              <a:ext cx="8610480" cy="9471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убъекты международных экономических отношений на макроуровн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228600" y="3759120"/>
              <a:ext cx="1752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циональные правительст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3352680" y="3733920"/>
              <a:ext cx="1981440" cy="1191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осударственные органы (Центральный банк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6781680" y="3809880"/>
              <a:ext cx="2057400" cy="916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еждународные экономические организа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>
              <a:off x="4572000" y="251460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1143000" y="2743200"/>
              <a:ext cx="6705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143000" y="2743200"/>
              <a:ext cx="0" cy="99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4"/>
            <p:cNvSpPr/>
            <p:nvPr/>
          </p:nvSpPr>
          <p:spPr>
            <a:xfrm>
              <a:off x="4267080" y="2743200"/>
              <a:ext cx="0" cy="99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7835760" y="2743200"/>
              <a:ext cx="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6769080" cy="927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68000" y="1557360"/>
            <a:ext cx="8351640" cy="34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64646"/>
                </a:solidFill>
                <a:latin typeface="Lucida Sans Unicode"/>
              </a:rPr>
              <a:t>           </a:t>
            </a:r>
            <a:r>
              <a:rPr b="1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еждународная торговля</a:t>
            </a:r>
            <a:r>
              <a:rPr b="0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– это торговля товарами и услугами между странами</a:t>
            </a: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в </a:t>
            </a:r>
            <a:r>
              <a:rPr b="0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снове </a:t>
            </a: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торой лежит </a:t>
            </a:r>
            <a:r>
              <a:rPr b="0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еждународное разделение труда, с целью</a:t>
            </a: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более полного </a:t>
            </a:r>
            <a:r>
              <a:rPr b="0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довлетворения</a:t>
            </a: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безграничных </a:t>
            </a:r>
            <a:r>
              <a:rPr b="0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требностей </a:t>
            </a: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населения.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Дифференциация наличия факторов производства</a:t>
            </a: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у стран - </a:t>
            </a:r>
            <a:r>
              <a:rPr b="0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сновная причина международной торговл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ировой товарный экспорт со времён Второй мировой войны увеличился более чем в 50 раз.</a:t>
            </a: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«Золотым веком» международной торговли был период 1950-70-хх гг., когда  ежегодный рост её составлял около 7%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684360" y="12679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Основное отличие внешней торговли от внутренней заключается в том, что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ресурсы на интернациональном уровне более мобильны (что касается денежных ресурсов, то используется мировая валют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международная торговля более подвержена политическому контрол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0" y="16430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Внутренний рынок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Это обмен товарами и услугами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произведёнными и предназначенными для реализации внутри стран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Национальный рынок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Включает все товары, произведённые в данной стране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предназначенные для реализации не только внутри страны, но и за её пределам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62064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международной торговли включает такие понятия, к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Sans Unicode"/>
              </a:rPr>
              <a:t>Международный рынок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 Представляет собой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часть национальных рынк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ориент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на экспорт продукци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Sans Unicode"/>
              </a:rPr>
              <a:t>Мировой рынок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Сумма всех национальных рынк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представляющая собой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сферу устойчивых товарно - денеж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основанных на развитии и углублении международного разделения труда и движении факторов производства между стран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40464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международной торговли включает такие понятия, к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0" y="8380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является высшей ступенью развития товарного производства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оздаёт предпосылки к оптимальному использованию факторов производства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именяет стандарты качества товаров и услуг, повышающих качество продукци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-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ой рыно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25909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настоящее время в развитии мирового рынка происходят следующие изме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31240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илось количество развивающихся стран в международной торговл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ос внешнеторговый потенциал ведущих индустриальных стра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продуктом товарооборота является наукоёмкая продук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0" y="4648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факторы, повышающие уровень мировой торговли на мировом рын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0" y="52578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свободных экономических зон (Китай, СНГ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новых деловых центров (Сингапур, Гонконг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ространение глобальных коммуникационных сист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53:30Z</dcterms:created>
  <dc:creator>NMO</dc:creator>
  <dc:description/>
  <dc:language>en-US</dc:language>
  <cp:lastModifiedBy>K213-03</cp:lastModifiedBy>
  <dcterms:modified xsi:type="dcterms:W3CDTF">2012-06-14T08:54:04Z</dcterms:modified>
  <cp:revision>55</cp:revision>
  <dc:subject/>
  <dc:title>Презентация PowerPoint</dc:title>
</cp:coreProperties>
</file>