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ftr" idx="26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0C95-BB24-4BBC-8922-C734E5DD00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0605-EE96-4096-82CB-ECF3F44DC8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A76-CF01-4091-9EC5-D715C80A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827-C6AD-4767-A334-FA117865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D58-75B1-4C3B-8B71-5A5B1B51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C26-DD15-4B88-A42C-2C1EEB96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6D9C-B329-4B93-B5BF-23A1B1EA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6D3E-B847-4366-9F33-C1076E9C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795E-2C8D-42B5-A49D-A25C7864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162A-F141-4B71-86DA-C860D23E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B6DC-F74C-4C02-8E0B-4EB63BC8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3533-BEB5-41BC-B680-035E175C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A9AD-0735-4949-A113-EF738699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05C-8D0F-4D39-8A8A-0E1D06A0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9F7A-6FCE-4E35-91FC-B047DDAA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B9F5-E36E-4F1E-91FA-9E0485F7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6D75-0346-4DD7-9CC9-B5CCB6FB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67DF-372B-4434-B175-7E8614C5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A749-ED95-4CA4-AC1D-6D3D966B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A3B0-CA9F-46B2-BD05-B5A0CB31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FFC4-FB0B-40BF-9D25-7D5609A0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4C5E-2081-470B-82E1-17D82ACC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6F640-5D06-47B6-99CF-1ED674BB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31BBB-D234-4D89-878B-1AA9698B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D38-C0F0-4D1B-BF2B-817EECD2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E9936-37D6-4FA8-AF28-3FFF917D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3528F-A0DF-4E31-B3D1-EE4FD26A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5D4B6-F0C2-4F5B-A1B3-BC32E9EE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8C4C-5E79-4E52-96BA-42E8370D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8A4F-F3D4-4AE9-A9C6-A37DF011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B3E04-8847-42CB-8066-DCA55C16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569DA-B4C4-437E-945B-3CE56112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BB283-306B-4F70-9C13-A702C6B3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E8342-9EF6-413F-AF4D-405441C5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631F4A-FE39-4756-B128-90548D4E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AB7-7713-46A2-8493-535EE57B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2565E0-4F8A-4511-99FD-F77FC1BB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857761-7ED6-457A-9BD8-18F91973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0703E-586C-4F3F-9F2F-EF617694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6B0B68-389E-46D8-9305-40552733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AF46AB-1ACB-4209-B3D7-7AF67BE9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8F28A-37F7-4A18-A33A-6F390573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861AE-4AA2-4D6D-91F6-2C03F91A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5A6D4-C749-433B-A52C-E6C3F303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D7C4F2-2385-47F7-B5AD-63E276BF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6DCF9-CD38-4EA0-8388-C4E9FDA3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64F-99E3-4D79-ABA5-5AF4001D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17641-D69A-47D7-9AAD-02A806D4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BE327-0CAE-4B52-90FE-8040735F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09902-33B3-460D-8195-618B241F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DBBC6-4D03-4CDC-BF2D-B5789525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65A7F-C40F-4781-836E-6DE0F900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B0AAF-762C-42B3-9E8A-FBB51D7E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66F89-1D47-4FF8-AF06-C2499E5E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1ADFB-FFE8-4D8D-AD92-F08E80B6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7B99A-EC92-4151-86B2-989F1A8D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93BD1-A5EC-4A8E-BB18-48199143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8FA-2C20-4F4C-8624-306C42B3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62DA8-FDD8-4DF7-9F28-55036BB5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34541-8299-49ED-8CE8-E868B1C2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F5E56-EF62-44FD-88E9-79FC7C19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A43E2-CE75-4B5E-984B-50F5AC0C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8421C-BA6A-44CA-8963-9E1367E1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0B4B6-2014-4575-BB34-7715DBA7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F5E44-6A2D-4FEA-AE09-49F4FAAE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96F1B-B6A4-4308-8AAD-7413F058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FCB8F-A50B-4310-84E1-D65CA61C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AC4B5-EE62-49FB-89F4-CDA56D95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AFA-2F6B-441A-9C6D-09940263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CD181-12C4-468B-B469-90B6FFB7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DB0C3-94FD-4B5D-911F-B3660338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0DC3C-A6DC-40A9-9976-31BD70E5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C572B-83E4-40CC-A49C-2F40DF5D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6258C-CC73-476F-BAB3-E80B4F5F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13FB4-7E0B-4B31-827F-E3927336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2BABC-D574-4FA9-B6E5-9C543AC6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5EB9E-7B46-4C9A-B8A2-882D2029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E93FA-1B98-4B75-A975-C214EB92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5DF4E-FC96-45D1-9614-F89CA0ED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550-70D6-49C4-B92E-4494BF8E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0A697-EF5E-47DC-96B1-C0E95DF5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B9FF0-B90E-4996-B2A2-1EDB0F70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0D3FD-121F-4C2D-B2EE-AC2C055A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46EA9-B959-45A4-A4AE-94B42542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514DC-BDE3-419F-B140-1E375105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74B58-BA3C-46ED-ABE0-1BFABE3F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23A61-923D-4A8A-8752-00654F9B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4B80C-342E-497A-9C6E-6A94DA08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649C3-E241-4BEB-8B9A-D3D00A70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0F56D-D2E9-4E68-B1DE-283EBE14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3DB-C9A0-43C8-BC10-61FAC9A9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11C0C-6191-40A2-B58B-0EAEC7CD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1C36C-4CA5-497C-BE8F-2E288194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0D7CB-5E7A-4C34-8713-B0ABBFCF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E368A-F2FF-4AB1-B9A2-1DE469C3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D0635-4CCC-4104-B69C-8678D8F6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A22A3-594A-4941-B1B9-AE58D63B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89CCC-1964-4D55-A0CA-ECD344F2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38B4-FE27-4F8C-AD46-59265C8CD888}" type="datetime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Гиззатуллина Елена Илдусов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30AA-78F0-4E17-B025-145C5E85DB8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56160" y="-25200"/>
            <a:ext cx="9200160" cy="2082600"/>
            <a:chOff x="-56160" y="-25200"/>
            <a:chExt cx="9200160" cy="2082600"/>
          </a:xfrm>
        </p:grpSpPr>
        <p:grpSp>
          <p:nvGrpSpPr>
            <p:cNvPr id="42" name="Group 3"/>
            <p:cNvGrpSpPr/>
            <p:nvPr/>
          </p:nvGrpSpPr>
          <p:grpSpPr>
            <a:xfrm>
              <a:off x="-56160" y="-25200"/>
              <a:ext cx="2832840" cy="1098000"/>
              <a:chOff x="-56160" y="-25200"/>
              <a:chExt cx="2832840" cy="1098000"/>
            </a:xfrm>
          </p:grpSpPr>
          <p:sp>
            <p:nvSpPr>
              <p:cNvPr id="43" name="Arc 4"/>
              <p:cNvSpPr/>
              <p:nvPr/>
            </p:nvSpPr>
            <p:spPr>
              <a:xfrm flipV="1" rot="459000">
                <a:off x="154080" y="-288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Arc 5"/>
              <p:cNvSpPr/>
              <p:nvPr/>
            </p:nvSpPr>
            <p:spPr>
              <a:xfrm flipV="1" rot="19293000">
                <a:off x="304200" y="-72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Arc 6"/>
              <p:cNvSpPr/>
              <p:nvPr/>
            </p:nvSpPr>
            <p:spPr>
              <a:xfrm flipV="1" rot="19635600">
                <a:off x="533520" y="-3132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Arc 7"/>
              <p:cNvSpPr/>
              <p:nvPr/>
            </p:nvSpPr>
            <p:spPr>
              <a:xfrm flipV="1" rot="20128800">
                <a:off x="304200" y="0"/>
                <a:ext cx="108000" cy="685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rc 8"/>
              <p:cNvSpPr/>
              <p:nvPr/>
            </p:nvSpPr>
            <p:spPr>
              <a:xfrm flipV="1" rot="19635600">
                <a:off x="609480" y="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Arc 9"/>
              <p:cNvSpPr/>
              <p:nvPr/>
            </p:nvSpPr>
            <p:spPr>
              <a:xfrm flipV="1" rot="19635600">
                <a:off x="914040" y="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Arc 10"/>
              <p:cNvSpPr/>
              <p:nvPr/>
            </p:nvSpPr>
            <p:spPr>
              <a:xfrm flipV="1" rot="19635600">
                <a:off x="1167840" y="-63000"/>
                <a:ext cx="74520" cy="93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Arc 11"/>
              <p:cNvSpPr/>
              <p:nvPr/>
            </p:nvSpPr>
            <p:spPr>
              <a:xfrm flipV="1" rot="19779600">
                <a:off x="825840" y="-15120"/>
                <a:ext cx="11448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rc 12"/>
              <p:cNvSpPr/>
              <p:nvPr/>
            </p:nvSpPr>
            <p:spPr>
              <a:xfrm flipV="1" rot="19084800">
                <a:off x="1476000" y="-9684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Arc 13"/>
              <p:cNvSpPr/>
              <p:nvPr/>
            </p:nvSpPr>
            <p:spPr>
              <a:xfrm flipV="1" rot="1431000">
                <a:off x="1323720" y="-48240"/>
                <a:ext cx="91800" cy="968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rc 14"/>
              <p:cNvSpPr/>
              <p:nvPr/>
            </p:nvSpPr>
            <p:spPr>
              <a:xfrm flipV="1" rot="459000">
                <a:off x="1312560" y="-6120"/>
                <a:ext cx="100080" cy="7588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rc 15"/>
              <p:cNvSpPr/>
              <p:nvPr/>
            </p:nvSpPr>
            <p:spPr>
              <a:xfrm flipV="1" rot="18784200">
                <a:off x="1793880" y="-10872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rc 16"/>
              <p:cNvSpPr/>
              <p:nvPr/>
            </p:nvSpPr>
            <p:spPr>
              <a:xfrm flipV="1" rot="19015800">
                <a:off x="1980720" y="-52920"/>
                <a:ext cx="98640" cy="641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Arc 17"/>
              <p:cNvSpPr/>
              <p:nvPr/>
            </p:nvSpPr>
            <p:spPr>
              <a:xfrm flipV="1" rot="19962600">
                <a:off x="2341800" y="-9720"/>
                <a:ext cx="74880" cy="4780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rc 18"/>
              <p:cNvSpPr/>
              <p:nvPr/>
            </p:nvSpPr>
            <p:spPr>
              <a:xfrm flipV="1" rot="19369200">
                <a:off x="2530080" y="-6480"/>
                <a:ext cx="106560" cy="498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rc 19"/>
              <p:cNvSpPr/>
              <p:nvPr/>
            </p:nvSpPr>
            <p:spPr>
              <a:xfrm flipV="1" rot="19964400">
                <a:off x="229320" y="-32400"/>
                <a:ext cx="108000" cy="1143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rc 20"/>
              <p:cNvSpPr/>
              <p:nvPr/>
            </p:nvSpPr>
            <p:spPr>
              <a:xfrm flipV="1" rot="20128800">
                <a:off x="1098720" y="-720"/>
                <a:ext cx="8856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rc 21"/>
              <p:cNvSpPr/>
              <p:nvPr/>
            </p:nvSpPr>
            <p:spPr>
              <a:xfrm flipV="1" rot="17749800">
                <a:off x="2284200" y="-160200"/>
                <a:ext cx="98280" cy="7362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rc 22"/>
              <p:cNvSpPr/>
              <p:nvPr/>
            </p:nvSpPr>
            <p:spPr>
              <a:xfrm flipV="1" rot="20418000">
                <a:off x="82080" y="22788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603360" y="304920"/>
              <a:ext cx="768240" cy="1752480"/>
              <a:chOff x="603360" y="304920"/>
              <a:chExt cx="768240" cy="1752480"/>
            </a:xfrm>
          </p:grpSpPr>
          <p:sp>
            <p:nvSpPr>
              <p:cNvPr id="63" name="Rectangle 24"/>
              <p:cNvSpPr/>
              <p:nvPr/>
            </p:nvSpPr>
            <p:spPr>
              <a:xfrm rot="16200000">
                <a:off x="97920" y="1169280"/>
                <a:ext cx="1752480" cy="2376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5400000">
                <a:off x="974520" y="798480"/>
                <a:ext cx="25560" cy="76824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26"/>
              <p:cNvSpPr/>
              <p:nvPr/>
            </p:nvSpPr>
            <p:spPr>
              <a:xfrm rot="16200000">
                <a:off x="660600" y="873000"/>
                <a:ext cx="623880" cy="623880"/>
              </a:xfrm>
              <a:prstGeom prst="ellipse">
                <a:avLst/>
              </a:prstGeom>
              <a:noFill/>
              <a:ln w="9360">
                <a:solidFill>
                  <a:srgbClr val="d0a8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" name="Picture 27" descr="Safnavvd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6490-3821-40A7-BEC1-9731E2141208}" type="datetime"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Гиззатуллина Елена Илдусов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F9CA-8CF6-48C0-8DC9-4101C91D3566}" type="slidenum"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09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E0B7-3618-4B3F-BEDE-259375DA5F2D}" type="datetime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Гиззатуллина Елена Илдусов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2CE4-5BC6-4168-B612-939E5B2D8E0D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ззатуллина Елена Илдусов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995C-DA45-41B9-82C3-7A3665C0A5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60C3-2197-45F3-8B16-AC6C4FA1D26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FCCE-9D37-4C15-80D7-75C835D6E50E}" type="datetime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Гиззатуллина Елена Илдусов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182D-7A1B-44FD-A79D-D9D88B00F30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0" y="2971800"/>
            <a:ext cx="9144000" cy="1298160"/>
            <a:chOff x="0" y="2971800"/>
            <a:chExt cx="9144000" cy="1298160"/>
          </a:xfrm>
        </p:grpSpPr>
        <p:grpSp>
          <p:nvGrpSpPr>
            <p:cNvPr id="245" name="Group 3"/>
            <p:cNvGrpSpPr/>
            <p:nvPr/>
          </p:nvGrpSpPr>
          <p:grpSpPr>
            <a:xfrm>
              <a:off x="1823760" y="3120120"/>
              <a:ext cx="5467680" cy="1149840"/>
              <a:chOff x="1823760" y="3120120"/>
              <a:chExt cx="5467680" cy="1149840"/>
            </a:xfrm>
          </p:grpSpPr>
          <p:sp>
            <p:nvSpPr>
              <p:cNvPr id="246" name="Arc 4"/>
              <p:cNvSpPr/>
              <p:nvPr/>
            </p:nvSpPr>
            <p:spPr>
              <a:xfrm flipH="1" flipV="1" rot="2307000">
                <a:off x="4215600" y="314136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Group 5"/>
              <p:cNvGrpSpPr/>
              <p:nvPr/>
            </p:nvGrpSpPr>
            <p:grpSpPr>
              <a:xfrm>
                <a:off x="4458960" y="3137400"/>
                <a:ext cx="2832480" cy="1096920"/>
                <a:chOff x="4458960" y="3137400"/>
                <a:chExt cx="2832480" cy="1096920"/>
              </a:xfrm>
            </p:grpSpPr>
            <p:sp>
              <p:nvSpPr>
                <p:cNvPr id="248" name="Arc 6"/>
                <p:cNvSpPr/>
                <p:nvPr/>
              </p:nvSpPr>
              <p:spPr>
                <a:xfrm flipV="1" rot="459000">
                  <a:off x="4668840" y="3158280"/>
                  <a:ext cx="108000" cy="874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Arc 7"/>
                <p:cNvSpPr/>
                <p:nvPr/>
              </p:nvSpPr>
              <p:spPr>
                <a:xfrm flipV="1" rot="19293000">
                  <a:off x="4819320" y="3161880"/>
                  <a:ext cx="108000" cy="5328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Arc 8"/>
                <p:cNvSpPr/>
                <p:nvPr/>
              </p:nvSpPr>
              <p:spPr>
                <a:xfrm flipV="1" rot="19635600">
                  <a:off x="5047920" y="3130200"/>
                  <a:ext cx="108000" cy="914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Arc 9"/>
                <p:cNvSpPr/>
                <p:nvPr/>
              </p:nvSpPr>
              <p:spPr>
                <a:xfrm flipV="1" rot="20128800">
                  <a:off x="4819320" y="3162240"/>
                  <a:ext cx="108000" cy="685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Arc 10"/>
                <p:cNvSpPr/>
                <p:nvPr/>
              </p:nvSpPr>
              <p:spPr>
                <a:xfrm flipV="1" rot="19635600">
                  <a:off x="5124240" y="3161160"/>
                  <a:ext cx="87120" cy="72828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rc 11"/>
                <p:cNvSpPr/>
                <p:nvPr/>
              </p:nvSpPr>
              <p:spPr>
                <a:xfrm flipV="1" rot="19635600">
                  <a:off x="5428800" y="3161880"/>
                  <a:ext cx="90360" cy="57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rc 12"/>
                <p:cNvSpPr/>
                <p:nvPr/>
              </p:nvSpPr>
              <p:spPr>
                <a:xfrm flipV="1" rot="19635600">
                  <a:off x="5682600" y="3098880"/>
                  <a:ext cx="74520" cy="93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Arc 13"/>
                <p:cNvSpPr/>
                <p:nvPr/>
              </p:nvSpPr>
              <p:spPr>
                <a:xfrm flipV="1" rot="19779600">
                  <a:off x="5340960" y="3146040"/>
                  <a:ext cx="114480" cy="925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Arc 14"/>
                <p:cNvSpPr/>
                <p:nvPr/>
              </p:nvSpPr>
              <p:spPr>
                <a:xfrm flipV="1" rot="19084800">
                  <a:off x="5990760" y="3065400"/>
                  <a:ext cx="100080" cy="979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Arc 15"/>
                <p:cNvSpPr/>
                <p:nvPr/>
              </p:nvSpPr>
              <p:spPr>
                <a:xfrm flipV="1" rot="1431000">
                  <a:off x="5838480" y="3114360"/>
                  <a:ext cx="91800" cy="968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Arc 16"/>
                <p:cNvSpPr/>
                <p:nvPr/>
              </p:nvSpPr>
              <p:spPr>
                <a:xfrm flipV="1" rot="459000">
                  <a:off x="5827320" y="3155040"/>
                  <a:ext cx="100080" cy="7585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Arc 17"/>
                <p:cNvSpPr/>
                <p:nvPr/>
              </p:nvSpPr>
              <p:spPr>
                <a:xfrm flipV="1" rot="18784200">
                  <a:off x="6309000" y="3053160"/>
                  <a:ext cx="85320" cy="905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rc 18"/>
                <p:cNvSpPr/>
                <p:nvPr/>
              </p:nvSpPr>
              <p:spPr>
                <a:xfrm flipV="1" rot="19015800">
                  <a:off x="6495480" y="3109320"/>
                  <a:ext cx="98640" cy="64116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Arc 19"/>
                <p:cNvSpPr/>
                <p:nvPr/>
              </p:nvSpPr>
              <p:spPr>
                <a:xfrm flipV="1" rot="19962600">
                  <a:off x="6856560" y="3152160"/>
                  <a:ext cx="74880" cy="4777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Arc 20"/>
                <p:cNvSpPr/>
                <p:nvPr/>
              </p:nvSpPr>
              <p:spPr>
                <a:xfrm flipV="1" rot="19369200">
                  <a:off x="7044840" y="3155400"/>
                  <a:ext cx="106560" cy="4986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Arc 21"/>
                <p:cNvSpPr/>
                <p:nvPr/>
              </p:nvSpPr>
              <p:spPr>
                <a:xfrm flipV="1" rot="19964400">
                  <a:off x="4744080" y="3129480"/>
                  <a:ext cx="108000" cy="1143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Arc 22"/>
                <p:cNvSpPr/>
                <p:nvPr/>
              </p:nvSpPr>
              <p:spPr>
                <a:xfrm flipV="1" rot="20128800">
                  <a:off x="5613120" y="3161880"/>
                  <a:ext cx="88560" cy="3632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Arc 23"/>
                <p:cNvSpPr/>
                <p:nvPr/>
              </p:nvSpPr>
              <p:spPr>
                <a:xfrm flipV="1" rot="17749800">
                  <a:off x="6798960" y="3000600"/>
                  <a:ext cx="97920" cy="7369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Arc 24"/>
                <p:cNvSpPr/>
                <p:nvPr/>
              </p:nvSpPr>
              <p:spPr>
                <a:xfrm flipV="1" rot="20418000">
                  <a:off x="4596840" y="3390840"/>
                  <a:ext cx="108000" cy="837720"/>
                </a:xfrm>
                <a:custGeom>
                  <a:avLst/>
                  <a:gdLst/>
                  <a:ahLst/>
                  <a:rect l="l" t="t" r="r" b="b"/>
                  <a:pathLst>
                    <a:path fill="none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</a:path>
                    <a:path stroke="0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  <a:lnTo>
                        <a:pt x="21281" y="21600"/>
                      </a:lnTo>
                      <a:lnTo>
                        <a:pt x="0" y="179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Arc 25"/>
              <p:cNvSpPr/>
              <p:nvPr/>
            </p:nvSpPr>
            <p:spPr>
              <a:xfrm flipH="1" flipV="1" rot="21141000">
                <a:off x="4444200" y="314172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Arc 26"/>
              <p:cNvSpPr/>
              <p:nvPr/>
            </p:nvSpPr>
            <p:spPr>
              <a:xfrm flipH="1" flipV="1" rot="1964400">
                <a:off x="3989160" y="311256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Arc 27"/>
              <p:cNvSpPr/>
              <p:nvPr/>
            </p:nvSpPr>
            <p:spPr>
              <a:xfrm flipH="1" flipV="1" rot="20985600">
                <a:off x="4216680" y="3217320"/>
                <a:ext cx="108000" cy="6854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Arc 28"/>
              <p:cNvSpPr/>
              <p:nvPr/>
            </p:nvSpPr>
            <p:spPr>
              <a:xfrm flipH="1" flipV="1" rot="1964400">
                <a:off x="3933000" y="314460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Arc 29"/>
              <p:cNvSpPr/>
              <p:nvPr/>
            </p:nvSpPr>
            <p:spPr>
              <a:xfrm flipH="1" flipV="1" rot="1964400">
                <a:off x="3625560" y="314460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Arc 30"/>
              <p:cNvSpPr/>
              <p:nvPr/>
            </p:nvSpPr>
            <p:spPr>
              <a:xfrm flipH="1" flipV="1" rot="1964400">
                <a:off x="3387240" y="3081240"/>
                <a:ext cx="74520" cy="936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Arc 31"/>
              <p:cNvSpPr/>
              <p:nvPr/>
            </p:nvSpPr>
            <p:spPr>
              <a:xfrm flipH="1" flipV="1" rot="1820400">
                <a:off x="3688200" y="3129120"/>
                <a:ext cx="11412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Arc 32"/>
              <p:cNvSpPr/>
              <p:nvPr/>
            </p:nvSpPr>
            <p:spPr>
              <a:xfrm flipH="1" flipV="1" rot="2515200">
                <a:off x="3023640" y="304776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Arc 33"/>
              <p:cNvSpPr/>
              <p:nvPr/>
            </p:nvSpPr>
            <p:spPr>
              <a:xfrm flipH="1" flipV="1" rot="20169000">
                <a:off x="3183480" y="3097080"/>
                <a:ext cx="91800" cy="968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Arc 34"/>
              <p:cNvSpPr/>
              <p:nvPr/>
            </p:nvSpPr>
            <p:spPr>
              <a:xfrm flipH="1" flipV="1" rot="21141000">
                <a:off x="3187080" y="3138120"/>
                <a:ext cx="99720" cy="758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Arc 35"/>
              <p:cNvSpPr/>
              <p:nvPr/>
            </p:nvSpPr>
            <p:spPr>
              <a:xfrm flipH="1" flipV="1" rot="3416400">
                <a:off x="2719800" y="303768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Arc 36"/>
              <p:cNvSpPr/>
              <p:nvPr/>
            </p:nvSpPr>
            <p:spPr>
              <a:xfrm flipH="1" flipV="1" rot="2584200">
                <a:off x="2520360" y="3092400"/>
                <a:ext cx="98640" cy="6411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Arc 37"/>
              <p:cNvSpPr/>
              <p:nvPr/>
            </p:nvSpPr>
            <p:spPr>
              <a:xfrm flipH="1" flipV="1" rot="1637400">
                <a:off x="2184120" y="3135600"/>
                <a:ext cx="74520" cy="477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Arc 38"/>
              <p:cNvSpPr/>
              <p:nvPr/>
            </p:nvSpPr>
            <p:spPr>
              <a:xfrm flipH="1" flipV="1" rot="2230800">
                <a:off x="1963080" y="3138840"/>
                <a:ext cx="106200" cy="4982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rc 39"/>
              <p:cNvSpPr/>
              <p:nvPr/>
            </p:nvSpPr>
            <p:spPr>
              <a:xfrm flipH="1" flipV="1" rot="20427000">
                <a:off x="4065120" y="3141360"/>
                <a:ext cx="108000" cy="1142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Arc 40"/>
              <p:cNvSpPr/>
              <p:nvPr/>
            </p:nvSpPr>
            <p:spPr>
              <a:xfrm flipH="1" flipV="1" rot="1471200">
                <a:off x="3442680" y="3143880"/>
                <a:ext cx="8892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Arc 41"/>
              <p:cNvSpPr/>
              <p:nvPr/>
            </p:nvSpPr>
            <p:spPr>
              <a:xfrm flipH="1" flipV="1" rot="3400200">
                <a:off x="2248560" y="3050640"/>
                <a:ext cx="98640" cy="736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Arc 42"/>
              <p:cNvSpPr/>
              <p:nvPr/>
            </p:nvSpPr>
            <p:spPr>
              <a:xfrm flipH="1" flipV="1" rot="21582000">
                <a:off x="3758040" y="317340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5" name="Picture 43" descr="Safnavvd"/>
            <p:cNvPicPr/>
            <p:nvPr/>
          </p:nvPicPr>
          <p:blipFill>
            <a:blip r:embed="rId2"/>
            <a:stretch/>
          </p:blipFill>
          <p:spPr>
            <a:xfrm>
              <a:off x="0" y="297180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49"/>
          <p:cNvGrpSpPr/>
          <p:nvPr/>
        </p:nvGrpSpPr>
        <p:grpSpPr>
          <a:xfrm>
            <a:off x="4218120" y="990720"/>
            <a:ext cx="768240" cy="1752480"/>
            <a:chOff x="4218120" y="990720"/>
            <a:chExt cx="768240" cy="1752480"/>
          </a:xfrm>
        </p:grpSpPr>
        <p:sp>
          <p:nvSpPr>
            <p:cNvPr id="287" name="Rectangle 50"/>
            <p:cNvSpPr/>
            <p:nvPr/>
          </p:nvSpPr>
          <p:spPr>
            <a:xfrm rot="16200000">
              <a:off x="3710880" y="1855080"/>
              <a:ext cx="1752480" cy="2376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51"/>
            <p:cNvSpPr/>
            <p:nvPr/>
          </p:nvSpPr>
          <p:spPr>
            <a:xfrm rot="5400000">
              <a:off x="4589640" y="1482480"/>
              <a:ext cx="25200" cy="76824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52"/>
            <p:cNvSpPr/>
            <p:nvPr/>
          </p:nvSpPr>
          <p:spPr>
            <a:xfrm rot="16200000">
              <a:off x="4275360" y="1557000"/>
              <a:ext cx="623520" cy="623880"/>
            </a:xfrm>
            <a:prstGeom prst="ellipse">
              <a:avLst/>
            </a:prstGeom>
            <a:noFill/>
            <a:ln w="9360">
              <a:solidFill>
                <a:srgbClr val="d0a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440E-3A80-436E-A73F-0B2CF80CDE32}" type="datetime">
              <a:rPr b="0" lang="en-US" sz="1400" spc="-1" strike="noStrike">
                <a:solidFill>
                  <a:srgbClr val="d0a858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Гиззатуллина Елена Илдусов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D0CD-99AC-4A28-9A49-47B0371F10CB}" type="slidenum">
              <a:rPr b="0" lang="en-US" sz="1400" spc="-1" strike="noStrike">
                <a:solidFill>
                  <a:srgbClr val="d0a85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332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615C-18BF-4B6B-98F5-156508F678A7}" type="datetime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Гиззатуллина Елена Илдусов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9EBB-E121-499E-AB3E-0620ECABE8CD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7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38ED-53CF-4F11-A79E-06D2F8E74939}" type="datetime">
              <a:rPr b="0" lang="en-US" sz="1200" spc="-1" strike="noStrike">
                <a:solidFill>
                  <a:srgbClr val="0033cc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Гиззатуллина Елена Илдусов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98B5-66A6-4EF1-AB88-567E5F26601E}" type="slidenum">
              <a:rPr b="0" lang="en-US" sz="1200" spc="-1" strike="noStrike">
                <a:solidFill>
                  <a:srgbClr val="0033c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grandars.ru/student/statistika/zanyatye-i-bezrabotnye.html" TargetMode="External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1400"/>
                </a:solidFill>
                <a:latin typeface="Arial"/>
              </a:rPr>
              <a:t>Тема 6</a:t>
            </a:r>
            <a:br>
              <a:rPr sz="4000"/>
            </a:br>
            <a:r>
              <a:rPr b="1" lang="ru-RU" sz="4000" spc="-1" strike="noStrike">
                <a:solidFill>
                  <a:srgbClr val="291400"/>
                </a:solidFill>
                <a:latin typeface="Arial"/>
              </a:rPr>
              <a:t>                </a:t>
            </a:r>
            <a:br>
              <a:rPr sz="4000"/>
            </a:br>
            <a:r>
              <a:rPr b="1" lang="ru-RU" sz="4000" spc="-1" strike="noStrike">
                <a:solidFill>
                  <a:srgbClr val="291400"/>
                </a:solidFill>
                <a:latin typeface="Arial"/>
              </a:rPr>
              <a:t> Безработица и ее экономическая сущность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усенова Кульбагиля Казиевна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арший преподаватель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федры экономики и управлени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количество фрикционных безработ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755640" y="3357720"/>
            <a:ext cx="6121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10" descr="j0149576"/>
          <p:cNvPicPr/>
          <p:nvPr/>
        </p:nvPicPr>
        <p:blipFill>
          <a:blip r:embed="rId2"/>
          <a:stretch/>
        </p:blipFill>
        <p:spPr>
          <a:xfrm>
            <a:off x="6156360" y="4005360"/>
            <a:ext cx="2403360" cy="190476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1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Прямоугольник 4" descr=""/>
          <p:cNvPicPr/>
          <p:nvPr/>
        </p:nvPicPr>
        <p:blipFill>
          <a:blip r:embed="rId2"/>
          <a:stretch/>
        </p:blipFill>
        <p:spPr>
          <a:xfrm>
            <a:off x="182520" y="6480"/>
            <a:ext cx="4522680" cy="3511440"/>
          </a:xfrm>
          <a:prstGeom prst="rect">
            <a:avLst/>
          </a:prstGeom>
          <a:ln w="0">
            <a:noFill/>
          </a:ln>
        </p:spPr>
      </p:pic>
      <p:pic>
        <p:nvPicPr>
          <p:cNvPr id="487" name="Прямоугольник 5" descr=""/>
          <p:cNvPicPr/>
          <p:nvPr/>
        </p:nvPicPr>
        <p:blipFill>
          <a:blip r:embed="rId3"/>
          <a:stretch/>
        </p:blipFill>
        <p:spPr>
          <a:xfrm>
            <a:off x="4694400" y="682560"/>
            <a:ext cx="4181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d3c05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ed3c05"/>
                </a:solidFill>
                <a:latin typeface="Times New Roman"/>
              </a:rPr>
              <a:t>Структурная безработица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684360" y="2205000"/>
          <a:ext cx="8062920" cy="3753000"/>
        </p:xfrm>
        <a:graphic>
          <a:graphicData uri="http://schemas.openxmlformats.org/drawingml/2006/table">
            <a:tbl>
              <a:tblPr/>
              <a:tblGrid>
                <a:gridCol w="2733480"/>
                <a:gridCol w="5329440"/>
              </a:tblGrid>
              <a:tr h="10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бусловл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структурными сдвигами</a:t>
                      </a: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 structural shifts )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несоответствие структуры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рабочей силы структуре рабочих м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собеннос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более </a:t>
                      </a:r>
                      <a:r>
                        <a:rPr b="0" lang="en-US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продолжительна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и </a:t>
                      </a:r>
                      <a:r>
                        <a:rPr b="0" lang="en-US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дорогостояща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, чем фрикцио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491" name="AutoShape 4"/>
          <p:cNvSpPr/>
          <p:nvPr/>
        </p:nvSpPr>
        <p:spPr>
          <a:xfrm>
            <a:off x="1619280" y="549360"/>
            <a:ext cx="3816360" cy="1727280"/>
          </a:xfrm>
          <a:prstGeom prst="downArrowCallout">
            <a:avLst>
              <a:gd name="adj1" fmla="val 55242"/>
              <a:gd name="adj2" fmla="val 55237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менени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трук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проса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одукцию разных отрасл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4788000" y="2349360"/>
            <a:ext cx="3814560" cy="1727280"/>
          </a:xfrm>
          <a:prstGeom prst="downArrowCallout">
            <a:avLst>
              <a:gd name="adj1" fmla="val 55216"/>
              <a:gd name="adj2" fmla="val 55211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мене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трасле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труктуры экономи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684360" y="3284640"/>
            <a:ext cx="4537080" cy="3097080"/>
          </a:xfrm>
          <a:prstGeom prst="irregularSeal2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УКТУ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ЗРАБОТ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Rectangle 1"/>
          <p:cNvGrpSpPr/>
          <p:nvPr/>
        </p:nvGrpSpPr>
        <p:grpSpPr>
          <a:xfrm>
            <a:off x="682560" y="335880"/>
            <a:ext cx="8192880" cy="6369480"/>
            <a:chOff x="682560" y="335880"/>
            <a:chExt cx="8192880" cy="6369480"/>
          </a:xfrm>
        </p:grpSpPr>
        <p:pic>
          <p:nvPicPr>
            <p:cNvPr id="495" name="Rectangle 1" descr=""/>
            <p:cNvPicPr/>
            <p:nvPr/>
          </p:nvPicPr>
          <p:blipFill>
            <a:blip r:embed="rId1"/>
            <a:stretch/>
          </p:blipFill>
          <p:spPr>
            <a:xfrm>
              <a:off x="682560" y="335880"/>
              <a:ext cx="8190000" cy="636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684000" y="363240"/>
              <a:ext cx="8191440" cy="63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Times New Roman"/>
                </a:rPr>
                <a:t>Естественный уровень безработицы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 — это такой ее уровень, который соответствует полной занятости (включает фрикционную и структурную формы безработицы), обусловлен естественными причинами (текучестью кадров, миграцией, демографическими причинами), не связан с динамикой экономического рост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37d8a"/>
                  </a:solidFill>
                  <a:uFillTx/>
                  <a:latin typeface="Times New Roman"/>
                  <a:hlinkClick r:id="rId2"/>
                </a:rPr>
                <a:t>Полной занятость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называют ситуацию, когда в экономике наблюдается только естественная безработица. Объем производства, соответствующий функционированию экономики при полной занятости, называется </a:t>
              </a:r>
              <a:r>
                <a:rPr b="1" lang="en-US" sz="2400" spc="-1" strike="noStrike">
                  <a:solidFill>
                    <a:srgbClr val="003300"/>
                  </a:solidFill>
                  <a:latin typeface="Times New Roman"/>
                </a:rPr>
                <a:t>производственным потенциалом экономики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Естественная безработица возникает при сбалансированности рынков рабочей силы, то есть когда количество ищущих равно числу свободных рабочих мест. Таким образом, </a:t>
              </a:r>
              <a:r>
                <a:rPr b="1" lang="en-US" sz="2400" spc="-1" strike="noStrike">
                  <a:solidFill>
                    <a:srgbClr val="003300"/>
                  </a:solidFill>
                  <a:latin typeface="Times New Roman"/>
                </a:rPr>
                <a:t>полная занятость подразумевает не отсутствие безработицы, а лишь некоторый минимально необходимый ее уровен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6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Структурная безработица – 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4000" spc="-1" strike="noStrike" u="sng">
                <a:solidFill>
                  <a:srgbClr val="006600"/>
                </a:solidFill>
                <a:uFillTx/>
                <a:latin typeface="Times New Roman"/>
              </a:rPr>
              <a:t>явление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1042920" y="2421000"/>
            <a:ext cx="2664000" cy="151128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ИЗБЕ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5364000" y="2276640"/>
            <a:ext cx="2737080" cy="151272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ТЕ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7"/>
          <p:cNvSpPr/>
          <p:nvPr/>
        </p:nvSpPr>
        <p:spPr>
          <a:xfrm flipH="1">
            <a:off x="255600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8"/>
          <p:cNvSpPr/>
          <p:nvPr/>
        </p:nvSpPr>
        <p:spPr>
          <a:xfrm>
            <a:off x="514836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"/>
          <p:cNvSpPr/>
          <p:nvPr/>
        </p:nvSpPr>
        <p:spPr>
          <a:xfrm>
            <a:off x="2916360" y="4005360"/>
            <a:ext cx="3600360" cy="1944720"/>
          </a:xfrm>
          <a:prstGeom prst="upArrowCallout">
            <a:avLst>
              <a:gd name="adj1" fmla="val 46288"/>
              <a:gd name="adj2" fmla="val 46284"/>
              <a:gd name="adj3" fmla="val 16667"/>
              <a:gd name="adj4" fmla="val 6666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27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тественные процессы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ии и движ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й с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82184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457200" y="1981080"/>
          <a:ext cx="8229600" cy="324648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ba313"/>
                          </a:solidFill>
                          <a:latin typeface="Arial"/>
                        </a:rPr>
                        <a:t>рецессия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(спад)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ричин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недостаточность совокупных расходов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окращением совокупного предлож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Line 14"/>
          <p:cNvSpPr/>
          <p:nvPr/>
        </p:nvSpPr>
        <p:spPr>
          <a:xfrm flipH="1">
            <a:off x="6227640" y="2852640"/>
            <a:ext cx="865440" cy="2449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13"/>
          <p:cNvSpPr/>
          <p:nvPr/>
        </p:nvSpPr>
        <p:spPr>
          <a:xfrm>
            <a:off x="1979640" y="2852640"/>
            <a:ext cx="1152360" cy="2448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Последствия безработицы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Oval 4"/>
          <p:cNvSpPr/>
          <p:nvPr/>
        </p:nvSpPr>
        <p:spPr>
          <a:xfrm>
            <a:off x="1042920" y="5229360"/>
            <a:ext cx="295272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непол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занятость ресурс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6"/>
          <p:cNvSpPr/>
          <p:nvPr/>
        </p:nvSpPr>
        <p:spPr>
          <a:xfrm>
            <a:off x="395280" y="3573360"/>
            <a:ext cx="2808360" cy="1511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макроэконом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нестабиль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7"/>
          <p:cNvSpPr/>
          <p:nvPr/>
        </p:nvSpPr>
        <p:spPr>
          <a:xfrm>
            <a:off x="6012000" y="3357720"/>
            <a:ext cx="288108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сихолог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и социа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8"/>
          <p:cNvSpPr/>
          <p:nvPr/>
        </p:nvSpPr>
        <p:spPr>
          <a:xfrm>
            <a:off x="5580000" y="5229360"/>
            <a:ext cx="2521080" cy="12967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лит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0"/>
          <p:cNvSpPr/>
          <p:nvPr/>
        </p:nvSpPr>
        <p:spPr>
          <a:xfrm>
            <a:off x="611280" y="1773360"/>
            <a:ext cx="2663640" cy="12240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"/>
          <p:cNvSpPr/>
          <p:nvPr/>
        </p:nvSpPr>
        <p:spPr>
          <a:xfrm>
            <a:off x="5508720" y="1700280"/>
            <a:ext cx="2735280" cy="13698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НЕ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2"/>
          <p:cNvSpPr/>
          <p:nvPr/>
        </p:nvSpPr>
        <p:spPr>
          <a:xfrm flipH="1">
            <a:off x="1403280" y="2997360"/>
            <a:ext cx="362160" cy="57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5"/>
          <p:cNvSpPr/>
          <p:nvPr/>
        </p:nvSpPr>
        <p:spPr>
          <a:xfrm>
            <a:off x="7236000" y="2781360"/>
            <a:ext cx="2887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7"/>
          <p:cNvSpPr/>
          <p:nvPr/>
        </p:nvSpPr>
        <p:spPr>
          <a:xfrm>
            <a:off x="3708360" y="1844640"/>
            <a:ext cx="1297080" cy="358920"/>
          </a:xfrm>
          <a:prstGeom prst="leftRightArrow">
            <a:avLst>
              <a:gd name="adj1" fmla="val 50000"/>
              <a:gd name="adj2" fmla="val 71942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2916360" y="260280"/>
            <a:ext cx="3600360" cy="1728720"/>
          </a:xfrm>
          <a:prstGeom prst="flowChartPunchedTape">
            <a:avLst/>
          </a:prstGeom>
          <a:solidFill>
            <a:srgbClr val="ff6600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Times New Roman"/>
              </a:rPr>
              <a:t>Индивидуаль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Times New Roman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684360" y="2492280"/>
            <a:ext cx="288108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Чувств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собствен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неполноценности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7"/>
          <p:cNvSpPr/>
          <p:nvPr/>
        </p:nvSpPr>
        <p:spPr>
          <a:xfrm>
            <a:off x="1835280" y="4797360"/>
            <a:ext cx="2376360" cy="12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Отчая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8"/>
          <p:cNvSpPr/>
          <p:nvPr/>
        </p:nvSpPr>
        <p:spPr>
          <a:xfrm>
            <a:off x="5651640" y="2565360"/>
            <a:ext cx="2952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Нервные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сердечно-сосудис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заболева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9"/>
          <p:cNvSpPr/>
          <p:nvPr/>
        </p:nvSpPr>
        <p:spPr>
          <a:xfrm>
            <a:off x="4788000" y="4797360"/>
            <a:ext cx="2376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Психологически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стрессы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1"/>
          <p:cNvSpPr/>
          <p:nvPr/>
        </p:nvSpPr>
        <p:spPr>
          <a:xfrm flipH="1">
            <a:off x="2626920" y="1989000"/>
            <a:ext cx="792360" cy="503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4932360" y="1844640"/>
            <a:ext cx="431640" cy="295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3"/>
          <p:cNvSpPr/>
          <p:nvPr/>
        </p:nvSpPr>
        <p:spPr>
          <a:xfrm flipH="1">
            <a:off x="3635280" y="1989000"/>
            <a:ext cx="720720" cy="2735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14"/>
          <p:cNvSpPr/>
          <p:nvPr/>
        </p:nvSpPr>
        <p:spPr>
          <a:xfrm>
            <a:off x="5364000" y="1700280"/>
            <a:ext cx="936720" cy="86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7630920" cy="38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91400"/>
                </a:solidFill>
                <a:latin typeface="Arial"/>
              </a:rPr>
              <a:t>Безработица</a:t>
            </a:r>
            <a:r>
              <a:rPr b="0" i="1" lang="en-US" sz="44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это социально- экономическое явление, при которой часть рабочей силы (экономически активное населения) не занята на производстве товаров и услуг. Безработные, наряду с занятыми формируют рабочую силу страны. В реальной экономической жизни безработица выступает как превышение продолжения рабочей силы над спросом на нее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9" name="Picture 4" descr="j0197784"/>
          <p:cNvPicPr/>
          <p:nvPr/>
        </p:nvPicPr>
        <p:blipFill>
          <a:blip r:embed="rId2"/>
          <a:stretch/>
        </p:blipFill>
        <p:spPr>
          <a:xfrm>
            <a:off x="6516720" y="4365720"/>
            <a:ext cx="263988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Прямоугольник 4" descr=""/>
          <p:cNvPicPr/>
          <p:nvPr/>
        </p:nvPicPr>
        <p:blipFill>
          <a:blip r:embed="rId2"/>
          <a:stretch/>
        </p:blipFill>
        <p:spPr>
          <a:xfrm>
            <a:off x="2133720" y="274680"/>
            <a:ext cx="4595760" cy="1359000"/>
          </a:xfrm>
          <a:prstGeom prst="rect">
            <a:avLst/>
          </a:prstGeom>
          <a:ln w="0">
            <a:noFill/>
          </a:ln>
        </p:spPr>
      </p:pic>
      <p:pic>
        <p:nvPicPr>
          <p:cNvPr id="529" name="Прямоугольник 5" descr=""/>
          <p:cNvPicPr/>
          <p:nvPr/>
        </p:nvPicPr>
        <p:blipFill>
          <a:blip r:embed="rId3"/>
          <a:stretch/>
        </p:blipFill>
        <p:spPr>
          <a:xfrm>
            <a:off x="993600" y="1384200"/>
            <a:ext cx="5699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Прямоугольник 4" descr=""/>
          <p:cNvPicPr/>
          <p:nvPr/>
        </p:nvPicPr>
        <p:blipFill>
          <a:blip r:embed="rId2"/>
          <a:stretch/>
        </p:blipFill>
        <p:spPr>
          <a:xfrm>
            <a:off x="414360" y="176040"/>
            <a:ext cx="5273640" cy="3726000"/>
          </a:xfrm>
          <a:prstGeom prst="rect">
            <a:avLst/>
          </a:prstGeom>
          <a:ln w="0">
            <a:noFill/>
          </a:ln>
        </p:spPr>
      </p:pic>
      <p:pic>
        <p:nvPicPr>
          <p:cNvPr id="441" name="Прямоугольник 5" descr=""/>
          <p:cNvPicPr/>
          <p:nvPr/>
        </p:nvPicPr>
        <p:blipFill>
          <a:blip r:embed="rId3"/>
          <a:stretch/>
        </p:blipFill>
        <p:spPr>
          <a:xfrm>
            <a:off x="4479840" y="3833640"/>
            <a:ext cx="4511880" cy="31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291400"/>
                </a:solidFill>
                <a:latin typeface="Arial"/>
              </a:rPr>
              <a:t>Уровень безработицы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440" y="17859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численность безработных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 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4"/>
          <p:cNvSpPr/>
          <p:nvPr/>
        </p:nvSpPr>
        <p:spPr>
          <a:xfrm>
            <a:off x="1547640" y="3357720"/>
            <a:ext cx="4824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5" descr="j0149731"/>
          <p:cNvPicPr/>
          <p:nvPr/>
        </p:nvPicPr>
        <p:blipFill>
          <a:blip r:embed="rId2"/>
          <a:stretch/>
        </p:blipFill>
        <p:spPr>
          <a:xfrm>
            <a:off x="6877080" y="3789360"/>
            <a:ext cx="160956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Line 12"/>
          <p:cNvSpPr/>
          <p:nvPr/>
        </p:nvSpPr>
        <p:spPr>
          <a:xfrm>
            <a:off x="2124000" y="1413000"/>
            <a:ext cx="52578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755640" y="2133720"/>
            <a:ext cx="252108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66"/>
                </a:solidFill>
                <a:uFillTx/>
                <a:latin typeface="Times New Roman"/>
              </a:rPr>
              <a:t>фрикцио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3348000" y="4221000"/>
            <a:ext cx="2521080" cy="1511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цикл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7"/>
          <p:cNvSpPr/>
          <p:nvPr/>
        </p:nvSpPr>
        <p:spPr>
          <a:xfrm>
            <a:off x="5651640" y="2205000"/>
            <a:ext cx="252072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66"/>
                </a:solidFill>
                <a:uFillTx/>
                <a:latin typeface="Times New Roman"/>
              </a:rPr>
              <a:t>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 flipH="1">
            <a:off x="2268000" y="1484280"/>
            <a:ext cx="129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5724360" y="1484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4572000" y="1628640"/>
            <a:ext cx="71280" cy="24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13"/>
          <p:cNvSpPr/>
          <p:nvPr/>
        </p:nvSpPr>
        <p:spPr>
          <a:xfrm>
            <a:off x="2484360" y="2421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14"/>
          <p:cNvSpPr/>
          <p:nvPr/>
        </p:nvSpPr>
        <p:spPr>
          <a:xfrm>
            <a:off x="7380360" y="24922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15"/>
          <p:cNvSpPr/>
          <p:nvPr/>
        </p:nvSpPr>
        <p:spPr>
          <a:xfrm>
            <a:off x="5003640" y="45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Прямоугольник 4" descr=""/>
          <p:cNvPicPr/>
          <p:nvPr/>
        </p:nvPicPr>
        <p:blipFill>
          <a:blip r:embed="rId2"/>
          <a:stretch/>
        </p:blipFill>
        <p:spPr>
          <a:xfrm>
            <a:off x="-122400" y="-109440"/>
            <a:ext cx="4505400" cy="273672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8" descr=""/>
          <p:cNvPicPr/>
          <p:nvPr/>
        </p:nvPicPr>
        <p:blipFill>
          <a:blip r:embed="rId3"/>
          <a:stretch/>
        </p:blipFill>
        <p:spPr>
          <a:xfrm>
            <a:off x="2876400" y="2133720"/>
            <a:ext cx="617076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1400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785880" y="2786040"/>
          <a:ext cx="7608960" cy="3170160"/>
        </p:xfrm>
        <a:graphic>
          <a:graphicData uri="http://schemas.openxmlformats.org/drawingml/2006/table">
            <a:tbl>
              <a:tblPr/>
              <a:tblGrid>
                <a:gridCol w="2301840"/>
                <a:gridCol w="530712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боту ищут уже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отовые специалисты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 определенным уровнем профессиональной подготовки и квалификации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291400"/>
                          </a:solidFill>
                          <a:latin typeface="Times New Roman"/>
                        </a:rPr>
                        <a:t>несовершенство информации </a:t>
                      </a:r>
                      <a:r>
                        <a:rPr b="0" lang="en-US" sz="2800" spc="-1" strike="noStrike">
                          <a:solidFill>
                            <a:srgbClr val="291400"/>
                          </a:solidFill>
                          <a:latin typeface="Times New Roman"/>
                        </a:rPr>
                        <a:t>(сведений о наличии свободных рабочих мест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3" name="Oval 9"/>
          <p:cNvSpPr/>
          <p:nvPr/>
        </p:nvSpPr>
        <p:spPr>
          <a:xfrm>
            <a:off x="2771640" y="3500280"/>
            <a:ext cx="3384720" cy="129564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уволившиес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собственному жела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0"/>
          <p:cNvSpPr/>
          <p:nvPr/>
        </p:nvSpPr>
        <p:spPr>
          <a:xfrm>
            <a:off x="521964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нашедшие работ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но ещ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не приступившие к 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11"/>
          <p:cNvSpPr/>
          <p:nvPr/>
        </p:nvSpPr>
        <p:spPr>
          <a:xfrm>
            <a:off x="17928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сезонные рабоч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(не в сезо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4"/>
          <p:cNvSpPr/>
          <p:nvPr/>
        </p:nvSpPr>
        <p:spPr>
          <a:xfrm flipH="1">
            <a:off x="2268360" y="1773360"/>
            <a:ext cx="1152720" cy="360360"/>
          </a:xfrm>
          <a:prstGeom prst="line">
            <a:avLst/>
          </a:prstGeom>
          <a:ln w="38160">
            <a:solidFill>
              <a:srgbClr val="00cc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5"/>
          <p:cNvSpPr/>
          <p:nvPr/>
        </p:nvSpPr>
        <p:spPr>
          <a:xfrm>
            <a:off x="4500720" y="1773360"/>
            <a:ext cx="0" cy="16556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6"/>
          <p:cNvSpPr/>
          <p:nvPr/>
        </p:nvSpPr>
        <p:spPr>
          <a:xfrm>
            <a:off x="4861080" y="1700280"/>
            <a:ext cx="2374920" cy="3024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7"/>
          <p:cNvSpPr/>
          <p:nvPr/>
        </p:nvSpPr>
        <p:spPr>
          <a:xfrm flipH="1">
            <a:off x="1476000" y="1773360"/>
            <a:ext cx="2590920" cy="28796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5292720" y="1700280"/>
            <a:ext cx="863640" cy="433440"/>
          </a:xfrm>
          <a:prstGeom prst="line">
            <a:avLst/>
          </a:prstGeom>
          <a:ln w="25560">
            <a:solidFill>
              <a:srgbClr val="00cc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12"/>
          <p:cNvSpPr/>
          <p:nvPr/>
        </p:nvSpPr>
        <p:spPr>
          <a:xfrm>
            <a:off x="395280" y="213372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ожидающие восстано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на прежней рабо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8"/>
          <p:cNvSpPr/>
          <p:nvPr/>
        </p:nvSpPr>
        <p:spPr>
          <a:xfrm>
            <a:off x="5364000" y="206064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уволенные с рабо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по приказ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AutoShape 4"/>
          <p:cNvSpPr/>
          <p:nvPr/>
        </p:nvSpPr>
        <p:spPr>
          <a:xfrm>
            <a:off x="611280" y="184464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</a:rPr>
              <a:t>НЕИЗБЕЖ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9"/>
          <p:cNvSpPr/>
          <p:nvPr/>
        </p:nvSpPr>
        <p:spPr>
          <a:xfrm>
            <a:off x="3708360" y="2565360"/>
            <a:ext cx="1655640" cy="358920"/>
          </a:xfrm>
          <a:prstGeom prst="leftRightArrow">
            <a:avLst>
              <a:gd name="adj1" fmla="val 50000"/>
              <a:gd name="adj2" fmla="val 91829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11"/>
          <p:cNvSpPr/>
          <p:nvPr/>
        </p:nvSpPr>
        <p:spPr>
          <a:xfrm>
            <a:off x="468360" y="4365720"/>
            <a:ext cx="3529080" cy="1366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</a:rPr>
              <a:t>СВЯЗ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с естественными тенденци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в движении рабочей си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12"/>
          <p:cNvSpPr/>
          <p:nvPr/>
        </p:nvSpPr>
        <p:spPr>
          <a:xfrm>
            <a:off x="4932360" y="4365720"/>
            <a:ext cx="3673440" cy="1439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</a:rPr>
              <a:t>СПОСОБСТВУЕ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более рациональному размещ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рабочей силы и более высок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производи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13"/>
          <p:cNvSpPr/>
          <p:nvPr/>
        </p:nvSpPr>
        <p:spPr>
          <a:xfrm>
            <a:off x="6012000" y="170028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</a:rPr>
              <a:t>ЖЕЛАТЕЛЬ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20"/>
          <p:cNvSpPr/>
          <p:nvPr/>
        </p:nvSpPr>
        <p:spPr>
          <a:xfrm rot="1734600">
            <a:off x="3347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solidFill>
            <a:srgbClr val="00cccc"/>
          </a:solidFill>
          <a:ln w="25560">
            <a:solidFill>
              <a:srgbClr val="00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21"/>
          <p:cNvSpPr/>
          <p:nvPr/>
        </p:nvSpPr>
        <p:spPr>
          <a:xfrm rot="19807800">
            <a:off x="5651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solidFill>
            <a:srgbClr val="ff6600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9:55:37Z</dcterms:created>
  <dc:creator>User</dc:creator>
  <dc:description/>
  <dc:language>en-US</dc:language>
  <cp:lastModifiedBy>User</cp:lastModifiedBy>
  <dcterms:modified xsi:type="dcterms:W3CDTF">2012-06-15T04:25:34Z</dcterms:modified>
  <cp:revision>40</cp:revision>
  <dc:subject/>
  <dc:title>Слайд 1</dc:title>
</cp:coreProperties>
</file>