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AE9CB-C8A3-4792-AE7C-8CFAFFC72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56DC9-ACC3-4DA6-907B-BED4D0CF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87FA8-A1EE-40DB-B3F4-5AC05D203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ED4E7-2D3A-42E0-B37F-B788E5D4E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A7D8F-73E0-4DDC-BB18-09460E682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692E3-24EF-46E8-91C5-0812EF267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5B0A1-F16F-45B6-A130-45AABCDF4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6740C-82C5-4C49-92B8-C41070A64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A59BD-7321-40FE-8503-1435779D2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12D33-E490-49AD-B115-D9FA88060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00FFA-21F9-4918-A71C-CAD5CC8CC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1E083-8F05-4B9E-87AF-A4BA3C5E8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C14F9-CB1F-4DDF-97F6-EAC568101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12FC8-C005-4E13-AA41-92177D31E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B33B3-7648-41C9-9FF2-7E8F1DAF8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7EA6A-F6D7-4256-B7F0-F9B6A653AB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F9A23-F6EA-450C-B789-153AF6E0C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CDE71-A78B-4DC8-8E04-3504DE9F0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8942E-E99C-4B0D-BD2E-8634B5680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A39A1-147E-4411-8EED-B9C9C62B7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890B4-E5A1-40F7-918D-521981AA5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78955-C742-41B4-9C32-8B7D2BDA4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CC1CB-F519-4916-931D-075295946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C56B-17FB-4BBC-87F5-58FABDA85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0A11-AFBF-42C9-84F1-298841C702DC}" type="slidenum">
              <a:rPr b="0" lang="en-US"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1C61-FE30-432F-97A0-5A5364E852A0}" type="slidenum">
              <a:rPr b="0" lang="en-US"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32000" y="1413000"/>
            <a:ext cx="6400800" cy="417672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Тема: 7</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Инфляция и</a:t>
            </a:r>
            <a:endParaRPr b="0" lang="en-US" sz="3600" spc="-1" strike="noStrike">
              <a:solidFill>
                <a:srgbClr val="ffffff"/>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антиинфляционная политика.</a:t>
            </a:r>
            <a:endParaRPr b="0" lang="en-US" sz="3600" spc="-1" strike="noStrike">
              <a:solidFill>
                <a:srgbClr val="ffffff"/>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66"/>
                </a:solidFill>
                <a:latin typeface="Times New Roman"/>
              </a:rPr>
              <a:t>Кусенова Кульбагиля Казиевна</a:t>
            </a:r>
            <a:endParaRPr b="0" lang="en-US" sz="2000" spc="-1" strike="noStrike">
              <a:solidFill>
                <a:srgbClr val="ffffff"/>
              </a:solidFill>
              <a:latin typeface="Times New Roman"/>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66"/>
                </a:solidFill>
                <a:latin typeface="Times New Roman"/>
              </a:rPr>
              <a:t>старший преподаватель</a:t>
            </a:r>
            <a:endParaRPr b="0" lang="en-US" sz="2000" spc="-1" strike="noStrike">
              <a:solidFill>
                <a:srgbClr val="ffffff"/>
              </a:solidFill>
              <a:latin typeface="Times New Roman"/>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66"/>
                </a:solidFill>
                <a:latin typeface="Times New Roman"/>
              </a:rPr>
              <a:t>кафедры экономики и управления</a:t>
            </a:r>
            <a:endParaRPr b="0" lang="en-US" sz="2000" spc="-1" strike="noStrike">
              <a:solidFill>
                <a:srgbClr val="ffffff"/>
              </a:solidFill>
              <a:latin typeface="Times New Roman"/>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 </a:t>
            </a:r>
            <a:endParaRPr b="0" lang="en-US" sz="1700" spc="-1" strike="noStrike">
              <a:solidFill>
                <a:srgbClr val="ffffff"/>
              </a:solidFill>
              <a:latin typeface="Times New Roman"/>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404640"/>
            <a:ext cx="8229600" cy="5904000"/>
          </a:xfrm>
          <a:prstGeom prst="rect">
            <a:avLst/>
          </a:prstGeom>
          <a:noFill/>
          <a:ln w="0">
            <a:noFill/>
          </a:ln>
        </p:spPr>
        <p:txBody>
          <a:bodyPr lIns="90000" rIns="90000" tIns="46800" bIns="46800" anchor="t">
            <a:normAutofit/>
          </a:bodyPr>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В зависимости от темпов различают следующие виды инфляции:</a:t>
            </a: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Умеренная (ползучая) инфляция означает повышение цен не более 10% в год. Такая инфляция не сопровождается кризисными явлениями. Считается, что она стимулирует производство, является предсказуемой и контролируемой. Вместе с тем, цены обычно растут быстрее, чем заработная плата.</a:t>
            </a: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При галопирующей инфляции среднегодовой рост цен составляет от 10 до 100% или несколько выше. Она свидетельствует о серьезных диспропорциях в экономике страны, нарушении денежного обращения, неадекватной денежно-кредитной политике.</a:t>
            </a: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Наиболее опасной и даже разрушительной считается гиперинфляция, при которой темпы роста цен выше 50% в месяц, а в среднегодовом выражении достигают четырехзначных цифр. Она может возникнуть в результате серьезных социально-экономических потрясений, длительных войн. Опасность гиперинфляции заключается в том, что она становится неуправляемой, выходит из-под контроля, действуя разрушительно на экономику. Гиперинфляция подрывает доверие к деньгам, вызывает частичный возврат к натуральному обмену, оказывает сильное влияние на перераспределение богатства.</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691920"/>
            <a:ext cx="8229600" cy="5616360"/>
          </a:xfrm>
          <a:prstGeom prst="rect">
            <a:avLst/>
          </a:prstGeom>
          <a:noFill/>
          <a:ln w="0">
            <a:noFill/>
          </a:ln>
        </p:spPr>
        <p:txBody>
          <a:bodyPr lIns="90000" rIns="90000" tIns="46800" bIns="46800" anchor="t">
            <a:normAutofit/>
          </a:bodyPr>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Социально-экономические последствия инфляции</a:t>
            </a:r>
            <a:endParaRPr b="0" lang="en-US" sz="2400" spc="-1" strike="noStrike">
              <a:solidFill>
                <a:srgbClr val="ffffff"/>
              </a:solidFill>
              <a:latin typeface="Times New Roman"/>
            </a:endParaRPr>
          </a:p>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Социально-экономические последствия инфляции разнообразны и противоречивы. В значительной мере они зависят от вида инфляции и от способности хозяйственных субъектов прогнозировать инфляцию.</a:t>
            </a:r>
            <a:endParaRPr b="0" lang="en-US" sz="2400" spc="-1" strike="noStrike">
              <a:solidFill>
                <a:srgbClr val="ffffff"/>
              </a:solidFill>
              <a:latin typeface="Times New Roman"/>
            </a:endParaRPr>
          </a:p>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Главное последствие инфляции – это перераспределение доходов. Даже ожидаемая инфляция означает значительное перераспределение богатства. Она порождает так называемый «инфляционный налог», не санкционированный законодательно, но навязанный государством частному сектору. Его автоматически уплачивают все держатели реальных денежных остатков. Он является регрессивным: с большей тяжестью он ложится на более бедных людей.</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Под влиянием инфляции фактически меняются ставки налогообложения. Рост цен обычно сопровождается увеличением номинальных доходов индивидов. При прогрессивной системе налогообложения они вынуждены уплачивать налоги по более высоким ставкам. В то же время, поскольку существует временной лаг между начислением и уплатой налогов, реальная величина налоговых поступлений снижается, уменьшая реальные доходы государственного бюджета и возможность осуществления государством экономической и социальной политики.</a:t>
            </a:r>
            <a:endParaRPr b="0" lang="en-US" sz="2400" spc="-1" strike="noStrike">
              <a:solidFill>
                <a:srgbClr val="ffffff"/>
              </a:solidFill>
              <a:latin typeface="Times New Roman"/>
            </a:endParaRPr>
          </a:p>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Обесцениваются амортизационные отчисления, основанные на первоначальной стоимости. В результате растет налоговое бремя фирм, и уменьшаются их инвестиционные возможности.</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691920"/>
            <a:ext cx="8229600" cy="5616360"/>
          </a:xfrm>
          <a:prstGeom prst="rect">
            <a:avLst/>
          </a:prstGeom>
          <a:noFill/>
          <a:ln w="0">
            <a:noFill/>
          </a:ln>
        </p:spPr>
        <p:txBody>
          <a:bodyPr lIns="90000" rIns="90000" tIns="46800" bIns="46800" anchor="t">
            <a:normAutofit/>
          </a:bodyPr>
          <a:p>
            <a:pPr marL="54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ерераспределение доходов в пользу государства осуществляется также путем государственной эмиссии денег. Доход от эмиссии денег называется сеньеранжем. Он равен разнице между суммой номиналов дополнительно выпущенных бумажных денег и затратами на их печатание.</a:t>
            </a:r>
            <a:endParaRPr b="0" lang="en-US" sz="2000" spc="-1" strike="noStrike">
              <a:solidFill>
                <a:srgbClr val="ffffff"/>
              </a:solidFill>
              <a:latin typeface="Times New Roman"/>
            </a:endParaRPr>
          </a:p>
          <a:p>
            <a:pPr marL="54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Стремясь защититься от «инфляционного налога» и ожидая дальнейшего повышения цен, население стремится скорее потратить деньги на приобретение товаров длительного пользования, вложить их в необесцениваемые активы. В результате растут реальные издержки.</a:t>
            </a:r>
            <a:endParaRPr b="0" lang="en-US" sz="2000" spc="-1" strike="noStrike">
              <a:solidFill>
                <a:srgbClr val="ffffff"/>
              </a:solidFill>
              <a:latin typeface="Times New Roman"/>
            </a:endParaRPr>
          </a:p>
          <a:p>
            <a:pPr marL="54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Цены и ставки заработной платы изменяются в различной степени, что означает изменение относительных цен и перераспределение доходов между различными группами населения.</a:t>
            </a:r>
            <a:endParaRPr b="0" lang="en-US" sz="2000" spc="-1" strike="noStrike">
              <a:solidFill>
                <a:srgbClr val="ffffff"/>
              </a:solidFill>
              <a:latin typeface="Times New Roman"/>
            </a:endParaRPr>
          </a:p>
          <a:p>
            <a:pPr marL="54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Значительно повышаются так называемые «издержки меню» - расходы фирм на смену ценников, прейскурантов, каталогов, перенастройку счетчиков, торговых и телефонных автоматов.</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475920"/>
            <a:ext cx="8229600" cy="5832360"/>
          </a:xfrm>
          <a:prstGeom prst="rect">
            <a:avLst/>
          </a:prstGeom>
          <a:noFill/>
          <a:ln w="0">
            <a:noFill/>
          </a:ln>
        </p:spPr>
        <p:txBody>
          <a:bodyPr lIns="90000" rIns="90000" tIns="46800" bIns="46800" anchor="t">
            <a:normAutofit/>
          </a:bodyPr>
          <a:p>
            <a:pPr marL="54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В конечном итоге, понижается эффективность экономики в целом. У производителей снижаются стимулы к инвестированию в результате роста ссудного процента. Уменьшается заинтересованность в выпуске товаров высокого качества, растет выпуск низкокачественных товаров. Вместе с тем сокращается производство относительно дешевых товаров. У работников снижаются стимулы к труду в результате постоянного обесценения заработной платы.</a:t>
            </a:r>
            <a:endParaRPr b="0" lang="en-US" sz="2400" spc="-1" strike="noStrike">
              <a:solidFill>
                <a:srgbClr val="ffffff"/>
              </a:solidFill>
              <a:latin typeface="Times New Roman"/>
            </a:endParaRPr>
          </a:p>
          <a:p>
            <a:pPr marL="54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В реальной действительности население не в состоянии осуществлять точные прогнозы инфляции. Она часто бывает неравномерной. Наблюдаются частые и существенные колебания цен. Инфляция становится непредвиденной. Непредвиденная инфляция усиливает перераспределительные процессы в экономик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Заголовок 1" descr=""/>
          <p:cNvPicPr/>
          <p:nvPr/>
        </p:nvPicPr>
        <p:blipFill>
          <a:blip r:embed="rId2"/>
          <a:stretch/>
        </p:blipFill>
        <p:spPr>
          <a:xfrm>
            <a:off x="500040" y="260280"/>
            <a:ext cx="8643960" cy="11588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a:bodyPr>
          <a:p>
            <a:pPr lvl="1" marL="868320" indent="-282600">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Уменьшение объема денежной массы в обращении через сокращение налично денежной эмиссии Центральным банком. </a:t>
            </a:r>
            <a:endParaRPr b="0" lang="en-US" sz="1800" spc="-1" strike="noStrike">
              <a:solidFill>
                <a:srgbClr val="ffffff"/>
              </a:solidFill>
              <a:latin typeface="Times New Roman"/>
            </a:endParaRPr>
          </a:p>
          <a:p>
            <a:pPr lvl="1" marL="868320" indent="-282600">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Увеличение учетных ставок (рефинансирования) за централизованные кредиты в целях удорожания всех кредитных ресурсов и снижения их доступности. </a:t>
            </a:r>
            <a:endParaRPr b="0" lang="en-US" sz="1800" spc="-1" strike="noStrike">
              <a:solidFill>
                <a:srgbClr val="ffffff"/>
              </a:solidFill>
              <a:latin typeface="Times New Roman"/>
            </a:endParaRPr>
          </a:p>
          <a:p>
            <a:pPr lvl="1" marL="868320" indent="-282600">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Увеличение резервных требований Центрального банка к коммерческим банкам для достижения сжатия кредитного мультипликатора и ограничения кредитной экспансии коммерческих банков. </a:t>
            </a:r>
            <a:endParaRPr b="0" lang="en-US" sz="1800" spc="-1" strike="noStrike">
              <a:solidFill>
                <a:srgbClr val="ffffff"/>
              </a:solidFill>
              <a:latin typeface="Times New Roman"/>
            </a:endParaRPr>
          </a:p>
          <a:p>
            <a:pPr lvl="1" marL="868320" indent="-282600">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ямое сокращение кредитов Центрального банка в тех же целях.</a:t>
            </a:r>
            <a:endParaRPr b="0" lang="en-US" sz="1800" spc="-1" strike="noStrike">
              <a:solidFill>
                <a:srgbClr val="ffffff"/>
              </a:solidFill>
              <a:latin typeface="Times New Roman"/>
            </a:endParaRPr>
          </a:p>
          <a:p>
            <a:pPr lvl="1" marL="868320" indent="-282600">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Увеличение резервных требований Центрального банка к коммерческим банкам для достижения сжатия кредитного мультипликатора и ограничения кредитной экспансии коммерческих банков. </a:t>
            </a:r>
            <a:endParaRPr b="0" lang="en-US" sz="1800" spc="-1" strike="noStrike">
              <a:solidFill>
                <a:srgbClr val="ffffff"/>
              </a:solidFill>
              <a:latin typeface="Times New Roman"/>
            </a:endParaRPr>
          </a:p>
          <a:p>
            <a:pPr lvl="1" marL="868320" indent="-282600">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ямое сокращение кредитов Центрального банка в тех же целях. </a:t>
            </a:r>
            <a:endParaRPr b="0" lang="en-US" sz="1800" spc="-1" strike="noStrike">
              <a:solidFill>
                <a:srgbClr val="ffffff"/>
              </a:solidFill>
              <a:latin typeface="Times New Roman"/>
            </a:endParaRPr>
          </a:p>
          <a:p>
            <a:pPr lvl="1" marL="868320" indent="-282600">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Направления антиинфляционной политики Республики Казахстан</a:t>
            </a:r>
            <a:endParaRPr b="1" lang="en-US" sz="3200" spc="-1" strike="noStrike">
              <a:solidFill>
                <a:srgbClr val="ffffff"/>
              </a:solidFill>
              <a:latin typeface="Arial"/>
            </a:endParaRPr>
          </a:p>
        </p:txBody>
      </p:sp>
      <p:sp>
        <p:nvSpPr>
          <p:cNvPr id="103"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54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Оценивая характер антиинфляционной политики, можно выделить в ней два подхода. В рамках первого подхода (его разрабатывают представители современного кейнсианства) предусматривается активная бюджетная политика – маневрирование государственными расходами и налогами в целях воздействия на платежеспособный спрос. При инфляционном, избыточном спросе государство ограничивает свои расходы и повышает налоги. В результате сокращается спрос, снижаются темпы инфляции. однако одновременно ограничивается и рост производства, что может привести к застою и даже кризисным явлениям в экономике, к расширению безработицы. Бюджетная политика проводится и для расширения спроса в условиях спада. Если спрос недостаточен, осуществляются программы государственных капиталовложений и других расходов, понижаются налоги. Низкие налоги устанавливаются прежде всего в отношении получателей средних и невысоких доходов, которые обычно немедленно реализуют выгоду. Считается, что таким образом расширяется спрос на потребительские товары и услуги.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a:bodyPr>
          <a:p>
            <a:pPr marL="54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Второй подход рекомендуется экономистами неоклассического направления, выдвигающими на первый план денежно-кредитное регулирование, косвенно и гибко воздействующее на экономическую ситуацию. Этот вид регулирования проводится формально неподконтрольным правительству Центральным банком, который изменяет количество денег в обращении и ставку ссудного процента, воздействуя таким образом на экономику. Иными словами, эти экономисты считают, что государство должно проводить дефляционные мероприятия для ограничения платежеспособного спроса, поскольку стимулирование экономического роста и искусственное поддержание занятости путем снижения естественного уровня безработицы ведет к потере контроля над инфляцией. Современная рыночная экономика инфляционна по своему характеру, поскольку в ней невозможно устранить все факторы инфляции (бюджетный дефицит, монополии, диспропорции в народном хозяйстве, инфляционные ожидания населения и предпринимателей, переброс инфляции по внешнеэкономическим каналам и др.). В связи с этим очевидно, что задача полностью ликвидировать инфляцию нереальна.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468360" y="836640"/>
            <a:ext cx="8229600" cy="550080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Антиинфляционная фискальная политика проводится путем увеличения налогов</a:t>
            </a:r>
            <a:r>
              <a:rPr b="0" lang="en-US" sz="2400" spc="-1" strike="noStrike">
                <a:solidFill>
                  <a:srgbClr val="ffffff"/>
                </a:solidFill>
                <a:latin typeface="Times New Roman"/>
              </a:rPr>
              <a:t>, сокращения государственных расходов и, на основе этого, снижения дефицитов государственного бюджета.</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Налоговая антиинфляционная политика</a:t>
            </a:r>
            <a:r>
              <a:rPr b="0" lang="en-US" sz="2400" spc="-1" strike="noStrike">
                <a:solidFill>
                  <a:srgbClr val="ffffff"/>
                </a:solidFill>
                <a:latin typeface="Times New Roman"/>
              </a:rPr>
              <a:t> заключается в сокращении косвенного налогообложения. Косвенные налоги имеют инфляционный характер, поскольку увеличивают цены, сокращают спрос.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a:bodyPr>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Процесс инфляции мешает развитию экономики, поэтому необходимо проводить меры по преодолению инфляции. Наиболее целесообразным является последовательное регулирование цен и заработной платы. Продукция предприятий-монополистов должна жестко ограничиваться по уровню цен, и любое их повышение является предметом тщательного анализа со стороны государственных органов ценообразования.</a:t>
            </a: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Регулирование заработной платы осуществляется от исходного (достигнутого) уровня в жесткой зависимости от реального увеличения производительности труда, поскольку приросты ставок номинальной заработной платы, равные темпам роста производительности труда, являются по своему характеру не инфляционными.</a:t>
            </a: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В целом процесс регулирования цен и заработной платы должен осуществляться путем тщательного обоснования и согласования шагов по изменениям в уровнях ставок заработной платы и цен на совместных обсуждениях профсоюзов, представителей администрации предприятий и правительства. Компромиссные соглашения по уровням оплаты труда и цен должны выдерживаться в течение определенного соглашением краткосрочного периода.</a:t>
            </a: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В этих условиях инфляция будет иметь управляемый характер и возможно постепенное снижение ее темпо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457200" y="1599840"/>
            <a:ext cx="8229600" cy="4708440"/>
          </a:xfrm>
          <a:prstGeom prst="rect">
            <a:avLst/>
          </a:prstGeom>
          <a:noFill/>
          <a:ln w="0">
            <a:noFill/>
          </a:ln>
        </p:spPr>
        <p:txBody>
          <a:bodyPr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Инфляция – это обесценение денег, проявляющееся, в общем, и неравномерном росте цен на товары и услуги.</a:t>
            </a:r>
            <a:endParaRPr b="0" lang="en-US" sz="2400" spc="-1" strike="noStrike">
              <a:solidFill>
                <a:srgbClr val="ffffff"/>
              </a:solidFill>
              <a:latin typeface="Times New Roman"/>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При инфляции происходит нарушение законов денежного обращения, вызываемого диспропорциями процесса общественного производства и эмиссией избыточного количества денег.</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Заголовок 1" descr=""/>
          <p:cNvPicPr/>
          <p:nvPr/>
        </p:nvPicPr>
        <p:blipFill>
          <a:blip r:embed="rId2"/>
          <a:stretch/>
        </p:blipFill>
        <p:spPr>
          <a:xfrm>
            <a:off x="450720" y="-6480"/>
            <a:ext cx="8242560" cy="143352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fontScale="99000"/>
          </a:bodyPr>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ямыми методами - рестрикциями, то есть путем их принудительного снижения против достигнутого уровня на основании законодательных актов или распоряжений полномочных государственных органов; </a:t>
            </a:r>
            <a:endParaRPr b="0" lang="en-US" sz="2400" spc="-1" strike="noStrike">
              <a:solidFill>
                <a:srgbClr val="ffffff"/>
              </a:solidFill>
              <a:latin typeface="Times New Roman"/>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методом секвестирования - пропорциональным снижением всех расходов в соответствии с заданной общей величиной снижения, определяемой разными факторами: </a:t>
            </a:r>
            <a:endParaRPr b="0" lang="en-US" sz="2400" spc="-1" strike="noStrike">
              <a:solidFill>
                <a:srgbClr val="ffffff"/>
              </a:solidFill>
              <a:latin typeface="Times New Roman"/>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онтролем уровня располагаемых доходов; </a:t>
            </a:r>
            <a:endParaRPr b="0" lang="en-US" sz="2400" spc="-1" strike="noStrike">
              <a:solidFill>
                <a:srgbClr val="ffffff"/>
              </a:solidFill>
              <a:latin typeface="Times New Roman"/>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граничением уровня дефицита государственного бюджета. </a:t>
            </a:r>
            <a:endParaRPr b="0" lang="en-US" sz="2400" spc="-1" strike="noStrike">
              <a:solidFill>
                <a:srgbClr val="ffffff"/>
              </a:solidFill>
              <a:latin typeface="Times New Roman"/>
            </a:endParaRPr>
          </a:p>
          <a:p>
            <a:pPr marL="541800" indent="-406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324000" y="188640"/>
            <a:ext cx="8516880" cy="5832360"/>
          </a:xfrm>
          <a:prstGeom prst="rect">
            <a:avLst/>
          </a:prstGeom>
          <a:noFill/>
          <a:ln w="0">
            <a:noFill/>
          </a:ln>
        </p:spPr>
        <p:txBody>
          <a:bodyPr anchor="t">
            <a:normAutofit fontScale="98000"/>
          </a:bodyPr>
          <a:p>
            <a:pPr lvl="4" marL="2165400" indent="-372960" algn="ctr">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Инфляция может быть вызвана как внешними, так и внутренними причинами.</a:t>
            </a:r>
            <a:r>
              <a:rPr b="0"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lvl="1" marL="102204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        </a:t>
            </a:r>
            <a:r>
              <a:rPr b="1" i="1" lang="en-US" sz="1800" spc="-1" strike="noStrike">
                <a:solidFill>
                  <a:srgbClr val="ffffff"/>
                </a:solidFill>
                <a:latin typeface="Times New Roman"/>
                <a:ea typeface="Times New Roman"/>
              </a:rPr>
              <a:t>К внутренним причинам относятся:</a:t>
            </a:r>
            <a:endParaRPr b="0" lang="en-US" sz="1800" spc="-1" strike="noStrike">
              <a:solidFill>
                <a:srgbClr val="ffffff"/>
              </a:solidFill>
              <a:latin typeface="Times New Roman"/>
            </a:endParaRPr>
          </a:p>
          <a:p>
            <a:pPr lvl="1" marL="102204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деформация структуры экономики, проявляющаяся в существенном отставании отраслей, производящих потребительские товары;</a:t>
            </a:r>
            <a:endParaRPr b="0" lang="en-US" sz="1800" spc="-1" strike="noStrike">
              <a:solidFill>
                <a:srgbClr val="ffffff"/>
              </a:solidFill>
              <a:latin typeface="Times New Roman"/>
            </a:endParaRPr>
          </a:p>
          <a:p>
            <a:pPr lvl="1" marL="102204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дефицит госбюджета;</a:t>
            </a:r>
            <a:endParaRPr b="0" lang="en-US" sz="1800" spc="-1" strike="noStrike">
              <a:solidFill>
                <a:srgbClr val="ffffff"/>
              </a:solidFill>
              <a:latin typeface="Times New Roman"/>
            </a:endParaRPr>
          </a:p>
          <a:p>
            <a:pPr lvl="1" marL="102204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рост государственного долга, подрывающий покупательную способность национальной валюты, обостряющий дефицит госбюджета;</a:t>
            </a:r>
            <a:endParaRPr b="0" lang="en-US" sz="1800" spc="-1" strike="noStrike">
              <a:solidFill>
                <a:srgbClr val="ffffff"/>
              </a:solidFill>
              <a:latin typeface="Times New Roman"/>
            </a:endParaRPr>
          </a:p>
          <a:p>
            <a:pPr lvl="1" marL="102204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необоснованная денежная эмиссия;</a:t>
            </a:r>
            <a:endParaRPr b="0" lang="en-US" sz="1800" spc="-1" strike="noStrike">
              <a:solidFill>
                <a:srgbClr val="ffffff"/>
              </a:solidFill>
              <a:latin typeface="Times New Roman"/>
            </a:endParaRPr>
          </a:p>
          <a:p>
            <a:pPr lvl="1" marL="102204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опережающий рост заработной платы по сравнению с производительностью труда;</a:t>
            </a:r>
            <a:endParaRPr b="0" lang="en-US" sz="1800" spc="-1" strike="noStrike">
              <a:solidFill>
                <a:srgbClr val="ffffff"/>
              </a:solidFill>
              <a:latin typeface="Times New Roman"/>
            </a:endParaRPr>
          </a:p>
          <a:p>
            <a:pPr lvl="1" marL="102204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диспропорции в экономике, имеющие место в ходе экономического цикла;</a:t>
            </a:r>
            <a:endParaRPr b="0" lang="en-US" sz="1800" spc="-1" strike="noStrike">
              <a:solidFill>
                <a:srgbClr val="ffffff"/>
              </a:solidFill>
              <a:latin typeface="Times New Roman"/>
            </a:endParaRPr>
          </a:p>
          <a:p>
            <a:pPr lvl="1" marL="102204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повышение налогов, процентных ставок, что уменьшает стимулы к инвестициям;</a:t>
            </a:r>
            <a:endParaRPr b="0" lang="en-US" sz="1800" spc="-1" strike="noStrike">
              <a:solidFill>
                <a:srgbClr val="ffffff"/>
              </a:solidFill>
              <a:latin typeface="Times New Roman"/>
            </a:endParaRPr>
          </a:p>
          <a:p>
            <a:pPr lvl="1" marL="102204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монопольное положение на рынке крупных производителей, устанавливающих монопольно - высокие цены;</a:t>
            </a:r>
            <a:endParaRPr b="0" lang="en-US" sz="1800" spc="-1" strike="noStrike">
              <a:solidFill>
                <a:srgbClr val="ffffff"/>
              </a:solidFill>
              <a:latin typeface="Times New Roman"/>
            </a:endParaRPr>
          </a:p>
          <a:p>
            <a:pPr lvl="1" marL="102204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повышение цен в целях компенсации ожидаемых убытков;</a:t>
            </a:r>
            <a:endParaRPr b="0" lang="en-US" sz="1800" spc="-1" strike="noStrike">
              <a:solidFill>
                <a:srgbClr val="ffffff"/>
              </a:solidFill>
              <a:latin typeface="Times New Roman"/>
            </a:endParaRPr>
          </a:p>
          <a:p>
            <a:pPr lvl="1" marL="102204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инфляционные ожидания.</a:t>
            </a:r>
            <a:endParaRPr b="0" lang="en-US" sz="1800" spc="-1" strike="noStrike">
              <a:solidFill>
                <a:srgbClr val="ffffff"/>
              </a:solidFill>
              <a:latin typeface="Times New Roman"/>
            </a:endParaRPr>
          </a:p>
          <a:p>
            <a:pPr lvl="1" marL="1022040" indent="-4478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656280" indent="-522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468360" y="1196640"/>
            <a:ext cx="8229600" cy="4708440"/>
          </a:xfrm>
          <a:prstGeom prst="rect">
            <a:avLst/>
          </a:prstGeom>
          <a:noFill/>
          <a:ln w="0">
            <a:noFill/>
          </a:ln>
        </p:spPr>
        <p:txBody>
          <a:bodyPr anchor="t">
            <a:normAutofit/>
          </a:bodyPr>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i="1" lang="en-US" sz="1800" spc="-1" strike="noStrike">
                <a:solidFill>
                  <a:srgbClr val="ffffff"/>
                </a:solidFill>
                <a:latin typeface="Times New Roman"/>
              </a:rPr>
              <a:t>К внешним причинам инфляции можно отнести:</a:t>
            </a: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колебания цен на мировом рынке: рост мировых цен на импортируемые товары «импортирует» инфляцию, снижение мировых цен на предметы экспорта уменьшает поступления от внешней торговли;</a:t>
            </a: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ухудшение условий международной торговли (торговая дискриминация);</a:t>
            </a: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сокращение поступлений от внешней торговли;</a:t>
            </a: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отрицательное сальдо платежного и внешнеторгового баланса.</a:t>
            </a: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468360" y="188640"/>
            <a:ext cx="8229600" cy="4708440"/>
          </a:xfrm>
          <a:prstGeom prst="rect">
            <a:avLst/>
          </a:prstGeom>
          <a:noFill/>
          <a:ln w="0">
            <a:noFill/>
          </a:ln>
        </p:spPr>
        <p:txBody>
          <a:bodyPr anchor="t">
            <a:normAutofit fontScale="85000"/>
          </a:bodyPr>
          <a:p>
            <a:pPr marL="465120" indent="-34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Различают разнообразные формы и виды инфляции.</a:t>
            </a:r>
            <a:endParaRPr b="0" lang="en-US" sz="1800" spc="-1" strike="noStrike">
              <a:solidFill>
                <a:srgbClr val="ffffff"/>
              </a:solidFill>
              <a:latin typeface="Times New Roman"/>
            </a:endParaRPr>
          </a:p>
          <a:p>
            <a:pPr marL="465120" indent="-34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5120" indent="-34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В зависимости от степени государственного регулирования цен различают открытую и скрытую инфляцию.</a:t>
            </a:r>
            <a:endParaRPr b="0" lang="en-US" sz="1800" spc="-1" strike="noStrike">
              <a:solidFill>
                <a:srgbClr val="ffffff"/>
              </a:solidFill>
              <a:latin typeface="Times New Roman"/>
            </a:endParaRPr>
          </a:p>
          <a:p>
            <a:pPr marL="465120" indent="-34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5120" indent="-34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Открытая инфляция имеет место в условиях свободных цен, которые формируются под влиянием рыночных факторов. Она характеризуется постоянным повышением цен.</a:t>
            </a:r>
            <a:endParaRPr b="0" lang="en-US" sz="1800" spc="-1" strike="noStrike">
              <a:solidFill>
                <a:srgbClr val="ffffff"/>
              </a:solidFill>
              <a:latin typeface="Times New Roman"/>
            </a:endParaRPr>
          </a:p>
          <a:p>
            <a:pPr marL="465120" indent="-34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5120" indent="-34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Подавленная или скрытая инфляция возникает в условиях жесткого регулирования государством цен и доходов. Она проявляется не в повышении цен, а в появлении и обострении товарного дефицита, сопровождающегося снижением качества продукции, скрытым повышением цен и спекуляцией, увеличением производства дорогих товаров в ущерб дешевым товарам повседневного спроса. Измеряется скрытая инфляция соотношением государственных цен с ценами рынка (легального и теневого), объемом вынужденных сбережений (отложенным спросом) и пр.</a:t>
            </a:r>
            <a:endParaRPr b="0" lang="en-US" sz="1800" spc="-1" strike="noStrike">
              <a:solidFill>
                <a:srgbClr val="ffffff"/>
              </a:solidFill>
              <a:latin typeface="Times New Roman"/>
            </a:endParaRPr>
          </a:p>
          <a:p>
            <a:pPr marL="465120" indent="-34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5120" indent="-34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В зависимости от факторов, вызывающих инфляцию, различают инфляцию спроса и инфляцию издержек.</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599840"/>
            <a:ext cx="8229600" cy="4708440"/>
          </a:xfrm>
          <a:prstGeom prst="rect">
            <a:avLst/>
          </a:prstGeom>
          <a:noFill/>
          <a:ln w="0">
            <a:noFill/>
          </a:ln>
        </p:spPr>
        <p:txBody>
          <a:bodyPr anchor="t">
            <a:normAutofit/>
          </a:bodyPr>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Рис.№1. Инфляция спроса</a:t>
            </a:r>
            <a:endParaRPr b="0" lang="en-US" sz="1600" spc="-1" strike="noStrike">
              <a:solidFill>
                <a:srgbClr val="ffffff"/>
              </a:solidFill>
              <a:latin typeface="Times New Roman"/>
            </a:endParaRPr>
          </a:p>
        </p:txBody>
      </p:sp>
      <p:sp>
        <p:nvSpPr>
          <p:cNvPr id="88" name=""/>
          <p:cNvSpPr/>
          <p:nvPr/>
        </p:nvSpPr>
        <p:spPr>
          <a:xfrm>
            <a:off x="826920" y="40464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Инфляция спроса вызывается превышением совокупного спроса над предложением товаров, что вызывает повышение цен. (Рис. №1)</a:t>
            </a:r>
            <a:endParaRPr b="0" lang="en-US" sz="2000" spc="-1" strike="noStrike">
              <a:solidFill>
                <a:srgbClr val="ffffff"/>
              </a:solidFill>
              <a:latin typeface="Arial"/>
            </a:endParaRPr>
          </a:p>
        </p:txBody>
      </p:sp>
      <p:pic>
        <p:nvPicPr>
          <p:cNvPr id="89" name="" descr=""/>
          <p:cNvPicPr/>
          <p:nvPr/>
        </p:nvPicPr>
        <p:blipFill>
          <a:blip r:embed="rId2"/>
          <a:stretch/>
        </p:blipFill>
        <p:spPr>
          <a:xfrm>
            <a:off x="1042920" y="1700280"/>
            <a:ext cx="381636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468360" y="475920"/>
            <a:ext cx="8229600" cy="5429160"/>
          </a:xfrm>
          <a:prstGeom prst="rect">
            <a:avLst/>
          </a:prstGeom>
          <a:noFill/>
          <a:ln w="0">
            <a:noFill/>
          </a:ln>
        </p:spPr>
        <p:txBody>
          <a:bodyPr anchor="t">
            <a:normAutofit fontScale="98000"/>
          </a:bodyPr>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Инфляция издержек – это инфляция со стороны предложения. (Рис№.2) Она возникает в результате увеличения средних издержек на единицу продукции. Рост издержек может быть вызван разными причинами:</a:t>
            </a: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удорожанием сырья и топлива;</a:t>
            </a: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повышением заработной платы;</a:t>
            </a: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увеличением косвенных налогов, акцизов.</a:t>
            </a: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6400" indent="-402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6400" indent="-402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Рис.№2. Инфляция издержек</a:t>
            </a:r>
            <a:endParaRPr b="0" lang="en-US" sz="1600" spc="-1" strike="noStrike">
              <a:solidFill>
                <a:srgbClr val="ffffff"/>
              </a:solidFill>
              <a:latin typeface="Times New Roman"/>
            </a:endParaRPr>
          </a:p>
        </p:txBody>
      </p:sp>
      <p:pic>
        <p:nvPicPr>
          <p:cNvPr id="91" name="" descr=""/>
          <p:cNvPicPr/>
          <p:nvPr/>
        </p:nvPicPr>
        <p:blipFill>
          <a:blip r:embed="rId2"/>
          <a:stretch/>
        </p:blipFill>
        <p:spPr>
          <a:xfrm>
            <a:off x="826920" y="2637000"/>
            <a:ext cx="3240360" cy="280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Сочетание инфляции спроса, инфляции издержек и инфляционных ожиданий порождает инфляционную спираль. Раскручивание инфляционной спирали показано на рис. №3. Допустим, что экономика находится в равновесии в точке Е0 в условиях полной занятости. Стимулирование экономики со стороны государства (при помощи кредитно-денежных или бюджетных методов) вызовет смещение кривой совокупного спроса вправо в положение AD2 и установление равновесия в точке Е1. Повышение уровня цен вызывает инфляционные ожидания, в соответствие с которыми хозяйствующие субъекты строят свое экономическое поведение. Увеличение ставок заработной платы по требованию наемных работников вызывает увеличение средних издержек. Кривая AS сдвинется вверх, а новое равновесие установится в точке Е2. Этот процесс может продолжаться далее, все увеличивая инфляцию.</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Текст 12" descr=""/>
          <p:cNvPicPr/>
          <p:nvPr/>
        </p:nvPicPr>
        <p:blipFill>
          <a:blip r:embed="rId2"/>
          <a:stretch/>
        </p:blipFill>
        <p:spPr>
          <a:xfrm>
            <a:off x="1042920" y="907920"/>
            <a:ext cx="4681440" cy="4105440"/>
          </a:xfrm>
          <a:prstGeom prst="rect">
            <a:avLst/>
          </a:prstGeom>
          <a:ln w="0">
            <a:noFill/>
          </a:ln>
        </p:spPr>
      </p:pic>
      <p:sp>
        <p:nvSpPr>
          <p:cNvPr id="94" name=""/>
          <p:cNvSpPr/>
          <p:nvPr/>
        </p:nvSpPr>
        <p:spPr>
          <a:xfrm>
            <a:off x="1126080" y="5445000"/>
            <a:ext cx="297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Рис.№3. Инфляционная спираль</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4T15:54:26Z</dcterms:created>
  <dc:creator>турсунбек</dc:creator>
  <dc:description/>
  <dc:language>en-US</dc:language>
  <cp:lastModifiedBy>1</cp:lastModifiedBy>
  <dcterms:modified xsi:type="dcterms:W3CDTF">2012-06-22T16:02:15Z</dcterms:modified>
  <cp:revision>47</cp:revision>
  <dc:subject/>
  <dc:title>ТЕМА:</dc:title>
</cp:coreProperties>
</file>