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9519-3009-41D9-BBAB-F1B9AE86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1E90-A31D-47BC-B845-30798B1F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61A8-F611-4EBE-B9A6-BB86DD299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6F86-88FC-4C14-9896-784B54F2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42D2-DAFE-4D11-959F-C029BA3B4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2A01-B3B5-447F-8F67-A30208C7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61DD-E5BA-4406-B502-7A53DD76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335E-BB77-43F1-9C77-88A86EC0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797E-53DE-44B7-BD90-BD6B26F6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FB61-2563-4034-8FEA-D2C9FDCD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9F67-0773-468A-98FA-87F0C3E6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57F4-BA4E-4584-B098-652126C5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40E5-91C7-4B68-8B4E-EA2483BB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E7C3-4907-4A57-9879-4711CD34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D92D-2755-4E8A-85FB-37E63FAE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F562-0519-4CF0-B4BA-E5ECDD327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40EB-374B-47A5-8FD9-7F6D84ABA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51A3-E803-4F72-B382-9E2B2AE2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5436-BA8F-4EBA-9A14-667BD628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3B88-F157-4994-BF87-4F14318A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C068-D2A2-43DD-83B1-1803AFC7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9AD2-2FD6-4AE3-8BD6-2E1FB608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9A9B-57F2-4959-8CCA-88677538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93B2-8B36-4244-BF9F-A7844DDA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4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51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52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53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54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55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56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57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58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59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60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62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63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64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65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66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67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68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69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70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71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72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73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74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75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76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77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78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79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80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81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82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83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84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85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86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87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88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89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90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91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92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93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94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95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96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97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98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99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100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101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02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03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174F-FAAE-4FEC-B9B8-39D6A2AA1C38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3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4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5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6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7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8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9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10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11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12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13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14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15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16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17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18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19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20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21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22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23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24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25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26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27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28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29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30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31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32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33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34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35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36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37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38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39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40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41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42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43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44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45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46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47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48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49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50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51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52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53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54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55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56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57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58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59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60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61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62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63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64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65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66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67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68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69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70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71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72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73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74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75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76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77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78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79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80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81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82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83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84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85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86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87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88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89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90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91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92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93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94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95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96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97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98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99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100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101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102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108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109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38E6-8346-4D97-A804-CDEC3FCC4652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58560" y="98100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Социальная политика государства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Тема 1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3366"/>
                </a:solidFill>
                <a:latin typeface="Times New Roman"/>
              </a:rPr>
              <a:t>Кусенова Кульбагиля Казиевна</a:t>
            </a:r>
            <a:endParaRPr b="0" lang="en-US" sz="21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3366"/>
                </a:solidFill>
                <a:latin typeface="Times New Roman"/>
              </a:rPr>
              <a:t>старший преподаватель</a:t>
            </a:r>
            <a:endParaRPr b="0" lang="en-US" sz="21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3366"/>
                </a:solidFill>
                <a:latin typeface="Times New Roman"/>
              </a:rPr>
              <a:t>кафедры экономики и управления</a:t>
            </a:r>
            <a:endParaRPr b="0" lang="en-US" sz="2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Основные задачи ЕС в области  социальной защиты населения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Усилить стимулы к поиску работы для тех, кто не работает, но может трудиться и обеспечить разумный доход для тех, кто не может работат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сократить число людей, получающих помощь от государства Разрыв в развитии теории и практики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Защитить будущие пенсии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Сдерживать рост расходов на здравоохранение, обеспечив при этом качество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Аргументы в пользу социального государства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Активный потребитель услуг – средний класс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Под социальным государством чаще понимают не непосредственное участие государства в решении социальных проблем, а «смешанную экономику благосостояния»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Соотношение экономки и социальной политики сложно и неоднозначно. Социальные расходы это не затраты, а вложения в развитие человеческого потенциал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8" name="Picture 4" descr="C:\Program Files\Common Files\Microsoft Shared\Clipart\cagcat50\BD07304_.WMF"/>
          <p:cNvPicPr/>
          <p:nvPr/>
        </p:nvPicPr>
        <p:blipFill>
          <a:blip r:embed="rId1"/>
          <a:stretch/>
        </p:blipFill>
        <p:spPr>
          <a:xfrm>
            <a:off x="609480" y="380880"/>
            <a:ext cx="182268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Современные проблемы социальной политики в развитых странах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Демографические процессы –старение населения, безработица, увеличение числа домохозяйств с 1 человеком..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Глобализация и информационное общество-требования к квалификации персонала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Процветание и богатство – бедность и социальная дезинтеграция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Объем ресурсов, выделяемых на социальное развитие – диверсификация источников финансирования социальной защиты, поиск баланса между обязательными и добровольными социальными программами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Идея социального партнерства и участия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Социальная политика и глобализация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Сравнительная социальная политика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Основные показатели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Рост и неравенство в удовлетворении социальных потребностей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Социалистическое развитие и переход к рынку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Влияние международных организаций на процесс создания социальной политики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3" name="Picture 4" descr="C:\Program Files\Common Files\Microsoft Shared\Clipart\cagcat50\BD06662_.WMF"/>
          <p:cNvPicPr/>
          <p:nvPr/>
        </p:nvPicPr>
        <p:blipFill>
          <a:blip r:embed="rId1"/>
          <a:stretch/>
        </p:blipFill>
        <p:spPr>
          <a:xfrm>
            <a:off x="304920" y="533520"/>
            <a:ext cx="1793880" cy="15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Инструменты влияния на социальную политику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Times New Roman"/>
              </a:rPr>
              <a:t>Инструменты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Кредиты с социальной обусловленностью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Кредиты с экономической обусловленностью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Дополнительные услуги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Правовое регулирование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Техническая помощь по тренингу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Политическое соглашение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Перераспределение ресурсов «не на кредитной основе»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Совместные конференции и соответствующие публикации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66840" y="22143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Применение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МБ выдает на условии изменения соц.политики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МВФ выдает на условиях изменения эк. политики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Грант ЕС в соответствии с местными ресурсами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СЕ, МОТ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ЕС, МБ,ЮНИСЕФ, ПРООН, МОТ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Соглашение ЕС с гос-ми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Структурный фонд ЕС Грантовые проекты ЮНИСЕФ/ПРООН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Конференции открыты для всех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Global Social Policy, 1997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7" name="Picture 5" descr="C:\Program Files\Common Files\Microsoft Shared\Clipart\cagcat50\BD05297_.WMF"/>
          <p:cNvPicPr/>
          <p:nvPr/>
        </p:nvPicPr>
        <p:blipFill>
          <a:blip r:embed="rId1"/>
          <a:stretch/>
        </p:blipFill>
        <p:spPr>
          <a:xfrm>
            <a:off x="7620120" y="5410080"/>
            <a:ext cx="15238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Джозеф Стиглиц Глобализация: тревожны тенденции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М., 2003.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Times New Roman"/>
              </a:rPr>
              <a:t>ГОСУДАРСТВО может и должно играть существенную роль, не только корректируя провалы рынка, но и обеспечивая социальную справедливость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Times New Roman"/>
              </a:rPr>
              <a:t>РЫНОЧНЫЙ МЕХАНИЗМ, предоставленный самому себе, оставляет большому числу людей слишком мало ресурсов для выживания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Times New Roman"/>
              </a:rPr>
              <a:t>Для большинства населения бывшего Советского Союза экономическая жизнь при капитализме оказалась даже хуже, чем предостерегали их прежние коммунистические лидеры. Перспективы на будущее мрачны. Средний класс уничтожен, созданы условия для кланово-мафиозного капитализма. Единственное достижение – возникновение демократии…представляется хрупким…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Современная социальная политика строится на основе отказа от основополагающих принципов советской социальной политики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Отказ от патернализма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Разгосударствление социальной сфер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Диверсификация социальной сферы по формам собственности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Формирование рынка социальных услу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Переход от преимущественно социальной поддержки к социальному страхованию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Переход от категориальной социальной помощи к адресной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Регионализация и муниципализация социальной политики – генеральное направление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Субъекты социальной политики: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Государство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NTTimes/Cyrillic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Субъекты федерации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Органы местного самоуправления</a:t>
            </a:r>
            <a:r>
              <a:rPr b="0" lang="en-US" sz="3200" spc="-1" strike="noStrike">
                <a:solidFill>
                  <a:srgbClr val="003366"/>
                </a:solidFill>
                <a:latin typeface="NTTimes/Cyrillic"/>
                <a:ea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Внебюджетные социальные фонд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Профсоюзные и иные общественные организации </a:t>
            </a:r>
            <a:r>
              <a:rPr b="0" lang="en-US" sz="3200" spc="-1" strike="noStrike">
                <a:solidFill>
                  <a:srgbClr val="003366"/>
                </a:solidFill>
                <a:latin typeface="NTTimes/Cyrillic"/>
                <a:ea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Политические партии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Институциональные условия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ерераспределение полномочий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Значительные колебания в области полномочий регионов в сфере социальной защиты населения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Размытость ряда полномочий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Возможности самостоятельной социальной политики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Одновременность реформ (административной, бюджетной, «монетизация»льгот, национальные проект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Противоречивость сигналов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Противоречивость среднесрочной программы и 122-ФЗ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Адресность или эффективность осуществления выплат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Прозрачность или гибкость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Группы интересов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Тезис о «неухудшении» допускает разные толкования, но блокирует расширение адресности на региональном уровне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Отсутствие моратория на расширение численности льготных категорий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Как ведут себя регионы в условиях противоречивых сигналов?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Социальная политика – это: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внутренняя политика государств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включает те виды деятельности, которые входят в ее компетенцию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сфера научной деятельности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междисциплинарная сфер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практическая деятельност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изучает социальные обстоятельства, в которых живут люди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разработка и реализация политических мер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понимание социальных риско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перераспределение ресурсо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4" name="Picture 4" descr="C:\Program Files\Common Files\Microsoft Shared\Clipart\cagcat50\BD06663_.WMF"/>
          <p:cNvPicPr/>
          <p:nvPr/>
        </p:nvPicPr>
        <p:blipFill>
          <a:blip r:embed="rId1"/>
          <a:stretch/>
        </p:blipFill>
        <p:spPr>
          <a:xfrm>
            <a:off x="7215120" y="4800600"/>
            <a:ext cx="192888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Проблемы финансирования социальной политики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Ограниченность финансовых ресурсов, которую трудно доказыват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Недовольство потребителей качеством услуг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Годовое финансовое планирование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Категориальный подход к формированию бюджетов и программ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Неразвитость рыночных механизмов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Сметное финансирование «от достигнутого»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Две составные части социальной политики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Социальная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Социальное - общественное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Социальное –  обеспечение жизнедеятельности человека в повседневной жизн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- социальные права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- социальные потребност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- социальные услуг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66840" y="22143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</a:rPr>
              <a:t>Политика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Сфера деятельности, связанная с отношениями между классами, нациями и другими социальными группами, ядром которой является проблема власт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Согласие, консенсус среди партнеров о том, какие проблемы надо решать и какими способами это делать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Политический цикл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Базовые ценности социальной политики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Равенство и справедливост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Нравственность и морал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Социальная солидарность и социальная ответственност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Какое общество мы хотим иметь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Какие критерии справедливости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Как понимаем солидарность?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Что важно для понимания социальной политики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Место и роль государства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Интерес – чей интерес определяющий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Важна не только цель, но и методы, которые ведут к ее достижению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Базовые принципы моделей социального государства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Остаточная модел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Абсолютная бедност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Адресность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Горизонтальное равенство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66840" y="22143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Институциональная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Относительная бедност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Универсальност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Вертикальное равенство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Социальная политика: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7335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Политика правительства по повышению благосостояния граждан и страны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Способы, которыми благосостояние достигается в обществе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Академическая предметная область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7" name="Picture 5" descr="C:\Program Files\Common Files\Microsoft Shared\Clipart\cagcat50\SY01265_.wmf"/>
          <p:cNvPicPr/>
          <p:nvPr/>
        </p:nvPicPr>
        <p:blipFill>
          <a:blip r:embed="rId1"/>
          <a:stretch/>
        </p:blipFill>
        <p:spPr>
          <a:xfrm>
            <a:off x="914400" y="2819520"/>
            <a:ext cx="1638360" cy="34686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7" descr="C:\Program Files\Common Files\Microsoft Shared\Clipart\cagcat50\SY01265_.wmf"/>
          <p:cNvPicPr/>
          <p:nvPr/>
        </p:nvPicPr>
        <p:blipFill>
          <a:blip r:embed="rId2"/>
          <a:stretch/>
        </p:blipFill>
        <p:spPr>
          <a:xfrm>
            <a:off x="914400" y="2286000"/>
            <a:ext cx="1943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Социальное государство (или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государство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всеобщего благосостояния) - это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: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В узком смысле – система социального обеспечения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Государственная система программ, пособий и услуг, которые помогают людям удовлетворить те социальные, экономические, образовательные и медицинские потребности, которые являются фундаментальными для поддержания стабильности в обществе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Основные дилеммы современной социальной политики</a:t>
            </a:r>
            <a:br>
              <a:rPr sz="3200"/>
            </a:b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Б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рюссель, 1995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Социальная справедливость или индивидуальная социальная ответственност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Удовлетворение социальных потребностей индивидуально или коллективно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866840" y="22143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Доступ к общественным службам для всех граждан или только отдельных категорий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Компромисс между уровнем социальной зашиты, к которому общество стремится и желанием граждан его финансироват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5:06:07Z</dcterms:created>
  <dc:creator>User</dc:creator>
  <dc:description/>
  <dc:language>en-US</dc:language>
  <cp:lastModifiedBy>User</cp:lastModifiedBy>
  <dcterms:modified xsi:type="dcterms:W3CDTF">2012-06-15T04:14:49Z</dcterms:modified>
  <cp:revision>69</cp:revision>
  <dc:subject/>
  <dc:title>Социальная политика: гендерный аспект</dc:title>
</cp:coreProperties>
</file>