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rofi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1-10-16T20:53:47.578000000" idx="1">
    <p:pos x="4133" y="174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E72-E414-4CDD-95D6-0FC41B00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6F5-6B3A-4BA9-94FF-699532A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C47-0B35-47F5-860F-7E69E237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67DC-8A5B-43EA-AD25-4C5F1A15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38D-5394-4C54-AB97-D8D8F2C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20A-D2C4-40F6-B753-D64587F5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682-B21C-4B5E-A8C6-EF8FD20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FCA-AF01-45D4-86E1-949B731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A59-201C-4821-B9FC-5558DBB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00E-CC43-4FDB-A09E-7FB3F99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A79-4707-4053-924C-C7DE378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269-CB2B-41F0-9113-889BA05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F69-5C05-469C-ABBB-987DB3FF7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14200" y="1428840"/>
            <a:ext cx="8929800" cy="41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Ұлттық банктің ақша –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сие саясаты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611280" y="692280"/>
            <a:ext cx="7777080" cy="1368360"/>
          </a:xfrm>
          <a:prstGeom prst="downArrowCallout">
            <a:avLst>
              <a:gd name="adj1" fmla="val -197308"/>
              <a:gd name="adj2" fmla="val 155296"/>
              <a:gd name="adj3" fmla="val 33333"/>
              <a:gd name="adj4" fmla="val 6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Ұлттық банктің ақша – кредит саясатыны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негізгі құралдарына мыналар жатад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755640" y="2205000"/>
            <a:ext cx="7201080" cy="3888000"/>
          </a:xfrm>
          <a:prstGeom prst="hexagon">
            <a:avLst>
              <a:gd name="adj" fmla="val 30380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000160" y="2286000"/>
            <a:ext cx="4824360" cy="6426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 қайта қаржыландырудың ресми ставкасы (пайыздық саяс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43040" y="3071880"/>
            <a:ext cx="5545080" cy="368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 ең төменгі резервтік талаптардың нормативтері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285920" y="3571920"/>
            <a:ext cx="6121440" cy="6426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 ақша – кредит саясатының негізгі операциялары бойынша пайыздық  ставкалардың  деңгей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43040" y="5072040"/>
            <a:ext cx="5429160" cy="368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 ашық нарықтағы операциялар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857240" y="5643720"/>
            <a:ext cx="4808520" cy="368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 валюта нарығындағы операциялар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285920" y="4286160"/>
            <a:ext cx="6121440" cy="6426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-ерекше жағдайларда операциялардың жекеленген түрлері мен көлеміне сандық шекте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1116000" y="357120"/>
            <a:ext cx="6985080" cy="839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Қазақстан Республикасының Ұлтты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Банкі орталық аппаратының бөлімшелер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87280" y="155736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Зерттеу және статистика департаменті (42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214280" y="200016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өлем балансы және валюталық реттеу департаменті (45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214280" y="292896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онетарлық операциялар департаменті (52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214280" y="342900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ухгалтерлік есеп департаменті (56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1214280" y="392904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қпарат технологиясы департаменті (93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87280" y="6143760"/>
            <a:ext cx="691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Ұлттық Банк басшылығының қызметін қамтамасыз ету басқармасы(20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3"/>
          <p:cNvSpPr/>
          <p:nvPr/>
        </p:nvSpPr>
        <p:spPr>
          <a:xfrm flipH="1">
            <a:off x="250560" y="9079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250920" y="90792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250920" y="6381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285840" y="40719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285840" y="35719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285840" y="31431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85840" y="26431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85840" y="2214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50920" y="1700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214280" y="250020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Заң департаменті (36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285840" y="4500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285840" y="48578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85840" y="52862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214280" y="435780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Ішкі аудит департаменті (47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14280" y="478620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юджетті жоспарлау және бақылау басқармасы (22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214280" y="521496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өлем жүйесі  басқармасы (26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85840" y="578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214280" y="5643720"/>
            <a:ext cx="69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Халықаралық қатынастар басқармасы (9 ада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19"/>
          <p:cNvSpPr/>
          <p:nvPr/>
        </p:nvSpPr>
        <p:spPr>
          <a:xfrm>
            <a:off x="0" y="1857240"/>
            <a:ext cx="3571920" cy="3214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428760" y="200016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. Ұлттық банк –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банктердің банкі»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- үйткені оның клиенттері коммерциялық банктер, кредиттік мекемелер, үкімет орындары. </a:t>
            </a: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анктердің банкі ретінде Ұлттық банк мына қызметтерді атқарад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500720" y="714240"/>
            <a:ext cx="43574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ммерциялық банктердің резервтерін сақтай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4429080" y="3286080"/>
            <a:ext cx="4248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мемлекет атынан қолма – қол ақшасыз есеп айрысу операцияларын жүргізед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4427640" y="4653000"/>
            <a:ext cx="4248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- банктердің қызметіне қадағалау және бақылау жүргізед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4500720" y="1785960"/>
            <a:ext cx="43574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ммерциялық банктерге қысқа мерзімге кредиттер беред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490920" y="3213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8"/>
          <p:cNvSpPr/>
          <p:nvPr/>
        </p:nvSpPr>
        <p:spPr>
          <a:xfrm flipV="1">
            <a:off x="3490920" y="1285560"/>
            <a:ext cx="1009800" cy="19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9"/>
          <p:cNvSpPr/>
          <p:nvPr/>
        </p:nvSpPr>
        <p:spPr>
          <a:xfrm flipV="1">
            <a:off x="3490920" y="2071800"/>
            <a:ext cx="1009800" cy="11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3490920" y="3213000"/>
            <a:ext cx="93672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0"/>
          <p:cNvSpPr/>
          <p:nvPr/>
        </p:nvSpPr>
        <p:spPr>
          <a:xfrm>
            <a:off x="0" y="404640"/>
            <a:ext cx="9144000" cy="1729080"/>
          </a:xfrm>
          <a:prstGeom prst="octagon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азақстанның ұлттық валютасы – теңгені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ішкі және сыртқы тұрақтылығын сақтау мақсатын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Ұлттық банк алтын – валюта қорын жинақтай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ор мынандай  қызметтер атқаруға арналған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395280" y="2133720"/>
            <a:ext cx="8352000" cy="2533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</a:rPr>
              <a:t>- мемлекеттік кепілдемесі бар отандық қарыз алушылар (шет елдерден)  төлем қабілетінен айрылған жағдайда, олардың сыртқы міндеттемелерін мерзімінде орындау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</a:rPr>
              <a:t>- республикадағы банк жүйесін құрастырушы ірі банкілердің шет елден алған үлкен қарыздары елге қаржы дағдарысын туғызатын қауіп болса немесе басқа да осындай төтенше жағдайлар туса, банкілерді қолдау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0000"/>
                </a:solidFill>
                <a:latin typeface="Times New Roman"/>
              </a:rPr>
              <a:t>- валюта бағамының қысқа мерзімді ауытқуларын түзету мақсатында ішкі валюта нарығында валюталық интервенция жасайды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059280" y="270828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1857240" y="0"/>
            <a:ext cx="5185080" cy="31640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Ұлтты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банктің алтын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валюта қо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(млн. $, АҚШ)</a:t>
            </a:r>
            <a:r>
              <a:rPr b="1" i="1" lang="kk-KZ" sz="2800" spc="-1" strike="noStrike">
                <a:solidFill>
                  <a:srgbClr val="0000ff"/>
                </a:solidFill>
                <a:latin typeface="comic"/>
              </a:rPr>
              <a:t>!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Алтын валюта–қоры 2005-2007жж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 rot="1718400">
            <a:off x="1831680" y="2563560"/>
            <a:ext cx="285840" cy="1609560"/>
          </a:xfrm>
          <a:prstGeom prst="downArrow">
            <a:avLst>
              <a:gd name="adj1" fmla="val 50000"/>
              <a:gd name="adj2" fmla="val 130138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0" y="4143240"/>
            <a:ext cx="255600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Алтын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валюта активтері, барлығ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2005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kk-KZ" sz="1600" spc="-1" strike="noStrike">
                <a:solidFill>
                  <a:srgbClr val="00b050"/>
                </a:solidFill>
                <a:latin typeface="Times New Roman"/>
              </a:rPr>
              <a:t>2006</a:t>
            </a: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0" lang="kk-KZ" sz="1600" spc="-1" strike="noStrike">
                <a:solidFill>
                  <a:srgbClr val="ff00ff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kk-KZ" sz="1600" spc="-1" strike="noStrike">
                <a:solidFill>
                  <a:srgbClr val="ff00ff"/>
                </a:solidFill>
                <a:latin typeface="Times New Roman"/>
              </a:rPr>
              <a:t>17629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</a:rPr>
              <a:t>              </a:t>
            </a:r>
            <a:r>
              <a:rPr b="0" lang="kk-KZ" sz="1600" spc="-1" strike="noStrike">
                <a:solidFill>
                  <a:srgbClr val="00b050"/>
                </a:solidFill>
                <a:latin typeface="Times New Roman"/>
              </a:rPr>
              <a:t>19127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0000"/>
                </a:solidFill>
                <a:latin typeface="Times New Roman"/>
              </a:rPr>
              <a:t>706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4211640" y="3141720"/>
            <a:ext cx="360360" cy="1368360"/>
          </a:xfrm>
          <a:prstGeom prst="downArrow">
            <a:avLst>
              <a:gd name="adj1" fmla="val 50000"/>
              <a:gd name="adj2" fmla="val 94930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2928960" y="4500720"/>
            <a:ext cx="285732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ff"/>
                </a:solidFill>
                <a:latin typeface="Times New Roman"/>
              </a:rPr>
              <a:t>Монетарлы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0000ff"/>
                </a:solidFill>
                <a:latin typeface="Times New Roman"/>
              </a:rPr>
              <a:t>алтын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 rot="19801800">
            <a:off x="6802200" y="2430000"/>
            <a:ext cx="563400" cy="1833840"/>
          </a:xfrm>
          <a:prstGeom prst="downArrow">
            <a:avLst>
              <a:gd name="adj1" fmla="val 50000"/>
              <a:gd name="adj2" fmla="val 144016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072120" y="4214880"/>
            <a:ext cx="307188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ркін конвертацияланаты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шете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валютасындағы активте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ff"/>
                </a:solidFill>
                <a:latin typeface="Times New Roman"/>
              </a:rPr>
              <a:t>және СД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43160" y="5572080"/>
          <a:ext cx="914400" cy="4269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143240" y="5572080"/>
          <a:ext cx="928800" cy="42696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3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143680" y="5572080"/>
          <a:ext cx="642600" cy="426960"/>
        </p:xfrm>
        <a:graphic>
          <a:graphicData uri="http://schemas.openxmlformats.org/drawingml/2006/table">
            <a:tbl>
              <a:tblPr/>
              <a:tblGrid>
                <a:gridCol w="6426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8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357960" y="5643720"/>
          <a:ext cx="2465280" cy="500040"/>
        </p:xfrm>
        <a:graphic>
          <a:graphicData uri="http://schemas.openxmlformats.org/drawingml/2006/table">
            <a:tbl>
              <a:tblPr/>
              <a:tblGrid>
                <a:gridCol w="743040"/>
                <a:gridCol w="927000"/>
                <a:gridCol w="795240"/>
              </a:tblGrid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08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775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5000"/>
                          <a:tab algn="l" pos="593892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1577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4"/>
          <p:cNvSpPr/>
          <p:nvPr/>
        </p:nvSpPr>
        <p:spPr>
          <a:xfrm>
            <a:off x="1476360" y="1071720"/>
            <a:ext cx="6121440" cy="3214440"/>
          </a:xfrm>
          <a:prstGeom prst="ellipse">
            <a:avLst/>
          </a:prstGeom>
          <a:solidFill>
            <a:srgbClr val="ffffff"/>
          </a:solidFill>
          <a:ln cap="rnd" w="5724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РЫН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Н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курс  студен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Ильяс Гуль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385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385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38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484360" y="5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Жоспар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5280" y="1700280"/>
            <a:ext cx="8569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1. Ұлттық банк: мақсаты, міндеттері, қызметтер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2. Ұлттық банктің құрылымы мен басқару органдары,  ақша – кредит саяс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3. Ұлттық банктің - «банк- банкі», үкіметтің бас банкирі, сыртқы экономикалық қызметі, алтын – валюта қорын басқару қызметтері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250920" y="260280"/>
            <a:ext cx="8642160" cy="612144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7"/>
          <p:cNvSpPr/>
          <p:nvPr/>
        </p:nvSpPr>
        <p:spPr>
          <a:xfrm>
            <a:off x="684360" y="692280"/>
            <a:ext cx="8135640" cy="1368360"/>
          </a:xfrm>
          <a:prstGeom prst="flowChartAlternateProcess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8"/>
          <p:cNvSpPr/>
          <p:nvPr/>
        </p:nvSpPr>
        <p:spPr>
          <a:xfrm>
            <a:off x="539640" y="3284640"/>
            <a:ext cx="223200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9"/>
          <p:cNvSpPr/>
          <p:nvPr/>
        </p:nvSpPr>
        <p:spPr>
          <a:xfrm>
            <a:off x="3419640" y="3284640"/>
            <a:ext cx="223200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20"/>
          <p:cNvSpPr/>
          <p:nvPr/>
        </p:nvSpPr>
        <p:spPr>
          <a:xfrm>
            <a:off x="6227640" y="3284640"/>
            <a:ext cx="2232000" cy="2016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cc0066"/>
                </a:solidFill>
                <a:latin typeface="Times New Roman"/>
              </a:rPr>
              <a:t>30.03.1995 </a:t>
            </a:r>
            <a:r>
              <a:rPr b="1" i="1" lang="kk-KZ" sz="1600" spc="-1" strike="noStrike">
                <a:solidFill>
                  <a:srgbClr val="cc0066"/>
                </a:solidFill>
                <a:latin typeface="Times New Roman"/>
              </a:rPr>
              <a:t>ж.</a:t>
            </a:r>
            <a:r>
              <a:rPr b="1" i="1" lang="kk-KZ" sz="17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cc0066"/>
                </a:solidFill>
                <a:latin typeface="Times New Roman"/>
              </a:rPr>
              <a:t>Қ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cc0066"/>
                </a:solidFill>
                <a:latin typeface="Times New Roman"/>
              </a:rPr>
              <a:t>Ұлттық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kk-KZ" sz="1700" spc="-1" strike="noStrike">
                <a:solidFill>
                  <a:srgbClr val="cc0066"/>
                </a:solidFill>
                <a:latin typeface="Times New Roman"/>
              </a:rPr>
              <a:t>банк</a:t>
            </a:r>
            <a:r>
              <a:rPr b="1" i="1" lang="en-US" sz="1700" spc="-1" strike="noStrike">
                <a:solidFill>
                  <a:srgbClr val="cc0066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cc0066"/>
                </a:solidFill>
                <a:latin typeface="Times New Roman"/>
              </a:rPr>
              <a:t>Өзінің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cc0066"/>
                </a:solidFill>
                <a:latin typeface="Times New Roman"/>
              </a:rPr>
              <a:t>қызметін баста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1"/>
          <p:cNvSpPr/>
          <p:nvPr/>
        </p:nvSpPr>
        <p:spPr>
          <a:xfrm flipH="1">
            <a:off x="1692000" y="2060640"/>
            <a:ext cx="287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4572000" y="20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3"/>
          <p:cNvSpPr/>
          <p:nvPr/>
        </p:nvSpPr>
        <p:spPr>
          <a:xfrm>
            <a:off x="4572000" y="2060640"/>
            <a:ext cx="27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928800" y="7858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Ұлттық  банк - ҚР орталық банкі. Бұрынғы Одақтың Мемлекеттік банкісінің филиалы негізінде (Госбанк КазСС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642960" y="3429000"/>
            <a:ext cx="19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c0066"/>
                </a:solidFill>
                <a:latin typeface="Times New Roman"/>
              </a:rPr>
              <a:t>1991 ж. алдымен Ұлттық мемлекеттік бан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3571920" y="349632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cc0066"/>
                </a:solidFill>
                <a:latin typeface="Arial"/>
                <a:ea typeface="Times New Roman"/>
              </a:rPr>
              <a:t>1993 ж. 13 сәуірден бастап Ұлттық банк болып аталад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357120" y="500040"/>
            <a:ext cx="6156360" cy="863640"/>
          </a:xfrm>
          <a:prstGeom prst="wedgeRoundRectCallout">
            <a:avLst>
              <a:gd name="adj1" fmla="val 47222"/>
              <a:gd name="adj2" fmla="val 115074"/>
              <a:gd name="adj3" fmla="val 16667"/>
            </a:avLst>
          </a:prstGeom>
          <a:solidFill>
            <a:srgbClr val="cc00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лттық банкіге мынандай міндеттер жүктеледі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214280" y="3662280"/>
            <a:ext cx="6000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17"/>
          <p:cNvSpPr/>
          <p:nvPr/>
        </p:nvSpPr>
        <p:spPr>
          <a:xfrm>
            <a:off x="1143000" y="2000160"/>
            <a:ext cx="6715080" cy="3357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357200" y="2363400"/>
            <a:ext cx="5857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• </a:t>
            </a: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мемлекеттің ақша - кредит саясатын әзірлеу және жүргіз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• </a:t>
            </a: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төлем жүйелерінің жұмыс істеуін қамтамасыз ет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• </a:t>
            </a: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валюталық реттеу мен валюталық бақылауды жүзеге асыру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71500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• </a:t>
            </a:r>
            <a:r>
              <a:rPr b="0" lang="kk-KZ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қаржы жүйесінің тұрақтылығын қамтамасыз етуге ықпалын тигіз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7"/>
          <p:cNvSpPr/>
          <p:nvPr/>
        </p:nvSpPr>
        <p:spPr>
          <a:xfrm>
            <a:off x="0" y="0"/>
            <a:ext cx="9144000" cy="19299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Қызметтері</a:t>
            </a: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ттық банк өзіне жүктелген мақсат пен міндеттерді іске асыру  үшін кең ауқымды қызметтер орындайды. Мысалы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2857680"/>
            <a:ext cx="9144000" cy="4005720"/>
          </a:xfrm>
          <a:prstGeom prst="rect">
            <a:avLst/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</a:rPr>
              <a:t>мемлекеттің ақша – кредит саясатын жүргіз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</a:rPr>
              <a:t>валюталық реттеу және бақылау, осы операцияларға лицензия бер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</a:rPr>
              <a:t>ҚР Үкіметінің мемлекеттік қарыздарын орындауға қызмет көрсет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Times New Roman"/>
              </a:rPr>
              <a:t>Ұлттық банкіде банк шоттарын ашқан заңды тұлғаларға кредит бер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2571840" y="1928880"/>
            <a:ext cx="3071880" cy="86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42"/>
          <p:cNvGrpSpPr/>
          <p:nvPr/>
        </p:nvGrpSpPr>
        <p:grpSpPr>
          <a:xfrm>
            <a:off x="428760" y="500040"/>
            <a:ext cx="8429400" cy="6357960"/>
            <a:chOff x="428760" y="500040"/>
            <a:chExt cx="8429400" cy="6357960"/>
          </a:xfrm>
        </p:grpSpPr>
        <p:sp>
          <p:nvSpPr>
            <p:cNvPr id="64" name="Text Box 6"/>
            <p:cNvSpPr/>
            <p:nvPr/>
          </p:nvSpPr>
          <p:spPr>
            <a:xfrm>
              <a:off x="428760" y="500040"/>
              <a:ext cx="2500560" cy="103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сқар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ректорлар кеңес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5643360" y="500040"/>
              <a:ext cx="2777400" cy="9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өрағ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өрағаның орынбасарла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>
              <a:off x="2857320" y="1071000"/>
              <a:ext cx="27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2280240" y="1857600"/>
              <a:ext cx="40060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Ұлттық банкінің орталық аппарат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4357080" y="1500120"/>
              <a:ext cx="207180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1500120" y="3000600"/>
              <a:ext cx="5706720" cy="53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партаменттер, дербес басқармалар және бөлімд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>
              <a:off x="3051720" y="2517120"/>
              <a:ext cx="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2571840" y="3571920"/>
              <a:ext cx="1692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5500800" y="3500640"/>
              <a:ext cx="1980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5"/>
            <p:cNvSpPr/>
            <p:nvPr/>
          </p:nvSpPr>
          <p:spPr>
            <a:xfrm>
              <a:off x="5057640" y="2498760"/>
              <a:ext cx="0" cy="5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428760" y="4010760"/>
              <a:ext cx="2314440" cy="10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лыстық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аумақтық) филиалда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7"/>
            <p:cNvSpPr/>
            <p:nvPr/>
          </p:nvSpPr>
          <p:spPr>
            <a:xfrm>
              <a:off x="3206160" y="4010760"/>
              <a:ext cx="5652000" cy="284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Ұлттық банкінің тәуелсіз бөлімшелеріМемлекеттік құндылықтарды  сақтау қоймасыБанкнота  фабрикасыМонета фабрикас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борлық бақылаудың мемлекеттік инспекцияс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Қазақстанның банкаралық есеп айырысу Орталығ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каралық және қаржылық телекоммуникациялар Орталығ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нктік сервистік бюро т.б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0" y="285840"/>
            <a:ext cx="535788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емлекеттік ақша – кредит саясатын әзірлейді және жүргізед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0" y="1500120"/>
            <a:ext cx="5357880" cy="916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Парламент бекіткен тұжырым негізінде банноталар мен монеталардың номиналдық құнын және дизайнын бекітеді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0" y="2500200"/>
            <a:ext cx="53578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қайта қаржыландыру ресми ставкасын бекітеді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000240"/>
            <a:ext cx="535788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ҚР валюталық айырбас бағамын анықтау тәртібін белгілейд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0" y="3786120"/>
            <a:ext cx="535788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анктердің ең төменгі резервтік талаптардың нормативтерін бекітеді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4572000"/>
            <a:ext cx="542916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тын валюта активтерін басқарудың негізгі принциптерін белгілейді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5435640" y="571680"/>
            <a:ext cx="649080" cy="5736960"/>
          </a:xfrm>
          <a:custGeom>
            <a:avLst/>
            <a:gdLst>
              <a:gd name="textAreaLeft" fmla="*/ 0 w 649080"/>
              <a:gd name="textAreaRight" fmla="*/ 234360 w 649080"/>
              <a:gd name="textAreaTop" fmla="*/ 142560 h 5736960"/>
              <a:gd name="textAreaBottom" fmla="*/ 5594400 h 573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9"/>
                  <a:pt x="10800" y="1717"/>
                </a:cubicBezTo>
                <a:lnTo>
                  <a:pt x="10800" y="9086"/>
                </a:lnTo>
                <a:cubicBezTo>
                  <a:pt x="10800" y="9945"/>
                  <a:pt x="16200" y="10803"/>
                  <a:pt x="21600" y="10803"/>
                </a:cubicBezTo>
                <a:cubicBezTo>
                  <a:pt x="16200" y="10803"/>
                  <a:pt x="10800" y="11662"/>
                  <a:pt x="10800" y="12520"/>
                </a:cubicBezTo>
                <a:lnTo>
                  <a:pt x="10800" y="19883"/>
                </a:lnTo>
                <a:cubicBezTo>
                  <a:pt x="10800" y="2074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072120" y="1571760"/>
            <a:ext cx="2808360" cy="3385800"/>
          </a:xfrm>
          <a:prstGeom prst="rect">
            <a:avLst/>
          </a:prstGeom>
          <a:solidFill>
            <a:srgbClr val="cc0066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ff00"/>
                </a:solidFill>
                <a:latin typeface="Times New Roman"/>
              </a:rPr>
              <a:t>Ұлттық банкінің ең жоғарғы басқару органы болып Ұлттық банк төрағасымен басқарылатын басқарма болып табылады.Басқарма 9 адамнан тұрады. Басқарма мүшелері ҚР Президентімен бекітіледі және мынадай сұрақтарды шешеді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1071720"/>
            <a:ext cx="53578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нормативтік актілерді бекітеді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5572080"/>
            <a:ext cx="5429160" cy="916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Ұлттық банкінің жұмысы туралы жылдық есепті тыңдайды, қабылдайды және ҚР Президентінің бекітуіне ұсынад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4"/>
          <p:cNvSpPr/>
          <p:nvPr/>
        </p:nvSpPr>
        <p:spPr>
          <a:xfrm>
            <a:off x="1476360" y="981000"/>
            <a:ext cx="6121440" cy="2303640"/>
          </a:xfrm>
          <a:prstGeom prst="ellipse">
            <a:avLst/>
          </a:prstGeom>
          <a:solidFill>
            <a:srgbClr val="ffffff"/>
          </a:solidFill>
          <a:ln cap="rnd" w="5724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Қазақстан Республика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Ұлттық Банкіні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Өкілдігі және филиалд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"/>
          <p:cNvSpPr/>
          <p:nvPr/>
        </p:nvSpPr>
        <p:spPr>
          <a:xfrm>
            <a:off x="6357960" y="3071880"/>
            <a:ext cx="1143000" cy="8571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000840" y="4000680"/>
            <a:ext cx="314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Кассалық операциялар және құндылықтарды сақтау  орталығ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(381 ад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214800" y="4572000"/>
            <a:ext cx="215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16аумақтық филиал (928 ада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4429080" y="3286080"/>
            <a:ext cx="0" cy="12146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392904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ҚРҰБ-нің Ресей Федерациясындағы Өкілдіг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(1 ада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1258920" y="2852640"/>
            <a:ext cx="936720" cy="108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785880" y="285840"/>
            <a:ext cx="7489800" cy="594324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k-KZ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k-KZ" sz="4800" spc="-1" strike="noStrike">
                <a:solidFill>
                  <a:srgbClr val="ff0066"/>
                </a:solidFill>
                <a:latin typeface="Times New Roman"/>
              </a:rPr>
              <a:t> Ұлттық банк ҚР ақша – кредит саясатын айқындайтын және жүзеге асыратын бірден – бір орган. Ақша – кредит саясаты баға тұрақтылығын  қамтамасыз ету мақсатында жүргізіледі</a:t>
            </a:r>
            <a:r>
              <a:rPr b="1" lang="kk-KZ" sz="4800" spc="-1" strike="noStrike">
                <a:solidFill>
                  <a:srgbClr val="ff0066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8:43:22Z</dcterms:created>
  <dc:creator>User</dc:creator>
  <dc:description/>
  <dc:language>en-US</dc:language>
  <cp:lastModifiedBy>UserLib</cp:lastModifiedBy>
  <dcterms:modified xsi:type="dcterms:W3CDTF">2011-10-17T09:38:24Z</dcterms:modified>
  <cp:revision>43</cp:revision>
  <dc:subject/>
  <dc:title>Слайд 1</dc:title>
</cp:coreProperties>
</file>