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6B6-38B2-4B1C-8AE4-4DA9946E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D90-5425-4A18-8BB0-5B63169B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E92-C2F1-4A07-9B61-ED8E8D2C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BAE-85AE-4E4C-A230-32A00C1B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406-B1C6-40FF-93B6-A74240F1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C8A3-661E-4A3A-AD51-A05DB50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8301-C3D9-484B-A4DE-078A9D5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721A-A456-4556-A429-0280814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482-D371-4A5D-8668-D2C3999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685A-146D-4030-82A4-2FD4116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2AC-02C1-4F50-A63C-4CA0612E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21D-DA40-4057-861B-1C3852B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A5C7-A70D-4700-B935-7C4EA1E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1DF6-C8F5-420D-A40C-57C89B2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283-62AF-4C40-9DF7-8C52BF20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3617-AC87-43FC-8D2E-42C1E32F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0B77-4FC9-4568-8740-FDA87651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369E-14D1-4232-937A-96F60486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0D91-0475-441B-8984-E3D8F202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CA3D-303E-4DF8-89EE-0EA9ED6E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F135-334F-428F-9430-BCA33CB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1ACF-20AA-4BE4-8918-F4F3E8D3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64C-CEAC-4C46-A759-90FDD3F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96B0-8A6F-4097-9062-5B323638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75B4-0E06-4E48-8DF2-7ACF2963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5876-4122-4466-91BB-8656BB7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303C-9B78-42F3-8410-7197F41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2000-0CB7-4A80-899A-29C1A977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C0DD-651A-4425-A3D3-8E263E29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0A4E-A71B-4EBC-9028-01393D9E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6D8-7620-4675-8CD2-613C276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D53-593F-4C51-A7D2-34C91DB9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645-3C6E-42D9-96B9-FA73B557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CDF-A323-4C43-A0AA-DE7781A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A8C-597B-407C-8E81-12A2533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D98-6C00-4959-9BF4-C12D2E5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B4A-82C3-4F8A-9E9A-1916475D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5E41-B42F-4121-B17E-36680FE4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82F-1E08-4737-B280-F6083C729A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кроэкономикалық тұрақсыздық: дағдарыстар, экономикалық циклдар, жұмыссыздық және инфляци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ляция қарқыны =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J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ғымдағы тұтыну бағасының индексі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өткен жылғы тұтыну бағасы индексі  /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өткен жылғы тұтыну бағас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ляция қарқыны 3 фактормен анықтала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өлем қабілеттігі бар сұраныспе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Өндіріс шығындарыме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ып сатарлық пайдамен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ұмыссздықпен инфляция арасындағы байланыст  Филипс сызығы сипаттай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0"/>
          <p:cNvGrpSpPr/>
          <p:nvPr/>
        </p:nvGrpSpPr>
        <p:grpSpPr>
          <a:xfrm>
            <a:off x="1187280" y="1844640"/>
            <a:ext cx="6624720" cy="3621240"/>
            <a:chOff x="1187280" y="1844640"/>
            <a:chExt cx="6624720" cy="3621240"/>
          </a:xfrm>
        </p:grpSpPr>
        <p:sp>
          <p:nvSpPr>
            <p:cNvPr id="277" name="AutoShape 11"/>
            <p:cNvSpPr/>
            <p:nvPr/>
          </p:nvSpPr>
          <p:spPr>
            <a:xfrm>
              <a:off x="1187280" y="1844640"/>
              <a:ext cx="6624720" cy="36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"/>
            <p:cNvSpPr/>
            <p:nvPr/>
          </p:nvSpPr>
          <p:spPr>
            <a:xfrm flipV="1">
              <a:off x="1966320" y="2194920"/>
              <a:ext cx="0" cy="28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3"/>
            <p:cNvSpPr/>
            <p:nvPr/>
          </p:nvSpPr>
          <p:spPr>
            <a:xfrm>
              <a:off x="1966320" y="4998960"/>
              <a:ext cx="415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4"/>
            <p:cNvSpPr/>
            <p:nvPr/>
          </p:nvSpPr>
          <p:spPr>
            <a:xfrm>
              <a:off x="2291040" y="2661840"/>
              <a:ext cx="3571920" cy="2083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15"/>
            <p:cNvSpPr/>
            <p:nvPr/>
          </p:nvSpPr>
          <p:spPr>
            <a:xfrm>
              <a:off x="3915000" y="5039280"/>
              <a:ext cx="129816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жұмыссыздық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16"/>
          <p:cNvSpPr/>
          <p:nvPr/>
        </p:nvSpPr>
        <p:spPr>
          <a:xfrm>
            <a:off x="1547640" y="2924280"/>
            <a:ext cx="358920" cy="17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фля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468360" y="333360"/>
            <a:ext cx="82296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3564000" y="2349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3203640" y="4797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6156360" y="4581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арық экономикасының индикаторы -баға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қты пайыздық мөлшерлеме 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миналды пайыз мөлшерлемес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 деңгей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ньораж – мемлекет табысы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лық салық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Сп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г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– айналымдағы қолма – қол аұша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 – инфляция қарқыны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 депозиттердегі ақша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позиттер бойынша номиналды пайыз мөлшерлемесі.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фляцияның позитивті жақтары</a:t>
            </a:r>
            <a:r>
              <a:rPr b="0" lang="ru-RU" sz="4400" spc="-1" strike="noStrike">
                <a:solidFill>
                  <a:srgbClr val="0068ae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ыл сайынғы бағаның өсуіне (3-4% шамасында) байланысты ақша массасының өсуі өндірістің өсуін ынталандыра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өндірістің іске  қослымаған факторлары көп болған сайын оның өсу  мүмкіндігі жоғары болады 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қша массасының өсуі төлем айналымын жылдамдатады, сөйтіп инвестициялық қызметті жандандыр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нфляцияның әлеуметтік - экономикалық жағымсыз жақтары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быс пен байлықтың халықтың санаулы  адамдарының қолында шоғырлану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млекеттік кәсіпорындардың бағасының нарық бағасынан төмен болу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лық жүйесі арқылы халықтың ақшалай қаражатын конфискацияға түсір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Құнсызданған ақшадан қаш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иенің қмбаттау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ның жағымсыз нәтижесінен алдымен табысы бекітілген (шектелген) тұтынушылар,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фляцияға қарама – қарсы үрдіс - дефляц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фляция нәтижесі инфляцияға қарама - қар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ІӨ тұрақты болып тұрған жағдайда бекітілген табысы бар азаматтардың табысы, басқаларға қарағанда жоғары әрқшанда жоғары. Кредиторлардың жағадайы да жақсы болад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Қорыту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оғары қарқынды инфляция жағдайында табысты қайта бөлу қағидасы экономикалық субъектілерге әсерін тигізеді : нарық агенттері, соның ішінде мемлекет,  бір – біріне сенімсіздік білдіреді. Бұл инфляция болады деген болжамды күшейтеді, инфляциялық спиральді туындатады, ал бұл экономикалық тұрақсыздық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фляцияға қарсы саяса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- нұсқ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 кейнсиандықтар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Өтімді бюджет саясат, яғни төлем қабілеті бар сұранысты туғызу үшін салық жүйесін және мемлекеттік шығындарды  тез арда дұрыс жолға сала бі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- нұсқа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монетаристер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талық банктің өтімді ақша – несие саясатын жүргізу, айналымдағы  массасын, ссудалық пайыз мөлшерлемесін ретте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ның мәні және типтер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ның түрле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ның жұмыссыздықпен байланы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лық процес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нфляциялық үрдісті реттеудегі мемлекеттің рөлі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млекет жиынтық сұранысыты азайта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млекет экономиканы тұрақтандыру саясатын жұргізед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611280" y="5516640"/>
            <a:ext cx="37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 flipV="1">
            <a:off x="611280" y="2781360"/>
            <a:ext cx="0" cy="27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 flipV="1">
            <a:off x="611280" y="2707920"/>
            <a:ext cx="280836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611280" y="3644640"/>
            <a:ext cx="3456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 flipV="1">
            <a:off x="611280" y="2852280"/>
            <a:ext cx="3529080" cy="9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1835280" y="422100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2987640" y="314172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rc 13"/>
          <p:cNvSpPr/>
          <p:nvPr/>
        </p:nvSpPr>
        <p:spPr>
          <a:xfrm>
            <a:off x="826920" y="5300640"/>
            <a:ext cx="144720" cy="2160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68436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,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49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492360" y="2492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421344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4213800" y="33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1673640" y="553716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2897280" y="55371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33728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3"/>
          <p:cNvSpPr/>
          <p:nvPr/>
        </p:nvSpPr>
        <p:spPr>
          <a:xfrm flipV="1">
            <a:off x="543564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4"/>
          <p:cNvSpPr/>
          <p:nvPr/>
        </p:nvSpPr>
        <p:spPr>
          <a:xfrm>
            <a:off x="5435640" y="551664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5"/>
          <p:cNvSpPr/>
          <p:nvPr/>
        </p:nvSpPr>
        <p:spPr>
          <a:xfrm flipV="1">
            <a:off x="5435640" y="3068640"/>
            <a:ext cx="21607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6"/>
          <p:cNvSpPr/>
          <p:nvPr/>
        </p:nvSpPr>
        <p:spPr>
          <a:xfrm flipV="1">
            <a:off x="5435640" y="4076640"/>
            <a:ext cx="288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7"/>
          <p:cNvSpPr/>
          <p:nvPr/>
        </p:nvSpPr>
        <p:spPr>
          <a:xfrm flipV="1">
            <a:off x="5435640" y="3429000"/>
            <a:ext cx="27367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8"/>
          <p:cNvSpPr/>
          <p:nvPr/>
        </p:nvSpPr>
        <p:spPr>
          <a:xfrm>
            <a:off x="622764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29"/>
          <p:cNvSpPr/>
          <p:nvPr/>
        </p:nvSpPr>
        <p:spPr>
          <a:xfrm>
            <a:off x="7020000" y="37162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rc 32"/>
          <p:cNvSpPr/>
          <p:nvPr/>
        </p:nvSpPr>
        <p:spPr>
          <a:xfrm>
            <a:off x="5435640" y="5299200"/>
            <a:ext cx="288720" cy="217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147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4"/>
          <p:cNvSpPr/>
          <p:nvPr/>
        </p:nvSpPr>
        <p:spPr>
          <a:xfrm>
            <a:off x="2484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5"/>
          <p:cNvSpPr/>
          <p:nvPr/>
        </p:nvSpPr>
        <p:spPr>
          <a:xfrm>
            <a:off x="1042920" y="51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Tw Cen MT Condensed Extra Bold"/>
              </a:rPr>
              <a:t>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6"/>
          <p:cNvSpPr/>
          <p:nvPr/>
        </p:nvSpPr>
        <p:spPr>
          <a:xfrm>
            <a:off x="5724360" y="5157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5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7"/>
          <p:cNvSpPr/>
          <p:nvPr/>
        </p:nvSpPr>
        <p:spPr>
          <a:xfrm>
            <a:off x="6787080" y="330516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8"/>
          <p:cNvSpPr/>
          <p:nvPr/>
        </p:nvSpPr>
        <p:spPr>
          <a:xfrm>
            <a:off x="7650000" y="2800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9"/>
          <p:cNvSpPr/>
          <p:nvPr/>
        </p:nvSpPr>
        <p:spPr>
          <a:xfrm>
            <a:off x="802800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8369640" y="3881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5940360" y="42210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520272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6950520" y="5445000"/>
            <a:ext cx="4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5508720" y="2852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,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8675640" y="537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-132444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нфляция – ақшаның құнсыздануынан тауарлар мен қызметтерге бағаның жалпы деңгейінің көтерілуін сипаттайтын құбылыс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фляцияның себептер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млекеттік бюджеттің тапшылығ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каның жоғарғы монополияландыру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каның макро және макродеңгейдегі сәйкестігінің бұзылу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ыртқы тауар айналысының теріс сальдос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ия көздеріне әлемдік бағаның өсу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-38736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нфляцияның байқалу формалар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507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қшаның сатып алу қабілетінің төмендеу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люта бағамының өзгеру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ие беру шарттарының өзгеруі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Қажеттілігі бірінші орындағы тауарлардың тұтыну корзинасының өсу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Инфляцияның қарқыны бойынша айырмашылықтары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 қарқын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= ағымдағы жылдағы баға деңгейі  – базистік жылдағы баға деңгейі / базистік жылдағы баға деңгейі х 100%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яу  инфляция ( жылына  10% - ға дейін)               Қарқынды (жылына  10 - 100% - ға дейін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Ұшқыр инфляция(  жылына 1000%- дан жоғары немсе ХВҚ  сараптауынша  айына 50 % жо5ары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нфляцияның айқындалу формалар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шық инфля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жиынтық ұсыныс пен жиынтық сұраныстың теңсіздігінен туындайтын және бағаның жалпы деңгейінің өсуімен айқындалатын инфля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йланған  инфляция – Үкіметтің инфляцияны тоқтату мақсатында ақша массасын қысқарту, еңбекақы, т.б. төлемдерді кешіктіру, бюджеттік ұйымдарды қаржыландыруды шектеу сияқты шаралар жүргізеді. Сонымен қатар елде тауар бағасы өседі, алып сатар нарықтар пайда болад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611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3780000" y="4724280"/>
            <a:ext cx="1512720" cy="72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нфляция типтері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83739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кономикада инфляциялық құбылыстардың шығу себептерін және оларды дамытуға ықпалын тигізетін барлық факторларды таолдай отырыып , экономистер инфляцияны сұраныс  инфляциясы және шығын инфляциясы деп екі типке бөледі.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ұраныс инфляция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йналымдағы ақшаның шекетн тыс көбеюін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уарлар мен қызметтерге жалпы сұраныстың өсуі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Шығындар инфляция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Шығарылатын өнім мен көрсетілетін қызметтің бір   өлшемінің (единица продукции ) қымбаттауына байланысты тауарлар мен қызметтердің бағасының өсуі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900000" y="3357720"/>
            <a:ext cx="309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 flipV="1">
            <a:off x="3995640" y="278100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900000" y="3357720"/>
            <a:ext cx="3095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076720" y="3429000"/>
            <a:ext cx="352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5076720" y="278136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ляцияның негізгі ішкі факторл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ізгі өндірістің (өндіру саласы) нашар дамуы, қайта өңдеу өндіріс секторының   артта қалу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Ірі корпорациялардың, фирмалардың , компаниялардың  шығындарды ескермей   баға деңгейіне монополия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нк несиелеріне  жоғары пайыздық мөлшерлем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Монетарлық факторларға көңіл бөлінбе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Инфляция көрсеткіштері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БИ (ИПЦ) – Базалық уақытпен салыстырғандағы «бекітілген тауар корзинасының» бағасының өсу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тұтыну бағасы индексі = ағымдағы жылдағы тұтыну корзинасының бағасының /базистік жылдағы тұтыну корзинасының бағасына қатынасы х 100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БИ  инфляция қарқынын, қымбатшылық динамикасын анықтауда қолданады.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БИ есептеледі мына жолдарме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спейрес индексіме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аше индексіме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шера индексім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26:46Z</dcterms:created>
  <dc:creator>кулаков</dc:creator>
  <dc:description/>
  <dc:language>en-US</dc:language>
  <cp:lastModifiedBy>User</cp:lastModifiedBy>
  <dcterms:modified xsi:type="dcterms:W3CDTF">2012-01-20T10:05:54Z</dcterms:modified>
  <cp:revision>78</cp:revision>
  <dc:subject/>
  <dc:title>Слайд 1</dc:title>
</cp:coreProperties>
</file>