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18C7D-062A-45C6-85FD-58AB0B4C7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B20F6-7617-434F-958F-AF5CBE979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9CDF9-9759-4FCD-91F0-1D2F29F5B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DD2D6-2519-43AF-876A-9BE9A7FD2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DB2ED-75DE-4736-BBBC-D3B9844F5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578F1-5D7F-43F2-A56C-9E4710E5A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6B311-B784-4D14-A59F-520ECE3D0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34E78-B450-4187-B9CE-F61E4983F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12DB3-9DD0-49D8-A30A-691BD242D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4FE0E-FA8D-47B4-831D-154253463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B13E1-9101-4DA3-B40C-D6E9FE52D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63AD-5460-4188-9B55-217F23DB7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3042-3ACA-4B32-8AE3-BBAEE027C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D:\vip\Images\Каз\160909851.jpg"/>
          <p:cNvPicPr/>
          <p:nvPr/>
        </p:nvPicPr>
        <p:blipFill>
          <a:blip r:embed="rId1"/>
          <a:stretch/>
        </p:blipFill>
        <p:spPr>
          <a:xfrm>
            <a:off x="0" y="0"/>
            <a:ext cx="9144000" cy="6858000"/>
          </a:xfrm>
          <a:prstGeom prst="rect">
            <a:avLst/>
          </a:prstGeom>
          <a:ln w="0">
            <a:noFill/>
          </a:ln>
        </p:spPr>
      </p:pic>
      <p:sp>
        <p:nvSpPr>
          <p:cNvPr id="42" name=""/>
          <p:cNvSpPr txBox="1"/>
          <p:nvPr/>
        </p:nvSpPr>
        <p:spPr>
          <a:xfrm>
            <a:off x="1258920" y="1484280"/>
            <a:ext cx="6697800" cy="233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Евровалюта</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Халықаралық экономиканың қаржылық  ортасын бағалау үшін мынадай экономикалық көрсеткіштерден хабардар болу қажет: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1)   тұрғылықты халықтың саны;</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2)   экономикалық даму сатысы;</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3)   жан басына шаққандағы;</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4)   халықтың сатып алу қабілеті;</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5)   валюталық бағамның серпіні;</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6)   инфляция деңгейі;</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7)   сыртқы қарыз көлемі;</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8)   нарық инфрақұрылымның жағдайы;</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9)   ел экономикасына шетелдіктердің ат салысу деңгей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44" name="Picture 2" descr="D:\vip\Images\Каз\1264399718_10000tenge.jpg"/>
          <p:cNvPicPr/>
          <p:nvPr/>
        </p:nvPicPr>
        <p:blipFill>
          <a:blip r:embed="rId1"/>
          <a:stretch/>
        </p:blipFill>
        <p:spPr>
          <a:xfrm>
            <a:off x="7164360" y="5373720"/>
            <a:ext cx="1979640" cy="1484280"/>
          </a:xfrm>
          <a:prstGeom prst="rect">
            <a:avLst/>
          </a:prstGeom>
          <a:ln w="0">
            <a:noFill/>
          </a:ln>
        </p:spPr>
      </p:pic>
      <p:sp>
        <p:nvSpPr>
          <p:cNvPr id="45" name="PlaceHolder 1"/>
          <p:cNvSpPr>
            <a:spLocks noGrp="1"/>
          </p:cNvSpPr>
          <p:nvPr>
            <p:ph/>
          </p:nvPr>
        </p:nvSpPr>
        <p:spPr>
          <a:xfrm>
            <a:off x="914400" y="620640"/>
            <a:ext cx="822960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Үкіметінен теңгеге шетел валютасын сатып алу;</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депозиттік, салым, шетел валюталарымен дилингтік операциялардан түсетін комиссиондык және басқа да сыйакы (мүдде) түріндегі түсімдер;</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Ұлттык Банктін монетарлык алтын, күміс, платина және пла-тина тобындағы басқа да металдармен жасалатын операиияларды жүргізуден түсетін валютадағы түсімдер;</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Ұлттык Банктін кенес беру, акпаратык - баспа және басқа да кызметтерінен түсетін шетел валюталарындағы түсімде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Евровалюта резервінін азаюы немесе жұмсалуы мынадай жолдармен іске асырылады:</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акша-несие саясатын жүргізу максатында ішкі валюталык на-рыкта валютаны сату;</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өнімдердін (кызметтердің, жүмыстардың) импортына төлеу үшінтеңгені шетел валютасына конвертация жасау, оған коса ше-телде дипломаттық және басқа да екіліттіліктерді ұстауға және іссапар шығыстарына, сондай-ак мемлекеттік бюджеттің және Қазакстан Республикасы Ұлттық Банктің сметасы есебінен сырткы қарыздарға қызмет көрсету үшін;</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басқа да шетел валютасын сатып алу үшін шетел валютасын сату;</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Ұлттык Банктің алған несиелері бойынша негізгі соманы және сыйакыны қайтару;</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құрылған провизиялар есебінен (резервтер) зиянды евровалюта активтерін шегер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
          <p:cNvSpPr/>
          <p:nvPr/>
        </p:nvSpPr>
        <p:spPr>
          <a:xfrm>
            <a:off x="0" y="2238480"/>
            <a:ext cx="52704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826920" y="1733400"/>
            <a:ext cx="52704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720800" y="625320"/>
            <a:ext cx="18072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763640" y="183240"/>
            <a:ext cx="633744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Қазақстан ұлттық банкінің жиынтық евровалюта резервтерінің құрылым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1" name=""/>
          <p:cNvGraphicFramePr/>
          <p:nvPr/>
        </p:nvGraphicFramePr>
        <p:xfrm>
          <a:off x="971640" y="836640"/>
          <a:ext cx="7343640" cy="5718240"/>
        </p:xfrm>
        <a:graphic>
          <a:graphicData uri="http://schemas.openxmlformats.org/drawingml/2006/table">
            <a:tbl>
              <a:tblPr/>
              <a:tblGrid>
                <a:gridCol w="3165480"/>
                <a:gridCol w="1050840"/>
                <a:gridCol w="907920"/>
                <a:gridCol w="1175040"/>
                <a:gridCol w="1044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мас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өрссткіштер (млн. АҚШ дол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1. 200</a:t>
                      </a:r>
                      <a:r>
                        <a:rPr b="0" lang="kk-KZ"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1. 200</a:t>
                      </a:r>
                      <a:r>
                        <a:rPr b="0" lang="kk-KZ"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1. 20</a:t>
                      </a:r>
                      <a:r>
                        <a:rPr b="0" lang="kk-KZ" sz="1400" spc="-1" strike="noStrike">
                          <a:solidFill>
                            <a:srgbClr val="000000"/>
                          </a:solidFill>
                          <a:latin typeface="Times New Roman"/>
                          <a:ea typeface="Times New Roman"/>
                        </a:rPr>
                        <a:t>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a:t>
                      </a:r>
                      <a:r>
                        <a:rPr b="0" lang="kk-KZ"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01. 20</a:t>
                      </a:r>
                      <a:r>
                        <a:rPr b="0" lang="kk-KZ"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Жалпы евровалюта резервтері, барлығ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 276,6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 069,7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 127,05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 392,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нын ішінд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 Монетарлык</a:t>
                      </a:r>
                      <a:r>
                        <a:rPr b="0" lang="kk-KZ"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лты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3,5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5,5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376,2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852,5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 Еркін айырбасталатын валютадағы және СДР-дегі активт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 473,0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 084,19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 750,8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 539,9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Қолма-кол шетел валютасы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9,4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ә)    Еркін айырбасталатын валютадағы</a:t>
                      </a:r>
                      <a:r>
                        <a:rPr b="0" lang="kk-KZ"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депозитт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092,01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9,4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 227,9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 236,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Бағалы кағаздарга кепілге берілген еркін айырбасталатын валютадағы кредит</a:t>
                      </a:r>
                      <a:r>
                        <a:rPr b="0" lang="kk-KZ" sz="1400" spc="-1" strike="noStrike">
                          <a:solidFill>
                            <a:srgbClr val="000000"/>
                          </a:solidFill>
                          <a:latin typeface="Times New Roman"/>
                          <a:ea typeface="Times New Roman"/>
                        </a:rPr>
                        <a:t>т</a:t>
                      </a:r>
                      <a:r>
                        <a:rPr b="0" lang="ru-RU" sz="1400" spc="-1" strike="noStrike">
                          <a:solidFill>
                            <a:srgbClr val="000000"/>
                          </a:solidFill>
                          <a:latin typeface="Times New Roman"/>
                          <a:ea typeface="Times New Roman"/>
                        </a:rPr>
                        <a:t>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9,9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0,8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9, 5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250,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Еркін айырбасталатын валютадағы акциялардан басқа бағалы кағазда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 836,2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 104,8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 194,7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і 7 883,7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    Қаржылык</a:t>
                      </a:r>
                      <a:r>
                        <a:rPr b="0" lang="kk-KZ"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тивтер және басқа да шотта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4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16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 </a:t>
            </a:r>
            <a:r>
              <a:rPr b="0" lang="kk-KZ" sz="3200" spc="-1" strike="noStrike">
                <a:solidFill>
                  <a:srgbClr val="000000"/>
                </a:solidFill>
                <a:latin typeface="Times New Roman"/>
              </a:rPr>
              <a:t>Халықаралық евровалюта саясаты - бұл қайтарымдылық, жеделдік және процент төлеу шарты бойынша өзге елге валюталық және тауар ресурстарының несиеге берілуін қадағалайтын саяса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620640"/>
            <a:ext cx="8229600" cy="55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 </a:t>
            </a:r>
            <a:r>
              <a:rPr b="0" lang="kk-KZ" sz="2800" spc="-1" strike="noStrike">
                <a:solidFill>
                  <a:srgbClr val="000000"/>
                </a:solidFill>
                <a:latin typeface="Times New Roman"/>
              </a:rPr>
              <a:t>Кез келген Ұлттық банктің міндеті - ұлттық ақша өлшемінің төлем қабілеттілігі мен валюталық курсының тұрлаулылығын қамтамасыз ету, банк жүйесінің өтімділігі мен тұрақтылығын, төлем жүйесінің тиімділігі мен сенімділігін қамтамасыз ету. Осы міндеттерді атқару үшін Ұлттық банк негізінен мынадай қызметтерді орындайды: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Банкноталарды монополиялы түрде эмиссиялау;</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ақша-несиелік қатынастарды реттеу;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сыртқы экономикалық қатынастарды жүргізу;</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банктердің банкісі болу;</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үкімет банкісі бол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5:35:12Z</dcterms:created>
  <dc:creator>Admin</dc:creator>
  <dc:description/>
  <dc:language>en-US</dc:language>
  <cp:lastModifiedBy>Admin</cp:lastModifiedBy>
  <dcterms:modified xsi:type="dcterms:W3CDTF">2011-10-25T05:48:46Z</dcterms:modified>
  <cp:revision>2</cp:revision>
  <dc:subject/>
  <dc:title>Слайд 1</dc:title>
</cp:coreProperties>
</file>