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A90-8E24-4303-9D22-E4568CF5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4E3-08A9-40DB-B2B5-8FFCE49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43A-86D4-4C26-B4DA-B5CB5F5E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675-50BA-41FA-903D-CCDCB0CC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865-CE01-41D0-B3A6-E1901449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26E8-F62A-4AA6-97E0-F0EE8305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7A88-8777-4091-9D39-4CA2B7C4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9FB9-2A79-4432-AF30-830FE03B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06F6-4EFD-4972-88D5-EA7872F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E150-59FE-423E-8F0A-D18A09D1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80DF-F9CE-4127-88E4-2ACAB52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7C7-EF02-47C9-AAE0-39B9D16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13DF-6B8F-4EE4-96D2-92529C3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957E-191F-4ED9-9BC9-50DF38A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FDB-26C1-46CE-8F80-7A9B0525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E392-F662-4E6D-9B79-28368E26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C62A-E708-4DD4-8934-09F91D48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23F3-549D-4092-87F0-B2726023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6A4E-14E9-4C82-A3A6-CC3EA443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1913-4876-4F1F-989D-8FFD37D9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4D5C-C965-4260-9C7A-0E92CCA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860F-1CEF-4FC2-978A-DEAA7FEB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FC5-28F1-46B6-8599-68B221A2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664C-BDF7-48DE-925C-22BF2ED7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FD1B-079C-4821-8E77-A5FDFF8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954A-4419-48DD-BE89-F6FED29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29D5-44A5-46A4-8E9D-445FD5D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7720-680A-4509-A15A-48C08FC4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3EA6-2B54-40D5-898B-A15C1EB4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B2B2-FCFB-4308-9D0A-061C986C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34ECC-C07F-4602-B7E7-B5744272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BAA5D-EF43-4EBA-8A67-2B5B991E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F2B4-213F-4124-86B4-0CA5434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378-4445-4963-B162-DB7291B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BFB1-461B-42A5-896F-8B249B9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4866-05DB-47B8-A3D6-042025FD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29FF-035A-437B-82FD-0A93D20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FDD0-C228-47F4-A815-89A5160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6E82-2020-4A40-A9C2-FF2A445B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7A39-3719-44C8-8453-A2231218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FB52-A61C-4B80-9D3E-24C4FAB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0B54-9838-4062-89D2-714BA88A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36F4-1830-4F9A-8B40-B0DF23C4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5C3D-382C-4ED2-88BD-A2E0A86A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D15-1BCC-4CD2-983E-62F99014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413B-AE31-4E96-BA3A-B85D261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35C67-54D1-40C1-99C1-9D203DB4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5484-B16E-4E10-A12C-F62801F5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94235-BA68-4F9E-BCA7-E746E81F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152CC-ED57-46F3-918C-8C5F7FD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75A6-F9A8-4496-BE65-F3BB0BE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7937-5F9B-416F-93F1-7D8A2C0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45F13-82E5-4048-9605-746406C5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70FC-0756-46CC-B852-0C9646C0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7DF2-F82F-45E9-A6E7-A9447878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786-88C6-4E08-96D5-E105996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FDD7-FC0B-499F-9EA7-5D4FCAC7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C569C-9DA0-4DF6-A497-3E318CFD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236F-7A7F-4AF3-A27E-3C455AA4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1A4C-E674-489B-971F-4E79878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2658-570A-43D3-B82E-4B0682E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7BE3-CFB0-493F-A0DD-BF7D417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C44E-8C18-462C-B646-15C2754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BE54-76EA-4DB8-8138-8193A15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EF38-6172-4103-B91C-9191DD47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9CA37-74F1-43BD-832E-E2E30FD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5F4-3F78-46A3-8DFC-F1EC0AD6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E259-01BC-4728-9DEA-2A6B6D7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2665F-3D84-45E8-99D3-C7A117C8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E65A-85C7-4709-A6CE-646ADCAE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2750-7C1D-4D16-B853-A3AEF5E6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9A599-BDB0-451D-95AF-BD02951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F561C-C5AB-4EE8-80D3-E6D5BA07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A863-5DC0-4A2B-A2A2-0E3CD9A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30BA-38B2-4593-BE7D-63D21C00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BA32-1BB1-4B81-8F7A-816D076C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F73C-2C9A-4162-A2D9-4B2F5D8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28D-7966-4164-973D-061572B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5EE7-B8B9-43B9-93F1-576F688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26AA-83B3-4E9D-B67B-E67D0B1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D40A-0C80-4733-A927-855F822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96ED-AB35-4E9B-8F09-28FDB8A8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4E26-D93E-4180-B185-B69029D8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0BB3-483E-4178-87EF-7454119C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B1B0-D9D9-4A28-A702-0B877F5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1573-A791-445B-B73E-7B8C26FE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103F-C653-45EA-A673-B22D3A5F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9BE0-C865-43D8-92D2-EE42674A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5CF-1DE7-44A0-B93C-594F0C7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49DE6-34F2-4490-AA62-D182B1E1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71E1-90DB-4499-95E4-28B58A9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1277F-067D-4B4A-B5C0-0BF2C76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FB91-DF14-48F0-A58B-343E721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7E7BB-A001-43C1-AE3A-1C3306F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9277-7A4A-4236-902D-E4EFE147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523EC-1501-476F-A883-B77333C7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D07-E1F5-4DEA-A0D6-39CB7C01929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615-D67E-4939-B2B1-12FF5A18D0A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0BE-CF4C-4D9B-9A92-7E9AC360045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ED63-2F8E-4E8C-B072-6C3B1527334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C75F-953D-415F-98E4-2CD5A5BB01C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BE66-0BAF-4DF0-869D-D30119E7CD6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EAE7-B139-4F45-8E93-6FEC2DBD6CD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0F2-A1DC-4876-8D61-30F8727F9D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8.png"/><Relationship Id="rId8" Type="http://schemas.openxmlformats.org/officeDocument/2006/relationships/slide" Target="slide5.xml"/><Relationship Id="rId9" Type="http://schemas.openxmlformats.org/officeDocument/2006/relationships/image" Target="../media/image9.png"/><Relationship Id="rId10" Type="http://schemas.openxmlformats.org/officeDocument/2006/relationships/slide" Target="slide7.xml"/><Relationship Id="rId11" Type="http://schemas.openxmlformats.org/officeDocument/2006/relationships/image" Target="../media/image8.png"/><Relationship Id="rId12" Type="http://schemas.openxmlformats.org/officeDocument/2006/relationships/slide" Target="slide6.xml"/><Relationship Id="rId13" Type="http://schemas.openxmlformats.org/officeDocument/2006/relationships/image" Target="../media/image7.png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8.xml"/><Relationship Id="rId17" Type="http://schemas.openxmlformats.org/officeDocument/2006/relationships/image" Target="../media/image9.png"/><Relationship Id="rId18" Type="http://schemas.openxmlformats.org/officeDocument/2006/relationships/slide" Target="slide11.xml"/><Relationship Id="rId19" Type="http://schemas.openxmlformats.org/officeDocument/2006/relationships/image" Target="../media/image11.png"/><Relationship Id="rId20" Type="http://schemas.openxmlformats.org/officeDocument/2006/relationships/slide" Target="slide10.xml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146160" y="1682640"/>
            <a:ext cx="8766000" cy="2822760"/>
          </a:xfrm>
          <a:prstGeom prst="rect">
            <a:avLst/>
          </a:prstGeom>
          <a:ln w="0">
            <a:noFill/>
          </a:ln>
        </p:spPr>
      </p:pic>
      <p:pic>
        <p:nvPicPr>
          <p:cNvPr id="337" name="Выноска со стрелкой вниз 2" descr=""/>
          <p:cNvPicPr/>
          <p:nvPr/>
        </p:nvPicPr>
        <p:blipFill>
          <a:blip r:embed="rId2"/>
          <a:stretch/>
        </p:blipFill>
        <p:spPr>
          <a:xfrm>
            <a:off x="3041640" y="4870440"/>
            <a:ext cx="3139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условиях долгосрочного дефицита средств необходимо…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743200" y="50292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нозировать возможную доходность вложений ан свобод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AutoShape 7"/>
          <p:cNvGrpSpPr/>
          <p:nvPr/>
        </p:nvGrpSpPr>
        <p:grpSpPr>
          <a:xfrm>
            <a:off x="8028000" y="6076800"/>
            <a:ext cx="1176480" cy="993960"/>
            <a:chOff x="8028000" y="6076800"/>
            <a:chExt cx="1176480" cy="993960"/>
          </a:xfrm>
        </p:grpSpPr>
        <p:pic>
          <p:nvPicPr>
            <p:cNvPr id="415" name="AutoShape 7" descr=""/>
            <p:cNvPicPr/>
            <p:nvPr/>
          </p:nvPicPr>
          <p:blipFill>
            <a:blip r:embed="rId1"/>
            <a:stretch/>
          </p:blipFill>
          <p:spPr>
            <a:xfrm>
              <a:off x="8028000" y="6076800"/>
              <a:ext cx="11764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8077320" y="609588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Горизонтальный свиток 5"/>
          <p:cNvGrpSpPr/>
          <p:nvPr/>
        </p:nvGrpSpPr>
        <p:grpSpPr>
          <a:xfrm>
            <a:off x="3456000" y="590400"/>
            <a:ext cx="2627280" cy="1298880"/>
            <a:chOff x="3456000" y="590400"/>
            <a:chExt cx="2627280" cy="1298880"/>
          </a:xfrm>
        </p:grpSpPr>
        <p:pic>
          <p:nvPicPr>
            <p:cNvPr id="418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3456000" y="590400"/>
              <a:ext cx="262728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619440" y="72396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долгосрочном дефиците возникает необходимость прогнозировать на несколько лет вперед возможную доходность инвестиций при их размещении на свободном рынке. Особенно трудно это делать в условиях инфляции и нестабильности экономического развития. Наиболее приемлемый выход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438280" y="5257800"/>
            <a:ext cx="52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екоторого диапазона возможных в будущем уровней доходности, чтобы принимать решения с достаточно высокой степенью наде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80773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gradFill rotWithShape="0">
            <a:gsLst>
              <a:gs pos="0">
                <a:srgbClr val="815f94"/>
              </a:gs>
              <a:gs pos="100000">
                <a:srgbClr val="815f94"/>
              </a:gs>
            </a:gsLst>
            <a:lin ang="8340000"/>
          </a:gradFill>
          <a:ln w="9360">
            <a:solidFill>
              <a:srgbClr val="755388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Горизонтальный свиток 5"/>
          <p:cNvGrpSpPr/>
          <p:nvPr/>
        </p:nvGrpSpPr>
        <p:grpSpPr>
          <a:xfrm>
            <a:off x="3456000" y="590400"/>
            <a:ext cx="2627280" cy="1298880"/>
            <a:chOff x="3456000" y="590400"/>
            <a:chExt cx="2627280" cy="1298880"/>
          </a:xfrm>
        </p:grpSpPr>
        <p:pic>
          <p:nvPicPr>
            <p:cNvPr id="424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3456000" y="590400"/>
              <a:ext cx="262728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3619440" y="72396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заимоисключающи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это конкурирующие методы достижения одной и той же цели или конкурирующие способы использования какого-то ограниченного ресурса, иного нежели день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4"/>
          <p:cNvGrpSpPr/>
          <p:nvPr/>
        </p:nvGrpSpPr>
        <p:grpSpPr>
          <a:xfrm>
            <a:off x="6480" y="841320"/>
            <a:ext cx="2869920" cy="1511280"/>
            <a:chOff x="6480" y="841320"/>
            <a:chExt cx="2869920" cy="1511280"/>
          </a:xfrm>
        </p:grpSpPr>
        <p:pic>
          <p:nvPicPr>
            <p:cNvPr id="339" name="Rectangle 4" descr=""/>
            <p:cNvPicPr/>
            <p:nvPr/>
          </p:nvPicPr>
          <p:blipFill>
            <a:blip r:embed="rId1"/>
            <a:stretch/>
          </p:blipFill>
          <p:spPr>
            <a:xfrm>
              <a:off x="6480" y="841320"/>
              <a:ext cx="28699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52280" y="914400"/>
              <a:ext cx="2438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ционирова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апита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Rectangle 5"/>
          <p:cNvGrpSpPr/>
          <p:nvPr/>
        </p:nvGrpSpPr>
        <p:grpSpPr>
          <a:xfrm>
            <a:off x="12600" y="2365200"/>
            <a:ext cx="2870280" cy="1968840"/>
            <a:chOff x="12600" y="2365200"/>
            <a:chExt cx="2870280" cy="1968840"/>
          </a:xfrm>
        </p:grpSpPr>
        <p:pic>
          <p:nvPicPr>
            <p:cNvPr id="342" name="Rectangle 5" descr=""/>
            <p:cNvPicPr/>
            <p:nvPr/>
          </p:nvPicPr>
          <p:blipFill>
            <a:blip r:embed="rId2"/>
            <a:stretch/>
          </p:blipFill>
          <p:spPr>
            <a:xfrm>
              <a:off x="12600" y="2365200"/>
              <a:ext cx="2870280" cy="19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52280" y="243828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ыбор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нвестиционны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ектов в условия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краткосрочной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граниченност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нвестиционных ресурсо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Rectangle 6"/>
          <p:cNvGrpSpPr/>
          <p:nvPr/>
        </p:nvGrpSpPr>
        <p:grpSpPr>
          <a:xfrm>
            <a:off x="0" y="4181400"/>
            <a:ext cx="2809800" cy="1981440"/>
            <a:chOff x="0" y="4181400"/>
            <a:chExt cx="2809800" cy="198144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4181400"/>
              <a:ext cx="28098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52280" y="426708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ыбор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нвестиционны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ектов в условия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олгосрочн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граниченност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нвестиционных ресурсо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7" name="AutoShap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901960" y="107316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48" name="AutoShape 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83040" y="107316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49" name="AutoShape 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784920" y="107316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50" name="AutoShape 11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83040" y="259704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51" name="AutoShape 12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901960" y="259704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52" name="AutoShape 13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901960" y="4194000"/>
            <a:ext cx="1511280" cy="1438560"/>
          </a:xfrm>
          <a:prstGeom prst="rect">
            <a:avLst/>
          </a:prstGeom>
          <a:ln w="0">
            <a:noFill/>
          </a:ln>
        </p:spPr>
      </p:pic>
      <p:pic>
        <p:nvPicPr>
          <p:cNvPr id="353" name="AutoShape 14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784920" y="259704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54" name="AutoShape 15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784920" y="4194000"/>
            <a:ext cx="1511280" cy="1438560"/>
          </a:xfrm>
          <a:prstGeom prst="rect">
            <a:avLst/>
          </a:prstGeom>
          <a:ln w="0">
            <a:noFill/>
          </a:ln>
        </p:spPr>
      </p:pic>
      <p:pic>
        <p:nvPicPr>
          <p:cNvPr id="355" name="AutoShape 16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883040" y="4194000"/>
            <a:ext cx="1511280" cy="143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процесс выбора наиболее подходящего среди нескольких прибыльных инвестиционных проектов в условиях ограниченного финансир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216600" y="487692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ционирование капит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AutoShape 9"/>
          <p:cNvGrpSpPr/>
          <p:nvPr/>
        </p:nvGrpSpPr>
        <p:grpSpPr>
          <a:xfrm>
            <a:off x="8107200" y="6151680"/>
            <a:ext cx="1176480" cy="919080"/>
            <a:chOff x="8107200" y="6151680"/>
            <a:chExt cx="1176480" cy="919080"/>
          </a:xfrm>
        </p:grpSpPr>
        <p:pic>
          <p:nvPicPr>
            <p:cNvPr id="359" name="AutoShape 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107200" y="6151680"/>
              <a:ext cx="11764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53280" y="6172200"/>
              <a:ext cx="762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Горизонтальный свиток 5"/>
          <p:cNvGrpSpPr/>
          <p:nvPr/>
        </p:nvGrpSpPr>
        <p:grpSpPr>
          <a:xfrm>
            <a:off x="3382920" y="743040"/>
            <a:ext cx="2621160" cy="1298520"/>
            <a:chOff x="3382920" y="743040"/>
            <a:chExt cx="2621160" cy="1298520"/>
          </a:xfrm>
        </p:grpSpPr>
        <p:pic>
          <p:nvPicPr>
            <p:cNvPr id="362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3382920" y="743040"/>
              <a:ext cx="262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543480" y="87624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772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екс рентабельности = Дисконтированные денежные поступления / Дисконтированные чистые инвести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ой проект является более рентабельны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895480" y="5715000"/>
            <a:ext cx="41911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екарня = 174 240 / 150 000 = 1,1616</a:t>
            </a:r>
            <a:br>
              <a:rPr sz="1100"/>
            </a:b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Завод = 895 000 / 820 000 = 1,09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Следовательно, проект «Пекарня» является более рентабельным и если средства ограничены, то лучше выбирать проект пекарня. Он дает большую отдачу на инвестиции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AutoShape 6"/>
          <p:cNvGrpSpPr/>
          <p:nvPr/>
        </p:nvGrpSpPr>
        <p:grpSpPr>
          <a:xfrm>
            <a:off x="8107200" y="6156360"/>
            <a:ext cx="1097280" cy="914400"/>
            <a:chOff x="8107200" y="6156360"/>
            <a:chExt cx="1097280" cy="914400"/>
          </a:xfrm>
        </p:grpSpPr>
        <p:pic>
          <p:nvPicPr>
            <p:cNvPr id="367" name="AutoShap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107200" y="6156360"/>
              <a:ext cx="1097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153280" y="617220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Горизонтальный свиток 6"/>
          <p:cNvGrpSpPr/>
          <p:nvPr/>
        </p:nvGrpSpPr>
        <p:grpSpPr>
          <a:xfrm>
            <a:off x="3535200" y="438120"/>
            <a:ext cx="2621160" cy="1298520"/>
            <a:chOff x="3535200" y="438120"/>
            <a:chExt cx="2621160" cy="1298520"/>
          </a:xfrm>
        </p:grpSpPr>
        <p:pic>
          <p:nvPicPr>
            <p:cNvPr id="370" name="Горизонтальный свиток 6" descr=""/>
            <p:cNvPicPr/>
            <p:nvPr/>
          </p:nvPicPr>
          <p:blipFill>
            <a:blip r:embed="rId3"/>
            <a:stretch/>
          </p:blipFill>
          <p:spPr>
            <a:xfrm>
              <a:off x="3535200" y="438120"/>
              <a:ext cx="262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695760" y="57168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2" name=""/>
          <p:cNvGraphicFramePr/>
          <p:nvPr/>
        </p:nvGraphicFramePr>
        <p:xfrm>
          <a:off x="1676520" y="1828800"/>
          <a:ext cx="6095880" cy="1828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стоящая стоимость денежных поступл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стоящая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од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ка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5 0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 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0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чи, возникающие перед экономистом-аналитиком при работе в условиях рационирования капитала, ничем не отличаются от проблем, решаемых при оценке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" action="ppaction://hlinksldjump"/>
              </a:rPr>
              <a:t>взаимоисключающих инвести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ы ли вы или нет, и почем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905120" y="5251320"/>
            <a:ext cx="61722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 нет не соглас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практике мы сталкиваемся с классической ситуацией взаимоисключающих инвестиций в том случае, если существуют реальные  физические  причины, по которым конкурирующие проекты не могут быть реализованы параллельно. Напротив, конкуренция инвестиционных проектов в условиях рационирования капитала  это конкурс на право использования одного и того же ограниченного объема именно денежных ресурсов. И это требует отдельного рассмотрения методов оценки и выбора таких проектов в подобного рода финансовой ситу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AutoShape 6"/>
          <p:cNvGrpSpPr/>
          <p:nvPr/>
        </p:nvGrpSpPr>
        <p:grpSpPr>
          <a:xfrm>
            <a:off x="8107200" y="6151680"/>
            <a:ext cx="1176480" cy="919080"/>
            <a:chOff x="8107200" y="6151680"/>
            <a:chExt cx="1176480" cy="919080"/>
          </a:xfrm>
        </p:grpSpPr>
        <p:pic>
          <p:nvPicPr>
            <p:cNvPr id="376" name="AutoShape 6" descr=""/>
            <p:cNvPicPr/>
            <p:nvPr/>
          </p:nvPicPr>
          <p:blipFill>
            <a:blip r:embed="rId2"/>
            <a:stretch/>
          </p:blipFill>
          <p:spPr>
            <a:xfrm>
              <a:off x="8107200" y="6151680"/>
              <a:ext cx="11764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8153280" y="6172200"/>
              <a:ext cx="762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Горизонтальный свиток 5"/>
          <p:cNvGrpSpPr/>
          <p:nvPr/>
        </p:nvGrpSpPr>
        <p:grpSpPr>
          <a:xfrm>
            <a:off x="3456000" y="590400"/>
            <a:ext cx="2627280" cy="1298880"/>
            <a:chOff x="3456000" y="590400"/>
            <a:chExt cx="2627280" cy="1298880"/>
          </a:xfrm>
        </p:grpSpPr>
        <p:pic>
          <p:nvPicPr>
            <p:cNvPr id="379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3456000" y="590400"/>
              <a:ext cx="262728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619440" y="72396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ой период времени охватывает краткосрочный дефици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048120" y="472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743200" y="5181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 1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Горизонтальный свиток 6"/>
          <p:cNvGrpSpPr/>
          <p:nvPr/>
        </p:nvGrpSpPr>
        <p:grpSpPr>
          <a:xfrm>
            <a:off x="3382920" y="743040"/>
            <a:ext cx="2621160" cy="1298520"/>
            <a:chOff x="3382920" y="743040"/>
            <a:chExt cx="2621160" cy="1298520"/>
          </a:xfrm>
        </p:grpSpPr>
        <p:pic>
          <p:nvPicPr>
            <p:cNvPr id="386" name="Горизонтальный свиток 6" descr=""/>
            <p:cNvPicPr/>
            <p:nvPr/>
          </p:nvPicPr>
          <p:blipFill>
            <a:blip r:embed="rId1"/>
            <a:stretch/>
          </p:blipFill>
          <p:spPr>
            <a:xfrm>
              <a:off x="3382920" y="743040"/>
              <a:ext cx="262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3543480" y="87624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итуации краткосрочного дефицита (до 1 года) фирма может вложить средства, не инвестированные в рамках рассматриваемого набора проектов, в иную сферу с доходностью не ниже стоимости собственного капитал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2971800" y="4952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AutoShape 16"/>
          <p:cNvGrpSpPr/>
          <p:nvPr/>
        </p:nvGrpSpPr>
        <p:grpSpPr>
          <a:xfrm>
            <a:off x="8083440" y="6102360"/>
            <a:ext cx="1054080" cy="822240"/>
            <a:chOff x="8083440" y="6102360"/>
            <a:chExt cx="1054080" cy="822240"/>
          </a:xfrm>
        </p:grpSpPr>
        <p:pic>
          <p:nvPicPr>
            <p:cNvPr id="391" name="AutoShape 16" descr=""/>
            <p:cNvPicPr/>
            <p:nvPr/>
          </p:nvPicPr>
          <p:blipFill>
            <a:blip r:embed="rId1"/>
            <a:stretch/>
          </p:blipFill>
          <p:spPr>
            <a:xfrm>
              <a:off x="8083440" y="6102360"/>
              <a:ext cx="10540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8153280" y="6172200"/>
              <a:ext cx="762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Горизонтальный свиток 5"/>
          <p:cNvGrpSpPr/>
          <p:nvPr/>
        </p:nvGrpSpPr>
        <p:grpSpPr>
          <a:xfrm>
            <a:off x="3382920" y="590400"/>
            <a:ext cx="2621160" cy="1298880"/>
            <a:chOff x="3382920" y="590400"/>
            <a:chExt cx="2621160" cy="1298880"/>
          </a:xfrm>
        </p:grpSpPr>
        <p:pic>
          <p:nvPicPr>
            <p:cNvPr id="394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3382920" y="590400"/>
              <a:ext cx="262116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543480" y="72396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граничении финансовых ресурсов возникает задача ……….. инвестиционного портфеля. Недостаток финансовых ресурсов может носить характер абсолютного ограничения, когда нет возможности инвестировать свыше определенной суммы и временного, когда ресурсы ограничены по периода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048120" y="52578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тимиз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AutoShape 7"/>
          <p:cNvGrpSpPr/>
          <p:nvPr/>
        </p:nvGrpSpPr>
        <p:grpSpPr>
          <a:xfrm>
            <a:off x="8107200" y="5999040"/>
            <a:ext cx="1176480" cy="998640"/>
            <a:chOff x="8107200" y="5999040"/>
            <a:chExt cx="1176480" cy="998640"/>
          </a:xfrm>
        </p:grpSpPr>
        <p:pic>
          <p:nvPicPr>
            <p:cNvPr id="399" name="AutoShape 7" descr=""/>
            <p:cNvPicPr/>
            <p:nvPr/>
          </p:nvPicPr>
          <p:blipFill>
            <a:blip r:embed="rId1"/>
            <a:stretch/>
          </p:blipFill>
          <p:spPr>
            <a:xfrm>
              <a:off x="8107200" y="5999040"/>
              <a:ext cx="11764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8153280" y="60199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Горизонтальный свиток 5"/>
          <p:cNvGrpSpPr/>
          <p:nvPr/>
        </p:nvGrpSpPr>
        <p:grpSpPr>
          <a:xfrm>
            <a:off x="3382920" y="438120"/>
            <a:ext cx="2621160" cy="1298520"/>
            <a:chOff x="3382920" y="438120"/>
            <a:chExt cx="2621160" cy="1298520"/>
          </a:xfrm>
        </p:grpSpPr>
        <p:pic>
          <p:nvPicPr>
            <p:cNvPr id="402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3382920" y="438120"/>
              <a:ext cx="262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543480" y="57168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ой большинства инвестиционных проектов является привлечение капитала через эмиссию ценных бумаг. Второй способ – через кредит, что сопровождается высокими процентными ставками и условиями по возврату креди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итуации, когда первый и второй путь невозможны, какой единственный выход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19520" y="53341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политики рационирования капит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AutoShape 7"/>
          <p:cNvGrpSpPr/>
          <p:nvPr/>
        </p:nvGrpSpPr>
        <p:grpSpPr>
          <a:xfrm>
            <a:off x="8004240" y="6022800"/>
            <a:ext cx="1054080" cy="901800"/>
            <a:chOff x="8004240" y="6022800"/>
            <a:chExt cx="1054080" cy="901800"/>
          </a:xfrm>
        </p:grpSpPr>
        <p:pic>
          <p:nvPicPr>
            <p:cNvPr id="407" name="AutoShape 7" descr=""/>
            <p:cNvPicPr/>
            <p:nvPr/>
          </p:nvPicPr>
          <p:blipFill>
            <a:blip r:embed="rId1"/>
            <a:stretch/>
          </p:blipFill>
          <p:spPr>
            <a:xfrm>
              <a:off x="8004240" y="6022800"/>
              <a:ext cx="1054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077320" y="609588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оризонтальный свиток 5"/>
          <p:cNvGrpSpPr/>
          <p:nvPr/>
        </p:nvGrpSpPr>
        <p:grpSpPr>
          <a:xfrm>
            <a:off x="3382920" y="743040"/>
            <a:ext cx="2621160" cy="1298520"/>
            <a:chOff x="3382920" y="743040"/>
            <a:chExt cx="2621160" cy="1298520"/>
          </a:xfrm>
        </p:grpSpPr>
        <p:pic>
          <p:nvPicPr>
            <p:cNvPr id="410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3382920" y="743040"/>
              <a:ext cx="262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543480" y="876240"/>
              <a:ext cx="2038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1-05-04T02:26:13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