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4A4A-1F98-4323-A7B2-134496341E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8566-3F16-429D-A560-34D36F33DC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96F1-9FA0-4D11-BE4B-049B642E2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B47A-E0D5-4CFA-B6DC-E4BFA99B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D1B7-85F8-4486-B4DB-D0B806F2B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C05F-E887-4CB4-B935-81F270A82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FA3FC-050C-4F97-9416-5F0FE47CC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C887B-84DB-4B1F-859D-BF7FAACA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70F4C-874A-4604-8829-8D7FCC6A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419B-FCCF-42AB-B819-836ABCD1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E0CE-EE6D-4FBD-A171-8D699C9F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49E44-7491-4C86-8B57-11C2FFCF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AEB1-2885-4B50-A5B7-469752D5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1698-94CD-4C79-99FE-1C661CD2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2B9F3-A6DF-434B-B185-231B1EE9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401C-1B38-4E2A-BB6B-C62E47D2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A5436-97A8-4556-B55B-EF2B3453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93B5-9C2D-44DC-BE13-9A3CB0648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A5284-737F-4EE6-BD54-788FEE2E4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5C019-526F-4514-A470-611E64106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531E4-C99D-4854-AFF9-055D5716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D62C0-A326-42C2-8031-082111D6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04DD0-F8BC-4CC6-B409-8205CC67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D9C2E-C5F4-4CF5-A4D3-0F870D55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9F87-AB78-4823-BE25-AF7D96BC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03E8C-1CCC-437C-9CC9-1D62BD35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FA289-083E-4516-A2F7-FA5A8B46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225C5-CA51-4F54-9D2C-A96FE121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FB96F-C726-42FD-AA7A-907E90B8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6F09C-75F6-49D4-95F7-6C918406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EFF09-2DD3-4E6C-AD91-6D158E5D9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C4060-4616-4E13-A423-13E6FB2CD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8629F9-F65B-47C8-93D6-10B44398A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D9A89C-1511-4E61-9069-9107E835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A26667-EF7D-46EF-A02C-C800C5D2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57A4-8497-40E3-885C-92314050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3B5440-9846-4158-8354-30C7EB39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0463A4-B2EA-41B1-8486-1700020E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4D953C-AC23-4860-8DF9-63F1C143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06D951-A71A-447E-95DB-CF1AA55B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57FEE8-6034-4A5A-955C-10655737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C2C490-96E5-44A1-81E6-48AC4C9F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47730B-2BBE-4358-A117-509DAF98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F995EE-22C9-4BF3-927E-4394A3F7A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90D8C7-437A-4FA9-B12B-9217FFA01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84F9E-E559-4074-9B00-FC8EF7589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905C-B9DC-4CE9-87AE-A41D93D7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5662D-C566-4149-8579-D5915AB9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6C61F-161C-44A3-8FC9-014729CD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7E4EC-5C80-476B-B371-1357BA9F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C210F-E877-45E6-BE89-C1CD7E74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D6B1E-55E2-48E9-ACF1-7DB4D55F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B2029-DCFF-49A3-9279-976051C3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A4F6C-143B-4ED9-BEB8-5DF8CAA3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F8B3A-735D-4066-8820-38A55F43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AFDF7-AFEF-492B-A642-B0A425EC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9141A-E045-452F-BF18-594C63A52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98C2-DB24-41B5-B3AA-1984741A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FE9FD-71E2-4493-8A70-7DED1E8ED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256C-0B42-496C-958C-2B83EED8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32A1-2842-4D63-BA54-C30B84F3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069D-05BF-4161-8330-9914F0FE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68E6-6BC0-4DB1-A99F-25DD7E268B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997A-AA28-4806-B70B-EB2A24E5FEF8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07ED-9970-450D-9DAE-C2108341E658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1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DC7D-DD14-4498-8D53-269DCCB7B1CF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1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42DD-949B-4662-84B8-8A88D74C1825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D:\РИСУНКИ\картинки\РАЗНОЕ\Деньги\dollars17.jpg"/>
          <p:cNvPicPr/>
          <p:nvPr/>
        </p:nvPicPr>
        <p:blipFill>
          <a:blip r:embed="rId1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263" name="Прямоугольник 5" descr=""/>
          <p:cNvPicPr/>
          <p:nvPr/>
        </p:nvPicPr>
        <p:blipFill>
          <a:blip r:embed="rId2"/>
          <a:stretch/>
        </p:blipFill>
        <p:spPr>
          <a:xfrm>
            <a:off x="-512640" y="-317520"/>
            <a:ext cx="10083600" cy="6877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счет сложных процен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428840" y="1571760"/>
            <a:ext cx="64008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ожный процент – это сумма дохода, которая начисляется в каждом интервале и присоединяется к основной сумме капитала и участвует в качестве базы для начисления в последующих период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2" descr="C:\Documents and Settings\Admin\Рабочий стол\идз2 инвестиции\iхх.jpeg"/>
          <p:cNvPicPr/>
          <p:nvPr/>
        </p:nvPicPr>
        <p:blipFill>
          <a:blip r:embed="rId1"/>
          <a:stretch/>
        </p:blipFill>
        <p:spPr>
          <a:xfrm>
            <a:off x="2428920" y="4429080"/>
            <a:ext cx="3714840" cy="16956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счете суммы будущей стоимости [Sc] применяется формула: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3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 = P * [1 + i] n. </a:t>
            </a:r>
            <a:br>
              <a:rPr sz="2300"/>
            </a:b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енно, сумма сложного процента определяется: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3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 = Sc – P, 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Ic – сумма сложных процентов за установленный период времени; 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– первоначальная стоимость денег; 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– количество периодов, по которым осуществляется расчет процентных платежей;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– используемая процентная ставка, выраженная в долях единицы.</a:t>
            </a:r>
            <a:br>
              <a:rPr sz="2000"/>
            </a:b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28760" y="9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дисконтированного денежного потока является основным для оценки рыночной стоимости действующих предприятий, которые и после перепродажи новым владельцам не планируется закрывать (ликвидировать)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77724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этапы оценки предприятия методом дисконтированных денежных потоков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Схема 4" descr=""/>
          <p:cNvPicPr/>
          <p:nvPr/>
        </p:nvPicPr>
        <p:blipFill>
          <a:blip r:embed="rId1"/>
          <a:stretch/>
        </p:blipFill>
        <p:spPr>
          <a:xfrm>
            <a:off x="30240" y="1639800"/>
            <a:ext cx="8454960" cy="47912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Скругленный прямоугольник 3"/>
          <p:cNvSpPr/>
          <p:nvPr/>
        </p:nvSpPr>
        <p:spPr>
          <a:xfrm>
            <a:off x="2357280" y="428760"/>
            <a:ext cx="4643640" cy="178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чет величины денежного потока для каждого года прогнозного период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4"/>
          <p:cNvSpPr/>
          <p:nvPr/>
        </p:nvSpPr>
        <p:spPr>
          <a:xfrm>
            <a:off x="214200" y="2500200"/>
            <a:ext cx="8929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ют два основных метода расчета величины потока денежных средст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Двойная стрелка влево/вправо 11"/>
          <p:cNvSpPr/>
          <p:nvPr/>
        </p:nvSpPr>
        <p:spPr>
          <a:xfrm>
            <a:off x="3786120" y="4500720"/>
            <a:ext cx="1928880" cy="785520"/>
          </a:xfrm>
          <a:prstGeom prst="leftRightArrow">
            <a:avLst>
              <a:gd name="adj1" fmla="val 50000"/>
              <a:gd name="adj2" fmla="val 5002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Скругленный прямоугольник 13"/>
          <p:cNvSpPr/>
          <p:nvPr/>
        </p:nvSpPr>
        <p:spPr>
          <a:xfrm>
            <a:off x="285840" y="3643200"/>
            <a:ext cx="3143160" cy="2714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свенный метод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ирует движение денежных средств по направлениям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Скругленный прямоугольник 14"/>
          <p:cNvSpPr/>
          <p:nvPr/>
        </p:nvSpPr>
        <p:spPr>
          <a:xfrm>
            <a:off x="5857920" y="3643200"/>
            <a:ext cx="3143160" cy="2643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Прямой мет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снован на анализе движения денежных средств по статьям прихода и расхода, то есть по бухгалтерским счета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428400" y="285480"/>
            <a:ext cx="8358120" cy="8571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txBody>
          <a:bodyPr anchor="b">
            <a:normAutofit fontScale="89000"/>
          </a:bodyPr>
          <a:p>
            <a:pPr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ценки бизнеса важны две классификации издержек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Схема 3" descr=""/>
          <p:cNvPicPr/>
          <p:nvPr/>
        </p:nvPicPr>
        <p:blipFill>
          <a:blip r:embed="rId1"/>
          <a:stretch/>
        </p:blipFill>
        <p:spPr>
          <a:xfrm>
            <a:off x="115920" y="1060560"/>
            <a:ext cx="9150480" cy="5589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71424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ая классификация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Схема 3" descr=""/>
          <p:cNvPicPr/>
          <p:nvPr/>
        </p:nvPicPr>
        <p:blipFill>
          <a:blip r:embed="rId1"/>
          <a:stretch/>
        </p:blipFill>
        <p:spPr>
          <a:xfrm>
            <a:off x="158760" y="1066680"/>
            <a:ext cx="8912160" cy="5370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</a:t>
            </a: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дисконтируя будущие денежные потоки, просто уменьшает их на величину альтернативных издержек, связанных с этими потоками. Другими словами,  вычитают из суммы доходов расходы по их получению. Обычно эти расходы не являются единственными издержками по осуществлению финансовой операции, к ним добавляются различные другие затраты, порождаемые данным решением например, комиссионные, уплачиваемые биржевому брокеру при покупке ценных бумаг, или трудовые и материальные затраты по реализации реального инвестиционного проект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4240" y="50004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28760" y="1643040"/>
            <a:ext cx="8286480" cy="4214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онятие об альтернативной стоимости инвестиционных ресурс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ременная стоимость денег и необходимость его учета в инвестиционных расчёт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Экономическое значение процентных дене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Будущая и настоящая стоимость денежных пото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28760" y="785880"/>
            <a:ext cx="822960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тернативная стоимость – стоимост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услуги, измеряемая через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р.товара или услуги, от приобретения которых мы вынуждены отказаться, причём имеется в виду наилучший товар или услу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Стрелка вниз 5"/>
          <p:cNvSpPr/>
          <p:nvPr/>
        </p:nvSpPr>
        <p:spPr>
          <a:xfrm>
            <a:off x="2643120" y="3714840"/>
            <a:ext cx="3857760" cy="2500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, 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 которого была возможность получить работу в двух 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рмах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дна из которых гарантировала ему зарплату 100 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б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час, а др.- 150 руб. в час, оставаясь дома, должен понимать, что альтернативная стоимость одного часа его досуга равна 150 руб.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актически можно сказать, что альтернативная стоимость - это стоимость неиспользованных возможносте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2" descr="C:\Documents and Settings\Admin\Рабочий стол\идз2 инвестиции\ьь.jpeg"/>
          <p:cNvPicPr/>
          <p:nvPr/>
        </p:nvPicPr>
        <p:blipFill>
          <a:blip r:embed="rId1"/>
          <a:stretch/>
        </p:blipFill>
        <p:spPr>
          <a:xfrm>
            <a:off x="2428920" y="4143240"/>
            <a:ext cx="3786120" cy="23338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8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ной стоимости денег заключается в том, что стоимость денег с течением времени изменяется с учетом нормы прибыли на финансовом рынке, в качестве которой обычно выступает норма ссудного процента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2" descr="C:\Documents and Settings\Admin\Рабочий стол\идз2 инвестиции\ллл.jpeg"/>
          <p:cNvPicPr/>
          <p:nvPr/>
        </p:nvPicPr>
        <p:blipFill>
          <a:blip r:embed="rId1"/>
          <a:stretch/>
        </p:blipFill>
        <p:spPr>
          <a:xfrm>
            <a:off x="2714760" y="4214880"/>
            <a:ext cx="3929040" cy="2286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13920" y="274320"/>
            <a:ext cx="7015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чет простых процен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785880" y="164304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й процент – это сумма дохода, которая начисляется 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 сумме капитала и может быть выплачена в каждом интервале начисления, но не участвует в дальнейших расчетах в качестве расчетной базы в последующих периодах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Стрелка вниз 7"/>
          <p:cNvSpPr/>
          <p:nvPr/>
        </p:nvSpPr>
        <p:spPr>
          <a:xfrm>
            <a:off x="2643120" y="3857760"/>
            <a:ext cx="3786120" cy="2071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78588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При расчете суммы простого процента в процессе наращивания стоимости используется следующая формула:</a:t>
            </a:r>
            <a:br>
              <a:rPr sz="2000"/>
            </a:br>
            <a:r>
              <a:rPr b="0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1" lang="ru-RU" sz="3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I = Р * n * i, </a:t>
            </a:r>
            <a:br>
              <a:rPr sz="2000"/>
            </a:br>
            <a:r>
              <a:rPr b="0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r>
              <a:rPr b="0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где I – сумма процентов за установленный период времени в целом; </a:t>
            </a:r>
            <a:br>
              <a:rPr sz="2500"/>
            </a:br>
            <a:r>
              <a:rPr b="0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Р – первоначальная [настоящая] стоимость денег; </a:t>
            </a:r>
            <a:br>
              <a:rPr sz="2500"/>
            </a:br>
            <a:r>
              <a:rPr b="0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n – количество периодов, по которым осуществляется расчет процентных платежей;</a:t>
            </a:r>
            <a:br>
              <a:rPr sz="2500"/>
            </a:br>
            <a:r>
              <a:rPr b="0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i – используемая процентная ставка, выраженная в долях единицы</a:t>
            </a:r>
            <a:br>
              <a:rPr sz="2800"/>
            </a:br>
            <a:endParaRPr b="0" lang="en-US" sz="25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p:transition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.Процентными деньгами – называют сумму доходов от предоставления денег в долг в различных форм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C:\Documents and Settings\Admin\Рабочий стол\идз2 инвестиции\iхх.jpeg"/>
          <p:cNvPicPr/>
          <p:nvPr/>
        </p:nvPicPr>
        <p:blipFill>
          <a:blip r:embed="rId1"/>
          <a:stretch/>
        </p:blipFill>
        <p:spPr>
          <a:xfrm>
            <a:off x="2857680" y="4000680"/>
            <a:ext cx="2857320" cy="1552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3840" y="857160"/>
            <a:ext cx="8643960" cy="472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Trebuchet MS"/>
              </a:rPr>
              <a:t>Простая годовая ставка процентов определяется: </a:t>
            </a:r>
            <a:br>
              <a:rPr sz="2700"/>
            </a:br>
            <a:r>
              <a:rPr b="0" lang="en-US" sz="2700" spc="-1" strike="noStrike">
                <a:solidFill>
                  <a:srgbClr val="424456"/>
                </a:solidFill>
                <a:latin typeface="Trebuchet MS"/>
              </a:rPr>
              <a:t>  </a:t>
            </a:r>
            <a:r>
              <a:rPr b="0" lang="ru-RU" sz="2700" spc="-1" strike="noStrike">
                <a:solidFill>
                  <a:srgbClr val="424456"/>
                </a:solidFill>
                <a:latin typeface="Trebuchet MS"/>
              </a:rPr>
              <a:t>                              </a:t>
            </a:r>
            <a:r>
              <a:rPr b="0" lang="en-US" sz="27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1" lang="ru-RU" sz="3400" spc="-1" strike="noStrike">
                <a:solidFill>
                  <a:srgbClr val="424456"/>
                </a:solidFill>
                <a:latin typeface="Trebuchet MS"/>
              </a:rPr>
              <a:t>і</a:t>
            </a:r>
            <a:r>
              <a:rPr b="1" lang="en-US" sz="3400" spc="-1" strike="noStrike">
                <a:solidFill>
                  <a:srgbClr val="424456"/>
                </a:solidFill>
                <a:latin typeface="Trebuchet MS"/>
              </a:rPr>
              <a:t>=</a:t>
            </a:r>
            <a:r>
              <a:rPr b="1" lang="ru-RU" sz="3400" spc="-1" strike="noStrike">
                <a:solidFill>
                  <a:srgbClr val="424456"/>
                </a:solidFill>
                <a:latin typeface="Trebuchet MS"/>
              </a:rPr>
              <a:t>ј</a:t>
            </a:r>
            <a:r>
              <a:rPr b="1" lang="en-US" sz="3400" spc="-1" strike="noStrike">
                <a:solidFill>
                  <a:srgbClr val="424456"/>
                </a:solidFill>
                <a:latin typeface="Trebuchet MS"/>
              </a:rPr>
              <a:t>r</a:t>
            </a:r>
            <a:r>
              <a:rPr b="1" lang="ru-RU" sz="3400" spc="-1" strike="noStrike">
                <a:solidFill>
                  <a:srgbClr val="424456"/>
                </a:solidFill>
                <a:latin typeface="Trebuchet MS"/>
              </a:rPr>
              <a:t>/</a:t>
            </a:r>
            <a:r>
              <a:rPr b="1" lang="en-US" sz="3400" spc="-1" strike="noStrike">
                <a:solidFill>
                  <a:srgbClr val="424456"/>
                </a:solidFill>
                <a:latin typeface="Trebuchet MS"/>
              </a:rPr>
              <a:t>P*100</a:t>
            </a:r>
            <a:br>
              <a:rPr sz="2700"/>
            </a:br>
            <a:r>
              <a:rPr b="0" lang="ru-RU" sz="3200" spc="-1" strike="noStrike">
                <a:solidFill>
                  <a:srgbClr val="424456"/>
                </a:solidFill>
                <a:latin typeface="Trebuchet MS"/>
              </a:rPr>
              <a:t>где, </a:t>
            </a:r>
            <a:br>
              <a:rPr sz="3200"/>
            </a:b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ј</a:t>
            </a:r>
            <a:r>
              <a:rPr b="1" lang="en-US" sz="3600" spc="-1" strike="noStrike">
                <a:solidFill>
                  <a:srgbClr val="424456"/>
                </a:solidFill>
                <a:latin typeface="Trebuchet MS"/>
              </a:rPr>
              <a:t>r</a:t>
            </a: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 – </a:t>
            </a:r>
            <a:r>
              <a:rPr b="0" lang="ru-RU" sz="3200" spc="-1" strike="noStrike">
                <a:solidFill>
                  <a:srgbClr val="424456"/>
                </a:solidFill>
                <a:latin typeface="Trebuchet MS"/>
              </a:rPr>
              <a:t>сумма процентных денег, выплачиваемая за год</a:t>
            </a:r>
            <a:br>
              <a:rPr sz="3200"/>
            </a:br>
            <a:r>
              <a:rPr b="1" lang="en-US" sz="4300" spc="-1" strike="noStrike">
                <a:solidFill>
                  <a:srgbClr val="424456"/>
                </a:solidFill>
                <a:latin typeface="Trebuchet MS"/>
              </a:rPr>
              <a:t>p</a:t>
            </a: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-</a:t>
            </a:r>
            <a:r>
              <a:rPr b="0" lang="ru-RU" sz="3200" spc="-1" strike="noStrike">
                <a:solidFill>
                  <a:srgbClr val="424456"/>
                </a:solidFill>
                <a:latin typeface="Trebuchet MS"/>
              </a:rPr>
              <a:t>первоначальная сумма долга</a:t>
            </a:r>
            <a:br>
              <a:rPr sz="3600"/>
            </a:br>
            <a:br>
              <a:rPr sz="3600"/>
            </a:b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4T15:24:57Z</dcterms:created>
  <dc:creator>Admin</dc:creator>
  <dc:description/>
  <dc:language>en-US</dc:language>
  <cp:lastModifiedBy>Admin</cp:lastModifiedBy>
  <dcterms:modified xsi:type="dcterms:W3CDTF">2011-04-27T12:48:43Z</dcterms:modified>
  <cp:revision>27</cp:revision>
  <dc:subject/>
  <dc:title>Слайд 1</dc:title>
</cp:coreProperties>
</file>