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802-166A-491A-B5EE-AA2A606E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66D-1B4A-4C98-8047-340BEB04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754-48B1-4CA5-9639-1F1D3768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B9A-F821-45B0-AB84-783B8F7E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2E35-1F7F-42C1-AA7C-EBA58C0C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0F25-8649-475E-BE48-52E09996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B233-3EC4-4C05-B8CE-97839F65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A856-7DB3-4E94-9B95-58C8D755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C432-4A21-47BA-9C39-74341025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D7CB-EC45-47B5-97AC-4A2FCD9B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EEAD-9489-4D75-BFFC-09815295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BA8-69B7-49B0-91A0-334EB5B3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DD51-AF05-428B-A6FB-0CBB84F9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E456-864A-4D85-B5AF-A8D6F086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B3EE-79CF-453A-8A49-05DD63A3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61FE-502D-459B-B62B-37AF56D9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10F0-F647-4782-8CB6-B635BE2C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178-23AE-49D6-A74F-0962C6E7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C12-6637-4E59-B97F-55B1F0E9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CE7-9E42-41A6-B5B6-6B6F5F92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891-A0B0-4766-A398-19F2EEEA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8C6-CA7D-4D97-9BD5-AB1E2317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00F-491D-4483-9D77-824417C3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E0B-E30B-4513-8538-6A6F7D36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32F3-DD53-47B4-B10A-342DC66553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49B1-45F5-427B-B08F-1A35252E67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24000" y="333360"/>
            <a:ext cx="51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Анализ и оценка инвестиционной привлекательности предприят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64090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105264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981000"/>
            <a:ext cx="77058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лиз   финансового   состояния   предприятия  включает в себя  анализ  бухгалтерских балансов  и  отчетов о  финансовых  результатах работы оцениваемого  предприятия  за прошедшие периоды для выявления тенденций в его деятельности  и  определения основных  финансовых  показател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3" descr="24937-Red-Increase-Arrow-Over-A-Bar-Graph-Made-Of-Gold-Coins-Over-White-Poster-Art-Print.jpg"/>
          <p:cNvPicPr/>
          <p:nvPr/>
        </p:nvPicPr>
        <p:blipFill>
          <a:blip r:embed="rId1"/>
          <a:stretch/>
        </p:blipFill>
        <p:spPr>
          <a:xfrm>
            <a:off x="4427640" y="3095640"/>
            <a:ext cx="44352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971640" y="476280"/>
            <a:ext cx="7848360" cy="1549800"/>
            <a:chOff x="971640" y="476280"/>
            <a:chExt cx="7848360" cy="1549800"/>
          </a:xfrm>
        </p:grpSpPr>
        <p:sp>
          <p:nvSpPr>
            <p:cNvPr id="123" name=""/>
            <p:cNvSpPr/>
            <p:nvPr/>
          </p:nvSpPr>
          <p:spPr>
            <a:xfrm>
              <a:off x="971640" y="476280"/>
              <a:ext cx="7848360" cy="1224000"/>
            </a:xfrm>
            <a:prstGeom prst="ellipse">
              <a:avLst/>
            </a:prstGeom>
            <a:solidFill>
              <a:srgbClr val="cd0ba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79640" y="691920"/>
              <a:ext cx="59050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Анализ   финансового   состояния   предприятия  предполагает следующие этапы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195640" y="1557360"/>
            <a:ext cx="215640" cy="1511280"/>
          </a:xfrm>
          <a:prstGeom prst="downArrow">
            <a:avLst>
              <a:gd name="adj1" fmla="val 50000"/>
              <a:gd name="adj2" fmla="val 175209"/>
            </a:avLst>
          </a:prstGeom>
          <a:solidFill>
            <a:srgbClr val="cd0ba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700280"/>
            <a:ext cx="215640" cy="3241440"/>
          </a:xfrm>
          <a:prstGeom prst="downArrow">
            <a:avLst>
              <a:gd name="adj1" fmla="val 50000"/>
              <a:gd name="adj2" fmla="val 375793"/>
            </a:avLst>
          </a:prstGeom>
          <a:solidFill>
            <a:srgbClr val="cd0ba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1557360"/>
            <a:ext cx="215640" cy="1511280"/>
          </a:xfrm>
          <a:prstGeom prst="downArrow">
            <a:avLst>
              <a:gd name="adj1" fmla="val 50000"/>
              <a:gd name="adj2" fmla="val 175209"/>
            </a:avLst>
          </a:prstGeom>
          <a:solidFill>
            <a:srgbClr val="cd0ba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3284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26920" y="3068640"/>
            <a:ext cx="2951280" cy="1152360"/>
            <a:chOff x="826920" y="3068640"/>
            <a:chExt cx="2951280" cy="1152360"/>
          </a:xfrm>
        </p:grpSpPr>
        <p:sp>
          <p:nvSpPr>
            <p:cNvPr id="130" name=""/>
            <p:cNvSpPr/>
            <p:nvPr/>
          </p:nvSpPr>
          <p:spPr>
            <a:xfrm>
              <a:off x="826920" y="3068640"/>
              <a:ext cx="2951280" cy="1152360"/>
            </a:xfrm>
            <a:prstGeom prst="ellipse">
              <a:avLst/>
            </a:prstGeom>
            <a:solidFill>
              <a:srgbClr val="cd0ba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3240" y="3139920"/>
              <a:ext cx="264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Анализ  имущественного полож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19640" y="4941720"/>
            <a:ext cx="2879640" cy="1079640"/>
            <a:chOff x="3419640" y="4941720"/>
            <a:chExt cx="2879640" cy="1079640"/>
          </a:xfrm>
        </p:grpSpPr>
        <p:sp>
          <p:nvSpPr>
            <p:cNvPr id="133" name=""/>
            <p:cNvSpPr/>
            <p:nvPr/>
          </p:nvSpPr>
          <p:spPr>
            <a:xfrm>
              <a:off x="3419640" y="4941720"/>
              <a:ext cx="2879640" cy="1079640"/>
            </a:xfrm>
            <a:prstGeom prst="ellipse">
              <a:avLst/>
            </a:prstGeom>
            <a:solidFill>
              <a:srgbClr val="cd0ba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35640" y="4941720"/>
              <a:ext cx="2519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Анализ   финансовых  результат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67280" y="2997360"/>
            <a:ext cx="2737080" cy="1405440"/>
            <a:chOff x="5867280" y="2997360"/>
            <a:chExt cx="2737080" cy="1405440"/>
          </a:xfrm>
        </p:grpSpPr>
        <p:sp>
          <p:nvSpPr>
            <p:cNvPr id="136" name=""/>
            <p:cNvSpPr/>
            <p:nvPr/>
          </p:nvSpPr>
          <p:spPr>
            <a:xfrm>
              <a:off x="5867280" y="2997360"/>
              <a:ext cx="2737080" cy="1079280"/>
            </a:xfrm>
            <a:prstGeom prst="ellipse">
              <a:avLst/>
            </a:prstGeom>
            <a:solidFill>
              <a:srgbClr val="cd0ba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2000" y="3068640"/>
              <a:ext cx="223200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Анализ   финансового   состоя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26920" y="836640"/>
            <a:ext cx="77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нимая решение о размещении средств, инвестору предстоит оценить множество факторов, определяющих эффективность будущих инвестиций. Учитывая широкий диапазон вариантов сочетания различных значений этих факторов, инвестору приходится оценивать совокупное влияние и результаты взаимодействия этих факторов, т.е. оценивать инвестиционную привлекательность социально-экономической системы и на ее основе принимать решение о вложении сред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46544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71640" y="62064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907920"/>
            <a:ext cx="856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этому возникает необходимость количественной идентификации состояния инвестиционной привлекательности, при чем следует учесть, что для принятия инвестиционных решений показатель, характеризующий состояние инвестиционной привлекательности предприятия, должен иметь экономический смысл и быть сопоставимым с ценой капитала инвестора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21081600">
            <a:off x="3348000" y="3284640"/>
            <a:ext cx="432108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90792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907920"/>
            <a:ext cx="748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троенная с учетом этих требований методика оценки инвестиционной привлекательности предприятий позволит обеспечить инвесторам качественный и обоснованный выбор объекта вложения капитала, контролировать эффективность инвестиций и корректировать процесс реализации инвестиционных проектов и программ в случае неблагоприятной ситу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2781360"/>
            <a:ext cx="3517920" cy="35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6920" y="6206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вестиционная привлекательность предприятия зависит как от внешних факторов, характеризующих уровень развития отрасли и региона расположения рассматриваемого предприятия, так и от внутренних факторов – деятельности внутри предприятия. Потенциальный инвестор, оценив и выбрав регион и отрасль, определяет объект инвестирования, который, в свою очередь, способен увеличить инвестированные средства, компенсировать риск, инфляцию и отказ от потребления в настоящи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067280" y="3716280"/>
            <a:ext cx="3578040" cy="26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42920" y="2602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Содержимое 3" descr="iStock_000003550102Small1.jpg"/>
          <p:cNvPicPr/>
          <p:nvPr/>
        </p:nvPicPr>
        <p:blipFill>
          <a:blip r:embed="rId1"/>
          <a:stretch/>
        </p:blipFill>
        <p:spPr>
          <a:xfrm>
            <a:off x="4716360" y="5373720"/>
            <a:ext cx="3862440" cy="1484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40000" y="620640"/>
            <a:ext cx="4464000" cy="765360"/>
          </a:xfrm>
          <a:prstGeom prst="roundRect">
            <a:avLst>
              <a:gd name="adj" fmla="val 16667"/>
            </a:avLst>
          </a:prstGeom>
          <a:solidFill>
            <a:srgbClr val="dd4f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нвестиционные рис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1413000"/>
            <a:ext cx="71928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4f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1413000"/>
            <a:ext cx="71928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4f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0920" y="1989000"/>
            <a:ext cx="3673440" cy="3384720"/>
            <a:chOff x="250920" y="1989000"/>
            <a:chExt cx="3673440" cy="3384720"/>
          </a:xfrm>
        </p:grpSpPr>
        <p:sp>
          <p:nvSpPr>
            <p:cNvPr id="154" name=""/>
            <p:cNvSpPr/>
            <p:nvPr/>
          </p:nvSpPr>
          <p:spPr>
            <a:xfrm>
              <a:off x="250920" y="1989000"/>
              <a:ext cx="3673440" cy="3384720"/>
            </a:xfrm>
            <a:prstGeom prst="roundRect">
              <a:avLst>
                <a:gd name="adj" fmla="val 16667"/>
              </a:avLst>
            </a:prstGeom>
            <a:solidFill>
              <a:srgbClr val="dd4f2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8360" y="2133360"/>
              <a:ext cx="3168720" cy="3111480"/>
            </a:xfrm>
            <a:prstGeom prst="rect">
              <a:avLst/>
            </a:prstGeom>
            <a:solidFill>
              <a:srgbClr val="dd4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Риск упущенной выгоды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- это риск наступления косвенного (побочного) финансового ущерба (неполученная прибыль) в результате неосуществления какого-либо мероприятия (например, страхование, хеджирование, инвестирование и т.п.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364000" y="1989000"/>
            <a:ext cx="3311640" cy="3095640"/>
            <a:chOff x="5364000" y="1989000"/>
            <a:chExt cx="3311640" cy="3095640"/>
          </a:xfrm>
        </p:grpSpPr>
        <p:sp>
          <p:nvSpPr>
            <p:cNvPr id="157" name=""/>
            <p:cNvSpPr/>
            <p:nvPr/>
          </p:nvSpPr>
          <p:spPr>
            <a:xfrm>
              <a:off x="5364000" y="1989000"/>
              <a:ext cx="3311640" cy="3095640"/>
            </a:xfrm>
            <a:prstGeom prst="roundRect">
              <a:avLst>
                <a:gd name="adj" fmla="val 16667"/>
              </a:avLst>
            </a:prstGeom>
            <a:solidFill>
              <a:srgbClr val="dd4f2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51640" y="2133720"/>
              <a:ext cx="2663640" cy="2837160"/>
            </a:xfrm>
            <a:prstGeom prst="rect">
              <a:avLst/>
            </a:prstGeom>
            <a:solidFill>
              <a:srgbClr val="dd4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Риск снижение доходности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может возникнуть в результате уменьшения размера процентов и дивидендов по портфельным инвестициям, по вкладам и кредитам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90792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приятия со средней инвестиционной привлекательностью отличаются активной маркетинговой политикой, направленной на эффективное использование имеющегося потенциала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приятия с инвестиционной привлекательностью ниже среднего характеризуются низкими возможностями приращения капитала, что связано, прежде всего, с неэффективным использованием имеющегося производственного потенциала и рыночных возможнос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51280" y="3645000"/>
            <a:ext cx="50418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87280" y="836640"/>
            <a:ext cx="741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дприятия с низкой инвестиционной привлекательностью можно считать непривлекательными, поскольку вложенный капитал не прирастает, а лишь выступает в качестве временного источника поддержания жизнеспособности, не определяя экономического роста предприя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Рисунок 3" descr="20061224945110.website-marketing.gif"/>
          <p:cNvPicPr/>
          <p:nvPr/>
        </p:nvPicPr>
        <p:blipFill>
          <a:blip r:embed="rId1"/>
          <a:stretch/>
        </p:blipFill>
        <p:spPr>
          <a:xfrm rot="20982000">
            <a:off x="4067280" y="3500280"/>
            <a:ext cx="485928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620640"/>
            <a:ext cx="381636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нвестиционные   ресурсы  представляют собой часть совокупных финансовых  ресурсов   предприятия, направляемых им для осуществления вложений в объекты реального  и  финансового инвестир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ормируемые предприятием инвестиционные ресурсы классифицируются по многим признакам, основные из которых приведены на рис.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Рисунок 3" descr="82135-Rich-Cartoon-Businessman-Looking-Across-A-Divide-At-A-Single-Dollar-Poster-Art-Print.jpg"/>
          <p:cNvPicPr/>
          <p:nvPr/>
        </p:nvPicPr>
        <p:blipFill>
          <a:blip r:embed="rId1"/>
          <a:stretch/>
        </p:blipFill>
        <p:spPr>
          <a:xfrm>
            <a:off x="5003640" y="476280"/>
            <a:ext cx="387828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2920" y="476280"/>
            <a:ext cx="727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нятие «инвестиционная привлекательность» все еще остается предметом научных дискуссий. С позиций инвесторов, инвестиционная привлекательность предприятия - это система количественных и качественных факторов, характеризующая платежеспособный спрос предприятия на инвести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64000" y="2924280"/>
            <a:ext cx="533556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340000" y="333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унок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4516560" cy="56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360" y="620640"/>
            <a:ext cx="61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42920" y="549360"/>
            <a:ext cx="6985080" cy="1224000"/>
            <a:chOff x="1042920" y="549360"/>
            <a:chExt cx="6985080" cy="1224000"/>
          </a:xfrm>
        </p:grpSpPr>
        <p:sp>
          <p:nvSpPr>
            <p:cNvPr id="169" name=""/>
            <p:cNvSpPr/>
            <p:nvPr/>
          </p:nvSpPr>
          <p:spPr>
            <a:xfrm>
              <a:off x="1042920" y="549360"/>
              <a:ext cx="6985080" cy="1224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47640" y="907920"/>
              <a:ext cx="6120000" cy="862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Анализ  по балансу проводится с помощью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9280" y="2133720"/>
            <a:ext cx="2592360" cy="3240000"/>
            <a:chOff x="179280" y="2133720"/>
            <a:chExt cx="2592360" cy="3240000"/>
          </a:xfrm>
        </p:grpSpPr>
        <p:sp>
          <p:nvSpPr>
            <p:cNvPr id="172" name=""/>
            <p:cNvSpPr/>
            <p:nvPr/>
          </p:nvSpPr>
          <p:spPr>
            <a:xfrm>
              <a:off x="179280" y="2133720"/>
              <a:ext cx="2592360" cy="3240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80" y="2349360"/>
              <a:ext cx="2303640" cy="228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анализ  непосредственно по балансу без предварительного изменения состава балансовых стат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276720" y="2133720"/>
            <a:ext cx="2592360" cy="3240000"/>
            <a:chOff x="3276720" y="2133720"/>
            <a:chExt cx="2592360" cy="3240000"/>
          </a:xfrm>
        </p:grpSpPr>
        <p:sp>
          <p:nvSpPr>
            <p:cNvPr id="175" name=""/>
            <p:cNvSpPr/>
            <p:nvPr/>
          </p:nvSpPr>
          <p:spPr>
            <a:xfrm>
              <a:off x="3276720" y="2133720"/>
              <a:ext cx="2592360" cy="3240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6720" y="2349360"/>
              <a:ext cx="2519280" cy="28371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остроение уплотненного сравнительного аналитического баланса путем агрегирования некоторых однородных по составу элементов балансовых стат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372360" y="242100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372360" y="2133720"/>
            <a:ext cx="2592360" cy="3225600"/>
            <a:chOff x="6372360" y="2133720"/>
            <a:chExt cx="2592360" cy="3225600"/>
          </a:xfrm>
        </p:grpSpPr>
        <p:sp>
          <p:nvSpPr>
            <p:cNvPr id="179" name=""/>
            <p:cNvSpPr/>
            <p:nvPr/>
          </p:nvSpPr>
          <p:spPr>
            <a:xfrm>
              <a:off x="6372360" y="2133720"/>
              <a:ext cx="2592360" cy="32256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72360" y="2201400"/>
              <a:ext cx="2449440" cy="31114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оведение дополнительной корректировки баланса на индекс инфляции с последующим агрегированием статей в необходимых аналитических разреза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619280" y="177336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177336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177336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549360"/>
            <a:ext cx="756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того, чтобы получить надежную информацию для разработки стратегии инвестирования, необходим системный подход к изучению конъюнктуры инвестиционного рынка, начиная с макроуровня (от инвестиционного климата государства) и заканчивая микроуровнем (оценкой инвестиционной привлекательности отдельного инвестиционного проекта)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48360" y="3500280"/>
            <a:ext cx="3600360" cy="28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907920"/>
            <a:ext cx="75596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скольку инвестор осуществляет процедуру инвестирования непосредственно с предприятием как юридическим лицом, то его кроме эффективности инвестиционного проекта не в меньшей степени интересует инвестиционная привлекательность всего предприятия, реализующего этот проек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4238640" cy="319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907920"/>
            <a:ext cx="756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овременно инвестором рассматривается принадлежность предприятия к отрасли (развивающие или депрессивные отрасли) и его территориальное расположение. Отрасли и территории, в свою очередь, имеют собственные уровни инвестиционной привлекательности, которые включают в себя инвестиционную привлекательность предприятий и прое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3" descr="6a010536583aff970b01053660d3f6970c.jpg"/>
          <p:cNvPicPr/>
          <p:nvPr/>
        </p:nvPicPr>
        <p:blipFill>
          <a:blip r:embed="rId1"/>
          <a:stretch/>
        </p:blipFill>
        <p:spPr>
          <a:xfrm>
            <a:off x="4140360" y="3429000"/>
            <a:ext cx="4103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33336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90792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им образом, каждый объект инвестиционного рынка обладает собственной инвестиционной привлекательностью и одновременно находится в «инвестиционном поле» всех объектов инвестиционного рынка. Инвестиционная привлекательность предприятия кроме своего «инвестиционного поля» испытывает инвестиционного воздействие отрасли, региона и государства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3" descr="24824_2.jpg"/>
          <p:cNvPicPr/>
          <p:nvPr/>
        </p:nvPicPr>
        <p:blipFill>
          <a:blip r:embed="rId1"/>
          <a:stretch/>
        </p:blipFill>
        <p:spPr>
          <a:xfrm rot="20946600">
            <a:off x="2997000" y="3537000"/>
            <a:ext cx="4392360" cy="29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620640"/>
            <a:ext cx="7632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лиз   финансового   состояния   предприятия  является одним из ключевых моментов его  оценки , так как служит основой понимания истинного положения  предприятия.  Финансовый   анализ  это процесс исследования  и   оценки   предприятия  с целью выработки наиболее обоснованных решений по его дальнейшему развитию  и  пониманию его текущего  состояния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3" descr="1282108483_bed-4.jpg"/>
          <p:cNvPicPr/>
          <p:nvPr/>
        </p:nvPicPr>
        <p:blipFill>
          <a:blip r:embed="rId1"/>
          <a:stretch/>
        </p:blipFill>
        <p:spPr>
          <a:xfrm>
            <a:off x="2411280" y="3213000"/>
            <a:ext cx="52387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907920"/>
            <a:ext cx="7490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о характеризуется обеспеченностью  финансовыми  ресурсами, необходимыми для нормального функционирования  предприятия , целесообразностью их размещения  и  эффективностью использования,  финансовыми  взаимоотношениями с другими юридическими  и  физическими лицами, платежеспособностью  и   финансовой  устойчивостью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Рисунок 4" descr="671865_f520.jpg"/>
          <p:cNvPicPr/>
          <p:nvPr/>
        </p:nvPicPr>
        <p:blipFill>
          <a:blip r:embed="rId1"/>
          <a:stretch/>
        </p:blipFill>
        <p:spPr>
          <a:xfrm>
            <a:off x="2843280" y="3232080"/>
            <a:ext cx="32623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620640"/>
            <a:ext cx="7920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ы  финансового   анализа  непосредственно влияют на выбор методов  оценки , прогнозирование доходов  и  расходов  предприятия , на определение ставки дисконта, применяемой в методе дисконтированных денежных потоков, на величину мультипликатора, используемого в сравнительном подход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13680" y="3281760"/>
            <a:ext cx="8149320" cy="3075120"/>
            <a:chOff x="913680" y="3281760"/>
            <a:chExt cx="8149320" cy="3075120"/>
          </a:xfrm>
        </p:grpSpPr>
        <p:pic>
          <p:nvPicPr>
            <p:cNvPr id="116" name="Рисунок 3" descr="6a00d8345636a269e200e54f32d4c88834-800wi.jpg"/>
            <p:cNvPicPr/>
            <p:nvPr/>
          </p:nvPicPr>
          <p:blipFill>
            <a:blip r:embed="rId1"/>
            <a:stretch/>
          </p:blipFill>
          <p:spPr>
            <a:xfrm rot="20995800">
              <a:off x="5319720" y="3573000"/>
              <a:ext cx="3552840" cy="24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Рисунок 4" descr="4abe8c96-10f4-3972-6f6b-d6d17f91ac0b.jpeg"/>
            <p:cNvPicPr/>
            <p:nvPr/>
          </p:nvPicPr>
          <p:blipFill>
            <a:blip r:embed="rId2"/>
            <a:stretch/>
          </p:blipFill>
          <p:spPr>
            <a:xfrm rot="1015800">
              <a:off x="3588840" y="3898800"/>
              <a:ext cx="207792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Рисунок 5" descr="akcijos.jpg"/>
            <p:cNvPicPr/>
            <p:nvPr/>
          </p:nvPicPr>
          <p:blipFill>
            <a:blip r:embed="rId3"/>
            <a:stretch/>
          </p:blipFill>
          <p:spPr>
            <a:xfrm rot="20382600">
              <a:off x="1115640" y="4290840"/>
              <a:ext cx="2388960" cy="159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8:53:02Z</dcterms:created>
  <dc:creator>kz</dc:creator>
  <dc:description/>
  <dc:language>en-US</dc:language>
  <cp:lastModifiedBy>kz</cp:lastModifiedBy>
  <dcterms:modified xsi:type="dcterms:W3CDTF">2011-04-14T13:40:01Z</dcterms:modified>
  <cp:revision>4</cp:revision>
  <dc:subject/>
  <dc:title>Слайд 1</dc:title>
</cp:coreProperties>
</file>