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99B6-CBAB-4BB1-B41F-FA01DDC5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B05E-49A3-4A6F-9DFE-9FB9B8B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38C8-4661-403C-BC4B-4FD4229D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4F05-29E2-46D8-8C88-74B7E5DC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0EA-8353-469E-80E2-45404581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39E-4370-4992-AFB7-F4F5F2F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518-9A06-4636-8DB0-6EB5A50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A19-7C55-46D2-B744-601161B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F6F7-6A1B-4976-B46D-760014B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D46-066C-4B31-A148-41E72C44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B13-E515-4DAA-903A-DEAE823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4FDA-B222-45E9-B572-78D5A21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FD5-9AF4-4BA5-9008-B627858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EBB-86F1-4001-A8B2-FE9EF97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2F0-ECFF-4F63-AE42-D95F460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533-F0CA-4C92-BB26-C9A897AD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B727-0825-491A-9854-D28D24AA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6D66-4194-473F-AA1A-6A87525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9451-5960-40A0-BD84-6AABC23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FAC6-D4BF-480D-89D5-2650FECC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042B-F8F5-43EA-AA92-622A6D6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C6F0-35DD-4A96-BCE9-A73335E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2F0E-269C-4F12-9313-392505E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2A13-0938-43F2-A2DB-C7AE47E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B16-93B9-4FB7-9D89-3E367EDA9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e88b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e88b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7da7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86b3"/>
                  </a:gs>
                  <a:gs pos="100000">
                    <a:srgbClr val="ff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82ad"/>
                </a:gs>
                <a:gs pos="100000">
                  <a:srgbClr val="ff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fc96e9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99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99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e88b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e88b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7da7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86b3"/>
                  </a:gs>
                  <a:gs pos="100000">
                    <a:srgbClr val="ff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82ad"/>
                </a:gs>
                <a:gs pos="100000">
                  <a:srgbClr val="ff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fc96e9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99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99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484-30E1-437C-9E80-7B568029E723}" type="slidenum">
              <a:rPr b="0" lang="ru-RU" sz="1200" spc="-1" strike="noStrike">
                <a:solidFill>
                  <a:srgbClr val="99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3e9c"/>
                </a:solidFill>
                <a:latin typeface="Times New Roman"/>
              </a:rPr>
              <a:t>МАКРОЭКОНОМИЧЕСКИЕ ПАРАМЕТРЫ ОЦЕНКИ ИНВЕСТИЦИОННОЙ СИТУАЦИ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1" descr="n035_vesi"/>
          <p:cNvPicPr/>
          <p:nvPr/>
        </p:nvPicPr>
        <p:blipFill>
          <a:blip r:embed="rId1"/>
          <a:stretch/>
        </p:blipFill>
        <p:spPr>
          <a:xfrm>
            <a:off x="2050920" y="3068640"/>
            <a:ext cx="5079960" cy="357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4"/>
          <p:cNvSpPr/>
          <p:nvPr/>
        </p:nvSpPr>
        <p:spPr>
          <a:xfrm>
            <a:off x="1692360" y="404640"/>
            <a:ext cx="5111640" cy="35290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Макроэкономические показатели - это основные индикаторы экономики, с помощью которых можно определить какая фаза сейчас - рост или упадок.</a:t>
            </a:r>
            <a:r>
              <a:rPr b="1" lang="ru-RU" sz="1200" spc="-1" strike="noStrike">
                <a:solidFill>
                  <a:srgbClr val="813e9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24000" y="5013360"/>
            <a:ext cx="3671640" cy="1224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13e9c"/>
                </a:solidFill>
                <a:latin typeface="Times New Roman"/>
              </a:rPr>
              <a:t>качественные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932360" y="5013360"/>
            <a:ext cx="3672000" cy="1224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13e9c"/>
                </a:solidFill>
                <a:latin typeface="Times New Roman"/>
              </a:rPr>
              <a:t>количественные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 flipH="1">
            <a:off x="2410920" y="3716280"/>
            <a:ext cx="576360" cy="1297080"/>
          </a:xfrm>
          <a:prstGeom prst="line">
            <a:avLst/>
          </a:prstGeom>
          <a:ln w="9360">
            <a:solidFill>
              <a:srgbClr val="140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5435640" y="3716280"/>
            <a:ext cx="792000" cy="1297080"/>
          </a:xfrm>
          <a:prstGeom prst="line">
            <a:avLst/>
          </a:prstGeom>
          <a:ln w="9360">
            <a:solidFill>
              <a:srgbClr val="140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Общепринятой </a:t>
            </a:r>
            <a:r>
              <a:rPr b="1" i="1" lang="ru-RU" sz="2600" spc="-1" strike="noStrike">
                <a:solidFill>
                  <a:srgbClr val="813e9c"/>
                </a:solidFill>
                <a:latin typeface="Times New Roman"/>
              </a:rPr>
              <a:t>количественной мерой</a:t>
            </a: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 экономического </a:t>
            </a:r>
            <a:r>
              <a:rPr b="0" lang="en-US" sz="26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роста являются показатели абсолютного прироста или темпов прироста реального объема выпуска в целом или на душу населения. </a:t>
            </a:r>
            <a:r>
              <a:rPr b="0" lang="en-US" sz="26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Кроме общих показателей экономического роста (ВВП и </a:t>
            </a:r>
            <a:r>
              <a:rPr b="0" lang="en-US" sz="26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ВВП на душу населения) используют </a:t>
            </a:r>
            <a:r>
              <a:rPr b="1" i="1" lang="ru-RU" sz="2600" spc="-1" strike="noStrike">
                <a:solidFill>
                  <a:srgbClr val="33ccff"/>
                </a:solidFill>
                <a:latin typeface="Times New Roman"/>
              </a:rPr>
              <a:t>ряд частных</a:t>
            </a:r>
            <a:r>
              <a:rPr b="1" i="1" lang="en-US" sz="26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33ccff"/>
                </a:solidFill>
                <a:latin typeface="Times New Roman"/>
              </a:rPr>
              <a:t>показателей</a:t>
            </a:r>
            <a:r>
              <a:rPr b="0" lang="ru-RU" sz="2600" spc="-1" strike="noStrike">
                <a:solidFill>
                  <a:srgbClr val="33cc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9900cc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13e9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50920" y="2565360"/>
            <a:ext cx="4217760" cy="1141560"/>
          </a:xfrm>
          <a:custGeom>
            <a:avLst/>
            <a:gdLst>
              <a:gd name="textAreaLeft" fmla="*/ 0 w 4217760"/>
              <a:gd name="textAreaRight" fmla="*/ 4218120 w 421776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фондоотдача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79280" y="4508640"/>
            <a:ext cx="4608720" cy="114300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производительность</a:t>
            </a:r>
            <a:r>
              <a:rPr b="1" lang="en-US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4284720" y="3357720"/>
            <a:ext cx="4608360" cy="11412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3e9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трудоемкость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3e9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продукции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4427640" y="5516640"/>
            <a:ext cx="4465440" cy="1141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3e9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капиталоемкость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32241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13e9c"/>
                </a:solidFill>
                <a:latin typeface="Times New Roman"/>
              </a:rPr>
              <a:t>Качественные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13e9c"/>
                </a:solidFill>
                <a:latin typeface="Times New Roman"/>
              </a:rPr>
              <a:t>показатели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экономического роста,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характеризующие его социальную направленность - это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оказатели: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13e9c"/>
                </a:solidFill>
                <a:latin typeface="Times New Roman"/>
              </a:rPr>
              <a:t>динамики свободного времени населения,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13e9c"/>
                </a:solidFill>
                <a:latin typeface="Times New Roman"/>
              </a:rPr>
              <a:t>степени социальной защиты населения,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13e9c"/>
                </a:solidFill>
                <a:latin typeface="Times New Roman"/>
              </a:rPr>
              <a:t>развитости социальной инфраструктуры,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13e9c"/>
                </a:solidFill>
                <a:latin typeface="Times New Roman"/>
              </a:rPr>
              <a:t>роста инвестиций в человеческий капитал и пр.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</p:txBody>
      </p:sp>
      <p:pic>
        <p:nvPicPr>
          <p:cNvPr id="139" name="Picture 4" descr="6"/>
          <p:cNvPicPr/>
          <p:nvPr/>
        </p:nvPicPr>
        <p:blipFill>
          <a:blip r:embed="rId1"/>
          <a:stretch/>
        </p:blipFill>
        <p:spPr>
          <a:xfrm>
            <a:off x="2050920" y="115920"/>
            <a:ext cx="46087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211280" y="764640"/>
            <a:ext cx="4932360" cy="69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В Казахстане первый пик интереса к прямым иностранным инвестициям пришелся на середину 90-х годов. Именно тогда были сделаны важные шаги для улучшения инвестиционного климата республики, включая создание законодательной базы и системы преференций для инвесторов. Конечно, все это принесло свои плоды – в экономику Казахстана, и прежде всего в сырьевые отрасли, пришли иностранные компании, были запущены крупнейшие совместные проекты.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</p:txBody>
      </p:sp>
      <p:pic>
        <p:nvPicPr>
          <p:cNvPr id="141" name="Picture 4" descr="c 5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4581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13e9c"/>
                </a:solidFill>
                <a:latin typeface="Times New Roman"/>
              </a:rPr>
              <a:t>Инвестиционный климат в Казахста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strips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Затем наступили «тучные» 2000-е годы, когда в бюджет потекли нефтедоллары, а наши банки получили доступ к дешевому финансированию за рубежом. На этом фоне проблема инвестиционной привлекательности нашей страны отчасти утратила свою актуальность. Однако спираль кризиса 2007–2009 годов вновь вернула нас к этому вопросу. Правда, уже на качественно новом уровне. Стране вновь нужны зарубежные деньги и ноу-хау, и прежде всего для развития несырьевых отраслей. Между тем, перерабатывающая промышленность – это вотчина европейских, и прежде всего немецких компаний, а потому ставку при реализации ФИИР нам, во многом, придется делать на сотрудничество именно с ними. Тем важнее понять их интересы, их взгляд на то, что необходимо сделать Казахстану, чтобы улучшить свой инвестиционный климат в реальном секторе экономики. </a:t>
            </a:r>
            <a:endParaRPr b="0" lang="en-US" sz="2800" spc="-1" strike="noStrike">
              <a:solidFill>
                <a:srgbClr val="9900cc"/>
              </a:solidFill>
              <a:latin typeface="Garamond"/>
            </a:endParaRPr>
          </a:p>
        </p:txBody>
      </p:sp>
    </p:spTree>
  </p:cSld>
  <p:transition spd="med">
    <p:strips dir="l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3357360"/>
            <a:ext cx="86979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Основными инвесторами стали США, Великобритания, Италия, Республика Корея и Швейцария. В отраслевой структуре прямых иностранных инвестиций основную долю занимает горнодобывающая промышленность. Вместе с тем за последние 5 лет в структуре иностранных инвестиций увеличивается доля обрабатывающей промышленности и других несырьевых отраслей. Казахстанские власти надеются через налоговые послабления привлечь инвесторов в перерабатывающую промышленность, которые пока неохотно вкладываться в нее, предпочитая добычу сырья. 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</p:txBody>
      </p:sp>
      <p:pic>
        <p:nvPicPr>
          <p:cNvPr id="145" name="Picture 4" descr="photo_134"/>
          <p:cNvPicPr/>
          <p:nvPr/>
        </p:nvPicPr>
        <p:blipFill>
          <a:blip r:embed="rId1"/>
          <a:stretch/>
        </p:blipFill>
        <p:spPr>
          <a:xfrm>
            <a:off x="1476360" y="115920"/>
            <a:ext cx="59342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/>
          <p:cNvSpPr/>
          <p:nvPr/>
        </p:nvSpPr>
        <p:spPr>
          <a:xfrm>
            <a:off x="468360" y="404640"/>
            <a:ext cx="8064360" cy="15116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Казахстан заинтересован в привлечении в экономику страны новых технологий и нового менеджмента. В частности, в ближайшие годы республика намерена приступить к созданию первого национального спутника связи и вещания, поэтому опыт сингапурской компании в этой сфере оказался бы весьма полезен. 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95280" y="2276640"/>
            <a:ext cx="8209080" cy="23763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Наибольший потенциал для новых форм инвестиций имеет аэрокосмическая отрасль Казахстана. Инвесторов интересуют приоритеты государства в развитии высокотехнологических производств. Для максимального использования потенциала (аэрокосмической) отрасли необходимо перенести акцент с временных выгод от сдачи в аренду комплекса "Байконур" на реализацию совместных с Россией космических программ и проектов.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9640" y="5084640"/>
            <a:ext cx="7993080" cy="936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Конечно же, большую роль играют инвестиции в нефтегазовый сектор, добывающую и обрабатывающую промышленность.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3e9c"/>
                </a:solidFill>
                <a:latin typeface="Times New Roman"/>
              </a:rPr>
              <a:t>Для создания более благоприятного инвестиционного климата в Казахстане необходим целый ряд различных мер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68360" y="1268280"/>
            <a:ext cx="7920000" cy="57168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Совершенствование</a:t>
            </a:r>
            <a:r>
              <a:rPr b="1" lang="en-US" sz="18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законодательной</a:t>
            </a:r>
            <a:r>
              <a:rPr b="1" lang="en-US" sz="18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базы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95280" y="1989000"/>
            <a:ext cx="7848720" cy="47304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13e9c"/>
                </a:solidFill>
                <a:latin typeface="Times New Roman"/>
              </a:rPr>
              <a:t>либерализация внешней и внутренней торговли</a:t>
            </a:r>
            <a:endParaRPr b="0" lang="en-US" sz="16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395280" y="2637000"/>
            <a:ext cx="7848720" cy="56988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формирование частного сектора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395280" y="3429000"/>
            <a:ext cx="7777080" cy="59220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развитие рыночной инфраструктуры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468360" y="4221000"/>
            <a:ext cx="7632720" cy="57024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устойчивость банковской системы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95280" y="5013360"/>
            <a:ext cx="7704000" cy="54936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развитие валютного рынка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539640" y="5877000"/>
            <a:ext cx="7777440" cy="799920"/>
          </a:xfrm>
          <a:prstGeom prst="flowChartInputOutpu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13e9c"/>
                </a:solidFill>
                <a:latin typeface="Times New Roman"/>
              </a:rPr>
              <a:t>упорядочение принятия управленческих решений в государственных органах и многие другие факторы.</a:t>
            </a:r>
            <a:endParaRPr b="0" lang="en-US" sz="16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13e9c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13e9c"/>
                </a:solidFill>
                <a:latin typeface="Times New Roman"/>
              </a:rPr>
              <a:t>Понятие об инвестиционном климате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67280" y="1699920"/>
            <a:ext cx="5076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В рыночной экономике совокупность политических, социально-экономических, финансовых, социокультурных, организационно-правовых и географических факторов, присущих той или иной стране, привлекающих или отталкивающих инвесторов, принято называть ее </a:t>
            </a:r>
            <a:r>
              <a:rPr b="0" i="1" lang="ru-RU" sz="2800" spc="-1" strike="noStrike" u="sng">
                <a:solidFill>
                  <a:srgbClr val="813e9c"/>
                </a:solidFill>
                <a:uFillTx/>
                <a:latin typeface="Times New Roman"/>
              </a:rPr>
              <a:t>инвестиционным климатом.</a:t>
            </a:r>
            <a:endParaRPr b="0" lang="en-US" sz="2800" spc="-1" strike="noStrike">
              <a:solidFill>
                <a:srgbClr val="9900cc"/>
              </a:solidFill>
              <a:latin typeface="Garamond"/>
            </a:endParaRPr>
          </a:p>
        </p:txBody>
      </p:sp>
      <p:pic>
        <p:nvPicPr>
          <p:cNvPr id="104" name="Picture 5" descr="uspeh"/>
          <p:cNvPicPr/>
          <p:nvPr/>
        </p:nvPicPr>
        <p:blipFill>
          <a:blip r:embed="rId1"/>
          <a:stretch/>
        </p:blipFill>
        <p:spPr>
          <a:xfrm>
            <a:off x="179280" y="1628640"/>
            <a:ext cx="43214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611280" y="189000"/>
            <a:ext cx="7488000" cy="1871640"/>
          </a:xfrm>
          <a:prstGeom prst="leftRightArrow">
            <a:avLst>
              <a:gd name="adj1" fmla="val 50000"/>
              <a:gd name="adj2" fmla="val 796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Инвестиционный климат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1619280" y="1989000"/>
            <a:ext cx="5688000" cy="45370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это многофакторная система целенаправленных поступков и действий, которая сознательно формируется на государственном и региональном уровнях в интересах более широкого привлечения на конкретную территорию дополнительных ресурсов как в денежной, так и в материальной формах.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4835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Сегодняшнее формирование благоприятного инвестиционного климата в государстве скажется на его будущем.</a:t>
            </a:r>
            <a:r>
              <a:rPr b="0" lang="en-US" sz="2400" spc="-1" strike="noStrike">
                <a:solidFill>
                  <a:srgbClr val="813e9c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Логическим результатом действенности инвестиционного климата есть достижение определенных целей инвестирования. Вместе с тем активность разных территориальных институтов с целью формирования, по их мнению, более благоприятного инвестиционного климата не всегда адекватно сопровождается возрастанием инвестиционных потоков.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</p:txBody>
      </p:sp>
      <p:pic>
        <p:nvPicPr>
          <p:cNvPr id="108" name="Picture 4" descr="215838"/>
          <p:cNvPicPr/>
          <p:nvPr/>
        </p:nvPicPr>
        <p:blipFill>
          <a:blip r:embed="rId1"/>
          <a:stretch/>
        </p:blipFill>
        <p:spPr>
          <a:xfrm>
            <a:off x="4788000" y="1341360"/>
            <a:ext cx="417672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3e9c"/>
                </a:solidFill>
                <a:latin typeface="Times New Roman"/>
              </a:rPr>
              <a:t>Результативность инвестиционного климата для конкретной территории проявляется в двух аспектах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В </a:t>
            </a:r>
            <a:r>
              <a:rPr b="0" i="1" lang="ru-RU" sz="2800" spc="-1" strike="noStrike">
                <a:solidFill>
                  <a:srgbClr val="3399ff"/>
                </a:solidFill>
                <a:latin typeface="Times New Roman"/>
              </a:rPr>
              <a:t>экономическом</a:t>
            </a: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 - через возрастание макроэкономических показателей, прежде всего ВВП на душу населения и экспортных мощностей. </a:t>
            </a:r>
            <a:endParaRPr b="0" lang="en-US" sz="28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56000" y="2332080"/>
            <a:ext cx="447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Относительно </a:t>
            </a:r>
            <a:r>
              <a:rPr b="0" i="1" lang="ru-RU" sz="2800" spc="-1" strike="noStrike">
                <a:solidFill>
                  <a:srgbClr val="3399ff"/>
                </a:solidFill>
                <a:latin typeface="Times New Roman"/>
              </a:rPr>
              <a:t>социального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813e9c"/>
                </a:solidFill>
                <a:latin typeface="Times New Roman"/>
              </a:rPr>
              <a:t> его проявлением есть снижение социальных рисков, возрастание заработной платы, а значит, и покупательной способности населения территории.</a:t>
            </a:r>
            <a:endParaRPr b="0" lang="en-US" sz="2800" spc="-1" strike="noStrike">
              <a:solidFill>
                <a:srgbClr val="9900cc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Garamond"/>
            </a:endParaRPr>
          </a:p>
        </p:txBody>
      </p:sp>
      <p:sp>
        <p:nvSpPr>
          <p:cNvPr id="112" name="AutoShape 10"/>
          <p:cNvSpPr/>
          <p:nvPr/>
        </p:nvSpPr>
        <p:spPr>
          <a:xfrm rot="3496800">
            <a:off x="2198880" y="901440"/>
            <a:ext cx="863640" cy="1657440"/>
          </a:xfrm>
          <a:prstGeom prst="downArrow">
            <a:avLst>
              <a:gd name="adj1" fmla="val 66907"/>
              <a:gd name="adj2" fmla="val 34926"/>
            </a:avLst>
          </a:prstGeom>
          <a:solidFill>
            <a:srgbClr val="33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 rot="18447600">
            <a:off x="6048000" y="944280"/>
            <a:ext cx="863640" cy="1657080"/>
          </a:xfrm>
          <a:prstGeom prst="downArrow">
            <a:avLst>
              <a:gd name="adj1" fmla="val 66907"/>
              <a:gd name="adj2" fmla="val 34919"/>
            </a:avLst>
          </a:prstGeom>
          <a:solidFill>
            <a:srgbClr val="33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13e9c"/>
                </a:solidFill>
                <a:latin typeface="Times New Roman"/>
              </a:rPr>
              <a:t>Для определения инвестиционного климата применяется </a:t>
            </a:r>
            <a:r>
              <a:rPr b="1" lang="ru-RU" sz="4000" spc="-1" strike="noStrike">
                <a:solidFill>
                  <a:srgbClr val="33ccff"/>
                </a:solidFill>
                <a:latin typeface="Times New Roman"/>
              </a:rPr>
              <a:t>три подхода</a:t>
            </a:r>
            <a:r>
              <a:rPr b="1" lang="ru-RU" sz="4000" spc="-1" strike="noStrike">
                <a:solidFill>
                  <a:srgbClr val="813e9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84360" y="1700280"/>
            <a:ext cx="4343400" cy="1600200"/>
          </a:xfrm>
          <a:custGeom>
            <a:avLst/>
            <a:gdLst>
              <a:gd name="textAreaLeft" fmla="*/ 0 w 4343400"/>
              <a:gd name="textAreaRight" fmla="*/ 4343400 w 434340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3e9c"/>
                </a:solidFill>
                <a:latin typeface="Times New Roman"/>
              </a:rPr>
              <a:t>узкий подход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684360" y="5013360"/>
            <a:ext cx="4341600" cy="1600200"/>
          </a:xfrm>
          <a:custGeom>
            <a:avLst/>
            <a:gdLst>
              <a:gd name="textAreaLeft" fmla="*/ 0 w 4341600"/>
              <a:gd name="textAreaRight" fmla="*/ 4341960 w 434160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3e9c"/>
                </a:solidFill>
                <a:latin typeface="Times New Roman"/>
              </a:rPr>
              <a:t>рискованный подход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067280" y="3429000"/>
            <a:ext cx="4321080" cy="1800360"/>
          </a:xfrm>
          <a:custGeom>
            <a:avLst/>
            <a:gdLst>
              <a:gd name="textAreaLeft" fmla="*/ 0 w 4321080"/>
              <a:gd name="textAreaRight" fmla="*/ 4321440 w 4321080"/>
              <a:gd name="textAreaTop" fmla="*/ 233280 h 1800360"/>
              <a:gd name="textAreaBottom" fmla="*/ 15670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3e9c"/>
                </a:solidFill>
                <a:latin typeface="Times New Roman"/>
              </a:rPr>
              <a:t>факторный подход или расширенный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3e9c"/>
                </a:solidFill>
                <a:latin typeface="Times New Roman"/>
              </a:rPr>
              <a:t>Инвестиционный климат страны формируется политикой правительства под влиянием множества факторов, им созданных.  </a:t>
            </a:r>
            <a:r>
              <a:rPr b="1" i="1" lang="ru-RU" sz="2400" spc="-1" strike="noStrike">
                <a:solidFill>
                  <a:srgbClr val="813e9c"/>
                </a:solidFill>
                <a:latin typeface="Times New Roman"/>
              </a:rPr>
              <a:t>Все </a:t>
            </a:r>
            <a:r>
              <a:rPr b="1" i="1" lang="ru-RU" sz="2400" spc="-1" strike="noStrike">
                <a:solidFill>
                  <a:srgbClr val="3399ff"/>
                </a:solidFill>
                <a:latin typeface="Times New Roman"/>
              </a:rPr>
              <a:t>факторы делятся на две группы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250920" y="1844640"/>
            <a:ext cx="3960720" cy="4753080"/>
          </a:xfrm>
          <a:custGeom>
            <a:avLst/>
            <a:gdLst>
              <a:gd name="textAreaLeft" fmla="*/ 193320 w 3960720"/>
              <a:gd name="textAreaRight" fmla="*/ 3767400 w 3960720"/>
              <a:gd name="textAreaTop" fmla="*/ 193320 h 4753080"/>
              <a:gd name="textAreaBottom" fmla="*/ 4559760 h 475308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од </a:t>
            </a:r>
            <a:r>
              <a:rPr b="0" i="1" lang="ru-RU" sz="2400" spc="-1" strike="noStrike">
                <a:solidFill>
                  <a:srgbClr val="813e9c"/>
                </a:solidFill>
                <a:latin typeface="Times New Roman"/>
              </a:rPr>
              <a:t>направленными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факторами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онимаются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целенаправленные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изменения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Инвестиционной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олитики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равительства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с целью изменить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нвестиционный климат.</a:t>
            </a:r>
            <a:r>
              <a:rPr b="0" lang="ru-RU" sz="1800" spc="-1" strike="noStrike">
                <a:solidFill>
                  <a:srgbClr val="813e9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643280" y="1773360"/>
            <a:ext cx="4248360" cy="482436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8">
                <a:moveTo>
                  <a:pt x="3600" y="0"/>
                </a:moveTo>
                <a:arcTo wR="3600" hR="3600" stAng="16200000" swAng="-5400000"/>
                <a:lnTo>
                  <a:pt x="0" y="20928"/>
                </a:lnTo>
                <a:arcTo wR="3600" hR="3600" stAng="10800000" swAng="-5400000"/>
                <a:lnTo>
                  <a:pt x="18000" y="24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Под </a:t>
            </a:r>
            <a:r>
              <a:rPr b="0" i="1" lang="ru-RU" sz="2200" spc="-1" strike="noStrike">
                <a:solidFill>
                  <a:srgbClr val="813e9c"/>
                </a:solidFill>
                <a:latin typeface="Times New Roman"/>
              </a:rPr>
              <a:t>ненаправленными</a:t>
            </a: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следует понимать все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остальные шаги правительства,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учитываемые инвесторами.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Нецеленаправленное влияние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политических факторов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на инвестиционный климат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происходит через определенные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политические события, которые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могут иметь как негативный,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13e9c"/>
                </a:solidFill>
                <a:latin typeface="Times New Roman"/>
              </a:rPr>
              <a:t>так и позитивный эффект.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771640" y="155736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076720" y="1484280"/>
            <a:ext cx="1366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13e9c"/>
                </a:solidFill>
                <a:latin typeface="Times New Roman"/>
              </a:rPr>
              <a:t>На оценку инвестиционного климата влияют следующие параметры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политическая стабильность и предсказуемость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компетентность и политика центральных и местных властей,</a:t>
            </a:r>
            <a:r>
              <a:rPr b="0" lang="en-US" sz="2400" spc="-1" strike="noStrike">
                <a:solidFill>
                  <a:srgbClr val="813e9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уровень конфликта интересов в их структурах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макроэкономические показатели (бюджет, платежный баланс, государственный долг)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качество налоговой системы и уровень налогового бремени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качество банковской системы и других финансовых институтов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защищенность и определенность прав собственности, уровень корпоративного управления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обязательность контрагентов по исполнению договоренностей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открытость экономики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уровень развития инфраструктуры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качество рабочей силы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уровень монополизации рынков, барьеры входы на рынок;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3e9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3e9c"/>
                </a:solidFill>
                <a:latin typeface="Times New Roman"/>
              </a:rPr>
              <a:t>уровень законности и правопорядка, масштабы преступности и коррупции.</a:t>
            </a:r>
            <a:endParaRPr b="0" lang="en-US" sz="2400" spc="-1" strike="noStrike">
              <a:solidFill>
                <a:srgbClr val="9900cc"/>
              </a:solidFill>
              <a:latin typeface="Garamond"/>
            </a:endParaRPr>
          </a:p>
        </p:txBody>
      </p:sp>
    </p:spTree>
  </p:cSld>
  <p:transition spd="med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13e9c"/>
                </a:solidFill>
                <a:latin typeface="Times New Roman"/>
              </a:rPr>
              <a:t>Опираясь на собственную трактовку понятия «инвестиционного климата» можно сделать следующие </a:t>
            </a:r>
            <a:r>
              <a:rPr b="1" i="1" lang="ru-RU" sz="3200" spc="-1" strike="noStrike" u="sng">
                <a:solidFill>
                  <a:srgbClr val="813e9c"/>
                </a:solidFill>
                <a:uFillTx/>
                <a:latin typeface="Times New Roman"/>
              </a:rPr>
              <a:t>выводы</a:t>
            </a:r>
            <a:r>
              <a:rPr b="1" lang="ru-RU" sz="3200" spc="-1" strike="noStrike">
                <a:solidFill>
                  <a:srgbClr val="813e9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611280" y="1557360"/>
            <a:ext cx="7848360" cy="2879640"/>
          </a:xfrm>
          <a:prstGeom prst="rightArrow">
            <a:avLst>
              <a:gd name="adj1" fmla="val 50000"/>
              <a:gd name="adj2" fmla="val 6813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Во-первых, содержание понятия «инвестиционный климат» страны (региона, отрасли) состоит из двух компонентов, а именно: инвестиционной привлекательности экономики страны (региона, отрасли) и инвестиционной активности (результативности) экономики страны (региона, отрасли).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11280" y="3789360"/>
            <a:ext cx="7993080" cy="3068640"/>
          </a:xfrm>
          <a:prstGeom prst="leftArrow">
            <a:avLst>
              <a:gd name="adj1" fmla="val 50000"/>
              <a:gd name="adj2" fmla="val 65119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13e9c"/>
                </a:solidFill>
                <a:latin typeface="Times New Roman"/>
              </a:rPr>
              <a:t>Во-вторых, инвестиционный климат страны (региона, отрасли) формируется двумя группами факторов), или двумя комплексными факторами: совокупным инвестиционным потенциалом экономики страны (региона, отрасли) и инвестиционными рисками на уровне страны (региона, отрасли).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2:43:59Z</dcterms:created>
  <dc:creator>User</dc:creator>
  <dc:description/>
  <dc:language>en-US</dc:language>
  <cp:lastModifiedBy>ноут</cp:lastModifiedBy>
  <dcterms:modified xsi:type="dcterms:W3CDTF">2011-06-03T08:21:51Z</dcterms:modified>
  <cp:revision>33</cp:revision>
  <dc:subject/>
  <dc:title>Слайд 1</dc:title>
</cp:coreProperties>
</file>