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14A-E9F7-404A-929F-DB857DC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254-E112-483E-8D77-ACA938DF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B3C58-5182-4DC8-BEFF-8359591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E3543-BD67-4B55-9D96-36ABB8D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6BC284-8406-474E-9B0A-8DFB209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AE3BD-0A5C-44E2-97DE-EFD013F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6CFC7-D320-4E23-87A3-E8CC4E20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62C58-EE43-4518-B6D2-F7071C64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2E0DF-4897-456E-8CA5-9DD8C85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7FA7F8-6E92-4C72-BE78-53DEB46E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9E8795-4018-4B41-ADD9-D8E04E20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BF88C-7FA5-4F30-8ABC-1F0A617F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EE0-10D2-404A-A709-63735210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5D002-9EF9-40A8-85AE-548C12B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C0792-3813-41B3-9BA6-055E336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E7B6F-BE14-4E8F-8609-84B6C41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70DC3-FDC9-4FD3-900F-387B480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5078-AA0C-45D9-9A11-1C2FAFD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C41AF-A634-494C-9F06-0827757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DD05C-1B13-4CF5-A7DB-3242830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E4E49-DE0D-4D6E-9EB5-94891B0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9ACEC-B643-4776-8225-92F076F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5403D-45AD-45E8-A9AC-BC988F79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E13-8467-4089-AB0F-7F6827C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D02BE-A2CA-446D-B1FD-EF19A9F1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D507E-FD5E-4AB6-9CFE-7D1D6AE0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06165-1BA5-4C94-ADED-3349F53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3CA8F-937D-4E36-96E8-7A893B5C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A1335-2217-4DC2-A69A-77544029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9B382-B6F6-4962-A1B7-BC2D950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1BDF-48E5-44D4-80AF-8EC1FF5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DEB8-718D-4372-8CA4-01391D3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358D6-090F-46CF-92E5-41DA546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849BA-7B1F-41FA-8C6F-F41FF7F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028-4FF5-4F03-A03D-9B185EBE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6883-699F-4221-94B5-772D54A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BB8FA-CC38-4110-A1D5-CEE60BE5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0E54C-E4B9-4288-80C1-3BF42F27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4C25F-56EC-487B-9B94-79BC27D7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515DD-9DE7-492A-A085-8944491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630FF-7048-4A18-900A-5E48876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B4C10-EBBB-4B7A-9BD8-C893C7F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BE3AD-9639-46C6-9C98-22090307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ACD9C-314C-44A3-8A26-4CC91C4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61D8-7AAF-46D4-A5EC-496460E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985-CA8A-47CD-87D6-C36EEA4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66C0-7FF7-4335-A126-EB6100B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AD6D-123D-4D9C-AE87-A45729A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839A4-C2C0-4ECC-AF1E-94AA6CD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B21F4-0A6F-4A1E-AA55-F1B1299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D8336-CB11-4F6A-A849-3B8C3577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6E4B-C2F3-46FF-8C4C-2DF2ABA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22D-B258-4943-B1D3-A626945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FD10-5931-4F48-9129-BBF7549E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02A-D027-4040-A0A7-3EFABBF9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E283-8D8D-4E07-BA4E-E164F54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7B2-556B-4149-BAE8-1A08BB86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9217-6053-4AFF-B5E2-9E8F134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919-B2FB-4BC7-94F5-950B6B7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91E2-65D7-44BD-91C8-FCA8435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4A61-5EAD-4D8A-80C9-694C217C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6AED-C4EF-44EF-80C7-8AF90075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64C1-7CE9-4D27-A11D-0D897AB7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CC19-3DBB-4EF8-80EC-7DFE304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36E4-3324-4EC3-AC2B-195B442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6A75-2F08-498C-A222-17DBC62A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5656-F230-4ADA-80FE-C706236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0DB-5050-4394-A618-16AF0672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BAC0-CBC2-4B0D-BA54-3C402307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5EF1-84D0-4396-A64F-7567E70B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D152-BAF2-40DF-8D17-8ACADC2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41D0-8BDF-4CB0-86B5-4388E95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A3B8-F63B-4B1A-8BB2-D1201F26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F9E1-0DDA-43BC-8A46-E558BD8C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B761-640B-4E89-9E1C-F94768C0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9447-3CD8-4CD4-9DE7-71A07314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E708-71E8-45C0-8E39-A8E0D3D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1F51-3B8C-4F0B-B209-F32F909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B83-F3FA-4ED4-B476-8DECD47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9D1D-2AFA-4829-B6E2-CF4E0359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59F8-4E1F-400A-B406-21DF4430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4320-20EC-4993-9059-4D6B4777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80F4-50D7-43BA-B62C-DB9297C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26F9-72A1-49B6-8461-65DE57B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E44F-CEAB-4F67-B7E2-08B620F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F566-AECB-4B7D-9B73-4D2BA68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7F10-A050-46C0-8CEE-170ECBE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096A-C0E2-4187-9745-C745EB81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C7DA-43AF-4A33-8676-C96DC2FB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6A3-EFE4-4780-A902-E47F45A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443A-FA45-4A40-A91C-3D91992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162A0-BA44-4D34-B3C5-4386E616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8155-52B5-4F4E-A863-CDBB2B4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1331-8DC7-4323-A7D4-F735A04B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8D42-D8F5-4189-B6E5-D20E20F4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282C-C2EE-496F-BBF1-8322BD0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29E7-9AEB-4909-919E-397F57F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3227D-680E-47A2-8088-74D4AFD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3D7F-E7E9-4CD3-B056-3D45CF6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1208-2318-475B-AA84-6F33F4E2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2EA-DC2F-48FD-8E74-26EBFAC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2453-5276-4CE5-8417-28EA869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5FF8-77CA-483F-A64A-8EF1ECB7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5AF7B-F8A5-4E9A-92E5-FEE5B35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FDDF-FDEB-4859-9A11-559EA3E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6274-1E6B-434A-97B4-C47788A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D6BE-3CF6-4F35-AC2D-F7896563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D7CC3-8436-4FA8-862C-1F0088E0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AA6E-3639-4F73-8724-530F9F4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1B76-DB8A-4C12-88BE-292DB7F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7093-8F00-4525-A1EF-4391B74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09A-B050-4A26-8E16-CF4103F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27F0-8BC8-46EE-8E55-6599DF9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075E-E8B9-45E4-9C50-F022AC85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CB22-061B-4A07-88B8-9FF67C26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BE4ED-6B0B-4556-A946-E72A228F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F4ACD-37FD-43F6-9B93-EB2C065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D8029-0F07-443A-A93B-54C5972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4CCDB-DB63-4FED-BE0F-FD5A371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128E7-8806-412F-883E-D2A5B30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A9F52-87ED-44B6-A53E-E27A9E3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3DD05-065F-475D-BEE8-C2056DD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EFA-2E3E-487B-B490-5B60741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512BA-AFCB-4CE5-89E6-160AF99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05459-CBA6-49A2-A8B6-9B89766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03AD4-E052-45B6-985E-800989E1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B1B1D-B4DA-44F8-919C-EC2A7061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60ABF-4968-41F1-AFEC-1758D7B1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B15A7-08F3-4CC2-A8A3-C5F0F6A6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5ACF-BF27-4526-ADD0-CD49F4F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A287-5248-4868-AE46-D98D399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0493E-7F9D-4098-90E3-380AFEA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7FA79-6130-4367-8848-2701FD3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372-D64A-4AD4-B8CA-BA1B540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34BC-9624-4FF1-9BE0-88B5CD9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8048-1556-4B56-8981-03ABE0A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6DCDC-DCD4-4535-9919-6672C23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9F416-815A-4FF1-A73B-39261E8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72D8-3DD1-40EF-A54C-962A7A2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E0DBD-AEF6-48B8-90C9-D5620161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35A4F-A91B-4B5D-8DDE-2BF6BC9B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3EF971-993A-4B36-8186-6C9FD13E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56520-EFF5-4DE3-8B3D-1121497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57781F-82B5-4C9E-921C-E197586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157-6C82-405A-9E42-9C63DC0DD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11CC-650A-4EAE-80D1-21BD09410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D3F-4A58-47F8-9E1C-D39BD9204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7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7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9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9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0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290-7408-4C6A-87F4-BF4A47F4C27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5A1-0658-43C2-8C57-3D1B72C3C6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4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8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4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5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BDE-4F83-4DAD-80A2-63C51F714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64F4-A371-4E7E-AD20-E2CD48EA3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EA1-1D30-4685-9251-229F77CCD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6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9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0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3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2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3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5CED-1793-4DFF-8E36-4F8C6739AD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5B8-2BD9-400C-9C67-52984E3C0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1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31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E41-4A2F-41ED-9488-20E2C30E69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08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0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12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1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19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2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AE79-A269-49EA-8619-6CC2A0898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ма: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нвестиционное проектирование в рыночных условиях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AutoShape 33"/>
          <p:cNvSpPr/>
          <p:nvPr/>
        </p:nvSpPr>
        <p:spPr>
          <a:xfrm>
            <a:off x="1258920" y="476280"/>
            <a:ext cx="6769080" cy="4176720"/>
          </a:xfrm>
          <a:prstGeom prst="downArrowCallout">
            <a:avLst>
              <a:gd name="adj1" fmla="val 40520"/>
              <a:gd name="adj2" fmla="val 40517"/>
              <a:gd name="adj3" fmla="val 16667"/>
              <a:gd name="adj4" fmla="val 6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ериод времени между началом</a:t>
            </a:r>
            <a:br>
              <a:rPr sz="3600"/>
            </a:b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осуществления проекта и е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квидацией принято называ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Rectangle 35"/>
          <p:cNvSpPr/>
          <p:nvPr/>
        </p:nvSpPr>
        <p:spPr>
          <a:xfrm>
            <a:off x="1782360" y="4797000"/>
            <a:ext cx="594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ff"/>
                </a:solidFill>
                <a:latin typeface="Times New Roman"/>
              </a:rPr>
              <a:t>жизненным циклом</a:t>
            </a:r>
            <a:r>
              <a:rPr b="0" lang="ru-RU" sz="4800" spc="-1" strike="noStrike">
                <a:solidFill>
                  <a:srgbClr val="3399ff"/>
                </a:solidFill>
                <a:latin typeface="Times New Roman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Organization Chart 6"/>
          <p:cNvGrpSpPr/>
          <p:nvPr/>
        </p:nvGrpSpPr>
        <p:grpSpPr>
          <a:xfrm>
            <a:off x="431640" y="266760"/>
            <a:ext cx="8208720" cy="5686200"/>
            <a:chOff x="431640" y="266760"/>
            <a:chExt cx="8208720" cy="5686200"/>
          </a:xfrm>
        </p:grpSpPr>
        <p:cxnSp>
          <p:nvCxnSpPr>
            <p:cNvPr id="995" name="_s3076"/>
            <p:cNvCxnSpPr>
              <a:stCxn id="996" idx="0"/>
              <a:endCxn id="997" idx="2"/>
            </p:cNvCxnSpPr>
            <p:nvPr/>
          </p:nvCxnSpPr>
          <p:spPr>
            <a:xfrm flipV="1" rot="16200000">
              <a:off x="5563440" y="1513080"/>
              <a:ext cx="1137600" cy="319284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8" name="_s3077"/>
            <p:cNvCxnSpPr>
              <a:stCxn id="999" idx="0"/>
              <a:endCxn id="997" idx="2"/>
            </p:cNvCxnSpPr>
            <p:nvPr/>
          </p:nvCxnSpPr>
          <p:spPr>
            <a:xfrm flipV="1" rot="16200000">
              <a:off x="4499280" y="2577240"/>
              <a:ext cx="1137600" cy="106452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0" name="_s3078"/>
            <p:cNvCxnSpPr>
              <a:stCxn id="1001" idx="0"/>
              <a:endCxn id="997" idx="2"/>
            </p:cNvCxnSpPr>
            <p:nvPr/>
          </p:nvCxnSpPr>
          <p:spPr>
            <a:xfrm flipH="1" flipV="1" rot="5400000">
              <a:off x="3436200" y="2578320"/>
              <a:ext cx="1137600" cy="106236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2" name="_s3079"/>
            <p:cNvCxnSpPr>
              <a:stCxn id="1003" idx="0"/>
              <a:endCxn id="997" idx="2"/>
            </p:cNvCxnSpPr>
            <p:nvPr/>
          </p:nvCxnSpPr>
          <p:spPr>
            <a:xfrm flipH="1" flipV="1" rot="5400000">
              <a:off x="2370960" y="1513080"/>
              <a:ext cx="1137600" cy="319320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7" name="_s3080"/>
            <p:cNvSpPr/>
            <p:nvPr/>
          </p:nvSpPr>
          <p:spPr>
            <a:xfrm>
              <a:off x="3624120" y="266760"/>
              <a:ext cx="1824120" cy="22744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74480"/>
                <a:gd name="textAreaBottom" fmla="*/ 2185560 h 2274480"/>
              </a:gdLst>
              <a:ahLst/>
              <a:rect l="textAreaLeft" t="textAreaTop" r="textAreaRight" b="textAreaBottom"/>
              <a:pathLst>
                <a:path w="21600" h="26932">
                  <a:moveTo>
                    <a:pt x="3600" y="0"/>
                  </a:moveTo>
                  <a:arcTo wR="3600" hR="3600" stAng="16200000" swAng="-5400000"/>
                  <a:lnTo>
                    <a:pt x="0" y="23332"/>
                  </a:lnTo>
                  <a:arcTo wR="3600" hR="3600" stAng="10800000" swAng="-5400000"/>
                  <a:lnTo>
                    <a:pt x="18000" y="26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нвестиционный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цикл делится н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фазы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3" name="_s3081"/>
            <p:cNvSpPr/>
            <p:nvPr/>
          </p:nvSpPr>
          <p:spPr>
            <a:xfrm>
              <a:off x="431640" y="3678480"/>
              <a:ext cx="1824120" cy="22744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74480"/>
                <a:gd name="textAreaBottom" fmla="*/ 2185560 h 2274480"/>
              </a:gdLst>
              <a:ahLst/>
              <a:rect l="textAreaLeft" t="textAreaTop" r="textAreaRight" b="textAreaBottom"/>
              <a:pathLst>
                <a:path w="21600" h="26932">
                  <a:moveTo>
                    <a:pt x="3600" y="0"/>
                  </a:moveTo>
                  <a:arcTo wR="3600" hR="3600" stAng="16200000" swAng="-5400000"/>
                  <a:lnTo>
                    <a:pt x="0" y="23332"/>
                  </a:lnTo>
                  <a:arcTo wR="3600" hR="3600" stAng="10800000" swAng="-5400000"/>
                  <a:lnTo>
                    <a:pt x="18000" y="26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Пред 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нвести -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ционную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1" name="_s3082"/>
            <p:cNvSpPr/>
            <p:nvPr/>
          </p:nvSpPr>
          <p:spPr>
            <a:xfrm>
              <a:off x="2559600" y="3678480"/>
              <a:ext cx="1824120" cy="22744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74480"/>
                <a:gd name="textAreaBottom" fmla="*/ 2185560 h 2274480"/>
              </a:gdLst>
              <a:ahLst/>
              <a:rect l="textAreaLeft" t="textAreaTop" r="textAreaRight" b="textAreaBottom"/>
              <a:pathLst>
                <a:path w="21600" h="26932">
                  <a:moveTo>
                    <a:pt x="3600" y="0"/>
                  </a:moveTo>
                  <a:arcTo wR="3600" hR="3600" stAng="16200000" swAng="-5400000"/>
                  <a:lnTo>
                    <a:pt x="0" y="23332"/>
                  </a:lnTo>
                  <a:arcTo wR="3600" hR="3600" stAng="10800000" swAng="-5400000"/>
                  <a:lnTo>
                    <a:pt x="18000" y="26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нвес -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тицион -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ную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9" name="_s3083"/>
            <p:cNvSpPr/>
            <p:nvPr/>
          </p:nvSpPr>
          <p:spPr>
            <a:xfrm>
              <a:off x="4687920" y="3678480"/>
              <a:ext cx="1824120" cy="22744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74480"/>
                <a:gd name="textAreaBottom" fmla="*/ 2185560 h 2274480"/>
              </a:gdLst>
              <a:ahLst/>
              <a:rect l="textAreaLeft" t="textAreaTop" r="textAreaRight" b="textAreaBottom"/>
              <a:pathLst>
                <a:path w="21600" h="26932">
                  <a:moveTo>
                    <a:pt x="3600" y="0"/>
                  </a:moveTo>
                  <a:arcTo wR="3600" hR="3600" stAng="16200000" swAng="-5400000"/>
                  <a:lnTo>
                    <a:pt x="0" y="23332"/>
                  </a:lnTo>
                  <a:arcTo wR="3600" hR="3600" stAng="10800000" swAng="-5400000"/>
                  <a:lnTo>
                    <a:pt x="18000" y="26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Опера – 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ционную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_s3084"/>
            <p:cNvSpPr/>
            <p:nvPr/>
          </p:nvSpPr>
          <p:spPr>
            <a:xfrm>
              <a:off x="6816240" y="3678480"/>
              <a:ext cx="1824120" cy="22744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74480"/>
                <a:gd name="textAreaBottom" fmla="*/ 2185560 h 2274480"/>
              </a:gdLst>
              <a:ahLst/>
              <a:rect l="textAreaLeft" t="textAreaTop" r="textAreaRight" b="textAreaBottom"/>
              <a:pathLst>
                <a:path w="21600" h="26932">
                  <a:moveTo>
                    <a:pt x="3600" y="0"/>
                  </a:moveTo>
                  <a:arcTo wR="3600" hR="3600" stAng="16200000" swAng="-5400000"/>
                  <a:lnTo>
                    <a:pt x="0" y="23332"/>
                  </a:lnTo>
                  <a:arcTo wR="3600" hR="3600" stAng="10800000" swAng="-5400000"/>
                  <a:lnTo>
                    <a:pt x="18000" y="26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Ликвида – </a:t>
              </a:r>
              <a:br>
                <a:rPr sz="3200"/>
              </a:b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ционную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4"/>
          <p:cNvSpPr/>
          <p:nvPr/>
        </p:nvSpPr>
        <p:spPr>
          <a:xfrm>
            <a:off x="468360" y="122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AutoShape 6"/>
          <p:cNvSpPr/>
          <p:nvPr/>
        </p:nvSpPr>
        <p:spPr>
          <a:xfrm>
            <a:off x="1476360" y="3429000"/>
            <a:ext cx="7667640" cy="342900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нвестиционная фаз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лючается в приняти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атегических плановых решений, которые должны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волить инвесторам определить объемы и сро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вестирования, а также составить наиболее оптималь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лан финансирования проект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мках этой фазы осуществляется заключение контракт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договоров подряда, проводятся капитальные вложения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ительство объектов, пуско-наладочные работы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AutoShape 7"/>
          <p:cNvSpPr/>
          <p:nvPr/>
        </p:nvSpPr>
        <p:spPr>
          <a:xfrm>
            <a:off x="0" y="0"/>
            <a:ext cx="8028000" cy="321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 инвестиционная фа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едшествующая основному объему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вестиций, не может быть определена достаточно точно. В этой фаз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ект разрабатывается, изучаются его возможности, ведутся переговор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потенциальными инвесторами и другими участниками проект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бираются поставщики сырья и оборудования. Если инвестицион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ект предусматривает привлечение кредита, то в данной фаз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лючается соглашение на его получение; осуществляе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ое оформление инвестиционного проекта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ка документов, оформление контрактов 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истрация предприя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AutoShape 7"/>
          <p:cNvSpPr/>
          <p:nvPr/>
        </p:nvSpPr>
        <p:spPr>
          <a:xfrm>
            <a:off x="0" y="0"/>
            <a:ext cx="4176720" cy="6669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Tahoma"/>
              </a:rPr>
              <a:t>Операционная </a:t>
            </a:r>
            <a:br>
              <a:rPr sz="1800"/>
            </a:br>
            <a:r>
              <a:rPr b="1" i="1" lang="ru-RU" sz="1800" spc="-1" strike="noStrike">
                <a:solidFill>
                  <a:srgbClr val="9966ff"/>
                </a:solidFill>
                <a:latin typeface="Tahoma"/>
              </a:rPr>
              <a:t>(производственная) фаза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инвестиционного проекта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заключается в текущей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деятельности по проекту: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закупка сырья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производство и сбыт продукции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проведение маркетинговых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мероприятий и т.п.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На этой стадии проводятся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непосредственно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производственные операции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связанные с взаиморасчетами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с контрагентами (поставщиками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подрядчиками, покупателями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посредниками), формирующие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денежные потоки,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анализ которых позволяет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оценивать экономическую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эффективность данного </a:t>
            </a:r>
            <a:br>
              <a:rPr sz="1800"/>
            </a:br>
            <a:r>
              <a:rPr b="0" lang="ru-RU" sz="1800" spc="-1" strike="noStrike">
                <a:solidFill>
                  <a:srgbClr val="9966ff"/>
                </a:solidFill>
                <a:latin typeface="Tahoma"/>
              </a:rPr>
              <a:t>инвестиционного проек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AutoShape 8"/>
          <p:cNvSpPr/>
          <p:nvPr/>
        </p:nvSpPr>
        <p:spPr>
          <a:xfrm>
            <a:off x="4572000" y="0"/>
            <a:ext cx="4392720" cy="6669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ff"/>
                </a:solidFill>
                <a:latin typeface="Tahoma"/>
              </a:rPr>
              <a:t>Ликвидационная фаза</a:t>
            </a:r>
            <a:br>
              <a:rPr sz="1800"/>
            </a:br>
            <a:r>
              <a:rPr b="1" i="1" lang="ru-RU" sz="18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связана с этапом окончания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инвестиционного проекта, когда он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ыполнил поставленные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цели либо исчерпал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заложенные в нем возможности.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На данной стадии инвесторы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и пользователи объектов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капитальных вложений определяют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остаточную стоимость основных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средств с учетом амортизации,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оценивают   их   возможную  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рыночную   стоимость,  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реализуют   или консервируют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ыбывающее оборудование, 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устраняют в необходимых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случаях последствия</a:t>
            </a:r>
            <a:br>
              <a:rPr sz="1800"/>
            </a:b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 осуществления ИП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 инвестиционным проектом понимаю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умент, отражающий конкретную деятельность по осуществлению целенаправленного достижения максимальных социально-экономических результатов инвестирования, этапы его осуществления и возможную оценку эффективности его претворения в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AutoShape 12"/>
          <p:cNvSpPr/>
          <p:nvPr/>
        </p:nvSpPr>
        <p:spPr>
          <a:xfrm>
            <a:off x="3276720" y="1628640"/>
            <a:ext cx="2735280" cy="187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cc"/>
                </a:solidFill>
                <a:latin typeface="Times New Roman"/>
              </a:rPr>
              <a:t>Инвестиционная программа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467280" y="2414160"/>
            <a:ext cx="8433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представляют собой один 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из наиболее важных аспектов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функционирования любой коммерческой организации.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Причинами, обусловливающими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необходимость инвестиций, являются 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обновление имеющейся материально-технической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базы, наращивание объемов производства, </a:t>
            </a:r>
            <a:br>
              <a:rPr sz="2800"/>
            </a:b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освоение новых видов деятельности.</a:t>
            </a:r>
            <a:r>
              <a:rPr b="0" i="1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AutoShape 6"/>
          <p:cNvSpPr/>
          <p:nvPr/>
        </p:nvSpPr>
        <p:spPr>
          <a:xfrm>
            <a:off x="3276720" y="1125360"/>
            <a:ext cx="2952720" cy="151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вестиционный проект должен решать следующие 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(или анализ существующего) спроса и определение потенциальной емкости рынка сбы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ключевых факторов, лежащих в основе успеха будущего проекта и определяющих основную идею проек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альное описание продукта с точки зрения удовлетворения потребност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imes New Roman"/>
              </a:rPr>
              <a:t>При экономической оценке выгодности инвестиционного проекта важно учитывать его динамические характеристики:</a:t>
            </a: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Line 6"/>
          <p:cNvSpPr/>
          <p:nvPr/>
        </p:nvSpPr>
        <p:spPr>
          <a:xfrm flipH="1">
            <a:off x="2195640" y="162864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869400" y="494136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доступность финансовых источников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для необходимых в каждом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периоде инвестиций</a:t>
            </a: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0" y="2781360"/>
            <a:ext cx="47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возможные подвижки в спросе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на выпускаемый товар и соответствующие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 изменения объемов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Rectangle 9"/>
          <p:cNvSpPr/>
          <p:nvPr/>
        </p:nvSpPr>
        <p:spPr>
          <a:xfrm>
            <a:off x="4340160" y="2060640"/>
            <a:ext cx="50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планируемое снижение издержек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производства в процессе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наращивания объема выпус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4584960" y="3933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ожидаемые колебания цен </a:t>
            </a:r>
            <a:br>
              <a:rPr sz="1800"/>
            </a:br>
            <a:r>
              <a:rPr b="0" lang="ru-RU" sz="1800" spc="-1" strike="noStrike">
                <a:solidFill>
                  <a:srgbClr val="5f5f5f"/>
                </a:solidFill>
                <a:latin typeface="Tahoma"/>
              </a:rPr>
              <a:t>на потребляемые ресурс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11"/>
          <p:cNvSpPr/>
          <p:nvPr/>
        </p:nvSpPr>
        <p:spPr>
          <a:xfrm>
            <a:off x="6156360" y="1413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12"/>
          <p:cNvSpPr/>
          <p:nvPr/>
        </p:nvSpPr>
        <p:spPr>
          <a:xfrm>
            <a:off x="4716360" y="162864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14"/>
          <p:cNvSpPr/>
          <p:nvPr/>
        </p:nvSpPr>
        <p:spPr>
          <a:xfrm>
            <a:off x="4859280" y="1557360"/>
            <a:ext cx="100800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боты по инвестиционному проектированию выполняются по трем основным направлениям: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6" name="Diagram 7"/>
          <p:cNvGrpSpPr/>
          <p:nvPr/>
        </p:nvGrpSpPr>
        <p:grpSpPr>
          <a:xfrm>
            <a:off x="2362680" y="2173320"/>
            <a:ext cx="4343760" cy="3763080"/>
            <a:chOff x="2362680" y="2173320"/>
            <a:chExt cx="4343760" cy="3763080"/>
          </a:xfrm>
        </p:grpSpPr>
        <p:sp>
          <p:nvSpPr>
            <p:cNvPr id="967" name="_s1028"/>
            <p:cNvSpPr/>
            <p:nvPr/>
          </p:nvSpPr>
          <p:spPr>
            <a:xfrm>
              <a:off x="3209760" y="2173320"/>
              <a:ext cx="2651400" cy="2651040"/>
            </a:xfrm>
            <a:custGeom>
              <a:avLst/>
              <a:gdLst>
                <a:gd name="textAreaLeft" fmla="*/ 0 w 2651400"/>
                <a:gd name="textAreaRight" fmla="*/ 2651760 w 2651400"/>
                <a:gd name="textAreaTop" fmla="*/ 0 h 2651040"/>
                <a:gd name="textAreaBottom" fmla="*/ 2651400 h 26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8" name="_s1029"/>
            <p:cNvSpPr/>
            <p:nvPr/>
          </p:nvSpPr>
          <p:spPr>
            <a:xfrm rot="7200000">
              <a:off x="3569760" y="2799720"/>
              <a:ext cx="2651040" cy="2651400"/>
            </a:xfrm>
            <a:custGeom>
              <a:avLst/>
              <a:gdLst>
                <a:gd name="textAreaLeft" fmla="*/ 0 w 2651040"/>
                <a:gd name="textAreaRight" fmla="*/ 2651400 w 2651040"/>
                <a:gd name="textAreaTop" fmla="*/ 0 h 2651400"/>
                <a:gd name="textAreaBottom" fmla="*/ 2651760 h 26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_s1030"/>
            <p:cNvSpPr/>
            <p:nvPr/>
          </p:nvSpPr>
          <p:spPr>
            <a:xfrm rot="14400000">
              <a:off x="2847240" y="2798280"/>
              <a:ext cx="2651400" cy="2651040"/>
            </a:xfrm>
            <a:custGeom>
              <a:avLst/>
              <a:gdLst>
                <a:gd name="textAreaLeft" fmla="*/ 0 w 2651400"/>
                <a:gd name="textAreaRight" fmla="*/ 2651760 w 2651400"/>
                <a:gd name="textAreaTop" fmla="*/ 0 h 2651040"/>
                <a:gd name="textAreaBottom" fmla="*/ 2651400 h 26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_s1031"/>
            <p:cNvSpPr/>
            <p:nvPr/>
          </p:nvSpPr>
          <p:spPr>
            <a:xfrm>
              <a:off x="5261040" y="265752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_s1032"/>
            <p:cNvSpPr/>
            <p:nvPr/>
          </p:nvSpPr>
          <p:spPr>
            <a:xfrm>
              <a:off x="4003560" y="4835520"/>
              <a:ext cx="10638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_s1033"/>
            <p:cNvSpPr/>
            <p:nvPr/>
          </p:nvSpPr>
          <p:spPr>
            <a:xfrm>
              <a:off x="2746440" y="2658960"/>
              <a:ext cx="106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3" name="Rectangle 14"/>
          <p:cNvSpPr/>
          <p:nvPr/>
        </p:nvSpPr>
        <p:spPr>
          <a:xfrm>
            <a:off x="38160" y="3212640"/>
            <a:ext cx="43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работка новых проектов 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дготовка технико-экономически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снова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Rectangle 17"/>
          <p:cNvSpPr/>
          <p:nvPr/>
        </p:nvSpPr>
        <p:spPr>
          <a:xfrm>
            <a:off x="5219640" y="3075480"/>
            <a:ext cx="28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Актуализация ранее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аботанных про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3564000" y="5199840"/>
            <a:ext cx="200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Независима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кспертиз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вестиционны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ек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Organization Chart 6"/>
          <p:cNvGrpSpPr/>
          <p:nvPr/>
        </p:nvGrpSpPr>
        <p:grpSpPr>
          <a:xfrm>
            <a:off x="431640" y="266760"/>
            <a:ext cx="8208360" cy="5686920"/>
            <a:chOff x="431640" y="266760"/>
            <a:chExt cx="8208360" cy="5686920"/>
          </a:xfrm>
        </p:grpSpPr>
        <p:cxnSp>
          <p:nvCxnSpPr>
            <p:cNvPr id="977" name="_s2052"/>
            <p:cNvCxnSpPr>
              <a:stCxn id="978" idx="1"/>
              <a:endCxn id="979" idx="2"/>
            </p:cNvCxnSpPr>
            <p:nvPr/>
          </p:nvCxnSpPr>
          <p:spPr>
            <a:xfrm rot="10800000">
              <a:off x="4535280" y="1687680"/>
              <a:ext cx="411120" cy="142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0" name="_s2053"/>
            <p:cNvCxnSpPr>
              <a:stCxn id="981" idx="3"/>
              <a:endCxn id="979" idx="2"/>
            </p:cNvCxnSpPr>
            <p:nvPr/>
          </p:nvCxnSpPr>
          <p:spPr>
            <a:xfrm flipV="1">
              <a:off x="4125240" y="1687680"/>
              <a:ext cx="411120" cy="142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2" name="_s2054"/>
            <p:cNvCxnSpPr>
              <a:stCxn id="983" idx="0"/>
              <a:endCxn id="979" idx="2"/>
            </p:cNvCxnSpPr>
            <p:nvPr/>
          </p:nvCxnSpPr>
          <p:spPr>
            <a:xfrm flipV="1" rot="16200000">
              <a:off x="4550400" y="1672920"/>
              <a:ext cx="2844000" cy="2873520"/>
            </a:xfrm>
            <a:prstGeom prst="bentConnector3">
              <a:avLst>
                <a:gd name="adj1" fmla="val 40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4" name="_s2055"/>
            <p:cNvCxnSpPr>
              <a:stCxn id="985" idx="0"/>
              <a:endCxn id="979" idx="2"/>
            </p:cNvCxnSpPr>
            <p:nvPr/>
          </p:nvCxnSpPr>
          <p:spPr>
            <a:xfrm flipV="1">
              <a:off x="4536000" y="1688040"/>
              <a:ext cx="3600" cy="2844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6" name="_s2056"/>
            <p:cNvCxnSpPr>
              <a:stCxn id="987" idx="0"/>
              <a:endCxn id="979" idx="2"/>
            </p:cNvCxnSpPr>
            <p:nvPr/>
          </p:nvCxnSpPr>
          <p:spPr>
            <a:xfrm flipH="1" flipV="1" rot="5400000">
              <a:off x="1677240" y="1673280"/>
              <a:ext cx="2844000" cy="2873520"/>
            </a:xfrm>
            <a:prstGeom prst="bentConnector3">
              <a:avLst>
                <a:gd name="adj1" fmla="val 40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9" name="_s2057"/>
            <p:cNvSpPr/>
            <p:nvPr/>
          </p:nvSpPr>
          <p:spPr>
            <a:xfrm>
              <a:off x="3304440" y="26676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Инвестиционный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проект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состоит из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нескольких этапов: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_s2058"/>
            <p:cNvSpPr/>
            <p:nvPr/>
          </p:nvSpPr>
          <p:spPr>
            <a:xfrm>
              <a:off x="431640" y="453204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 Инвестиционное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предложение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5" name="_s2059"/>
            <p:cNvSpPr/>
            <p:nvPr/>
          </p:nvSpPr>
          <p:spPr>
            <a:xfrm>
              <a:off x="3304440" y="453204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Разработка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бизнес пла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_s2060"/>
            <p:cNvSpPr/>
            <p:nvPr/>
          </p:nvSpPr>
          <p:spPr>
            <a:xfrm>
              <a:off x="6177600" y="453204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Разработка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инвестиционной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ограмм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_s2061"/>
            <p:cNvSpPr/>
            <p:nvPr/>
          </p:nvSpPr>
          <p:spPr>
            <a:xfrm>
              <a:off x="1662840" y="239940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 Аналитический отчет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о инвестиционным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возможностям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омпании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_s2062"/>
            <p:cNvSpPr/>
            <p:nvPr/>
          </p:nvSpPr>
          <p:spPr>
            <a:xfrm>
              <a:off x="4946400" y="2399400"/>
              <a:ext cx="2462400" cy="142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 Разработка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технико-экономического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обоснования проект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5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9" name="Picture 4" descr="http://www.tatneft.ru/wps/tatneft/htmleditor/image/43546e5aba7688f8d760a6ffbf102d7858d6b7d5.gif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6"/>
          <p:cNvSpPr/>
          <p:nvPr/>
        </p:nvSpPr>
        <p:spPr>
          <a:xfrm>
            <a:off x="1066680" y="0"/>
            <a:ext cx="660600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цедура рассмотрения инвестиционных проек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AutoShape 4"/>
          <p:cNvSpPr/>
          <p:nvPr/>
        </p:nvSpPr>
        <p:spPr>
          <a:xfrm>
            <a:off x="324000" y="0"/>
            <a:ext cx="8064360" cy="6858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Инвестиционное проектирование - это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разработка комплексной стратегии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финансирования бизнес - подразделения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или предприятия в целом.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Основой инвестиционного проектирования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является детальный анализ рынка,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огноза производства и сбыта, 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а также структуры капитал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26:47Z</dcterms:created>
  <dc:creator>Admin</dc:creator>
  <dc:description/>
  <dc:language>en-US</dc:language>
  <cp:lastModifiedBy>ноут</cp:lastModifiedBy>
  <dcterms:modified xsi:type="dcterms:W3CDTF">2011-06-03T08:22:57Z</dcterms:modified>
  <cp:revision>10</cp:revision>
  <dc:subject/>
  <dc:title>тема: Инвестиционное проектирование в рыночных условиях</dc:title>
</cp:coreProperties>
</file>