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DD4-0059-465C-82C5-000BDFF6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224-23FB-4D8E-93E4-A40B8E2B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958-E60B-4172-98E8-2C058DA7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ABF-1207-479E-BEA6-CE71E505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49FA-8E2A-48EF-92A7-6344C258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C4A5-9158-4D39-A5A2-AF4E8786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161C-E8D9-4AC0-91C1-ED9FB671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69A2-FDFF-43C1-ABF0-F4F1B187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9557-A754-4CD5-9357-E2CE6372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77AF-CE53-4A81-82CD-316CB273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FDD2-42C2-4116-BE5D-9B3765E3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18AB-7AC4-459E-B331-CF65FC34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2E69-8627-4A22-9931-0B0AAA60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E980-1597-40B6-9558-8D9C4B05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A944-BEAE-41C9-966E-A5585625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7153-0894-4C23-BC01-B9F54EA7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C0FB-7C2D-4AC8-B764-31A79CD9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62F-36BE-4C02-B34F-CEC55182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BF1-B8BB-4523-840D-2D313A73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816-A645-44A5-A660-B845BF95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7DA8-B486-4750-8B65-91A0007B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FB9-8EF0-4C2A-B589-4D065AED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980-A683-4C78-A2C6-D075530C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B2C-4BA7-4427-A815-BBEF91C9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7C09-62CF-4FAD-9079-C08E1D2FE80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FB52-4FE7-429B-81F5-8F41C519BC0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684360" y="620640"/>
            <a:ext cx="77752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гиональные проблемы развития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вестиционной деятельност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Такие отрасли, как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изводственная инфраструктур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брабатывающая промышлен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бъекты города Аста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Жилье, объекты социальной сферы и туризм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ельское хозяйств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На улучшение инвестиционной деятельности влияет и уровень развития малого и среднего бизнеса  в республике              экономика любого государства не может нормально функционировать и развиваться без оптимального сочетания крупного, среднего и малого бизне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276720" y="3141720"/>
            <a:ext cx="1079280" cy="485640"/>
          </a:xfrm>
          <a:prstGeom prst="rightArrow">
            <a:avLst>
              <a:gd name="adj1" fmla="val 50000"/>
              <a:gd name="adj2" fmla="val 5556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остранные инвестици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грают очень важную рол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экономике любого государства или отдельной республ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сновными инвестора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вложившими в экономику РК свои капиталы являются такие страны, ка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рм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ликобрит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Южная Коре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ивлечение иностранных инвестиций создает условия для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Реального улучшения производственной структуры экономики Казахстан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Создание нового высокотехнологичного производст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Модернизации основных фондов и технического перевооружения многих предприя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Эффективного использования имеющегося потенциала квалифицированных специалистов и рабочих республ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Внедрение передовых достижений в области менеджмента, маркетинга и ноу-ха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Arial"/>
              </a:rPr>
              <a:t>С участием иностранного капитала можно решать следующие задачи: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илить экспортную экспансию страны и упрочить ее позиции на внешних рынк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импортозамещающие произ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величить налоговые поступления в государственный бюдже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действовать развитию отсталых и депрессивных район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ть новые рабочие места в национальной экономи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стигнуть экономической самостоятельности Казахст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В феврале 1997 года был принят Зако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«О государственной поддержке прямых инвестиций»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который четко определил положение инвесторов делающих влияние в приоритетных секторах экономики Казахстана, а также перечень льгот и преференций, предоставляемых иностранным инвестор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Потребность РК в притоке иностранных инвестиций очень велика. Только в ключевые отрасли промышленности требуются десятки миллиардов доллар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Большой круг инвестиционных проблем в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егкой промышлен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щевой промышлен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льском хозяй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остранные инвестиции не могут быть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ационализирован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экспроприирован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одвергну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ным мерам, имеющим такие же последствия, как национализация или экспроприация, за исключением случаев, когда такая экспроприация осуществляется в общественных интерес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ff"/>
                </a:solidFill>
                <a:latin typeface="Arial"/>
              </a:rPr>
              <a:t>Региональные и отраслевые проблемы реализации инвестиционной политик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328428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егиональный брендинг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нормативно-правовой базы для привлечения инвестиций в химическую и нефтехимическую промышлен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регионального фонда по страхованию инвести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специализированного регионального органа и в координации инвестиционной деятельности данной отрасли промышл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41800" y="2492280"/>
            <a:ext cx="64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сновные задачи по направлениям состоят в следующе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Целью государственной поддержки прямых инвестиций является </a:t>
            </a:r>
            <a:r>
              <a:rPr b="1" lang="ru-RU" sz="3200" spc="-1" strike="noStrike" u="sng">
                <a:solidFill>
                  <a:srgbClr val="cc00cc"/>
                </a:solidFill>
                <a:uFillTx/>
                <a:latin typeface="Comic Sans MS"/>
              </a:rPr>
              <a:t>создание благоприятного инвестиционного климата для обеспечения ускоренного развития производства товаров, работ и оказания услуг в приоритетных секторах экономики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, перечень которых утверждается Президентом Р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орпоративный брендинг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имулирование создания инвестиционно-активных корпоративных структур и улучшения их имиджа за пределами регион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держка перспективных, корпоративных структур и вывод их с микро- на мезоуровен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имулирование региональной вертикальной и горизонтальной интеграции для увеличения гибкости инвестиционных ресур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3. Фискальные ме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вестиционное налоговое кредит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структуризация взаимных долгов и нетарифное регулирование экономических отнош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Arial"/>
              </a:rPr>
              <a:t>В процессе достижения цели РК решает следующие задач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73200" y="1816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едрение новых технологий, передовой технологии и ноу-ха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ыщение внутреннего рынка высококачественными товарами и услуг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ударственная поддержка и стимулирование отечественных товаропроизвод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экспортоориентированных и импортозамещающих производ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циональное и комплексное использование сырьевой базы Р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едрение современных методов менеджмента и маркетин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Реальные инвестиции  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капиталообразующие инвестиции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ключают следующие элемен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вестиции в основной капита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траты на капитальный ремон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вестиции на приобретение земельных участков и объектов природопольз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вестиции в нематериальные актив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вестиции в пополнение запасов материальных оборотны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4716360" y="907920"/>
            <a:ext cx="486000" cy="420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остояние инвестиционной деятельности характеризует динамика следующих показателей: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его объема инвестиц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и инвестиций в ВВП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и реальных инвестиций в общем объеме инвестиц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ей величины реальных инвестиц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и реальных инвестиций, направляемых в основной капитал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остояние инвестиционной деятельности, характеризуют темпы роста основных макроэкономических показателей: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ционального доход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ВП и ВНП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ема промышленного производ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уска отдельных важнейших видов промышленной продук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ема сельскохозяйственного производ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зводительности общественного труда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3645000"/>
            <a:ext cx="5483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блема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 инвести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бере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 rot="21079800">
            <a:off x="1125000" y="2122560"/>
            <a:ext cx="719280" cy="1008000"/>
          </a:xfrm>
          <a:custGeom>
            <a:avLst/>
            <a:gdLst>
              <a:gd name="textAreaLeft" fmla="*/ 96120 w 719280"/>
              <a:gd name="textAreaRight" fmla="*/ 623160 w 719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684360" y="472428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Rockwell Extra Bold"/>
              </a:rPr>
              <a:t>Сбережения осуществляются одними хозяйствующими субъектами, а инвестиции могут осуществлять совсем другие группы лиц или хозяйствующих субъе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 flipH="1">
            <a:off x="1476360" y="4221000"/>
            <a:ext cx="792000" cy="21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1476360" y="443700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3924360" y="4221000"/>
            <a:ext cx="863640" cy="21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4788000" y="4437000"/>
            <a:ext cx="0" cy="21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icrosoft PhagsPa"/>
              </a:rPr>
              <a:t>В процессе перехода РК на рыночные отношения создавалась нормативно-законодательная база в области инвестици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8 февраля 1997 г. №75-1 ЗРК Закон «о государственной поддержке прямых инвестици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апреля 1997 г. №3444 Указом Президента «об утверждении перечня приоритетных секторов экономики для привлечения прямых отечественных и иностранных инвестиций», был определен список наиболее приоритетных и важных производств для привлечения инвести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7:21:53Z</dcterms:created>
  <dc:creator>1</dc:creator>
  <dc:description/>
  <dc:language>en-US</dc:language>
  <cp:lastModifiedBy>ноут</cp:lastModifiedBy>
  <dcterms:modified xsi:type="dcterms:W3CDTF">2011-06-03T08:22:27Z</dcterms:modified>
  <cp:revision>3</cp:revision>
  <dc:subject/>
  <dc:title>Слайд 1</dc:title>
</cp:coreProperties>
</file>