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1A58-10DB-4E11-A83E-EF19AC987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AA95-3AED-4E81-9981-57B924A2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D9A0-35A0-45A2-A8AC-EC852A32C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2143-57A5-4344-8D3D-D6ACDDB96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55A0-0CC0-4142-8982-6230E700D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03454-44E1-41B5-8899-AD8203CE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3608-7A48-480C-8A4B-BDCBC35E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3603-42F4-4BCA-83FA-3710FCFD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27CF1-2E65-4B87-BC85-0C72146C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BF50-DF0B-45B8-9135-3BDC5169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A417-B5F1-4A88-8699-CBF3E5A1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E752-51DC-4184-9F89-FEE80B91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1E70-550A-45D2-8BC5-543746D8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1A41-DB62-42C8-8C7A-EC42417D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885E-B6BA-4A08-A8FB-FE079080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F346-4BD3-466F-AE02-B4B1BC467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40A4-C6B2-411A-92F1-C1825B8FA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19D7-5D0A-4CBC-AEEE-676354FB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8ED6-C043-4A8A-9882-D51D97EF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99CD-D177-405A-B439-1737B613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CFF9-6283-4384-A6D9-4BF3960C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9CCB-0AF5-45CE-9C5B-40E42252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E6A5-9BDC-410A-BA3D-A707FAC7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FD59-09DF-436A-B12E-FFBAB84C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9489-A103-48F5-8E16-E56BCC6E65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9752-1FC6-443C-95DB-091CD44858B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Издержки производства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и себестоимость продукц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82600" y="1557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3333cc"/>
                </a:solidFill>
                <a:latin typeface="Sylfaen"/>
              </a:rPr>
              <a:t>В зависимости от связи затрат с процессом производства  различают  цеховую , производственную и полную себестоимость продукци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Sylfaen"/>
              </a:rPr>
              <a:t>Цеховая себестоимость включает стоимость затрат , связанных с производством продукции в цехах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Sylfaen"/>
              </a:rPr>
              <a:t>Производственная себестоимость включает цеховую себестоимость и расходы , связанные с управлением , организацией и обслуживанием предприятия в цело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Sylfaen"/>
              </a:rPr>
              <a:t>Полная себестоимость включает производственную себестоимость и внепроизводственные расходы , связанные с реализацией продукции и другими расходами , не относящимися к производству продукц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Sylfaen"/>
              </a:rPr>
              <a:t>Применяются различные методы калькулирования промышленной продукции : прямого счета , расчетно - аналитический , нормативный , параметрический , исключения затрат , коэффициентный и комбинированны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6000"/>
                            </p:stCondLst>
                            <p:childTnLst>
                              <p:par>
                                <p:cTn id="18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8000"/>
                            </p:stCondLst>
                            <p:childTnLst>
                              <p:par>
                                <p:cTn id="19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_Romanus"/>
              </a:rPr>
              <a:t>Применение того или иного метода зависит от вида производимой продукции , характера технологического процесса , особенностей перерабатываемого сырья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184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33cc"/>
                </a:solidFill>
                <a:latin typeface="Sylfaen"/>
              </a:rPr>
              <a:t>Метод прямого счета</a:t>
            </a:r>
            <a:r>
              <a:rPr b="0" lang="ru-RU" sz="2100" spc="-1" strike="noStrike">
                <a:solidFill>
                  <a:srgbClr val="3333cc"/>
                </a:solidFill>
                <a:latin typeface="Sylfaen"/>
              </a:rPr>
              <a:t> применяется на предприятиях  , производящих однородную продукцию. При этом методе издержки на единицу продукции определяются путем деления общей суммы издержек на количество выработанной продукции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cc"/>
                </a:solidFill>
                <a:latin typeface="Sylfaen"/>
              </a:rPr>
              <a:t>В многоменклатурных производствах более распространен </a:t>
            </a:r>
            <a:r>
              <a:rPr b="1" lang="ru-RU" sz="2100" spc="-1" strike="noStrike">
                <a:solidFill>
                  <a:srgbClr val="3333cc"/>
                </a:solidFill>
                <a:latin typeface="Sylfaen"/>
              </a:rPr>
              <a:t>расчетно - аналитический метод</a:t>
            </a:r>
            <a:r>
              <a:rPr b="0" lang="ru-RU" sz="2100" spc="-1" strike="noStrike">
                <a:solidFill>
                  <a:srgbClr val="3333cc"/>
                </a:solidFill>
                <a:latin typeface="Sylfaen"/>
              </a:rPr>
              <a:t>. Сущность его заключается в том , что прямые затраты на еденицу продукции определяются на основе прогрессивных норм расхода ресурсов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33cc"/>
                </a:solidFill>
                <a:latin typeface="Sylfaen"/>
              </a:rPr>
              <a:t>Нормативный метод</a:t>
            </a:r>
            <a:r>
              <a:rPr b="0" lang="ru-RU" sz="2100" spc="-1" strike="noStrike">
                <a:solidFill>
                  <a:srgbClr val="3333cc"/>
                </a:solidFill>
                <a:latin typeface="Sylfaen"/>
              </a:rPr>
              <a:t> - наиболее прогресивный. Он базируется на нормах и нормативах использования материальных и трудовых ресурсов , пригоден для разработки калькуляций на новые виды продукции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_Romanus"/>
              </a:rPr>
              <a:t>Применение того или иного метода зависит от вида производимой продукции , характера технологического процесса , особенностей перерабатываемого сырья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33cc"/>
                </a:solidFill>
                <a:latin typeface="Sylfaen"/>
              </a:rPr>
              <a:t>Параметрический метод</a:t>
            </a:r>
            <a:r>
              <a:rPr b="0" lang="ru-RU" sz="2100" spc="-1" strike="noStrike">
                <a:solidFill>
                  <a:srgbClr val="3333cc"/>
                </a:solidFill>
                <a:latin typeface="Sylfaen"/>
              </a:rPr>
              <a:t> - применяется для расчета издержек производства однотипных , но разных по качеству изделий. Он основывается на установлений закономерности изменения издержек в зависимости от изменения качественных параметров продукции.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33cc"/>
                </a:solidFill>
                <a:latin typeface="Sylfaen"/>
              </a:rPr>
              <a:t>Методы исключения затрат</a:t>
            </a:r>
            <a:r>
              <a:rPr b="0" lang="ru-RU" sz="2100" spc="-1" strike="noStrike">
                <a:solidFill>
                  <a:srgbClr val="3333cc"/>
                </a:solidFill>
                <a:latin typeface="Sylfaen"/>
              </a:rPr>
              <a:t> , коэффициентный и комбинированный основаны на определении общей суммы всех затрат на переработку исходного сырья и последующим ее распределением на получаемую продукцию. Эти методы используются в комплексных производствах  , т. е. таким  , где из одного исходного сырья , в едином технологическом процессе получают два или несколько разнородных видов продукции</a:t>
            </a: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_Romanus"/>
              </a:rPr>
              <a:t>Себестоимость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_Romanus"/>
              </a:rPr>
              <a:t>-</a:t>
            </a:r>
            <a:r>
              <a:rPr b="1" i="1" lang="ru-RU" sz="2800" spc="-1" strike="noStrike">
                <a:solidFill>
                  <a:srgbClr val="3333cc"/>
                </a:solidFill>
                <a:latin typeface="a_Romanus"/>
              </a:rPr>
              <a:t>это стоимостная оценка используемых в процессе производства продукции (работ, услуг) природных ресурсов, сырья, материалов, топлива, энергии, основных фондов, трудовых ресурсов и других затрат на ее производство и реализацию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В экономической науке и для прикладных задач выделяется несколько типов себестоимости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Полная себестоимость </a:t>
            </a:r>
            <a:r>
              <a:rPr b="0" lang="ru-RU" sz="2400" spc="-1" strike="noStrike">
                <a:solidFill>
                  <a:srgbClr val="3333cc"/>
                </a:solidFill>
                <a:latin typeface="Tahoma"/>
              </a:rPr>
              <a:t>(средняя) — соотношение полных издержек к объему производств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Предельная себестоимость </a:t>
            </a:r>
            <a:r>
              <a:rPr b="0" lang="ru-RU" sz="2400" spc="-1" strike="noStrike">
                <a:solidFill>
                  <a:srgbClr val="3333cc"/>
                </a:solidFill>
                <a:latin typeface="Tahoma"/>
              </a:rPr>
              <a:t>— это себестоимость каждой последующей произведенной единицы продукци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000"/>
                            </p:stCondLst>
                            <p:childTnLst>
                              <p:par>
                                <p:cTn id="27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Виды себестоимости: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Tahoma"/>
              </a:rPr>
              <a:t>Себестоимость</a:t>
            </a: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3333cc"/>
                </a:solidFill>
                <a:latin typeface="Sylfaen"/>
              </a:rPr>
              <a:t>по статьям калькуляции (распределение затрат для составления себестоимости по статьям учета)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Себестоимость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3333cc"/>
                </a:solidFill>
                <a:latin typeface="Sylfaen"/>
              </a:rPr>
              <a:t>по элементам затрат</a:t>
            </a:r>
            <a:r>
              <a:rPr b="0" lang="en-US" sz="3200" spc="-1" strike="noStrike">
                <a:solidFill>
                  <a:srgbClr val="3333cc"/>
                </a:solidFill>
                <a:latin typeface="Sylfae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6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6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6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400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Sylfaen"/>
              </a:rPr>
              <a:t>В себестоимость продукций включаются 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cc"/>
                </a:solidFill>
                <a:latin typeface="Sylfaen"/>
              </a:rPr>
              <a:t> </a:t>
            </a:r>
            <a:r>
              <a:rPr b="0" i="1" lang="ru-RU" sz="2000" spc="-1" strike="noStrike">
                <a:solidFill>
                  <a:srgbClr val="3333cc"/>
                </a:solidFill>
                <a:latin typeface="Sylfaen"/>
              </a:rPr>
              <a:t>-     затраты на подготовку и освоение производства 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cc"/>
                </a:solidFill>
                <a:latin typeface="Sylfaen"/>
              </a:rPr>
              <a:t>-     затраты , непосредственно связаные с производством продукции ,  обусловленные технологией и организацией производства 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cc"/>
                </a:solidFill>
                <a:latin typeface="Sylfaen"/>
              </a:rPr>
              <a:t>-     затраты на оплату труда 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cc"/>
                </a:solidFill>
                <a:latin typeface="Sylfaen"/>
              </a:rPr>
              <a:t>-     затраты , связанные с использованием природного сырья 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cc"/>
                </a:solidFill>
                <a:latin typeface="Sylfaen"/>
              </a:rPr>
              <a:t>-     затраты некапитального характера , связанные с совершенствованием технологий  и организацией производства , а так же с улучшением качества продукции 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cc"/>
                </a:solidFill>
                <a:latin typeface="Sylfaen"/>
              </a:rPr>
              <a:t>-     расходы , связанные с изобритательством , техническим усовершенствованием и рационализаторскими  предложениями 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6000"/>
                            </p:stCondLst>
                            <p:childTnLst>
                              <p:par>
                                <p:cTn id="3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8000"/>
                            </p:stCondLst>
                            <p:childTnLst>
                              <p:par>
                                <p:cTn id="3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2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Sylfaen"/>
              </a:rPr>
              <a:t>В себестоимость продукций включаются 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cc"/>
                </a:solidFill>
                <a:latin typeface="Sylfaen"/>
              </a:rPr>
              <a:t>-     -     платежи по страхованию имущества предприятий 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cc"/>
                </a:solidFill>
                <a:latin typeface="Sylfaen"/>
              </a:rPr>
              <a:t>-     затраты на оплату процентов  по краткосрочным ссудам  банков , оплата услуг банков 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cc"/>
                </a:solidFill>
                <a:latin typeface="Sylfaen"/>
              </a:rPr>
              <a:t>-     затраты по гарантийному обслуживанию 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cc"/>
                </a:solidFill>
                <a:latin typeface="Sylfaen"/>
              </a:rPr>
              <a:t>-     расходы , связанные со сбытом продукций 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cc"/>
                </a:solidFill>
                <a:latin typeface="Sylfaen"/>
              </a:rPr>
              <a:t>-     затраты на воспроизводство основных производственных фондов ( аммортизация ) 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cc"/>
                </a:solidFill>
                <a:latin typeface="Sylfaen"/>
              </a:rPr>
              <a:t>-     потери от брака 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cc"/>
                </a:solidFill>
                <a:latin typeface="Sylfaen"/>
              </a:rPr>
              <a:t>-     потери от простоев  по внутрипроизводственным причинам 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60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80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4000"/>
                            </p:stCondLst>
                            <p:childTnLst>
                              <p:par>
                                <p:cTn id="3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99"/>
                </a:solidFill>
                <a:latin typeface="Sylfaen"/>
              </a:rPr>
              <a:t>В себестоимость продукций включаются 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56612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cc"/>
                </a:solidFill>
                <a:latin typeface="Sylfaen"/>
              </a:rPr>
              <a:t>-     затраты по обслуживанию производственного процесса (  текущий , средний и капитальный ремонт ) 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cc"/>
                </a:solidFill>
                <a:latin typeface="Sylfaen"/>
              </a:rPr>
              <a:t>-     затраты по обеспечению нормальных условий труда и техники безопасности 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cc"/>
                </a:solidFill>
                <a:latin typeface="Sylfaen"/>
              </a:rPr>
              <a:t>-     расходы , связанные с набором рабочей силы 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cc"/>
                </a:solidFill>
                <a:latin typeface="Sylfaen"/>
              </a:rPr>
              <a:t>-     текущие расходы , связанные с содержанием и эксплуатацией фондов природоохранного назначения 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cc"/>
                </a:solidFill>
                <a:latin typeface="Sylfaen"/>
              </a:rPr>
              <a:t>-     расхроды , связанные с управлением производством 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cc"/>
                </a:solidFill>
                <a:latin typeface="Sylfaen"/>
              </a:rPr>
              <a:t>затраты , связанные с подготовкой и переподготовкой кадров 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cc"/>
                </a:solidFill>
                <a:latin typeface="Sylfaen"/>
              </a:rPr>
              <a:t>-     расходы по транспортировке работников к месту работы и обратно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cc"/>
                </a:solidFill>
                <a:latin typeface="Sylfaen"/>
              </a:rPr>
              <a:t>-     выплаты , предусмотренные законодательством о труде  ( оплата отпусков , компенсаций и т.д. ) 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cc"/>
                </a:solidFill>
                <a:latin typeface="Sylfaen"/>
              </a:rPr>
              <a:t>-     отчисления на государственное социальное страхование и пенсионное обеспечение , в фонд занятости от затрат на оплату  труда работников , занятых в производстве соответствующей продукции 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cc"/>
                </a:solidFill>
                <a:latin typeface="Sylfaen"/>
              </a:rPr>
              <a:t>-     отчисления по обязательному медицинскому страхованию 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4000"/>
                            </p:stCondLst>
                            <p:childTnLst>
                              <p:par>
                                <p:cTn id="3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8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6000"/>
                            </p:stCondLst>
                            <p:childTnLst>
                              <p:par>
                                <p:cTn id="3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8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8000"/>
                            </p:stCondLst>
                            <p:childTnLst>
                              <p:par>
                                <p:cTn id="3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8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8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8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4000"/>
                            </p:stCondLst>
                            <p:childTnLst>
                              <p:par>
                                <p:cTn id="4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8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6000"/>
                            </p:stCondLst>
                            <p:childTnLst>
                              <p:par>
                                <p:cTn id="4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8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8000"/>
                            </p:stCondLst>
                            <p:childTnLst>
                              <p:par>
                                <p:cTn id="4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8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0000"/>
                            </p:stCondLst>
                            <p:childTnLst>
                              <p:par>
                                <p:cTn id="4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8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Shruti"/>
              </a:rPr>
              <a:t>Структура себестоимости по статьям калькуляци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1) материалы, прочее (комплектующие, полуфабрикаты, агрегаты, узлы и т. д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2) Топливо, энергия идущая на производств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3) Амортизация основных производственных фондов группа основных средств: оборудование, станки, техника и т.п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4) Основная заработная плата основного персонала (оклад, тариф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5) Дополнительная заработная плата основного персонала (надбавки, доплаты к тарифным ставкам и должностным окладам в размерах, предусмотренных действующим законодательством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6) Отчисления на социальные мероприятия (пенсионный фонд, фонд безработицы, фонд социального страхования, фонд платы за несчастные случаи; начисляется процентом от основной заработной платы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45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3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7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6000"/>
                            </p:stCondLst>
                            <p:childTnLst>
                              <p:par>
                                <p:cTn id="45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1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8000"/>
                            </p:stCondLst>
                            <p:childTnLst>
                              <p:par>
                                <p:cTn id="46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5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9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3" dur="2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_Romanus"/>
              </a:rPr>
              <a:t>1.</a:t>
            </a:r>
            <a:r>
              <a:rPr b="1" lang="ru-RU" sz="3600" spc="-1" strike="noStrike">
                <a:solidFill>
                  <a:srgbClr val="333399"/>
                </a:solidFill>
                <a:latin typeface="a_Romanus"/>
              </a:rPr>
              <a:t>Издержки производства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_Romanus"/>
              </a:rPr>
              <a:t>Количество товара , которое будет продаваться на рынке зависит от уровня издержек ( затрат ) -  во-первых  , и цены , по которым товар будет продаваться - во-вторых .  Из этого следует , что значение издержек производства является одним из условий успеха на рынк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Sylfaen"/>
              </a:rPr>
              <a:t>Таким образом, становится понятно, что при отсутствии реального представления о том, что же такое себестоимость товара, невозможно вычислить и рентабельность всего производства, а значит не удастся оценить и развитие всего бизнеса. Без чего в свою очередь нельзя будет определить основополагающие цели и задачи для дальнейшего развития всей компан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23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3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Stencil"/>
              </a:rPr>
              <a:t>Понятие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_Romanus"/>
              </a:rPr>
              <a:t>Издержки производства - это денежное выражение затрат производственных факторов , необходимых для осуществления</a:t>
            </a:r>
            <a:r>
              <a:rPr b="1" i="1" lang="en-US" sz="2800" spc="-1" strike="noStrike">
                <a:solidFill>
                  <a:srgbClr val="3333cc"/>
                </a:solidFill>
                <a:latin typeface="a_Romanus"/>
              </a:rPr>
              <a:t> предприятием своей производственной и коммерческой деятельности</a:t>
            </a:r>
            <a:r>
              <a:rPr b="1" i="1" lang="en-US" sz="2800" spc="-1" strike="noStrike">
                <a:solidFill>
                  <a:srgbClr val="000000"/>
                </a:solidFill>
                <a:latin typeface="a_Romanu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116000" y="2017800"/>
            <a:ext cx="77040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cc"/>
                </a:solidFill>
                <a:uFillTx/>
                <a:latin typeface="Dotum"/>
              </a:rPr>
              <a:t>    </a:t>
            </a:r>
            <a:r>
              <a:rPr b="1" i="1" lang="ru-RU" sz="2200" spc="-1" strike="noStrike" u="sng">
                <a:solidFill>
                  <a:srgbClr val="3333cc"/>
                </a:solidFill>
                <a:uFillTx/>
                <a:latin typeface="Dotum"/>
              </a:rPr>
              <a:t>Они находят свое выражение в показателях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3333cc"/>
                </a:solidFill>
                <a:uFillTx/>
                <a:latin typeface="Dotum"/>
              </a:rPr>
              <a:t>себестоимости продукции , которая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3333cc"/>
                </a:solidFill>
                <a:uFillTx/>
                <a:latin typeface="Dotum"/>
              </a:rPr>
              <a:t>характеризует в денежном выражении все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3333cc"/>
                </a:solidFill>
                <a:uFillTx/>
                <a:latin typeface="Dotum"/>
              </a:rPr>
              <a:t>материальные затраты и затраты на оплату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3333cc"/>
                </a:solidFill>
                <a:uFillTx/>
                <a:latin typeface="Dotum"/>
              </a:rPr>
              <a:t>труда , которые необходимы для производства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3333cc"/>
                </a:solidFill>
                <a:uFillTx/>
                <a:latin typeface="Dotum"/>
              </a:rPr>
              <a:t>и реализации продукций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8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8000"/>
                            </p:stCondLst>
                            <p:childTnLst>
                              <p:par>
                                <p:cTn id="5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6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0" dur="2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Dotum"/>
              </a:rPr>
              <a:t> </a:t>
            </a:r>
            <a:r>
              <a:rPr b="1" i="1" lang="ru-RU" sz="2000" spc="-1" strike="noStrike">
                <a:solidFill>
                  <a:srgbClr val="3333cc"/>
                </a:solidFill>
                <a:latin typeface="Dotum"/>
              </a:rPr>
              <a:t>Однако , ресурсы , использованные для изготовления продукций , не отражают всего объема затрат на осуществление производственно - хозяйственной деятельности предприятия. Кроме затрат , связанных с производством продукций , предприятие несет расходы по ее сбыту и продвижению на рынке. К ним относятся расходы по транспортировке изделий потребителям , на проведение маркетинговых исследований , организацию рекламы и др. Выраженные в денежной форме они представляют собой издержки реализации продукци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_Romanus"/>
              </a:rPr>
              <a:t>Кроме того предприятие платит налоги , сборы , производит отчисления в различные целевые и внебюджетные фонды , которые также относятся на себестоимость продукций. Сумма издержек производства и реализации , налогов , сборов и обязательных отчислений в целевые внебюджетные фонды образует издержки предприятия или полную себестоимость продукц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Классификация затрат образующих издержки производств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hruti"/>
              </a:rPr>
              <a:t>По содержанию и назначению вышеназванные затраты группируются по экономическим элементам и калькуляционным статьям. Группировка затрат по экономическим элементам отражает их распределение по экономическому содержанию независимо от формы использования в производстве того или иного вида продукции и место осуществления этих затрат. Эта группировка применяется при составлении сметы затрат на производства всей выпускаемой продукци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Для предприятий всех отраслей промышленности установлена следующая обязательная номенклатура затрат на производства продукции по экономическим элементам 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     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материальные затраты 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-     затраты на оплату труда 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-     отчисления на социальные нужды 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-     амортизация  основных фонд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-     отчисления в государственные специальные фонды 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-     налоги включаемые в издержки предприятия 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-     прочи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470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6700"/>
                            </p:stCondLst>
                            <p:childTnLst>
                              <p:par>
                                <p:cTn id="1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8700"/>
                            </p:stCondLst>
                            <p:childTnLst>
                              <p:par>
                                <p:cTn id="1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7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27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47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67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_Romanus"/>
              </a:rPr>
              <a:t>Классификация затрат по экономическим элементам дает возможность знать структуру себестоимости и позволяет проводить целенаправленную политику по улучшению экономики предприятия. Но эта классификация не позволяет определить важный экономический показатель - себестоимость одной единицы продукц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14:30:14Z</dcterms:created>
  <dc:creator>Юля</dc:creator>
  <dc:description/>
  <dc:language>en-US</dc:language>
  <cp:lastModifiedBy>Айжан</cp:lastModifiedBy>
  <dcterms:modified xsi:type="dcterms:W3CDTF">2012-01-03T17:33:40Z</dcterms:modified>
  <cp:revision>14</cp:revision>
  <dc:subject/>
  <dc:title>Издержки производства и себестоимость продукции</dc:title>
</cp:coreProperties>
</file>