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8C20-D07E-48DD-9586-C25FDAA9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559-E865-4E26-80B3-4B3C872A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B98-A0D5-4E4A-B8C5-A4939216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6D9-7F14-4494-9647-F27BB422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115-CB5A-4F60-B975-FE4E68F8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414-3715-4122-AE96-ED9F6651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4FF-362C-40F2-860C-C66AE905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1BF-B389-4157-A729-E3AACE23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C93-3FA8-4483-ADE7-7F769DAD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1265-550F-4042-A643-9BDBB661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FA62-E019-4DB5-8154-FF8FFB3F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D804-D776-4746-A96A-4A572F12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bfe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2327-5230-4630-8746-E06FBFC36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1ebfe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3346560"/>
            <a:ext cx="7086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освязь общего менеджмента и менеджмента кач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а Ф.У. Тейл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тля кач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икл Демин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а «ДЖИТ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истема управления качества продукции и её технические организационные и экономические факторы</a:t>
            </a: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8001000" y="380880"/>
            <a:ext cx="1066680" cy="381240"/>
          </a:xfrm>
          <a:prstGeom prst="leftArrow">
            <a:avLst>
              <a:gd name="adj1" fmla="val 50000"/>
              <a:gd name="adj2" fmla="val 129909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7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6375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875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375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875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375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bfe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6000" y="228240"/>
            <a:ext cx="4680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Петля каче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125360"/>
            <a:ext cx="8497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ъектами управления качества продукции являются все элементы, образующие петлю качества. Под петлей качества в соответствии с международными стандартами ИСО понимают замкнутый в виде кольца (рис. 3) жизненный цикл продукции, включающий следующие основные этапы: маркетинг; проектирование и разработку технических требований, разработку продукции; материально-техническое снабжение; подготовку производства и разработку технологии и производственных процессов; производство; контроль, испытания и обследования; упаковку и хранение; реализацию и распределение продукции; монтаж; эксплуатацию; техническую помощь и обслуживание; утилизац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 flipH="1">
            <a:off x="7085880" y="6400800"/>
            <a:ext cx="1981080" cy="380880"/>
          </a:xfrm>
          <a:custGeom>
            <a:avLst/>
            <a:gdLst>
              <a:gd name="textAreaLeft" fmla="*/ 309240 w 1981080"/>
              <a:gd name="textAreaRight" fmla="*/ 1593000 w 1981080"/>
              <a:gd name="textAreaTop" fmla="*/ 64800 h 380880"/>
              <a:gd name="textAreaBottom" fmla="*/ 31608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3689"/>
                </a:moveTo>
                <a:lnTo>
                  <a:pt x="15178" y="3689"/>
                </a:lnTo>
                <a:lnTo>
                  <a:pt x="15178" y="0"/>
                </a:lnTo>
                <a:lnTo>
                  <a:pt x="21600" y="10800"/>
                </a:lnTo>
                <a:lnTo>
                  <a:pt x="15178" y="21600"/>
                </a:lnTo>
                <a:lnTo>
                  <a:pt x="15178" y="17911"/>
                </a:lnTo>
                <a:lnTo>
                  <a:pt x="3375" y="17911"/>
                </a:lnTo>
                <a:close/>
              </a:path>
              <a:path w="21600" h="21600">
                <a:moveTo>
                  <a:pt x="0" y="3689"/>
                </a:moveTo>
                <a:lnTo>
                  <a:pt x="675" y="3689"/>
                </a:lnTo>
                <a:lnTo>
                  <a:pt x="675" y="17911"/>
                </a:lnTo>
                <a:lnTo>
                  <a:pt x="0" y="17911"/>
                </a:lnTo>
                <a:close/>
              </a:path>
              <a:path w="21600" h="21600">
                <a:moveTo>
                  <a:pt x="1350" y="3689"/>
                </a:moveTo>
                <a:lnTo>
                  <a:pt x="2700" y="3689"/>
                </a:lnTo>
                <a:lnTo>
                  <a:pt x="2700" y="17911"/>
                </a:lnTo>
                <a:lnTo>
                  <a:pt x="1350" y="17911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 в мен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8001000" y="380880"/>
            <a:ext cx="1066680" cy="381240"/>
          </a:xfrm>
          <a:prstGeom prst="leftArrow">
            <a:avLst>
              <a:gd name="adj1" fmla="val 50000"/>
              <a:gd name="adj2" fmla="val 129909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2" dur="7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125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bfe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ужно иметь в виду, что в практической деятельности в целях планирования, контроля, анализа и пр. эти этапы могут разбивать на составляющие. Наиболее важным здесь является обеспечение целостности процессов управления качеством на всех этапах жизненного цикла проду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 помощью петли качества осуществляется взаимосвязь изготовителя продукции с потребителем и со всеми объектами, обеспечивающими решение задач управления качеством проду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bfe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1159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ис. 3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тля кач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 flipH="1">
            <a:off x="7085880" y="6400800"/>
            <a:ext cx="1981080" cy="380880"/>
          </a:xfrm>
          <a:custGeom>
            <a:avLst/>
            <a:gdLst>
              <a:gd name="textAreaLeft" fmla="*/ 309240 w 1981080"/>
              <a:gd name="textAreaRight" fmla="*/ 1593000 w 1981080"/>
              <a:gd name="textAreaTop" fmla="*/ 64800 h 380880"/>
              <a:gd name="textAreaBottom" fmla="*/ 31608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3689"/>
                </a:moveTo>
                <a:lnTo>
                  <a:pt x="15178" y="3689"/>
                </a:lnTo>
                <a:lnTo>
                  <a:pt x="15178" y="0"/>
                </a:lnTo>
                <a:lnTo>
                  <a:pt x="21600" y="10800"/>
                </a:lnTo>
                <a:lnTo>
                  <a:pt x="15178" y="21600"/>
                </a:lnTo>
                <a:lnTo>
                  <a:pt x="15178" y="17911"/>
                </a:lnTo>
                <a:lnTo>
                  <a:pt x="3375" y="17911"/>
                </a:lnTo>
                <a:close/>
              </a:path>
              <a:path w="21600" h="21600">
                <a:moveTo>
                  <a:pt x="0" y="3689"/>
                </a:moveTo>
                <a:lnTo>
                  <a:pt x="675" y="3689"/>
                </a:lnTo>
                <a:lnTo>
                  <a:pt x="675" y="17911"/>
                </a:lnTo>
                <a:lnTo>
                  <a:pt x="0" y="17911"/>
                </a:lnTo>
                <a:close/>
              </a:path>
              <a:path w="21600" h="21600">
                <a:moveTo>
                  <a:pt x="1350" y="3689"/>
                </a:moveTo>
                <a:lnTo>
                  <a:pt x="2700" y="3689"/>
                </a:lnTo>
                <a:lnTo>
                  <a:pt x="2700" y="17911"/>
                </a:lnTo>
                <a:lnTo>
                  <a:pt x="1350" y="17911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 в мен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077320" y="260280"/>
            <a:ext cx="1066680" cy="381240"/>
          </a:xfrm>
          <a:prstGeom prst="leftArrow">
            <a:avLst>
              <a:gd name="adj1" fmla="val 50000"/>
              <a:gd name="adj2" fmla="val 129909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0" y="6477120"/>
            <a:ext cx="1066680" cy="380880"/>
          </a:xfrm>
          <a:prstGeom prst="rightArrow">
            <a:avLst>
              <a:gd name="adj1" fmla="val 50000"/>
              <a:gd name="adj2" fmla="val 116690"/>
            </a:avLst>
          </a:prstGeom>
          <a:gradFill rotWithShape="0">
            <a:gsLst>
              <a:gs pos="0">
                <a:srgbClr val="4545ff"/>
              </a:gs>
              <a:gs pos="50000">
                <a:srgbClr val="ccff33"/>
              </a:gs>
              <a:gs pos="100000">
                <a:srgbClr val="4545ff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далее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88567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bfe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6920" y="90792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4. Цикл Демин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227664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правление качеством продукции осуществляется циклически и проходит через определенные этапы, именуемые циклом Деминга. Реализация такого цикла называется оборотом цикла Демин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е цикла Деминга не ограничивается только управлением качества продукции, а имеет отношение и к любой управленческой и бытовой деятель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 flipH="1">
            <a:off x="7085880" y="6400800"/>
            <a:ext cx="1981080" cy="380880"/>
          </a:xfrm>
          <a:custGeom>
            <a:avLst/>
            <a:gdLst>
              <a:gd name="textAreaLeft" fmla="*/ 309240 w 1981080"/>
              <a:gd name="textAreaRight" fmla="*/ 1593000 w 1981080"/>
              <a:gd name="textAreaTop" fmla="*/ 64800 h 380880"/>
              <a:gd name="textAreaBottom" fmla="*/ 31608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3689"/>
                </a:moveTo>
                <a:lnTo>
                  <a:pt x="15178" y="3689"/>
                </a:lnTo>
                <a:lnTo>
                  <a:pt x="15178" y="0"/>
                </a:lnTo>
                <a:lnTo>
                  <a:pt x="21600" y="10800"/>
                </a:lnTo>
                <a:lnTo>
                  <a:pt x="15178" y="21600"/>
                </a:lnTo>
                <a:lnTo>
                  <a:pt x="15178" y="17911"/>
                </a:lnTo>
                <a:lnTo>
                  <a:pt x="3375" y="17911"/>
                </a:lnTo>
                <a:close/>
              </a:path>
              <a:path w="21600" h="21600">
                <a:moveTo>
                  <a:pt x="0" y="3689"/>
                </a:moveTo>
                <a:lnTo>
                  <a:pt x="675" y="3689"/>
                </a:lnTo>
                <a:lnTo>
                  <a:pt x="675" y="17911"/>
                </a:lnTo>
                <a:lnTo>
                  <a:pt x="0" y="17911"/>
                </a:lnTo>
                <a:close/>
              </a:path>
              <a:path w="21600" h="21600">
                <a:moveTo>
                  <a:pt x="1350" y="3689"/>
                </a:moveTo>
                <a:lnTo>
                  <a:pt x="2700" y="3689"/>
                </a:lnTo>
                <a:lnTo>
                  <a:pt x="2700" y="17911"/>
                </a:lnTo>
                <a:lnTo>
                  <a:pt x="1350" y="17911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 в мен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077320" y="549360"/>
            <a:ext cx="1066680" cy="380880"/>
          </a:xfrm>
          <a:prstGeom prst="leftArrow">
            <a:avLst>
              <a:gd name="adj1" fmla="val 50000"/>
              <a:gd name="adj2" fmla="val 130032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4" dur="7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75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bfe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довательность этапов цикла Деменга показана на рис. 5 и включает: планирование (PLAN); осуществление (DO); контроль (CHECK); управление воздействием (AC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руговом цикле, который мы подсознательно используем в повседневной жизни, заключается сущность реализации, так называемых, общих функций управления, рассмотренных ранее, имея в виду, что эти функции направлены на обеспечение всех условий создания качественной продукции и качественного ее использ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bfe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189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с. 4. Цикл Демин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 flipH="1">
            <a:off x="7085880" y="6400800"/>
            <a:ext cx="1981080" cy="380880"/>
          </a:xfrm>
          <a:custGeom>
            <a:avLst/>
            <a:gdLst>
              <a:gd name="textAreaLeft" fmla="*/ 309240 w 1981080"/>
              <a:gd name="textAreaRight" fmla="*/ 1593000 w 1981080"/>
              <a:gd name="textAreaTop" fmla="*/ 64800 h 380880"/>
              <a:gd name="textAreaBottom" fmla="*/ 31608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3689"/>
                </a:moveTo>
                <a:lnTo>
                  <a:pt x="15178" y="3689"/>
                </a:lnTo>
                <a:lnTo>
                  <a:pt x="15178" y="0"/>
                </a:lnTo>
                <a:lnTo>
                  <a:pt x="21600" y="10800"/>
                </a:lnTo>
                <a:lnTo>
                  <a:pt x="15178" y="21600"/>
                </a:lnTo>
                <a:lnTo>
                  <a:pt x="15178" y="17911"/>
                </a:lnTo>
                <a:lnTo>
                  <a:pt x="3375" y="17911"/>
                </a:lnTo>
                <a:close/>
              </a:path>
              <a:path w="21600" h="21600">
                <a:moveTo>
                  <a:pt x="0" y="3689"/>
                </a:moveTo>
                <a:lnTo>
                  <a:pt x="675" y="3689"/>
                </a:lnTo>
                <a:lnTo>
                  <a:pt x="675" y="17911"/>
                </a:lnTo>
                <a:lnTo>
                  <a:pt x="0" y="17911"/>
                </a:lnTo>
                <a:close/>
              </a:path>
              <a:path w="21600" h="21600">
                <a:moveTo>
                  <a:pt x="1350" y="3689"/>
                </a:moveTo>
                <a:lnTo>
                  <a:pt x="2700" y="3689"/>
                </a:lnTo>
                <a:lnTo>
                  <a:pt x="2700" y="17911"/>
                </a:lnTo>
                <a:lnTo>
                  <a:pt x="1350" y="17911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 в мен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8001000" y="380880"/>
            <a:ext cx="1066680" cy="381240"/>
          </a:xfrm>
          <a:prstGeom prst="leftArrow">
            <a:avLst>
              <a:gd name="adj1" fmla="val 50000"/>
              <a:gd name="adj2" fmla="val 129909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9930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bfe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. Система «ДЖИТ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новая форма организации «just in time», буквально означающая «производство точно в срок». Ее фундаментальный смысл: ноль запасов, ноль отказов, ноль дефектов. Подробнее ДЖИТ представляет собой технологию, которая подразумевает снижение запаса материалов благодаря подаче деталей на каждый участок производства в тот момент, когда они там нужны. Еще эта технология называется «точно вовремя». Здесь нет особой премудрости, если говорить просто, то это борьба за ликвидацию складов комплектующих изделий и идеально поставленное снабжение со стороны смежников и поставщиков. Однако переход на ДЖИТ — задача непростая. Эта система бросает вызов традиционной организации производства, оказывая особенно сильное влияние на четыре его област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вление материально-техническим снабжением; структуру производственного центра; отношения «поставщик-потребитель»; отношения «управление — непосредственное производство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онечном итоге система ДЖИТ направлена на интеграцию и автоматизацию каждой стадии производства, начиная с проектирования и вплоть до гарантийного обслуживания потребител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 flipH="1">
            <a:off x="7085880" y="6400800"/>
            <a:ext cx="1981080" cy="380880"/>
          </a:xfrm>
          <a:custGeom>
            <a:avLst/>
            <a:gdLst>
              <a:gd name="textAreaLeft" fmla="*/ 309240 w 1981080"/>
              <a:gd name="textAreaRight" fmla="*/ 1593000 w 1981080"/>
              <a:gd name="textAreaTop" fmla="*/ 64800 h 380880"/>
              <a:gd name="textAreaBottom" fmla="*/ 31608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3689"/>
                </a:moveTo>
                <a:lnTo>
                  <a:pt x="15178" y="3689"/>
                </a:lnTo>
                <a:lnTo>
                  <a:pt x="15178" y="0"/>
                </a:lnTo>
                <a:lnTo>
                  <a:pt x="21600" y="10800"/>
                </a:lnTo>
                <a:lnTo>
                  <a:pt x="15178" y="21600"/>
                </a:lnTo>
                <a:lnTo>
                  <a:pt x="15178" y="17911"/>
                </a:lnTo>
                <a:lnTo>
                  <a:pt x="3375" y="17911"/>
                </a:lnTo>
                <a:close/>
              </a:path>
              <a:path w="21600" h="21600">
                <a:moveTo>
                  <a:pt x="0" y="3689"/>
                </a:moveTo>
                <a:lnTo>
                  <a:pt x="675" y="3689"/>
                </a:lnTo>
                <a:lnTo>
                  <a:pt x="675" y="17911"/>
                </a:lnTo>
                <a:lnTo>
                  <a:pt x="0" y="17911"/>
                </a:lnTo>
                <a:close/>
              </a:path>
              <a:path w="21600" h="21600">
                <a:moveTo>
                  <a:pt x="1350" y="3689"/>
                </a:moveTo>
                <a:lnTo>
                  <a:pt x="2700" y="3689"/>
                </a:lnTo>
                <a:lnTo>
                  <a:pt x="2700" y="17911"/>
                </a:lnTo>
                <a:lnTo>
                  <a:pt x="1350" y="17911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 в мен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8077320" y="549360"/>
            <a:ext cx="1066680" cy="380880"/>
          </a:xfrm>
          <a:prstGeom prst="leftArrow">
            <a:avLst>
              <a:gd name="adj1" fmla="val 50000"/>
              <a:gd name="adj2" fmla="val 130032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77120"/>
            <a:ext cx="1066680" cy="380880"/>
          </a:xfrm>
          <a:prstGeom prst="rightArrow">
            <a:avLst>
              <a:gd name="adj1" fmla="val 50000"/>
              <a:gd name="adj2" fmla="val 116690"/>
            </a:avLst>
          </a:prstGeom>
          <a:gradFill rotWithShape="0">
            <a:gsLst>
              <a:gs pos="0">
                <a:srgbClr val="4545ff"/>
              </a:gs>
              <a:gs pos="50000">
                <a:srgbClr val="ccff33"/>
              </a:gs>
              <a:gs pos="100000">
                <a:srgbClr val="4545ff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далее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bfe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алее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15516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ДЖИТ-система делает переналадку оборудования для изготовления разных деталей экономичной как с точки зрения стоимости, так и времени. Кроме того, при переходе с производства одного типа детали на другой расходы могут быть значительно снижены за счет изменения лишь программы изготовления (сборки), а не замены узлов оборудования, то есть без остановки производства. При концепции ДЖИТ переход от групп станков к производственным ячейкам позволяет максимально использовать и другую организацию производства — групповую технологию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 flipH="1">
            <a:off x="7085880" y="6400800"/>
            <a:ext cx="1981080" cy="380880"/>
          </a:xfrm>
          <a:custGeom>
            <a:avLst/>
            <a:gdLst>
              <a:gd name="textAreaLeft" fmla="*/ 309240 w 1981080"/>
              <a:gd name="textAreaRight" fmla="*/ 1593000 w 1981080"/>
              <a:gd name="textAreaTop" fmla="*/ 64800 h 380880"/>
              <a:gd name="textAreaBottom" fmla="*/ 31608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3689"/>
                </a:moveTo>
                <a:lnTo>
                  <a:pt x="15178" y="3689"/>
                </a:lnTo>
                <a:lnTo>
                  <a:pt x="15178" y="0"/>
                </a:lnTo>
                <a:lnTo>
                  <a:pt x="21600" y="10800"/>
                </a:lnTo>
                <a:lnTo>
                  <a:pt x="15178" y="21600"/>
                </a:lnTo>
                <a:lnTo>
                  <a:pt x="15178" y="17911"/>
                </a:lnTo>
                <a:lnTo>
                  <a:pt x="3375" y="17911"/>
                </a:lnTo>
                <a:close/>
              </a:path>
              <a:path w="21600" h="21600">
                <a:moveTo>
                  <a:pt x="0" y="3689"/>
                </a:moveTo>
                <a:lnTo>
                  <a:pt x="675" y="3689"/>
                </a:lnTo>
                <a:lnTo>
                  <a:pt x="675" y="17911"/>
                </a:lnTo>
                <a:lnTo>
                  <a:pt x="0" y="17911"/>
                </a:lnTo>
                <a:close/>
              </a:path>
              <a:path w="21600" h="21600">
                <a:moveTo>
                  <a:pt x="1350" y="3689"/>
                </a:moveTo>
                <a:lnTo>
                  <a:pt x="2700" y="3689"/>
                </a:lnTo>
                <a:lnTo>
                  <a:pt x="2700" y="17911"/>
                </a:lnTo>
                <a:lnTo>
                  <a:pt x="1350" y="17911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 в мен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477120"/>
            <a:ext cx="1066680" cy="380880"/>
          </a:xfrm>
          <a:prstGeom prst="rightArrow">
            <a:avLst>
              <a:gd name="adj1" fmla="val 50000"/>
              <a:gd name="adj2" fmla="val 116690"/>
            </a:avLst>
          </a:prstGeom>
          <a:gradFill rotWithShape="0">
            <a:gsLst>
              <a:gs pos="0">
                <a:srgbClr val="4545ff"/>
              </a:gs>
              <a:gs pos="50000">
                <a:srgbClr val="ccff33"/>
              </a:gs>
              <a:gs pos="100000">
                <a:srgbClr val="4545ff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далее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8077320" y="260280"/>
            <a:ext cx="1066680" cy="381240"/>
          </a:xfrm>
          <a:prstGeom prst="leftArrow">
            <a:avLst>
              <a:gd name="adj1" fmla="val 50000"/>
              <a:gd name="adj2" fmla="val 129909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bfe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традиционной методике фирма, производящая, например, интегральные схемы, может группировать вместе все оборудование, например, для монтажа компонентов в одной части предприятия, печи отжига будут в другой части и т. д. Секционная технология дает возможность оператору осуществлять более полный контроль над производственным процессом на всех этапах. Так как при ДЖИТ-системе деталь все время находится в производственном процессе, а не лежит в накопителях, секционное производство более эффективно, если рабочее место организовано в виде буквы U, а не вытянуто в линию. Такая организация рабочего места экономит площадь и позволяет оператору быстрее передвигаться от станка к станку. Реконструкция рабочих мест в ячейке экономит и время на переналад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bfe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внедрении системы ДЖИТ в производство возникали трудности с привлечением поставщиков, деятельность которых не отвечала поставленным требованиям. Смежники должны были обеспечивать бездефектную продукцию, поскольку входной контроль качества отсутствовал. Но эти проблемы сгладились благодаря постоянному контакту со смежниками и укреплению взаимопонимания. Считается, что ДЖИТ изменит характер конкуренции: выживет скорее тот смежник, который будет поставлять качественную продукцию, а не тот, который будет бороться за цен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bfe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связь общего менеджмента и менеджмента кач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Ф.У. Тейло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тля кач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икл Демин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«ДЖИ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bfe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Список литератур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Шевчук Д.А. Экономическая журналистика. ГроссМедиа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Шевчук В.А., Шевчук Д.А. Финансы и кредит: Учеб. пособие. М.: Издательство РИОР,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Шевчук В.А., Шевчук Д.А. Международные экономические отношения: Учеб. пособие. М.: Издательство РИОР,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Шевчук Д.А. Создание собственной фирмы: Профессиональный подход. 20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http://www.interfinance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http://www.zaochkurs.narod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http://www.denisshevchuk.narod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451640" y="189000"/>
            <a:ext cx="142884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 rot="20875800">
            <a:off x="4211640" y="5445000"/>
            <a:ext cx="47419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1ebfe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84360"/>
            <a:ext cx="8839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правление качеством продукции, как это видно из истории его развития, это не просто контроль качественных параметров и причин их отклонений — это управленческая деятельность, охватывающая жизненный цикл продукции, системно обеспечивающая стратегические и оперативные процессы повышения качества продукции и функционирования самой системы управления качеством. Из основ менеджмента известно, что разделение труда по мере развития производственных отношений привело к выделению специфических трудовых процессов — управления. Менеджмент (управление) — воздействие одного лица или группы лиц (менеджеров) на другие лица для побуждения к действиям, соответствующим достижению поставленных целей при условии принятия менеджерами ответственности за результативность воздействия. Общность задач управления позволяет формулировать и общие его законы, а анализ и обобщение практики управления дает возможность, опираясь на законы, конкретизировать содержание управления в рамках науки управления (менеджмент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общем виде структуру и процессы управления можно представить так, как показано на рис.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Взаимосвязь общего менеджмента и менеджмента каче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 flipH="1">
            <a:off x="7162200" y="6477120"/>
            <a:ext cx="1981080" cy="380880"/>
          </a:xfrm>
          <a:custGeom>
            <a:avLst/>
            <a:gdLst>
              <a:gd name="textAreaLeft" fmla="*/ 309240 w 1981080"/>
              <a:gd name="textAreaRight" fmla="*/ 1593000 w 1981080"/>
              <a:gd name="textAreaTop" fmla="*/ 64800 h 380880"/>
              <a:gd name="textAreaBottom" fmla="*/ 31608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3689"/>
                </a:moveTo>
                <a:lnTo>
                  <a:pt x="15178" y="3689"/>
                </a:lnTo>
                <a:lnTo>
                  <a:pt x="15178" y="0"/>
                </a:lnTo>
                <a:lnTo>
                  <a:pt x="21600" y="10800"/>
                </a:lnTo>
                <a:lnTo>
                  <a:pt x="15178" y="21600"/>
                </a:lnTo>
                <a:lnTo>
                  <a:pt x="15178" y="17911"/>
                </a:lnTo>
                <a:lnTo>
                  <a:pt x="3375" y="17911"/>
                </a:lnTo>
                <a:close/>
              </a:path>
              <a:path w="21600" h="21600">
                <a:moveTo>
                  <a:pt x="0" y="3689"/>
                </a:moveTo>
                <a:lnTo>
                  <a:pt x="675" y="3689"/>
                </a:lnTo>
                <a:lnTo>
                  <a:pt x="675" y="17911"/>
                </a:lnTo>
                <a:lnTo>
                  <a:pt x="0" y="17911"/>
                </a:lnTo>
                <a:close/>
              </a:path>
              <a:path w="21600" h="21600">
                <a:moveTo>
                  <a:pt x="1350" y="3689"/>
                </a:moveTo>
                <a:lnTo>
                  <a:pt x="2700" y="3689"/>
                </a:lnTo>
                <a:lnTo>
                  <a:pt x="2700" y="17911"/>
                </a:lnTo>
                <a:lnTo>
                  <a:pt x="1350" y="17911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 в мен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firstslide"/>
          </p:cNvPr>
          <p:cNvSpPr/>
          <p:nvPr/>
        </p:nvSpPr>
        <p:spPr>
          <a:xfrm>
            <a:off x="8001000" y="380880"/>
            <a:ext cx="1066680" cy="381240"/>
          </a:xfrm>
          <a:prstGeom prst="leftArrow">
            <a:avLst>
              <a:gd name="adj1" fmla="val 50000"/>
              <a:gd name="adj2" fmla="val 129909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" dur="7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75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1ebfe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18900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ис. 1 Укрупненный состав системы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firstslide"/>
          </p:cNvPr>
          <p:cNvSpPr/>
          <p:nvPr/>
        </p:nvSpPr>
        <p:spPr>
          <a:xfrm flipH="1">
            <a:off x="7085880" y="6400800"/>
            <a:ext cx="1981080" cy="380880"/>
          </a:xfrm>
          <a:custGeom>
            <a:avLst/>
            <a:gdLst>
              <a:gd name="textAreaLeft" fmla="*/ 309240 w 1981080"/>
              <a:gd name="textAreaRight" fmla="*/ 1593000 w 1981080"/>
              <a:gd name="textAreaTop" fmla="*/ 64800 h 380880"/>
              <a:gd name="textAreaBottom" fmla="*/ 31608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3689"/>
                </a:moveTo>
                <a:lnTo>
                  <a:pt x="15178" y="3689"/>
                </a:lnTo>
                <a:lnTo>
                  <a:pt x="15178" y="0"/>
                </a:lnTo>
                <a:lnTo>
                  <a:pt x="21600" y="10800"/>
                </a:lnTo>
                <a:lnTo>
                  <a:pt x="15178" y="21600"/>
                </a:lnTo>
                <a:lnTo>
                  <a:pt x="15178" y="17911"/>
                </a:lnTo>
                <a:lnTo>
                  <a:pt x="3375" y="17911"/>
                </a:lnTo>
                <a:close/>
              </a:path>
              <a:path w="21600" h="21600">
                <a:moveTo>
                  <a:pt x="0" y="3689"/>
                </a:moveTo>
                <a:lnTo>
                  <a:pt x="675" y="3689"/>
                </a:lnTo>
                <a:lnTo>
                  <a:pt x="675" y="17911"/>
                </a:lnTo>
                <a:lnTo>
                  <a:pt x="0" y="17911"/>
                </a:lnTo>
                <a:close/>
              </a:path>
              <a:path w="21600" h="21600">
                <a:moveTo>
                  <a:pt x="1350" y="3689"/>
                </a:moveTo>
                <a:lnTo>
                  <a:pt x="2700" y="3689"/>
                </a:lnTo>
                <a:lnTo>
                  <a:pt x="2700" y="17911"/>
                </a:lnTo>
                <a:lnTo>
                  <a:pt x="1350" y="17911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 в мен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firstslide"/>
          </p:cNvPr>
          <p:cNvSpPr/>
          <p:nvPr/>
        </p:nvSpPr>
        <p:spPr>
          <a:xfrm>
            <a:off x="8001000" y="380880"/>
            <a:ext cx="1066680" cy="381240"/>
          </a:xfrm>
          <a:prstGeom prst="leftArrow">
            <a:avLst>
              <a:gd name="adj1" fmla="val 50000"/>
              <a:gd name="adj2" fmla="val 129909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76320" y="6400800"/>
            <a:ext cx="1066680" cy="380880"/>
          </a:xfrm>
          <a:prstGeom prst="rightArrow">
            <a:avLst>
              <a:gd name="adj1" fmla="val 50000"/>
              <a:gd name="adj2" fmla="val 116690"/>
            </a:avLst>
          </a:prstGeom>
          <a:gradFill rotWithShape="0">
            <a:gsLst>
              <a:gs pos="0">
                <a:srgbClr val="4545ff"/>
              </a:gs>
              <a:gs pos="50000">
                <a:srgbClr val="ccff33"/>
              </a:gs>
              <a:gs pos="100000">
                <a:srgbClr val="4545ff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далее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1ebfe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868320"/>
            <a:ext cx="8534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еджмент как сфера деятельности предполагает по отношению к системе и ее частям три уровня решения управленческих зада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Макроуровень (метауправление) включает в себя решение проблем самоорганизации системы управления: задачи идеологии и политики целепологания, стратегии развития системы управления в целом, определение ее структуры, функций подсистем, кадровой политики высшего менеджмента и т. 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Управление эффективностью взаимодействия субъекта и объекта системы управления, выполнение общих функций управления по отношению к реально поставленным целям, то есть это, по существу, технологический аспект управ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Управление деятельностью конкретных подсистем управления для достижения целей, лежащих на более низком уровне дерева целей, или, как говорят, выполнение конкретных функций управ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firstslide"/>
          </p:cNvPr>
          <p:cNvSpPr/>
          <p:nvPr/>
        </p:nvSpPr>
        <p:spPr>
          <a:xfrm flipH="1">
            <a:off x="7085880" y="6400800"/>
            <a:ext cx="1981080" cy="380880"/>
          </a:xfrm>
          <a:custGeom>
            <a:avLst/>
            <a:gdLst>
              <a:gd name="textAreaLeft" fmla="*/ 309240 w 1981080"/>
              <a:gd name="textAreaRight" fmla="*/ 1593000 w 1981080"/>
              <a:gd name="textAreaTop" fmla="*/ 64800 h 380880"/>
              <a:gd name="textAreaBottom" fmla="*/ 31608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3689"/>
                </a:moveTo>
                <a:lnTo>
                  <a:pt x="15178" y="3689"/>
                </a:lnTo>
                <a:lnTo>
                  <a:pt x="15178" y="0"/>
                </a:lnTo>
                <a:lnTo>
                  <a:pt x="21600" y="10800"/>
                </a:lnTo>
                <a:lnTo>
                  <a:pt x="15178" y="21600"/>
                </a:lnTo>
                <a:lnTo>
                  <a:pt x="15178" y="17911"/>
                </a:lnTo>
                <a:lnTo>
                  <a:pt x="3375" y="17911"/>
                </a:lnTo>
                <a:close/>
              </a:path>
              <a:path w="21600" h="21600">
                <a:moveTo>
                  <a:pt x="0" y="3689"/>
                </a:moveTo>
                <a:lnTo>
                  <a:pt x="675" y="3689"/>
                </a:lnTo>
                <a:lnTo>
                  <a:pt x="675" y="17911"/>
                </a:lnTo>
                <a:lnTo>
                  <a:pt x="0" y="17911"/>
                </a:lnTo>
                <a:close/>
              </a:path>
              <a:path w="21600" h="21600">
                <a:moveTo>
                  <a:pt x="1350" y="3689"/>
                </a:moveTo>
                <a:lnTo>
                  <a:pt x="2700" y="3689"/>
                </a:lnTo>
                <a:lnTo>
                  <a:pt x="2700" y="17911"/>
                </a:lnTo>
                <a:lnTo>
                  <a:pt x="1350" y="17911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 в мен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76320" y="6400800"/>
            <a:ext cx="1066680" cy="380880"/>
          </a:xfrm>
          <a:prstGeom prst="rightArrow">
            <a:avLst>
              <a:gd name="adj1" fmla="val 50000"/>
              <a:gd name="adj2" fmla="val 116690"/>
            </a:avLst>
          </a:prstGeom>
          <a:gradFill rotWithShape="0">
            <a:gsLst>
              <a:gs pos="0">
                <a:srgbClr val="4545ff"/>
              </a:gs>
              <a:gs pos="50000">
                <a:srgbClr val="ccff33"/>
              </a:gs>
              <a:gs pos="100000">
                <a:srgbClr val="4545ff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далее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8001000" y="380880"/>
            <a:ext cx="1066680" cy="381240"/>
          </a:xfrm>
          <a:prstGeom prst="leftArrow">
            <a:avLst>
              <a:gd name="adj1" fmla="val 50000"/>
              <a:gd name="adj2" fmla="val 129909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алее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1ebfe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" action="ppaction://hlinkshowjump?jump=firstslide"/>
          </p:cNvPr>
          <p:cNvSpPr/>
          <p:nvPr/>
        </p:nvSpPr>
        <p:spPr>
          <a:xfrm flipH="1">
            <a:off x="7085880" y="6400800"/>
            <a:ext cx="1981080" cy="380880"/>
          </a:xfrm>
          <a:custGeom>
            <a:avLst/>
            <a:gdLst>
              <a:gd name="textAreaLeft" fmla="*/ 309240 w 1981080"/>
              <a:gd name="textAreaRight" fmla="*/ 1593000 w 1981080"/>
              <a:gd name="textAreaTop" fmla="*/ 64800 h 380880"/>
              <a:gd name="textAreaBottom" fmla="*/ 31608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3689"/>
                </a:moveTo>
                <a:lnTo>
                  <a:pt x="15178" y="3689"/>
                </a:lnTo>
                <a:lnTo>
                  <a:pt x="15178" y="0"/>
                </a:lnTo>
                <a:lnTo>
                  <a:pt x="21600" y="10800"/>
                </a:lnTo>
                <a:lnTo>
                  <a:pt x="15178" y="21600"/>
                </a:lnTo>
                <a:lnTo>
                  <a:pt x="15178" y="17911"/>
                </a:lnTo>
                <a:lnTo>
                  <a:pt x="3375" y="17911"/>
                </a:lnTo>
                <a:close/>
              </a:path>
              <a:path w="21600" h="21600">
                <a:moveTo>
                  <a:pt x="0" y="3689"/>
                </a:moveTo>
                <a:lnTo>
                  <a:pt x="675" y="3689"/>
                </a:lnTo>
                <a:lnTo>
                  <a:pt x="675" y="17911"/>
                </a:lnTo>
                <a:lnTo>
                  <a:pt x="0" y="17911"/>
                </a:lnTo>
                <a:close/>
              </a:path>
              <a:path w="21600" h="21600">
                <a:moveTo>
                  <a:pt x="1350" y="3689"/>
                </a:moveTo>
                <a:lnTo>
                  <a:pt x="2700" y="3689"/>
                </a:lnTo>
                <a:lnTo>
                  <a:pt x="2700" y="17911"/>
                </a:lnTo>
                <a:lnTo>
                  <a:pt x="1350" y="17911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 в мен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firstslide"/>
          </p:cNvPr>
          <p:cNvSpPr/>
          <p:nvPr/>
        </p:nvSpPr>
        <p:spPr>
          <a:xfrm>
            <a:off x="8001000" y="380880"/>
            <a:ext cx="1066680" cy="381240"/>
          </a:xfrm>
          <a:prstGeom prst="leftArrow">
            <a:avLst>
              <a:gd name="adj1" fmla="val 50000"/>
              <a:gd name="adj2" fmla="val 129909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1700280"/>
            <a:ext cx="8375760" cy="4483080"/>
            <a:chOff x="395280" y="1700280"/>
            <a:chExt cx="8375760" cy="4483080"/>
          </a:xfrm>
        </p:grpSpPr>
        <p:sp>
          <p:nvSpPr>
            <p:cNvPr id="63" name=""/>
            <p:cNvSpPr/>
            <p:nvPr/>
          </p:nvSpPr>
          <p:spPr>
            <a:xfrm>
              <a:off x="395280" y="1700280"/>
              <a:ext cx="837576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сюда вытекают и основные функции систем управления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) макрофункции — выработка миссии (парадигмы, идеологии) существования и развития системы, разработка дерева целей системы управления и критериев их достижения, выработка общей политики поведения системы, разработка структуры системы управления и направлений ее развития, определение функций и иерархии подсистем, обеспечение целостности системы и определение степени автономности подсистем управления, подходы к формированию кадрового потенциала, особенно методы отбора и ротации высшего менеджмента и т. д.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6658920" y="2893680"/>
              <a:ext cx="2004120" cy="743760"/>
              <a:chOff x="6658920" y="2893680"/>
              <a:chExt cx="2004120" cy="743760"/>
            </a:xfrm>
          </p:grpSpPr>
          <p:sp>
            <p:nvSpPr>
              <p:cNvPr id="65" name=""/>
              <p:cNvSpPr/>
              <p:nvPr/>
            </p:nvSpPr>
            <p:spPr>
              <a:xfrm>
                <a:off x="6658920" y="3149280"/>
                <a:ext cx="108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286400" y="2893680"/>
                <a:ext cx="1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302960" y="3393720"/>
                <a:ext cx="1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016400" y="3089880"/>
                <a:ext cx="1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231320" y="3271320"/>
                <a:ext cx="357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732440" y="3128760"/>
                <a:ext cx="930600" cy="36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bfe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общие функции управления — предварительное управление (планирование и прогнозирование конкретных параметров системы), оперативное управление (организация, мотивация, координация и регулирование) и заключительное управление или обратная связь (контроль, учет, анализ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частные функции управления — управление работами по планированию и прогнозированию, управление качеством, управление технической подготовкой производства, организация работы с кадрами, материально-техническим снабжением, технико-экономического анализа и т. 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bfe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5640" y="333000"/>
            <a:ext cx="4591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Система Ф.У.Тейло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341360"/>
            <a:ext cx="876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истема Тейлора включала понятия верхнего и нижнего пределов качества, поля допуска, вводила такие измерительные инструменты, как шаблоны и калибры, а также обосновывала необходимость независимой должности инспектора по качеству, разнообразную систему штрафов для бракоделов, форм и методов воздействия на качество продукции. Но целевая установка системы управления качеством сводилась к обеспечению определенных кондиций отдельных изделий, узлов и деталей. Дальнейшие действия в этом направлении приводили к значительному росту затрат, снижению эффективности производства рис.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 flipH="1">
            <a:off x="7085880" y="6400800"/>
            <a:ext cx="1981080" cy="380880"/>
          </a:xfrm>
          <a:custGeom>
            <a:avLst/>
            <a:gdLst>
              <a:gd name="textAreaLeft" fmla="*/ 309240 w 1981080"/>
              <a:gd name="textAreaRight" fmla="*/ 1593000 w 1981080"/>
              <a:gd name="textAreaTop" fmla="*/ 64800 h 380880"/>
              <a:gd name="textAreaBottom" fmla="*/ 31608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3689"/>
                </a:moveTo>
                <a:lnTo>
                  <a:pt x="15178" y="3689"/>
                </a:lnTo>
                <a:lnTo>
                  <a:pt x="15178" y="0"/>
                </a:lnTo>
                <a:lnTo>
                  <a:pt x="21600" y="10800"/>
                </a:lnTo>
                <a:lnTo>
                  <a:pt x="15178" y="21600"/>
                </a:lnTo>
                <a:lnTo>
                  <a:pt x="15178" y="17911"/>
                </a:lnTo>
                <a:lnTo>
                  <a:pt x="3375" y="17911"/>
                </a:lnTo>
                <a:close/>
              </a:path>
              <a:path w="21600" h="21600">
                <a:moveTo>
                  <a:pt x="0" y="3689"/>
                </a:moveTo>
                <a:lnTo>
                  <a:pt x="675" y="3689"/>
                </a:lnTo>
                <a:lnTo>
                  <a:pt x="675" y="17911"/>
                </a:lnTo>
                <a:lnTo>
                  <a:pt x="0" y="17911"/>
                </a:lnTo>
                <a:close/>
              </a:path>
              <a:path w="21600" h="21600">
                <a:moveTo>
                  <a:pt x="1350" y="3689"/>
                </a:moveTo>
                <a:lnTo>
                  <a:pt x="2700" y="3689"/>
                </a:lnTo>
                <a:lnTo>
                  <a:pt x="2700" y="17911"/>
                </a:lnTo>
                <a:lnTo>
                  <a:pt x="1350" y="17911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 в мен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8001000" y="380880"/>
            <a:ext cx="1066680" cy="381240"/>
          </a:xfrm>
          <a:prstGeom prst="leftArrow">
            <a:avLst>
              <a:gd name="adj1" fmla="val 50000"/>
              <a:gd name="adj2" fmla="val 129909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76320" y="6400800"/>
            <a:ext cx="2479680" cy="380880"/>
          </a:xfrm>
          <a:prstGeom prst="rightArrow">
            <a:avLst>
              <a:gd name="adj1" fmla="val 50000"/>
              <a:gd name="adj2" fmla="val 271266"/>
            </a:avLst>
          </a:prstGeom>
          <a:gradFill rotWithShape="0">
            <a:gsLst>
              <a:gs pos="0">
                <a:srgbClr val="4545ff"/>
              </a:gs>
              <a:gs pos="50000">
                <a:srgbClr val="ccff33"/>
              </a:gs>
              <a:gs pos="100000">
                <a:srgbClr val="4545ff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Дале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7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ebfe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>
            <a:hlinkClick r:id="" action="ppaction://hlinkshowjump?jump=firstslide"/>
          </p:cNvPr>
          <p:cNvSpPr/>
          <p:nvPr/>
        </p:nvSpPr>
        <p:spPr>
          <a:xfrm flipH="1">
            <a:off x="7085880" y="6400800"/>
            <a:ext cx="1981080" cy="380880"/>
          </a:xfrm>
          <a:custGeom>
            <a:avLst/>
            <a:gdLst>
              <a:gd name="textAreaLeft" fmla="*/ 309240 w 1981080"/>
              <a:gd name="textAreaRight" fmla="*/ 1593000 w 1981080"/>
              <a:gd name="textAreaTop" fmla="*/ 64800 h 380880"/>
              <a:gd name="textAreaBottom" fmla="*/ 31608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3689"/>
                </a:moveTo>
                <a:lnTo>
                  <a:pt x="15178" y="3689"/>
                </a:lnTo>
                <a:lnTo>
                  <a:pt x="15178" y="0"/>
                </a:lnTo>
                <a:lnTo>
                  <a:pt x="21600" y="10800"/>
                </a:lnTo>
                <a:lnTo>
                  <a:pt x="15178" y="21600"/>
                </a:lnTo>
                <a:lnTo>
                  <a:pt x="15178" y="17911"/>
                </a:lnTo>
                <a:lnTo>
                  <a:pt x="3375" y="17911"/>
                </a:lnTo>
                <a:close/>
              </a:path>
              <a:path w="21600" h="21600">
                <a:moveTo>
                  <a:pt x="0" y="3689"/>
                </a:moveTo>
                <a:lnTo>
                  <a:pt x="675" y="3689"/>
                </a:lnTo>
                <a:lnTo>
                  <a:pt x="675" y="17911"/>
                </a:lnTo>
                <a:lnTo>
                  <a:pt x="0" y="17911"/>
                </a:lnTo>
                <a:close/>
              </a:path>
              <a:path w="21600" h="21600">
                <a:moveTo>
                  <a:pt x="1350" y="3689"/>
                </a:moveTo>
                <a:lnTo>
                  <a:pt x="2700" y="3689"/>
                </a:lnTo>
                <a:lnTo>
                  <a:pt x="2700" y="17911"/>
                </a:lnTo>
                <a:lnTo>
                  <a:pt x="1350" y="17911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 в мен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8077320" y="0"/>
            <a:ext cx="1066680" cy="380880"/>
          </a:xfrm>
          <a:prstGeom prst="leftArrow">
            <a:avLst>
              <a:gd name="adj1" fmla="val 50000"/>
              <a:gd name="adj2" fmla="val 130032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76320" y="6400800"/>
            <a:ext cx="1066680" cy="380880"/>
          </a:xfrm>
          <a:prstGeom prst="rightArrow">
            <a:avLst>
              <a:gd name="adj1" fmla="val 50000"/>
              <a:gd name="adj2" fmla="val 116690"/>
            </a:avLst>
          </a:prstGeom>
          <a:gradFill rotWithShape="0">
            <a:gsLst>
              <a:gs pos="0">
                <a:srgbClr val="4545ff"/>
              </a:gs>
              <a:gs pos="50000">
                <a:srgbClr val="ccff33"/>
              </a:gs>
              <a:gs pos="100000">
                <a:srgbClr val="4545ff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далее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ис. 2. Функции службы кач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1:31:59Z</dcterms:created>
  <dc:creator>Отличник</dc:creator>
  <dc:description/>
  <dc:language>en-US</dc:language>
  <cp:lastModifiedBy>Айжан</cp:lastModifiedBy>
  <dcterms:modified xsi:type="dcterms:W3CDTF">2012-01-03T17:27:35Z</dcterms:modified>
  <cp:revision>25</cp:revision>
  <dc:subject/>
  <dc:title>Презентация PowerPoint</dc:title>
</cp:coreProperties>
</file>