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59C-610F-4949-85CA-833DAACA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ABC-2D5F-451E-82CC-A8D6154C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109-6D76-4B93-8F74-4D919B7A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AA1-C64A-410E-87A0-B80D946C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1E89-16A8-44F4-9054-22B5893B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1C84-B21B-43E0-9B24-9DD2B09F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CE50-B178-4BDC-A6E4-43194676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0001-5C41-42EB-BD07-DEB933F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48C-1A32-412F-ADB7-BD3B4184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378E-BD3D-45C5-A773-DDBF3F72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63CD-7ECF-412D-9AB2-2EC4F92F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9F8-9869-4C8F-8C72-A3C4E34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1A64-FFAA-40A9-91C9-E465597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2D5-0057-4C08-A58C-3D6C2ED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0D4-DF37-4C85-A9A8-B5CF9002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174-CB90-49AE-B7B5-63636530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65A9-934B-4FCD-B464-9950A75A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0F0-1E5E-4963-ACDD-F328E1E6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5AF-4D63-45E9-B652-F556DC8D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12D-2F79-4CF7-BC21-14D10173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176-7D1C-4AC5-B8B0-706CF50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0DD-ABE4-4CD2-A70A-6886256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A1B-9D69-45FE-9389-A7A1DCA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DE5-CA16-4E5A-9911-E56FF14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1D9-27F0-42B1-9431-B1B0F23EF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352C-AA57-4982-AB9E-A7F5842990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168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новы организации производственных процес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ринцип профилакти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профилакти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т организацию обслуживания новой техники, направленную на предотвращение аварий и простоев оборудования, брака продукции или любых иных отклонений от нормального хода производстве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Классификация типов произво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ипом производ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еобходимо понимать организационно-технологическую характеристику производственного процесса, основанную на его специализации, повторяемости и ритм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79280" y="691920"/>
            <a:ext cx="683244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уровню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ециализ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характер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втор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тале-операций, каждое рабочее место может быть отнесено к одному из следующих типов производ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й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лассификация типов производств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Рисунок 1" descr="http://sergeeva-i.narod.ru/opp/page1.files/image001.gif"/>
          <p:cNvPicPr/>
          <p:nvPr/>
        </p:nvPicPr>
        <p:blipFill>
          <a:blip r:embed="rId1"/>
          <a:stretch/>
        </p:blipFill>
        <p:spPr>
          <a:xfrm>
            <a:off x="2124000" y="1677960"/>
            <a:ext cx="70200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438280" y="333360"/>
            <a:ext cx="6400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ссовом непрерывно-поточ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автоматиче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производстве загрузка каждого рабочего места одной постоянно повторяющейся операцией сочетается с непрерывным движением изделий. Рабочие места размещаются в соответствии с принципом прямоточности в порядке, соответствующем последовательности операций технологиче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ссовом непрерывно-поточн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матиче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производстве процесс осуществляется при помощи системы машин-автоматов, объединяемых в поточно-автоматические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ссовом прямоточ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изводстве каждое рабочее место также загружено только одной операцией, однако непрерывность движения изделий здесь отсутствует, рабочие места размещаются в той последовательности, которая отвечает порядку технологических опе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ийном непрерывно-поточ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изводстве движение изделий непрерывное, а размещение рабочих мест прямото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ийное прост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изводство отличается прерывным движением изделий. Партия заготовок или деталей проходит через одну операцию и затем целиком или частями поступает на следующую операцию. В промежутке между смежными операциями она часто лежит в цехе или на складе в ожидании освобождения рабочего места, занятого другой раб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ийное прямоточ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изводство, как и серийное простое, характеризуется прерывным движением изделий, но, в отличие от него, прямоточной планировкой рабочих мест в соответствии с последовательностью операций технологиче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диничном производст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ет закрепления операций за отдельными рабочими местами; движение изделий в процессе производства прерывное, оборудование размещается, как правило, по групповому при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Основные этапы и стадии производственного процес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енный процесс представляет собой организацию использования всех факторов производства в целях выпуска необходимой для удовлетворения рыночных потребностей продукции (работ или услу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68360" y="620280"/>
            <a:ext cx="6570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зновидности производственных процесс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своему назначению и роли в производстве процессы подразделяю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о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слу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нов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зываются производственные процессы, в ходе которых осуществляется изготовление основной продукции, выпускаемой предприят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Принципы организации производственных процессов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произво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ука, изучающая действие и проявление объективных экономических законов в разносторонней деятельности предприятия и разрабатывающая на этой основе пути и способы планомерного экономического выполнения государственных и частны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помогательны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сятся процессы, обеспечивающие бесперебойное протекание основных процессов. Их результатом является продукция, используемая на самом предприят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служивающи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зываются процессы, в ходе реализации которых выполняются услуги, необходимые для нормального функционирования и основных, и вспомогательных процесс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ель организ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оизводственного процесса – всемерная экономия времени, обеспечение высокого качества и эффективности производства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ганизация произво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отъемлемая часть любого способа производства, изменяющаяся и совершенствующаяся по мере е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74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Рациональная организация производственных процессов на предприятиях базируется на следующих принципах: 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04560" y="1773360"/>
            <a:ext cx="70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ации и стандарт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то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ринцип специализации и стандартизац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едставляет собой форму общественного разделения труда, которая, развиваясь планомерно, обуславливает выделение и обособление отраслей, предприятий, цехов, участков, линий и отдельных рабочих ме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ринцип прямоточ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ото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рганизации производственного процесса следует понимать как обеспечение кратчайшего пути прохождения изделием всех стадий и операций производственного процесса, от запуска в производство исходных материалов, до выхода с завода готовой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ринцип непрерыв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ерыв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енного процесса следует понимать прежде всего как ликвидацию либо уменьшение перерывов в производстве данного конкретного изделия. К их числу относятся перерывы межоперационные, внутриоперационные и междусм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ринцип ритмич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цип рит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полагает выпуск в равные промежутки времени одинаковых или возрастающих количеств продукции и соответственно повторение через эти промежутки времени производственного процесса на всех его стадиях и опер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ринцип автоматич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автоматичн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т максимальное выполнение операций производственного процесса автоматически, т.е. без непосредственного участия в нем рабочего либо под его наблюдением и контрол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5:48:03Z</dcterms:created>
  <dc:creator>Аза</dc:creator>
  <dc:description/>
  <dc:language>en-US</dc:language>
  <cp:lastModifiedBy>Айжан</cp:lastModifiedBy>
  <dcterms:modified xsi:type="dcterms:W3CDTF">2012-01-03T17:47:14Z</dcterms:modified>
  <cp:revision>3</cp:revision>
  <dc:subject/>
  <dc:title>Основы организации производственных процессов</dc:title>
</cp:coreProperties>
</file>