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9BE-D090-44CF-8156-9E9A5844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20D-6782-4B85-8735-A4F0AC93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2B4-1014-40E8-BDC8-60FD0A73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EAE-6176-4708-A5F7-F889D2A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ECD-9C2E-41A4-B4A7-9E9421E0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0A4-5725-4522-AFC3-5EA6DA1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6EB-3188-4F40-A3BA-ABB102A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E49-7488-40E1-9D3C-4CB190E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74C-A356-4EC7-A8D3-029AC6B5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362-98AB-4DAF-8A60-F235EDD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16E-ACCE-457A-BD5B-8EC4B7D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C18-CC34-4801-B290-6158FD6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FE05-FB10-4D8C-AED2-607B868A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76000" cy="694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ль инвестиций в развитии научно-технического прогре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5305680" cy="426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8120" y="69228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инвес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91628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хождение наиболее выгодного проекта для внесения инвест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920" y="267804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ценивание риска провал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1400" y="342756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нтроль деятельности исполнителей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ждение наиболее выгодного проекта для внесения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6880" y="148428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и немалого числа предлагаемых проектов инвестор должен выб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 перспективный и выгодный для него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0640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ние риска провал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5840" y="1360440"/>
            <a:ext cx="85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тем, как вкладывать деньги, необходимо взвесить все «за» и «прот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о проанализировать нишу рынка, на которую нацелен проект. Оц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олагаемых конкурентов, а также исполнителей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1134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 деятельности исполнителей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560" y="1289160"/>
            <a:ext cx="85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деятельности нужен для того чтобы инвестиции текли в нуж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ии. Исполнитель должен четко понимать, что проект должен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зован в соответствии с утвержденным графиком и полностью отвеч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м заявленным характерис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40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620640"/>
            <a:ext cx="855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вестиционный проект — экономический или социальный проект, основывающийся на инвестициях; обоснование экономической целесообразности, объема и сроков осуществления прямых инвестиций в определенный объект, включающее проектно-сметную документацию, разработанную в соответствии с действующими станда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3529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341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экономическому содержанию жизненный цикл инвестицион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ится на четыре ф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0160" y="292428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ынвестицион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720" y="342900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нвестиционная ф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9440" y="386064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ксплуатацион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240" y="43657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ликвид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70160" y="404640"/>
            <a:ext cx="437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ынвестицион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19700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несколько стад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нвестиционного замы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нвестиционных возмож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нвестиционного предлож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оектные исслед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у технико-экономического обоснования и        бизнес-пла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нчательную формулировку проекта и принятие по    нему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268280"/>
            <a:ext cx="866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ая реализация инвестиционного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организационно-экономического механизма взаимодействия участников проек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проектных раб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ие (аренда) зем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едение объ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ие и монтаж оборуд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производственной инфра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амая затратная фаза, поглощающая основной (или весь) объем инвестиций. Она заканчивается моментом ввода объекта в эксплуа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912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2160" y="549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вестицион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54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од возврата инвестиций — период эксплуатации, в который происходит возврат первоначальных инвестиций за счет получения дохода от реализации продукции. Заканчивается, когда все инвестиции компенсируются дох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4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19120" y="496800"/>
            <a:ext cx="801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луатацион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т период могут быть и инвестиционные затраты (рост производства, износ оборудования), но доходы от реализации продукции намного их превышают. Затем проект начинает постепенно устаревать, спрос на продукцию падает, доходность проекта снижается. В то же время основные фонды проекта устаревают морально и физически, т.е. жизненный цикл инвестиционного проекта завершается, и во избежание превращения его в убыточный целесообразно проект свернуть и к этому времени подготовить новый инвестиционный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0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сти́ции — долгосрочные вложения капитала в экономику с целью получения приб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3333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2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2781360"/>
            <a:ext cx="858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квидация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дополнительным источником денежных поступлений (например, в случае продажи по остаточной стоимости оборудования) или дополнительными расходами (например, при необходимости рекультивации зем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82120" y="321300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2360" y="1413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72680" y="1413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ая 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440" y="537372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нов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61440" y="544500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ьтернативная э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195280" y="1989000"/>
            <a:ext cx="936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35640" y="2060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8000" y="3933720"/>
            <a:ext cx="107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933720"/>
            <a:ext cx="1366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519640" cy="242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1644480" cy="172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4067280" y="1341360"/>
            <a:ext cx="2174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3240" y="765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640" y="1484280"/>
            <a:ext cx="86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ожение денег в исследования связанные с медициной является доста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остраненным способом инвестирования. Продукты таки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ют огромный спрос и в случае успеха исследований прибыль от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иций будет очень хоро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13440" cy="38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нов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9880" y="136044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рование инновационных технологий – это достаточно наде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олучения прибыли. Сюда входят следующие отрасли: космиче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овая электроника, нанотехнологии и т.д.  Так же при исследовании н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поднимается уровень развития цивилизации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6048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енн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280" y="1268280"/>
            <a:ext cx="85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ирование проектов военной промышленности может прин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ссальный доход в случае успешного завершения разработк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рговля оружием – одна из самых прибыльных отраслей мировой торгов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272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160" y="150480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ожение денег в промышленность дает почти гарантированных доход,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и грамотного управления и контроля предприятия. Промышл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рагивает все сферы жизнедеятельности человека и также польз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им спро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327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ьтернативная 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6320" y="1341360"/>
            <a:ext cx="879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ин из наиболее перспективных видов инвестиций, предполагает огр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были в недалеком будущем. Когда запасы нефти на Земле иссякн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дельцы альтернативных источников энергии приступят к получению вы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7592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90792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вестор — лицо или организация (в том числе компания, государство и т. д.), совершающее связанные с риском вложения капитала, направленные на последующее получение прибыли (инвести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4:57:35Z</dcterms:created>
  <dc:creator>User</dc:creator>
  <dc:description/>
  <dc:language>en-US</dc:language>
  <cp:lastModifiedBy>Айжан</cp:lastModifiedBy>
  <dcterms:modified xsi:type="dcterms:W3CDTF">2012-01-03T17:32:31Z</dcterms:modified>
  <cp:revision>7</cp:revision>
  <dc:subject/>
  <dc:title>Роль инвестиций в развитии научно-технического прогресса.</dc:title>
</cp:coreProperties>
</file>