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86BF-AE3C-4310-B448-50111362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020-2F37-4F87-B23A-96A5F327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397-A7C5-4045-BCD8-A086E86F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4FB-C8C6-4960-8D98-B8A1082F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084-85B8-4A6E-9060-509AB7CE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588-4EAB-4B10-8809-34368490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C47-5072-4196-BC2D-67E06741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3BE-C17B-4C52-A362-84065DE9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4E6-4757-4DE2-80C7-B869EE53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1E7-A811-4B79-A060-2A0ED17B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ACFC-860A-40E6-88DD-662D9A12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218-95C9-409F-A904-21E5C684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12AB-0B03-4990-A17A-43E8C78AD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84692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оретические основы, сущность и принципы формирования ры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233277"/>
          <p:cNvPicPr/>
          <p:nvPr/>
        </p:nvPicPr>
        <p:blipFill>
          <a:blip r:embed="rId2"/>
          <a:stretch/>
        </p:blipFill>
        <p:spPr>
          <a:xfrm>
            <a:off x="0" y="4257720"/>
            <a:ext cx="34923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имулирующая функция. При понижении цен производители сокращают производство, одновременно изыскивают возможности снижения издержек путем внедрения новой техники, технологии, совершенствования организации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я установления общественной значимости произведенного продукта и затрат труда. Однако эта функция может действовать в условиях бездефицитного производства (когда покупатель имеет выбор, отсутствия монопольного положения в производстве, наличия нескольких производителей и состязательности между ним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ющая функция. С помощью рынка устанавливаются основные микро- и макропропорции в экономике, в производстве и обме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я демократизации хозяйственной жизни, реализации принципов самоуправления. С помощью рыночных рычагов воздействия происходит освобождение общественного производства от экономических нежизнеспособных его элементов, и за счет этого осуществляется дифференциация товаропроизводи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ормирование рыночного механизма. Проблемы редкост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ханизм функционирования рыночной экономики основывается на трех главных принцип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ржинального (предельного) анали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держек альтернативного выбо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номической рациона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893080" cy="63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а маржинального анали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троится поведение рыночных субъектов, на которое решающее влияние оказывают не средние, а предельные велич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зультате насыщенность рынка товарами, изменение рыночных цен, переход рыночной экономики из одного состояния в другое осуществляется плавно. Это обусловлено тем, что появление нового, предельного субъекта не оказывает существенного влияния на рыночную экономику в виде предложения или спро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условиях совершенного рынка, когда имеет место большой и регулярный спрос и неограниченное количество хозяйствующих субъектов, каждый из них занимает бесконечно малый удельный вес. Маржинальный подход как бы обеспечивает непрерывность функционирования рыночного пространства; исключает возможности возникновения резких колебаний спроса и предложения: поддерживает равновесное состояние между товаропроизводителями и потреб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нцип издержек альтернативного выб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Издержки альтернативного выбора выступают в виде суммы прямых издержек и неполученных выгод, связанных с отказом от других способов использования ресурсов или деятельности предпринимателей. Построение рыночной экономики основывается на том, что из всего перечня упущенных возможностей выбирается наихудший вариант, который дает хотя и минимальный, но гарантированный доход. Принцип издержек альтернативного выбора заставляет производителей искать более эффективное применение имеющимся ресурс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 экономической рациональ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новывается на сопоставлении выгод и издержек. Рациональный выбор осуществляется из меняющихся вариантов, предельным из которых является тот, который обеспечивает гарантированный доход в минимально допустимую величину прибы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686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еоретические основы становления рыночных отношен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 «рынок»  имеет  двойственное  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 собственном смысле  рынок  означает  сбыт,  который  осуществляется  в   сфере   обмена, обра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к —  это  система  экономических  отношений  между людьми,  охватывающих  процессы  производства,   распределения,   обмена   и потреб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терий рациональности определяется исключительностью права на доход. Фирмы стремятся максимизировать прибыль, а потребители — максимально улучшить свое благосостояние при ограниченном использовании капита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642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ынок выступает в  качестве  сложного  механизма  функционирование экономики, основанного на  использовании  разнообразных  форм  собственности товарно-денежных связей и финансово-кредит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роме обращения как такового рыночные отношения включа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тношения, связанные с арендой предприятий и  других  структур  экономики, когда  взаимосвязь  между  двумя  субъектами  осуществляется  на  рыночной осно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бменные процессы совместных предприятий с зарубежными фирм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цесс найма и использования рабочей силы через биржу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редитные отношения при выдаче кредитов под определенный проц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цесс функционирования рыночной инфраструктуры управления  включающей  в себя товарные, фондовые, валютные биржи и другие подразде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ущность рын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к - обязательный компонент товарного хозяйства. Без товарного производства нет рынка, без рынка нет товарного производства. Объективная необходимость рынка вызвана теми же причинами, что и товарное производство: развитием общественного разделения труда и экономическим обособлением субъектов рыночных отношений. Эти условия зарождались и развивались как единое целое, как единый процесс взаимодействия производства и сбыта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ынок - есть тип хозяйственных связей между субъектами хозяйствования, это общественная форма функционирования экономики. Рынок - это форма движения общественного продукта и усл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 Самуэльсон определяет рынок как "процесс конкурентных торгов". Можно (а может быть и лучше) определять рынок как механизм, сводящий вместе покупателей (предъявителей спроса) и продавцов (поставщиков) отдельных товаров и услуг. Под это определение подходят магазин, закусочная, АЗС, парикмахерская, фондовая и товарная биржи, отдел кадров любого предприятия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75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и рынк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рынка наиболее полно проявляется в его функциях. К важнейшим функциям относя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я саморегулирования товарного производства. Она проявляется в том, что при росте спроса на товар производители расширяют масштабы своего производства и повышают цены. В результате производство начинает сокраща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8:48:39Z</dcterms:created>
  <dc:creator>XP GAME 2007</dc:creator>
  <dc:description/>
  <dc:language>en-US</dc:language>
  <cp:lastModifiedBy>Айжан</cp:lastModifiedBy>
  <dcterms:modified xsi:type="dcterms:W3CDTF">2012-01-10T09:26:25Z</dcterms:modified>
  <cp:revision>5</cp:revision>
  <dc:subject/>
  <dc:title>Теоретические основы, сущность и принципы формирования рынка</dc:title>
</cp:coreProperties>
</file>