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E94-F1C9-45B5-93AF-2C8F726F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D5E-C2EE-4DDE-A5AF-6DA79A03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F0C44-1217-4D08-98EB-652F28B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99F23-9619-4233-BE20-7EDE9E5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D6734-4BA8-4880-8B1B-D098B885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9F665-E6A6-4F0C-8B29-52AEA87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D606A-DC77-406B-86A7-53A164C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6985F-5934-481D-9B4F-2E26971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912F8-CBE8-44B3-AD85-F1F993AB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D0FDB-DA57-4EA4-981C-31765C8F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C9FB4-85AE-4E60-AF8A-DE002D31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501FA-1204-4E6B-A1E5-BE05C3EF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724-8CA1-4854-8EC2-7A85B5DC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2315C-E608-4214-8C68-6625CDC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8062E-C7EF-4721-8C92-BA5252D7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51E8D-374A-4517-BF8C-DACC2CA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8BA38-C6A7-4936-8D0F-AB36D333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3E3AD-6877-4306-84B3-F83EFD3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20E00-50C6-4E56-B5B4-38CCA6A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7AE2-A6EF-4545-88A1-DDA038C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E4FBC-4631-4BE6-B44B-5D38DB5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C951-BA38-4D72-A446-E058F987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E511-69D8-48A9-A50A-412B913F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97D-8BB9-43DF-8F9E-7653EB83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44885-424E-4E04-805D-5DA15213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C2E23-2E8F-4ED0-8E22-E0BC306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984A9-1D97-4AE9-8FC5-6ACFF752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19A39-FF20-4F3A-9B77-6E20B1A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1BDC4-D916-4090-A84D-DFC92D74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C0D4-48CF-4E2C-97BD-B7D110E1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C111-1290-4BFC-AA3E-C6FA108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6E4E1-5114-4D05-85CE-84C12936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9A4CA-58A5-41B5-A159-35975C4E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75E35-2FCC-4799-8537-6F742BF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5AFD-19F3-475B-BAFE-1982AA5B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54361-86F6-43DE-86C3-EF86F3CF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FCB3-BB09-4F0C-8E5E-56251C77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C277A-DD92-43AA-9C80-DFE5CDA8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E89B1-2739-4315-84E0-41585F4D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DDB24-E718-49D9-8DF1-74FB9A28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A2E68-4222-4611-BC4F-EBE6860A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24D8E-F8FD-4898-A5A3-2B99CAD9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42026-DE9C-43F2-ADB8-742E1812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F123A-EEA0-4D93-92DF-D4D924FA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44A55-A2B9-4A05-BDC9-2E29CA6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7C7-3CBD-4683-8E37-8185ED7C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10FB8-C8D3-4F39-AAA9-F3155C30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D483B-8B00-48EB-A4D5-65D6E6C9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98346-70F1-4218-9C16-EEC28B4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F640B-83F7-46B6-8D2D-B785CF4F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75F9E-93BC-4800-9C8D-A614F452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6D00F-B7F4-4BF0-B6AD-F5C72080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6BD7A-A380-4489-BD95-A3576400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98115-EA91-402D-8D27-78801DBD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B1085-EC73-4175-B16C-AC13296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54F86-6F28-429C-959F-949AC20E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BC2F-7E8E-4AD8-8CD9-2F972AE7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A9ED9-CE0E-454D-A468-DD58F40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86BEF-0EEC-4BC4-A68F-56F02738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01A14-58EE-4E7C-A6AC-7CAB725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4FCF8-8040-462A-BED4-4BD64EBC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5C4B9-C2BD-4663-84C0-6088616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B8330-6BA2-4683-98CA-BC4EB7F6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7B842-AD83-4E39-95EB-BEA50077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4A5-9C49-443D-8BE3-D0EE82D0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B36-1C92-4571-9319-7F8A885B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1E08-9BD2-4AB5-8288-6A377DB9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6A30-9685-4FAF-B41C-96C1DE1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865-9259-4753-B233-CFB54E71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136F-1BFE-4F13-B683-74A2892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A7D4-B83B-48AD-ABF0-DD9CB4B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A01-1EB6-4AD8-A8F8-B5EFF95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EC68-8085-4FAF-B89D-23CDD843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37F0-B67A-4A60-AA2D-4ADE2973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9ACE-556F-4BB8-9A18-479B1094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54B0-34B3-477F-81F0-B8939B7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1AF2-A0DC-4C56-A4A3-1C6E8F8E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AC35-7277-4DEA-9A41-019B16AE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1007-888A-448C-A854-E6505786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A05-97D0-4E81-8E64-507FF0EE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B88F-85F8-4BBB-B509-F766991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FCE1-1DFB-46F8-92EA-7524012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A76C-FB39-4DF7-9E89-C0F55BF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55AE-E4E3-4976-B95A-782635F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2916-A66B-4C9D-A4AB-8545A32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DB37-7D4E-4A6D-A8FD-6BCF2ABF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DCDD-1A1E-4971-9FE7-1C3E18D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74B3-544C-414B-953E-F8522D56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25B1-3466-498E-A5E5-0B7C1254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157C-B9C6-4000-A00A-5BD3617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87A-A432-4FBE-B05A-CF6E1669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4DE1-598E-485B-9487-5F85C96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00F84-C08D-4C9E-903A-137AFC4A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4312-9555-4719-A300-6FA8AC7D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00AE-0484-417B-912B-4FD623D2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5A08-6D13-41CB-923F-A2EDA2E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4018-49AA-4933-AFF1-EBC9A4C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BD75-83CD-4F24-8CC4-2D59A2D7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C477-719F-4C4F-A583-D3D24974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817D-6B51-43A0-A9A1-C52EFDFA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ED0C-C671-4BF9-86E5-3443C0CB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F63-0D9C-43A2-AB81-9118263F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C414-8D0C-41AF-8BF8-6723814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802D-A47C-481F-BC65-20DB6B35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5AE8-69C9-4602-B779-C347ED3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2505-AC48-4B3F-BAB0-BEAB92D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9257-1698-41E2-B407-8BAABA3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4E29-892C-4BA2-AD4E-75D74C6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29B7-ABA5-4A5A-93DF-2A634D6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4CBF-162D-4AFF-A15F-A7B60EC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82B9D-AE3A-403E-A722-6136FFC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9C5B-BE14-4C26-AE87-013E1CAE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A94-EFCC-4B04-917F-E557A0E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C9237-FD2A-4BC4-8A5C-4417C1C4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6C5B-51FE-4EA9-A107-E53E8291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FD09D-CA17-45F6-A8A8-ABA22D80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6D55-7F81-4496-9F8D-85C3A351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188F-3567-4283-A6C3-7E885DE2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6934-7423-4D9E-904F-0587D01A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3CDDB-AA56-4046-A022-1BF29765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A411-673C-4FB4-BB2E-2D60640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90275-079C-488D-A6B1-6895543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703F-8FB7-48D2-82C8-D1B28F87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E79-C713-4657-A3A9-366A220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DA8E4-8699-4BE7-AD18-9D84AA5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678D4-4611-4C7F-B382-1D70DD5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9674-44F2-4863-B22B-7490AE8C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D36E-0A5C-4416-9C7F-E90196F2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B7B4-D682-4BCE-AFA6-BF63FE63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33B4-2010-4D9B-91EB-1B0B6F1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E290-C9A4-4238-A55A-0755FCF0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BABA5-1059-46F4-8051-D8CC18AE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0BA3-5CFE-45F5-906D-9EEC9383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F26B-861D-448A-9AA4-D99CB1A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FE2-B8A7-4431-8653-0754094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E1C3-296D-4480-9AA0-53B09A0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1678D-983D-402C-8C0C-84BF8EA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CE6E-636D-48B9-9B53-6C7E219D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AEF4-6BCE-4EE3-95ED-C46FF7CC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780B-E46D-431A-A365-40FC1EF9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99DD-50F6-4F4D-ACC1-5049CEE2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C355C-27A1-49D9-A491-287594C1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82153-7B65-49DE-AC66-CA447EC9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E88C-5175-459D-9FA5-6A756A7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6E40-CA5D-4FCE-821A-11867C8E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6F4-8B3C-4225-AC1F-4C0C05B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A2E6-6787-4271-B5C0-6A1A6665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42473-09E0-4BC4-A6A1-DD52A42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7285-A31A-4E6A-8916-33E77AE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22297-818D-41DB-AC61-D2A60DE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141C8-0E3A-4C2B-922F-990CD37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54F1-AAA4-443D-AD87-02C708C8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67B9-DAEF-4AE8-9D2D-44EBEDF4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C586-6E22-45D9-A20A-63118BA4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B9BD8-AAEE-4F90-8FB2-42E75C8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160ED-F241-4880-87E2-8240F58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4AB-6A27-40F0-9E45-FC4ACBE262F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7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6" name="Oval 8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7" name="Oval 9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8" name="Oval 10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9" name="Oval 11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0" name="Oval 12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1" name="Oval 13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2" name="Oval 14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3" name="Oval 15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6" name="Oval 18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7" name="Oval 19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8" name="Oval 20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893-D8BD-431D-B2D9-8BDBCA8C541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7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2" name="Oval 8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3" name="Oval 9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4" name="Oval 10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5" name="Oval 11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6" name="Oval 12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8" name="Oval 14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9" name="Oval 15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0" name="Oval 16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1" name="Oval 17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2" name="Oval 18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3" name="Oval 19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4" name="Oval 20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CE99-834C-425D-B204-30F01605952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7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9" name="Oval 19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0" name="Oval 20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F99-4AAB-473F-8E75-2C9E4662E80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487-0E06-4BB7-BF30-DB386B20BB7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7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/>
              <a:ahLst/>
              <a:rect l="l" t="t" r="r" b="b"/>
              <a:pathLst>
                <a:path w="2171700" h="2171700">
                  <a:moveTo>
                    <a:pt x="2171700" y="1085850"/>
                  </a:moveTo>
                  <a:cubicBezTo>
                    <a:pt x="2171700" y="1685548"/>
                    <a:pt x="1685548" y="2171700"/>
                    <a:pt x="1085850" y="2171700"/>
                  </a:cubicBezTo>
                  <a:cubicBezTo>
                    <a:pt x="486152" y="2171700"/>
                    <a:pt x="0" y="1685548"/>
                    <a:pt x="0" y="1085850"/>
                  </a:cubicBezTo>
                  <a:lnTo>
                    <a:pt x="1085850" y="1085850"/>
                  </a:lnTo>
                  <a:lnTo>
                    <a:pt x="2171700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5840"/>
              <a:chOff x="685800" y="0"/>
              <a:chExt cx="8001000" cy="685584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685800" y="588024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Oval 11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Oval 12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2361960" y="502920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3619440" y="502920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Oval 21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Oval 22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Oval 23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Oval 24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Oval 25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Oval 26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 flipV="1">
                <a:off x="5486400" y="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Oval 28"/>
              <p:cNvSpPr/>
              <p:nvPr/>
            </p:nvSpPr>
            <p:spPr>
              <a:xfrm flipV="1">
                <a:off x="7391520" y="75960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Oval 29"/>
              <p:cNvSpPr/>
              <p:nvPr/>
            </p:nvSpPr>
            <p:spPr>
              <a:xfrm flipV="1">
                <a:off x="5638680" y="6073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 flipV="1">
                <a:off x="7162920" y="14976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31"/>
              <p:cNvSpPr/>
              <p:nvPr/>
            </p:nvSpPr>
            <p:spPr>
              <a:xfrm flipV="1">
                <a:off x="6477120" y="7722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32"/>
              <p:cNvSpPr/>
              <p:nvPr/>
            </p:nvSpPr>
            <p:spPr>
              <a:xfrm flipV="1">
                <a:off x="6782040" y="11653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0" name="Oval 33"/>
              <p:cNvSpPr/>
              <p:nvPr/>
            </p:nvSpPr>
            <p:spPr>
              <a:xfrm flipV="1">
                <a:off x="6743880" y="8604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Oval 34"/>
              <p:cNvSpPr/>
              <p:nvPr/>
            </p:nvSpPr>
            <p:spPr>
              <a:xfrm flipV="1">
                <a:off x="7162920" y="10645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 flipV="1">
                <a:off x="7810560" y="207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 flipV="1">
                <a:off x="7772400" y="17748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Oval 37"/>
              <p:cNvSpPr/>
              <p:nvPr/>
            </p:nvSpPr>
            <p:spPr>
              <a:xfrm flipV="1">
                <a:off x="8115480" y="192816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Oval 38"/>
              <p:cNvSpPr/>
              <p:nvPr/>
            </p:nvSpPr>
            <p:spPr>
              <a:xfrm flipV="1">
                <a:off x="8420400" y="16232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Oval 39"/>
              <p:cNvSpPr/>
              <p:nvPr/>
            </p:nvSpPr>
            <p:spPr>
              <a:xfrm flipV="1">
                <a:off x="6184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Oval 40"/>
              <p:cNvSpPr/>
              <p:nvPr/>
            </p:nvSpPr>
            <p:spPr>
              <a:xfrm flipV="1">
                <a:off x="8305920" y="13946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8" name="Oval 41"/>
              <p:cNvSpPr/>
              <p:nvPr/>
            </p:nvSpPr>
            <p:spPr>
              <a:xfrm flipV="1">
                <a:off x="6096240" y="1064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Oval 42"/>
              <p:cNvSpPr/>
              <p:nvPr/>
            </p:nvSpPr>
            <p:spPr>
              <a:xfrm flipV="1">
                <a:off x="6248520" y="12168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Oval 43"/>
              <p:cNvSpPr/>
              <p:nvPr/>
            </p:nvSpPr>
            <p:spPr>
              <a:xfrm flipV="1">
                <a:off x="6400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Oval 44"/>
              <p:cNvSpPr/>
              <p:nvPr/>
            </p:nvSpPr>
            <p:spPr>
              <a:xfrm flipV="1">
                <a:off x="8153640" y="37800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Oval 45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530-5667-4C1A-87CA-0C8E2C65BEC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643F-BD13-44DC-94FB-F7DFD7A0203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6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7"/>
            <p:cNvSpPr/>
            <p:nvPr/>
          </p:nvSpPr>
          <p:spPr>
            <a:xfrm>
              <a:off x="624924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551268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Oval 9"/>
            <p:cNvSpPr/>
            <p:nvPr/>
          </p:nvSpPr>
          <p:spPr>
            <a:xfrm>
              <a:off x="6249240" y="4342320"/>
              <a:ext cx="85896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Oval 10"/>
            <p:cNvSpPr/>
            <p:nvPr/>
          </p:nvSpPr>
          <p:spPr>
            <a:xfrm>
              <a:off x="615708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Oval 11"/>
            <p:cNvSpPr/>
            <p:nvPr/>
          </p:nvSpPr>
          <p:spPr>
            <a:xfrm>
              <a:off x="5697000" y="2133720"/>
              <a:ext cx="1840680" cy="184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7077600" y="58147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480708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Oval 18"/>
            <p:cNvSpPr/>
            <p:nvPr/>
          </p:nvSpPr>
          <p:spPr>
            <a:xfrm>
              <a:off x="4592520" y="513972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496044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532872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720"/>
            <a:ext cx="1179720" cy="1357200"/>
            <a:chOff x="609480" y="990720"/>
            <a:chExt cx="1179720" cy="1357200"/>
          </a:xfrm>
        </p:grpSpPr>
        <p:sp>
          <p:nvSpPr>
            <p:cNvPr id="241" name="Oval 22"/>
            <p:cNvSpPr/>
            <p:nvPr/>
          </p:nvSpPr>
          <p:spPr>
            <a:xfrm>
              <a:off x="898560" y="1456920"/>
              <a:ext cx="890640" cy="8910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 flipV="1">
              <a:off x="647280" y="1295640"/>
              <a:ext cx="355680" cy="355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 flipV="1">
              <a:off x="609480" y="990720"/>
              <a:ext cx="431640" cy="4320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8B47-E7FA-410A-BA3F-D2F98094C35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5BF3-8D5F-48AD-B0E9-1ACEE97A4A8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A667-7274-4BB6-8EEE-F604B59B9EF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C569-C6FC-458B-A133-03F165BB7D0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8AD-6DCC-40CE-B061-822EB98A89A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9"/>
            <p:cNvSpPr/>
            <p:nvPr/>
          </p:nvSpPr>
          <p:spPr>
            <a:xfrm>
              <a:off x="4695840" y="5048640"/>
              <a:ext cx="1104120" cy="11044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7065720" y="457236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Oval 11"/>
            <p:cNvSpPr/>
            <p:nvPr/>
          </p:nvSpPr>
          <p:spPr>
            <a:xfrm>
              <a:off x="5339880" y="489528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Oval 12"/>
            <p:cNvSpPr/>
            <p:nvPr/>
          </p:nvSpPr>
          <p:spPr>
            <a:xfrm>
              <a:off x="6693840" y="3048120"/>
              <a:ext cx="1840680" cy="1841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>
              <a:off x="791712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4" name="Oval 14"/>
            <p:cNvSpPr/>
            <p:nvPr/>
          </p:nvSpPr>
          <p:spPr>
            <a:xfrm>
              <a:off x="7824960" y="268596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6" name="Oval 17"/>
            <p:cNvSpPr/>
            <p:nvPr/>
          </p:nvSpPr>
          <p:spPr>
            <a:xfrm>
              <a:off x="655236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7" name="Oval 19"/>
            <p:cNvSpPr/>
            <p:nvPr/>
          </p:nvSpPr>
          <p:spPr>
            <a:xfrm>
              <a:off x="6782040" y="55634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8" name="Oval 20"/>
            <p:cNvSpPr/>
            <p:nvPr/>
          </p:nvSpPr>
          <p:spPr>
            <a:xfrm>
              <a:off x="6705720" y="51822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9" name="Oval 21"/>
            <p:cNvSpPr/>
            <p:nvPr/>
          </p:nvSpPr>
          <p:spPr>
            <a:xfrm>
              <a:off x="707364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0" name="Oval 24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1" name="Oval 25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3A7-C18F-4B75-AA13-4790C294138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88;&#1077;&#1084;&#1077;&#1085;&#1085;&#1072;&#1103;_&#1079;&#1072;&#1088;&#1072;&#1073;&#1086;&#1090;&#1085;&#1072;&#1103;_&#1087;&#1083;&#1072;&#1090;&#1072;" TargetMode="External"/><Relationship Id="rId2" Type="http://schemas.openxmlformats.org/officeDocument/2006/relationships/hyperlink" Target="http://ru.wikipedia.org/wiki/&#1050;&#1074;&#1072;&#1083;&#1080;&#1092;&#1080;&#1082;&#1072;&#1094;&#1080;&#1103;" TargetMode="Externa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&#1083;&#1078;&#1085;&#1086;&#1089;&#1090;&#1085;&#1086;&#1081;_&#1086;&#1082;&#1083;&#1072;&#1076;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86;&#1085;&#1076;_&#1086;&#1087;&#1083;&#1072;&#1090;&#1099;_&#1090;&#1088;&#1091;&#1076;&#1072;&amp;action=edit&amp;redlink=1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&#1075;&#108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6;&#1077;&#1083;&#1100;&#1085;&#1072;&#1103;_&#1079;&#1072;&#1088;&#1072;&#1073;&#1086;&#1090;&#1085;&#1072;&#1103;_&#1087;&#1083;&#1072;&#1090;&#1072;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1403280" y="1268280"/>
            <a:ext cx="626436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Организация опла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труда различных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категори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работающих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1979640" y="83664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Аккордная оплата тру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09" name=""/>
          <p:cNvSpPr/>
          <p:nvPr/>
        </p:nvSpPr>
        <p:spPr>
          <a:xfrm>
            <a:off x="1403280" y="2492280"/>
            <a:ext cx="5616720" cy="2881440"/>
          </a:xfrm>
          <a:prstGeom prst="foldedCorner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619280" y="299736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, при которой оценивается комплекс различных работ с указанием предельного срока их выполнения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аккорд-сд. = Рна весь объем рабо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, тг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1332000" y="119700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Оплата труда в процентах от выручк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12" name=""/>
          <p:cNvSpPr/>
          <p:nvPr/>
        </p:nvSpPr>
        <p:spPr>
          <a:xfrm>
            <a:off x="826920" y="2637000"/>
            <a:ext cx="6624720" cy="2592360"/>
          </a:xfrm>
          <a:prstGeom prst="foldedCorner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971640" y="2997360"/>
            <a:ext cx="60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ней заработок зависит от объема реализации продукции предприятием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% выр. = Объем реализации × % пла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тг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1332000" y="1484280"/>
            <a:ext cx="74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овременная форма оплаты 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15" name=""/>
          <p:cNvSpPr/>
          <p:nvPr/>
        </p:nvSpPr>
        <p:spPr>
          <a:xfrm>
            <a:off x="900000" y="2708280"/>
            <a:ext cx="6336000" cy="31687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042920" y="3141720"/>
            <a:ext cx="60501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и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  <a:hlinkClick r:id="rId1"/>
              </a:rPr>
              <a:t>повременн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 оплате труда заработная плата работника определяется в соответствии с его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  <a:hlinkClick r:id="rId2"/>
              </a:rPr>
              <a:t>квалификацие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 и количеством отработанного времени. Такая оплата применяется тогда, когда труд работника невозможно нормировать или выполняемые работы не поддаются учёту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Прямоугольник 3"/>
          <p:cNvSpPr/>
          <p:nvPr/>
        </p:nvSpPr>
        <p:spPr>
          <a:xfrm>
            <a:off x="0" y="2492280"/>
            <a:ext cx="3276720" cy="8654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Простая повремен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Прямоугольник 4"/>
          <p:cNvSpPr/>
          <p:nvPr/>
        </p:nvSpPr>
        <p:spPr>
          <a:xfrm>
            <a:off x="611280" y="4581360"/>
            <a:ext cx="3744720" cy="93672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Оклад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9" name="Прямоугольник 5"/>
          <p:cNvSpPr/>
          <p:nvPr/>
        </p:nvSpPr>
        <p:spPr>
          <a:xfrm>
            <a:off x="5398920" y="2492280"/>
            <a:ext cx="3349800" cy="8654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Повременно-премиаль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Стрелка вправо 6"/>
          <p:cNvSpPr/>
          <p:nvPr/>
        </p:nvSpPr>
        <p:spPr>
          <a:xfrm rot="6747600">
            <a:off x="2124000" y="1699920"/>
            <a:ext cx="648000" cy="504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Стрелка вправо 7"/>
          <p:cNvSpPr/>
          <p:nvPr/>
        </p:nvSpPr>
        <p:spPr>
          <a:xfrm rot="3918600">
            <a:off x="5468760" y="1699920"/>
            <a:ext cx="648000" cy="504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2" name="Стрелка вправо 8"/>
          <p:cNvSpPr/>
          <p:nvPr/>
        </p:nvSpPr>
        <p:spPr>
          <a:xfrm rot="6150000">
            <a:off x="3515040" y="2413440"/>
            <a:ext cx="936720" cy="649440"/>
          </a:xfrm>
          <a:prstGeom prst="rightArrow">
            <a:avLst>
              <a:gd name="adj1" fmla="val 50000"/>
              <a:gd name="adj2" fmla="val 56091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684360" y="907920"/>
            <a:ext cx="801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ременная форма оплаты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4" name="Стрелка вправо 8"/>
          <p:cNvSpPr/>
          <p:nvPr/>
        </p:nvSpPr>
        <p:spPr>
          <a:xfrm rot="3360000">
            <a:off x="4428000" y="2635560"/>
            <a:ext cx="936720" cy="649440"/>
          </a:xfrm>
          <a:prstGeom prst="rightArrow">
            <a:avLst>
              <a:gd name="adj1" fmla="val 50000"/>
              <a:gd name="adj2" fmla="val 56091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Прямоугольник 4"/>
          <p:cNvSpPr/>
          <p:nvPr/>
        </p:nvSpPr>
        <p:spPr>
          <a:xfrm>
            <a:off x="4572000" y="4221000"/>
            <a:ext cx="3745080" cy="93672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Контракт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1042920" y="1989000"/>
            <a:ext cx="66103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ростая повременная оплата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28" name=""/>
          <p:cNvSpPr/>
          <p:nvPr/>
        </p:nvSpPr>
        <p:spPr>
          <a:xfrm>
            <a:off x="755640" y="2708280"/>
            <a:ext cx="6696000" cy="3241800"/>
          </a:xfrm>
          <a:prstGeom prst="verticalScroll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1619280" y="3500280"/>
            <a:ext cx="4464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плата производится за определенное количество отработанного времени независимо от количества выполненных работ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Зпрост. повр. = Тс × tф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, тг.,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где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tф — фактически отработанное время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1476360" y="907920"/>
            <a:ext cx="7353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временно-премиальная оплата труд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31" name=""/>
          <p:cNvSpPr/>
          <p:nvPr/>
        </p:nvSpPr>
        <p:spPr>
          <a:xfrm>
            <a:off x="1476360" y="2060640"/>
            <a:ext cx="6191280" cy="3456000"/>
          </a:xfrm>
          <a:prstGeom prst="verticalScroll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2050920" y="2852640"/>
            <a:ext cx="4681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лата не только отработанного времени по тарифу, но и премии за качество работы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повр-прем. = Тс × tф + Премия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,тг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2268360" y="836640"/>
            <a:ext cx="633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ладная оплата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268360" y="2565360"/>
            <a:ext cx="5256360" cy="3168720"/>
          </a:xfrm>
          <a:prstGeom prst="verticalScroll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2987640" y="3068640"/>
            <a:ext cx="3960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и такой форме в зависимости от квалификации и выполненной работы каждый раз устанавливается 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omic Sans MS"/>
                <a:hlinkClick r:id="rId1"/>
              </a:rPr>
              <a:t>оклад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оклад. = Оклад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, тг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1619280" y="1197000"/>
            <a:ext cx="705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трактная оплата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411280" y="2421000"/>
            <a:ext cx="4897440" cy="3240000"/>
          </a:xfrm>
          <a:prstGeom prst="verticalScroll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3203640" y="3284640"/>
            <a:ext cx="360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рплата оговаривается в контракте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контр. = ∑по контракту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, тг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2268360" y="907920"/>
            <a:ext cx="590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старифная система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латы труд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5280" y="2349360"/>
            <a:ext cx="7777080" cy="3888000"/>
          </a:xfrm>
          <a:prstGeom prst="foldedCorner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468360" y="2492280"/>
            <a:ext cx="74883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использовании бестарифной системы оплаты труда заработок работника зависит от конечных результатов работы предприятия в целом, его структурного подразделения, в котором он работает, и от объема средств, направляемых работодателем на оплату труда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акая система характеризуется следующими признаками: тесной связью уровня оплаты труда с </a:t>
            </a:r>
            <a:r>
              <a:rPr b="0" lang="ru-RU" sz="1800" spc="-1" strike="noStrike" u="sng">
                <a:solidFill>
                  <a:srgbClr val="ffde66"/>
                </a:solidFill>
                <a:uFillTx/>
                <a:latin typeface="Comic Sans MS"/>
                <a:hlinkClick r:id="rId1"/>
              </a:rPr>
              <a:t>фондом заработной платы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 определяемым по конкретным результатам работы коллектива; установлением каждому работнику постоянного коэффициента квалификационного уровня и коэффициента трудового участия в текущих результатах деятельност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Збестар. = ФОТ × Доля работника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, тг.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Прямоугольник 3"/>
          <p:cNvSpPr/>
          <p:nvPr/>
        </p:nvSpPr>
        <p:spPr>
          <a:xfrm>
            <a:off x="0" y="2492280"/>
            <a:ext cx="3276720" cy="8654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Система плавающих окладов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3" name="Прямоугольник 4"/>
          <p:cNvSpPr/>
          <p:nvPr/>
        </p:nvSpPr>
        <p:spPr>
          <a:xfrm>
            <a:off x="2484360" y="3716280"/>
            <a:ext cx="2735280" cy="93672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Дилерский механизм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4" name="Прямоугольник 5"/>
          <p:cNvSpPr/>
          <p:nvPr/>
        </p:nvSpPr>
        <p:spPr>
          <a:xfrm>
            <a:off x="5398920" y="2492280"/>
            <a:ext cx="3349800" cy="8654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Комиссионная форма оплаты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5" name="Стрелка вправо 6"/>
          <p:cNvSpPr/>
          <p:nvPr/>
        </p:nvSpPr>
        <p:spPr>
          <a:xfrm rot="6747600">
            <a:off x="2124000" y="1699920"/>
            <a:ext cx="648000" cy="504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Стрелка вправо 7"/>
          <p:cNvSpPr/>
          <p:nvPr/>
        </p:nvSpPr>
        <p:spPr>
          <a:xfrm rot="3918600">
            <a:off x="5468760" y="1699920"/>
            <a:ext cx="648000" cy="504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Стрелка вправо 8"/>
          <p:cNvSpPr/>
          <p:nvPr/>
        </p:nvSpPr>
        <p:spPr>
          <a:xfrm rot="5400000">
            <a:off x="3740760" y="2820240"/>
            <a:ext cx="726840" cy="649080"/>
          </a:xfrm>
          <a:prstGeom prst="rightArrow">
            <a:avLst>
              <a:gd name="adj1" fmla="val 50000"/>
              <a:gd name="adj2" fmla="val 43548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4360" y="907920"/>
            <a:ext cx="801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мешанная система оплаты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2268360" y="836640"/>
            <a:ext cx="66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Заработная пла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77" name=""/>
          <p:cNvSpPr/>
          <p:nvPr/>
        </p:nvSpPr>
        <p:spPr>
          <a:xfrm>
            <a:off x="900000" y="1989000"/>
            <a:ext cx="7344000" cy="3888000"/>
          </a:xfrm>
          <a:prstGeom prst="roundRect">
            <a:avLst>
              <a:gd name="adj" fmla="val 16667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1187280" y="2276640"/>
            <a:ext cx="662472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  <a:hlinkClick r:id="rId1"/>
              </a:rPr>
              <a:t>денежна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 компенсация, которую работник получает в обмен за свой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  <a:hlinkClick r:id="rId2"/>
              </a:rPr>
              <a:t>труд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Другие определения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заработной платы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цена трудовых ресурсов, задействованных в производственном процессе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выраженная в денежной форме часть совокупного общественного продукта, поступающая в личное потребление трудящихся в соответствии с количеством и качеством затраченного труда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часть затрат на производство и реализацию продукции, направляемая на оплату труда работников предприятия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1332000" y="981000"/>
            <a:ext cx="6399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нимальная заработная пла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332000" y="292428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1835280" y="3068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826920" y="2565360"/>
            <a:ext cx="7921800" cy="3816360"/>
          </a:xfrm>
          <a:prstGeom prst="rect">
            <a:avLst/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1187280" y="2852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042920" y="2781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e66"/>
                </a:solidFill>
                <a:latin typeface="Times New Roman"/>
              </a:rPr>
              <a:t>официально устанавливаемый государством минимальный уровень оплаты труда на предприятиях любой формы собственности в виде наименьшей месячной ставки или почасовой оплат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e66"/>
                </a:solidFill>
                <a:latin typeface="Times New Roman"/>
              </a:rPr>
              <a:t>Значение минимальной заработной платы не всегда привязано к величине прожиточного минимума. Оно определяется в каждый период времени финансовыми возможностями государства, периодически изменяется (номинально всегда повышается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e66"/>
                </a:solidFill>
                <a:latin typeface="Times New Roman"/>
              </a:rPr>
              <a:t>Номинал минимальной платы (МРОТ) используется для исчисления размеров государственных налогов, платежей, штрафов. Например, штраф за переход улицы в неустановленном месте составляет 1/10 минимальной заработной платы. К минимальной заработной плате привязывается и вилка подоходного налога с физических лиц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Прямоугольник 3"/>
          <p:cNvSpPr/>
          <p:nvPr/>
        </p:nvSpPr>
        <p:spPr>
          <a:xfrm>
            <a:off x="395280" y="4437000"/>
            <a:ext cx="2448000" cy="57636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Тарифна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0" name="Прямоугольник 4"/>
          <p:cNvSpPr/>
          <p:nvPr/>
        </p:nvSpPr>
        <p:spPr>
          <a:xfrm>
            <a:off x="3564000" y="4437000"/>
            <a:ext cx="2305080" cy="72072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1" name="Стрелка вправо 5"/>
          <p:cNvSpPr/>
          <p:nvPr/>
        </p:nvSpPr>
        <p:spPr>
          <a:xfrm rot="7994400">
            <a:off x="1600920" y="3375360"/>
            <a:ext cx="734760" cy="552240"/>
          </a:xfrm>
          <a:prstGeom prst="rightArrow">
            <a:avLst>
              <a:gd name="adj1" fmla="val 50000"/>
              <a:gd name="adj2" fmla="val 44350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2" name="Стрелка вправо 6"/>
          <p:cNvSpPr/>
          <p:nvPr/>
        </p:nvSpPr>
        <p:spPr>
          <a:xfrm rot="5400000">
            <a:off x="4283640" y="3429720"/>
            <a:ext cx="865080" cy="720720"/>
          </a:xfrm>
          <a:prstGeom prst="rightArrow">
            <a:avLst>
              <a:gd name="adj1" fmla="val 50000"/>
              <a:gd name="adj2" fmla="val 40010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619280" y="907920"/>
            <a:ext cx="640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Системы оплаты тру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84" name="Стрелка вправо 6"/>
          <p:cNvSpPr/>
          <p:nvPr/>
        </p:nvSpPr>
        <p:spPr>
          <a:xfrm rot="3052800">
            <a:off x="6364080" y="3365640"/>
            <a:ext cx="750600" cy="734760"/>
          </a:xfrm>
          <a:prstGeom prst="rightArrow">
            <a:avLst>
              <a:gd name="adj1" fmla="val 50000"/>
              <a:gd name="adj2" fmla="val 34052"/>
            </a:avLst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5" name="Прямоугольник 3"/>
          <p:cNvSpPr/>
          <p:nvPr/>
        </p:nvSpPr>
        <p:spPr>
          <a:xfrm>
            <a:off x="6156360" y="4365720"/>
            <a:ext cx="2305080" cy="72072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1979640" y="404640"/>
            <a:ext cx="6913440" cy="9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Тарифная система оплаты тру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87" name=""/>
          <p:cNvSpPr/>
          <p:nvPr/>
        </p:nvSpPr>
        <p:spPr>
          <a:xfrm>
            <a:off x="539640" y="1700280"/>
            <a:ext cx="7993080" cy="3744720"/>
          </a:xfrm>
          <a:prstGeom prst="roundRect">
            <a:avLst>
              <a:gd name="adj" fmla="val 16667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1979640" y="2924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1042920" y="1844640"/>
            <a:ext cx="7274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совокупность нормативов, с помощью которых осуществляется дифференциация заработной платы работников различных категорий в зависимости от: сложности выполняемой работы, условий труда, природно-климатических условий, интенсивности труда, характера труда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Формами тарифной системы являются: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сдельная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повременная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Основным различием между ними является лежащий в их основе способ учета затрат труда: при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</a:rPr>
              <a:t>сдельной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 — учет количества произведенной продукции надлежащего качества, либо учет количества выполненных операций, при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</a:rPr>
              <a:t>повременной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 — учет проработанного времен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2195640" y="549360"/>
            <a:ext cx="66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Сдельная форма оплаты труда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1" name=""/>
          <p:cNvSpPr/>
          <p:nvPr/>
        </p:nvSpPr>
        <p:spPr>
          <a:xfrm>
            <a:off x="1619280" y="1628640"/>
            <a:ext cx="7129440" cy="1584360"/>
          </a:xfrm>
          <a:prstGeom prst="roundRect">
            <a:avLst>
              <a:gd name="adj" fmla="val 16667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1979640" y="1700280"/>
            <a:ext cx="640872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omic Sans MS"/>
                <a:hlinkClick r:id="rId1"/>
              </a:rPr>
              <a:t>Сдельна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 форма оплаты труда применяется в случаях, когда есть реальная возможность фиксировать количество показателей результата труда и нормировать его путем установления норм выработки и времени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755640" y="3357720"/>
            <a:ext cx="6192720" cy="3166920"/>
          </a:xfrm>
          <a:prstGeom prst="roundRect">
            <a:avLst>
              <a:gd name="adj" fmla="val 16667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900000" y="3500280"/>
            <a:ext cx="64803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Прямая сдельная оплата труда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Сдельно-премиаль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Сдельно-прогрессив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Косвенно-сдель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Коллективно-сдель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Аккордная оплата труда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Оплата труда в процентах от выручки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1835280" y="1197000"/>
            <a:ext cx="716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ямая сдельная оплата тру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79280" y="2276640"/>
            <a:ext cx="8785440" cy="3673440"/>
          </a:xfrm>
          <a:prstGeom prst="foldedCorner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179280" y="249228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й оплата труда рабочих повышается в прямой зависимости от количества выработанных ими изделий и выполненных работ исходя из твердых сдельных расценок, установленных с учетом необходимой квалификации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работок по такой форме оплаты рассчитывается следующим образом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пр.сд. = Ред. × 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де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д. — расценка за единицу продукци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В — выпуск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684360" y="907920"/>
            <a:ext cx="80629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Сдельно-премиальная оплата тру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9" name=""/>
          <p:cNvSpPr/>
          <p:nvPr/>
        </p:nvSpPr>
        <p:spPr>
          <a:xfrm>
            <a:off x="395280" y="2421000"/>
            <a:ext cx="6337440" cy="3240000"/>
          </a:xfrm>
          <a:prstGeom prst="foldedCorner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611280" y="2637000"/>
            <a:ext cx="590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усматривает премирование за перевыполнение норм выработки и конкретные показатели их производственной деятельности (отсутствие брака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сд-прем. = Ред. × В + Премия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, тг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1835280" y="836640"/>
            <a:ext cx="7129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Косвенно-сдельная оплата тру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02" name=""/>
          <p:cNvSpPr/>
          <p:nvPr/>
        </p:nvSpPr>
        <p:spPr>
          <a:xfrm>
            <a:off x="1476360" y="1844640"/>
            <a:ext cx="712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900000" y="1773360"/>
            <a:ext cx="7344000" cy="3168360"/>
          </a:xfrm>
          <a:prstGeom prst="rect">
            <a:avLst/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971640" y="1916280"/>
            <a:ext cx="6769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меняется для повышения производительности труда рабочих, обслуживающих оборудование и рабочие места. Труд их оплачивается по косвенно-сдельным расценкам из расчета количества продукции, произведенной основными рабочими, которых они обслуживают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косв-сд. = Ред. × Вф + Прем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г.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де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ф — фактическая выработк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1403280" y="836640"/>
            <a:ext cx="756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Коллективно-сдельная оплата тру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492280"/>
            <a:ext cx="7345440" cy="2952720"/>
          </a:xfrm>
          <a:prstGeom prst="foldedCorner">
            <a:avLst>
              <a:gd name="adj" fmla="val 12500"/>
            </a:avLst>
          </a:prstGeom>
          <a:solidFill>
            <a:srgbClr val="4203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900000" y="2781360"/>
            <a:ext cx="619308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й заработная плата определяется на весь коллектив и распределяется по решению коллектива. Заработок одного работника зависит от эффективной деятельности всего коллектива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коллект-сд. = Ркол. × Вф + Прем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г.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де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кол. — расценка по коллективу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8:39:33Z</dcterms:created>
  <dc:creator>User</dc:creator>
  <dc:description/>
  <dc:language>en-US</dc:language>
  <cp:lastModifiedBy>Айжан</cp:lastModifiedBy>
  <dcterms:modified xsi:type="dcterms:W3CDTF">2012-01-03T17:46:42Z</dcterms:modified>
  <cp:revision>10</cp:revision>
  <dc:subject/>
  <dc:title>Видеомонтаж</dc:title>
</cp:coreProperties>
</file>