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E6C5-62BE-4E5A-9D29-68C72187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0354-4FF1-4349-8195-FEA4E3A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5183-2952-47E3-AC72-4AF29AB4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F8A0-0AA2-4B93-AC5F-57933CB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4DF-8382-4340-A0A0-6E11B939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EE4-FF86-4994-B350-650CAA4F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453-A9D4-4FA3-B081-E72CED2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C0B-F0DE-42F5-9C1F-16E903C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20E-CAF0-4EF3-9ABF-5C7F9D7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2FFC-7916-451C-8068-C566CD9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069-5CA8-456A-93B5-CCF3806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21D5-9A4F-4F02-813C-BC13324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5E16-913A-428A-A897-2EF59C5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C4E6-8AED-4556-AF8F-EE20BC3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162-19C5-4717-8CAE-A2D28E9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B191-C152-4FE4-BF88-BE7A4194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358F-2C90-4407-AEAD-C82A31AE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5235-99DB-448F-8DD7-CFA6546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A64A-2408-4BEB-9E0A-37CEF167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957E-4ADF-497C-AB3E-30D224B7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6E82-25EE-4B72-8DC0-BB6D528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CD5D-83A0-4567-8EB1-2B086F5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F21B-C387-4D8D-AE8B-65C984A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6BC5-1529-4BFB-B268-6741983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D44-4726-43EB-8348-2A93539BA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F60-E14A-4700-9254-C716A704A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Оборотные средства предприятия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сточники формирования оборотных средст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реди источников, используемых для формирования оборотных средств, выделяют собственные, заемные и привлеченные сред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Общий размер собственных оборотных средств устанавливается предприятием самостоятельно. Обычно он определяется минимальной потребностью средств для образования необходимых запасов товарно-материальных ценностей, для обеспечения планируемых объемов производства и реализации продукции, а также для осуществления расчетов в установленные сро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 процессе финансового планирования предприятие учитывает прирост и сокращение нормативов собственных оборотных средств, определяемых как разница между нормативами на конец и начало планируемого периода. Прирост норматива собственных оборотных средств финансируется в первую очередь за счет собственных ресурс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Наряду с прибылью для пополнения собственных оборотных средств используются так называемые устойчивые пассивы, которые приравниваются к собственным средствам. Устойчивыми называются пассивы, которые постоянно используются предприятием в обороте, хотя не принадлежат ему (например, резерв предстоящих платежей минимальной задолженности рабочим и служащим по заработной плате, по взносам на социальное страхование и т.п.) и д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 качестве устойчивых пассивов служат нормальная, переходящая из месяца в месяц задолженность по заработной плате и отчислениям по социальному страхованию, остаток средств ремонтного (резервного) фонда, средства потребителей по залогам за возвратную тару, резерв предстоящих платежей. Поскольку эти средства постоянно находятся в обороте, предприятия и их размер на протяжении года существенно колеблется, в качестве источника формирования приравненных оборотных средств используется их минимальная сумма в данном году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 течение года потребность предприятий в оборотных средствах может изменяться, поэтому нецелесообразно полностью формировать оборотные средства за счет собственных источников. 'Это привело бы к образованию излишков оборотных средств в отдельные моменты и ослаблению стимулов к их экономичному использованию. Предприятие поэтому использует для финансирования оборотных средств заемные сред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Дополнительная потребность в оборотных средствах, обусловленная временными нуждами, обеспечивается краткосрочными кредитами банк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Кроме собственных и заемных средств в обороте предприятия находятся привлеченные средства. Это кредиторская задолженность всех видов, а также средства целевого финансирования до их использования по прямому назначени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пределение потребности предприятия в оборотных средств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пределение потребности предприятия в собственных оборотных средствах осуществляется в процессе нормирования, т.е. определения норматива оборотных средст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Целью нормирования является определение рационального размера оборотных средств, отвлекаемых на определенный срок в сферу производства и сферу обра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казатели эффективности использования оборотных средст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Эффективность использования оборотных средств характеризуется системой экономических показателей, прежде всего оборачиваемостью оборотных средст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Под оборачиваемостью оборотных средств понимается продолжительность полного кругооборота средств с момента приобретения оборотных средств (покупки сырья, материалов и т.п.) до выхода и реализации готовой продукции. Кругооборот оборотных средств завершается зачислением выручки на счет предприятия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борачиваемость оборотных средств неодинакова на различных предприятиях, что зависит от их отраслевой принадлежности, а в пределах одной отрасли – от организации производства и сбыта продукции, размещения оборотных средств и других факторо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борачиваемость оборотных средств характеризуется рядом взаимосвязанных показателей: длительностью одного оборота в днях, количеством оборотов за определенный период (коэффициент оборачиваемости), суммой занятых на предприятии оборотных средств на единицу продукции (коэффициент загрузки)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Длительность одного оборота оборотных средств исчисляется по формуле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 = С : Т/Д,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где О–длительность оборота, дни; С–остатки оборотных средств (средние или на определенную дату), руб.; Т– объем товарной продукции, руб.; Д– число дней в рассматриваемом периоде, дн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меньшение длительности одного оборота свидетельствует об улучшении использования оборотных средст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оличество оборотов за определенный период, или коэффициент оборачиваемости оборотных средств (КО), исчисляется по формуле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О = Т/С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Чем выше при данных условиях коэффициент оборачиваемости, тем лучше используются оборотные средств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оэффициент загрузки средств в обороте (Кз), обратный коэффициенту оборачиваемости, определяется по формуле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з = С/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роме указанных показателей также может быть использован показатель отдачи оборотных средств, который определяется отношением прибыли от реализации продукции предприятия к остаткам оборотных средст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азличают состав и структуру оборотных средств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 составом оборотных средств понимают совокупность элементов, образующих оборотные средства. Деление оборотных средств на оборотные производственные фонды и фонды обращения определяется особенностями их использования и распределения в сферах производства продукции и ее реализ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оротные производственные фонды включают в себ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едметы труда (сырье, основные материалы и покупные полуфабрикаты, вспомогательные материалы, топливо, тара, запасные части и т.п.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 фондам обращения относя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редства предприятия, вложенные в запасы готовой продукции, товары отгруженные, но не оплаченны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редства в расчет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нежные средства в кассе и на сче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кономическая сущность оборотных средст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оротные средства – это часть капитала предприятия, вложенного в его текущие активы. По материально-вещественному признаку в состав оборотных средств включаются: предметы труда (сырье и материалы, топливо), готовая продукция на складах предприятия, товары для перепродажи, денежные средства и средства в расчет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новное назначение оборотных средств – обеспечение непрерывного процесса производства и реализации продукции, полноты и своевременности финансирования коммерческой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ганическим свойством оборотных средств является их постоянное движение, которое совершается в форме кругооборота – последовательной смены их функциональных форм в производст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новное их назначение – обслуживание денежными ресурсами образования производственных запасов. Далее на стадии производства они принимают форму незавершенного производства, концентрируемого на рабочих местах, отдельных технологических переходах, в складах. В завершающей стадии, вновь созданная готовая продукция поступает на склад, а затем реализуется потребителю, а вложенные в нее средства возвращаются к денежной форме. Появляется возможность очередного вложения ресурс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6880" y="1698120"/>
            <a:ext cx="792972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ля обеспечения непрерывности процесса производства любая организация (предприятие) должна располагать определенной суммой оборотных средств. Между тем под оборотными средствами понимают стоимость, авансированную в виде собственных, заемных и привлеченных средств, для формирования оборотных производственных фондов и фондов обращения с целью обеспечения непрерывности кругооборота в процессе расширенного воспроизводства. Оборотные средства — стоимостная категор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ериод времени, в течение которого совершается оборот денежных средств, представляет собой длительность производственно-коммерческого цикл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тот период складывается из отрезка времени между уплатой денег за сырье и материалы и поступлением денег от продажи готовой продукции. На протяженность этого периода влияют: период кредитования предприятием покупателей, период нахождения сырья и материалов в запасах, период производства и хранения готовой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лементы оборотного капитала непрерывно переходят из сферы производства в сферу обращения и вновь возвращаются в производство. Часть оборотного капитала постоянно находится в сфере производства (производственные запасы, незавершенное производство, готовая продукция на складе и т.д.), а другая часть – в сфере обращения (отгруженная продукция, дебиторская задолженность, денежные средства, ценные бумаг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требность в оборотном капитале для сферы производства и для сферы обращения неодинакова для разных видов деятельности и даже для отдельных предприятий одной отрасли. Эта потребность определяется вещественным содержанием и скоростью оборота оборотных средств, объемом производства, технологией и организацией производства, порядком реализации продукции и закупок сырья и материалов и другими факто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на отличается от понятия «оборотные активы (фонды)». Суть отличия состоит в следующем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авансируются, а оборотные активы полностью потребляются (расходуются) в процессе производства, т. е. участвуют в одном производственном цикле. При этом величина оборотных активов (фондов) может во много раз превышать величину собственных оборотных средств, авансиро­ванных в производств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обслуживают весь кругооборот предприятия и возвращаются в денежной форме в его оборот, в то время как оборотные активы полностью потребляются, находясь на соответствующей стадии кругооборот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находятся в непрерывном движении и одновременно в форме оборотных производственных фондов и в форме фондов обращения, а оборотные активы — нет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нельзя идентифицировать в пассиве баланса (выделить отдельной строкой фонд оборотных средств), в то время как оборотные активы выделены в отдельные строки в активе баланса организации (предприятия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- это средства, используемые предприятием для осуществления своей постоянной деятельности, оборотные средства включают в себя производственные запасы предприятия, незавершенное производство, запасы готовой и отгруженной продукции, дебиторскую задолженности, а также наличные деньги в кассе и денежные средства на счетах предприят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боротные средства являются непременным условием для осуществления предприятием хозяйственной деятельности. По сути, оборотные средства – это денежные средства, авансированные в оборотные производственные фонды и фонды обращения, не стоит путь их с денежными средствами вложенными в основные фонд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ущность оборотных средств определяется их экономической ролью, необходимостью обеспечения воспроизводственного процесса, включающего как процесс производства, так и процесс обращения. В отличие от основных фондов, неоднократно участвующих в процессе производства, оборотные средства функционируют только в одном производственном цикле и независимо от способа производственного потребления полностью переносят свою стоимость на готовый продук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став и классификация оборотных средст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оротные средства предприятия существуют в сфере производства и в сфере обращения. Оборотные производственные фонды и фонды обращения подразделяются на различные элементы, составляющие материально-вещественную структуру оборотных сред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лементы оборотных средст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оротные производственные фонды включают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изводственные запас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завершенное производство и полуфабрикаты собственного изготовлен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сходы будущих пери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изводственные запасы – это предметы труда, подготовленные для запуска в производственный процесс. В их составе можно, в свою очередь, выделить следующие элементы: сырье, основные и вспомогательные материалы, топливо, горючее, покупные полуфабрикаты и комплектующие изделия, тара и тарные материалы, запасные части для текущего ремонта, малоценные и быстроизнашивающиеся предме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нды обращения состоят из следующих элементов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отовая продукция на склада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овары в пути (отгруженная продукция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енежные средств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редства в расчетах с потребителями проду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рмируемые и ненормируемые оборотные сред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азанные элементы оборотных средств группируются различным образом. Обычно выделяют две группы, различающиеся по степени планирования: нормируемые и ненормируемые оборотные средства. Нормирование– это установление экономически обоснованных (плановых) норм запаса и нормативов по элементам оборотных средств, необходимых для нормальной деятельности предприятия. К числу нормируемых оборотных средств обычно относятся оборотные производственные фонды и готовая продукция. Фонды обращения обычно ненормиру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0:32Z</dcterms:created>
  <dc:creator>Лена</dc:creator>
  <dc:description/>
  <dc:language>en-US</dc:language>
  <cp:lastModifiedBy>Айжан</cp:lastModifiedBy>
  <dcterms:modified xsi:type="dcterms:W3CDTF">2012-01-03T16:56:02Z</dcterms:modified>
  <cp:revision>4</cp:revision>
  <dc:subject/>
  <dc:title>Оборотные средства предприятия </dc:title>
</cp:coreProperties>
</file>