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9C3-A29B-48F3-B9BC-C141799B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A1A-A028-4307-973D-E981514D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FDE-3982-4ED4-BA24-C2DDFDF0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45D-963B-40E3-A39A-3DC29B0C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58A-C50B-474B-9E6A-16DEF53F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AEB-9888-4343-9F5F-B075397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3F0-94CA-4012-B0B9-2DB3ECC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72E-2F14-4B9B-84DF-51D840C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65B0-0067-469F-B7A0-705FCA3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7CE-90BA-46AA-9CE7-D44ADF25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F7FD-BD3D-49A1-9D4D-7369E88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132-1B67-4CEC-AAF4-31C5271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2E53-5E8E-497D-BCAE-E0EDEBD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283-4C99-407D-A6E7-2786759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6652-5BC1-4E3A-B1B8-8764F92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520-0A3F-4194-983A-26FABBA2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44D-9DB4-49ED-8708-6198A5FC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D12DB-9B02-4B2D-8DF4-E9AEC9A4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200F0-39E1-4277-81FD-BB51FAB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2C14A-E57C-4B68-9814-998C262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F7958-2F77-47F1-9286-210AB1B2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D4B5A-750E-4728-9F1C-972D299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CB9-C457-4692-A5E9-6632C84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DC21D-2E24-4769-B9D7-A1EFDAB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AFA54-53DC-47A7-9C93-33631EB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0AC9C-48FC-4603-BF0B-6B68537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9AC7-D442-4FB4-AD2A-EF4189B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A0DF8-B277-4818-8EB2-C05E675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80F98-5008-4E8D-8F59-5348CDE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773C1-C9E0-4292-AA0C-4C595F7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2E8C-D2B4-4DE9-A5A7-71EECCA1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E522-D41B-461C-88BF-BF0AEC3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9B3E-2877-4BF6-B4E1-ED1DF45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2F2-F4C2-47F1-8964-22CE0D3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853E-862D-4AA3-AE67-9A9AB50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56C4-0448-4622-9BBA-FED6E22D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BF6B-107B-4A0F-AE1B-2737254A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F435-34F7-4CAF-B578-3527AED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34E4-12B2-4AFA-91B6-EBB5831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E230-8F6F-407C-B547-5B5CD36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1B80-E577-4A62-9400-C9D505C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D23D-874E-4014-9E87-2EDB2365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0194-5DF0-4D4F-A404-CC7BB67F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B90-C4BB-49CF-80F0-9524219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688-8DDE-425C-BA57-D606EF77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AF7-14B7-4570-8D1A-2181AB5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96-FC79-4079-8A7F-6FCDE04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E5E-D73D-4BD9-935A-546DA8B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1F8-F3C6-499C-A44F-B30F049B3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DF2-95BE-4C15-904E-EC05A1625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977D-16AE-40A2-93AE-177356545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96A-EADB-4C13-8EC3-7D67DBDB67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Виды коопераций и разделение труда в условиях автоматизированного производ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24000" y="2205000"/>
            <a:ext cx="85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Наконец, важным видом разделения труда является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квалификационное разделение труд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в зависимости от сложности работ. Оно имеет теснейшую связь с повышением культурно-технического уровня работников, ведущим к сокращению доли малоквалифицированного труда в народном хозяйстве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валификационные различия между группами работников объективно обусловлены различной сложностью выполняемых работ. Работники одной и той же профессии или специальности могут иметь разные знания, умение работать и производственный опыт. Все это выражается в квалификации — качестве работы (труда) и лежит в основе распределения работников по группам квалификации — разрядам, категориям, классам и т.п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Кооперация труд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С разделением труда в производстве неразрывно связана его кооперация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Это две стороны единого процесса труда в его общественной форме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Существование разделенного труда (по функциональному, профессиональному и квалификационному признакам) объективно требует установления определенных соотношений и взаимодействия между видами труда. Без этого производство невозможно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Следует иметь в виду, что кооперация труда не означает лишь достижения рациональных пропорций в затратах труда различных видов, а предполагает установление социально-трудовых взаимоотношений между участниками производства, согласование интересов людей и целей производ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4000" y="98100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Кооперация труда на предприятиях осуществляется в различных формах в зависимости от конкретных производственных условий. На это влияют характер оборудования и особенности технологии, тип производства и степень расчленения производственных процессов и многие другие факторы, включая организационно-экономические и социальные. Так, кооперирование труда может происходить при индивидуальном выполнении работы на отдельных рабочих местах, при многостаночной работе или совмещении трудовых функций и специальностей, при коллективной работе. Кооперация труда при индивидуальном выполнении работ часто встречается, например, в машиностроении, коллективная организация шире распространена в отраслях добывающей промышленности, а также в производствах с преобладанием аппаратурных процессов (химическом, металлургическом и др.), в сельском хозяйстве, на транспорт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250920" y="836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 ведущее место среди коллективных форм организации современного труда хозяйственная практика выдвинула производственные бригады, групповые формы организации труд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общем виде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ригад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едставляет собой группу работников, совместно осуществляющих производственный процесс или отдельную его часть и коллективно отвечающих за результаты своей работ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ля создания бригад необходимо соответствующие материально-технические и организационные предпосылки, связанные либо с невозможностью распределения общей работы между отдельными исполнителями, либо с необходимостью обеспечения четкого взаимодействия между основными и вспомогательными работниками для достижения более высокого результата в труде, либо с трудностью точного определения обязанностей и объема работы отдельных работников при отсутствии у них постоянных рабочих мест. Обязательными условиями бригадной организации труда являются наличие производственной связи между работниками в процессе труда и общей цели выполняемых работ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17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50920" y="6127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примеру, в промышленности существуют различные формы бригадной организации. Есть, например, бригады, в которых отдельные рабочие параллельно или последовательно участвуют в выполнении одной и той же работы: изготовляют одни и те же детали, изделия, производят ремонт одного и того же оборудования. Это возможно в условиях предметной и подетальной специализации производ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других случаях члены бригады самостоятельно выполняют сходные работы: токарную, фрезерную и т.п. обработку деталей; сборку одинаковых изделий; определенные вспомогательные работы – транспортные, наладочные, контрольные и т.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395280" y="69228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конец, широко известны бригады, обслуживающие крупные производственные агрегаты непрерывного действия: доменные и мартеновские печи, конверторы, прокатные станы, химические агрегаты и т.д. Они организуются как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сквозные бригады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обслуживающие одни и те же агрегаты в разные смены. Возможны и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сменные бригады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Но при всех условиях необходимым является обеспечение достоверного учета объема выполняемых рабо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08080" y="692280"/>
            <a:ext cx="8785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Основными </a:t>
            </a:r>
            <a:r>
              <a:rPr b="1" i="1" lang="en-US" sz="2500" spc="-1" strike="noStrike">
                <a:solidFill>
                  <a:srgbClr val="000000"/>
                </a:solidFill>
                <a:latin typeface="Georgia"/>
              </a:rPr>
              <a:t>видами бригадной организации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 труда являются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специализированные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комплексные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 бригады.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Специализированные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бригады часто называют профессиональными, поскольку они, как правило, состоят из работников одной профессии и выполняют однородные технологические процессы. В отличие от них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комплексные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бригады включают работников разных профессий, выполняющих комплекс взаимосвязанных, технологически разнородных работ. Каждому члену такой группы поручается выполнение определенной работы, соответствующей его квалификации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3" descr=""/>
          <p:cNvPicPr/>
          <p:nvPr/>
        </p:nvPicPr>
        <p:blipFill>
          <a:blip r:embed="rId1"/>
          <a:stretch/>
        </p:blipFill>
        <p:spPr>
          <a:xfrm>
            <a:off x="176040" y="590400"/>
            <a:ext cx="86569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строгого разделения труда здесь нет, работники могут привлекаться к выполнению других работ, входящих в общий комплекс производственного задания. Этим определяются особенности и преимущества комплексных бригад, заключающиеся в возможностях совмещения специальностей, освоения смежных работ, форм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ников широкого производственного профиля, а также в более качественном обслуживании применяемой техники, полном использовании рабочего времени и оборудования, повышении за счет этого производительности тру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836640"/>
            <a:ext cx="843408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4760" indent="412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 разделение труда как процесс специализации работников нельзя рассматривать лишь как сужение сферы деятельности человека путем выполнения все более ограниченных функций и производственных операций. Разделение труда является многосторонним, сложным процессом, который, меняя свои формы, отражает действие объективного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закона перемены тру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4760" indent="412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то же время необходимо учитывать существование границ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целесообразности в процессе разделения труда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игнорирование которых может отрицательно сказаться на организации и результатах производст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хема 5" descr=""/>
          <p:cNvPicPr/>
          <p:nvPr/>
        </p:nvPicPr>
        <p:blipFill>
          <a:blip r:embed="rId1"/>
          <a:stretch/>
        </p:blipFill>
        <p:spPr>
          <a:xfrm>
            <a:off x="-324000" y="4698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50920" y="12636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Монотонност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труда является весьма серьезным негативным фактором, проявляющимся в процессе углубления разделения труда в производстве. Средствами против монотонности могут служить периодическая перемена рабочих мест, устранение однообразия трудовых движений, введение переменных ритмов труда, регламентированных перерывов  для активного отдыха и т.п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хема 2" descr=""/>
          <p:cNvPicPr/>
          <p:nvPr/>
        </p:nvPicPr>
        <p:blipFill>
          <a:blip r:embed="rId1"/>
          <a:stretch/>
        </p:blipFill>
        <p:spPr>
          <a:xfrm>
            <a:off x="-6480" y="476280"/>
            <a:ext cx="9223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50920" y="90792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Функционально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разделение труда проявляется в двух направлениях: между категориями работников, входящих в состав персонала предприятия, и между основными и вспомогательными работниками. Первое означает выделение в составе персонала предприятий таких категорий работников, как рабочие, руководители, специалисты и служащие. Характерной тенденцией в развитии этого вида разделения труда является возрастание доли специалистов в составе производственного персона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50920" y="549360"/>
            <a:ext cx="8713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ругим направлением функционального разделения труда является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разделение работников на основных и вспомогательных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Первые из них непосредственно участвуют в изменении формы и состояния обрабатываемых предметов труда, например, рабочие литейных, механических и сборочных цехов машиностроительных предприятий, занятые выполнением технологических операций по изготовлению основной продукции. Вторые непосредственного участия в осуществлении технологического процесса не принимают, но создают необходимые условия для бесперебойной и эффективной работы основных рабоч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79280" y="98100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собым видом разделения труда является его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рофессиональное разделение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которое развивается в зависимости от применяемых орудий труда, предметов труда, технологии производства. Наблюдения показывают, что изменения в профессиональном разделении труда характеризуются ростом абсолютного числа и удельного веса профессий механизированного труда, сокращением числа узких профессий и специальностей, увеличением численности профессий широкого профил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56:43Z</dcterms:created>
  <dc:creator>Айжан</dc:creator>
  <dc:description/>
  <dc:language>en-US</dc:language>
  <cp:lastModifiedBy>Айжан</cp:lastModifiedBy>
  <dcterms:modified xsi:type="dcterms:W3CDTF">2012-01-03T17:23:30Z</dcterms:modified>
  <cp:revision>2</cp:revision>
  <dc:subject/>
  <dc:title>Виды коопераций и разделение труда в условиях автоматизированного производства</dc:title>
</cp:coreProperties>
</file>