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774F-B0D6-4649-BA83-6BD1BE20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F35D-F443-4DD3-ADCE-A30B436C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68E-5FF4-42D1-8E93-5F801557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59DF-F526-43C0-9482-1F7C830C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02A1-E553-4FA4-87E2-063D798A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7703-B080-4326-975B-E29118F3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9851-5BA2-4E86-9497-D304EF23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0A6F-05AE-4D9E-9E19-2CF086A4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0492-67E0-4985-A6DE-953A2D58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8EDC-CC4A-41B1-B555-F3BB7877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D805-946D-4BE0-A168-86F1497D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B12F-4CBE-4C2D-B7F2-B4524391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78B2-E1DF-45F2-BC54-81C7C690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BC39-FD9E-442C-989D-32CDD28C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E119-653E-464A-8363-E08821F5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B1EE-E588-4BD4-8CC6-83C53F03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9899-95CD-45C9-B501-E5A9FD70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7F447-6B79-407B-8FA3-9E6B9F4E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61BDC-5C03-403D-AC3B-A9024E1F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AD68A-C843-4A05-883A-CEA27B5E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F3F09-75A5-426C-918F-CACD5FB1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09C66-FC79-488C-88B7-CA63620C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1B2-03E4-4985-96F7-24D33644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BCA42-C044-4673-90E0-A4BAAC04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E8C9D-AD49-41F6-A904-248C2CD0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D9B85-E2E1-49D8-929F-318A8A31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4F5C8-56CC-4584-A3DE-16169349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09976-F25F-4CFC-B4EE-F51576AA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8EEEB-8136-41E7-918F-C07EE139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76B91-BBE1-4C7C-B9AA-C546682C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B671E-36DD-41D9-85C5-E00691C3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FFE59-6D50-4D3C-9D82-AAE8DEC1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90C2B-A9AE-4ADB-8CF8-EC7183AC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E21A-FCD2-416C-B76F-A08C9B3F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1E7D9-86A7-4963-BD8A-846BF23E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4551B-CAA4-4054-8B74-9EEAE294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50B37-FB4C-4D69-BB4B-A12839AF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FEBBA-130C-4946-80FD-3192B6BB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E1F0B-DD41-483D-BB4E-213E32A3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470D2-02D2-431B-9B15-6995F24F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2B85D-21D1-47A1-8899-9DD69BA1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F1347-423A-4E0A-8DBF-E9C3C7BF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CB033-416E-4E60-97DF-C22FA713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D6126-8CF6-4114-852C-E29A431D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456E-D103-4741-9250-B2C777E4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2DC84-2DB0-418E-9052-FE918291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BB775-E484-4A5C-91D3-D7CB5D2B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DFF59-8C96-4E96-9FB1-E17CCCD5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A01B9-AE05-4A3C-882E-12EE6F7D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23896-FE72-405D-950F-C6D6BF5B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29A7B-94E3-4895-B488-33D7C6DA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8D417-AD0B-41BF-9D3A-3B3FF415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CDAB1-41B2-404D-9D6F-A3D4B7DE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50458-8929-4E1A-9534-FB844117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5EDD6-6EA7-4A4D-8EF5-CA25DAB6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7412-F866-4FA6-833C-49D25CD3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8959A-02E8-4832-8133-EA3F0EFA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110-DF2C-4D89-BBA1-9AC0238A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5E6D-8998-4A47-9E7C-1BBFEF3B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8DF-559C-4FAD-A4F6-DA4C3F51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4E1F-6E83-46A4-B428-000DE01F2A9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EAE9-2D01-45F0-ABF2-A59FE49B15E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B327-113E-4051-9850-D3E9B699AF0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28D2-6D56-4BDA-8DDB-FE863725AF56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B7F3-CF9B-4DCD-8507-AD7205FC43E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993600" y="493560"/>
            <a:ext cx="7412040" cy="4011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2"/>
          <a:stretch/>
        </p:blipFill>
        <p:spPr>
          <a:xfrm>
            <a:off x="0" y="4572000"/>
            <a:ext cx="27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ется цеховой структурой с последовательной передачей предметов труда. Такая форма организации широко распространена на машиностроительных предприятиях, обеспечивает наиболее полную загрузку оборудования и приспособлена к частым изменениям в технологическом процесс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353880" y="1852560"/>
            <a:ext cx="72471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071360"/>
            <a:ext cx="7238880" cy="53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ется линейной структурой с поштучной передачей предметов труда. Такая форма обеспечивает реализацию основных принципов организации производственных процессов: специализации, прямоточности, непрерывности, параллельности. Применение прямоточной формы приводит к сокращению длительности цикла, более эффективному использованию рабочей силы, уменьшению объема незавершенного производств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853920" y="853920"/>
            <a:ext cx="724716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856800"/>
            <a:ext cx="723888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еханических цехов машиностроительных предприятий наиболее характерна предметная форма организации производства. Она характеризуется ячеистой структурой с параллельно-последовательной или последовательной передачей предметов труда в производстве. На таком участке устанавливается, как правило, все оборудование, необходимое для обработки группы деталей с начала до конца технологического процесса. Предметное построение участков обеспечивает прямоточность и уменьшение длительности производственного цикла и обеспечения передачи их с операции на операцию без завоза на склад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25360" y="317520"/>
            <a:ext cx="78390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85840" y="7855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объединение основных и вспомогательных операций в единый интегрированный производственный процесс с ячеистой или линейной пространственной структурой при последовательной или параллельно-последовательной передачей предметов труда в производстве. В отличие от существующей практики раздельного проектирования процессов складирования, транспортировки, управления, обработки на участках с интегрированной формой организации требуется увязать эти частичные процессы в единый производственный процесс. Это достигается путем объединения всех рабочих мест с помощью автоматической транспортно-складской системы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Users\Admin\Desktop\11.1.gif"/>
          <p:cNvPicPr/>
          <p:nvPr/>
        </p:nvPicPr>
        <p:blipFill>
          <a:blip r:embed="rId1"/>
          <a:stretch/>
        </p:blipFill>
        <p:spPr>
          <a:xfrm>
            <a:off x="928800" y="500040"/>
            <a:ext cx="65721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353880" y="407880"/>
            <a:ext cx="7247160" cy="15969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форма общественной организации производства –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центраци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есть сосредоточение производства во все более крупных предприятиях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00040" y="356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я производства может осуществляться в четырех формах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укрупнение предприятий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редоточение производства на крупных предприятиях; определяется научно-техническим прогрессом орудий труда и ростом выпуска продукции;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специализация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редоточение (концентрация) однородного массового или крупносерийного производств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собой определенное взаимодействие элементов производственного процесса (частичных процессов) во времени и в пространстве, выраженное системой устойчивых связ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28760" y="6426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оперирование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ые производственные связи между предприятиями (объединениями), участвующими в совместном изготовлении определенной продукци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бинирование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ение разных производств, представляющих собой последовательные ступени обработки сырья, комплексную переработку сырья или использование отходов производства в одном предприятии (комбинате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структурные построения во времени и в пространстве основных элементов производственного процесса, взаимодействие которых осуществляется в определенных количественных и качественных пропорциях при соответствующем уровне их интеграции в системе, образуют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вокупность основных форм организации производств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30260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00040" y="15714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ся составом элементов производственного процесса и порядком их взаимодействия во времени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360360" y="317520"/>
            <a:ext cx="743580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ся количеством технологического оборудования, сосредоточенного на рабочей площадке, и расположением его относительно направления движения предметов труда и окружающего пространств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28760" y="571680"/>
            <a:ext cx="7238880" cy="48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омбинация пространственной и временной структуры производственного процесса при определенном уровне интеграции частичных процессов, обусловливают различные формы организации производства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точеч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технологическ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прямоточ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предмет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интегрирован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93560" y="920880"/>
            <a:ext cx="72550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детали осуществляется полностью на одном рабочем месте. Изделие изготовляется там, где находится его основная часть. В качестве примера может служить сборка изделия с перемещением рабочего вокруг него или обработка крупногабаритных деталей на станках типа «обрабатывающий центр»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378000" y="317520"/>
            <a:ext cx="750384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04:59:05Z</dcterms:created>
  <dc:creator>Admin</dc:creator>
  <dc:description/>
  <dc:language>en-US</dc:language>
  <cp:lastModifiedBy>Admin</cp:lastModifiedBy>
  <dcterms:modified xsi:type="dcterms:W3CDTF">2011-12-04T18:44:34Z</dcterms:modified>
  <cp:revision>8</cp:revision>
  <dc:subject/>
  <dc:title>Основные организационные формы производственных организаций</dc:title>
</cp:coreProperties>
</file>