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3B6F-D2D0-4E7F-8571-E025BE7A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F03F-DF83-4D1B-9DD7-7FA01E5D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1A88-0775-4379-800B-E045DDB6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DA5D-93C8-464F-885F-6C9EB7DD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B665-08D4-4BE1-BF4E-471045BA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1C68-CF6F-449C-B67F-3DD7F797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A3F5-B1C5-4C0D-8863-9C844166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CB20-9F43-44CF-99F2-B6F06C2F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A697-20A4-4192-8F02-B484193F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9621-89C9-49DB-9D14-17BF4A5D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0867-EE5D-4F70-A844-79F8E73A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6502-CEFC-44E8-8F58-3B4CBC3D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D39F-286B-4568-8F9A-AB76358A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B5B8-CF2D-4F48-819F-16689BBB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C6F7-643D-4404-B73C-7F3C8428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38D0-FC49-49CF-B4E0-BB0D6BB2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3B9B-C641-4725-8029-B4CA0D40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83FFF8-EA12-4A8D-B62A-D28D4395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44F3D-3454-492A-AD4D-A8FBC7CB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04A0C7-5266-4F45-832F-AD8D92A4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6831D-2E11-4745-A1A9-0C749CE0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2298DC-E02B-4DC8-92CA-7B48DAC2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15DE-9F80-40E3-B84D-0E0319E4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4FA3B-A12E-4239-805B-553E51C7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56B41F-7E7A-4C98-915E-DF6E86C3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A17546-C702-4F8A-8F71-4D586391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39655F-6EBD-4FD5-8BBC-409D7BB7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0FE3A-8375-4CBC-88EA-5C3CE386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773430-A710-48F5-996D-1134EFFE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DA21AA-9993-4E8D-AF6F-78516887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ADC8A-C39F-44BA-9751-1B952B5E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4BF06-AC6B-42E3-890D-C94EDEA0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68A69-F4EE-427E-9718-02F85131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049A-7FA9-4640-83E4-1D50410F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B518E-D508-40B4-A667-6C7A9812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2C433-6375-4268-828E-C3B17653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AFCA4-783E-440E-9626-23C03C27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EBFD1-EA78-4E23-86DF-C8C70DEE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D622A-17DF-4846-9CD9-32F8E839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53639-4192-4839-9DE7-F1EF6E05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1F48A-3805-47A5-A883-E0408E04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6D13C-EA73-4F34-86DD-2E4763D8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0A8E3-6020-482B-9D91-7135D482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929-A5D9-4939-8E79-501628BD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2C60-477E-49A8-A554-7AD1F250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CBF8-256D-4A87-A368-8EB3356C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5E75-277E-4B66-A18C-53F5C683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3EBC-3824-4FC5-A328-A9876522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6969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b2b2b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b2b2b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AE80-8636-4EDB-A402-FB9039584E68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b2b2b2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b2b2b2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6969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b2b2b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b2b2b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9737-5EC5-4699-B81E-2C13450B6438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6969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b2b2b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b2b2b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A155-9706-41F5-BBA3-4CF2ABD6FF58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6969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b2b2b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b2b2b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16CE-ED85-4AB7-B570-99C0A4E41D3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2"/>
          <a:stretch/>
        </p:blipFill>
        <p:spPr>
          <a:xfrm>
            <a:off x="-609480" y="390600"/>
            <a:ext cx="9875880" cy="3906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Прямоугольник 1" descr=""/>
          <p:cNvPicPr/>
          <p:nvPr/>
        </p:nvPicPr>
        <p:blipFill>
          <a:blip r:embed="rId1"/>
          <a:stretch/>
        </p:blipFill>
        <p:spPr>
          <a:xfrm>
            <a:off x="0" y="512640"/>
            <a:ext cx="9144000" cy="1590840"/>
          </a:xfrm>
          <a:prstGeom prst="rect">
            <a:avLst/>
          </a:prstGeom>
          <a:ln w="0">
            <a:noFill/>
          </a:ln>
        </p:spPr>
      </p:pic>
      <p:pic>
        <p:nvPicPr>
          <p:cNvPr id="258" name="Схема 2" descr=""/>
          <p:cNvPicPr/>
          <p:nvPr/>
        </p:nvPicPr>
        <p:blipFill>
          <a:blip r:embed="rId2"/>
          <a:stretch/>
        </p:blipFill>
        <p:spPr>
          <a:xfrm>
            <a:off x="493560" y="1920960"/>
            <a:ext cx="8089920" cy="40831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Прямоугольник 1" descr=""/>
          <p:cNvPicPr/>
          <p:nvPr/>
        </p:nvPicPr>
        <p:blipFill>
          <a:blip r:embed="rId1"/>
          <a:stretch/>
        </p:blipFill>
        <p:spPr>
          <a:xfrm>
            <a:off x="0" y="512640"/>
            <a:ext cx="9144000" cy="1041480"/>
          </a:xfrm>
          <a:prstGeom prst="rect">
            <a:avLst/>
          </a:prstGeom>
          <a:ln w="0">
            <a:noFill/>
          </a:ln>
        </p:spPr>
      </p:pic>
      <p:pic>
        <p:nvPicPr>
          <p:cNvPr id="260" name="Схема 2" descr=""/>
          <p:cNvPicPr/>
          <p:nvPr/>
        </p:nvPicPr>
        <p:blipFill>
          <a:blip r:embed="rId2"/>
          <a:stretch/>
        </p:blipFill>
        <p:spPr>
          <a:xfrm>
            <a:off x="407880" y="1341360"/>
            <a:ext cx="8394840" cy="51753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Прямоугольник 1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577880"/>
          </a:xfrm>
          <a:prstGeom prst="rect">
            <a:avLst/>
          </a:prstGeom>
          <a:ln w="0">
            <a:noFill/>
          </a:ln>
        </p:spPr>
      </p:pic>
      <p:pic>
        <p:nvPicPr>
          <p:cNvPr id="262" name="Схема 4" descr=""/>
          <p:cNvPicPr/>
          <p:nvPr/>
        </p:nvPicPr>
        <p:blipFill>
          <a:blip r:embed="rId2"/>
          <a:stretch/>
        </p:blipFill>
        <p:spPr>
          <a:xfrm>
            <a:off x="1322280" y="1865160"/>
            <a:ext cx="6139080" cy="47548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Прямоугольник 1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157788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2"/>
          <p:cNvSpPr/>
          <p:nvPr/>
        </p:nvSpPr>
        <p:spPr>
          <a:xfrm>
            <a:off x="216000" y="2421000"/>
            <a:ext cx="8928000" cy="35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новация ОПФ - простое воспроизводство ОП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ортизация 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цесс постепенного перемещения стоимости ОПФ на готовую продукцию или выполненные услуги в целях возмещения и накопления денежных средств для последующего воспроизводства ОП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ортизационный период (Т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кономически целесообразный срок возмещения стоимости ОПФ, учитывающий физический и моральный изн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= Т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нормативный срок службы оборудова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мортизационные отчисления (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от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- ежегодные отчисления, предназначенные для возмещения стоимости изношенной части ОП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отч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 Ф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ср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* Н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/100% (ру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норма аморт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рма амортизации - установленный в плановом порядке процент отчислений от среднегодовой балансовой стоимости ОПФ, в соответствии с которым производятся амортизационные отчисле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мортизационный фон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АФ) - денежные средства, накапливаемые за срок службы ОПФ для их воспроизводств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Прямоугольник 1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103032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2"/>
          <p:cNvSpPr/>
          <p:nvPr/>
        </p:nvSpPr>
        <p:spPr>
          <a:xfrm>
            <a:off x="216000" y="2133720"/>
            <a:ext cx="892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Применяется для развития предпринимательской деятельности и для ускорения процесса обновления фондов предприятия (при определенных условиях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Суть метода: используется повышение нормы амортизации, в следствие чего балансовая стоимость фондов быстрее переносится на себестоимость изготовляемой продукции (услуг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применении данного метода, прибыль предприятия может значительно уменьшиться, что является невыгодным, но государство стимулирует внедрение этого метода путем снижения налога на прибыль в первые годы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анный метод применяется для: увеличения выпуска вычислительной техники, увеличения выпуска новых материалов, приборов, увеличения экспорта продукции, при массовой замене устаревшей техник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Прямоугольник 1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57788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2"/>
          <p:cNvSpPr/>
          <p:nvPr/>
        </p:nvSpPr>
        <p:spPr>
          <a:xfrm>
            <a:off x="108000" y="2492280"/>
            <a:ext cx="8928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фондоотдача - показатель выпуска проду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= Т/Ф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ср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где Т - объем товарной, валовой, реализованной проду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Прямоугольник 1" descr="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103032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2"/>
          <p:cNvSpPr/>
          <p:nvPr/>
        </p:nvSpPr>
        <p:spPr>
          <a:xfrm>
            <a:off x="0" y="3284640"/>
            <a:ext cx="89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вышение коэффициента сменности обору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скорение освоения вводимых мощнос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вышение производительности оборудования, в результате технического перевооружения и реконструкции действующий ОПФ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ижение стоимости единицы мощности вновь вводимых, реконструируемых и перевооружаемых предприят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4" name="Прямоугольник 1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10303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      </a:t>
            </a: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Производственный процесс — </a:t>
            </a:r>
            <a:r>
              <a:rPr b="0" i="1" lang="ru-RU" sz="3200" spc="-1" strike="noStrike">
                <a:solidFill>
                  <a:srgbClr val="ffffff"/>
                </a:solidFill>
                <a:latin typeface="Trebuchet MS"/>
              </a:rPr>
              <a:t>совокупность частных трудовых ресурсов (основных, вспомогательных и обслуживающих) и естественных процессов, в результате которых сырье, материалы, полуфабрикаты преобразуются в конечную продукцию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Прямоугольник 1"/>
          <p:cNvSpPr/>
          <p:nvPr/>
        </p:nvSpPr>
        <p:spPr>
          <a:xfrm>
            <a:off x="539640" y="2349360"/>
            <a:ext cx="7704360" cy="24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фондоемкость - обратная величина фондоотдачи, она показывает долю стоимости ОПФ, приходящуюся на каждый рубль выпускаемой проду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Arial"/>
              </a:rPr>
              <a:t>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= Ф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Arial"/>
              </a:rPr>
              <a:t>срг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/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Прямоугольник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0303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Скругленный прямоугольник 16"/>
          <p:cNvSpPr/>
          <p:nvPr/>
        </p:nvSpPr>
        <p:spPr>
          <a:xfrm>
            <a:off x="203040" y="981000"/>
            <a:ext cx="8785440" cy="4391280"/>
          </a:xfrm>
          <a:prstGeom prst="roundRect">
            <a:avLst>
              <a:gd name="adj" fmla="val 16667"/>
            </a:avLst>
          </a:prstGeom>
          <a:solidFill>
            <a:srgbClr val="bd92de">
              <a:alpha val="25000"/>
            </a:srgbClr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Скругленный прямоугольник 4"/>
          <p:cNvGrpSpPr/>
          <p:nvPr/>
        </p:nvGrpSpPr>
        <p:grpSpPr>
          <a:xfrm>
            <a:off x="281160" y="3316320"/>
            <a:ext cx="3711240" cy="1859040"/>
            <a:chOff x="281160" y="3316320"/>
            <a:chExt cx="3711240" cy="1859040"/>
          </a:xfrm>
        </p:grpSpPr>
        <p:pic>
          <p:nvPicPr>
            <p:cNvPr id="231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81160" y="3316320"/>
              <a:ext cx="3711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431640" y="3441600"/>
              <a:ext cx="3408480" cy="15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7030a0"/>
                  </a:solidFill>
                  <a:latin typeface="Georgia"/>
                </a:rPr>
                <a:t>Рабочая си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7030a0"/>
                  </a:solidFill>
                  <a:latin typeface="Georgia"/>
                </a:rPr>
                <a:t>Капит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7030a0"/>
                  </a:solidFill>
                  <a:latin typeface="Georgia"/>
                </a:rPr>
                <a:t>Средства производ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7030a0"/>
                  </a:solidFill>
                  <a:latin typeface="Georgia"/>
                </a:rPr>
                <a:t>Предмет тру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3" name=""/>
          <p:cNvGraphicFramePr/>
          <p:nvPr/>
        </p:nvGraphicFramePr>
        <p:xfrm>
          <a:off x="1716120" y="1484280"/>
          <a:ext cx="5557680" cy="1028880"/>
        </p:xfrm>
        <a:graphic>
          <a:graphicData uri="http://schemas.openxmlformats.org/drawingml/2006/table">
            <a:tbl>
              <a:tblPr/>
              <a:tblGrid>
                <a:gridCol w="1297080"/>
                <a:gridCol w="2168280"/>
                <a:gridCol w="2092320"/>
              </a:tblGrid>
              <a:tr h="45756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Процесс производ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c7eb">
                        <a:alpha val="7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Основ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c7eb">
                        <a:alpha val="76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Вспомога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c7eb">
                        <a:alpha val="76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Обслуживаю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c7eb">
                        <a:alpha val="76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34" name="Скругленный прямоугольник 6"/>
          <p:cNvGrpSpPr/>
          <p:nvPr/>
        </p:nvGrpSpPr>
        <p:grpSpPr>
          <a:xfrm>
            <a:off x="5151600" y="3316320"/>
            <a:ext cx="3687480" cy="1859040"/>
            <a:chOff x="5151600" y="3316320"/>
            <a:chExt cx="3687480" cy="1859040"/>
          </a:xfrm>
        </p:grpSpPr>
        <p:pic>
          <p:nvPicPr>
            <p:cNvPr id="235" name="Скругленный 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5151600" y="3316320"/>
              <a:ext cx="368748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303880" y="3441600"/>
              <a:ext cx="3384360" cy="15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030a0"/>
                  </a:solidFill>
                  <a:latin typeface="Georgia"/>
                </a:rPr>
                <a:t>Готовая продук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030a0"/>
                  </a:solidFill>
                  <a:latin typeface="Georgia"/>
                </a:rPr>
                <a:t>Отход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Стрелка углом 14"/>
          <p:cNvSpPr/>
          <p:nvPr/>
        </p:nvSpPr>
        <p:spPr>
          <a:xfrm>
            <a:off x="563400" y="1844640"/>
            <a:ext cx="1008360" cy="1295280"/>
          </a:xfrm>
          <a:custGeom>
            <a:avLst/>
            <a:gdLst/>
            <a:ahLst/>
            <a:rect l="l" t="t" r="r" b="b"/>
            <a:pathLst>
              <a:path w="1008062" h="1295400">
                <a:moveTo>
                  <a:pt x="0" y="1295400"/>
                </a:moveTo>
                <a:lnTo>
                  <a:pt x="0" y="743708"/>
                </a:lnTo>
                <a:cubicBezTo>
                  <a:pt x="0" y="413797"/>
                  <a:pt x="267446" y="146351"/>
                  <a:pt x="597357" y="146351"/>
                </a:cubicBezTo>
                <a:lnTo>
                  <a:pt x="597357" y="146350"/>
                </a:lnTo>
                <a:lnTo>
                  <a:pt x="597357" y="0"/>
                </a:lnTo>
                <a:lnTo>
                  <a:pt x="1008062" y="289314"/>
                </a:lnTo>
                <a:lnTo>
                  <a:pt x="597357" y="578628"/>
                </a:lnTo>
                <a:lnTo>
                  <a:pt x="597357" y="432277"/>
                </a:lnTo>
                <a:lnTo>
                  <a:pt x="597357" y="432277"/>
                </a:lnTo>
                <a:cubicBezTo>
                  <a:pt x="425358" y="432277"/>
                  <a:pt x="285926" y="571709"/>
                  <a:pt x="285926" y="743708"/>
                </a:cubicBezTo>
                <a:cubicBezTo>
                  <a:pt x="285926" y="927605"/>
                  <a:pt x="285927" y="1111503"/>
                  <a:pt x="285927" y="1295400"/>
                </a:cubicBezTo>
                <a:lnTo>
                  <a:pt x="0" y="1295400"/>
                </a:lnTo>
                <a:close/>
              </a:path>
            </a:pathLst>
          </a:custGeom>
          <a:solidFill>
            <a:srgbClr val="dec7eb">
              <a:alpha val="75000"/>
            </a:srgbClr>
          </a:solidFill>
          <a:ln w="38160">
            <a:solidFill>
              <a:srgbClr val="dec7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трелка углом 15"/>
          <p:cNvSpPr/>
          <p:nvPr/>
        </p:nvSpPr>
        <p:spPr>
          <a:xfrm rot="5400000">
            <a:off x="7296120" y="2023920"/>
            <a:ext cx="1223640" cy="1008000"/>
          </a:xfrm>
          <a:custGeom>
            <a:avLst/>
            <a:gdLst/>
            <a:ahLst/>
            <a:rect l="l" t="t" r="r" b="b"/>
            <a:pathLst>
              <a:path w="1223963" h="1008063">
                <a:moveTo>
                  <a:pt x="0" y="1008063"/>
                </a:moveTo>
                <a:lnTo>
                  <a:pt x="0" y="743709"/>
                </a:lnTo>
                <a:cubicBezTo>
                  <a:pt x="0" y="413797"/>
                  <a:pt x="267446" y="146351"/>
                  <a:pt x="597358" y="146351"/>
                </a:cubicBezTo>
                <a:lnTo>
                  <a:pt x="829417" y="146351"/>
                </a:lnTo>
                <a:lnTo>
                  <a:pt x="829417" y="0"/>
                </a:lnTo>
                <a:lnTo>
                  <a:pt x="1223963" y="289314"/>
                </a:lnTo>
                <a:lnTo>
                  <a:pt x="829417" y="578628"/>
                </a:lnTo>
                <a:lnTo>
                  <a:pt x="829417" y="432278"/>
                </a:lnTo>
                <a:lnTo>
                  <a:pt x="597358" y="432278"/>
                </a:lnTo>
                <a:cubicBezTo>
                  <a:pt x="425359" y="432278"/>
                  <a:pt x="285927" y="571710"/>
                  <a:pt x="285927" y="743709"/>
                </a:cubicBezTo>
                <a:lnTo>
                  <a:pt x="285927" y="1008063"/>
                </a:lnTo>
                <a:lnTo>
                  <a:pt x="0" y="1008063"/>
                </a:lnTo>
                <a:close/>
              </a:path>
            </a:pathLst>
          </a:custGeom>
          <a:solidFill>
            <a:srgbClr val="dec7eb">
              <a:alpha val="75000"/>
            </a:srgbClr>
          </a:solidFill>
          <a:ln w="38160">
            <a:solidFill>
              <a:srgbClr val="dec7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0" y="768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c7eb"/>
                </a:solidFill>
                <a:latin typeface="Calibri"/>
                <a:ea typeface="Times New Roman"/>
              </a:rPr>
              <a:t>Основные фонды - </a:t>
            </a:r>
            <a:r>
              <a:rPr b="0" lang="ru-RU" sz="2800" spc="-1" strike="noStrike">
                <a:solidFill>
                  <a:srgbClr val="dec7eb"/>
                </a:solidFill>
                <a:latin typeface="Calibri"/>
                <a:ea typeface="Times New Roman"/>
              </a:rPr>
              <a:t>часть средств производства (средства труда), котор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Схема 3" descr=""/>
          <p:cNvPicPr/>
          <p:nvPr/>
        </p:nvPicPr>
        <p:blipFill>
          <a:blip r:embed="rId1"/>
          <a:stretch/>
        </p:blipFill>
        <p:spPr>
          <a:xfrm>
            <a:off x="244440" y="1768320"/>
            <a:ext cx="8369280" cy="47656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Прямоугольник 3" descr=""/>
          <p:cNvPicPr/>
          <p:nvPr/>
        </p:nvPicPr>
        <p:blipFill>
          <a:blip r:embed="rId1"/>
          <a:stretch/>
        </p:blipFill>
        <p:spPr>
          <a:xfrm>
            <a:off x="0" y="706320"/>
            <a:ext cx="9144000" cy="104328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6"/>
          <p:cNvSpPr/>
          <p:nvPr/>
        </p:nvSpPr>
        <p:spPr>
          <a:xfrm>
            <a:off x="216000" y="1700280"/>
            <a:ext cx="8820000" cy="4117320"/>
          </a:xfrm>
          <a:prstGeom prst="rect">
            <a:avLst/>
          </a:prstGeom>
          <a:solidFill>
            <a:srgbClr val="dec7eb">
              <a:alpha val="20000"/>
            </a:srgbClr>
          </a:solidFill>
          <a:ln w="9360">
            <a:solidFill>
              <a:srgbClr val="dddddd"/>
            </a:solidFill>
            <a:miter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14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. Зд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2. Сооружения (автодороги, ж/д, эстакадаы, мосты и тд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3. Передаточные устройства (э/сети, теплосети, трубопроводы итд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4. Машины и оборудование, в том чис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4.1.  Силовые машины и оборудование (турбины, генераторы, компрессоры и п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4.2. Рабочие машины и обору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4.3. Измерительные и регулирующие приб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4.4. Вычислительная тех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Прямоугольник 3" descr=""/>
          <p:cNvPicPr/>
          <p:nvPr/>
        </p:nvPicPr>
        <p:blipFill>
          <a:blip r:embed="rId1"/>
          <a:stretch/>
        </p:blipFill>
        <p:spPr>
          <a:xfrm>
            <a:off x="0" y="706320"/>
            <a:ext cx="9144000" cy="104328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6"/>
          <p:cNvSpPr/>
          <p:nvPr/>
        </p:nvSpPr>
        <p:spPr>
          <a:xfrm>
            <a:off x="216000" y="1773360"/>
            <a:ext cx="8748720" cy="3751560"/>
          </a:xfrm>
          <a:prstGeom prst="rect">
            <a:avLst/>
          </a:prstGeom>
          <a:solidFill>
            <a:srgbClr val="dec7eb">
              <a:alpha val="20000"/>
            </a:srgbClr>
          </a:solidFill>
          <a:ln w="9360">
            <a:solidFill>
              <a:srgbClr val="dddddd"/>
            </a:solidFill>
            <a:miter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14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. Транспортные средства (автомобили, вагоны, локомотивы, электрокары и п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6. Инструмент и приспособления для непосредственного формообразования, воздействия на предметы тру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7. Производственный инвентарь и принадлежности (рабочие столы, верстки и пр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8. Хозяйственны инвентарь (сейфы, противопожарный инвентар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9. Прочие ОП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Прямоугольник 1" descr=""/>
          <p:cNvPicPr/>
          <p:nvPr/>
        </p:nvPicPr>
        <p:blipFill>
          <a:blip r:embed="rId1"/>
          <a:stretch/>
        </p:blipFill>
        <p:spPr>
          <a:xfrm>
            <a:off x="0" y="706320"/>
            <a:ext cx="9144000" cy="1043280"/>
          </a:xfrm>
          <a:prstGeom prst="rect">
            <a:avLst/>
          </a:prstGeom>
          <a:ln w="0">
            <a:noFill/>
          </a:ln>
        </p:spPr>
      </p:pic>
      <p:pic>
        <p:nvPicPr>
          <p:cNvPr id="246" name="Схема 2" descr=""/>
          <p:cNvPicPr/>
          <p:nvPr/>
        </p:nvPicPr>
        <p:blipFill>
          <a:blip r:embed="rId2"/>
          <a:stretch/>
        </p:blipFill>
        <p:spPr>
          <a:xfrm>
            <a:off x="0" y="1695600"/>
            <a:ext cx="9144000" cy="49734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Прямоугольник 1" descr=""/>
          <p:cNvPicPr/>
          <p:nvPr/>
        </p:nvPicPr>
        <p:blipFill>
          <a:blip r:embed="rId1"/>
          <a:stretch/>
        </p:blipFill>
        <p:spPr>
          <a:xfrm>
            <a:off x="0" y="585720"/>
            <a:ext cx="9144000" cy="1041480"/>
          </a:xfrm>
          <a:prstGeom prst="rect">
            <a:avLst/>
          </a:prstGeom>
          <a:ln w="0">
            <a:noFill/>
          </a:ln>
        </p:spPr>
      </p:pic>
      <p:pic>
        <p:nvPicPr>
          <p:cNvPr id="248" name="Прямоугольник 2" descr=""/>
          <p:cNvPicPr/>
          <p:nvPr/>
        </p:nvPicPr>
        <p:blipFill>
          <a:blip r:embed="rId2"/>
          <a:stretch/>
        </p:blipFill>
        <p:spPr>
          <a:xfrm>
            <a:off x="0" y="1743120"/>
            <a:ext cx="4572000" cy="933480"/>
          </a:xfrm>
          <a:prstGeom prst="rect">
            <a:avLst/>
          </a:prstGeom>
          <a:ln w="0">
            <a:noFill/>
          </a:ln>
        </p:spPr>
      </p:pic>
      <p:pic>
        <p:nvPicPr>
          <p:cNvPr id="249" name="Прямоугольник 3" descr=""/>
          <p:cNvPicPr/>
          <p:nvPr/>
        </p:nvPicPr>
        <p:blipFill>
          <a:blip r:embed="rId3"/>
          <a:stretch/>
        </p:blipFill>
        <p:spPr>
          <a:xfrm>
            <a:off x="4572000" y="1670040"/>
            <a:ext cx="4572000" cy="933480"/>
          </a:xfrm>
          <a:prstGeom prst="rect">
            <a:avLst/>
          </a:prstGeom>
          <a:ln w="0">
            <a:noFill/>
          </a:ln>
        </p:spPr>
      </p:pic>
      <p:cxnSp>
        <p:nvCxnSpPr>
          <p:cNvPr id="250" name="Прямая со стрелкой 5"/>
          <p:cNvCxnSpPr>
            <a:stCxn id="247" idx="2"/>
            <a:endCxn id="248" idx="0"/>
          </p:cNvCxnSpPr>
          <p:nvPr/>
        </p:nvCxnSpPr>
        <p:spPr>
          <a:xfrm flipH="1">
            <a:off x="2285640" y="1360440"/>
            <a:ext cx="2286720" cy="4975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1" name="Прямая со стрелкой 7"/>
          <p:cNvCxnSpPr>
            <a:stCxn id="247" idx="2"/>
            <a:endCxn id="249" idx="0"/>
          </p:cNvCxnSpPr>
          <p:nvPr/>
        </p:nvCxnSpPr>
        <p:spPr>
          <a:xfrm>
            <a:off x="4572000" y="1360440"/>
            <a:ext cx="2286720" cy="4262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52" name="Прямоугольник 9"/>
          <p:cNvSpPr/>
          <p:nvPr/>
        </p:nvSpPr>
        <p:spPr>
          <a:xfrm>
            <a:off x="287280" y="2708280"/>
            <a:ext cx="3924360" cy="1313640"/>
          </a:xfrm>
          <a:prstGeom prst="rect">
            <a:avLst/>
          </a:prstGeom>
          <a:solidFill>
            <a:srgbClr val="000000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непосредственно участвуют в превращении предметов труда в готовую продук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0"/>
          <p:cNvSpPr/>
          <p:nvPr/>
        </p:nvSpPr>
        <p:spPr>
          <a:xfrm>
            <a:off x="4788000" y="2732040"/>
            <a:ext cx="4105080" cy="1191240"/>
          </a:xfrm>
          <a:prstGeom prst="rect">
            <a:avLst/>
          </a:prstGeom>
          <a:solidFill>
            <a:srgbClr val="000000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создают условия для производствен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Прямоугольник 14" descr=""/>
          <p:cNvPicPr/>
          <p:nvPr/>
        </p:nvPicPr>
        <p:blipFill>
          <a:blip r:embed="rId4"/>
          <a:stretch/>
        </p:blipFill>
        <p:spPr>
          <a:xfrm>
            <a:off x="195120" y="4925880"/>
            <a:ext cx="8899560" cy="14256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Прямоугольник 1" descr=""/>
          <p:cNvPicPr/>
          <p:nvPr/>
        </p:nvPicPr>
        <p:blipFill>
          <a:blip r:embed="rId1"/>
          <a:stretch/>
        </p:blipFill>
        <p:spPr>
          <a:xfrm>
            <a:off x="0" y="512640"/>
            <a:ext cx="9144000" cy="1590840"/>
          </a:xfrm>
          <a:prstGeom prst="rect">
            <a:avLst/>
          </a:prstGeom>
          <a:ln w="0">
            <a:noFill/>
          </a:ln>
        </p:spPr>
      </p:pic>
      <p:pic>
        <p:nvPicPr>
          <p:cNvPr id="256" name="Схема 2" descr=""/>
          <p:cNvPicPr/>
          <p:nvPr/>
        </p:nvPicPr>
        <p:blipFill>
          <a:blip r:embed="rId2"/>
          <a:stretch/>
        </p:blipFill>
        <p:spPr>
          <a:xfrm>
            <a:off x="353880" y="1920960"/>
            <a:ext cx="8570880" cy="46623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09:32:51Z</dcterms:created>
  <dc:creator>SamLab.ws</dc:creator>
  <dc:description/>
  <dc:language>en-US</dc:language>
  <cp:lastModifiedBy>Айжан</cp:lastModifiedBy>
  <dcterms:modified xsi:type="dcterms:W3CDTF">2012-01-03T16:55:03Z</dcterms:modified>
  <cp:revision>24</cp:revision>
  <dc:subject/>
  <dc:title>Слайд 1</dc:title>
</cp:coreProperties>
</file>