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176-AC96-4A4F-927C-C3021352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79D-8D7A-4D45-A711-462D188B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C74-59BB-4A46-916E-F1820354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D2F-D90B-4AD1-97A1-CA89C7DE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7601-63C0-43D9-935A-40A6C429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590E-2ACE-4875-8B9D-47F83C84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693D-173D-4CD2-AB81-4E2B26B6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5115-D28E-45B6-AD08-88EDC781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52F4-33E1-42DF-B962-7E14780D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11FF-BDFE-43A8-9955-566D9736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B331-0E78-4BF5-9B0F-9FC17D87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BE4-D96B-4B24-8F87-9CC6884A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CBAF-7D7F-44A5-BA78-2DF9BB9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0E7C-6DC2-45C8-8ED4-B84F0F6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96A3-FF50-41AD-B6BF-4CFA167A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9288-E2CD-47D4-BBB6-AF52C273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A779-8A94-480F-BBA9-40CF0204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3EE-642A-4FF2-8714-037533A8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E32-7E31-4A11-90F5-A2891ABB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930-AC6D-448D-931C-4C92E2D7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593-3A3E-4F6F-BCE1-C06C189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460-97A4-4E3F-9460-C2B3BEE5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743-B0BA-4E59-A791-240F6C9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964-A700-4714-91C8-0C232E64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273E-4FF0-421F-970B-03AE2B3383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D554-80A0-49DD-824A-CFDB250BB9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025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Экономика и организация производства. Предметы и задачи курс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76720" y="5589360"/>
            <a:ext cx="5641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новными объектами изучения экономики предприятия являю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773360"/>
            <a:ext cx="8640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формирование издержек производства, калькуляция себестоимости продукции, ценовая политика предприят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финансовые ресурсы предприятия, эффективность хозяйственной деятельности, оценка риска в предпринимательств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новными объектами изучения экономики предприятия являю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нновационная деятельность предприятия, качество продукции, инвестиционная политика предприятия, экологические проблемы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дбор кадров, прием на работу, организация труда, система оплаты труда и стимулирования повышения производительности труд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Методы исследования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91628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2205000"/>
            <a:ext cx="651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Экономика предприятия, как и любая. другая наука, имеет особые методы исследования и из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326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Являясь прикладной дисциплиной, экономика предприятия широко использует методы исследования, характерные для прикладных экономических наук. Большое значение в экономических исследованиях имеют методы статистического наблюдения и сравнительного анализ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ни дают возможность накапливать и сопоставлять частные и обобщающие экономические показатели, анализировать динамику предприятия, сравнивать результаты его деятельности с показателями других хозяйствующих субъектов с целью выявления наилучших результа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Успешное осуществление предпринимательской деятельности в современных условиях возможно лишь при условии умелого сочетания трех основных момен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133720"/>
            <a:ext cx="8713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нания общеэкономической теор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личия конкретных экономических знаний и навы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мения использовать различные количественные метод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я предпринимательских расчетов, аналитических вычислений, прогнозов и т.п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198900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урс «Экономика и организация производства» тесно связан с такими дисциплинами, как «Экономика предпринимательства», «Маркетинг», «Бухгалтерский учет и анализ хозяйственной деятельности», «Финансы промышленности», «Статистика промышленности»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650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Экономика и организация производ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773360"/>
            <a:ext cx="8713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Экономика предприятия тесно связана с другими экономическими науками: макро- и микроэкономикой, теорией менеджмента и маркетинга, статистикой, бухгалтерским учетом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844640"/>
            <a:ext cx="8640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Предприятие функционирует в определенной предпринимательской среде, оказывающей влияние на все стороны его деятельности. При разработке стратегии развития предприятия важно учитывать ее состояние, перспективы развития, динамику, различные направления воздействия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 Основными объектами изучения являются производственная деятельность предприятия, механизмы формирования и использования основных факторов производства и экономических ресурсов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424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Экономика - это область человеческой деятельности, которая служит удовлетворению человеческих потребностей и является общим объектом для всех экономических наук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Метод сравнительного анализа, статистические, графические, вероятностные методы, прогнозирование и другие методы экономических наук широко используются в экономике предприятия. Разработка грамотных хозяйственных решений невозможна без знания экономических законов, наличия конкретных экономических знаний, навыков, умения использовать их на практик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Предмет изучения данной науки - деятельность предприятия, процесс разработки и принятия хозяйственных реш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Предмет курса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492280"/>
            <a:ext cx="856908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реди многих экономических наук можно выделить теоретическую и прикладную экономику, которые представляют направления наиболее актуальные для познания и регулирования важнейших процессов хозяйственной жизни. В совокупности из называют более кратко: «Экономика» - в Казахстане «Экономикс» - в мире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у теоретической и прикладной экономики составля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916280"/>
            <a:ext cx="87138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экономического разви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функционирования народного хозяйства в целом и отдельного предприя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ка принципов экономической поли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нову теоретической и прикладной экономики составляю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производства, поставки сырья, материалов, формирование запасов и рациональное их использование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ехническая подготовка производства и создание необходимой производственной инфраструктуры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773360"/>
            <a:ext cx="8569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оизводство, описание и объяснение всей хозяйственной деятельности предприятия и являются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предметом изучения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в курсе «Экономика и организация производства». На основе познания закономерностей производственного процесса появляется возможность разработать хозяйственные методы реализации практических ц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04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Предмет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5280" y="1916280"/>
            <a:ext cx="84978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 курс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новными объектами изучения экономики предприятия являются: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773360"/>
            <a:ext cx="8569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ая структура предприятия, типы промышленного производства, организация производственного цик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я процесса управления предприятие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ор хозяйственной стратегии, разработка плана производства и реализации продукции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новными объектами изучения экономики предприятия являю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формирование, использование капитала и накопление доходов (прибыли) предприятия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формирование издержек производства, калькуляция себестоимости продукции, ценовая политика предприятия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9:42:05Z</dcterms:created>
  <dc:creator>Асия</dc:creator>
  <dc:description/>
  <dc:language>en-US</dc:language>
  <cp:lastModifiedBy>Айжан</cp:lastModifiedBy>
  <dcterms:modified xsi:type="dcterms:W3CDTF">2012-01-10T09:22:44Z</dcterms:modified>
  <cp:revision>6</cp:revision>
  <dc:subject/>
  <dc:title>Выбираем инструмент «прямоугольник» и заливаем его фонтанной заливкой «позолоченный»</dc:title>
</cp:coreProperties>
</file>