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8592-3BCE-41FB-9411-EDE2198EC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FD2B-AC5E-450B-B527-79A8FB92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BE39-F431-4729-8804-7B19BAF4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B96C-57E5-4725-A917-93578DFB1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85CD-AEA7-4C4D-8E29-B5D5BE8CC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AE27-DCAA-4FA0-974C-D24AEF6C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FD74-CECA-4BAC-8E0A-279B8654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C934-03E7-44EA-8B6C-18CA2AD7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60E4-CD4D-498D-87B6-500CDB9A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9B7D-0B63-46A4-A371-D807C487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2FD9-C860-477E-BF84-8471DB04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06DB-EE86-4E66-98FB-E7FAE215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6628-1517-41F9-85CF-360A8D4D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9176-8B29-4DE3-8F6C-B05C7B1A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2ED2-A08D-410E-A8D2-57E67111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394D-8258-487E-823C-BDF80F28E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147D-B061-441D-9EFD-BAFCB2A0A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BD11-520F-4A44-B610-0A9A385B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01BF-8691-4B90-81E7-23B0082E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D671-6448-45A2-8678-96851E85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9CC4-AF14-421D-828A-326F8BD9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ED3F-2ECB-4C48-BBF1-D09DAB44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4B96-63B5-43AE-AFC4-9A45D009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A342-919E-44A3-B35F-887E363F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670D-075A-4A50-BC92-F050AEA23F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D7CD-D6C0-4986-972B-B87462A6B4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C:\Users\Sharkscorpio\Desktop\world_econom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pic>
        <p:nvPicPr>
          <p:cNvPr id="162" name="Прямоугольник 3" descr=""/>
          <p:cNvPicPr/>
          <p:nvPr/>
        </p:nvPicPr>
        <p:blipFill>
          <a:blip r:embed="rId2"/>
          <a:stretch/>
        </p:blipFill>
        <p:spPr>
          <a:xfrm>
            <a:off x="804960" y="725400"/>
            <a:ext cx="8192880" cy="1073160"/>
          </a:xfrm>
          <a:prstGeom prst="rect">
            <a:avLst/>
          </a:prstGeom>
          <a:ln w="0">
            <a:noFill/>
          </a:ln>
        </p:spPr>
      </p:pic>
      <p:pic>
        <p:nvPicPr>
          <p:cNvPr id="163" name="Прямоугольник 4" descr=""/>
          <p:cNvPicPr/>
          <p:nvPr/>
        </p:nvPicPr>
        <p:blipFill>
          <a:blip r:embed="rId3"/>
          <a:stretch/>
        </p:blipFill>
        <p:spPr>
          <a:xfrm>
            <a:off x="2139840" y="1390680"/>
            <a:ext cx="6845400" cy="134604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ая соединительная линия 6"/>
          <p:cNvSpPr/>
          <p:nvPr/>
        </p:nvSpPr>
        <p:spPr>
          <a:xfrm>
            <a:off x="652320" y="692280"/>
            <a:ext cx="8185320" cy="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Прямая соединительная линия 8"/>
          <p:cNvSpPr/>
          <p:nvPr/>
        </p:nvSpPr>
        <p:spPr>
          <a:xfrm>
            <a:off x="692280" y="2933640"/>
            <a:ext cx="8183520" cy="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F:\Учеба\Новая папка (2)\Abstract-backgrounds\1680colourback_1018.jpg"/>
          <p:cNvPicPr/>
          <p:nvPr/>
        </p:nvPicPr>
        <p:blipFill>
          <a:blip r:embed="rId1"/>
          <a:stretch/>
        </p:blipFill>
        <p:spPr>
          <a:xfrm>
            <a:off x="-20520" y="1125360"/>
            <a:ext cx="9171000" cy="5732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F:\Учеба\Новая папка (2)\Abstract-backgrounds\1680colourback_2010.jpg"/>
          <p:cNvPicPr/>
          <p:nvPr/>
        </p:nvPicPr>
        <p:blipFill>
          <a:blip r:embed="rId2"/>
          <a:stretch/>
        </p:blipFill>
        <p:spPr>
          <a:xfrm>
            <a:off x="-20520" y="-30240"/>
            <a:ext cx="9171000" cy="1154160"/>
          </a:xfrm>
          <a:prstGeom prst="rect">
            <a:avLst/>
          </a:prstGeom>
          <a:ln w="0">
            <a:noFill/>
          </a:ln>
        </p:spPr>
      </p:pic>
      <p:sp>
        <p:nvSpPr>
          <p:cNvPr id="192" name="TextBox 5"/>
          <p:cNvSpPr/>
          <p:nvPr/>
        </p:nvSpPr>
        <p:spPr>
          <a:xfrm>
            <a:off x="395280" y="20160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d69b"/>
                </a:solidFill>
                <a:latin typeface="Arial Narrow"/>
              </a:rPr>
              <a:t>Основные формы организации инноваций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Прямоугольник 6"/>
          <p:cNvSpPr/>
          <p:nvPr/>
        </p:nvSpPr>
        <p:spPr>
          <a:xfrm>
            <a:off x="395280" y="1484280"/>
            <a:ext cx="83534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ac09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090"/>
                </a:solidFill>
                <a:latin typeface="Comic Sans MS"/>
              </a:rPr>
              <a:t>научные центры и лаборатории в составе корпоративных структур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ac09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090"/>
                </a:solidFill>
                <a:latin typeface="Comic Sans MS"/>
              </a:rPr>
              <a:t>временные творческие научные коллективы или центры, которые создаются для решения определенных крупных и оригинальных научно-технических проблем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ac09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090"/>
                </a:solidFill>
                <a:latin typeface="Comic Sans MS"/>
              </a:rPr>
              <a:t>государственные научные центры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ac09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090"/>
                </a:solidFill>
                <a:latin typeface="Comic Sans MS"/>
              </a:rPr>
              <a:t>различные формы технопарковых структур: научные парки, технологические и исследовательские парки, инновационные, инновационно-технологические и бизнес-инновационные центры, инкубаторы бизнеса, технополисы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F:\Учеба\Новая папка (2)\Abstract-backgrounds\1680colourback_1018.jpg"/>
          <p:cNvPicPr/>
          <p:nvPr/>
        </p:nvPicPr>
        <p:blipFill>
          <a:blip r:embed="rId1"/>
          <a:stretch/>
        </p:blipFill>
        <p:spPr>
          <a:xfrm>
            <a:off x="-20520" y="1125360"/>
            <a:ext cx="9171000" cy="5732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F:\Учеба\Новая папка (2)\Abstract-backgrounds\1680colourback_2010.jpg"/>
          <p:cNvPicPr/>
          <p:nvPr/>
        </p:nvPicPr>
        <p:blipFill>
          <a:blip r:embed="rId2"/>
          <a:stretch/>
        </p:blipFill>
        <p:spPr>
          <a:xfrm>
            <a:off x="-20520" y="-30240"/>
            <a:ext cx="9171000" cy="1154160"/>
          </a:xfrm>
          <a:prstGeom prst="rect">
            <a:avLst/>
          </a:prstGeom>
          <a:ln w="0">
            <a:noFill/>
          </a:ln>
        </p:spPr>
      </p:pic>
      <p:sp>
        <p:nvSpPr>
          <p:cNvPr id="196" name="TextBox 1"/>
          <p:cNvSpPr/>
          <p:nvPr/>
        </p:nvSpPr>
        <p:spPr>
          <a:xfrm>
            <a:off x="673200" y="361800"/>
            <a:ext cx="407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d69b"/>
                </a:solidFill>
                <a:latin typeface="Arial Narrow"/>
              </a:rPr>
              <a:t>Стадии жизненного цикла инноваций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Прямоугольник 2"/>
          <p:cNvSpPr/>
          <p:nvPr/>
        </p:nvSpPr>
        <p:spPr>
          <a:xfrm>
            <a:off x="539640" y="1557360"/>
            <a:ext cx="8136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ac09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c090"/>
                </a:solidFill>
                <a:latin typeface="Comic Sans MS"/>
              </a:rPr>
              <a:t>зарождение, сопровождающееся выполнением необходимого объёма научно-исследовательских и опытно-конструкторских работ, разработкой и созданием опытной партии новшества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ac09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c090"/>
                </a:solidFill>
                <a:latin typeface="Comic Sans MS"/>
              </a:rPr>
              <a:t>рост (промышленное освоение с одновременным выходом продукта на рынок)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ac09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c090"/>
                </a:solidFill>
                <a:latin typeface="Comic Sans MS"/>
              </a:rPr>
              <a:t>зрелость (стадия серийного или массового производства и увеличение объёма продаж)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ac09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c090"/>
                </a:solidFill>
                <a:latin typeface="Comic Sans MS"/>
              </a:rPr>
              <a:t>насыщение рынка (максимальный объём производства и максимальный объём продаж)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ac09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c090"/>
                </a:solidFill>
                <a:latin typeface="Comic Sans MS"/>
              </a:rPr>
              <a:t>упадок (свёртывание производства и уход продукта с рынка)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F:\Учеба\Новая папка (2)\Abstract-backgrounds\1680colourback_1018.jpg"/>
          <p:cNvPicPr/>
          <p:nvPr/>
        </p:nvPicPr>
        <p:blipFill>
          <a:blip r:embed="rId1"/>
          <a:stretch/>
        </p:blipFill>
        <p:spPr>
          <a:xfrm>
            <a:off x="-20520" y="1125360"/>
            <a:ext cx="9171000" cy="5732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F:\Учеба\Новая папка (2)\Abstract-backgrounds\1680colourback_2010.jpg"/>
          <p:cNvPicPr/>
          <p:nvPr/>
        </p:nvPicPr>
        <p:blipFill>
          <a:blip r:embed="rId2"/>
          <a:stretch/>
        </p:blipFill>
        <p:spPr>
          <a:xfrm>
            <a:off x="-20520" y="-30240"/>
            <a:ext cx="9171000" cy="115416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1"/>
          <p:cNvSpPr/>
          <p:nvPr/>
        </p:nvSpPr>
        <p:spPr>
          <a:xfrm>
            <a:off x="324000" y="22392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d69b"/>
                </a:solidFill>
                <a:latin typeface="Arial Narrow"/>
              </a:rPr>
              <a:t>Экономическая эффективность мероприятий по технике и технологи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Прямоугольник 2"/>
          <p:cNvSpPr/>
          <p:nvPr/>
        </p:nvSpPr>
        <p:spPr>
          <a:xfrm>
            <a:off x="351000" y="184464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c09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fac090"/>
                </a:solidFill>
                <a:latin typeface="Comic Sans MS"/>
              </a:rPr>
              <a:t>Для того, чтобы внедрение новой техники и технологии было эффективным, необходимы такие их качества как адаптивность, гибкость, способность к "встроенности" в старое производство, возможности синергизма, чёткая стратегия, наличие патентов и лицензий на технологию, высококвалифицированный персонал, адекватные организационно-управленческие структуры. Все эти понятия невозможно свести к какому-то единому показателю, поэтому качество технологии определяет непосредственно рынок, а критерием всего многообразия свойств выступает экономическая эффективность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F:\Учеба\Новая папка (2)\Abstract-backgrounds\1680colourback_1018.jpg"/>
          <p:cNvPicPr/>
          <p:nvPr/>
        </p:nvPicPr>
        <p:blipFill>
          <a:blip r:embed="rId1"/>
          <a:stretch/>
        </p:blipFill>
        <p:spPr>
          <a:xfrm>
            <a:off x="-20520" y="1125360"/>
            <a:ext cx="9171000" cy="5732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F:\Учеба\Новая папка (2)\Abstract-backgrounds\1680colourback_2010.jpg"/>
          <p:cNvPicPr/>
          <p:nvPr/>
        </p:nvPicPr>
        <p:blipFill>
          <a:blip r:embed="rId2"/>
          <a:stretch/>
        </p:blipFill>
        <p:spPr>
          <a:xfrm>
            <a:off x="-20520" y="-30240"/>
            <a:ext cx="9171000" cy="115416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1"/>
          <p:cNvSpPr/>
          <p:nvPr/>
        </p:nvSpPr>
        <p:spPr>
          <a:xfrm>
            <a:off x="395280" y="22392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d69b"/>
                </a:solidFill>
                <a:latin typeface="Arial Narrow"/>
              </a:rPr>
              <a:t>основные показатели эффективности инновационного проект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Прямоугольник 2"/>
          <p:cNvSpPr/>
          <p:nvPr/>
        </p:nvSpPr>
        <p:spPr>
          <a:xfrm>
            <a:off x="692280" y="1341360"/>
            <a:ext cx="7993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ac09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c090"/>
                </a:solidFill>
                <a:latin typeface="Comic Sans MS"/>
              </a:rPr>
              <a:t>финансовая (коммерческая) эффективность, учитывающая финансовые последствия для бюджетов всех уровне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ac09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c090"/>
                </a:solidFill>
                <a:latin typeface="Comic Sans MS"/>
              </a:rPr>
              <a:t>бюджетная эффективность, учитывающая финансовые последствия реализации проекта для его непосредственных участников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buClr>
                <a:srgbClr val="fac09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c090"/>
                </a:solidFill>
                <a:latin typeface="Arial"/>
              </a:rPr>
              <a:t>народно-хозяйственная экономическая эффективность, учитывающая затраты и результаты, выходящие за пределы прямых финансовых интересов участников проекта и допускающие стоимостное выражение. Для крупномасштабных (существенно затрагивающих интересы региона или страны) проектов рекомендуется обязательно оценивать экономическую эффектив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F:\Учеба\Новая папка (2)\Abstract-backgrounds\1680colourback_1018.jpg"/>
          <p:cNvPicPr/>
          <p:nvPr/>
        </p:nvPicPr>
        <p:blipFill>
          <a:blip r:embed="rId1"/>
          <a:stretch/>
        </p:blipFill>
        <p:spPr>
          <a:xfrm>
            <a:off x="-20520" y="1125360"/>
            <a:ext cx="9171000" cy="5732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F:\Учеба\Новая папка (2)\Abstract-backgrounds\1680colourback_2010.jpg"/>
          <p:cNvPicPr/>
          <p:nvPr/>
        </p:nvPicPr>
        <p:blipFill>
          <a:blip r:embed="rId2"/>
          <a:stretch/>
        </p:blipFill>
        <p:spPr>
          <a:xfrm>
            <a:off x="-20520" y="-30240"/>
            <a:ext cx="9171000" cy="115416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5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3d69b"/>
                </a:solidFill>
                <a:latin typeface="Arial Narrow"/>
              </a:rPr>
              <a:t>Показатели повышения экономической эффективности мероприятий по техническому и организационному развитию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Прямоугольник 6"/>
          <p:cNvSpPr/>
          <p:nvPr/>
        </p:nvSpPr>
        <p:spPr>
          <a:xfrm>
            <a:off x="352440" y="112536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ac09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090"/>
                </a:solidFill>
                <a:latin typeface="Comic Sans MS"/>
              </a:rPr>
              <a:t>приращение производительности труда, относительное отклонение численности работающих и фонда оплаты труда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ac09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090"/>
                </a:solidFill>
                <a:latin typeface="Comic Sans MS"/>
              </a:rPr>
              <a:t>приращение материалоотдачи (снижение материалоёмкости), относительное отклонение в затратах материальных ресурсов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ac09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090"/>
                </a:solidFill>
                <a:latin typeface="Comic Sans MS"/>
              </a:rPr>
              <a:t>приращение фондоотдачи (снижение фондоёмкости) основных средств, относительное отклонение основных средств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c090"/>
                </a:solidFill>
                <a:latin typeface="Arial"/>
              </a:rPr>
              <a:t>приращение скорости оборота оборотных средств, относительное отклонение (высвобождение или связывание) оборотных средст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c090"/>
                </a:solidFill>
                <a:latin typeface="Arial"/>
              </a:rPr>
              <a:t>приращение объёма выпуска продукции за счёт интенсификации использования трудовых, материальных и финансовых ресур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c090"/>
                </a:solidFill>
                <a:latin typeface="Arial"/>
              </a:rPr>
              <a:t>приращение прибыли или себестоимости продук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c090"/>
                </a:solidFill>
                <a:latin typeface="Arial"/>
              </a:rPr>
              <a:t>приращение показателей финансового состояния и платёжеспособности предприят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F:\Учеба\Новая папка (2)\Abstract-backgrounds\1680colourback_1018.jpg"/>
          <p:cNvPicPr/>
          <p:nvPr/>
        </p:nvPicPr>
        <p:blipFill>
          <a:blip r:embed="rId1"/>
          <a:stretch/>
        </p:blipFill>
        <p:spPr>
          <a:xfrm>
            <a:off x="-20520" y="1125360"/>
            <a:ext cx="9171000" cy="5732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F:\Учеба\Новая папка (2)\Abstract-backgrounds\1680colourback_2010.jpg"/>
          <p:cNvPicPr/>
          <p:nvPr/>
        </p:nvPicPr>
        <p:blipFill>
          <a:blip r:embed="rId2"/>
          <a:stretch/>
        </p:blipFill>
        <p:spPr>
          <a:xfrm>
            <a:off x="-20520" y="-30240"/>
            <a:ext cx="9171000" cy="115416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1"/>
          <p:cNvSpPr/>
          <p:nvPr/>
        </p:nvSpPr>
        <p:spPr>
          <a:xfrm>
            <a:off x="1052640" y="347760"/>
            <a:ext cx="62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d69b"/>
                </a:solidFill>
                <a:latin typeface="Arial Narrow"/>
              </a:rPr>
              <a:t>Виды эффектов   при внедрении новой техники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5" name="Рисунок 1" descr=""/>
          <p:cNvPicPr/>
          <p:nvPr/>
        </p:nvPicPr>
        <p:blipFill>
          <a:blip r:embed="rId3"/>
          <a:stretch/>
        </p:blipFill>
        <p:spPr>
          <a:xfrm>
            <a:off x="1401840" y="1878120"/>
            <a:ext cx="6327720" cy="3554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F:\Учеба\Новая папка (2)\Abstract-backgrounds\1680colourback_1018.jpg"/>
          <p:cNvPicPr/>
          <p:nvPr/>
        </p:nvPicPr>
        <p:blipFill>
          <a:blip r:embed="rId1"/>
          <a:stretch/>
        </p:blipFill>
        <p:spPr>
          <a:xfrm>
            <a:off x="-20520" y="1125360"/>
            <a:ext cx="9171000" cy="5732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F:\Учеба\Новая папка (2)\Abstract-backgrounds\1680colourback_2010.jpg"/>
          <p:cNvPicPr/>
          <p:nvPr/>
        </p:nvPicPr>
        <p:blipFill>
          <a:blip r:embed="rId2"/>
          <a:stretch/>
        </p:blipFill>
        <p:spPr>
          <a:xfrm>
            <a:off x="-20520" y="-30240"/>
            <a:ext cx="9171000" cy="1154160"/>
          </a:xfrm>
          <a:prstGeom prst="rect">
            <a:avLst/>
          </a:prstGeom>
          <a:ln w="0">
            <a:noFill/>
          </a:ln>
        </p:spPr>
      </p:pic>
      <p:sp>
        <p:nvSpPr>
          <p:cNvPr id="218" name="Прямоугольник 1"/>
          <p:cNvSpPr/>
          <p:nvPr/>
        </p:nvSpPr>
        <p:spPr>
          <a:xfrm>
            <a:off x="250920" y="223920"/>
            <a:ext cx="785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d69b"/>
                </a:solidFill>
                <a:latin typeface="Arial Narrow"/>
              </a:rPr>
              <a:t>Механизм влияния НТП на технико-экономические и финансовые показатели работы предприятия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9" name="Рисунок 2" descr=""/>
          <p:cNvPicPr/>
          <p:nvPr/>
        </p:nvPicPr>
        <p:blipFill>
          <a:blip r:embed="rId3"/>
          <a:stretch/>
        </p:blipFill>
        <p:spPr>
          <a:xfrm>
            <a:off x="1692360" y="1268280"/>
            <a:ext cx="5688000" cy="5148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F:\Учеба\Новая папка (2)\Abstract-backgrounds\1680colourback_1018.jpg"/>
          <p:cNvPicPr/>
          <p:nvPr/>
        </p:nvPicPr>
        <p:blipFill>
          <a:blip r:embed="rId1"/>
          <a:stretch/>
        </p:blipFill>
        <p:spPr>
          <a:xfrm>
            <a:off x="-20520" y="1125360"/>
            <a:ext cx="9171000" cy="5732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F:\Учеба\Новая папка (2)\Abstract-backgrounds\1680colourback_2010.jpg"/>
          <p:cNvPicPr/>
          <p:nvPr/>
        </p:nvPicPr>
        <p:blipFill>
          <a:blip r:embed="rId2"/>
          <a:stretch/>
        </p:blipFill>
        <p:spPr>
          <a:xfrm>
            <a:off x="-20520" y="-30240"/>
            <a:ext cx="9171000" cy="115416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1"/>
          <p:cNvSpPr/>
          <p:nvPr/>
        </p:nvSpPr>
        <p:spPr>
          <a:xfrm>
            <a:off x="395280" y="30312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3d69b"/>
                </a:solidFill>
                <a:latin typeface="Arial Narrow"/>
              </a:rPr>
              <a:t>Направления материализации НТП на предприятии могут быть: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Прямоугольник 2"/>
          <p:cNvSpPr/>
          <p:nvPr/>
        </p:nvSpPr>
        <p:spPr>
          <a:xfrm>
            <a:off x="395280" y="1628640"/>
            <a:ext cx="831384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ac09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ac090"/>
                </a:solidFill>
                <a:latin typeface="Comic Sans MS"/>
              </a:rPr>
              <a:t>внедрение новой техники и технологии;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ac09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ac090"/>
                </a:solidFill>
                <a:latin typeface="Comic Sans MS"/>
              </a:rPr>
              <a:t>реконструкция и техническое перевооружение производства;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ac09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ac090"/>
                </a:solidFill>
                <a:latin typeface="Comic Sans MS"/>
              </a:rPr>
              <a:t>совершенствование организации производства и труда;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ac09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ac090"/>
                </a:solidFill>
                <a:latin typeface="Comic Sans MS"/>
              </a:rPr>
              <a:t>совершенствование нормативной базы;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ac09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ac090"/>
                </a:solidFill>
                <a:latin typeface="Comic Sans MS"/>
              </a:rPr>
              <a:t>модернизация машин и оборудования;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ac09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ac090"/>
                </a:solidFill>
                <a:latin typeface="Comic Sans MS"/>
              </a:rPr>
              <a:t>внедрение системы управления качеством продукции;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F:\Учеба\Новая папка (2)\Abstract-backgrounds\1680colourback_1018.jpg"/>
          <p:cNvPicPr/>
          <p:nvPr/>
        </p:nvPicPr>
        <p:blipFill>
          <a:blip r:embed="rId1"/>
          <a:stretch/>
        </p:blipFill>
        <p:spPr>
          <a:xfrm>
            <a:off x="-20520" y="1125360"/>
            <a:ext cx="9171000" cy="5732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F:\Учеба\Новая папка (2)\Abstract-backgrounds\1680colourback_2010.jpg"/>
          <p:cNvPicPr/>
          <p:nvPr/>
        </p:nvPicPr>
        <p:blipFill>
          <a:blip r:embed="rId2"/>
          <a:stretch/>
        </p:blipFill>
        <p:spPr>
          <a:xfrm>
            <a:off x="-20520" y="-30240"/>
            <a:ext cx="9171000" cy="115416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3"/>
          <p:cNvSpPr/>
          <p:nvPr/>
        </p:nvSpPr>
        <p:spPr>
          <a:xfrm>
            <a:off x="171360" y="34776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d69b"/>
                </a:solidFill>
                <a:latin typeface="Arial Narrow"/>
              </a:rPr>
              <a:t>Итак, можно ли измерить экономический эффект информационных технологий?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Прямоугольник 4"/>
          <p:cNvSpPr/>
          <p:nvPr/>
        </p:nvSpPr>
        <p:spPr>
          <a:xfrm>
            <a:off x="324000" y="1484280"/>
            <a:ext cx="83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796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9646"/>
                </a:solidFill>
                <a:latin typeface="Comic Sans MS"/>
              </a:rPr>
              <a:t>Широкое пространство для улучшений и доработок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796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9646"/>
                </a:solidFill>
                <a:latin typeface="Comic Sans MS"/>
              </a:rPr>
              <a:t>Широкий спектр направлений использования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796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9646"/>
                </a:solidFill>
                <a:latin typeface="Comic Sans MS"/>
              </a:rPr>
              <a:t>Потенциал для использования в большом количестве продуктов и процессов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796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9646"/>
                </a:solidFill>
                <a:latin typeface="Comic Sans MS"/>
              </a:rPr>
              <a:t>Сильная комплементарность по отношению к существующим или потенциально возможным в будущем технологиям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ac090"/>
                </a:solidFill>
                <a:latin typeface="Arial"/>
              </a:rPr>
              <a:t>выпуск новой продукции; &gt; внедрение рацпредложений и изобретений и 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ac090"/>
                </a:solidFill>
                <a:latin typeface="Arial"/>
              </a:rPr>
              <a:t>Материализация НТП на предприятии в конечном итоге приводит к следующем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ac090"/>
                </a:solidFill>
                <a:latin typeface="Arial"/>
              </a:rPr>
              <a:t>повышению фондовооруженности и технической вооруженности труд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ac090"/>
                </a:solidFill>
                <a:latin typeface="Arial"/>
              </a:rPr>
              <a:t>увеличению коэффициента механизации и автоматизации рабо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ac090"/>
                </a:solidFill>
                <a:latin typeface="Arial"/>
              </a:rPr>
              <a:t>улучшению технических параметров выпускаемой продук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ac090"/>
                </a:solidFill>
                <a:latin typeface="Arial"/>
              </a:rPr>
              <a:t>повышению ритмичности производ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ac090"/>
                </a:solidFill>
                <a:latin typeface="Arial"/>
              </a:rPr>
              <a:t>углублению специализации и кооперирования производ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F:\Учеба\Новая папка (2)\Abstract-backgrounds\1680colourback_1018.jpg"/>
          <p:cNvPicPr/>
          <p:nvPr/>
        </p:nvPicPr>
        <p:blipFill>
          <a:blip r:embed="rId1"/>
          <a:stretch/>
        </p:blipFill>
        <p:spPr>
          <a:xfrm>
            <a:off x="-20520" y="1125360"/>
            <a:ext cx="9171000" cy="5732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F:\Учеба\Новая папка (2)\Abstract-backgrounds\1680colourback_2010.jpg"/>
          <p:cNvPicPr/>
          <p:nvPr/>
        </p:nvPicPr>
        <p:blipFill>
          <a:blip r:embed="rId2"/>
          <a:stretch/>
        </p:blipFill>
        <p:spPr>
          <a:xfrm>
            <a:off x="-20520" y="-30240"/>
            <a:ext cx="9171000" cy="115416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3"/>
          <p:cNvSpPr/>
          <p:nvPr/>
        </p:nvSpPr>
        <p:spPr>
          <a:xfrm>
            <a:off x="171360" y="34776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d69b"/>
                </a:solidFill>
                <a:latin typeface="Arial Narrow"/>
              </a:rPr>
              <a:t>Ряд следствий для оценки экономической эффективности ИТ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Прямоугольник 1"/>
          <p:cNvSpPr/>
          <p:nvPr/>
        </p:nvSpPr>
        <p:spPr>
          <a:xfrm>
            <a:off x="324000" y="1125360"/>
            <a:ext cx="8632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ac09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090"/>
                </a:solidFill>
                <a:latin typeface="Comic Sans MS"/>
              </a:rPr>
              <a:t>Эффект ИТ надо оценивать с определенным лагом, величина лага должна быть выяснена эмпирически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ac09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090"/>
                </a:solidFill>
                <a:latin typeface="Comic Sans MS"/>
              </a:rPr>
              <a:t>Эффект ИТ выше при совместном использовании ряда комплементарных технологий, например, персонального компьютера и интернета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c090"/>
                </a:solidFill>
                <a:latin typeface="Arial"/>
              </a:rPr>
              <a:t>Эффект ИТ слагается из двух основных компонент: положительные сетевые эффекты и со-изобретение прикладных технологий пользователями и поставщик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c090"/>
                </a:solidFill>
                <a:latin typeface="Arial"/>
              </a:rPr>
              <a:t>Информационные технологии можно сгруппировать по масштабу, чем крупнее масштаб применения новой технологии, тем выше роль со-изобретения и тем ниже роль сетевого эффекта. Напротив, чем ближе новая технология к персональному использованию, тем выше роль сетевых эффектов и ниже роль со-изобрет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F:\Учеба\Новая папка (2)\Abstract-backgrounds\1680colourback_1018.jpg"/>
          <p:cNvPicPr/>
          <p:nvPr/>
        </p:nvPicPr>
        <p:blipFill>
          <a:blip r:embed="rId1"/>
          <a:stretch/>
        </p:blipFill>
        <p:spPr>
          <a:xfrm>
            <a:off x="-20520" y="1125360"/>
            <a:ext cx="9171000" cy="5732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F:\Учеба\Новая папка (2)\Abstract-backgrounds\1680colourback_2010.jpg"/>
          <p:cNvPicPr/>
          <p:nvPr/>
        </p:nvPicPr>
        <p:blipFill>
          <a:blip r:embed="rId2"/>
          <a:stretch/>
        </p:blipFill>
        <p:spPr>
          <a:xfrm>
            <a:off x="-20520" y="-30240"/>
            <a:ext cx="9171000" cy="11541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" descr=""/>
          <p:cNvPicPr/>
          <p:nvPr/>
        </p:nvPicPr>
        <p:blipFill>
          <a:blip r:embed="rId3"/>
          <a:stretch/>
        </p:blipFill>
        <p:spPr>
          <a:xfrm>
            <a:off x="971640" y="1623960"/>
            <a:ext cx="6840360" cy="461484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оугольник 1"/>
          <p:cNvSpPr/>
          <p:nvPr/>
        </p:nvSpPr>
        <p:spPr>
          <a:xfrm>
            <a:off x="1476360" y="35244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d69b"/>
                </a:solidFill>
                <a:latin typeface="Arial Narrow"/>
              </a:rPr>
              <a:t>Зависимость ценности технологии от её масштаб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F:\Учеба\Новая папка (2)\Abstract-backgrounds\1680colourback_1018.jpg"/>
          <p:cNvPicPr/>
          <p:nvPr/>
        </p:nvPicPr>
        <p:blipFill>
          <a:blip r:embed="rId1"/>
          <a:stretch/>
        </p:blipFill>
        <p:spPr>
          <a:xfrm>
            <a:off x="-20520" y="1125360"/>
            <a:ext cx="9171000" cy="5732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F:\Учеба\Новая папка (2)\Abstract-backgrounds\1680colourback_2010.jpg"/>
          <p:cNvPicPr/>
          <p:nvPr/>
        </p:nvPicPr>
        <p:blipFill>
          <a:blip r:embed="rId2"/>
          <a:stretch/>
        </p:blipFill>
        <p:spPr>
          <a:xfrm>
            <a:off x="-20520" y="-30240"/>
            <a:ext cx="9171000" cy="115416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1"/>
          <p:cNvSpPr/>
          <p:nvPr/>
        </p:nvSpPr>
        <p:spPr>
          <a:xfrm>
            <a:off x="460440" y="223920"/>
            <a:ext cx="82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d69b"/>
                </a:solidFill>
                <a:latin typeface="Arial Narrow"/>
              </a:rPr>
              <a:t>Значение внедрения новой техники и технологии для повышения эффективности производств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Прямоугольник 2"/>
          <p:cNvSpPr/>
          <p:nvPr/>
        </p:nvSpPr>
        <p:spPr>
          <a:xfrm>
            <a:off x="460440" y="1989000"/>
            <a:ext cx="82087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c09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fac090"/>
                </a:solidFill>
                <a:latin typeface="Comic Sans MS"/>
              </a:rPr>
              <a:t>Внедрение инноваций все больше рассматривается как единственный способ повышения конкурентоспособности производимых товаров, поддержания высоких темпов развития и уровня доходности. Поэтому предприятия, преодолевая экономические трудности, начали своими силами вести разработки в области продуктовых и технологических инноваций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F:\Учеба\Новая папка (2)\Abstract-backgrounds\1680colourback_1018.jpg"/>
          <p:cNvPicPr/>
          <p:nvPr/>
        </p:nvPicPr>
        <p:blipFill>
          <a:blip r:embed="rId1"/>
          <a:stretch/>
        </p:blipFill>
        <p:spPr>
          <a:xfrm>
            <a:off x="-20520" y="1125360"/>
            <a:ext cx="9171000" cy="5732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F:\Учеба\Новая папка (2)\Abstract-backgrounds\1680colourback_2010.jpg"/>
          <p:cNvPicPr/>
          <p:nvPr/>
        </p:nvPicPr>
        <p:blipFill>
          <a:blip r:embed="rId2"/>
          <a:stretch/>
        </p:blipFill>
        <p:spPr>
          <a:xfrm>
            <a:off x="-20520" y="-30240"/>
            <a:ext cx="9171000" cy="11541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1"/>
          <p:cNvSpPr/>
          <p:nvPr/>
        </p:nvSpPr>
        <p:spPr>
          <a:xfrm>
            <a:off x="223200" y="347760"/>
            <a:ext cx="5170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3d69b"/>
                </a:solidFill>
                <a:latin typeface="Comic Sans MS"/>
              </a:rPr>
              <a:t>Что такое инновации?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Прямоугольник 2"/>
          <p:cNvSpPr/>
          <p:nvPr/>
        </p:nvSpPr>
        <p:spPr>
          <a:xfrm>
            <a:off x="179280" y="1197000"/>
            <a:ext cx="864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ac090"/>
                </a:solidFill>
                <a:latin typeface="Comic Sans MS"/>
              </a:rPr>
              <a:t>Инновации</a:t>
            </a:r>
            <a:r>
              <a:rPr b="0" lang="ru-RU" sz="3200" spc="-1" strike="noStrike">
                <a:solidFill>
                  <a:srgbClr val="fac09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ac09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ac090"/>
                </a:solidFill>
                <a:latin typeface="Comic Sans MS"/>
              </a:rPr>
              <a:t>– это новый способ удовлетворения потребностей, дающий прирост полезного эффекта, в результате разработки и освоения производства новых или усовершенствованных продуктов, технологий и процессов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Прямоугольник 3" descr=""/>
          <p:cNvPicPr/>
          <p:nvPr/>
        </p:nvPicPr>
        <p:blipFill>
          <a:blip r:embed="rId1"/>
          <a:stretch/>
        </p:blipFill>
        <p:spPr>
          <a:xfrm>
            <a:off x="3471840" y="587520"/>
            <a:ext cx="2200320" cy="5238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Технологические инноваци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это деятельность предприятия, связанная с разработкой и освоением новых технологических процес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родукт-инноваци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включает разработку и внедрение новых или усовершенствованных продук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роцесс-инноваци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предполагает разработку и освоение новых или существенно улучшенных производственных методов, включающих применение нового, более современного производственного оборудования, новых методов организации производственного процесса или их совокуп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4:08:47Z</dcterms:created>
  <dc:creator>Sharkscorpio</dc:creator>
  <dc:description/>
  <dc:language>en-US</dc:language>
  <cp:lastModifiedBy>Айжан</cp:lastModifiedBy>
  <dcterms:modified xsi:type="dcterms:W3CDTF">2012-01-03T17:51:55Z</dcterms:modified>
  <cp:revision>28</cp:revision>
  <dc:subject/>
  <dc:title>Презентация PowerPoint</dc:title>
</cp:coreProperties>
</file>