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E7B-1AC5-460F-B400-61B5706C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3F9-E609-44FE-863D-9265EFB1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C1E-7D3A-4FF3-BBFA-B36235ED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1BD-22D2-4F66-8D95-22BFE28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8FD4-FD18-4397-B05A-BD8642BC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BB10-F1BA-4A2A-9117-14162F75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4060-2EE1-4A00-8050-1FAD9EA8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C953-582F-4CF9-83FD-FB33ABDA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DF2A-9B16-45A7-AECB-79B6798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321-B68F-4EC9-B2A9-7FFCE854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E79F-D55A-480A-A6DF-48F3041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498-497B-4BF2-AF0A-5E6D241D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6CB1-8EF2-4068-8EC1-7E2B3AA2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B6BD-C461-4F2F-9B5D-6D251A18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F5E6-49B1-42C8-89CA-4ADB380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79E-C62A-4CE1-877A-6E8D1547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990F-555D-4720-9234-190E50B7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1C2-216B-4D2E-A95E-B1D3AC5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476-1354-441D-8E39-7F927871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EE7-3201-46BF-9C2A-B41A42A3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0CB-73E8-44FF-AF08-380B6FE3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7F7-A5BE-4DCF-AE2D-9394ABC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2FD-6609-426D-A9E7-04E7EB31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348-7286-4D78-8889-2BA329C1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E456-5284-4ECA-9D31-C93E9E4FB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609-5979-4357-90EC-CCD881401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инансовая деятельность предпри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нансы предприятий представляют собой совокупность денежных отношений, связанных с формированием, распределением и использованием денежных фондов. Они занимают определяющее положение в финансовой системе, т.к. обслуживают основное звено общественного производства, где создаются материальные блага и формируется преобладающая часть финансовых ресур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нансы становятся важны экономически, используемы государством и предприятиями в развитии производства. Финансы дают возможность оказывать влияние на процессы производства, распределения и обмена общественного продукта, покрывать потребность народного хозяйства в материальных и денежных ресурс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нансы хозяйствующих субъектов - это относительно самостоятельная сфера финансовой системы, охватывающая широкий круг денежных отношений, связанных с формированием и использованием денежных фондов предприятия. Именно здесь формируется основная часть доходов хозяйствующих субъектов, которые в дальнейшем перераспределяются в хозяйственном комплексе страны и служат основным источником экономического роста и социального развития об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чительная часть финансовых отношений предприятий регламентируется гражданским законодательством: устанавливается величина и порядок формирования уставного и резервного капитала для предприятий различных организационно-правовых форм, порядок размещения ценных бумаг, ликвидации, слияния и разделения предприятий, очередность списания средств с расчетного сч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нансовые ресурсы предприятия - это все источники денежных средств, аккумулируемые предприятием для формирования необходимых ему активов в целях осуществления всех видов деятельности как за счет собственных доходов, накоплений и капитала, так и за счет различного вида поступлений. Финансовые ресурсы предприятия подразделяются на собственные, собственные ресурсы строго целевого назначения и заем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бственные ресурс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Поступл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уставный капитал, сформированный за счет денежных поступлен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добавочный капитал в его денежной ч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Сформированные за счет прибыли прошлых л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резервный капита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специальные фонд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нераспределенная прибыль прошлых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Чистая прибыль отчетного период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прибыль от текущей деятель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доходы от инвестиционной деятель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доходы от финансовой деятельнос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доходы от прочей деятельности и хозяйственных опера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Прочие финансов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амортизация основных средств, нематериальных актив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доходы, полученные в счет будущих перио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бственные ресурсы строго целевого назнач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Расходы предстоящих пери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Целевое финансирование и поступ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траховые возмещ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емные ресурс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Долгосрочные: кредиты, прочие займы, кредиторская задолжен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Краткосрочные: кредиты, прочие займы, кредиторская задолженность, расчеты по дивиденд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ункции финансов хозяйствующих субъектов реализуются на уровне микроэкономики. Они непосредственно связаны с формированием и использованием денежных фондов предприятий в условиях их экономической обособленности и удовлетворением потребностей данной хозяйствующей единицы на возмездной эквивалентной осно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этому можно сказать, что финансы предприятий выполняют следующие функци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гулирование денежных потоков предприятия с целью обеспечения сбалансированности денежных и материальных вещественных потоков и формирования финансовых ресурсов, необходимых для ведения уставной деятельности и выполнения обязательств: выбор организационно-правовой формы, вида, сферы предпринимательской деятельности, определение способов формирования уставного капитала и привлечения дополнительных средств; формирование организационной структуры управления финансами с целью оптимизации денежных потоков; формирование учетной политики; налоговое планирование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ейшим субъектом предпринимательской деятельности является предприятие, которое создается для производства продукции, выполнения работ и оказания услуг в целях получения прибыли и удовлетворения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капитала, денежных доходов и фондов с целью обеспечения источниками развития предприятия и достижения его финансовой устойчивости: формирование уставного капитала; привлечение источников на фондовом рынке в целях развития; привлечение кредитов, займов и других видов заемных источников; аккумуляция денежных фондов в результате реализации продукции; привлечение специальных целев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льзование капитала, доходов и денежных фондов с целью обеспечения развития предприятия: оптимизация вложений; обеспечение налоговых и других обязательных платежей в бюджет и внебюджетные фонды; вложение средств в наиболее ликвидные актив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хозяйственной деятельности требует соответствующего финансового обеспечения, т. е. первоначального капитала, который об­разуется из вкладов учредителей предприятия и принимает форму  устав­ного капитала. Это важнейший источник формирования имущества лю­бого предприятия. Конкретные способы образования уставного капитала зависят от организа­ционно - правовой формы предпри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 условиях рыночных отношений при проведении финансовой политики предприятия ставят перед собой следующие стратегические задачи: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ксимизация прибыли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тимизация структуры капитала предприятия и обеспечение его финансовой устойчив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стижение прозрачности финансово-экономического состояния предприятий для собственников, инвесторов, креди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еспечение инвестиционной привлекательности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эффективного механизма управления предприят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предприятием рыночных механизмов привлечении финансовых сред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условиях рыночной экономики хозяйственная деятельность любого промышленного, сельскохозяйственного, строительного, торгового, транспортного и другого предприятия обязательно требует денежных средств, финансовых ресурсов, которые находятся в постоянном движ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инансовая деяте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система использования различных форм и методов для финансового гарантированного функционирования предприятий и достижения ими поставленных ц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и практическая финансовая деятельность предприятия, которая обеспечивает жизнедеятельность предприятия, улучшение ее результа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нансовая деятельность предприятия направлена на решение следующих основных задач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нансовое снабжение текущей производственной работы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резервов увеличения доходов, прибыли, усиление рентабельности и платежеспособност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ение финансовых обязательств перед субъектами хозяйствования, бюджетом, банкам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билизация финансовых ресурсов в объеме, необходимом для финансирования производственного и социального развития, усиления личного капитал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троль за эффективным, целевым распределением и использованием финансовых ресурс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средства из товарной формы переходят в денежную, то из поступающих за реализованную продукцию платежей выделяются денежные средства для выплаты заработной платы, возмещения потребленных средств производства; для амортизационных отчислений, платежей в бюджет; для погашения банковских ссуд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4:11:30Z</dcterms:created>
  <dc:creator>Лёшка</dc:creator>
  <dc:description/>
  <dc:language>en-US</dc:language>
  <cp:lastModifiedBy>Айжан</cp:lastModifiedBy>
  <dcterms:modified xsi:type="dcterms:W3CDTF">2012-01-03T16:55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