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9B5-6C90-48E8-9B4A-BD9A448F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0FB-2BCC-44BD-B796-B1AAE879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A4B-A5A5-4A4F-97AD-FA1F9F6E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38C-65C8-4188-8739-84D14222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3FF1-FA7B-4F7B-84FE-071A2C38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1470-BE29-40B6-A9FE-D138C83F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6DB5-501F-4ADF-9F82-55BA5D8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3502-8117-4DCC-A6E9-D47DE9F0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4FC7-F9E4-4747-9FBE-4D76021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6BD7-333C-4036-8999-D923AC5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5CA3-50C5-4011-BA5F-4D305C5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F70-C666-4764-A506-D60C2932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C948-B3B9-434C-8919-23105A1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3D6-A9E5-4D49-8FC1-1D87C4A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2784-F7BB-4B65-893A-836D6D80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D890-1125-4E43-B3F3-1FC40601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39C4-804F-4521-BABB-ADA0A415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4813-B8AB-4601-B3CB-E7709F17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8A22-DC51-4686-97E8-E5658233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DDBE-F3A1-4540-BA53-59CA8C1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F155-FFBB-4F49-BFC7-E316060C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5354-7B58-4039-80FA-56A5C3EF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61C-0531-44BE-A265-D228D815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A6D5-65A4-47D3-837F-39F98B9B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9213-F66E-4A36-A5CB-1540C373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6EF5-5624-4890-9183-2DC9B24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F255-E782-478D-8883-025CA5B7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D9F0-174D-443B-BA28-2F6171C9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4232-74B7-4E5D-9872-9019B307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621B-2F47-4497-981D-7DFA9988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AE15-F248-4576-B897-A907F7A3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3437-43B9-480C-9292-88132F6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C65E-B055-421D-B553-6AEC660A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0C2-C411-4BDA-BB8C-B04E16F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80DD-3B5B-4DEB-98E6-D95A6C4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EA8D-012E-4DFD-978C-B8D7782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C89E-B641-4559-A173-E95C36CA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A6C6-3DDC-4FE8-811C-ACA7275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54F4-067C-444E-AA80-97AF60AF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5CE39-5F4C-4205-A091-BC2759C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3A8E-E2BB-4E19-AA6B-1474BC2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F459-3C0B-4ADA-8CA4-552A0595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34F9-0362-4231-9402-299CC349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956B-44FB-4F57-856C-B9AF5D02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9DA-6BA9-4311-8FDE-4CD02090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C07B-877A-4E35-844C-E68F99C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F978E-3BD8-4F44-B4A0-AED3CBB1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D53D-7196-49F3-9943-6F70B22F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5E9A-C032-4EAA-9F50-721AFAB7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A1E2-050B-4421-84DA-08C7F671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8DC7F-2203-409B-B91F-E1BD1D5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6C51-2AC9-40AF-A9BF-6EE6995D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1551-2FFD-4CFB-8280-2D704DCC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B4B2-0335-4403-B509-E08BFD87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C9A65-6AB3-4CE5-8401-38EC54A9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D8F-4811-4B69-97FA-78C7870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6F306-7C9F-4241-8C29-20D7CFD2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F7D80-ABBF-44EC-B429-DF0F9883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E201-2381-4099-B84C-8630A5BD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9A3A-D79E-411C-87E2-0E760DAC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4002-4B6C-4529-9D49-3D85542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C3F67-D145-4B1C-863E-FC6173BD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68A53-7F51-47A1-8799-C834C53E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203E-9F17-43D8-B769-D3AD55C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B981-36F0-4AAD-8A27-8BB4E5C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01F0-8C08-46EF-9601-5DAF2A9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12D-9C26-4ED3-B45E-1373FBA5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81BE5-2796-42FD-973A-D26AB203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3205-986F-47A1-B311-9AC8B029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F87C-2346-4C14-8BE6-CF0EEEEC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33080-CF2D-4A79-9DF2-64BEAA69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45AF-5CC2-49B9-8461-20935528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3A0F6-08DF-4E0F-A0FF-88F0D93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CE510-8742-4B72-B508-A6828B0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4ADD-75A5-4DD2-9BC2-8EA0316D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3D63-4F79-4770-81DC-52B33BE3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B2B3-C6B2-417B-8931-09B48B6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1BF-3D96-4E8F-91B1-6C66983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3F58C-C72C-45E8-BE17-C9AC146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6FF1-7F7C-475C-A392-9EDE5E8E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089DE-D709-4619-A236-390F9CA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6575C-A116-427F-8A66-4E2940CF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2134-9E42-4A52-AA41-26870AD3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5F0-522C-4063-98A5-88AFC6EA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b67a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008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008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89a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997F-19BA-4C95-B330-29EF8464B2D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c005c"/>
              </a:gs>
              <a:gs pos="100000">
                <a:srgbClr val="c286c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b67a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008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008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89a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5C1-51F0-48B2-9B0F-B4E4CFB27B6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b67a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008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008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89a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B8C-82DF-4AEA-B95D-E6EF0A0574D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c005c"/>
              </a:gs>
              <a:gs pos="100000">
                <a:srgbClr val="c286c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b67a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008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008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89a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44D7-C937-4838-8A75-289F5B352DA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b67a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008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008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89a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FF84-A887-4F66-A399-37E8DF2D665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b67a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008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008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89a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9A29-5EEC-4CB7-AE8E-B9E2EA048706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800080">
                  <a:alpha val="1176"/>
                </a:srgbClr>
              </a:gs>
              <a:gs pos="100000">
                <a:srgbClr val="80008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b67a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b67a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008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008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0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89a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030a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7030a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030a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7030a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A79D-21FD-4210-BFF0-45B6230AB756}" type="slidenum">
              <a:rPr b="0" lang="ru-RU" sz="900" spc="-1" strike="noStrike">
                <a:solidFill>
                  <a:srgbClr val="7030a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-92160" y="-6480"/>
            <a:ext cx="9577440" cy="6870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5"/>
          <p:cNvSpPr/>
          <p:nvPr/>
        </p:nvSpPr>
        <p:spPr>
          <a:xfrm>
            <a:off x="571680" y="428760"/>
            <a:ext cx="8072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торой вид – налоги на товары и услуги: налог с оборота – в большинстве развитых стран заменен налогом на добавленную стоимость; акцизы ( налоги, прямо включаемые в цену товара или услуги ); на наследство; на сделки с недвижимостью и ценными бумагами и другие. Это – косвенные налоги. Они частично или полностью переносятся на цену товара или услуги. </a:t>
            </a:r>
            <a:endParaRPr b="0" lang="en-US" sz="21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ые налоги трудно перенести на потребителя. Из них легче всего дело обстоит с налогами на землю и на другую недвижимость: они включаются в арендную и квартирную плату, цену сельскохозяйственной продукции.</a:t>
            </a:r>
            <a:endParaRPr b="0" lang="en-US" sz="21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свенные налоги переносятся на конечного потребителя в зависимости от степени эластичности спроса на товары и услуги, облагаемые этими налогами. Чем менее эластичен спрос, тем большая часть налога перекладывается на потребителя. Чем менее эластично предложение, тем меньшая часть налога перекладывается на потребителя, а большая уплачивается за счет прибыли. В долгосрочном плане эластичность предложения растет, и на потребителя перекладывается все большая часть косвенных налогов. </a:t>
            </a:r>
            <a:endParaRPr b="0" lang="en-US" sz="21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>
            <a:off x="428760" y="45576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государственные налоги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общегосударственным налогам относятся: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подоходный налог с юридических и физических лиц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налог на добавленную стоимость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акцизы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налог на операции с ценными бумагами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специальные  платежи и налоги недропользователей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ные налоги и сборы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местным налогам и сборам относятся: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земельный налог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налог на имущество юридических и физических лиц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налог на транспортные средства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сбор за регистрацию физических лиц,  занимающихся предпринимательской деятельностью, и юридических лиц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сборы за право занятия отдельными видами деятельности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) сбор с аукционных продаж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4"/>
          <p:cNvSpPr/>
          <p:nvPr/>
        </p:nvSpPr>
        <p:spPr>
          <a:xfrm>
            <a:off x="785880" y="357120"/>
            <a:ext cx="8358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доходный налог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плательщиками  подоходного  налога  с юридических и физических лиц являются юридические и физические лица,  имеющие  налогооблагаемый доход в налоговом году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имущественному  доходу  физических лиц относится только прирост стоимости от реализации следующих видов активов с учетом корректировки их стоимости на инфляцию: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вижимого имущества,  не являющегося местом постоянного  жительства налогоплательщика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ных бумаг, доли участия в юридическом лице и других нематериальных активов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странной валюты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агоценных камней и драгоценных металлов,  ювелирных изделий, изготовленных из них, и других предметов, содержащих драгоценные камни и драгоценные металлы, а также произведений искусства и антиквариата и т.д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4"/>
          <p:cNvSpPr/>
          <p:nvPr/>
        </p:nvSpPr>
        <p:spPr>
          <a:xfrm>
            <a:off x="785880" y="428760"/>
            <a:ext cx="82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лог на добавленную стоимость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налог на добавленную стоимость представляет собой отчисления в бюджет части прироста стоимости, добавленной в процессе производства и обращения товаров, работ или услуг, а также отчисления при импорте товаров на территорию Республики Казахстан. Налог на добавленную стоимость, подлежащий уплате в бюджет, определяется как разница между суммами налога на добавленную стоимость, начисленными за реализованные товары, работы или услуги, и суммами налога на добавленную стоимость, подлежащими уплате за приобретенные товары, выполненные работы или оказанные услуги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28800" y="1071720"/>
            <a:ext cx="750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емельный налог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Юридические лица самостоятельно исчисляют размер земельного налога, подлежащего уплате, и ежегодно не позднее первого июля текущего года представляют в органы налоговой службы по месту своего нахождения декларацию причитающегося налога по каждому земельному участку. По вновь отведенным земельным участкам расчет суммы налога представляется в течение месяца с момента их предоставления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числение земельного налога гражданам производится органами налоговой службы, которые ежегодно не позднее первого августа текущего года вручают им платежные извещения об уплате налога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928800" y="285840"/>
            <a:ext cx="7858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лог на  транспортные средства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Плательщиками налога на транспортные средства являются юридические и физические лица, имеющие транспортные средства на праве собственности, доверительного управления собственностью, хозяйственного ведения или оперативного управления, которые состоят на государственном учете.         Объектами обложения налогом являются все виды транспортных средств.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мер налога на транспортные средства определяется плательщиками самостоятельно, исходя из суммарной мощности и вида транспортных средств, с учетом налоговых ставок. Уплата налога владельцами транспортных средств производится в срок до 1 сентября текущего года, а в случаях регистрации перерегистрации или ежегодного технического осмотра транспортных средств уплата налога производится до совершения указанных действий. Уплата налога производится по месту регистрации транспортных средств.    При перерегистрации транспортных средств в связи с переменой местонахождения владельца налог не уплачивается.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928800" y="285840"/>
            <a:ext cx="7786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лог на имущество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Плательщиками налога на имущество являются юридические и физические лица, имеющие объекты обложения на праве собственности, доверительного управления собственностью, хозяйственного ведения или оперативного управления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ъектами обложения налогом являются: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ые производственные и непроизводственные фонды юридических и физических лиц, занимающихся предпринимательской деятельностью, кроме транспортных средств, облагаемых налогом на транспортные средства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жилые помещения, дачные строения, гаражи, иные строения, сооружения, помещения физических лиц, не используемые в предпринимательской деятельности, находящиеся в личном пользовании граждан, расположенные на территории Республики Казахстан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1071720" y="1374480"/>
            <a:ext cx="721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онирование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налог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всегда связано с государством: во-первых, они устанавливаются только государством, во-вторых, их изъятие производится в пользу государства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Функция налог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– это проявление его сущности в действии, способ выражения его свойств. Функция показывает, каким образом реализуется общественное назначение данной экономической категории как инструмента стоимостного распределения и перераспределения государства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785880" y="36504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и выполняют следующие функции: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Фискальная (мобилизационная) функция;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Экономическая функция;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Распределительная функция;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Стимулирующая функция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Социальная функция;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Контрольно-учетная функция;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Воспроизводственная функция;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Макроэкономическая (регулирующая) функция;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Ограничительная функция.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785880" y="479520"/>
            <a:ext cx="77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Социальна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алогов проявляется в применении налоговых методов поддержки социального обеспечения и социального страхования. Вычеты на благотворительные цели: на содержание детей и иждивенцев, платежи в государственные социальные внебюджетные фонды, непосредственно направлены на обеспечение социальной защищенности и государственных гарантий членам общества, нуждающимся в первоочередной поддержке. Кроме того, финансирование государственных социальных программ, социальной сферы за счет общих налоговых поступлений (налога на прибыль, налога на добавленную стоимость и др.) также свидетельствует о социальном характере налогов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500040" y="95400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28880" indent="-10288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ы налогообложения и виды налогов</a:t>
            </a:r>
            <a:endParaRPr b="0" lang="en-US" sz="4800" spc="-1" strike="noStrike">
              <a:solidFill>
                <a:srgbClr val="7030a0"/>
              </a:solidFill>
              <a:latin typeface="Arial"/>
            </a:endParaRPr>
          </a:p>
          <a:p>
            <a:pPr marL="1028880" indent="-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030a0"/>
              </a:solidFill>
              <a:latin typeface="Arial"/>
            </a:endParaRPr>
          </a:p>
          <a:p>
            <a:pPr marL="1028880" indent="-10288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циальная функция налогов</a:t>
            </a:r>
            <a:endParaRPr b="0" lang="en-US" sz="4800" spc="-1" strike="noStrike">
              <a:solidFill>
                <a:srgbClr val="7030a0"/>
              </a:solidFill>
              <a:latin typeface="Arial"/>
            </a:endParaRPr>
          </a:p>
          <a:p>
            <a:pPr marL="1028880" indent="-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785880" y="357120"/>
            <a:ext cx="75009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Социальна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алогов носит многоаспектный характер. Само материальное содержание налогов как денежных ресурсов, централизуемых государством и изымаемых из воспроизводственного процесса, несет в себе возможность из обращения на непроизводственные цели. Многие социальные затраты финансируются государством за счет налогов (бесплатное образование, здравоохранение и т.д.).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Социальна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алогов проявляется и непосредственно через механизмы налоговых льгот и налоговых ставок, что входит во внутренний механизм действия налога (НДС, налога на прибыль и т.д.).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Социальна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алоговой системы требует детального исследования, как с точки зрения ее усиления, так и с точки зрения устранения неоправданных льгот и преимуществ, не отвечающих характеру рыночных преобразований или социальным критериям.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1285920" y="428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много подробнее разберем и другие функции налогообложения РК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1000080" y="1643040"/>
            <a:ext cx="714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Контрольная функция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ключается в том, что налоги выступают своеобразным «зеркалом» экономических процессов. Анализ динамики налоговых поступлений позволяет составить картину о процессах, происходящих в экономике, об эффективности, действующей налоговой системы, о ее влиянии на национальное хозяйство, о достаточности мобилизуемых средств для финансирования бюджетных мероприятий. Контрольная функция реализуется органами, осуществляющими контроль за правильным исчислением, своевременной уплаты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143000" y="785880"/>
            <a:ext cx="678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Контрольна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алогов выступает своего рода защитной функцией: она обеспечивает воспроизводство налоговых отношений государства и предприятий, реализацию и действенность силы государственной власти. Без контрольной функции другие функции налогов неосуществимы или их реализация подрывается в своей основе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Контрольна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алоговой системы предопределяет и определяет, как и уже отмечено, эффективность других функций. Следовательно, если контрольная функция налогов ослаблена, то это соответственно снижает эффективность налоговой системы в целом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857160" y="285840"/>
            <a:ext cx="7429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Контрольна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,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опираясь на закон, право, может эффективно реализовываться только на основе принуждения, подчинения силе государственной власти и закону. Ослабление государственной власти ведет к ослаблению контрольной функции налоговой системы. И, наоборот, ослабление контрольной функции налогов означает ослабление государственной власти или ведет к такому ослаблению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В конкретном отношении контрольная функция налогов проявляется в обязательном исполнении налогового законодательства, в полноте сбора налоговых платежей и действенности и эффективности штрафных санкций и ответственности тех, кто не выполняет или не в полной мере выполняет обязательства перед государством, предписываемые законом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143000" y="642960"/>
            <a:ext cx="721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Воспроизводственна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функци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алогов предполагает зачисления налогов на специальные счета бюджетной классификации и использование средств на мероприятия, прежде всего природоохранного назначения и дорожного хозяйства. К таким налогам относятся: земельный налог; плата за пользование водными объектами; плата за загрязнение окружающей природной среды, отчисления на воспроизводство минерально-сырьевой базы; налоги, зачисляемые в дорожные фонды.  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785880" y="928800"/>
            <a:ext cx="735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Макроэкономическая (регулирующая) функци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– это роль налогов и налоговой политики в системе факторов регулирования макроэкономических процессов, совокупного спроса и предложения, темпов роста и занятости. В условиях Казахстана налоговая система проявила себя как фактор ограничения спроса, особенно инвестиционного, углубления падения производства, формирования безработицы и неполной занятости рабочей силы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граничительная функция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через налоговую политику государство может сдерживать или ограничивать развитие тех или иных производств.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5"/>
          <p:cNvSpPr/>
          <p:nvPr/>
        </p:nvSpPr>
        <p:spPr>
          <a:xfrm>
            <a:off x="1357200" y="428760"/>
            <a:ext cx="678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Налоговое  законодательство Республики  Казахстан основывается на принципах  налогообложения. 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К принципам налогообложения относятся принципы обязательности, определенности, справедливости налогообложения, единства налоговой системы и гласности налогового законодательства  Республики Казахстан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2"/>
          <p:cNvGrpSpPr/>
          <p:nvPr/>
        </p:nvGrpSpPr>
        <p:grpSpPr>
          <a:xfrm>
            <a:off x="1298520" y="262080"/>
            <a:ext cx="6681960" cy="701640"/>
            <a:chOff x="1298520" y="262080"/>
            <a:chExt cx="6681960" cy="701640"/>
          </a:xfrm>
        </p:grpSpPr>
        <p:pic>
          <p:nvPicPr>
            <p:cNvPr id="317" name="Rectangle 2" descr=""/>
            <p:cNvPicPr/>
            <p:nvPr/>
          </p:nvPicPr>
          <p:blipFill>
            <a:blip r:embed="rId1"/>
            <a:stretch/>
          </p:blipFill>
          <p:spPr>
            <a:xfrm>
              <a:off x="1298520" y="262080"/>
              <a:ext cx="66819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428840" y="358200"/>
              <a:ext cx="64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ринцип обязательности налогообложения</a:t>
              </a: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sp>
        <p:nvSpPr>
          <p:cNvPr id="319" name="Прямоугольник 6"/>
          <p:cNvSpPr/>
          <p:nvPr/>
        </p:nvSpPr>
        <p:spPr>
          <a:xfrm>
            <a:off x="857160" y="2857680"/>
            <a:ext cx="77155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логи и другие обязательные платежи в бюджет Республики Казахстан должны быть определенными. Определенность налогообложения означает установление в налоговом законодательстве Республики Казахстан всех оснований и порядка возникновения, исполнения и прекращения налогового обязательства налогоплательщика, обязанности налогового агента по исчислению, удержанию и перечислению налогов. 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571680" y="714240"/>
            <a:ext cx="8572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логоплательщик обязан исполнять налоговое обязательство, налоговый агент - обязанность по исчислению, удержанию и перечислению налогов в соответствии с налоговым законодательством Республики Казахстан в полном объеме и в установленные сроки. 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321" name="Прямоугольник 8"/>
          <p:cNvGrpSpPr/>
          <p:nvPr/>
        </p:nvGrpSpPr>
        <p:grpSpPr>
          <a:xfrm>
            <a:off x="1274760" y="2401920"/>
            <a:ext cx="6845400" cy="706320"/>
            <a:chOff x="1274760" y="2401920"/>
            <a:chExt cx="6845400" cy="706320"/>
          </a:xfrm>
        </p:grpSpPr>
        <p:pic>
          <p:nvPicPr>
            <p:cNvPr id="32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274760" y="2401920"/>
              <a:ext cx="68454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428840" y="250020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ринцип определенности налогообложения </a:t>
              </a:r>
              <a:endParaRPr b="0" lang="en-US" sz="24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одержимое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28840" y="857160"/>
            <a:ext cx="6500880" cy="4143600"/>
          </a:xfrm>
          <a:prstGeom prst="rect">
            <a:avLst/>
          </a:prstGeom>
          <a:ln w="76320">
            <a:solidFill>
              <a:srgbClr val="00ff00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325" name="Rectangle 2"/>
          <p:cNvGrpSpPr/>
          <p:nvPr/>
        </p:nvGrpSpPr>
        <p:grpSpPr>
          <a:xfrm>
            <a:off x="1060560" y="542880"/>
            <a:ext cx="6705360" cy="706320"/>
            <a:chOff x="1060560" y="542880"/>
            <a:chExt cx="6705360" cy="706320"/>
          </a:xfrm>
        </p:grpSpPr>
        <p:pic>
          <p:nvPicPr>
            <p:cNvPr id="326" name="Rectangle 2" descr=""/>
            <p:cNvPicPr/>
            <p:nvPr/>
          </p:nvPicPr>
          <p:blipFill>
            <a:blip r:embed="rId2"/>
            <a:stretch/>
          </p:blipFill>
          <p:spPr>
            <a:xfrm>
              <a:off x="1060560" y="542880"/>
              <a:ext cx="67053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214280" y="644040"/>
              <a:ext cx="64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ринцип справедливости налогообложения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grpSp>
        <p:nvGrpSpPr>
          <p:cNvPr id="328" name="Rectangle 2"/>
          <p:cNvGrpSpPr/>
          <p:nvPr/>
        </p:nvGrpSpPr>
        <p:grpSpPr>
          <a:xfrm>
            <a:off x="1444680" y="2614680"/>
            <a:ext cx="6248520" cy="708120"/>
            <a:chOff x="1444680" y="2614680"/>
            <a:chExt cx="6248520" cy="708120"/>
          </a:xfrm>
        </p:grpSpPr>
        <p:pic>
          <p:nvPicPr>
            <p:cNvPr id="329" name="Rectangle 2" descr=""/>
            <p:cNvPicPr/>
            <p:nvPr/>
          </p:nvPicPr>
          <p:blipFill>
            <a:blip r:embed="rId3"/>
            <a:stretch/>
          </p:blipFill>
          <p:spPr>
            <a:xfrm>
              <a:off x="1444680" y="2614680"/>
              <a:ext cx="624852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571760" y="2715840"/>
              <a:ext cx="60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ринцип единства налоговой системы</a:t>
              </a: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sp>
        <p:nvSpPr>
          <p:cNvPr id="331" name="Прямоугольник 9"/>
          <p:cNvSpPr/>
          <p:nvPr/>
        </p:nvSpPr>
        <p:spPr>
          <a:xfrm>
            <a:off x="428760" y="114300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. Налогообложение в Республике Казахстан является всеобщим и обязательным. 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Запрещается предоставление налоговых льгот индивидуального характера.</a:t>
            </a:r>
            <a:r>
              <a:rPr b="0" lang="ru-RU" sz="2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428760" y="3219120"/>
            <a:ext cx="850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логовая система Республики Казахстан является единой на всей территории Республики Казахстан в отношении всех налогоплательщиков (налоговых агентов). 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333" name="Rectangle 2"/>
          <p:cNvGrpSpPr/>
          <p:nvPr/>
        </p:nvGrpSpPr>
        <p:grpSpPr>
          <a:xfrm>
            <a:off x="585720" y="4548240"/>
            <a:ext cx="8466120" cy="700200"/>
            <a:chOff x="585720" y="4548240"/>
            <a:chExt cx="8466120" cy="700200"/>
          </a:xfrm>
        </p:grpSpPr>
        <p:pic>
          <p:nvPicPr>
            <p:cNvPr id="334" name="Rectangle 2" descr=""/>
            <p:cNvPicPr/>
            <p:nvPr/>
          </p:nvPicPr>
          <p:blipFill>
            <a:blip r:embed="rId4"/>
            <a:stretch/>
          </p:blipFill>
          <p:spPr>
            <a:xfrm>
              <a:off x="585720" y="4548240"/>
              <a:ext cx="8466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14240" y="4644360"/>
              <a:ext cx="82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ринцип гласности налогового законодательства  РК </a:t>
              </a:r>
              <a:endParaRPr b="0" lang="en-US" sz="24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1071720" y="5219280"/>
            <a:ext cx="700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ормативные правовые акты, регулирующие вопросы налогообложения, подлежат обязательному опубликованию в официальных изданиях. </a:t>
            </a:r>
            <a:endParaRPr b="0" lang="en-US" sz="2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Rectangle 2"/>
          <p:cNvGrpSpPr/>
          <p:nvPr/>
        </p:nvGrpSpPr>
        <p:grpSpPr>
          <a:xfrm>
            <a:off x="201600" y="262080"/>
            <a:ext cx="8637480" cy="701640"/>
            <a:chOff x="201600" y="262080"/>
            <a:chExt cx="8637480" cy="701640"/>
          </a:xfrm>
        </p:grpSpPr>
        <p:pic>
          <p:nvPicPr>
            <p:cNvPr id="338" name="Rectangle 2" descr=""/>
            <p:cNvPicPr/>
            <p:nvPr/>
          </p:nvPicPr>
          <p:blipFill>
            <a:blip r:embed="rId1"/>
            <a:stretch/>
          </p:blipFill>
          <p:spPr>
            <a:xfrm>
              <a:off x="201600" y="262080"/>
              <a:ext cx="8637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357120" y="358200"/>
              <a:ext cx="835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8f8f8"/>
                  </a:solidFill>
                  <a:latin typeface="Times New Roman"/>
                  <a:ea typeface="Times New Roman"/>
                </a:rPr>
                <a:t>Виды налогов, других обязательных платежей в бюджет</a:t>
              </a:r>
              <a:r>
                <a:rPr b="1" lang="ru-RU" sz="24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sp>
        <p:nvSpPr>
          <p:cNvPr id="340" name="Прямоугольник 11"/>
          <p:cNvSpPr/>
          <p:nvPr/>
        </p:nvSpPr>
        <p:spPr>
          <a:xfrm>
            <a:off x="1000080" y="785880"/>
            <a:ext cx="814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</a:rPr>
              <a:t>1.налоги</a:t>
            </a:r>
            <a:r>
              <a:rPr b="1" i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:</a:t>
            </a:r>
            <a:r>
              <a:rPr b="1" i="1" lang="ru-RU" sz="24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поративный подоходный налог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дивидуальный подоходный налог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 на добавленную стоимость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цизы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тный налог на экспорт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ециальные платежи и налоги недропользователей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циальный налог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 на транспортные средства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мельный налог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 на имущество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 на игорный бизнес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ксированный налог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ный земельный налог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928800" y="453240"/>
            <a:ext cx="76438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</a:rPr>
              <a:t>2.плата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пользование земельными участками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пользование водными ресурсами поверхностных источников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эмиссии в окружающую среду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пользование животным миром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лесные пользования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использование особо охраняемых природных территорий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использование радиочастотного спектра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предоставление междугородной, международной, сотовой телефонной связи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пользование судоходными водными путями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размещение наружной (визуальной) рекламы.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857160" y="357120"/>
            <a:ext cx="77868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</a:rPr>
              <a:t>3.таможенные платежи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моженная пошлина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моженные сборы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</a:rPr>
              <a:t>4.государственная пошлина;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</a:rPr>
              <a:t>5.сборы: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страционные сборы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ор за проезд автотранспортных средств по территории РК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ор с аукционов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цензионный сбор за право занятия отдельными видами деятельности;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ор за выдачу разрешения на использование радиочастотного спектра;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левизионным и радиовещательным организациям. </a:t>
            </a:r>
            <a:endParaRPr b="0" lang="en-US" sz="2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500040" y="455760"/>
            <a:ext cx="807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и бывают двух видов.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й вид – налоги на доходы и имущество: подоходный налог и налог на прибыль корпораций (фирм); на социальное страхование и на фонд заработной платы и рабочую силу (так называемые социальные налоги, социальные взносы); поимущественные налоги, в том числе налоги на собственность, включая землю и другую недвижимость; налог на перевод прибыли и капиталов за рубеж и другие. Они взимаются с конкретного физического или юридического лица, их называют прямыми налогами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1:14:16Z</dcterms:created>
  <dc:creator>comp</dc:creator>
  <dc:description/>
  <dc:language>en-US</dc:language>
  <cp:lastModifiedBy>comp</cp:lastModifiedBy>
  <dcterms:modified xsi:type="dcterms:W3CDTF">2011-02-13T23:49:33Z</dcterms:modified>
  <cp:revision>140</cp:revision>
  <dc:subject/>
  <dc:title>Слайд 1</dc:title>
</cp:coreProperties>
</file>