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AFD4-4970-4358-8141-CB234AFCB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F8F2-3CD3-42E7-8B6A-868098DB4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F25B-7E13-4993-8A81-E13186282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A9F8-ABAD-42AE-8D27-CD360D5C1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D45C-299F-4B9A-B5E4-15C3F58B6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CBFD-11D1-4371-B3A2-19046313B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BB66-F384-48D1-B8BD-3015F8471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DB25-053E-40C1-BBAB-8BAE77FF5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7186-8E0A-4327-9810-3E3AE89D0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7A3A-F332-4F5F-B405-239D85041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EBA5-4CFD-4773-9360-606B602F2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4E1E-4E6E-498C-B6C5-5755947D5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E7BC0-1046-4148-B07D-7B1BD9DABC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2205000"/>
            <a:ext cx="8229600" cy="28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8604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557360"/>
            <a:ext cx="914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ема 4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ебестоимость производства, ценообразование и тарифы в электроэнергетической отрасл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507960"/>
            <a:ext cx="9144000" cy="58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ынки электроэнер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орговля электроэнергией получила определение как отдельный вид деятельности в Законе об Электроэнергии, принятом в 2003 го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ля развития торговли электроэнергией установлены следующие этап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пределение соответствующей регулирующей Комиссией тарифа на продаваемую электроэнергию по формуле «издержки производства  + нормативная доходность»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пределение тарифа на основе конкурсных торгов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Ценовая конкуренция производителей электроэнергии и открытие рын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279360"/>
            <a:ext cx="9144000" cy="629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676440"/>
            <a:ext cx="9144000" cy="55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68360" y="-60480"/>
            <a:ext cx="5975280" cy="52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Структура отрас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В секторе производства электроэнергии основными игроками являю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5 групп генерирующих компаний, образованных в результате реорганизации Государственной энергетической корпорации по принципу равномерности распределения активов. Эти группы компаний контролируются на национальном уровне, и их доля в общей выработке составляет 39%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иные национальные генерирующие компании (10%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региональные государственные энергетические компании (45%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независимые генераторы (6%).</a:t>
            </a:r>
            <a:r>
              <a:rPr b="0" lang="en-US" sz="1800" spc="-1" strike="noStrike">
                <a:solidFill>
                  <a:srgbClr val="ff66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14200" y="261360"/>
            <a:ext cx="8929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Рынки электроэнерг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Торговля электроэнергией получила определение как отдельный вид деятельности в Законе об Электроэнергии, принятом в 2003 го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Для развития торговли электроэнергией установлены следующие этап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Определение соответствующей регулирующей Комиссией тарифа на продаваемую электроэнергию по формуле «издержки производства  + нормативная доходность»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Определение тарифа на основе конкурсных торгов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Ценовая конкуренция производителей электроэнергии и открытие рын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79280" y="316080"/>
            <a:ext cx="8640720" cy="63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47520"/>
            <a:ext cx="9144000" cy="676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49600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24000" y="243000"/>
            <a:ext cx="8820000" cy="61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4T08:55:23Z</dcterms:created>
  <dc:creator>student</dc:creator>
  <dc:description/>
  <dc:language>en-US</dc:language>
  <cp:lastModifiedBy>Айжан</cp:lastModifiedBy>
  <dcterms:modified xsi:type="dcterms:W3CDTF">2011-06-01T09:22:47Z</dcterms:modified>
  <cp:revision>6</cp:revision>
  <dc:subject/>
  <dc:title>Слайд 1</dc:title>
</cp:coreProperties>
</file>