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91B1-245F-4023-B4D0-7A46D767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3951-EBB3-440C-A210-37A89018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5360-31A5-4607-A3CB-CDE22855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0445-8CC4-41F6-A06D-2A6C49BD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B5416-4E72-4D98-9314-30EE2581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B81D0-876D-4352-9CF3-FF96BFA3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FDFAF-D846-45C4-AC75-3E836EE7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0B9BA-8BA3-40B8-8DA1-4AF5AB7A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9EE39-53E2-40D4-AB46-2281D8C5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4D608-1F5C-471E-956E-725AF347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B9488-2385-421A-89AC-8B236BFD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2E92-B307-435F-95FB-C0A18C16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CFB57-9A96-4F5D-989D-A1E01D10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B23BB-A206-4801-B8F5-5E3CEF1C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B9921-1CE1-4657-B929-63B25F97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CAA66-0F95-465B-A620-BA7E93584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0854F-A2F8-4A89-B3B1-44A5F7DA2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534C-DBD5-43F1-9D8A-98E1F3AF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5525-8CA4-483A-8124-32D0F484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E4B1-9845-413B-BA8D-EEC607CB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A2B7-0C9B-46F0-942D-783889A8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0397-1BC2-4BF3-BAA3-E78A6813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4479-70B2-464A-A8AE-D00D728C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C3F2-3FE6-4BCB-9369-87875320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DF39-5219-423E-8988-09A89EB925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A5D6-5E59-4A16-B730-47F0E6DCD8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4038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ема 4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. Экономическая эффективность концентрации, централизации и комбинирования в электроэнергетики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Формирование цены на топливо, тарифов на электрическую и тепловую энергию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Цена на твердое топливо, реализуемое населению, включает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цену поставщи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издержки обращения предприятия (с рентабельностью, не превышающей 12%)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Расходы по доставке твердого топлива населению в цены на твердое топливо не включаются и оплачиваются населением дополнительно, сверх стоимости топлива.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Погрузка твердого топлива на транспорт производится без взимания дополнительной платы с потребителя. Разгрузка доставленного потребителю твердого топлива производится за дополнительную плату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Что влияет на общий уровень цен в мире: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лебания биржевых цен на бензин и дизельное топливо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зменения производственных затрат на нефтеперерабатывающих заводах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зменения курса валют, в особенности – доллара США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ост требований к качеству бензина и дизельного топлива со стороны Евросоюза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зменения в нормативных актах, относящихся к налоговым ставкам (НДС, акциз), а также изменения в нормативных актах в отношении хранения обязательного государственного топливного резерв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457200" y="1143000"/>
            <a:ext cx="8228880" cy="4646880"/>
            <a:chOff x="457200" y="1143000"/>
            <a:chExt cx="8228880" cy="4646880"/>
          </a:xfrm>
        </p:grpSpPr>
        <p:cxnSp>
          <p:nvCxnSpPr>
            <p:cNvPr id="133" name="_s31758"/>
            <p:cNvCxnSpPr>
              <a:stCxn id="134" idx="0"/>
              <a:endCxn id="135" idx="2"/>
            </p:cNvCxnSpPr>
            <p:nvPr/>
          </p:nvCxnSpPr>
          <p:spPr>
            <a:xfrm flipV="1" rot="16200000">
              <a:off x="5546520" y="2025360"/>
              <a:ext cx="929880" cy="2880720"/>
            </a:xfrm>
            <a:prstGeom prst="bentConnector3">
              <a:avLst>
                <a:gd name="adj1" fmla="val 1386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6" name="_s31757"/>
            <p:cNvCxnSpPr>
              <a:stCxn id="137" idx="0"/>
              <a:endCxn id="135" idx="2"/>
            </p:cNvCxnSpPr>
            <p:nvPr/>
          </p:nvCxnSpPr>
          <p:spPr>
            <a:xfrm flipV="1">
              <a:off x="4571280" y="3000960"/>
              <a:ext cx="3240" cy="929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8" name="_s31756"/>
            <p:cNvCxnSpPr>
              <a:stCxn id="139" idx="0"/>
              <a:endCxn id="135" idx="2"/>
            </p:cNvCxnSpPr>
            <p:nvPr/>
          </p:nvCxnSpPr>
          <p:spPr>
            <a:xfrm flipH="1" flipV="1" rot="5400000">
              <a:off x="2666520" y="2025720"/>
              <a:ext cx="929880" cy="2880720"/>
            </a:xfrm>
            <a:prstGeom prst="bentConnector3">
              <a:avLst>
                <a:gd name="adj1" fmla="val 1386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5" name="_s31752"/>
            <p:cNvSpPr/>
            <p:nvPr/>
          </p:nvSpPr>
          <p:spPr>
            <a:xfrm>
              <a:off x="3337200" y="1143000"/>
              <a:ext cx="2468520" cy="1858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ahoma"/>
                </a:rPr>
                <a:t>Основное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ahoma"/>
                </a:rPr>
                <a:t>влияние на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ahoma"/>
                </a:rPr>
                <a:t>цену сырой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2100" spc="-1" strike="noStrike">
                  <a:solidFill>
                    <a:srgbClr val="ffffff"/>
                  </a:solidFill>
                  <a:latin typeface="Tahoma"/>
                </a:rPr>
                <a:t>нефти оказывают: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_s31753"/>
            <p:cNvSpPr/>
            <p:nvPr/>
          </p:nvSpPr>
          <p:spPr>
            <a:xfrm>
              <a:off x="457200" y="3931200"/>
              <a:ext cx="2468520" cy="185868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ahoma"/>
                </a:rPr>
                <a:t>ПОЛИТИКА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_s31754"/>
            <p:cNvSpPr/>
            <p:nvPr/>
          </p:nvSpPr>
          <p:spPr>
            <a:xfrm>
              <a:off x="3337200" y="3931200"/>
              <a:ext cx="2468520" cy="18586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ahoma"/>
                </a:rPr>
                <a:t>МИРОВАЯ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ahoma"/>
                </a:rPr>
                <a:t>ЭКОНОМИКА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31755"/>
            <p:cNvSpPr/>
            <p:nvPr/>
          </p:nvSpPr>
          <p:spPr>
            <a:xfrm>
              <a:off x="6217560" y="3931200"/>
              <a:ext cx="2468520" cy="18586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ahoma"/>
                </a:rPr>
                <a:t>НАЛОГИ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4582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Тарифы на производство тепловой энергии, услуги по передаче и распределению тепловой и электрической энергии, а также на услуги по снабжению тепловой энергией регулируются государством и устанавливаются отдельно для каждой генерирующей, передающей и снабжающей организ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 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Формирование тарифов по данным услугам осуществляется по затратному методу, на основе фактических затрат предприятий, руководствуясь действующим законодательством и нормативно-правовыми актами, а также Методикой ведения раздельного учета доходов, затрат и задействованных актив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58608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хема формирования тарифа на электроэнерги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-84240"/>
            <a:ext cx="9144000" cy="69422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тоимость единицы электрической (тепловой) энергии (мощности) представляет собой  средневзвешенную стоимость единицы электрической (тепловой) энергии (мощности), получаемой от ПЭ (цену покупки электроэнергии (тепловой) энергии (мощности) у производителей на оптовом и потребительском рынках и стоимость электрической (тепловой) энергии (мощности) собственного производ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В счетах на оплату электрической и тепловой энергии помимо суммарного платежа должны раздельно указываться стоимость производства отпущенной потребителю энергии и стоимость услуг по ее передаче и иных услуг, оказание которых является неотъемлемой частью процесса поставки энергии потребителям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Отпускная цена на электрическую энергию в Казахстане состоит из нескольких частей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цены производства (с шин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тарифа за услугу по передаче электрической энергии по сетям АО «КЕGОС»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тарифа за балансировку электрической энерги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тарифа по передаче и распределению электрической энерги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тарифа на снабженческую надбавк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457200" y="533520"/>
            <a:ext cx="8457480" cy="4227480"/>
            <a:chOff x="457200" y="533520"/>
            <a:chExt cx="8457480" cy="4227480"/>
          </a:xfrm>
        </p:grpSpPr>
        <p:cxnSp>
          <p:nvCxnSpPr>
            <p:cNvPr id="152" name="_s35857"/>
            <p:cNvCxnSpPr>
              <a:stCxn id="153" idx="0"/>
              <a:endCxn id="154" idx="2"/>
            </p:cNvCxnSpPr>
            <p:nvPr/>
          </p:nvCxnSpPr>
          <p:spPr>
            <a:xfrm flipV="1" rot="16200000">
              <a:off x="5743080" y="1166400"/>
              <a:ext cx="846000" cy="2960640"/>
            </a:xfrm>
            <a:prstGeom prst="bentConnector3">
              <a:avLst>
                <a:gd name="adj1" fmla="val 138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5" name="_s35856"/>
            <p:cNvCxnSpPr>
              <a:stCxn id="156" idx="0"/>
              <a:endCxn id="154" idx="2"/>
            </p:cNvCxnSpPr>
            <p:nvPr/>
          </p:nvCxnSpPr>
          <p:spPr>
            <a:xfrm flipV="1">
              <a:off x="4685760" y="2224080"/>
              <a:ext cx="3240" cy="846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7" name="_s35855"/>
            <p:cNvCxnSpPr>
              <a:stCxn id="158" idx="0"/>
              <a:endCxn id="154" idx="2"/>
            </p:cNvCxnSpPr>
            <p:nvPr/>
          </p:nvCxnSpPr>
          <p:spPr>
            <a:xfrm flipH="1" flipV="1" rot="5400000">
              <a:off x="2782800" y="1166760"/>
              <a:ext cx="846000" cy="2960640"/>
            </a:xfrm>
            <a:prstGeom prst="bentConnector3">
              <a:avLst>
                <a:gd name="adj1" fmla="val 138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4" name="_s35851"/>
            <p:cNvSpPr/>
            <p:nvPr/>
          </p:nvSpPr>
          <p:spPr>
            <a:xfrm>
              <a:off x="3417120" y="533520"/>
              <a:ext cx="2537280" cy="169092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Отпускная цен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на тепловую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энергию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_s35852"/>
            <p:cNvSpPr/>
            <p:nvPr/>
          </p:nvSpPr>
          <p:spPr>
            <a:xfrm>
              <a:off x="457200" y="3070080"/>
              <a:ext cx="2537280" cy="16909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Цены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производств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_s35853"/>
            <p:cNvSpPr/>
            <p:nvPr/>
          </p:nvSpPr>
          <p:spPr>
            <a:xfrm>
              <a:off x="3417120" y="3070080"/>
              <a:ext cx="2537280" cy="16909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SzPct val="25000"/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ahoma"/>
                </a:rPr>
                <a:t>тарифа по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25000"/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ahoma"/>
                </a:rPr>
                <a:t>передач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25000"/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Tahoma"/>
                </a:rPr>
                <a:t>и распределению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25000"/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ahoma"/>
                </a:rPr>
                <a:t>тепловой энергии;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35854"/>
            <p:cNvSpPr/>
            <p:nvPr/>
          </p:nvSpPr>
          <p:spPr>
            <a:xfrm>
              <a:off x="6377400" y="3070080"/>
              <a:ext cx="2537280" cy="1690920"/>
            </a:xfrm>
            <a:prstGeom prst="roundRect">
              <a:avLst>
                <a:gd name="adj" fmla="val 16667"/>
              </a:avLst>
            </a:pr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SzPct val="25000"/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тарифа на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25000"/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снабженческую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25000"/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надбавку. </a:t>
              </a:r>
              <a:r>
                <a:rPr b="0" lang="en-US" sz="2200" spc="-1" strike="noStrike">
                  <a:solidFill>
                    <a:srgbClr val="ffffff"/>
                  </a:solidFill>
                  <a:latin typeface="Tahoma"/>
                </a:rPr>
                <a:t> 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онцентрация — это процесс сосредоточения производства на крупных предприятиях, оснащенных мощным, современным оборудованием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онцентрация в электроэнергетике развивается быстрыми темпами по следующим направлениям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величение единичной мощности агрегат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крупнение электростанций за счет увеличения числа агрегатов (менее целесообразен и экономичен). Оптимальное число блоков — 4-8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величение пропускной способности ЛЭП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сновные законодательные акты, регулирующие деятельность предприятий энергетической отрасли Казахстана, включают закон «Об электроэнергетике» и закон «О естественных монополиях и регулируемых рынках», а также нормативно-правовые акты антимонопольных органов и Правительства Республики Казахста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152280" y="444600"/>
            <a:ext cx="8762400" cy="5649480"/>
            <a:chOff x="152280" y="444600"/>
            <a:chExt cx="8762400" cy="5649480"/>
          </a:xfrm>
        </p:grpSpPr>
        <p:cxnSp>
          <p:nvCxnSpPr>
            <p:cNvPr id="87" name="_s14350"/>
            <p:cNvCxnSpPr>
              <a:stCxn id="88" idx="0"/>
              <a:endCxn id="89" idx="2"/>
            </p:cNvCxnSpPr>
            <p:nvPr/>
          </p:nvCxnSpPr>
          <p:spPr>
            <a:xfrm flipV="1" rot="16200000">
              <a:off x="5501520" y="1735200"/>
              <a:ext cx="1130400" cy="3067560"/>
            </a:xfrm>
            <a:prstGeom prst="bentConnector3">
              <a:avLst>
                <a:gd name="adj1" fmla="val 1388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" name="_s14349"/>
            <p:cNvCxnSpPr>
              <a:stCxn id="91" idx="0"/>
              <a:endCxn id="89" idx="2"/>
            </p:cNvCxnSpPr>
            <p:nvPr/>
          </p:nvCxnSpPr>
          <p:spPr>
            <a:xfrm flipV="1">
              <a:off x="4533120" y="2703960"/>
              <a:ext cx="3240" cy="1130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2" name="_s14348"/>
            <p:cNvCxnSpPr>
              <a:stCxn id="93" idx="0"/>
              <a:endCxn id="89" idx="2"/>
            </p:cNvCxnSpPr>
            <p:nvPr/>
          </p:nvCxnSpPr>
          <p:spPr>
            <a:xfrm flipH="1" flipV="1" rot="5400000">
              <a:off x="2434680" y="1735200"/>
              <a:ext cx="1130400" cy="3067560"/>
            </a:xfrm>
            <a:prstGeom prst="bentConnector3">
              <a:avLst>
                <a:gd name="adj1" fmla="val 1388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9" name="_s14344"/>
            <p:cNvSpPr/>
            <p:nvPr/>
          </p:nvSpPr>
          <p:spPr>
            <a:xfrm>
              <a:off x="3219120" y="444600"/>
              <a:ext cx="2628720" cy="225972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Tahoma"/>
                </a:rPr>
                <a:t>Преимущества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_s14345"/>
            <p:cNvSpPr/>
            <p:nvPr/>
          </p:nvSpPr>
          <p:spPr>
            <a:xfrm>
              <a:off x="152280" y="3834360"/>
              <a:ext cx="2628720" cy="225972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снижение удельны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кап. вложений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1 кВт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установленно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мощност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14346"/>
            <p:cNvSpPr/>
            <p:nvPr/>
          </p:nvSpPr>
          <p:spPr>
            <a:xfrm>
              <a:off x="3219120" y="3834360"/>
              <a:ext cx="2628720" cy="225972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ahoma"/>
                </a:rPr>
                <a:t>повышени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ahoma"/>
                </a:rPr>
                <a:t>технико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ahoma"/>
                </a:rPr>
                <a:t>экономических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ahoma"/>
                </a:rPr>
                <a:t>показателей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ahoma"/>
                </a:rPr>
                <a:t>оборуд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_s14347"/>
            <p:cNvSpPr/>
            <p:nvPr/>
          </p:nvSpPr>
          <p:spPr>
            <a:xfrm>
              <a:off x="6285960" y="3834360"/>
              <a:ext cx="2628720" cy="22597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ускорение темпов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наращивания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мощност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228600" y="380880"/>
            <a:ext cx="8686080" cy="4341960"/>
            <a:chOff x="228600" y="380880"/>
            <a:chExt cx="8686080" cy="4341960"/>
          </a:xfrm>
        </p:grpSpPr>
        <p:cxnSp>
          <p:nvCxnSpPr>
            <p:cNvPr id="95" name="_s16398"/>
            <p:cNvCxnSpPr>
              <a:stCxn id="96" idx="0"/>
              <a:endCxn id="97" idx="2"/>
            </p:cNvCxnSpPr>
            <p:nvPr/>
          </p:nvCxnSpPr>
          <p:spPr>
            <a:xfrm flipV="1" rot="16200000">
              <a:off x="5657040" y="1031040"/>
              <a:ext cx="869040" cy="3040920"/>
            </a:xfrm>
            <a:prstGeom prst="bentConnector3">
              <a:avLst>
                <a:gd name="adj1" fmla="val 1388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8" name="_s16397"/>
            <p:cNvCxnSpPr>
              <a:stCxn id="99" idx="0"/>
              <a:endCxn id="97" idx="2"/>
            </p:cNvCxnSpPr>
            <p:nvPr/>
          </p:nvCxnSpPr>
          <p:spPr>
            <a:xfrm flipV="1">
              <a:off x="4571280" y="2117160"/>
              <a:ext cx="3240" cy="869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0" name="_s16396"/>
            <p:cNvCxnSpPr>
              <a:stCxn id="101" idx="0"/>
              <a:endCxn id="97" idx="2"/>
            </p:cNvCxnSpPr>
            <p:nvPr/>
          </p:nvCxnSpPr>
          <p:spPr>
            <a:xfrm flipH="1" flipV="1" rot="5400000">
              <a:off x="2616840" y="1031040"/>
              <a:ext cx="869040" cy="3040920"/>
            </a:xfrm>
            <a:prstGeom prst="bentConnector3">
              <a:avLst>
                <a:gd name="adj1" fmla="val 1388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7" name="_s16392"/>
            <p:cNvSpPr/>
            <p:nvPr/>
          </p:nvSpPr>
          <p:spPr>
            <a:xfrm>
              <a:off x="3268800" y="380880"/>
              <a:ext cx="2605680" cy="173664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Tahoma"/>
                </a:rPr>
                <a:t>Недостатки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16393"/>
            <p:cNvSpPr/>
            <p:nvPr/>
          </p:nvSpPr>
          <p:spPr>
            <a:xfrm>
              <a:off x="228600" y="2986200"/>
              <a:ext cx="2605680" cy="17366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ahoma"/>
                </a:rPr>
                <a:t>Рост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900" spc="-1" strike="noStrike">
                  <a:solidFill>
                    <a:srgbClr val="ffffff"/>
                  </a:solidFill>
                  <a:latin typeface="Tahoma"/>
                </a:rPr>
                <a:t>аварийного резерва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_s16394"/>
            <p:cNvSpPr/>
            <p:nvPr/>
          </p:nvSpPr>
          <p:spPr>
            <a:xfrm>
              <a:off x="3268800" y="2986200"/>
              <a:ext cx="2605680" cy="17366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ahoma"/>
                </a:rPr>
                <a:t>увеличение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ahoma"/>
                </a:rPr>
                <a:t>концентрации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ahoma"/>
                </a:rPr>
                <a:t>ведет к росту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ahoma"/>
                </a:rPr>
                <a:t>кап. вложений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ahoma"/>
                </a:rPr>
                <a:t>в ЛЭП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16395"/>
            <p:cNvSpPr/>
            <p:nvPr/>
          </p:nvSpPr>
          <p:spPr>
            <a:xfrm>
              <a:off x="6309000" y="2986200"/>
              <a:ext cx="2605680" cy="1736640"/>
            </a:xfrm>
            <a:prstGeom prst="roundRect">
              <a:avLst>
                <a:gd name="adj" fmla="val 16667"/>
              </a:avLst>
            </a:prstGeom>
            <a:solidFill>
              <a:srgbClr val="99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ahoma"/>
                </a:rPr>
                <a:t>Увеличени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900" spc="-1" strike="noStrike">
                  <a:solidFill>
                    <a:srgbClr val="ffffff"/>
                  </a:solidFill>
                  <a:latin typeface="Tahoma"/>
                </a:rPr>
                <a:t>на транспорт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900" spc="-1" strike="noStrike">
                  <a:solidFill>
                    <a:srgbClr val="ffffff"/>
                  </a:solidFill>
                  <a:latin typeface="Tahoma"/>
                </a:rPr>
                <a:t>и хранени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900" spc="-1" strike="noStrike">
                  <a:solidFill>
                    <a:srgbClr val="ffffff"/>
                  </a:solidFill>
                  <a:latin typeface="Tahoma"/>
                </a:rPr>
                <a:t>топлива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80880" y="609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нцентрация на ТЭЦ менее экономичная, чем на КЭС, т.к. увеличение мощности ТЭЦ ведет к росту кап. вложений в тепловые се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нцентрация мощности на ГЭС нецелесообразна, т.к. ведет к значительному затоплению земе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Централизация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— электроснабжение от энергосистемы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кономическая эффективность централизации энергосистемы вытекает из эффективности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нцентр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57200" y="2362320"/>
            <a:ext cx="8228520" cy="4113360"/>
            <a:chOff x="457200" y="2362320"/>
            <a:chExt cx="8228520" cy="4113360"/>
          </a:xfrm>
        </p:grpSpPr>
        <p:cxnSp>
          <p:nvCxnSpPr>
            <p:cNvPr id="105" name="_s19484"/>
            <p:cNvCxnSpPr>
              <a:stCxn id="106" idx="0"/>
              <a:endCxn id="107" idx="2"/>
            </p:cNvCxnSpPr>
            <p:nvPr/>
          </p:nvCxnSpPr>
          <p:spPr>
            <a:xfrm flipV="1" rot="16200000">
              <a:off x="5267520" y="3310560"/>
              <a:ext cx="823320" cy="2215440"/>
            </a:xfrm>
            <a:prstGeom prst="bentConnector3">
              <a:avLst>
                <a:gd name="adj1" fmla="val 1386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8" name="_s19483"/>
            <p:cNvCxnSpPr>
              <a:stCxn id="109" idx="0"/>
              <a:endCxn id="107" idx="2"/>
            </p:cNvCxnSpPr>
            <p:nvPr/>
          </p:nvCxnSpPr>
          <p:spPr>
            <a:xfrm flipH="1" flipV="1" rot="5400000">
              <a:off x="3051720" y="3310560"/>
              <a:ext cx="823320" cy="2216160"/>
            </a:xfrm>
            <a:prstGeom prst="bentConnector3">
              <a:avLst>
                <a:gd name="adj1" fmla="val 1386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7" name="_s19479"/>
            <p:cNvSpPr/>
            <p:nvPr/>
          </p:nvSpPr>
          <p:spPr>
            <a:xfrm>
              <a:off x="2673000" y="2362320"/>
              <a:ext cx="3797640" cy="1645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Источники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децентрализованного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электроснабж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19480"/>
            <p:cNvSpPr/>
            <p:nvPr/>
          </p:nvSpPr>
          <p:spPr>
            <a:xfrm>
              <a:off x="457200" y="4830480"/>
              <a:ext cx="3797640" cy="1645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Tahoma"/>
                </a:rPr>
                <a:t>ТЭЦ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19481"/>
            <p:cNvSpPr/>
            <p:nvPr/>
          </p:nvSpPr>
          <p:spPr>
            <a:xfrm>
              <a:off x="4888080" y="4830480"/>
              <a:ext cx="3797640" cy="1645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Tahoma"/>
                </a:rPr>
                <a:t>Районная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Tahoma"/>
                </a:rPr>
                <a:t>котельная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овышение экономической эффективности централизации происходит за сче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установки турбогенераторов в действующих котельны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установки ГТУ с утилизацией горячих газов в котлах-утилизатора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установки ПГУ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установки моторгенераторов, газомоторных станций, кот. работают в комбинированном режиме(выработка ЭЭ и ТЭ) (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Такие небольшие энергоустановки называются установками распределенной генерации энергии (УРГЭ). Вода, охлаждающая двигатель, нагревается и подается в систему теплоснабжения. Дополнительно она подогревается также выхлопными горячими газами и отпускается ТЭ и ЭЭ. Общий КПД получается высоким.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омбинирование — это объединение в одном промышленном предприятии нескольких технологически связанных специализированных производств разных отрас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омбинирование в промышленности способствует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)экономии затрат на орудия труда, экономии предметов труда и рабочей силы в основных производствах;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) экономии денежных затрат, связанных с организацией производства;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3) развитию процессов концентрации и специализации производства;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4) расширению сырьевой базы промышленности;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5) равномерному размещению промышленных предприятий по территории страны;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6) комплексному развитию хозяйства экономических районов;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7) экономии транспортных расходов, связанных с перевозкой сырья, полуфабрикатов и готовой продукци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228600" y="228600"/>
            <a:ext cx="8686440" cy="4824720"/>
            <a:chOff x="228600" y="228600"/>
            <a:chExt cx="8686440" cy="4824720"/>
          </a:xfrm>
        </p:grpSpPr>
        <p:cxnSp>
          <p:nvCxnSpPr>
            <p:cNvPr id="115" name="_s25616"/>
            <p:cNvCxnSpPr>
              <a:stCxn id="116" idx="0"/>
              <a:endCxn id="117" idx="2"/>
            </p:cNvCxnSpPr>
            <p:nvPr/>
          </p:nvCxnSpPr>
          <p:spPr>
            <a:xfrm flipV="1" rot="16200000">
              <a:off x="5778000" y="951480"/>
              <a:ext cx="965520" cy="3378600"/>
            </a:xfrm>
            <a:prstGeom prst="bentConnector3">
              <a:avLst>
                <a:gd name="adj1" fmla="val 1387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8" name="_s25614"/>
            <p:cNvCxnSpPr>
              <a:stCxn id="119" idx="0"/>
              <a:endCxn id="117" idx="2"/>
            </p:cNvCxnSpPr>
            <p:nvPr/>
          </p:nvCxnSpPr>
          <p:spPr>
            <a:xfrm flipV="1" rot="16200000">
              <a:off x="4651920" y="2077560"/>
              <a:ext cx="965520" cy="1126440"/>
            </a:xfrm>
            <a:prstGeom prst="bentConnector3">
              <a:avLst>
                <a:gd name="adj1" fmla="val 1387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0" name="_s25613"/>
            <p:cNvCxnSpPr>
              <a:stCxn id="121" idx="0"/>
              <a:endCxn id="117" idx="2"/>
            </p:cNvCxnSpPr>
            <p:nvPr/>
          </p:nvCxnSpPr>
          <p:spPr>
            <a:xfrm flipH="1" flipV="1" rot="5400000">
              <a:off x="3525840" y="2077560"/>
              <a:ext cx="965520" cy="1126800"/>
            </a:xfrm>
            <a:prstGeom prst="bentConnector3">
              <a:avLst>
                <a:gd name="adj1" fmla="val 1387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2" name="_s25612"/>
            <p:cNvCxnSpPr>
              <a:stCxn id="123" idx="0"/>
              <a:endCxn id="117" idx="2"/>
            </p:cNvCxnSpPr>
            <p:nvPr/>
          </p:nvCxnSpPr>
          <p:spPr>
            <a:xfrm flipH="1" flipV="1" rot="5400000">
              <a:off x="2400120" y="951480"/>
              <a:ext cx="965520" cy="3378960"/>
            </a:xfrm>
            <a:prstGeom prst="bentConnector3">
              <a:avLst>
                <a:gd name="adj1" fmla="val 1387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7" name="_s25608"/>
            <p:cNvSpPr/>
            <p:nvPr/>
          </p:nvSpPr>
          <p:spPr>
            <a:xfrm>
              <a:off x="3606840" y="228600"/>
              <a:ext cx="1930320" cy="192996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Основные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показателями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эффективности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комбинирования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25609"/>
            <p:cNvSpPr/>
            <p:nvPr/>
          </p:nvSpPr>
          <p:spPr>
            <a:xfrm>
              <a:off x="228600" y="3123360"/>
              <a:ext cx="1930320" cy="19299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Tahoma"/>
                </a:rPr>
                <a:t>общие и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Tahoma"/>
                </a:rPr>
                <a:t>удельные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Tahoma"/>
                </a:rPr>
                <a:t>капитальные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700" spc="-1" strike="noStrike">
                  <a:solidFill>
                    <a:srgbClr val="ffffff"/>
                  </a:solidFill>
                  <a:latin typeface="Tahoma"/>
                </a:rPr>
                <a:t>затраты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_s25610"/>
            <p:cNvSpPr/>
            <p:nvPr/>
          </p:nvSpPr>
          <p:spPr>
            <a:xfrm>
              <a:off x="2480400" y="3123360"/>
              <a:ext cx="1930320" cy="19299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Производитель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ност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труда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25611"/>
            <p:cNvSpPr/>
            <p:nvPr/>
          </p:nvSpPr>
          <p:spPr>
            <a:xfrm>
              <a:off x="4732560" y="3123360"/>
              <a:ext cx="1930320" cy="19299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ahoma"/>
                </a:rPr>
                <a:t>Себестоимость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900" spc="-1" strike="noStrike">
                  <a:solidFill>
                    <a:srgbClr val="ffffff"/>
                  </a:solidFill>
                  <a:latin typeface="Tahoma"/>
                </a:rPr>
                <a:t>продукции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25615"/>
            <p:cNvSpPr/>
            <p:nvPr/>
          </p:nvSpPr>
          <p:spPr>
            <a:xfrm>
              <a:off x="6984720" y="3123360"/>
              <a:ext cx="1930320" cy="192996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Tahoma"/>
                </a:rPr>
                <a:t>Экономия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700" spc="-1" strike="noStrike">
                  <a:solidFill>
                    <a:srgbClr val="ffffff"/>
                  </a:solidFill>
                  <a:latin typeface="Tahoma"/>
                </a:rPr>
                <a:t>сырья,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Tahoma"/>
                </a:rPr>
                <a:t>материалов и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Tahoma"/>
                </a:rPr>
                <a:t>энергии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йжан</cp:lastModifiedBy>
  <dcterms:modified xsi:type="dcterms:W3CDTF">2011-06-01T08:23:5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