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6CA-C4C1-4849-9AEE-EBA822EC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096-76D1-47F9-B3DD-F74D6643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4EE-CB46-4BDA-8687-FA183F30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67E-DA98-4CFB-BD9E-6AA3CB98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E25C-1BC7-40B7-8B56-62AFC463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7BEF-BC90-42BB-ACF7-A5849E45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AB2A-0F00-4507-8F64-07C60455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B043-187C-49DF-AC55-D291761D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639C-CF88-4BD5-94B4-B0EDA3BF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ED7A-7572-4CE0-837A-1372CF4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A981-BD33-4327-BBC2-DDA876FD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8D3-3999-43EF-A308-EB14A101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84D4-0337-44B6-AC5C-09ECD980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6B72-9804-487B-8325-FA207FBC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67E2-29EA-4AE8-88B6-CC327A3D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F242-9DC6-4AE7-B590-68283AE9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21B1-D482-4FAE-99CA-734D4EAF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50F0-17FE-4F6B-BF43-B6F22242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B793-6AED-433C-8D7D-13047E83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E151-3488-40A3-A697-25D85F91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19CA-15EB-4483-B332-8D91EE68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0BD4-1E5F-4877-BDD5-F1F935AA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190-79E7-4828-AE42-3AF3ACD9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ED14-0030-401D-ABB1-7E2FB7AC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C63F-9E9C-4413-AAC3-262027AA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DD5C-2068-4297-B86F-29C0676B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6474-E0F6-4A0D-AE2A-90626666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56E2-D994-4FEC-A357-D840B29C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BAE0-BE34-4967-BCC2-A2EA818A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D485-8DFE-4943-B1BB-77D19D8C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AD3C-42B9-4F34-BF97-33AF016F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8A6C-E62E-4C69-A7FE-073458DF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C8C0-71BD-4431-875D-124BF04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E64-50A0-4EF1-AF94-D33D0970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7016F-1198-4126-B029-77040F52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907D-D9A7-45EA-A8AB-8C3BAF6C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EEDF-029A-40E4-B879-B320238B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5574-8BD8-4630-9529-E3504BAD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7B0C-A89B-4912-A8A6-60AB1FE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28C2-ECBD-4662-990D-EF39AF5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837C2-6CFF-4541-BBE5-1E08DBF0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3BE13-930B-4437-B7B4-63781333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9FD74-C72B-4532-BF2E-6CD34515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5899-4258-481B-8BF1-3B7471BB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BB7-C6DE-428F-A126-32F3A6BA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FBAB7-47EF-4E1A-A3B4-748E86C1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89AA-EA0B-4A62-828F-ED9F6EF8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31402-9EF6-46AB-A01F-186DCACF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09309-AD0E-4856-912F-E5E8EC2D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769C-3F03-4877-A1A6-049C91E2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FE10D-384F-4B6B-ABA2-A98E4EC1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98AE-CF20-476F-96E3-DFE297E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201E4-C6B6-4B7D-A776-97CA39B8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36EE7-CD23-4E34-99C6-6A998CFC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F799-CEC6-422E-93A3-A1EDD06A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417-5196-4DA5-A9CE-FEE5D0A2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9D5D-9E4F-43E6-B7F0-AE74FC47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AF0CC-4133-4C1F-91E2-BB03C8D7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A86C4-279A-4D80-A8DA-28ABB3A4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D053A-C79B-46D4-AFDC-4A487117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BD1E6-014A-42A4-BCBA-73F6BF84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FC44-6A68-4729-A4DD-E2AB20C9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F2B1A-4B9D-40F7-98CC-DA1D89FE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87B4-2BDD-4894-ADFA-992905C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BAFA7-5F42-45DB-BCCD-BA9DF195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B514-83F8-408E-9849-CDED866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99F-8076-4570-B7F0-E4D05E67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2BDD8-F222-4D7C-AF1A-56C74CBE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B0AB-592C-47BF-9674-DEFB5329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C894-BEEB-413D-9E73-33C584FA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5FA22-9B53-41F3-BAC5-A56C57E4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404F-3950-4445-AD21-FAFA669D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642F4-0737-4C1D-B2D0-9E2313B8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7B568-3684-406C-9430-2A414133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C6EB0-D501-4E49-988F-3AE7867F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51BFF-9372-4F18-8501-086E7AD9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938A-C265-4F15-ACFD-04A26954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42A-B3EE-4036-A6B9-74D2F14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27984-B372-4F6D-90D5-077C057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EC79D-A2DF-4AC6-A741-8DF7CE42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0D51C-7453-4151-BC1B-89BCA7AE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0F50A-C63B-4FEB-BE2F-B2B17EA2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53C99-05B3-4B85-94B4-BE19D1B7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5F9-E38C-4186-BE66-77549AD0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E32E-AD08-4385-B03F-EA18031B385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112E-451A-4084-830C-B9147261ADD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DAC4-3E33-4E7B-8A24-C02DC034767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1DC8-16BD-43AF-AF6B-142F0382392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575A-B6ED-4FD8-9D3F-561B4F60F12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DAA8-06EE-48D7-B475-C2AEA3DCA61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8136-5133-46A1-BE41-A7FE0012CB9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"/>
          <p:cNvSpPr/>
          <p:nvPr/>
        </p:nvSpPr>
        <p:spPr>
          <a:xfrm>
            <a:off x="500040" y="500040"/>
            <a:ext cx="7858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Arial"/>
              </a:rPr>
              <a:t>ТЕМА 7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Corbel"/>
              </a:rPr>
              <a:t>ЭКОНОМИКА  ПЛАНИРОВАНИЯ </a:t>
            </a:r>
            <a:r>
              <a:rPr b="0" lang="kk-KZ" sz="4000" spc="-1" strike="noStrike">
                <a:solidFill>
                  <a:srgbClr val="ffff00"/>
                </a:solidFill>
                <a:latin typeface="Arial"/>
              </a:rPr>
              <a:t>РАБОТЫ </a:t>
            </a:r>
            <a:r>
              <a:rPr b="0" lang="kk-KZ" sz="4000" spc="-1" strike="noStrike">
                <a:solidFill>
                  <a:srgbClr val="ffff00"/>
                </a:solidFill>
                <a:latin typeface="Corbel"/>
              </a:rPr>
              <a:t>ЭНЕРГОХОЗЯЙСТВА  ПРЕДПРИЯТИЙ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357120" y="357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bel"/>
              </a:rPr>
              <a:t>Энергетические балансы классифицируются по трем основным признакам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357120" y="1500120"/>
            <a:ext cx="828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) по срокам составления и выполняемым функциям: плановые и отчетные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) по видам энергоносителей (газ, мазут, электроэнергия, вода и т.д.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) по степени агрегирования: частные (по каждому отдельному виду энергоносителей) и общие (по сумме всех видов энергоносителей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) по характеру целевого использования энергии (силового, технологического, производственно-бытового назначения)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285840" y="285840"/>
            <a:ext cx="8358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rbel"/>
              </a:rPr>
              <a:t>Плановые энергобалансы предназначены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для обоснования потребности предприятия в энергии и топливе (расходная часть) и определении наиболее рациональных и экономичных источников покрытия этой потребности (приходная часть). Основой для составления плановых энергобалансов служат удельные нормы расхода энергии и топлива, а также плановые задания по выпуску продукции основного производства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rbel"/>
              </a:rPr>
              <a:t>Нормы энергопотребления бывают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суммарными (на единицу продукции или отдельный вид работ) и дифференцированными (на отдельную деталь, операцию, технологический процесс)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Расчет удельных норм расхода энергоносителей может осуществляться двумя основными методами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Прямоугольник 2"/>
          <p:cNvSpPr/>
          <p:nvPr/>
        </p:nvSpPr>
        <p:spPr>
          <a:xfrm>
            <a:off x="418680" y="478620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опытно-статистическим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Прямоугольник 3"/>
          <p:cNvSpPr/>
          <p:nvPr/>
        </p:nvSpPr>
        <p:spPr>
          <a:xfrm>
            <a:off x="5044320" y="47862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расчетно-аналитическим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93" name="Прямая со стрелкой 5"/>
          <p:cNvCxnSpPr>
            <a:endCxn id="391" idx="3"/>
          </p:cNvCxnSpPr>
          <p:nvPr/>
        </p:nvCxnSpPr>
        <p:spPr>
          <a:xfrm flipH="1">
            <a:off x="3153960" y="4071960"/>
            <a:ext cx="1347120" cy="8992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394" name="Прямая со стрелкой 9"/>
          <p:cNvCxnSpPr>
            <a:endCxn id="392" idx="1"/>
          </p:cNvCxnSpPr>
          <p:nvPr/>
        </p:nvCxnSpPr>
        <p:spPr>
          <a:xfrm>
            <a:off x="4500720" y="4071960"/>
            <a:ext cx="714960" cy="8992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285840" y="214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Для облегчения задачи анализа работы энергохозяйства предприятия, его энергобалансы должны составляться в двух формах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214200" y="2357280"/>
            <a:ext cx="371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1) рабочая форма балансов — включает статьи баланса, которые группируются по участкам производства и по направлению использования энергии и топлива (без разделения элементов расхода на полезную составляющую и потери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4071960" y="22860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2) синтезированная форма — служит для анализа и оценки уровня энергоиспользования. Для этого весь расход энергии по предприятию разделяется на полезную составляющую и потери, после чего осуществляется расчленение полезной составляющей на элементы по направлениям использования энергии, а потери — по их месту и виду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98" name="Прямая со стрелкой 5"/>
          <p:cNvCxnSpPr/>
          <p:nvPr/>
        </p:nvCxnSpPr>
        <p:spPr>
          <a:xfrm flipH="1">
            <a:off x="1928520" y="927720"/>
            <a:ext cx="1929600" cy="121500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399" name="Прямая со стрелкой 8"/>
          <p:cNvCxnSpPr/>
          <p:nvPr/>
        </p:nvCxnSpPr>
        <p:spPr>
          <a:xfrm>
            <a:off x="3857760" y="928800"/>
            <a:ext cx="2071800" cy="128664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500040" y="500040"/>
            <a:ext cx="821520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Разработка энергетического баланса осуществляется в следующей последовательност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rbel"/>
              </a:rPr>
              <a:t>Этап 1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. Планируется расходная часть баланса (план потребления энергии и энергетических нагрузок предприятия)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1. Планируется потребность основного производства в энергии и топливе, а также расход энергии и топлива на непроизводственные нужды (отопление, освещение, вентиляцию, хозяйственно-бытовые нужды) и определяется количество возможных вторичных энергоресур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2. Рассчитываются потери энергии в сетях и преобразовательных установках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3. Определяется суммарное потребление предприятием топлива и энергии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rbel"/>
              </a:rPr>
              <a:t>Этап 2.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Планируется приходная часть баланса (план покрытия потребности в энергии и энергетических нагрузок предприятия)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1. Рассчитываются рабочие мощности генерирующих энергоустановок и составляются балансы мощности по предприятию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571680" y="4357800"/>
            <a:ext cx="8358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2. Плановые графики нагрузок распределяются между источниками энергоснабжения, в результате чего определяется участие каждого из источников в покрытии энергопотребления (использовании вторичных энергоресурсов, получении энергии извне, выработке энергии на собственных установках). Определяется отпуск энергии на сторону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3. Проектируются режимы работы агрегатов и разрабатываются энергобалансы генерирующих устройств. Определяются удельные нормы расхода энергии и топлива на собственные нужды и КПД генерирующих установок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4. Составляется общий баланс энергоносителей по предприятию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1"/>
          <p:cNvSpPr/>
          <p:nvPr/>
        </p:nvSpPr>
        <p:spPr>
          <a:xfrm>
            <a:off x="500040" y="8571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Методы планирования выпуска продукции предприят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214800" y="2357280"/>
            <a:ext cx="2547720" cy="304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500040" y="42876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rbel"/>
              </a:rPr>
              <a:t>ПЛАНИРОВАНИЕ ВЫПУСКА ПРОДУКЦИИ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предусматривает принятие решения о том, как эксплуатировать операционную систему с учетом изменений совокупного спрос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Прямоугольник 2"/>
          <p:cNvSpPr/>
          <p:nvPr/>
        </p:nvSpPr>
        <p:spPr>
          <a:xfrm>
            <a:off x="500040" y="2643120"/>
            <a:ext cx="807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rbel"/>
              </a:rPr>
              <a:t>Агрегированный план выпуска продукции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обычно разрабатывается на конкретные периоды (например, помесячно) в течение всего планового периода продолжительностью не менее год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642960" y="64296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Для каждого периода, охватываемого планом, необходимо определить две переменные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74" name="Прямая со стрелкой 3"/>
          <p:cNvCxnSpPr/>
          <p:nvPr/>
        </p:nvCxnSpPr>
        <p:spPr>
          <a:xfrm flipH="1">
            <a:off x="1785240" y="1285920"/>
            <a:ext cx="2429640" cy="16437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375" name="Прямая со стрелкой 6"/>
          <p:cNvCxnSpPr/>
          <p:nvPr/>
        </p:nvCxnSpPr>
        <p:spPr>
          <a:xfrm>
            <a:off x="4214880" y="1285560"/>
            <a:ext cx="2643840" cy="150084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6" name="Прямоугольник 8"/>
          <p:cNvSpPr/>
          <p:nvPr/>
        </p:nvSpPr>
        <p:spPr>
          <a:xfrm>
            <a:off x="-68760" y="321480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Объем производства в данный период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Прямоугольник 9"/>
          <p:cNvSpPr/>
          <p:nvPr/>
        </p:nvSpPr>
        <p:spPr>
          <a:xfrm>
            <a:off x="4429080" y="3143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Количество рабочих, используемых в данный период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214200" y="285840"/>
            <a:ext cx="835848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rbel"/>
              </a:rPr>
              <a:t>План выпуска продукции может повлиять на размер целого ряда производственных издержек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1.         Издержки хранения готовой продукции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2.         Издержки ведения портфеля отложенных заказов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3.        Издержки, связанные с внеурочной работой или простоем рабочих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4.        Издержки, связанные с передачей части работ субподрядчикам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5.        Издержки, связанные с наймом и увольнением рабочих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428760" y="500040"/>
            <a:ext cx="642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rbel"/>
              </a:rPr>
              <a:t>Цель агрегированного планирования производства заключается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в обеспечении удовлетворения совокупного спроса на продукцию при минимизации общей суммы вышеназванных издержек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1055880" y="357120"/>
            <a:ext cx="67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Три основные стратеги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428760" y="128592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ожно выделить три основные, или «чистые», стратегии планирования совокупного объема производства . Эти стратегии называют «чистыми», поскольку каждая кз них предусматривает свой совершенно отличный подход к решению проблем, связанных с изменением объема спрос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Прямоугольник 3"/>
          <p:cNvSpPr/>
          <p:nvPr/>
        </p:nvSpPr>
        <p:spPr>
          <a:xfrm>
            <a:off x="571680" y="27147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«постоянный объем производства при постоянной численности рабочей силы»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Прямоугольник 4"/>
          <p:cNvSpPr/>
          <p:nvPr/>
        </p:nvSpPr>
        <p:spPr>
          <a:xfrm>
            <a:off x="571680" y="328608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«переменный объем выпуска при постоянной численности рабочей силы»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Прямоугольник 5"/>
          <p:cNvSpPr/>
          <p:nvPr/>
        </p:nvSpPr>
        <p:spPr>
          <a:xfrm>
            <a:off x="571680" y="385776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«переменный объем выпуска при переменной численности рабочей силы»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571680" y="857160"/>
            <a:ext cx="75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orbel"/>
              </a:rPr>
              <a:t>Методы планирования энергопотребления предприятия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588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"/>
          <p:cNvSpPr/>
          <p:nvPr/>
        </p:nvSpPr>
        <p:spPr>
          <a:xfrm>
            <a:off x="428760" y="428760"/>
            <a:ext cx="8072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bel"/>
              </a:rPr>
              <a:t>Основным методом планирования энергоснабжения предприятия и анализа результатов использования топлива и энергии является разработка энергетических балансов. С помощью этих, резюмирующих деятельность всего энергохозяйства предприятия, документов устанавливаются объемы потребления, получения и производства различных видов энергоносителей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8:25:21Z</dcterms:created>
  <dc:creator>Admin</dc:creator>
  <dc:description/>
  <dc:language>en-US</dc:language>
  <cp:lastModifiedBy>Айжан</cp:lastModifiedBy>
  <dcterms:modified xsi:type="dcterms:W3CDTF">2011-06-01T08:03:01Z</dcterms:modified>
  <cp:revision>6</cp:revision>
  <dc:subject/>
  <dc:title>Слайд 1</dc:title>
</cp:coreProperties>
</file>