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96D-65BB-4D46-A0EE-6681CD71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532-DB95-4BA9-A6C2-B8DFE2C9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A7E-3BDE-4A9E-BE8A-CA0367A7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B7A-4590-4A78-896F-62CB83B2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47A0-2786-40A4-A277-D2457CA3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C1F-0CE1-41A1-8EFF-0843D540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EB53-5FC9-4F72-9A68-EF1301B0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B25-AA28-401D-B53A-A1087BB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8283-4A0B-49B4-A022-30817FF8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C7D6-FCA6-4C99-A995-57EDBA5D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6C01-3C52-405F-8778-2B7BCBE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6DA-6EBE-4A8A-963E-DEF1F42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5BD6-10AD-461D-ADEF-26FD9DB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4F30-A5BF-4687-B603-DEE500BB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8F7E-CEB0-462D-A4B7-C61A8E4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C24A-D68A-4AA8-8D2F-7A0F8F82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8E1-3D27-48E8-9C00-26EB703D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A7D-9DA6-45EB-8644-EB977AE7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52E-86F3-4EEF-A496-77F568A7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64B-EBEB-470A-AD94-29B088B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F64-A3E6-4269-8192-C2345D52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CF8-97C8-4320-8040-8470771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527-D1AB-4A27-B0AD-F30F693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34B-5CD5-44EC-AC53-121B580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FF49-2E71-47EB-B0E6-2F2A011DB76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4600-F00A-4A0B-8D8F-FE6BE4B72FD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712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440" y="836640"/>
            <a:ext cx="79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Тема 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Трудовые ресурсы предприятия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060640"/>
            <a:ext cx="67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оизводительность труда и ее особенности в электроэнергети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ормы оплаты труд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2920" y="134208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Основным показателем эффективности использования трудовых ресурсов является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производительность труд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Производительность труда отражает степень плодотворности (эффективности) конкретного труда работников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1027800"/>
            <a:ext cx="72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уществуют следующие методы измерения производительности труда в зависимости от способов учета объемов производства: 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натуральный (условно натуральный);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стоимостной;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трудовой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9640" y="140976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и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натуральном метод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объем продукции измеряется в натуральных измерителях (тонны, штуки, м2, м3, погонные метры). Производительность труда (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выработк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при натуральном методе измеряется отношением объем продукции в натуре за определенный период к среднему числу работников, участвовавших в производстве этой продукци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39888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Условно-натуральный мет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озволяет расширить границы применения натурального метода. Однородная, но разнокачественная продукция приводится по какому-либо признаку к условному эталону. Например, серную кислоту разной концентрации приводят к моногидрату (100%), минеральные удобрения - к 100% содержанию питательных веществ и т.д. Но этот способ не разрешает всех недостатков натурального метода измерения производительности труд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14097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Стоимостной мето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является наиболее универсальным для измерения производительности труда. Объем производства оценивается в стоимостном выражении (валовая, товарная, реализованная). При стоимостном методе производительность труда определяется отношением объема производства в стоимостном выражении за определенный период к среднему числу работников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0000" y="90900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олее объективным и точным измерением производительности труда является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трудовой метод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основанный на оценке трудоемкости продукции (чел-часы, нормо-часы). На нее не влияют изменения ассортимента продукции, рентабельности.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Трудоемкость продукц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определяется отношением фонда затраченного рабочего времени (в чел-часах) к количеству выработанной продукции в натуральном измерени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818720" y="384480"/>
            <a:ext cx="4681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Формы и системы оплаты тру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49580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Заработная плата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—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это выраженная в денежной форме часть национального дохода, которая распределяется по количеству и качеству труда, затраченного каждым работником и поступает в его личное потреблени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84240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Номинальная заработная плата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-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это начисленная и полученная работником заработная плата за его труд за определенный период.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Реальная заработная плата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-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это количество товаров и услуг, которые можно приобрести за номинальную заработную плату; реальная заработная плата - это "покупательная способность" номинальной заработной плат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00000" y="1118880"/>
            <a:ext cx="77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и оплате труда на предприятии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необходимо учитывать следующие основные принципы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инцип справедливости, то есть равной оплаты за равный труд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ложность выполняемой работы и уровень квалификации труда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редные условия труда и тяжелого физического труда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тимулирование за качество труда и добросовестное отношение к труду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териальное наказание за допущенный брак и безответственное отношение к своим обязанностям, приведших к каким-либо негативным последствиям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опережение темпов роста производительности труда по сравнению с темпами роста средней заработной платы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ндексацию заработной платы в соответствии с уровнем инфляции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именение прогрессивных форм и систем оплаты труда, которые в наибольшей степени отвечают потребностям предприят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9640" y="60408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Различают две основные формы оплаты труда: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повременную и сдельную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повременной форм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оплаты труда заработная плата работникам начисляется по установленной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тарифной ставк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или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оклад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за фактически отработанное на производстве время. Повременная оплата труда стимулирует повышение квалификации работающих и укрепление дисциплины труд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9640" y="834480"/>
            <a:ext cx="8353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Основной характеристикой трудовых ресурсов, которые используются на предприятии, являются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кадр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Кадры предприятия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едставляют собой совокупность работников различных профессионально-квалификационных групп, занятых на предприятии и входящих в его списочный состав. В списочный состав включаются все работники, принятые на работу, связанную как с основной, так и неосновной деятельностью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14328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Условия применения повременной формы оплаты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• работник не может оказывать влияния на увеличение выпуска продукции, который определяется производительностью машины, аппарата или агрегата;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• отсутствуют количественные показатели выработки, необходимые для установления сдельной расценки;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• при правильном применении норм труд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984240"/>
            <a:ext cx="860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Условия применения сдельной формы оплаты труда: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• наличие количественных показателей работы, которые непосредственно зависят от данного рабочего или их бригады;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• возможность у рабочих увеличить выработку или объем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выполненных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работ;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• необходимость на данном участке стимулировать рабочих к дальнейшему увеличению выработки продукции или объемов выполняемых работ;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• возможности точного учета объемов (количества) выполняемых работ;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• применении технически обоснованных норм труда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При использовании сдельной формы оплаты сохраняется опасность снижения качества выпускаемой продукции, нарушения режимов технологических процессов, ухудшения обслуживания оборудования и его преждевременного выхода из строя, нарушения требований техники безопасности, перерасхода материальных ресурс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26920" y="403560"/>
            <a:ext cx="763272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ледует различать понятия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«кадры», «персонал» и «трудовые ресурсы предприятия».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нятие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«трудовые ресурсы предприятия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характеризует его потенциальную рабочую силу,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«персонал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— весь личный состав работающих по найму постоянных и временных, квалифицированных и неквалифицированных работников. Под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кадрами предприятия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онимается основной (штатный, постоянный), как правило, квалифицированный состав работников предприятия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694080"/>
            <a:ext cx="727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зависимости от характера трудовой деятельности кадры предприятия подразделяются по 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профессиям, специальностям и уровням квалификации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0920" y="61992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фессия подразумевает особый вид трудовой деятельности, требующий определенных теоретических знаний и практических навыков. Специальность — это вид деятельности в пределах профессии, который имеет специфические особенности и требует от работников дополнительных специальных знаний и навыков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Работники каждой профессии и специальности различаются по уровню квалификации. Квалификация характеризует степень овладения работником тон или иной профессией, специальностью и отражается в квалификационных (тарифных) разрядах и категориях. Тарифные разряды и категории — это одновременно и показа гели, характеризующие степень сложности работ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76716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Другими качественными 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характеристиками трудовых ресурсов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являются: 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образование; возраст; квалификация; профессиональная компетентность; интеллектуальный потенциал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8360" y="1023120"/>
            <a:ext cx="828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Показатели движения трудовых ресурсов</a:t>
            </a: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Численность работнико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является важнейшим количественным показателем, характеризующим состояние и движение трудовых ресурсов предприятия. Численность измеряется такими показателями, как списочная, явочная и среднесписочная численность работников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9640" y="90288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Списочная численност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аботников предприятия — это показатель численности работников списочного состава на определенное число или дату.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Этот показатель учитывает численность всех работников предприятия, принятых на постоянную, сезонную и временную работу в соответствии с заключенными трудовыми договорами (контрактами).</a:t>
            </a: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Явочный состав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характеризует число работников списочного состава, явившихся на работу в данный день, включая находящихся в командировках. Это необходимая численность рабочих для выполнения производственного сменного задания по выпуску продукци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55640" y="607680"/>
            <a:ext cx="792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Среднесписочная численность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 —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численность работников в среднем за определенный период (месяц, квартал, с начала года, за год). Среднесписочная численность работников за месяц определяется путем суммирования численности работников списочного состава за каждый календарный день месяца, включая праздничные и выходные дни, и деления полученной суммы на число календарных дней месяца.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остояние кадров и персонала предприятия не является постоянной величиной, меняется в соответствии с изменениями условий хозяйствования. Изменение состава и структуры трудовых ресурсов предприятия характеризуется показателями движения трудовых ресурсов: коэффициента оборота по выбытию; коэффициента оборота по приему; коэффициента стабильности; коэффициента текучести кадро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1:02:53Z</dcterms:created>
  <dc:creator>Admin</dc:creator>
  <dc:description/>
  <dc:language>en-US</dc:language>
  <cp:lastModifiedBy>Айжан</cp:lastModifiedBy>
  <dcterms:modified xsi:type="dcterms:W3CDTF">2011-06-01T08:07:31Z</dcterms:modified>
  <cp:revision>4</cp:revision>
  <dc:subject/>
  <dc:title>Слайд 1</dc:title>
</cp:coreProperties>
</file>