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8A60-13DD-446F-A5A8-FFF1520EFD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C428-209B-4F07-86B1-97CFFC56EE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7D18-FCE9-45F9-A498-23BEA8BD15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D9C0-5C75-4EF7-998F-BBB8B342C1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FF34-E79C-4382-B6B2-6F96C80893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4C10-B928-43CE-B5F2-FAD6237210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8FDF-B603-4D48-9A2C-0937080783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D54B-32C7-4AB1-B341-DC41F1D93B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553C-EAC2-41FE-A90D-C0B6FDEEC0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551A-C248-4CE4-BE5B-5B88767AA7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55F2-8724-4F5D-9181-DF08199EC3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D831-5F8D-4CB7-A587-4F9EBA8635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BAB6-EF36-46F5-AC3C-60FDAD40F8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C6AA-B847-4944-96F5-1D0D5F3891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D640-29A1-475B-90B9-181A3F8358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B8E6-0C32-4754-8E54-2D60E57BF6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9C70-930A-4BA5-8ED0-8EBA374D40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3668-45ED-4114-9F68-40DBDD4A21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1263-04AB-4348-90F8-F3772D3B7C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B36C-5466-4301-9C01-BCD03CB409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2DAC-6561-4312-8254-98E8EA3AFF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18C4-8309-4466-8955-1E4E523588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1CFC-CC14-44AA-B01C-FDE28EB905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21EA-7066-47EC-B36E-3B782DC974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33A3-2EC3-4EA5-A9DF-68EBC1DE7A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5D1A-E255-40FA-95FC-78096C4DBE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64E7-400B-4FE5-A86F-37D147383B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AD1A-126E-4DDA-8B80-4FD1C020F1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D32-A6F9-42B9-8E73-0C9A4D9C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3EB-AFD8-4270-AE72-B135627D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7B4-4151-4BA8-90D5-56F25F3E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223-E7A9-446A-BC37-BD4A14A5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A1F-3F2E-4877-8FF5-8D8E6D8C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2F4-A97F-4C62-B472-11CB635A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EC1-161E-40C3-B07E-58338C99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D7C-55EB-4796-A002-66CA296C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9F6-DCEE-4F7A-894C-899D56CC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0CD-138A-4D89-B558-1C2787E3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57FF-B8F0-46B7-9709-2D637C2E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0DF-3972-49EF-9FB2-0B6353EB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A175-E463-4835-87E4-6CC7B8B2C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H:\Бизнес\Конференции\000080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Blaze\Desktop\Untitled-3.png"/>
          <p:cNvPicPr/>
          <p:nvPr/>
        </p:nvPicPr>
        <p:blipFill>
          <a:blip r:embed="rId2"/>
          <a:stretch/>
        </p:blipFill>
        <p:spPr>
          <a:xfrm>
            <a:off x="142920" y="142920"/>
            <a:ext cx="5292720" cy="1225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250920" y="189000"/>
            <a:ext cx="5149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ма 5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кономика организации эксплуатации и ремон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ергооборуд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2"/>
          <p:cNvSpPr/>
          <p:nvPr/>
        </p:nvSpPr>
        <p:spPr>
          <a:xfrm>
            <a:off x="785880" y="1285920"/>
            <a:ext cx="757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Классификация энергетических баланс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 назначению: перспективные (на 5 лет и более); плановые (текущие); отче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 степени охвата (по видам энергоресурсов): сводные (по предприятию, цехам и подразделениям); частные (по отдельным агрегатам, по виду обработ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 характеру целевого использования энергии: силового назначения; технологического назначения; производственно-хозяйственного назна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857160" y="857160"/>
            <a:ext cx="7572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Перспективные балансы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составляются на 5 лет и более и используются при проектировании и реконструкции предприятия (производства или энергохозяйства). Составляются на основе прогноза энергопотребления и возможностей покрытия потребности в энергоресурс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Плановые (текущие) балансы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составляются на год с разбивкой по кварталам. Эти балансы - основная форма планирования энергопотребления на предприят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Отчетные балансы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средство контроля потребления энергоресурсов и выполнения текущих плановых балан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28760" y="1071720"/>
            <a:ext cx="8286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ормирование расходной час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ссчитывается потребность во всех видах энергии и топлива по всем подразделениям предприятия и целевому назначе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пределяются оптимальные (допустимые) величины потерь энергии на предприятии. На этой основе составляются годовые графики нагрузки предприятия по различным видам ресур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ормирование приходной ча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пределяются объемы ресурсов энергии собственного производства и возможности получения энергетических ресурсов извн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водится проектирование режимов работы собственных энергетических установ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0" y="357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рядок формирования энергетических баланс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428760" y="1143000"/>
            <a:ext cx="8286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яются размеры покрытия потребности за счет собственного производства энергии, получения энергии и энергоресурсов со стороны, использования вторичных энергоресур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яется количество энергии для отпуска на сторо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 потребности предприятия в энергоресурсах базируется на использовании удельных и укрупненных норм расхода энергии и энергонос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0" y="357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рядок формирования энергетических баланс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428760" y="869040"/>
            <a:ext cx="8286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управления энергетикой промышленного предприятия необходима должная организация и статистического учета. Энергетические показатели производства содержатся в документах внутреннего учета и отчетности, а также включаются во внешнюю государственную отчетность согласно установленным форм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00040" y="1500120"/>
          <a:ext cx="8215200" cy="3942000"/>
        </p:xfrm>
        <a:graphic>
          <a:graphicData uri="http://schemas.openxmlformats.org/drawingml/2006/table">
            <a:tbl>
              <a:tblPr/>
              <a:tblGrid>
                <a:gridCol w="1785960"/>
                <a:gridCol w="6429240"/>
              </a:tblGrid>
              <a:tr h="1401840">
                <a:tc>
                  <a:txBody>
                    <a:bodyPr lIns="62640" rIns="62640" tIns="0" bIns="0" anchor="t">
                      <a:noAutofit/>
                    </a:bodyPr>
                    <a:p>
                      <a:pPr marL="34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 назнач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Коммерческий уче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- учет потребления энергии на энергетических вводах предприятия - для финансовых расчетов с энергоснабжающими организациям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Технический учет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внутренний учет расходов энергии заводскими потребителями - для внутрипроизводственных нуж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2640" rIns="62640" tIns="0" bIns="0" anchor="t">
                      <a:noAutofit/>
                    </a:bodyPr>
                    <a:p>
                      <a:pPr marL="34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 видам учитываемых энергоресур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т расходов топлива, электрической и тепловой энергии, холода, сжатого воздуха и газов, холодной воды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62640" rIns="62640" tIns="0" bIns="0" anchor="t">
                      <a:noAutofit/>
                    </a:bodyPr>
                    <a:p>
                      <a:pPr marL="34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 характеру учитываемых показ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Количественны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- учет весовых или объемных показателей расхода энергоресурс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Качественный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 - </a:t>
                      </a:r>
                      <a:r>
                        <a:rPr b="0" i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параметрический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фиксация качественных показателей, параметр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2640" rIns="62640" tIns="0" bIns="0" anchor="t">
                      <a:noAutofit/>
                    </a:bodyPr>
                    <a:p>
                      <a:pPr marL="34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 методам уч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борный, расчетный, приборно-расчетн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Прямоугольник 5"/>
          <p:cNvSpPr/>
          <p:nvPr/>
        </p:nvSpPr>
        <p:spPr>
          <a:xfrm>
            <a:off x="428760" y="357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ответственно решаемым задачам следует различать разновидности энергетического уч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85840" y="1857240"/>
          <a:ext cx="8643960" cy="3100680"/>
        </p:xfrm>
        <a:graphic>
          <a:graphicData uri="http://schemas.openxmlformats.org/drawingml/2006/table">
            <a:tbl>
              <a:tblPr/>
              <a:tblGrid>
                <a:gridCol w="1376280"/>
                <a:gridCol w="1663560"/>
                <a:gridCol w="1665360"/>
                <a:gridCol w="1968480"/>
                <a:gridCol w="1970280"/>
              </a:tblGrid>
              <a:tr h="281160">
                <a:tc rowSpan="3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д энер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став показ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ичеств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араметриче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ов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помогатель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ов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помогатель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820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лектроэнер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Количество электроэнергии, кВт·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Сила тока,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Активная мощность, кВ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Количество реактивной энергии, 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Реактивная мощность, 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Полная мощность, 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Напряжение, к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Частота, Г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Падение напряжения, к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Форма кривой тока, наличие «высоких гармон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Фиксация анормальных собы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500040" y="57168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казатели энергетического количественного и параметрического учета электроэнер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428760" y="1225440"/>
            <a:ext cx="8286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Удельные нормы расход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навливают предельно-допустимый плановый расход энергии, необходимый для изготовления единицы продукции или выполнения единицы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Укрупненные нормы расход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водные нормы расхода) устанавливают расход энергии на 1т заготовок, 1000 грн. продукции, комплект деталей на изделие и т. 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8" name="Picture 3" descr="H:\Бизнес\Конференции\000080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Blaze\Desktop\Untitled-3.png"/>
          <p:cNvPicPr/>
          <p:nvPr/>
        </p:nvPicPr>
        <p:blipFill>
          <a:blip r:embed="rId2"/>
          <a:stretch/>
        </p:blipFill>
        <p:spPr>
          <a:xfrm>
            <a:off x="142920" y="142920"/>
            <a:ext cx="5429160" cy="1285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285840" y="249120"/>
            <a:ext cx="514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собенности формирования затрат на производство промышленной продук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428760" y="1225440"/>
            <a:ext cx="8286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траты предприятия, формирующие себестоимость продукции, могут снижаться или, наоборот повышаться в зависимости от объема потребляемых трудовых и материальных ресурсов,  организационно-технического уровня производства и других факто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Чем экономичнее организация использует трудовые, материальные и финансовые ресурсы при изготовлении изделий, выполнении работ и оказании услуг, тем выше эффективность производственного процес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755640" y="1413000"/>
            <a:ext cx="757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екущий ремон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изводится для восстановления работоспособности техники и состоит в замене и (или) восстановлении отдельных частей этой техн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редний ремон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назначен для частичного восстановления ресурса техники, при этом производятся: полная разборка станка; дефектовка; контроль технического состояния; восстановление деталей; сборка и регулировка; испыт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капитальный ремон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едназначен для полного восстановления ресурса техники с заменой (восстановлением) его частей. Операции аналогичны среднему ремон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857160" y="57168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монт основных производственных фондов подразделяется 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428760" y="1928880"/>
            <a:ext cx="828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ринятия управленческих решени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затраты явные и альтернативные, релевантные и нерелевантные, эффективные и неэффективн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рогнозир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затраты краткосрочного и долгосрочного период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ланир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затраты планируемые и непланируем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нормир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затраты в пределах установленных стандартов, норм и смет и по отклонениям от ни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затраты по местам и сферам их возникновения, функциям деятельности и центрам ответствен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428760" y="64296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деляют следующие направления и признаки классификации затрат в зависимости от процессов хозяйственной деятельности предприят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428760" y="1928880"/>
            <a:ext cx="8286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уче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затраты в разрезе экономических элементов и статей калькуляции, одноэлементные и комплексные, постоянные и переменные, основные и накладные, прямые и косвенные, текущие и единовременн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контро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затраты контролируемые и неконтролируем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регулирован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затраты регулируемые и нерегулируем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стимулирован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затраты обязательные и поощрительн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428760" y="64296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деляют следующие направления и признаки классификации затрат в зависимости от процессов хозяйственной деятельности предприят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28760" y="642960"/>
            <a:ext cx="828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Явные затраты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это предполагаемые затраты, которые должно нести предприятие при выполнении производственной и коммер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Постоянные затрат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величина которых не изменяется при изменении объема производства, например, общехозяйственные расх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Переменные затраты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величина которых изменяется вместе с изменением объема производства. К ним относят расход сырья и материалов, топлива и энергии на технологические цели, заработную плату производственных рабочих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95280" y="476280"/>
            <a:ext cx="8286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 результаты принимаемых решений существенное влияние может оказать деление затрат на эффективные и неэффектив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Эффективные затраты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это производительные затраты, в результате которых получают доходы от реализации тех видов продукции, на выпуск которых были произведены эти затраты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Неэффективные затраты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это затраты непроизводительного характера, в результате которых не будут получены доходы, так как не будет произведен продукт. Неэффективные затраты – это потери на производстве, к которым относятся потери от брака, простоев, недостачи и порчи товарно-материальных ценностей и др. Выделение неэффективных затрат позволяет не допустить проникновения потерь в планировании и нормиров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428760" y="121428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Классификация затрат по статьям калькуляци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озволяет определить назначение расходов и их роль, организовать контроль над ними, устанавливать по каким направлениям необходимо вести поиск путей снижения затрат. На основе этой группировки строится аналитический учет затрат на производство, составляется плановая и фактическая калькуляция себестоимости отдельных видов продук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коммерческих организациях данная группировка затрат является основн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324000" y="0"/>
            <a:ext cx="8286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В затраты предприятия вход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траты, непосредственно связанные с производством продукции (работ, услуг). К ним  относятся материальные затраты и затраты на оплату тру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сходы на подготовку и освоение производства, которые включают затраты: на освоение новых производств, цехов и агрегатов, подготовку и освоение выпуска продук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траты некапитального характера, связанные с совершенствованием технологии и организации производства, улучшением качества продукции, повышением ее надежности, которые осуществляются как правило в ходе производственного процес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траты на обслуживание процесса производства: обеспечение указанного процесса материальными ресурсами, проведение всех видов ремонта активной части основных средст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428760" y="428760"/>
            <a:ext cx="828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В затраты предприятия вход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траты на управление производством: расходы на содержание и материально-техническое обеспечение административного персонала, содержание и эксплуатацию технических средств управления, представительские расходы и др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мортизация основных средств и нематериальных активов: сумма амортизационных отчислений, определяемая на основании балансовой стоимости и установленных нор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сходы на продажу: упаковку, транспортировку, хранение, расходы на рекламу и др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чие затраты, не отнесенные к ранее перечисленным, в частности оплата сертификации продукции, организация сторожевой и пожарной охран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428760" y="428760"/>
            <a:ext cx="828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В затраты предприятия вход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производительные затраты, в частности: потери от брака, простоев, расходы на гарантийный ремонт, недостачи материальных ценностей при отсутствии виновных лиц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ля того, чтобы полнее выявить затраты предприятия, определить себестоимость отдельных видов продукции с учетом особенностей организации и технологии производства необходимо правильно определить объекты формирования и учета затр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785880" y="1714680"/>
            <a:ext cx="757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плановы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проводятся в соответствии с техническими требованиями по обслуживанию оборудования. Они в свою очередь подразделяются 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регламентируемы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проводятся вне зависимости от технического состояния основного сред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по техническому состояни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выполняются в зависимости от результатов контроля технического состояния основного сред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внеплановы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выполняются по потребности без предварительного объяв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00040" y="7142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зависимости от способа организации ремонты могут бы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785880" y="928800"/>
            <a:ext cx="757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чий персонал делится на две группы: эксплуатационный и ремонтный. Различают также явочный и списочный состав рабоч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писочный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оста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ает тех рабочих, которых необходимо иметь в штат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приятия для обслуживания электрохозя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Явочны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ывается состав рабочих, которых необходимо иметь для выполнения всех работ при заданном режиме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электротехнического персонала определяют в зависимости от ремонтосложности (количество ремонтных единиц) электрообору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1500120" y="2286000"/>
                <a:ext cx="1922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Ц</m:t>
                            </m:r>
                          </m:sub>
                        </m:sSub>
                      </m:num>
                      <m:den>
                        <m:r>
                          <m:t xml:space="preserve">а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ЦТ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4714920" y="2214720"/>
                <a:ext cx="21193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а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ЦК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Rectangle 4"/>
          <p:cNvSpPr/>
          <p:nvPr/>
        </p:nvSpPr>
        <p:spPr>
          <a:xfrm>
            <a:off x="500040" y="499320"/>
            <a:ext cx="807264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разработки программы ремонтных работ находят годовое количеств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кущих и капитальных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K </a:t>
            </a:r>
            <a:r>
              <a:rPr b="0" lang="kk-K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монтов каждого вида оборудвания по формула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500040" y="3610800"/>
            <a:ext cx="814392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количество однотипного оборудования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ТЦ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количество текущих ремонтов в ремонтном цикле; Т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ТЦ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Т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Ц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продолжительность ремонтного цикла; а – коэффициент, учитывающий число смен работы обору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Object 1"/>
              <p:cNvSpPr txBox="1"/>
              <p:nvPr/>
            </p:nvSpPr>
            <p:spPr>
              <a:xfrm>
                <a:off x="1571760" y="2071800"/>
                <a:ext cx="61992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,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час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" name="Rectangle 7"/>
          <p:cNvSpPr/>
          <p:nvPr/>
        </p:nvSpPr>
        <p:spPr>
          <a:xfrm>
            <a:off x="857160" y="3475440"/>
            <a:ext cx="771552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де 1,2 и 15 – нормы времени в часах на одну ремонтную единицу соответственно при производстве текущего, капитального ремонта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количество типов оборудования; Р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ремонтосложность единицы обору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428760" y="85716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довое время ремонтов электрооборудования определяется по формул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Picture 3" descr="H:\Бизнес\Конференции\000080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Blaze\Desktop\Untitled-3.png"/>
          <p:cNvPicPr/>
          <p:nvPr/>
        </p:nvPicPr>
        <p:blipFill>
          <a:blip r:embed="rId2"/>
          <a:stretch/>
        </p:blipFill>
        <p:spPr>
          <a:xfrm>
            <a:off x="142920" y="142920"/>
            <a:ext cx="5321160" cy="785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85840" y="285840"/>
            <a:ext cx="50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рганизация энергетического уче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785880" y="1071720"/>
            <a:ext cx="757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Энергетический уче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— система, используемая в пределах промышленности, где измерение и анализ потребления энергии различных видов деятельности производится для улучшения энергетической эффектив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пределение потребности предприятия в энергии и энергоресурсах основывается на составлении энергетических (топливных) балансов (входят в группу материальных балансов предприят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785880" y="1285920"/>
            <a:ext cx="757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сходная часть энергетического баланса включает рассчитанную на основании прогрессивных норм расхода энергоресурсов и плановых объемов производства потребность предприятия и его отдельных подразделений и установок в энергоресурс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ходная часть энергетического баланса представляет собой определение рациональных источников покрытия этой потребности как со стороны, так и за счет собственных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20:00:34Z</dcterms:created>
  <dc:creator>Blaze</dc:creator>
  <dc:description/>
  <dc:language>en-US</dc:language>
  <cp:lastModifiedBy>Айжан</cp:lastModifiedBy>
  <dcterms:modified xsi:type="dcterms:W3CDTF">2011-06-01T08:22:07Z</dcterms:modified>
  <cp:revision>22</cp:revision>
  <dc:subject/>
  <dc:title>Слайд 1</dc:title>
</cp:coreProperties>
</file>