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63C-A785-4455-B2A7-0F664C17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254-E2A2-4AC6-B39B-AF14CF7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7E2-3730-49D2-ACF5-87FC8FA8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DC0-47FD-4856-B29C-4E2D2EB4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22B-BCC7-4DC5-82D3-D2DAF78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F67-4977-4523-A4BB-BC5F117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17E-0827-499B-AD93-B7C048EE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61F-8A7D-4026-A327-BA1781B4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1BFF-9994-4B53-ADB6-F7AD73CB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CA7-73C5-4FBF-B37E-D1C1FCD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DF85-3F3C-4A76-A271-26D5A8D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1FC-2476-4428-B20A-963282C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A4AF-579F-4296-A5C1-28D6377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AE8-35C0-4B4C-8120-6874786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A61A-AB0D-4D55-9E07-9E928BE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87E5-703E-429A-9534-12CAA55B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A1D2-11F8-4FFF-A80D-22E1EDE1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B34-ED64-467B-94CF-A7A79556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CC5-72A0-40C0-81CA-21A602F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1BE-C4DF-4CB4-88B0-A00F6FB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B24-59F8-4CC1-AA95-FE04AEF2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A79-AAD6-4CEA-9A03-69C2E7C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8A7-915F-4A29-B496-8A895A7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77F-0D5B-4B5F-ABB4-F5113C9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12DA-9AB8-4C11-BD91-499D3D31C5D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2212-2D97-4D30-A3EA-617C48E1874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 8. Бизнес-план в системе планирования предприятия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и составлении бизнес-плана необходимо оценить возможности и проблемы, которые могут возникнуть в будущем. Этот процесс называется определением (или оценкой) общего положения. Имея такую оценку приступают к постановке целей и задач. Этот процесс в свою очередь состоит из двух частей. Во-первых, устанавливается, что будет являться продукцией проекта (каким бизнесом будет заниматься предприятие), во-вторых, определяются главные, количественно обоснованные цели на перспектив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Бизнес-план помогает решить вопросы финансирования, то есть он может стать средством привлечения капитала, необходимого для осуществления проекта (развития предприятия). При составлении бизнес-плана необходимо представить, какие препятствия могут возникнуть на пути к успеху. Может случиться так, что эти препятствия слишком серьезны и на предлагаемой идее нужно ставить крест. Разумеется, это не самый приятный вывод, но лучше его сделать, пока проект на бумаге, а не тогда, когда на его создание уже потрачены деньги и врем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Таким образом, бизнес-план дает возможность понять общее состояние дел на данный момент; ясно представить тот уровень, которого может достичь проект (предприятие), планировать процесс перехода от одного состояния в другое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наше время бизнес-план становиться для предпринимателя все более важным документом. Ни одна компания не сможет выразить цели своего существования или получить финансирование без грамотно разработанного бизнес-плана. Если вы не представите грамотный бизнес-план, никто не будет серьезно рассматривать вашу иде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Инвесторы хотят увидеть бизнес-план доказывающий, что над идеей хорошо поработали и предприниматель тщательно продумал все действия, которые необходимо предпринять для осуществления идеи и превращения ее в успешно функционирующую программ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аким образом, бизнес-план является не просто набором управленческих решений в области маркетинга, стратегии производства и продаж, организации и финансов - он позволяет Вам "удачно" продать ваш бизнес тому, для кого этот план предназначен, будь то банк, инвестиционная компания, потенциальный партнер (заказчик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изнес-план предназначен для вашего инвестора или банкира, а также огромную пользу он приносит и вам. Подробный и продуманный бизнес-план, возможно, является наилучшим инструментом, который поможет достичь долгосрочный целе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изнес-план помогает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имать важные деловые реш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дробно ознакомиться с финансовой стороной вашего дел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лучать важную информацию по вашей индустрии и маркетингу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едвидеть и избегать препятствий, которые часто встречаются в схожем бизнес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тавить конкретные задачи, осуществление которых будет свидетельствовать о сделанном прогресс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асширяться в новых и перспективных отраслях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ыть более убедительным при поиске финансирова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изнес-план для получения кредита. До недавнего времени российский предприниматель для получения кредита в банке мог представить лишь двухстраничное ТЭО (Технико-экономическое обоснование), которое, впрочем, не являлось решающим для принятия банком или другой финансовой организацией решения о предоставлении кредита. Решающими же были личные связи, рекомендации, а также осведомленность банкиров о состоянии дел кредитополучателя (как правило, предприниматели брали кредиты в банках, клиентами которых они были). В последнее время все больше и больше российских банков требуют от предпринимателей бизнес-план для предприятия окончательного решения о выдаче (или не выдаче) креди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изнес-план для привлечения средств сторонних инвесторов. Инвесторами выступают: венчурные инвестиционные фонды, частные инвесторы или публичная эмиссия акций. Если вы привлекаете средства за счет публичной эмиссии акций вашей компании, бизнес-план содержащий сведения о фирме, о стратегии маркетинга, продаж, производства и о финансовых перспективах, поможет вам успешнее продать компанию инвесторам. По мере того, как российский фондовый рынок развивается и стабилизируется, бизнес-планы будут приобретать все большее значение для осуществления публичной эмиссии ценных бумаг (и во всей видимости, станут основой проспекта эмиссии). Российская практика имеет мало прецедентов создания и открытого распространения бизнес-планов в качестве вспомогательного инструмента публичной эмиссии (самым ярким примером представляется опыт эмиссии российского АООТ "Медиа Мекэникс"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изнес-план для заключения крупного контрак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изнес-план для привлечения новых сотрудников. В наши годы трудно переманить профессионалов из других фирм, даже пообещав им более высокие заработки. Описание будущей деятельности фирмы дает потенциальному сотруднику информацию о перспективности и стабильности предлагаемой работ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Бизнес-план для объединения с другой компанией. Он поможет увидеть выгодность сделки: положительные и отрицательные стороны совместной деятельност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Бизнес-план для реорганизации дела и оптимизирования операций. По мере того, как небольшие компании растут, появляется необходимость создания стратегической (или тактической - в зависимости от ситуации) концепции развития. Бизнес-план, в разработке которого принимают участие ваши партнеры по бизнесу и ключевые сотрудники, поможет вам выработать эту концепцию и, что важнее, позволит вам выработать эту концепцию, позволит вашим партнерам более четко осознать цели и конкретные задачи, стоящие на пути реализации этой концепции. 1.3. Состав бизнес-план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Состав бизнес-плана и степень его детализации зависят от размеров будущего проекта и сферы, к которой он относитьс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аким образом, состав и детализация бизнес-плана зависят от характера создаваемого предприятия - относиться ли оно к сфере услуг или к производственной сфере. Если предприятие производственное, то на состав и детализацию бизнес-плана повлияют вид товара и будет ли этот товар выпускаться для потребителей или для производителе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ланирование как функция управлени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одержание внутрифирменного планирования как функции управления компанией состоит в обоснованном определении основных направлений и пропорций развития производства с учетом материальных источников его обеспечения и рыночного спроса. Сущность планирования проявляется в конкретизации целей развития всей фирмы и каждого подразделения в отдельности на установленный период времени; определении хозяйственных задач, средств их достижения, сроков и последовательности реализации; выявлении материальных, трудовых и финансовых ресурсов, необходимых для решения поставленных зада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Таким образом, назначение планирования как функции управления состоит в стремлении заблаговременно учесть по возможности все внутренние и внешние факторы, обеспечивающие благоприятные условия для нормального функционировании и развития предприятия. Оно предусматривает разработку комплекса мероприятий, определяющих последовательность достижения конкретных целей с учетом возможностей наиболее эффективного использования ресурсов каждым производственным подразделением и всей фирмо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остав бизнес-плана также зависит от размера предполагаемого рынка сбыта, наличия конкурентов и перспектив роста создаваемого предприятия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имерный состав бизнес-плана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 Вводная час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азвание и адрес фирм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учредител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уть и цель проек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тоимость проек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требность в финансах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сылка на секретнос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Анализ положения дел в отрасл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екущая ситуация и тенденции развития отрасл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правление и задачи деятельности проект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Существо предлагаемого проект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дукция (услуги или работы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ехнолог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лицензи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атентные прав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. Анализ рын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тенциальные потребители продукци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тенциальные конкурент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азмер рынка и его рос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ценочная доля на рынк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План маркетинг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цен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ценовая полити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каналы сбы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еклам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огноз новой продукци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 Производственный пла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оизводственный процесс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оизводственные помеще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борудовани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источники поставки сырья, материалов, оборудования и рабочих кадров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убподрядчик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. Организационный пла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форма собственност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ведения о партнерах, владельцах предприят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ведения о руководящем состав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рганизационная структур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8. Степень риск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лабые стороны предприят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ероятность появления новых технолог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льтернативные стратеги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. Финансовый план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лан доходов и расходов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лан денежный поступлений и выплат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алансовый план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очка безубыточност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. Прилож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пии контрактов, лицензии и т.п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пии документов, из которых взяты исходные данны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ейскуранты поставщиков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этому планированием призвано обеспечить взаимо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язку между отдельными структурными подразделениями фирмы, включающими всю технологическую цепочку: научные исследования и разработки, производство и сбыт, сервис. Эта деятельность опирается на выявление и прогнозирование потребительского спроса, анализ и оценку имеющихся ресурсов и перспектив развития хозяйственной конъюнктуры. Отсюда вытекает необходимость увязки планирования с маркетингом и контролем с целью постоянной корректировки показателей производства и сбыта вслед за изменениями спроса на рынк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утрифирменное планирование охватывает как текущее, так и перспективное планирование, осуществляемое в виде прогнозирования и программирования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сли перспективное планирование призвано определить общие стратегические цели и направления развития фирмы, необходимые для этого ресурсы и этапы решения поставленных задач, то разрабатываемые на его основе текущие планы ориентированы на фактическое достижение намеченных целей исходя из конкретных условий и состояния рынка на каждом данном этапе развития. Поэтому текущие планы дополняют, развивают и корректируют перспективные направления развития с учетом конкретной обстанов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ровень и качество планирования определяются следующими важнейшими условиями: компетентностью руководства фирмой на всех уровнях управления; квалификацией специалистов, работающих в функциональных подразделениях; наличием информационной базы и обеспеченностью компьютерной техник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ожно выделить некоторые характерные особенности планирования в зависимости от целей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 американских компаниях главное - это объединение стратегий всех подразделений и распределение ресурсов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 английских - ориентация на распределение ресурсов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 японских - ориентация на внедрение новшеств и повышение качества решен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тегическое планирование ставит целью дать комплексное научное обоснование проблем, с которыми может столкнуться фирма в предстоящем периоде, и не этой основе разработать показатели развития фирмы на плановый период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основу при разработке плана кладется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анализ перспектив развития фирмы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анализ позиций в конкурентной борьбе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выбор стратегии и определение приоритетов по конкретным видам деятельност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анализ направлений диверсификаци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Стратегический план выражен стратегией корпорации. В нем содержатся решения относительно сфер деятельности и выбора новых направлений. В нем могут перечисляться основные проекты и задаваться их приоритеты. Разрабатывается он на уровне высшего звена управления. Обычно стратегический план не содержит количественных показател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Среднесрочные планы охватывают пятилетний срок, как наиболее удобный для обновления производственного аппарата и ассортимента продукции. В них формируются основные задачи на установленный период, например, производственная стратегия фирмы, стратегия сбыта, финансовая стратегия и т.п. Среднесрочные планы предусматривают разработку в определенной последовательности мероприятий, направленных на достижение целей, намеченных долгосрочной программой развит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изнес-план описывает цели и задачи, которые необходимо решить предприятию как в ближайшем будущем, так и на перспективу. В нем содержаться оценка текущего момента, сильных и слабых сторон проекта, анализ рынка и информация о потребителях продукции или услуг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ность бизнес-плана определяется тем, что он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дает возможность определить жизнеспособность проекта в условиях конкуренц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одержит ориентир, как должен развиваться проект (предприятие)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лужит важным инструментом получения финансовой поддержки от внешних инвесто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6:29:43Z</dcterms:created>
  <dc:creator>Admin</dc:creator>
  <dc:description/>
  <dc:language>en-US</dc:language>
  <cp:lastModifiedBy>Айжан</cp:lastModifiedBy>
  <dcterms:modified xsi:type="dcterms:W3CDTF">2011-06-08T06:46:50Z</dcterms:modified>
  <cp:revision>3</cp:revision>
  <dc:subject/>
  <dc:title>Бизнес-план в системе планирования предприятия </dc:title>
</cp:coreProperties>
</file>