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0EAB7E9-41D3-4247-B32F-0B08FBFC1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A455ECF-A2D6-4194-844A-1BD6D7FB6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2120266-88C7-48AB-A61B-D06F5018D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9619802-EDCE-404F-B489-359F21A9F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37D45-D262-4068-9EDC-DDAB2EF32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5D969-CE4A-4199-8713-1AFE2F1C7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5F51E-34C8-42F0-B6DD-E4E30EB02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DEFD2-E550-4477-8A59-D4E021FD3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F6B43-7994-4C17-A96F-B14684E0E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961DB-168C-4170-91CE-E2048C9D4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72E9B-3369-4138-A7E8-7935579E1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FEC2C7-F295-4ADB-B19D-7DA962EA5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94FA0-1454-47F2-BCD1-89ED7C031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E6C83-BDE3-401E-92BA-19912266F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398D4-D194-4869-AA55-0E1188014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048D9-71F3-463B-A9A6-A21F53699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5DAE0-5020-4767-AFDA-70E0DAA3F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0F6CA9C-4DA5-4961-8EC3-12D555912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663622-84D4-49D1-B8F7-3C423DDBA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67A952-1AC2-426E-BE67-9697A8CDE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9A1DBA-E7C4-4A12-A401-4E7C3B9F2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8CA400-BD92-4EC1-8CE5-D2D9ED99F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E6FB0C-7B24-4EE9-838A-7DEB35FF6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C3C365-EEA5-4073-A957-B8088FFF7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35F8-D1AA-4FDC-B09F-2ADA3286A0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7260-2629-49A7-8407-0E021430AA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2204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5e5ff"/>
                </a:solidFill>
                <a:latin typeface="Garamond"/>
              </a:rPr>
              <a:t>Тема 9.</a:t>
            </a:r>
            <a:br>
              <a:rPr sz="5400"/>
            </a:br>
            <a:r>
              <a:rPr b="1" lang="ru-RU" sz="5400" spc="-1" strike="noStrike">
                <a:solidFill>
                  <a:srgbClr val="e5e5ff"/>
                </a:solidFill>
                <a:latin typeface="Garamond"/>
              </a:rPr>
              <a:t>2 вопрос. Оценка эффективности инновационного проекта</a:t>
            </a:r>
            <a:endParaRPr b="1" lang="en-US" sz="5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Поскольку на каждом конкретном предприятии существуют свои факторы, оказывающие влияние на эффективность инновационных проектов, то универсальной системы опенки проектов нет, но ряд факторов имеет отношение к большинству инновационных предприятий. На основе этих факторов выделяют определенные критерии для оценки инновационных проектов, которые включают в себя:</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цели, стратегия, политика и ценности предприятия: маркетинг:</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аучно-исследовательские и опытно-конструкторские работы; финансы; производство.</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Кратко рассмотрим вышеназванные критерии и условия оценки инновационного проекта.</a:t>
            </a:r>
            <a:endParaRPr b="0" lang="en-US" sz="2800" spc="-1" strike="noStrike">
              <a:solidFill>
                <a:srgbClr val="ffffff"/>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1. Цели, стратегия, политика предприятия. Оценивая инновационный проект в этом направлении, необходимо выявить, насколько цели и задачи инновационного проекта совпадают с целями и стратегией развития предприятия, так как если направление проекта противоречит общей политике предприятия, то возникает большая вероятность того, что проект не принесет ожидаемого результата.</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 Маркетинг. Для реализации инновационного проекта необходимо, чтобы маркетинговые исследования рынка подтвердили его потребность, выявили конкретных будущих потребителей. В том случае, если конечный результат инновационного проекта — продуктовая инновация, то цель маркетингового исследования — спрогнозировать спрос на новый продукт, который в начальный период предложения его на рынке в силу патентной или иной временной монополии данного предприятия на новый продукт будет одновременно спросом на продукцию предприятия. Сюда же можно отнести и технологические инновации, улучшающие качество продукта, создающие новую его модификацию. Однако провести маркетинговое исследование по инновационному проекту, предлагающему принципиально новый продукт или услугу, очень сложно, так как в некоторых случаях они могут быть настолько новы, что их потенциальными потребителями еще не осознана потребность в них. Маркетинговое исследование атакой ситуации с большой долей вероятности может дать ошибочный, и даже отрицательный результат.</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При оценке инновационного проекта следует выявить действительных, а также потенциально возможных конкурентов. Однако сравнивать необходимо не только продукт—результат инновационного проекта с аналогами конкурентов, а ожидаемые последствия от действий на рынке конкурентов.</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Целесообразно также проанализировать и возможные каналы распределения результатов инновационного проекта, оценить, насколько подходит уже существующая на предприятии система сбыта для распространения нового товара, так как создание специализированных каналов распределения на предприятии может значительно увеличить стоимость инновационного проекта.</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3. Стадия НИОКР является начальной стадией инновационного проекта, на которой следует оценить вероятность достижения требуемых научно-технических показателей проекта и влияние их на результаты деятельности предприятия. Технический успех — это получение желаемых технических показателей, при этом эти показатели должны быть достигнуты в рамках выделенных на проект средств и в требуемые сроки. Инновационный проект может быть изолированной разработкой или родоначальником семейства новых продуктов, определяющим дальнейшую специализацию предприятия. Поэтому оценивать проект следует не только с позиций непосредственно нового проекта, а целесообразно выявить и учесть возможные перспективы разработки в течение нескольких лет семейства продуктов, а также применения соответствующей технологии для дальнейших разработок продукта или других сфер его приложения.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23640" y="259920"/>
            <a:ext cx="8569080" cy="619308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Для предприятия большей привлекательностью обладает тот инновационный проект, результат которого имеет долгосрочные перспективы. Оценивая инновационный проект с позиций достижения научно-технических критериев, следует учитывать не только вероятность технического успеха, но и воздействие этого проекта на бюджет НИОКР предприятия и деятельность подразделений, которые выполняют НИОКР.</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При оценке инновационного проекта необходимо проверить, не нарушает ли реализация данного проекта права на интеллектуальную собственность какого-либо патентодержателя, а также выяснить, не ведутся ли конкурентами параллельные разработки и не поданы ли заявки в Патентное ведомство, иначе эффективность проекта может быть оценена неверно. Па принятие решения об оценке инновационного проекта оказывает влияние возможное отрицательное воздействие на окружающую среду процесса реализации проекта.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4. Финансы. При выборе инновационного проекта большое значение имеет правильная оценка эффективности (прибыльности) проекта. Проект должен рассматриваться в совокупности с уже разрабатываемыми инновационными проектами, которые также требуют финансирования. В некоторых случаях требующие значительных капитальных ресурсов проекты могут быть отвергнуты в пользу менее эффективных проектов, но требующих меньших капитальных затрат, из-за того, что финансовые ресурсы необходимы для других инновационных проектов предприятия. Концентрировать все финансовые ресурсы предприятия на разработке одного проекта не всегда целесообразно. Предприятие может себе это позволить лишь в том случае, если инновационному проекту гарантирован 100%-ныи технический и коммерческий успех. В других случаях выгоднее направляют ресурсы па разработку нескольких инновационных проектов. В таком случае появление неудач при разработке одного из проектов будет компенсировано успехом от реализации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333000"/>
            <a:ext cx="8507520" cy="6335640"/>
          </a:xfrm>
          <a:prstGeom prst="rect">
            <a:avLst/>
          </a:prstGeom>
          <a:noFill/>
          <a:ln w="0">
            <a:noFill/>
          </a:ln>
        </p:spPr>
        <p:txBody>
          <a:bodyPr lIns="90000" rIns="90000" tIns="46800" bIns="46800"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Кроме этого следует оценить количественно все затраты, необходимые для разработки инновационного проекта. Основные затраты, производимые до того, как продукт пли технологический процесс начнет читать отдачу, состоят из затрат на научно-исследовательские и опытно-конструкторские работы, включая создание опытного образца, капитальных вложений в производственные мощности и первоначальных стартовых затрат, причем уровень этих затрат зависит от направленности инновационного проекта. Здесь же необходимо оценить возможный метод финансирования проекта, необходимость и вероятность привлечения внешних инвестиций для реализации проекта. Одна из главных проблем, стоящих перед любым предприятием, - это правильное планирование денежной наличности. Очень часто вполне рентабельный инновационный проект может оказаться несостоятельным в результате не поступления финансовых средств в конкретные сроки. Поэтому необходимо соотнести во времени прогноз денежных поступлений с прогнозом необходимости финансовых затрат, требующихся для разработки проекта.</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5. Производство. Стадия производства является заключительной стадией реализации инновационного проекта, требующая тщательного анализа, в результате которого исследуются все вопросы, связанные с обеспечением производственными помещениями, оборудованием, его расположением, персоналом. Обстоятельно анализируется производственный процесс: как должна быть организована система выпуска продукции и каким образом должен осуществляться контроль за соблюдением технологических процессов, обеспечивает ли оборудование достижение требуемого качества нового продукта и т. д. Если какие-то работы по инновационному проекту предприятие не может выполнить самостоятельно, необходимо выявить потенциальных субподрядчиков оценить примерную стоимость этих работ.</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К моменту, когда завершается стадия НИОКР и инновационный проект внедряется в производство, в первую очередь необходимо оценить потребность производства в специализированном оборудовании и высококвалифицированных кадрах для перехода к выпуску больших объемов продуктов или услуг.</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Скорость и издержки, сопровождающие внедрение в производство, различны у отдельных проектов. Обычно чем больше разрыв между требован ним и. необходимыми для организации производства нового продукта и существующими производственными возможностями, тем больше соответствующие затраты по реализации инновационного проекта. Оценивая проект, предприятию необходимо выявить те характеристики нового продукта или услуги, достижения которых, вероятнее всего, вызовут дополнительные производственные затраты. Определив эти трудности и затраты, можно обеспечить плановый переход инновационного проекта от стадии НИОКР к стадии производства.</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1. ОБЩАЯ ХАРАКТЕРИСТИКА ИННОВАЦИОННОЙ ДЕЯТЕЛЬНОСТИ.</a:t>
            </a:r>
            <a:endParaRPr b="1" lang="en-US" sz="28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Под инновациями в широком смысле понимается прибыльное (рентабельное) использование новшеств в виде новых технологий, видов продукции и услуг, организационно-технических и социально-экономических решений производственного, финансового, коммерческого, административного или иного характера.</a:t>
            </a:r>
            <a:endParaRPr b="0" lang="en-US" sz="2400" spc="-1" strike="noStrike">
              <a:solidFill>
                <a:srgbClr val="ffffff"/>
              </a:solidFill>
              <a:latin typeface="Garamon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Период времени от зарождения идеи, создания и распространения новшества и до его использования принято называть жизненным циклом инновации. С учетом последовательности проведения работ жизненный цикл инноваций рассматривается как инновационный процесс.</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333000"/>
            <a:ext cx="8435880" cy="626436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На данной стадии реализации проекта следует оценить окончательные издержки производства нового продукта, которые зависят от многих факторов: цен на необходимые для производства материалы, сырье, энергию и комплектующие, применяемой технологии, уровня оплаты труда работников, капитальных вложений и объема выпуска. Как правило, основное значение для успеха инновационного проекта имеет взаимозависимость между технологией производства, издержками, объемом продаж и ценой на реализуемый новый товар или услугу.</a:t>
            </a: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Полная оценка инновационного проекта включает в себя анализ всех вышеперечисленных основных элементов реализации проекта.. Следует отметить, что приведенный перечень не является универсальным и в зависимости от целей и направления конкретного инновационного проекта может быть расширен. Каждое предприятие может использовать те критерии оценки проектов, которые считает для себя наиболее существенными и значимыми.</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2 Методы оценки инновационных проектов</a:t>
            </a:r>
            <a:endParaRPr b="0" lang="en-US" sz="2400" spc="-1" strike="noStrike">
              <a:solidFill>
                <a:srgbClr val="ffffff"/>
              </a:solidFill>
              <a:latin typeface="Garamond"/>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2.2.1 Срок окупаемости инвестиций. </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Одним из самых простых и широко распространенных методов оценки является метод определения срока окупаемости инвестиций. Срок окупаемости определяется подсчетом числа лет, в течение которых инвестиции будут погашены за счет получаемого дохода (чистых денежных поступлений).</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Если денежные доходы (прибыль) поступают по годам неравномерно, то срок окупаемости равен периоду времени (числу лет), за который суммарные чистые денежные поступления (кумулятивный доход) превысят величину инвестиций.</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Метод расчета срока окупаемости наиболее прост с точки зрения применяемых расчетов и приемлем для ранжирования инвестиционных проектов с разными сроками окупаемости. Однако он имеет ряд существенных недостатков.</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Во-первых, он не делает различия между проектами с одинаковой суммой общих (кумулятивных) денежных доходов, но с разным распределением доходов по годам.</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Этот метод, во-вторых, не учитывает доходов последних периодов, т.е. периодов времени после погашения суммы  инвестиций.</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Однако в целом ряде случаев применение этого простейшего метода является целесообразным. Например, при высокой степени риска инвестиций,  когда предприятие заинтересовано вернуть вложенные средства в кратчайшие сроки, при быстрых технологических переменах в отрасли или при наличии у  предприятия проблем с ликвидностью основным параметром, принимаемым во внимание при оценке и выборе инвестиционных проектов, является как раз срок окупаемости инвестиций.</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9280" y="260280"/>
            <a:ext cx="8785440" cy="640872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2.2.2 Коэффициент эффективности инвестиций. </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Другим достаточно простым методом оценки инвестиционных проектов является метод расчета коэффициента эффективности инвестиций (бухгалтерской рентабельности инвестиций).</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Коэффициент эффективности инвестиций рассчитывается путем деления среднегодовой прибыли на среднюю величину инвестиций. В расчет принимается среднегодовая чистая прибыль (балансовая прибыль за вычетом отчислений в бюджет). Средняя величина инвестиций выводится делением исходной величины инвестиций на два. </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К преимуществам данного метода относится простота и наглядность расчета, возможность сравнения альтернативных проектов по одному показателю. Недостатки метода обусловлены тем, что он не учитывает временной составляющей прибыли. Так, например, не проводится различия между проектами с одинаковой среднегодовой, но в действительности изменяющейся по годам величиной прибыли, а также между проектами, приносящими одинаковую среднегодовую прибыль, но в течение разного числа лет.</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2000"/>
          </a:bodyPr>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2.2.3 Чистая текущая стоимость. </a:t>
            </a: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Накопленную величину дисконтированных доходов следует сравнивать с величиной инвестиций.</a:t>
            </a: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Общая накопленная величина дисконтированных доходов за n лет будет равна сумме соответствующих дисконтированных платежей:</a:t>
            </a: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Разность между общей накопленной величиной дисконтированных доходов и первоначальными инвестициями составляет чистую текущую стоимость (чистый приведенный эффект):</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Garamond"/>
              </a:rPr>
              <a:t>2.2.4 Рентабельность инвестиций. </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Применение метода чистой текущей стоимости, несмотря на действительные трудности его расчета, является более предпочтительным, нежели применение метода оценки срока окупаемости и эффективности инвестиций,  поскольку учитывает временные составляющие денежных пото-ков. Применение этого метода позволяет рассчитывать и сравнивать не только абсолютные показатели (чистую текущую стоимость), но и относительные показатели,  к которым  относится рентабельность инвестиций:</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Рентабельность инвестиций как относительный показатель чрезвычайно  удобна при выборе одного проекта из ряда альтернативных, имеющих примерно одинаковые значения чистой текущей стоимости инвестиций, либо при комплектовании портфеля инвестиций, т. е. выборе нескольких различных вариантов одновременного инвестирования денежных средств, дающих max-ую чистую текущую стоимость.</a:t>
            </a:r>
            <a:endParaRPr b="0" lang="en-US" sz="2400" spc="-1" strike="noStrike">
              <a:solidFill>
                <a:srgbClr val="ffffff"/>
              </a:solidFill>
              <a:latin typeface="Garamon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Использование метода чистой текущей стоимости инвестиций позволяет также учитывать при прогнозных расчетах фактор инфляции и фактор риска,  в разной степени присущий разным проектам. Очевидно, что учет этих факторов приведет к соответствующему увеличению желаемого процента, по которому возвращаются инвестиции, а следовательно, и коэффициента дисконтировани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79280" y="333000"/>
            <a:ext cx="8785440" cy="6335640"/>
          </a:xfrm>
          <a:prstGeom prst="rect">
            <a:avLst/>
          </a:prstGeom>
          <a:noFill/>
          <a:ln w="0">
            <a:noFill/>
          </a:ln>
        </p:spPr>
        <p:txBody>
          <a:bodyPr lIns="90000" rIns="90000" tIns="46800" bIns="46800" anchor="t">
            <a:normAutofit fontScale="89000"/>
          </a:bodyPr>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2.2.5 Метод перечня критериев. </a:t>
            </a:r>
            <a:endParaRPr b="0" lang="en-US" sz="2400" spc="-1" strike="noStrike">
              <a:solidFill>
                <a:srgbClr val="ffffff"/>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Суть метода отбора инвестиционных проектов с помощью перечня критериев заключается в следующем: рассматривается соответствие проекта каждому из установленных критериев и по каждому  критерию дается оценка проекту. Метод позволяет увидеть все достоинства и недостатки проекта и гарантирует, что ни один из критериев, которые необходимо принять во внимание не будет забыт, даже если возникнут трудности с первоначальной оценкой.</a:t>
            </a:r>
            <a:endParaRPr b="0" lang="en-US" sz="2400" spc="-1" strike="noStrike">
              <a:solidFill>
                <a:srgbClr val="ffffff"/>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Критерии, необходимые для оценки инвестиционных проектов, могут различаться в зависимости от конкретных особенностей организации, ее отраслевой принадлежности и стратегической направленности. При составлении перечня критериев необходимо использовать лишь те из них, которые вытекают непосредственно из целей, стратегии и задач организации,  ее ориентации долгосрочных планов. Проекты, получающие высокую оценку с позиции одних целей, стратегий и задач, могут не получить ее с точки зрения других.</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Основными критериями для оценки инвестиционных проектов являются:</a:t>
            </a:r>
            <a:endParaRPr b="0" lang="en-US" sz="2400" spc="-1" strike="noStrike">
              <a:solidFill>
                <a:srgbClr val="ffffff"/>
              </a:solidFill>
              <a:latin typeface="Garamond"/>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А.  Цели организации, стратегия, политика и ценности.</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Совместимость проекта с текущей стратегией организации  и долгосрочным планом.</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Оправданность изменений в стратегии организации  (в  случае, если этого требует принятие проекта).</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Соответствие проекта отношению организации к риску.</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Соответствие проекта отношению организации к нововведениям.</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Соответствие  проекта  требованиям  организации  с учетом временного аспекта (долгосрочный или кратко срочный проект).</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 Соответствие  проекта потенциалу роста организации.</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 Устойчивость положения организации.</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 Степень  диверсификации организации (т.е. количество отраслей,  не имеющих производственной связи с основной отраслью, в которой  осуществляет свою деятельность организация, и их доля в общем объеме ее производства),  влияющая на устойчивость ее положения.</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 Влияние больших финансовых затрат  и  отсрочки  получения прибыли на современное состояние дел в организации.</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 Влияние возможного отклонения времени, затрат и исполнения задач от запланированных,  а также влияние неудачи проекта на состояние дел в организации.</a:t>
            </a:r>
            <a:endParaRPr b="0" lang="en-US" sz="2400" spc="-1" strike="noStrike">
              <a:solidFill>
                <a:srgbClr val="ffffff"/>
              </a:solidFill>
              <a:latin typeface="Garamond"/>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u="sng">
                <a:solidFill>
                  <a:srgbClr val="ffffff"/>
                </a:solidFill>
                <a:uFillTx/>
                <a:latin typeface="Garamond"/>
              </a:rPr>
              <a:t>Б. Финансовые критерии</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Размер  инвестиций  (вложения в производство,  вложения в маркетинг;  для проектов НИОКР затраты на проведение исследования и стоимость развития, если исследование успешно).</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Потенциальный годовой размер прибыли.</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Ожидаемая норма чистой прибыли.</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В соответствии с международной практикой (ИСО 9004) жизненный цикл продукта разделен на более мелкие этапы:</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маркетинг, поиск и изучение рынка: проектирование и (или) разработка технологических требований: разработка продукции: материально-техническое снабжение; подготовка и разработка производственных процессов; производство:</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контроль, проведение испытаний и обследований: упаковка и хранение; реализация и распределение продукции: монтаж и эксплуатация; техническая помощь и обслуживание: утилизация продукции после использования. Многообразие форм инноваций не позволяет сформулировать единый подход к составу и содержанию этапов жизненного цикла инновации, определить же главные этапы инновационного процесса представляется возможным, рассмотрев его основные составляющие.</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Соответствие проекта критериям экономической эффективности капиталовложений, принятым в организации.</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Стартовые затраты на осуществление проекта.</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 Предполагаемое время, по истечении которого данный проект начнет приносить расходов и доходов.</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 Наличие финансов в нужные моменты времени.</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 Влияние принятия данного проекта на другие проекты, требующие финансовых средств.</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 Необходимость привлечения заемного капитала (кредитов) для финансирования проекта, и его доля в инвестициях.</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0.Финансовый риск, связанный с осуществлением проекта.</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1. Стабильность поступления доходов от проекта (обеспечивает ли проект устойчивое повышение темпов роста  доходов  фирмы, или доход от года к году будет колебатьс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2. Период времени,  через который начнется выпуск продукции (услуг), а, следовательно, возмещение капитальных затрат.</a:t>
            </a:r>
            <a:endParaRPr b="0" lang="en-US" sz="2400" spc="-1" strike="noStrike">
              <a:solidFill>
                <a:srgbClr val="ffffff"/>
              </a:solidFill>
              <a:latin typeface="Garamond"/>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3. Возможности  использования  налогового  законодательства (налоговых льгот).</a:t>
            </a:r>
            <a:endParaRPr b="0" lang="en-US" sz="2400" spc="-1" strike="noStrike">
              <a:solidFill>
                <a:srgbClr val="ffffff"/>
              </a:solidFill>
              <a:latin typeface="Garamond"/>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4. Фондоотдача, т.е. отношение среднего годового валового дохода,  полученного от проекта, к капитальным затратам (чем выше уровень фондоотдачи и, тем ниже в общих расходах организации доля постоянных  издержек,  не  зависящих от изменения загрузки производственных  мощностей, а, следовательно, тем меньше будут убытки в случае ухудшения экономической конъюнктуры; если уровень фондоотдачи в данной организации ниже среднеотраслевого,  то в  случае кризиса у нее больше шансов разориться одной из первых).</a:t>
            </a:r>
            <a:endParaRPr b="0" lang="en-US" sz="2400" spc="-1" strike="noStrike">
              <a:solidFill>
                <a:srgbClr val="ffffff"/>
              </a:solidFill>
              <a:latin typeface="Garamond"/>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5. Оптимальность структуры затрат на продукт,  заложенный в проекте (использование наиболее дешевых и легко доступных производственных ресурсов).</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В. Производственные критерии</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Необходимость  технологических  нововведений для осуществления проекта.</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Соответствие проекта имеющимся производственным мощностям (будет ли поддерживаться высокий уровень использования имеющихся в наличии производственных мощностей или с принятием проекта резко возрастут накладные расходы).</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Наличие производственного персонала (по численности и квалификации).</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Величина издержек производства. Сравнение ее с величиной издержек у конкурентов.</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Потребность  в  дополнительных производственных мощностях (дополнительном оборудовании).</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Г. Внешние и экологические критерии.</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Возможное вредное воздействие продуктов и производственных процессов.</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Правовое обеспечение проекта, его непротиворечивость законодательству.</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Возможное влияние перспективного законодательства на проект.</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 Возможная реакция общественного мнения на осуществление проекта.</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333000"/>
            <a:ext cx="8713800" cy="633564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В рамках полного жизненного цикла (ПЖЦ) проекта можно выделить инновационную, инвестиционную и производственную стадии. Базовые параметры технологии и характеристики производимого на ее основе продукта устанавливаются (фиксируются) на инновационной стадии. В дальнейшем они реализуются через инвестиционный этап (создание производственных мощностей) и производственный этап (реализация рыночного потенциала). </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Существуют устойчивые характеристики финансовых потоков как положительных (доходов), так и отрицательных (расходы) в рамках ПЖЦ проекта, а также соотношения между ними, определяющие потенциальную экономическую эффективность всего проекта и его отдельных этапов. Это позволяет, например, определить экономически эффективные отрезки и цену входа – выхода для участника проекта. При управлении инвестиционным проектом важно определить начало периода утраты конкурентных преимуществ продукта, предшествующего уходу с рынка, т.е. точку снижения чистых финансовых потоков от реализации продукта (доходы минус расходы).</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89000"/>
          </a:bodyPr>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Недостаточная эффективность инвестиционных проектов в ряде случае может быть повышена на основе проведения направленных НИОКР. Однако проведение исследований и разработок для улучшения технико-экономических характеристик существующего инвестиционного проекта связано со следующими особенностями:</a:t>
            </a:r>
            <a:endParaRPr b="0" lang="en-US" sz="2400" spc="-1" strike="noStrike">
              <a:solidFill>
                <a:srgbClr val="ffffff"/>
              </a:solidFill>
              <a:latin typeface="Garamond"/>
            </a:endParaRPr>
          </a:p>
          <a:p>
            <a:pPr marL="406800" indent="-4068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растет неопределенность получения эффективного результата и увеличивается риск его успешной реализации;</a:t>
            </a:r>
            <a:endParaRPr b="0" lang="en-US" sz="2400" spc="-1" strike="noStrike">
              <a:solidFill>
                <a:srgbClr val="ffffff"/>
              </a:solidFill>
              <a:latin typeface="Garamond"/>
            </a:endParaRPr>
          </a:p>
          <a:p>
            <a:pPr marL="406800" indent="-4068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дополнительно растут общие издержки по проекту, особенно на этапе исследования и разработки;</a:t>
            </a:r>
            <a:endParaRPr b="0" lang="en-US" sz="2400" spc="-1" strike="noStrike">
              <a:solidFill>
                <a:srgbClr val="ffffff"/>
              </a:solidFill>
              <a:latin typeface="Garamond"/>
            </a:endParaRPr>
          </a:p>
          <a:p>
            <a:pPr marL="406800" indent="-4068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увеличивается длительность реализации проекта и срок выхода продукта на рынок;</a:t>
            </a:r>
            <a:endParaRPr b="0" lang="en-US" sz="2400" spc="-1" strike="noStrike">
              <a:solidFill>
                <a:srgbClr val="ffffff"/>
              </a:solidFill>
              <a:latin typeface="Garamond"/>
            </a:endParaRPr>
          </a:p>
          <a:p>
            <a:pPr marL="406800" indent="-4068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изменяются потребительские свойства производимого продукта и/или технология его производства, что влияет на масштабы производства, цену, а также на конкурентные позиции продукта;</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1000"/>
          </a:bodyPr>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1800" spc="-1" strike="noStrike">
                <a:solidFill>
                  <a:srgbClr val="ffcc00"/>
                </a:solidFill>
                <a:latin typeface="Garamond"/>
              </a:rPr>
              <a:t>5.</a:t>
            </a:r>
            <a:r>
              <a:rPr b="0" lang="ru-RU" sz="2400" spc="-1" strike="noStrike">
                <a:solidFill>
                  <a:srgbClr val="ffffff"/>
                </a:solidFill>
                <a:latin typeface="Garamond"/>
              </a:rPr>
              <a:t>   изменяется длительность периода роста объема продаж продукта, насыщения рынка и ухода с него, что формирует финансовые потоки с иными характеристиками чем при инвестиционном проекте, что определяет конечную экономическую эффективность проекта.</a:t>
            </a:r>
            <a:endParaRPr b="0" lang="en-US" sz="2400" spc="-1" strike="noStrike">
              <a:solidFill>
                <a:srgbClr val="ffffff"/>
              </a:solidFill>
              <a:latin typeface="Garamond"/>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Изменения, вносимые инновацией нуждаются в качественной оценке для определения ее эффективности по сравнению с базовым инвестиционным проектом. Например, повышенный инновационный риск влечет за собой относительное уменьшение дисконтированной стоимости проекта и дохода его участников в единицу времени. Увеличение периода нахождения в эффективной зоне производства за счет поддерживающих НИОКР при определенных условиях может компенсировать относительные убытки, связанные с высокорисковой оценкой.</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В мировой практике принято различать научную (научно-исследовательскую), научно-техническую деятельность, а также экспериментальные (опытно-конструкторские) разработки. </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аучная (научно-исследовательская) деятельность направлена на получение, распространение и применение новых знаний.</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аучно-техническая деятельность имеет целью получение, распространение и применение новых знаний в сфере решения технологических, инженерных, экономических, социальных и гуманитарных проблем, обеспечение функционирования науки, техники и производства как единой системы.</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В экономической литературе выделяются две модели предпринимательства: классическая и инновационная.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Вторая модель — инновационное предпринимательство (продуктивное), которое предполагает поиск новых путей развития предприятия, что позволяет говорить о концепции управления ростом, или инновациями. Практика предпринимательской деятельности в любой ее форме обычно включает в себя инновационный процесс. В том случае, если производство полностью основывается на инновациях, то результатом такой его организации выступает новый товар или же товар с принципиально новыми характеристиками, свойствами. Однако производство или поставка на рынок традиционных товаров может также осуществляться с использованием каких-то новых элементов или приемов, связанных с самой организацией производства, техническими элементами производства или же изменениями качественных характеристик производимого товара. В этом случае можно говорить о производстве традиционных товаров через привнесение частичной инновации.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2. ОЦЕНКА ИННОВАЦИОННОГО ПРОЕКТА</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400" spc="-1" strike="noStrike">
                <a:solidFill>
                  <a:srgbClr val="ffffff"/>
                </a:solidFill>
                <a:latin typeface="Garamond"/>
              </a:rPr>
              <a:t>2.1 Необходимость анализа инновационных проектов</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Для снижения риска инновационной деятельности предпринимательской фирме необходимо в первую очередь провести тщательную оценку предлагаемого к осуществлению инновационного проекта. Инновационный проект, эффективный для одного предприятия, может оказаться неэффективным для другого в силу объективных и субъективных причин, таких, как территориальная расположенность предприятия, уровень компетентности персонала не основным направлениям инновационного проекта, состояние основных фондов и т. п.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7:16:01Z</dcterms:created>
  <dc:creator>123</dc:creator>
  <dc:description/>
  <dc:language>en-US</dc:language>
  <cp:lastModifiedBy>Айжан</cp:lastModifiedBy>
  <dcterms:modified xsi:type="dcterms:W3CDTF">2011-06-08T06:52:36Z</dcterms:modified>
  <cp:revision>5</cp:revision>
  <dc:subject/>
  <dc:title>ОЦЕНКА ЭФФЕКТИВНОСТИ ИННОВАЦИЙ </dc:title>
</cp:coreProperties>
</file>