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5E7-8AFE-4B46-817F-9406C67D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797-3B91-4520-A6DF-D34CF82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7C8C-6394-4A0C-B9B5-6D389195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C831F-0A88-4F48-9888-236188B4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BCC8F-F104-48D5-A321-49201E14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07461-E41E-4061-8791-D508CB88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06A72-BA4A-4952-A3B8-11C34040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1A899-065C-4848-93FA-020341BF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C192F-505A-4F61-953F-282312B6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EDADC-F79E-4D96-B8E9-8BE1193B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C1764-C6CC-451B-9BFA-888133F7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02004-CCD4-42D3-B78D-4171369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2C0-CEA1-40F0-A1ED-2F9AC5A4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EE249-A2CE-45E5-879D-4595070E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6A9F8-49D9-428C-8073-0339CC9A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E88A3-F940-41F6-8204-485C1A0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D9195-08CD-4ED0-84FF-81AF8E54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0B4A0-3884-4AA2-BA21-E2C004DD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FF2D9-B593-44BA-997F-E6ECDCA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EB950-FDC8-437D-BA50-A2D45448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2F90F-D553-4F95-BE56-7BA7CD7D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9D856-25B3-400A-8B41-BDA2FC30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8B8C1-7BCA-4358-90AF-72E765B8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F86-AC51-4EED-AED2-CDD88D03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338AA-6AB8-4579-8FB2-000210FC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E3062-0B15-4B67-BC20-E4B4056F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110BB-F6F3-4673-921E-DC483A01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A60B8-3BFA-4AEE-BBAD-28A9589A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85B04-C860-4DD3-9DA9-5395F837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C62A6-640E-4BC9-88BE-025EC290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E5AD1-3FA3-475C-B850-94B144F3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9A2BA-F6F3-4C2A-8265-86C076BF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716BD-154C-4829-8EF5-79D17F2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E9FA0-ABB0-4D86-857E-6AF2EA12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4C4C-0124-4EA2-89F7-8E224FF8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CE7D7-801C-4172-9385-13B1121A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952B-3D2F-4595-9319-A115AFDF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44A17-3F2F-4589-BB9F-DEC00D4C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122F7-CEB1-4D73-B606-A941002F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A5E75-F8B6-409A-A8BB-8DA08029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30056-38AA-4FBA-9A70-FAFAFBBA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22F98-0EBB-47FD-945D-A1E129A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0618E-6F55-49E9-BAFC-71D3F7F6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5DCDD-544D-4DDE-8B3B-2C8F96ED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5954C-9CDA-4DE1-BADC-B0A0A6A5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E671-5F81-4999-90EB-EAD408F0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68970-74EF-44A0-8397-F1AF9B0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2DD8E-EBEF-478D-B6ED-46899C4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ED980-08F9-4723-92C9-3F4747FF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C9D1D-D7F7-4E2E-A47F-435B58F2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88155-F47E-43A6-8AA5-490DBA62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F0C82-8C3F-497C-8C61-576C0C92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4992E-2F0E-4D9D-B300-E82C7353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48F84-DE30-4EAC-8396-C6E7E94A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52BC5-9235-4204-AB9C-DADEC1E6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35D5B-A1BE-4CBA-96A2-97DC8652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5DA-7B82-47EA-8203-7C0DB70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914D0-0B83-4800-A655-1586747F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045FD-FA51-47B1-8118-70C3A552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E993B-8D05-422E-818D-95B357B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FCFBC-0277-4BC0-BBE3-C9CD52B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819C6-3A23-4725-9C3A-ADAE2DEA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33D23-D0EE-4CA3-8560-3BAB7CC7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E14F1-78F2-4888-9354-A58034D7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3D0A7-6F2A-4D00-9B38-0C3111F6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D9484-45C0-4507-B7D2-DAFCB546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C7B86-B6D5-4FFD-BC41-F334206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57DF-43FC-4FD7-9367-BE17E3CC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3EE20-CBE8-4A27-9B40-CFC43DDE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2A364-85A6-4CBB-97ED-1B434FF9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A1A82-3B84-48CC-9085-88F1AA2A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30CFF-5A5B-43ED-BBD8-3B9FE16A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3A1A5-A8BD-430B-8974-39CDC100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61207-8F63-4559-9A5A-3F37C4EA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9549C-DF12-4DCC-9143-9ACEDAD9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AA52F-8EB1-45AD-B6F2-66A849B4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5703A-7DDF-4FC8-8F25-AA7D380E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4754-B3A9-407A-BFFE-77753E2B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6780-CD70-4F5D-8718-228E042D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4EB5-E896-4365-9D7A-BD78831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45B-790A-4EDF-8FE5-8D9525F7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37F9-343C-433E-8B62-0920FDE8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5774-6B3D-413D-BC30-80AE372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544D-9752-4AE0-89C4-5B9BD42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1DB5-886A-4F81-82A3-002FC1C0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17CB-1DC7-4258-B797-70D8C475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DEDE-6B03-4EA8-A02E-A9CCCE4C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4FF4-A5D8-4AC4-B725-BC3C3738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4C1A-C2DD-4228-AEC0-73C381E5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A1AF-3156-490D-9D19-3E533FC6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A2F2E-2269-4A77-9908-BB1E11F0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1CB-9696-4D59-AC90-AFA71D90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7021-3A30-46BA-A4CB-22E1E12C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CAB6-266F-4F59-BA93-2E078757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7CFE-F1A5-4222-A817-79D0BFF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EFD4-E33B-444C-B1AB-A7EC3C7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C100-BC9F-4F8D-8C10-C86D7A6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D64C-BE18-42ED-9D34-3F8C649F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F645-833A-4637-BB60-5CE1844D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F37C-22F1-4E43-9B32-5ABD61FC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EA29-AFE7-4590-A619-DEF7A146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0C87-148F-409F-940D-FE8AF673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1B1-300A-418B-870E-BBD64D96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F30E-FBF4-4FCE-9768-066CD72E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69E5-EC10-40FF-B96B-D0915B24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070E-8895-4A1E-B331-1EF8574D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C0C7-A423-401A-99E2-490A5AF7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F830-40B3-48D0-9D3C-48CA088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B8D2-8489-4A8F-AD9D-4E1F219E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592B-55AD-431C-8928-FCAC42AE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087FA-8936-48D3-8A47-F176D0AC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EF5E-9CC9-400E-B061-22E1B17E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0964-1C8B-4A30-AF8F-E34C92D9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21F-7AF1-468B-A753-3F3D2F17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5ED9-BC26-4652-AF60-B8C831E5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1685-E95F-4DCE-9C90-5C0FD02A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79092-3331-4EF9-8F66-FF2DC07F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A7CB9-8F74-4098-A384-AC531E3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94F4A-530E-46C3-8E97-DD1FE046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61790-C9D5-4CD5-A03E-C389281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00432-AD92-46D2-A0F3-CBA7DA8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5B3EE-0558-4E10-B11E-E0AF3D3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A5F3-A694-48BB-9321-D5BB8097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EB7B6-2394-45D5-BA6F-768E6C32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FA1-A750-4138-A664-C1A00A03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6F741-3A42-4A8E-B2FF-B3949968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4B2EE-3021-4E40-AA53-A5EB1A42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F2E22-3D41-4145-8C35-E27509C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3527A-16E0-46CC-8B3D-2498E54F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F78A7-9321-44E9-B3F2-F9F515CC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D78F1-D3E2-4844-A0D1-FBB22F27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E9A74-23CD-44E0-96FF-D325CF93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49EBB-F0ED-4BC2-8131-B40BD29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422AC-112D-4CD8-A5D6-B1D0F646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89607-C734-4308-8EFC-8187926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7C3-628D-458A-A01F-6C8AA874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62133-99F3-45EB-99E4-28780737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927BD-4C3F-493A-9266-35A24582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BFF6E-0374-4E1B-9843-9BC53515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16A45-6ACD-452F-9059-75D6EFC6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ECBD7-D142-4EDC-95EF-3734D39E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FAC85-DB1D-4727-A09E-E9284CA4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29D6-E9FC-4173-91F1-BF2A252F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9DB43-B880-4C34-BE8B-E8B4B5A6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70629-24D3-490D-8D78-8816645D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798BF-FBB8-439A-B680-A4FF2B8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CF6-E323-4035-974D-236D4F4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156B-CEDE-4A11-9760-1395C90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EF70-F29A-4204-83AB-863DB80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C207-F9EE-40F6-A934-CC49D141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045DD-CBB7-4F43-9224-BD45CBD6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910DF-DE73-42AD-8C5E-46E465CF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D9C41-5F54-40EF-B83F-D44A53BB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171C-BFFB-4B8A-90C5-5E648E1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6961-717E-4A10-9EFC-BBF52F64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8EF18-35BD-4ACF-B8E2-270737B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E55F3-6942-4B9E-8E02-68E1D079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8BF-1A39-4CE4-A7A6-1EFA6BDD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B3E28-84A4-4C92-9C69-2DA0ECA8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800FE-20A0-4BF0-9925-003146DE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920AC-9550-4F99-810B-0D8C6F57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7CEE-0261-4308-8E49-FFBF9FAC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B6696-80F3-45BD-90D6-C6C27D1E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52415-AC78-46F6-8B64-69D9E024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7C052-C926-4328-B355-D4BADE19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64B5D-54ED-4D72-AA5D-9A9C0B4C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59512-55F5-4E27-AFC3-081DEDF5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FBE7C-1D5C-4E35-BC93-D1C0B5A5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C63D-210D-42E8-A2B6-4D8FECBD1B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D34B-9BE6-4573-B976-BC774D3A5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6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7A5D-E50E-4C1C-8DA4-D1C54D6474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4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1AF4-4488-4611-99E0-A256AE45C7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1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1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3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92FA-CA56-46D9-ABBE-F6ABAA91EB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1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1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2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7EC1-CFD9-41E0-B19A-8D093913E2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FDB0-2032-42A7-B19B-D606C8F696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F26B-C345-422C-A0A3-0B0AB8590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62E2-1FEF-45A3-8076-8CEF0E42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4884-991F-4B44-8F89-609EF879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BA3A-C02C-4D3F-AEFA-F592CE781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7F79-47FB-49C9-A41C-4296BE559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DBE5-B07C-41B4-A7A7-F45C6CB45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09A3-2E45-4DD2-B937-F75DF478B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457200" y="1066680"/>
            <a:ext cx="79246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i="1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ика и определение эффективности</a:t>
            </a:r>
            <a:endParaRPr b="0" i="1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новационных проектов</a:t>
            </a:r>
            <a:endParaRPr b="0" i="1" lang="en-US" sz="1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ложная  система  процессов, взаимообусловленных и взаимоувязанных по ресурсам, срокам и стадия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работка инновационного проекта – длительный и  очень  дорогостоящий процесс. Инновационные проекты характеризуются высокой неопределенностью  на всех  стадиях  инновационного  цик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1066680" y="533520"/>
            <a:ext cx="6858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нновационный проект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120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нятие «инновационный проект» употребляется в нескольких аспектах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как дело,  деятельность,  мероприятие,  предполагающее  осуществление      комплекса каких-либо действий, обеспечивающих достижение определенных      цел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как система организационно-правовых и расчетно-финансовых документов,      необходимых для осуществления каких-либо действий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как процесс осуществления инновационной деятельности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и три аспекта подчеркивают значения инновационного проекта как формы организации и целевого управления инновационной деятель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и реализация инновационного проекта включает следующие этап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формирование инновационного замысла (идеи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исследование инновационных возможностей;    - подготовка контрактной документац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одготовка проектной документации;    - строительно-монтажные работ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эксплуатация объект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мониторинг экономических показа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предметно – содержательной структуре и по  характеру инновационнойдеятельности проекты подразделяются н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исследовательские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учно-технические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вязанные с модернизацией и обновлением производственного аппарата;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оекты системного обновления предприятия.      По уровню решения инновационные проекты подразделяются на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федеральны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президентские;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региональные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отраслевые отдельного предприят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5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характеру целей проекта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разделяются 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конеч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промежуточные.                                      По периоду реализации подразделяются 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долгосрочные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реднесрочные;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краткосрочные.                                       По типу инноваций подразделяются 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новый продук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новый метод производств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новый рынок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новый источник сыр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новая структура упр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457200" y="685800"/>
            <a:ext cx="8228880" cy="5408280"/>
            <a:chOff x="457200" y="685800"/>
            <a:chExt cx="8228880" cy="5408280"/>
          </a:xfrm>
        </p:grpSpPr>
        <p:cxnSp>
          <p:nvCxnSpPr>
            <p:cNvPr id="1011" name="_s66588"/>
            <p:cNvCxnSpPr>
              <a:stCxn id="1012" idx="0"/>
              <a:endCxn id="1013" idx="2"/>
            </p:cNvCxnSpPr>
            <p:nvPr/>
          </p:nvCxnSpPr>
          <p:spPr>
            <a:xfrm flipV="1" rot="16200000">
              <a:off x="5470560" y="1949040"/>
              <a:ext cx="1082160" cy="288072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4" name="_s66587"/>
            <p:cNvCxnSpPr>
              <a:stCxn id="1015" idx="0"/>
              <a:endCxn id="1013" idx="2"/>
            </p:cNvCxnSpPr>
            <p:nvPr/>
          </p:nvCxnSpPr>
          <p:spPr>
            <a:xfrm flipV="1">
              <a:off x="4571280" y="2848680"/>
              <a:ext cx="3240" cy="1082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6" name="_s66586"/>
            <p:cNvCxnSpPr>
              <a:stCxn id="1017" idx="0"/>
              <a:endCxn id="1013" idx="2"/>
            </p:cNvCxnSpPr>
            <p:nvPr/>
          </p:nvCxnSpPr>
          <p:spPr>
            <a:xfrm flipH="1" flipV="1" rot="5400000">
              <a:off x="2590200" y="1949400"/>
              <a:ext cx="1082160" cy="288072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13" name="_s66582"/>
            <p:cNvSpPr/>
            <p:nvPr/>
          </p:nvSpPr>
          <p:spPr>
            <a:xfrm>
              <a:off x="3337200" y="685800"/>
              <a:ext cx="2468520" cy="21632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Эффектив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_s66583"/>
            <p:cNvSpPr/>
            <p:nvPr/>
          </p:nvSpPr>
          <p:spPr>
            <a:xfrm>
              <a:off x="457200" y="3930840"/>
              <a:ext cx="2468520" cy="21632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Tahoma"/>
                </a:rPr>
                <a:t>Коммерческая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_s66584"/>
            <p:cNvSpPr/>
            <p:nvPr/>
          </p:nvSpPr>
          <p:spPr>
            <a:xfrm>
              <a:off x="3337200" y="3930840"/>
              <a:ext cx="2468520" cy="21632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Tahoma"/>
                </a:rPr>
                <a:t>Бюджетна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_s66585"/>
            <p:cNvSpPr/>
            <p:nvPr/>
          </p:nvSpPr>
          <p:spPr>
            <a:xfrm>
              <a:off x="6217560" y="3930840"/>
              <a:ext cx="2468520" cy="21632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ahoma"/>
                </a:rPr>
                <a:t>Народохозяйственна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ahoma"/>
                </a:rPr>
                <a:t>экономическа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1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рческая   эффективность    (финансовое    обоснование) проекта определяется соотношением финансовых затрат  и  результатов, обеспечивающихтребуемую    норму    доходности.    Коммерческая    эффективность     может рассчитываться как для  проекта в целом, так и для  отдельных  участников  с учетом их вкладов по правил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114560" y="304920"/>
            <a:ext cx="6914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мерческая эффективность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тели  бюджетной  эффективности  отражают   влияние   результатов осуществления проекта на доходы и  расходы  соответствующего  (федерального,регионального  или  местного)  бюдже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1143000" y="380880"/>
            <a:ext cx="6705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ная эффективность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1680" y="251424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затели народнохозяйственной экономической  эффективности  отражают эффективность проекта с точки зрения интересов народного хозяйства в  целом, также  для  участвующих  в   осуществлении   проекта   регионов   (субъектов федерации), отраслей, организа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838080" y="457200"/>
            <a:ext cx="7086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охозяйственная</a:t>
            </a:r>
            <a:endParaRPr b="0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ая</a:t>
            </a:r>
            <a:endParaRPr b="0" i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ффективность</a:t>
            </a:r>
            <a:endParaRPr b="0" i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9T21:23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