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4.wmf" ContentType="image/x-wmf"/>
  <Override PartName="/ppt/media/image2.png" ContentType="image/png"/>
  <Override PartName="/ppt/media/image15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40F-73A1-47FB-8F83-A5984D43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4EE-28FB-4142-8335-31679328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A11-71B2-46B4-9E8D-8228D8C0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F88-0C28-46E5-A80B-ED85E7AA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927-8E15-403B-A197-3E046F3C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F88-FAF8-4992-AF3C-905772FF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74D-ED25-4378-8214-443599C9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7F9-DCDA-4D64-A731-852BD0CB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7E4-70F1-4A03-93F5-6A50653B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C55-CD84-41D3-8270-4875245E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F82-E103-4B5E-8406-6708E23E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A75-DB56-4942-82CC-490E63D6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80A8-7CEE-4209-8C78-57EC22E111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10. Развитие инноваций в малом и среднем бизнес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спублики Казахст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9" descr="0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152280" y="1522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сновные меры поддержки бизнеса, в том числе инновационно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52280" y="1143000"/>
            <a:ext cx="876312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Увеличение доли МСБ в ВВП до 40% к 2020 году и оптимизация его струк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одержимое 2"/>
          <p:cNvSpPr/>
          <p:nvPr/>
        </p:nvSpPr>
        <p:spPr>
          <a:xfrm>
            <a:off x="304920" y="1676520"/>
            <a:ext cx="8610480" cy="344520"/>
          </a:xfrm>
          <a:prstGeom prst="rect">
            <a:avLst/>
          </a:prstGeom>
          <a:solidFill>
            <a:srgbClr val="002060">
              <a:alpha val="67000"/>
            </a:srgbClr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вышение инновационной активности МС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1219320" y="2406600"/>
            <a:ext cx="7391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хнопарки и СЭЗ в приоритетных секторах экономик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219320" y="3092400"/>
            <a:ext cx="7391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аборатории и опытно конструкторские бюр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219320" y="3809880"/>
            <a:ext cx="7391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знес инкуба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219320" y="4572000"/>
            <a:ext cx="7391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ы МС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219320" y="5257800"/>
            <a:ext cx="7391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онно-консалтинговые цент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533520" y="22860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609480" y="3276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60948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6094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609480" y="4724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09480" y="5410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Rectangle 3"/>
          <p:cNvGrpSpPr/>
          <p:nvPr/>
        </p:nvGrpSpPr>
        <p:grpSpPr>
          <a:xfrm>
            <a:off x="255600" y="914400"/>
            <a:ext cx="8480520" cy="554040"/>
            <a:chOff x="255600" y="914400"/>
            <a:chExt cx="8480520" cy="554040"/>
          </a:xfrm>
        </p:grpSpPr>
        <p:pic>
          <p:nvPicPr>
            <p:cNvPr id="189" name="Rectangle 3" descr=""/>
            <p:cNvPicPr/>
            <p:nvPr/>
          </p:nvPicPr>
          <p:blipFill>
            <a:blip r:embed="rId1"/>
            <a:stretch/>
          </p:blipFill>
          <p:spPr>
            <a:xfrm>
              <a:off x="255600" y="914400"/>
              <a:ext cx="84805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80880" y="1030320"/>
              <a:ext cx="8229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витель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9"/>
          <p:cNvSpPr/>
          <p:nvPr/>
        </p:nvSpPr>
        <p:spPr>
          <a:xfrm>
            <a:off x="304920" y="2471760"/>
            <a:ext cx="1295280" cy="1951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Т Р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1905120" y="2471760"/>
            <a:ext cx="1224000" cy="1951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ЭРТ Р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533520" y="2743200"/>
            <a:ext cx="1066680" cy="22860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ный совет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2"/>
          <p:cNvSpPr/>
          <p:nvPr/>
        </p:nvSpPr>
        <p:spPr>
          <a:xfrm>
            <a:off x="1905120" y="2743200"/>
            <a:ext cx="990360" cy="22860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ный сове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7"/>
          <p:cNvSpPr/>
          <p:nvPr/>
        </p:nvSpPr>
        <p:spPr>
          <a:xfrm>
            <a:off x="533520" y="3048120"/>
            <a:ext cx="1071360" cy="45720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индустриально – инновационного развити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8"/>
          <p:cNvSpPr/>
          <p:nvPr/>
        </p:nvSpPr>
        <p:spPr>
          <a:xfrm>
            <a:off x="1905120" y="3124080"/>
            <a:ext cx="990360" cy="45720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развития предпринимательств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Rectangle 64"/>
          <p:cNvGrpSpPr/>
          <p:nvPr/>
        </p:nvGrpSpPr>
        <p:grpSpPr>
          <a:xfrm>
            <a:off x="7669080" y="1981080"/>
            <a:ext cx="1249560" cy="487440"/>
            <a:chOff x="7669080" y="1981080"/>
            <a:chExt cx="1249560" cy="487440"/>
          </a:xfrm>
        </p:grpSpPr>
        <p:pic>
          <p:nvPicPr>
            <p:cNvPr id="198" name="Rectangle 64" descr=""/>
            <p:cNvPicPr/>
            <p:nvPr/>
          </p:nvPicPr>
          <p:blipFill>
            <a:blip r:embed="rId2"/>
            <a:stretch/>
          </p:blipFill>
          <p:spPr>
            <a:xfrm>
              <a:off x="7669080" y="1981080"/>
              <a:ext cx="12495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686720" y="200016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ждународные донорские организаци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Rectangle 133"/>
          <p:cNvGrpSpPr/>
          <p:nvPr/>
        </p:nvGrpSpPr>
        <p:grpSpPr>
          <a:xfrm>
            <a:off x="4164120" y="1981080"/>
            <a:ext cx="1401480" cy="457200"/>
            <a:chOff x="4164120" y="1981080"/>
            <a:chExt cx="1401480" cy="457200"/>
          </a:xfrm>
        </p:grpSpPr>
        <p:pic>
          <p:nvPicPr>
            <p:cNvPr id="201" name="Rectangle 133" descr=""/>
            <p:cNvPicPr/>
            <p:nvPr/>
          </p:nvPicPr>
          <p:blipFill>
            <a:blip r:embed="rId3"/>
            <a:stretch/>
          </p:blipFill>
          <p:spPr>
            <a:xfrm>
              <a:off x="4164120" y="1981080"/>
              <a:ext cx="1401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181400" y="2001960"/>
              <a:ext cx="137160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О Фонд Национального благосостояния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kk-KZ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мрук – Казына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35"/>
          <p:cNvSpPr/>
          <p:nvPr/>
        </p:nvSpPr>
        <p:spPr>
          <a:xfrm>
            <a:off x="4191120" y="3048120"/>
            <a:ext cx="1066680" cy="30456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 Развития Казахстана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36"/>
          <p:cNvSpPr/>
          <p:nvPr/>
        </p:nvSpPr>
        <p:spPr>
          <a:xfrm>
            <a:off x="4191120" y="3429000"/>
            <a:ext cx="1066680" cy="22860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ый Фонд Казахстана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Rectangle 137"/>
          <p:cNvGrpSpPr/>
          <p:nvPr/>
        </p:nvGrpSpPr>
        <p:grpSpPr>
          <a:xfrm>
            <a:off x="5840280" y="1981080"/>
            <a:ext cx="1554120" cy="262080"/>
            <a:chOff x="5840280" y="1981080"/>
            <a:chExt cx="1554120" cy="262080"/>
          </a:xfrm>
        </p:grpSpPr>
        <p:pic>
          <p:nvPicPr>
            <p:cNvPr id="206" name="Rectangle 137" descr=""/>
            <p:cNvPicPr/>
            <p:nvPr/>
          </p:nvPicPr>
          <p:blipFill>
            <a:blip r:embed="rId4"/>
            <a:stretch/>
          </p:blipFill>
          <p:spPr>
            <a:xfrm>
              <a:off x="5840280" y="1981080"/>
              <a:ext cx="155412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857920" y="2000160"/>
              <a:ext cx="152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кимат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140"/>
          <p:cNvSpPr/>
          <p:nvPr/>
        </p:nvSpPr>
        <p:spPr>
          <a:xfrm>
            <a:off x="5867280" y="2514600"/>
            <a:ext cx="1143000" cy="38088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программы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а 202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2"/>
          <p:cNvSpPr/>
          <p:nvPr/>
        </p:nvSpPr>
        <p:spPr>
          <a:xfrm>
            <a:off x="5867280" y="3581280"/>
            <a:ext cx="1143000" cy="3812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ы предпринимательства в акимата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4"/>
          <p:cNvSpPr/>
          <p:nvPr/>
        </p:nvSpPr>
        <p:spPr>
          <a:xfrm>
            <a:off x="5867280" y="4114800"/>
            <a:ext cx="1143000" cy="3049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 – предпринимательские корпораций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49"/>
          <p:cNvSpPr/>
          <p:nvPr/>
        </p:nvSpPr>
        <p:spPr>
          <a:xfrm>
            <a:off x="4191120" y="4114800"/>
            <a:ext cx="1052280" cy="3049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  ФРП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му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66"/>
          <p:cNvSpPr/>
          <p:nvPr/>
        </p:nvSpPr>
        <p:spPr>
          <a:xfrm>
            <a:off x="533520" y="3581280"/>
            <a:ext cx="1066680" cy="45720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инжиниринга и трансферта технологий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74"/>
          <p:cNvSpPr/>
          <p:nvPr/>
        </p:nvSpPr>
        <p:spPr>
          <a:xfrm>
            <a:off x="4191120" y="3733920"/>
            <a:ext cx="1066680" cy="22860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й инновационный фонд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12"/>
          <p:cNvSpPr/>
          <p:nvPr/>
        </p:nvSpPr>
        <p:spPr>
          <a:xfrm>
            <a:off x="1905120" y="3733920"/>
            <a:ext cx="990360" cy="53316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государственного частного предпринимательств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76"/>
          <p:cNvSpPr/>
          <p:nvPr/>
        </p:nvSpPr>
        <p:spPr>
          <a:xfrm>
            <a:off x="7696080" y="2590920"/>
            <a:ext cx="914400" cy="22860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иатский банк развити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78"/>
          <p:cNvSpPr/>
          <p:nvPr/>
        </p:nvSpPr>
        <p:spPr>
          <a:xfrm>
            <a:off x="7696080" y="2971800"/>
            <a:ext cx="914400" cy="22860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ирный Банк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80"/>
          <p:cNvSpPr/>
          <p:nvPr/>
        </p:nvSpPr>
        <p:spPr>
          <a:xfrm>
            <a:off x="7696080" y="3352680"/>
            <a:ext cx="914400" cy="3049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ламский банк развити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81"/>
          <p:cNvSpPr/>
          <p:nvPr/>
        </p:nvSpPr>
        <p:spPr>
          <a:xfrm>
            <a:off x="7696080" y="3809880"/>
            <a:ext cx="914400" cy="3812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тство по международному развитию (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ID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1"/>
          <p:cNvSpPr/>
          <p:nvPr/>
        </p:nvSpPr>
        <p:spPr>
          <a:xfrm>
            <a:off x="4191120" y="2514600"/>
            <a:ext cx="1066680" cy="38088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й управляющий холдинг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гро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41"/>
          <p:cNvSpPr/>
          <p:nvPr/>
        </p:nvSpPr>
        <p:spPr>
          <a:xfrm>
            <a:off x="685800" y="4114800"/>
            <a:ext cx="923760" cy="45720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парки, бизнес инкубаторы, специальные экономические и индустриальные зоны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3"/>
          <p:cNvSpPr/>
          <p:nvPr/>
        </p:nvSpPr>
        <p:spPr>
          <a:xfrm>
            <a:off x="304920" y="4667400"/>
            <a:ext cx="1062000" cy="28548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парк «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tau IT-City»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Астан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45"/>
          <p:cNvSpPr/>
          <p:nvPr/>
        </p:nvSpPr>
        <p:spPr>
          <a:xfrm>
            <a:off x="304920" y="5052960"/>
            <a:ext cx="1062000" cy="3571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тинский региональный технопарк г. Алмат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47"/>
          <p:cNvSpPr/>
          <p:nvPr/>
        </p:nvSpPr>
        <p:spPr>
          <a:xfrm>
            <a:off x="304920" y="5505480"/>
            <a:ext cx="1062000" cy="2858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ый технопарк г. Астаны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49"/>
          <p:cNvSpPr/>
          <p:nvPr/>
        </p:nvSpPr>
        <p:spPr>
          <a:xfrm>
            <a:off x="304920" y="5886360"/>
            <a:ext cx="1062000" cy="2858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парк «Алгоритм»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Уральск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52"/>
          <p:cNvSpPr/>
          <p:nvPr/>
        </p:nvSpPr>
        <p:spPr>
          <a:xfrm>
            <a:off x="304920" y="6272280"/>
            <a:ext cx="1062000" cy="3571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парк «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ScienTech» 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раганд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58"/>
          <p:cNvSpPr/>
          <p:nvPr/>
        </p:nvSpPr>
        <p:spPr>
          <a:xfrm>
            <a:off x="5867280" y="3071880"/>
            <a:ext cx="1143000" cy="3571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ные совет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2"/>
          <p:cNvSpPr/>
          <p:nvPr/>
        </p:nvSpPr>
        <p:spPr>
          <a:xfrm>
            <a:off x="4419720" y="4572000"/>
            <a:ext cx="838080" cy="38088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и второго уровн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ВУ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Rectangle 6"/>
          <p:cNvGrpSpPr/>
          <p:nvPr/>
        </p:nvGrpSpPr>
        <p:grpSpPr>
          <a:xfrm>
            <a:off x="304920" y="1987560"/>
            <a:ext cx="2895480" cy="371520"/>
            <a:chOff x="304920" y="1987560"/>
            <a:chExt cx="2895480" cy="371520"/>
          </a:xfrm>
        </p:grpSpPr>
        <p:pic>
          <p:nvPicPr>
            <p:cNvPr id="229" name="Rectangle 6" descr=""/>
            <p:cNvPicPr/>
            <p:nvPr/>
          </p:nvPicPr>
          <p:blipFill>
            <a:blip r:embed="rId5"/>
            <a:stretch/>
          </p:blipFill>
          <p:spPr>
            <a:xfrm>
              <a:off x="304920" y="1987560"/>
              <a:ext cx="28954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25440" y="2003400"/>
              <a:ext cx="28623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нистерства РК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Line 5"/>
          <p:cNvSpPr/>
          <p:nvPr/>
        </p:nvSpPr>
        <p:spPr>
          <a:xfrm>
            <a:off x="1447920" y="1828800"/>
            <a:ext cx="685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1"/>
          <p:cNvSpPr/>
          <p:nvPr/>
        </p:nvSpPr>
        <p:spPr>
          <a:xfrm flipH="1">
            <a:off x="159984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1"/>
          <p:cNvSpPr/>
          <p:nvPr/>
        </p:nvSpPr>
        <p:spPr>
          <a:xfrm>
            <a:off x="17524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3"/>
          <p:cNvSpPr/>
          <p:nvPr/>
        </p:nvSpPr>
        <p:spPr>
          <a:xfrm>
            <a:off x="1447920" y="1836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4419720" y="1836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662940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830592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1066680" y="2666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2438280" y="2666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0"/>
          <p:cNvSpPr/>
          <p:nvPr/>
        </p:nvSpPr>
        <p:spPr>
          <a:xfrm>
            <a:off x="304920" y="2819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1"/>
          <p:cNvSpPr/>
          <p:nvPr/>
        </p:nvSpPr>
        <p:spPr>
          <a:xfrm>
            <a:off x="304920" y="3809880"/>
            <a:ext cx="22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0"/>
          <p:cNvSpPr/>
          <p:nvPr/>
        </p:nvSpPr>
        <p:spPr>
          <a:xfrm>
            <a:off x="5335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1"/>
          <p:cNvSpPr/>
          <p:nvPr/>
        </p:nvSpPr>
        <p:spPr>
          <a:xfrm>
            <a:off x="304920" y="434340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0"/>
          <p:cNvSpPr/>
          <p:nvPr/>
        </p:nvSpPr>
        <p:spPr>
          <a:xfrm>
            <a:off x="1600200" y="4572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1"/>
          <p:cNvSpPr/>
          <p:nvPr/>
        </p:nvSpPr>
        <p:spPr>
          <a:xfrm flipH="1">
            <a:off x="137124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1"/>
          <p:cNvSpPr/>
          <p:nvPr/>
        </p:nvSpPr>
        <p:spPr>
          <a:xfrm flipH="1">
            <a:off x="137124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1"/>
          <p:cNvSpPr/>
          <p:nvPr/>
        </p:nvSpPr>
        <p:spPr>
          <a:xfrm flipH="1">
            <a:off x="137124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1"/>
          <p:cNvSpPr/>
          <p:nvPr/>
        </p:nvSpPr>
        <p:spPr>
          <a:xfrm flipH="1">
            <a:off x="137124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1"/>
          <p:cNvSpPr/>
          <p:nvPr/>
        </p:nvSpPr>
        <p:spPr>
          <a:xfrm flipH="1">
            <a:off x="137124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0"/>
          <p:cNvSpPr/>
          <p:nvPr/>
        </p:nvSpPr>
        <p:spPr>
          <a:xfrm>
            <a:off x="312408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1"/>
          <p:cNvSpPr/>
          <p:nvPr/>
        </p:nvSpPr>
        <p:spPr>
          <a:xfrm flipH="1">
            <a:off x="289512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0"/>
          <p:cNvSpPr/>
          <p:nvPr/>
        </p:nvSpPr>
        <p:spPr>
          <a:xfrm>
            <a:off x="556272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1"/>
          <p:cNvSpPr/>
          <p:nvPr/>
        </p:nvSpPr>
        <p:spPr>
          <a:xfrm flipH="1">
            <a:off x="525744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81"/>
          <p:cNvSpPr/>
          <p:nvPr/>
        </p:nvSpPr>
        <p:spPr>
          <a:xfrm flipH="1">
            <a:off x="525744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1"/>
          <p:cNvSpPr/>
          <p:nvPr/>
        </p:nvSpPr>
        <p:spPr>
          <a:xfrm flipH="1">
            <a:off x="5257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1"/>
          <p:cNvSpPr/>
          <p:nvPr/>
        </p:nvSpPr>
        <p:spPr>
          <a:xfrm flipH="1">
            <a:off x="525744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1"/>
          <p:cNvSpPr/>
          <p:nvPr/>
        </p:nvSpPr>
        <p:spPr>
          <a:xfrm flipH="1">
            <a:off x="52574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0"/>
          <p:cNvSpPr/>
          <p:nvPr/>
        </p:nvSpPr>
        <p:spPr>
          <a:xfrm>
            <a:off x="7391520" y="2209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1"/>
          <p:cNvSpPr/>
          <p:nvPr/>
        </p:nvSpPr>
        <p:spPr>
          <a:xfrm flipH="1">
            <a:off x="700992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1"/>
          <p:cNvSpPr/>
          <p:nvPr/>
        </p:nvSpPr>
        <p:spPr>
          <a:xfrm flipH="1">
            <a:off x="7009920" y="2666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1"/>
          <p:cNvSpPr/>
          <p:nvPr/>
        </p:nvSpPr>
        <p:spPr>
          <a:xfrm flipH="1">
            <a:off x="70099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1"/>
          <p:cNvSpPr/>
          <p:nvPr/>
        </p:nvSpPr>
        <p:spPr>
          <a:xfrm flipH="1">
            <a:off x="700992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0"/>
          <p:cNvSpPr/>
          <p:nvPr/>
        </p:nvSpPr>
        <p:spPr>
          <a:xfrm>
            <a:off x="8915400" y="2438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1"/>
          <p:cNvSpPr/>
          <p:nvPr/>
        </p:nvSpPr>
        <p:spPr>
          <a:xfrm flipH="1">
            <a:off x="861012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1"/>
          <p:cNvSpPr/>
          <p:nvPr/>
        </p:nvSpPr>
        <p:spPr>
          <a:xfrm flipH="1">
            <a:off x="861012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1"/>
          <p:cNvSpPr/>
          <p:nvPr/>
        </p:nvSpPr>
        <p:spPr>
          <a:xfrm flipH="1">
            <a:off x="861012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1"/>
          <p:cNvSpPr/>
          <p:nvPr/>
        </p:nvSpPr>
        <p:spPr>
          <a:xfrm>
            <a:off x="8915400" y="3886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81"/>
          <p:cNvSpPr/>
          <p:nvPr/>
        </p:nvSpPr>
        <p:spPr>
          <a:xfrm flipH="1">
            <a:off x="861012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1"/>
          <p:cNvSpPr/>
          <p:nvPr/>
        </p:nvSpPr>
        <p:spPr>
          <a:xfrm>
            <a:off x="7391520" y="37339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81"/>
          <p:cNvSpPr/>
          <p:nvPr/>
        </p:nvSpPr>
        <p:spPr>
          <a:xfrm>
            <a:off x="556272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1"/>
          <p:cNvSpPr/>
          <p:nvPr/>
        </p:nvSpPr>
        <p:spPr>
          <a:xfrm>
            <a:off x="1752480" y="2362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81"/>
          <p:cNvSpPr/>
          <p:nvPr/>
        </p:nvSpPr>
        <p:spPr>
          <a:xfrm flipH="1">
            <a:off x="1599840" y="2895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81"/>
          <p:cNvSpPr/>
          <p:nvPr/>
        </p:nvSpPr>
        <p:spPr>
          <a:xfrm>
            <a:off x="1752480" y="2895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1"/>
          <p:cNvSpPr/>
          <p:nvPr/>
        </p:nvSpPr>
        <p:spPr>
          <a:xfrm flipH="1">
            <a:off x="320004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1"/>
          <p:cNvSpPr/>
          <p:nvPr/>
        </p:nvSpPr>
        <p:spPr>
          <a:xfrm>
            <a:off x="33526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81"/>
          <p:cNvSpPr/>
          <p:nvPr/>
        </p:nvSpPr>
        <p:spPr>
          <a:xfrm flipH="1">
            <a:off x="525744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0"/>
          <p:cNvSpPr/>
          <p:nvPr/>
        </p:nvSpPr>
        <p:spPr>
          <a:xfrm>
            <a:off x="41911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81"/>
          <p:cNvSpPr/>
          <p:nvPr/>
        </p:nvSpPr>
        <p:spPr>
          <a:xfrm>
            <a:off x="419112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3"/>
          <p:cNvSpPr/>
          <p:nvPr/>
        </p:nvSpPr>
        <p:spPr>
          <a:xfrm>
            <a:off x="1752480" y="5105520"/>
            <a:ext cx="716292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тельственный секто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0"/>
          <p:cNvSpPr/>
          <p:nvPr/>
        </p:nvSpPr>
        <p:spPr>
          <a:xfrm>
            <a:off x="358128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1"/>
          <p:cNvSpPr/>
          <p:nvPr/>
        </p:nvSpPr>
        <p:spPr>
          <a:xfrm flipH="1">
            <a:off x="3276720" y="5562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8"/>
          <p:cNvSpPr/>
          <p:nvPr/>
        </p:nvSpPr>
        <p:spPr>
          <a:xfrm>
            <a:off x="2209680" y="5410080"/>
            <a:ext cx="1062000" cy="2858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тельственные организации (НПО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1"/>
          <p:cNvSpPr/>
          <p:nvPr/>
        </p:nvSpPr>
        <p:spPr>
          <a:xfrm flipH="1">
            <a:off x="32767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51"/>
          <p:cNvSpPr/>
          <p:nvPr/>
        </p:nvSpPr>
        <p:spPr>
          <a:xfrm>
            <a:off x="2209680" y="5791320"/>
            <a:ext cx="1062000" cy="28548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амекен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1"/>
          <p:cNvSpPr/>
          <p:nvPr/>
        </p:nvSpPr>
        <p:spPr>
          <a:xfrm flipH="1">
            <a:off x="3276720" y="632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3"/>
          <p:cNvSpPr/>
          <p:nvPr/>
        </p:nvSpPr>
        <p:spPr>
          <a:xfrm>
            <a:off x="2209680" y="6172200"/>
            <a:ext cx="1062000" cy="2858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евые ассоциаций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81"/>
          <p:cNvSpPr/>
          <p:nvPr/>
        </p:nvSpPr>
        <p:spPr>
          <a:xfrm>
            <a:off x="35812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56"/>
          <p:cNvSpPr/>
          <p:nvPr/>
        </p:nvSpPr>
        <p:spPr>
          <a:xfrm>
            <a:off x="3886200" y="5410080"/>
            <a:ext cx="1062000" cy="2858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о – промышленная палат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1"/>
          <p:cNvSpPr/>
          <p:nvPr/>
        </p:nvSpPr>
        <p:spPr>
          <a:xfrm>
            <a:off x="3581280" y="5943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8"/>
          <p:cNvSpPr/>
          <p:nvPr/>
        </p:nvSpPr>
        <p:spPr>
          <a:xfrm>
            <a:off x="3886200" y="5791320"/>
            <a:ext cx="1062000" cy="28548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ум предпринимателей Казахстан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81"/>
          <p:cNvSpPr/>
          <p:nvPr/>
        </p:nvSpPr>
        <p:spPr>
          <a:xfrm>
            <a:off x="3581280" y="632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80"/>
          <p:cNvSpPr/>
          <p:nvPr/>
        </p:nvSpPr>
        <p:spPr>
          <a:xfrm>
            <a:off x="6477120" y="5334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1"/>
          <p:cNvSpPr/>
          <p:nvPr/>
        </p:nvSpPr>
        <p:spPr>
          <a:xfrm flipH="1">
            <a:off x="617184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63"/>
          <p:cNvSpPr/>
          <p:nvPr/>
        </p:nvSpPr>
        <p:spPr>
          <a:xfrm>
            <a:off x="3886200" y="6172200"/>
            <a:ext cx="1062000" cy="2858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ные совет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1"/>
          <p:cNvSpPr/>
          <p:nvPr/>
        </p:nvSpPr>
        <p:spPr>
          <a:xfrm flipH="1">
            <a:off x="6171840" y="5943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5"/>
          <p:cNvSpPr/>
          <p:nvPr/>
        </p:nvSpPr>
        <p:spPr>
          <a:xfrm>
            <a:off x="5105520" y="5410080"/>
            <a:ext cx="1062000" cy="2858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консалтинговые компаний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70"/>
          <p:cNvSpPr/>
          <p:nvPr/>
        </p:nvSpPr>
        <p:spPr>
          <a:xfrm>
            <a:off x="5105520" y="5791320"/>
            <a:ext cx="1062000" cy="28548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 центр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73"/>
          <p:cNvSpPr/>
          <p:nvPr/>
        </p:nvSpPr>
        <p:spPr>
          <a:xfrm>
            <a:off x="5105520" y="6172200"/>
            <a:ext cx="1062000" cy="2858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ые компании по маркетингу, налоговой и финансовой отчетност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81"/>
          <p:cNvSpPr/>
          <p:nvPr/>
        </p:nvSpPr>
        <p:spPr>
          <a:xfrm flipH="1">
            <a:off x="6171840" y="632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81"/>
          <p:cNvSpPr/>
          <p:nvPr/>
        </p:nvSpPr>
        <p:spPr>
          <a:xfrm flipH="1">
            <a:off x="28951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1"/>
          <p:cNvSpPr/>
          <p:nvPr/>
        </p:nvSpPr>
        <p:spPr>
          <a:xfrm>
            <a:off x="304920" y="2819520"/>
            <a:ext cx="22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1"/>
          <p:cNvSpPr/>
          <p:nvPr/>
        </p:nvSpPr>
        <p:spPr>
          <a:xfrm>
            <a:off x="304920" y="3276720"/>
            <a:ext cx="22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81"/>
          <p:cNvSpPr/>
          <p:nvPr/>
        </p:nvSpPr>
        <p:spPr>
          <a:xfrm flipH="1">
            <a:off x="2895120" y="4038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2"/>
          <p:cNvSpPr/>
          <p:nvPr/>
        </p:nvSpPr>
        <p:spPr>
          <a:xfrm>
            <a:off x="3276720" y="3733920"/>
            <a:ext cx="838080" cy="53316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тут экономических исследований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1"/>
          <p:cNvSpPr/>
          <p:nvPr/>
        </p:nvSpPr>
        <p:spPr>
          <a:xfrm>
            <a:off x="31240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1"/>
          <p:cNvSpPr/>
          <p:nvPr/>
        </p:nvSpPr>
        <p:spPr>
          <a:xfrm flipH="1">
            <a:off x="861012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90"/>
          <p:cNvSpPr/>
          <p:nvPr/>
        </p:nvSpPr>
        <p:spPr>
          <a:xfrm>
            <a:off x="7696080" y="4343400"/>
            <a:ext cx="914400" cy="38088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ий банк реконструкций и развити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91"/>
          <p:cNvSpPr/>
          <p:nvPr/>
        </p:nvSpPr>
        <p:spPr>
          <a:xfrm>
            <a:off x="2209680" y="6629400"/>
            <a:ext cx="396252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81"/>
          <p:cNvSpPr/>
          <p:nvPr/>
        </p:nvSpPr>
        <p:spPr>
          <a:xfrm flipV="1">
            <a:off x="4191120" y="6553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Rectangle 195"/>
          <p:cNvGrpSpPr/>
          <p:nvPr/>
        </p:nvGrpSpPr>
        <p:grpSpPr>
          <a:xfrm>
            <a:off x="2955960" y="1487520"/>
            <a:ext cx="3305160" cy="262080"/>
            <a:chOff x="2955960" y="1487520"/>
            <a:chExt cx="3305160" cy="262080"/>
          </a:xfrm>
        </p:grpSpPr>
        <p:pic>
          <p:nvPicPr>
            <p:cNvPr id="311" name="Rectangle 195" descr=""/>
            <p:cNvPicPr/>
            <p:nvPr/>
          </p:nvPicPr>
          <p:blipFill>
            <a:blip r:embed="rId6"/>
            <a:stretch/>
          </p:blipFill>
          <p:spPr>
            <a:xfrm>
              <a:off x="2955960" y="1487520"/>
              <a:ext cx="33051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2971800" y="1508040"/>
              <a:ext cx="327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жведомственная комиссия по улучшению бизнес климата в Р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Line 13"/>
          <p:cNvSpPr/>
          <p:nvPr/>
        </p:nvSpPr>
        <p:spPr>
          <a:xfrm>
            <a:off x="228600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>
            <a:off x="71629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3"/>
          <p:cNvSpPr/>
          <p:nvPr/>
        </p:nvSpPr>
        <p:spPr>
          <a:xfrm>
            <a:off x="4495680" y="13795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2057400" y="6553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80"/>
          <p:cNvSpPr/>
          <p:nvPr/>
        </p:nvSpPr>
        <p:spPr>
          <a:xfrm>
            <a:off x="2057400" y="5334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01"/>
          <p:cNvPicPr/>
          <p:nvPr/>
        </p:nvPicPr>
        <p:blipFill>
          <a:blip r:embed="rId7"/>
          <a:stretch/>
        </p:blipFill>
        <p:spPr>
          <a:xfrm>
            <a:off x="0" y="-2700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38"/>
          <p:cNvSpPr/>
          <p:nvPr/>
        </p:nvSpPr>
        <p:spPr>
          <a:xfrm>
            <a:off x="152280" y="1522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йствующая система государственных органов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К, осуществляющих государственную поддержку МС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9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"/>
          <p:cNvGraphicFramePr/>
          <p:nvPr/>
        </p:nvGraphicFramePr>
        <p:xfrm>
          <a:off x="179280" y="1366920"/>
          <a:ext cx="8713800" cy="4746600"/>
        </p:xfrm>
        <a:graphic>
          <a:graphicData uri="http://schemas.openxmlformats.org/drawingml/2006/table">
            <a:tbl>
              <a:tblPr/>
              <a:tblGrid>
                <a:gridCol w="1271520"/>
                <a:gridCol w="1249560"/>
                <a:gridCol w="1224000"/>
                <a:gridCol w="1079280"/>
                <a:gridCol w="1584360"/>
                <a:gridCol w="1079640"/>
                <a:gridCol w="1225440"/>
              </a:tblGrid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Эта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арамет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 - эта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Зарожд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бизнес иде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 - эта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нализ и проектир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 - эта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ланирование бизнес процесс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 - эта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ценка ресурс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 - эта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Запуск предпри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 – эта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альнейшее развитие бизне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оку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деи и желания создать МС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нализ рынка, нахождение маркетинговой ниш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зработка бизнес план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иск и нахождение ресурс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гистрация бизнес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иверсификация  и реорганиза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изнеса, слияние, поглощение, интегрирование с крупным бизнес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иды поддерж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озд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мидж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спеш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азахстанск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едпринимате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Обу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Консалти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Тренин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Обу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Консалти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Тренин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Финансовая поддерж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Инфраструктурное обеспе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Помощь при регистр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Консалти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Снижение налоговой нагруз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Кредитов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комендации по усилению государственной поддерж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опаганд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еиму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едпринимательско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еятельности 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оздание сет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нсалтинговых 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учающ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центр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ормирование единой базы бизнес процесс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Активизация Центров поддержки предприниматель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Повышение эффективности деятельности технопарков, бизнес-инкубатор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Снижение процентных ставок кредит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Снижение административных барьер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Снижение корруп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Снижение процентных ставок кредит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Снижение административных барьер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Снижение корруп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Созд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ll-Center</a:t>
                      </a:r>
                      <a:r>
                        <a:rPr b="0" lang="kk-KZ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для субъектов МС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Rectangle 50"/>
          <p:cNvSpPr/>
          <p:nvPr/>
        </p:nvSpPr>
        <p:spPr>
          <a:xfrm>
            <a:off x="152280" y="1522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атегия точечной поддержки на различных этапах жизненного цикла инновационного МС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9" descr="0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4"/>
          <p:cNvSpPr/>
          <p:nvPr/>
        </p:nvSpPr>
        <p:spPr>
          <a:xfrm>
            <a:off x="152280" y="1522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акон «О государственной поддержке инновационной деятельност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ополагающим нормативно-правовым актом в области инновационного развития является Закон Республики Казахстан от 23 марта 2006 года «О государственной поддержке инновационной деятельности», в который были внесены изменения и дополнения Законом Республики Казахстан от 30 марта 2009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оном устанавливаются нормы государственной поддержки в виде инновационных гранто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457200" y="2787480"/>
            <a:ext cx="8305920" cy="3373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риобретение инновационных технолог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457200" y="3381480"/>
            <a:ext cx="8305920" cy="580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выполнение опытно-конструкторских работ и (или) рисковых исследований прикладного характер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57200" y="4311720"/>
            <a:ext cx="8305920" cy="3373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одготовку технико-экономического обоснования инновационного проек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57200" y="4952880"/>
            <a:ext cx="8305920" cy="580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атентование объекта интеллектуальной собственности в иностранных государствах и (или) международных патентных организац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9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4"/>
          <p:cNvSpPr/>
          <p:nvPr/>
        </p:nvSpPr>
        <p:spPr>
          <a:xfrm>
            <a:off x="3780000" y="1268280"/>
            <a:ext cx="1584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Технопарки (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6443640" y="2349360"/>
            <a:ext cx="2166840" cy="470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Вузы (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7020000" y="2997360"/>
            <a:ext cx="1944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КазНУ им. Аль-Фара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"/>
          <p:cNvSpPr/>
          <p:nvPr/>
        </p:nvSpPr>
        <p:spPr>
          <a:xfrm>
            <a:off x="1547640" y="206064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730872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7020000" y="3500280"/>
            <a:ext cx="1944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НПУ им. К.Сатпа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7020000" y="4005360"/>
            <a:ext cx="1944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ВКГТУ им. Д. Серикба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6588000" y="2781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2"/>
          <p:cNvSpPr/>
          <p:nvPr/>
        </p:nvSpPr>
        <p:spPr>
          <a:xfrm>
            <a:off x="658800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3"/>
          <p:cNvSpPr/>
          <p:nvPr/>
        </p:nvSpPr>
        <p:spPr>
          <a:xfrm>
            <a:off x="658800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4"/>
          <p:cNvSpPr/>
          <p:nvPr/>
        </p:nvSpPr>
        <p:spPr>
          <a:xfrm>
            <a:off x="6588000" y="314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3564000" y="2349360"/>
            <a:ext cx="2151000" cy="470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Региональные технопар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АО «ЦИТТ»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755640" y="2349360"/>
            <a:ext cx="2063880" cy="470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Национальные науч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Технологические парки (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154764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457200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4140360" y="3068640"/>
            <a:ext cx="1944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Технопарк в Караган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4140360" y="3645000"/>
            <a:ext cx="1944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Технопарк в Ураль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4140360" y="4221000"/>
            <a:ext cx="19443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Технопарк в Алм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2"/>
          <p:cNvSpPr/>
          <p:nvPr/>
        </p:nvSpPr>
        <p:spPr>
          <a:xfrm>
            <a:off x="3780000" y="2781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3"/>
          <p:cNvSpPr/>
          <p:nvPr/>
        </p:nvSpPr>
        <p:spPr>
          <a:xfrm>
            <a:off x="378000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4"/>
          <p:cNvSpPr/>
          <p:nvPr/>
        </p:nvSpPr>
        <p:spPr>
          <a:xfrm>
            <a:off x="378000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5"/>
          <p:cNvSpPr/>
          <p:nvPr/>
        </p:nvSpPr>
        <p:spPr>
          <a:xfrm>
            <a:off x="378000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>
            <a:off x="1332000" y="306864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Парк информацио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технологий пос. Алата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7"/>
          <p:cNvSpPr/>
          <p:nvPr/>
        </p:nvSpPr>
        <p:spPr>
          <a:xfrm>
            <a:off x="133200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Технопарк ядер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«Токамак», г. Курча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8"/>
          <p:cNvSpPr/>
          <p:nvPr/>
        </p:nvSpPr>
        <p:spPr>
          <a:xfrm>
            <a:off x="1332000" y="4508640"/>
            <a:ext cx="1944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Технопарк косм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мониторинга гг. Алма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Астана и Приозе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9"/>
          <p:cNvSpPr/>
          <p:nvPr/>
        </p:nvSpPr>
        <p:spPr>
          <a:xfrm>
            <a:off x="971640" y="278136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0"/>
          <p:cNvSpPr/>
          <p:nvPr/>
        </p:nvSpPr>
        <p:spPr>
          <a:xfrm>
            <a:off x="97164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1"/>
          <p:cNvSpPr/>
          <p:nvPr/>
        </p:nvSpPr>
        <p:spPr>
          <a:xfrm>
            <a:off x="97164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2"/>
          <p:cNvSpPr/>
          <p:nvPr/>
        </p:nvSpPr>
        <p:spPr>
          <a:xfrm>
            <a:off x="97164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3"/>
          <p:cNvSpPr/>
          <p:nvPr/>
        </p:nvSpPr>
        <p:spPr>
          <a:xfrm>
            <a:off x="1332000" y="530064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Национ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индустри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нефтехимический технопар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г. Атыра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4"/>
          <p:cNvSpPr/>
          <p:nvPr/>
        </p:nvSpPr>
        <p:spPr>
          <a:xfrm>
            <a:off x="971640" y="558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5"/>
          <p:cNvSpPr/>
          <p:nvPr/>
        </p:nvSpPr>
        <p:spPr>
          <a:xfrm>
            <a:off x="4140360" y="4869000"/>
            <a:ext cx="1944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Технопарк в Степного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6"/>
          <p:cNvSpPr/>
          <p:nvPr/>
        </p:nvSpPr>
        <p:spPr>
          <a:xfrm>
            <a:off x="3780000" y="501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7"/>
          <p:cNvSpPr/>
          <p:nvPr/>
        </p:nvSpPr>
        <p:spPr>
          <a:xfrm>
            <a:off x="152280" y="15228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лассификация технопарков в Республике Казахст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0" descr="1267259869"/>
          <p:cNvPicPr/>
          <p:nvPr/>
        </p:nvPicPr>
        <p:blipFill>
          <a:blip r:embed="rId2"/>
          <a:stretch/>
        </p:blipFill>
        <p:spPr>
          <a:xfrm>
            <a:off x="4114800" y="5715000"/>
            <a:ext cx="48387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Чтобы поднять уровень исследований и разработок, на наш взгляд, необходимо проведение государственной политики стимулирования по следующим направления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9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5"/>
          <p:cNvSpPr/>
          <p:nvPr/>
        </p:nvSpPr>
        <p:spPr>
          <a:xfrm>
            <a:off x="152280" y="15228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комендации по развитию инновационного МСБ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28600" y="1676520"/>
            <a:ext cx="876312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целенаправленное формирование рынка для продукций инновационных предприятий путем размещения на них государственного заказ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228600" y="2286000"/>
            <a:ext cx="8763120" cy="10065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предоставление инновационным предприятиям, в том числе малым, производственных площадей, льготной инвестиционной поддержки, содействие в развитии бизнес-инновационных центров, технопарков, центров технологической поддержки, предоставления юридических, финансовых, маркетинговых, хозяйственных, и иных услуг; содействие в правовой и коммерческой защите интеллектуальной собственност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228600" y="3505320"/>
            <a:ext cx="876312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содействие формированию и расширению сети лизинговых компаний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228600" y="3962520"/>
            <a:ext cx="876312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проведение целенаправленной политики по разработке и производству малыми предприятиями новых видов продукции на основе наукоемких технологий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228600" y="4572000"/>
            <a:ext cx="876312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необходимо изменение структуры бюджетных ассигнований (инвестиций), в частности увеличение удельного веса средств, выделяемых на осуществление инновационных проект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228600" y="5334120"/>
            <a:ext cx="8763120" cy="641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В целях снижения вероятности потери вложенных инвесторами средств в результате неудачной реализации инновационных проектов целесообразно осуществлять их страхование, в том числе за счет бюджетных инвестиций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228600" y="6172200"/>
            <a:ext cx="876312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льготное кредитование научно-технических разработок в долевое финансирование крупных проектов, создание институциональных условий для развития венчурного финансирова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9" descr="0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905120" y="25909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28600" y="4495680"/>
            <a:ext cx="4952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33399"/>
                </a:solidFill>
                <a:uFillTx/>
                <a:latin typeface="Arial"/>
              </a:rPr>
              <a:t>Наши контак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010000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стана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ул. Темирказык, 65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О «Институт экономических исследован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ел.:   +7 (7172) 7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7-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Факс:+7 (7172) 7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8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-3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economy.k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econom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u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амках Государственной программы по форсированному индустриально-инновационному развитию Республики Казахстан на 2010-2014 годы целевыми индикаторами отмечаются повышение производительности труда в обрабатывающем секторе на 50%, на 100% в отдельных секторах экономики, а в области инноваций – увеличение до 10% доли инновационных предприятий от числа действующи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этом приоритетными направлениями инновационного развития стану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60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ернизация существующих предприят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60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ие новых высокопроизводительных предприят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60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ективная поддержка предприятий «экономики будущего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льтернативная энергетика и др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152280" y="1522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риоритетные направления инновационного развития МСБ в Республике Казахст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1306440" cy="1447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752480" y="1265400"/>
            <a:ext cx="716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entury Gothic"/>
              </a:rPr>
              <a:t>«Отдельно хочу остановиться на секторах "экономики будущего". Ее основой должна стать результативная и эффективно функционирующая национальная инновационная система»…</a:t>
            </a:r>
            <a:r>
              <a:rPr b="1" i="1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800600" y="2013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Century Gothic"/>
              </a:rPr>
              <a:t>Из Послания Президента Республики Казахстан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Century Gothic"/>
              </a:rPr>
              <a:t>Н.А.Назарбаева народу Казахста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Century Gothic"/>
              </a:rPr>
              <a:t>«НОВОЕ ДЕСЯТИЛЕТИЕ - НОВЫЙ ЭКОНОМИЧЕСКИЙ ПОДЪЕМ -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Century Gothic"/>
              </a:rPr>
              <a:t>НОВЫЕ ВОЗМОЖНОСТИ КАЗАХСТАНА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1268280"/>
            <a:ext cx="3886200" cy="45230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Положительные тенден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нижение торгово-закупочной деятельности в отраслевой структуре МСБ с 60% в 2000 г. до 33,8% в 2009 г., что свидетельствует о диверсификации МС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тепенное снижение ставок по кредитам МСБ с 21,2% до 11,7% (средний размер кредита составляет 29,9 млн. тенг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захстан по количеству субъектов МСБ в экономике сравнялся с развитыми стр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280" y="15228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сновные тенденции в развитии МСБ в Р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648320" y="1295280"/>
            <a:ext cx="4190760" cy="44960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Негативные тенден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нижение доли МСБ в  ВВП с 40,5% до 31,0% в 2009 году, в среднем на 1,9% в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 последние 2 года производительность одного субъекта МСБ ежегодно снижается более чем на 10%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количества зарегистрированных, но не работающих предприятий МСБ (около 3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жегодно в Казахстане банкротятся 2-2,5 тысячи предприятий, или примерно полтора процента от существующих, что больше, чем в Евро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нижение кредитования МС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2658600" y="1326240"/>
            <a:ext cx="62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процентах к общему числу инновационно-активных предприя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97440" y="6346800"/>
            <a:ext cx="248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99"/>
                </a:solidFill>
                <a:latin typeface="Arial"/>
                <a:ea typeface="Arial"/>
              </a:rPr>
              <a:t>Источник: Агентство РК по статистик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04920" y="5227560"/>
            <a:ext cx="8515080" cy="9464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49% инновационно-активных предприятий основным направлением инновационной деятельности в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олугодии 2009г. явилось совершенствование существующей технологии, тогда как для 45% и 39% - это соответственно расширение существующих видов продукции (услуг) и создание нового вида продукции (услуг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0" y="1557360"/>
            <a:ext cx="9144000" cy="3851280"/>
            <a:chOff x="0" y="1557360"/>
            <a:chExt cx="9144000" cy="3851280"/>
          </a:xfrm>
        </p:grpSpPr>
        <p:sp>
          <p:nvSpPr>
            <p:cNvPr id="59" name="AutoShape 9"/>
            <p:cNvSpPr/>
            <p:nvPr/>
          </p:nvSpPr>
          <p:spPr>
            <a:xfrm>
              <a:off x="0" y="1557360"/>
              <a:ext cx="9144000" cy="38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4446720" y="1782720"/>
              <a:ext cx="4390920" cy="312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1"/>
            <p:cNvSpPr/>
            <p:nvPr/>
          </p:nvSpPr>
          <p:spPr>
            <a:xfrm>
              <a:off x="5178600" y="1782720"/>
              <a:ext cx="1440" cy="3125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2"/>
            <p:cNvSpPr/>
            <p:nvPr/>
          </p:nvSpPr>
          <p:spPr>
            <a:xfrm>
              <a:off x="5911920" y="1782720"/>
              <a:ext cx="1440" cy="3125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3"/>
            <p:cNvSpPr/>
            <p:nvPr/>
          </p:nvSpPr>
          <p:spPr>
            <a:xfrm>
              <a:off x="6643800" y="1782720"/>
              <a:ext cx="1440" cy="3125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4"/>
            <p:cNvSpPr/>
            <p:nvPr/>
          </p:nvSpPr>
          <p:spPr>
            <a:xfrm>
              <a:off x="7373880" y="1782720"/>
              <a:ext cx="1800" cy="3125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5"/>
            <p:cNvSpPr/>
            <p:nvPr/>
          </p:nvSpPr>
          <p:spPr>
            <a:xfrm>
              <a:off x="8105760" y="1782720"/>
              <a:ext cx="1440" cy="3125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6"/>
            <p:cNvSpPr/>
            <p:nvPr/>
          </p:nvSpPr>
          <p:spPr>
            <a:xfrm>
              <a:off x="8837640" y="1782720"/>
              <a:ext cx="1440" cy="3125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4446720" y="1782720"/>
              <a:ext cx="4390920" cy="3125880"/>
            </a:xfrm>
            <a:prstGeom prst="rect">
              <a:avLst/>
            </a:prstGeom>
            <a:noFill/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4446720" y="4635360"/>
              <a:ext cx="439560" cy="157320"/>
            </a:xfrm>
            <a:prstGeom prst="rect">
              <a:avLst/>
            </a:prstGeom>
            <a:solidFill>
              <a:srgbClr val="9999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4446720" y="4243320"/>
              <a:ext cx="1170000" cy="157320"/>
            </a:xfrm>
            <a:prstGeom prst="rect">
              <a:avLst/>
            </a:prstGeom>
            <a:solidFill>
              <a:srgbClr val="9999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4446720" y="3854520"/>
              <a:ext cx="1392120" cy="155520"/>
            </a:xfrm>
            <a:prstGeom prst="rect">
              <a:avLst/>
            </a:prstGeom>
            <a:solidFill>
              <a:srgbClr val="9999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4446720" y="3463920"/>
              <a:ext cx="1392120" cy="157320"/>
            </a:xfrm>
            <a:prstGeom prst="rect">
              <a:avLst/>
            </a:prstGeom>
            <a:solidFill>
              <a:srgbClr val="9999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2"/>
            <p:cNvSpPr/>
            <p:nvPr/>
          </p:nvSpPr>
          <p:spPr>
            <a:xfrm>
              <a:off x="4446720" y="3071880"/>
              <a:ext cx="1755720" cy="156960"/>
            </a:xfrm>
            <a:prstGeom prst="rect">
              <a:avLst/>
            </a:prstGeom>
            <a:solidFill>
              <a:srgbClr val="9999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3"/>
            <p:cNvSpPr/>
            <p:nvPr/>
          </p:nvSpPr>
          <p:spPr>
            <a:xfrm>
              <a:off x="4446720" y="2681280"/>
              <a:ext cx="2854080" cy="157320"/>
            </a:xfrm>
            <a:prstGeom prst="rect">
              <a:avLst/>
            </a:prstGeom>
            <a:solidFill>
              <a:srgbClr val="9999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4"/>
            <p:cNvSpPr/>
            <p:nvPr/>
          </p:nvSpPr>
          <p:spPr>
            <a:xfrm>
              <a:off x="4446720" y="2292480"/>
              <a:ext cx="3294000" cy="153720"/>
            </a:xfrm>
            <a:prstGeom prst="rect">
              <a:avLst/>
            </a:prstGeom>
            <a:solidFill>
              <a:srgbClr val="9999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5"/>
            <p:cNvSpPr/>
            <p:nvPr/>
          </p:nvSpPr>
          <p:spPr>
            <a:xfrm>
              <a:off x="4446720" y="1900080"/>
              <a:ext cx="3585960" cy="157320"/>
            </a:xfrm>
            <a:prstGeom prst="rect">
              <a:avLst/>
            </a:prstGeom>
            <a:solidFill>
              <a:srgbClr val="9999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6"/>
            <p:cNvSpPr/>
            <p:nvPr/>
          </p:nvSpPr>
          <p:spPr>
            <a:xfrm>
              <a:off x="4446720" y="4908600"/>
              <a:ext cx="439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7"/>
            <p:cNvSpPr/>
            <p:nvPr/>
          </p:nvSpPr>
          <p:spPr>
            <a:xfrm flipV="1">
              <a:off x="4446720" y="490824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8"/>
            <p:cNvSpPr/>
            <p:nvPr/>
          </p:nvSpPr>
          <p:spPr>
            <a:xfrm flipV="1">
              <a:off x="5178600" y="490824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9"/>
            <p:cNvSpPr/>
            <p:nvPr/>
          </p:nvSpPr>
          <p:spPr>
            <a:xfrm flipV="1">
              <a:off x="5911920" y="490824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0"/>
            <p:cNvSpPr/>
            <p:nvPr/>
          </p:nvSpPr>
          <p:spPr>
            <a:xfrm flipV="1">
              <a:off x="6643800" y="490824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1"/>
            <p:cNvSpPr/>
            <p:nvPr/>
          </p:nvSpPr>
          <p:spPr>
            <a:xfrm flipV="1">
              <a:off x="7373880" y="490824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2"/>
            <p:cNvSpPr/>
            <p:nvPr/>
          </p:nvSpPr>
          <p:spPr>
            <a:xfrm flipV="1">
              <a:off x="8105760" y="490824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3"/>
            <p:cNvSpPr/>
            <p:nvPr/>
          </p:nvSpPr>
          <p:spPr>
            <a:xfrm flipV="1">
              <a:off x="8837640" y="490824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4"/>
            <p:cNvSpPr/>
            <p:nvPr/>
          </p:nvSpPr>
          <p:spPr>
            <a:xfrm>
              <a:off x="4446720" y="1782720"/>
              <a:ext cx="1440" cy="312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5"/>
            <p:cNvSpPr/>
            <p:nvPr/>
          </p:nvSpPr>
          <p:spPr>
            <a:xfrm>
              <a:off x="4410000" y="49086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6"/>
            <p:cNvSpPr/>
            <p:nvPr/>
          </p:nvSpPr>
          <p:spPr>
            <a:xfrm>
              <a:off x="4410000" y="45165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7"/>
            <p:cNvSpPr/>
            <p:nvPr/>
          </p:nvSpPr>
          <p:spPr>
            <a:xfrm>
              <a:off x="4410000" y="41259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8"/>
            <p:cNvSpPr/>
            <p:nvPr/>
          </p:nvSpPr>
          <p:spPr>
            <a:xfrm>
              <a:off x="4410000" y="37368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9"/>
            <p:cNvSpPr/>
            <p:nvPr/>
          </p:nvSpPr>
          <p:spPr>
            <a:xfrm>
              <a:off x="4410000" y="33447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0"/>
            <p:cNvSpPr/>
            <p:nvPr/>
          </p:nvSpPr>
          <p:spPr>
            <a:xfrm>
              <a:off x="4410000" y="29541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1"/>
            <p:cNvSpPr/>
            <p:nvPr/>
          </p:nvSpPr>
          <p:spPr>
            <a:xfrm>
              <a:off x="4410000" y="25621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2"/>
            <p:cNvSpPr/>
            <p:nvPr/>
          </p:nvSpPr>
          <p:spPr>
            <a:xfrm>
              <a:off x="4410000" y="217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43"/>
            <p:cNvSpPr/>
            <p:nvPr/>
          </p:nvSpPr>
          <p:spPr>
            <a:xfrm>
              <a:off x="4410000" y="17827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4"/>
            <p:cNvSpPr/>
            <p:nvPr/>
          </p:nvSpPr>
          <p:spPr>
            <a:xfrm>
              <a:off x="4979160" y="4621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45"/>
            <p:cNvSpPr/>
            <p:nvPr/>
          </p:nvSpPr>
          <p:spPr>
            <a:xfrm>
              <a:off x="5708520" y="4230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46"/>
            <p:cNvSpPr/>
            <p:nvPr/>
          </p:nvSpPr>
          <p:spPr>
            <a:xfrm>
              <a:off x="5929200" y="3841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47"/>
            <p:cNvSpPr/>
            <p:nvPr/>
          </p:nvSpPr>
          <p:spPr>
            <a:xfrm>
              <a:off x="5929200" y="3449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8"/>
            <p:cNvSpPr/>
            <p:nvPr/>
          </p:nvSpPr>
          <p:spPr>
            <a:xfrm>
              <a:off x="6294240" y="305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49"/>
            <p:cNvSpPr/>
            <p:nvPr/>
          </p:nvSpPr>
          <p:spPr>
            <a:xfrm>
              <a:off x="7391160" y="2666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0"/>
            <p:cNvSpPr/>
            <p:nvPr/>
          </p:nvSpPr>
          <p:spPr>
            <a:xfrm>
              <a:off x="7831080" y="2278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51"/>
            <p:cNvSpPr/>
            <p:nvPr/>
          </p:nvSpPr>
          <p:spPr>
            <a:xfrm>
              <a:off x="8123040" y="1887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2"/>
            <p:cNvSpPr/>
            <p:nvPr/>
          </p:nvSpPr>
          <p:spPr>
            <a:xfrm>
              <a:off x="4439520" y="5010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53"/>
            <p:cNvSpPr/>
            <p:nvPr/>
          </p:nvSpPr>
          <p:spPr>
            <a:xfrm>
              <a:off x="5139360" y="5010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54"/>
            <p:cNvSpPr/>
            <p:nvPr/>
          </p:nvSpPr>
          <p:spPr>
            <a:xfrm>
              <a:off x="5871240" y="5010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5"/>
            <p:cNvSpPr/>
            <p:nvPr/>
          </p:nvSpPr>
          <p:spPr>
            <a:xfrm>
              <a:off x="6604560" y="5010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56"/>
            <p:cNvSpPr/>
            <p:nvPr/>
          </p:nvSpPr>
          <p:spPr>
            <a:xfrm>
              <a:off x="7333200" y="5010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57"/>
            <p:cNvSpPr/>
            <p:nvPr/>
          </p:nvSpPr>
          <p:spPr>
            <a:xfrm>
              <a:off x="8066880" y="5010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58"/>
            <p:cNvSpPr/>
            <p:nvPr/>
          </p:nvSpPr>
          <p:spPr>
            <a:xfrm>
              <a:off x="8798400" y="5010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59"/>
            <p:cNvSpPr/>
            <p:nvPr/>
          </p:nvSpPr>
          <p:spPr>
            <a:xfrm>
              <a:off x="2079720" y="4641840"/>
              <a:ext cx="230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здание нового вида сырья и материал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60"/>
            <p:cNvSpPr/>
            <p:nvPr/>
          </p:nvSpPr>
          <p:spPr>
            <a:xfrm>
              <a:off x="2904480" y="4251240"/>
              <a:ext cx="1476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здание новой технолог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61"/>
            <p:cNvSpPr/>
            <p:nvPr/>
          </p:nvSpPr>
          <p:spPr>
            <a:xfrm>
              <a:off x="257400" y="3784680"/>
              <a:ext cx="4116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циальные инновации (соц. ответственность, рост престижа предприятия 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2"/>
            <p:cNvSpPr/>
            <p:nvPr/>
          </p:nvSpPr>
          <p:spPr>
            <a:xfrm>
              <a:off x="2223000" y="3936960"/>
              <a:ext cx="20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р.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63"/>
            <p:cNvSpPr/>
            <p:nvPr/>
          </p:nvSpPr>
          <p:spPr>
            <a:xfrm>
              <a:off x="2068560" y="3470400"/>
              <a:ext cx="23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воение новых сегментов и новых рынк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4"/>
            <p:cNvSpPr/>
            <p:nvPr/>
          </p:nvSpPr>
          <p:spPr>
            <a:xfrm>
              <a:off x="587880" y="3079800"/>
              <a:ext cx="378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вершенствование методов организации производства и управ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5"/>
            <p:cNvSpPr/>
            <p:nvPr/>
          </p:nvSpPr>
          <p:spPr>
            <a:xfrm>
              <a:off x="2224800" y="2687760"/>
              <a:ext cx="2154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здание нового вида продукции (услуг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6"/>
            <p:cNvSpPr/>
            <p:nvPr/>
          </p:nvSpPr>
          <p:spPr>
            <a:xfrm>
              <a:off x="1552320" y="2298600"/>
              <a:ext cx="2827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сширение существующих видов продукции (услуг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67"/>
            <p:cNvSpPr/>
            <p:nvPr/>
          </p:nvSpPr>
          <p:spPr>
            <a:xfrm>
              <a:off x="1822680" y="1908000"/>
              <a:ext cx="2554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вершенствование существующей технолог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68"/>
          <p:cNvSpPr/>
          <p:nvPr/>
        </p:nvSpPr>
        <p:spPr>
          <a:xfrm>
            <a:off x="152280" y="1522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правления инновационной деятельности в промышленности во I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полугодии 2009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3"/>
          <p:cNvGraphicFramePr/>
          <p:nvPr/>
        </p:nvGraphicFramePr>
        <p:xfrm>
          <a:off x="0" y="1052640"/>
          <a:ext cx="8427960" cy="51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8427960" cy="51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4"/>
          <p:cNvSpPr/>
          <p:nvPr/>
        </p:nvSpPr>
        <p:spPr>
          <a:xfrm>
            <a:off x="457200" y="6396480"/>
            <a:ext cx="259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99"/>
                </a:solidFill>
                <a:latin typeface="Arial"/>
                <a:ea typeface="Arial"/>
              </a:rPr>
              <a:t>Источник: Агентство по статистике Р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6095880" y="1356120"/>
            <a:ext cx="2819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 Казахстане удельный вес инновационно - активных предприятий  составляет 4 %,тогда как в России 9,4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ибольший удельный вес инновационно - активных предприятий в Республике Казахстан занимает Карагандинская область (6,5 %) и г. Алматы (6,4 %),а наименьший удельный вес инновационно- активных предприятий занимает Акмолинская область (1,2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01"/>
          <p:cNvPicPr/>
          <p:nvPr/>
        </p:nvPicPr>
        <p:blipFill>
          <a:blip r:embed="rId3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1"/>
          <p:cNvSpPr/>
          <p:nvPr/>
        </p:nvSpPr>
        <p:spPr>
          <a:xfrm>
            <a:off x="152280" y="1522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ровень инновационной активности предприятий по регионам РК на 01.01.2010 г. (в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108000" y="1309680"/>
          <a:ext cx="6480000" cy="27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309680"/>
                    <a:ext cx="648000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Picture 9" descr="01"/>
          <p:cNvPicPr/>
          <p:nvPr/>
        </p:nvPicPr>
        <p:blipFill>
          <a:blip r:embed="rId3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52280" y="15228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гноз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08000" y="112536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ноз количества активных субъектов малого и средне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6"/>
          <p:cNvGraphicFramePr/>
          <p:nvPr/>
        </p:nvGraphicFramePr>
        <p:xfrm>
          <a:off x="3564000" y="4444920"/>
          <a:ext cx="5352840" cy="2413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4444920"/>
                    <a:ext cx="535284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AutoShape 7"/>
          <p:cNvSpPr/>
          <p:nvPr/>
        </p:nvSpPr>
        <p:spPr>
          <a:xfrm>
            <a:off x="971640" y="1700280"/>
            <a:ext cx="2016000" cy="792000"/>
          </a:xfrm>
          <a:prstGeom prst="wedgeRectCallout">
            <a:avLst>
              <a:gd name="adj1" fmla="val 204250"/>
              <a:gd name="adj2" fmla="val 1300"/>
            </a:avLst>
          </a:prstGeom>
          <a:solidFill>
            <a:srgbClr val="c0c0c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гласно прогнозу к 2020 году число активных субъектов МСП возрастет до </a:t>
            </a:r>
            <a:r>
              <a:rPr b="1" lang="ru-RU" sz="1000" spc="-1" strike="noStrike">
                <a:solidFill>
                  <a:srgbClr val="cc3300"/>
                </a:solidFill>
                <a:latin typeface="Arial"/>
              </a:rPr>
              <a:t>1546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единиц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516720" y="1628640"/>
            <a:ext cx="244800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оличество активных субъектов МСП = с1 * ВВП + с2 * численность занятых в МСП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оличество активных субъектов МСП прогнозируется в зависимости от ВВП и количества занятых в МСП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780000" y="422100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ноз доли малого и среднего предпринимательства в ВВ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896760" y="4749840"/>
            <a:ext cx="20908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 = A0+A1*X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 –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я МСП в ВВП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  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ФО ВВП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0 = -45.6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1 = 0.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3995640" y="5589720"/>
            <a:ext cx="2087640" cy="720720"/>
          </a:xfrm>
          <a:prstGeom prst="wedgeRectCallout">
            <a:avLst>
              <a:gd name="adj1" fmla="val 169314"/>
              <a:gd name="adj2" fmla="val -101541"/>
            </a:avLst>
          </a:prstGeom>
          <a:solidFill>
            <a:srgbClr val="c0c0c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гласно прогнозу к 2020 году доля малого и среднего предпринимательства в ВВП возрастет до </a:t>
            </a:r>
            <a:r>
              <a:rPr b="1" lang="ru-RU" sz="1000" spc="-1" strike="noStrike">
                <a:solidFill>
                  <a:srgbClr val="cc3300"/>
                </a:solidFill>
                <a:latin typeface="Arial"/>
              </a:rPr>
              <a:t>39,3%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5257800" y="5181480"/>
            <a:ext cx="609480" cy="304920"/>
          </a:xfrm>
          <a:prstGeom prst="ellipse">
            <a:avLst/>
          </a:prstGeom>
          <a:noFill/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6705720" y="4876920"/>
            <a:ext cx="761760" cy="380880"/>
          </a:xfrm>
          <a:prstGeom prst="ellipse">
            <a:avLst/>
          </a:prstGeom>
          <a:noFill/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8305920" y="4800600"/>
            <a:ext cx="609480" cy="304920"/>
          </a:xfrm>
          <a:prstGeom prst="ellipse">
            <a:avLst/>
          </a:prstGeom>
          <a:noFill/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Doing Business 2010 highlights"/>
          <p:cNvPicPr/>
          <p:nvPr/>
        </p:nvPicPr>
        <p:blipFill>
          <a:blip r:embed="rId1"/>
          <a:stretch/>
        </p:blipFill>
        <p:spPr>
          <a:xfrm>
            <a:off x="457200" y="1523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01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152280" y="1522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зиции Казахстана в рейтинге Doing Bus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0880" y="1066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захст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752480" y="1600200"/>
          <a:ext cx="6858000" cy="7318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гион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вропа и Центральная Аз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селение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 674 8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ровень доходов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выше средн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реднедушевой валовой национальный доход (в долларах США$)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 139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57200" y="2876400"/>
          <a:ext cx="8381880" cy="3276720"/>
        </p:xfrm>
        <a:graphic>
          <a:graphicData uri="http://schemas.openxmlformats.org/drawingml/2006/table">
            <a:tbl>
              <a:tblPr/>
              <a:tblGrid>
                <a:gridCol w="3844800"/>
                <a:gridCol w="1793880"/>
                <a:gridCol w="1744920"/>
                <a:gridCol w="9982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тота в…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587a9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ение бизнеса 2010 рейтинг стран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587a9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ение бизнеса 2009 рейтинг стран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587a9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менение рейтинг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587a9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знес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гистрация предприят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лучение разрешений на строительств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ем рабочей сил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гистрация собственност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редитова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щита инвестор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логообложе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еждународная торговл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еспечение исполнения контракт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Ликвидация предприят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378"/>
          <p:cNvSpPr/>
          <p:nvPr/>
        </p:nvSpPr>
        <p:spPr>
          <a:xfrm>
            <a:off x="457200" y="6324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римечание: Индекс лёгкости ведения бизнеса за 2009 год был рассчитан заново с учётом методологической доработки и дополнения данными по два новым странам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9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7"/>
          <p:cNvSpPr/>
          <p:nvPr/>
        </p:nvSpPr>
        <p:spPr>
          <a:xfrm>
            <a:off x="152280" y="1522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зиции Казахстана в рейтингах глобальной конкурентоспособности по инновационным показателя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1828800" cy="1001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609480" y="2514600"/>
            <a:ext cx="33530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Century Gothic"/>
              </a:rPr>
              <a:t>Согласно рейтингу глобальной конкурентоспособности </a:t>
            </a:r>
            <a:r>
              <a:rPr b="1" i="1" lang="en-US" sz="2000" spc="-1" strike="noStrike">
                <a:solidFill>
                  <a:srgbClr val="000066"/>
                </a:solidFill>
                <a:latin typeface="Century Gothic"/>
              </a:rPr>
              <a:t>WEF</a:t>
            </a:r>
            <a:r>
              <a:rPr b="1" i="1" lang="en-US" sz="1400" spc="-1" strike="noStrike">
                <a:solidFill>
                  <a:srgbClr val="000066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Century Gothic"/>
              </a:rPr>
              <a:t>в 2009 г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Century Gothic"/>
              </a:rPr>
              <a:t>КАЗАХСТАН находится на</a:t>
            </a:r>
            <a:r>
              <a:rPr b="1" i="1" lang="ru-RU" sz="1200" spc="-1" strike="noStrike">
                <a:solidFill>
                  <a:srgbClr val="000066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Century Gothic"/>
              </a:rPr>
              <a:t>67</a:t>
            </a:r>
            <a:r>
              <a:rPr b="1" i="1" lang="ru-RU" sz="2000" spc="-1" strike="noStrike">
                <a:solidFill>
                  <a:srgbClr val="000066"/>
                </a:solidFill>
                <a:latin typeface="Century Gothic"/>
              </a:rPr>
              <a:t>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2" descr="textForColorBackgroundsLg"/>
          <p:cNvPicPr/>
          <p:nvPr/>
        </p:nvPicPr>
        <p:blipFill>
          <a:blip r:embed="rId3"/>
          <a:stretch/>
        </p:blipFill>
        <p:spPr>
          <a:xfrm>
            <a:off x="6172200" y="990720"/>
            <a:ext cx="1523880" cy="1433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3"/>
          <p:cNvSpPr/>
          <p:nvPr/>
        </p:nvSpPr>
        <p:spPr>
          <a:xfrm>
            <a:off x="5257800" y="2514600"/>
            <a:ext cx="33526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Century Gothic"/>
              </a:rPr>
              <a:t>Согласно рейтингу глобальной конкурентоспособности </a:t>
            </a:r>
            <a:r>
              <a:rPr b="1" i="1" lang="en-US" sz="2000" spc="-1" strike="noStrike">
                <a:solidFill>
                  <a:srgbClr val="000066"/>
                </a:solidFill>
                <a:latin typeface="Century Gothic"/>
              </a:rPr>
              <a:t>IM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Century Gothic"/>
              </a:rPr>
              <a:t>в 2010 г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Century Gothic"/>
              </a:rPr>
              <a:t>КАЗАХСТАН находится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Century Gothic"/>
              </a:rPr>
              <a:t>33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28600" y="4343400"/>
            <a:ext cx="2590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ейтинге 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WE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 фактору «Инновации» Казахстан находится на 64 месте. Сильным преимуществом Казахстан обладает по показателю «Условия для инновационного развития» (50 место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895480" y="4191120"/>
          <a:ext cx="6072480" cy="2184120"/>
        </p:xfrm>
        <a:graphic>
          <a:graphicData uri="http://schemas.openxmlformats.org/drawingml/2006/table">
            <a:tbl>
              <a:tblPr/>
              <a:tblGrid>
                <a:gridCol w="533520"/>
                <a:gridCol w="4495680"/>
                <a:gridCol w="533520"/>
                <a:gridCol w="509760"/>
              </a:tblGrid>
              <a:tr h="263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фактор: Иннов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я для инновационного развития ………………………………………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научно-исследовательских институтов ……………………………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компаний на развитие и исследовательскую деятельность …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чество между ВУЗами и промышленностью в  исследовательской деятельности ……………………………………………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правительством продвинутой тех. продукции 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ность ученых и инженеров ………………………………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енты ……………………………………………………………………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255"/>
          <p:cNvSpPr/>
          <p:nvPr/>
        </p:nvSpPr>
        <p:spPr>
          <a:xfrm>
            <a:off x="8534520" y="4495680"/>
            <a:ext cx="22860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57"/>
          <p:cNvSpPr/>
          <p:nvPr/>
        </p:nvSpPr>
        <p:spPr>
          <a:xfrm>
            <a:off x="8534520" y="4724280"/>
            <a:ext cx="22860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58"/>
          <p:cNvSpPr/>
          <p:nvPr/>
        </p:nvSpPr>
        <p:spPr>
          <a:xfrm>
            <a:off x="8534520" y="4952880"/>
            <a:ext cx="22860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9"/>
          <p:cNvSpPr/>
          <p:nvPr/>
        </p:nvSpPr>
        <p:spPr>
          <a:xfrm>
            <a:off x="8534520" y="5181480"/>
            <a:ext cx="22860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60"/>
          <p:cNvSpPr/>
          <p:nvPr/>
        </p:nvSpPr>
        <p:spPr>
          <a:xfrm>
            <a:off x="8534520" y="5638680"/>
            <a:ext cx="22860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1"/>
          <p:cNvSpPr/>
          <p:nvPr/>
        </p:nvSpPr>
        <p:spPr>
          <a:xfrm>
            <a:off x="8534520" y="5867280"/>
            <a:ext cx="22860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62"/>
          <p:cNvSpPr/>
          <p:nvPr/>
        </p:nvSpPr>
        <p:spPr>
          <a:xfrm>
            <a:off x="8534520" y="6095880"/>
            <a:ext cx="22860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24"/>
          <p:cNvSpPr/>
          <p:nvPr/>
        </p:nvSpPr>
        <p:spPr>
          <a:xfrm>
            <a:off x="3048120" y="6553080"/>
            <a:ext cx="22860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77"/>
          <p:cNvSpPr/>
          <p:nvPr/>
        </p:nvSpPr>
        <p:spPr>
          <a:xfrm>
            <a:off x="5867280" y="6553080"/>
            <a:ext cx="22860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39"/>
          <p:cNvSpPr/>
          <p:nvPr/>
        </p:nvSpPr>
        <p:spPr>
          <a:xfrm>
            <a:off x="3352680" y="653724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нкурентное преимуществ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40"/>
          <p:cNvSpPr/>
          <p:nvPr/>
        </p:nvSpPr>
        <p:spPr>
          <a:xfrm>
            <a:off x="6248520" y="653724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нкурентный недостато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выделить следующие основные проблемы, нерешенность которых негативно влияет на развитие отечественного инновационного потенциа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0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152280" y="1522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уществующие проблемы отечественного инновационного потенци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57200" y="2971800"/>
            <a:ext cx="8305920" cy="580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современных механизмов внедрения технологических нововведений и выведения их на ры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57200" y="1917720"/>
            <a:ext cx="8305920" cy="8240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готовность большинства научных разработок технологий и продуктов к выходу на рынок, что резко снижает ценность предлагаемых технологий в глазах потенциальных партн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57200" y="3809880"/>
            <a:ext cx="8305920" cy="13107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остаточное развитие инфраструктурных элементов содействия инновационным проектам, таких как технологические парки и специализированные бизнес-инкубаторы, сеть фондов рискового финансирования, специальные финансовые механизмы поддержки фирм на этапе их быстрого роста, сертифицированные оценщики фирм и интеллектуальной собственности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57200" y="5410080"/>
            <a:ext cx="8305920" cy="580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на внутреннем рынке платежеспособного спроса на передовые технологии и промышленные нововведения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ригорий</dc:creator>
  <dc:description/>
  <dc:language>en-US</dc:language>
  <cp:lastModifiedBy>Айжан</cp:lastModifiedBy>
  <dcterms:modified xsi:type="dcterms:W3CDTF">2011-06-08T08:42:2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