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FF7-231F-4A9A-9560-47C9F51E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40F-08EB-454C-965F-ED4B6752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FA2-00B0-494B-A893-BBF1751F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749-C505-4447-8206-11ED7AB7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1EE44-FF2A-4138-8730-59785B144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8DC08-A22E-4A7E-A874-81560245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828C4-5744-4E55-BCCA-388EF30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9CFCE-5D3E-4A78-89E4-7E891DF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177D5-A8A7-4274-97A6-E99EF441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7277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102B-C2FD-4D0F-A5B3-3455F5BF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4B9E1-3A83-472C-A875-953512B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7D4-A941-46DF-B32F-6F77F21B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B272D-59E8-4A82-92D8-FB2EBF3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23C1F-43AB-427E-9007-B76D27B7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1623F-BE74-4A82-945B-B2DE9F6E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0F605-4D5B-49FA-BAEC-4906390E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C7B16-F30C-4A13-830B-F1F0AE4008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0D1-BE98-4727-BFBF-6A5F0B3F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6A0-0077-46C0-96DD-F9A4269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5BF-38C4-4F6A-8258-94A4F41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7277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70E-C497-4BE4-851E-4F72637A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2E3-ED9A-4306-AF40-5DC3A0E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780-ADFB-4F1A-BC94-53AFD4A8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277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C52-9841-4A7B-8C90-E650AC7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79000" y="6514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83280" y="63975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498680" y="6514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AF29-EF34-49B0-A47E-D48333BA14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32448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33"/>
          <p:cNvSpPr/>
          <p:nvPr/>
        </p:nvSpPr>
        <p:spPr>
          <a:xfrm>
            <a:off x="304920" y="6553080"/>
            <a:ext cx="5715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391520" y="6095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257800" y="62294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7"/>
          <p:cNvSpPr/>
          <p:nvPr/>
        </p:nvSpPr>
        <p:spPr>
          <a:xfrm>
            <a:off x="444600" y="6375240"/>
            <a:ext cx="5257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47676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828800" y="64767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CCD5-7BD1-4E6F-A54B-417D70EA2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ма 3 Виды инноваций и их классификационные признак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инноваций и их классифика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cc9d"/>
                </a:solidFill>
                <a:latin typeface="Arial"/>
              </a:rPr>
              <a:t>Системный анализ характеристик инновационных проектов может быть выполнен на основе их  классификации по каким-то определенным признакам,  которые могут быть выбраны с применением известных методик (3).</a:t>
            </a: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cc9d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3cc9d"/>
                </a:solidFill>
                <a:latin typeface="Arial"/>
              </a:rPr>
              <a:t>Для целенаправленного изучения совокупности множества инновационных проектов вначале необходимо четко определить и ограничить объект исследования. Освободив приведенную выше формулировку от излишней детализации, получим, что под инновационным проектом будем понимать совокупность выполняемых в определенной последовательности взаимосвязанных работ, обеспечивающих создание производства и реализацию инновационного продукта.</a:t>
            </a: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Эксплерен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cc9d"/>
                </a:solidFill>
                <a:latin typeface="Arial"/>
              </a:rPr>
              <a:t>Эксплеренты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 – фирмы, специализирующиеся на создании новых или радикальных преобразований старых сегментов рынка. Они занимаются продвижением новшеств на рынок.</a:t>
            </a: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Научно-технические разработки имеют приоритетное значение. Однако, инновационный бизнес не является занятием чистой наукой или изобретательством.</a:t>
            </a: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На Западе инновационные фирмы возглавляют инженер, являющийся автором технической стороны проекта, и менеджер, имеющий организационный и коммерческий опыт. Механизм такого союза формируется из-за скептического отношения крупных компаний к рискованным проектам. Не получив возможности реализовать новшество на своем предприятии, менеджер увлекается новой идеей, оставляет прежнее место работы. После этого он пытается реализовать эти идеи как независимый предприниматель.</a:t>
            </a: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Arial"/>
              </a:rPr>
              <a:t>Венчурные предприят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5500800" y="3071880"/>
            <a:ext cx="214308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Внутрен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риск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ек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43000" y="3095640"/>
            <a:ext cx="2143080" cy="12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бстве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ис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изн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3429000" y="3000240"/>
            <a:ext cx="903240" cy="1241640"/>
          </a:xfrm>
          <a:prstGeom prst="pie">
            <a:avLst/>
          </a:prstGeom>
          <a:gradFill rotWithShape="0">
            <a:gsLst>
              <a:gs pos="0">
                <a:srgbClr val="9351c9"/>
              </a:gs>
              <a:gs pos="100000">
                <a:srgbClr val="dd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 flipH="1">
            <a:off x="4643280" y="3000240"/>
            <a:ext cx="903600" cy="1241640"/>
          </a:xfrm>
          <a:prstGeom prst="pie">
            <a:avLst/>
          </a:prstGeom>
          <a:gradFill rotWithShape="0">
            <a:gsLst>
              <a:gs pos="0">
                <a:srgbClr val="557fe7"/>
              </a:gs>
              <a:gs pos="100000">
                <a:srgbClr val="c9d6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66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67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351c9"/>
                  </a:gs>
                  <a:gs pos="100000">
                    <a:srgbClr val="4727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fb2e7"/>
                  </a:gs>
                  <a:gs pos="100000">
                    <a:srgbClr val="9351c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73b6b"/>
                </a:gs>
                <a:gs pos="100000">
                  <a:srgbClr val="557f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57fe7">
                    <a:alpha val="0"/>
                  </a:srgbClr>
                </a:gs>
                <a:gs pos="100000">
                  <a:srgbClr val="c4d2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365b7"/>
                </a:gs>
                <a:gs pos="100000">
                  <a:srgbClr val="557f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57f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Text Box 19"/>
          <p:cNvSpPr/>
          <p:nvPr/>
        </p:nvSpPr>
        <p:spPr>
          <a:xfrm>
            <a:off x="3357720" y="150012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нчурные предприят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5810400" y="335268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Продуктовые иннова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143000" y="1752480"/>
            <a:ext cx="3833640" cy="3834000"/>
          </a:xfrm>
          <a:prstGeom prst="pie">
            <a:avLst/>
          </a:prstGeom>
          <a:gradFill rotWithShape="0">
            <a:gsLst>
              <a:gs pos="0">
                <a:srgbClr val="98b1f0">
                  <a:alpha val="12156"/>
                </a:srgbClr>
              </a:gs>
              <a:gs pos="50000">
                <a:srgbClr val="557fe7"/>
              </a:gs>
              <a:gs pos="100000">
                <a:srgbClr val="98b1f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bad0e1"/>
              </a:gs>
              <a:gs pos="100000">
                <a:srgbClr val="84ac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4643280" y="3429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7fe7"/>
              </a:gs>
              <a:gs pos="100000">
                <a:srgbClr val="f5f7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 применение новых материал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071960" y="1428840"/>
            <a:ext cx="3781440" cy="1326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c9d"/>
              </a:gs>
              <a:gs pos="100000">
                <a:srgbClr val="fefc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новых полуфабрик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и комплектующ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43240" y="4500720"/>
            <a:ext cx="3780000" cy="121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7fe7"/>
              </a:gs>
              <a:gs pos="100000">
                <a:srgbClr val="f5f7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ение принцип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ых продук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643040" y="3000240"/>
            <a:ext cx="29289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дуктовые иннов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ключ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ижний колонтитул 4"/>
          <p:cNvSpPr/>
          <p:nvPr/>
        </p:nvSpPr>
        <p:spPr>
          <a:xfrm>
            <a:off x="6083280" y="63975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Формирование инновационного проек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0000"/>
              </a:gs>
              <a:gs pos="100000">
                <a:srgbClr val="8a779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500040" y="1928880"/>
            <a:ext cx="41432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b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вый, ранее не производимый продук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ли продукт с новыми потребительски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ли эксплуатационными каче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3520" y="3048120"/>
            <a:ext cx="41814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42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дукт с улучшенными потребительск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ойствами или технико-экономически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казателями его производст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d50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укт, являющийся аналог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ующих проду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072120" y="28576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к «формирование инновационной цели проекта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Инновационный продук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0000"/>
              </a:gs>
              <a:gs pos="100000">
                <a:srgbClr val="8a779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500040" y="1785960"/>
            <a:ext cx="4143240" cy="1133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b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ведение маркетинга и рекламы п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лизации нового ранее неизвест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ителям продукта или продукта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ципиально новыми свойств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33520" y="3048120"/>
            <a:ext cx="43956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42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ведение маркетинга и рекламы п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лизации нового  продукта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лучшенными потребительскими свойств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500040" y="414324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d50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маркетинга и рекл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реализации известного проду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6072120" y="2857680"/>
            <a:ext cx="307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к «особенности формирования системы реализации инновационного продук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Венчурные фирм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7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35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351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351c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02c6d"/>
              </a:gs>
              <a:gs pos="50000">
                <a:srgbClr val="9351c9"/>
              </a:gs>
              <a:gs pos="100000">
                <a:srgbClr val="502c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d3380"/>
              </a:gs>
              <a:gs pos="100000">
                <a:srgbClr val="9351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eb2a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eb2a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2605d"/>
              </a:gs>
              <a:gs pos="50000">
                <a:srgbClr val="3eb2ac"/>
              </a:gs>
              <a:gs pos="100000">
                <a:srgbClr val="22605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7716d"/>
              </a:gs>
              <a:gs pos="100000">
                <a:srgbClr val="3eb2a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15"/>
          <p:cNvGrpSpPr/>
          <p:nvPr/>
        </p:nvGrpSpPr>
        <p:grpSpPr>
          <a:xfrm>
            <a:off x="1000080" y="2357280"/>
            <a:ext cx="1636920" cy="1636920"/>
            <a:chOff x="1000080" y="2357280"/>
            <a:chExt cx="1636920" cy="1636920"/>
          </a:xfrm>
        </p:grpSpPr>
        <p:sp>
          <p:nvSpPr>
            <p:cNvPr id="211" name="Oval 16"/>
            <p:cNvSpPr/>
            <p:nvPr/>
          </p:nvSpPr>
          <p:spPr>
            <a:xfrm>
              <a:off x="1000080" y="2357280"/>
              <a:ext cx="163692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7"/>
            <p:cNvSpPr/>
            <p:nvPr/>
          </p:nvSpPr>
          <p:spPr>
            <a:xfrm>
              <a:off x="1020600" y="2366280"/>
              <a:ext cx="159768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18"/>
            <p:cNvSpPr/>
            <p:nvPr/>
          </p:nvSpPr>
          <p:spPr>
            <a:xfrm>
              <a:off x="1037880" y="2382120"/>
              <a:ext cx="151920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9"/>
            <p:cNvSpPr/>
            <p:nvPr/>
          </p:nvSpPr>
          <p:spPr>
            <a:xfrm>
              <a:off x="1142640" y="242928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7f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57fe7">
                  <a:alpha val="32156"/>
                </a:srgbClr>
              </a:gs>
              <a:gs pos="100000">
                <a:srgbClr val="273b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457d"/>
              </a:gs>
              <a:gs pos="50000">
                <a:srgbClr val="557fe7"/>
              </a:gs>
              <a:gs pos="100000">
                <a:srgbClr val="2e45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193"/>
              </a:gs>
              <a:gs pos="100000">
                <a:srgbClr val="557f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25"/>
          <p:cNvGrpSpPr/>
          <p:nvPr/>
        </p:nvGrpSpPr>
        <p:grpSpPr>
          <a:xfrm>
            <a:off x="3786120" y="2428920"/>
            <a:ext cx="1636920" cy="1636560"/>
            <a:chOff x="3786120" y="2428920"/>
            <a:chExt cx="1636920" cy="1636560"/>
          </a:xfrm>
        </p:grpSpPr>
        <p:sp>
          <p:nvSpPr>
            <p:cNvPr id="221" name="Oval 26"/>
            <p:cNvSpPr/>
            <p:nvPr/>
          </p:nvSpPr>
          <p:spPr>
            <a:xfrm>
              <a:off x="3786120" y="242892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3806640" y="243792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3823920" y="245376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29"/>
            <p:cNvSpPr/>
            <p:nvPr/>
          </p:nvSpPr>
          <p:spPr>
            <a:xfrm>
              <a:off x="3912840" y="249552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226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AutoShape 35"/>
          <p:cNvSpPr/>
          <p:nvPr/>
        </p:nvSpPr>
        <p:spPr>
          <a:xfrm>
            <a:off x="642960" y="4665600"/>
            <a:ext cx="235728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чурные фир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36"/>
          <p:cNvSpPr/>
          <p:nvPr/>
        </p:nvSpPr>
        <p:spPr>
          <a:xfrm>
            <a:off x="3538440" y="4665600"/>
            <a:ext cx="231948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чурные фир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7"/>
          <p:cNvSpPr/>
          <p:nvPr/>
        </p:nvSpPr>
        <p:spPr>
          <a:xfrm>
            <a:off x="6143760" y="4665600"/>
            <a:ext cx="235728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чурные фир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857160" y="2286000"/>
            <a:ext cx="2000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аботают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этапах роста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асыщения изобретатель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ктивности и еще сохраняющейс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о уже падающей актив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аучных изысканий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0"/>
          <p:cNvSpPr/>
          <p:nvPr/>
        </p:nvSpPr>
        <p:spPr>
          <a:xfrm>
            <a:off x="6429240" y="2571840"/>
            <a:ext cx="1785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дочерними 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более круп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фирм. Количество сотрудников небольшо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могут бы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43"/>
          <p:cNvSpPr/>
          <p:nvPr/>
        </p:nvSpPr>
        <p:spPr>
          <a:xfrm>
            <a:off x="3571920" y="2143080"/>
            <a:ext cx="2071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как правило неприбыльн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так как не занимаются организацией производства продукции, а передают свои разработки другим фирмам - эксплерентам, патиентам, </a:t>
            </a:r>
            <a:r>
              <a:rPr b="0" lang="ru-RU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коммутантам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6676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Виды инновации и их класифика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3286080" y="3092760"/>
            <a:ext cx="3571920" cy="17978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1797840"/>
              <a:gd name="textAreaBottom" fmla="*/ 1798200 h 179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4" y="0"/>
                </a:lnTo>
                <a:lnTo>
                  <a:pt x="21600" y="10800"/>
                </a:lnTo>
                <a:lnTo>
                  <a:pt x="18844" y="21600"/>
                </a:lnTo>
                <a:lnTo>
                  <a:pt x="0" y="21600"/>
                </a:lnTo>
                <a:lnTo>
                  <a:pt x="2756" y="10800"/>
                </a:lnTo>
                <a:close/>
              </a:path>
            </a:pathLst>
          </a:custGeom>
          <a:solidFill>
            <a:srgbClr val="84acc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такой фирмы должен хорошо разбираться в специфике покупателя товара, сложившейся ситуации на рынке, точно, оперативно и достоверно предвосхищать возможные кризисы. Организационная схема управления фирмами зависит от их особенно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428760" y="2954520"/>
            <a:ext cx="3381120" cy="2012040"/>
          </a:xfrm>
          <a:custGeom>
            <a:avLst/>
            <a:gdLst>
              <a:gd name="textAreaLeft" fmla="*/ 0 w 3381120"/>
              <a:gd name="textAreaRight" fmla="*/ 3381480 w 3381120"/>
              <a:gd name="textAreaTop" fmla="*/ 0 h 2012040"/>
              <a:gd name="textAreaBottom" fmla="*/ 2012400 h 201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3" y="0"/>
                </a:lnTo>
                <a:lnTo>
                  <a:pt x="21600" y="10800"/>
                </a:lnTo>
                <a:lnTo>
                  <a:pt x="18303" y="21600"/>
                </a:lnTo>
                <a:lnTo>
                  <a:pt x="0" y="21600"/>
                </a:lnTo>
                <a:lnTo>
                  <a:pt x="3297" y="10800"/>
                </a:lnTo>
                <a:close/>
              </a:path>
            </a:pathLst>
          </a:custGeom>
          <a:solidFill>
            <a:srgbClr val="557fe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действуют на этапе падения цикла выпуска продукции. Их научно-техническая политика требует принятия решений о своевременной постановке продукции на производство, о степени технологической особенности изделий, выпускаемых виолентами, о целесообразных изменениях в них согласно требованиям специфических потреби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57fe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Фирмы коммутан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4acc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новацио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дж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514240" y="419112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3cc9d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2143080" y="4800600"/>
            <a:ext cx="639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1f53"/>
                    </a:gs>
                    <a:gs pos="100000">
                      <a:srgbClr val="84acc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Вам за внимание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1f53"/>
                  </a:gs>
                  <a:gs pos="100000">
                    <a:srgbClr val="84acc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147960" y="15120"/>
            <a:ext cx="89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атегической целью инновационнойинфраструктуры являетс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здание  новых предприятий (или новых структурных подразделе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уществующих предприятий, ревитализациинеработающих предприят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базе разработки и внедрения новых высоконаучных,прогресси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ехнологий, обеспечивающих повышение эффективности производ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е рынка высококачественных продуктов, увелич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кспортного   потенциала, замещения импорта и, на этой основ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вершенствование структуры национальных производительных си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я денежных потоков способствующих развит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зводительных сил и социально культурной сферы, создания н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чих мест и обеспечения повышения благосостояния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ижний колонтитул 4"/>
          <p:cNvSpPr/>
          <p:nvPr/>
        </p:nvSpPr>
        <p:spPr>
          <a:xfrm>
            <a:off x="6083280" y="63975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инноваций и их классифика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Необходимо различать:</a:t>
            </a: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f3cc9d"/>
                </a:solidFill>
                <a:latin typeface="Arial"/>
              </a:rPr>
              <a:t>инновации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3cc9d"/>
                </a:solidFill>
                <a:latin typeface="Arial"/>
              </a:rPr>
              <a:t>несущественные видоизменения 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в продуктах и технологических процессах (например, эстетические изменения, то есть цвет и т.п.); незначительные технические или внешние изменения в продуктах, оставляющие </a:t>
            </a:r>
            <a:r>
              <a:rPr b="1" lang="ru-RU" sz="1800" spc="-1" strike="noStrike">
                <a:solidFill>
                  <a:srgbClr val="f3cc9d"/>
                </a:solidFill>
                <a:latin typeface="Arial"/>
              </a:rPr>
              <a:t>неизменными конструктивное исполнение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 и не оказывающие достаточно заметного влияния на </a:t>
            </a:r>
            <a:r>
              <a:rPr b="1" i="1" lang="ru-RU" sz="1800" spc="-1" strike="noStrike">
                <a:solidFill>
                  <a:srgbClr val="f3cc9d"/>
                </a:solidFill>
                <a:latin typeface="Arial"/>
              </a:rPr>
              <a:t>параметры, свойства, стоимость 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изделия, а также входящих в него материалов и компонентов;</a:t>
            </a: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- расширение </a:t>
            </a:r>
            <a:r>
              <a:rPr b="1" lang="ru-RU" sz="1800" spc="-1" strike="noStrike">
                <a:solidFill>
                  <a:srgbClr val="f3cc9d"/>
                </a:solidFill>
                <a:latin typeface="Arial"/>
              </a:rPr>
              <a:t>номенклатуры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 продукции за счет освоения производства не выпускавшихся прежде на данном предприятии, но уже известных на рынке продуктов, с цель удовлетворения текущего спроса и увеличения доходов предприятия.</a:t>
            </a: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cc9d"/>
                </a:solidFill>
                <a:latin typeface="Arial"/>
              </a:rPr>
              <a:t>Новизна инноваций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 оценивается по </a:t>
            </a:r>
            <a:r>
              <a:rPr b="1" i="1" lang="ru-RU" sz="1800" spc="-1" strike="noStrike">
                <a:solidFill>
                  <a:srgbClr val="f3cc9d"/>
                </a:solidFill>
                <a:latin typeface="Arial"/>
              </a:rPr>
              <a:t>технологическим параметрам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, а также с </a:t>
            </a:r>
            <a:r>
              <a:rPr b="1" i="1" lang="ru-RU" sz="1800" spc="-1" strike="noStrike">
                <a:solidFill>
                  <a:srgbClr val="f3cc9d"/>
                </a:solidFill>
                <a:latin typeface="Arial"/>
              </a:rPr>
              <a:t>рыночных позиций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. С учетом этого строится </a:t>
            </a:r>
            <a:r>
              <a:rPr b="1" i="1" lang="ru-RU" sz="1800" spc="-1" strike="noStrike">
                <a:solidFill>
                  <a:srgbClr val="f3cc9d"/>
                </a:solidFill>
                <a:latin typeface="Arial"/>
              </a:rPr>
              <a:t>классификация инноваций</a:t>
            </a:r>
            <a:r>
              <a:rPr b="0" lang="ru-RU" sz="1800" spc="-1" strike="noStrike">
                <a:solidFill>
                  <a:srgbClr val="f3cc9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4"/>
          <p:cNvSpPr/>
          <p:nvPr/>
        </p:nvSpPr>
        <p:spPr>
          <a:xfrm>
            <a:off x="6083280" y="63975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7991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Функции иннова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1143000" y="1752480"/>
            <a:ext cx="3833640" cy="3834000"/>
          </a:xfrm>
          <a:prstGeom prst="pie">
            <a:avLst/>
          </a:prstGeom>
          <a:gradFill rotWithShape="0">
            <a:gsLst>
              <a:gs pos="0">
                <a:srgbClr val="98b1f0">
                  <a:alpha val="12156"/>
                </a:srgbClr>
              </a:gs>
              <a:gs pos="50000">
                <a:srgbClr val="557fe7"/>
              </a:gs>
              <a:gs pos="100000">
                <a:srgbClr val="98b1f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bad0e1"/>
              </a:gs>
              <a:gs pos="100000">
                <a:srgbClr val="84ac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нов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4643280" y="3429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7fe7"/>
              </a:gs>
              <a:gs pos="100000">
                <a:srgbClr val="f5f7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 инвести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071960" y="1428840"/>
            <a:ext cx="3781440" cy="1326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c9d"/>
              </a:gs>
              <a:gs pos="100000">
                <a:srgbClr val="fefc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b050"/>
                </a:solidFill>
                <a:latin typeface="Arial"/>
              </a:rPr>
              <a:t>воспроизводствен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4143240" y="4500720"/>
            <a:ext cx="3780000" cy="121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7fe7"/>
              </a:gs>
              <a:gs pos="100000">
                <a:srgbClr val="f5f7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имул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643040" y="3000240"/>
            <a:ext cx="292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Величина прибыл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3cc9d"/>
                </a:solidFill>
                <a:latin typeface="Arial"/>
              </a:rPr>
              <a:t>Величина прибыли</a:t>
            </a:r>
            <a:r>
              <a:rPr b="0" lang="ru-RU" sz="1400" spc="-1" strike="noStrike">
                <a:solidFill>
                  <a:srgbClr val="f3cc9d"/>
                </a:solidFill>
                <a:latin typeface="Arial"/>
              </a:rPr>
              <a:t> определяется разностью, между курсовой стоимостью принадлежащей рисковому инвестору доли акций фирмы-новатора и суммой вложенных им в проект средств. Эта доля оговаривается в заключенном контракте и может доходить до 80%. По существу, финансовое учреждение становится совладельцем фирмы-новатора, а предоставленные средства - взносом в уставный фонд предприятия, частью собственных средств последнего.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cc9d"/>
                </a:solidFill>
                <a:latin typeface="Arial"/>
              </a:rPr>
              <a:t>Успехи рискового предпринимательства в разработке научно-технических новшеств заставили отдельные крупные промышленные предприятия Военно-промышленного комплекса (ВПК) Российской Федерации, как и за рубежом, пойти </a:t>
            </a:r>
            <a:r>
              <a:rPr b="1" i="1" lang="ru-RU" sz="1400" spc="-1" strike="noStrike">
                <a:solidFill>
                  <a:srgbClr val="f3cc9d"/>
                </a:solidFill>
                <a:latin typeface="Arial"/>
              </a:rPr>
              <a:t>на внутренние рисковые проекты или внутренние венчуры.</a:t>
            </a:r>
            <a:r>
              <a:rPr b="0" lang="ru-RU" sz="1400" spc="-1" strike="noStrike">
                <a:solidFill>
                  <a:srgbClr val="f3cc9d"/>
                </a:solidFill>
                <a:latin typeface="Arial"/>
              </a:rPr>
              <a:t> Они представляют собой небольшое подразделение, организуемое для разработки и производства новых типов наукоемкой продукции и наделяемое значительной автономией в рамках крупных корпораций. Отбор и финансирование предложений, поступающих от сотрудников корпорации или независимых изобретателей, ведутся специализированными службами. В случае одобрения проекта автор идеи возглавляет внутренний венчур. Такое подразделение функционирует при минимальном административно-хозяйственном вмешательстве со стороны руководства.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cc9d"/>
                </a:solidFill>
                <a:latin typeface="Arial"/>
              </a:rPr>
              <a:t>В течение обусловленного срока внутренний венчур должен провести разработку новшества и подготовить новый продукт или изделие к запуску в массовое производство. Как правило, это производство нетрадиционного для данной фирмы </a:t>
            </a:r>
            <a:r>
              <a:rPr b="0" lang="ru-RU" sz="1600" spc="-1" strike="noStrike">
                <a:solidFill>
                  <a:srgbClr val="f3cc9d"/>
                </a:solidFill>
                <a:latin typeface="Arial"/>
              </a:rPr>
              <a:t>изделия</a:t>
            </a:r>
            <a:r>
              <a:rPr b="0" lang="ru-RU" sz="1400" spc="-1" strike="noStrike">
                <a:solidFill>
                  <a:srgbClr val="f3cc9d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Инновационные предложе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0000"/>
              </a:gs>
              <a:gs pos="100000">
                <a:srgbClr val="8a779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00040" y="1928880"/>
            <a:ext cx="41432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b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меется необходимость в созда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ытно-промышленного производст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33520" y="3048120"/>
            <a:ext cx="41814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42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пытания проводятся на существующ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нной баз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0040" y="414324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d50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ромышленного внедр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статочно выполн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бораторные испы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6072120" y="2857680"/>
            <a:ext cx="307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к «особенности опытно-промышленной проверки инновационного предложения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ехнологические парк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048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cc9d"/>
                </a:solidFill>
                <a:latin typeface="Arial"/>
              </a:rPr>
              <a:t>Технологические парки являются весьма эффективным, хорошо зарекомендовавшими себя в мировой практике инструментом управления и поддержки инновационной деятельности, важной составляющей развития производительных сил.</a:t>
            </a:r>
            <a:endParaRPr b="0" lang="en-US" sz="10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cc9d"/>
                </a:solidFill>
                <a:latin typeface="Arial"/>
              </a:rPr>
              <a:t>Предполагается, что технопарк является таким механизмом, создание которого, само по себе, обеспечивает выполнение возложенных на него задач по развитию и поддержке инновационной деятельности в стране.  При общей постановке задачи, заключающейся в том, что технопарк должен обеспечивать поддержку (прежде всего финансовую) развитию инновационных проектов, мы предполагаем, что такая поддержка посредством технопарка должна быть не для всех подряд инновационных проектов. Дело в том, что практически все инновационные проекты индивидуальны. Для примера рассмотрим три гипотетических проекта:  «проект полета человека на Луну», «проект создания производства алюминированного стального  проката основанного на новой технологии» и «проект организации производства на действующем предприятии выпуска мельницы для кофе, с использованием нового принципа работы размалывающего органа».  Все это инновационные проекты, однако, интуитивно оценив их, незаинтересованный эксперт скажет, что из приведенных выше проектов к сфере деятельности технопарка относится только второй. Первый проект должен финансировать из средств специальной государственной программы. Третий проект должен развиваться из средств дохода действующего предприятия и эти затраты должны снижать базу налогообложения (как это делается в большинстве развитых стран). </a:t>
            </a:r>
            <a:endParaRPr b="0" lang="en-US" sz="10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cc9d"/>
                </a:solidFill>
                <a:latin typeface="Arial"/>
              </a:rPr>
              <a:t>Если обобщить формулировку  определения «инновационный проект» принятую в законе Украины «О специальном режиме… технопарков...» (1) и формулировку, предложенную в толковом словаре  В.И. Даля (2), то в общем случае мы увидим, что: инновационный проект это – план действий, представленный в виде комплекта документов, которые включают описание взаимосвязанных мероприятий технологического парка, определяют его участников, в части проведения научных исследований, технического, технологического, конструкторского проектирования, выпуска опытных партий и промышленного производства инновационной продукции, а также в части  финансового, кадрового, маркетингового и коммерческого обеспечения производственного внедрения новых товаров и предоставления услуг.</a:t>
            </a:r>
            <a:endParaRPr b="0" lang="en-US" sz="10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cc9d"/>
                </a:solidFill>
                <a:latin typeface="Arial"/>
              </a:rPr>
              <a:t>Из приведенной формулировки следует, что все три приведенные выше примера инновационных проектов ей соответствуют.  Видимо, применительно к технопарку необходимо учитывать еще какие-то дополнительные ограничения по характеристикам инновационных проектов для их регистрации и применения установленного механизма поддержки их развития.</a:t>
            </a:r>
            <a:endParaRPr b="0" lang="en-US" sz="10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cc9d"/>
                </a:solidFill>
                <a:latin typeface="Arial"/>
              </a:rPr>
              <a:t>Ключевой вопрос создания системы поддержки инновационной деятельности заключается в том, чтобы решить какие именно проекты следует относить к сфере деятельности технопарка. Для этого необходимо разработать четкие критерии оценки инновационных проектов применительно к поставленной задаче.</a:t>
            </a:r>
            <a:endParaRPr b="0" lang="en-US" sz="10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557fe7"/>
                </a:solidFill>
                <a:latin typeface="Arial"/>
              </a:rPr>
              <a:t>Новизна рын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562720" y="3095640"/>
            <a:ext cx="2224080" cy="169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"/>
              </a:rPr>
              <a:t>новые для отрас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"/>
              </a:rPr>
              <a:t>в стран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143000" y="3095640"/>
            <a:ext cx="2286000" cy="15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ые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расли в мир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3429000" y="3000240"/>
            <a:ext cx="903240" cy="1241640"/>
          </a:xfrm>
          <a:prstGeom prst="pie">
            <a:avLst/>
          </a:prstGeom>
          <a:gradFill rotWithShape="0">
            <a:gsLst>
              <a:gs pos="0">
                <a:srgbClr val="9351c9"/>
              </a:gs>
              <a:gs pos="100000">
                <a:srgbClr val="dd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0"/>
          <p:cNvSpPr/>
          <p:nvPr/>
        </p:nvSpPr>
        <p:spPr>
          <a:xfrm flipH="1">
            <a:off x="4643280" y="3000240"/>
            <a:ext cx="903600" cy="1241640"/>
          </a:xfrm>
          <a:prstGeom prst="pie">
            <a:avLst/>
          </a:prstGeom>
          <a:gradFill rotWithShape="0">
            <a:gsLst>
              <a:gs pos="0">
                <a:srgbClr val="557fe7"/>
              </a:gs>
              <a:gs pos="100000">
                <a:srgbClr val="c9d6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18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19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351c9"/>
                  </a:gs>
                  <a:gs pos="100000">
                    <a:srgbClr val="4727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fb2e7"/>
                  </a:gs>
                  <a:gs pos="100000">
                    <a:srgbClr val="9351c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73b6b"/>
                </a:gs>
                <a:gs pos="100000">
                  <a:srgbClr val="557f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57fe7">
                    <a:alpha val="0"/>
                  </a:srgbClr>
                </a:gs>
                <a:gs pos="100000">
                  <a:srgbClr val="c4d2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365b7"/>
                </a:gs>
                <a:gs pos="100000">
                  <a:srgbClr val="557f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57f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Text Box 19"/>
          <p:cNvSpPr/>
          <p:nvPr/>
        </p:nvSpPr>
        <p:spPr>
          <a:xfrm>
            <a:off x="3357720" y="150012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типу новиз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для рынка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5810400" y="335268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инноваций и их классифика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895480" y="2133720"/>
            <a:ext cx="3197160" cy="2890800"/>
            <a:chOff x="2895480" y="2133720"/>
            <a:chExt cx="3197160" cy="2890800"/>
          </a:xfrm>
        </p:grpSpPr>
        <p:sp>
          <p:nvSpPr>
            <p:cNvPr id="129" name="AutoShape 4"/>
            <p:cNvSpPr/>
            <p:nvPr/>
          </p:nvSpPr>
          <p:spPr>
            <a:xfrm flipH="1" rot="16200000">
              <a:off x="2813400" y="32504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3cc9d"/>
                </a:gs>
                <a:gs pos="100000">
                  <a:srgbClr val="faebd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 rot="5400000">
              <a:off x="5684040" y="319680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3cc9d"/>
                </a:gs>
                <a:gs pos="100000">
                  <a:srgbClr val="faeb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3cc9d"/>
                </a:gs>
                <a:gs pos="100000">
                  <a:srgbClr val="faeb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336852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351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502c6d"/>
                </a:gs>
                <a:gs pos="50000">
                  <a:srgbClr val="9351c9"/>
                </a:gs>
                <a:gs pos="100000">
                  <a:srgbClr val="502c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05d"/>
              </a:gs>
              <a:gs pos="50000">
                <a:srgbClr val="84acca"/>
              </a:gs>
              <a:gs pos="100000">
                <a:srgbClr val="3d50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3571920" y="5857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b6b"/>
              </a:gs>
              <a:gs pos="50000">
                <a:srgbClr val="557fe7"/>
              </a:gs>
              <a:gs pos="100000">
                <a:srgbClr val="273b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к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6357960" y="3214800"/>
            <a:ext cx="19288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b6b"/>
              </a:gs>
              <a:gs pos="50000">
                <a:srgbClr val="557fe7"/>
              </a:gs>
              <a:gs pos="100000">
                <a:srgbClr val="273b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дини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2571840" y="521496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505d"/>
              </a:gs>
              <a:gs pos="50000">
                <a:srgbClr val="84acca"/>
              </a:gs>
              <a:gs pos="100000">
                <a:srgbClr val="3d505d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хват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85716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ффу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28"/>
          <p:cNvSpPr/>
          <p:nvPr/>
        </p:nvSpPr>
        <p:spPr>
          <a:xfrm>
            <a:off x="3714840" y="271476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о распространенност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6500880" y="5143680"/>
            <a:ext cx="190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b6b"/>
              </a:gs>
              <a:gs pos="50000">
                <a:srgbClr val="557fe7"/>
              </a:gs>
              <a:gs pos="100000">
                <a:srgbClr val="273b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571680" y="5143680"/>
            <a:ext cx="190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b6b"/>
              </a:gs>
              <a:gs pos="50000">
                <a:srgbClr val="557fe7"/>
              </a:gs>
              <a:gs pos="100000">
                <a:srgbClr val="273b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те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6083280" y="63975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9572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Формирование технического предложе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0000"/>
              </a:gs>
              <a:gs pos="100000">
                <a:srgbClr val="8a779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71680" y="1643040"/>
            <a:ext cx="4714560" cy="1285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b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709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снованию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основе научных исследова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709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технологических параметров нов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709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рудования,параметров технологи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709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цессов, состава нового матер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571680" y="3071880"/>
            <a:ext cx="41814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42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основе конструкторской проработ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лабораторных испыта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d50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е разработки эскиз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6072120" y="285768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к «особенности формирование технического предложения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6:54:57Z</dcterms:created>
  <dc:creator>AsAbAm</dc:creator>
  <dc:description/>
  <dc:language>en-US</dc:language>
  <cp:lastModifiedBy>Айжан</cp:lastModifiedBy>
  <dcterms:modified xsi:type="dcterms:W3CDTF">2011-06-08T06:38:52Z</dcterms:modified>
  <cp:revision>22</cp:revision>
  <dc:subject/>
  <dc:title> Виды инноваций и их классификация</dc:title>
</cp:coreProperties>
</file>