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1A1-FF00-43A5-A2BE-6E63305D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74C-008F-4B36-BDA8-D546AF9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CF716-3622-4D20-A28C-7189362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9C193-AB30-41D5-83C8-68142AC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1CE0-A1AD-4C81-B988-F989780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64FF7-61F8-4AAB-A2F0-A3D6C15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D4511-463F-4C5B-8CFD-B3724AB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D1CB2-8210-4B9B-A47F-C2C7720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88B8A-7497-43EA-9204-F297FCB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B1FE1-C73E-4D87-8C0E-2C3DA609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F177E-1BD7-4C47-9B02-ED85F0B3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028D3-69C4-42D9-8339-FD2750D3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DA2-AE46-4E51-9866-F196AA32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D9000-893C-4948-90E9-C23153D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FC1E-E0FC-4AC0-827A-340A99D7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161B-97A2-4DE6-902B-B9A9B661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A1CE5-E511-42DD-948C-9DB13CF0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7550F-BA8C-4CD1-8D34-C8586CA3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C0BAC-DAEE-4EFF-9DD7-7AE5B7E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FDFA-1239-4F50-A752-C3F9B4F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27DCA-70E1-496E-B065-F894F68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23762-4F19-42C1-86CB-52CEEF7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DA76F-84B4-46FD-85A9-4958E752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668-4B49-405C-B0C5-3C079A09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6B157-8B34-4611-80CD-612C3CFC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514A7-19D8-427E-AE0D-1822CFCC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94725-F2F7-4E34-9E4D-828796D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825C-E139-48BD-B9EB-414E9EC1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D920D-1498-481C-8E43-0199E2AD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C79ED-58BD-4B52-AE0A-70AEA2A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F73E7-8AF1-4834-9F69-442A693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BCEA-B9DE-4A7C-9406-E305539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8D5E0-09E6-4CEB-8280-4FCE549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D117-2758-405D-966D-CEC98E6D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890-E755-4450-994A-6F538667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52FBC-081C-4759-98A0-6819EB3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FA3D3-19C3-4C57-B961-05BC8DA9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46C5D-BCA4-4F66-A37E-D121EB69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A1AA6-9C11-403D-A223-F167A893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5E699-C11E-4737-9567-4085894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56700-3B8B-43F7-9228-C15208B1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AD6E2-2F20-45EE-BEA8-9F7445CE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B9D19-F960-4C0D-9871-DB347E68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14B37-8696-429D-BB47-8F47525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46391-83AE-45CF-A57C-7BC5FD6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08E7-D4FA-4D95-B940-BF124F1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DE649-A8BD-48C8-BF30-16F4CDB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5468B-D7CA-4C80-BB2E-68D7CA7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D7E05-7565-452F-AC14-6A78EFE9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7FF13-0397-4616-BF6E-04C3F467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6D248-83E9-48EA-A9F0-10EB6B3D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1A9EB-DAF2-420D-AC71-C4782E8B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39094-0064-4AC4-97C9-578CB6B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95249-F1FA-4242-9711-D3E1BE0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58419-1643-4E41-BBAB-E3F7C993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21E43-69C6-43AC-A468-FD89385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DD41-87FF-44DF-BE5E-43DAA99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B861A-1E51-4C71-913E-0258D742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B81E8-7406-464C-8CFD-A3B843C6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82DFF-1B14-4459-9C46-AB7D128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06400-3B98-4870-8365-8DDFDE9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12A99-2FB2-4238-851B-5822B81D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65F47-6C69-477F-B7B4-CF9AF4D6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50138-3BBC-452E-9205-01CD3537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E84FD-17EB-45C1-AA08-DDAEDFBD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560F6-AA86-484C-A1E1-4EF13343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8C155-2EA5-4631-B929-21EC953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303-6B46-4182-819C-37DA244B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67EF1-2CBE-4F0C-963A-7806E0E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469A8-543C-4C62-8B1F-1A10F0B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79CA2-90DF-4DE5-9B68-0ECF1F7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1CE69-7AE4-4583-B5BE-5E2C4AD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230AB-E18E-4584-8202-38592A6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A1DB9-6CFC-4012-BD40-E6CCA25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0A48C-0ABC-467E-B3BE-869489C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DF6E7-4FA5-45D2-B3EE-1AF8D6F3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D48FC-5EE7-46C2-8A23-60D94F20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2598-CD66-41CC-B2EA-18A92C7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58DD-E275-4513-A90B-DD09D3D6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94AE-A65B-4A02-AE23-32472D0B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F84-2C32-42CA-8197-C218CEB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70EF-E298-4B49-9663-9D49F15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2333-8525-43A9-985F-90E2D6F5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3891-F266-4039-97A3-A5DE4FC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1FC-1E07-4BAA-98C7-E08E79C4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D7E1-70BE-441C-A823-C3AAE55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8D0BD-F670-4BBE-A28F-5A3FD643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C04D7-DE2E-4BD6-BA62-1A5B1D1D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1317F-29B0-45B7-B5C8-A1F9652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313DD-307F-47E5-B5CF-A8A3FEA2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DA8FC-B3D7-45DF-8C3F-A2590248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F7B-D3D7-411B-8B47-2596E8BA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33D6C-5B29-4359-8812-71E4790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44959-8C08-4B58-B67A-FC6EAB2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0BD81-E82B-4C43-87F6-B93E575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0327E-FE1B-4DF5-A2EE-AED1F88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51711-F9BC-4C31-BB1B-EDB3B57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55AFA-7A5C-4FAC-BF4E-3F15F5B8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D811-3256-449E-A3FB-FE704F35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F182-1027-40EF-9E1E-A4E68BE8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BA83B-87A1-49E9-B657-832A170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FE8B-FC35-486A-A562-62CE88CB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FBA-041A-4EE3-97CC-BA4DC146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9F7A-D842-4031-9A28-70F792B5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57EA-7EFA-41F7-81D9-90AB26D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4168-F177-457D-9A46-DB465C3C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57E0-92F2-4CCD-9781-CFFAF640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39B3-E7F3-4965-9DC3-F2A8E0D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AA4A-FC35-4954-A997-672FC5C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69B7-3EA2-4079-87C7-90FBA35A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6B38-AC14-41D5-B889-CCE0184D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EE85-F994-42F7-B440-AEB56EB2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4725-948C-4D76-B0E5-0814F335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90C-DAA2-467A-BBF7-B50A6D7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31BC-7E2C-4A39-8276-69DFC74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117E6-76E2-456E-8136-6C7DC628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2FCE-1020-4BC7-B339-817ED166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3060-538E-4D7E-94F1-1AFA1E7C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0B09-AD6E-4AB3-8FC4-71DF6B44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2111-8F2D-4AE7-BF4F-797322F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51E8B-B0BD-4D2D-9740-97D5533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10B8-B39B-4343-A15D-1F8BD92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1F79-A484-454F-8206-5568E52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C3D4-6B7E-47FB-84C3-3592B6E3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7AD-64A4-463F-8A15-893D491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82F9-C5B8-4446-9C90-8351E5B9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62FA-1BCB-4299-8CD0-286B57EC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D11C-22C5-47B7-B3BC-EEC9C5C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B5366-5304-4CC9-8D47-EE05F990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97855-3E14-475C-9C69-1A6C41A2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06BF-2C63-4968-A2CA-18C7F5B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D0DF-1A47-4880-BFB4-B2CD030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75CF-419F-4CF2-A5D7-96C3814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FBC3-7F1B-4540-B9AC-F2741B2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D5C8-73AF-44D2-A18A-C0F0BD6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7E7-EA3E-4A15-8A8A-550A3D5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5E1C-5333-4DE6-926D-D5328007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156B8-44C5-4992-8217-AC014444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944A8-23DE-4E2D-A0A2-36601DE4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A412F-0026-4073-A9F1-72544585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8342E-9306-4159-9DC7-02E7147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0163C-6E43-4054-B7AC-D652F8E7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4A37E-35F3-4CCB-B81E-E2E4800D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EA045-290C-4EC9-B356-A55227DD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1CF13-3FFE-4C8C-8E54-AA7F903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A07FC-8D14-4617-BB89-2E0D2D1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2A8-55D0-4C9B-9448-CD1581F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68866-3372-42C9-9B60-5D0376E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EDD30-8348-491D-B0A8-FC39432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EC6A4-F449-4B90-9E55-0E07A219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DDE56-9652-4F01-B018-43E887AF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EC4E2-A5F3-4D08-B253-CCCA1D3F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7C51-90E2-4D82-9D8B-E328DC58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7AF4-3C58-45C3-AB50-D0F114D5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8D78-C73B-4F18-839F-3B3D669E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CA74B-552C-46CF-94E8-5D9F88BA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3DBF0-1B61-45A2-9704-96B939C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803-B082-4DE6-8E25-555EF8A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4D64A-4B9B-48CD-9E81-8F036B6A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3273-3C32-4119-9563-D8FFA72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E8756-750B-44D6-9BB9-8026886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8A339-D788-44F9-BF80-513EC92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37C2C-55AA-4027-BA77-4F2FE218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3A60-09A2-45F0-A32D-1B508BC1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26977-E713-484B-8B31-F134377D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A651B-3FFE-41D3-A02D-31286B81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DAA96-ADDC-45F5-9F31-2C954BE7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4B59-5A54-472E-9CE8-95D78F8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ECC-D97A-41E7-9F32-3859C105E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B6A-4455-4EB8-B06D-E085EE0F6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1C78-44A3-4850-A01F-454B1FAA2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2629-5D56-4960-A713-51E03AEE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41A-D776-43E2-BDF6-A1EC26C6A10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83EC-EFAF-45F3-A9F3-502E11EFA8A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AA1-1007-4C91-AB7A-BE75989BA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C3C-3750-454D-A27B-125FF5B222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B136-0B23-45AA-88D6-02900C4A17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1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E9E2-7FD2-4694-A7BF-EE392EC8E1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9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26B-0918-4149-B89C-95E4AFE4EB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C34-4D96-4D72-B730-53B683EC25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FB99-8C35-4512-86D4-917800177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A94-6F16-4607-AAFC-2C598E8BA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Содержание</a:t>
            </a:r>
            <a:br>
              <a:rPr sz="5400"/>
            </a:b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порядок разработки бизнес-план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Цели и стратегии бизнес плана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знес план помогает добиваться целей и следовать стратегиям, не отвлекаясь от ваше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знес план помогает проконтролировать то, что вы сделали, и каких результатов добилис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шив поставленные задачи по каждому пункту, вдруг вы можете осознать, что уложиться в те временные рамки, которые вы сами установили, просто невозможно. Вам придется либо увеличить отведенное время, либо исключить некоторые задачи, или сократить источники дохода. Бизнес план заставляет вас быть реалистичны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ПОРЯДОК СОСТАВЛЕНИЯ БИЗНЕС ПЛАНА. </a:t>
            </a:r>
            <a:br>
              <a:rPr sz="3200"/>
            </a:b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10 МОЖНО И НЕЛЬЗЯ ПРИ СОСТАВЛЕНИИ БИЗНЕС ПЛАН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-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ОСНОВНЫЕ 10 «МОЖНО»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 Подготовить комплексный бизнес-план для рассматриваемого вами бизнес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Использовать модели бизнес-планов, представляемые на каждом совещан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. Закончить оформление разделов своего бизнес-плана по мере дальнейшего продвижения вперё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 Заниматься исследованиями (использовать поисковые системы) в целях нахождения бизнес-планов, доступных в Интернет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 Оформить свой бизнес-план в привлекательной манере в качестве средства сбы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 Представить свой бизнес-план экспертам на рассмотрение с целью получения от них советов относительно намеченного бизнес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7. Прописать свои стратегии по планомерному преодолению трудност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. Прописать сильные и слабые стороны своей управленческой команд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9. Включить в план ежемесячный прогноз движения денежной наличности, рассчитанный на один г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0. Свободно и неоднократно модифицировать свои бизнес-планы, принимая во внимание меняющиеся услов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ОСНОВНЫЕ 10 «НЕЛЬЗЯ»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 Быть оптимистом (в высокой степени) в оценке будущих продаж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Быть оптимистом (в низкой степени) в оценке будущих затра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. Не учитывать или игнорировать слабые стороны своего плана. Разберите и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 Делать акцент на долгосрочных прогнозах. Лучше сконцентрироваться на прогнозах на первый г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 Полагаться полностью на уникальность своего бизнеса или успешность изобрет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 Производить впечатление того, кем вы не являетесь. Будьте исключительно реалистичны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7. Быть всем для всех. Специалисты широкого профиля обычно делают всё возможно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. Продвигаться вперёд без достаточного опыта и знаний в области финансового учёта и отчётно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9. Основывать свой бизнес-план на прекрасной идее. Для начала испытайте её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0. Пропускать этап подготовки бизнес-плана перед тем, как переходить к его реализа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РЕАЛИЗАЦИЯ БИЗНЕС ПЛАНА-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ТРАТЕГИЯ РЕАЛИЗАЦИИ БИЗНЕС ПЛАНА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50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Бизнес-план – это инструмент с тремя основными целями: коммуникации, управления и планирова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 инструмент коммуникации он используется для того, чтобы привлечь инвестиционный капитал, займы, нанять персонал и содействовать в привлечении стратегических партнеров по бизнес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качестве инструмента планирования, бизнес-план проведет вас через различные этапы вашего бизнеса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 инструмент управления бизнес-план помогает вам отслеживать, контролировать и оценивать ваши успех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ОБНОВЛЕНИЕ БИЗНЕС ПЛАНА - НОВЫЕ БИЗНЕС РЕШЕНИЯ, ИЗМЕНЕНИЕ БИЗНЕС СРЕДЫ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4876920" cy="43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Существуют три важнейших части бизнес-плана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ой является понятие о бизнесе, где Вы обсуждаете отрасль, Вашу деловую структуру, Ваш специфический продукт или сервис, и как Вы планируете сделать свой бизнес успеш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торой является место на рынке, в которой Вы описываете и анализируете потенциальных клиентов: кем они являются и где могут находиться, что может заставить их совершить покупку и так далее. Здесь Вы также описываете конкуренцию и как Вы поставите себя, чтобы одержать вер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конец, финансовый раздел, который содержит Ваш доход и утверждение потока наличности, балансовый отчёт и другие финансовые коэффициенты, такие как анализы затрат. Этот раздел может потребовать помощи Вашего бухгалтера и хорошей компьютерной программы для составления электронной табли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 следует избегать при создании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бизнес-плана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553440" cy="48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е следует строить слишком долгосрочные планы на будущее (долгосрочный – это период более года). Лучше сосредоточиться на краткосрочных целях и вносить изменения в бизнес план по мере развития бизнес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е будьте чересчур оптимистичными. На самом деле, следует быть крайне консервативным в определении объема предполагаемых капиталовложений, сроков, объемов продаж и прибыли. Лишь небольшая часть бизнес-планов содержат адекватные расчеты объемов требуемых вложений и сроков реализаци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Структура и содержание бизнес пла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ледует определить также стратегии поведения в случае возникновения пробле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ъясняйте все простым языком. Сделайте бизнес-план простым и понятны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е следует полностью полагаться на уникальность бизнеса или даже на патентованное изобретение. Успеха добиваются те, кто больше полагается на экономические расчеты, а не на великие изобрет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7d47d"/>
                </a:solidFill>
                <a:uFillTx/>
                <a:latin typeface="Arial"/>
              </a:rPr>
              <a:t>Ваш бизнес план обязательно будет полезен вследствие следующих причин: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8118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-первых, бизнес план позволит определить и конкретизировать основную цель с использованием соответствующей информации и анализ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знес план может быть использован как наглядная иллюстрация вашего будущего успеха во время переговоров с важными людьм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знес-план поможет выявить упущения и/или слабые стороны самого процесса планирова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Основная часть бизнес плана может быть поделена на четыре основных раздела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Описание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Маркет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Финан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Менеджмен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лан должен включать краткое описание деятельности, подтверждающие документы и финансовое планирование. Хотя единой формулы для разработки бизнес-планов не существует, некоторые элементы являются общепринятыми для всех бизнес-планов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В общей сложности можно выделить следующие составляющие бизнес-плана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итульный лист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Цель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Содерж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. Бизнес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Описание коммерческой деятельност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. Система организации и управления коммерче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ью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. Конкуренция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. Метод деловой деятельност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. Штат сотрудников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. Страхование компан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3200400" cy="227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Информация о финансовой стороне дел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Заявки на получение ссуды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. Основное оборудование и лист поставо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. Балансовый отче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. Анализ безубыточност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. Прогнозирование дохода (заявления о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былях и убытках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. Краткое изложение деятельности на три год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. Подробное изложение деятельности на месяц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вый год работы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. Подробное изложение деятельности п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варталам, второму и третьему году работы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. Положения, послужившие основой для план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. Примерное движение денежной наличнос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дтверждающие докумен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Налоговые декларации глав предприятия за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дние три года, личное финансовое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явление (во всех банках есть эти бланки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. Копия специального контракта и вс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тверждающие документы, предусмотрен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рмой, предоставляющей привилегию (дл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приятий, получивших льготы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. Копия договора об аренде или покупк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оительной площадк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. Копии лицензий и других правовых докум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. Копии резюме всех глав предприятия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. Копии гарантийных писем от поставщиков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ОСНОВЫ БИЗНЕС ПЛА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жде чем вы начнете писать свой бизнес-план, рассмотрите четыре основных вопрос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ую услугу или продукт предоставляет ваш бизнес, и, какие потребности она удовлетворяе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является потенциальными клиентами для вашего продукта или услуги, и почему они будут приобретать его у вас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вы доберетесь до ваших потенциальных клиентов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 вы получите финансовые ресурсы, чтобы начать свой бизне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Виды бизнес планов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ини бизнес 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абочий бизнес пл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зентационный бизнес пл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лектронный бизнес пл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3286080" cy="289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ем</cp:lastModifiedBy>
  <dcterms:modified xsi:type="dcterms:W3CDTF">2010-12-07T20:46:5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