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561-7D4A-44C0-895C-00FA102F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961-1001-4980-8BB1-7EEF8DC2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68E-8899-413F-A3AC-9D8D3EDD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2DE-3B53-4881-8C6F-1D44E624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1180-8B19-4675-80A7-18ECF60B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4F49-D8CF-4043-AE43-B4AF3E5E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70F5-CA18-4BBF-B1F8-F1249F32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80CA-3D9E-4A38-B229-63C28D23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BBFA-B6DA-4D33-A3C3-5C5C45CC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816B-EC2B-48E9-A858-B7379AD5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80FA-EA07-46DE-8588-CEA0E4B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541-3FF1-43FA-BF45-0E951542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C9F5-6E60-4C6D-A819-F5345572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CECC-E366-4836-95DF-4A36F19E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D030-F87A-434B-B9AA-050C60FA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2293-6D6C-4226-8059-FA2F2D91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0405-1D6F-476F-975E-E4B5CC74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320-4EBB-4A39-BCD3-CD2E1291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E9D-D964-4AF4-ADD1-44FF7DC7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7EE-6802-423B-9E34-1A4BF1F2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E78-84E5-456E-97A3-8079FB44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2FF-98F9-46D2-BF92-47971EA3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68C-CDD2-43E4-B3C1-1D21FB99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F00-231C-4E35-81D1-66A7B76C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9EC4-52A9-47AE-819A-3F66EF441E1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958C-8B2F-49A1-A5F5-FBB5D4C7CE1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00720" cy="153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ТЕМА:</a:t>
            </a:r>
            <a:r>
              <a:rPr b="0" lang="ru-RU" sz="4000" spc="-1" strike="noStrike">
                <a:solidFill>
                  <a:srgbClr val="12ac2c"/>
                </a:solidFill>
                <a:latin typeface="Arial Black"/>
              </a:rPr>
              <a:t>    11 </a:t>
            </a:r>
            <a:br>
              <a:rPr sz="4000"/>
            </a:br>
            <a:r>
              <a:rPr b="0" lang="ru-RU" sz="4000" spc="-1" strike="noStrike">
                <a:solidFill>
                  <a:srgbClr val="12ac2c"/>
                </a:solidFill>
                <a:latin typeface="Arial Black"/>
              </a:rPr>
              <a:t>2 вопрос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ГОСУДАРСТВЕННОЕ РЕГУЛИРОВАНИЕ ИННОВАЦИОННОЙ ДЕЯТЕЛЬНО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Законодательство Республики Казахстан об инновационной деятельности основывается на Конституции Республики Казахстан и состоит из нормативных правовых актов Республики Казахста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Если международным договором, ратифицированным Республикой Казахстан, установлены иные правила, чем те, которые содержатся в настоящем договоре, применяются правила международного договор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Статья 3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Цель и основные задачи государственной инновационной политик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Целью государственной инновационной политики является сбалансированная производственная инфраструктура, обеспечивающая преобладание в областях производства и сферах управления обществом конкурентоспособной, высоко – технологичной продукции (работ, услуг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564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. Государственная инновационная политика направлена на решение следующих задач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  Определение форм и методов государственной поддержки инновационной деятельности и создание условий, обеспечивающих социальное развитие преимущественно на основе достижений науки и техник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   Формирование нормативной правовой базы, обеспечивающей развитие инновационной деятельности и защиту интересов субъектов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 Государственная поддержка субъектов инновационной деятельности и формирование инновационной инфраструктур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 Формирование новых высоко – технологичных секторов экономики, проведение модернизации и создание экспорто – ориентированных производств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) Привлечение к инновационной деятельности субъектов малого и среднего бизнес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6) Обеспечение взаимодействия науки, образования, производства и финансово – кредитной сфер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 Содействие международному сотрудничеству в сфере инновационной деятельности, защиты национальных интересов и интеллектуальной собствен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Статья 4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Принципы государственной инновационной политик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7138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. Государственная инновационная политика формируется и реализуется исходя из признания приоритетности инновационной деятельности конкурентоспособности отечественной продукции, обеспечения экономического развития и безопасности страны, повышения уровня жизни населения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. Принципами государственной инновационной политики являются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астоящий закон РК от 23 марта 2006 г. № 135 регулирует отношения в сфере инновационной деятельности, определяет основополагающие принципы, направления и формирование инновационной политик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  Стратегическая ориентация Республики Казахстан на инновационный путь развития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   Государственная поддержка инновационных программ и проектов, направленных на реализацию государственной инновационной политик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 Подготовка высококвалифицированных кадров для инновационной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 Свобода получения и распространения информации об инновационных потребностях и результатах научно – технической и инновационной системы, за исключением информации, составляющей служебную и иную охраняемую законом тайн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Статья 5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Формы государственной поддержки инновационной деятель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Государственная поддержка инновационной деятельности осуществляется в соответствии с законодательством Республики Казахстан в следующих формах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1)  Определение приоритетов инновационного развития и разработка инновационных программ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)   Создание необходимых организационных и экономических условий, обеспечивающих привлечение инвестиций для реализации государственной политики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3)   Формирование инновационной инфраструктуры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4)   Целевое финансирование из государственного бюджета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5)   Участие государства в создании конкурентоспособных производств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6)   Обеспечение гарантированных рынков сбыта инноваций, созданных по государственному заказу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7)   Продвижение отечественных инноваций на внешние рынки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Статья 6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Содержание инновационной деятель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 инновационной деятельности относятся следующие виды деятельности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  Внедрение новых идей и научных знаний в сферы управления обществом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   Выполнение и обслуживание научно – исследовательских, проектных, изыскательных, опытно – конструкторских и технологических работ, над созданием новой или усовершенствованной продукции (работы, услуги), нового или усовершенствованного технологического процесса, на экономическом обороте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 Организация рынков сбыта инновационных товаров (работ, услуг)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 Осуществление технологического переоснащения и подготовки производств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) Проведение испытаний с целью сертификации и стандартизации новых технологических процессов, товаров (работ, услуг)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6) Производство новой или усовершенствованной продукции (работы, услуги) и (или) применение новой или усовершенствованной технологии до достижения нормативного срока окупаемости инновационного проект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 Создание и развитие инновационной инфраструктур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 Пропаганда результатов инновационной деятельности и распространение инноваций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9) охрана, передача и приобретение прав на объекты интеллектуальной собственности (в том числе на нераскрытую научную, научно – технологическую информацию) с целью их освоения и реализаци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 Иные виды деятельности, направленные на создание инноваций, в соответствии с законодательством Республики Казахста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Статья 7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Субъекты и объекты инновационной деятель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5616720" cy="46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СТАТЬЯ 1.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Основные понятия,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используемые в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настоящем Закон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. Субъектами инновационной деятельности являются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 Физические и юридические лица, создающие и реализующие инноваци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   Специализированные субъекты инновационной деятельности ( технополисы, технологические, промышленные и агропромышленные парки, технологические инкубаторы, инновационные фонды, инновационные центры и иные организации инфраструктуры инновационной деятельности, деятельность которых направлена на создание инноваций и передачу их в различные области производства и сферы управления обществом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 Государственные органы, участвующие в регулировании инновационной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 Общественные объединения, представляющие и защищающие интересы производителей и потребителей инноваци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. Объектами инновационной деятельности являются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Инновационные проекты и программ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 Результаты интеллектуальной творческой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 технологии, оборудование и процесс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 Инфраструктура производства и предпринимательств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) Иные новые организационно – технические, финансово – экономические решения, существенно улучшающие качество и эффективность управленческого, коммерческого или иного процесс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. Субъекты инновационной деятельности могут выполнять функции заказчиков и (или) исполнителей инновационных проектов и программ, потребителей инноваций, а также организаций, обслуживающих инновационный процесс и содействующих освоению и распространению инноваци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Статья 8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Компетенция государственных органов Республики Казахстан по реализации государственной инновационной политик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.Правительство Республики Казахстан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определяет и реализует государственную инновационную политику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 разрабатывает государственные инновационные программ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 утверждает отраслевые и региональные инновационные программ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 принимает участие в создании инноваций и специализированных субъектов инновационной деятельности, имеющих стратегическое значение Республики Казахстан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) Определяет задачи, функции и полномочия уполномоченного органа, осуществляющего регулирование инновационной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6) Определяет порядок и условия бюджетного кредитования инновационных проектов, а также порядок и условия субсидирования, государственных натурных грантов субъектам инновационной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 Утверждает формы типовых документов, порядок организации и проведения государственной экспертизы, правила для конкурсного отбора и инновационных проектов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 Осуществляет иные полномочия в сфере инновационной деятельности в соответствии с законодательством Республики Казахста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. Уполномоченный орган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 Разрабатывает прогнозы инновационного развития стран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  Осуществляет координацию деятельности государственных органов по развитию инновационной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  Разрабатывает и вносит на утверждение Правительства Республики Казахстан межотраслевые инновационные программы, предложения по созданию специализированных субъектов инновационной деятельности, имеющих стратегическое значение для экономики Республики Казахстан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  Разрабатывает в соответствии с законодательством Республики Казахстан проекты нормативных актов по финансированию инновационной деятельности, размещению государственного заказа на создание инноваций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)  Разрабатывает формы типовых документов, порядок организации и проведения государственной экспертизы, правила для конкурсного отбора и инновационных проектов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6)  Осуществляет иные полномочия в сфере инновационной деятельности в соответствии с законодательством Республики Казахста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. Иные центральные исполнительные органы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Обеспечивают в пределах своих полномочий реализацию государственной инновационной политик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 Разрабатывают и реализуют отраслевые инновационные программы и обеспечивают им правовую, организационную и иную поддержку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 Осуществляют иные полномочия в сфере инновационной деятельности в соответствии с законодательством Республики Казахста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Государственная инновационная политика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составная часть социально – экономической политики, направленная на развитие инновационной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Инновационная деятельность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деятельность, направленная на внедрение новых идей, научных знаний, технологий и видов продукции производства и сферы управления обществом, результаты которой используются для экономического роста и конкурентоспособ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. Местные исполнительные органы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Разрабатывают и реализуют в пределах своих полномочий региональные инновационные программы и обеспечивают им правовую, организационную поддержку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 Принимают участие в создании инноваций и специализированных субъектов инновационной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 Осуществляют иные полномочия в сфере инновационной деятельности в соответствии с законодательством Республики Казахста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Статья 9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Формирование инновационных программ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1. Государственная инновационная программа формируется на основе прогноза инновационного развития на соответствующий период с учетом социально – экономического, инновационного и научно – технологического развития страны и должна предусматривать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1) Государственную поддержку инновационной деятельности на период создания инноваций, имеющих стратегическое значение для экономики страны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) Формирование и развитие инновационной инфраструктуры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3) Организацию банка данных и единой информационной сети производителей и потребителей инноваций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4) Разработку нормативных правовых актов по стимулированию субъектов инновационной деятельност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. Региональные инновационные программы формируются на основе экономических и социальных программ развития регионов и определяет приоритеты развития инновационной инфраструктуры и инновационного потенциала, включая подготовку кадров, формы и методы специализированных субъектов инновационной деятельност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. Отраслевые инновационные программы формируются исходя из приоритетов государственной социально – экономической, инновационной, аграрной и научно –технической политики и должны быть направлены на сбалансирование развития отраслей экономики, создание конкуренцию производст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. Инновационные программы формируются на основе конкурсного отбора инновационных проектов и проектов развития инновационной инфраструктур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. При формировании инновационных программ предусматривается размещение на конкурсной основе государственного заказа на создание инновационной деятельност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6. Инновационные программы реализуются субъектами инновационной деятельности, связанными между собой научно – исследовательской, конструкторской, производственной, информационной и другими видам деятельности, необходимыми для реализации инновационных проект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Статья 10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Источники финансирования инновационной деятель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Финансирование инновационной деятельности осуществляется за счет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обственных средств субъектов инновационной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 Средств республиканского и местных бюджетов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 Средств инновационных фондов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 Государственных натурных грантов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) Иных источников в соответствии с законодательством Республики Казахста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Статья 11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Государственный заказ на создание инноваци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Формирование и размещение государственного заказа на создание инноваций осуществляется в рамках программ, утвержденных в соответствии государственной инновационной политики и законодательством Республики Казахстан о государственных закупках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Инновация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результат инновационной деятельности, получивший реализацию в виде новой или усовершенствованной продукции (работы, услуги) усовершенствованного технологического процесса, а также организационно – технические, финансово – экономические и другие решения в развитии общественных отношений, оказывающие прогрессивное влияние на различные области производства и сферы управления обществом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Статья 12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Международное сотрудничество субъектов инновационной деятель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6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. Международное сотрудничество субъектов инновационной деятельности осуществляется на основе законодательства и международных договоров Казахстан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. Субъекты инновационной деятельности вправе самостоятельно вступать в международные организации, занимающиеся инновационной программой, вправе участвовать в международных инновационных программах и проектах, заключать договоры и иные соглашения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Инновационная программа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комплекс инновационных проектов и мероприятий, объединенных единой целью, задачами, объектом, согласованных по ресурсам, исполнителям и срокам реализаци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Инновационный проект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документ, содержащий план проведения комплекса научных, научно – технических, опытно – конструкторских, исследований и работ, направленных на достижение инновации, а также технико – экономические показатели;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Инновационная инфраструктура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совокупность организаций, выполняющие работы и оказывающих услуги, необходимые для осуществления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Уполномоченный орган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центральный исполнительный орган, осуществляющий в пределах предоставленных полномочий руководства государственной политики в области инновационной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Технологический инкубатор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юридическое лицо, обеспечивающее предоставление субъектам инновационной деятельности научных, кадровых, юридических, маркетинговых, лизинговых и иных услуг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Инновационный фонд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юридическое лицо, содействующее развитию инновационной деятельности путем финансирования инновационной инфраструктуры, а также оказания иных услуг в соответствии с законодательством Республики Казахста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СТАТЬЯ 2.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Законодательство Республики Казахстан об инновационной деятельност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0:06:03Z</dcterms:created>
  <dc:creator>Admin</dc:creator>
  <dc:description/>
  <dc:language>en-US</dc:language>
  <cp:lastModifiedBy>Айжан</cp:lastModifiedBy>
  <dcterms:modified xsi:type="dcterms:W3CDTF">2011-06-08T06:55:59Z</dcterms:modified>
  <cp:revision>10</cp:revision>
  <dc:subject/>
  <dc:title>ТЕМА: Меры предосторожности при эксплуатации транспортных средств</dc:title>
</cp:coreProperties>
</file>