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7C2-6E8D-4472-B46C-92363041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46F-B52F-4873-A9AC-4D3F14FF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865-4784-4E9E-93D6-AF1C3DC9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A2E-7F64-4BA8-9757-545F978D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7A4AA-3A06-45F0-A42F-7D2F13547F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9E422-DEB9-4EA3-9A4A-56B3162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AA21-0BC6-41EE-B035-06AF7C19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249E-4287-4496-9E51-7886BF3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94D1D-EB8C-4AC8-9660-0E20040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5D8E-4BDA-4502-9965-D62DCD0A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2E23E-EE57-4C6A-B45A-1C00142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FA9-BDB3-4084-B89F-0379049D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8F98D-7D04-4F1A-9FB5-CDCEAB6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DE9E-A39A-4E59-BF84-4CF9B893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19100-4A2B-4357-BBDD-C78EA83B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E6977-A273-4173-871A-AC79A36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DA9DC-FDBB-44BF-8818-78AFB5205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1D6-1FAB-45C2-9E9E-C39FFF3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69F-8E07-463C-A65A-F8DE54EB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C7F-F3AE-459D-867B-3C83A9B0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9FA-8266-4CA4-BE29-B93426C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6E9-4B98-4195-8B7C-830508D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A2F-0160-45FF-9DCC-4437322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90A-85EE-42D9-82FA-82C2E9B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3"/>
          <p:cNvSpPr/>
          <p:nvPr/>
        </p:nvSpPr>
        <p:spPr>
          <a:xfrm>
            <a:off x="0" y="5167440"/>
            <a:ext cx="9158400" cy="1701720"/>
          </a:xfrm>
          <a:prstGeom prst="pie">
            <a:avLst/>
          </a:prstGeom>
          <a:solidFill>
            <a:srgbClr val="2f7a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14"/>
          <p:cNvSpPr/>
          <p:nvPr/>
        </p:nvSpPr>
        <p:spPr>
          <a:xfrm>
            <a:off x="-9360" y="5776920"/>
            <a:ext cx="9153360" cy="1095480"/>
          </a:xfrm>
          <a:prstGeom prst="pie">
            <a:avLst/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8a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A77-625B-454B-BD88-9FDC85C9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7"/>
          <p:cNvSpPr/>
          <p:nvPr/>
        </p:nvSpPr>
        <p:spPr>
          <a:xfrm>
            <a:off x="-166680" y="-12600"/>
            <a:ext cx="9310680" cy="687852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2f7ad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16"/>
          <p:cNvSpPr/>
          <p:nvPr/>
        </p:nvSpPr>
        <p:spPr>
          <a:xfrm>
            <a:off x="-15840" y="-3240"/>
            <a:ext cx="9159840" cy="6865920"/>
          </a:xfrm>
          <a:prstGeom prst="pie">
            <a:avLst/>
          </a:prstGeom>
          <a:gradFill rotWithShape="0">
            <a:gsLst>
              <a:gs pos="0">
                <a:srgbClr val="2f7adf"/>
              </a:gs>
              <a:gs pos="100000">
                <a:srgbClr val="00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024800" y="632448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 rot="5400000">
            <a:off x="4381560" y="5730840"/>
            <a:ext cx="3808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55" y="630"/>
                  <a:pt x="3510" y="5080"/>
                  <a:pt x="3510" y="10800"/>
                </a:cubicBezTo>
                <a:cubicBezTo>
                  <a:pt x="3510" y="16520"/>
                  <a:pt x="12555" y="209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8a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EE10-FEC3-4CB8-B00F-3DD3240ED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85;&#1085;&#1086;&#1074;&#1072;&#1094;&#1080;&#1080;#cite_note-0" TargetMode="External"/><Relationship Id="rId3" Type="http://schemas.openxmlformats.org/officeDocument/2006/relationships/hyperlink" Target="http://ru.wikipedia.org/wiki/&#1064;&#1091;&#1084;&#1087;&#1077;&#1090;&#1077;&#1088;,_&#1049;&#1086;&#1079;&#1077;&#1092;" TargetMode="External"/><Relationship Id="rId4" Type="http://schemas.openxmlformats.org/officeDocument/2006/relationships/hyperlink" Target="http://ru.wikipedia.org/wiki/&#1064;&#1091;&#1084;&#1087;&#1077;&#1090;&#1077;&#1088;,_&#1049;&#1086;&#1079;&#1077;&#1092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85;&#1085;&#1086;&#1074;&#1072;&#1094;&#1080;&#1086;&#1085;&#1085;&#1072;&#1103;_&#1076;&#1077;&#1103;&#1090;&#1077;&#1083;&#1100;&#1085;&#1086;&#1089;&#1090;&#1100;" TargetMode="External"/><Relationship Id="rId3" Type="http://schemas.openxmlformats.org/officeDocument/2006/relationships/hyperlink" Target="http://ru.wikipedia.org/wiki/&#1050;&#1072;&#1095;&#1077;&#1089;&#1090;&#1074;&#1086;_&#1078;&#1080;&#1079;&#1085;&#1080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cf8a2"/>
                </a:solidFill>
                <a:latin typeface="Arial"/>
              </a:rPr>
              <a:t>Тема 1 Современная концепция инновационной экономики</a:t>
            </a:r>
            <a:endParaRPr b="1" lang="en-US" sz="48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5000400"/>
            <a:ext cx="654372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истика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438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533520" y="1295280"/>
            <a:ext cx="5562360" cy="4496040"/>
          </a:xfrm>
          <a:prstGeom prst="rightArrow">
            <a:avLst>
              <a:gd name="adj1" fmla="val 79306"/>
              <a:gd name="adj2" fmla="val 30643"/>
            </a:avLst>
          </a:prstGeom>
          <a:gradFill rotWithShape="0">
            <a:gsLst>
              <a:gs pos="0">
                <a:srgbClr val="0f2145"/>
              </a:gs>
              <a:gs pos="100000">
                <a:srgbClr val="7e8c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714240" y="1928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ундамент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42960" y="307188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685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учш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1"/>
                </a:solidFill>
                <a:latin typeface="Arial"/>
              </a:rPr>
              <a:t>Глубина вносимых из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438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533520" y="1295280"/>
            <a:ext cx="5562360" cy="4496040"/>
          </a:xfrm>
          <a:prstGeom prst="rightArrow">
            <a:avLst>
              <a:gd name="adj1" fmla="val 79306"/>
              <a:gd name="adj2" fmla="val 30643"/>
            </a:avLst>
          </a:prstGeom>
          <a:gradFill rotWithShape="0">
            <a:gsLst>
              <a:gs pos="0">
                <a:srgbClr val="0f2145"/>
              </a:gs>
              <a:gs pos="100000">
                <a:srgbClr val="7e8c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714240" y="1928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з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42960" y="307188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вяз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714240" y="4214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ш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5943600" y="2895480"/>
            <a:ext cx="270036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1"/>
                </a:solidFill>
                <a:latin typeface="Arial"/>
              </a:rPr>
              <a:t>Дивер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438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3520" y="1295280"/>
            <a:ext cx="5562360" cy="4496040"/>
          </a:xfrm>
          <a:prstGeom prst="rightArrow">
            <a:avLst>
              <a:gd name="adj1" fmla="val 79306"/>
              <a:gd name="adj2" fmla="val 30643"/>
            </a:avLst>
          </a:prstGeom>
          <a:gradFill rotWithShape="0">
            <a:gsLst>
              <a:gs pos="0">
                <a:srgbClr val="0f2145"/>
              </a:gs>
              <a:gs pos="100000">
                <a:srgbClr val="7e8c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714240" y="1928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те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642960" y="307188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ср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85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943600" y="2895480"/>
            <a:ext cx="284328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1"/>
                </a:solidFill>
                <a:latin typeface="Arial"/>
              </a:rPr>
              <a:t>Период ре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438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33520" y="1295280"/>
            <a:ext cx="5562360" cy="4496040"/>
          </a:xfrm>
          <a:prstGeom prst="rightArrow">
            <a:avLst>
              <a:gd name="adj1" fmla="val 79306"/>
              <a:gd name="adj2" fmla="val 30643"/>
            </a:avLst>
          </a:prstGeom>
          <a:gradFill rotWithShape="0">
            <a:gsLst>
              <a:gs pos="0">
                <a:srgbClr val="0f2145"/>
              </a:gs>
              <a:gs pos="100000">
                <a:srgbClr val="7e8c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14240" y="1928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14240" y="4214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5943600" y="2895480"/>
            <a:ext cx="284328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1"/>
                </a:solidFill>
                <a:latin typeface="Arial"/>
              </a:rPr>
              <a:t>Происхо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Виды инноваций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3200400" y="2940840"/>
            <a:ext cx="2971800" cy="2041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041200"/>
              <a:gd name="textAreaBottom" fmla="*/ 2041560 h 20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6" y="0"/>
                </a:lnTo>
                <a:lnTo>
                  <a:pt x="21600" y="10800"/>
                </a:lnTo>
                <a:lnTo>
                  <a:pt x="17746" y="21600"/>
                </a:lnTo>
                <a:lnTo>
                  <a:pt x="0" y="21600"/>
                </a:lnTo>
                <a:lnTo>
                  <a:pt x="3854" y="1080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цесс обновления сфер жизни человека в реорганизации социума (педагогика, система управления, благотворительность, обслуживание, организация процесс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838080" y="3074760"/>
            <a:ext cx="2971800" cy="1646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4" y="0"/>
                </a:lnTo>
                <a:lnTo>
                  <a:pt x="21600" y="10800"/>
                </a:lnTo>
                <a:lnTo>
                  <a:pt x="17814" y="21600"/>
                </a:lnTo>
                <a:lnTo>
                  <a:pt x="0" y="21600"/>
                </a:lnTo>
                <a:lnTo>
                  <a:pt x="3786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учение нового или эффективного производства имеющегося продукта, изделия, техники, новые или усовершенствованные технологические процессы. Инновации в области организации и управления производством не относятся к технологически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785880" y="1500120"/>
            <a:ext cx="2428920" cy="674640"/>
          </a:xfrm>
          <a:prstGeom prst="roundRect">
            <a:avLst>
              <a:gd name="adj" fmla="val 50000"/>
            </a:avLst>
          </a:prstGeom>
          <a:solidFill>
            <a:srgbClr val="fcf8a2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Технолог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инноваци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3429000" y="1500120"/>
            <a:ext cx="2428920" cy="717480"/>
          </a:xfrm>
          <a:prstGeom prst="roundRect">
            <a:avLst>
              <a:gd name="adj" fmla="val 50000"/>
            </a:avLst>
          </a:prstGeom>
          <a:solidFill>
            <a:srgbClr val="f9f03e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нов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Инновация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500880" y="3000240"/>
            <a:ext cx="1676160" cy="259092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86">
                <a:moveTo>
                  <a:pt x="2969" y="0"/>
                </a:moveTo>
                <a:arcTo wR="2969" hR="2969" stAng="16200000" swAng="-5400000"/>
                <a:lnTo>
                  <a:pt x="0" y="30417"/>
                </a:lnTo>
                <a:arcTo wR="2969" hR="2969" stAng="10800000" swAng="-5400000"/>
                <a:lnTo>
                  <a:pt x="18631" y="333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643280" y="292896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928960" y="300024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219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a97fd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221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4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689fe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227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Rectangle 20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a97fd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233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669de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Rectangle 27"/>
          <p:cNvSpPr/>
          <p:nvPr/>
        </p:nvSpPr>
        <p:spPr>
          <a:xfrm>
            <a:off x="1071720" y="1928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ов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2928960" y="2071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ов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4643280" y="207180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ов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6286680" y="207180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ов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1143000" y="3143160"/>
            <a:ext cx="7286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пользу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тично 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ност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храноспособ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зульта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ллектуаль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ятель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/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2928960" y="3143160"/>
            <a:ext cx="547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ус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атентоспособ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укции; и/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4643280" y="3071880"/>
            <a:ext cx="10601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ивает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уск товар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/или услуг, п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оему качеств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тветствующ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ли превышающ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ровой урове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6500880" y="3143160"/>
            <a:ext cx="1714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стигает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ффективность 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изводстве 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треблен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7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Ва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Виды инноваций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grpSp>
        <p:nvGrpSpPr>
          <p:cNvPr id="91" name="Group 88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2" name="AutoShape 89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90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91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96" name="AutoShape 93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94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95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Line 96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97"/>
          <p:cNvSpPr/>
          <p:nvPr/>
        </p:nvSpPr>
        <p:spPr>
          <a:xfrm>
            <a:off x="3277080" y="18288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8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99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0"/>
          <p:cNvSpPr/>
          <p:nvPr/>
        </p:nvSpPr>
        <p:spPr>
          <a:xfrm>
            <a:off x="3288240" y="2743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1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02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06" name="AutoShape 103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4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05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106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0" name="AutoShape 107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08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9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110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1"/>
          <p:cNvSpPr/>
          <p:nvPr/>
        </p:nvSpPr>
        <p:spPr>
          <a:xfrm>
            <a:off x="3285000" y="363528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укт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2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3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4"/>
          <p:cNvSpPr/>
          <p:nvPr/>
        </p:nvSpPr>
        <p:spPr>
          <a:xfrm>
            <a:off x="3288240" y="4549680"/>
            <a:ext cx="27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15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Инновация 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219320"/>
            <a:ext cx="80722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коммерциализованное новшество, обладающее высокой эффективностью. Является конечным результатом интеллектуальной деятельности человека, его фантазии, творческого процесса, открытий, изобретений и рационализации. Она характеризуются введением на рынок продукции (товаров и услуг) с новыми потребительскими свойствами или качественным повышением эффективности производственных сис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овация — это не всякое новшество или нововведение, а только такое, которое серьезно повышает эффективность действующей системы.</a:t>
            </a:r>
            <a:r>
              <a:rPr b="0" lang="ru-RU" sz="1800" spc="-1" strike="noStrike" u="sng" baseline="30000">
                <a:solidFill>
                  <a:srgbClr val="8a52c8"/>
                </a:solidFill>
                <a:uFillTx/>
                <a:latin typeface="Arial"/>
                <a:hlinkClick r:id="rId2"/>
              </a:rPr>
              <a:t>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мин «инновация» происходит от латинского «innovato», что означает «обновление» или «улучшение». Само понятие innovation впервые появилось в научных исследованиях XIX в. Новую жизнь понятие «инновация» получило в начале XX в. в научных работах австрийского экономиста </a:t>
            </a:r>
            <a:r>
              <a:rPr b="0" lang="ru-RU" sz="1800" spc="-1" strike="noStrike" u="sng">
                <a:solidFill>
                  <a:srgbClr val="8a52c8"/>
                </a:solidFill>
                <a:uFillTx/>
                <a:latin typeface="Arial"/>
                <a:hlinkClick r:id="rId3"/>
              </a:rPr>
              <a:t>Й. </a:t>
            </a:r>
            <a:r>
              <a:rPr b="0" lang="ru-RU" sz="1800" spc="-1" strike="noStrike" u="sng">
                <a:solidFill>
                  <a:srgbClr val="8a52c8"/>
                </a:solidFill>
                <a:uFillTx/>
                <a:latin typeface="Arial"/>
                <a:hlinkClick r:id="rId4"/>
              </a:rPr>
              <a:t>Шумпет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результате анализа «новационных комбинаций», изменений в развитии экономических сис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обще это понятие может применяться также и к творческой идее, которая была осуществл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Инновация 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13920"/>
            <a:ext cx="7705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новация — это результат инвестирования в разработку и получение нового знания, ранее не применявшейся идеи по обновлению сфер жизни людей (технологии; изделия; организационные формы существования социума, такие как образование, управление, организация труда, обслуживание, наука, информатизация и т. д.) и последующий процесс внедрения (производства) этого, с фиксированным получением дополнительной ценности (прибыль, опережение, лидерство, приоритет, коренное улучшение, качественное превосходство, креативность, прогресс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им образом, необходим процесс: инвестиции — разработка — процесс внедрения — получение качественного улуч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нят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нновац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носится как к радикальным, так и постепенным (инкрементальным) изменениям в продуктах, процессах и стратегии организации (</a:t>
            </a:r>
            <a:r>
              <a:rPr b="0" lang="ru-RU" sz="16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инновационная 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Исходя из того, что целью нововведений является повышение эффективности, экономичности, </a:t>
            </a:r>
            <a:r>
              <a:rPr b="0" lang="ru-RU" sz="1600" spc="-1" strike="noStrike" u="sng">
                <a:solidFill>
                  <a:srgbClr val="8a52c8"/>
                </a:solidFill>
                <a:uFillTx/>
                <a:latin typeface="Arial"/>
                <a:hlinkClick r:id="rId3"/>
              </a:rPr>
              <a:t>качества жиз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удовлетворенности клиентов организации, понятие инновационности можно отождествлять с понятием предприимчивости — бдительности к новым возможностям улучшения работы организации (коммерческой, государственной, благотворительной, морально-этическ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Инновация 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213920"/>
            <a:ext cx="7643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новации рассматриваются с разных точек зрения: в связи с технологиями, коммерцией, социальными системами, экономическим развитием и формулированием политики. Соответственно, в научной литературе существует широкий спектр подходов к концептуализации иннов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концептуализации понятия «инновации» полезно сравнить его с другими понятиями. В частности, в научной литературе отмечается, что понятие «инновация» часто смешивается с понятием «изобретение», обозначающее создание новой технической разработки или усовершенствование старой. Кроме того, многие усовершенствования товаров и услуг было бы правильнее назвать просто словом «улучшение». Понятия «изменения» и «креативность» также иногда могут быть употреблены вместо понятия «инновации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отличать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ннова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от перечисленных выше понятий, нередко уточняется, что особенность инновации в том, что она позволяет создать дополнительную ценность, позволяет инноватору получить дополнительную ценность и связана с внедрением. В рамках этого взгляда инновация не является инновацией до того момента, пока она успешно не внедрена и не начала приносить пользу. Понятие экономической инновации было разработано Йозефом Шумпетером в работе «The Theory of Economic Development» (1934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cf8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амках альтернативного подхода другие понятия используются как часть определения инноваций: «Инновация имеет место, когда кто-либо использует изобретение — или использует что-то уже существующее новым образом — для изменения образа жизни людей». В данном случае изобретением может быть новая концепция, устройство или другие вещи, которые облегчают деятельность, а инновационность не связывается с тем, получил ли организатор инновации какую-либо выгоду и принесла ли она позитивный эффек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4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5562720" y="3095640"/>
            <a:ext cx="222408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1143000" y="3095640"/>
            <a:ext cx="214308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238400" y="3295800"/>
            <a:ext cx="20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утствие неопредел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3"/>
          <p:cNvSpPr/>
          <p:nvPr/>
        </p:nvSpPr>
        <p:spPr>
          <a:xfrm>
            <a:off x="322272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 flipH="1">
            <a:off x="487440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4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5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Text Box 34"/>
          <p:cNvSpPr/>
          <p:nvPr/>
        </p:nvSpPr>
        <p:spPr>
          <a:xfrm>
            <a:off x="3286080" y="1714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ри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5810400" y="3352680"/>
            <a:ext cx="20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ичная неопреде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4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5562720" y="3095640"/>
            <a:ext cx="222408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143000" y="3095640"/>
            <a:ext cx="214308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1238400" y="3295800"/>
            <a:ext cx="20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иально н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22272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 flipH="1">
            <a:off x="487440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52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53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34"/>
          <p:cNvSpPr/>
          <p:nvPr/>
        </p:nvSpPr>
        <p:spPr>
          <a:xfrm>
            <a:off x="3429000" y="164304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новиз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5810400" y="3352680"/>
            <a:ext cx="20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ое для объекта  внед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4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5562720" y="3095640"/>
            <a:ext cx="229536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1143000" y="3095640"/>
            <a:ext cx="214308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071720" y="3214800"/>
            <a:ext cx="220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ируемые нуждами потреб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23"/>
          <p:cNvSpPr/>
          <p:nvPr/>
        </p:nvSpPr>
        <p:spPr>
          <a:xfrm>
            <a:off x="322272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flipH="1">
            <a:off x="487440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70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71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34"/>
          <p:cNvSpPr/>
          <p:nvPr/>
        </p:nvSpPr>
        <p:spPr>
          <a:xfrm>
            <a:off x="342900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5572080" y="31431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ируемые нужд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4380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8a2"/>
                </a:solidFill>
                <a:latin typeface="Arial"/>
              </a:rPr>
              <a:t>Классификационный признак</a:t>
            </a:r>
            <a:endParaRPr b="1" lang="en-US" sz="4000" spc="-1" strike="noStrike">
              <a:solidFill>
                <a:srgbClr val="fcf8a2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533520" y="1295280"/>
            <a:ext cx="5562360" cy="4496040"/>
          </a:xfrm>
          <a:prstGeom prst="rightArrow">
            <a:avLst>
              <a:gd name="adj1" fmla="val 79306"/>
              <a:gd name="adj2" fmla="val 30643"/>
            </a:avLst>
          </a:prstGeom>
          <a:gradFill rotWithShape="0">
            <a:gsLst>
              <a:gs pos="0">
                <a:srgbClr val="0f2145"/>
              </a:gs>
              <a:gs pos="100000">
                <a:srgbClr val="7e8c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14240" y="192888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ив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642960" y="307188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лабля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685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ферен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1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30:12Z</dcterms:created>
  <dc:creator>AsAbAm</dc:creator>
  <dc:description/>
  <dc:language>en-US</dc:language>
  <cp:lastModifiedBy>Айжан</cp:lastModifiedBy>
  <dcterms:modified xsi:type="dcterms:W3CDTF">2011-06-08T06:37:43Z</dcterms:modified>
  <cp:revision>9</cp:revision>
  <dc:subject/>
  <dc:title>[ PowerPoint Template ]</dc:title>
</cp:coreProperties>
</file>