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88ACB-12C7-42D3-A657-9337502A3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5F73F-17B8-45C0-8F4E-8D08DB5A7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4BA12-E4BF-4B5C-8A33-3C788E10B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ADB80-C3CE-4E2D-BED5-FFC0602CB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B83B9-C70D-42E0-AD52-528C65983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C760F-17EA-470E-ABE6-6341C53EF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59DD7-0087-4727-BD9E-080C2BDA3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AA24E-5BEE-4F11-AB1F-9B5AE3391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35848-3C70-4E4A-9B9E-871B846FA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3AAE5-FB93-41D0-9CC2-78C9D75CB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80C4E-B610-4E72-9F2D-C5F132817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3A8C2-5A98-4831-AC95-E3347F748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F3FC7-4037-4564-A07A-01839A8FA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6EE23-3EC1-42B8-B32E-0E0E24602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66A69-03F4-4BBD-84A7-79222FDBB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6144A-C3A3-43E0-97A5-D859A6329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38964-9852-4C0D-8979-AB5728053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E12D4-AF2D-4525-A93C-8A91FD246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D4BB0-08B4-4091-B23B-D605E5E7B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A6E68-A7F9-4843-9598-3BDD3DE29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4EE81-6007-40AB-96A4-B1CE4EDAB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A0259-02EC-4BFE-B22A-5F583A5A0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1F5EC-D3F7-401B-9C8F-E5C330966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7356F-278A-441D-8D9E-D89F3841B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91D6-F33F-4863-A739-758CD858C9A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8A1A-57B2-4F7B-925D-D4420E402551}"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cc"/>
                </a:solidFill>
                <a:latin typeface="Tahoma"/>
              </a:rPr>
              <a:t>Тема 8. ПОРЯДОК РАЗРАБОТКИ БИЗНЕС-ПЛАНА</a:t>
            </a:r>
            <a:r>
              <a:rPr b="0" lang="ru-RU" sz="4800" spc="-1" strike="noStrike">
                <a:solidFill>
                  <a:srgbClr val="ffffcc"/>
                </a:solidFill>
                <a:latin typeface="Tahoma"/>
              </a:rPr>
              <a:t> </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Составление плана маркетинга</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Маркетинг применяется при следующих условиях:</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сыщение рынков товарами, т.е. при превышении предложения над спросом. «Рынок покупателя».</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строй конкуренции, усиление борьбы за покупателя.</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вободных рыночных отношений, т.е. возможностей без административных ограничений выбирать рынки сбыта и снабжения, устанавливать цены, вести коммерческую политику и т.д.</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лной самостоятельности фирмы в выборе целей, задач, управления, структур, окладов. В распределении средств по статьям бюджета и т.д.</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и реализации плана маркетинга необходимо основываться на следующих принципах:</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инцип понимания потребителей.</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снован на учете потребностей и динамики рыночной конъюнктуры. Бизнес невозможен, если фирма ориентирована только на прибыль, а не на понимание потребителей и его потребностей.</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инцип «Борьба за потребителей»</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еализуется воздействием на рынок и потребителя с помощью всех доступных средств (качества товара, реклама, сервис, дизайн, цена и т.д.)</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уть этого принципа – борьба за потребителя, а не сбыт товаров. Товары и услуги в данном случае – лишь средство для достижения цели, а не сама цель.</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инцип «Максимального приспособления производства к требованиям рынка» </a:t>
            </a:r>
            <a:endParaRPr b="0" lang="en-US" sz="2800" spc="-1" strike="noStrike">
              <a:solidFill>
                <a:srgbClr val="ffffff"/>
              </a:solidFill>
              <a:latin typeface="Tahoma"/>
            </a:endParaRPr>
          </a:p>
          <a:p>
            <a:pPr marL="572760" indent="-57276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Данный принцип состоит в том, чтобы вся деятельность фирмы основывалась на знании потребительского спроса и его изменений в перспективе. Он ставит производство товаров и услуг в функциональную зависимость от запросов рынка и требует производить товары в ассортименте и объеме, нужных потребителю.</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ри определении стратегии маркетинга необходимо исходить из 5 возможных концепций маркетинговой деятельности:</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онцепция совершенствования производства (производственная).</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Утверждающая, что товары и услуги фирмы найдут  сбыт на рынке, если они будут широко распространены и доступны по ценам. Руководство фирмы, избравшему эту концепцию деятельности необходимо отдать стратегический приоритет совершенствования производства (снижению производственных издержек) и повышению эффективности функционирования каналов распределения.</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Концепция совершенствования товара.</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Утверждает, что на рынке найдут сбыт товары и услуги, отличающиеся наивысшим качеством, лучшими характеристиками и эксплуатационными показателями. </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уководству фирмы, избравшему эту концепцию необходимо свои усилия скоординировать на совершенствование товаров путем его модификации и разработки новых моделей.</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Концепция интенсификации коммерческих усилий (сбытовая).</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Утверждает, что товары и услуги найдут сбыт на рынке, если фирма затратит значительные усилия на сферу сбыта и стимулирование продаж.</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301680" y="620640"/>
            <a:ext cx="8540640" cy="547848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Концепция маркетинга (потребительская).</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Утверждает, что товары и услуги найдут сбыт на рынке, если фирма правильно определит нужды и потребности целевых рынков и удовлетворит их более эффективно и продуктивно, чем конкурент.</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Концепция социально-этического маркетинга.</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остоит в применении концепций маркетинга с учетом одновременного выполнения услуг, удовлетворения потребностей покупателей товаров и общества в целом.</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ажным, с точки зрения маркетинга, является разработка фирмой своей ценовой политики. Целесообразная ценовая политика заключается в следующем: Надо установить на свои товары такие цены и так изменять их в зависимости от ситуации на рынке, чтобы овладеть максимальным объемом прибыли.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и этом необходимо учитывать следующие ситуации:</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ыход на новый рынок.</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Чтобы возбудить интерес покупателей к продукции фирмы и постепенно закрепиться на новом рынке, целесообразно установить более низкие цены по сравнению с ценами конкурентов или собственными ценами, по которой продавался товар на уже усвоенных рынках.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акая ценовая политика выгодна на первоначальном этапе проникновения на новый рынок. Далее, по мере завоевания определенной доли рынка и формировании устойчивой клиентуры цены на товар фирмы постепенно повышаются до уровня цен других поставщиков.</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недрение новых товаров.</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ыход с «пионерским» товаром совершенно по новому или с высокой степенью полезности удовлетворение потребностей  покупателей, обеспечивается фирмой в течении некоторого времени монопольное положение не рынке.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ставщики новых товаров часто проводят ценовую политику, известную в деловых кругах как «снятие сливок». Она заключается в том, что фирма устанавливает максимально высокую цену, которая обеспечивает норму прибыли во много раз превышающую среднюю в данной отрасли. Однако проведение этой политики должно быть ограниченно во времени, так как высокий уровень цен стимулирует конкурентов к выпуску подобных товаров. Поэтому важно в определенный момент начать снижение цен, чтобы завоевать новые сегменты рынка и подавить активность конкурентов на старых сегментах.</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Составление плана производства</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Главная задача - показать своим потенциальным партнёрам, что фирма будет в состоянии реально производить потребное количество товаров  в нужные сроки и с необходимым качеством. Иными словами предпринимателю здесь необходимо доказать, что он может организовать эффективное производство.</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Данные этого раздела желательно привести в перспективе на два, три года вперёд, а для крупных фирм даже на четыре, пять лет. Очень полезным элементом планирования здесь может стать составление схемы производственных потоков по фирме. На ней должно быть последовательно показано: откуда, как и в каком количестве будут поступать все виды сырья и комплектующих изделий; в каких цехах или фирмах-смежниках, по каким технологиям будут перерабатываться в продукцию, выпускаемую фирмой, как и куда эта продукция будет поставляться.</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нешние эксперты будут рассматривать данный раздел бизнес-плана прежде всего с точки зрения того, насколько рациональна данная схема, обеспечивает ли она оптимальное сокращение затрат труда, времени и материалов, а также обеспечивает ли она быстроту изменения ассортимента продукции в связи с требованиями рынка.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ажное значение для конкурентоспособности продукции имеет не только репутация самой фирмы, но и репутация её поставщиков, фирм-смежников, так как уровень качества продукции, следовательно, и её престиж, определяется  по самому сложному звену технологической цепочки. На схеме производственных потоков обязательно нужно указать на каких стадиях технологического процесса, какими методами будет производиться контроль качества, какими документами этот процесс будет регламентироваться. Для вновь создаваемых предприятий целесообразно указать их местоположение. Это особенно важно для мелких фирм торговли, сервиса и общепита, а также для предприятий, создающих большую нагрузку на окружающую сред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Составление организационного плана</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дним из важнейших моментов, который надо достаточно подробно здесь осветить, является организационная схема фирмы, из которой должно быть чётко видно, кто и чем будет заниматься, как все службы и подразделения будут взаимодействовать между собой, как намечается координировать и контролировать их деятельность. Как правило, это описывается следующим образом:</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рганизационная структура фирмы;</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рганизационная схема управления фирмой;</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остав служб, подразделений и их функции;</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рганизация координирования и взаимодействия служб и подразделений фирмы в нештатных и сбойных ситуациях.</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Не менее важным для работы фирмы является разработка системы подбора, расстановки и использования персонала. С момента приёма на работу первого сотрудника фирмы начинают складываться негласные правила найма. Отправной точкой при этом должны быть квалификационные требования, то есть предприниматель должен определить какие именно специалисты, какого профиля, с каким образованием и с какой зарплатой ему понадобятся для успешного функционирования предприятия.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этому уже на начальном этапе необходимо разработать квалификационные требования к персоналу, а также всю документацию, регламентирующую процессы найма, использования и увольнения персонала. В некоторых случаях требуется разработать дополнительные системы подготовки и переподготовки сотрудников.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 этом же разделе необходимо указать, как фирма собирается заполучить специалистов на постоянную работу, в качестве совместителей, а также отметить, будет ли фирма сама заниматься наймом или прибегнет к услугам специализированных организаций.</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Для менеджмента фирмы должна быть разработана система профессионального продвижения, а также система стимулирования его заинтересованности в достижении фирмой высоких экономических результатов (владение акциями, процент от прибыли). В том случае, если часть управленческого персонала уже нанята, предприниматель должен дать о них краткие биографические справки, делая упор на его квалификацию, прежний опыт работы, полезность для фирмы.</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Таким образом, данный раздел бизнес-плана должен осветить такие моменты, как система управления фирмой и её кадровая политика.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Оценка риска и страхование</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просы, связанные с рисками, их оценками, прогнозированием и управлением очень важны, так как инвесторы (кредиторы) хотят знать, с какими проблемами может столкнуться фирма и как предприниматель собирается выйти из сложной ситуации. Глубина анализа рискованности дел  зависит от конкретного вида деятельности предпринимателя и величины проекта. Для крупных проектов необходим тщательный просчёт рисков с использованием математических  моделей теории вероятности.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Для более простых проектов достаточен простой анализ с помощью экспертных оценок. При этом главное не сложность расчетов и не точность вычисления вероятности возможных ситуаций, а умение предпринимателя заранее предугадать все типы возможных рисков, с которыми он может столкнуться, источники этих рисков и моменты их возникновения. Затем должны быть разработаны меры по сокращению этих рисков и минимизации потерь, которые они могут вызвать.</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Резюм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Предельная простота и минимум специальных терминов. В целом резюме должно дать ответы будущим инвесторам или кредиторам фирмы (в том числе и ее акционерам) на два вопроса: "Что они получат при успешной реализации данного плана?", и "Каков риск потери ими денег?". В этом разделе определяются в приоритетном порядке все направления деятельности фирмы, целевые рынки по каждому направлению и место фирмы на этих рынках. </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По каждому направлению устанавливаются цели, к которым фирма стремится, стратегии их достижения, включающие перечень необходимых мероприятий, определяются ответственные лица. В этом же разделе помещается информация, дающая представление о фирме, а также все необходимые данные, характеризующие ее коммерческую деятельность.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01680" y="620640"/>
            <a:ext cx="8540640" cy="547848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Ассортимент рисков весьма широк, а вероятность возникновения каждого типа рисков различна, также как и сумма убытков, которые они могут вызвать. Поэтому предприниматель должен хотя бы приблизительно оценить то, какие риски для него наиболее вероятны и во что они могут обойтись фирме в случае их возникновения.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После анализа возможных рисков и выявления среди них наиболее существенных предпринимателю необходимо определить для каждого из них организационные меры по их профилактике и нейтрализации.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Что касается страхования от рисков, то следует отметить, что в нашей стране эта система развита крайнее слабо. В странах с развитой системой страхования достаточно указать в бизнес-плане какие типы страховых полисов, на какие суммы и в каких страховых компаниях планируется приобрести.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Финансовый план</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Настоящий раздел рассматривает вопросы финансового обеспечения деятельности организации и наиболее эффективного использования имеющихся денежных средств на основе оценки текущей финансовой информации и прогноза объёма реализации товаров на рынках в последующих периодах. Для фирмы как целостного механизма целесообразно результаты финансовой деятельности представлять в виде определенных планово-отчетных документов, перечень которых приведен ниже.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добный перечень не совсем привычен для российских предприятий. Но он соответствует требованиям международной практики, которые опираются на несколько иную систему бухгалтерского учета. Однако в настоящее время уже проводится работа по переходу на отчетность соответствующую стандартам европейского бухучета. Названные ниже документы позволяют менеджеру фирмы провести анализ самоокупаемости производства товаров с помощью методики финансовых коэффициентов и определить потребности в капиталовложениях.</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перативный (рабочий) план (отчёт). Он отражает за каждый период результаты взаимодействия фирмы и её целевых рынков по каждому товару и рынку. На фирме этот документ должен разрабатываться службой маркетинга.</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лан (отчёт) о доходах и расходах по производству товаров. Он показывает, получит ли фирма прибыль от продажи каждого вида товаров. Этот документ разрабатывается экономической службой фирмы по каждому виду товаров.</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лан (отчёт) о движении денежных средств. Этот документ показывает процесс поступлений и расходования денег в ходе деятельности фирмы. Он разрабатывается финансовой службой фирмы.</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алансовый отчёт. Он подводит итог экономической и финансовой деятельности фирмы за прошедший период, обычно разрабатывается главной бухгалтерие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 указанных планово-отчетных документах отражаются планируемые и фактически полученные величины показателей за отчетный период. Продолжительность планово-отчетных периодов в зависимости от конкретных условий может изменяться в пределах: месяц, квартал, полгода, год. В условиях стабильной деятельности фирмы продолжительность периодов может быть увеличена. </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Здесь необходимо учитывать следующие факторы: уменьшение продолжительности периода с одной стороны увеличивает оперативность принятия руководством фирмы управленческих  решений, а с другой стороны увеличивает объём расчётных и аналитических работ. Общая продолжительность планирования рекомендуется равной 3-м годам.</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Рассмотрим примерный перечень показателей и форму их представления в плане (отчёте). Эти показатели определяются по каждому виду товара, услуги; что позволяет сравнивать их между собой по экономической эффективности:</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ыночный потенциал фирмы в единицах данного товара</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Цена товара</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бъём продаж в единицах товара</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Доля фирмы в отраслевом рынке по данному товару</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оличество товара в единицах,  производимое формой</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Запас данного товара на складах фирмы на конец отчётного периода</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Эта совокупность показателей по существу призвана дать представление руководству фирмы о той доле рынка, которую завоевала фирма по каждому виду товара, и какую предполагается завоевать в будущем период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бычно такой прогноз принято составлять на 3 года вперёд; причём данные для 1-го и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го  года приводятся  поквартально (по возможности помесячно), а данные на последний период  времени приводятся в расчёте на год. Это обусловлено тем, что для начального периода производства уже точно известны будущие покупатели, а для будущих периодов имеется только предварительная договорённость с ними о возможных договорах.</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Таким образом, начиная со 2-го года приходиться заниматься прогнозными оценками.</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ыночный потенциал в приведённом перечне показателей показывает величину спроса на отраслевом рынке на данный товар, который приходится на фирму. Он будет определять долю фирмы на отраслевом рынке. Показатель объёма продаж будет характеризовать результат взаимодействия  производственных возможностей фирмы и спроса рынка.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бъём продаж с одной стороны не может быть больше чем спрос, а с другой стороны он ограничен возможностями фирмы, которые будут определяться количеством данных товаров, произведённых за отчётный период, а также находящихся на складе. На каждый отчётный период рассматриваемая совокупность показателей планируется на основе серьёзного исследования рынка. Это важно для последующего планирования закупки оборудования, трат на рекламу, найма работников, расчёта необходимых финансовых и материальных ресурсов.</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сновные показатели отчёта о расходах.</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ыручка от продажи данного товара</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оизводственные издержки, связанные с производством и реализацией товаров по статьям</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бщепроизводственные издержки по статьям</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логи и отчисления</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Чистая прибыль</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ибыль остающаяся в распоряжении фирмы после выплаты дивидендов</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 данным этого плана (отчёта) можно установить приносит ли фирме прибыль данный товар, можно сравнить различные товары по прибыльности, с тем, чтобы принять решение о целесообразности их дальнейшего производства. Просуммировав данные по всем товарам и услугам фирмы можно оценить суммарную прибыль. Задача этого документа в том, чтобы показать, как будет формироваться и изменяться прибыль в течение 1-го года помесячно; 2-го года поквартально и далее в расчёте на год. Таким образом, план-отчёт о расходах и доходах предоставляет руководству фирмы о результатах её работы по разным направлениям. Он определяет в целом, насколько эффективно работает фирма. Кроме того, он необходим при обращении за ссудами, а также при заполнении налоговых деклараций.</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301680" y="620640"/>
            <a:ext cx="8540640" cy="5478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Показатели:</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Доход от продажи товаров и услуг</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Денежные издержки на реализацию товаров и услуг по статьям</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алоги</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тчисления в ФЗП</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Дивиденды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Инвестиции в имеющееся оборудование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Инвестиции на приобретение нового оборудования</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Закупки материалов, сырья, комплектующих</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роцентные издержки</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Затраты, связанные с повышением качества продукции, разработкой новых моделей</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уммарные затраты денежных средств</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Добавление к активной части баланс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301680" y="836640"/>
            <a:ext cx="8540640" cy="526248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Таким образом, в балансовом отчёте содержится полный перечень активов фирмы (собственность) и пассивов (задолженность). Этот документ показывает чистую стоимость или ликвидность фирмы, данную информацию, как правило, запрашивают кредиторы, она также необходима при подаче налоговых деклараций.</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 помощью данных планов-отчётов рекомендуется провести анализ самоокупаемости производства. Для этого необходимо определить по каждому товару, какие издержки являются постоянными, а какие переменными, После этого используя простую формулу можно подсчитать минимальный объём производства денного товара, обеспечивающий безубыточность.</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Цели и задачи</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Здесь должен быть приведен анализ идеи. Необходимо проанализировать факторы, вызвавшие появление идеи и ее привлекательности.  Как они будут развиваться в дальнейшем?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ильные и слабые стороны идеи - это те характеристики идеи, которые могут быть проконтролированы предпринимателем, на которые он может оказать воздействие. Они обычно относятся к настоящему времени.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Здесь необходимо рассмотреть следующие факторы: </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организационные (правовая форма, наличие помещений собственных или арендованных); </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маркетинговые (место расположения, маркетинговый комплекс, рынок, его сегмент; конкуренты: чем продукт (услуга) будет отличаться от конкурентной);</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технические (производственные фонды: состояние и ресурсы); </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финансовые (наличие собственных средств); </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кадровые (навыки и профессиональные недостатки, насколько идея отвечает идеям, знаниям и умениям предпринимателя). </a:t>
            </a:r>
            <a:endParaRPr b="0" lang="en-US" sz="14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Закончив оценку, необходимо приступить к формулированию целей и задач. Этот процесс состоит из 2х этапов. Во-первых, необходимо установить, какой именно бизнес ведётся - задача более трудная, чем может показаться на первый взгляд, и затем определить главные, количественно определенные цели на перспективу, отражающие стремления в бизнесе, и определить те, которые из них реально достижимы.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Решив проблему с целями и задачами, необходимо определить пути достижения этих целей. Для этого необходимо выработать стратегию и сформулировать оперативные планы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Закончив оценку, необходимо приступить к формулированию целей и задач. Этот процесс состоит из 2х этапов. Во-первых, необходимо установить, какой именно бизнес ведётся - задача более трудная, чем может показаться на первый взгляд, и затем определить главные, количественно определенные цели на перспективу, отражающие стремления в бизнесе, и определить те, которые из них реально достижимы.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Решив проблему с целями и задачами, необходимо определить пути достижения этих целей. Для этого необходимо выработать стратегию и сформулировать оперативные планы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писание предприятия и его товаров (услу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этом разделе описываются все товары и услуги, которые производит фирма. В разделе необходимо дать описание всех существующих и новых товаров и услуг, предлагаемых фирмой, ответив на следующие вопросы: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Какие товары (услуги) предлагаются фирмой?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Название товара.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3) Какие потребности призваны удовлетворять предлагаемые товары, услуги?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 Насколько изменчив спрос на данные товары (услуги)?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5) На каких рынках, и каким образом они продаются?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6) Почему потребители отдают предпочтение данным товарам (услугам) фирмы? Что составляет их основное преимущество? В чем их недостатки?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7) Каковы цены, по которым продаются товары (услуги)? Каковы затраты на их производство? Какую прибыль принесет продажа единицы каждого товара (услуги)?</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Рассмотрение рынков сбыта товаров и услуг</a:t>
            </a:r>
            <a:endParaRPr b="0" lang="en-US" sz="1800" spc="-1" strike="noStrike">
              <a:solidFill>
                <a:srgbClr val="ffffff"/>
              </a:solidFill>
              <a:latin typeface="Tahoma"/>
            </a:endParaRPr>
          </a:p>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дна из основных задач фирмы – определение ёмкости каждого конкретного рынка для каждого товара (услуги).  Эти показатели будут характеризовать возможные объёмы сбыта.  Они определяются натуральным и стоимостными показателями реализованных или потенциально реализованных товаров в течении определённого периода.  При этом необходимо учитывать, что при анализе ёмкости рынка необходимо произвести оценку:</a:t>
            </a:r>
            <a:endParaRPr b="0" lang="en-US" sz="1800" spc="-1" strike="noStrike">
              <a:solidFill>
                <a:srgbClr val="ffffff"/>
              </a:solidFill>
              <a:latin typeface="Tahoma"/>
            </a:endParaRPr>
          </a:p>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тенциальной ёмкости рынка, т.е. общего количества товаров которые покупатели данного рынка могут приобрести за определённое время.</a:t>
            </a:r>
            <a:endParaRPr b="0" lang="en-US" sz="1800" spc="-1" strike="noStrike">
              <a:solidFill>
                <a:srgbClr val="ffffff"/>
              </a:solidFill>
              <a:latin typeface="Tahoma"/>
            </a:endParaRPr>
          </a:p>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тенциального объёма продаж, т.е. той доли потенциального рынка, которую предприниматель в принципе может захватить и соответственно того максимального количества товаров, на реализацию которого он может рассчитывать при его возможностях.  В итоге такого анализа предприниматель сможет потенциально определить количество клиентов, на которое ему можно рассчитывать, но рассчитывать не значит их получить поэтому нужна ещё и реальная оценка рынка.</a:t>
            </a:r>
            <a:endParaRPr b="0" lang="en-US" sz="1800" spc="-1" strike="noStrike">
              <a:solidFill>
                <a:srgbClr val="ffffff"/>
              </a:solidFill>
              <a:latin typeface="Tahoma"/>
            </a:endParaRPr>
          </a:p>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еального объёма продаж, необходимо оценить сколько реально предприниматель сможет продать (выручить) за оказанные услуги при имеющихся условиях его деятельности, возможных затратах и тому уровню цен, который он намерен установить и главное как этот показатель может изменяться месяц за месяцем, квартал за кварталом на несколько лет вперёд.</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ри исследовании рынка следует в первую очередь определить тип рынка по каждому товару или услуги.  С этой целью предлагается следующая классификация рынков:</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есплодный рынок, т.е. рынок не имеющий перспектив для реализации рассматриваемых товаров или услу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сновной рынок где реализуется основная часть товаров и услу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Дополнительный рынок который поглощает небольшую часть товаров (услу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астущий рынок, т.е. имеющий реальные возможности для роста объёмов реализации товаров.</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тенциальный рынок, т.е. имеющий перспективы реализации товаров однако, при определённых условиях.</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збирательный рынок, который выбирается для определения возможностей реализации.</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рослоечный рынок (вялый, не активный), на котором торговые операции не стабильны, но имеются перспективы превращения его в активный рынок при определённых условиях, однако он может стать и бесплодным рынком.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ценка конкурентов на рынках сбыта</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Этот раздел необходимо посвятить анализу рыночной конъюнктуры, характеристики своих конкурентов, их стратегии и тактики.  В этом разделе необходимо дать ответы на следующие вопросы с учётом деятельности конкурента:</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вляется ли область деятельности фирмы новой и быстро меняющейся, или же давно существующей и не подверженной быстрым изменениям?</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ует ли большое число фирм предлагающих подобные товары или услуги, или же в конкурентной борьбе участвует ограниченное их число?</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чему данную фирму следует считать конкурентной?</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кую часть рынка контролируют крупные фирмы?  Какова динамика овладения этими фирмами рынком?</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кие организационные структуры наиболее распространены на фирмах ваших конкурентов?</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к обстоят дела у фирм конкурентов с доходами, с внедрением новых моделей, с послепродажным обслуживанием и т.д?</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кова конкурентоспособность каждого товара на рынке и сегменте?</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ак и почему в зависимости от конкуренции целесообразно расширять или сокращать ассортимент товаров?</a:t>
            </a:r>
            <a:endParaRPr b="0" lang="en-US" sz="1800" spc="-1" strike="noStrike">
              <a:solidFill>
                <a:srgbClr val="ffffff"/>
              </a:solidFill>
              <a:latin typeface="Tahoma"/>
            </a:endParaRPr>
          </a:p>
          <a:p>
            <a:pPr marL="603360" indent="-6033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какой стадии ЖЦТ фирма собирается выйти на рынок?</a:t>
            </a:r>
            <a:endParaRPr b="0" lang="en-US" sz="1800" spc="-1" strike="noStrike">
              <a:solidFill>
                <a:srgbClr val="ffffff"/>
              </a:solidFill>
              <a:latin typeface="Tahoma"/>
            </a:endParaRPr>
          </a:p>
          <a:p>
            <a:pPr marL="603360" indent="-6033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какие рынки и сегменты следует продвигать новые товары, какие и почему?</a:t>
            </a:r>
            <a:endParaRPr b="0" lang="en-US" sz="1800" spc="-1" strike="noStrike">
              <a:solidFill>
                <a:srgbClr val="ffffff"/>
              </a:solidFill>
              <a:latin typeface="Tahoma"/>
            </a:endParaRPr>
          </a:p>
          <a:p>
            <a:pPr marL="603360" indent="-6033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акие товары следует снять с производства и почему?</a:t>
            </a:r>
            <a:endParaRPr b="0" lang="en-US" sz="1800" spc="-1" strike="noStrike">
              <a:solidFill>
                <a:srgbClr val="ffffff"/>
              </a:solidFill>
              <a:latin typeface="Tahoma"/>
            </a:endParaRPr>
          </a:p>
          <a:p>
            <a:pPr marL="603360" indent="-6033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вляется ли проведение научных исследований и осуществление новых разработок важной частью успеха в вашей сфере бизнеса?</a:t>
            </a:r>
            <a:endParaRPr b="0" lang="en-US" sz="1800" spc="-1" strike="noStrike">
              <a:solidFill>
                <a:srgbClr val="ffffff"/>
              </a:solidFill>
              <a:latin typeface="Tahoma"/>
            </a:endParaRPr>
          </a:p>
          <a:p>
            <a:pPr marL="603360" indent="-6033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является предметом наиболее жёсткой конкуренции в вашей cфере деятельности (цена, качество, послепродажное обслуживание, имидж фирмы и др.)?</a:t>
            </a:r>
            <a:endParaRPr b="0" lang="en-US" sz="1800" spc="-1" strike="noStrike">
              <a:solidFill>
                <a:srgbClr val="ffffff"/>
              </a:solidFill>
              <a:latin typeface="Tahoma"/>
            </a:endParaRPr>
          </a:p>
          <a:p>
            <a:pPr marL="603360" indent="-6033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ного ли внимания и средств ваши конкуренты уделяют рекламе своих товаров?  Услугами каких рекламных фирм они пользуются?</a:t>
            </a:r>
            <a:endParaRPr b="0" lang="en-US" sz="1800" spc="-1" strike="noStrike">
              <a:solidFill>
                <a:srgbClr val="ffffff"/>
              </a:solidFill>
              <a:latin typeface="Tahoma"/>
            </a:endParaRPr>
          </a:p>
          <a:p>
            <a:pPr marL="603360" indent="-6033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собой представляет продукция конкурентов: основные технико-экономические показатели, уровень качества, дизайн и т.д?</a:t>
            </a:r>
            <a:endParaRPr b="0" lang="en-US" sz="1800" spc="-1" strike="noStrike">
              <a:solidFill>
                <a:srgbClr val="ffffff"/>
              </a:solidFill>
              <a:latin typeface="Tahoma"/>
            </a:endParaRPr>
          </a:p>
          <a:p>
            <a:pPr marL="603360" indent="-6033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аков уровень цен на продукцию конкурентов?  Какова хотя бы в общих чертах их политика цен?</a:t>
            </a:r>
            <a:endParaRPr b="0" lang="en-US" sz="1800" spc="-1" strike="noStrike">
              <a:solidFill>
                <a:srgbClr val="ffffff"/>
              </a:solidFill>
              <a:latin typeface="Tahoma"/>
            </a:endParaRPr>
          </a:p>
          <a:p>
            <a:pPr marL="603360" indent="-6033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аков имидж фирм конкурентов?</a:t>
            </a:r>
            <a:endParaRPr b="0" lang="en-US" sz="1800" spc="-1" strike="noStrike">
              <a:solidFill>
                <a:srgbClr val="ffffff"/>
              </a:solidFill>
              <a:latin typeface="Tahoma"/>
            </a:endParaRPr>
          </a:p>
          <a:p>
            <a:pPr marL="603360" indent="-6033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ля оценки своих сравнительных преимуществ по перечисленным вопросам можно использовать метод сегментации рынков по основным конкурентам, позволяющий систематизировать информацию по конкурентоспособности фирмы и её главных конкурентов.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6:38:00Z</dcterms:created>
  <dc:creator>Admin</dc:creator>
  <dc:description/>
  <dc:language>en-US</dc:language>
  <cp:lastModifiedBy>Айжан</cp:lastModifiedBy>
  <dcterms:modified xsi:type="dcterms:W3CDTF">2011-06-08T06:45:46Z</dcterms:modified>
  <cp:revision>3</cp:revision>
  <dc:subject/>
  <dc:title>ПОРЯДОК РАЗРАБОТКИ БИЗНЕС-ПЛАНА </dc:title>
</cp:coreProperties>
</file>