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30179-A374-4FC6-98E0-D54EEC585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EF99-8D96-4BA2-B70D-6A1B3507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E06F9-F9E5-482B-8AB9-6CD5F17BD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7FF3F-12AF-4820-BAE8-F1D522219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F79BB-AB87-4E8E-8DCE-2C3B59658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B5901-6DFA-4C2C-B17D-0BE05127A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71FF0-A5A4-4FD5-8101-9E9866864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C9CC9-6344-4FE4-B582-B572C4E7D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1C3F-DFAE-45E0-9884-C056E4BB6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3311-71D5-456D-A35D-BC59153D2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8227-0AA5-473A-8CAA-8F9CE5B83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B889-ED97-4C74-8299-4ED65E879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2E8F-86EC-41C0-AD5E-0EAA1791F3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79280" y="404280"/>
            <a:ext cx="8964720" cy="5977080"/>
          </a:xfrm>
          <a:prstGeom prst="rect">
            <a:avLst/>
          </a:prstGeom>
          <a:noFill/>
          <a:ln w="0">
            <a:noFill/>
          </a:ln>
        </p:spPr>
        <p:txBody>
          <a:bodyPr anchor="t">
            <a:normAutofit/>
          </a:bodyPr>
          <a:p>
            <a:pPr marL="6094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ма 11</a:t>
            </a:r>
            <a:endParaRPr b="0" lang="en-US" sz="3600" spc="-1" strike="noStrike">
              <a:solidFill>
                <a:srgbClr val="000000"/>
              </a:solidFill>
              <a:latin typeface="Arial"/>
            </a:endParaRPr>
          </a:p>
          <a:p>
            <a:pPr marL="609480" indent="-60948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Государственное регулирование инновационной деятельности</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228600"/>
            <a:ext cx="9144000" cy="6477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Экономический рост Казахстана</a:t>
            </a:r>
            <a:endParaRPr b="0" lang="en-US" sz="2800" spc="-1" strike="noStrike">
              <a:solidFill>
                <a:srgbClr val="000000"/>
              </a:solidFill>
              <a:latin typeface="Arial"/>
            </a:endParaRPr>
          </a:p>
        </p:txBody>
      </p:sp>
      <p:graphicFrame>
        <p:nvGraphicFramePr>
          <p:cNvPr id="51" name=""/>
          <p:cNvGraphicFramePr/>
          <p:nvPr/>
        </p:nvGraphicFramePr>
        <p:xfrm>
          <a:off x="304920" y="990720"/>
          <a:ext cx="8458200" cy="4376520"/>
        </p:xfrm>
        <a:graphic>
          <a:graphicData uri="http://schemas.openxmlformats.org/drawingml/2006/table">
            <a:tbl>
              <a:tblPr/>
              <a:tblGrid>
                <a:gridCol w="2654280"/>
                <a:gridCol w="1823760"/>
                <a:gridCol w="1989360"/>
                <a:gridCol w="1990800"/>
              </a:tblGrid>
              <a:tr h="96264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ды</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казател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ноз</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ВП</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лрд.тенге)</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21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00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04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мпы рост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в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ВП на душу населения (долл. СШ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 2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8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7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Line 41"/>
          <p:cNvSpPr/>
          <p:nvPr/>
        </p:nvSpPr>
        <p:spPr>
          <a:xfrm>
            <a:off x="304920" y="990720"/>
            <a:ext cx="26668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Рассматривая экономический рост с точки зрения интересов всего общества, можно выделить две основные его цели.</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Основные цели экономического роста:</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повышение материального благосостояния – главная цель, она конкретизируется в следующем:</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величение среднедушевых доходов населения (темпы роста НД на душу населения);</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величение свободного времени;</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лучшение распределения НД среди различных слоев населения;</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вышение качества и улучшение ассортимента производимых товаров и услуг;</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поддержание национальной безопас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Экономический рост определяется следующими факторами предложения:</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личество и качество природных ресурсов;</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личество и качество трудовых  ресурсов;</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ъем накопленного капитала;</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хнологии.</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повышение производительности труда влияют следующие факторы:</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хнический прогресс;</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ст фондовооруженности работник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ение качества рабочей силы;</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кономия за счет масштабов производства;</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ршенствование распределения ресурс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Причины замедления роста производительности труда:</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худшение качества рабочей силы;</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медление технического прогресса;</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кращение доли инвестиционных расходов в ВВП;</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ост цен на энергоносители;</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благоприятные трудовые отно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000" spc="-1" strike="noStrike">
                <a:solidFill>
                  <a:srgbClr val="000000"/>
                </a:solidFill>
                <a:latin typeface="Arial"/>
              </a:rPr>
              <a:t>2.    Основные направления воздействия государства на экономический рост</a:t>
            </a:r>
            <a:endParaRPr b="0" lang="en-US" sz="2000" spc="-1" strike="noStrike">
              <a:solidFill>
                <a:srgbClr val="000000"/>
              </a:solidFill>
              <a:latin typeface="Arial"/>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ое регулирование экономического роста осуществляется по следующим основным направлениям:</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1. Стимулирование развития фундаментальной науки.</a:t>
            </a:r>
            <a:r>
              <a:rPr b="0" lang="ru-RU" sz="2400" spc="-1" strike="noStrike">
                <a:solidFill>
                  <a:srgbClr val="000000"/>
                </a:solidFill>
                <a:latin typeface="Arial"/>
              </a:rPr>
              <a:t> Без нее немыслим современный НТП, а следовательно, и экономическое развитие страны. В рамках этого же направления следует выделить меры государства, направленные на сохранение природной среды и невоспроизводимых ресурсов. Государство должно, руководствуясь экологическими соображениями, определять пределы экономического роста. </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2. Антициклическое регулирование</a:t>
            </a:r>
            <a:r>
              <a:rPr b="0" lang="ru-RU" sz="2400" spc="-1" strike="noStrike">
                <a:solidFill>
                  <a:srgbClr val="000000"/>
                </a:solidFill>
                <a:latin typeface="Arial"/>
              </a:rPr>
              <a:t> (его часто называют политикой краткосрочной стабилизации). Известно, что рыночной экономике свойственна цикличность экономического развития, то есть периодические спады производства или замедление его роста. И хотя нестабильность кратковременна, в длительной перспективе она негативно сказывается на значении показателей экономической динамик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глубже и продолжительнее спад, тем ниже темп роста НД, рассчитанный в среднем за несколько лет. Таким образом, получается, что государственную антициклическую политику по ее долгосрочным последствиям можно отнести к регуляторам экономического развития, а следовательно, и экономического роста.</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Антициклическое регулирование</a:t>
            </a:r>
            <a:r>
              <a:rPr b="0" lang="ru-RU" sz="2400" spc="-1" strike="noStrike">
                <a:solidFill>
                  <a:srgbClr val="000000"/>
                </a:solidFill>
                <a:latin typeface="Arial"/>
              </a:rPr>
              <a:t> применяется во всех странах с рыночной экономикой. Это позволило достигнуть такого эффекта, как уменьшение глубины и продолжительности  падения уровня производства, хотя со временем появились и негативные эффекты. Поскольку государство полагалось в основном на инфляционные методы регулирования, во многих развитых странах оказались расшатанными денежные системы, возникли хронические бюджетные дефициты, рост цен стал постепенно выходить из-под контрол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 </a:t>
            </a:r>
            <a:r>
              <a:rPr b="0" i="1" lang="ru-RU" sz="2400" spc="-1" strike="noStrike">
                <a:solidFill>
                  <a:srgbClr val="000000"/>
                </a:solidFill>
                <a:latin typeface="Arial"/>
              </a:rPr>
              <a:t>Обеспечение устойчивости макроэкономического равновесия</a:t>
            </a:r>
            <a:r>
              <a:rPr b="0" lang="ru-RU" sz="2400" spc="-1" strike="noStrike">
                <a:solidFill>
                  <a:srgbClr val="000000"/>
                </a:solidFill>
                <a:latin typeface="Arial"/>
              </a:rPr>
              <a:t>  (поддержание оптимальной пропорции между сбережениями и инвестициями,   бюджетная и социальная политика).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4. Налоговая политика.</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ная особенность современной налоговой политики заключается в дифференцированном снижении ставок налогообложения. Этот принцип был положен в основу экономической политики правительств многих развитых  стран. Либерализация налогообложения должна была бы привести к сокращению доходной части государственного бюджета. В рыночной экономике это действительно возможно, но лишь на короткий период времени. Долгосрочные последствия иные – увеличение поступлений в бюджет, а следовательно, сокращение дефицита, уменьшение инфляции. В экономической науке это часто именуют эффектом Лаффе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Мировой хозяйственной практике известно немало эффективных </a:t>
            </a:r>
            <a:r>
              <a:rPr b="0" i="1" lang="en-US" sz="2800" spc="-1" strike="noStrike">
                <a:solidFill>
                  <a:srgbClr val="000000"/>
                </a:solidFill>
                <a:latin typeface="Arial"/>
              </a:rPr>
              <a:t>способов стимулирования экономического роста</a:t>
            </a:r>
            <a:r>
              <a:rPr b="0" lang="en-US" sz="2800" spc="-1" strike="noStrike">
                <a:solidFill>
                  <a:srgbClr val="000000"/>
                </a:solidFill>
                <a:latin typeface="Arial"/>
              </a:rPr>
              <a:t> путем использования налоговых ставок, например, </a:t>
            </a:r>
            <a:r>
              <a:rPr b="0" i="1" lang="en-US" sz="2800" spc="-1" strike="noStrike">
                <a:solidFill>
                  <a:srgbClr val="000000"/>
                </a:solidFill>
                <a:latin typeface="Arial"/>
              </a:rPr>
              <a:t>инвестиционных налоговых льгот.</a:t>
            </a:r>
            <a:r>
              <a:rPr b="0" lang="en-US" sz="2800" spc="-1" strike="noStrike">
                <a:solidFill>
                  <a:srgbClr val="000000"/>
                </a:solidFill>
                <a:latin typeface="Arial"/>
              </a:rPr>
              <a:t> Фирма осуществляет инвестиции в передовые технологии или просто в новое оборудование из общей величины прибыли, подвергаемой налогообложению, государство исключает определенную сумму, равную какой-то части вложенного капитала. Эти части дифференцируются по отраслям, а в перспективных они достигают максимальных размеров.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ким образом, чем больше инвестиции и прогрессивнее их структура, тем меньше размер налога.</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стимулирования инвестиций применяется такой инструмент, как </a:t>
            </a:r>
            <a:r>
              <a:rPr b="0" i="1" lang="en-US" sz="2800" spc="-1" strike="noStrike">
                <a:solidFill>
                  <a:srgbClr val="000000"/>
                </a:solidFill>
                <a:latin typeface="Arial"/>
              </a:rPr>
              <a:t>инвестиционные налоговые креди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228600"/>
            <a:ext cx="9144000" cy="64771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теории можно выделить две   крайние точки или два направления в стимулировании государством экономического роста:</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вое направление – </a:t>
            </a:r>
            <a:r>
              <a:rPr b="1" lang="ru-RU" sz="2800" spc="-1" strike="noStrike">
                <a:solidFill>
                  <a:srgbClr val="000000"/>
                </a:solidFill>
                <a:latin typeface="Arial"/>
              </a:rPr>
              <a:t>кейнсианское,</a:t>
            </a:r>
            <a:r>
              <a:rPr b="0" lang="ru-RU" sz="2800" spc="-1" strike="noStrike">
                <a:solidFill>
                  <a:srgbClr val="000000"/>
                </a:solidFill>
                <a:latin typeface="Arial"/>
              </a:rPr>
              <a:t> в рамках которого экономический рост рассматривается преимущественно с точки зрения факторов спроса и стимулируется низкими процентными ставками, регулированием занятости. Здесь больше внимания уделяется краткосрочным целям.</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торое направление – это </a:t>
            </a:r>
            <a:r>
              <a:rPr b="1" lang="ru-RU" sz="2800" spc="-1" strike="noStrike">
                <a:solidFill>
                  <a:srgbClr val="000000"/>
                </a:solidFill>
                <a:latin typeface="Arial"/>
              </a:rPr>
              <a:t>«экономика предложения»,</a:t>
            </a:r>
            <a:r>
              <a:rPr b="0" lang="ru-RU" sz="2800" spc="-1" strike="noStrike">
                <a:solidFill>
                  <a:srgbClr val="000000"/>
                </a:solidFill>
                <a:latin typeface="Arial"/>
              </a:rPr>
              <a:t> в рамках которой упор делается на факторы, повышающие производственный потенциал экономики, стимулируются инвестиции в машины, оборудование, перспективные технологии. Предпочтение здесь отдается долгосрочным перспектив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228600"/>
            <a:ext cx="9144000" cy="64771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Основные задачи и направления государственной структурной       политики</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Экономика страны представляет собой сложную систему, состоящую из множества макроэкономических элементов (отрасли, сферы, комплексы), которые самым тесным образом связаны между собой. </a:t>
            </a:r>
            <a:r>
              <a:rPr b="0" i="1" lang="en-US" sz="2800" spc="-1" strike="noStrike">
                <a:solidFill>
                  <a:srgbClr val="000000"/>
                </a:solidFill>
                <a:latin typeface="Arial"/>
              </a:rPr>
              <a:t>Соотношение между этими элементами и представляет собой экономическую структуру общества.</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собую сложность структуре экономики придает совокупность разнообразных, переплетающихся взаимозависимых процессов (воспроизводственных, ресурсных, инвестиционных, инновационных, финансовых, трудовых, технологических), которые и придают экономике динамизм развития, делают необходимым ее постоянное совершенствов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Государственное регулирование инновационной деятельности</a:t>
            </a:r>
            <a:endParaRPr b="0" lang="en-US" sz="28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кономический рост и его значение для повышения       конкурентоспособности национальной экономики</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сновные направления воздействия государства       на экономический   рост</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сновные задачи и направления государственной структурной       политики</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ромышленная политики и ее роль в реализации        индустриально - инновационной стратегии Казахста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Структура экономики любой страны формируется под влиянием длительных процессов общественного разделения труда, формирования социальной структуры общества, роста и усложнения потребностей людей, усложнения производительных сил и т. д.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От того, насколько оптимальна эта структура, зависит сбалансированность народного хозяйства, его эффективный и устойчивый рост.</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кономическая структура не остается раз и навсегда данной. Она подвержена изменениям, причем чем быстрее совершаются эти изменения, чем эластичнее структура подгоняется к требованиям времени, тем успешнее развивается экономика.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труктурные изменения после Второй мировой войны произошли практически во всех  странах. Пути и способы осуществления этих изменений были неодинаковы, но можно выделить из них два основных:</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ый путь</a:t>
            </a:r>
            <a:r>
              <a:rPr b="0" lang="ru-RU" sz="2400" spc="-1" strike="noStrike">
                <a:solidFill>
                  <a:srgbClr val="000000"/>
                </a:solidFill>
                <a:latin typeface="Arial"/>
              </a:rPr>
              <a:t> с известной долей условности можно назвать </a:t>
            </a:r>
            <a:r>
              <a:rPr b="0" i="1" lang="ru-RU" sz="2400" spc="-1" strike="noStrike">
                <a:solidFill>
                  <a:srgbClr val="000000"/>
                </a:solidFill>
                <a:latin typeface="Arial"/>
              </a:rPr>
              <a:t>американским</a:t>
            </a:r>
            <a:r>
              <a:rPr b="0" lang="ru-RU" sz="2400" spc="-1" strike="noStrike">
                <a:solidFill>
                  <a:srgbClr val="000000"/>
                </a:solidFill>
                <a:latin typeface="Arial"/>
              </a:rPr>
              <a:t>. Этот путь в 80-х годах ХХ в. выбрала Великобритания. Опорой здесь служит преимущественно стихия рынка при пассивном государственном вмешательстве. Структура производства меняется в результате рыночных изменений в норме прибыли. Разоряются или удовлетворяются меньшей доходностью хозяева предприятий в отраслях, переставших быть перспективными. Происходит перелив ресурсов (капитала, рабочей силы, предпринимательской способности) в более выгодные отрасли. По этому пути структурная перестройка осуществляется мощными многоотраслевыми и самофинансирующимися корпорациями. Государство   поддерживает на плаву депрессивные отрасли, например, субсидиями. Такой путь занимает длительный промежуток времени, сопровождается значительными социальными издержками и замедленными темпами роста эффективности произ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торой путь  – </a:t>
            </a:r>
            <a:r>
              <a:rPr b="1" i="1" lang="en-US" sz="2400" spc="-1" strike="noStrike">
                <a:solidFill>
                  <a:srgbClr val="000000"/>
                </a:solidFill>
                <a:latin typeface="Arial"/>
              </a:rPr>
              <a:t>японский</a:t>
            </a:r>
            <a:r>
              <a:rPr b="1" lang="en-US" sz="2400" spc="-1" strike="noStrike">
                <a:solidFill>
                  <a:srgbClr val="000000"/>
                </a:solidFill>
                <a:latin typeface="Arial"/>
              </a:rPr>
              <a:t> </a:t>
            </a:r>
            <a:r>
              <a:rPr b="0" lang="en-US" sz="2400" spc="-1" strike="noStrike">
                <a:solidFill>
                  <a:srgbClr val="000000"/>
                </a:solidFill>
                <a:latin typeface="Arial"/>
              </a:rPr>
              <a:t>(по нему развивались   Южная Корея, некоторые страны Западной Европы, Турция, Китай, новые индустриальные страны Юго-Восточной Азии). По этому пути структурные преобразования осуществляются с опорой на </a:t>
            </a:r>
            <a:r>
              <a:rPr b="0" i="1" lang="en-US" sz="2400" spc="-1" strike="noStrike">
                <a:solidFill>
                  <a:srgbClr val="000000"/>
                </a:solidFill>
                <a:latin typeface="Arial"/>
              </a:rPr>
              <a:t>централизованные методы регулирования</a:t>
            </a:r>
            <a:r>
              <a:rPr b="0" lang="en-US" sz="2400" spc="-1" strike="noStrike">
                <a:solidFill>
                  <a:srgbClr val="000000"/>
                </a:solidFill>
                <a:latin typeface="Arial"/>
              </a:rPr>
              <a:t>, </a:t>
            </a:r>
            <a:r>
              <a:rPr b="0" i="1" lang="en-US" sz="2400" spc="-1" strike="noStrike">
                <a:solidFill>
                  <a:srgbClr val="000000"/>
                </a:solidFill>
                <a:latin typeface="Arial"/>
              </a:rPr>
              <a:t>государственное планирование</a:t>
            </a:r>
            <a:r>
              <a:rPr b="0" lang="en-US" sz="2400" spc="-1" strike="noStrike">
                <a:solidFill>
                  <a:srgbClr val="000000"/>
                </a:solidFill>
                <a:latin typeface="Arial"/>
              </a:rPr>
              <a:t> и ускоренный межотраслевой перелив ресурсов, то есть здесь широко используется </a:t>
            </a:r>
            <a:r>
              <a:rPr b="0" i="1" lang="en-US" sz="2400" spc="-1" strike="noStrike">
                <a:solidFill>
                  <a:srgbClr val="000000"/>
                </a:solidFill>
                <a:latin typeface="Arial"/>
              </a:rPr>
              <a:t>государственное регулирование</a:t>
            </a:r>
            <a:r>
              <a:rPr b="0" lang="en-US" sz="2400" spc="-1" strike="noStrike">
                <a:solidFill>
                  <a:srgbClr val="000000"/>
                </a:solidFill>
                <a:latin typeface="Arial"/>
              </a:rPr>
              <a:t> для ускорения прогрессивных структурных изменений. Обычно применяют необходимые прогнозные оценки, которые помогают заранее определить, какие элементы структуры должны подвергнуться сокращению, а каким элементам целесообразно оказать содействие. Это более быстрый путь с меньшими социальными издержками и значительными темпами роста производитель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ля Японии и других азиатских стран характерна более активная структурная политика. С начала 50-х годов ХХ в. стали создаваться «</a:t>
            </a:r>
            <a:r>
              <a:rPr b="0" i="1" lang="en-US" sz="2400" spc="-1" strike="noStrike">
                <a:solidFill>
                  <a:srgbClr val="000000"/>
                </a:solidFill>
                <a:latin typeface="Arial"/>
              </a:rPr>
              <a:t>депрессивные картели»</a:t>
            </a:r>
            <a:r>
              <a:rPr b="0" lang="en-US" sz="2400" spc="-1" strike="noStrike">
                <a:solidFill>
                  <a:srgbClr val="000000"/>
                </a:solidFill>
                <a:latin typeface="Arial"/>
              </a:rPr>
              <a:t> в отраслях, переживающих экономические трудности, застой и спад производства. Цель – снизить общие объемы производства в отрасли, утратившей перспективность. Например, за решением Министерства внешней торговли и промышленности Японии о нецелесообразности дальнейшего развития угольной промышленности в 60-х годах последовали государственные программы ликвидации шахт с высокими издержками и профессиональной переподготовкой уволенных шахтеров. К концу 70-х годов  работали лишь высококвалифицированные шахтеры, численность работников угольной промышленности уменьшилась в десять раз. Активную роль в перепрофилировании Японии играло Министерство внешней торговли и промышленности. На него возлагалась ответственность за разработку плана стабилизации положения  в отрасли и сокращения объемов производства в н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0" y="228600"/>
            <a:ext cx="9144000" cy="64771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проведения эффективной структурной политики </a:t>
            </a:r>
            <a:r>
              <a:rPr b="0" i="1" lang="en-US" sz="2800" spc="-1" strike="noStrike">
                <a:solidFill>
                  <a:srgbClr val="000000"/>
                </a:solidFill>
                <a:latin typeface="Arial"/>
              </a:rPr>
              <a:t>государственные органы управления</a:t>
            </a:r>
            <a:r>
              <a:rPr b="0" lang="en-US" sz="2800" spc="-1" strike="noStrike">
                <a:solidFill>
                  <a:srgbClr val="000000"/>
                </a:solidFill>
                <a:latin typeface="Arial"/>
              </a:rPr>
              <a:t> должны видеть, понимать и знать структурную конструкцию национальной экономики, ее элементы, их пропорциональные зависимости и структурные связи, а также закономерности их взаимодействия.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настоящее время экономика Казахстана отличается сочетанием небольшого по объему перерабатывающего сектора промышленности, незначительной диверсификацией и невысокой конкурентоспособностью. В целях решения этих проблем государство должно проводить стратегическую экономическую политику, направленную на достижение устойчивого  развития на основе повышения уровня конкурентоспособности национальной экономи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Применительно к современным условиям Казахстана   можно в числе основных назвать следующие </a:t>
            </a:r>
            <a:r>
              <a:rPr b="0" i="1" lang="ru-RU" sz="2400" spc="-1" strike="noStrike">
                <a:solidFill>
                  <a:srgbClr val="000000"/>
                </a:solidFill>
                <a:latin typeface="Arial"/>
              </a:rPr>
              <a:t>задачи структурной политики:</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держка эффективных и конкурентоспособных производств и последовательное свертывание бесперспективных и устаревших;</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оритетное развитие инфраструктуры (производственной, рыночной, информационной);</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пособление отраслевой структуры производства под платежеспособный спрос;</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имулирование перелива всех видов ресурсов из стагнирующих отраслей в секторы роста;</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имулирование развития отсталых регионов;</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предпосылок устойчивого экономического роста;</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питализация экспортных доходов топливно-энергетического комплекса в отраслях обрабатывающей промышленности, потенциально конкурентоспособных на мировом рынке,  и др.</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аким образом, государственная структурная политика, являясь частью общей экономической политики, играет особую роль в системе государственного регулирования экономи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0" y="228600"/>
            <a:ext cx="9144000" cy="64771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Устойчивое развитие страны</a:t>
            </a:r>
            <a:r>
              <a:rPr b="0" lang="en-US" sz="2400" spc="-1" strike="noStrike">
                <a:solidFill>
                  <a:srgbClr val="000000"/>
                </a:solidFill>
                <a:latin typeface="Arial"/>
              </a:rPr>
              <a:t> – это совокупность условий, факторов, инструментов, обеспечивающих постоянное, от поколения к поколению, возрастание общественного богатства, природного капитала, культурного наследия и уровня жизни общества. То есть это развитие страны, при котором удовлетворяются потребности настоящего поколения и не ставятся под угрозу возможности удовлетворения потребностей будущих поколений.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Казахстана переход к устойчивому развитию является насущной необходимостью, связанной с исчерпанием потенциала роста экономики за счет эксплуатации природных ресурсов. Для этого была разработана и принята Концепция перехода Республики Казахстан к устойчивому развитию на 2007-2024 годы.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стойчивое развитие необходимо для достижения целей Стратегии развития страны до 2030 года, а также Стратегии вхождения Казахстана в число пятидесяти наиболее конкурентоспособных стран ми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0"/>
            <a:ext cx="9144000" cy="64771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кономическая устойчивость развития предполагает обеспечение устойчивого экономического прогресса, что предусматривает решение следующих задач:</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версификация производства, повышение показателя эффективности использования ресурсов, преодоление энергетического дисбаланса;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недрение устойчивых технологий, то есть устойчивых экологически чистых и экономически эффективных технологий в промышленности, сельском хозяйстве, энергетике, водоснабжении, управлении городским хозяйство и транспорте;</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жная роль в реализации Концепции перехода РК к устойчивому развитию на 2007 – 2024 годы отводится </a:t>
            </a:r>
            <a:r>
              <a:rPr b="0" i="1" lang="ru-RU" sz="2400" spc="-1" strike="noStrike">
                <a:solidFill>
                  <a:srgbClr val="000000"/>
                </a:solidFill>
                <a:latin typeface="Arial"/>
              </a:rPr>
              <a:t>государству.</a:t>
            </a:r>
            <a:r>
              <a:rPr b="0" lang="ru-RU" sz="2400" spc="-1" strike="noStrike">
                <a:solidFill>
                  <a:srgbClr val="000000"/>
                </a:solidFill>
                <a:latin typeface="Arial"/>
              </a:rPr>
              <a:t> Его главная миссия с точки зрения устойчивости заключается в обеспечении лучших параметров качества жизни  последующего поколения по сравнению с предыдущим поколением за счет:</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ведения государственной политики в целях сбалансированного развития различных отраслей экономики и секторов общества и преодоления межсекторальных и межведомственных барьеров законодательными и экономическими мер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оставления каждому жителю страны, который способен и желает работать, возможность обеспечивать себе  достойный уровень жизни своим трудом;</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троля и регулирования негативного влияния на окружающую среду;</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ения сохранения природных ресурсов и их эффективного использования;</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и сохранения национальных интересов и управления культурными ценностями;</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ения гармонизации развития всех регионов для сокращения  разницы между  экономическим развитием и благосостоянием населения.</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нституциональное обеспечение концепции должны составить Совет по устойчивому развитию, Фонд устойчивого развития «Казына-Самрук», Евразийский научно-образовательный центр технологий устойчивого инновационного развития и координационные центры устойчивого развития.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28600"/>
            <a:ext cx="9144000" cy="64771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Промышленная политика государства и ее роль в реализации</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индустриально-инновационной стратегии Казахстана</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новным источником создания ВВП, товарной массы для внутреннего потребления и экспорта объективно является промышленное производство.</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ыт государственного регулирования в странах с рыночной экономикой свидетельствует, что в период промышленного спада необходимы стимулирующие меры, разработка и осуществление целенаправленной государственной промышленной (индустриальной) политики.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ировой практике известны два типа государственной промышленной политики – </a:t>
            </a:r>
            <a:r>
              <a:rPr b="0" i="1" lang="en-US" sz="2400" spc="-1" strike="noStrike">
                <a:solidFill>
                  <a:srgbClr val="000000"/>
                </a:solidFill>
                <a:latin typeface="Arial"/>
              </a:rPr>
              <a:t>общесистемный и селективный</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Общесистемная промышленная</a:t>
            </a:r>
            <a:r>
              <a:rPr b="0" lang="en-US" sz="2400" spc="-1" strike="noStrike">
                <a:solidFill>
                  <a:srgbClr val="000000"/>
                </a:solidFill>
                <a:latin typeface="Arial"/>
              </a:rPr>
              <a:t> </a:t>
            </a:r>
            <a:r>
              <a:rPr b="0" i="1" lang="en-US" sz="2400" spc="-1" strike="noStrike">
                <a:solidFill>
                  <a:srgbClr val="000000"/>
                </a:solidFill>
                <a:latin typeface="Arial"/>
              </a:rPr>
              <a:t>политика </a:t>
            </a:r>
            <a:r>
              <a:rPr b="0" lang="en-US" sz="2400" spc="-1" strike="noStrike">
                <a:solidFill>
                  <a:srgbClr val="000000"/>
                </a:solidFill>
                <a:latin typeface="Arial"/>
              </a:rPr>
              <a:t>направлена на создание общих условий, благоприятствующих развитию индустрии, и действует по горизонтал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ий рост и его значение для повышения конкурентоспособности национальной экономики</a:t>
            </a:r>
            <a:endParaRPr b="0" lang="en-US" sz="24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Экономическое развитие общества</a:t>
            </a:r>
            <a:r>
              <a:rPr b="0" lang="ru-RU" sz="2800" spc="-1" strike="noStrike">
                <a:solidFill>
                  <a:srgbClr val="000000"/>
                </a:solidFill>
                <a:latin typeface="Arial"/>
              </a:rPr>
              <a:t> – это многофакторный, противоречивый и трудноизмеряемый процесс. Показатели динамики экономического развития многочисленны, не всегда поддаются количественной оценке и могут быть сведены приблизительно в такие группы: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казатели экономического роста (ВВП/ВНП, отдельных отраслей, товаров и услу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казатели развития и качества жизни  (например, потребительская корзина, уровень образования населения, уровень развития сферы услуг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Ее меры не имеют какого-либо избирательного назначения (четкой нацеленности на отрасль, корпорацию, регион), а относительно равномерно влияют на всех субъектов рынка, формируя экономическую, институциональную, организационную и правовую среду их активности. Общесистемная промышленная политика является преимущественно макроэкономической.</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Такая политика имеет либеральный характер, так как обязательно должна обеспечивать хотя бы формальное равенство экономических и правовых условий для всех рыночных субъектов. Опирается она на меры финансовой стабилизации, преобразования отношений собственности (приватизации).</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Вместе с тем общесистемная политика   формирует в определенном смысле хозяйственный порядок, задающий для рыночных субъектов некоторые допустимые и общепринятые рамки деятельности (налоговый, денежный, валютный, таможенный режимы, трудовое законодательство, технические и экологические стандарты и т. 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228600"/>
            <a:ext cx="9144000" cy="6477120"/>
          </a:xfrm>
          <a:prstGeom prst="rect">
            <a:avLst/>
          </a:prstGeom>
          <a:noFill/>
          <a:ln w="0">
            <a:noFill/>
          </a:ln>
        </p:spPr>
        <p:txBody>
          <a:bodyPr anchor="t">
            <a:noAutofit/>
          </a:bodyPr>
          <a:p>
            <a:pPr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елективная промышленная политика </a:t>
            </a:r>
            <a:r>
              <a:rPr b="0" lang="ru-RU" sz="2400" spc="-1" strike="noStrike">
                <a:solidFill>
                  <a:srgbClr val="000000"/>
                </a:solidFill>
                <a:latin typeface="Arial"/>
              </a:rPr>
              <a:t>нацелена на определенные группы рыночных субъектов (предприятия, отдельные виды производства, целые отрасли, регионы). Ее действие имеет вертикальный характер: осуществляется из центра по ступеням народнохозяйственной иерархии до первичного звена производства. В этом смысле она имеет преимущественно </a:t>
            </a:r>
            <a:r>
              <a:rPr b="0" i="1" lang="ru-RU" sz="2400" spc="-1" strike="noStrike">
                <a:solidFill>
                  <a:srgbClr val="000000"/>
                </a:solidFill>
                <a:latin typeface="Arial"/>
              </a:rPr>
              <a:t>микроэкономический</a:t>
            </a:r>
            <a:r>
              <a:rPr b="0" lang="ru-RU" sz="2400" spc="-1" strike="noStrike">
                <a:solidFill>
                  <a:srgbClr val="000000"/>
                </a:solidFill>
                <a:latin typeface="Arial"/>
              </a:rPr>
              <a:t> характер.</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лективная поддержка индустрии наиболее эффективна, когда в максимально возможной мере выполнены общесистемные требования к формированию макроэкономической, инфраструктурной и правовой среды деятельности субъектов рынка. В противном случае попытки проведения селективной промышленной политики оказываются малорезультативными.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пример, государственная финансовая поддержка тех или иных звеньев индустрии, оказываемая в неблагополучных инфляционных условиях, быстро обесценивается. Такая поддержка, как свидетельствует казахстанский  и российский опыт, малорезультативна и в том случае, если отсутствует действенная общегосударственная система контроля за финансовыми пото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елективный подход в поддержке определенных отраслей промышленности применяется, прежде всего, в условиях выхода экономики из кризиса, когда начинает восстанавливаться нормальный процесс расширенного общественного воспроизводства и появляются первые возможности реального накопления.</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ru-RU" sz="2800" spc="-1" strike="noStrike">
                <a:solidFill>
                  <a:srgbClr val="000000"/>
                </a:solidFill>
                <a:latin typeface="Arial"/>
              </a:rPr>
              <a:t>Методы</a:t>
            </a:r>
            <a:r>
              <a:rPr b="0" lang="ru-RU" sz="2800" spc="-1" strike="noStrike">
                <a:solidFill>
                  <a:srgbClr val="000000"/>
                </a:solidFill>
                <a:latin typeface="Arial"/>
              </a:rPr>
              <a:t> осуществления промышленной политики разнообразны и апробированы практикой многих стран. Можно классифицировать их по содержанию (и одновременно по характеру воздействия на объек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1. Информационные методы.</a:t>
            </a:r>
            <a:r>
              <a:rPr b="0" lang="ru-RU" sz="2400" spc="-1" strike="noStrike">
                <a:solidFill>
                  <a:srgbClr val="000000"/>
                </a:solidFill>
                <a:latin typeface="Arial"/>
              </a:rPr>
              <a:t> Государство, осуществляя промышленную политику, должно обеспечить предприятия, соответствующие органы управления систематизированными, научно обработанными данными об окружающей социально-экономической среде, что позволяет рыночным субъектам принимать более эффективные решения в производственной (особенно инвестиционной и инновационной) и коммерческой сферах деятельности. Речь идет о наличии доступных широкому кругу пользователей результатов исследований и прогнозов развития социально-экономической ситуации в стране, отраслях и регионах (в том числе маркетинговых разработок), о налаживании системы консалтинговых услуг. Такая прогнозно-аналитическая и информационная активность государства будет создавать ориентиры хозяйственным субъектам в их деятель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2</a:t>
            </a:r>
            <a:r>
              <a:rPr b="0" i="1" lang="ru-RU" sz="1600" spc="-1" strike="noStrike">
                <a:solidFill>
                  <a:srgbClr val="000000"/>
                </a:solidFill>
                <a:latin typeface="Arial"/>
              </a:rPr>
              <a:t>. </a:t>
            </a:r>
            <a:r>
              <a:rPr b="0" i="1" lang="ru-RU" sz="2000" spc="-1" strike="noStrike">
                <a:solidFill>
                  <a:srgbClr val="000000"/>
                </a:solidFill>
                <a:latin typeface="Arial"/>
              </a:rPr>
              <a:t>Методы макроэкономического регулирования.</a:t>
            </a:r>
            <a:r>
              <a:rPr b="1" lang="ru-RU" sz="2000" spc="-1" strike="noStrike">
                <a:solidFill>
                  <a:srgbClr val="000000"/>
                </a:solidFill>
                <a:latin typeface="Arial"/>
              </a:rPr>
              <a:t> </a:t>
            </a:r>
            <a:r>
              <a:rPr b="0" lang="ru-RU" sz="2000" spc="-1" strike="noStrike">
                <a:solidFill>
                  <a:srgbClr val="000000"/>
                </a:solidFill>
                <a:latin typeface="Arial"/>
              </a:rPr>
              <a:t> Они направлены на формирование необходимой для развития реального производства общеэкономической среды, прежде всего на достижение финансовой стабильности, преодоление дефицита госбюджета, снижение инфляции, обеспечение положительного платежного баланса, поддержание устойчивости национальной валюты, то есть речь идет о макроэкономическом обеспечении промышленной политики.  </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4. </a:t>
            </a:r>
            <a:r>
              <a:rPr b="0" i="1" lang="ru-RU" sz="2400" spc="-1" strike="noStrike">
                <a:solidFill>
                  <a:srgbClr val="000000"/>
                </a:solidFill>
                <a:latin typeface="Arial"/>
              </a:rPr>
              <a:t>Ресурсные (затратные) методы.</a:t>
            </a:r>
            <a:r>
              <a:rPr b="0" lang="ru-RU" sz="2400" spc="-1" strike="noStrike">
                <a:solidFill>
                  <a:srgbClr val="000000"/>
                </a:solidFill>
                <a:latin typeface="Arial"/>
              </a:rPr>
              <a:t> Они относятся к наиболее результативным и, как правило, являются методами прямого действия на индустриальные объекты. К ним можно отнести: систему государственных заказов и государственных закупок, адресное субсидирование и кредитование, формирование и использование фондов страхования рисков (инвестиционных, экспортных и др.), налоговые льготы. Индустриальная политика включает в себя финансовое обеспечение подготовки и переподготовки кадров, необходимой иммиграции трудовых ресурсов, части фундаментальных исследований и НИОКР прикладного характ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0" y="0"/>
            <a:ext cx="9144000" cy="6477120"/>
          </a:xfrm>
          <a:prstGeom prst="rect">
            <a:avLst/>
          </a:prstGeom>
          <a:noFill/>
          <a:ln w="0">
            <a:noFill/>
          </a:ln>
        </p:spPr>
        <p:txBody>
          <a:bodyPr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5. Институциональные методы.</a:t>
            </a:r>
            <a:r>
              <a:rPr b="0" lang="ru-RU" sz="2400" spc="-1" strike="noStrike">
                <a:solidFill>
                  <a:srgbClr val="000000"/>
                </a:solidFill>
                <a:latin typeface="Arial"/>
              </a:rPr>
              <a:t> Это методы формирования соответствующей правовой и организационно-экономической среды, утверждение общего для всех рыночных субъектов хозяйственного порядка. Они действуют не избирательно, а на всю индустриальную систему в целом. Характер воздействия институциональных методов – </a:t>
            </a:r>
            <a:r>
              <a:rPr b="0" i="1" lang="ru-RU" sz="2400" spc="-1" strike="noStrike">
                <a:solidFill>
                  <a:srgbClr val="000000"/>
                </a:solidFill>
                <a:latin typeface="Arial"/>
              </a:rPr>
              <a:t>регулирующий и стимулирующий</a:t>
            </a:r>
            <a:r>
              <a:rPr b="0" lang="ru-RU" sz="2400" spc="-1" strike="noStrike">
                <a:solidFill>
                  <a:srgbClr val="000000"/>
                </a:solidFill>
                <a:latin typeface="Arial"/>
              </a:rPr>
              <a:t>. Применение этих методов не предполагает затрат ресурсов непосредственно на объекты промышленной политики (отрасли, виды производства, предприятия, регионы). Расходы связаны лишь с проведением самих организационно-хозяйственных преобразований, с созданием соответствующих институтов рынка и регулированием индустриального развития. К </a:t>
            </a:r>
            <a:r>
              <a:rPr b="0" i="1" lang="ru-RU" sz="2400" spc="-1" strike="noStrike">
                <a:solidFill>
                  <a:srgbClr val="000000"/>
                </a:solidFill>
                <a:latin typeface="Arial"/>
              </a:rPr>
              <a:t>этим методам относят различные административные средства</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воты,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цензи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тандарты (требования к качеству продукции, санитарные нормы, гарантирующие продовольственную безопасность для человека),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кологические норматив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аким образом, промышленная политика стимулирует экономический рост и структурные изменения в пользу перспективных отраслей промышленного производства.</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условиях постоянного ускорения темпов научно-технического прогресса эффективность и результативность регулирования государством экономики в значительной степени определяется  его возможностями оказывать влияние на инновационный процесс. Индустриально развитые страны за последние полтора-два десятилетия достигли внушительных успехов в передовых отраслях экономики именно в результате концентрации внимания на опережающий рост науки и инноваций, на инновационное воспроизводство, инновационную стадию конкуренции, которые повышают уровень развития национальной экономики в целом и динамичную устойчивость экономического развития. Речь прежде всего идет о разработке и реализации государственных программ по производству наукоемкой проду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Казахстане  в рамках проведения промышленной политики в 2003 г. была принята </a:t>
            </a:r>
            <a:r>
              <a:rPr b="0" i="1" lang="ru-RU" sz="2800" spc="-1" strike="noStrike">
                <a:solidFill>
                  <a:srgbClr val="000000"/>
                </a:solidFill>
                <a:latin typeface="Arial"/>
              </a:rPr>
              <a:t>Стратегия индустриально-инновационного развития Республики Казахстан на 2003-2015 годы.</a:t>
            </a:r>
            <a:r>
              <a:rPr b="0" lang="ru-RU" sz="2800" spc="-1" strike="noStrike">
                <a:solidFill>
                  <a:srgbClr val="000000"/>
                </a:solidFill>
                <a:latin typeface="Arial"/>
              </a:rPr>
              <a:t> В ней индустриальная политика определяется как комплекс мер, посредством которых государство создает благоприятные условия и оказывает поддержку предпринимательству для формирования конкурентоспособной и эффективной национальной промышленности.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атегической целью индустриально-инновационного развития Казахстана определено достижение устойчивого развития страны путем диверсификации отраслей экономики, предполагающей увеличение в объеме промышленного производства доли перерабатывающих производств, и прежде всего наукоемких с высокой добавленной стоим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Это будет способствовать отходу экономики от сырьевой направленности и подготовке условий для перехода в долгосрочном плане к сервисно-технологической экономике.</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беспечения реализации Стратегии индустриально-инновационного развития были утверждены девять  программ отраслевого и межотраслевого характера, (программы  по формированию и развитию национальной инновационной системы, развития строительной индустрии, по энергосбережению и другие). Приняты более 20 законов Республики Казахстан, в том числе  «О техническом регулировании», «Об инвестиционных фондах», «О регулировании торговой деятельности», «Об Инвестиционном фонде Казахстана», «О государственной поддержке инновационной деятельности»; внесены изменения в Налоговый кодекс, законы РК «Об инвестициях», «О специальных экономических зонах»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0" y="228600"/>
            <a:ext cx="9144000" cy="64771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дними из основных </a:t>
            </a:r>
            <a:r>
              <a:rPr b="0" i="1" lang="ru-RU" sz="2400" spc="-1" strike="noStrike">
                <a:solidFill>
                  <a:srgbClr val="000000"/>
                </a:solidFill>
                <a:latin typeface="Arial"/>
              </a:rPr>
              <a:t>инструментов проведения индустриально-инновационной политики являются институциональные</a:t>
            </a:r>
            <a:r>
              <a:rPr b="0" lang="ru-RU" sz="2400" spc="-1" strike="noStrike">
                <a:solidFill>
                  <a:srgbClr val="000000"/>
                </a:solidFill>
                <a:latin typeface="Arial"/>
              </a:rPr>
              <a:t>. В Казахстане   созданы финансовые и сервисные институты развития: АО «Банк развития Казахстана», АО «Инвестиционный фонд Казахстана», АО «Национальный инновационный фонд», АО «Фонд развития малого предпринимательства», АО «Государственная страховая корпорация по страхованию экспортных кредитов и инвестиций», АО «Центр инжиниринга и трансферта технологий».</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осударственная промышленная политика в современных условиях обязательно предполагает инновационную составляющую. В Казахстане принята Программа по формированию и развитию инновационной системы Республики Казахстан на 2005 – 2015 годы, которая включает два основных направления – создание и развитие инновационной инфраструктуры и создание эффективной системы отношений между субъектами инновационной деятель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0" y="228600"/>
            <a:ext cx="9144000" cy="64771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Экономический рост – это абсолютное или относительное увеличение важнейших макроэкономических показателей за определенный период времени</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Их объемы и структура обеспечивают воспроизводство основных факторов саморазвития. Таковы наращивание и обновление производственного аппарата, его эффективное использование. На этой основе и происходит повышение решающих социальных индикаторов:</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ост реальных доходов,</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ичного потребления,</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лучшения качества жизни и д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28600"/>
            <a:ext cx="9144000" cy="647712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3200" spc="-1" strike="noStrike">
                <a:solidFill>
                  <a:srgbClr val="000000"/>
                </a:solidFill>
                <a:latin typeface="Arial"/>
              </a:rPr>
              <a:t> </a:t>
            </a:r>
            <a:r>
              <a:rPr b="0" lang="ru-RU" sz="2400" spc="-1" strike="noStrike">
                <a:solidFill>
                  <a:srgbClr val="000000"/>
                </a:solidFill>
                <a:latin typeface="Arial"/>
              </a:rPr>
              <a:t>Целью структурной политики государства является:</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азвитие конкуренции</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нижение инфляционных ожиданий</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ращение дефицита государственного бюджета</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ование экономического роста</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ение малоимущих слоев населения.</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им из основных инструментов индустриально-инновационного развития Казахстана является:</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величение добычи нефти</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сударственное планирование</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ширение производства в традиционных отраслях</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версификация производства</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гулирование учетной став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уществуют 2 типа экономического роста:</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Экстенсивный тип</a:t>
            </a:r>
            <a:r>
              <a:rPr b="0" lang="en-US" sz="2800" spc="-1" strike="noStrike">
                <a:solidFill>
                  <a:srgbClr val="000000"/>
                </a:solidFill>
                <a:latin typeface="Arial"/>
              </a:rPr>
              <a:t> экономического роста представляет собой экономический рост, достигнутый </a:t>
            </a:r>
            <a:r>
              <a:rPr b="0" i="1" lang="en-US" sz="2800" spc="-1" strike="noStrike">
                <a:solidFill>
                  <a:srgbClr val="000000"/>
                </a:solidFill>
                <a:latin typeface="Arial"/>
              </a:rPr>
              <a:t>путем наращивания массы используемых факторов производства</a:t>
            </a:r>
            <a:r>
              <a:rPr b="0" lang="en-US" sz="2800" spc="-1" strike="noStrike">
                <a:solidFill>
                  <a:srgbClr val="000000"/>
                </a:solidFill>
                <a:latin typeface="Arial"/>
              </a:rPr>
              <a:t>, т.е за счет количественного увеличения  объема применяемых ресурсов при сохранении неизменной технической базы производства;</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нтенсивный тип</a:t>
            </a:r>
            <a:r>
              <a:rPr b="0" lang="en-US" sz="2800" spc="-1" strike="noStrike">
                <a:solidFill>
                  <a:srgbClr val="000000"/>
                </a:solidFill>
                <a:latin typeface="Arial"/>
              </a:rPr>
              <a:t> развития имеет место тогда, когда экономический рост базируется на применении в процессе производства </a:t>
            </a:r>
            <a:r>
              <a:rPr b="0" i="1" lang="en-US" sz="2800" spc="-1" strike="noStrike">
                <a:solidFill>
                  <a:srgbClr val="000000"/>
                </a:solidFill>
                <a:latin typeface="Arial"/>
              </a:rPr>
              <a:t>более совершенных факторов производства,</a:t>
            </a:r>
            <a:r>
              <a:rPr b="0" lang="en-US" sz="2800" spc="-1" strike="noStrike">
                <a:solidFill>
                  <a:srgbClr val="000000"/>
                </a:solidFill>
                <a:latin typeface="Arial"/>
              </a:rPr>
              <a:t> а также более напряженного использования имеющего производственного потенциал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Для оценки динамики экономического развития используются макроэкономические показатели:</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аловой внутренний продукт (ВВП)  – это суммарная рыночная стоимость всего объема конечных товаров и услуг, произведенных экономическими резидентами страны, за определенный период времени;</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аловой национальный продукт (ВНП) – это рыночная стоимость товаров и услуг, произведенных в течение данного периода времени  экономическими субъектами страны, независимо от территории их нахожде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ВП, рассчитанный в действующих ценах текущего года, называется номинальным ВВП.</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ВП, рассчитанный  в сопоставимых базисных ценах, называется реальный ВВП.</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декс потребительских цен показывает изменение цен на продукцию потребительской корзины, приобретаемую потребителями за определенный период времени.</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Дефлятор ВВП  = номинальный ВВП / реальный ВВП</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флятор ВВП  показывает изменение цены единицы продукции в отчетном году по отношению к базисному году.</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оценке уровня и динамики благосостояния нации используется  показатель реального ВВП, определяемый в </a:t>
            </a:r>
            <a:r>
              <a:rPr b="0" i="1" lang="en-US" sz="2400" spc="-1" strike="noStrike">
                <a:solidFill>
                  <a:srgbClr val="000000"/>
                </a:solidFill>
                <a:latin typeface="Arial"/>
              </a:rPr>
              <a:t>расчете на душу населения, </a:t>
            </a:r>
            <a:r>
              <a:rPr b="0" lang="en-US" sz="2400" spc="-1" strike="noStrike">
                <a:solidFill>
                  <a:srgbClr val="000000"/>
                </a:solidFill>
                <a:latin typeface="Arial"/>
              </a:rPr>
              <a:t>т.е. по отношению к общей численности населения страны.</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оценки динамики экономического роста страны используются </a:t>
            </a:r>
            <a:r>
              <a:rPr b="0" i="1" lang="en-US" sz="2400" spc="-1" strike="noStrike">
                <a:solidFill>
                  <a:srgbClr val="000000"/>
                </a:solidFill>
                <a:latin typeface="Arial"/>
              </a:rPr>
              <a:t>темповые показатели роста:</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Темп роста реального ВВП =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реальный ВВП / реальный ВВП ) х 100,</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где</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еальный ВВП – реальный ВВП базисного года;</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еальный ВВП – реальный ВВП анализируемого  года.</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  </a:t>
            </a:r>
            <a:r>
              <a:rPr b="0" lang="ru-RU" sz="2400" spc="-1" strike="noStrike">
                <a:solidFill>
                  <a:srgbClr val="000000"/>
                </a:solidFill>
                <a:latin typeface="Arial"/>
              </a:rPr>
              <a:t>Что влияет на экономический рост?</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отношение между валовыми инвестициями и амортизацией – объемом капитала страны, потребленного (или выбывшего) в процессе производства данного года, служит надежным показателем того, находится ли экономика в состоянии подъемы, застоя или спада.</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Экономический рост.</a:t>
            </a:r>
            <a:r>
              <a:rPr b="0" lang="ru-RU" sz="2400" spc="-1" strike="noStrike">
                <a:solidFill>
                  <a:srgbClr val="000000"/>
                </a:solidFill>
                <a:latin typeface="Arial"/>
              </a:rPr>
              <a:t> Когда валовые инвестиции превышают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мортизацию, экономика находится на подъме, т.е. ее производственные возможности, измеряемые величиной чистых инвестиций имеют положительное значение. Увеличение предложения инвестиционных товаров представляет собой основное средство повышения производственных возможностей экономики.</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Экономический застой. В застойной, или статичной, экономике </a:t>
            </a:r>
            <a:r>
              <a:rPr b="0" lang="ru-RU" sz="2400" spc="-1" strike="noStrike">
                <a:solidFill>
                  <a:srgbClr val="000000"/>
                </a:solidFill>
                <a:latin typeface="Arial"/>
              </a:rPr>
              <a:t>валовые инвестиции и амортизация  равны. Экономика пребывает в состоянии покоя; она производит как раз столько капитала, сколько необходимо, чтобы возместить то, что потреблено в процессе производства ВВП данного года - не меньше и не больше.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360"/>
            <a:ext cx="9144000" cy="670572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Экономика переживает застой в том смысле, что она лишена возможности расширяться.</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Экономический спад. </a:t>
            </a:r>
            <a:r>
              <a:rPr b="0" lang="ru-RU" sz="2400" spc="-1" strike="noStrike">
                <a:solidFill>
                  <a:srgbClr val="000000"/>
                </a:solidFill>
                <a:latin typeface="Arial"/>
              </a:rPr>
              <a:t>Спад в экономике возникает тогда, когда валовые инвестиции меньше амортизации, то есть когда экономика за год потребляет больше капитала, чем производит. В этих условиях величина чистых инвестиций получает отрицательное значение, а в экономике происходит </a:t>
            </a:r>
            <a:r>
              <a:rPr b="0" i="1" lang="ru-RU" sz="2400" spc="-1" strike="noStrike">
                <a:solidFill>
                  <a:srgbClr val="000000"/>
                </a:solidFill>
                <a:latin typeface="Arial"/>
              </a:rPr>
              <a:t>деинвестирование, </a:t>
            </a:r>
            <a:r>
              <a:rPr b="0" lang="ru-RU" sz="2400" spc="-1" strike="noStrike">
                <a:solidFill>
                  <a:srgbClr val="000000"/>
                </a:solidFill>
                <a:latin typeface="Arial"/>
              </a:rPr>
              <a:t>т.е. сокращение инвестиций. Депрессия способствует возникновению подобных обстоятельств. В неблагоприятные времена, когда производство и занятость находятся на низком уровне, у страны имеется больше производственных мощностей, чем она использует в текущем производстве. В результате стимулы к замещению изношенного капитальных активов, а тем более к при ращению накопленного капитала очень малы либо даже вовсе отсутствуют.</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йжан</cp:lastModifiedBy>
  <dcterms:modified xsi:type="dcterms:W3CDTF">2011-06-08T06:36:57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