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E2D7-E230-48F2-84DD-E574D73A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B878-90CA-49DD-9C63-41CB8B82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4AF4-B3F5-43E7-82E0-7ED9361A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2BFE-EFCE-48F7-A93E-A236C947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3038-2AB6-45CC-86C2-866B8E23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6072-96CD-47C7-B4F7-62498A6C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4DDE-0271-4C5A-8F4B-C63101A2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CC75-33AD-4BC9-B0C0-21B9E5AA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A42E-75AA-4F24-B558-016C46B2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4B99-BC91-47BD-A3D5-E85997E1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000F-5E00-464C-8C62-1EBF7C68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B158-9EB7-4E85-B165-49AD0214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001E-F790-44D8-AE24-B02F02A4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6885-9CFB-45CA-BDDE-B933E6B0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CA96-0A58-432D-B666-6344AD2F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3DD9-FF23-4207-B6BC-48A711D4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38F4-AB1C-4C24-8989-9D821862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52CC-4BC4-4E57-8397-7FB3F0EF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A10E-36A6-4D0C-9935-D00CCACC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D7276-CA20-4565-943E-2DD7DB89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380F-AD2B-405F-A123-D8085A01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A04E-6FB2-4E2B-B88F-F947B695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1458-E715-4887-9EFC-7C3C8FD9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E78C-FC5F-456D-9910-6303D2C4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E7E4-ADDD-47B8-9827-23D7B4BB05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0107-156F-4F42-9D04-FD9E5875FE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7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2209680" y="228600"/>
            <a:ext cx="5257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 6. Предприяти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762120" y="2666880"/>
            <a:ext cx="784836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субъект инновационной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819520" y="4191120"/>
            <a:ext cx="4038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ятельности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Инновация — это процесс «проведения» знания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 стадии фундаментального научного знания  до прикладного ил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 стадии прикладного научного знания до стадии опытного производства ил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 стадии фундаментального научного знания до стадии опытного производ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ое определение понятия инновации, как видим, базируется на представлении о «движении» знания по различным его стадиям в ходе своего имманентного проявления в этой реа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новация (как результат процесса) — продукт, полученный (получаемый) в ходе инновационной деятельности каким-либо субъектом (чаще хозяйствующим). Таким образом, понятие инновационного продукта не имеет смысла без указания для какого субъекта этот продукт является инновацион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иод времени от зарождения идеи до практического создания и внедрения новшества, его использования принято называть жизненным циклом иннова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нятие «инновации» применяется ко всем новшествам как в производственной, так и в организационной, научно-исследовательской, учебной и управленческой сферах, ко всем усовершенствованиям, обеспечивающим экономию затрат. Следовательно, инновации ориентированны на рынок и потребите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новация может быть «относительной», «абсолютной» и «частной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бсолютная инновация — характеризуется отсутствием аналогов данному новшеству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носительная — это новшество, которое уже применялось на других предприятиях, но впервые осуществляется на данном предприяти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астная инновация— подразумевает обновление элемента (детали) издел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Особенности инновационной деятельност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овременных условиях все процессы применения новых знаний связаны с рыночными отношениями. Практика показывает, что инновации направлены на рынок и удовлетворение его потребно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новационная деятельность — это практическое использование инновационно-научного и интеллектуального потенциала в массовом производстве с целью получения нового продукта, удовлетворяющего потребительский спрос в конкурентоспособных товарах и услугах. Важной характеристикой этой деятельности является инновационная активность — целенаправленная поддержка высокой восприимчивости персонала предприятия (фирмы) к нововведениям посредством целенаправленных структур и методов управ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а инновационная деятельность характеризуется ускорением темпов создания новшеств, их диффузии, что способствует углублению и расширению структурных сдвигов в экономике, увеличению размеров рынка и удовлетворению существующих и возникающих потребно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новационная деятельность предприятия основывается на таких принципах, как приоритетность инновационного производства; экономичность инновационного производства, предполагающая последовательный учет в практике управления производительного характера функционирования прикладной науки, определяющей не только самоокупаемость инновационного производства, но и его прибыльность, коммерческий успех на рынке; гибкость инновационного производства, означающая, что управление должно обеспечивать свободу действий субъектов инновационной деятельности, отказ от жесткой регламентации, поощрение предприимчив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Эффективность инновационной деятельност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астоящее время эффективность инновационной деятельности предприятия определяется прежде всего наличием отлаженной системы инвестирования, кредитования, налогообложения, функционирующих применительно к инновационной сфере научных разработ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68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68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68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68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щественным фактором в инновационной деятельности предприятия является, то, что используемые им нововведения ограничены по времени рыночными циклами, т. е. тем пределом времени, когда это нововведение имеет рынок сбыта, после которого экономический и технологический потенциал нововведения исчерпывается и необходимо своевременное переключение ресурсов для внедрения в производство других нововвед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Актуальность 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Предприят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Иннов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Особенности инновацион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Эффекти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Инновационна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Выв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условиях развитых рыночных отношений инновационная деятельность предприятия характеризуется полной экономической самостоятельностью и юридической свободой в принятии хозяйственных решений, т. е. предприятие само решает, какие ресурсы использовать, само определяет объем производимой продукции и ее цен). Самостоятельность хозяйственной деятельности предприятия означает, что оно ни от кого не получает безвозмездной помощи и несет материальную ответственность за все свои решения, т. е. действует и принимает хозяйственные решения в рамках своего бюдж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цесс внедрения инноваций охватывает практически все стороны деятельности предприятия. Сам поиск эффективных организационных форм управления инновациями основывается на умелом сочетании научно-инновационных и рыночных факторов. Внедрение этих поисков в производство и есть инновационная деятель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этом инновационная деятельность предприятия направлена на достижение основной цели — обеспечение максимальной прибыли. Известно, что в условиях рыночной экономики источником прибыли является не только возможность изменения цен или экономия затрат, но и своевременное обновление продукции, появление на потребительском рынке продукции, отличающейся новизной от существующего товара. В этом случае предприятия - инноваторы получают добавочную прибыль за монополию на знания (так называемую «научно-техническую ренту»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Инновационная сфера представляет собой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стему взаимодействия инноваторов, инвесторов, товаропроизводителей конкурентоспособной продукции, услуг и развитой инфраструкту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ынок новшеств (новаций), рынок капитала (инвестиций) и рынок чистой конкуренции нововведений. Поэтому управление инновационным процессом становится ключом современной организации инновационной деятельности на микро- и макро- уровн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68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68" fill="hold"/>
                                        <p:tgtEl>
                                          <p:spTgt spid="5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68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68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Экономическое достоинство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кономическое достоинство нововведения состоит в том, что выгода от внедрения превышает издержки на его создание. С момента принятия к распространению новшество приобретает новое качество — становится «инновацией». Только тогда различные идеи, изобретения, новые виды продукции и услуг получают признание потребителя (в процессе коммерциализации) и уже в новом качестве они становятся инновац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аким образом, инновационная деятельность предприятия не сводится только к созданию и внедрению новшеств, но и включает также разработку соответствующих структур, организационных форм хозяйствования и управления на производственных предприят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68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68" fill="hold"/>
                                        <p:tgtEl>
                                          <p:spTgt spid="5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68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68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Актуальность тем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ной из приоритетных целей большинства стран мира является обеспечение долговременного экономического роста. Экономический рост сопровождается повышением эффективности производства, сокращением безработицы, стабильностью цен и расширением внешнеэкономических связей и другими положительными экономическими и социальными процессами. Эти цели экономического роста могут быть достигнуты при использовании во всех сферах хозяйственной деятельности достижений научно-технических новшеств, называемых инновация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ждое предприятие должно развиваться и совершенствовать свою продукцию. В противном случае оно не будет обладать конкурентным преимуществом, что приведет к потере рынков сбыта. По этой причине предприятие постоянно находится в поиске новых идей, которые могут быть коммерциализированы. Нововведения, или инновации, распространяются на новые продукты, способы их производства, новшества в организационной и финансовой сфе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Предприят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приятие — это организационно выделенное и экономически самостоятельное основное (первичное) звено производственной сферы народного хозяйства, изготовляющее продукцию (выполняющее работу или предоставляющее платные услуг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68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68" fill="hold"/>
                                        <p:tgtEl>
                                          <p:spTgt spid="5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6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6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ждое предприятие исторически сложившееся конкретное (завод, фабрика, шахта, электростанция, мастерская, ателье и др.) и может включать несколько производственных единиц (комбинат, производственное объединение). В большинстве стран с развитой рыночной экономикой такие производственные единицы называют фирм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 словом “фирма” понимают предприятия, осуществляющие хозяйственную деятельность в отраслях промышленности, строительства, сельского хозяйства, транспорта, торговли и др. с целью получения конечного финансового результата — прибыли. Каждая фирма определяет свое фирменное наименование, под которым ее записывают в государственном реестре страны. Фирменное наименование, как правило, включает имя и фамилию одного или нескольких собственников фирмы, отражает характер ее деятельности, правовой статус и форму хозяйствования. В отдельных странах распространены более общие наименования фирм. Например, в Англии они имеет название компаний, США — корпорации, странах континентальной Европы — об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ажно знать, что каждое предприятие или фирма является юридическим лицом, имеет замкнутую систему учета и отчетности, самостоятельный баланс, расчетный счет в банке, печать с собственным наименованием, а также товарный знак (марку) в виде определенного термина, символа, рисунка или комбинации таковых. Фирменный знак (марка) служит для идентификации товаров или услуг продуцента (продавца) с тем, чтобы можно было их легко отличить на рынке от продукции (услуг) конкур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Иннова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нятие инновации может рассматриваться как процесс и как результат процесса. Поскольку процесс без результата может быть, а результат не может существовать без процесса, его сформировавшего, делаем вывод, что процесс первичен. Следовательно, определение инновации целесообразно начать с трактовки через процес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йжан</cp:lastModifiedBy>
  <dcterms:modified xsi:type="dcterms:W3CDTF">2011-06-08T06:54:1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