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12.xml" ContentType="application/vnd.openxmlformats-officedocument.theme+xml"/>
  <Override PartName="/ppt/theme/theme36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8.png" ContentType="image/png"/>
  <Override PartName="/ppt/media/image16.png" ContentType="image/png"/>
  <Override PartName="/ppt/media/image14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1.wmf" ContentType="image/x-wmf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</p:sldMasterIdLst>
  <p:sldIdLst>
    <p:sldId id="256" r:id="rId38"/>
    <p:sldId id="257" r:id="rId39"/>
    <p:sldId id="258" r:id="rId40"/>
    <p:sldId id="259" r:id="rId41"/>
    <p:sldId id="260" r:id="rId42"/>
    <p:sldId id="261" r:id="rId43"/>
    <p:sldId id="262" r:id="rId44"/>
    <p:sldId id="263" r:id="rId45"/>
    <p:sldId id="264" r:id="rId46"/>
    <p:sldId id="265" r:id="rId47"/>
    <p:sldId id="266" r:id="rId48"/>
    <p:sldId id="267" r:id="rId49"/>
    <p:sldId id="268" r:id="rId50"/>
    <p:sldId id="269" r:id="rId51"/>
    <p:sldId id="270" r:id="rId52"/>
    <p:sldId id="271" r:id="rId53"/>
    <p:sldId id="272" r:id="rId54"/>
    <p:sldId id="273" r:id="rId55"/>
    <p:sldId id="274" r:id="rId56"/>
    <p:sldId id="275" r:id="rId57"/>
    <p:sldId id="276" r:id="rId58"/>
    <p:sldId id="277" r:id="rId59"/>
    <p:sldId id="278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" Target="slides/slide1.xml"/><Relationship Id="rId39" Type="http://schemas.openxmlformats.org/officeDocument/2006/relationships/slide" Target="slides/slide2.xml"/><Relationship Id="rId40" Type="http://schemas.openxmlformats.org/officeDocument/2006/relationships/slide" Target="slides/slide3.xml"/><Relationship Id="rId41" Type="http://schemas.openxmlformats.org/officeDocument/2006/relationships/slide" Target="slides/slide4.xml"/><Relationship Id="rId42" Type="http://schemas.openxmlformats.org/officeDocument/2006/relationships/slide" Target="slides/slide5.xml"/><Relationship Id="rId43" Type="http://schemas.openxmlformats.org/officeDocument/2006/relationships/slide" Target="slides/slide6.xml"/><Relationship Id="rId44" Type="http://schemas.openxmlformats.org/officeDocument/2006/relationships/slide" Target="slides/slide7.xml"/><Relationship Id="rId45" Type="http://schemas.openxmlformats.org/officeDocument/2006/relationships/slide" Target="slides/slide8.xml"/><Relationship Id="rId46" Type="http://schemas.openxmlformats.org/officeDocument/2006/relationships/slide" Target="slides/slide9.xml"/><Relationship Id="rId47" Type="http://schemas.openxmlformats.org/officeDocument/2006/relationships/slide" Target="slides/slide10.xml"/><Relationship Id="rId48" Type="http://schemas.openxmlformats.org/officeDocument/2006/relationships/slide" Target="slides/slide11.xml"/><Relationship Id="rId49" Type="http://schemas.openxmlformats.org/officeDocument/2006/relationships/slide" Target="slides/slide12.xml"/><Relationship Id="rId50" Type="http://schemas.openxmlformats.org/officeDocument/2006/relationships/slide" Target="slides/slide13.xml"/><Relationship Id="rId51" Type="http://schemas.openxmlformats.org/officeDocument/2006/relationships/slide" Target="slides/slide14.xml"/><Relationship Id="rId52" Type="http://schemas.openxmlformats.org/officeDocument/2006/relationships/slide" Target="slides/slide15.xml"/><Relationship Id="rId53" Type="http://schemas.openxmlformats.org/officeDocument/2006/relationships/slide" Target="slides/slide16.xml"/><Relationship Id="rId54" Type="http://schemas.openxmlformats.org/officeDocument/2006/relationships/slide" Target="slides/slide17.xml"/><Relationship Id="rId55" Type="http://schemas.openxmlformats.org/officeDocument/2006/relationships/slide" Target="slides/slide18.xml"/><Relationship Id="rId56" Type="http://schemas.openxmlformats.org/officeDocument/2006/relationships/slide" Target="slides/slide19.xml"/><Relationship Id="rId57" Type="http://schemas.openxmlformats.org/officeDocument/2006/relationships/slide" Target="slides/slide20.xml"/><Relationship Id="rId58" Type="http://schemas.openxmlformats.org/officeDocument/2006/relationships/slide" Target="slides/slide21.xml"/><Relationship Id="rId59" Type="http://schemas.openxmlformats.org/officeDocument/2006/relationships/slide" Target="slides/slide22.xml"/><Relationship Id="rId60" Type="http://schemas.openxmlformats.org/officeDocument/2006/relationships/slide" Target="slides/slide23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941C-8445-4718-9994-9511C6C66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4F86-7F66-4C5D-A790-372C21A9D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F5E189-F66D-4E06-AF35-E5D38FD2C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EAD5F6-B5C9-4467-9834-61BE95E33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E92C3B-1F31-4D9A-8C2F-5CB3A4454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53CEED-2F2F-4483-A9A9-6B9933717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8646EF-C858-4A57-A38C-F90A87583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458E95-5820-47B9-9E6D-DFB214D3E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1E58EA-053C-43BA-A213-AF830D8AF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FA14F1-DBA3-4234-AD68-F37C42A47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B04681-D8AE-4386-86C5-2E798C154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9189F9-8864-4B97-AA68-02B4BABFC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3BF1-194E-49C3-A77F-55B246599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BF14E9-9393-4951-B891-5A4547087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5D7A5D-6B22-4C8F-80F7-F3896E3B7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235A46-D6B4-4A76-8CDE-8EFBC407B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F5E8EE-0895-4A98-A5F8-AF3B45003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48AF64-6B95-4564-915A-5FE7D7C5E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75B824-6C20-44DD-967A-7386B6EE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ED894B-3810-4957-A162-F5707605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C9666B-B9CE-4433-877E-2E32A4E25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07F84E-70B4-43E0-850D-62C7403EF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D2F2EA-4187-4AD8-8639-E910DB787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095E-AA42-4C16-949E-A8E38F29A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9A8CC0-65B6-4992-8B46-A1A60061D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FF6274-CA61-45B0-9609-854B3F3E0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08AA1D-C7D7-41A1-BCC5-160B69975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1B7107-72A6-45E8-9B21-0001CE35E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3DA383-E132-4FC0-A51B-C1AEABAAC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F0857A-159E-4418-8470-8C52D1D9F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400031-015F-4308-A6FB-464AA737E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D48EA6-68B6-4CA8-BFE4-0DE702A1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44BFB7-DD6F-4105-9563-A12DEF63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49CA94-1B0C-44F4-94E0-345D5534C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ABA98-256D-4EF8-94B7-945D0908A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4A2959-6A77-40D7-A880-633BF21EA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2101AA-2240-45CC-84F8-F639A34F6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C2BCE6-8930-49FE-B53B-4ED665594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34E25A-3CBE-483F-A612-ED965AFF2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7E0124-9263-4A3D-90B2-55123C0B5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278FCF-8D69-488B-8E47-72C98A79B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EB9112-1143-4325-8891-949966BA5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F2695C-7B27-4493-A1B0-8E26FEB7C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625211-85D5-4E88-BA80-074C0DC51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25614D-EADC-4A20-BAFD-340D4F422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C33E7-5121-4974-A522-1A6BCE8CD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7F0A9D-0BFB-4D7F-A840-FA77D96C3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F9BC83-E294-409C-8A01-96FC5F31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DDFB28-5697-4B48-BD47-A128D0E5A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26260F-F9C8-4308-9AFD-8E01D8FBC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240ADD-469F-40F0-8B90-C952ACDA3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1F6C3D-F609-4952-A38F-26D59B724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9BE20C-C3B3-409C-B627-43B1A450D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4588E6-E5E0-4D67-B460-053F73342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8FD6E8-0F95-4C29-ADB2-B6BD91C1E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C56613-9EBD-404D-83C7-C601035D0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51821-77C4-42AE-B873-5DF9D3510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3C93C9-295C-4E92-9991-8341A9D49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6F293D-FB12-400D-AA03-4BF003E4E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23A32E-0EA4-4C0B-B795-33652ABF9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E7CDAB-1204-4E98-AA1F-7D7F52C9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114914-E991-4B9E-97C9-F43DC3095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22172D-6C3A-4ECF-99FC-A4E29CEBC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5BCF05-3BE4-41A1-B618-1B430706C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7992777-0D7E-4600-9E8B-57974DE9D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A393EF3-92E9-4621-AF06-0070F1C3C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4EABFF3-A24F-4DA1-80F5-7D7D71CAB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31B6B-512E-4B64-B3F7-5D86D0D45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B77DA39-87B2-4F76-989E-C889542AE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C98E75F-D30E-4A9C-A10E-14E2D72F2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4A24DB1-9C3B-40E6-889C-C412DECF4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A66FC87-4D4A-4B84-9EDE-EF93053BB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42EEAAC-8059-4AA5-A0EE-EF8F9CCC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12FD305-F480-438E-BE1F-1791C171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176E753-08B7-443B-AF38-A564CE282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1BDAA34-B9E9-4997-AC20-94B7B67DF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735DF76-0C25-4E89-947D-DC49FB747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57FD45-E26F-4150-957A-2A0885C3C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A7B85-E605-49E3-9EED-514DC96EE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B59959-3D34-4434-959D-A7C2FD16D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A57839-23BF-4F62-9558-F077C4526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91C523-F15E-4F04-BAA5-ECC91F1E1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D36A35-A48C-429F-8AE6-CDFA972CE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FB93AF-77D3-4C57-989B-7BDA16D0D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A2D9D1-B5F3-449D-B04A-78E3AC215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E612D8-D1E1-4A37-A346-5B3F048E0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4CA2EA-8679-44D1-A68B-DCAA868FD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4E488F-3975-492D-858F-9F6C02E5C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517198-8F60-42A0-9065-C43325EDD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BF248-1415-44A1-B09E-7AC91A109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17103E-EE9A-43BE-9195-99651199B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FB276E-B709-449B-81B4-046A8026E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6E90EF-C6DA-4460-B44A-EDFD699CB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1BB427-EE2E-4EDF-93AA-BBEDFDEA3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CAD5E7-5401-45F0-AA73-3AFF8A5B5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F1C9DA-3F6A-46CE-8138-E73F5FCA8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87449E-7525-4B7F-A9C1-19220AA89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94D493-6B3D-4D95-95CF-F2DA63C8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261E48-61B5-4894-8DBF-2A1A4FE1B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C53164-A0FC-486F-84C2-937E41695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B88EF-3AD6-4485-8569-DB91E804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D0C418-960D-4C4F-9A53-9F470D7A5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75173E-B056-4D93-BF6D-6949C5BDF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27ABDC-058C-42BA-A4CE-1B3DD76BE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B56451-365E-4403-A56A-1F44A7380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FE7607-F72C-453B-BF0C-DE2E11852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1D0EAA-A7FE-475A-AB71-4836D7F29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C600C4-EEA2-4894-B0D5-9CD40B282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EB8A4D-C992-4C6E-BC53-3F05FF009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9E84D7-65FC-4811-9DB2-74F680FE3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AA6751-D846-49F8-9AE4-59788D8D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DB44-D42A-4153-B411-705148882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D9075-7EC3-45EC-BCDC-72807574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B225D4-CF56-4829-82E7-FF082C399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5B3658-5C1E-4C5B-9D7F-8DBF56603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752E1C-E3AA-4539-A26D-3CECB6F17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5B5C00-DB9D-4C53-BE54-910FA2CC1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4E0BF8-B3EA-45B0-B3B8-23EE5E20A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C3C68A-E942-45BD-A3D8-522781B6F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6C1FF2-2B97-4816-BA88-B494ED5D5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45CC70-C32C-40EF-A0A5-2A81C284A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4D2E94-55F7-4CF0-B080-418E6921C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1896B2-4CD7-42B8-9F2A-F101EC5A7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A9C36-D57B-4E7C-A4D7-26D245CF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8D7758-3723-479C-8878-C70A915CC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A32925-6E2A-485D-9172-FA0C09AA7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8E513E-6CE3-4183-83E1-EDF038FA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E1012C-7E9D-4C44-BD8F-C76B51001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8110E6-0B9E-4D64-B464-C099A987E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CC2A81-003F-43DC-AE16-016734F6C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6E016B-C37B-4751-8D99-EA95DD2A1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EE4B0A-A07E-4C4A-96AD-CCA33D721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8F3027-39CC-477B-BFAD-C5E717BD5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DD995C-3D8E-42AE-919C-D354CEED0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9268F-BBDF-4C28-83F7-7C9F762A6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A60D21-5939-4087-B473-44CA06FDA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C1DE66-97A3-4A10-A210-6CEF0743E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18C2B7-044C-4DBD-AADC-10FD1C0A0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C80D6E-2BCC-433D-9081-E18FB8853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B17B06-AB1A-4CA3-A35B-81A9E865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190E63-5A66-48ED-8DF9-9AE8F8F8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8C1BC0-A333-4131-A806-CF88F974C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2B5D5E-B13F-44A9-A883-DBF19ADB5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B13435-40C6-47FB-B03F-DA89F4223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32536B-AC79-4E97-8CC0-66A344688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86711-4156-4DA6-A7B5-E0E087157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E96D54-4237-4641-9383-B17DAE271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4F52CC-B6D8-43CE-9984-CA83A70F3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3884C9-E744-4B90-A9EC-268747F07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18C138-2F77-41AC-9725-A2B36C68D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8A8CC7-4FF9-467A-AD9D-B425A1647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9ADA9A-09AF-4754-A550-8F9DACF8E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B60C19-B288-427F-B868-73B980703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787D09-4231-4B57-963E-99C1671DC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A6A425-62FD-41B4-892C-F8D55AFE8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AA9C07-C9A9-4614-8B3C-073E7F312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8EF14-2631-4141-96BD-66E32EF56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362BCF-A727-4501-9056-AC00DD0A8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5E4DD0-D28D-480C-B50F-59D1AB712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0D9B6D-F744-466A-9D8F-A09A5BFED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5B39CA-A394-4B8D-BC26-4A6AC1474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25B218-F425-4512-93C7-0D6E6D91C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85F40A-E953-49D0-8CF1-8B8A6F788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481C60-981B-4908-A958-D55B2B7DD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8AED92-729F-4A30-A41A-E21DCF665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B1D20E-F425-4210-A25D-9FDA459D0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961DE4-71E6-4E0A-A506-9627B447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B30D9-ADDD-4404-A2F2-31017E88C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D3C612-03F9-41C2-9991-061D00567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AB5884-1AC3-454F-89CF-43AFB5491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8784D9-0EDC-4438-9731-22603FA9A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542A89F-5E25-4158-AE05-23631E55C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8EDBFC6-C7E7-4F60-93A2-3321B97E4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C6A85C1-64F0-4492-8D71-23DF681F1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4DAA154-12E4-4DF0-B897-E18F9AA65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82F6431-A5E3-4136-A89C-F9A829D11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15E17B2-6332-4587-B739-E0EFF9F00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7135072-5C4F-40D4-AB3F-E7AF83EA1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4B8AB-C899-4ECC-AD3A-4B60713AC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5A3508F-E2EF-4B74-A379-8FDA86AD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ADF316D-5894-4CD8-861F-5A1A01D2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11B91E6-CFDE-47B0-99E9-D0347E464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535C16C-C815-4F66-84E3-D5B5AEE8F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536E4C2-1E41-43CA-9896-2147A7C01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896E6F5-43B0-45CE-B532-08A55304E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CFBB369-40E7-4AAE-B806-5FF57D81D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3EE0694-D602-4F56-B6F9-934B7AF3A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DD96F49-916C-45CE-B220-73DB7484F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D4F5E06-C970-4DDE-AC1D-8FAF678EC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6C274-C298-4046-BEF3-CE40BE293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20A334F-51F4-4929-9254-A2A995F32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BBB5BBB-5CEC-4F6A-B79C-A509123EC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422CCA1-9F91-4059-99D7-F6FF1DD3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E5CE328-4AED-4F13-8903-715C2492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D910A04-F7D6-4A30-873A-63DD90245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034C363-5105-4E69-B4E9-DCF74B1A2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20D9E39-A765-4A3D-82D8-F812B0EA5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060DBB4-C6E7-4956-993F-2F6D31EC1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25FE914-BA45-4A55-B24C-8D8AEE2F5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90BA232-36E7-440B-9EB4-E8C49F0FA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1A4F0-6111-4499-A299-8426D4F24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64003F3-C5AB-4E7E-B801-7708D3E41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E508772-DC67-45C0-B90A-3F7CDF369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7610B7A-CA09-4F1C-A030-F61CD02B2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832AD37-7D83-4EAB-A69B-DB19B4EE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0AB8506-35A3-4A5C-B091-C91E5EC5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2E78766-02B6-416C-84B3-581DDB8FE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A0EB352-6A9E-4CED-B308-A8574986E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4B3A4D6-1BF9-4A41-AA9E-CEFA75A6D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C8DE8F5-F327-4E12-8BB4-B64429F01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6CA36E0-1FDD-4435-A1D0-A023C82C6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4FAD7-E83E-4504-B2B8-10B56F0F7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3080894-5FD3-4356-87C7-DF7977DD3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5BB86F5-2A81-4993-8464-8BBA10912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5C8B063-0564-4BEC-9C5F-E5A9C71B8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0BDDCB2-F01C-4D32-9F09-AE10B1180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8200F22-9983-44D1-BAB1-B31D35978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ADB0E5D-3018-4F03-92FB-D12CCD58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D1208E1-75FD-46B8-BB6D-F6C24F7D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083FF4F-A47C-4136-9846-5BA9CC853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CD5F922-B3CF-4B54-AB9D-61D0A3029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9D07DA1-6FB5-4DFC-B8A7-9BA233DCA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60E8-758C-43B0-84B1-45C540B38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B62F5-D3D7-42DF-87D3-D1757E4A2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E425F38-1DA1-49ED-99D4-E3EED4028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FA75B09-BA5B-438C-9D89-ABE3298DA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E3107CB-A916-4CAB-B8AF-4731E59EC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333B243-AD9F-4023-8D1D-A6BA8AD63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3FD071A-16CB-4696-9179-1EA2C7C08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0FE637F-DB63-4C74-B773-CC6C80BD6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37CD43D-32F4-4D29-A867-70C9C7FF9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8747CE2-F725-499C-85D3-2D681B724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71071D6-168D-42F2-972A-681DD8B66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636BF4D-C006-4023-8FEC-FEE58745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3F0FE-6EF7-40CD-9FC0-23D28292A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F330F62-F2A4-4263-A914-BF86B4B6C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E46B205-F0A7-49E3-8B07-74C3F7852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09D1BC5-0D0A-4428-8401-799E2626B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4F1DD76-A92E-411B-90B7-743192C93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6A0948C-9403-4232-9C48-865EF73FB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6D0788C-FE30-4B3D-85CE-4394B4A27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F1501A4-968A-4C94-8BC7-DEDCDC6C2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8E4B137-A79B-4EC4-8209-F62C8E41F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7C117E3-139A-4AED-AD26-C4531C660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BF82C71-2AC2-4DAB-BF9B-3E416EA3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86ECD-24B6-4052-B240-8138E14E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9B7AD10-BDDE-40A3-9397-1708A35B6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D7CE8A5-F545-4639-9624-29251CCF8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CA714FA-2690-4D7E-8ED6-E792DDEE3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3BB5939-EF37-4675-B20C-5E250B631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7B8D3F8-14A5-4393-8B3E-C88C1ADB5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63A0E9C-5DB5-4881-ABC9-F81923B0C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1F10E24-08FD-4E93-AF16-3179462BC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1E10B92-2132-4339-8397-4B2AC345B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B36E468-6CB5-42EC-8DE4-4E2ECDD7F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FA1C1EB-7034-42B4-940C-3B7F83451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4B15D-543C-45B8-9B6E-1A8EB1F0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7C7D8FA-276F-425B-9FF0-3B67DFF8D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D874ACE-D9AB-4701-8B18-EC98B4B86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0B185CC-FF1B-440E-A92A-515AEF9C1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2E628CB-44A6-4502-98F6-8F7BB4B7C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4840196-3539-4978-AFA4-553B80BE2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812F688-33C4-4E14-832C-29073B06A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B92DE78-EACF-4E6A-B24F-311611274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125E9755-2E02-4965-B1F7-3681EA848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3319EE47-DA4B-476C-842F-ACD66DCBD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2E784D4E-7297-419B-BC09-89D48819E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087FC-0EAA-499F-BD73-0E7859740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4F0DA990-DA20-41BA-85CB-059121CDA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1541598A-DEDE-46F1-866E-E4DC3F55A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33EB5293-03D4-4D69-BEF0-9F0261DB6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A63AE71F-9C7C-4C67-90DA-8151DDD5C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E992EA2E-B1C9-4C59-8A91-D837F51EE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4BF9FF6A-5B91-48D1-AB46-BCC5C6351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E0DA2091-83BD-4E85-BAE5-B5C91C017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460A0D03-8903-4FF2-8DAF-384F45AD2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F8CDF827-8EBC-4FDF-BADA-CFEE0F2D7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470613D-4D7F-4548-8C27-A6DFE91B9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91E76-1991-4C13-BC26-8A8DBF924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F3AA0F7-13F9-4CDB-96B1-9E281EAD0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1D24EEA-CB12-4443-A23B-BD371D3BE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3CEB2F3-8366-45AF-AA62-4ACA7EE18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81DEE21-694D-4CCD-94BB-96CA810B6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310E4D5-4E30-4427-B289-BD717E88E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CA8FED6-7FB5-44BE-9407-5ED79085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5407FD5-EDF2-4ED5-B3BC-EA5804128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796F3B6-4EA6-48B0-B3BB-198D5C43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D8F9EAB-D51E-4775-89E7-AD32C7BB4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2097A1D-E14F-4318-99BB-8004FBE6F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A6A3A-4C79-4DF6-8E17-762F197A8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DBEEAF6-0FBF-495B-A1C0-B9EDB26A0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1725556-938D-4B2D-98E6-49FAAA396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064B45D-87B1-408F-A9C3-F18FE5686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7C26EEC-13C6-484C-A2A7-C07534120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0DCAD80-83CB-4DCD-82B4-7760752CE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07C62B7-1FF0-4EB1-8418-8508CE33F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F43FFE4-B127-45E0-9E7A-76EE0C7A6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BD3D5C0-9765-407F-8A5B-2859781F0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5C5B6F6-2931-4798-90A1-D9791088F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3303088-D6E9-49A3-8A77-29AED83CE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C9FA0-3F97-42DD-8372-97555111E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7CAAF04-DDA7-4DD8-B30D-C76A90FA0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97B5D36-5F01-4856-8E2A-4B2F166B1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836D912-5E90-49AA-8C37-ABF34A310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25F72BF-6C71-476C-934B-0173E846D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946434D-1DAA-42D2-94CB-949DC5F5F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354381B-DD80-4F64-A4FC-FD45FF1AD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B2B328B-F6FF-4351-9B29-037FA8259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9210C73-5C8E-4358-994B-BD58C5DB2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E417C3B-0658-4CAA-B985-9E2A220AA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F2CA113-1762-408F-804F-B02BFD09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AFDF6-F846-49AC-A97A-D2F588E56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822DE3D-D27F-48B1-A7D4-1DC73F834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856AC99-2C35-43F7-B31A-6BE94769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8847EA6-9486-41F0-BE98-99E63C588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42BB86D-4251-450C-A098-7B7738783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D68D2AB-4EFC-43B3-94B8-5296E4005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B1C0264-E38B-48A5-97EA-763C84C96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1838D4E-9B4E-4198-82B6-C8A062A96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5B84D41-3E82-421A-B881-90FB97257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61E96F7-1DB8-4E1A-946A-0C830DDC4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0354631-FC9F-47D0-BB8A-CEA29C693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D9FFD-2E64-4172-81A3-317A77E3B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36B0243-6284-415D-A51F-582D03164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0E5EB13-54DD-47CF-84EA-70FA2F24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E8631D3-F0E6-4337-A0F2-B408D3C8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A3CA4A0-073E-43F4-8100-2AFD4B36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2A963AE-BF10-447F-914A-26DF5297F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D855388-6C15-455C-BD5D-862078113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70E3F7B-B9D7-46F1-BCA9-7322A3AAE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FB3E197-0B19-47D5-8F31-FED961E95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097499A-4217-4A4A-B6AF-B7ACD69F6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D41F59F-0F63-432D-8679-CCB5FC835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1BC8-A09A-4A95-AB52-325C30A78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F1FF7-954F-4B5F-842B-A85DB1DFD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A522EA2-C38C-4972-B29D-FC7307975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5EC210F-4BCD-4E1B-A39E-4B41CE68C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7975ACD-D85A-418D-995F-CCE762DCF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9522390-1445-4EFE-83E2-EE0AF8351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E9C0EDB-5DCD-4EF1-A624-815B2966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4F88F63-7D9D-43C6-99AF-3C284A84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1582D9E-FADD-4D95-AEDB-2F48B5435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55B79CD-EA35-405A-A180-A91853BA8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05D3DB5-72B7-42DF-92F0-3215D61A7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227F513-185D-443C-A60C-036774FCD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5A29A-BE28-46C4-9F41-0BD7E3C7D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335BDCB-D021-4B65-B9C7-05276C3B1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10F318E-5107-4585-B098-10F9E4007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B95728D-DCF2-4E0D-89B3-48C854971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06EE7ED-CE35-495E-9EB7-41BE9495A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A91E9AD-0F48-4347-85C1-D28956253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FC9A064-7670-42B9-AE22-03745855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51897F2-4938-447A-8711-8D3155701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783C3C0-08FB-4A4F-B0B7-DC58A1347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A7F5C23-6B68-495D-B443-E5BE597DB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EC53550-4883-4870-9414-ACD691CC8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93AB7-7674-4F05-A8E7-62006D4EE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5F963FE-C63A-4F9F-A037-A2949DBE0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7BB54ABF-C282-445E-9C8B-8D95BBABF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53C96911-8682-42F2-9A10-A507CEE22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C472513D-BF5C-43F7-871F-C1998C9D6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B33AD133-9D87-4698-8F3E-C244A9735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CDBE43AA-D1F0-4E86-A8CF-880CE9C5F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D269F1C2-4A77-4C89-917D-5C028309F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DDCB2123-F3C5-4C42-9076-F0907ED2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214E9682-EBEE-4B28-AA52-5236C1A4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70F61F48-272C-456B-954E-9A8929A5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EC7B6-9C7F-4829-8E5D-82D9A8D37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8CA1F3EF-5F9E-4DF3-87B9-6C9272141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D97762FC-E3E9-4149-947A-92D5EA863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CD14C48A-3FDB-4CE0-9C39-2DD26B91B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EDDAC-B843-47E2-AC29-CA61BEC1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61E2E-FC05-4E4D-A784-FF1F9D45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05F76-7AA2-4701-AD55-ACD087E3C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E183E-3E71-48EE-86C8-1820E9E88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70EB4-32E5-4349-9E56-DDD8CEA28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6868C7-2A95-4CA3-9B32-F47F9B907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BD77-94C9-47EE-AC24-2972A1203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139065-7B75-4667-931F-F7BA4B883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AAD26B-257B-44B1-BEEF-17C6D7FEC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DF5BD-0842-437F-AEB4-AD3397612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E3996-89ED-4692-BA2B-BCE4C3ED4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EB284C-A860-4BC3-85D8-5BCBCA501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678F6-4AA0-4D6E-945A-CB69BEE7E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3109AE-F28C-4993-82DE-1514034E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53585B-8AFD-4913-9205-83D368C6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A09A18-66B2-40DB-B515-B7EA02540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C739A6-56CE-4B76-BD26-5F6CAC470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9B7B-B871-4F6D-AE7B-2E4328C41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0E59B-38DB-4CF1-87BA-D0A91D6A9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DC11C3-4BBF-4702-9691-C5FE3EE41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AED12E-A6E2-4FDD-A0F7-9ABE2CDE9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A54EF9-1983-4948-8FA4-F751DFFF0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9F7495-D98B-4666-98F6-76D23BC29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E841B5-50AF-4957-ACA3-49B52AD19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C538B-37FF-42BA-A1CF-57A18EAE4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9BE40F-5C32-4FFF-BD78-2CEB9E03B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D505C3-1556-4E31-88C1-47F9B947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1CA2F1-20D9-4625-90ED-0BF0196F7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B356-602C-49EA-ABD2-9044D666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44B069-692E-4748-8F26-6368D29A3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1013ED-C36D-4CBA-8CE0-4E4F38F75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3CD4BE-804E-475D-A3E8-30543477F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3EA1BB-51D1-448D-9066-3B42220B0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76EC16-58D8-4005-8413-A15D41B59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C4E56A-FBAA-4DFF-985E-A25C5BB89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1F3B21-D7F6-432B-A2D5-176F25E4D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E63133-BAAF-4785-A240-14A9BF42E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83D7BF-078B-41F6-96C3-586E7EEB0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12481D-CCF6-4516-8C00-645BB9F0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07B9-2262-46CC-9E65-77932F23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EB86A6-9090-4453-8399-2FD2E98F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73CD45-A4E2-41FF-B350-5A9889C6F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FFD9A3-3328-4440-8D60-CF46D7B0C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6BE83F-CB08-4916-9D61-0CC6E5C87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BDA61D-E07C-41F5-A598-7BF094246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7D258B-D2DC-4028-9F8E-05E809FA0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6A8463-86D9-407B-8A6A-B9DA74809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E9DB9F-24B0-4A9C-BB6A-57B7DDB74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6587AD-4F18-41A9-98C2-04575DF98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A551DC-43E8-4310-A08F-4092C54CD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4858-1218-4F7F-A86A-23AC323D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94878B-CB5F-461C-B95F-4E35EDA2C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E6E1A7-FB2D-495C-9E07-1DE59766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4E9E9A-BCA2-49AB-8942-FAA5F82E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107033-FD20-4972-9BBC-908C83D5A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3A2534-6156-4098-A74E-B6245FB93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7250C3-DBC5-498E-8DCA-D7465DF91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D62E27-B6E0-4757-86F8-3E63FDE07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7C894F-3146-437A-A23E-353289CCD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4EAD24-8DF0-4843-9643-55AE252AE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710433-1F5C-495E-A532-72DB7D2E8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4.wmf"/><Relationship Id="rId17" Type="http://schemas.openxmlformats.org/officeDocument/2006/relationships/image" Target="../media/image4.wmf"/><Relationship Id="rId18" Type="http://schemas.openxmlformats.org/officeDocument/2006/relationships/image" Target="../media/image4.wmf"/><Relationship Id="rId19" Type="http://schemas.openxmlformats.org/officeDocument/2006/relationships/image" Target="../media/image4.wmf"/><Relationship Id="rId20" Type="http://schemas.openxmlformats.org/officeDocument/2006/relationships/image" Target="../media/image4.wmf"/><Relationship Id="rId21" Type="http://schemas.openxmlformats.org/officeDocument/2006/relationships/image" Target="../media/image4.wmf"/><Relationship Id="rId22" Type="http://schemas.openxmlformats.org/officeDocument/2006/relationships/image" Target="../media/image4.wmf"/><Relationship Id="rId23" Type="http://schemas.openxmlformats.org/officeDocument/2006/relationships/image" Target="../media/image4.wmf"/><Relationship Id="rId24" Type="http://schemas.openxmlformats.org/officeDocument/2006/relationships/image" Target="../media/image4.wmf"/><Relationship Id="rId25" Type="http://schemas.openxmlformats.org/officeDocument/2006/relationships/image" Target="../media/image4.wmf"/><Relationship Id="rId26" Type="http://schemas.openxmlformats.org/officeDocument/2006/relationships/image" Target="../media/image4.wmf"/><Relationship Id="rId27" Type="http://schemas.openxmlformats.org/officeDocument/2006/relationships/image" Target="../media/image4.wmf"/><Relationship Id="rId28" Type="http://schemas.openxmlformats.org/officeDocument/2006/relationships/image" Target="../media/image4.wmf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image" Target="../media/image6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slideLayout" Target="../slideLayouts/slideLayout121.xml"/><Relationship Id="rId35" Type="http://schemas.openxmlformats.org/officeDocument/2006/relationships/slideLayout" Target="../slideLayouts/slideLayout122.xml"/><Relationship Id="rId36" Type="http://schemas.openxmlformats.org/officeDocument/2006/relationships/slideLayout" Target="../slideLayouts/slideLayout123.xml"/><Relationship Id="rId37" Type="http://schemas.openxmlformats.org/officeDocument/2006/relationships/slideLayout" Target="../slideLayouts/slideLayout124.xml"/><Relationship Id="rId38" Type="http://schemas.openxmlformats.org/officeDocument/2006/relationships/slideLayout" Target="../slideLayouts/slideLayout125.xml"/><Relationship Id="rId39" Type="http://schemas.openxmlformats.org/officeDocument/2006/relationships/slideLayout" Target="../slideLayouts/slideLayout126.xml"/><Relationship Id="rId40" Type="http://schemas.openxmlformats.org/officeDocument/2006/relationships/slideLayout" Target="../slideLayouts/slideLayout127.xml"/><Relationship Id="rId41" Type="http://schemas.openxmlformats.org/officeDocument/2006/relationships/slideLayout" Target="../slideLayouts/slideLayout128.xml"/><Relationship Id="rId42" Type="http://schemas.openxmlformats.org/officeDocument/2006/relationships/slideLayout" Target="../slideLayouts/slideLayout129.xml"/><Relationship Id="rId43" Type="http://schemas.openxmlformats.org/officeDocument/2006/relationships/slideLayout" Target="../slideLayouts/slideLayout130.xml"/><Relationship Id="rId44" Type="http://schemas.openxmlformats.org/officeDocument/2006/relationships/slideLayout" Target="../slideLayouts/slideLayout131.xml"/><Relationship Id="rId4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4.wmf"/><Relationship Id="rId17" Type="http://schemas.openxmlformats.org/officeDocument/2006/relationships/image" Target="../media/image4.wmf"/><Relationship Id="rId18" Type="http://schemas.openxmlformats.org/officeDocument/2006/relationships/image" Target="../media/image4.wmf"/><Relationship Id="rId19" Type="http://schemas.openxmlformats.org/officeDocument/2006/relationships/image" Target="../media/image4.wmf"/><Relationship Id="rId20" Type="http://schemas.openxmlformats.org/officeDocument/2006/relationships/image" Target="../media/image4.wmf"/><Relationship Id="rId21" Type="http://schemas.openxmlformats.org/officeDocument/2006/relationships/image" Target="../media/image4.wmf"/><Relationship Id="rId22" Type="http://schemas.openxmlformats.org/officeDocument/2006/relationships/image" Target="../media/image4.wmf"/><Relationship Id="rId23" Type="http://schemas.openxmlformats.org/officeDocument/2006/relationships/image" Target="../media/image4.wmf"/><Relationship Id="rId24" Type="http://schemas.openxmlformats.org/officeDocument/2006/relationships/image" Target="../media/image4.wmf"/><Relationship Id="rId25" Type="http://schemas.openxmlformats.org/officeDocument/2006/relationships/image" Target="../media/image4.wmf"/><Relationship Id="rId26" Type="http://schemas.openxmlformats.org/officeDocument/2006/relationships/image" Target="../media/image4.wmf"/><Relationship Id="rId27" Type="http://schemas.openxmlformats.org/officeDocument/2006/relationships/image" Target="../media/image4.wmf"/><Relationship Id="rId28" Type="http://schemas.openxmlformats.org/officeDocument/2006/relationships/image" Target="../media/image4.wmf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slideLayout" Target="../slideLayouts/slideLayout133.xml"/><Relationship Id="rId32" Type="http://schemas.openxmlformats.org/officeDocument/2006/relationships/slideLayout" Target="../slideLayouts/slideLayout134.xml"/><Relationship Id="rId33" Type="http://schemas.openxmlformats.org/officeDocument/2006/relationships/slideLayout" Target="../slideLayouts/slideLayout135.xml"/><Relationship Id="rId34" Type="http://schemas.openxmlformats.org/officeDocument/2006/relationships/slideLayout" Target="../slideLayouts/slideLayout136.xml"/><Relationship Id="rId35" Type="http://schemas.openxmlformats.org/officeDocument/2006/relationships/slideLayout" Target="../slideLayouts/slideLayout137.xml"/><Relationship Id="rId36" Type="http://schemas.openxmlformats.org/officeDocument/2006/relationships/slideLayout" Target="../slideLayouts/slideLayout138.xml"/><Relationship Id="rId37" Type="http://schemas.openxmlformats.org/officeDocument/2006/relationships/slideLayout" Target="../slideLayouts/slideLayout139.xml"/><Relationship Id="rId38" Type="http://schemas.openxmlformats.org/officeDocument/2006/relationships/slideLayout" Target="../slideLayouts/slideLayout140.xml"/><Relationship Id="rId39" Type="http://schemas.openxmlformats.org/officeDocument/2006/relationships/slideLayout" Target="../slideLayouts/slideLayout141.xml"/><Relationship Id="rId40" Type="http://schemas.openxmlformats.org/officeDocument/2006/relationships/slideLayout" Target="../slideLayouts/slideLayout142.xml"/><Relationship Id="rId41" Type="http://schemas.openxmlformats.org/officeDocument/2006/relationships/slideLayout" Target="../slideLayouts/slideLayout143.xml"/><Relationship Id="rId42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66DE8-7B49-45DD-9E63-60612D6F394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3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74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B7BD0-800F-457F-8D4E-B8674CB77F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733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6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737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738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39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740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1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42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3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4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5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7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748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9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0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1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2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3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4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5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756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757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8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9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0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1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2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3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4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5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6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7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8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9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0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1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2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3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4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5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776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 type="dt" idx="3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 type="ftr" idx="3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 type="sldNum" idx="3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E775A-E0E5-467F-8323-4712F4B8BC8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4"/>
    <p:sldLayoutId id="2147483780" r:id="rId35"/>
    <p:sldLayoutId id="2147483781" r:id="rId36"/>
    <p:sldLayoutId id="2147483782" r:id="rId37"/>
    <p:sldLayoutId id="2147483783" r:id="rId38"/>
    <p:sldLayoutId id="2147483784" r:id="rId39"/>
    <p:sldLayoutId id="2147483785" r:id="rId40"/>
    <p:sldLayoutId id="2147483786" r:id="rId41"/>
    <p:sldLayoutId id="2147483787" r:id="rId42"/>
    <p:sldLayoutId id="2147483788" r:id="rId43"/>
    <p:sldLayoutId id="2147483789" r:id="rId44"/>
    <p:sldLayoutId id="2147483790" r:id="rId4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829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2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833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834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835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36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7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38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9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0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1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2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3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844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5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6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7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8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9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0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1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852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853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4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5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6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7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8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9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60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61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62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63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64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65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66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67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68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69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0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1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872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 type="dt" idx="3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 type="ftr" idx="3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 type="sldNum" idx="3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F538A-A33C-40ED-87C6-EE1D0ECED66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1"/>
    <p:sldLayoutId id="2147483793" r:id="rId32"/>
    <p:sldLayoutId id="2147483794" r:id="rId33"/>
    <p:sldLayoutId id="2147483795" r:id="rId34"/>
    <p:sldLayoutId id="2147483796" r:id="rId35"/>
    <p:sldLayoutId id="2147483797" r:id="rId36"/>
    <p:sldLayoutId id="2147483798" r:id="rId37"/>
    <p:sldLayoutId id="2147483799" r:id="rId38"/>
    <p:sldLayoutId id="2147483800" r:id="rId39"/>
    <p:sldLayoutId id="2147483801" r:id="rId40"/>
    <p:sldLayoutId id="2147483802" r:id="rId41"/>
    <p:sldLayoutId id="2147483803" r:id="rId42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7D2C0-B1B0-4BF2-9A78-EBF14F3DE7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5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 type="ftr" idx="4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 type="sldNum" idx="4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B1C74-94BF-46A0-A128-7CF5BBB91A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 type="dt" idx="4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 type="dt" idx="43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 type="ftr" idx="44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 type="sldNum" idx="4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81680-B9F8-45EA-AB5B-5854772167A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3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054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055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7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058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0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 type="dt" idx="46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 type="ftr" idx="47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 type="sldNum" idx="48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8C225-C9B9-41EC-BF6B-372998BAC9A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 type="dt" idx="4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 type="ftr" idx="5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 type="sldNum" idx="5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71152-6138-4B68-8F47-CE80AC584F4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1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112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1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122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123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5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26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9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30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38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139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1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142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143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44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145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53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 type="dt" idx="5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 type="sldNum" idx="5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AEBE8-D904-4C9E-82BA-CBEB10D95EF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5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196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9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200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5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206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9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210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15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25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25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26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 type="dt" idx="5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PlaceHolder 4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B4875-2CEC-45DD-971D-25DE6E002A7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110C5-BA7C-4789-9CEE-160061B3EDB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44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44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46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 type="dt" idx="58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PlaceHolder 4"/>
          <p:cNvSpPr>
            <a:spLocks noGrp="1"/>
          </p:cNvSpPr>
          <p:nvPr>
            <p:ph type="sldNum" idx="60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02B9B-39BF-4F97-9439-4A28FFF80BA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6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637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1" name="PlaceHolder 3"/>
          <p:cNvSpPr>
            <a:spLocks noGrp="1"/>
          </p:cNvSpPr>
          <p:nvPr>
            <p:ph type="dt" idx="6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CF647-C2AC-47B1-8503-6B5762AE57A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0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1681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3" name="PlaceHolder 1"/>
          <p:cNvSpPr>
            <a:spLocks noGrp="1"/>
          </p:cNvSpPr>
          <p:nvPr>
            <p:ph type="dt" idx="6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PlaceHolder 3"/>
          <p:cNvSpPr>
            <a:spLocks noGrp="1"/>
          </p:cNvSpPr>
          <p:nvPr>
            <p:ph type="sldNum" idx="6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B0E86-FA2E-465C-AA9B-7D1BB7A5AEB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3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724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725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7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728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2" name="PlaceHolder 3"/>
          <p:cNvSpPr>
            <a:spLocks noGrp="1"/>
          </p:cNvSpPr>
          <p:nvPr>
            <p:ph type="dt" idx="6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PlaceHolder 4"/>
          <p:cNvSpPr>
            <a:spLocks noGrp="1"/>
          </p:cNvSpPr>
          <p:nvPr>
            <p:ph type="ftr" idx="6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laceHolder 5"/>
          <p:cNvSpPr>
            <a:spLocks noGrp="1"/>
          </p:cNvSpPr>
          <p:nvPr>
            <p:ph type="sldNum" idx="69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4DB4D-706F-4787-9964-74D1657F56E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1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772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4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775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7" name="PlaceHolder 1"/>
          <p:cNvSpPr>
            <a:spLocks noGrp="1"/>
          </p:cNvSpPr>
          <p:nvPr>
            <p:ph type="dt" idx="7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 type="ftr" idx="7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PlaceHolder 3"/>
          <p:cNvSpPr>
            <a:spLocks noGrp="1"/>
          </p:cNvSpPr>
          <p:nvPr>
            <p:ph type="sldNum" idx="7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DD5B3-319E-4276-B35D-FF481EA8509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0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PlaceHolder 3"/>
          <p:cNvSpPr>
            <a:spLocks noGrp="1"/>
          </p:cNvSpPr>
          <p:nvPr>
            <p:ph type="dt" idx="73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PlaceHolder 5"/>
          <p:cNvSpPr>
            <a:spLocks noGrp="1"/>
          </p:cNvSpPr>
          <p:nvPr>
            <p:ph type="sldNum" idx="75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127B3-6156-4F7E-B5C1-0F43BD7B512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2" name="PlaceHolder 2"/>
          <p:cNvSpPr>
            <a:spLocks noGrp="1"/>
          </p:cNvSpPr>
          <p:nvPr>
            <p:ph type="dt" idx="7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PlaceHolder 3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PlaceHolder 4"/>
          <p:cNvSpPr>
            <a:spLocks noGrp="1"/>
          </p:cNvSpPr>
          <p:nvPr>
            <p:ph type="sldNum" idx="7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90FD3-334A-43A5-98D2-366C7A06299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2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903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 type="dt" idx="7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PlaceHolder 3"/>
          <p:cNvSpPr>
            <a:spLocks noGrp="1"/>
          </p:cNvSpPr>
          <p:nvPr>
            <p:ph type="ftr" idx="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PlaceHolder 4"/>
          <p:cNvSpPr>
            <a:spLocks noGrp="1"/>
          </p:cNvSpPr>
          <p:nvPr>
            <p:ph type="sldNum" idx="8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A9729-A30D-4ACC-BBA1-F5B4E1D988A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9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1950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6" name="PlaceHolder 1"/>
          <p:cNvSpPr>
            <a:spLocks noGrp="1"/>
          </p:cNvSpPr>
          <p:nvPr>
            <p:ph type="dt" idx="8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 type="ftr" idx="8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PlaceHolder 3"/>
          <p:cNvSpPr>
            <a:spLocks noGrp="1"/>
          </p:cNvSpPr>
          <p:nvPr>
            <p:ph type="sldNum" idx="8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77CBE-3466-4704-B884-DAD2A344971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ftr" idx="8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 type="sldNum" idx="8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DCB4F-611C-4384-8510-CE161FA89D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8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999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8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PlaceHolder 5"/>
          <p:cNvSpPr>
            <a:spLocks noGrp="1"/>
          </p:cNvSpPr>
          <p:nvPr>
            <p:ph type="dt" idx="8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87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3D287-2491-4088-83C1-9FBD0E7BE3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048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50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051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61" name="PlaceHolder 1"/>
          <p:cNvSpPr>
            <a:spLocks noGrp="1"/>
          </p:cNvSpPr>
          <p:nvPr>
            <p:ph type="dt" idx="8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PlaceHolder 2"/>
          <p:cNvSpPr>
            <a:spLocks noGrp="1"/>
          </p:cNvSpPr>
          <p:nvPr>
            <p:ph type="ftr" idx="8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PlaceHolder 3"/>
          <p:cNvSpPr>
            <a:spLocks noGrp="1"/>
          </p:cNvSpPr>
          <p:nvPr>
            <p:ph type="sldNum" idx="9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D1990-D9C8-4E56-A2F3-1CFBF98854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PlaceHolder 3"/>
          <p:cNvSpPr>
            <a:spLocks noGrp="1"/>
          </p:cNvSpPr>
          <p:nvPr>
            <p:ph type="dt" idx="9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PlaceHolder 4"/>
          <p:cNvSpPr>
            <a:spLocks noGrp="1"/>
          </p:cNvSpPr>
          <p:nvPr>
            <p:ph type="ftr" idx="9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5CF40-5454-4E45-AD14-48984629016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45" name="PlaceHolder 2"/>
          <p:cNvSpPr>
            <a:spLocks noGrp="1"/>
          </p:cNvSpPr>
          <p:nvPr>
            <p:ph type="dt" idx="9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PlaceHolder 3"/>
          <p:cNvSpPr>
            <a:spLocks noGrp="1"/>
          </p:cNvSpPr>
          <p:nvPr>
            <p:ph type="ftr" idx="9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PlaceHolder 4"/>
          <p:cNvSpPr>
            <a:spLocks noGrp="1"/>
          </p:cNvSpPr>
          <p:nvPr>
            <p:ph type="sldNum" idx="9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1A248-F0DF-4D8E-97CA-DBF6BE5A3EA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6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2187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90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2191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04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15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2216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21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4" name="PlaceHolder 2"/>
          <p:cNvSpPr>
            <a:spLocks noGrp="1"/>
          </p:cNvSpPr>
          <p:nvPr>
            <p:ph type="dt" idx="9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PlaceHolder 3"/>
          <p:cNvSpPr>
            <a:spLocks noGrp="1"/>
          </p:cNvSpPr>
          <p:nvPr>
            <p:ph type="ftr" idx="9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PlaceHolder 4"/>
          <p:cNvSpPr>
            <a:spLocks noGrp="1"/>
          </p:cNvSpPr>
          <p:nvPr>
            <p:ph type="sldNum" idx="9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F806E-AE70-46C9-B67E-49A4BD0ECC8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4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2265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68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2269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2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3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2294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99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2" name="PlaceHolder 2"/>
          <p:cNvSpPr>
            <a:spLocks noGrp="1"/>
          </p:cNvSpPr>
          <p:nvPr>
            <p:ph type="dt" idx="10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PlaceHolder 3"/>
          <p:cNvSpPr>
            <a:spLocks noGrp="1"/>
          </p:cNvSpPr>
          <p:nvPr>
            <p:ph type="ftr" idx="10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PlaceHolder 4"/>
          <p:cNvSpPr>
            <a:spLocks noGrp="1"/>
          </p:cNvSpPr>
          <p:nvPr>
            <p:ph type="sldNum" idx="10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F6337-051F-4E70-A3D3-B177E5AC643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342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4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5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346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47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348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53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35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3" name="PlaceHolder 3"/>
          <p:cNvSpPr>
            <a:spLocks noGrp="1"/>
          </p:cNvSpPr>
          <p:nvPr>
            <p:ph type="dt" idx="10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PlaceHolder 4"/>
          <p:cNvSpPr>
            <a:spLocks noGrp="1"/>
          </p:cNvSpPr>
          <p:nvPr>
            <p:ph type="ftr" idx="10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PlaceHolder 5"/>
          <p:cNvSpPr>
            <a:spLocks noGrp="1"/>
          </p:cNvSpPr>
          <p:nvPr>
            <p:ph type="sldNum" idx="10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22620-BDAB-4883-8F0D-08DA34D934A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40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40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40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1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41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23" name="PlaceHolder 2"/>
          <p:cNvSpPr>
            <a:spLocks noGrp="1"/>
          </p:cNvSpPr>
          <p:nvPr>
            <p:ph type="dt" idx="10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4" name="PlaceHolder 3"/>
          <p:cNvSpPr>
            <a:spLocks noGrp="1"/>
          </p:cNvSpPr>
          <p:nvPr>
            <p:ph type="sldNum" idx="10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17253-24A3-4458-9822-30B5B457782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PlaceHolder 4"/>
          <p:cNvSpPr>
            <a:spLocks noGrp="1"/>
          </p:cNvSpPr>
          <p:nvPr>
            <p:ph type="ftr" idx="10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37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1D6A6-D07D-4800-BF22-79A6603825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84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85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88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91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98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99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1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202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05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7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08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0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3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6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217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9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220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2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223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5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226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8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229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1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232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4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235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7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238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241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3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6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247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9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250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2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253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5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256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8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259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63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264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6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9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270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2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273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5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276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8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79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1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282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4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285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7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0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3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94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96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37235-F9F1-4C84-9C0E-9149E4C077CF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360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361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364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365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369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370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1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2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373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4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5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376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7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8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379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0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1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382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3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4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385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6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7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388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9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0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391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2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3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394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5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6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97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8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9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400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1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2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403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4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5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406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7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8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409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0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1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412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3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4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415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6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7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418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9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0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421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2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3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424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5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6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427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8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9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430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1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32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34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435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6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7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438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9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0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441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2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3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444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5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6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447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8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9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450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1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2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453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4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5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456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7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8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459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0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1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462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3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4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465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6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67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468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469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76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77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478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7B88B-2F8E-4545-AC67-54DB128832E1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3002C-F1AC-45CF-B457-BEB6836FC4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6747C-F507-4612-A651-B01B5D763D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3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4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4787F-3CEF-4432-A597-63B878ED3C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0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9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9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8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2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4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2" name="PlaceHolder 1"/>
          <p:cNvSpPr>
            <a:spLocks noGrp="1"/>
          </p:cNvSpPr>
          <p:nvPr>
            <p:ph/>
          </p:nvPr>
        </p:nvSpPr>
        <p:spPr>
          <a:xfrm>
            <a:off x="2410920" y="692280"/>
            <a:ext cx="642780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Monotype Corsiva"/>
              </a:rPr>
              <a:t>Каждый предприниматель, начиная свою деятельность, должен ясно представлять потребность на перспективу в финансовых, материальных, трудовых и интеллектуальных ресурсах, источники их получения, а также уметь четко рассчитать эффективность использования ресурсов в процессе работы фир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PlaceHolder 1"/>
          <p:cNvSpPr>
            <a:spLocks noGrp="1"/>
          </p:cNvSpPr>
          <p:nvPr>
            <p:ph/>
          </p:nvPr>
        </p:nvSpPr>
        <p:spPr>
          <a:xfrm>
            <a:off x="685800" y="3726000"/>
            <a:ext cx="769608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Monotype Corsiva"/>
              </a:rPr>
              <a:t>дает возможность определить жизнеспособность фирмы в условиях конкуренции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Monotype Corsiva"/>
              </a:rPr>
              <a:t>содержит ориентир, как должна развиваться фирма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Monotype Corsiva"/>
              </a:rPr>
              <a:t>служит важным инструментом обоснования для получения финансовой поддержки от внешних инвесторов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88" name="" descr=""/>
          <p:cNvPicPr/>
          <p:nvPr/>
        </p:nvPicPr>
        <p:blipFill>
          <a:blip r:embed="rId1"/>
          <a:stretch/>
        </p:blipFill>
        <p:spPr>
          <a:xfrm>
            <a:off x="4859280" y="1916280"/>
            <a:ext cx="2114640" cy="1761840"/>
          </a:xfrm>
          <a:prstGeom prst="rect">
            <a:avLst/>
          </a:prstGeom>
          <a:ln w="0">
            <a:noFill/>
          </a:ln>
        </p:spPr>
      </p:pic>
      <p:sp>
        <p:nvSpPr>
          <p:cNvPr id="2489" name=""/>
          <p:cNvSpPr txBox="1"/>
          <p:nvPr/>
        </p:nvSpPr>
        <p:spPr>
          <a:xfrm>
            <a:off x="1547640" y="620640"/>
            <a:ext cx="55454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Ценность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41860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экспресс-бизнес-пла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технико-экономическое обоснование проект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1" name="PlaceHolder 2"/>
          <p:cNvSpPr>
            <a:spLocks noGrp="1"/>
          </p:cNvSpPr>
          <p:nvPr>
            <p:ph/>
          </p:nvPr>
        </p:nvSpPr>
        <p:spPr>
          <a:xfrm>
            <a:off x="4656240" y="1599840"/>
            <a:ext cx="41860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рабочий бизнес-пла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бизнес-план как инвестиционная заяв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2" name=""/>
          <p:cNvSpPr txBox="1"/>
          <p:nvPr/>
        </p:nvSpPr>
        <p:spPr>
          <a:xfrm>
            <a:off x="1547640" y="549360"/>
            <a:ext cx="5616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ипы бизнес-плано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Резюме (концепция бизнес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Описание предприятия и отрасл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Описание продуктов и услу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План маркетинга. Исследование и анализ рынка сбыт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Конкуренция и конкурентное преимущест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Производственный пла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Организационный пла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Финансовый пла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4" name=""/>
          <p:cNvSpPr txBox="1"/>
          <p:nvPr/>
        </p:nvSpPr>
        <p:spPr>
          <a:xfrm>
            <a:off x="1979640" y="549360"/>
            <a:ext cx="4608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труктур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cc"/>
                </a:solidFill>
                <a:latin typeface="Impact"/>
              </a:rPr>
              <a:t>- введение: включает цели плана, коротко выраженную суть проекта; </a:t>
            </a:r>
            <a:endParaRPr b="0" lang="en-US" sz="1400" spc="-1" strike="noStrike">
              <a:solidFill>
                <a:srgbClr val="0066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cc"/>
                </a:solidFill>
                <a:latin typeface="Impact"/>
              </a:rPr>
              <a:t>- основное содержание: сжатое всех ключевых элементов бизнес-плана и её основных частей: род деятельности, прогноз спроса, источники финансирования и т. д.; </a:t>
            </a:r>
            <a:endParaRPr b="0" lang="en-US" sz="1400" spc="-1" strike="noStrike">
              <a:solidFill>
                <a:srgbClr val="0066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cc"/>
                </a:solidFill>
                <a:latin typeface="Impact"/>
              </a:rPr>
              <a:t>- заключение: суммирует факторы будущего успеха предпринимателя, может включать описание основных способов действий предпринимателя.</a:t>
            </a:r>
            <a:endParaRPr b="0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96" name=""/>
          <p:cNvSpPr txBox="1"/>
          <p:nvPr/>
        </p:nvSpPr>
        <p:spPr>
          <a:xfrm>
            <a:off x="2411280" y="1052640"/>
            <a:ext cx="511344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езюме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497" name=""/>
          <p:cNvSpPr txBox="1"/>
          <p:nvPr/>
        </p:nvSpPr>
        <p:spPr>
          <a:xfrm>
            <a:off x="2771640" y="2133720"/>
            <a:ext cx="343872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(состоит из 3-х частей)</a:t>
            </a:r>
            <a:endParaRPr b="1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8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32000" indent="-4320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Monotype Corsiva"/>
              </a:rPr>
              <a:t>Предназначена для внешних читателей поэтому, обсуждая историю бизнеса, нужно назвать реальные успехи, которые фирма достигла в прошлом, достижения работников фирмы. Итоги деятельности и достигнутый успех необходимо связать с намеченными целями и ориентирами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9" name=""/>
          <p:cNvSpPr txBox="1"/>
          <p:nvPr/>
        </p:nvSpPr>
        <p:spPr>
          <a:xfrm>
            <a:off x="1187280" y="333360"/>
            <a:ext cx="69850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писание предприятия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 отрасл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cc"/>
                </a:solidFill>
                <a:latin typeface="Monotype Corsiva"/>
              </a:rPr>
              <a:t>бизнес-план должен включат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cc"/>
                </a:solidFill>
                <a:latin typeface="Monotype Corsiva"/>
              </a:rPr>
              <a:t>детальное описание будущего товара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1" name=""/>
          <p:cNvSpPr txBox="1"/>
          <p:nvPr/>
        </p:nvSpPr>
        <p:spPr>
          <a:xfrm>
            <a:off x="1403280" y="260280"/>
            <a:ext cx="6048360" cy="128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писание продуктов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 услуг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2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Monotype Corsiva"/>
              </a:rPr>
              <a:t>Стратегии для достижения конкурентного преимущества и их применение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3" name=""/>
          <p:cNvSpPr txBox="1"/>
          <p:nvPr/>
        </p:nvSpPr>
        <p:spPr>
          <a:xfrm>
            <a:off x="1403280" y="620640"/>
            <a:ext cx="5832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онкуренция и 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онкурентное преимущество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Monotype Corsiva"/>
              </a:rPr>
              <a:t>План маркетинга. 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Monotype Corsiva"/>
              </a:rPr>
              <a:t>Исследование и анализ рынка сбыт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фирма должна создать эффективный рынок для своего товара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определить, насколько чувствителен рынок к различным внутренним и внешним факторам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описать своих конкурентов, долю рынка, которую они захватили, сегменты, на которые ориентируются, учесть другие отраслевые факторы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сделать вывод об общей привлекательности рынка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cc"/>
                </a:solidFill>
                <a:latin typeface="Monotype Corsiva"/>
              </a:rPr>
              <a:t>основные методы производства и технологи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cc"/>
                </a:solidFill>
                <a:latin typeface="Monotype Corsiva"/>
              </a:rPr>
              <a:t>общую структуру производственного процесса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cc"/>
                </a:solidFill>
                <a:latin typeface="Monotype Corsiva"/>
              </a:rPr>
              <a:t>необходимое сырьё и материалы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cc"/>
                </a:solidFill>
                <a:latin typeface="Monotype Corsiva"/>
              </a:rPr>
              <a:t>основные поставщики фирмы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cc"/>
                </a:solidFill>
                <a:latin typeface="Monotype Corsiva"/>
              </a:rPr>
              <a:t>необходимые для организации производства мощности, оборудование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cc"/>
                </a:solidFill>
                <a:latin typeface="Monotype Corsiva"/>
              </a:rPr>
              <a:t> </a:t>
            </a:r>
            <a:r>
              <a:rPr b="1" lang="en-US" sz="2600" spc="-1" strike="noStrike">
                <a:solidFill>
                  <a:srgbClr val="ff33cc"/>
                </a:solidFill>
                <a:latin typeface="Monotype Corsiva"/>
              </a:rPr>
              <a:t>предполагаемая структура издержек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cc"/>
                </a:solidFill>
                <a:latin typeface="Monotype Corsiva"/>
              </a:rPr>
              <a:t>методы осуществления контроля качества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cc"/>
                </a:solidFill>
                <a:latin typeface="Monotype Corsiva"/>
              </a:rPr>
              <a:t>расположение производства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cc"/>
                </a:solidFill>
                <a:latin typeface="Monotype Corsiva"/>
              </a:rPr>
              <a:t>рабочая сила, необходимая для ведения производства сегодня и в будущем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"/>
          <p:cNvSpPr txBox="1"/>
          <p:nvPr/>
        </p:nvSpPr>
        <p:spPr>
          <a:xfrm>
            <a:off x="1042920" y="476280"/>
            <a:ext cx="6121440" cy="64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изводственный план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8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Monotype Corsiva"/>
              </a:rPr>
              <a:t>знакомит с формой собственности, выбранной фирмой, вопросами руководства, распределения полномочий и ответственности, типом организационной структуры фирмы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9" name=""/>
          <p:cNvSpPr txBox="1"/>
          <p:nvPr/>
        </p:nvSpPr>
        <p:spPr>
          <a:xfrm>
            <a:off x="900000" y="404640"/>
            <a:ext cx="6336000" cy="93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рганизационный план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3" name=""/>
          <p:cNvSpPr txBox="1"/>
          <p:nvPr/>
        </p:nvSpPr>
        <p:spPr>
          <a:xfrm rot="5400000">
            <a:off x="-2413080" y="2708280"/>
            <a:ext cx="6408720" cy="1224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Бизнес-план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464" name=""/>
          <p:cNvSpPr txBox="1"/>
          <p:nvPr/>
        </p:nvSpPr>
        <p:spPr>
          <a:xfrm>
            <a:off x="1476360" y="476280"/>
            <a:ext cx="7343640" cy="561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>
                    <a:alpha val="80000"/>
                  </a:srgbClr>
                </a:solidFill>
                <a:latin typeface="Times New Roman"/>
              </a:rPr>
              <a:t>подробный, 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>
                  <a:alpha val="80000"/>
                </a:srgbClr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>
                    <a:alpha val="80000"/>
                  </a:srgbClr>
                </a:solidFill>
                <a:latin typeface="Times New Roman"/>
              </a:rPr>
              <a:t>четко структурированный 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>
                  <a:alpha val="80000"/>
                </a:srgbClr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>
                    <a:alpha val="80000"/>
                  </a:srgbClr>
                </a:solidFill>
                <a:latin typeface="Times New Roman"/>
              </a:rPr>
              <a:t>и тщательно подготовленный документ, 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>
                  <a:alpha val="80000"/>
                </a:srgbClr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>
                    <a:alpha val="80000"/>
                  </a:srgbClr>
                </a:solidFill>
                <a:latin typeface="Times New Roman"/>
              </a:rPr>
              <a:t>описывающий цели предприятия, 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>
                  <a:alpha val="80000"/>
                </a:srgbClr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>
                    <a:alpha val="80000"/>
                  </a:srgbClr>
                </a:solidFill>
                <a:latin typeface="Times New Roman"/>
              </a:rPr>
              <a:t>пути достижения поставленных целей 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>
                  <a:alpha val="80000"/>
                </a:srgbClr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>
                    <a:alpha val="80000"/>
                  </a:srgbClr>
                </a:solidFill>
                <a:latin typeface="Times New Roman"/>
              </a:rPr>
              <a:t>и их последствия для предприятия.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>
                  <a:alpha val="80000"/>
                </a:srgbClr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5c"/>
                </a:solidFill>
                <a:latin typeface="Monotype Corsiva"/>
              </a:rPr>
              <a:t>баланс организаци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5c"/>
                </a:solidFill>
                <a:latin typeface="Monotype Corsiva"/>
              </a:rPr>
              <a:t>план прибылей и убытко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5c"/>
                </a:solidFill>
                <a:latin typeface="Monotype Corsiva"/>
              </a:rPr>
              <a:t>прогноз движения наличност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1" name=""/>
          <p:cNvSpPr txBox="1"/>
          <p:nvPr/>
        </p:nvSpPr>
        <p:spPr>
          <a:xfrm>
            <a:off x="2916360" y="620640"/>
            <a:ext cx="4824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Финансовый план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pull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onotype Corsiva"/>
              </a:rPr>
              <a:t>Простота;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onotype Corsiva"/>
              </a:rPr>
              <a:t>Функциональность;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onotype Corsiva"/>
              </a:rPr>
              <a:t>Доступность;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onotype Corsiva"/>
              </a:rPr>
              <a:t>Легкость в использовании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3" name=""/>
          <p:cNvSpPr txBox="1"/>
          <p:nvPr/>
        </p:nvSpPr>
        <p:spPr>
          <a:xfrm>
            <a:off x="826920" y="404640"/>
            <a:ext cx="7490160" cy="78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фессиональность базнес-план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onotype Corsiva"/>
              </a:rPr>
              <a:t>Таблицы;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onotype Corsiva"/>
              </a:rPr>
              <a:t>Диаграммы;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onotype Corsiva"/>
              </a:rPr>
              <a:t>Графики. 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15" name=""/>
          <p:cNvSpPr txBox="1"/>
          <p:nvPr/>
        </p:nvSpPr>
        <p:spPr>
          <a:xfrm>
            <a:off x="971640" y="476280"/>
            <a:ext cx="5688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ажно использоват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comb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6" name=""/>
          <p:cNvGrpSpPr/>
          <p:nvPr/>
        </p:nvGrpSpPr>
        <p:grpSpPr>
          <a:xfrm>
            <a:off x="250920" y="981000"/>
            <a:ext cx="8208000" cy="5038920"/>
            <a:chOff x="250920" y="981000"/>
            <a:chExt cx="8208000" cy="5038920"/>
          </a:xfrm>
        </p:grpSpPr>
        <p:cxnSp>
          <p:nvCxnSpPr>
            <p:cNvPr id="2517" name="_s104470"/>
            <p:cNvCxnSpPr>
              <a:stCxn id="2518" idx="0"/>
              <a:endCxn id="2519" idx="2"/>
            </p:cNvCxnSpPr>
            <p:nvPr/>
          </p:nvCxnSpPr>
          <p:spPr>
            <a:xfrm flipV="1" rot="16200000">
              <a:off x="5286960" y="2063160"/>
              <a:ext cx="1008360" cy="2873520"/>
            </a:xfrm>
            <a:prstGeom prst="bentConnector3">
              <a:avLst>
                <a:gd name="adj1" fmla="val 1278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520" name="_s104469"/>
            <p:cNvCxnSpPr>
              <a:stCxn id="2521" idx="0"/>
              <a:endCxn id="2519" idx="2"/>
            </p:cNvCxnSpPr>
            <p:nvPr/>
          </p:nvCxnSpPr>
          <p:spPr>
            <a:xfrm flipV="1">
              <a:off x="4354920" y="2995920"/>
              <a:ext cx="3600" cy="1008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522" name="_s104468"/>
            <p:cNvCxnSpPr>
              <a:stCxn id="2523" idx="0"/>
              <a:endCxn id="2519" idx="2"/>
            </p:cNvCxnSpPr>
            <p:nvPr/>
          </p:nvCxnSpPr>
          <p:spPr>
            <a:xfrm flipH="1" flipV="1" rot="5400000">
              <a:off x="2414520" y="2063520"/>
              <a:ext cx="1008360" cy="2873520"/>
            </a:xfrm>
            <a:prstGeom prst="bentConnector3">
              <a:avLst>
                <a:gd name="adj1" fmla="val 12785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519" name="_s104464"/>
            <p:cNvSpPr/>
            <p:nvPr/>
          </p:nvSpPr>
          <p:spPr>
            <a:xfrm>
              <a:off x="3123720" y="981000"/>
              <a:ext cx="2462400" cy="201564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Impact"/>
                </a:rPr>
                <a:t>Процветани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Impact"/>
                </a:rPr>
                <a:t>бизнес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3" name="_s104465"/>
            <p:cNvSpPr/>
            <p:nvPr/>
          </p:nvSpPr>
          <p:spPr>
            <a:xfrm>
              <a:off x="250920" y="4004280"/>
              <a:ext cx="2462400" cy="201564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c0099"/>
                  </a:solidFill>
                  <a:latin typeface="Monotype Corsiva"/>
                </a:rPr>
                <a:t>Желани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_s104466"/>
            <p:cNvSpPr/>
            <p:nvPr/>
          </p:nvSpPr>
          <p:spPr>
            <a:xfrm>
              <a:off x="3123720" y="4004280"/>
              <a:ext cx="2462400" cy="201564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c00cc"/>
                  </a:solidFill>
                  <a:latin typeface="Monotype Corsiva"/>
                </a:rPr>
                <a:t>Готовность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8" name="_s104467"/>
            <p:cNvSpPr/>
            <p:nvPr/>
          </p:nvSpPr>
          <p:spPr>
            <a:xfrm>
              <a:off x="5996520" y="4004280"/>
              <a:ext cx="2462400" cy="201564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993366"/>
                  </a:solidFill>
                  <a:latin typeface="Monotype Corsiva"/>
                </a:rPr>
                <a:t>Энерги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</a:t>
            </a:r>
            <a:r>
              <a:rPr b="1" lang="en-US" sz="4400" spc="-1" strike="noStrike">
                <a:solidFill>
                  <a:srgbClr val="ffffb7"/>
                </a:solidFill>
                <a:latin typeface="Monotype Corsiva"/>
              </a:rPr>
              <a:t>Цели:                       Задачи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85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желаемое состояние будущего, которого и пытается достичь организация. Значение целей определяется тем, что каждая организация существует ради некоего результата, а цели позволяют как определить, так и достичь эту информацию до сотрудников и обще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7" name="PlaceHolder 3"/>
          <p:cNvSpPr>
            <a:spLocks noGrp="1"/>
          </p:cNvSpPr>
          <p:nvPr>
            <p:ph/>
          </p:nvPr>
        </p:nvSpPr>
        <p:spPr>
          <a:xfrm>
            <a:off x="4936680" y="1904760"/>
            <a:ext cx="39085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проблема привлечения инвестиций, в том числе и зарубежных, в действующие и развивающиеся предприятия. Для этого необходимо аргументировать и обосновать оформление проектов (предложений), требующих инвестиц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              </a:t>
            </a: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Основа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бизнес - планирования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69" name=""/>
          <p:cNvSpPr txBox="1"/>
          <p:nvPr/>
        </p:nvSpPr>
        <p:spPr>
          <a:xfrm>
            <a:off x="539640" y="2708280"/>
            <a:ext cx="8136000" cy="26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Разработка бизнес - пла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3300"/>
                </a:solidFill>
                <a:latin typeface="Monotype Corsiva"/>
              </a:rPr>
              <a:t>Функции бизнес-плана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Возможность использования для разработки стратегии бизнеса. Необходима в период создания предприятия, а также при выработке новых направлений действий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Планирование. Она позволяет оценить возможности развития нового направления деятельности, контролировать процессы внутри фирмы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Привлечение денежных средств - ссуды, кредиты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Привлечение к реализации планов компании потенциальных партнеров, которые пожелают вложить в производство собственный капитал или имеющуюся у них технологию. Решение вопроса о представлении капитала, ресурсов или технологии возможно лишь при наличии бизнес-плана, отражающего курс развития компании на определенный период времен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2" name="" descr=""/>
          <p:cNvPicPr/>
          <p:nvPr/>
        </p:nvPicPr>
        <p:blipFill>
          <a:blip r:embed="rId1"/>
          <a:stretch/>
        </p:blipFill>
        <p:spPr>
          <a:xfrm>
            <a:off x="468360" y="2394000"/>
            <a:ext cx="3311640" cy="3699000"/>
          </a:xfrm>
          <a:prstGeom prst="rect">
            <a:avLst/>
          </a:prstGeom>
          <a:ln w="0">
            <a:noFill/>
          </a:ln>
        </p:spPr>
      </p:pic>
      <p:sp>
        <p:nvSpPr>
          <p:cNvPr id="2473" name=""/>
          <p:cNvSpPr txBox="1"/>
          <p:nvPr/>
        </p:nvSpPr>
        <p:spPr>
          <a:xfrm>
            <a:off x="755640" y="260280"/>
            <a:ext cx="67676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изнес-план - основа предпринимательской 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еятельности.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474" name="PlaceHolder 1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f1311"/>
                </a:solidFill>
                <a:latin typeface="Impact"/>
              </a:rPr>
              <a:t>Предприниматели должны ясно представлять потребность в финансовых, материальных, трудовых и интеллектуальных ресурсах, источники их получения, а также уметь четко рассчитывать эффективность использования ресурсов в процессе работы фирмы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5" name=""/>
          <p:cNvGrpSpPr/>
          <p:nvPr/>
        </p:nvGrpSpPr>
        <p:grpSpPr>
          <a:xfrm>
            <a:off x="900000" y="1052640"/>
            <a:ext cx="7345080" cy="4462560"/>
            <a:chOff x="900000" y="1052640"/>
            <a:chExt cx="7345080" cy="4462560"/>
          </a:xfrm>
        </p:grpSpPr>
        <p:cxnSp>
          <p:nvCxnSpPr>
            <p:cNvPr id="2476" name="_s25614"/>
            <p:cNvCxnSpPr>
              <a:stCxn id="2477" idx="0"/>
              <a:endCxn id="2478" idx="2"/>
            </p:cNvCxnSpPr>
            <p:nvPr/>
          </p:nvCxnSpPr>
          <p:spPr>
            <a:xfrm flipV="1" rot="16200000">
              <a:off x="5410800" y="1997640"/>
              <a:ext cx="893160" cy="257148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479" name="_s25613"/>
            <p:cNvCxnSpPr>
              <a:stCxn id="2480" idx="0"/>
              <a:endCxn id="2478" idx="2"/>
            </p:cNvCxnSpPr>
            <p:nvPr/>
          </p:nvCxnSpPr>
          <p:spPr>
            <a:xfrm flipV="1">
              <a:off x="4572360" y="2836800"/>
              <a:ext cx="3600" cy="893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481" name="_s25612"/>
            <p:cNvCxnSpPr>
              <a:stCxn id="2482" idx="0"/>
              <a:endCxn id="2478" idx="2"/>
            </p:cNvCxnSpPr>
            <p:nvPr/>
          </p:nvCxnSpPr>
          <p:spPr>
            <a:xfrm flipH="1" flipV="1" rot="5400000">
              <a:off x="2840400" y="1997640"/>
              <a:ext cx="893160" cy="257148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478" name="_s25608"/>
            <p:cNvSpPr/>
            <p:nvPr/>
          </p:nvSpPr>
          <p:spPr>
            <a:xfrm>
              <a:off x="3470760" y="1052640"/>
              <a:ext cx="2203560" cy="17848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8000"/>
                  </a:solidFill>
                  <a:latin typeface="Monotype Corsiva"/>
                </a:rPr>
                <a:t>Бизнес-план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8000"/>
                  </a:solidFill>
                  <a:latin typeface="Monotype Corsiva"/>
                </a:rPr>
                <a:t>призван помоч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_s25609"/>
            <p:cNvSpPr/>
            <p:nvPr/>
          </p:nvSpPr>
          <p:spPr>
            <a:xfrm>
              <a:off x="900000" y="3730320"/>
              <a:ext cx="2203560" cy="17848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ff"/>
                  </a:solidFill>
                  <a:latin typeface="Times New Roman"/>
                </a:rPr>
                <a:t>Новому поколению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ff"/>
                  </a:solidFill>
                  <a:latin typeface="Times New Roman"/>
                </a:rPr>
                <a:t>предпринимателе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_s25610"/>
            <p:cNvSpPr/>
            <p:nvPr/>
          </p:nvSpPr>
          <p:spPr>
            <a:xfrm>
              <a:off x="3470760" y="3730320"/>
              <a:ext cx="2203560" cy="17848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Опытны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руководителя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_s25611"/>
            <p:cNvSpPr/>
            <p:nvPr/>
          </p:nvSpPr>
          <p:spPr>
            <a:xfrm>
              <a:off x="6041520" y="3730320"/>
              <a:ext cx="2203560" cy="17848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ff"/>
                  </a:solidFill>
                  <a:latin typeface="Times New Roman"/>
                </a:rPr>
                <a:t>Получить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ff"/>
                  </a:solidFill>
                  <a:latin typeface="Times New Roman"/>
                </a:rPr>
                <a:t>националь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ff"/>
                  </a:solidFill>
                  <a:latin typeface="Times New Roman"/>
                </a:rPr>
                <a:t>и иностран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ff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66ff"/>
                  </a:solidFill>
                  <a:latin typeface="Times New Roman"/>
                </a:rPr>
                <a:t>инвестиц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Monotype Corsiva"/>
              </a:rPr>
              <a:t>Для внешнего использования. Чтобы представить дело в наиболее выгодном свете людям извне, например, инвесторам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Monotype Corsiva"/>
              </a:rPr>
              <a:t>Для внутреннего пользования. Здесь дело представляется со всеми сильными и слабыми сторонами. Этот бизнес-план используется постоянно как инструмент управл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4" name=""/>
          <p:cNvSpPr txBox="1"/>
          <p:nvPr/>
        </p:nvSpPr>
        <p:spPr>
          <a:xfrm>
            <a:off x="539640" y="620640"/>
            <a:ext cx="7993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>
                    <a:alpha val="76000"/>
                  </a:srgbClr>
                </a:solidFill>
                <a:latin typeface="Arial"/>
              </a:rPr>
              <a:t>Причина составления бизнес-пла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>
                  <a:alpha val="76000"/>
                </a:srgbClr>
              </a:solidFill>
              <a:latin typeface="Arial"/>
              <a:ea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5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Impact"/>
              </a:rPr>
              <a:t>Ясность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Impact"/>
              </a:rPr>
              <a:t>Краткость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Impact"/>
              </a:rPr>
              <a:t>Логичность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Impact"/>
              </a:rPr>
              <a:t>Правдивость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Impact"/>
              </a:rPr>
              <a:t>Подтверждение цифрам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6" name=""/>
          <p:cNvSpPr txBox="1"/>
          <p:nvPr/>
        </p:nvSpPr>
        <p:spPr>
          <a:xfrm>
            <a:off x="1332000" y="692280"/>
            <a:ext cx="604836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ринцип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5T10:04:50Z</dcterms:created>
  <dc:creator>User</dc:creator>
  <dc:description/>
  <dc:language>en-US</dc:language>
  <cp:lastModifiedBy>User</cp:lastModifiedBy>
  <dcterms:modified xsi:type="dcterms:W3CDTF">2010-12-05T12:23:29Z</dcterms:modified>
  <cp:revision>2</cp:revision>
  <dc:subject/>
  <dc:title>Слайд 1</dc:title>
</cp:coreProperties>
</file>