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5.jpeg" ContentType="image/jpeg"/>
  <Override PartName="/ppt/media/image4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0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2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052-9A26-4BD0-B94E-F2D628F9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EF1-1395-4B36-90DB-E5ECC1E2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74D-46E6-4893-AE90-281A05D0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517-EAA9-4BFF-A841-93327432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0087-E9EC-4D46-92B8-9E3D44B2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2CF1-3708-4DB8-959D-EC73B6F4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25DD-F7AE-40E7-869D-3CC8837B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C624-71F2-446A-A741-FE35C208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D32D-5774-4CFF-A94D-97A1439D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FA15-F2B3-459C-BFC5-E4BC8AE7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448A-F857-4F6F-90D9-163F9805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51B-2EB1-47CB-BB00-7BBC1AF2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505E-E102-4BBA-96DB-A2DBBCFA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47BE-9809-4D68-B76D-8DEF476E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50B0-5C0F-457D-A523-6EF29976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30A9-329E-4044-B1C3-A9F289C3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6D95-FB22-4DA9-A550-B59AD747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822BC-C31C-4872-AEA7-9113A2A3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FE00B-91C2-4E2D-BB87-E2B8E3B2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8DF16-83FA-43F1-8D76-2F2F7A16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11D0-8DFB-4049-B038-B2C2E3C9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77303-B78C-4FD4-9CB7-EC8E6AB8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AE8-8403-442E-BB9D-A20D1A56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3DA52-0AF6-4F32-9010-4EE40915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778AC-A4A7-4A88-AD82-534284B5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B9227-CA47-47B2-BA7C-59434472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F597-664F-4BEC-9899-B3E80A6E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3E7D-971F-4953-B36E-D3DFE70C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5AAF3-AB1E-469D-928A-F2B0FF0B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2EC1B-6D6A-4F4A-8A0D-1EB56652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0F695-5A4F-435B-89A9-9257FFDB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AF882-FE7A-490E-866E-51057CF1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D8D7B-A75A-45B7-9D2F-22C9619A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F80-FE6A-410C-953E-10EF273C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A9AF4-949C-4CFF-8B72-05F92E97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D749B-807F-40E6-9E59-2B6E88F1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D021A-D5C6-4D5E-B210-43D410DB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7F900-585A-4329-BE92-DA85185F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01D65-744D-48F3-B4DD-05152352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EE63E-D331-45D3-94CA-0A6E20BD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B008B-046B-44D0-9AD3-FF79F821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6C01A-FF26-4EF0-9C8D-ACBEADBC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B8111-FF9E-4CC1-AEEC-C36C15A1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C5232-CF18-4F59-B2D0-099F514C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F8D-2597-46FE-971B-95C276E2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0A640-50B5-4A00-A9EF-D9CB207B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0204E-E97E-420B-B973-8B1837C4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8A10F-053D-4720-9DD0-2C3ACC0F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12F71-DE07-4131-BC5C-4AA9DE7C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A76EB-B92B-4255-871E-E1F310D9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B5952-88B0-4326-8C0D-1928D7D6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5CA85-EC30-4FA1-A4DD-AC86CA8D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0F259-BB13-43C1-B31C-17CB0901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9AD8E-42FE-47BE-B6C8-B4978661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FCF7E-1B48-48BA-A10B-E8E2B102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B79F-3A4A-45AB-B472-98B43DE4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5C88B-F924-48B1-8ABB-F2FD9937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306-28A5-4EBF-99AF-C649AFBC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458-DCFC-4624-88C9-1B2C262C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452-CD9C-47A8-8397-38CCD5BA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CBF7-ABE7-4EA5-9B52-98B23ED859C8}" type="slidenum">
              <a:rPr b="0" lang="en-US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871D-41B1-4FA5-A4E7-D8636AACEAE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732F-658C-4580-9D29-F778FC553705}" type="slidenum">
              <a:rPr b="0" lang="en-US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0418-784C-40F5-B60F-2EFB90165058}" type="slidenum">
              <a:rPr b="0" lang="en-US" sz="11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23AE-FCD2-47CC-A570-84A5A5381F68}" type="slidenum">
              <a:rPr b="0" lang="en-US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4840200" y="1139760"/>
            <a:ext cx="4456080" cy="35114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ема 4. вопрос 1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Рисунок 5" descr="technology2.jpg"/>
          <p:cNvPicPr/>
          <p:nvPr/>
        </p:nvPicPr>
        <p:blipFill>
          <a:blip r:embed="rId3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334800" y="706320"/>
            <a:ext cx="7486920" cy="4011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3500280" y="4143240"/>
            <a:ext cx="53438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9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арождение инновационной идеи, формулирование конечной цели, количественная оценка проекта по объемам, срокам и размерам прибыли, определение путей достиж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целей, определение величины, источников и форм инвестировани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иск решений по достижению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онечных целей проекта, сравнительный анализ различных вариантов достиж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целей проекта и выбор наиболее жизнеспособного для реализации, разработка плана реализации проекта, формирование команды проекта с оформлением при необходимости контрактной документаци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ыполнение работ по реализации поставленных целей проекта, контроль выполнения календарных планов 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асходования ресурсов, корректировка возникших отклонений, оперативно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егулирование хода реализации проект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дача результатов проекта заказчику и закрытие договор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0040" y="285840"/>
            <a:ext cx="72388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i="1" lang="en-US" sz="2600" spc="-1" strike="noStrike">
                <a:solidFill>
                  <a:srgbClr val="55a839"/>
                </a:solidFill>
                <a:latin typeface="Trebuchet MS"/>
              </a:rPr>
              <a:t>Участники инновационного проекта.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 зависимости от вида, сложности 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тоимости инновационного проекта в его реализации могут принимать участие как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дна, так и несколько организаций. Каждый из участников проекта принимает на себя обязательства по выполнению конкретных функций и несет определенную ответственность за судьбу проек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143160" y="4071960"/>
            <a:ext cx="38480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570800" cy="1176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линейно-функциона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Матрич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ект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3500280" y="2571840"/>
            <a:ext cx="4167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 основе первой формы лежит структурная специализация  тематических 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функциональных подразделений предприятия  и принцип децентрализа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правления при выполнении работ в рамках каждого инновационного проек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ущность второй формы заключается во взаимодействии  подразделен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едприятия в соответствии с матричной сеткой, в которой горизонтальные лин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оответствуют выполняемым проектам, а вертикальные - видам работ, выполняемы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труктурными подразделения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Третья форма управления, получившая название проектной, специальн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азработана для методологии проектного управления, она предусматрива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оздание единого временного коллектива специалистов - команды проекта 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силение централизации в управлении реализацией проек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от латинского projectus – брошенный вперед) - организационно-технологическая схема работ по созданию, внедрению, освоению и распространению новых видов продуктов или процесс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2357280" y="40719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 условиях рыночных отношений система финансирования инновационных проектов и инновационной деятельности в целом имеет свою специфику и выступает как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оставной элемент финансовой политики государст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311040" y="79200"/>
            <a:ext cx="7650360" cy="1389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оздание необходимых предпосылок для быстрого и эффективного внедрения технических новинок во всех звеньях народнохозяйственного комплекса страны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еспечение ее структурно-технологической перестройк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охранение и развитие стратегического научно-технического потенциала 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иоритетных направлениях развития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оздание необходимых материальных условий для сохранения кадровог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тенциала науки и техники, предотвращения его утечки за рубеж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540560" cy="1176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Главная задача экспертизы сводится к анализу перспективности инновационны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решений, оформленных в виде проекта, экономической целесообразности 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рискованности инвестиций на основе интегральной оценки инноваций и условий, 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оторых они будут осуществлены. На основании положительного результа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экспертизы принимаются необходимые решения по реализации проекта 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пределением источника, формы и объема финансирова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5286240"/>
            <a:ext cx="622008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42960" y="285480"/>
            <a:ext cx="721512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rebuchet MS"/>
              </a:rPr>
              <a:t>Современная параллельная модель инновационного процесса учитывает существование механизмов обратных связей и взаимозависимостей, возникающих в рамках глобальной сетевой экономики. В результате участники проекта должны действовать быстро и эффективно не только в рамках одного предприятия, но учитывая связи между фирмами, а иногда связи фирм и других организаций, таких как университеты. В свете этого, нововведение не всегда начинается с научных исследований, и данный процесс осуществляется не обязательно в строгой последова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1643040" y="3786120"/>
            <a:ext cx="48355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357200" y="3746520"/>
            <a:ext cx="4929480" cy="2968560"/>
          </a:xfrm>
          <a:prstGeom prst="rect">
            <a:avLst/>
          </a:prstGeom>
          <a:ln w="0">
            <a:noFill/>
          </a:ln>
        </p:spPr>
      </p:pic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317520" y="291960"/>
            <a:ext cx="7637400" cy="117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560"/>
            <a:ext cx="7238880" cy="33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значает реализацию определенных специальных задач внутри существующей структуры предприятия или между различными предприятиями, при которой, по возможности, не должно быть оказано отрицательное воздействие на исходные производственные задач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Каждый проект направлен на достижение конкретных целей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Каждый проект включает в себя координированное выполнение взаимосвязанных действий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Каждый проект имеет ограниченную протяженность во времени, с определенным началом и концом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Каждый инновационный проект в значительной степени неповторим и уникален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Целеполагание представляет собой исходный пункт осуществления инновационного проекта. Одной из ключевых особенностей управления проектами является точное определение и формулирование целей, начиная с высшего уровня, а затем постепенно опускаясь до наиболее детализированных целей и задач. В этой связи, ключевым понятием для инновационного менеджера становится иерархия целей. Умение построить правильную иерархию целей – необходимое условие успеха инновационного проект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20840" y="23760"/>
            <a:ext cx="7254720" cy="1695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Многие промежуточные задания при выполнении инновационного проекта не могут быть реализованы, пока не завершены другие задачи. Более того, некоторые задания могут осуществляться только параллельно. Все это требует координации, а в некоторых случаях, синхронизации усилий команды, реализующей проект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Таким образом, проект можно рассматривать как совокупность задач, реализуемых в определенной последовательности. Другими словами, формулируются задачи (работы) и устанавливается их взаимная зависим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В отличие от производственной деятельности, любой проект – нецикличен. Он имеет протяженность во времени. Неопределенный по срокам, бесконечно тянущийся инновационный проект – серьезное нарушение принципов инновационного менеджмента. Инновационный проект оправдан из-за того, что он завершается инновацией или трансфертом технологий (см. виды инновационных проектов). Неопределенный во времени, “вялотекущий” проект не направлен на инноваци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обенность инновационного проекта состоит в том, что каждый проект уникален, ведь он реализует новшество или новое создается в его ходе. Поэтому прошлый опыт в менеджменте инновационных проектов часто малопригоден, ведь подобного проекта до этого не существовало. Здесь уместно выражение – “вчерашний опыт – ум глупцов”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93560" y="420840"/>
            <a:ext cx="7255080" cy="1158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28760" y="1857240"/>
            <a:ext cx="72388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rebuchet MS"/>
              </a:rPr>
              <a:t>по уровню решения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федеральные, президентские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региональные, отраслевые, отдельного предприятия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rebuchet MS"/>
              </a:rPr>
              <a:t>по характеру целей проекта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конечные по достигаемы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результатам и промежуточные, связанные с достижение промежуточных результатов при решении сложных проблем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rebuchet MS"/>
              </a:rPr>
              <a:t>по виду потребности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ориентированные на существующ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потребности или на создание новых потребностей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rebuchet MS"/>
              </a:rPr>
              <a:t>по типу инновации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— создание нового продукта, новог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метода, нового рынка, нового источника сырья, новой структуры управления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rebuchet MS"/>
              </a:rPr>
              <a:t>по периоду реализации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долгосрочные (более 5 лет)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среднесрочные (от 3 до 5 лет), краткосрочные (менее 3 лет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1:34:16Z</dcterms:created>
  <dc:creator>Admin</dc:creator>
  <dc:description/>
  <dc:language>en-US</dc:language>
  <cp:lastModifiedBy>Айжан</cp:lastModifiedBy>
  <dcterms:modified xsi:type="dcterms:W3CDTF">2011-06-08T06:43:31Z</dcterms:modified>
  <cp:revision>12</cp:revision>
  <dc:subject/>
  <dc:title>Слайд 1</dc:title>
</cp:coreProperties>
</file>