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6EA-3572-4035-BED2-11D04B91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A96-CFF2-4280-A64D-B1C65439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30C-C233-4505-B7AB-07B8A9F7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529-B17D-4AE8-9D07-31363243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68FE-D1E6-4DD5-9432-38F5CB28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D1E-C0A9-403E-BE76-75C94F23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5531-49FF-4858-85FA-340EFD5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8F6B-8D4E-4C05-8359-CF112595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D1C-9586-4D69-B433-665961B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D6A8-CEBA-4B5A-8AD1-67A19EDE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2C20-6628-472E-887A-4114CE4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02D-A561-49D8-A32A-C6596A0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4867-95EF-4197-A542-BB3DC53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C428-F576-4882-A928-8E497FB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C72-602E-41B2-9108-B6553BF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9FE6-C12A-4317-9FA4-5D7B2B96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979C-86CE-4596-BDB5-66CC32EA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C4E-EC56-496D-97CF-673C5BB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9E0-C71B-4A73-AB0A-858DFDE7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55B-43BA-4633-AA4F-AE4A61A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BEF-8A8F-4A5E-810B-DC00FC4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251-FBBC-476E-BF50-821012E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F3A-24AF-45AD-9182-73351EE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B9A-29B1-4574-B38D-B1EA61B2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56EA-FB0B-4F3D-B509-06168610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>
                  <a:gd name="textAreaLeft" fmla="*/ 0 w 5781600"/>
                  <a:gd name="textAreaRight" fmla="*/ 5781960 w 5781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A01-9BE1-4A28-B8EE-3C722E62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215560" cy="128592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лияние ситуационных факторов. Диффузия инноваций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нновации и их тип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200016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пределение инновац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ипы иннова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Непрерывные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инновации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значительные модифик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Динамически непрерывные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инноваци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-более существенные модификации / новинки.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рерывистые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 инноваци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абсолютные новин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Содержимое 3"/>
          <p:cNvSpPr/>
          <p:nvPr/>
        </p:nvSpPr>
        <p:spPr>
          <a:xfrm>
            <a:off x="285840" y="2571840"/>
            <a:ext cx="4214880" cy="1500120"/>
          </a:xfrm>
          <a:prstGeom prst="rect">
            <a:avLst/>
          </a:prstGeom>
          <a:solidFill>
            <a:srgbClr val="ebfbd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Объективно: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524"/>
              </a:spcBef>
              <a:buClr>
                <a:srgbClr val="00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качественные отличия от существующих товаров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524"/>
              </a:spcBef>
              <a:buClr>
                <a:srgbClr val="00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ремя на рынке, доля рынка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Содержимое 3"/>
          <p:cNvSpPr/>
          <p:nvPr/>
        </p:nvSpPr>
        <p:spPr>
          <a:xfrm>
            <a:off x="4643280" y="2571840"/>
            <a:ext cx="4286520" cy="1500120"/>
          </a:xfrm>
          <a:prstGeom prst="rect">
            <a:avLst/>
          </a:prstGeom>
          <a:solidFill>
            <a:srgbClr val="ebfbd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Субъективно: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524"/>
              </a:spcBef>
              <a:buClr>
                <a:srgbClr val="00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качественные отличия от существующих товаров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524"/>
              </a:spcBef>
              <a:buClr>
                <a:srgbClr val="00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ремя на рынке, доля рынка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04B-48F9-4D17-A545-24D9EF3077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нновации и их тип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560" y="207180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арактеристики, определяющие  успех иннов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871560" y="2610000"/>
            <a:ext cx="777240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тносительные 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(достоинства, воспринимаемые потребителями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вместимость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(с ценностями и опытом индивида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ложность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(для понимания и использования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озможность испытать това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(представление образцов, аренда, демонстрация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ммуникатив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(очевидность результатов, возможность описания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C67-4EAC-418D-90B4-9A56C504E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цесс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57120" y="2286000"/>
            <a:ext cx="1785960" cy="714240"/>
          </a:xfrm>
          <a:prstGeom prst="rect">
            <a:avLst/>
          </a:prstGeom>
          <a:solidFill>
            <a:srgbClr val="ccee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643120" y="2286000"/>
            <a:ext cx="1714680" cy="714240"/>
          </a:xfrm>
          <a:prstGeom prst="rect">
            <a:avLst/>
          </a:prstGeom>
          <a:solidFill>
            <a:srgbClr val="ddf3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де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4857840" y="2286000"/>
            <a:ext cx="1928880" cy="714240"/>
          </a:xfrm>
          <a:prstGeom prst="rect">
            <a:avLst/>
          </a:prstGeom>
          <a:solidFill>
            <a:srgbClr val="daf7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00280" y="4000680"/>
            <a:ext cx="2071800" cy="928440"/>
          </a:xfrm>
          <a:prstGeom prst="rect">
            <a:avLst/>
          </a:prstGeom>
          <a:solidFill>
            <a:srgbClr val="ebf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ня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число люд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6143760" y="4000680"/>
            <a:ext cx="2071440" cy="928440"/>
          </a:xfrm>
          <a:prstGeom prst="rect">
            <a:avLst/>
          </a:prstGeom>
          <a:solidFill>
            <a:srgbClr val="ffe6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лон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число люд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3357720" y="5357880"/>
            <a:ext cx="2428560" cy="857160"/>
          </a:xfrm>
          <a:prstGeom prst="rect">
            <a:avLst/>
          </a:prstGeom>
          <a:solidFill>
            <a:srgbClr val="daf7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простран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нов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143760" y="5357880"/>
            <a:ext cx="2143080" cy="857160"/>
          </a:xfrm>
          <a:prstGeom prst="rect">
            <a:avLst/>
          </a:prstGeom>
          <a:solidFill>
            <a:srgbClr val="ffcda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в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нов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" name="Shape 17"/>
          <p:cNvCxnSpPr/>
          <p:nvPr/>
        </p:nvCxnSpPr>
        <p:spPr>
          <a:xfrm flipH="1" flipV="1" rot="10800000">
            <a:off x="1356840" y="2999880"/>
            <a:ext cx="3858480" cy="215280"/>
          </a:xfrm>
          <a:prstGeom prst="bentConnector3">
            <a:avLst>
              <a:gd name="adj1" fmla="val -37"/>
            </a:avLst>
          </a:prstGeom>
          <a:ln w="22320">
            <a:solidFill>
              <a:srgbClr val="000000"/>
            </a:solidFill>
            <a:round/>
          </a:ln>
        </p:spPr>
      </p:cxnSp>
      <p:cxnSp>
        <p:nvCxnSpPr>
          <p:cNvPr id="150" name="Прямая со стрелкой 29"/>
          <p:cNvCxnSpPr/>
          <p:nvPr/>
        </p:nvCxnSpPr>
        <p:spPr>
          <a:xfrm flipV="1">
            <a:off x="5214960" y="2999880"/>
            <a:ext cx="2160" cy="2152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Прямая со стрелкой 34"/>
          <p:cNvCxnSpPr>
            <a:stCxn id="142" idx="3"/>
            <a:endCxn id="143" idx="1"/>
          </p:cNvCxnSpPr>
          <p:nvPr/>
        </p:nvCxnSpPr>
        <p:spPr>
          <a:xfrm>
            <a:off x="2142720" y="2642760"/>
            <a:ext cx="500760" cy="2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35"/>
          <p:cNvCxnSpPr/>
          <p:nvPr/>
        </p:nvCxnSpPr>
        <p:spPr>
          <a:xfrm>
            <a:off x="4357440" y="2642760"/>
            <a:ext cx="500760" cy="2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44"/>
          <p:cNvSpPr/>
          <p:nvPr/>
        </p:nvSpPr>
        <p:spPr>
          <a:xfrm flipV="1">
            <a:off x="5857920" y="2999880"/>
            <a:ext cx="1440" cy="357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Прямая со стрелкой 47"/>
          <p:cNvCxnSpPr>
            <a:endCxn id="145" idx="0"/>
          </p:cNvCxnSpPr>
          <p:nvPr/>
        </p:nvCxnSpPr>
        <p:spPr>
          <a:xfrm flipH="1">
            <a:off x="4536720" y="3357720"/>
            <a:ext cx="1321200" cy="643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54"/>
          <p:cNvCxnSpPr>
            <a:endCxn id="146" idx="0"/>
          </p:cNvCxnSpPr>
          <p:nvPr/>
        </p:nvCxnSpPr>
        <p:spPr>
          <a:xfrm>
            <a:off x="5857560" y="3357720"/>
            <a:ext cx="1323000" cy="64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Прямая со стрелкой 56"/>
          <p:cNvCxnSpPr>
            <a:stCxn id="145" idx="3"/>
            <a:endCxn id="146" idx="1"/>
          </p:cNvCxnSpPr>
          <p:nvPr/>
        </p:nvCxnSpPr>
        <p:spPr>
          <a:xfrm>
            <a:off x="5572080" y="4465800"/>
            <a:ext cx="5724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7" name="Прямая со стрелкой 57"/>
          <p:cNvCxnSpPr>
            <a:endCxn id="147" idx="0"/>
          </p:cNvCxnSpPr>
          <p:nvPr/>
        </p:nvCxnSpPr>
        <p:spPr>
          <a:xfrm flipH="1">
            <a:off x="4571280" y="4928760"/>
            <a:ext cx="1080" cy="4294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65"/>
          <p:cNvCxnSpPr>
            <a:endCxn id="148" idx="0"/>
          </p:cNvCxnSpPr>
          <p:nvPr/>
        </p:nvCxnSpPr>
        <p:spPr>
          <a:xfrm flipH="1">
            <a:off x="7214400" y="4928760"/>
            <a:ext cx="1080" cy="4294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Прямоугольник 74"/>
          <p:cNvSpPr/>
          <p:nvPr/>
        </p:nvSpPr>
        <p:spPr>
          <a:xfrm>
            <a:off x="2286000" y="3357720"/>
            <a:ext cx="21430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 ста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75"/>
          <p:cNvSpPr/>
          <p:nvPr/>
        </p:nvSpPr>
        <p:spPr>
          <a:xfrm>
            <a:off x="7072200" y="3143160"/>
            <a:ext cx="1928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 ста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авая фигурная скобка 78"/>
          <p:cNvSpPr/>
          <p:nvPr/>
        </p:nvSpPr>
        <p:spPr>
          <a:xfrm rot="5400000">
            <a:off x="3250080" y="1964160"/>
            <a:ext cx="214200" cy="2714760"/>
          </a:xfrm>
          <a:custGeom>
            <a:avLst/>
            <a:gdLst>
              <a:gd name="textAreaLeft" fmla="*/ 0 w 214200"/>
              <a:gd name="textAreaRight" fmla="*/ 77400 w 214200"/>
              <a:gd name="textAreaTop" fmla="*/ 5400 h 2714760"/>
              <a:gd name="textAreaBottom" fmla="*/ 270936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"/>
                  <a:pt x="10800" y="142"/>
                </a:cubicBezTo>
                <a:lnTo>
                  <a:pt x="10800" y="10521"/>
                </a:lnTo>
                <a:cubicBezTo>
                  <a:pt x="10800" y="10592"/>
                  <a:pt x="16200" y="10663"/>
                  <a:pt x="21600" y="10663"/>
                </a:cubicBezTo>
                <a:cubicBezTo>
                  <a:pt x="16200" y="10663"/>
                  <a:pt x="10800" y="10734"/>
                  <a:pt x="10800" y="10805"/>
                </a:cubicBezTo>
                <a:lnTo>
                  <a:pt x="10800" y="21458"/>
                </a:lnTo>
                <a:cubicBezTo>
                  <a:pt x="10800" y="21529"/>
                  <a:pt x="5400" y="21600"/>
                  <a:pt x="0" y="2160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авая фигурная скобка 79"/>
          <p:cNvSpPr/>
          <p:nvPr/>
        </p:nvSpPr>
        <p:spPr>
          <a:xfrm>
            <a:off x="7215120" y="2928960"/>
            <a:ext cx="214560" cy="9288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81"/>
          <p:cNvSpPr/>
          <p:nvPr/>
        </p:nvSpPr>
        <p:spPr>
          <a:xfrm>
            <a:off x="1357200" y="4929120"/>
            <a:ext cx="1928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 ста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авая фигурная скобка 82"/>
          <p:cNvSpPr/>
          <p:nvPr/>
        </p:nvSpPr>
        <p:spPr>
          <a:xfrm flipH="1" flipV="1">
            <a:off x="2928240" y="4714920"/>
            <a:ext cx="214200" cy="100008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000080"/>
              <a:gd name="textAreaBottom" fmla="*/ 9946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26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25DA-E789-4250-A335-F17E9247F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85840" y="202896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1 стадия 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спространение информации и коммуник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2 стадия 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цесс принятия решения об инновации потребител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3 стадия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 Диффузия / забвение инновации (кумулятивный эффект, зависящий от числа потребителей принявших или отвергнувших новинку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лементы процесса диффузии иннова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новация (тип и характеристики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аналы коммуникации (обмен информацией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ремя принятия решения индивид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циальные систем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цесс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852-970A-4EC3-A95D-53480A897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14200" y="202896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еременные, влияющие на скорость  диффуз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онкурентоспособность и репутация поставщика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хнология, на которой основана новинка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ертикальная координация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заимосвязь источников диффузии (НИОКР и  позиционирование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ммуник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оль СМИ и межличностного общения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вухэтапные / многоэтапные модели коммуникац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ходство / противопоставление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(Эверет Роджерс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цесс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B812-8FEE-48E8-8BA4-9EA604840B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цесс принятия решения об инновация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120" y="207180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Подход основанный на анализе взаимоотношений –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нализ коммуникаций внутри социальных структур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Монодический подход –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нализ индивидуальной обработки информ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Модель Э. Роджер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Признание /  отторжение новинки – вопрос времен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ризнание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решение о том, что использование новинки является оптимальным выбор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Отторжение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 (неприятие)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решение не использовать инновацию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3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ое / пассивное неприятие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928800" y="4000680"/>
            <a:ext cx="3571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22d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04B-7E07-4492-8A79-A4B2ADA82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461880" y="630360"/>
            <a:ext cx="83250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инятие решения об инновация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одель Э. Роджер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-46836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016080" indent="-533160">
              <a:lnSpc>
                <a:spcPct val="100000"/>
              </a:lnSpc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71880" y="2143080"/>
            <a:ext cx="3743280" cy="71460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н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971880" y="4000680"/>
            <a:ext cx="3743280" cy="64260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971880" y="4842000"/>
            <a:ext cx="3743280" cy="65880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во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3971880" y="3138480"/>
            <a:ext cx="3743280" cy="64764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ирование м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5572080" y="2857680"/>
            <a:ext cx="35712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23"/>
          <p:cNvSpPr/>
          <p:nvPr/>
        </p:nvSpPr>
        <p:spPr>
          <a:xfrm>
            <a:off x="5568840" y="3786120"/>
            <a:ext cx="36036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971880" y="5715000"/>
            <a:ext cx="3743280" cy="642960"/>
          </a:xfrm>
          <a:prstGeom prst="rect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твержд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5" name="Соединительная линия уступом 22"/>
          <p:cNvCxnSpPr/>
          <p:nvPr/>
        </p:nvCxnSpPr>
        <p:spPr>
          <a:xfrm flipV="1" rot="16200000">
            <a:off x="6103440" y="3967920"/>
            <a:ext cx="3572640" cy="349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6" name="Прямая со стрелкой 34"/>
          <p:cNvCxnSpPr/>
          <p:nvPr/>
        </p:nvCxnSpPr>
        <p:spPr>
          <a:xfrm flipH="1" flipV="1">
            <a:off x="7714800" y="37854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Прямая со стрелкой 35"/>
          <p:cNvCxnSpPr/>
          <p:nvPr/>
        </p:nvCxnSpPr>
        <p:spPr>
          <a:xfrm flipH="1" flipV="1">
            <a:off x="7714800" y="52131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Прямая со стрелкой 36"/>
          <p:cNvCxnSpPr/>
          <p:nvPr/>
        </p:nvCxnSpPr>
        <p:spPr>
          <a:xfrm flipH="1" flipV="1">
            <a:off x="7714800" y="592740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37"/>
          <p:cNvCxnSpPr/>
          <p:nvPr/>
        </p:nvCxnSpPr>
        <p:spPr>
          <a:xfrm flipH="1" flipV="1">
            <a:off x="7714800" y="44982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Прямоугольник 38"/>
          <p:cNvSpPr/>
          <p:nvPr/>
        </p:nvSpPr>
        <p:spPr>
          <a:xfrm>
            <a:off x="357120" y="4572000"/>
            <a:ext cx="1571760" cy="500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тор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2143080" y="4572000"/>
            <a:ext cx="1500120" cy="500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оугольник 41"/>
          <p:cNvSpPr/>
          <p:nvPr/>
        </p:nvSpPr>
        <p:spPr>
          <a:xfrm>
            <a:off x="8143920" y="2286000"/>
            <a:ext cx="11430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Прямоугольник 43"/>
          <p:cNvSpPr/>
          <p:nvPr/>
        </p:nvSpPr>
        <p:spPr>
          <a:xfrm>
            <a:off x="2000160" y="5715000"/>
            <a:ext cx="16430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апт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23"/>
          <p:cNvSpPr/>
          <p:nvPr/>
        </p:nvSpPr>
        <p:spPr>
          <a:xfrm>
            <a:off x="5568840" y="5500800"/>
            <a:ext cx="36036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23"/>
          <p:cNvSpPr/>
          <p:nvPr/>
        </p:nvSpPr>
        <p:spPr>
          <a:xfrm>
            <a:off x="5568840" y="4643280"/>
            <a:ext cx="360360" cy="182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рямая соединительная линия 59"/>
          <p:cNvSpPr/>
          <p:nvPr/>
        </p:nvSpPr>
        <p:spPr>
          <a:xfrm flipV="1">
            <a:off x="1177920" y="4428720"/>
            <a:ext cx="275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Прямая со стрелкой 61"/>
          <p:cNvCxnSpPr/>
          <p:nvPr/>
        </p:nvCxnSpPr>
        <p:spPr>
          <a:xfrm flipH="1">
            <a:off x="1071360" y="507204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AutoShape 22"/>
          <p:cNvSpPr/>
          <p:nvPr/>
        </p:nvSpPr>
        <p:spPr>
          <a:xfrm>
            <a:off x="996840" y="4429080"/>
            <a:ext cx="3603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2639880" y="4429080"/>
            <a:ext cx="3603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67"/>
          <p:cNvSpPr/>
          <p:nvPr/>
        </p:nvSpPr>
        <p:spPr>
          <a:xfrm>
            <a:off x="214200" y="5715000"/>
            <a:ext cx="5000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дующе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лон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1" name="Прямая со стрелкой 69"/>
          <p:cNvCxnSpPr/>
          <p:nvPr/>
        </p:nvCxnSpPr>
        <p:spPr>
          <a:xfrm flipH="1">
            <a:off x="2712240" y="5072040"/>
            <a:ext cx="2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Прямая со стрелкой 70"/>
          <p:cNvCxnSpPr/>
          <p:nvPr/>
        </p:nvCxnSpPr>
        <p:spPr>
          <a:xfrm flipH="1">
            <a:off x="1213920" y="5072040"/>
            <a:ext cx="15026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Прямая со стрелкой 72"/>
          <p:cNvCxnSpPr/>
          <p:nvPr/>
        </p:nvCxnSpPr>
        <p:spPr>
          <a:xfrm>
            <a:off x="1071720" y="5072040"/>
            <a:ext cx="14292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Прямоугольник 78"/>
          <p:cNvSpPr/>
          <p:nvPr/>
        </p:nvSpPr>
        <p:spPr>
          <a:xfrm>
            <a:off x="1071720" y="2143080"/>
            <a:ext cx="20714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79"/>
          <p:cNvSpPr/>
          <p:nvPr/>
        </p:nvSpPr>
        <p:spPr>
          <a:xfrm>
            <a:off x="1071720" y="3071880"/>
            <a:ext cx="20714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нов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ая соединительная линия 82"/>
          <p:cNvSpPr/>
          <p:nvPr/>
        </p:nvSpPr>
        <p:spPr>
          <a:xfrm flipH="1" flipV="1">
            <a:off x="2928600" y="2499840"/>
            <a:ext cx="10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ая соединительная линия 83"/>
          <p:cNvSpPr/>
          <p:nvPr/>
        </p:nvSpPr>
        <p:spPr>
          <a:xfrm flipH="1" flipV="1">
            <a:off x="2928600" y="3427560"/>
            <a:ext cx="10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Номер слайда 3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60E-8DDB-4258-B8EB-9E6CE05FE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42960" y="207144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сходные услов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шлый опыт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щущаемые нужды и проблемы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оваторство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ормы социальной систем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25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арактеристики лица, принимающего 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циоэкономические характеристики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чные переменные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ведение при коммуник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76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Непостоянство потребителей – проблема инноваци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цесс принятия решения об инновация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D0F0-65DD-4B86-913F-E487F4726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3916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ипы потребителей в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5840" y="2100240"/>
          <a:ext cx="8501040" cy="4329000"/>
        </p:xfrm>
        <a:graphic>
          <a:graphicData uri="http://schemas.openxmlformats.org/drawingml/2006/table">
            <a:tbl>
              <a:tblPr/>
              <a:tblGrid>
                <a:gridCol w="2214360"/>
                <a:gridCol w="6286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а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7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нимают товар первыми. Склонны к риску, часто «эксперты», высшее образова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7b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вые пользов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ы мнений, образцы для подражания, авторитеты в больших социальных система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нее больши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сторонне обдумывают решение, но принимают новинку раньше, чем основная часть целевого ры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зднее больши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торожны в оценках, принимают новинку позднее среднего срока, часто под давлением равных по стату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ст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нимают товар последними. Подозрительны к к новому, трудно расстаются с прошлы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7"/>
                    </a:solidFill>
                  </a:tcPr>
                </a:tc>
              </a:tr>
            </a:tbl>
          </a:graphicData>
        </a:graphic>
      </p:graphicFrame>
      <p:sp>
        <p:nvSpPr>
          <p:cNvPr id="214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6BB-21DA-46D4-BA06-15615E306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6"/>
          <p:cNvSpPr/>
          <p:nvPr/>
        </p:nvSpPr>
        <p:spPr>
          <a:xfrm>
            <a:off x="642960" y="2643120"/>
            <a:ext cx="7643880" cy="3357720"/>
          </a:xfrm>
          <a:prstGeom prst="rect">
            <a:avLst/>
          </a:prstGeom>
          <a:solidFill>
            <a:srgbClr val="ebf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1"/>
          <p:cNvSpPr/>
          <p:nvPr/>
        </p:nvSpPr>
        <p:spPr>
          <a:xfrm flipV="1">
            <a:off x="1071720" y="5465520"/>
            <a:ext cx="65005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33"/>
          <p:cNvSpPr/>
          <p:nvPr/>
        </p:nvSpPr>
        <p:spPr>
          <a:xfrm>
            <a:off x="1071720" y="5357880"/>
            <a:ext cx="6429240" cy="571320"/>
          </a:xfrm>
          <a:prstGeom prst="rect">
            <a:avLst/>
          </a:prstGeom>
          <a:solidFill>
            <a:srgbClr val="c7f38d"/>
          </a:solidFill>
          <a:ln w="9360">
            <a:solidFill>
              <a:srgbClr val="daf7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олилиния 13"/>
          <p:cNvSpPr/>
          <p:nvPr/>
        </p:nvSpPr>
        <p:spPr>
          <a:xfrm>
            <a:off x="642960" y="3319560"/>
            <a:ext cx="7643880" cy="21096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2109600"/>
              <a:gd name="textAreaBottom" fmla="*/ 2109960 h 2109600"/>
            </a:gdLst>
            <a:ahLst/>
            <a:rect l="textAreaLeft" t="textAreaTop" r="textAreaRight" b="textAreaBottom"/>
            <a:pathLst>
              <a:path w="6464300" h="2368550">
                <a:moveTo>
                  <a:pt x="0" y="2292350"/>
                </a:moveTo>
                <a:cubicBezTo>
                  <a:pt x="316442" y="2247900"/>
                  <a:pt x="632884" y="2203450"/>
                  <a:pt x="939800" y="2063750"/>
                </a:cubicBezTo>
                <a:cubicBezTo>
                  <a:pt x="1246716" y="1924050"/>
                  <a:pt x="1462617" y="1797050"/>
                  <a:pt x="1841500" y="1454150"/>
                </a:cubicBezTo>
                <a:cubicBezTo>
                  <a:pt x="2220383" y="1111250"/>
                  <a:pt x="2762250" y="0"/>
                  <a:pt x="3213100" y="6350"/>
                </a:cubicBezTo>
                <a:cubicBezTo>
                  <a:pt x="3663950" y="12700"/>
                  <a:pt x="4008967" y="1100667"/>
                  <a:pt x="4546600" y="1492250"/>
                </a:cubicBezTo>
                <a:cubicBezTo>
                  <a:pt x="5084233" y="1883833"/>
                  <a:pt x="6438900" y="2355850"/>
                  <a:pt x="6438900" y="2355850"/>
                </a:cubicBezTo>
                <a:lnTo>
                  <a:pt x="6464300" y="2368550"/>
                </a:lnTo>
              </a:path>
            </a:pathLst>
          </a:custGeom>
          <a:solidFill>
            <a:srgbClr val="c7f38d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ая соединительная линия 39"/>
          <p:cNvSpPr/>
          <p:nvPr/>
        </p:nvSpPr>
        <p:spPr>
          <a:xfrm flipH="1">
            <a:off x="2928960" y="2641680"/>
            <a:ext cx="1440" cy="335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Прямая соединительная линия 34"/>
          <p:cNvSpPr/>
          <p:nvPr/>
        </p:nvSpPr>
        <p:spPr>
          <a:xfrm flipH="1">
            <a:off x="1785960" y="2643120"/>
            <a:ext cx="1440" cy="33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38"/>
          <p:cNvSpPr/>
          <p:nvPr/>
        </p:nvSpPr>
        <p:spPr>
          <a:xfrm>
            <a:off x="4427640" y="2641680"/>
            <a:ext cx="1440" cy="335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ая соединительная линия 37"/>
          <p:cNvSpPr/>
          <p:nvPr/>
        </p:nvSpPr>
        <p:spPr>
          <a:xfrm flipH="1">
            <a:off x="5928840" y="2643120"/>
            <a:ext cx="1800" cy="33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оугольник 26"/>
          <p:cNvSpPr/>
          <p:nvPr/>
        </p:nvSpPr>
        <p:spPr>
          <a:xfrm>
            <a:off x="642960" y="5357880"/>
            <a:ext cx="1357200" cy="64296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оугольник 27"/>
          <p:cNvSpPr/>
          <p:nvPr/>
        </p:nvSpPr>
        <p:spPr>
          <a:xfrm>
            <a:off x="1785960" y="5357880"/>
            <a:ext cx="1143000" cy="64296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оугольник 28"/>
          <p:cNvSpPr/>
          <p:nvPr/>
        </p:nvSpPr>
        <p:spPr>
          <a:xfrm>
            <a:off x="2928960" y="4643280"/>
            <a:ext cx="1500120" cy="1357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оугольник 29"/>
          <p:cNvSpPr/>
          <p:nvPr/>
        </p:nvSpPr>
        <p:spPr>
          <a:xfrm>
            <a:off x="4429080" y="4643280"/>
            <a:ext cx="1500120" cy="1357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оугольник 30"/>
          <p:cNvSpPr/>
          <p:nvPr/>
        </p:nvSpPr>
        <p:spPr>
          <a:xfrm>
            <a:off x="5929200" y="5429160"/>
            <a:ext cx="2357640" cy="57168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31"/>
          <p:cNvSpPr/>
          <p:nvPr/>
        </p:nvSpPr>
        <p:spPr>
          <a:xfrm>
            <a:off x="2714760" y="2643120"/>
            <a:ext cx="16430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н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32"/>
          <p:cNvSpPr/>
          <p:nvPr/>
        </p:nvSpPr>
        <p:spPr>
          <a:xfrm>
            <a:off x="4500720" y="2643120"/>
            <a:ext cx="150012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д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33"/>
          <p:cNvSpPr/>
          <p:nvPr/>
        </p:nvSpPr>
        <p:spPr>
          <a:xfrm>
            <a:off x="1500120" y="3357720"/>
            <a:ext cx="17146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34"/>
          <p:cNvSpPr/>
          <p:nvPr/>
        </p:nvSpPr>
        <p:spPr>
          <a:xfrm>
            <a:off x="642960" y="4286160"/>
            <a:ext cx="12859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вато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35"/>
          <p:cNvSpPr/>
          <p:nvPr/>
        </p:nvSpPr>
        <p:spPr>
          <a:xfrm>
            <a:off x="6429240" y="4143240"/>
            <a:ext cx="1500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ста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ипы потребителей в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38"/>
          <p:cNvSpPr/>
          <p:nvPr/>
        </p:nvSpPr>
        <p:spPr>
          <a:xfrm>
            <a:off x="6786720" y="6143760"/>
            <a:ext cx="15001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39"/>
          <p:cNvSpPr/>
          <p:nvPr/>
        </p:nvSpPr>
        <p:spPr>
          <a:xfrm>
            <a:off x="4071960" y="6072120"/>
            <a:ext cx="785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41"/>
          <p:cNvSpPr/>
          <p:nvPr/>
        </p:nvSpPr>
        <p:spPr>
          <a:xfrm>
            <a:off x="5572080" y="6072120"/>
            <a:ext cx="785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+ s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42"/>
          <p:cNvSpPr/>
          <p:nvPr/>
        </p:nvSpPr>
        <p:spPr>
          <a:xfrm>
            <a:off x="2571840" y="6072120"/>
            <a:ext cx="785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- s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43"/>
          <p:cNvSpPr/>
          <p:nvPr/>
        </p:nvSpPr>
        <p:spPr>
          <a:xfrm>
            <a:off x="1357200" y="6072120"/>
            <a:ext cx="785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- 2s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44"/>
          <p:cNvSpPr/>
          <p:nvPr/>
        </p:nvSpPr>
        <p:spPr>
          <a:xfrm>
            <a:off x="4143240" y="2071800"/>
            <a:ext cx="785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Распределение потребителей в отношении новаторств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ая соединительная линия 47"/>
          <p:cNvSpPr/>
          <p:nvPr/>
        </p:nvSpPr>
        <p:spPr>
          <a:xfrm>
            <a:off x="642960" y="2641680"/>
            <a:ext cx="764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ая соединительная линия 37"/>
          <p:cNvSpPr/>
          <p:nvPr/>
        </p:nvSpPr>
        <p:spPr>
          <a:xfrm flipH="1">
            <a:off x="642960" y="2643120"/>
            <a:ext cx="1440" cy="33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ая соединительная линия 52"/>
          <p:cNvSpPr/>
          <p:nvPr/>
        </p:nvSpPr>
        <p:spPr>
          <a:xfrm>
            <a:off x="642960" y="6000840"/>
            <a:ext cx="7643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Номер слайда 30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CF4-60C0-48DA-8A8D-C06F4141EB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одержание лек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560" y="2317320"/>
            <a:ext cx="88218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туационное влияние. Типы ситуац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стики ситу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заимодействие человека и ситу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ность инноваций и их тип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 диффузии (распространения) иннова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 принятия решения об иннов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потребителей в диффузии иннова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06D-5381-481F-A945-F63DDAFDEF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96752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ипы потребителей в диффузии инновац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207180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Цель – побудить к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новаторству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  целевых потребителей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змерение новаторства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ремя признания товар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дсчет количества товаров из установленного списка, приобретенных за период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амо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4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тегории новаторов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Полиморфные / мономорфны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Когнитивны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предпочтение поиска новых ментальных ощущений /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сенсорны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поиск чувственных ощущени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D64-68D6-449A-A543-6A5DC7836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опросы для самопровер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7120" y="2071440"/>
            <a:ext cx="8786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овите пять основных характеристик потребительск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вы три типа потребительских ситуаций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такое информационная среда? Каковы ее параметры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понимается под «атмосферой магазина»? В чем ее значени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 производитель может использовать знания о ситуации потребления? Поясните на пример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чему время представляет важный аспект влияния ситуаци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кройте различия между непрерывными, динамически непрерывными и прерывистыми инноваци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ишите процесс принятия решения об иннов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факторы определяют диффузию инноваций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жите о типах потребителей в диффузии иннова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1D8-2342-4F0A-9F31-F080751F8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57120" y="207180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лэкуэлл, Роджер. Поведение потребителей: [учебник для студ. вузов]. : пер. с англ. / Р.Блэкуэлл, П. Миниард, Д. Энджел. - 10-е изд. - СПб. : Питер, 2007. - 944 с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асильев Г. А. Поведение потребителей: учебное пособие для студ. вузов. / Г. А. Васильев. - М. : Вузовский учебник, 2008. - 240 с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ломон Майкл. Поведение потребителей. Искусство и наука побеждать на рынке : Пер. с англ. / М.Соломон; Под ред. В.Е.Момота. - СПб. : ДиаСофт, 2003. - 784с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атт Дэвид. Психология потребителя (серия «Практическая психология»). – Спб.: Питер, 2003.- 450 с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CA2-6F7E-4B39-A767-37AF337A7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789640" y="228600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4356000" y="2852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7521" y="3837"/>
                </a:moveTo>
                <a:lnTo>
                  <a:pt x="20098" y="6448"/>
                </a:lnTo>
                <a:lnTo>
                  <a:pt x="20098" y="4707"/>
                </a:lnTo>
                <a:lnTo>
                  <a:pt x="21873" y="4707"/>
                </a:lnTo>
                <a:lnTo>
                  <a:pt x="21873" y="8224"/>
                </a:lnTo>
                <a:lnTo>
                  <a:pt x="24484" y="10800"/>
                </a:lnTo>
                <a:lnTo>
                  <a:pt x="22831" y="10800"/>
                </a:lnTo>
                <a:lnTo>
                  <a:pt x="22831" y="17989"/>
                </a:lnTo>
                <a:lnTo>
                  <a:pt x="12212" y="17989"/>
                </a:lnTo>
                <a:lnTo>
                  <a:pt x="12212" y="10800"/>
                </a:lnTo>
                <a:lnTo>
                  <a:pt x="10558" y="10800"/>
                </a:lnTo>
                <a:close/>
              </a:path>
              <a:path fill="darkenLess" w="35043" h="21600">
                <a:moveTo>
                  <a:pt x="20098" y="6448"/>
                </a:moveTo>
                <a:lnTo>
                  <a:pt x="20098" y="4707"/>
                </a:lnTo>
                <a:lnTo>
                  <a:pt x="21873" y="4707"/>
                </a:lnTo>
                <a:lnTo>
                  <a:pt x="21873" y="8224"/>
                </a:lnTo>
                <a:close/>
              </a:path>
              <a:path fill="darkenLess" w="35043" h="21600">
                <a:moveTo>
                  <a:pt x="16599" y="14299"/>
                </a:moveTo>
                <a:lnTo>
                  <a:pt x="18444" y="14299"/>
                </a:lnTo>
                <a:lnTo>
                  <a:pt x="18444" y="17989"/>
                </a:lnTo>
                <a:lnTo>
                  <a:pt x="22831" y="17989"/>
                </a:lnTo>
                <a:lnTo>
                  <a:pt x="22831" y="10800"/>
                </a:lnTo>
                <a:lnTo>
                  <a:pt x="12212" y="10800"/>
                </a:lnTo>
                <a:lnTo>
                  <a:pt x="12212" y="17989"/>
                </a:lnTo>
                <a:lnTo>
                  <a:pt x="16599" y="17989"/>
                </a:lnTo>
                <a:close/>
              </a:path>
            </a:pathLst>
          </a:custGeom>
          <a:solidFill>
            <a:srgbClr val="ff8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24000" y="37670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CFD-1847-492E-B0FD-5A7658041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840" y="207180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Ситуационное влияние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влияние, осуществляющееся за счет различных факторов, имеющих место в определенное время и в определенном месте и не зависящих от потребителей и объектов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Инновация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любая идея или продукт, воспринимаемые потенциальным потребителем как новы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Распространение, диффузия  -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цесс распространения информации об инновации между представителями социальной системы через существующие каналы в течение определенного времен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Непрерывные инновации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постоянные модификации существующего товар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A5D-33C3-4D75-B734-8E1B9869C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480" y="202896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Динамически непрерывные инновации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создание нового товара / модификация существующего, не изменяющие устоявшихся поведенческих паттернов потребител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рерывистые инновации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абсолютно новый товар, появление которого на рынке  заставляет покупателей кардинально изменить модель поведе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Новатор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потребитель, раньше других принимающий         новый товар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Новаторство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степень сравнения, по которой индивид принимает новшество раньше други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14F-8826-4365-B756-65CA6E0A6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480" y="19288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25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олиморфизм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понятие , характеризующее потребителей, являющихся новаторами в отношении многих товаров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Отстающие (инертные)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потребители, принимающие новый товар последними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Индивидуальный (монодический) подход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сследование распространения  инноваций на основе изучения личных и социальных характеристик           потребител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одход с учетом отношений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– сосредоточение на коммуникативных сетях и влиянии социально-структурных переменных на способы распространения инноваци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4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8BE-7AFF-48C2-B979-F88AD20B47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57120" y="2204640"/>
            <a:ext cx="8786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юбое поведение проявляется в рамках ситу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1" i="1" lang="ru-RU" sz="2300" spc="-1" strike="noStrike">
                <a:solidFill>
                  <a:srgbClr val="000000"/>
                </a:solidFill>
                <a:latin typeface="Tahoma"/>
              </a:rPr>
              <a:t>Ситуация коммуникации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– условия, в которых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требитель участвует в личном /неличном общени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ahoma"/>
              </a:rPr>
              <a:t>Ситуация покупки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– условия, в которых происходит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риобретение товара / услуг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ahoma"/>
              </a:rPr>
              <a:t>Ситуация потребления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условия  использования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товара / услуг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заимодействие индивида и ситу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Сегментирование  по признаку «ситуация использования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итуационное влияние: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ипы ситуац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ая соединительная линия 7"/>
          <p:cNvSpPr/>
          <p:nvPr/>
        </p:nvSpPr>
        <p:spPr>
          <a:xfrm>
            <a:off x="1214280" y="5713560"/>
            <a:ext cx="557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Стрелка вниз 8"/>
          <p:cNvSpPr/>
          <p:nvPr/>
        </p:nvSpPr>
        <p:spPr>
          <a:xfrm>
            <a:off x="3714840" y="5715000"/>
            <a:ext cx="71424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857160" y="2000160"/>
            <a:ext cx="2858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22d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Номер слайда 7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8F9-81F1-4A24-AE70-463A05916E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итуационное влияни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характеристики ситуац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-214560"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ремя суток, день недели, месяц, сезон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ремя относительно какого-то событ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Физическое окружение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(материальные составляющие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формационная среда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сположение, розничная среда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года, внешний вид товара и т.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Социальное окружени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5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сутствие / отсутствие др. люд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Предшествующее состояни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>
              <a:spcBef>
                <a:spcPts val="5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строение, условия вхождения в ситуацию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Цель /задача потребителя в ситуаци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533520" y="2071800"/>
            <a:ext cx="2538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Время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B3A-9EBD-4ADD-B959-D9C90643F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207180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нформационная сре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се доступные в момен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и сведения о продук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арактеристики информационной сред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Доступность информации (память, информация извне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нформационная нагрузка (число альтернатив, число показателей каждой альтернативы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12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Организация информации (формат, способ, форма)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55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рядок получения и обработки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55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ктивность использования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55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егкость сравнения и т.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итуационное влияние: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нформационная сре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9CD-F1F6-4344-9FB0-A22C4B29E0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57120" y="207180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озничная сре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атмосфера магази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задает ход мысли индивида, направление внимания,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зиционирует торговое заведение,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ызывает эмоциональные реакци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2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арактеристики розничной сред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музыка, цвет, запах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ланировка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нутримагазинные материалы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торговый персонал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лотность покупателей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итуационное влияние: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нформационная сре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DEE-70EE-45E5-B9A4-CC097AB51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ригорий</dc:creator>
  <dc:description/>
  <dc:language>en-US</dc:language>
  <cp:lastModifiedBy>григорий</cp:lastModifiedBy>
  <dcterms:modified xsi:type="dcterms:W3CDTF">2010-12-13T12:29:30Z</dcterms:modified>
  <cp:revision>759</cp:revision>
  <dc:subject/>
  <dc:title>PowerPoint Presentation</dc:title>
</cp:coreProperties>
</file>