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1376-DA4A-4F40-958F-7FECFE05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1E1-6132-421F-886E-5DD39F51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22CB-441E-431F-ABD9-BF99D0AC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751-5AED-42A0-BB61-2CEE7796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22C1-8E7E-442A-BA19-D8893D05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1B43-DB20-438D-B461-A6E2978A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5341-4511-45DA-B5AD-6B8BD025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00B4-0AAF-4290-BBA2-EBAF3D15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A2F9-5D94-42B6-BAB8-EA85D3D5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7957-A26B-41ED-A003-542D3DFF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9474-0CAD-4CD7-BEC6-25C8DF28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008C-B361-43C6-837F-2DB723D4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9BEB-1F87-417B-9502-DED472E2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C902-9FC3-44F3-AC4B-D6C0D4AF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1902-CA34-4B64-AC3B-4DB602DC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D02D-E62D-4D50-AEF9-35C8D3BE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7025-6513-45D0-AF49-C45313E8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C9E4-53F5-4D55-AA89-D70056D5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FF6B-58ED-41A0-8C85-75D58E95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BD09-B5DA-4397-ADA2-F59A2CC2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546E-15D7-4587-87D8-D934D38B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DF93-96C8-4CCD-8AAE-D0CDF621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A3A6-F147-4E34-AFD4-BCF35F5C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D14-5D25-4A97-88EF-576533DA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4C48-7F53-424B-9F6E-11A237A8E8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0A68-8CD4-4B64-BB06-614D1AB886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«Процессы и аппараты пищевых производств» 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НСПЕКТ ЛЕКЦ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ля специальностей 050727 – Технология продовольственных продук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50728 – Технология перерабатывающих производств, 050724 – Технологические машины и оборудование, 050701 – Биотехн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27280" y="1413000"/>
            <a:ext cx="575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ЦИЯ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Ы ГИДРАВЛ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дродинам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6 Расчет диаметра трубопро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7 Истечение жидкос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8 Понятие о реолог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чет диаметров трубопрово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ажно при проектирова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авнение объемного расход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юда определяют диамет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ые значения средней скорости теч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м/с         (для капельных жидкосте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 – 15 м/с     (газ, воздух при небольшом давлени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5 – 20 м/с   (газ, воздух при высоком давлени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 – 30 м/с   (насыщенный па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0 – 50 м/с   (перегретый пар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533520"/>
            <a:ext cx="4267440" cy="4572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895480" y="2362320"/>
                <a:ext cx="18320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π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200400" y="3505320"/>
                <a:ext cx="119844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υ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ср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ечение жидкост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уем уравнение Бернулли. Сначала исследуем истечение при постоянном уровне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533520"/>
            <a:ext cx="419112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7200" y="2514600"/>
            <a:ext cx="3962520" cy="2408400"/>
            <a:chOff x="457200" y="2514600"/>
            <a:chExt cx="3962520" cy="2408400"/>
          </a:xfrm>
        </p:grpSpPr>
        <p:sp>
          <p:nvSpPr>
            <p:cNvPr id="117" name=""/>
            <p:cNvSpPr/>
            <p:nvPr/>
          </p:nvSpPr>
          <p:spPr>
            <a:xfrm>
              <a:off x="3231000" y="4214160"/>
              <a:ext cx="48420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z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59120" y="3789000"/>
              <a:ext cx="3960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z</a:t>
              </a:r>
              <a:r>
                <a:rPr b="0" lang="ru-RU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34640" y="4072320"/>
              <a:ext cx="3960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17440" y="4072320"/>
              <a:ext cx="3960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3200" y="3080880"/>
              <a:ext cx="3963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98880" y="3080880"/>
              <a:ext cx="3960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06160" y="4497120"/>
              <a:ext cx="3960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09800" y="31777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306160" y="4310640"/>
              <a:ext cx="0" cy="42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74040" y="3885840"/>
              <a:ext cx="26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2174040" y="3301920"/>
              <a:ext cx="527040" cy="11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164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16414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49560" y="3035880"/>
              <a:ext cx="184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49560" y="3035880"/>
              <a:ext cx="0" cy="99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98880" y="3035880"/>
              <a:ext cx="0" cy="99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49560" y="402768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305800" y="402768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3200" y="3364920"/>
              <a:ext cx="30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53200" y="4072320"/>
              <a:ext cx="2509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38280" y="2752920"/>
              <a:ext cx="0" cy="6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41920" y="402768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06160" y="402768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13800" y="3602520"/>
              <a:ext cx="26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74040" y="3602520"/>
              <a:ext cx="13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78040" y="3744360"/>
              <a:ext cx="26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70400" y="3744360"/>
              <a:ext cx="26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13800" y="3885840"/>
              <a:ext cx="13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34640" y="3885840"/>
              <a:ext cx="13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02520" y="3602520"/>
              <a:ext cx="13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31000" y="4073040"/>
              <a:ext cx="0" cy="84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59120" y="3364920"/>
              <a:ext cx="0" cy="155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85320" y="3364920"/>
              <a:ext cx="0" cy="70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74040" y="4214880"/>
              <a:ext cx="0" cy="42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174040" y="3726720"/>
              <a:ext cx="527040" cy="11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164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16414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1382400" y="3177000"/>
              <a:ext cx="791280" cy="141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1382400" y="3320280"/>
              <a:ext cx="791280" cy="141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1382400" y="3460320"/>
              <a:ext cx="791280" cy="141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174040" y="3443400"/>
              <a:ext cx="527040" cy="11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1641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16414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78040" y="3364920"/>
              <a:ext cx="0" cy="42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1440" y="4923000"/>
              <a:ext cx="330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81680" y="3506400"/>
              <a:ext cx="47088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09800" y="44989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9320" y="3505680"/>
              <a:ext cx="3960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23360" y="4497120"/>
              <a:ext cx="3963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200" y="4497120"/>
              <a:ext cx="3960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09800" y="2514600"/>
              <a:ext cx="3963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029200" y="2209680"/>
                <a:ext cx="27781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4267080" y="3025800"/>
            <a:ext cx="434340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) При атмосферном давлении р</a:t>
            </a:r>
            <a:r>
              <a:rPr b="0" lang="ru-RU" sz="1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=р</a:t>
            </a:r>
            <a:r>
              <a:rPr b="0" lang="ru-RU" sz="1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(в сечении 1-1 скорость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, тогд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887480" y="3319560"/>
                <a:ext cx="41904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800600" y="3733920"/>
                <a:ext cx="13669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705720" y="3886200"/>
                <a:ext cx="15332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и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и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4806720" y="4357440"/>
            <a:ext cx="314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коэффициент истечен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8480" y="510480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) При избыточном давлен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133720" y="5562720"/>
                <a:ext cx="13237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181480" y="5562720"/>
                <a:ext cx="22496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ϕ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ρ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876920" y="5410080"/>
            <a:ext cx="27432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3809880"/>
            <a:ext cx="175284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течение при снижающемся уровне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ее значение имеет время истечения, а не скор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учетом полученных зависимостей, при убывающем уровн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Для открытого резервуа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533520"/>
            <a:ext cx="426708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191120" y="2514600"/>
                <a:ext cx="12301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и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532800" y="327600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При избыточном давлени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267080" y="3200400"/>
                <a:ext cx="1230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и</m:t>
                            </m:r>
                          </m:sub>
                        </m:sSub>
                        <m:r>
                          <m:t xml:space="preserve">S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и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734400" y="3809160"/>
            <a:ext cx="58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получения струй применяются насадки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3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143000" y="4228920"/>
            <a:ext cx="5256720" cy="1028880"/>
            <a:chOff x="1143000" y="4228920"/>
            <a:chExt cx="5256720" cy="1028880"/>
          </a:xfrm>
        </p:grpSpPr>
        <p:sp>
          <p:nvSpPr>
            <p:cNvPr id="188" name=""/>
            <p:cNvSpPr/>
            <p:nvPr/>
          </p:nvSpPr>
          <p:spPr>
            <a:xfrm>
              <a:off x="2971800" y="434340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1143000" y="4228920"/>
              <a:ext cx="5256720" cy="849960"/>
              <a:chOff x="1143000" y="4228920"/>
              <a:chExt cx="5256720" cy="84996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1143000" y="4457520"/>
                <a:ext cx="1714320" cy="228600"/>
                <a:chOff x="1143000" y="4457520"/>
                <a:chExt cx="1714320" cy="2286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1485720" y="4457520"/>
                  <a:ext cx="1028520" cy="228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143000" y="4571640"/>
                  <a:ext cx="799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171520" y="457164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314520" y="4343040"/>
                <a:ext cx="1256760" cy="457560"/>
                <a:chOff x="3314520" y="4343040"/>
                <a:chExt cx="1256760" cy="457560"/>
              </a:xfrm>
            </p:grpSpPr>
            <p:sp>
              <p:nvSpPr>
                <p:cNvPr id="195" name=""/>
                <p:cNvSpPr/>
                <p:nvPr/>
              </p:nvSpPr>
              <p:spPr>
                <a:xfrm rot="16200000">
                  <a:off x="3828600" y="4171680"/>
                  <a:ext cx="228600" cy="571320"/>
                </a:xfrm>
                <a:custGeom>
                  <a:avLst/>
                  <a:gdLst>
                    <a:gd name="textAreaLeft" fmla="*/ 50040 w 228600"/>
                    <a:gd name="textAreaRight" fmla="*/ 178560 w 228600"/>
                    <a:gd name="textAreaTop" fmla="*/ 125640 h 571320"/>
                    <a:gd name="textAreaBottom" fmla="*/ 445680 h 571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5400000">
                  <a:off x="3828240" y="4400640"/>
                  <a:ext cx="228600" cy="571320"/>
                </a:xfrm>
                <a:custGeom>
                  <a:avLst/>
                  <a:gdLst>
                    <a:gd name="textAreaLeft" fmla="*/ 50040 w 228600"/>
                    <a:gd name="textAreaRight" fmla="*/ 178560 w 228600"/>
                    <a:gd name="textAreaTop" fmla="*/ 125640 h 571320"/>
                    <a:gd name="textAreaBottom" fmla="*/ 445680 h 571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314520" y="445752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999960" y="445752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314520" y="468648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999960" y="468648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029200" y="4228920"/>
                <a:ext cx="1370520" cy="685440"/>
                <a:chOff x="5029200" y="4228920"/>
                <a:chExt cx="1370520" cy="6854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257800" y="4343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829120" y="4457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flipV="1">
                  <a:off x="5257800" y="4228560"/>
                  <a:ext cx="1141920" cy="227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>
                  <a:off x="5257800" y="4686480"/>
                  <a:ext cx="1141920" cy="227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029200" y="4572000"/>
                  <a:ext cx="102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1718280" y="473616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804560" y="473616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914400" y="510516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- Цилиндрические (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=0,8), 2 - Конические: А - сужающиеся (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=0,9–0,95, для дальнобойной струи), Б – расширяющиеся (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=0,5–0,55, для большого расхода при малой кинетической энергии), 3 – Коноидальные (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0,97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ньютоновские жидкости (3 основные группы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Скорость сдвига зависит от направления и не зависит от продолжительности воздействия – вязк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бингамовски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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 – коэффициент пластической вязкости (густые суспензии, пасты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) псевдопластичные малые значения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 ( кажущаяся вязкост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), который уменьшается с увеличением градиента скорости (суспензии с асимметричными частицам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) дилантные -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растет с увеличением градиента скорости (суспензии с большим количеством твердой фазы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Напряжение сдвига зависит от градиента скорости и изменяется во времен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тиксотропные – со временем падает напряжение сдвига (разрушается структур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)   реопектические – со временем растет напряжение сдви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Вязкоупругие (максвелловские) – текут при приложении напряжения, а после снятия восстанавливают частично форму (тесто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расчете трубопроводов определяют объемный расхо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П о н я т и е  о  р е о л о г и 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33720" y="533520"/>
            <a:ext cx="480060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315200" y="5410080"/>
                <a:ext cx="6015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457560" y="586656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тем -  диаметр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895480" y="5791320"/>
                <a:ext cx="7383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πυ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12-19T12:11:4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