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D41-8C52-4CE5-909E-FB176286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592-6599-4D2C-8D45-766C3C17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D4A-061D-40D9-B2B5-582B89A2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EB0-08FB-4780-B51D-024BB399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1E28-C567-4992-8084-94C45032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D50E-CFA8-4FB1-A40B-7BB1CB96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171B-5276-4188-83F1-EECA0B3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62C3-2861-4EF8-A4F6-0C597CED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D9C6-53F0-4EB7-A609-52B59C31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646E-7394-4E8C-8586-2279D305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5525-C6E3-430A-96CC-AF6829E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BDA-F8D1-4170-9D46-185DBC8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FB0A-F3FA-4F43-A3B6-9B82F150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3F89-296F-4774-A33F-4EB2CD8D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B856-02C5-4F88-9E40-25F6C985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A0DB-1872-4A13-B1D7-791413FE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DC34-BB00-467D-9810-36D8DADB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227-F556-491E-8FAD-7EF9874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A64-62AA-40DF-B02D-EEDAFFE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669-B7FA-4A80-B838-55CFBF65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3EB-2A47-408D-87A0-8AF1084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8A0-8F9D-4B65-B833-CC15606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2D7-2C8B-4E1C-8309-C44E2BC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136-9B81-4737-B386-C96A179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C04F-6625-40F6-AA13-A41FFEF81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aca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990-3A80-4477-8A6A-A9EDAC716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b2b2b2"/>
                </a:solidFill>
                <a:latin typeface="Arial"/>
              </a:rPr>
              <a:t>«Процессы и аппараты пищевых производств»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565000"/>
            <a:ext cx="7345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КОНСПЕКТ ЛЕКЦ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ля специальностей 050727 – Технология продовольственных продуктов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050728 – Технология перерабатывающих производств, 050724 – Технологические машины и оборудование, 050701 – Биотехнолог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МАССООБМЕНН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А  Аб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Г  Ректифик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Б  Адсорб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Д  Су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В  Экстра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Е  Раствор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Ж  Кристаллиз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60280"/>
            <a:ext cx="820728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ля описания состояния и его изменения различных тел используют физические величины, для их измерения – единицы системы СИ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а новых процессов и аппаратов состоит из нескольких стад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азработка технического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эскизного про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технического проек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оздание  конструкторской документ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Данные стадии предусматривают аналитические и экспериментальные исследования – для этого теория моделировани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Математическое моделирование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. Детерминированный подход – анализ элементарных яв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.Стохатический – изучение влияния входных параметров на выход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. Физическое моделирование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ение процессов на конкретных модел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Основы теории подоб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роцессы, происходящие в модели и натуральном аппарате, должны описываться одинаковыми уравн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Модель должна быть геометрически подобна натуральному образ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Значения начальные и граничных условий процесса, выраженные в виде критериев, должны быть одинаковы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се критерии и безразмерные компоненты во всех сходных точках должны быть одинаковыми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628640"/>
            <a:ext cx="4032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1628640"/>
            <a:ext cx="388764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Требования, предъявляемые к аппаратам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– качество, короткое время, энерго-ресурсосберегающ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луатационные – простота обслуживания при минимальных затратах и времени, доступность для ремонта и чис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етические – энергосбере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руктивные – унификация, стандартизация, снижение материалоемкости, эстетичность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ном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а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57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КЦИЯ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ения и пон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ассификация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новные принципы проектирования новых аппар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сновные понятия и определ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ц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следовательные и закономерные изменения в системе, приводящие к возникновению в ней новых свой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ш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еханизм (их сочетание) предназначенные для преобразования механической энергии в полезную раб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пара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устройство для проведения какого-либ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В основе всех технологических процессов лежат законы сохранения энергии и массы: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теплово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материальный балан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619280" y="2421000"/>
                <a:ext cx="3529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547640" y="4076640"/>
                <a:ext cx="360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К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ОТ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87640" y="5084640"/>
                <a:ext cx="302436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411280" y="4941720"/>
            <a:ext cx="432144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лассификация процессо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о-техн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отношению ко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рость процесса прямо пропорциональна движущейся силе и обратно сопротивлен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х – движущая си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84360" y="4221000"/>
                <a:ext cx="208764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1 Организационно-техническа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период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прерыв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комбиниров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2 По отношению ко време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установившиеся П≠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 – параметр проце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неустановившиеся П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τ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549360"/>
            <a:ext cx="7343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кинетическим закономерностя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гидро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механ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тепловые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) массообменны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) хим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) микробиолог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) электрофизические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=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1125360"/>
            <a:ext cx="46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 ГИДРО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628640"/>
          <a:ext cx="8208360" cy="4254480"/>
        </p:xfrm>
        <a:graphic>
          <a:graphicData uri="http://schemas.openxmlformats.org/drawingml/2006/table">
            <a:tbl>
              <a:tblPr/>
              <a:tblGrid>
                <a:gridCol w="710640"/>
                <a:gridCol w="2023200"/>
                <a:gridCol w="756360"/>
                <a:gridCol w="1984320"/>
                <a:gridCol w="792000"/>
                <a:gridCol w="194184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жидкостн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газовы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та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силы тяж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ер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ждение под действием центробежных с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ифуг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евдоожи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ос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и удаление неоднородных слое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К л а с с и ф и к а ц и я   п р о ц е с с о в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6360" y="1140480"/>
            <a:ext cx="328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 МЕХАНИЧЕСКИ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739880"/>
          <a:ext cx="7920000" cy="2317680"/>
        </p:xfrm>
        <a:graphic>
          <a:graphicData uri="http://schemas.openxmlformats.org/drawingml/2006/table">
            <a:tbl>
              <a:tblPr/>
              <a:tblGrid>
                <a:gridCol w="684000"/>
                <a:gridCol w="3129120"/>
                <a:gridCol w="744480"/>
                <a:gridCol w="3362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однородных и неоднородных твердых, пластичн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твердых и сыпучих сист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льч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многокомпонентных систем с получением однокомпонентны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неоднородных систем по размерам компонен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с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2721600" y="4091760"/>
            <a:ext cx="27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 ТЕПЛОВЫЕ ПРОЦЕС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95280" y="4724280"/>
          <a:ext cx="8064360" cy="1919520"/>
        </p:xfrm>
        <a:graphic>
          <a:graphicData uri="http://schemas.openxmlformats.org/drawingml/2006/table">
            <a:tbl>
              <a:tblPr/>
              <a:tblGrid>
                <a:gridCol w="698400"/>
                <a:gridCol w="3184560"/>
                <a:gridCol w="758880"/>
                <a:gridCol w="3422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изменения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изменением агрегатного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денс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ла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Б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ораживание-разморажи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ление-отверде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56:42Z</dcterms:created>
  <dc:creator>User</dc:creator>
  <dc:description/>
  <dc:language>en-US</dc:language>
  <cp:lastModifiedBy>User</cp:lastModifiedBy>
  <dcterms:modified xsi:type="dcterms:W3CDTF">2006-12-19T12:05:04Z</dcterms:modified>
  <cp:revision>5</cp:revision>
  <dc:subject/>
  <dc:title> «Процессы и аппараты пищевых производств»  </dc:title>
</cp:coreProperties>
</file>