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BE49-CBFF-4462-8F5A-35642654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237A-3266-4F7D-8F07-55DD8D8D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5D98-39B2-41A6-8E99-37E5C692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9A8A-1559-4CAF-9948-B9BD3A75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F0D4-4281-477C-8C5B-BC7FDA5D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053B-7186-4A95-AA44-39E4627E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9F37-2AD7-4C86-9E86-9D94FC91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76AB-A290-4B21-8550-FCA4266B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5C47-08F4-4223-9589-514A5FB6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F4B1-1DDD-417D-8B46-4A0A63A1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5068-9C55-42D0-8C2E-22F6518F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8F10-F8FF-4756-9A98-B2FA477B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A5BE-5CD7-4926-9E69-0432C480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4E2B-0AA1-425A-AE77-3B6FAD78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0179-FEF6-4CC1-95C4-59E9425F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DEF8-32F5-440C-BB60-D5FB4CC1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6530-B9FC-4804-AD4D-02902200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D43-45F7-40A4-8A8B-0ADFE09E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67D2-6763-4084-B9A1-30E4F722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BF2-3899-4637-A50B-C0BD8422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921-A913-4805-8189-47C35D8F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3BDC-F43E-4762-8F07-F92CDE59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A9EC-45EF-48C8-87EA-D3C19C4C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FBA-BA38-46AD-AE3C-6E6426D7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71AA-0970-40FF-AD48-DA53F1D93D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D6C2-A28E-444D-B55A-5C5100AB58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«Процессы и аппараты пищевых производств» 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903040" y="476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МЕХАНИЧЕСКИЕ ПРОЦЕС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716360" y="1916280"/>
                <a:ext cx="1295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4427640" y="3429000"/>
                <a:ext cx="869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пт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427640" y="4941720"/>
                <a:ext cx="130788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о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нк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Δх</m:t>
                        </m:r>
                      </m:num>
                      <m:den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нк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755640" y="947160"/>
            <a:ext cx="620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.3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Смешивание и сортировка сыпучих и пластичных материал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мешивание – для получения однородных по составу систем и смесе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должительность перемешивания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5640" y="2471400"/>
            <a:ext cx="809136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, экспериментальный параметр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i="1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и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i="1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начальная и конечная концентрация компонен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 длительном перемешивании наблюдается расслоение, поэтому оптимальное время перемешивани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6920" y="3862080"/>
            <a:ext cx="6942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количество перемешиваний,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число оборо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Также как при перемешивании жидкостной системы важное значение имеют интенсивность и степень перемешивания, а также коэффициент однородности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36360" y="5640840"/>
            <a:ext cx="427248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i="1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нк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начальная концентрация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ru-RU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х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отклонение концентрации в пробе от начально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903040" y="476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МЕХАНИЧЕСКИЕ ПРОЦЕС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069200" y="1627560"/>
            <a:ext cx="7227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месители  (периодически  и    непрерывно действующие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) лопастной,    2) шнековый,    3) бараба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900000" y="3357360"/>
            <a:ext cx="7632720" cy="1836720"/>
            <a:chOff x="900000" y="3357360"/>
            <a:chExt cx="7632720" cy="1836720"/>
          </a:xfrm>
        </p:grpSpPr>
        <p:sp>
          <p:nvSpPr>
            <p:cNvPr id="444" name=""/>
            <p:cNvSpPr/>
            <p:nvPr/>
          </p:nvSpPr>
          <p:spPr>
            <a:xfrm>
              <a:off x="6548400" y="3357720"/>
              <a:ext cx="1373760" cy="9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36960" y="496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00160" y="4736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42240" y="4736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42240" y="4736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36960" y="496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10560" y="3357720"/>
              <a:ext cx="1373760" cy="9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63200" y="3587040"/>
              <a:ext cx="15228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68480" y="3816720"/>
              <a:ext cx="15264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73760" y="3587040"/>
              <a:ext cx="15228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79040" y="3816720"/>
              <a:ext cx="15264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52640" y="3816720"/>
              <a:ext cx="228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36960" y="3587040"/>
              <a:ext cx="152640" cy="459000"/>
            </a:xfrm>
            <a:custGeom>
              <a:avLst/>
              <a:gdLst>
                <a:gd name="textAreaLeft" fmla="*/ 33840 w 152640"/>
                <a:gd name="textAreaRight" fmla="*/ 103320 w 152640"/>
                <a:gd name="textAreaTop" fmla="*/ 61200 h 459000"/>
                <a:gd name="textAreaBottom" fmla="*/ 39780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656" hR="21600" stAng="10800000" swAng="5400000"/>
                  <a:lnTo>
                    <a:pt x="9784" y="0"/>
                  </a:lnTo>
                  <a:arcTo wR="9656" hR="21600" stAng="-5400000" swAng="3099610"/>
                  <a:lnTo>
                    <a:pt x="21048" y="14400"/>
                  </a:lnTo>
                  <a:lnTo>
                    <a:pt x="19376" y="21600"/>
                  </a:lnTo>
                  <a:lnTo>
                    <a:pt x="16600" y="14400"/>
                  </a:lnTo>
                  <a:lnTo>
                    <a:pt x="18760" y="14400"/>
                  </a:lnTo>
                  <a:arcTo wR="9656" hR="21600" stAng="-2300390" swAng="-3089424"/>
                  <a:lnTo>
                    <a:pt x="9720" y="0"/>
                  </a:lnTo>
                  <a:arcTo wR="9656" hR="21600" stAng="-5410186" swAng="-5389814"/>
                  <a:close/>
                </a:path>
                <a:path fill="darkenLess" w="21600" h="21600">
                  <a:moveTo>
                    <a:pt x="0" y="21600"/>
                  </a:moveTo>
                  <a:arcTo wR="9656" hR="21600" stAng="10800000" swAng="5400000"/>
                  <a:lnTo>
                    <a:pt x="9656" y="0"/>
                  </a:lnTo>
                  <a:arcTo wR="9656" hR="21600" stAng="-5400000" swAng="10186"/>
                  <a:lnTo>
                    <a:pt x="9720" y="0"/>
                  </a:lnTo>
                  <a:arcTo wR="9656" hR="21600" stAng="-5410186" swAng="-5389814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53160" y="3357720"/>
              <a:ext cx="1373760" cy="91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47520" y="3816720"/>
              <a:ext cx="213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3953160" y="3357360"/>
              <a:ext cx="152640" cy="4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05800" y="3357720"/>
              <a:ext cx="30492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4411080" y="3357360"/>
              <a:ext cx="30528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16360" y="3357720"/>
              <a:ext cx="30492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5021640" y="3357360"/>
              <a:ext cx="30528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79560" y="3587040"/>
              <a:ext cx="152640" cy="459000"/>
            </a:xfrm>
            <a:custGeom>
              <a:avLst/>
              <a:gdLst>
                <a:gd name="textAreaLeft" fmla="*/ 33840 w 152640"/>
                <a:gd name="textAreaRight" fmla="*/ 103320 w 152640"/>
                <a:gd name="textAreaTop" fmla="*/ 61200 h 459000"/>
                <a:gd name="textAreaBottom" fmla="*/ 397800 h 45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656" hR="21600" stAng="10800000" swAng="5400000"/>
                  <a:lnTo>
                    <a:pt x="9784" y="0"/>
                  </a:lnTo>
                  <a:arcTo wR="9656" hR="21600" stAng="-5400000" swAng="3426237"/>
                  <a:lnTo>
                    <a:pt x="21220" y="15600"/>
                  </a:lnTo>
                  <a:lnTo>
                    <a:pt x="19376" y="21600"/>
                  </a:lnTo>
                  <a:lnTo>
                    <a:pt x="16772" y="15600"/>
                  </a:lnTo>
                  <a:lnTo>
                    <a:pt x="18932" y="15600"/>
                  </a:lnTo>
                  <a:arcTo wR="9656" hR="21600" stAng="-1973763" swAng="-3416051"/>
                  <a:lnTo>
                    <a:pt x="9720" y="0"/>
                  </a:lnTo>
                  <a:arcTo wR="9656" hR="21600" stAng="-5410186" swAng="-5389814"/>
                  <a:close/>
                </a:path>
                <a:path fill="darkenLess" w="21600" h="21600">
                  <a:moveTo>
                    <a:pt x="0" y="21600"/>
                  </a:moveTo>
                  <a:arcTo wR="9656" hR="21600" stAng="10800000" swAng="5400000"/>
                  <a:lnTo>
                    <a:pt x="9656" y="0"/>
                  </a:lnTo>
                  <a:arcTo wR="9656" hR="21600" stAng="-5400000" swAng="10186"/>
                  <a:lnTo>
                    <a:pt x="9720" y="0"/>
                  </a:lnTo>
                  <a:arcTo wR="9656" hR="21600" stAng="-5410186" swAng="-5389814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922160" y="3816720"/>
              <a:ext cx="61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380080" y="3587040"/>
              <a:ext cx="152280" cy="688680"/>
            </a:xfrm>
            <a:custGeom>
              <a:avLst/>
              <a:gdLst>
                <a:gd name="textAreaLeft" fmla="*/ 33840 w 152280"/>
                <a:gd name="textAreaRight" fmla="*/ 102960 w 152280"/>
                <a:gd name="textAreaTop" fmla="*/ 92160 h 688680"/>
                <a:gd name="textAreaBottom" fmla="*/ 596520 h 68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656" hR="21600" stAng="10800000" swAng="5400000"/>
                  <a:lnTo>
                    <a:pt x="9784" y="0"/>
                  </a:lnTo>
                  <a:arcTo wR="9656" hR="21600" stAng="-5400000" swAng="3099610"/>
                  <a:lnTo>
                    <a:pt x="21048" y="14400"/>
                  </a:lnTo>
                  <a:lnTo>
                    <a:pt x="19376" y="21600"/>
                  </a:lnTo>
                  <a:lnTo>
                    <a:pt x="16600" y="14400"/>
                  </a:lnTo>
                  <a:lnTo>
                    <a:pt x="18760" y="14400"/>
                  </a:lnTo>
                  <a:arcTo wR="9656" hR="21600" stAng="-2300390" swAng="-3089424"/>
                  <a:lnTo>
                    <a:pt x="9720" y="0"/>
                  </a:lnTo>
                  <a:arcTo wR="9656" hR="21600" stAng="-5410186" swAng="-5389814"/>
                  <a:close/>
                </a:path>
                <a:path fill="darkenLess" w="21600" h="21600">
                  <a:moveTo>
                    <a:pt x="0" y="21600"/>
                  </a:moveTo>
                  <a:arcTo wR="9656" hR="21600" stAng="10800000" swAng="5400000"/>
                  <a:lnTo>
                    <a:pt x="9656" y="0"/>
                  </a:lnTo>
                  <a:arcTo wR="9656" hR="21600" stAng="-5400000" swAng="10186"/>
                  <a:lnTo>
                    <a:pt x="9720" y="0"/>
                  </a:lnTo>
                  <a:arcTo wR="9656" hR="21600" stAng="-5410186" swAng="-5389814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53320" y="4046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158960" y="4046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64240" y="4046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311600" y="3816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0680" y="3816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006320" y="3816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16880" y="3816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0120" y="3816720"/>
              <a:ext cx="45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074800" y="4046400"/>
              <a:ext cx="30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74800" y="3587040"/>
              <a:ext cx="30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90120" y="4046400"/>
              <a:ext cx="30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90120" y="3587040"/>
              <a:ext cx="30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090120" y="4046400"/>
              <a:ext cx="15264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8074800" y="4046400"/>
              <a:ext cx="15264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42760" y="4046400"/>
              <a:ext cx="15264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27440" y="4046400"/>
              <a:ext cx="152640" cy="9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937480" y="4964760"/>
              <a:ext cx="610560" cy="229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37480" y="4964760"/>
              <a:ext cx="61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22160" y="4964760"/>
              <a:ext cx="610560" cy="22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22160" y="4964760"/>
              <a:ext cx="61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510560" y="4276080"/>
              <a:ext cx="152640" cy="68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953160" y="4276080"/>
              <a:ext cx="152640" cy="68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74280" y="4276080"/>
              <a:ext cx="152640" cy="68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731680" y="4276080"/>
              <a:ext cx="152640" cy="68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00160" y="4964760"/>
              <a:ext cx="1679040" cy="229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57920" y="4964760"/>
              <a:ext cx="1679040" cy="229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57920" y="4964760"/>
              <a:ext cx="167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00160" y="4964760"/>
              <a:ext cx="167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0000" y="4276080"/>
              <a:ext cx="45792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89600" y="4276080"/>
              <a:ext cx="45792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32200" y="4276080"/>
              <a:ext cx="45792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922400" y="3386880"/>
            <a:ext cx="63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903040" y="476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МЕХАНИЧЕСКИЕ ПРОЦЕС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922400" y="3386880"/>
            <a:ext cx="63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5280" y="1840320"/>
            <a:ext cx="84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Разделени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ли сортировка используется для разделения продуктов по каким-либо признака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) Сортирование – по качест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) Калибровка – по велич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) Просеивание – отделение продуктов от примес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) Триерирование – разделение по фор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) Сепарирование – по плот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) Магнитное сепарирование – по магнитным свойств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903040" y="476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МЕХАНИЧЕСКИЕ ПРОЦЕС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922400" y="3386880"/>
            <a:ext cx="63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78800" y="1154520"/>
            <a:ext cx="608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Аппарат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) Сит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) Грохоты (механические сит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) Гидравлические сепаратор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) Веял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) Дисковый сепаратор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6) Электромагнитный сепарат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941400" y="2220840"/>
            <a:ext cx="6263640" cy="4637160"/>
            <a:chOff x="941400" y="2220840"/>
            <a:chExt cx="6263640" cy="4637160"/>
          </a:xfrm>
        </p:grpSpPr>
        <p:grpSp>
          <p:nvGrpSpPr>
            <p:cNvPr id="522" name=""/>
            <p:cNvGrpSpPr/>
            <p:nvPr/>
          </p:nvGrpSpPr>
          <p:grpSpPr>
            <a:xfrm>
              <a:off x="4977000" y="3399480"/>
              <a:ext cx="2228040" cy="2010240"/>
              <a:chOff x="4977000" y="3399480"/>
              <a:chExt cx="2228040" cy="2010240"/>
            </a:xfrm>
          </p:grpSpPr>
          <p:sp>
            <p:nvSpPr>
              <p:cNvPr id="523" name=""/>
              <p:cNvSpPr/>
              <p:nvPr/>
            </p:nvSpPr>
            <p:spPr>
              <a:xfrm>
                <a:off x="5833440" y="3846600"/>
                <a:ext cx="17136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6176520" y="3846600"/>
                <a:ext cx="171360" cy="25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090840" y="3760920"/>
                <a:ext cx="0" cy="59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0800000">
                <a:off x="6091200" y="4190040"/>
                <a:ext cx="342000" cy="34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5208000">
                <a:off x="5744880" y="4194360"/>
                <a:ext cx="340560" cy="342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919480" y="453240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8473200">
                <a:off x="5932440" y="3468240"/>
                <a:ext cx="34200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748480" y="4703040"/>
                <a:ext cx="6843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5662080" y="4703040"/>
                <a:ext cx="8640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05400" y="4703040"/>
                <a:ext cx="8496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319720" y="470304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5234040" y="4703040"/>
                <a:ext cx="8568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977000" y="4703040"/>
                <a:ext cx="8568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977000" y="4360680"/>
                <a:ext cx="0" cy="34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433200" y="4703040"/>
                <a:ext cx="8568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6690960" y="4703040"/>
                <a:ext cx="8568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75920" y="470304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861960" y="4703040"/>
                <a:ext cx="8568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7118280" y="4703040"/>
                <a:ext cx="8640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04680" y="4360680"/>
                <a:ext cx="360" cy="34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005160" y="3846600"/>
                <a:ext cx="0" cy="17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7344800">
                <a:off x="5365440" y="4311360"/>
                <a:ext cx="68472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7344800">
                <a:off x="5716080" y="4382280"/>
                <a:ext cx="68508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36157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3615721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9571400">
                <a:off x="6276240" y="4302720"/>
                <a:ext cx="68544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429600">
                <a:off x="5892840" y="4456080"/>
                <a:ext cx="685800" cy="9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902" y="37"/>
                    </a:moveTo>
                    <a:arcTo wR="10800" hR="10800" stAng="-5686226" swAng="3901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902" y="37"/>
                    </a:moveTo>
                    <a:arcTo wR="10800" hR="10800" stAng="-5686226" swAng="390194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4977000" y="2220840"/>
              <a:ext cx="1811160" cy="1400040"/>
              <a:chOff x="4977000" y="2220840"/>
              <a:chExt cx="1811160" cy="1400040"/>
            </a:xfrm>
          </p:grpSpPr>
          <p:sp>
            <p:nvSpPr>
              <p:cNvPr id="549" name=""/>
              <p:cNvSpPr/>
              <p:nvPr/>
            </p:nvSpPr>
            <p:spPr>
              <a:xfrm>
                <a:off x="4977000" y="2220840"/>
                <a:ext cx="0" cy="11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977000" y="3373560"/>
                <a:ext cx="1481760" cy="24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4977000" y="2385000"/>
                <a:ext cx="14817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458760" y="2385360"/>
                <a:ext cx="0" cy="107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458760" y="3456360"/>
                <a:ext cx="1641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458760" y="3620520"/>
                <a:ext cx="1641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458760" y="3538440"/>
                <a:ext cx="3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458760" y="2385360"/>
                <a:ext cx="164160" cy="16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623280" y="2385360"/>
                <a:ext cx="164880" cy="16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540840" y="2303280"/>
                <a:ext cx="82440" cy="820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294240" y="2303280"/>
                <a:ext cx="82800" cy="8136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29360" y="2303280"/>
                <a:ext cx="82440" cy="820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964840" y="2303280"/>
                <a:ext cx="82440" cy="820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800320" y="2303280"/>
                <a:ext cx="82800" cy="8136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635440" y="2303280"/>
                <a:ext cx="82080" cy="820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70920" y="2303280"/>
                <a:ext cx="82440" cy="8244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306400" y="2303280"/>
                <a:ext cx="82800" cy="820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41160" y="2303280"/>
                <a:ext cx="82800" cy="8208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141160" y="2632320"/>
                <a:ext cx="82800" cy="8136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294240" y="3456360"/>
                <a:ext cx="82800" cy="813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129360" y="3373560"/>
                <a:ext cx="82440" cy="820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964840" y="3373560"/>
                <a:ext cx="82440" cy="8244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800320" y="3373560"/>
                <a:ext cx="82800" cy="8244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635440" y="3291480"/>
                <a:ext cx="83160" cy="813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70920" y="3291480"/>
                <a:ext cx="82440" cy="820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306400" y="3291480"/>
                <a:ext cx="82800" cy="820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141160" y="3209400"/>
                <a:ext cx="82800" cy="820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059080" y="2879640"/>
                <a:ext cx="82440" cy="817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5141160" y="2467440"/>
                <a:ext cx="360" cy="16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059080" y="2962440"/>
                <a:ext cx="360" cy="16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223600" y="2550240"/>
                <a:ext cx="2469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223600" y="2797560"/>
                <a:ext cx="24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00320" y="3126600"/>
                <a:ext cx="2466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964840" y="2550240"/>
                <a:ext cx="2469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5635440" y="2631960"/>
                <a:ext cx="2469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5800320" y="2879280"/>
                <a:ext cx="2466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388480" y="3044520"/>
                <a:ext cx="2466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046920" y="2962440"/>
                <a:ext cx="24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129360" y="3209400"/>
                <a:ext cx="24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1661760" y="2334960"/>
              <a:ext cx="2860920" cy="1721160"/>
              <a:chOff x="1661760" y="2334960"/>
              <a:chExt cx="2860920" cy="1721160"/>
            </a:xfrm>
          </p:grpSpPr>
          <p:sp>
            <p:nvSpPr>
              <p:cNvPr id="589" name=""/>
              <p:cNvSpPr/>
              <p:nvPr/>
            </p:nvSpPr>
            <p:spPr>
              <a:xfrm>
                <a:off x="1846800" y="3169080"/>
                <a:ext cx="148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1846800" y="2890080"/>
                <a:ext cx="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3328560" y="2890080"/>
                <a:ext cx="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846800" y="2612880"/>
                <a:ext cx="0" cy="27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3328560" y="2612520"/>
                <a:ext cx="0" cy="27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328560" y="2983680"/>
                <a:ext cx="37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698640" y="2983680"/>
                <a:ext cx="9288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3605760" y="3169080"/>
                <a:ext cx="185400" cy="37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791880" y="3169080"/>
                <a:ext cx="184680" cy="37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54280" y="2427840"/>
                <a:ext cx="9252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1846800" y="2427480"/>
                <a:ext cx="9252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>
                <a:off x="3236040" y="2427480"/>
                <a:ext cx="9216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3328560" y="2427480"/>
                <a:ext cx="92520" cy="18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661760" y="2427840"/>
                <a:ext cx="36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143160" y="2334960"/>
                <a:ext cx="370440" cy="928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143160" y="2427840"/>
                <a:ext cx="3704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661760" y="2334960"/>
                <a:ext cx="369360" cy="92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513600" y="3539160"/>
                <a:ext cx="555480" cy="921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513600" y="3539160"/>
                <a:ext cx="5554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18738000">
                <a:off x="3383640" y="3052080"/>
                <a:ext cx="1032480" cy="74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6714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671442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941400" y="3451320"/>
              <a:ext cx="3439800" cy="2370240"/>
              <a:chOff x="941400" y="3451320"/>
              <a:chExt cx="3439800" cy="2370240"/>
            </a:xfrm>
          </p:grpSpPr>
          <p:sp>
            <p:nvSpPr>
              <p:cNvPr id="610" name=""/>
              <p:cNvSpPr/>
              <p:nvPr/>
            </p:nvSpPr>
            <p:spPr>
              <a:xfrm>
                <a:off x="1616040" y="4466880"/>
                <a:ext cx="617040" cy="2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воздух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1" name=""/>
              <p:cNvGrpSpPr/>
              <p:nvPr/>
            </p:nvGrpSpPr>
            <p:grpSpPr>
              <a:xfrm>
                <a:off x="1547640" y="3451320"/>
                <a:ext cx="2833560" cy="1460520"/>
                <a:chOff x="1547640" y="3451320"/>
                <a:chExt cx="2833560" cy="1460520"/>
              </a:xfrm>
            </p:grpSpPr>
            <p:grpSp>
              <p:nvGrpSpPr>
                <p:cNvPr id="612" name=""/>
                <p:cNvGrpSpPr/>
                <p:nvPr/>
              </p:nvGrpSpPr>
              <p:grpSpPr>
                <a:xfrm>
                  <a:off x="1901880" y="3725280"/>
                  <a:ext cx="2124000" cy="1003680"/>
                  <a:chOff x="1901880" y="3725280"/>
                  <a:chExt cx="2124000" cy="100368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>
                    <a:off x="2078640" y="3725280"/>
                    <a:ext cx="531000" cy="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078640" y="3725280"/>
                    <a:ext cx="88200" cy="182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>
                    <a:off x="2520720" y="3725280"/>
                    <a:ext cx="88200" cy="182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2078280" y="3907800"/>
                    <a:ext cx="8820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1901880" y="4181760"/>
                    <a:ext cx="176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1901880" y="4364280"/>
                    <a:ext cx="176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078640" y="4364280"/>
                    <a:ext cx="264960" cy="36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V="1">
                    <a:off x="2521080" y="4455360"/>
                    <a:ext cx="1767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698200" y="4455360"/>
                    <a:ext cx="17640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V="1">
                    <a:off x="3052440" y="4455360"/>
                    <a:ext cx="1767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3229200" y="4455360"/>
                    <a:ext cx="17712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V="1">
                    <a:off x="3583440" y="4455360"/>
                    <a:ext cx="1767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521080" y="3907800"/>
                    <a:ext cx="123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760200" y="3907800"/>
                    <a:ext cx="177120" cy="182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V="1">
                    <a:off x="3760200" y="4272480"/>
                    <a:ext cx="177120" cy="182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3937680" y="4090680"/>
                    <a:ext cx="88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3937680" y="4272840"/>
                    <a:ext cx="88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0" name=""/>
                <p:cNvSpPr/>
                <p:nvPr/>
              </p:nvSpPr>
              <p:spPr>
                <a:xfrm>
                  <a:off x="1547640" y="4273560"/>
                  <a:ext cx="3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026960" y="4181760"/>
                  <a:ext cx="3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344680" y="3451320"/>
                  <a:ext cx="0" cy="18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433240" y="4638240"/>
                  <a:ext cx="0" cy="2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964600" y="4638240"/>
                  <a:ext cx="0" cy="2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495960" y="4638240"/>
                  <a:ext cx="360" cy="2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"/>
              <p:cNvSpPr/>
              <p:nvPr/>
            </p:nvSpPr>
            <p:spPr>
              <a:xfrm>
                <a:off x="1957680" y="4011120"/>
                <a:ext cx="1016640" cy="109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492200" y="4011120"/>
                <a:ext cx="2044800" cy="181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20" y="11"/>
                    </a:moveTo>
                    <a:arcTo wR="10800" hR="10800" stAng="-5552926" swAng="40332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20" y="11"/>
                    </a:moveTo>
                    <a:arcTo wR="10800" hR="10800" stAng="-5552926" swAng="4033286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602200">
                <a:off x="1256400" y="3757680"/>
                <a:ext cx="1363320" cy="146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114" y="80"/>
                    </a:moveTo>
                    <a:arcTo wR="10800" hR="10800" stAng="-4980837" swAng="20413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114" y="80"/>
                    </a:moveTo>
                    <a:arcTo wR="10800" hR="10800" stAng="-4980837" swAng="2041382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1956600" y="5247720"/>
              <a:ext cx="20052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2356920" y="5247720"/>
              <a:ext cx="19980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56600" y="5744160"/>
              <a:ext cx="15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57160" y="5744160"/>
              <a:ext cx="325440" cy="34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90360" y="6102360"/>
              <a:ext cx="160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55560" y="5749200"/>
              <a:ext cx="32112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5400000">
              <a:off x="3346200" y="5755320"/>
              <a:ext cx="347760" cy="3250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919240" y="5162760"/>
              <a:ext cx="9237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Эл. магни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57560" y="5048280"/>
              <a:ext cx="360" cy="63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3368600">
              <a:off x="1731240" y="5532480"/>
              <a:ext cx="397080" cy="63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94" y="1224"/>
                  </a:moveTo>
                  <a:arcTo wR="10800" hR="10800" stAng="-3747406" swAng="37474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94" y="1224"/>
                  </a:moveTo>
                  <a:arcTo wR="10800" hR="10800" stAng="-3747406" swAng="374740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3376440" y="6102360"/>
              <a:ext cx="36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57160" y="6432120"/>
              <a:ext cx="170136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магнитн.       немагнитн.         продукты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024200">
              <a:off x="3096720" y="5778000"/>
              <a:ext cx="801360" cy="85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643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64327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147840" y="5396400"/>
              <a:ext cx="457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661760" y="33015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519800" y="341136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61760" y="475632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05680" y="475632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775880" y="63684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284720" y="4936320"/>
            <a:ext cx="44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пускная способность сита характеризуется его живым сечением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5940360" y="5300640"/>
                <a:ext cx="7905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1" name=""/>
          <p:cNvSpPr/>
          <p:nvPr/>
        </p:nvSpPr>
        <p:spPr>
          <a:xfrm>
            <a:off x="4427640" y="5720040"/>
            <a:ext cx="446400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ru-RU" sz="1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лощадь отверстий,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лощадь всего сита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Для характеристики размеров частиц используют обозначение плюс, минус. Например, частица проходит через отверстие 3 мм и задерживается на отверстии 2 мм. Ее класс крупности обозначают – 3 + 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68360" y="1413000"/>
            <a:ext cx="61185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МЕХАНИЧЕСКИЕ ПРОЦЕС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1. Измель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2. Пресс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3. Смешивание и сортир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ЕХАНИЧЕСКИЕ ПРОЦЕССЫ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981000"/>
            <a:ext cx="770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 механическим процессам относятся: измельчение,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ссование, смешивание и сортировка сыпучих матери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4.1 Измель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змельчение – деление твердого вещества материала на ч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зависимости от размеров исходного и измельченного кусков различа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1. Дробление, которое дели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х, мм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, мм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1 Крупное                                  1000            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2 Среднее                                    250              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3 Мелкое                                       20             1–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2. Помол, который подразделя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х, мм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, мм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1 Грубый                                    1–5        0,1 –0,04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2 Средний                           0,1 – 0,04    0,015–0,05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3 Тонкий                             0,1 – 0,04    0,005 – 0,001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4 Коллоидный                             0,1         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0,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ЕХАНИЧЕСКИЕ ПРОЦЕССЫ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327680"/>
            <a:ext cx="820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Основной показатель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- степень измельчения, которую подразделяют:             1. Линей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Объем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–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чальный и конечный диаметр кусков материала, если куски имеют не шарообразную форму, то считают средний диамет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08000" y="2565360"/>
                <a:ext cx="1079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lb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148360" y="1511280"/>
                <a:ext cx="10080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64000" y="1773360"/>
                <a:ext cx="576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9640" y="2030400"/>
                <a:ext cx="6732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24000" y="314136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Циклы измельчения деля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 Открытые: 1.1 простой;  1.2 с предварительным сортированием.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Замкнутые: 2.1 с предварительным сортированием и поверкой; 2.2 с поверочным сортирова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87280" y="4723920"/>
            <a:ext cx="6840720" cy="1584720"/>
            <a:chOff x="1187280" y="4723920"/>
            <a:chExt cx="6840720" cy="1584720"/>
          </a:xfrm>
        </p:grpSpPr>
        <p:sp>
          <p:nvSpPr>
            <p:cNvPr id="124" name=""/>
            <p:cNvSpPr/>
            <p:nvPr/>
          </p:nvSpPr>
          <p:spPr>
            <a:xfrm>
              <a:off x="3661200" y="5300280"/>
              <a:ext cx="582120" cy="57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0360" y="5156280"/>
              <a:ext cx="582120" cy="57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00080" y="5300280"/>
              <a:ext cx="581400" cy="57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352240" y="5012640"/>
              <a:ext cx="1454400" cy="143280"/>
              <a:chOff x="2352240" y="5012640"/>
              <a:chExt cx="1454400" cy="143280"/>
            </a:xfrm>
          </p:grpSpPr>
          <p:sp>
            <p:nvSpPr>
              <p:cNvPr id="128" name=""/>
              <p:cNvSpPr/>
              <p:nvPr/>
            </p:nvSpPr>
            <p:spPr>
              <a:xfrm>
                <a:off x="2352240" y="5155920"/>
                <a:ext cx="145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2352240" y="501264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3806640" y="501264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952440" y="5876640"/>
              <a:ext cx="7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42400" y="472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224880" y="48682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24880" y="4868280"/>
              <a:ext cx="72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52440" y="48682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33640" y="53002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4389120" y="5876280"/>
              <a:ext cx="1455480" cy="143280"/>
              <a:chOff x="4389120" y="5876280"/>
              <a:chExt cx="1455480" cy="143280"/>
            </a:xfrm>
          </p:grpSpPr>
          <p:sp>
            <p:nvSpPr>
              <p:cNvPr id="138" name=""/>
              <p:cNvSpPr/>
              <p:nvPr/>
            </p:nvSpPr>
            <p:spPr>
              <a:xfrm>
                <a:off x="4389120" y="6019560"/>
                <a:ext cx="145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4389120" y="5876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5844600" y="5876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844600" y="5012640"/>
              <a:ext cx="1455120" cy="143280"/>
              <a:chOff x="5844600" y="5012640"/>
              <a:chExt cx="1455120" cy="143280"/>
            </a:xfrm>
          </p:grpSpPr>
          <p:sp>
            <p:nvSpPr>
              <p:cNvPr id="142" name=""/>
              <p:cNvSpPr/>
              <p:nvPr/>
            </p:nvSpPr>
            <p:spPr>
              <a:xfrm>
                <a:off x="5844600" y="5155920"/>
                <a:ext cx="145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5844600" y="501264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7299720" y="501264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4971240" y="4724280"/>
              <a:ext cx="7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71240" y="5732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553720" y="54442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262480" y="5444280"/>
              <a:ext cx="29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35840" y="472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72520" y="53002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71240" y="6019560"/>
              <a:ext cx="7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81840" y="5588640"/>
              <a:ext cx="1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862680" y="48682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62680" y="4868280"/>
              <a:ext cx="72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91320" y="486828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8028000" y="4723920"/>
              <a:ext cx="0" cy="86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572160" y="4724280"/>
              <a:ext cx="14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72520" y="472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187280" y="4868280"/>
              <a:ext cx="1018800" cy="1440360"/>
              <a:chOff x="1187280" y="4868280"/>
              <a:chExt cx="1018800" cy="1440360"/>
            </a:xfrm>
          </p:grpSpPr>
          <p:sp>
            <p:nvSpPr>
              <p:cNvPr id="160" name=""/>
              <p:cNvSpPr/>
              <p:nvPr/>
            </p:nvSpPr>
            <p:spPr>
              <a:xfrm>
                <a:off x="1624680" y="5300280"/>
                <a:ext cx="581400" cy="576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14840" y="4868280"/>
                <a:ext cx="72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914840" y="5876640"/>
                <a:ext cx="72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187280" y="5876640"/>
                <a:ext cx="58212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Verdana"/>
                  </a:rPr>
                  <a:t>1.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2206080" y="5876640"/>
              <a:ext cx="5821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1.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43680" y="4868280"/>
              <a:ext cx="58212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2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17960" y="5876640"/>
              <a:ext cx="58212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2.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ЕХАНИЧЕСКИЕ ПРОЦЕССЫ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111924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Способы измельч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здавливание, материал деформируется по всему объе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калывание, материал контактирует с клинообразным рабочим элемен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зламывание, за счет изгибающих си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зание, используется нож. Можно получать куски определенного размера и  фор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пиливание, использование пилы. Также получают заданные форму и размер кусков матери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тирание, для тонкого помо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змельчение при  ударе. Различают свободный и стесненный  уда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763640" y="4149720"/>
            <a:ext cx="5715000" cy="2255760"/>
            <a:chOff x="1763640" y="4149720"/>
            <a:chExt cx="5715000" cy="2255760"/>
          </a:xfrm>
        </p:grpSpPr>
        <p:grpSp>
          <p:nvGrpSpPr>
            <p:cNvPr id="178" name=""/>
            <p:cNvGrpSpPr/>
            <p:nvPr/>
          </p:nvGrpSpPr>
          <p:grpSpPr>
            <a:xfrm>
              <a:off x="1763640" y="4483800"/>
              <a:ext cx="914400" cy="685440"/>
              <a:chOff x="1763640" y="4483800"/>
              <a:chExt cx="914400" cy="685440"/>
            </a:xfrm>
          </p:grpSpPr>
          <p:sp>
            <p:nvSpPr>
              <p:cNvPr id="179" name=""/>
              <p:cNvSpPr/>
              <p:nvPr/>
            </p:nvSpPr>
            <p:spPr>
              <a:xfrm>
                <a:off x="1992240" y="4826160"/>
                <a:ext cx="456480" cy="228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63640" y="4712400"/>
                <a:ext cx="914400" cy="1137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63640" y="5055480"/>
                <a:ext cx="914400" cy="1137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20840" y="4483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3020760" y="4373640"/>
              <a:ext cx="914400" cy="799920"/>
              <a:chOff x="3020760" y="4373640"/>
              <a:chExt cx="914400" cy="799920"/>
            </a:xfrm>
          </p:grpSpPr>
          <p:sp>
            <p:nvSpPr>
              <p:cNvPr id="184" name=""/>
              <p:cNvSpPr/>
              <p:nvPr/>
            </p:nvSpPr>
            <p:spPr>
              <a:xfrm>
                <a:off x="3135240" y="4716000"/>
                <a:ext cx="68508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5400000">
                <a:off x="3226320" y="4624560"/>
                <a:ext cx="502920" cy="22824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020760" y="5059080"/>
                <a:ext cx="914400" cy="1144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77960" y="4373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78240" y="4149720"/>
              <a:ext cx="914400" cy="1143000"/>
              <a:chOff x="4278240" y="4149720"/>
              <a:chExt cx="914400" cy="114300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4278240" y="4264200"/>
                <a:ext cx="914400" cy="1028520"/>
                <a:chOff x="4278240" y="4264200"/>
                <a:chExt cx="914400" cy="10285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392360" y="4949640"/>
                  <a:ext cx="114480" cy="34308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964400" y="4949640"/>
                  <a:ext cx="114120" cy="3430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278240" y="4721040"/>
                  <a:ext cx="914400" cy="227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5400000">
                  <a:off x="4506840" y="4378320"/>
                  <a:ext cx="456840" cy="228240"/>
                </a:xfrm>
                <a:custGeom>
                  <a:avLst/>
                  <a:gdLst>
                    <a:gd name="textAreaLeft" fmla="*/ 0 w 456840"/>
                    <a:gd name="textAreaRight" fmla="*/ 457200 w 45684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4735440" y="4149720"/>
                <a:ext cx="36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592440" y="5605200"/>
              <a:ext cx="914400" cy="800280"/>
              <a:chOff x="3592440" y="5605200"/>
              <a:chExt cx="914400" cy="80028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3592440" y="5605200"/>
                <a:ext cx="914400" cy="685080"/>
                <a:chOff x="3592440" y="5605200"/>
                <a:chExt cx="914400" cy="6850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821040" y="5947560"/>
                  <a:ext cx="456480" cy="228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592440" y="5833800"/>
                  <a:ext cx="914400" cy="11376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592440" y="6176520"/>
                  <a:ext cx="914400" cy="11376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049640" y="56052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3820680" y="5718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3820680" y="6405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5535720" y="4597920"/>
              <a:ext cx="914400" cy="685800"/>
              <a:chOff x="5535720" y="4597920"/>
              <a:chExt cx="914400" cy="685800"/>
            </a:xfrm>
          </p:grpSpPr>
          <p:sp>
            <p:nvSpPr>
              <p:cNvPr id="204" name=""/>
              <p:cNvSpPr/>
              <p:nvPr/>
            </p:nvSpPr>
            <p:spPr>
              <a:xfrm>
                <a:off x="5650200" y="5055120"/>
                <a:ext cx="799920" cy="228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535720" y="4940280"/>
                <a:ext cx="457200" cy="114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5535720" y="4597920"/>
                <a:ext cx="228600" cy="342360"/>
                <a:chOff x="5535720" y="4597920"/>
                <a:chExt cx="228600" cy="3423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5650200" y="4597920"/>
                  <a:ext cx="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flipV="1">
                  <a:off x="5535720" y="4826160"/>
                  <a:ext cx="11448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5535720" y="459792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535720" y="4597920"/>
                  <a:ext cx="11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764320" y="459792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6564240" y="5380200"/>
              <a:ext cx="914400" cy="914040"/>
              <a:chOff x="6564240" y="5380200"/>
              <a:chExt cx="914400" cy="914040"/>
            </a:xfrm>
          </p:grpSpPr>
          <p:sp>
            <p:nvSpPr>
              <p:cNvPr id="213" name=""/>
              <p:cNvSpPr/>
              <p:nvPr/>
            </p:nvSpPr>
            <p:spPr>
              <a:xfrm>
                <a:off x="6792840" y="5907600"/>
                <a:ext cx="456480" cy="299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564240" y="6180480"/>
                <a:ext cx="914400" cy="11376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92840" y="5608800"/>
                <a:ext cx="456480" cy="22824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021440" y="5380200"/>
                <a:ext cx="0" cy="34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6678720" y="4483800"/>
              <a:ext cx="799920" cy="799200"/>
              <a:chOff x="6678720" y="4483800"/>
              <a:chExt cx="799920" cy="7992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6792840" y="4483800"/>
                <a:ext cx="228960" cy="342360"/>
                <a:chOff x="6792840" y="4483800"/>
                <a:chExt cx="228960" cy="3423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907320" y="4483800"/>
                  <a:ext cx="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 flipV="1">
                  <a:off x="6792840" y="4712040"/>
                  <a:ext cx="11448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6792840" y="448380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792840" y="4483800"/>
                  <a:ext cx="11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021800" y="448380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6792840" y="4940640"/>
                <a:ext cx="228960" cy="342360"/>
                <a:chOff x="6792840" y="4940640"/>
                <a:chExt cx="228960" cy="34236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6907320" y="4940640"/>
                  <a:ext cx="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907320" y="4941000"/>
                  <a:ext cx="11448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021800" y="5054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>
                  <a:off x="6907320" y="5283000"/>
                  <a:ext cx="11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6792840" y="5054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6678720" y="4826160"/>
                <a:ext cx="799920" cy="114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078520" y="5715000"/>
              <a:ext cx="914400" cy="571320"/>
              <a:chOff x="5078520" y="5715000"/>
              <a:chExt cx="914400" cy="571320"/>
            </a:xfrm>
          </p:grpSpPr>
          <p:sp>
            <p:nvSpPr>
              <p:cNvPr id="232" name=""/>
              <p:cNvSpPr/>
              <p:nvPr/>
            </p:nvSpPr>
            <p:spPr>
              <a:xfrm>
                <a:off x="5078520" y="6172560"/>
                <a:ext cx="914400" cy="1137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21600" y="5715000"/>
                <a:ext cx="228240" cy="228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535720" y="5829480"/>
                <a:ext cx="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991880" y="5605200"/>
              <a:ext cx="914400" cy="685800"/>
              <a:chOff x="1991880" y="5605200"/>
              <a:chExt cx="914400" cy="685800"/>
            </a:xfrm>
          </p:grpSpPr>
          <p:sp>
            <p:nvSpPr>
              <p:cNvPr id="236" name=""/>
              <p:cNvSpPr/>
              <p:nvPr/>
            </p:nvSpPr>
            <p:spPr>
              <a:xfrm>
                <a:off x="2106000" y="5942520"/>
                <a:ext cx="685800" cy="233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91880" y="6176520"/>
                <a:ext cx="914400" cy="11448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2105640" y="5833800"/>
                <a:ext cx="685800" cy="113760"/>
                <a:chOff x="2105640" y="5833800"/>
                <a:chExt cx="685800" cy="113760"/>
              </a:xfrm>
            </p:grpSpPr>
            <p:sp>
              <p:nvSpPr>
                <p:cNvPr id="239" name=""/>
                <p:cNvSpPr/>
                <p:nvPr/>
              </p:nvSpPr>
              <p:spPr>
                <a:xfrm rot="10800000">
                  <a:off x="2105640" y="5833800"/>
                  <a:ext cx="114120" cy="113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10800000">
                  <a:off x="2219760" y="5833800"/>
                  <a:ext cx="114120" cy="113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10800000">
                  <a:off x="2334240" y="5833800"/>
                  <a:ext cx="114120" cy="113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10800000">
                  <a:off x="2562840" y="5833800"/>
                  <a:ext cx="114120" cy="113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10800000">
                  <a:off x="2448360" y="5833800"/>
                  <a:ext cx="114120" cy="113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0800000">
                  <a:off x="2677320" y="5833800"/>
                  <a:ext cx="114120" cy="113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2448720" y="5605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219760" y="571896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1763640" y="425952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92160" y="425952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49640" y="425952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92640" y="425952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4.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21520" y="425952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4.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63640" y="538020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20760" y="538020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49560" y="538020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7.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92920" y="5380200"/>
              <a:ext cx="4572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7.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ЕХАНИЧЕСКИЕ ПРОЦЕССЫ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76360" y="143892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бота на измельчение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535040" y="2163600"/>
                <a:ext cx="490860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6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н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649800" y="3475440"/>
            <a:ext cx="784008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i="1" lang="en-US" sz="1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работа на образование новой поверхнос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i="1" lang="en-US" sz="1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работа на объемную деформацию материал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i="1" lang="ru-RU" sz="1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у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дельная работа образования одной единицы новой поверхнос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i="1" lang="ru-RU" sz="1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начальный размер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- предел прочност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модуль упругости Юн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ЕХАНИЧЕСКИЕ ПРОЦЕССЫ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1262160"/>
            <a:ext cx="824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я измельчения применяют следующие аппара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робилки: щековая (1), конусные (2), вальцовая или валковая (3), молотковая (4), дисковая (5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шаровые мельницы (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жернова (7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979640" y="2781000"/>
            <a:ext cx="5762880" cy="3461040"/>
            <a:chOff x="1979640" y="2781000"/>
            <a:chExt cx="5762880" cy="3461040"/>
          </a:xfrm>
        </p:grpSpPr>
        <p:grpSp>
          <p:nvGrpSpPr>
            <p:cNvPr id="279" name=""/>
            <p:cNvGrpSpPr/>
            <p:nvPr/>
          </p:nvGrpSpPr>
          <p:grpSpPr>
            <a:xfrm>
              <a:off x="1979640" y="2887200"/>
              <a:ext cx="1387080" cy="1204920"/>
              <a:chOff x="1979640" y="2887200"/>
              <a:chExt cx="1387080" cy="1204920"/>
            </a:xfrm>
          </p:grpSpPr>
          <p:sp>
            <p:nvSpPr>
              <p:cNvPr id="280" name=""/>
              <p:cNvSpPr/>
              <p:nvPr/>
            </p:nvSpPr>
            <p:spPr>
              <a:xfrm>
                <a:off x="2162520" y="3816360"/>
                <a:ext cx="275400" cy="2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Verdana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1979640" y="3083760"/>
                <a:ext cx="7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253960" y="2887200"/>
                <a:ext cx="1112760" cy="1203480"/>
                <a:chOff x="2253960" y="2887200"/>
                <a:chExt cx="1112760" cy="1203480"/>
              </a:xfrm>
            </p:grpSpPr>
            <p:sp>
              <p:nvSpPr>
                <p:cNvPr id="283" name=""/>
                <p:cNvSpPr/>
                <p:nvPr/>
              </p:nvSpPr>
              <p:spPr>
                <a:xfrm rot="1385400">
                  <a:off x="2802960" y="2900520"/>
                  <a:ext cx="274320" cy="100980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253960" y="2900520"/>
                  <a:ext cx="274320" cy="9165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711880" y="3724920"/>
                  <a:ext cx="91440" cy="90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20218200">
                  <a:off x="2521440" y="3049920"/>
                  <a:ext cx="730800" cy="732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9325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932549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528640" y="3816360"/>
                  <a:ext cx="0" cy="27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620440" y="3816360"/>
                  <a:ext cx="0" cy="27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345400" y="3999600"/>
                  <a:ext cx="183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>
                  <a:off x="2620440" y="3999600"/>
                  <a:ext cx="18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528640" y="3999600"/>
                  <a:ext cx="91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" name=""/>
            <p:cNvGrpSpPr/>
            <p:nvPr/>
          </p:nvGrpSpPr>
          <p:grpSpPr>
            <a:xfrm>
              <a:off x="3465360" y="2781000"/>
              <a:ext cx="1886760" cy="1483200"/>
              <a:chOff x="3465360" y="2781000"/>
              <a:chExt cx="1886760" cy="1483200"/>
            </a:xfrm>
          </p:grpSpPr>
          <p:sp>
            <p:nvSpPr>
              <p:cNvPr id="293" name=""/>
              <p:cNvSpPr/>
              <p:nvPr/>
            </p:nvSpPr>
            <p:spPr>
              <a:xfrm flipV="1">
                <a:off x="4379760" y="2781000"/>
                <a:ext cx="720" cy="387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3465360" y="2855160"/>
                <a:ext cx="1886760" cy="1409040"/>
                <a:chOff x="3465360" y="2855160"/>
                <a:chExt cx="1886760" cy="140904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88320" y="3990600"/>
                  <a:ext cx="182880" cy="27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ffffff"/>
                      </a:solidFill>
                      <a:latin typeface="Verdana"/>
                    </a:rPr>
                    <a:t>l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837320" y="3258000"/>
                  <a:ext cx="514800" cy="732240"/>
                </a:xfrm>
                <a:prstGeom prst="parallelogram">
                  <a:avLst>
                    <a:gd name="adj" fmla="val 60551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3465000" y="3258000"/>
                  <a:ext cx="485640" cy="732240"/>
                </a:xfrm>
                <a:prstGeom prst="parallelogram">
                  <a:avLst>
                    <a:gd name="adj" fmla="val 60551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922920" y="39906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649320" y="3258000"/>
                  <a:ext cx="155412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4106160" y="3074400"/>
                  <a:ext cx="548640" cy="915840"/>
                </a:xfrm>
                <a:prstGeom prst="flowChartManualOperation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655160" y="3990600"/>
                  <a:ext cx="720" cy="2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837320" y="3990600"/>
                  <a:ext cx="720" cy="27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655160" y="4172760"/>
                  <a:ext cx="18216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471200" y="4172760"/>
                  <a:ext cx="183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4837320" y="4172760"/>
                  <a:ext cx="1828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12117600">
                  <a:off x="4236120" y="2896200"/>
                  <a:ext cx="272520" cy="270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4" y="10450"/>
                      </a:moveTo>
                      <a:arcTo wR="10800" hR="10800" stAng="-111457" swAng="84876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4" y="10450"/>
                      </a:moveTo>
                      <a:arcTo wR="10800" hR="10800" stAng="-111457" swAng="8487685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"/>
            <p:cNvGrpSpPr/>
            <p:nvPr/>
          </p:nvGrpSpPr>
          <p:grpSpPr>
            <a:xfrm>
              <a:off x="5500080" y="2865960"/>
              <a:ext cx="2242440" cy="1314360"/>
              <a:chOff x="5500080" y="2865960"/>
              <a:chExt cx="2242440" cy="1314360"/>
            </a:xfrm>
          </p:grpSpPr>
          <p:sp>
            <p:nvSpPr>
              <p:cNvPr id="308" name=""/>
              <p:cNvSpPr/>
              <p:nvPr/>
            </p:nvSpPr>
            <p:spPr>
              <a:xfrm rot="8800800">
                <a:off x="5523120" y="3248280"/>
                <a:ext cx="1555920" cy="549360"/>
              </a:xfrm>
              <a:prstGeom prst="flowChartMagneticDrum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8800800">
                <a:off x="6163200" y="3247920"/>
                <a:ext cx="1555920" cy="550080"/>
              </a:xfrm>
              <a:prstGeom prst="flowChartMagneticDrum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523120" y="3797640"/>
                <a:ext cx="1555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88520" y="3431160"/>
                <a:ext cx="360" cy="73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529680" y="3431160"/>
                <a:ext cx="720" cy="73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164640" y="3340080"/>
                <a:ext cx="730080" cy="73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6200000">
                <a:off x="5523120" y="3339720"/>
                <a:ext cx="731520" cy="73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093400" y="4535640"/>
              <a:ext cx="1029240" cy="1439280"/>
              <a:chOff x="2093400" y="4535640"/>
              <a:chExt cx="1029240" cy="1439280"/>
            </a:xfrm>
          </p:grpSpPr>
          <p:sp>
            <p:nvSpPr>
              <p:cNvPr id="316" name=""/>
              <p:cNvSpPr/>
              <p:nvPr/>
            </p:nvSpPr>
            <p:spPr>
              <a:xfrm>
                <a:off x="2299320" y="5049000"/>
                <a:ext cx="823320" cy="82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7068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7068217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02280" y="5460840"/>
                <a:ext cx="61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711520" y="5152320"/>
                <a:ext cx="360" cy="61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07840" y="5152320"/>
                <a:ext cx="20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20040" y="5357520"/>
                <a:ext cx="0" cy="20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2607480" y="5769360"/>
                <a:ext cx="20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02280" y="5357520"/>
                <a:ext cx="0" cy="20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>
                <a:off x="2093400" y="4740120"/>
                <a:ext cx="205560" cy="61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093760" y="4740480"/>
                <a:ext cx="72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2711160" y="4740480"/>
                <a:ext cx="10260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05240" y="5255640"/>
                <a:ext cx="412200" cy="411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309" y="1500"/>
                    </a:moveTo>
                    <a:arcTo wR="10800" hR="10800" stAng="-7233701" swAng="149892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309" y="1500"/>
                    </a:moveTo>
                    <a:arcTo wR="10800" hR="10800" stAng="-7233701" swAng="1498929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402280" y="4535640"/>
                <a:ext cx="0" cy="41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711520" y="5769360"/>
                <a:ext cx="0" cy="20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79480" y="4421520"/>
              <a:ext cx="603000" cy="1803960"/>
              <a:chOff x="3579480" y="4421520"/>
              <a:chExt cx="603000" cy="1803960"/>
            </a:xfrm>
          </p:grpSpPr>
          <p:sp>
            <p:nvSpPr>
              <p:cNvPr id="330" name=""/>
              <p:cNvSpPr/>
              <p:nvPr/>
            </p:nvSpPr>
            <p:spPr>
              <a:xfrm>
                <a:off x="3751560" y="4678920"/>
                <a:ext cx="34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095720" y="4678920"/>
                <a:ext cx="0" cy="34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3922920" y="5023080"/>
                <a:ext cx="17244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51560" y="467892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3579480" y="4851000"/>
                <a:ext cx="1717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923280" y="5194800"/>
                <a:ext cx="360" cy="85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37600" y="4936680"/>
                <a:ext cx="360" cy="1031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665520" y="4936680"/>
                <a:ext cx="360" cy="1031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837600" y="5452560"/>
                <a:ext cx="344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3579840" y="6053760"/>
                <a:ext cx="34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79840" y="4851000"/>
                <a:ext cx="0" cy="12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3837600" y="4421520"/>
                <a:ext cx="85680" cy="42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51560" y="5968080"/>
                <a:ext cx="0" cy="25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5400000">
                <a:off x="3924720" y="5366520"/>
                <a:ext cx="343080" cy="17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302" y="983"/>
                    </a:moveTo>
                    <a:arcTo wR="10800" hR="10800" stAng="-3921932" swAng="177816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302" y="983"/>
                    </a:moveTo>
                    <a:arcTo wR="10800" hR="10800" stAng="-3921932" swAng="1778169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5523120" y="4774320"/>
              <a:ext cx="2109600" cy="1156320"/>
              <a:chOff x="5523120" y="4774320"/>
              <a:chExt cx="2109600" cy="1156320"/>
            </a:xfrm>
          </p:grpSpPr>
          <p:sp>
            <p:nvSpPr>
              <p:cNvPr id="345" name=""/>
              <p:cNvSpPr/>
              <p:nvPr/>
            </p:nvSpPr>
            <p:spPr>
              <a:xfrm>
                <a:off x="5727240" y="4978080"/>
                <a:ext cx="1701360" cy="2721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27240" y="5386320"/>
                <a:ext cx="1701360" cy="2721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44080" y="5658840"/>
                <a:ext cx="0" cy="27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39600" y="4978080"/>
                <a:ext cx="408600" cy="272160"/>
              </a:xfrm>
              <a:custGeom>
                <a:avLst/>
                <a:gdLst>
                  <a:gd name="textAreaLeft" fmla="*/ 89640 w 408600"/>
                  <a:gd name="textAreaRight" fmla="*/ 318960 w 408600"/>
                  <a:gd name="textAreaTop" fmla="*/ 59760 h 272160"/>
                  <a:gd name="textAreaBottom" fmla="*/ 212400 h 27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089120" y="5318640"/>
                <a:ext cx="543600" cy="54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6200000">
                <a:off x="5523120" y="5318280"/>
                <a:ext cx="542880" cy="54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44080" y="4774320"/>
                <a:ext cx="0" cy="34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339600" y="5647680"/>
                <a:ext cx="408240" cy="24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920" y="7029"/>
                    </a:moveTo>
                    <a:arcTo wR="10800" hR="10800" stAng="-1226163" swAng="1262828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920" y="7029"/>
                    </a:moveTo>
                    <a:arcTo wR="10800" hR="10800" stAng="-1226163" swAng="12628282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380120" y="4774320"/>
              <a:ext cx="1097640" cy="1281600"/>
              <a:chOff x="4380120" y="4774320"/>
              <a:chExt cx="1097640" cy="1281600"/>
            </a:xfrm>
          </p:grpSpPr>
          <p:sp>
            <p:nvSpPr>
              <p:cNvPr id="354" name=""/>
              <p:cNvSpPr/>
              <p:nvPr/>
            </p:nvSpPr>
            <p:spPr>
              <a:xfrm>
                <a:off x="4471200" y="4957560"/>
                <a:ext cx="915120" cy="915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654800" y="5690160"/>
                <a:ext cx="9108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46240" y="5598000"/>
                <a:ext cx="9108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62640" y="559800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654800" y="5598000"/>
                <a:ext cx="9108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654800" y="5506920"/>
                <a:ext cx="9036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562640" y="5506920"/>
                <a:ext cx="9180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46240" y="569016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837680" y="5781240"/>
                <a:ext cx="90360" cy="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928760" y="4774320"/>
                <a:ext cx="0" cy="128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380120" y="5414760"/>
                <a:ext cx="10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471200" y="5414760"/>
                <a:ext cx="9180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562640" y="5414760"/>
                <a:ext cx="9180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71200" y="532332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562640" y="5231880"/>
                <a:ext cx="9180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62640" y="532332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562640" y="5140080"/>
                <a:ext cx="9180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654800" y="5048640"/>
                <a:ext cx="9108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837680" y="5048640"/>
                <a:ext cx="9036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46240" y="5140080"/>
                <a:ext cx="9108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654800" y="5231880"/>
                <a:ext cx="90360" cy="89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654800" y="5323320"/>
                <a:ext cx="90000" cy="9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928760" y="5140080"/>
                <a:ext cx="9072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020200" y="5231880"/>
                <a:ext cx="9072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46240" y="5048640"/>
                <a:ext cx="9036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28760" y="5323320"/>
                <a:ext cx="91080" cy="90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46240" y="4774320"/>
                <a:ext cx="730800" cy="73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5866200" y="5828040"/>
              <a:ext cx="3427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65640" y="5942520"/>
              <a:ext cx="3427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79640" y="5828040"/>
              <a:ext cx="3427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093760" y="4068720"/>
              <a:ext cx="3427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22640" y="5828040"/>
              <a:ext cx="3427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80320" y="4302000"/>
              <a:ext cx="3427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1240" y="4068720"/>
              <a:ext cx="3427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МЕХАНИЧЕСКИЕ ПРОЦЕССЫ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68360" y="1125360"/>
            <a:ext cx="8136000" cy="52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4.2 Пресс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продукт оказывается давление, под действием которого происходит изменение его свойств и фор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Различают: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) отжатие (жидкость от твердых компонентов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) формование и штамповка (кондитерские изделия, котлеты и т.д.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3) прессование или брикетирование (в т.ч. таблетки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4) экструзия – продавливание материала через профилирующие головки с одновременной термообработк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акторы, влияющие на процесс прессования: 1) давление, чем больше, тем эффективнее, производительнее, но потеря ценных компонентов, засорение жидкой фазы твердой, перерасход энерг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) прочность и размер прессуемого материала, толщина слоя (требуют повышения давления и расхода энергии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3) продолжительность процесс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4) температу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Перечисленные в пп. 3 и 4 характеристики с ростом их значения повышают производительность, но повышают расход энергии, при этом может произойти снижение пищевых свойств продук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04000" y="2204640"/>
            <a:ext cx="1943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 составляет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0–95 %)</a:t>
            </a:r>
            <a:br>
              <a:rPr sz="4000"/>
            </a:br>
            <a:endParaRPr b="0" lang="en-US" sz="1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-955800" y="671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716360" y="1341360"/>
                <a:ext cx="10080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у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716360" y="2205000"/>
                <a:ext cx="19447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н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643280" y="3141720"/>
                <a:ext cx="12970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с</m:t>
                        </m:r>
                        <m:r>
                          <m:t xml:space="preserve">⋅</m:t>
                        </m:r>
                        <m:r>
                          <m:t xml:space="preserve">τ</m:t>
                        </m:r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643280" y="4365720"/>
                <a:ext cx="15130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pdh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1586160" y="1045080"/>
            <a:ext cx="24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четные характеристик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эффициент уплотнени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576080" y="2097720"/>
            <a:ext cx="255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эффициент прессовани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49520" y="30438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ритерий Фурье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523520" y="3951720"/>
            <a:ext cx="431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константа прессования, м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/с;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MD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ысота сло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бота прессовани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76360" y="5083200"/>
            <a:ext cx="71438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ru-MD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перечное сече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Аппараты: прессы, формовочные, штамповочные аппараты, экструде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903040" y="47628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МЕХАНИЧЕСКИЕ ПРОЦЕС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11:55:26Z</dcterms:created>
  <dc:creator>User</dc:creator>
  <dc:description/>
  <dc:language>en-US</dc:language>
  <cp:lastModifiedBy>User</cp:lastModifiedBy>
  <dcterms:modified xsi:type="dcterms:W3CDTF">2006-12-19T13:35:10Z</dcterms:modified>
  <cp:revision>2</cp:revision>
  <dc:subject/>
  <dc:title> «Процессы и аппараты пищевых производств»  </dc:title>
</cp:coreProperties>
</file>