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BF39-D61B-4B76-803B-81027AE0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781B-F8D5-41C7-9D13-59843BE2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1A58-1597-4273-9806-F0A14DDE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0830-F160-46F7-B90F-0F87E6FE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63CE-6333-4446-9C18-71A8C7EF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27F7-81EA-4568-81BC-9AED8C34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E913-9395-4294-A0C9-4FB03C1E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3727-930D-4FF6-804C-6CE082C9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28F1-A410-4345-91D5-E599E246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B06F-631F-4DF8-BAB5-BA10F71E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831A-1CAF-41DA-9779-4B976E00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5EB4-0701-429F-894B-11640C3B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AF9B-EA40-4D0D-80BC-D3E823B8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309D-90BB-463E-B648-485B89F3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B3B2-808C-44B7-8418-0D09F41C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8472-68A0-49FE-8FB9-C647840E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2970-B4CB-473F-BD67-D88409C1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956E3-44AE-44F3-AE1A-17A9F15B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1A1C8-2986-4390-A8E2-80647BF0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5F361-2795-4583-9144-A3B5DAFE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BCD06-5A3D-4A33-8745-B4D52080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726BC-4E16-499B-AE6B-784ADCAE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F9BF-FDB1-4936-B02A-F21BF25E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F058E-8215-423C-B94C-AB24DC46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B1937-367F-432D-9410-DB039CED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345BE-2F17-46A7-BB38-E1B37886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08DC0-5A36-4994-B638-D4893C70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CD0AF-9535-4F98-91CA-67B114ED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88239-4930-4FCE-95C1-61EB6439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0FBA9-1569-4132-B8DC-7E6F59E0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35B7-D19D-4A09-AC4E-72BBEDDF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25B3-AC9A-4FAD-9DF3-C8E3EE7E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5DB1-6FDE-4488-A475-038C4C38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5BE6-3956-4702-A9AA-F42A1DB5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6D6-6E75-4232-BFFB-D0B48931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622F-AF73-4ADF-B5CB-E3F6AE6F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A0C9-32D9-432F-9002-F5E50A7E7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3F32-6D2B-4738-AFBD-AF8B3AECCCD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2CAD-B730-48ED-A2E2-B395364509A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b2b2b2"/>
                </a:solidFill>
                <a:latin typeface="Arial"/>
              </a:rPr>
              <a:t>«Процессы и аппараты пищевых производств» </a:t>
            </a:r>
            <a:br>
              <a:rPr sz="32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187280" y="2565000"/>
            <a:ext cx="7345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ОНСПЕКТ ЛЕКЦИ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ля специальностей 050727 – Технология продовольственных продуктов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050728 – Технология перерабатывающих производств, 050724 – Технологические машины и оборудование, 050701 – Биотехнолог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627280" y="1413000"/>
            <a:ext cx="57596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ЦИЯ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Ы ГИДРАВЛ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дромаш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Г И Д Р О М А Ш И Н 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хнологические процессы требуют перемешивание, перекачивание, подвод и отвод жидкостей и газ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жидкостей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сос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    Для газов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рессорные маши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Насо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ение напора, создаваемого насос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57200"/>
            <a:ext cx="4038480" cy="609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62120" y="3200400"/>
            <a:ext cx="3314520" cy="1839960"/>
            <a:chOff x="762120" y="3200400"/>
            <a:chExt cx="3314520" cy="1839960"/>
          </a:xfrm>
        </p:grpSpPr>
        <p:sp>
          <p:nvSpPr>
            <p:cNvPr id="147" name=""/>
            <p:cNvSpPr/>
            <p:nvPr/>
          </p:nvSpPr>
          <p:spPr>
            <a:xfrm>
              <a:off x="1365120" y="4222440"/>
              <a:ext cx="40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65120" y="3608640"/>
              <a:ext cx="40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2120" y="3813840"/>
              <a:ext cx="4021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Г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70840" y="4017960"/>
              <a:ext cx="60300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насос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680" y="4426920"/>
              <a:ext cx="1004400" cy="10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62640" y="3302640"/>
              <a:ext cx="210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72240" y="3302640"/>
              <a:ext cx="1004400" cy="510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72240" y="3200400"/>
              <a:ext cx="1004400" cy="10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70400" y="3813840"/>
              <a:ext cx="50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70400" y="3813840"/>
              <a:ext cx="0" cy="20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69960" y="4017960"/>
              <a:ext cx="200880" cy="203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66000" y="4120200"/>
              <a:ext cx="9039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67400" y="4120200"/>
              <a:ext cx="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64680" y="4529880"/>
              <a:ext cx="1004400" cy="510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62640" y="4529880"/>
              <a:ext cx="30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063080" y="3302280"/>
              <a:ext cx="0" cy="12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666080" y="4119840"/>
              <a:ext cx="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666080" y="330228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66080" y="4630680"/>
              <a:ext cx="20052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74280" y="3404880"/>
              <a:ext cx="2001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4572000" y="314604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давление в резервуарах различно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343400" y="4191120"/>
                <a:ext cx="36925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В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Н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ГСВ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ГСН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Р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Р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ρ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685800" y="51966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оретическая высота всасывания может быть равна атмосферному давлению, однако сильно зависит от температуры (закипани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пр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oC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HB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 9 м, а пр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  6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oC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H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34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сосы делятся н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поршневые (плунжерные):   простого и двойного действия, многоплунжер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) центробежные: одно- и многоступенчат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) роторные: шестеренчатые, шибер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) мембран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) винтов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) струй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Г И Д Р О М А Ш И Н 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90920" y="533520"/>
            <a:ext cx="3886200" cy="533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4419360"/>
            <a:ext cx="74674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рессорные маш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няются для перемещения газов и делятся в зависимости от соотношения давлений на выходе Р2 и входе Р1 н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вентиляторы: Р2 / Р1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1,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газодувки: Р2 / Р1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 компрессоры: Р2 / Р1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Г И Д Р О М А Ш И Н 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90920" y="533520"/>
            <a:ext cx="3886200" cy="533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219320" y="2362320"/>
            <a:ext cx="3752280" cy="2639160"/>
            <a:chOff x="1219320" y="2362320"/>
            <a:chExt cx="3752280" cy="2639160"/>
          </a:xfrm>
        </p:grpSpPr>
        <p:sp>
          <p:nvSpPr>
            <p:cNvPr id="179" name=""/>
            <p:cNvSpPr/>
            <p:nvPr/>
          </p:nvSpPr>
          <p:spPr>
            <a:xfrm>
              <a:off x="2053080" y="2779920"/>
              <a:ext cx="55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92040" y="277992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71040" y="277992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495800" y="3056400"/>
              <a:ext cx="69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71040" y="3056400"/>
              <a:ext cx="69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88640" y="3056400"/>
              <a:ext cx="552240" cy="55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6200000">
              <a:off x="1219680" y="3055680"/>
              <a:ext cx="555840" cy="55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0800000">
              <a:off x="1219680" y="3891960"/>
              <a:ext cx="552240" cy="55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5400000">
              <a:off x="2889360" y="3887640"/>
              <a:ext cx="551520" cy="56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19320" y="3335040"/>
              <a:ext cx="0" cy="83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35120" y="3335040"/>
              <a:ext cx="13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6200000">
              <a:off x="1472040" y="3358800"/>
              <a:ext cx="32904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95800" y="3474360"/>
              <a:ext cx="0" cy="13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4760" y="3474360"/>
              <a:ext cx="0" cy="13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5400000">
              <a:off x="2885040" y="3888000"/>
              <a:ext cx="27720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0800000">
              <a:off x="1496160" y="3890520"/>
              <a:ext cx="333360" cy="27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87200" y="3335040"/>
              <a:ext cx="277200" cy="27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95800" y="3613320"/>
              <a:ext cx="166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95800" y="3889800"/>
              <a:ext cx="166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95800" y="3889800"/>
              <a:ext cx="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35120" y="4168080"/>
              <a:ext cx="13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64760" y="3889800"/>
              <a:ext cx="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56840" y="3474360"/>
              <a:ext cx="1800" cy="13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19320" y="4029120"/>
              <a:ext cx="27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19320" y="3474360"/>
              <a:ext cx="27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43760" y="3335040"/>
              <a:ext cx="0" cy="83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56840" y="4029120"/>
              <a:ext cx="0" cy="13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64760" y="3474360"/>
              <a:ext cx="27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04440" y="3474360"/>
              <a:ext cx="0" cy="13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64760" y="4029120"/>
              <a:ext cx="278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04440" y="4029120"/>
              <a:ext cx="0" cy="13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95800" y="4447080"/>
              <a:ext cx="69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92040" y="444708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71040" y="444708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71040" y="4447080"/>
              <a:ext cx="69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53080" y="4723560"/>
              <a:ext cx="55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46800" y="3750840"/>
              <a:ext cx="12517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1040" y="3613320"/>
              <a:ext cx="275760" cy="27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13400" y="3613320"/>
              <a:ext cx="278280" cy="27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53080" y="3613320"/>
              <a:ext cx="55656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19880" y="3613320"/>
              <a:ext cx="55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96360" y="2779920"/>
              <a:ext cx="975240" cy="4150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клапан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580920" y="2362320"/>
              <a:ext cx="1043280" cy="3920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пуансон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96360" y="4329000"/>
              <a:ext cx="835560" cy="5331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шток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331360" y="4723200"/>
              <a:ext cx="0" cy="27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331360" y="2501280"/>
              <a:ext cx="0" cy="27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33640" y="1370880"/>
            <a:ext cx="85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ршневые (плунжерные):   простого и двойного действия, многоплунжер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76920" y="2438280"/>
            <a:ext cx="370368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изводительность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i="1" lang="ru-RU" sz="1400" spc="-1" strike="noStrike" baseline="-25000">
                <a:solidFill>
                  <a:srgbClr val="ffffff"/>
                </a:solidFill>
                <a:latin typeface="Arial"/>
              </a:rPr>
              <a:t>пд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=0,85 – 0,95;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S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площадь поршня,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l</a:t>
            </a:r>
            <a:r>
              <a:rPr b="0" lang="ru-MD" sz="1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од поршня,  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частота вращения вала,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z</a:t>
            </a:r>
            <a:r>
              <a:rPr b="0" lang="ru-MD" sz="1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число плунжер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звивает высокое давлен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достаток – пульсирующая подач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ля сглаживания пульсации – двойного действия и многоплунжерны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53334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унжерный нас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ойного де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Г И Д Р О М А Ш И Н 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533520"/>
            <a:ext cx="3886200" cy="533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523520"/>
            <a:ext cx="81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нтробежные: одно- и многоступенчатые – для перемешивания маловязких жидкостей.     Перед пуском должен быть заполнен, поэтому устанавливается ниже уровня жидк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143000" y="2743200"/>
            <a:ext cx="6002280" cy="2243160"/>
            <a:chOff x="1143000" y="2743200"/>
            <a:chExt cx="6002280" cy="2243160"/>
          </a:xfrm>
        </p:grpSpPr>
        <p:grpSp>
          <p:nvGrpSpPr>
            <p:cNvPr id="233" name=""/>
            <p:cNvGrpSpPr/>
            <p:nvPr/>
          </p:nvGrpSpPr>
          <p:grpSpPr>
            <a:xfrm>
              <a:off x="1657440" y="2743200"/>
              <a:ext cx="5487840" cy="2243160"/>
              <a:chOff x="1657440" y="2743200"/>
              <a:chExt cx="5487840" cy="2243160"/>
            </a:xfrm>
          </p:grpSpPr>
          <p:sp>
            <p:nvSpPr>
              <p:cNvPr id="234" name=""/>
              <p:cNvSpPr/>
              <p:nvPr/>
            </p:nvSpPr>
            <p:spPr>
              <a:xfrm>
                <a:off x="6972480" y="4113720"/>
                <a:ext cx="17136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800760" y="4285080"/>
                <a:ext cx="344520" cy="34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1657440" y="2743200"/>
                <a:ext cx="1899720" cy="2243160"/>
                <a:chOff x="1657440" y="2743200"/>
                <a:chExt cx="1899720" cy="22431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828800" y="3257640"/>
                  <a:ext cx="68472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343600" y="3257640"/>
                  <a:ext cx="1080" cy="34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000160" y="3257640"/>
                  <a:ext cx="1440" cy="68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172240" y="3257640"/>
                  <a:ext cx="1369440" cy="137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000160" y="3429000"/>
                  <a:ext cx="1369800" cy="1368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2" name=""/>
                <p:cNvGrpSpPr/>
                <p:nvPr/>
              </p:nvGrpSpPr>
              <p:grpSpPr>
                <a:xfrm>
                  <a:off x="1809360" y="3240720"/>
                  <a:ext cx="1747800" cy="1745640"/>
                  <a:chOff x="1809360" y="3240720"/>
                  <a:chExt cx="1747800" cy="174564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2514240" y="3940920"/>
                    <a:ext cx="343800" cy="344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19963200">
                    <a:off x="1928160" y="3828600"/>
                    <a:ext cx="681840" cy="684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rot="936000">
                    <a:off x="1961640" y="3547800"/>
                    <a:ext cx="682920" cy="675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470908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4709088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10800000">
                    <a:off x="2685960" y="3942360"/>
                    <a:ext cx="681840" cy="682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rot="5733000">
                    <a:off x="2531520" y="3412800"/>
                    <a:ext cx="684720" cy="68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rot="3906600">
                    <a:off x="2296440" y="3351600"/>
                    <a:ext cx="675000" cy="673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576" y="28"/>
                        </a:moveTo>
                        <a:arcTo wR="10800" hR="10800" stAng="-5152697" swAng="524371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576" y="28"/>
                        </a:moveTo>
                        <a:arcTo wR="10800" hR="10800" stAng="-5152697" swAng="5243716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9152400">
                    <a:off x="2758680" y="3711240"/>
                    <a:ext cx="678960" cy="682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rot="16200000">
                    <a:off x="2171520" y="4112280"/>
                    <a:ext cx="682560" cy="68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rot="14493000">
                    <a:off x="2403360" y="4182480"/>
                    <a:ext cx="682560" cy="682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2" name=""/>
                <p:cNvSpPr/>
                <p:nvPr/>
              </p:nvSpPr>
              <p:spPr>
                <a:xfrm>
                  <a:off x="1657440" y="4113720"/>
                  <a:ext cx="102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 flipV="1">
                  <a:off x="2171520" y="2743200"/>
                  <a:ext cx="1080" cy="34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4" name=""/>
              <p:cNvSpPr/>
              <p:nvPr/>
            </p:nvSpPr>
            <p:spPr>
              <a:xfrm>
                <a:off x="4571640" y="3429000"/>
                <a:ext cx="1885680" cy="8575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571640" y="3257640"/>
                <a:ext cx="1885680" cy="171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57680" y="4285080"/>
                <a:ext cx="171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629040" y="428508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629040" y="4456800"/>
                <a:ext cx="34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6972480" y="3599280"/>
                <a:ext cx="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1143000" y="4068000"/>
              <a:ext cx="514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86200" y="4068000"/>
              <a:ext cx="514440" cy="5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752480" y="5410080"/>
                <a:ext cx="14572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п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876920" y="5410080"/>
                <a:ext cx="14176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H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ж</m:t>
                            </m:r>
                          </m:sub>
                        </m:sSub>
                        <m:r>
                          <m:t xml:space="preserve">g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л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Г И Д Р О М А Ш И Н 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90920" y="533520"/>
            <a:ext cx="3886200" cy="533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1294560"/>
            <a:ext cx="829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роторные: шестеренчатые, шиберные – для вязких жидкостей и пас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1371600" y="2286000"/>
                <a:ext cx="15256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00</m:t>
                    </m:r>
                    <m:r>
                      <m:rPr>
                        <m:lit/>
                        <m:nor/>
                      </m:rPr>
                      <m:t xml:space="preserve">qzn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д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2986920" y="2285640"/>
            <a:ext cx="558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z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굴림"/>
              </a:rPr>
              <a:t> – число зубьев,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q</a:t>
            </a:r>
            <a:r>
              <a:rPr b="0" lang="ru-MD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объем межзубьевого простран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066680" y="2895480"/>
            <a:ext cx="2717280" cy="2556720"/>
            <a:chOff x="1066680" y="2895480"/>
            <a:chExt cx="2717280" cy="2556720"/>
          </a:xfrm>
        </p:grpSpPr>
        <p:grpSp>
          <p:nvGrpSpPr>
            <p:cNvPr id="275" name=""/>
            <p:cNvGrpSpPr/>
            <p:nvPr/>
          </p:nvGrpSpPr>
          <p:grpSpPr>
            <a:xfrm>
              <a:off x="1204560" y="2895480"/>
              <a:ext cx="2551680" cy="2556720"/>
              <a:chOff x="1204560" y="2895480"/>
              <a:chExt cx="2551680" cy="2556720"/>
            </a:xfrm>
          </p:grpSpPr>
          <p:sp>
            <p:nvSpPr>
              <p:cNvPr id="276" name=""/>
              <p:cNvSpPr/>
              <p:nvPr/>
            </p:nvSpPr>
            <p:spPr>
              <a:xfrm rot="21462600">
                <a:off x="1226160" y="3535200"/>
                <a:ext cx="1283040" cy="1117440"/>
              </a:xfrm>
              <a:custGeom>
                <a:avLst/>
                <a:gdLst>
                  <a:gd name="textAreaLeft" fmla="*/ 402840 w 1283040"/>
                  <a:gd name="textAreaRight" fmla="*/ 880200 w 1283040"/>
                  <a:gd name="textAreaTop" fmla="*/ 351000 h 1117440"/>
                  <a:gd name="textAreaBottom" fmla="*/ 766440 h 1117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5535" y="12927"/>
                    </a:lnTo>
                    <a:lnTo>
                      <a:pt x="3163" y="18437"/>
                    </a:lnTo>
                    <a:lnTo>
                      <a:pt x="8581" y="16028"/>
                    </a:lnTo>
                    <a:lnTo>
                      <a:pt x="10800" y="21600"/>
                    </a:lnTo>
                    <a:lnTo>
                      <a:pt x="12927" y="16065"/>
                    </a:lnTo>
                    <a:lnTo>
                      <a:pt x="18437" y="18437"/>
                    </a:lnTo>
                    <a:lnTo>
                      <a:pt x="16028" y="13019"/>
                    </a:lnTo>
                    <a:lnTo>
                      <a:pt x="21600" y="10800"/>
                    </a:lnTo>
                    <a:lnTo>
                      <a:pt x="16065" y="8673"/>
                    </a:lnTo>
                    <a:lnTo>
                      <a:pt x="18437" y="3163"/>
                    </a:lnTo>
                    <a:lnTo>
                      <a:pt x="13019" y="5572"/>
                    </a:lnTo>
                    <a:lnTo>
                      <a:pt x="10800" y="0"/>
                    </a:lnTo>
                    <a:lnTo>
                      <a:pt x="8673" y="5535"/>
                    </a:lnTo>
                    <a:lnTo>
                      <a:pt x="3163" y="3163"/>
                    </a:lnTo>
                    <a:lnTo>
                      <a:pt x="5572" y="8581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978000">
                <a:off x="2334240" y="3535200"/>
                <a:ext cx="1290600" cy="1119600"/>
              </a:xfrm>
              <a:custGeom>
                <a:avLst/>
                <a:gdLst>
                  <a:gd name="textAreaLeft" fmla="*/ 405360 w 1290600"/>
                  <a:gd name="textAreaRight" fmla="*/ 885240 w 1290600"/>
                  <a:gd name="textAreaTop" fmla="*/ 351720 h 1119600"/>
                  <a:gd name="textAreaBottom" fmla="*/ 767880 h 111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5535" y="12927"/>
                    </a:lnTo>
                    <a:lnTo>
                      <a:pt x="3163" y="18437"/>
                    </a:lnTo>
                    <a:lnTo>
                      <a:pt x="8581" y="16028"/>
                    </a:lnTo>
                    <a:lnTo>
                      <a:pt x="10800" y="21600"/>
                    </a:lnTo>
                    <a:lnTo>
                      <a:pt x="12927" y="16065"/>
                    </a:lnTo>
                    <a:lnTo>
                      <a:pt x="18437" y="18437"/>
                    </a:lnTo>
                    <a:lnTo>
                      <a:pt x="16028" y="13019"/>
                    </a:lnTo>
                    <a:lnTo>
                      <a:pt x="21600" y="10800"/>
                    </a:lnTo>
                    <a:lnTo>
                      <a:pt x="16065" y="8673"/>
                    </a:lnTo>
                    <a:lnTo>
                      <a:pt x="18437" y="3163"/>
                    </a:lnTo>
                    <a:lnTo>
                      <a:pt x="13019" y="5572"/>
                    </a:lnTo>
                    <a:lnTo>
                      <a:pt x="10800" y="0"/>
                    </a:lnTo>
                    <a:lnTo>
                      <a:pt x="8673" y="5535"/>
                    </a:lnTo>
                    <a:lnTo>
                      <a:pt x="3163" y="3163"/>
                    </a:lnTo>
                    <a:lnTo>
                      <a:pt x="5572" y="8581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355120" y="3535200"/>
                <a:ext cx="1285920" cy="110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9220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922098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5400000">
                <a:off x="2359800" y="3531240"/>
                <a:ext cx="1276560" cy="1285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75880" y="3535200"/>
                <a:ext cx="322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2675880" y="3214800"/>
                <a:ext cx="108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2192040" y="3214800"/>
                <a:ext cx="108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031120" y="3215160"/>
                <a:ext cx="805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0800000">
                <a:off x="1226520" y="3539520"/>
                <a:ext cx="1285920" cy="126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6200000">
                <a:off x="1228680" y="3532680"/>
                <a:ext cx="1274400" cy="127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869840" y="4814280"/>
                <a:ext cx="322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869840" y="3535200"/>
                <a:ext cx="32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675880" y="4814280"/>
                <a:ext cx="32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192040" y="4814280"/>
                <a:ext cx="0" cy="31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675880" y="4814280"/>
                <a:ext cx="1080" cy="31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031120" y="5133960"/>
                <a:ext cx="80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2353320" y="5133600"/>
                <a:ext cx="108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2353320" y="2895480"/>
                <a:ext cx="1080" cy="31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 rot="16200000">
              <a:off x="1064160" y="3377160"/>
              <a:ext cx="1278000" cy="127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05960" y="3374640"/>
              <a:ext cx="1278000" cy="127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648320" y="3124080"/>
            <a:ext cx="3522240" cy="2241720"/>
            <a:chOff x="4648320" y="3124080"/>
            <a:chExt cx="3522240" cy="2241720"/>
          </a:xfrm>
        </p:grpSpPr>
        <p:sp>
          <p:nvSpPr>
            <p:cNvPr id="297" name=""/>
            <p:cNvSpPr/>
            <p:nvPr/>
          </p:nvSpPr>
          <p:spPr>
            <a:xfrm>
              <a:off x="5608080" y="3444120"/>
              <a:ext cx="1601280" cy="159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87680" y="3763440"/>
              <a:ext cx="4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68640" y="3444120"/>
              <a:ext cx="1280520" cy="1280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09440" y="3124080"/>
              <a:ext cx="0" cy="2241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87680" y="4083840"/>
              <a:ext cx="2402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09440" y="4564440"/>
              <a:ext cx="0" cy="48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08080" y="4083840"/>
              <a:ext cx="48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6729480" y="4083840"/>
              <a:ext cx="48060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09440" y="3444120"/>
              <a:ext cx="1080" cy="47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287680" y="4244040"/>
              <a:ext cx="32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87680" y="3604680"/>
              <a:ext cx="0" cy="79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48320" y="3923640"/>
              <a:ext cx="4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049160" y="3763440"/>
              <a:ext cx="64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09360" y="4244040"/>
              <a:ext cx="4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689960" y="3604680"/>
              <a:ext cx="0" cy="79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850160" y="392364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0800000">
              <a:off x="5448240" y="3924360"/>
              <a:ext cx="1283040" cy="12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064880" y="5790600"/>
            <a:ext cx="611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- Шестеренчатый насо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Б - Шиберный нас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Г И Д Р О М А Ш И Н Ы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90920" y="533520"/>
            <a:ext cx="3886200" cy="533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4920" y="1097640"/>
            <a:ext cx="864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мембранные – для структурированных жидкостных систем (фарш, творог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) винтовые – для высоковязких сист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) струйные – не имеют движущихся частей, основан на инжекционном принцип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-837720" y="2666520"/>
            <a:ext cx="3253680" cy="2970000"/>
            <a:chOff x="-837720" y="2666520"/>
            <a:chExt cx="3253680" cy="2970000"/>
          </a:xfrm>
        </p:grpSpPr>
        <p:sp>
          <p:nvSpPr>
            <p:cNvPr id="322" name=""/>
            <p:cNvSpPr/>
            <p:nvPr/>
          </p:nvSpPr>
          <p:spPr>
            <a:xfrm>
              <a:off x="930960" y="3112560"/>
              <a:ext cx="720" cy="207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82280" y="3112560"/>
              <a:ext cx="5943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227960" y="3112560"/>
              <a:ext cx="72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27960" y="3557160"/>
              <a:ext cx="4446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82280" y="5191200"/>
              <a:ext cx="59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1227960" y="4746240"/>
              <a:ext cx="72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27960" y="4746600"/>
              <a:ext cx="4446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72920" y="3557160"/>
              <a:ext cx="720" cy="11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30960" y="3408840"/>
              <a:ext cx="297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79280" y="3408840"/>
              <a:ext cx="1080" cy="15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30960" y="4894920"/>
              <a:ext cx="297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079280" y="4894920"/>
              <a:ext cx="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24240" y="4151880"/>
              <a:ext cx="8917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2862000">
              <a:off x="-359640" y="3235680"/>
              <a:ext cx="1782360" cy="208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5175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517574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70280" y="4003200"/>
              <a:ext cx="445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1079280" y="5339520"/>
              <a:ext cx="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1079280" y="2666520"/>
              <a:ext cx="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415240" y="3124080"/>
            <a:ext cx="2858040" cy="1473120"/>
            <a:chOff x="2415240" y="3124080"/>
            <a:chExt cx="2858040" cy="1473120"/>
          </a:xfrm>
        </p:grpSpPr>
        <p:sp>
          <p:nvSpPr>
            <p:cNvPr id="340" name=""/>
            <p:cNvSpPr/>
            <p:nvPr/>
          </p:nvSpPr>
          <p:spPr>
            <a:xfrm>
              <a:off x="3341520" y="3569040"/>
              <a:ext cx="108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92840" y="3569040"/>
              <a:ext cx="59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638880" y="3569040"/>
              <a:ext cx="72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38880" y="3866400"/>
              <a:ext cx="11869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44160" y="4163760"/>
              <a:ext cx="20804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341520" y="4461480"/>
              <a:ext cx="17830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4827600" y="356904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678560" y="356904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24600" y="3569040"/>
              <a:ext cx="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341520" y="3866400"/>
              <a:ext cx="297360" cy="59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638880" y="3866400"/>
              <a:ext cx="296280" cy="59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935160" y="3866400"/>
              <a:ext cx="297000" cy="59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232520" y="3866400"/>
              <a:ext cx="297000" cy="59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4529880" y="3866400"/>
              <a:ext cx="297360" cy="59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27600" y="3866400"/>
              <a:ext cx="297000" cy="59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3490200" y="31240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4975920" y="31240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2456400">
              <a:off x="2537280" y="3880800"/>
              <a:ext cx="594000" cy="59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5867280" y="3200400"/>
            <a:ext cx="3044880" cy="1522080"/>
            <a:chOff x="5867280" y="3200400"/>
            <a:chExt cx="3044880" cy="1522080"/>
          </a:xfrm>
        </p:grpSpPr>
        <p:sp>
          <p:nvSpPr>
            <p:cNvPr id="359" name=""/>
            <p:cNvSpPr/>
            <p:nvPr/>
          </p:nvSpPr>
          <p:spPr>
            <a:xfrm>
              <a:off x="6437880" y="3200400"/>
              <a:ext cx="951120" cy="951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6200000">
              <a:off x="7151400" y="3438720"/>
              <a:ext cx="380880" cy="47520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104400 h 475200"/>
                <a:gd name="textAreaBottom" fmla="*/ 370800 h 4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48160" y="3581280"/>
              <a:ext cx="855360" cy="19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79800" y="3581280"/>
              <a:ext cx="190080" cy="19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5400000">
              <a:off x="7960320" y="3295800"/>
              <a:ext cx="380880" cy="761040"/>
            </a:xfrm>
            <a:custGeom>
              <a:avLst/>
              <a:gdLst>
                <a:gd name="textAreaLeft" fmla="*/ 83520 w 380880"/>
                <a:gd name="textAreaRight" fmla="*/ 297360 w 380880"/>
                <a:gd name="textAreaTop" fmla="*/ 167400 h 761040"/>
                <a:gd name="textAreaBottom" fmla="*/ 593640 h 76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626680" y="3676320"/>
              <a:ext cx="28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67280" y="3676320"/>
              <a:ext cx="2854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818760" y="4151520"/>
              <a:ext cx="190080" cy="28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23360" y="44373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6913800" y="4532400"/>
              <a:ext cx="0" cy="19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533520" y="59428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- Мембран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817000" y="5028480"/>
            <a:ext cx="53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 - Винтовой насос                 В - Струйный нас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10-29T00:42:1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