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81D-DAC3-481B-B24A-0C8A2991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707-96D1-4DE3-A09C-9C37D31A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520-6F2D-4A7E-9C5C-3FB999B3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4C5-47FD-422E-91A3-12150020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3A7-D156-4ECE-8EF0-4FF2388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91C-45DB-4026-BC8F-2EBE1BA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C00-6A93-48FE-B683-C1AE012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42E-81DE-4B0B-9A14-CE29B3B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693-C707-41C1-9EB3-215D659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410-D046-44DE-8F98-F3D6920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F76-A0DA-4A1A-95AC-4D96A66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422-DEC3-43A5-A2FF-0412251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103B-AF73-4628-9A58-4C549E90A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мбранные методы разде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зоочист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829880"/>
            <a:ext cx="815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выделения твердой фазы из гетерогенных систем за счет пропускания через пористую перегородку (фильт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следующие виды фильтр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С образованием осадка (не забивает поры фильтр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С закупориванием пор (без оса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Промежуточный (с образованием осадка и закупориванием пор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направления силы тяжести и движения жидкости могут быть одинаковыми (рисунок1), а могут быть противоположными (рисунок 2). Второй вариант лучше, т.к. поры меньше забива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ущая сила (Δр) может создаваться за счет избыточного давления (3) над фильтром (сжатый воздух, насос) или разряжения рисунок (4) за фильтром (вакуумный насо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9640" y="1218240"/>
            <a:ext cx="21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ьт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447920"/>
            <a:ext cx="7470720" cy="3277800"/>
            <a:chOff x="990720" y="1447920"/>
            <a:chExt cx="7470720" cy="3277800"/>
          </a:xfrm>
        </p:grpSpPr>
        <p:grpSp>
          <p:nvGrpSpPr>
            <p:cNvPr id="56" name=""/>
            <p:cNvGrpSpPr/>
            <p:nvPr/>
          </p:nvGrpSpPr>
          <p:grpSpPr>
            <a:xfrm>
              <a:off x="990720" y="1447920"/>
              <a:ext cx="3319920" cy="3277800"/>
              <a:chOff x="990720" y="1447920"/>
              <a:chExt cx="3319920" cy="3277800"/>
            </a:xfrm>
          </p:grpSpPr>
          <p:sp>
            <p:nvSpPr>
              <p:cNvPr id="57" name=""/>
              <p:cNvSpPr/>
              <p:nvPr/>
            </p:nvSpPr>
            <p:spPr>
              <a:xfrm>
                <a:off x="3273480" y="1447920"/>
                <a:ext cx="1037160" cy="5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58400" y="421452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35960" y="4214520"/>
                <a:ext cx="103788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05800" y="3150000"/>
                <a:ext cx="830160" cy="27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05800" y="2596680"/>
                <a:ext cx="830160" cy="415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05800" y="3012120"/>
                <a:ext cx="830160" cy="137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05800" y="3150000"/>
                <a:ext cx="83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140580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19594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822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05800" y="3426480"/>
                <a:ext cx="830160" cy="13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5800" y="3565080"/>
                <a:ext cx="830160" cy="276480"/>
              </a:xfrm>
              <a:custGeom>
                <a:avLst/>
                <a:gdLst>
                  <a:gd name="textAreaLeft" fmla="*/ 233640 w 830160"/>
                  <a:gd name="textAreaRight" fmla="*/ 596520 w 83016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822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2052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2052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5760" y="3150000"/>
                <a:ext cx="829800" cy="27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65760" y="2596680"/>
                <a:ext cx="829800" cy="511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065760" y="3150000"/>
                <a:ext cx="829800" cy="1375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5760" y="3150000"/>
                <a:ext cx="82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065760" y="2320200"/>
                <a:ext cx="27612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3619080" y="2320200"/>
                <a:ext cx="27648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41880" y="218124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65760" y="3246120"/>
                <a:ext cx="829800" cy="3189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65760" y="3565080"/>
                <a:ext cx="829800" cy="276480"/>
              </a:xfrm>
              <a:custGeom>
                <a:avLst/>
                <a:gdLst>
                  <a:gd name="textAreaLeft" fmla="*/ 233640 w 829800"/>
                  <a:gd name="textAreaRight" fmla="*/ 596160 w 829800"/>
                  <a:gd name="textAreaTop" fmla="*/ 77760 h 276480"/>
                  <a:gd name="textAreaBottom" fmla="*/ 198720 h 27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800" y="21600"/>
                    </a:lnTo>
                    <a:lnTo>
                      <a:pt x="7800" y="2160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341880" y="3841920"/>
                <a:ext cx="276840" cy="13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80840" y="190476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480840" y="3980520"/>
                <a:ext cx="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5960" y="1585440"/>
                <a:ext cx="12452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990720" y="370404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51040" y="370404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172760" y="1586160"/>
              <a:ext cx="4288680" cy="2905200"/>
              <a:chOff x="4172760" y="1586160"/>
              <a:chExt cx="4288680" cy="2905200"/>
            </a:xfrm>
          </p:grpSpPr>
          <p:sp>
            <p:nvSpPr>
              <p:cNvPr id="88" name=""/>
              <p:cNvSpPr/>
              <p:nvPr/>
            </p:nvSpPr>
            <p:spPr>
              <a:xfrm>
                <a:off x="4172760" y="2001240"/>
                <a:ext cx="83016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сжатый 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3040" y="2554560"/>
                <a:ext cx="96840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акуумный насо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4449240" y="1862280"/>
                <a:ext cx="1382760" cy="2351880"/>
                <a:chOff x="4449240" y="1862280"/>
                <a:chExt cx="1382760" cy="23518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002560" y="3107520"/>
                  <a:ext cx="82944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02560" y="2554200"/>
                  <a:ext cx="829440" cy="4150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002560" y="2969280"/>
                  <a:ext cx="829440" cy="1378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002560" y="3107520"/>
                  <a:ext cx="829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5002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flipV="1">
                  <a:off x="5555520" y="2277360"/>
                  <a:ext cx="27612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79400" y="213876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4863600" y="2554200"/>
                  <a:ext cx="13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4863600" y="241596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863960" y="2415960"/>
                  <a:ext cx="0" cy="13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002560" y="3384000"/>
                  <a:ext cx="829440" cy="13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2560" y="3522600"/>
                  <a:ext cx="829440" cy="276120"/>
                </a:xfrm>
                <a:custGeom>
                  <a:avLst/>
                  <a:gdLst>
                    <a:gd name="textAreaLeft" fmla="*/ 233640 w 829440"/>
                    <a:gd name="textAreaRight" fmla="*/ 595800 w 82944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279400" y="3799080"/>
                  <a:ext cx="27648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449240" y="2554200"/>
                  <a:ext cx="276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41764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1764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662880" y="1862280"/>
                <a:ext cx="1383480" cy="2351880"/>
                <a:chOff x="6662880" y="1862280"/>
                <a:chExt cx="1383480" cy="2351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662880" y="3107520"/>
                  <a:ext cx="830520" cy="27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662880" y="2554200"/>
                  <a:ext cx="830520" cy="41508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662880" y="2969280"/>
                  <a:ext cx="830520" cy="1378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662880" y="3107520"/>
                  <a:ext cx="830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666288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 flipV="1">
                  <a:off x="7216560" y="2277360"/>
                  <a:ext cx="27648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939360" y="213876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62880" y="3384000"/>
                  <a:ext cx="830520" cy="13860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662880" y="3522600"/>
                  <a:ext cx="830520" cy="276120"/>
                </a:xfrm>
                <a:custGeom>
                  <a:avLst/>
                  <a:gdLst>
                    <a:gd name="textAreaLeft" fmla="*/ 234000 w 830520"/>
                    <a:gd name="textAreaRight" fmla="*/ 596520 w 830520"/>
                    <a:gd name="textAreaTop" fmla="*/ 77760 h 276120"/>
                    <a:gd name="textAreaBottom" fmla="*/ 198360 h 27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800" y="21600"/>
                      </a:lnTo>
                      <a:lnTo>
                        <a:pt x="7800" y="21600"/>
                      </a:lnTo>
                      <a:close/>
                    </a:path>
                  </a:pathLst>
                </a:cu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39360" y="3799080"/>
                  <a:ext cx="27720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769880" y="3107520"/>
                  <a:ext cx="2764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077600" y="1862280"/>
                  <a:ext cx="0" cy="27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77600" y="3938040"/>
                  <a:ext cx="0" cy="27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93400" y="3107520"/>
                  <a:ext cx="138240" cy="13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5555880" y="1586160"/>
                <a:ext cx="1383840" cy="32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исходная смес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17640" y="421488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Осветленная жидкост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87480" y="3661560"/>
                <a:ext cx="41508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247800" y="3661560"/>
                <a:ext cx="4147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1350000" y="495180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корость фильтрова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33720" y="5334120"/>
                <a:ext cx="1996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72040" y="5999760"/>
            <a:ext cx="5714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опротивление перегородки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R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O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противление оса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438280" y="4267080"/>
                <a:ext cx="15289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90920" y="5638680"/>
                <a:ext cx="641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838080" y="1200240"/>
            <a:ext cx="787572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ffff00"/>
              </a:buClr>
              <a:buFont typeface="Wingdings" charset="2"/>
              <a:buChar char="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Мембранные методы раз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в некоторой степени отнести к фильтрационным метод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нося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Обратный осмо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Ультра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.Микрофильтр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качестве фильтрующих перегородок используют полупроницаемые мембраны (молекулярно-ситовые): пористые, непористые, гладк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мер пор у пористых мембран 0,5мкм (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– 1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) – пленки на ацетатцеллюлозной основе. Характеризуются – проницательностью, селективность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елективность – способность избирательно пропускать те или иные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040" y="4875480"/>
            <a:ext cx="583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Х – концентрация вещества в исходной системе и фильтра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ницаемость, удельная 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8800" y="4191120"/>
                <a:ext cx="13827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5120" y="5334120"/>
                <a:ext cx="780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RTx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2286000" y="1752480"/>
            <a:ext cx="5343480" cy="1644840"/>
            <a:chOff x="2286000" y="1752480"/>
            <a:chExt cx="5343480" cy="1644840"/>
          </a:xfrm>
        </p:grpSpPr>
        <p:sp>
          <p:nvSpPr>
            <p:cNvPr id="140" name=""/>
            <p:cNvSpPr/>
            <p:nvPr/>
          </p:nvSpPr>
          <p:spPr>
            <a:xfrm>
              <a:off x="5985360" y="2986200"/>
              <a:ext cx="685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67280" y="2849040"/>
              <a:ext cx="13698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85360" y="24379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7280" y="230076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h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86000" y="2574720"/>
              <a:ext cx="1233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Н</a:t>
              </a:r>
              <a:r>
                <a:rPr b="0" lang="ru-RU" sz="14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2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    р-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080" y="1752480"/>
              <a:ext cx="46584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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=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</a:t>
              </a:r>
              <a:r>
                <a:rPr b="0" lang="ru-RU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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22800" y="254592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22800" y="309348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286000" y="1997640"/>
              <a:ext cx="1233000" cy="1370520"/>
              <a:chOff x="2286000" y="1997640"/>
              <a:chExt cx="1233000" cy="1370520"/>
            </a:xfrm>
          </p:grpSpPr>
          <p:sp>
            <p:nvSpPr>
              <p:cNvPr id="149" name=""/>
              <p:cNvSpPr/>
              <p:nvPr/>
            </p:nvSpPr>
            <p:spPr>
              <a:xfrm>
                <a:off x="2286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3392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19000" y="2134440"/>
                <a:ext cx="0" cy="12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86000" y="24087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71080" y="1997640"/>
                <a:ext cx="0" cy="4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6000" y="3368160"/>
                <a:ext cx="12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067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520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0280" y="2118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2819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04080" y="323136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51640" y="2819880"/>
              <a:ext cx="27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52000" y="1981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78040" y="2271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40880" y="2255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3352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85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3328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8360" y="2163600"/>
              <a:ext cx="0" cy="12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5360" y="28648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670440" y="3002040"/>
              <a:ext cx="27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70440" y="188928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6120" y="231660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85360" y="3397320"/>
              <a:ext cx="123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59320" y="230076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33520" y="1096200"/>
            <a:ext cx="7696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ьтрафильтрация и обратный осмо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мос – вода проходит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ерез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у и разбавляет раствор до равновесного состоя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626640"/>
            <a:ext cx="51213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мотическое давление, р - гидростатичес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5720" y="4627800"/>
            <a:ext cx="75826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сила гидростатического давления, создаваемая столбом жидкости высотой 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оретически (уравнение Вант-Гоффа)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20520" y="5942520"/>
            <a:ext cx="406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Вант-Гоффа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масса, к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800600" y="1219320"/>
                <a:ext cx="9968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657600" y="1981080"/>
                <a:ext cx="9428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изб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2895480"/>
                <a:ext cx="14205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3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МП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3200400" y="3505320"/>
            <a:ext cx="3635280" cy="2055240"/>
            <a:chOff x="3200400" y="3505320"/>
            <a:chExt cx="3635280" cy="2055240"/>
          </a:xfrm>
        </p:grpSpPr>
        <p:sp>
          <p:nvSpPr>
            <p:cNvPr id="184" name=""/>
            <p:cNvSpPr/>
            <p:nvPr/>
          </p:nvSpPr>
          <p:spPr>
            <a:xfrm>
              <a:off x="5571360" y="4928400"/>
              <a:ext cx="1264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уплотнение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00400" y="3505320"/>
              <a:ext cx="142236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 подложк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71360" y="3821400"/>
              <a:ext cx="1106280" cy="4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мембрана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0800" y="3978720"/>
              <a:ext cx="157680" cy="31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06680" y="3978720"/>
              <a:ext cx="157680" cy="31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0800" y="4137480"/>
              <a:ext cx="1106280" cy="31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8080" y="4137480"/>
              <a:ext cx="1106280" cy="315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0240" y="4295160"/>
              <a:ext cx="1265040" cy="158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32200" y="445356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2200" y="4453560"/>
              <a:ext cx="12456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5280" y="4453560"/>
              <a:ext cx="124200" cy="12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8080" y="4612320"/>
              <a:ext cx="2528640" cy="316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9024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6520" y="4612320"/>
              <a:ext cx="158400" cy="4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32200" y="4928400"/>
              <a:ext cx="158040" cy="1576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48640" y="4928400"/>
              <a:ext cx="158040" cy="1576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8480" y="4928400"/>
              <a:ext cx="157680" cy="157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5280" y="4928400"/>
              <a:ext cx="157680" cy="157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8640" y="3978720"/>
              <a:ext cx="94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622760" y="350532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7416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0800" y="5086080"/>
              <a:ext cx="79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48640" y="5244480"/>
              <a:ext cx="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96520" y="5244480"/>
              <a:ext cx="720" cy="3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55280" y="4453560"/>
              <a:ext cx="78984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096520" y="3978720"/>
              <a:ext cx="47448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32200" y="3821400"/>
              <a:ext cx="316440" cy="47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22800" y="114192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вижущей силой процесса являетс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473480"/>
            <a:ext cx="49528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из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избыточное давление над раство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смотическом процесс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200" y="2894400"/>
            <a:ext cx="39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быточное давление пр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ьтрафильтрац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440" y="2437200"/>
            <a:ext cx="58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льтрафиль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- разделение высокомолекулярных соедин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32400"/>
            <a:ext cx="797076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ctr">
            <a:spAutoFit/>
          </a:bodyPr>
          <a:p>
            <a:pPr indent="457200" algn="just"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азоочис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неоднородных газовых систем (газоочистка) – выделение из аэрозолей частиц твердой и жидкой ф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: технологическая и защит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ческая – при сушке отделение сушильного агента (воздух), аэрация в биохимических процессах, пневмо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щитная – очистка воздуха от вредных примес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личают 5 способов разделения и очист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Осаждение под действием силы тяжести (крупные частицы больше 100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Осаждение под действием центробежных сил (частицы больше 10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ование (частицы меньше 10 мкм, пыль). От микробиологических, бактерицидных вещест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Мокрая очистка (тонкодисперсные системы 5-30 и 2-5 мк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саждение под действием электростатических сил (почти не применяется в пищевой промышленности, так как трудно обеспечить безопасно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ИДРОМЕХАНИЧЕСКИЕ ПРОЦЕСС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457200"/>
            <a:ext cx="5943600" cy="4572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38080" y="1422360"/>
            <a:ext cx="7441920" cy="4231800"/>
            <a:chOff x="838080" y="1422360"/>
            <a:chExt cx="7441920" cy="4231800"/>
          </a:xfrm>
        </p:grpSpPr>
        <p:grpSp>
          <p:nvGrpSpPr>
            <p:cNvPr id="221" name=""/>
            <p:cNvGrpSpPr/>
            <p:nvPr/>
          </p:nvGrpSpPr>
          <p:grpSpPr>
            <a:xfrm>
              <a:off x="838080" y="1422360"/>
              <a:ext cx="7441920" cy="3798360"/>
              <a:chOff x="838080" y="1422360"/>
              <a:chExt cx="7441920" cy="379836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838080" y="1735560"/>
                <a:ext cx="3341880" cy="691200"/>
                <a:chOff x="838080" y="1735560"/>
                <a:chExt cx="3341880" cy="691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529280" y="18507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529280" y="18507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129888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98880" y="19659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98880" y="2311560"/>
                  <a:ext cx="20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3373560" y="208116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373560" y="208116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603960" y="173556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76004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10564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5160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97200" y="18507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43160" y="196596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38080" y="219636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719160" y="196596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982080" y="3607920"/>
                <a:ext cx="2074320" cy="1612800"/>
                <a:chOff x="982080" y="3607920"/>
                <a:chExt cx="2074320" cy="1612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019240" y="36079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788480" y="3838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7328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73280" y="37231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>
                  <a:off x="1442880" y="4529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42880" y="4644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442880" y="4414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73280" y="46447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364840" y="37231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6484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364840" y="4068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595240" y="38383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64840" y="4068720"/>
                  <a:ext cx="0" cy="69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67328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2019240" y="4759920"/>
                  <a:ext cx="3456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9040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134440" y="4875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88480" y="49903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904040" y="383832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8848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78848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9040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9040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0192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192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1344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344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249640" y="39535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249640" y="41839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82080" y="46447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710800" y="39535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19240" y="499032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430800" y="3607920"/>
                <a:ext cx="1577520" cy="1611720"/>
                <a:chOff x="3430800" y="3607920"/>
                <a:chExt cx="1577520" cy="1611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430800" y="4042800"/>
                  <a:ext cx="432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63160" y="3898800"/>
                  <a:ext cx="432000" cy="43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_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201560" y="3607920"/>
                  <a:ext cx="0" cy="80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55600" y="3723120"/>
                  <a:ext cx="69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855600" y="3723120"/>
                  <a:ext cx="0" cy="92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547160" y="372312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47160" y="38383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47160" y="395352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547160" y="3953520"/>
                  <a:ext cx="0" cy="46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547160" y="44132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547160" y="4528440"/>
                  <a:ext cx="115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547160" y="45284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85560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4316760" y="4643640"/>
                  <a:ext cx="23040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086360" y="47588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0863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16760" y="4758840"/>
                  <a:ext cx="0" cy="1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970800" y="487404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662360" y="372312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62360" y="4298040"/>
                  <a:ext cx="0" cy="34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77920" y="39535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777920" y="441324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201560" y="4989240"/>
                  <a:ext cx="0" cy="2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682880" y="1447560"/>
                <a:ext cx="1233720" cy="1871640"/>
                <a:chOff x="4682880" y="1447560"/>
                <a:chExt cx="1233720" cy="18716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842720" y="171072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073120" y="1710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27520" y="17107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71400">
                  <a:off x="4953600" y="1568160"/>
                  <a:ext cx="692280" cy="1219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71400">
                  <a:off x="4874760" y="2118600"/>
                  <a:ext cx="920520" cy="56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358" y="603"/>
                      </a:moveTo>
                      <a:arcTo wR="10800" hR="10800" stAng="-4245777" swAng="42457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358" y="603"/>
                      </a:moveTo>
                      <a:arcTo wR="10800" hR="10800" stAng="-4245777" swAng="4245777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303520" y="1710720"/>
                  <a:ext cx="0" cy="34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7275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188320" y="2056320"/>
                  <a:ext cx="0" cy="57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7275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073120" y="2632320"/>
                  <a:ext cx="11520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842720" y="2862720"/>
                  <a:ext cx="230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427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073120" y="28627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27520" y="2977920"/>
                  <a:ext cx="46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5418720" y="1825920"/>
                  <a:ext cx="345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015520" y="3031560"/>
                  <a:ext cx="0" cy="28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4957920" y="1447560"/>
                  <a:ext cx="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880240" y="1422360"/>
                <a:ext cx="2399760" cy="2516760"/>
                <a:chOff x="5880240" y="1422360"/>
                <a:chExt cx="2399760" cy="25167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080120" y="1724760"/>
                  <a:ext cx="368640" cy="92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433560" y="19087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433560" y="1908720"/>
                  <a:ext cx="0" cy="92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33560" y="3016080"/>
                  <a:ext cx="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49600" y="301608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49600" y="2832120"/>
                  <a:ext cx="1839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433560" y="3201120"/>
                  <a:ext cx="55404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7172640" y="3200760"/>
                  <a:ext cx="55332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33560" y="3201120"/>
                  <a:ext cx="129240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8796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72640" y="3477960"/>
                  <a:ext cx="360" cy="18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95440" y="3662640"/>
                  <a:ext cx="3686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49600" y="2739960"/>
                  <a:ext cx="0" cy="36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726320" y="2278080"/>
                  <a:ext cx="360" cy="92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26320" y="1908720"/>
                  <a:ext cx="360" cy="18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26320" y="209340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6320" y="2278080"/>
                  <a:ext cx="1846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911000" y="2000880"/>
                  <a:ext cx="36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43356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6182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61824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80292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80292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98796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98796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717264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72640" y="2370600"/>
                  <a:ext cx="18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35660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356600" y="273996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7541280" y="2370600"/>
                  <a:ext cx="0" cy="3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41280" y="2370600"/>
                  <a:ext cx="18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880240" y="2923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003160" y="2185920"/>
                  <a:ext cx="27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080120" y="3755160"/>
                  <a:ext cx="0" cy="18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689544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7079760" y="2093040"/>
                  <a:ext cx="184680" cy="27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V="1">
                  <a:off x="7080120" y="1447560"/>
                  <a:ext cx="0" cy="64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080120" y="1447920"/>
                  <a:ext cx="18468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7172640" y="1540080"/>
                  <a:ext cx="9216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65160" y="1540080"/>
                  <a:ext cx="91440" cy="18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80120" y="1724760"/>
                  <a:ext cx="368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5876000">
                  <a:off x="7180920" y="1438560"/>
                  <a:ext cx="367200" cy="36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84644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3160" y="2486160"/>
              <a:ext cx="432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80240" y="335016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87160" y="522252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047280" y="4342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очист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248520" y="4952880"/>
                <a:ext cx="16412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2049120" y="5771160"/>
            <a:ext cx="6255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аэрозоли,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i="1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концентрация в очищенном газ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7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