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CF99A-5B7D-4E96-83DC-8B52BA014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C9C51-3CDD-4CBF-98F7-AF5C4A6AC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CA474-B269-4D6E-A744-F2DCAC232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D244E-CA8B-4A6E-8868-C9D6AB97C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9386C-B502-41A7-9CC4-393510DEA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07E3D-12BC-428D-B984-55CC5890D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45D44-E3B7-4FF9-83D6-5CCD934A1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36BBE-725D-4392-91D9-609847558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80D62-5487-49B0-86F5-9D2AB68E3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229CB-72CE-4A42-BC61-974DC9DB9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39336-B87B-4ED7-AC3E-ADFDB710C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A7BF8-BA9A-468C-B89F-7C2EA3288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79F4A-1346-49EF-A032-B2ED0F8A6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C1609-CB17-443D-A6FD-CDB57032F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C01CF-CCEC-4554-A24F-F8924459C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EA1D7-F838-48FE-B7CA-4319396F9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4589B-E548-445A-B302-FA97C8FC3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DC435-AA8D-4EC8-97A0-B4EAF26DC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23A4A-0B27-47D4-ACBE-F2D119077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BEAFB-4C01-424A-9489-CE07C72B7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616D3-7421-4B8B-86C4-A88828B27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2BCFA-324F-4DDE-879E-1F60658C8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9F9C2-6041-47C9-B746-6C093AFDC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4B236-7AA0-4BFA-8AEF-8AA6A4FAC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0aca8"/>
                </a:gs>
                <a:gs pos="50000">
                  <a:srgbClr val="006666"/>
                </a:gs>
                <a:gs pos="100000">
                  <a:srgbClr val="00aca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aca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ac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aca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d6fc7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C6FD0-B6FA-4D0E-A2BC-479584526AD4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0aca8"/>
                </a:gs>
                <a:gs pos="50000">
                  <a:srgbClr val="006666"/>
                </a:gs>
                <a:gs pos="100000">
                  <a:srgbClr val="00aca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aca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ac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aca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9DB95-A80A-4229-AFC0-986E8A3B36D2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d6fc7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ff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4360" y="692280"/>
            <a:ext cx="777240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3200" spc="-1" strike="noStrike">
                <a:solidFill>
                  <a:srgbClr val="b2b2b2"/>
                </a:solidFill>
                <a:latin typeface="Arial"/>
              </a:rPr>
              <a:t>«Процессы и аппараты пищевых производств» </a:t>
            </a:r>
            <a:br>
              <a:rPr sz="3200"/>
            </a:b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187280" y="2565000"/>
            <a:ext cx="734544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КОНСПЕКТ ЛЕКЦИЙ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для специальностей 050727 – Технология продовольственных продуктов,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050728 – Технология перерабатывающих производств, 050724 – Технологические машины и оборудование, 050701 – Биотехнология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627280" y="1413000"/>
            <a:ext cx="5759640" cy="436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ЛЕКЦИЯ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СНОВЫ ГИДРАВЛИК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Гидростатика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.1 Свойства жидкосте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.2 Уравнение Эйлер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.3 Закон Паскал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.4 Закон Архимед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.5 Сообщающиеся сосуд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90720" y="277920"/>
            <a:ext cx="678168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С В О Й С Т В А   Ж И Д К О С Т И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Жидкость рассматривают как непрерывную материальную среду. Ее свойства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    Плотность                  (кг/м3)                    удельный объем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   Упругость                       (коэффициент объемного сжатия)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     Модуль объемной упругости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     Коэффициент температурного расширения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.     Поверхность натяжения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6.     Капиллярност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7.     Вязкость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д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v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скорость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h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линейный размер поперечного сечен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2438280" y="1585800"/>
                <a:ext cx="752760" cy="5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ρ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m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9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4495680" y="1600200"/>
                <a:ext cx="874800" cy="55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уд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m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2590920" y="2286000"/>
                <a:ext cx="106200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сж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pV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4724280" y="2895480"/>
                <a:ext cx="820800" cy="60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сж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6477120" y="3505320"/>
                <a:ext cx="874440" cy="55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V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4267080" y="4191120"/>
                <a:ext cx="820800" cy="55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н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F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l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2590920" y="5257800"/>
                <a:ext cx="1176120" cy="88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η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</m:num>
                      <m:den>
                        <m:r>
                          <m:t xml:space="preserve">Δ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dυ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h</m:t>
                                </m:r>
                              </m:den>
                            </m:f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1" name=""/>
          <p:cNvSpPr/>
          <p:nvPr/>
        </p:nvSpPr>
        <p:spPr>
          <a:xfrm>
            <a:off x="1752480" y="304920"/>
            <a:ext cx="5334120" cy="533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1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10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0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0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10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0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0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10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10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0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0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10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0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10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0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0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90720" y="277920"/>
            <a:ext cx="678168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С В О Й С Т В А   Ж И Д К О С Т И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гласно уравнению Ньютона для ньютоновской жидкости удельная сила трения определяется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ньютоновские жидкости (Бингама) – тесто, фарш, творог.Для них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т – удельная сила трения, П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т – предельное значения силы трения (Па), свыше которого         жидкость приходит в движени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733920" y="2133720"/>
                <a:ext cx="965160" cy="59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ηdυ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h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3809880" y="3429000"/>
                <a:ext cx="1627200" cy="59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уд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пт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r>
                          <m:t xml:space="preserve">ηdυ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h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0" name=""/>
          <p:cNvSpPr/>
          <p:nvPr/>
        </p:nvSpPr>
        <p:spPr>
          <a:xfrm>
            <a:off x="1066680" y="380880"/>
            <a:ext cx="6096240" cy="457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2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1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Г и д р о с т а т и к а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Основное уравнение гидростатики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Эйлер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5486400" y="1219320"/>
            <a:ext cx="2857680" cy="1371600"/>
            <a:chOff x="5486400" y="1219320"/>
            <a:chExt cx="2857680" cy="1371600"/>
          </a:xfrm>
        </p:grpSpPr>
        <p:sp>
          <p:nvSpPr>
            <p:cNvPr id="134" name=""/>
            <p:cNvSpPr/>
            <p:nvPr/>
          </p:nvSpPr>
          <p:spPr>
            <a:xfrm>
              <a:off x="7922880" y="2063880"/>
              <a:ext cx="420840" cy="31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Z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600520" y="1905120"/>
              <a:ext cx="43092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Z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922880" y="1641240"/>
              <a:ext cx="210600" cy="30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079040" y="1219320"/>
              <a:ext cx="4644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Р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445080" y="1219320"/>
              <a:ext cx="412560" cy="31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Р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119280" y="1536120"/>
              <a:ext cx="1478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119280" y="1536120"/>
              <a:ext cx="1468800" cy="951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803200" y="1641240"/>
              <a:ext cx="221580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230520" y="1759680"/>
              <a:ext cx="21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761520" y="1852200"/>
              <a:ext cx="21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445080" y="2063880"/>
              <a:ext cx="21060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289280" y="1746720"/>
              <a:ext cx="105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972480" y="1958400"/>
              <a:ext cx="212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289280" y="2063880"/>
              <a:ext cx="21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91520" y="1953360"/>
              <a:ext cx="530640" cy="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339240" y="1324440"/>
              <a:ext cx="0" cy="316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706000" y="2485440"/>
              <a:ext cx="232092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394760" y="1324440"/>
              <a:ext cx="0" cy="633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922520" y="1958400"/>
              <a:ext cx="0" cy="52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908320" y="1641240"/>
              <a:ext cx="0" cy="843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922520" y="1641240"/>
              <a:ext cx="0" cy="316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027280" y="2274840"/>
              <a:ext cx="316800" cy="31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486400" y="2274840"/>
              <a:ext cx="316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752520" y="2295720"/>
              <a:ext cx="211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330960" y="2211120"/>
              <a:ext cx="21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174800" y="2379960"/>
              <a:ext cx="21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0" y="31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1676520" y="1752480"/>
                <a:ext cx="2209680" cy="68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P</m:t>
                        </m:r>
                      </m:num>
                      <m:den>
                        <m:r>
                          <m:t xml:space="preserve">ρg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ns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2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609480" y="2563920"/>
                <a:ext cx="1285920" cy="45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ρg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ρg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4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2514600" y="2590920"/>
                <a:ext cx="1295280" cy="45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t xml:space="preserve">ρg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6" name=""/>
          <p:cNvSpPr/>
          <p:nvPr/>
        </p:nvSpPr>
        <p:spPr>
          <a:xfrm>
            <a:off x="457200" y="3244680"/>
            <a:ext cx="73915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Закон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Паскаля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Обозначим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  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–  глубина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погружен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Тогда из уравнения (2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57200" y="4639680"/>
            <a:ext cx="83818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Давление на глубине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увеличивается на величину гидростатического давле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33520" y="5638320"/>
            <a:ext cx="81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Следствие: Давление создаваемое в любой точке передается всем точкам объема жидкост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6095880" y="4419720"/>
                <a:ext cx="1371600" cy="3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Р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Р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ρ</m:t>
                    </m:r>
                    <m:r>
                      <m:t xml:space="preserve"> </m:t>
                    </m:r>
                    <m:r>
                      <m:t xml:space="preserve">g</m:t>
                    </m:r>
                    <m:r>
                      <m:t xml:space="preserve"> </m:t>
                    </m:r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1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3124080" y="3886200"/>
                <a:ext cx="943200" cy="28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73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2133720" y="5181480"/>
                <a:ext cx="504720" cy="28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ρ</m:t>
                    </m:r>
                    <m:r>
                      <m:t xml:space="preserve"> </m:t>
                    </m:r>
                    <m:r>
                      <m:t xml:space="preserve">g</m:t>
                    </m:r>
                    <m:r>
                      <m:t xml:space="preserve"> </m:t>
                    </m:r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5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3733920" y="4952880"/>
                <a:ext cx="176040" cy="25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7" name=""/>
          <p:cNvSpPr/>
          <p:nvPr/>
        </p:nvSpPr>
        <p:spPr>
          <a:xfrm>
            <a:off x="2133720" y="457200"/>
            <a:ext cx="4724280" cy="533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Закон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рхимеда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На тело, погруженное в жидкость, действует выталкивающая сила равная весу вытесненной воды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5791320" y="4724280"/>
            <a:ext cx="2286000" cy="1257120"/>
            <a:chOff x="5791320" y="4724280"/>
            <a:chExt cx="2286000" cy="1257120"/>
          </a:xfrm>
        </p:grpSpPr>
        <p:sp>
          <p:nvSpPr>
            <p:cNvPr id="181" name=""/>
            <p:cNvSpPr/>
            <p:nvPr/>
          </p:nvSpPr>
          <p:spPr>
            <a:xfrm>
              <a:off x="7696800" y="5410080"/>
              <a:ext cx="285120" cy="34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934680" y="5181120"/>
              <a:ext cx="405720" cy="34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Z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648480" y="5181120"/>
              <a:ext cx="334080" cy="34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Z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791320" y="5639040"/>
              <a:ext cx="285840" cy="34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792200" y="5639040"/>
              <a:ext cx="285120" cy="34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600680" y="5181120"/>
              <a:ext cx="95040" cy="4579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315560" y="4838760"/>
              <a:ext cx="666360" cy="3416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886360" y="5067720"/>
              <a:ext cx="667080" cy="3423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172560" y="5410080"/>
              <a:ext cx="93960" cy="34344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172560" y="5753520"/>
              <a:ext cx="1522800" cy="11340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00680" y="5639040"/>
              <a:ext cx="95760" cy="11448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886360" y="4952160"/>
              <a:ext cx="66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315560" y="4724280"/>
              <a:ext cx="66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886360" y="4952160"/>
              <a:ext cx="0" cy="45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553440" y="4952160"/>
              <a:ext cx="0" cy="45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886360" y="5410080"/>
              <a:ext cx="285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flipH="1">
              <a:off x="6267960" y="5410080"/>
              <a:ext cx="285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172560" y="541008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267960" y="5410080"/>
              <a:ext cx="0" cy="34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267960" y="5753520"/>
              <a:ext cx="133272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315560" y="472428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981920" y="472428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315560" y="5181120"/>
              <a:ext cx="285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 flipH="1">
              <a:off x="7696800" y="5181120"/>
              <a:ext cx="285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600680" y="5181120"/>
              <a:ext cx="0" cy="572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696800" y="5181120"/>
              <a:ext cx="0" cy="68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172560" y="5867280"/>
              <a:ext cx="1524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791320" y="5639040"/>
              <a:ext cx="228600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886360" y="5067720"/>
              <a:ext cx="857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220520" y="4838760"/>
              <a:ext cx="761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648480" y="50677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220520" y="4838760"/>
              <a:ext cx="0" cy="800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172560" y="5753520"/>
              <a:ext cx="0" cy="11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600680" y="5639040"/>
              <a:ext cx="0" cy="114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5" name="PlaceHolder 2"/>
          <p:cNvSpPr>
            <a:spLocks noGrp="1"/>
          </p:cNvSpPr>
          <p:nvPr>
            <p:ph type="title"/>
          </p:nvPr>
        </p:nvSpPr>
        <p:spPr>
          <a:xfrm>
            <a:off x="2057400" y="380880"/>
            <a:ext cx="5486400" cy="457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Г и д р о с т а т и к а</a:t>
            </a: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286000" y="457200"/>
            <a:ext cx="4419720" cy="533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914400" y="2590920"/>
            <a:ext cx="1690560" cy="1712880"/>
            <a:chOff x="914400" y="2590920"/>
            <a:chExt cx="1690560" cy="1712880"/>
          </a:xfrm>
        </p:grpSpPr>
        <p:grpSp>
          <p:nvGrpSpPr>
            <p:cNvPr id="218" name=""/>
            <p:cNvGrpSpPr/>
            <p:nvPr/>
          </p:nvGrpSpPr>
          <p:grpSpPr>
            <a:xfrm>
              <a:off x="914400" y="2819520"/>
              <a:ext cx="1622520" cy="1141200"/>
              <a:chOff x="914400" y="2819520"/>
              <a:chExt cx="1622520" cy="1141200"/>
            </a:xfrm>
          </p:grpSpPr>
          <p:sp>
            <p:nvSpPr>
              <p:cNvPr id="219" name=""/>
              <p:cNvSpPr/>
              <p:nvPr/>
            </p:nvSpPr>
            <p:spPr>
              <a:xfrm>
                <a:off x="914400" y="3960720"/>
                <a:ext cx="1029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20" name=""/>
              <p:cNvGrpSpPr/>
              <p:nvPr/>
            </p:nvGrpSpPr>
            <p:grpSpPr>
              <a:xfrm>
                <a:off x="935280" y="2819520"/>
                <a:ext cx="1601640" cy="1141200"/>
                <a:chOff x="935280" y="2819520"/>
                <a:chExt cx="1601640" cy="1141200"/>
              </a:xfrm>
            </p:grpSpPr>
            <p:sp>
              <p:nvSpPr>
                <p:cNvPr id="221" name=""/>
                <p:cNvSpPr/>
                <p:nvPr/>
              </p:nvSpPr>
              <p:spPr>
                <a:xfrm>
                  <a:off x="935280" y="2819520"/>
                  <a:ext cx="0" cy="1141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1944000" y="2819520"/>
                  <a:ext cx="0" cy="1141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935280" y="2933640"/>
                  <a:ext cx="16016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1148760" y="3161880"/>
                  <a:ext cx="571680" cy="57024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1392840" y="3161880"/>
                  <a:ext cx="0" cy="570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1491840" y="3161880"/>
                  <a:ext cx="0" cy="570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1491840" y="3161880"/>
                  <a:ext cx="8006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1392840" y="3732480"/>
                  <a:ext cx="11440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2058480" y="3161880"/>
                  <a:ext cx="0" cy="570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2401560" y="2933640"/>
                  <a:ext cx="0" cy="798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 flipV="1">
                  <a:off x="2058480" y="2933640"/>
                  <a:ext cx="0" cy="228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1049400" y="3047760"/>
                  <a:ext cx="1141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1049400" y="3732480"/>
                  <a:ext cx="1141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1049400" y="3390120"/>
                  <a:ext cx="1141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1392840" y="3846600"/>
                  <a:ext cx="1141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1735920" y="3846600"/>
                  <a:ext cx="1141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1392840" y="304776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1163880" y="3161880"/>
                  <a:ext cx="1141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39" name=""/>
            <p:cNvSpPr/>
            <p:nvPr/>
          </p:nvSpPr>
          <p:spPr>
            <a:xfrm>
              <a:off x="1143000" y="2590920"/>
              <a:ext cx="228600" cy="22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dp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257480" y="2819520"/>
              <a:ext cx="0" cy="34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 flipV="1">
              <a:off x="1371600" y="3733920"/>
              <a:ext cx="0" cy="34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257480" y="4075200"/>
              <a:ext cx="2286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dp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171880" y="2933640"/>
              <a:ext cx="114120" cy="22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490840" y="3276720"/>
              <a:ext cx="114120" cy="22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171880" y="3390840"/>
              <a:ext cx="114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486080" y="3505320"/>
              <a:ext cx="342720" cy="798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7" name=""/>
          <p:cNvSpPr/>
          <p:nvPr/>
        </p:nvSpPr>
        <p:spPr>
          <a:xfrm>
            <a:off x="1828800" y="4303800"/>
            <a:ext cx="22860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v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3733920" y="2666880"/>
                <a:ext cx="1066680" cy="33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ж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gh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0" name=""/>
          <p:cNvSpPr/>
          <p:nvPr/>
        </p:nvSpPr>
        <p:spPr>
          <a:xfrm>
            <a:off x="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1" name=""/>
              <p:cNvSpPr txBox="1"/>
              <p:nvPr/>
            </p:nvSpPr>
            <p:spPr>
              <a:xfrm>
                <a:off x="3429000" y="3048120"/>
                <a:ext cx="1371600" cy="33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ж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gh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d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2" name=""/>
          <p:cNvSpPr/>
          <p:nvPr/>
        </p:nvSpPr>
        <p:spPr>
          <a:xfrm>
            <a:off x="5485680" y="2971080"/>
            <a:ext cx="152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Результирующая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3276720" y="3429000"/>
                <a:ext cx="1523880" cy="33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ж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g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d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4" name=""/>
          <p:cNvSpPr/>
          <p:nvPr/>
        </p:nvSpPr>
        <p:spPr>
          <a:xfrm>
            <a:off x="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486400" y="25592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Сила тяжести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Times New Roman"/>
              </a:rPr>
              <a:t>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054320" y="3526200"/>
            <a:ext cx="96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7" name=""/>
              <p:cNvSpPr txBox="1"/>
              <p:nvPr/>
            </p:nvSpPr>
            <p:spPr>
              <a:xfrm>
                <a:off x="6934320" y="2666880"/>
                <a:ext cx="1171440" cy="31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р</m:t>
                        </m:r>
                      </m:e>
                      <m:sub>
                        <m:r>
                          <m:t xml:space="preserve">Т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Т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g</m:t>
                    </m:r>
                    <m:r>
                      <m:t xml:space="preserve"> 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8" name="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9" name=""/>
              <p:cNvSpPr txBox="1"/>
              <p:nvPr/>
            </p:nvSpPr>
            <p:spPr>
              <a:xfrm>
                <a:off x="5562720" y="3429000"/>
                <a:ext cx="2752560" cy="31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р</m:t>
                        </m:r>
                      </m:e>
                      <m:sub>
                        <m:r>
                          <m:t xml:space="preserve">Р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р</m:t>
                        </m:r>
                      </m:e>
                      <m:sub>
                        <m:r>
                          <m:t xml:space="preserve">Т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р</m:t>
                    </m:r>
                    <m:sSub>
                      <m:e>
                        <m:r>
                          <m:t xml:space="preserve"> </m:t>
                        </m:r>
                      </m:e>
                      <m:sub>
                        <m:r>
                          <m:t xml:space="preserve">Ж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Т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Ж</m:t>
                            </m:r>
                          </m:sub>
                        </m:sSub>
                      </m:e>
                    </m:d>
                    <m:r>
                      <m:t xml:space="preserve"> </m:t>
                    </m:r>
                    <m:r>
                      <m:t xml:space="preserve">g</m:t>
                    </m:r>
                    <m:r>
                      <m:t xml:space="preserve"> 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0" name="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1" name=""/>
              <p:cNvSpPr txBox="1"/>
              <p:nvPr/>
            </p:nvSpPr>
            <p:spPr>
              <a:xfrm>
                <a:off x="2438280" y="3886200"/>
                <a:ext cx="2390760" cy="3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e>
                      <m:sub>
                        <m:r>
                          <m:t xml:space="preserve">Ж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ж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g</m:t>
                    </m:r>
                    <m:r>
                      <m:t xml:space="preserve"> </m:t>
                    </m:r>
                    <m:r>
                      <m:t xml:space="preserve">h</m:t>
                    </m:r>
                    <m:r>
                      <m:t xml:space="preserve"> </m:t>
                    </m:r>
                    <m:r>
                      <m:t xml:space="preserve">d</m:t>
                    </m:r>
                    <m:r>
                      <m:t xml:space="preserve"> 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2" name=""/>
          <p:cNvSpPr/>
          <p:nvPr/>
        </p:nvSpPr>
        <p:spPr>
          <a:xfrm>
            <a:off x="5019480" y="3809160"/>
            <a:ext cx="358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Если  </a:t>
            </a:r>
            <a:r>
              <a:rPr b="0" i="1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</a:t>
            </a:r>
            <a:r>
              <a:rPr b="0" i="1" lang="ru-RU" sz="1400" spc="-1" strike="noStrike">
                <a:solidFill>
                  <a:srgbClr val="ffffff"/>
                </a:solidFill>
                <a:latin typeface="Arial"/>
              </a:rPr>
              <a:t>т &gt;</a:t>
            </a:r>
            <a:r>
              <a:rPr b="0" i="1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</a:t>
            </a:r>
            <a:r>
              <a:rPr b="0" i="1" lang="ru-RU" sz="1400" spc="-1" strike="noStrike">
                <a:solidFill>
                  <a:srgbClr val="ffffff"/>
                </a:solidFill>
                <a:latin typeface="Arial"/>
              </a:rPr>
              <a:t>ж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, то</a:t>
            </a:r>
            <a:r>
              <a:rPr b="0" i="1" lang="ru-RU" sz="1400" spc="-1" strike="noStrike">
                <a:solidFill>
                  <a:srgbClr val="ffffff"/>
                </a:solidFill>
                <a:latin typeface="Arial"/>
              </a:rPr>
              <a:t>  (+ Рр) – тело тонет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029200" y="4190040"/>
            <a:ext cx="396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Если  </a:t>
            </a:r>
            <a:r>
              <a:rPr b="0" i="1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</a:t>
            </a:r>
            <a:r>
              <a:rPr b="0" i="1" lang="ru-RU" sz="1400" spc="-1" strike="noStrike">
                <a:solidFill>
                  <a:srgbClr val="ffffff"/>
                </a:solidFill>
                <a:latin typeface="Arial"/>
              </a:rPr>
              <a:t>т &lt;</a:t>
            </a:r>
            <a:r>
              <a:rPr b="0" i="1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</a:t>
            </a:r>
            <a:r>
              <a:rPr b="0" i="1" lang="ru-RU" sz="1400" spc="-1" strike="noStrike">
                <a:solidFill>
                  <a:srgbClr val="ffffff"/>
                </a:solidFill>
                <a:latin typeface="Arial"/>
              </a:rPr>
              <a:t>ж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, то</a:t>
            </a:r>
            <a:r>
              <a:rPr b="0" i="1" lang="ru-RU" sz="1400" spc="-1" strike="noStrike">
                <a:solidFill>
                  <a:srgbClr val="ffffff"/>
                </a:solidFill>
                <a:latin typeface="Arial"/>
              </a:rPr>
              <a:t>  (- Рр) – тело всплывает.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4" name=""/>
              <p:cNvSpPr txBox="1"/>
              <p:nvPr/>
            </p:nvSpPr>
            <p:spPr>
              <a:xfrm>
                <a:off x="3124080" y="4876920"/>
                <a:ext cx="2202120" cy="55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r>
                          <m:t xml:space="preserve">ρ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t xml:space="preserve">p</m:t>
                        </m:r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r>
                          <m:t xml:space="preserve">ρ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265" name=""/>
          <p:cNvSpPr/>
          <p:nvPr/>
        </p:nvSpPr>
        <p:spPr>
          <a:xfrm>
            <a:off x="304920" y="4403520"/>
            <a:ext cx="4038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Сообщающиеся сосуд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0" y="3789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836640" y="4927680"/>
            <a:ext cx="2044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Из уравнения Эйлера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33520" y="5334120"/>
            <a:ext cx="51051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Отсюда:    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если               ,  то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0" name=""/>
              <p:cNvSpPr txBox="1"/>
              <p:nvPr/>
            </p:nvSpPr>
            <p:spPr>
              <a:xfrm>
                <a:off x="2209680" y="5410080"/>
                <a:ext cx="685800" cy="52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71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2" name=""/>
              <p:cNvSpPr txBox="1"/>
              <p:nvPr/>
            </p:nvSpPr>
            <p:spPr>
              <a:xfrm>
                <a:off x="3505320" y="5562720"/>
                <a:ext cx="60948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7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5" name=""/>
              <p:cNvSpPr txBox="1"/>
              <p:nvPr/>
            </p:nvSpPr>
            <p:spPr>
              <a:xfrm>
                <a:off x="4724280" y="5562720"/>
                <a:ext cx="60984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06-10-25T02:54:37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