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6CC-EEBD-436C-B3DC-EB90EF5F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CB7-327C-49D2-95ED-2787B3B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49F-6025-4F10-9D95-D8EF7D02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6D1-EF2C-4D46-AB76-5862B3C5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60DE-A22C-4261-A3B1-11197832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2437-C8D2-4D6F-82D6-0F1BC84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408A-1753-4352-8B58-C88796EA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BA9-393A-4EE8-9388-01843BB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A92-6987-477A-A986-9ECEF5A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B5B-7206-428A-A375-048678C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ED1F-6A34-4F73-9432-05D18BF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5D6-43E6-45BC-9C21-040DF49A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1AFC-FD9A-4174-92AC-9210C87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3DA0-395B-4DCF-AC67-019EA39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8A3-FF2C-4AC9-A035-D73B32A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2799-86E4-4A3D-8067-CC73B3BA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8AD-78F0-47B8-B02E-D121490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E4F-165F-4504-99EA-2943A1B2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DCA-ED91-4611-B596-735168A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12D-DDD8-499A-AF2F-9AC41A9C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738-E0B9-4DE9-AAAA-7A79795F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9E0-7054-4EFC-91D7-922FBFF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5E2-1F32-4373-A06D-AA5D999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DDE-FBBB-4887-8E30-BCACC887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E8B1-2F8E-45EF-B19C-13EF3ABF32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7FAD-AFF7-4DAF-AED8-F377D745DB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Международный стандар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ИСО/МЭК 17025 (ISO/IEC 17025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бласть приме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ормативные ссы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рмины и опред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.Требование к управл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Технические треб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Консуль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Ценность аккредитированного стату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умент об аккредитации может оцениваться той пользой, которую система менеджмента качества (к которому он относится) принесёт её владель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польза не значительна, то нам удалось построить лишь систему менеджмента бумаг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75520" y="2052720"/>
            <a:ext cx="1909800" cy="1839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2362320" cy="2216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726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Что помогло такому большому количеству творчеств человеческих рук пережить разные эпохи, противостоять векам; что помогло человечеству, даже в самых диких временах сохранить их от разрушения? Это – качество»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ас Ма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86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едение Структура, Система каче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кументацией, Анализ запросов, заявок на подряд и контрактов, Заключение субподрядов на проведение испытаний и поверок, Приобретение услуг и запасов, Обслуживание кли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.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38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. Управление несоответствующей работой по испытаниям и/или поверкам, Корректируюшее действие. Управление регистрацией данных, Внутренние проверки, Анализы со стороны руковод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описание технических требований, Персонал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739116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ещения и условия окружающей среды, Методы испытаний и поверок, оценка пригодности мет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рудование, Прослеживаемость измер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етность о результа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6800"/>
            <a:ext cx="76201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21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и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процес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ие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общее управление каче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77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8195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11480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8195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819520"/>
            <a:ext cx="2133720" cy="533160"/>
          </a:xfrm>
          <a:prstGeom prst="rightArrow">
            <a:avLst>
              <a:gd name="adj1" fmla="val 50000"/>
              <a:gd name="adj2" fmla="val 1000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54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рьё, энер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0292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0" y="5791320"/>
            <a:ext cx="1447920" cy="642600"/>
            <a:chOff x="4572000" y="5791320"/>
            <a:chExt cx="1447920" cy="642600"/>
          </a:xfrm>
        </p:grpSpPr>
        <p:sp>
          <p:nvSpPr>
            <p:cNvPr id="122" name=""/>
            <p:cNvSpPr/>
            <p:nvPr/>
          </p:nvSpPr>
          <p:spPr>
            <a:xfrm>
              <a:off x="4876920" y="57913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5867280"/>
              <a:ext cx="144792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257800" y="32767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ые данны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 услуга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7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157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ие каче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8600"/>
            <a:ext cx="7477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9051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66688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051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905120"/>
            <a:ext cx="2133360" cy="533160"/>
          </a:xfrm>
          <a:prstGeom prst="rightArrow">
            <a:avLst>
              <a:gd name="adj1" fmla="val 50000"/>
              <a:gd name="adj2" fmla="val 10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362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2578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05320" y="6019920"/>
            <a:ext cx="1447560" cy="642600"/>
            <a:chOff x="3505320" y="6019920"/>
            <a:chExt cx="1447560" cy="642600"/>
          </a:xfrm>
        </p:grpSpPr>
        <p:sp>
          <p:nvSpPr>
            <p:cNvPr id="138" name=""/>
            <p:cNvSpPr/>
            <p:nvPr/>
          </p:nvSpPr>
          <p:spPr>
            <a:xfrm>
              <a:off x="3809880" y="60199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5320" y="6095880"/>
              <a:ext cx="144756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62520" y="23623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3809880"/>
            <a:ext cx="2285640" cy="1377720"/>
            <a:chOff x="3048120" y="3809880"/>
            <a:chExt cx="2285640" cy="1377720"/>
          </a:xfrm>
        </p:grpSpPr>
        <p:sp>
          <p:nvSpPr>
            <p:cNvPr id="142" name=""/>
            <p:cNvSpPr/>
            <p:nvPr/>
          </p:nvSpPr>
          <p:spPr>
            <a:xfrm>
              <a:off x="3779280" y="4203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орошо?</a:t>
              </a:r>
              <a:r>
                <a:rPr b="0" lang="hu-H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3809880"/>
              <a:ext cx="2285640" cy="13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4" name=""/>
          <p:cNvCxnSpPr/>
          <p:nvPr/>
        </p:nvCxnSpPr>
        <p:spPr>
          <a:xfrm rot="10800000">
            <a:off x="2133000" y="3809160"/>
            <a:ext cx="1014840" cy="681840"/>
          </a:xfrm>
          <a:prstGeom prst="bentConnector3">
            <a:avLst>
              <a:gd name="adj1" fmla="val 51312"/>
            </a:avLst>
          </a:prstGeom>
          <a:ln w="255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45" name=""/>
          <p:cNvSpPr/>
          <p:nvPr/>
        </p:nvSpPr>
        <p:spPr>
          <a:xfrm>
            <a:off x="228600" y="3200400"/>
            <a:ext cx="190512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ти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ющее действи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808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7432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52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2437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т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системах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0    Терминология и осно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1   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4    Улучш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19011  Проверка (ауди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О МЭК 17025  Требования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38088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25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меняет руководство ИСО/МЭК 25 и европейский стандарт ЭН 45001 (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4500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дел 4 относится к менеджменту (управлению), а раздел 5 к лабораторным испытаниям и / или повер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 содержит элементы ИСО 9001 и ИСО 9002, 9000:2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достичь аккредитации на международном уровне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одготовки специалистов из  лабораторий и из национальной организации по аккреди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роведения анализа лаборатории на соответствие требованиям стандарта ИСО/МЭК 17025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овать анализ профессиональной опытности с участием выбранных лаборато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3.2. Осн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в</a:t>
            </a: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ные понят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(аудит) ~ поверка (слич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сличение (эталон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анализ (со стороны руковод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менеджмент (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ерификация ~ валида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пыта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любая деятель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чтобы убедиться в правильности чего-либо или в соответствии чему-либо (осмотр, испытание);тоже самое как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 менеджмента качества (аудит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совокупность дейсвий для определения соответствия системы качества стандарту ИСО 9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Поверк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средств измерения-определение погрешностей и установление их пригодности к применению соответствия классу точности (для точного определения см.МС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Сличен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равнение, сопоставление и установление сх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В метр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личение эталонов:сравнение отк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нений эталонов от их номинальных знач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Анал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определение состава и свойств какого-либо вещества (хим.анали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переносном смысл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Разбор, рассмотрение чег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области менеджмента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анализ со стороны руковод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рассмотрение руководством состояния и функционирования системы качества, по определенным в ИСО 9001 правил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Менеджмен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 толковых словарях русского языка такого слова н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дословный перевод английского выражения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Management”, которое обозначает систему управления предприятием с целью обеспечений качества, согласно ИСО 9001. Из этого вытекает, что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это не управление качеством, а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управление предприятием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 с целью обеспечения осуществления запланированного 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родук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щ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Предмет, как результат человеческого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Продукция, следствие, результат чего-либо (в переносном смысл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а качества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предметы и/или услу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KZ Times New Roman"/>
              </a:rPr>
              <a:t>В области технического рег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KZ Times New Roman"/>
              </a:rPr>
              <a:t>Результат процесса или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соответствия (верификация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соответствия требован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 напр. Стандарта,заказа и т.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пригодности (валидация)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920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пригодности к назна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одготовленнос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подготовленности персон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верка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совпадения результатов испытаний, проведенных в разных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Межлабораторные с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Что такое: аккредитация?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192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, посредством которой орган по аккредитации официально признает правомочие юридического лица выполнять работы в определенной сфере по подтверждению соответствия объектов технического регулирования установленны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ь аккредитации – улучшение качества работы органов по подтверждению соответствия и испытательных лабораторий и подтверждение их правомочн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ндарт распростран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деятельность организаций, проводящих испытания и /или поверки (включая отбор образц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аборатории, являющие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й стороной – сам изготови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стороной – покупа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тьей стороной – независимая лаборатория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ытания /поверки могут составлять часть контроля качества и сертификации проду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стандарту ИСО / МЭК 17025 обеспечивает соответствие стандарту ИСО 9001 или ИСО 9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800" y="380520"/>
            <a:ext cx="8136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2. Нормативные ссылки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 Термины и определ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0 Системы  менеджмента качества. Основные положения и сло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1 Системы менеджмента качества.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4:2000 Системы менеджмента качества. Рекомендации по улучшению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ство ИСО/МЭК 2. Общие термины и определения в области стандардизации и смежных видов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М 1993 Международный словарь основных и общих терминов метрол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00 Оценка соответствия Словарь и общие принц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ить требованиям стандарта, потребностям клиента и требованиям органов в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лжно охватывать работы, выполняемые на своей территории, в удалённых местах и на времённых передвижных точ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ответственность руководящего персонала, и в случае осуществления деятельности, отличную от испытаний и / или поверок, избежать конфли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олагать руководящим и техническим персоналом, имеющим необходимое полномочие, выявить случаи откло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228600"/>
            <a:ext cx="738684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ганизационную структур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беспечивающую независимость персонала от внутренних и внешних дав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у п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е дан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клиентах, на любых носител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ы, обеспечивающу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определение круг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бразованный персонал и документировать повыше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тветственн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 качеств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с определённым кругом ответственности и компетенции подчинённый непосредственно высшему руководите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поряд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ещ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ачества должна соответствовать области распростра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окументированные процедуры для обеспечения качества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известны и поняты тем, к кому они относятся, они были им легко доступы и выполняться 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руководство по качеству, в котором изложены цели, основные принципы, указаны ссылки на процедуры, структура документации, задачи руководителей; его содержание должно актуализировать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екларацию высшего руководства о политике по качеству, с указанием целей и стремле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сновные принципы аккредитац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во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етен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дискримин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фиденци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ые требования к обязательной и добровольной сфере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кредитация имеет силу на 3 года, при условии проведения ежегодного инспекционног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требование по аккредитации  - соответствие стандарту ИСО/МЭК 170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умен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ивы, процедура, спецификация, таблица для поверки, график, текст,  сообщение, запись, софтвер, чертёж, план и.т.д. Они могут быть на любом носителе данных, в напечатанном виде или в электронной форме, являются  аналогами, в виде фото или в письменном вид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онтроля документов нужна для внутренних и внешних док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надо контролировать до их подтверждения и выпус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регистрации, идентификации пересмотренного статуса, предупреждения использования недействительных или устаревших докумен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доступны там, где происходит основная деятельность для функцион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документ должен быть идентифицирован индивидуально, должен содержать дату выпуска и пересмотра, конца, документацию страниц, общее число страниц или отметка конца документ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7386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, изменения в докумен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ённые документы должны быть проверены и подтверждены точно так, как оригин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ь изменения должна быть объяснена в самом документе или в его прилож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можно вносить и от руки, если внутренний порядок разрешает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а внесения изменений в документы и их контроля, храняющиеся в компьютерных системах должны быть установлены в процедур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864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 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анализа запросов, заявок на подряд и контрак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о обеспечить составление документов согласно требованиям, доступность, наличие ресурсов (физических, людских и информационных) и подходящих методов по запросам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.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ые различия между запросом или заявкой на подряд и контрактом должны быть улажены до начала работ или клиент должен быть информирован об отклон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охватывать межлабораторные программы поверки, круговые испытания и.т.д., с целью определения предела выявления и диапазона надёжности, деятельности по субподряд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лучае изменений в контракте или заказе контроль должен быть повторен и все заинтересованные лица должны быть информиро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5. Заключение субподрядов на проведение испытаний и пове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брать компетентного, проверенного субподряд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возможности просить письменного согласия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несёт ответственность и за работу, выполненную подрядчик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учёт о подрядчика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иметь запись о всех испытаниях / поверках, выполненных подрядчи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.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выбору и приобретению услуг и запасов, влияющих на качество (на заказ, приёмку, хранение и сервис расходуемых материалов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беспечить входной контроль до использования материал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услуг должно быть проверено и документирова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упочная документация на изделия, влияющие на качество, должна содержать параметры качества изделий. Их выбор подлежит проверке и подтверждению до выдачи зака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ценить поставщиков и документировать результаты оцен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составить перечень утверждённых поставщ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беспечить возможность участия клиентов 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ъяснении запроса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, связанных с выполняемой работ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 контроля функционирования лаборатории, разрешить доступ к испытаниям, проводимым для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то имеет право производить аккредитац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86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кредитация производится внешней, независимой, уполномоченной на государственном уровне организацией в соответствии с международными нормами - Комитет по техническому регулированию и метр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АК – Международная Организация Сотрудничества по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одготовке, упаковке и отправке образ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ен информацией должен бы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, и обратная связь должна быть обеспечена во время все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информацию (положительную и отрицательную) следует использовать для улучшения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8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8. 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и правила по разрешению претензий со стороны клиентов и других сторон. Записи надо сохра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9 Контроль несоответствующей работы по испытаниям и повер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по принятию мер в случае несоответствия собственным процедурам или согласованным с клиенто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 должна содержать ответственность за принятия мер, оценку значимости несоответствия, условия принятия корректирующих действий, критерии приемлемости, извещения клиента и возобновлени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 Корректиру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разработать процедуру по корректирующим дейст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пределить причины несоответствия. (Возможные причины – требования клиента, образцы и их спецификации, методы, процедуры, квалификация и опыт персонала, материалы, инструмент и его поверк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. Корректиру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соответствовать масштабу проблем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подвергаться контро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масштаб несоответствия угрожает достижения целей лаборатории, то необходимо провести дополнительные прове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1. Предупрежда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явить возможности развития технических систем и систем качества, а также идентифицировать причины несоответствий для того, чтобы лаборатория могла определить подходящее предупреждающее 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запланировать, а его выполнение  - контролир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ающее действие может включить анализ данных, анализ тенденций и риска а также результаты оценок опы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установить процедуру по идентификации, сбору, индексированию, доступу, систематизации, хранению, ведению и изъятию регистрационных данных по качеству и техническим вопрос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ы быть установлены сроки хранения и обеспечена конфиденциа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7386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защите и восстановлению данных на электронных носителях и для предупреждения несанкционированного доступа или внесения изменений в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и должны содержать всю информацию, необходимую для повторения испытаний и пове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, ответственные за эту деятельность должны быть определ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386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ческие записи (первичные данные, источн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данные, информация, накопленные в ходе испытаний /поверок, которые показывают, достигнуты-ли определённые параметры по качеству или мето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охваты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чатные материалы, контракты, записи и тетради о выполненных работах, контрольные карточки, промежуточные записи, контрольные диаграммы, заключения внутренних и внешних испытаний, сертификаты, записи клиента, письменные и устные сообщения, протоколы испытаний и поверок, посланные клиен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равление, вносимые в записи, должны быть подписаны, с указанием даты; ошибка должна остаться разбирае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1: Создать международную организац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жегодные совещ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ленские в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юрокр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летние диску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ездка  на совещание дор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народная  группа поедет в каждую страну поверить лаборатор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3. Внутренние провер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периодически, с предварительно установленным графиком и процедурой проводить внутренние проверки функционирования системы качества и соответствия стандар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вленные недостатки и необходимые меры должны быть зарегистрированы. Выполнение предусмотренных мер должно проверяться зафиксировано в документе, их эффективность также должна быть опред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7386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о всех несоответствиях, которые угрожают точность результатов испытаний / поверок необходимо информировать клиента.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4. Анализ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ответствии с предварительно установленным графиком и процедурой руководство должно периодически проводить анализ деятельности по проведению испытаний / поверок для обеспечения соответствия, эффективности и проведения необходимых изменений и улуч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учиты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дность политики и процед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ёты руководящих и контролирующих сотрудни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последних провер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и предупреждающие действ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и проведённые сторонними органа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межлабораторных сравнений или оценок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объёма и вида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связь от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 факторы контроля и подготовку персонал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2:  созда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6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национальные системы для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пусть они признают друг друга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циональные систем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ловие применимости варианта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инаковый подход в каждой стра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этого нужен международный станда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разработал прое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издал «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uide 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19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усть они признают друг друг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69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облегчения обоюдного призн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стал Международным Сотрудничеством по Аккредитации Лабораторий (Конференция – Коопера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АФ: Международный Форум по Аккреди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разрабатывают рекомендации для облегчения взаимного при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ние: правительства заключают соглашения о взаимном признании лабораторий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55:01Z</dcterms:created>
  <dc:creator>Parkany Mihaly</dc:creator>
  <dc:description/>
  <dc:language>en-US</dc:language>
  <cp:lastModifiedBy>User</cp:lastModifiedBy>
  <cp:lastPrinted>2005-03-28T07:13:56Z</cp:lastPrinted>
  <dcterms:modified xsi:type="dcterms:W3CDTF">2006-09-13T12:27:24Z</dcterms:modified>
  <cp:revision>44</cp:revision>
  <dc:subject/>
  <dc:title>Курс семинара для специалистов лаборатории по качеству « Международный стандарт ИСО/МЭК 17025 (ISO/IEC 17025): Общие требования к компетентности испытательных и поверочных лабораторий» проведенного Международным Торговым Центром (UNCTAD/WTO) как часть проекта «Продвижение Торговли в Казахстане и  в Кыргызии»  30 марта 2005 года, г.Алматы и г. Бишкек Элизабет Паркань Марта Паполци Инженер химик  Инженер механик Консультанты по ИСО/МЭК 17025:199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