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4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E6F-39E9-4539-A1EF-52C3A3BA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70E-9D9F-472B-8A3A-8376631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7AD-9543-476C-AE46-241A2CB1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E3A-ADDB-4730-A970-4A93A526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BF9-CB3F-47E7-93AA-654647A3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CF77-FB0C-4CBC-A634-5E055473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179-64AD-47C0-AEBF-65919F3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916-47EB-4F8A-8E97-0225843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3A88-4CC9-4F04-8A25-5EEB267F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E32D-1D00-4E00-968E-5CB035B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AAD9-EC49-423E-85E7-D82D056D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181-7142-457B-9931-424D1F1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C612-4777-43BA-88AB-779AC13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3C9-44EE-4C4C-A4CA-05012DB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01D1-91E1-433F-88AC-C3F2E3A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BFC-4957-4913-9EDC-4DCE1C58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E92F-E03E-4A11-B70F-8137EE2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878-F908-4CDB-BF56-F640EEAC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8B8-6680-458F-9035-6CED81B4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A9D-E751-42B1-A47E-D2B8F6C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D15-06B0-43C8-BF7F-5517DE3F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B52-AD14-45F3-8889-BD3EC9E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04E-769B-4605-B1A8-E32504CA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BA0-22B3-4C02-8918-377DCC3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A1A-F4BB-4944-AB35-5AF08C42D9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22F-838F-4486-8DF6-68DC691915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dsmatrix.ru/goods-catalogue/Traditional-wafers/Vitamin-wafers-traditional.html" TargetMode="External"/><Relationship Id="rId3" Type="http://schemas.openxmlformats.org/officeDocument/2006/relationships/hyperlink" Target="http://www.goodsmatrix.ru/goods-catalogue/Traditional-wafers/Traditional-wafers-with-cream-and-vanilla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оизводство Ваф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373720"/>
            <a:ext cx="532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608360" cy="357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24000" y="188640"/>
            <a:ext cx="3419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хлаждение листов производят по-разному: охлаждают каждый лист отдельно или собирают выпеченные горячие листы в стопы, а затем охлажд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механизированных предприятиях вафельные листы охлаждают на специальном люлечном конвейере, где они охлаждаются непосредственно воздухом цеха без его искусственной циркуля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848560" cy="43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5651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иготовление начин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рослойки вафель применяют следующие виды начинок: жировые, фруктовые, помадные, пралиновые и д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Жировые начин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лавными компонентами рецептуры жировых начинок являются сахарная пудра и кондитерский жир. Основой качества жировых начинок является способность жира при замесе насыщаться воздухом (способность к кремообразованию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уктовые начин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беспечения более длительного сохранения хрустящих свойств вафельных листов в последние годы стали применять иной способ приготовления начинки без уваривания. Фруктово-ягодную подварку смешивают при подогревании до температуры 90 °С с сахарной пудрой, инвертным сиропом и лимонной кислотой. После охлаждения до 50 °С в полученную массу вводят предварительно измельчённые возвратные отходы вафельных пластов. Перед намазкой начинку темперируют при 50 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Сливочная начинка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начинка крем-брюлн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мазывание вафельных листов начин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64000" y="1557360"/>
            <a:ext cx="378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фли с большим количеством слоёв и с влагосодержащими начинками не производят в связи с тем, что хрустящие свойствами внутреннего вафельного листа при контакте с помадными и фруктовыми начинками не сохраняются. Вафли с пятью и большим количеством слоёв вырабатывают с жировой и пралиновой начин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нанесения слоя начинки на вафельные листы применяют машины с валковым намазывающим механизмом или с подвижной намазывающей карет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Вафельная начинка"/>
          <p:cNvPicPr/>
          <p:nvPr/>
        </p:nvPicPr>
        <p:blipFill>
          <a:blip r:embed="rId2"/>
          <a:stretch/>
        </p:blipFill>
        <p:spPr>
          <a:xfrm>
            <a:off x="0" y="1700280"/>
            <a:ext cx="5524560" cy="515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24360" y="980640"/>
            <a:ext cx="4140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ногих предприятиях пласты с начинкой подвергают выстойке в производственных помещениях в течение 5-6 ч. В процессе выстойки происходит выпрессовывание низкоплавких фракций жира из начинок и поглощение их вафельными листами. Вследствие этого повышается вязкость начинки, что способствует более прочному сцеплению слоя начинки с листами и созданию благоприятных условий для рез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Вафля с начинкой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зка вафельных листо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ласт режут дважды во взаимно перпендикулярных направлениях на отдельные изделия прямоугольной формы. При резке вафельных пластов образуются обрезки, которые после измельчения вводят в соответствующие виды начинок в количестве не более 12 % к массе начи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Нарезка вафель"/>
          <p:cNvPicPr/>
          <p:nvPr/>
        </p:nvPicPr>
        <p:blipFill>
          <a:blip r:embed="rId2"/>
          <a:stretch/>
        </p:blipFill>
        <p:spPr>
          <a:xfrm>
            <a:off x="3708360" y="3284640"/>
            <a:ext cx="5435640" cy="357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7958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паковка ваф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Упаковка вафель"/>
          <p:cNvPicPr/>
          <p:nvPr/>
        </p:nvPicPr>
        <p:blipFill>
          <a:blip r:embed="rId2"/>
          <a:stretch/>
        </p:blipFill>
        <p:spPr>
          <a:xfrm>
            <a:off x="0" y="981000"/>
            <a:ext cx="47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Вафли в коробках"/>
          <p:cNvPicPr/>
          <p:nvPr/>
        </p:nvPicPr>
        <p:blipFill>
          <a:blip r:embed="rId3"/>
          <a:stretch/>
        </p:blipFill>
        <p:spPr>
          <a:xfrm>
            <a:off x="4716360" y="2668680"/>
            <a:ext cx="4427640" cy="418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анспорт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Машинка для перевозки тортов"/>
          <p:cNvPicPr/>
          <p:nvPr/>
        </p:nvPicPr>
        <p:blipFill>
          <a:blip r:embed="rId2"/>
          <a:stretch/>
        </p:blipFill>
        <p:spPr>
          <a:xfrm>
            <a:off x="1403280" y="162864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885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готовление вафель в домашних услов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3024000" cy="245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476360" y="4627440"/>
            <a:ext cx="3057480" cy="2230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2376360" cy="28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84720" y="2060640"/>
            <a:ext cx="305928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404640"/>
            <a:ext cx="8351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устящая сладос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5010120"/>
            <a:ext cx="2700360" cy="184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372360" y="1484280"/>
            <a:ext cx="27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156360" y="5157720"/>
            <a:ext cx="2987640" cy="170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771640" y="1557360"/>
            <a:ext cx="3456000" cy="35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1628640"/>
            <a:ext cx="2700360" cy="169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2987640" y="4971960"/>
            <a:ext cx="3025800" cy="188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3213000"/>
            <a:ext cx="272412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372360" y="3716280"/>
            <a:ext cx="2771640" cy="14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00000" y="1197000"/>
            <a:ext cx="784872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627280" cy="28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2843280" cy="155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492360" y="4592520"/>
            <a:ext cx="2951280" cy="226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348000" y="0"/>
            <a:ext cx="1820880" cy="22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6813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такое вафл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сортимент вафельных издел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ство ваф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приготовление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выпечка и охлаждение вафельных лис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приготовление начи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Намазывание вафельных листов начин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Резка вафельных листов ,упак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орудование для производства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ление вафель в домашних услов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800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985080" y="4221000"/>
            <a:ext cx="2158920" cy="26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то такое вафл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640" y="2133720"/>
            <a:ext cx="6453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фли – мучные кондитерские изделия, которые состоят из нескольких вафельных листов, прослоенных начин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арактерная особенность вафель – хрустящие свойства вафельных л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бы сохранить хрустящие свойства, начинки для вафель должны содержать минимум влаг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производители предлагают большой ассортимент вафель с различными начинками.</a:t>
            </a:r>
            <a:br>
              <a:rPr sz="20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70036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227640" y="3954600"/>
            <a:ext cx="2916360" cy="290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виды вафел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жировой начин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самый распространенный вид вафельных изделий. Жировые начинки в полной мере сохраняют хрустящие свойства вафель. Для изготовления вафель с жировой начинкой используются кондитерский жир, сахарная пудра, измельченные вафельные листы, ароматические добавки – ванилин, корицу, какао, фруктовые ароматизаторы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помадной начин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которая готовится так же, как и для конфет. Помадная начинка содержит большой процент патоки. В помадную начинку также добавляют необходимые вкусовые вещества и ароматизатор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фруктово-ягодными начинкам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характеризуются низкой калорийностью, так как не содержат кондитерского жира, и прекрасными вкусовыми качествами. Для приготовления фруктовых начинок используется в основном яблочное пюре и саха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384360" cy="215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386160" cy="206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1844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3889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ители выпускают также мягкие вафли, вафли для диетического питания на фруктозе и витаминизированные вафл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сортиментом вафельных изделий на  рын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ли традиционные –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витаминизированн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сливочн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 ванильные, ореховые , с шоколадом , со сгущенным молоком , фруктовые и дру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ли мяг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ельные трубо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067280" y="2060640"/>
            <a:ext cx="251928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588000" y="206064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5292720" y="0"/>
            <a:ext cx="2951280" cy="19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995640" y="4581360"/>
            <a:ext cx="2089080" cy="22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581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ИЗВОДСТВО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57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новное оборудование для производства вафельных листов размером 290х290 мм производительностью до 180 лист/ч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оизводство вафель включает в себя следующие опера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мес те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ечку вафельных лист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х охлаждение, приготовление начи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мазку вафельных листов начин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хлаждение плас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х резку, упаковы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34000" y="1700280"/>
            <a:ext cx="4410000" cy="47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орудование для производства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0544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384720" cy="28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иготовление те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990800"/>
            <a:ext cx="80010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мелких предприятиях вафельное тесто приготовляют периодическим способом в месильных машинах. В машину последовательно загружают фосфатиды, которые предварительно эмульгируют с небольшим количеством воды, растительное масло, желтки, гидрокарбонат натрия, соль и 10% предусмотренного расчётом количества воды. Включают машину и перемешивают в течение нескольких минут. Вводят всю воду и, если предусмотрено рецептурой, молоко. Вода и молоко должны иметь температуру 15-20 °С. Вводят половину рецептурной закладки муки, перемешивают около 3 мин, вводят оставшуюся муку и перемешивают ещё 10-15 мин. Готовое тесто должно иметь жидкую консистенцию. Влажность должна быть в пределах 58-65 %. Относительная плотность 1.02-1.10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59280" y="4437000"/>
            <a:ext cx="3173400" cy="242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ыпечка и охлаждение вафельных лис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163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печку производят между двумя массивными металлическими плитами с зазором 2-3 мм. Формование теста происходит непосредственно на обогреваемой поверхности плиты. Вследствие небольшой толщины листов и значительной поверхности выпаривания в вафельных формах процесс выпечки продолжается всего 2-3 мин. Процесс ведут при температуре поверхности плит 150-170 °С. При выпечке через щель между верхней и нижней плитой вытекает некоторое небольшое количества теста. Это тесто образует после выпечки на краях вафельного листа оттёки, которые снимают с форм вместе с выпеченными листами. Затем их отделяют от вафельного ли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572000" cy="515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0:48:05Z</dcterms:created>
  <dc:creator>User</dc:creator>
  <dc:description/>
  <dc:language>en-US</dc:language>
  <cp:lastModifiedBy>Komp</cp:lastModifiedBy>
  <dcterms:modified xsi:type="dcterms:W3CDTF">2012-01-19T10:15:18Z</dcterms:modified>
  <cp:revision>24</cp:revision>
  <dc:subject/>
  <dc:title>Валютный рынок США</dc:title>
</cp:coreProperties>
</file>