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F4A-9A22-4E66-B2E2-856666D2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942-BCF1-4245-BDE5-377812B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B9B-CF38-4005-8502-1DAD12B6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382-B988-4CB1-BB84-543877B9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A499-1077-495D-9E5F-35F3F93C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A313-DADA-41B9-B477-C33E9847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555-6A1C-49CA-A33C-FD4DE64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360-8580-4346-896E-9324970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E7F-84EE-4621-AA53-86F57D4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3086-8FC1-43FD-A1EF-AC739CB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E09-C826-4044-A53B-93AAFA7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A3D-7141-45EC-8306-C046742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18D0-C9F7-446D-85BF-5C70586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44F5-9C36-421F-AF46-D6BFA47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826-F8B3-42DA-8CF2-1E007AC2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D21-E23B-4EF1-A99F-BA1BA685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3467-78E1-436A-A60E-EF1B9923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E2C-7000-4047-8596-C381E827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E71-7E96-44FB-B84F-FFC94B09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F4D-A821-4536-B7C2-B21FD08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549-DAB8-498F-9A9E-47638852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04E-6CFA-4E60-828C-C1C73A68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9D4-D8D7-4F5C-9FC6-A8120D9E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5B1-CBC7-430E-8A80-4A0ADF0D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B52-252F-4829-BDB6-D14DD08E6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E12-D770-45E8-9E3C-2E22514B182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Галогенпроизводные 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углеводород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изводные углеводовородов, в которых один или несколько атомов водорода замещены на атомы галоге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хлорметан.avi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590920" cy="2247840"/>
          </a:xfrm>
          <a:prstGeom prst="rect">
            <a:avLst/>
          </a:prstGeom>
          <a:ln w="0">
            <a:noFill/>
          </a:ln>
        </p:spPr>
      </p:pic>
      <p:pic>
        <p:nvPicPr>
          <p:cNvPr id="102" name="хлорметан2.avi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224784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хлорметан3.avi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438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винилхлори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прочная связь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ая активность в реакциях нуклеофильного замещения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Хлор обладает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и +М-эффектами –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&gt;+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C:\Мои документы\Мои рабочие документы\урок\винилхлорид.gif"/>
          <p:cNvPicPr/>
          <p:nvPr/>
        </p:nvPicPr>
        <p:blipFill>
          <a:blip r:embed="rId1"/>
          <a:stretch/>
        </p:blipFill>
        <p:spPr>
          <a:xfrm>
            <a:off x="685800" y="2286000"/>
            <a:ext cx="4114800" cy="82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Мои документы\Мои рабочие документы\урок\винилхлорид2.gif"/>
          <p:cNvPicPr/>
          <p:nvPr/>
        </p:nvPicPr>
        <p:blipFill>
          <a:blip r:embed="rId2"/>
          <a:stretch/>
        </p:blipFill>
        <p:spPr>
          <a:xfrm>
            <a:off x="762120" y="4648320"/>
            <a:ext cx="39621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винилхлори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бразование единого электронного обл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p–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опря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C:\Мои документы\Мои рабочие документы\урок\аним1-1.gif"/>
          <p:cNvPicPr/>
          <p:nvPr/>
        </p:nvPicPr>
        <p:blipFill>
          <a:blip r:embed="rId1"/>
          <a:stretch/>
        </p:blipFill>
        <p:spPr>
          <a:xfrm>
            <a:off x="304920" y="2514600"/>
            <a:ext cx="8458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65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истематическая (заместительна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 №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+ галоген + углеводо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Рациона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адикал + галоген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ривиальная (исторически сложившаяся)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-хлорпропен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за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лилхлорид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рац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ихлорметан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за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лороформ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три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C:\Мои документы\Мои рабочие документы\урок\аллилхлорид.gif"/>
          <p:cNvPicPr/>
          <p:nvPr/>
        </p:nvPicPr>
        <p:blipFill>
          <a:blip r:embed="rId1"/>
          <a:stretch/>
        </p:blipFill>
        <p:spPr>
          <a:xfrm>
            <a:off x="1219320" y="2590920"/>
            <a:ext cx="3200400" cy="45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Мои документы\Мои рабочие документы\урок\хлороформ.gif"/>
          <p:cNvPicPr/>
          <p:nvPr/>
        </p:nvPicPr>
        <p:blipFill>
          <a:blip r:embed="rId2"/>
          <a:stretch/>
        </p:blipFill>
        <p:spPr>
          <a:xfrm>
            <a:off x="6019920" y="2133720"/>
            <a:ext cx="1846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Задание : 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Назовите ве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C:\Мои документы\Мои рабочие документы\урок\назовите2.gif"/>
          <p:cNvPicPr/>
          <p:nvPr/>
        </p:nvPicPr>
        <p:blipFill>
          <a:blip r:embed="rId1"/>
          <a:stretch/>
        </p:blipFill>
        <p:spPr>
          <a:xfrm>
            <a:off x="1066680" y="2666880"/>
            <a:ext cx="754380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Изомерия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монобромпроизводных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зомерия углеродного скел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зомерия положения замести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C:\Мои документы\Мои рабочие документы\урок\изомерия.gif"/>
          <p:cNvPicPr/>
          <p:nvPr/>
        </p:nvPicPr>
        <p:blipFill>
          <a:blip r:embed="rId1"/>
          <a:stretch/>
        </p:blipFill>
        <p:spPr>
          <a:xfrm>
            <a:off x="1600200" y="2438280"/>
            <a:ext cx="6858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пературы кипения увеличиваю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) с увеличением порядкового номера галог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Б) с увеличением углеводородного радик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) с увеличением числа атомов галоген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ейшие –газы, далее 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 жидкости с характерным запахом, нерастворимы в воде, растворимы в орг. растворите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отность увеличива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Б) с увеличением числа атомов галоген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) с увеличением порядкового номера галог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изиологическое действ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ти все токсичны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гексахлоран, ДДТ - ядохимикаты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роме фторпроизводных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тефлон, фреон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гие обладают наркотическим воздействием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хлороформ и др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зоточивое действие – лакриматор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бензилхлорид и др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жете ли Вы предположить химические свойства галогенпроизводны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C:\Мои документы\Мои рабочие документы\урок\хим-вопрос.gif"/>
          <p:cNvPicPr/>
          <p:nvPr/>
        </p:nvPicPr>
        <p:blipFill>
          <a:blip r:embed="rId1"/>
          <a:stretch/>
        </p:blipFill>
        <p:spPr>
          <a:xfrm>
            <a:off x="1371600" y="3022560"/>
            <a:ext cx="6858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) реакции углеводородных радика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е же что и у соответствующих у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едельные – замещение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епредельные – присоединие (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роматические – замещение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) реакции с участием гало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замещение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отщепления (элиминирования) (Е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Фто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Хло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ром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одпроизвод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C:\Мои документы\Мои рабочие документы\урок\Классиф1.gif"/>
          <p:cNvPicPr/>
          <p:nvPr/>
        </p:nvPicPr>
        <p:blipFill>
          <a:blip r:embed="rId1"/>
          <a:stretch/>
        </p:blipFill>
        <p:spPr>
          <a:xfrm>
            <a:off x="457200" y="2189160"/>
            <a:ext cx="38098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Реакции углеводородных радикал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дание: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кажите условия проведения реак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C:\Мои документы\Мои рабочие документы\урок\хим-углевод.gif"/>
          <p:cNvPicPr/>
          <p:nvPr/>
        </p:nvPicPr>
        <p:blipFill>
          <a:blip r:embed="rId1"/>
          <a:stretch/>
        </p:blipFill>
        <p:spPr>
          <a:xfrm>
            <a:off x="762120" y="2895480"/>
            <a:ext cx="8001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2756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кции с участием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ктивность зависит от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066680" y="4876560"/>
            <a:ext cx="788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.к. радиус галогена увеличивает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длина связи увеличивает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связи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С-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al)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уменьша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C:\Мои документы\Мои рабочие документы\урок\активность.gif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Механизм р-ции нуклеофильного замещени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7" descr="C:\Мои документы\Мои рабочие документы\урок\нуклеоф-зам.gif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А) алкилгалогенидов – средняя акти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(в присутствии щелоч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C:\Мои документы\Мои рабочие документы\урок\гидр1.gif"/>
          <p:cNvPicPr/>
          <p:nvPr/>
        </p:nvPicPr>
        <p:blipFill>
          <a:blip r:embed="rId1"/>
          <a:stretch/>
        </p:blipFill>
        <p:spPr>
          <a:xfrm>
            <a:off x="152280" y="403848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Б) винилгалогенидов и арилгалогенилов не происхо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) Аллилгалогенидов и бензилгалогенидов происходит очень легко (без щелоч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C:\Мои документы\Мои рабочие документы\урок\аллилхлорид.gif"/>
          <p:cNvPicPr/>
          <p:nvPr/>
        </p:nvPicPr>
        <p:blipFill>
          <a:blip r:embed="rId1"/>
          <a:stretch/>
        </p:blipFill>
        <p:spPr>
          <a:xfrm>
            <a:off x="1905120" y="5562720"/>
            <a:ext cx="51814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Мои документы\Мои рабочие документы\урок\винилхлорид.gif"/>
          <p:cNvPicPr/>
          <p:nvPr/>
        </p:nvPicPr>
        <p:blipFill>
          <a:blip r:embed="rId2"/>
          <a:stretch/>
        </p:blipFill>
        <p:spPr>
          <a:xfrm>
            <a:off x="2743200" y="3505320"/>
            <a:ext cx="35053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моногалогенпроизводных – образуютс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одноатомные спи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полигалогенпроизводных при разных атомах С–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ногоатомные спи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7" descr="C:\Мои документы\Мои рабочие документы\урок\гидр2.gif"/>
          <p:cNvPicPr/>
          <p:nvPr/>
        </p:nvPicPr>
        <p:blipFill>
          <a:blip r:embed="rId1"/>
          <a:stretch/>
        </p:blipFill>
        <p:spPr>
          <a:xfrm>
            <a:off x="1295280" y="3048120"/>
            <a:ext cx="6400800" cy="76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Мои документы\Мои рабочие документы\урок\гидр3.gif"/>
          <p:cNvPicPr/>
          <p:nvPr/>
        </p:nvPicPr>
        <p:blipFill>
          <a:blip r:embed="rId2"/>
          <a:stretch/>
        </p:blipFill>
        <p:spPr>
          <a:xfrm>
            <a:off x="1447920" y="4876920"/>
            <a:ext cx="5715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Предположите продукты реакций гидролиза следующих веще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7" descr="C:\Мои документы\Мои рабочие документы\урок\гидролиз-вопрос2.gif"/>
          <p:cNvPicPr/>
          <p:nvPr/>
        </p:nvPicPr>
        <p:blipFill>
          <a:blip r:embed="rId1"/>
          <a:stretch/>
        </p:blipFill>
        <p:spPr>
          <a:xfrm>
            <a:off x="2057400" y="2971800"/>
            <a:ext cx="5410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C:\Мои документы\Мои рабочие документы\урок\аним-неуст.gif"/>
          <p:cNvPicPr/>
          <p:nvPr/>
        </p:nvPicPr>
        <p:blipFill>
          <a:blip r:embed="rId1"/>
          <a:stretch/>
        </p:blipFill>
        <p:spPr>
          <a:xfrm>
            <a:off x="1295280" y="4073400"/>
            <a:ext cx="5867640" cy="103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Мои документы\Мои рабочие документы\урок\отщеп-воды.gif"/>
          <p:cNvPicPr/>
          <p:nvPr/>
        </p:nvPicPr>
        <p:blipFill>
          <a:blip r:embed="rId2"/>
          <a:stretch/>
        </p:blipFill>
        <p:spPr>
          <a:xfrm>
            <a:off x="1981080" y="1905120"/>
            <a:ext cx="5639040" cy="240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Мои документы\Мои рабочие документы\урок\уг-кисл.gif"/>
          <p:cNvPicPr/>
          <p:nvPr/>
        </p:nvPicPr>
        <p:blipFill>
          <a:blip r:embed="rId3"/>
          <a:stretch/>
        </p:blipFill>
        <p:spPr>
          <a:xfrm>
            <a:off x="2590920" y="5181480"/>
            <a:ext cx="48765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дигалогенпроизводных – образуются  а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льдегиды и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б)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кето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C:\Мои документы\Мои рабочие документы\урок\гидр4.gif"/>
          <p:cNvPicPr/>
          <p:nvPr/>
        </p:nvPicPr>
        <p:blipFill>
          <a:blip r:embed="rId1"/>
          <a:stretch/>
        </p:blipFill>
        <p:spPr>
          <a:xfrm>
            <a:off x="228600" y="3121200"/>
            <a:ext cx="8381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тригалогенпроизводных – образуются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карбоновые кисло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7" descr="C:\Мои документы\Мои рабочие документы\урок\гидр5.gif"/>
          <p:cNvPicPr/>
          <p:nvPr/>
        </p:nvPicPr>
        <p:blipFill>
          <a:blip r:embed="rId1"/>
          <a:stretch/>
        </p:blipFill>
        <p:spPr>
          <a:xfrm>
            <a:off x="228600" y="3809880"/>
            <a:ext cx="8686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числу атомов гало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но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и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ризамеще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C:\Мои документы\Мои рабочие документы\урок\Классиф2.gif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заимодействие с аммиаком (при </a:t>
            </a:r>
            <a:r>
              <a:rPr b="0" i="1" lang="ru-RU" sz="28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– образуются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ми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заимодействие с цианидами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(солями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CN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синильной кислоты)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при </a:t>
            </a:r>
            <a:r>
              <a:rPr b="0" i="1" lang="ru-RU" sz="28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)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– 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итри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6" descr="C:\Мои документы\Мои рабочие документы\урок\реак-ам.gif"/>
          <p:cNvPicPr/>
          <p:nvPr/>
        </p:nvPicPr>
        <p:blipFill>
          <a:blip r:embed="rId1"/>
          <a:stretch/>
        </p:blipFill>
        <p:spPr>
          <a:xfrm>
            <a:off x="304920" y="3048120"/>
            <a:ext cx="8305560" cy="70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Мои документы\Мои рабочие документы\урок\реак-циан.gif"/>
          <p:cNvPicPr/>
          <p:nvPr/>
        </p:nvPicPr>
        <p:blipFill>
          <a:blip r:embed="rId2"/>
          <a:stretch/>
        </p:blipFill>
        <p:spPr>
          <a:xfrm>
            <a:off x="609480" y="5334120"/>
            <a:ext cx="8001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тщепление (Е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0769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57200" y="4724280"/>
            <a:ext cx="830592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равило Зайцева: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одород отщепляется от наименее гидрированного атома угле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кция отщепления – конкурирующая  реакциям замещ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C:\Мои документы\Мои рабочие документы\урок\отщеп.gif"/>
          <p:cNvPicPr/>
          <p:nvPr/>
        </p:nvPicPr>
        <p:blipFill>
          <a:blip r:embed="rId1"/>
          <a:stretch/>
        </p:blipFill>
        <p:spPr>
          <a:xfrm>
            <a:off x="304920" y="1935000"/>
            <a:ext cx="84582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кисле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орят плохо,                      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ыделяя ядовитые соединения (!!!) (например хлороводород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Cl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или не горят вовс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Tahoma"/>
              </a:rPr>
              <a:t>Качественная реакция на С</a:t>
            </a:r>
            <a:r>
              <a:rPr b="0" i="1" lang="en-US" sz="2800" spc="-1" strike="noStrike">
                <a:solidFill>
                  <a:srgbClr val="1c1c1c"/>
                </a:solidFill>
                <a:latin typeface="Tahoma"/>
              </a:rPr>
              <a:t>l, Br, I</a:t>
            </a:r>
            <a:r>
              <a:rPr b="0" i="1" lang="ru-RU" sz="2800" spc="-1" strike="noStrike">
                <a:solidFill>
                  <a:srgbClr val="1c1c1c"/>
                </a:solidFill>
                <a:latin typeface="Tahoma"/>
              </a:rPr>
              <a:t>: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Окрашивание пламени в </a:t>
            </a:r>
            <a:r>
              <a:rPr b="0" i="1" lang="ru-RU" sz="2800" spc="-1" strike="noStrike">
                <a:solidFill>
                  <a:srgbClr val="00e4a8"/>
                </a:solidFill>
                <a:latin typeface="Tahoma"/>
              </a:rPr>
              <a:t>зеленый цвет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медной проволочкой, смоченной в галогенпроизводн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олу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лканов и циклоалка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лкенов и алки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ре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з спир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з альдегидов и кет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римен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нестези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аркоз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HClBr  (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ранее СН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створители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, C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Фреоны (хладагенты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нтисептик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Н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ушение пожаров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4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лимеры из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СН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=СН-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, 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=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и др.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Ядохимикаты: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гексахлоран, ДД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24280" y="2017440"/>
            <a:ext cx="4230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природе углеводородного радик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фатическ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редельные и непредельны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цикл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ром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25" descr="C:\Мои документы\Мои рабочие документы\урок\Классиф3.gif"/>
          <p:cNvPicPr/>
          <p:nvPr/>
        </p:nvPicPr>
        <p:blipFill>
          <a:blip r:embed="rId1"/>
          <a:stretch/>
        </p:blipFill>
        <p:spPr>
          <a:xfrm>
            <a:off x="1447920" y="2057400"/>
            <a:ext cx="2743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Общая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глеводо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но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1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и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3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C:\Мои документы\Мои рабочие документы\урок\Стрелки.gif"/>
          <p:cNvPicPr/>
          <p:nvPr/>
        </p:nvPicPr>
        <p:blipFill>
          <a:blip r:embed="rId1"/>
          <a:stretch/>
        </p:blipFill>
        <p:spPr>
          <a:xfrm>
            <a:off x="3124080" y="3505320"/>
            <a:ext cx="20574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4</a:t>
            </a:r>
            <a:br>
              <a:rPr sz="4400"/>
            </a:b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для производных алканов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атома углерода, связанного с галоген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ерв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тор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рет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C:\Мои документы\Мои рабочие документы\урок\Классиф4.gif"/>
          <p:cNvPicPr/>
          <p:nvPr/>
        </p:nvPicPr>
        <p:blipFill>
          <a:blip r:embed="rId1"/>
          <a:stretch/>
        </p:blipFill>
        <p:spPr>
          <a:xfrm>
            <a:off x="1584360" y="2017800"/>
            <a:ext cx="30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5</a:t>
            </a:r>
            <a:br>
              <a:rPr sz="4400"/>
            </a:b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о химической активност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600" y="1828440"/>
            <a:ext cx="415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к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нил-, и  фен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лил-, и бенз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связей, входящих в галогенпроизводное (по строению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C:\Мои документы\Мои рабочие документы\урок\Классиф5.gif"/>
          <p:cNvPicPr/>
          <p:nvPr/>
        </p:nvPicPr>
        <p:blipFill>
          <a:blip r:embed="rId1"/>
          <a:stretch/>
        </p:blipFill>
        <p:spPr>
          <a:xfrm>
            <a:off x="914400" y="2133720"/>
            <a:ext cx="38098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хлорэта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хлорэтан.avi" descr=""/>
          <p:cNvPicPr/>
          <p:nvPr/>
        </p:nvPicPr>
        <p:blipFill>
          <a:blip r:embed="rId1"/>
          <a:stretch/>
        </p:blipFill>
        <p:spPr>
          <a:xfrm>
            <a:off x="1905120" y="2728800"/>
            <a:ext cx="5867280" cy="412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Мои документы\Мои рабочие документы\урок\стр-хлорэтан.gif"/>
          <p:cNvPicPr/>
          <p:nvPr/>
        </p:nvPicPr>
        <p:blipFill>
          <a:blip r:embed="rId2"/>
          <a:stretch/>
        </p:blipFill>
        <p:spPr>
          <a:xfrm>
            <a:off x="2971800" y="1828800"/>
            <a:ext cx="4191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хлорэта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Хлор обладает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-эффек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редняя акти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акции нуклеофильного замещения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6" descr="C:\Мои документы\Мои рабочие документы\урок\стр-хлорэтан.gif"/>
          <p:cNvPicPr/>
          <p:nvPr/>
        </p:nvPicPr>
        <p:blipFill>
          <a:blip r:embed="rId1"/>
          <a:stretch/>
        </p:blipFill>
        <p:spPr>
          <a:xfrm>
            <a:off x="1295280" y="2133720"/>
            <a:ext cx="3657600" cy="64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Мои документы\Мои рабочие документы\урок\стр-хлорэтан2.gif"/>
          <p:cNvPicPr/>
          <p:nvPr/>
        </p:nvPicPr>
        <p:blipFill>
          <a:blip r:embed="rId2"/>
          <a:stretch/>
        </p:blipFill>
        <p:spPr>
          <a:xfrm>
            <a:off x="1143000" y="4419720"/>
            <a:ext cx="37339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6:42:24Z</dcterms:created>
  <dc:creator>Кравцов</dc:creator>
  <dc:description/>
  <dc:language>en-US</dc:language>
  <cp:lastModifiedBy>Admin</cp:lastModifiedBy>
  <dcterms:modified xsi:type="dcterms:W3CDTF">2012-01-08T17:20:44Z</dcterms:modified>
  <cp:revision>46</cp:revision>
  <dc:subject/>
  <dc:title>Галогенпроизводные  углеводородов  </dc:title>
</cp:coreProperties>
</file>