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D7E-AE79-4F21-BB13-B839E1EE9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FF1-47CF-4E60-B430-13D66FC5CB2A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1769-CF7D-4BAB-8D21-DE1B72C5B6C5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846-78B7-4F2B-A407-98FFF4E8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7B7-9C39-4C0B-B751-26DF9EB9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56A-8AE6-4D4A-A838-9324F2B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6D8-E899-4D8A-B0FE-BE7E29F8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CBC-89B4-45D5-8C28-9C52B55F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C4C-EB5F-4B50-8AB2-7AACADB9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6EDB-9D15-44CC-845E-A562E8D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E91-8DC3-41FE-BD57-9DF411D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1DE0-9751-4639-AB56-6324286B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A46-C887-497A-B89C-3CCFFAF2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AD9-5B73-4ED6-9235-B50753E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B268-EFE3-4F63-8D44-57D77493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093-043D-4B4D-A032-4D9A45D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572C-1478-43F5-ADE2-E0A8A07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AD86-4B98-4FF2-947A-948CDC4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AFB6-5B0D-44BC-85C3-3A06E120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A53-68F1-4D7D-86B7-9123A1C7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9E9B-F964-4CF8-A5A2-5F49DAB2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673-8EF9-4FB4-A7D1-2B5D56E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513B-6973-4E8B-A26C-9BC86A03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CB3-B093-4355-8226-6D83F3C7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C1E7-F5BF-4900-B7C4-92A1152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B7E5-7C01-4BFA-BA76-9418C830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F3DD-A1C2-4BA4-AB8B-D524238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BEBC-1D41-495E-A704-0AA8B0E6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D0FB-F5CC-4350-99EE-D228055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5481-6CE8-4945-BD84-2294F53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F3F8-57CC-4EE3-BEF4-8C87916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246F-45C7-45A4-BC2A-952887D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E560-9BD3-4329-AEE5-C240BE0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62AE-2EAF-48E2-8C44-CB212C18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D4C-D5EB-4498-8608-03FACCAA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F918-7267-4FB2-B64A-4BB76662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0F91-A2C9-4BC9-9B33-FB4268B8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743C-3C77-4392-8E29-551C32A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A4B6-66FB-452D-8EE2-7632914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BA04-2C57-4CC4-8B7D-15DB8F17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C7B7-56A9-4F83-92D5-C63E5868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D6B6-0866-4DDF-A7B8-1236EF10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EE8B-8259-4E9A-AD68-D844ED5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6D62-B27B-44B3-9D57-2D80206E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F64F-F9D2-493A-988A-8909B37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CB6-39E7-40BA-8C64-E4C07B9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9DBD-C42B-4905-8316-E07287FA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990D-A26C-495B-92E6-DC5A6E84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E5EA-33BD-4C5A-95DC-884A9D3C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1CE7-DFE6-4198-B516-CE5BD35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4FE5-B90E-44B8-8E2F-8D141D7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9936-C5EC-4F79-B00D-DA5C2C86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F900-DC07-4C6F-B1B3-E8A49D9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5B5D-2CE3-4414-B5A5-D4DB890A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2649-C155-4293-B0A3-AA06DAB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AE45-36C9-4AF2-A127-DD74BB6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5FE-3C26-4333-811B-4E13638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DF69-D0BC-490F-9FBA-3D4FF3D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E9E5-D1BB-41C9-BC7E-85B798E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DD10-EEAD-4FDD-BAF1-B15AA2D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9FEC-A52E-45FD-8695-0B223FB0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10EA-B83E-44A0-9574-C921622F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3E19-50A1-4011-9282-1B0281E4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11CC-C893-45F1-BA6B-6DBBEE7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BE4DC-697D-457A-97D4-B56E29A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7CB8-6410-4F1C-B340-68C36B7E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11D0E-7A8C-401C-9D81-395002A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29D-61F7-4F23-9710-21D3CB9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4FA5-728A-44ED-8343-98236D8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0227-95D3-4505-B381-9309816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3CFC-93F9-49D7-A5D1-3C1BC459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B36A-A179-4B8D-AA76-1127017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3AC7-FAF3-42BE-AE79-005D779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E910-DC4A-435F-9B37-52F0D1E8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603F-C77C-4F4E-9801-2C014D5F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7BE8-FEF0-4E8F-9FDB-301127DC19C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39A-88D7-4861-83B8-F00E01ABAC8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B98-46B5-43D8-97B8-95EB925FD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8CF-3487-4782-941C-C535F67809F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8755-44CD-4254-8DDC-CC682A62688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8B4-920F-448E-88EE-50D18A374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21304"/>
                </a:solidFill>
                <a:latin typeface="Times New Roman"/>
              </a:rPr>
              <a:t>АЛКИН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пературы кипения и плавления алкинов, так же как и алкенов, закономерно повышаются при увеличении молекулярной массы соеди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 имеют специфический запах. Они лучше растворяются в воде, чем алканы и алк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1000080" y="1541880"/>
            <a:ext cx="7786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Ацетилен получают в промышленности двумя способами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Термический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рекинг метан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50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С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+  3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Гидролиз карбида кальция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a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2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Ca(OH)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WordArt 7"/>
          <p:cNvSpPr txBox="1"/>
          <p:nvPr/>
        </p:nvSpPr>
        <p:spPr>
          <a:xfrm>
            <a:off x="1476360" y="549360"/>
            <a:ext cx="64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учение алкинов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6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Химические свойства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свойства ацетилена и его гомологов в основном определяются наличием в их молекулах тройной связи. Наиболее характерны для алкинов реакции присоеди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присоедин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240" y="1628280"/>
            <a:ext cx="7061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алоге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цвечивание бромной воды является качественной реакцией на все непредельные углеводо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с бромной водой.avi" descr=""/>
          <p:cNvPicPr/>
          <p:nvPr/>
        </p:nvPicPr>
        <p:blipFill>
          <a:blip r:embed="rId1"/>
          <a:stretch/>
        </p:blipFill>
        <p:spPr>
          <a:xfrm>
            <a:off x="3143160" y="392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Гидрогалог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Гидр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Гидрат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Взаимод с водой.avi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1071720" y="2413080"/>
            <a:ext cx="74293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gSO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 +  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 [H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=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]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C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Окис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6" name="окисл марганц.avi" descr=""/>
          <p:cNvPicPr/>
          <p:nvPr/>
        </p:nvPicPr>
        <p:blipFill>
          <a:blip r:embed="rId1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1643040"/>
            <a:ext cx="714384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цетилен и его гомологи окисляются перманганатом калия с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сщеплением тройной связи и образованием карбоновых кислот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’  +  3[O]  +  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O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  +  R’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лкины обесцвечивают раствор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MnO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, что используется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ля их качественного определения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Горение ацетил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66320" y="1752120"/>
            <a:ext cx="762012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горании (полном окислении) ацетилена выделяется большое количества теп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2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2С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 +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14368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замещ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2" name="с аммиачным оксидом серебра.avi" descr=""/>
          <p:cNvPicPr/>
          <p:nvPr/>
        </p:nvPicPr>
        <p:blipFill>
          <a:blip r:embed="rId1"/>
          <a:stretch/>
        </p:blipFill>
        <p:spPr>
          <a:xfrm>
            <a:off x="5500800" y="42148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1000080" y="1643040"/>
            <a:ext cx="77868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 взаимодействии ацетилена (или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) с аммиачными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творами оксида серебра выпадают осадки нерастворимых ацетиленидов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[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]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g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4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00080" y="41432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ачественная реакция н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онцевую тройную связь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Реакция полимер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320" y="1752480"/>
            <a:ext cx="7620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меризация под действием водного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инилацетиле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римеризация ацетилена над активированным углем приводит к образованию бензола (реакц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елинск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, 6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ензол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832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рименение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8" name="Picture 4" descr="U19_10"/>
          <p:cNvPicPr/>
          <p:nvPr/>
        </p:nvPicPr>
        <p:blipFill>
          <a:blip r:embed="rId1"/>
          <a:stretch/>
        </p:blipFill>
        <p:spPr>
          <a:xfrm>
            <a:off x="6524640" y="476280"/>
            <a:ext cx="2619360" cy="203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proxy1\Мои документы\Мои рисунки\Дихлорэтан.bmp"/>
          <p:cNvPicPr/>
          <p:nvPr/>
        </p:nvPicPr>
        <p:blipFill>
          <a:blip r:embed="rId2"/>
          <a:stretch/>
        </p:blipFill>
        <p:spPr>
          <a:xfrm>
            <a:off x="928800" y="1928880"/>
            <a:ext cx="6286320" cy="4584600"/>
          </a:xfrm>
          <a:prstGeom prst="rect">
            <a:avLst/>
          </a:prstGeom>
          <a:ln w="0">
            <a:noFill/>
          </a:ln>
        </p:spPr>
      </p:pic>
      <p:sp>
        <p:nvSpPr>
          <p:cNvPr id="400" name="Стрелка влево 4">
            <a:hlinkClick r:id="rId3" action="ppaction://hlinksldjump"/>
          </p:cNvPr>
          <p:cNvSpPr/>
          <p:nvPr/>
        </p:nvSpPr>
        <p:spPr>
          <a:xfrm>
            <a:off x="7572240" y="607212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e2d02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560" y="19288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о непредельных углевод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тройной свя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мерия и номенклатур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Стрелка вправо 3">
            <a:hlinkClick r:id="rId1" action="ppaction://hlinksldjump"/>
          </p:cNvPr>
          <p:cNvSpPr/>
          <p:nvPr/>
        </p:nvSpPr>
        <p:spPr>
          <a:xfrm>
            <a:off x="7000920" y="60008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38080" y="3049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) Стеклотекстолиты – пластики, армированные стеклянными тканями. Изделия получаются обычно методом «контактного» формовани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Б) Стекловолокниты – пластики, в которых армирующим наполнителем служит войлок из стеклянного волокна. Перерабатываются методом литья или прессовани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) Анизотропные стеклопластики – пластики с армирующим материалом в виде однонаправленной стеклянной нити. Изделия получают методом намотки стеклянного волокна, предварительно обработанного синтетическим полимером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Г) Изотропные стеклопластики – пластики, армированные стекломатами (рубленое стеклянное волокно). Перерабатываются методом контактного формования.</a:t>
            </a:r>
            <a:br>
              <a:rPr sz="1100"/>
            </a:br>
            <a:r>
              <a:rPr b="0" lang="ru-RU" sz="11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5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нятие об алкин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1643040"/>
            <a:ext cx="7720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глеводороды, содержащие в молекуле одну тройную связь между атомами углерода, а качественный и количественный состав выражается общей формул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Н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2n</a:t>
            </a:r>
            <a:r>
              <a:rPr b="1" lang="ru-RU" sz="3600" spc="-1" strike="noStrike" baseline="-25000">
                <a:solidFill>
                  <a:srgbClr val="8c4e10"/>
                </a:solidFill>
                <a:latin typeface="Times New Roman"/>
              </a:rPr>
              <a:t> - 2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, где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n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  <a:ea typeface="Arial"/>
              </a:rPr>
              <a:t>≥ 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c4e1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носятся к непредельным углеводородам, так как их молекулы содержа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Характеристика 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тройной  связ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2000160"/>
            <a:ext cx="7620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гибридизации –         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лентный угол – </a:t>
            </a:r>
            <a:r>
              <a:rPr b="0" lang="en-US" sz="32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c4e1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лина связи  С =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,12 н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─                      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  <a:ea typeface="Arial"/>
              </a:rPr>
              <a:t>линей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связи –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ковалентная  поляр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ипу перекрывания –  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4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Содержимое 3" descr="алкин.GIF"/>
          <p:cNvPicPr/>
          <p:nvPr/>
        </p:nvPicPr>
        <p:blipFill>
          <a:blip r:embed="rId1"/>
          <a:stretch/>
        </p:blipFill>
        <p:spPr>
          <a:xfrm>
            <a:off x="1428840" y="1752480"/>
            <a:ext cx="6715080" cy="46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7" name="образ ацетилена.avi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Гомологический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ряд алк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71720" y="1571400"/>
            <a:ext cx="761976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857680" y="20718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857680" y="28576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928960" y="37148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2928960" y="457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2928960" y="53578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3000240" y="61437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2786040" y="14288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н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кс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п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2643120" y="6429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рия алкинов</a:t>
            </a:r>
            <a:endParaRPr b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85920" y="1357200"/>
            <a:ext cx="73184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94b6"/>
                </a:solidFill>
                <a:latin typeface="Tahoma"/>
              </a:rPr>
              <a:t>Структурная изомерия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Изомерия положения тройной связи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Изомерия углеродного скелета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пен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   3-метилбутин-1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3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Межклассовая изомерия с алкадиенами и циклоалкенами,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= С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=СН–СН=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бутадиен-1,3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циклобутен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2b09"/>
                </a:solidFill>
                <a:latin typeface="Times New Roman"/>
              </a:rPr>
              <a:t>Выполните упражне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82600" y="3573000"/>
            <a:ext cx="7205760" cy="25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ве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 нему три изомера разных видов изомерии. Назовите из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U12_06_pr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773360"/>
            <a:ext cx="55929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56:10Z</dcterms:created>
  <dc:creator>Дубровина О.В.</dc:creator>
  <dc:description/>
  <dc:language>en-US</dc:language>
  <cp:lastModifiedBy>Admin</cp:lastModifiedBy>
  <dcterms:modified xsi:type="dcterms:W3CDTF">2012-03-24T08:03:24Z</dcterms:modified>
  <cp:revision>3</cp:revision>
  <dc:subject/>
  <dc:title>Алкины</dc:title>
</cp:coreProperties>
</file>