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D165-07ED-40A4-9C86-04695A0B38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CCAA-9253-4A83-9B8A-A704BDB3AC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C895-68B4-4115-851A-226C1AD34B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D394-4D87-49CA-9A38-EF5A5B99E6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2FAA-72F1-4436-9983-DF892C7AF5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37A2-B521-462C-A3C6-6463A7BA7A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26F2-0346-4BB0-980C-CAF85B3F7D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90CF-546E-4848-83FB-E2102AF017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14F2-ADB0-4B49-BBD5-248C4AA2AC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A7C3-0A19-49D7-9E61-1AB4D1AF4A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FCF9-AF43-4804-9D24-F3EB95B0E3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9964-3675-4F8A-B25E-1B0D0BC9A0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3168-8044-468A-A881-E5C2754708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C8E1-3333-49A8-84B3-F15CCC5CC4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AAF4-D5AB-4F97-9EC0-9EA5DDA269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1C4F-4270-4BD8-9031-F03D43625B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CD31-00B2-41AA-ABA0-4A9E0F0DF5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D1CF-F0DE-440C-8990-C6A11DDECC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08DD-2FC3-475D-A5AA-FAF6727C81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7E1C-FF01-4940-BDE3-71B12F494D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7305-B7ED-48B2-8037-F7F161FD8D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5148-C06C-4D1C-9685-F44CEF62B5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8ACB-7AF9-486F-B83B-DCF3CC9C43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6910-A3D3-4D35-B3F4-C7C8031660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33C4-6CE3-40BE-B16B-1F8C19670B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BC2B-FEDD-425D-A8BB-9941778C0A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62A-F3C7-4E58-AE24-47419D6F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234-F9CF-4D53-8C83-D45AC509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6C0-F262-43E8-849D-9D32509B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FDB-C601-46F4-A766-A40D5621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074F-09F2-4A7C-9807-DD8F2DA9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9763-7B61-4841-BE86-1663171A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3DCB-35D4-4ACA-B665-551E67FF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672B-C99F-4674-A496-25CB1FC1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C5ED-638B-4B99-AAB4-88D65E19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5B92-A73F-40CE-8A28-7230A4DE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6F5F-3071-457F-83CF-161F1C67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A10-A9FF-450B-A4D2-68F6FB2E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04FD-56CC-4C18-9661-BCF2F5B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8FC8-A436-47BB-9CB8-B329B6F1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F460-F531-4134-A516-3A944CE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50A6-9582-4F53-AEF2-47499B17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76CE-A43F-4CDB-8FD4-9A62BE08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1D95-407B-425F-82E3-39FAF442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01C52-AAE3-4D47-90CF-94802FC4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93896-40FA-4B22-BEBA-CDF108B2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61AE4-54C9-4016-B3CA-D4CB9782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7C3C-E8F9-4F3C-9106-EE30CC46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738-6F1B-4DA6-AF7B-FD76D558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0DE4-5855-4BE7-9955-C6B3D461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ADDA-E8CF-43ED-AAF3-7A6382BB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6BF8F-3C3B-47F0-B89C-4C0B2F95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97F2-989C-407E-82DA-5175FF53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F822-9318-41AA-8798-64523EE8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E70D-787A-4F8F-AEB2-A43451E4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42A3-02AA-4309-8249-EA85B050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4EBB-F3CB-4E2A-9D40-DA5559E8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7B15E-B54A-41ED-ACCB-8821F4A2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6385-8ADB-46F6-81C5-BB9D861C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BF3-D67D-4868-982F-1C27CB8C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3AEF-8D05-4C98-8593-9B0FEF55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7D73-00D2-4763-8DBC-EE2E1E68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AB49-6C9E-463B-8B10-82D316F8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307D5-DC1D-41FC-A5E3-4C48FF57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05033-8F8E-4107-A6DD-97EC5DC8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6C87F-C07A-404B-8809-834A6069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9AB1-C238-4858-8EDA-552B2A1C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1752B-7B87-4490-90DC-0A99F1C4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6E18B-B595-49AD-8EE1-254FAB92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D95FA-CCE9-481A-AD25-37407C45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A1E-F666-41DE-A210-1D12D500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80D8D-7C8C-47C3-BA0F-7290B625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66D4-ED2C-4928-8640-2BCDCB93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1B19-35C2-4226-BA5E-273E9F2D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7B482-3F51-43EF-B7FA-7629AB08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E535E-021D-4056-82DB-74F51ECD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4123B-3E64-47A8-B578-8369E6F0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5975C-9CC5-4B20-831F-6EC36B45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CF669-B652-49F2-89E9-CC61C1F7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D9F89-7E69-4BA6-8CEE-133C0F8C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CF69E-3558-46F5-9010-0E1243F9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5AE-BFBE-497F-9711-D2A6FB60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B15AE-ECA0-4A02-B8C9-09E07FE1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DA31B-5CEB-4DB7-BBE4-6B1BA074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87B79-ECF8-4957-93D1-BE8ED93F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139F7-7263-4BF9-A301-5F9656FB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C6E9F-72D3-49AA-9174-CA7FF639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412C0-1546-4243-8820-BEFCE3DA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BADCF-1502-42EC-982A-02432823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3DB1F-196B-4449-943E-18FF3BA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304F6-90C0-4182-829B-53F495B2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A20B-3CC0-4D4F-8C6C-197E90DE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4E6-DA74-422A-92CB-845CE591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BE30-2651-4CB6-BD42-34B14965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E1153-D49C-40CB-8663-3C22BAA5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5C13A-47E8-4798-9F8A-967F410C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78A-29E9-489C-B408-30DF483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034-8BE7-41C7-A41A-9C5C2F38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2384-CC9E-4B98-B807-4AB40B4C9F8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C80D-92EE-4E7E-B347-F0CEC22AA43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5F31-F66E-407D-A5A8-3738FFAAED8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4B8C-88E2-40D6-9D3F-4E778D93BC1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E482-D398-4865-AA4A-EF3537CC675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B84F-5C54-4BA7-914C-92016F758FD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-665280" y="1852560"/>
            <a:ext cx="10631520" cy="311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E:\001.jpg"/>
          <p:cNvPicPr/>
          <p:nvPr/>
        </p:nvPicPr>
        <p:blipFill>
          <a:blip r:embed="rId1"/>
          <a:stretch/>
        </p:blipFill>
        <p:spPr>
          <a:xfrm>
            <a:off x="1143000" y="1066680"/>
            <a:ext cx="7086600" cy="54514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ЗАВОД ВО ВЬЕТНАМЕ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228600" y="-584640"/>
            <a:ext cx="89154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Хлоропреновый каучук благодаря своей негорючести, термостойкости, светостойкости, а также устойчивости к воздействию масел находит широкое применение в производстве резино-технических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учуки на основе кремнийорганических соединений отличаются сохранением эластических свойств как при низких, так и при высоких температурах; каучуки на основе фторорганических соединений сочетают высокую термостойкость с почти абсолютной химической устойчивостью; каучуки, полученные сополимеризацией дивинила с акрилонитрилом, хорошо выдерживают действие бензина и других нефтепродуктов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04920" y="1600200"/>
            <a:ext cx="9753840" cy="26668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ВУЛКАНИЗАЦИЯ</a:t>
            </a:r>
            <a:endParaRPr b="0" lang="en-US" sz="88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med"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585720" y="201600"/>
            <a:ext cx="8045640" cy="6364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0880" y="5335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Сущность вулканизации заключается в образовании новых поперечных связей между полимерными цепями. При вулканизации серой мостики образуют дисульфидные группы, а при радикальной вулканизации появляются поперечные связи между полимерными цепям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          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СН3            |    ...-СН2-С-СН2-СН2-         | ...-СН2-С-СН2-СН2-         |  |         СН3 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       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СН3         | ...-СН2-С-СН2-СН2-         |         S         |         S         | ...-СН2-С-СН2-СН2-         |        СН3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Для получения резиновых изделий сначала формуют изделия из смеси каучука с серой, а также так называемыми наполнителями – сажей, мелом, глиной и некоторыми органическими соединениями, которые служат ускорителями вулканизации. Затем изделия подвергаются нагреванию –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горячей вулканизации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04560" y="380880"/>
            <a:ext cx="8381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и холодной вулканизации</a:t>
            </a:r>
            <a:r>
              <a:rPr b="1" lang="ru-RU" sz="3200" spc="-1" strike="noStrike">
                <a:solidFill>
                  <a:srgbClr val="4e3b30"/>
                </a:solidFill>
                <a:latin typeface="Monotype Corsiva"/>
              </a:rPr>
              <a:t>, которая применяется для тонких и мелких изделий (прорезиненные ткани, тонкие трубки и т.д.), их непродолжительное время обрабатывают раствором серы в сероуглероде или в хлористой сере. Каучук с большим содержанием серы (до 32%) представляет собой твердое неэластичное вещество и называется эбонитом; применяется он как изолятор в электроприбора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Monotype Corsiva"/>
              </a:rPr>
              <a:t> </a:t>
            </a:r>
            <a:r>
              <a:rPr b="1" lang="ru-RU" sz="3200" spc="-1" strike="noStrike">
                <a:solidFill>
                  <a:srgbClr val="4e3b30"/>
                </a:solidFill>
                <a:latin typeface="Monotype Corsiva"/>
              </a:rPr>
              <a:t>В результате вулканизации сера химически связывается с каучуком. Кроме того, в вулканизированном каучуке содержится в виде мельчайших частиц и свободная сер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457200" y="236232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КАУЧУКОВЫЕ </a:t>
            </a:r>
            <a:br>
              <a:rPr sz="9600"/>
            </a:b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ИЗДЕЛИЯ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med">
    <p:newsflash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E:\amerityre-arcus-nm.jpg"/>
          <p:cNvPicPr/>
          <p:nvPr/>
        </p:nvPicPr>
        <p:blipFill>
          <a:blip r:embed="rId2"/>
          <a:stretch/>
        </p:blipFill>
        <p:spPr>
          <a:xfrm>
            <a:off x="1219320" y="0"/>
            <a:ext cx="6705360" cy="6748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E:\rezina2.jpg"/>
          <p:cNvPicPr/>
          <p:nvPr/>
        </p:nvPicPr>
        <p:blipFill>
          <a:blip r:embed="rId1"/>
          <a:stretch/>
        </p:blipFill>
        <p:spPr>
          <a:xfrm>
            <a:off x="1523880" y="380880"/>
            <a:ext cx="624852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E:\11932545.jpg"/>
          <p:cNvPicPr/>
          <p:nvPr/>
        </p:nvPicPr>
        <p:blipFill>
          <a:blip r:embed="rId1"/>
          <a:stretch/>
        </p:blipFill>
        <p:spPr>
          <a:xfrm>
            <a:off x="457200" y="34308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Заголовок 1"/>
          <p:cNvSpPr/>
          <p:nvPr/>
        </p:nvSpPr>
        <p:spPr>
          <a:xfrm>
            <a:off x="685800" y="1676520"/>
            <a:ext cx="784872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Алкадиены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— непредельные углеводороды, содержащие две двойные связи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Общая формула алкадиенов </a:t>
            </a: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n</a:t>
            </a: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Н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n-2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.</a:t>
            </a:r>
            <a:br>
              <a:rPr sz="4800"/>
            </a:br>
            <a:r>
              <a:rPr b="0" lang="ru-RU" sz="9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E:\moulded main page.jpg"/>
          <p:cNvPicPr/>
          <p:nvPr/>
        </p:nvPicPr>
        <p:blipFill>
          <a:blip r:embed="rId1"/>
          <a:stretch/>
        </p:blipFill>
        <p:spPr>
          <a:xfrm>
            <a:off x="225360" y="685800"/>
            <a:ext cx="85820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E:\11653379.jpg"/>
          <p:cNvPicPr/>
          <p:nvPr/>
        </p:nvPicPr>
        <p:blipFill>
          <a:blip r:embed="rId1"/>
          <a:stretch/>
        </p:blipFill>
        <p:spPr>
          <a:xfrm>
            <a:off x="353880" y="533520"/>
            <a:ext cx="8180640" cy="5871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E:\gran18-big.jpg"/>
          <p:cNvPicPr/>
          <p:nvPr/>
        </p:nvPicPr>
        <p:blipFill>
          <a:blip r:embed="rId1"/>
          <a:stretch/>
        </p:blipFill>
        <p:spPr>
          <a:xfrm>
            <a:off x="228600" y="533520"/>
            <a:ext cx="4229280" cy="555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E:\ViKUNG_21.jpg"/>
          <p:cNvPicPr/>
          <p:nvPr/>
        </p:nvPicPr>
        <p:blipFill>
          <a:blip r:embed="rId2"/>
          <a:stretch/>
        </p:blipFill>
        <p:spPr>
          <a:xfrm>
            <a:off x="4343400" y="533520"/>
            <a:ext cx="4521240" cy="5562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E:\017_1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E:\br5030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E:\broshka.jpg"/>
          <p:cNvPicPr/>
          <p:nvPr/>
        </p:nvPicPr>
        <p:blipFill>
          <a:blip r:embed="rId1"/>
          <a:stretch/>
        </p:blipFill>
        <p:spPr>
          <a:xfrm>
            <a:off x="2133720" y="0"/>
            <a:ext cx="4647960" cy="6762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10591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ПРИМЕНЕНИЕ</a:t>
            </a:r>
            <a:endParaRPr b="0" lang="en-US" sz="88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СОВРЕМЕННОЙ ПРОМЫШЛЕННОСТИ ВАЖНУЮ РОЛЬ ИГРАЮТ ЭЛАСТОМЕРЫ – ВЫСОКОМОЛЕКУЛЯРНЫЕ ВЕЩЕСТВА, СОХРАНЯЮЩИЕ ЭЛАСТИЧНОСТЬ В ШИРОКОМ ИНТЕРВАЛЕ ТЕМПЕРАТУР. ЭЛАСТОМЕРЫ ЛЕГКО ИЗМЕНЯЮТ ФОРМУ ПРИ ВНЕШНЕМ ВОЗДЕЙСТВИИ, А ПОСЛЕ ОКОНЧАНИЯ ВОЗДЕЙСТВИЯ ПРИНИМАЮТ ИСХОДНУЮ ФОРМУ. ТИПИЧНЫМИ ЭЛАСТОМЕРАМИ ЯВЛЯЮТСЯ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КАУЧУКИ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7"/>
          <p:cNvSpPr/>
          <p:nvPr/>
        </p:nvSpPr>
        <p:spPr>
          <a:xfrm>
            <a:off x="2590920" y="304920"/>
            <a:ext cx="3657600" cy="1295280"/>
          </a:xfrm>
          <a:prstGeom prst="rect">
            <a:avLst/>
          </a:prstGeom>
          <a:solidFill>
            <a:srgbClr val="0070c0"/>
          </a:solidFill>
          <a:ln w="25560">
            <a:solidFill>
              <a:srgbClr val="b0761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КАУЧУ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Управляющая кнопка: настраиваемая 9">
            <a:hlinkClick r:id="" action="ppaction://hlinkshowjump?jump=nextslide"/>
          </p:cNvPr>
          <p:cNvSpPr/>
          <p:nvPr/>
        </p:nvSpPr>
        <p:spPr>
          <a:xfrm>
            <a:off x="457200" y="4114800"/>
            <a:ext cx="3429000" cy="1981080"/>
          </a:xfrm>
          <a:custGeom>
            <a:avLst/>
            <a:gdLst>
              <a:gd name="textAreaLeft" fmla="*/ 128160 w 3429000"/>
              <a:gd name="textAreaRight" fmla="*/ 3300840 w 342900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7384" h="21600">
                <a:moveTo>
                  <a:pt x="0" y="0"/>
                </a:moveTo>
                <a:lnTo>
                  <a:pt x="37384" y="0"/>
                </a:lnTo>
                <a:lnTo>
                  <a:pt x="37384" y="21600"/>
                </a:lnTo>
                <a:lnTo>
                  <a:pt x="0" y="21600"/>
                </a:lnTo>
                <a:close/>
              </a:path>
              <a:path fill="lightenLess" w="37384" h="21600">
                <a:moveTo>
                  <a:pt x="0" y="0"/>
                </a:moveTo>
                <a:lnTo>
                  <a:pt x="37384" y="0"/>
                </a:lnTo>
                <a:lnTo>
                  <a:pt x="35984" y="1400"/>
                </a:lnTo>
                <a:lnTo>
                  <a:pt x="1400" y="1400"/>
                </a:lnTo>
                <a:close/>
              </a:path>
              <a:path fill="darken" w="37384" h="21600">
                <a:moveTo>
                  <a:pt x="37384" y="0"/>
                </a:moveTo>
                <a:lnTo>
                  <a:pt x="37384" y="21600"/>
                </a:lnTo>
                <a:lnTo>
                  <a:pt x="35984" y="20200"/>
                </a:lnTo>
                <a:lnTo>
                  <a:pt x="35984" y="1400"/>
                </a:lnTo>
                <a:close/>
              </a:path>
              <a:path fill="darkenLess" w="37384" h="21600">
                <a:moveTo>
                  <a:pt x="3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84" y="20200"/>
                </a:lnTo>
                <a:close/>
              </a:path>
              <a:path fill="lighten" w="3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b0761f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атуральный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Управляющая кнопка: настраиваемая 10">
            <a:hlinkClick r:id="rId1" action="ppaction://hlinksldjump"/>
          </p:cNvPr>
          <p:cNvSpPr/>
          <p:nvPr/>
        </p:nvSpPr>
        <p:spPr>
          <a:xfrm>
            <a:off x="5257800" y="4114800"/>
            <a:ext cx="3352680" cy="1905120"/>
          </a:xfrm>
          <a:custGeom>
            <a:avLst/>
            <a:gdLst>
              <a:gd name="textAreaLeft" fmla="*/ 123480 w 3352680"/>
              <a:gd name="textAreaRight" fmla="*/ 3229200 w 335268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8009" h="21600">
                <a:moveTo>
                  <a:pt x="0" y="0"/>
                </a:moveTo>
                <a:lnTo>
                  <a:pt x="38009" y="0"/>
                </a:lnTo>
                <a:lnTo>
                  <a:pt x="38009" y="21600"/>
                </a:lnTo>
                <a:lnTo>
                  <a:pt x="0" y="21600"/>
                </a:lnTo>
                <a:close/>
              </a:path>
              <a:path fill="lightenLess" w="38009" h="21600">
                <a:moveTo>
                  <a:pt x="0" y="0"/>
                </a:moveTo>
                <a:lnTo>
                  <a:pt x="38009" y="0"/>
                </a:lnTo>
                <a:lnTo>
                  <a:pt x="36609" y="1400"/>
                </a:lnTo>
                <a:lnTo>
                  <a:pt x="1400" y="1400"/>
                </a:lnTo>
                <a:close/>
              </a:path>
              <a:path fill="darken" w="38009" h="21600">
                <a:moveTo>
                  <a:pt x="38009" y="0"/>
                </a:moveTo>
                <a:lnTo>
                  <a:pt x="38009" y="21600"/>
                </a:lnTo>
                <a:lnTo>
                  <a:pt x="36609" y="20200"/>
                </a:lnTo>
                <a:lnTo>
                  <a:pt x="36609" y="1400"/>
                </a:lnTo>
                <a:close/>
              </a:path>
              <a:path fill="darkenLess" w="38009" h="21600">
                <a:moveTo>
                  <a:pt x="38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09" y="20200"/>
                </a:lnTo>
                <a:close/>
              </a:path>
              <a:path fill="lighten" w="38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b0761f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интет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трелка вниз 12"/>
          <p:cNvSpPr/>
          <p:nvPr/>
        </p:nvSpPr>
        <p:spPr>
          <a:xfrm rot="2299800">
            <a:off x="2666520" y="1905120"/>
            <a:ext cx="838440" cy="182880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трелка вниз 13"/>
          <p:cNvSpPr/>
          <p:nvPr/>
        </p:nvSpPr>
        <p:spPr>
          <a:xfrm rot="19709400">
            <a:off x="5105160" y="1981080"/>
            <a:ext cx="838080" cy="18288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180280" cy="6521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E:\IMG_8452_1024.jpg"/>
          <p:cNvPicPr/>
          <p:nvPr/>
        </p:nvPicPr>
        <p:blipFill>
          <a:blip r:embed="rId1"/>
          <a:stretch/>
        </p:blipFill>
        <p:spPr>
          <a:xfrm>
            <a:off x="304920" y="304920"/>
            <a:ext cx="4167000" cy="624816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5"/>
          <p:cNvSpPr/>
          <p:nvPr/>
        </p:nvSpPr>
        <p:spPr>
          <a:xfrm>
            <a:off x="4572000" y="533520"/>
            <a:ext cx="4572000" cy="76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туральный каучук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лучается из природного сырья — сока дерева гевеи, распространенного в Южной Америке (главным образом в Бразилии). На воздухе белый млечный сок этого дерева быстро твердеет и темнеет, превращаясь в эластичную массу.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E:\PH08068.jpg"/>
          <p:cNvPicPr/>
          <p:nvPr/>
        </p:nvPicPr>
        <p:blipFill>
          <a:blip r:embed="rId1"/>
          <a:stretch/>
        </p:blipFill>
        <p:spPr>
          <a:xfrm>
            <a:off x="838080" y="228600"/>
            <a:ext cx="7239240" cy="6346800"/>
          </a:xfrm>
          <a:prstGeom prst="rect">
            <a:avLst/>
          </a:prstGeom>
          <a:ln w="0">
            <a:noFill/>
          </a:ln>
        </p:spPr>
      </p:pic>
      <p:grpSp>
        <p:nvGrpSpPr>
          <p:cNvPr id="332" name="Управляющая кнопка: настраиваемая 4"/>
          <p:cNvGrpSpPr/>
          <p:nvPr/>
        </p:nvGrpSpPr>
        <p:grpSpPr>
          <a:xfrm>
            <a:off x="8210520" y="6381720"/>
            <a:ext cx="952560" cy="495360"/>
            <a:chOff x="8210520" y="6381720"/>
            <a:chExt cx="952560" cy="495360"/>
          </a:xfrm>
        </p:grpSpPr>
        <p:pic>
          <p:nvPicPr>
            <p:cNvPr id="333" name="Управляющая кнопка: настраиваемая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210520" y="6381720"/>
              <a:ext cx="9525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229600" y="640080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665280" y="1042920"/>
            <a:ext cx="7893000" cy="5632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4T08:03:16Z</dcterms:modified>
  <cp:revision>31</cp:revision>
  <dc:subject/>
  <dc:title>Алкадиены   </dc:title>
</cp:coreProperties>
</file>