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415-2A3A-44F9-8790-45DC896D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4A9-D755-4CC6-BFB6-5EF09E8F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164-7054-4B4B-9632-A192B60A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45A-36F1-4174-96C3-0C02105A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6ED0-82F7-4C72-A0E4-029E3518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FBC6-C952-4F39-846E-A3361442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2AED-B294-4D21-A97E-01DA90B9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90FA-3354-4934-96A6-603299E1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908D-532D-4821-B48E-1624F2E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2290-A722-40E1-A6B7-FE1C6626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6B3A-031B-466E-8D5B-48733878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42B-B411-4AA3-BBAF-724345F0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F29F-C675-4514-96D9-E10FAE35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AFAD-19D4-4B0A-94DE-C4C91FFD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638E-DB17-4412-B51A-A86056E1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5C0F-C4C8-4B70-B800-8C93BE43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66E4-2E8D-4116-BD8A-F34403C3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6CC-FECD-4FCA-945A-70F0D399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710-C074-4127-8769-C1F31DB8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8ED-4287-447B-897A-DF935AB6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028-7091-476F-88DD-F015D599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39B-A879-4460-BE9A-1D61389C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7DF-E5D6-483B-9812-57B97581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274-8DCD-4511-BEB8-4394F32B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771A-2B97-412F-93E1-F9D0E170CA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C25E-DE63-41F1-A514-59C24D1F8B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바탕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640" y="5733720"/>
            <a:ext cx="64008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684360" y="2133720"/>
            <a:ext cx="71276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ЛКАНЫ: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ейший представитель предельных углеводородов – метан – образуется в природе в результате разложения остатков растительных и животных организмов без доступа воздуха. Этим объясняется появление пузырьков газа в заболоченных водоёмах. Иногда метан выделяется из каменноугольных пластов и накапливается в шахтах. Метан составляет основную массу природного газа (80 – 97%). Он содержится и в газах, выделяющихся при добыче нефти. В состав природного газа и нефтяных газов входят такж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а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па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тан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некоторые другие. Газообразные, жидкие и твердые предельные углеводороды содержаться в неф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763640" y="620640"/>
            <a:ext cx="568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5.Нахождение в природ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ан – газ без цвета и запаха, почти в 2 раза легче воздуха, мало растворим в воде. Этан, пропан, бутан при нормальных условиях – газы, от пентана до пентадекана – жидкости, а следующие гомологи – твердые вещества (таблица 1). Пропан и бутан под давлением могут находиться в жидком состоянии и при обыкновенной температ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видно по данным таблицы 1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 увеличением относительных молекулярных масс предельных углеводородов закономерно повышается их температуры кипения и пла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835280" y="692280"/>
            <a:ext cx="532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6.Физические свойств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Наиболее характерными реакциями предельных углеводородов являются реакции замещени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ак, например, при освещении метан реагирует с хлором (при сильном освещении может произойти взрыв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                         H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|                     t         |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–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– H + Cl –Cl ----H – C –Cl +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|                               |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                 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лорме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124000" y="54936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7.Химические свойств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79009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Вс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ельные углеводороды горят с образованием оксида углерода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V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и воды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ан горит бесцветным пламенем, с выделением тепл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C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+88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Д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сь метана с кислородом (в объемном отношении 1:2) или с воздухом (1:10) при поджигании сгорает со взрывом. Взрыв может происходить и при др.соотношениях смеси с воздух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и сильном нагреван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ыше 1000 градусов)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ез доступа воздуха предельные углеводороды разлага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метан нагреть до более высокой температуры (1500 градусов), то реакция происходит та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--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глеводороды нормального строения под влиянием катализаторов и при нагревании подвергаются реакциям изомеризации и превращаются в углеводороды разветвленного стро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--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98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98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98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98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98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98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98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98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98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яется в виде природного газа метан используется в качестве топлива. Метан является исходным продуктом для получения метанола, уксусной кислоты, синтетических каучуков, синтетического бензина и многих других ценных продукт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2484360" y="620640"/>
            <a:ext cx="4248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8.Примен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00040" y="500040"/>
            <a:ext cx="834552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БОБЩЕННЫЙ  АЛГОРИТМ  ПОСТРОЕНИЯ  НАЗВАНИЯ  ОРГАНИЧЕСКИХ  СОЕДИНЕНИЙ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7720" y="571320"/>
            <a:ext cx="8007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самую длинную цепочку ( главную цепь). При наличии  кислород-  и  азотосодержащих  заместителей атомы углерода , с которыми они связаны , должны попасть в главную цепь. При этом в эту цепочку должны попасть кратные  связи ( если они есть 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нумеровать атомы углерода  главной цепи так, чтобы нумерация  начиналась с того конца главной цепи , который ближе к самому  старшему из заместителей. Кислород- и азотсодержащие заместители  старше  углеводородных  заместителей. При  наличии одновременно двойных  и  тройных  связей  начало нумерации определяет двойная связь. Если кратных связей нет и все  заместители- алкильные , то сумма номеров замещенных атомов должна  быть наимень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вание строится основе радикала , соответствующего главной  цеп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7720" y="500040"/>
            <a:ext cx="800748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этому  названию  прибавляются  суффиксы, показывающие наличие функциональных групп, и приставки, указывающие наличие углеводородных  замест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кциональные группы , обозначаемые с помощью приставки,  указываются в порядке старшин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рядок , в котором указываются  суффиксы : -ол , -он , -аль,  -ов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7720" y="928440"/>
            <a:ext cx="8007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д  каждой  приставкой и после каждого суффикса ставится число , обозначающее номер атома  в основной  цепи ,  с которым связан  соответствующий  замест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 какая-либо группа встречается  два , три  и  т.д. раз , то перед соответствующим  обозначением ставится  греческое числительное  «ди» , «три» , «тетра»  и т. д. Номера  углеродных  атомов главной цепи , с которыми связаны  соответствующие заместители ,  указываются  через запятую в порядке возрас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абота с обобщенным алгоритмом построения названия органических веществ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дать названия веществам по готовым  химическим формул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 построить формулу вещества по индивидуальному химическому назв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 метил 2 хлор 4 этилгекс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,3 диметил 6 этил нон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хлор 2.3 диметилбутен 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птадиен 3,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 метилгексен1-ин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,4диметилбенз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троение предельных углеводор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Гомологический ряд мет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Таблица 1 гомологический ряд алка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Изомерия и номенкл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Полу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Нахождение в при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Физические свой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Химические свой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Приме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2627280" y="62064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держ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амостоятельная работа по конструированию формул и названий органических веществ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-вариа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уя общую формулу, напишите структурные формулы представителей органических веществ, если п=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но  название: 2,3 – диметил 2 бромпентан. Напишите: формулу данного вещества, формулу 2-х изомеров и назовите их. Формулу 2-х гомологов и назовите 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-вариа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уя общую формулу, напишите структурные формулы представителей органических веществ, если п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но  название: 2,3 – диметил 3- хлоргексан. Напишите: формулу данного вещества, формулу 2-х изомеров и назовите их. Формулу 2-х гомологов и назовите 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каны – углеводороды, в молекулах которых атомы связаны одинарными связями и которые соответствуют общей формул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n+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молекулах алканов все атомы углерода находятся в состояни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ридизации. Это означает, что все четыре гибридные орбитали атома углерода одинаковы по форме, энергии и направлены в углы равносторонней треугольной пирамиды – тетраэдра. Углы между орбиталями равны 109 градусам 28 минут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сутствие в молекулах предельных углеводородов полярных связей приводит к тому, что они плохо растворяются в воде, не вступают во взаимодействие с заряженными частицами (ионами). Наиболее характерными для алканов являются реакции, протекающие с участием свободных радик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iь"/>
          <p:cNvPicPr/>
          <p:nvPr/>
        </p:nvPicPr>
        <p:blipFill>
          <a:blip r:embed="rId1"/>
          <a:stretch/>
        </p:blipFill>
        <p:spPr>
          <a:xfrm>
            <a:off x="3635280" y="3357720"/>
            <a:ext cx="1728720" cy="16858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900000" y="260280"/>
            <a:ext cx="7981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Строение предельных углеводород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мологи – это вещества, сходные по строению и свойствам и отличающиеся на одну или более груп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мысленно к молекуле мета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авить групп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групп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ют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омологической разность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то получиться следующий углеводород – эта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т.д. Формулы углеводородов ряда метана даны в таблице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ельные углеводороды составляют гомологический ряд мет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1042920" y="476280"/>
            <a:ext cx="6710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Гомологический ряд метана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u211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576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WordArt 6"/>
          <p:cNvSpPr txBox="1"/>
          <p:nvPr/>
        </p:nvSpPr>
        <p:spPr>
          <a:xfrm>
            <a:off x="971640" y="0"/>
            <a:ext cx="259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Таблица 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аблице 1 даны формулы десяти первых и двадцатого предельных углеводородов. Если мысленно вычесть из их формул по одному атому водорода, то получаются группы атомов, которые называют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адикала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звания радикалов образуются от названий соответствующих углеводородов путем изменения суффикса –ан на –ил, например: мети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, эти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, пропи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оставления названий предельных углеводородов с разветвленной цепью принимают, что во всех молекулах атомы водорода замещены различными радикалами. Для определения названий данного углеводорода придерживаются определенного поряд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.Выбирают в формуле наиболее длинную углеводородную цепь и символы атомов углерода в ней нумеруют, начиная с того конца к которому ближе разветвл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             2         3            4            5                                         3         4           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б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Называют радикалы и при помощи цифр указывают их место у нумерованных атомов углерода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сло одинаковых радикалов указывают при помощи чисел на греческом языке («ди»-два, «три»-три, «тетра»-четыре и т.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2 – метил…                                 б) 3 – метил 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332000" y="0"/>
            <a:ext cx="669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4.Изомерия и номенклату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карбоксилирование натриевых солей карбоновых кислот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аборатор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ан получают при нагревании ацетата натр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Na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твердым гидроксидом натр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N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OH –-- 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N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тез Вюрц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ан и другие предельные углеводороды с более длинной цепью можно получить при взаимодействии однородных галогенпроизводных предельных углеводородов с металлическим натри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--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2N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одметан                                 э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м эту реакцию в 1855 году осуществил французский химик А.Вюрц (реакция Вюр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2195640" y="333360"/>
            <a:ext cx="446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5.Получ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деление углеводородов из природного сырья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очниками предельных углеводородов являются нефть и природный газ. Основной компонент природного газа – простейший углеводород метан, который используется непосредственно или подвергается переработ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фть, извлеченная из земных недр, также подвергается переработ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омеризац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личие катализаторов изомеризации ускоряет образование углеводородов с разветвленным скелетом из линейных углеводородов: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тализатор,450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---------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октан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–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октан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бавление катализаторов позволяет несколько уменьшить температуру, при которой протекает реа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дрирование (присоединение водорода) алкен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результате крекинга образуется большое количество непредельных углеводородов с двойной связью – алкенов. Уменьшить их можно, добавив в систему водород 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тализаторов гидрирования 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еталлы (платина, палладий, никель):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--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екинг в присутствии катализаторов гидрирования с добавлением водорода называется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сстановительным крекин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дролиз карбидов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ботке некоторых карбидов, содержащих углерод в степени окисления – 4 (например, карбида алюминия), водой образуется мета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4C3 + 12H2O = 3CH4 + 4Al(OH)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3:27:47Z</dcterms:created>
  <dc:creator>1</dc:creator>
  <dc:description/>
  <dc:language>en-US</dc:language>
  <cp:lastModifiedBy>Admin</cp:lastModifiedBy>
  <dcterms:modified xsi:type="dcterms:W3CDTF">2012-03-24T07:57:49Z</dcterms:modified>
  <cp:revision>94</cp:revision>
  <dc:subject/>
  <dc:title>Презентация по органической химии на тему алканы</dc:title>
</cp:coreProperties>
</file>