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499A-17DC-4CEF-9DC3-308795A2DA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BCE3-41A2-4E38-972E-E13A0CCE7E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3CB2-AA57-4AE7-A03E-D07344CC0F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A9A9-EFC1-4172-BD19-7EA5B2880E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474-4EEA-4C5B-A0FE-44B14C5CAC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2B10-EA6C-4BDA-84AF-EA20F91AFA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7FAB-F9E8-4455-9762-E8CD72AE3A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BBFC-3965-4D06-9A1F-38D11A935B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8B1C-3CF5-4CA2-8189-BCE84AF162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57C-4EFA-414F-A056-D1B1F07BBD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9DFA-9331-4034-8079-978119EED9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8913-B805-4101-BD2B-9F9B780DBF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FCA4-B3C9-4356-8888-B9388528B6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ED30-5896-477C-BCB9-52817D751C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B851-A923-44A9-9F55-4E8D594F1C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3458-74F1-4211-B898-52E9212AABC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17EF-8A6E-469C-BC56-C7DCB84265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FDFE-9D55-4DC3-90B1-379649C152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583-072A-41C2-9684-1224CAAD164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ED0B-D21F-4125-A2E7-B458EE4370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F209-D089-4ED5-8462-6E949472B3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772B-4CCA-4485-B473-D643350F71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F23F-985C-4EE2-99D6-B33FF5C750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B91E-FFE1-44A9-9E9B-65F6CDD197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C8B-0CA2-4C8C-8BDF-09293540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BD0-314D-4DC7-8478-6B16DDF3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526BB7-863E-4153-B18C-D7555D0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E36EA-2063-4DA0-A09B-6E0F2BDB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C71A9A-528D-4D1E-AEB7-82D591D9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0F8269-D585-478E-A22A-BF8052E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4693AC-B7E1-489E-9FB7-FD4E8D0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1A2C80-A627-4ABB-91FC-698E76B2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3E518-3CA3-4820-B267-1F341E0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E5AE7C-FC3B-44DC-B42E-85FE56D2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EB1E7D-B150-4064-9DF8-3E7BB899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559-5DA1-4689-88D2-E013CDB3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9CE-73DE-4BD8-8544-5CBA945C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394D6-EE03-4472-93A4-7B195EF4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62D2E-ADB1-48CB-A857-6858DF7D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BADA0-C339-42BD-9381-CAE7EAE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7A56C-94ED-4AB5-BE05-20C7EF21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BE967-C9BE-4452-B271-7FE2FEDB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F8C8D-A871-4105-857C-F0000435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83373-AED1-4843-BDAA-1073E6D4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2D6-3DED-44A4-9A8A-E4F8C16E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84102-92C5-4DE1-9F73-114777C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DD3E4-7DA8-4DFF-84FC-38FC9D1F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CBB4B-CD36-41F5-B82F-26EEEC70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DB122-6A80-4DD8-ABC9-6908B2B4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6F475-DD9F-4AA1-8869-9716C9A8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BDD7-CA5C-47BA-8381-5E60F1C4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70A1-FFFB-4187-8E3D-6FF0182C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AAFA-E4A0-44F4-94C5-9758B44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0599-B32A-463E-ADFA-E824E40C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F5AB-7C6A-4183-ACC9-A8ECEE7B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092-7982-4E1C-80A0-D6A2E33D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B88A-EE3B-4604-8C8C-F6D158D5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8F3F-5169-499A-B591-5E3DC7D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5909-8B04-4151-8F76-9591BBE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AA6B-1CEC-44ED-B3FF-18CEB65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77D49-3776-4D1D-A197-578FF46A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95D7A-D2A2-460C-A07E-789739DF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0849-0CC1-4B2C-8646-3CB341D8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4EB25-ED34-4375-9E12-B8674E6A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223BB-F726-445B-806E-BE4DA64F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DBDEC-DC2D-4872-8123-EB33B2D5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5E8-B34D-4BFC-976F-1662AB96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1D505-865A-4294-AA8D-ABAC329E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E0CBE-D584-4068-8CE7-B715366F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0EE80-5A92-4BC5-A9B8-62AFF44D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C4C21-75BB-4F34-8BFE-F9132D46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5FDFD-8DCE-410B-BBA4-798A6372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24512-F874-4115-BC3C-EE9A6560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37BD9-61FB-44F2-91CD-C860E86D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0EA8C-D474-4E01-BC98-A1C101E9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39A33-619A-46EE-84B6-86444B42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D1DC-6649-4D1F-98EC-81A21CF8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DAA-9A09-4872-A40D-F3B9BC9B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6E7EF-D32D-45B5-A237-60D69E82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1481-7659-41B2-9A12-0AE9DEA2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D1E2-532B-435B-80D5-90E5E1F0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3A4C-4F82-4CE0-BE64-6FA3DEA4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F15B-EE55-4D1D-A9D3-53D7BE00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7D7DE-8802-44E0-835C-54B7BC1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BD2AD-4E96-49E5-85FC-75A2F1B3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3ED0B-DF26-4246-84C7-FAD036CB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E7072-E606-4160-A382-D7E479A5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FDE51-9EC5-446A-A7B1-8262A95F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9E7-E0B6-437B-8FCA-C396D408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2245E-36D7-4D45-B2D4-A2A7E8D5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4B218-F75A-4E10-95D3-66C66D12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B034D-D2DE-4682-9D44-A1A445B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14F95-EEC6-43F9-B6FC-7AB5DD0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D4E1-8686-4ACF-8AFA-ECA9221C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6EDA1-DB10-4EA5-8ADF-346B1A7E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D3490-463D-4B7A-9059-2A7AC0CA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E7FEF-976F-459F-B2E0-F1E1654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AE5DC-0B1C-4AFA-AA77-E84B19CB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E73B-5028-42A0-B9DB-C1A9A189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2DB-9AB5-4F9B-807B-A1E0B63F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95264-369F-4791-B1DE-ABBD0E81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2E5E-80C5-47AD-91DE-82B9F3A1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EC9FB-1756-477B-A63B-5F761999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EC648-582E-4334-9D19-D829D3F1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50886-6999-434D-B814-6612C0C9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819C-A003-490F-BE37-89FE6B84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E2AD-BEA3-41B0-8A8E-98B47D86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7FC84-BA8D-4C43-B9DE-82E506EF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A07CB-3DC9-4F26-AF7A-74BE0347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D7559-CF31-4ABB-9A2B-5944636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14C-0596-4E42-B8C3-25854F47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3C65-0F4B-4CBE-8173-0EF58CE1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E3CD1-B0AF-4B9E-A40F-B399AA00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C7155-51BE-4071-B8A7-BC9F5AB8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EDF2-5333-432E-9440-5AFD02D1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85294-E15E-4198-9DCF-2C46786D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F231C-9CBF-4F67-8761-457F3E7E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E14CB1-7728-40D9-B9B3-33C53E1F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04CDF0-56DB-4D07-8747-F4ECEBC8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76C0E-1047-4E04-B2F6-90EADF51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B137D0-5311-4EEA-96C4-85086671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0ED-FBB3-44A0-950D-293C528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EE6398-E70F-4D2E-A69E-126DE9C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EB355-3221-4BD9-8FF4-5B27E02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7A023C-9A0E-45E4-B9F7-F20EB973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E89F15-EDC3-4B3B-A003-0D6A62AC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48F5E-3886-4011-940E-5C048FE9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6831B-7A74-4575-8AC1-FED4CAAA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018636-6CDD-4919-8DFF-1DB77070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99D27D-9482-45B0-BB4F-2E70DC26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AEBB2-9F67-4B29-8A00-6A4713D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F81DA9-2342-4480-8121-F70DCA85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53A9-4440-454F-BC21-41D9DF24555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5065-F150-425F-B7C2-7C1EEB25B80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2611-C02D-4F94-A3DC-2A50833D568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5A40-AFF1-4644-A67C-832C0381EAD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D884-33E1-4934-A240-866FE5768A0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986C-A282-409B-80A1-555B99E5FC6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5974-BA36-4FBB-B5AF-ADED80A53FA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2956-ECAB-400C-A6ED-23434DEBCE2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2706-0AAE-4096-929F-CA6F809920E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кенами называются непредельные углеводороды, молекулы которых содержат одну двойную связь. Первый представитель этого класса — этилен СН2 = СН2, в связи с чем алкены также называют этиленовыми углеводородам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лижайшие гомологи этилена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Н3-СН=СН2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Н3-СН2-СН=СН2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Н3-СН=СН-СН3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Алкены применяются в качестве исходных продуктов в производстве полимерных материалов (пластмасс, каучуков, пленок) и других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лучение пластмасс – изготовление посуды, труб, пленк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Этилен (этен) Н2С=СН2 используется для получения полиэтилена, политетрафторэтилена (тефлона), этилового спирта, уксусного альдегида, галогенопроизводных и многих других органических соединений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кены используются при производстве синтетического каучука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Применяется как средство для ускоренного созревания фруктов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лен используется для повышения урожайности овощей в теплицах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лучение этиленгликоля – антифриз – понижает температуру замерзания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Пропилен (пропен) Н2С=СН2–СН3 и бутилены (бутен-1 и бутен-2) используются для получения спиртов и полимеров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оизводство уксусной кислоты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Изобутилен (2-метилпропен) Н2С=С(СН3)2 применяется в производстве синтетического каучу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лучение этанола – растворитель, используется в органическом синтез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лен и его гомологи легко окисляются, например пермарганатом калия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+ O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      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HO -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-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- OH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 этом образовался этиленгликоль - вязкая, сходная с глицерином жидкость применяемая в производстве антифризов, синтетического волокна лавсана, взрывчатых веществ. Этиленгликоль очень ядовит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акже этилен частично окисляется в кислороде воздуха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=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2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Cambri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- 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ксид этилена применяется для синтеза различных органических веществ, производства уксусного альдегида, производства лаков, пластмасс, косметических препаратов, и.т.д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лен присоединяет воду, и получается этиловый спирт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 =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+ HOH      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Cambria"/>
              </a:rPr>
              <a:t>3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- 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Cambri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- OH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 реакции с галогеноводородами получается этилхлорид, применяемый для местной астенезии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+ HBr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-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лимеризация. При повышенной температуре, давлении, и в присутствии катализаторов молекулы этилена соединяются друг с другом в следствие разрыва двойной связи, и образуют большие молекулы: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nC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 = C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 (- C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 - C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-)n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В результате образуется полиэтилен из которого получают множество различных пластмасс, высокооктановое горючее, синтетический каучук, и.т.д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кены, содержащие две двойные связи, называются диенами, содержащие три двойные связи — триенами и т.д. Соединения с несколькими двойными связями имеют общее название полиены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Известно, что современные химические технологии требуют больших капиталовложений. Уровень  затрат на химическую технологию производства олефинов очень сильно зависит от селективности процессов и степени конверсии. На фоне возросшей стоимости энергозатрат, потери этилена становятся все более весомыми в структуре себестоимости. Из этого следует, что помимо аппаратурного усовершенствования, на оптимизацию процесса влияет тип и качество вторичных веществ, в частности катализаторов, используемых на стадии селективного гидрирования при получении этилена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настоящее время в Российской Федерации эксплуатируются 9 предприятий по производству низших олефинов, имеющих реакторы гидрирования; также по одному предприятию в республике Беларусь (II очереди, г. Новополоцк), в Азербайджане (г. Сугмаит) и на Украине (г. Калуш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Развитие бимодальных технологий привело к созданию установок, позволяющих получать ПЭНД и ЛПЭВД в одном газофазном реакторе. Это позволяет значительно снизить производственные расходы. Подавляющее большинство вводимых в ближайшие годы установок по производству полиэтилена будут иметь данную конфигурацию…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Некоторые компании рассматривают систему каскадных реакторов как источник увеличения продуктивности и расширения ассортимента продукции.Компания Eastman Chemicals разработала катализатор, с помощью которого производятся пленкообразующие смолы, которые могут конкурировать с гексеновыми типами и даже с металлоценовыми ЛПВД пленками.Компания Equistar также заявила об усовершенствовании процесса производства смол ПНД. Другие компании, включая DuРont и Japaneses R&amp;D, занимаются разработкой новых систем катализаторов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ffffff"/>
                </a:solidFill>
                <a:latin typeface="Cambria"/>
              </a:rPr>
              <a:t>Физические свойства алкенов похожи на свойства алканов, хотя все они имеют несколько более низкие температуры плавления и кипения, чем соответствующие алканы. Например, пентан имеет температуру кипения 36 °С, а пентен-1 — 30 °С. При обычных условиях алкены С2 - С4 — газы. С5 – С15 — жидкости, начиная с C16 — твердые вещества. Алкены не растворимы в воде, хорошо растворимы в органических растворителях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В природе алкены встречаются редко. Поскольку алкены являются ценным сырьем для промышленного органического синтеза, разработаны многие способы их получе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Как и все другие углеводороды, алкены горят, и при обильном доступе воздуха образуют диоксид углерода и воду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СnН2n + Зn/2О2 ® nСО2↑ + nН2О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При ограниченном доступе воздуха горение алкенов может приводить к образованию монооксида углерода и воды: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СnН2n + nО2  ® nCO↑ + nH2O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Низшие алкены — важные исходные вещества для промышленного органического синтеза. Из этилена получают этиловый спирт, полиэтилен, полистирол. Пропен используют для синтеза полипропилена, фенола, ацетона, глицерин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14" name="Picture 2" descr="G:\16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190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Picture 2" descr="G:\19-1.jpg"/>
          <p:cNvPicPr/>
          <p:nvPr/>
        </p:nvPicPr>
        <p:blipFill>
          <a:blip r:embed="rId2"/>
          <a:stretch/>
        </p:blipFill>
        <p:spPr>
          <a:xfrm>
            <a:off x="142920" y="1928880"/>
            <a:ext cx="87868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8:36:06Z</dcterms:created>
  <dc:creator>comp</dc:creator>
  <dc:description/>
  <dc:language>en-US</dc:language>
  <cp:lastModifiedBy>Admin</cp:lastModifiedBy>
  <dcterms:modified xsi:type="dcterms:W3CDTF">2012-01-08T16:44:39Z</dcterms:modified>
  <cp:revision>15</cp:revision>
  <dc:subject/>
  <dc:title>Применение алкенов</dc:title>
</cp:coreProperties>
</file>