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819-3D11-4C1A-B1E2-C8211CFE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0E9-4FA2-4FC9-B3DE-0D57CFDC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FA3C4-2900-41BD-9653-3706BB2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DBADF-93C6-49A8-8F89-18998DEF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8719-D967-4A2A-B773-BE40D0EC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02174-5E74-40C6-9A53-F593D50C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A4104-C886-4E51-92AF-68A653D6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58368-CD53-4D7D-AA37-384174E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4EDCD-01C3-4464-BC23-9BA7C21C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54BC7-7A0C-4F34-B838-F4EA3AAB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FB58B-E39F-484A-937B-5E04C6A7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FC11E-0D0A-48A2-8D2B-799FBA80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288-E3CC-4D9D-88E5-F43A5715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D60E8-0752-4D42-AAFE-C2102E44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97122-AB58-40A6-8153-EA0447DC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0979C-BFDD-477A-8CB8-1403513F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870CE-3850-4436-B211-C6B33CD4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9AB2E-A62D-4260-8607-2A415EA4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69FC8-A3D7-4F54-9B6F-106A7A3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BD306-872A-417C-99B6-B2A13AD7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989DD-4F92-41B8-A184-284AA2F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F2108-8B98-4D63-927A-5E51EB3B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11863-55E1-4679-AA64-9B59A069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007-76DD-41DD-8AFF-C1E46A15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B634C-620A-4B15-82F6-5D6DCBCB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D7DF8-969A-40AF-86B3-6FEE6F52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1BD66-E157-49F3-B6F0-85B0BA48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C8AEC-2DE8-4FD2-A167-58F5C8DA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4E6C3-8709-4F1C-A7D6-09E3D6B3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7CC02-7735-4365-82BA-D4E33ECB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AF210-FDE4-4772-8573-26AE71B3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B79DF-3E35-479C-B93F-4CDBADA7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0A078-C63E-444B-9DB5-C5F0A58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47717-7658-4DB3-80FD-3768DACF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7404-BB20-410F-ADA6-7769CE51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B44F0-43E5-4D66-AC2A-D189D602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E362B-0751-48A2-BE92-A52601F6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2D33-01E2-4BC3-97B0-3EBD662C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BD1BC-20C8-4216-A694-E7426EEB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8634E-1F84-4B70-AD97-6E1845AB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0B0D8-AA77-4478-99AC-5994E1E6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E8888-1537-4CB9-8BD0-46C6EF02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235A8-4184-4797-9F92-A9CC335D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075D3-3407-4219-A7E7-00FEB92A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41099-3470-4E79-8317-92B11D15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9DEE-C1C4-4787-B64C-4AB0D77F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E1280-AA45-4C89-AC1D-5A1C7BE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9E6D8-FE0F-404E-9E29-F8EE00E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941FC-719C-4310-ACE3-D586FEAD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066BA-4E03-4700-86DC-97100370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01E8E-3362-470D-826E-1ADBDBB2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E31E9-1725-44AF-8DB0-1BF7D05E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CC8E2-42C8-4980-AC3E-E598F3EB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3AC7C-9BA9-4F7F-9CC8-DB77F1BB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5346C-D5BF-476A-855E-AB1F5393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4B379-20D4-44F0-9171-EBDCA6EB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5071-CF81-42F9-B440-5142AEA9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DB24E-BAFC-4CA5-BC9B-5102B75E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60524-2AC7-4AC3-B7AE-A0EB5287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AC1AC-C281-498C-9745-2D52C3A5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7FC86-7188-497A-98B8-8E1D4FE5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21F42-C2C5-46E8-A493-20A3FAB8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EF2C1-DB43-432A-8AA4-42BFB626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4A693-A45E-4473-AD9D-9DE47FF4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2D59-90A6-4A69-801E-35213CC5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4D0D-50D3-4D2B-BDC4-519162C1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E81B-88DD-4B6C-931A-6B63E0B4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59E4-D98C-49B8-AA18-0B1D5D0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D2A-868F-4176-9AC5-BA6B2E58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AA65-BD30-4484-9AA5-5EFDC105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88D2-DF1E-42D1-826C-CDE7403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3B1-FA47-4399-8F45-21DB458B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3520-D7F0-45F6-9DD0-EF49ADA5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C1E0-98EC-4912-A345-9AB3FFA5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314D-9F9F-46B2-B8B0-9E56E268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C029B-A99A-45A2-B257-7812C0B8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FB05-5AD1-4E89-A608-BE9C878D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297C-D7C0-4B0D-BDD8-A3B5ACD3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A1E7-3BE3-488E-A2CE-EF3DAE9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3CC-42A8-49D4-A9FE-02CBDD53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AAB6-9E0F-4B34-B73F-B7AD17E9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EC6E-EB3E-4128-B433-7980D19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6527-EAD2-46FA-9749-2989E42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2D31-DBD8-4529-B79F-2AF71A3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6BC3-0D6C-4947-9C85-DBDC9284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0E66-17E4-4A17-9CF2-B952C609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DBA7-D722-4B82-B0A6-992CA094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4AB8A-6465-4AD3-908B-A33D53A4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4776-446D-480C-9885-EC9CF21F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F0DC-98A4-46A3-862D-D2B7FE27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04A-46B0-416D-A377-E101E8E7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D2496-DC97-4AB6-926B-35E6C4F2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B150-2DB9-4DB0-932F-DBE7E3A3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2CC7-1DD9-459E-8F50-A1D6EBCB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C41F-A51E-45DF-BC95-FBD9A2DB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0B61C-D53B-448C-BDF8-C9CE6C4F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5B4B-7229-4AEF-B662-9893F895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ECE97-1FED-4A0C-B3BA-BB992DBE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DD83F-1110-4884-A749-4DD4095E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8D57C-3C1C-42DD-994F-4CC1B490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1B285-2CE3-4EF5-A1FF-4E0039C9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6B2-860D-4136-8564-066FCB9D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67ECF-CF7A-48C0-BD14-DCE89B03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5EF7F-17D7-4F26-83DE-C99080C4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C0AA3-3B98-41B4-9743-B15A3F04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1F53F-1A8E-40BA-A944-48747CC0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9A2F-787E-4091-AAF2-AA5FD616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88CDC-B732-4627-8B03-17BAC48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0B387-E5BF-4DFD-A505-87979120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A8E6-32F3-4B56-B8D9-4EF7CB1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55693-A4A8-404B-AEB6-859A8E86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91D5-1451-41EA-BD0F-2C82D100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EE0-41FD-49B9-88C6-C6C03A9E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E48B-82B6-49A3-B9BE-9927FAC0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ADEC-4E45-438F-9290-F2BC636D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A2A01-26DE-4CC8-8603-701A85C2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77685-F4D1-45A5-B290-2AE80A47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5CEB-D820-4DAC-A350-AF70C88B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3357C-3A41-4808-9355-66D93EA7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A0345-884E-42E3-A751-B7D07830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81A3D-E8A6-48DC-9823-785FE19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D9997-B96A-42AB-BE65-67170709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DF633-F900-42C2-9188-66204FD6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BA9-7AC3-47C4-8E6F-88E90022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F6D03-B86B-4148-8DA2-2E7D5645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03AA6-7903-4F13-96AA-65BADE4F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1D819-B705-4334-9D2B-9F5908A0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01D5-C1CD-49C9-BE78-667C620B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86B13-82FE-4E39-990D-87E4F526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DAA8-B4E1-40B9-9777-EF02D857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86DFB-ED25-4FF8-AC6D-59C04B4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2F9DB-75C5-47F1-B31E-013046BA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AEC7-7F78-4069-AD4C-D72B26C3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5E1B4-F94E-4E8A-B0F1-E26EA38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CDF-C4D6-4872-9B2F-7D62F962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F935B-EBE9-4C81-BD40-A93E08C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95A25-6FF3-4FF6-8AFA-FAAD40FC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3FB02-C748-4270-8BB3-54F62ABE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0353B-9AAC-48C5-B943-3FD189FB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725D9-D458-4957-8EC7-37B130F9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EB5CE-688B-4D5C-AFA2-D4779F45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F6D96-60FA-425A-9B00-3C59641C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90911-1762-47F9-870E-B0620589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23CD3-C547-4DEC-887F-87606F20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BAD6A-CAD6-47DE-BD23-22D084B4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23B-5F3E-4FF5-A5DA-C8446EFF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CAAC6-2AB0-4AE2-88E0-B0953908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154D5-C502-4239-A226-00385985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E85D0-DEC5-431A-BD31-13B0555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EF531-E8C8-497D-8579-B264380B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F09CD-7D08-4258-9FF2-3DCA9D6C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74AC7-15CD-45BC-AA4E-2181FFB9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E6BE4-C493-49E9-AD3B-57D14FE8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428FC-F469-4B83-8B8C-85FCCFCA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4EFFB-F8AA-47F3-B223-F77293BC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BCBB3-A94A-410E-8F70-0B48B450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D0EE-A05B-4F7C-A635-7D8AA12794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C44C-8A4B-4010-BD45-3F408AFE6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3326-58D0-42BC-91F7-24CA692898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95EE-3382-4D65-8CAF-0E9EF95AAE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72CA-1865-4C50-91FF-C2B5DE8663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8F5F-D7E9-421F-86AD-0391FC6792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7897-42EF-4E79-8532-65A6A178DA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442E-295E-4775-9849-128C101F46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5DE9-1CC5-451F-AEC5-E3C28D7678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88EB-0566-4A17-86A3-E3EE7B854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E0F6-FFE2-4252-8621-4B8029B402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406B-EC5D-4BE8-A181-3D0F05D27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EE18-33B7-402B-9BE5-A1F56AF691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chapter8/section1/paragraph6/theory.html" TargetMode="External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i-main-pic" descr="Картинка 502 из 2578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2928960"/>
          </a:xfrm>
          <a:prstGeom prst="rect">
            <a:avLst/>
          </a:prstGeom>
          <a:ln w="0">
            <a:noFill/>
          </a:ln>
        </p:spPr>
      </p:pic>
      <p:sp>
        <p:nvSpPr>
          <p:cNvPr id="598" name="WordArt 4"/>
          <p:cNvSpPr txBox="1"/>
          <p:nvPr/>
        </p:nvSpPr>
        <p:spPr>
          <a:xfrm>
            <a:off x="3357720" y="928800"/>
            <a:ext cx="371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 Г Л Е В О Д 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2"/>
          <a:stretch/>
        </p:blipFill>
        <p:spPr>
          <a:xfrm>
            <a:off x="0" y="2652840"/>
            <a:ext cx="4500720" cy="4205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"/>
          <p:cNvPicPr/>
          <p:nvPr/>
        </p:nvPicPr>
        <p:blipFill>
          <a:blip r:embed="rId3"/>
          <a:stretch/>
        </p:blipFill>
        <p:spPr>
          <a:xfrm>
            <a:off x="4357800" y="2357280"/>
            <a:ext cx="4786200" cy="45007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2143080" y="5610240"/>
            <a:ext cx="460872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11"/>
          <p:cNvSpPr/>
          <p:nvPr/>
        </p:nvSpPr>
        <p:spPr>
          <a:xfrm>
            <a:off x="357120" y="407196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169640" y="194616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929040" cy="3571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3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40006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0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0" y="31417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П О Л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0" y="121932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ми углеводами (полисахаридами или полиозами) называют такие углеводы, которые способны гидролизоваться с образованием простых углеводов и у них число атомов углерода не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609480" y="4419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ол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04920" y="5181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а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5"/>
          <p:cNvSpPr/>
          <p:nvPr/>
        </p:nvSpPr>
        <p:spPr>
          <a:xfrm>
            <a:off x="304920" y="99072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ахари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380880" y="4572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е из полисахаридов - это крахмал, гликоген (животный крахмал), целлюлоза (клетчатк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5"/>
          <p:cNvSpPr/>
          <p:nvPr/>
        </p:nvSpPr>
        <p:spPr>
          <a:xfrm>
            <a:off x="3733920" y="228600"/>
            <a:ext cx="51051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хм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биополимер, состоящий из остатков глюкозы - первый видимый продукт фотосинтеза. При фотосинтезе крахмал образуется  в растениях  и откладывается  в корнях,  клубнях, семен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белое вещество, состоящее из мельчайших зерен, напоминающих муку, поэтому его второе название «картофельная мук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Object 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86080" cy="4114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крахмал"/>
          <p:cNvPicPr/>
          <p:nvPr/>
        </p:nvPicPr>
        <p:blipFill>
          <a:blip r:embed="rId2"/>
          <a:stretch/>
        </p:blipFill>
        <p:spPr>
          <a:xfrm>
            <a:off x="250920" y="189000"/>
            <a:ext cx="3311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КРАХМАЛА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609120" y="928440"/>
            <a:ext cx="8534520" cy="326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пищевого продукта (хлеб, картофель, крупы и т. 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. Для изготовления  канцелярского кл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. В медицине и фарм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присыпок, паст (густых мазей), а также при производстве табле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684360" y="3143160"/>
            <a:ext cx="3119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5"/>
          <p:cNvSpPr/>
          <p:nvPr/>
        </p:nvSpPr>
        <p:spPr>
          <a:xfrm>
            <a:off x="380880" y="3808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тном мире роль «запасного крахмала» играет родственный крахмалу полисахарид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иког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ликоген содержится во всех животных тканях.  Особенно много его в печени (до 20%) и в мышцах (4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 представляет собой белый аморфный порошок, хорошо растворимый  даже в холодной воде. Молекула животного крахмала построена по типу молекул амилопектина, отличаясь лишь большей ветвист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масса гликогена  исчисляется миллион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7" descr="http://www.college.ru/biology/course/content/chapter8/section1/paragraph2/images/08010207.jpg"/>
          <p:cNvPicPr/>
          <p:nvPr/>
        </p:nvPicPr>
        <p:blipFill>
          <a:blip r:embed="rId1"/>
          <a:stretch/>
        </p:blipFill>
        <p:spPr>
          <a:xfrm>
            <a:off x="428760" y="85716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4648320" y="2286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также является полимером глюко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4643280" y="1928880"/>
            <a:ext cx="4038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заключено около 50 % углерода, содержащегося в растениях. По общей массе на Земле целлюлоза занимает первое место среди органических соединен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8"/>
          <p:cNvSpPr/>
          <p:nvPr/>
        </p:nvSpPr>
        <p:spPr>
          <a:xfrm>
            <a:off x="4714920" y="3500280"/>
            <a:ext cx="41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люлоза (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0" y="5000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– это биополимер, состоящий из остатков глюкозы -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4" name="Picture 0" descr=""/>
          <p:cNvPicPr/>
          <p:nvPr/>
        </p:nvPicPr>
        <p:blipFill>
          <a:blip r:embed="rId1"/>
          <a:stretch/>
        </p:blipFill>
        <p:spPr>
          <a:xfrm>
            <a:off x="1357200" y="342900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42600" y="499680"/>
            <a:ext cx="80391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евода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H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x и y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http://www.college.ru/biology/course/content/javagifs/08010209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146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6"/>
          <p:cNvSpPr/>
          <p:nvPr/>
        </p:nvSpPr>
        <p:spPr>
          <a:xfrm>
            <a:off x="0" y="300024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тин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изок к целлюлозе; он встречается у некоторых форм грибов, а также как важный компонент наружного скелета некоторых животн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" name="Picture 9" descr=""/>
          <p:cNvPicPr/>
          <p:nvPr/>
        </p:nvPicPr>
        <p:blipFill>
          <a:blip r:embed="rId2"/>
          <a:stretch/>
        </p:blipFill>
        <p:spPr>
          <a:xfrm>
            <a:off x="4572000" y="29289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2920" y="3429000"/>
            <a:ext cx="37339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343400" y="3214800"/>
            <a:ext cx="4800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М О Н О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К моно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4343400"/>
            <a:ext cx="84582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озы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итроза  тре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ы 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би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и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бо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ксоз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н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а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14479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ми углеводами (моносахаридами и мономинозами) называют углеводы, которые не способны гидролизоваться с образованием более простых углеводов,  у них число атомов углерода 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4343400" y="2286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у называют также виноградным сахаром, так как она содержится в  большом количестве в виноградном соке. Кроме винограда глюкоза находится и в других сладких плодах  и даже в разных частях расте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04920" y="441972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а глюкоза и в животном мире: 0,1% ее находится в крови. Глюкоза разносится по всему телу и служит источником энергии для организма. Она также входит в состав сахарозы, лактозы, целлюлозы, крахм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071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179280" y="189000"/>
            <a:ext cx="52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тительном мире широко распространена фруктоза или фруктовый (плодовый) сахар. Фруктоза содержится в сладких плодах, меде. Извлекая из цветов  сладких плодов соки, пчелы приготавливают мед, который по химическому составу  представляет собой  в основном смесь глюкозы и фруктозы. Также фруктоза входит в состав сложных сахаров, например тростникового и свеклови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" name="Picture 6" descr="47"/>
          <p:cNvPicPr/>
          <p:nvPr/>
        </p:nvPicPr>
        <p:blipFill>
          <a:blip r:embed="rId1"/>
          <a:stretch/>
        </p:blipFill>
        <p:spPr>
          <a:xfrm>
            <a:off x="5580000" y="26028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75491"/>
          <p:cNvPicPr/>
          <p:nvPr/>
        </p:nvPicPr>
        <p:blipFill>
          <a:blip r:embed="rId2"/>
          <a:stretch/>
        </p:blipFill>
        <p:spPr>
          <a:xfrm>
            <a:off x="5580000" y="3357720"/>
            <a:ext cx="28083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МОНОСАХАРИ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1295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сахариды играют роль промежуточных продуктов в процессах дыхания и фотосинтеза, участвуют в синтезе нуклеиновых кислот, коферментов, АТФ и полисахаридов, служат источниками энергии, высвобождаемой при окислении в процессе дыхания. Производные моносахаридов – сахарные спирты, сахарные кислоты, дезоксисахара и аминосахара – имеют важное значение в процессе дыхания, а также используются при синтезе липидов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ДН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угих макромолеку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ахариды имеют формул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д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533520" y="4724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ар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алактоза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люкоза)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би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152280" y="1371600"/>
            <a:ext cx="861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8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630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Admin</cp:lastModifiedBy>
  <dcterms:modified xsi:type="dcterms:W3CDTF">2012-01-08T16:36:12Z</dcterms:modified>
  <cp:revision>60</cp:revision>
  <dc:subject/>
  <dc:title> ПРЕЗЕНТАЦИЯ по химии</dc:title>
</cp:coreProperties>
</file>