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08B-C5B2-481D-864A-D912E9AD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827-ABBA-46A8-98C3-BFA1AF0A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90E-A4A0-43BE-A218-3573447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70F-3F01-4C7B-91B4-990114D9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256B-F76B-44E5-8602-F2DF8E3A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CB2-CE14-465E-99CE-71AFC866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46F-F76C-475B-909D-2527967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1483-06B7-4A8B-9D24-1184D0B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20A8-3771-43BA-9945-E4B4957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BFBF-8863-4FF6-A832-B24D83F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5586-A4CC-4781-BD2B-E06CAB1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E87-03D9-4A0D-B8D1-26A31815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CF55-83B0-4A88-AA13-4DAB905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118-2E42-48E9-85BF-E3974F2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F23C-3FEC-476D-B659-A6E4C42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F158-9DC2-4E98-80DD-089A2CAF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8A12-7D9C-4E91-A38F-51405DE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6F4-E063-4B79-A6DC-E55F4290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D98-82EB-483C-9318-FAFB00F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EA0-5AD0-4CF3-BE99-A5FA298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EF6-5925-483F-88C8-20046E1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83F-0029-4A80-A90C-26F8A91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3D9-EA47-4EF6-9640-42135E5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95B-3AF5-4452-AAF8-E67EE4C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801C-D15D-4607-9F70-045F5DF2259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3F7-DF90-4C4E-962E-F499CB849A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L23p02p01"/>
          <p:cNvPicPr/>
          <p:nvPr/>
        </p:nvPicPr>
        <p:blipFill>
          <a:blip r:embed="rId1"/>
          <a:stretch/>
        </p:blipFill>
        <p:spPr>
          <a:xfrm>
            <a:off x="3635280" y="286056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дорастворимые белки образуют коллоидные раств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L1p07p00"/>
          <p:cNvPicPr/>
          <p:nvPr/>
        </p:nvPicPr>
        <p:blipFill>
          <a:blip r:embed="rId1"/>
          <a:stretch/>
        </p:blipFill>
        <p:spPr>
          <a:xfrm>
            <a:off x="971640" y="2852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обработке хлоридом натрия бел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ысаливаютс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раствора. Этот процесс обрати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02"/>
          <p:cNvPicPr/>
          <p:nvPr/>
        </p:nvPicPr>
        <p:blipFill>
          <a:blip r:embed="rId1"/>
          <a:stretch/>
        </p:blipFill>
        <p:spPr>
          <a:xfrm>
            <a:off x="4572000" y="2421000"/>
            <a:ext cx="22669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ы, щелочи и высокая температура разрушают структуру белков и приводят к их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и такж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ирую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д действием спирта и тяжелых метал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– процесс необратим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сантопротеин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7" descr="L24p8p00"/>
          <p:cNvPicPr/>
          <p:nvPr/>
        </p:nvPicPr>
        <p:blipFill>
          <a:blip r:embed="rId1"/>
          <a:stretch/>
        </p:blipFill>
        <p:spPr>
          <a:xfrm>
            <a:off x="2484360" y="2421000"/>
            <a:ext cx="185436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лейте в пробирку 2 мл яичного белка . Добавьте такой же объем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Биурет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7" descr="GCH_3C24_07Nd"/>
          <p:cNvPicPr/>
          <p:nvPr/>
        </p:nvPicPr>
        <p:blipFill>
          <a:blip r:embed="rId1"/>
          <a:stretch/>
        </p:blipFill>
        <p:spPr>
          <a:xfrm>
            <a:off x="4643280" y="2565360"/>
            <a:ext cx="420876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идролиз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ов – разрушение первич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полное разрушение пространствен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ратимая д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частичное разрушение пространственной структуры белка. Обратный процесс называется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18" descr="001"/>
          <p:cNvPicPr/>
          <p:nvPr/>
        </p:nvPicPr>
        <p:blipFill>
          <a:blip r:embed="rId1"/>
          <a:stretch/>
        </p:blipFill>
        <p:spPr>
          <a:xfrm>
            <a:off x="1181160" y="2382840"/>
            <a:ext cx="3144600" cy="1803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2"/>
          <p:cNvPicPr/>
          <p:nvPr/>
        </p:nvPicPr>
        <p:blipFill>
          <a:blip r:embed="rId2"/>
          <a:stretch/>
        </p:blipFill>
        <p:spPr>
          <a:xfrm>
            <a:off x="1150920" y="4481640"/>
            <a:ext cx="3165480" cy="160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03"/>
          <p:cNvPicPr/>
          <p:nvPr/>
        </p:nvPicPr>
        <p:blipFill>
          <a:blip r:embed="rId3"/>
          <a:stretch/>
        </p:blipFill>
        <p:spPr>
          <a:xfrm>
            <a:off x="4971960" y="4179960"/>
            <a:ext cx="33116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1"/>
          <p:cNvPicPr/>
          <p:nvPr/>
        </p:nvPicPr>
        <p:blipFill>
          <a:blip r:embed="rId4"/>
          <a:stretch/>
        </p:blipFill>
        <p:spPr>
          <a:xfrm>
            <a:off x="4842000" y="2362320"/>
            <a:ext cx="3608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9" descr="1"/>
          <p:cNvPicPr/>
          <p:nvPr/>
        </p:nvPicPr>
        <p:blipFill>
          <a:blip r:embed="rId1"/>
          <a:stretch/>
        </p:blipFill>
        <p:spPr>
          <a:xfrm>
            <a:off x="1413000" y="2362320"/>
            <a:ext cx="2668320" cy="179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"/>
          <p:cNvPicPr/>
          <p:nvPr/>
        </p:nvPicPr>
        <p:blipFill>
          <a:blip r:embed="rId2"/>
          <a:stretch/>
        </p:blipFill>
        <p:spPr>
          <a:xfrm>
            <a:off x="5415120" y="2362320"/>
            <a:ext cx="2570040" cy="179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"/>
          <p:cNvPicPr/>
          <p:nvPr/>
        </p:nvPicPr>
        <p:blipFill>
          <a:blip r:embed="rId3"/>
          <a:stretch/>
        </p:blipFill>
        <p:spPr>
          <a:xfrm>
            <a:off x="1386000" y="4460760"/>
            <a:ext cx="2693880" cy="162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1"/>
          <p:cNvPicPr/>
          <p:nvPr/>
        </p:nvPicPr>
        <p:blipFill>
          <a:blip r:embed="rId4"/>
          <a:stretch/>
        </p:blipFill>
        <p:spPr>
          <a:xfrm>
            <a:off x="5424480" y="4294080"/>
            <a:ext cx="25606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6" descr="08020302"/>
          <p:cNvPicPr/>
          <p:nvPr/>
        </p:nvPicPr>
        <p:blipFill>
          <a:blip r:embed="rId1"/>
          <a:stretch/>
        </p:blipFill>
        <p:spPr>
          <a:xfrm>
            <a:off x="1763640" y="242100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крип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считывание генетической информации о первичной структуре белка с ДНК на РН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ля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ередача генетической информации, закодированной в иРНК на рибосом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форма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строение первичной структуры белка по матрице иРНК с помощью тРНК и аминокисл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находящийся на тРНК комплиментарный триплету на иРНК, находящемуся на месте сборки белковой молеку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Анти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комплиментарный кодону и соответствующий определенной аминокисло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минокисл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H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C    C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87640" y="2852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и структурными компонентами белков являются аминокисло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2987640" y="3645000"/>
            <a:ext cx="48276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88720" cy="20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248436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190800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5"/>
          <a:stretch/>
        </p:blipFill>
        <p:spPr>
          <a:xfrm>
            <a:off x="2916360" y="2708280"/>
            <a:ext cx="544320" cy="62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6"/>
          <a:stretch/>
        </p:blipFill>
        <p:spPr>
          <a:xfrm>
            <a:off x="1692360" y="3645000"/>
            <a:ext cx="136440" cy="49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7"/>
          <a:stretch/>
        </p:blipFill>
        <p:spPr>
          <a:xfrm>
            <a:off x="2268360" y="3645000"/>
            <a:ext cx="136800" cy="49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8"/>
          <a:stretch/>
        </p:blipFill>
        <p:spPr>
          <a:xfrm>
            <a:off x="2268360" y="2781360"/>
            <a:ext cx="136800" cy="50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9"/>
          <a:stretch/>
        </p:blipFill>
        <p:spPr>
          <a:xfrm>
            <a:off x="1692360" y="2781360"/>
            <a:ext cx="136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Baskerville Old Face"/>
              </a:rPr>
              <a:t>«Я всегда говорил и не устаю повторять, что мир не мог существовать, если бы был так просто устроен.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88000" y="2708280"/>
            <a:ext cx="118440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зование пептидной связ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50560" y="414936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551628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Связь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CO – NH –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, соединяющая отдельные аминокислоты в пептид, называется пептидной.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Аминокислоты могут реагировать друг с другом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арбоксильная группа одной аминокислоты реагирует с аминогруппой другой аминокислоты с образованием пептидной связи и молекулы воды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ервичная структур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олипептидная цепь линейной формы из последовательно соединенных пептидной связью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O – NH –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минокисло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3933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H – CH – CO – NH – CH – CO – NH – CH –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1   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Object 19"/>
          <p:cNvGraphicFramePr/>
          <p:nvPr/>
        </p:nvGraphicFramePr>
        <p:xfrm>
          <a:off x="1908000" y="4508640"/>
          <a:ext cx="2239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508640"/>
                    <a:ext cx="223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22"/>
          <p:cNvGraphicFramePr/>
          <p:nvPr/>
        </p:nvGraphicFramePr>
        <p:xfrm>
          <a:off x="5219640" y="4508640"/>
          <a:ext cx="2239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508640"/>
                    <a:ext cx="2239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5"/>
          <p:cNvGraphicFramePr/>
          <p:nvPr/>
        </p:nvGraphicFramePr>
        <p:xfrm>
          <a:off x="8244000" y="4653000"/>
          <a:ext cx="20484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653000"/>
                    <a:ext cx="204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торичная структура – возникает за счет скручивания первичной структуры в спираль или в гармошку за счет водородных связей между соседними витками или звень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L23p10p00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Третичная структура – это глобулярная форма, образующаяся за счет гидрофобных связей между радикалами аминокислот вторичной струк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L23p02p02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етвертичная структура – представляет собой объединение нескольких глобул с третичной структурой в единый конгломер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L23p10p01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Белки – основа органической жизн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Жизнь есть способ существования белковых тел…» (Ф.Энгель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лки могут быть как растворимы, так и нерастворимы в воде в зависимости от их состава и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01"/>
          <p:cNvPicPr/>
          <p:nvPr/>
        </p:nvPicPr>
        <p:blipFill>
          <a:blip r:embed="rId1"/>
          <a:stretch/>
        </p:blipFill>
        <p:spPr>
          <a:xfrm>
            <a:off x="4427640" y="2492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7:47:06Z</dcterms:created>
  <dc:creator>Jill</dc:creator>
  <dc:description/>
  <dc:language>en-US</dc:language>
  <cp:lastModifiedBy>Admin</cp:lastModifiedBy>
  <dcterms:modified xsi:type="dcterms:W3CDTF">2012-02-01T13:28:28Z</dcterms:modified>
  <cp:revision>15</cp:revision>
  <dc:subject/>
  <dc:title>Слайд 1</dc:title>
</cp:coreProperties>
</file>