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9F53-C0C9-4E80-BF3A-3D2B6E4F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9825-F118-42A1-8CAD-9B194B75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8B0E-A647-4C81-9092-EA754140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6EFB-78FF-4DAD-97C2-2D08C062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37DA-1FE9-46D6-B24F-7EA77D61F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94D4-F110-4E82-BAE7-8077A430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ADD8-8306-4020-B5A9-EA44ECFE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8FE5-814D-4F7C-9E4F-A0F6AD48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2B74-75E8-4347-8EBA-91715322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1D4B-F526-4CB4-B4F7-57428484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A9D6-0992-42AC-89AA-54CCF56B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9C33-395C-4F33-AF0E-0A409E7E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86D5-94C7-49EC-9411-94425183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AF57-2CD3-4A5E-B9F4-60148DF2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2762-BFB4-4EB5-86DF-5B9D6505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EBE9-A149-4CBB-BAEB-220A96F2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67CC-E03F-42E9-88C0-6D564E81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E3BB2-1587-4356-B539-153E14CD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725BB-6CB4-4743-A0AE-55488D58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BE72C-2805-4929-84D1-5A2DE56D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38D69-79D5-4C35-B814-9458A44F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0B4D6-CEA4-43D9-97DE-ECB2DE07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F731-E4BA-4EFE-BDC3-25A2F286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F8A21-38CF-4E62-A534-646662AF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4F3D3-FF95-4C4B-888C-BB9EA14B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37C44-1D42-42C5-8B83-C0F25411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3F53B-178A-44C7-8CC9-AE37B86C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7E716-9682-41A9-BC94-14AB6C9E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6938E-A370-4260-8E3B-64F6ADC5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A17FA-FE37-4DAE-ADDF-C81F86AF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8372D-68F5-47A5-94FB-91ADD697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7EB97-99D0-4A7D-9D49-9E743F39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464F3-E4E6-4DB1-B05A-CE86E511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A2C5-853F-4448-B1A0-84E55994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58994-B2E4-487B-BD20-67F6A388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3387F-00DF-4AB4-A5AB-5F59C94E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CB51B-7E73-43BB-A6FF-5F624F1E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9A829-E337-4A74-B1F9-92666247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5DD7C-B861-4DEB-B660-0CA80D39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0F6FF-B75A-4664-AC12-AEA0971A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3BAF8-175B-49CA-A331-4AF73CE9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17DF3-6FBE-4216-BB3D-7134FC88D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3442B-82F7-4096-8791-CEA9E7E1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B45B0-5AC9-4534-B46C-C319F0F20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197E-36B7-4799-BCA3-432FB4E5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10D96-B194-4EE5-973D-AFD9CFBF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A8450-57C6-4FC3-9F57-7A94319F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A4FBD-74AD-46F8-B45B-D3D731DB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9D040-2819-4D60-B40F-0C707606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D8680-E4F2-4882-BF40-DBFF072A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D5C86-BACE-40C1-BB29-4D354757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F8A14-4906-47B4-A540-CA8EE24C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0B0DA-8C30-4540-991E-C84D6B51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B3D1A-2BF9-4E10-B9C6-4824A4BF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8CF5B-095B-46DF-850B-8A22F6DA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A463-13CF-4898-87FF-88DFBC13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6C567-CECF-4392-BA21-14775306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866E-7917-48A9-831C-56C1177D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CDF6-939F-40FA-868F-E7C93131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27D7-C329-47C0-A56F-D37CBBA4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E7F6-41C5-4306-B039-AD38B8B0EE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4375-FD51-4EDE-963C-C338EE02EA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EE61-F9AF-44F3-BA42-7E59FACD43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D70C-AF00-4918-96A5-F494F9F26F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F8D3-CB4B-4735-8B53-3BFA113771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8329320" cy="5582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Спирты и фенол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разование водородных связ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7" descr="спирт1"/>
          <p:cNvPicPr/>
          <p:nvPr/>
        </p:nvPicPr>
        <p:blipFill>
          <a:blip r:embed="rId1"/>
          <a:stretch/>
        </p:blipFill>
        <p:spPr>
          <a:xfrm>
            <a:off x="1476360" y="1125360"/>
            <a:ext cx="3409920" cy="4392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спирт2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580000" y="765000"/>
            <a:ext cx="2995560" cy="2316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спирт3"/>
          <p:cNvPicPr/>
          <p:nvPr/>
        </p:nvPicPr>
        <p:blipFill>
          <a:blip r:embed="rId3"/>
          <a:stretch/>
        </p:blipFill>
        <p:spPr>
          <a:xfrm>
            <a:off x="5580000" y="3573360"/>
            <a:ext cx="3095640" cy="2662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0"/>
          <p:cNvSpPr/>
          <p:nvPr/>
        </p:nvSpPr>
        <p:spPr>
          <a:xfrm>
            <a:off x="1292760" y="5467320"/>
            <a:ext cx="388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ние водородной свя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жду молекулами спи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5435640" y="3141720"/>
            <a:ext cx="32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жду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4716360" y="6308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жду молекулами спирта  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4"/>
          <p:cNvSpPr/>
          <p:nvPr/>
        </p:nvSpPr>
        <p:spPr>
          <a:xfrm>
            <a:off x="539640" y="404640"/>
            <a:ext cx="79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Monotype Corsiva"/>
              </a:rPr>
              <a:t>Фенолы – это органические вещества, содержащие радикал фенил, связанный с одной или несколькими гидроксильными групп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7_2_1_L2"/>
          <p:cNvPicPr/>
          <p:nvPr/>
        </p:nvPicPr>
        <p:blipFill>
          <a:blip r:embed="rId1"/>
          <a:stretch/>
        </p:blipFill>
        <p:spPr>
          <a:xfrm>
            <a:off x="2268360" y="3068640"/>
            <a:ext cx="403236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имические свойства спир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4" descr="0"/>
          <p:cNvPicPr/>
          <p:nvPr/>
        </p:nvPicPr>
        <p:blipFill>
          <a:blip r:embed="rId1"/>
          <a:stretch/>
        </p:blipFill>
        <p:spPr>
          <a:xfrm>
            <a:off x="1763640" y="2133720"/>
            <a:ext cx="691200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371240" y="404640"/>
            <a:ext cx="78087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имические свойства спиртов определяются присутствием в их молекулах гидроксильной группы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ОН</a:t>
            </a:r>
            <a:r>
              <a:rPr b="0" lang="ru-RU" sz="2000" spc="-1" strike="noStrike" baseline="30000">
                <a:solidFill>
                  <a:srgbClr val="ff0000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язи С-О и О- Н сильно полярны и способны к разрыв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личают два основных типа реакций спиртов с участием функциональной группы –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ОН</a:t>
            </a:r>
            <a:r>
              <a:rPr b="0" lang="ru-RU" sz="2000" spc="-1" strike="noStrike" baseline="30000">
                <a:solidFill>
                  <a:srgbClr val="ff0000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Реакции с разрывом связи О-Н</a:t>
            </a:r>
            <a:r>
              <a:rPr b="0" i="1" lang="ru-RU" sz="2000" spc="-1" strike="noStrike" baseline="30000">
                <a:solidFill>
                  <a:srgbClr val="ff0000"/>
                </a:solidFill>
                <a:latin typeface="Calibri"/>
              </a:rPr>
              <a:t>-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800" spc="-1" strike="noStrike">
                <a:solidFill>
                  <a:srgbClr val="ff0000"/>
                </a:solidFill>
                <a:latin typeface="Calibri"/>
              </a:rPr>
              <a:t>(здесь проявляются слабые кислотные свойства спиртов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заимодействие спиртов с щелочными и щелочноземельными металлами с образованием алкоголят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акции спиртов с органическими и минеральны­ми кислотами с образованием сложных эфир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исление спиртов под действием дихромата или перманганата калия до карбонильных соедин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орость реакций, при которых разрывается связь О-Н, уменьшается в ряду: первичные спирты &gt; вторичные &gt; третич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371600" y="404640"/>
            <a:ext cx="7772400" cy="6120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Реакции сопровождающиеся разрывом связи                                   С-О: </a:t>
            </a:r>
            <a:r>
              <a:rPr b="0" i="1" lang="ru-RU" sz="1800" spc="-1" strike="noStrike">
                <a:solidFill>
                  <a:srgbClr val="ff0000"/>
                </a:solidFill>
                <a:latin typeface="Calibri"/>
              </a:rPr>
              <a:t>(здесь проявляются слабые основные свойства спиртов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нутримолекулярная дегидратац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 образованием алке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ежмолекулярная дегидратац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с образованием простых эфи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заимодействие с галогеноводородами и их концентрированными растворам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с образованием алкилгалогенид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орость реакций, при которых разрывается связь С-О, уменьшается в ряду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чные спирты &gt; вторичные &gt; первич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ирты являются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амфотерным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едине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0" y="404640"/>
            <a:ext cx="914400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Monotype Corsiva"/>
              </a:rPr>
              <a:t>Спиртам характерны следующие реак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Monotype Corsiva"/>
              </a:rPr>
              <a:t>1. Замещения: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C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H5OH + 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2C2H5O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+   H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этилат нат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Monotype Corsiva"/>
              </a:rPr>
              <a:t>2. Дегидратации:                                </a:t>
            </a:r>
            <a:r>
              <a:rPr b="1" lang="en-US" sz="2400" spc="-1" strike="noStrike">
                <a:solidFill>
                  <a:srgbClr val="c0504d"/>
                </a:solidFill>
                <a:latin typeface="Monotype Corsiva"/>
              </a:rPr>
              <a:t>       </a:t>
            </a:r>
            <a:r>
              <a:rPr b="1" lang="ru-RU" sz="2400" spc="-1" strike="noStrike">
                <a:solidFill>
                  <a:srgbClr val="c0504d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2SO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3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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CH3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=CH2 + H2O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|       |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&gt; 14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Monotype Corsiva"/>
              </a:rPr>
              <a:t>3. Этерификации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–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+   СН3-СО-ОН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–СО-О-СН3  +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етанол    уксусная кислот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метилаце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Monotype Corsiva"/>
              </a:rPr>
              <a:t>4. Окисления: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[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СН2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СН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С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O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О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льдегид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карбоновая 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369800" y="1676520"/>
            <a:ext cx="752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ичные спирты окисляются в кетон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етичные спирты могут окисляться только с разрывом С-С связ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15" descr="image004"/>
          <p:cNvPicPr/>
          <p:nvPr/>
        </p:nvPicPr>
        <p:blipFill>
          <a:blip r:embed="rId1"/>
          <a:stretch/>
        </p:blipFill>
        <p:spPr>
          <a:xfrm>
            <a:off x="2124000" y="2924280"/>
            <a:ext cx="5543640" cy="1368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акции с разрывом связи С-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0160" y="1197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акции дегидратации протекают при нагревании спиртов с водоотнимающими веществами. При сильном нагревании происходит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нутримолекулярная дегидратация с образованием алкен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,t &gt;140°С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С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С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ОН                 →            С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СН=С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+ 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более слабом нагревании происходит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межмолекулярная дегидратация с образованием простых эфир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t&lt; 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</a:t>
            </a:r>
            <a:br>
              <a:rPr sz="16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OH             →          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O-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ирты обратимо реагируют с галогеноводородными кислотами (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здесь проявляются слабые основные свойства спиртов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ROH + HCl                   RCl + 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чные спирты реагируют быстро, вторичные и первичные - медлен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Line 4"/>
          <p:cNvSpPr/>
          <p:nvPr/>
        </p:nvSpPr>
        <p:spPr>
          <a:xfrm>
            <a:off x="4859280" y="53737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395280" y="404640"/>
            <a:ext cx="8064360" cy="34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Качественная реакция на многоатомные спирты – </a:t>
            </a:r>
            <a:r>
              <a:rPr b="1" lang="ru-RU" sz="2800" spc="-1" strike="noStrike">
                <a:solidFill>
                  <a:srgbClr val="c0504d"/>
                </a:solidFill>
                <a:latin typeface="Monotype Corsiva"/>
              </a:rPr>
              <a:t>взаимодействие со свежеприготовленным гидроксидом меди </a:t>
            </a:r>
            <a:r>
              <a:rPr b="1" lang="en-US" sz="2800" spc="-1" strike="noStrike">
                <a:solidFill>
                  <a:srgbClr val="c0504d"/>
                </a:solidFill>
                <a:latin typeface="Monotype Corsiva"/>
              </a:rPr>
              <a:t>(II)</a:t>
            </a:r>
            <a:r>
              <a:rPr b="1" lang="ru-RU" sz="2800" spc="-1" strike="noStrike">
                <a:solidFill>
                  <a:srgbClr val="c0504d"/>
                </a:solidFill>
                <a:latin typeface="Monotype Corsiva"/>
              </a:rPr>
              <a:t> с образованием ярко-синего гликолята м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г"/>
          <p:cNvPicPr/>
          <p:nvPr/>
        </p:nvPicPr>
        <p:blipFill>
          <a:blip r:embed="rId1"/>
          <a:stretch/>
        </p:blipFill>
        <p:spPr>
          <a:xfrm>
            <a:off x="539640" y="1989000"/>
            <a:ext cx="8280360" cy="15112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4"/>
          <p:cNvSpPr/>
          <p:nvPr/>
        </p:nvSpPr>
        <p:spPr>
          <a:xfrm>
            <a:off x="468360" y="3573360"/>
            <a:ext cx="835344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Качественная реакция на фенолы –</a:t>
            </a:r>
            <a:r>
              <a:rPr b="1" lang="ru-RU" sz="1800" spc="-1" strike="noStrike">
                <a:solidFill>
                  <a:srgbClr val="c0504d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c0504d"/>
                </a:solidFill>
                <a:latin typeface="Monotype Corsiva"/>
              </a:rPr>
              <a:t>взаимодействие с раствором хлорида железа (</a:t>
            </a:r>
            <a:r>
              <a:rPr b="1" lang="en-US" sz="2800" spc="-1" strike="noStrike">
                <a:solidFill>
                  <a:srgbClr val="c0504d"/>
                </a:solidFill>
                <a:latin typeface="Monotype Corsiva"/>
              </a:rPr>
              <a:t>III</a:t>
            </a:r>
            <a:r>
              <a:rPr b="1" lang="ru-RU" sz="2800" spc="-1" strike="noStrike">
                <a:solidFill>
                  <a:srgbClr val="c0504d"/>
                </a:solidFill>
                <a:latin typeface="Monotype Corsiva"/>
              </a:rPr>
              <a:t>) с образованием фиолетового фенолята желе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o25112"/>
          <p:cNvPicPr/>
          <p:nvPr/>
        </p:nvPicPr>
        <p:blipFill>
          <a:blip r:embed="rId2"/>
          <a:stretch/>
        </p:blipFill>
        <p:spPr>
          <a:xfrm>
            <a:off x="2987640" y="4653000"/>
            <a:ext cx="590544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нение спир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69800" y="1989000"/>
            <a:ext cx="65149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ирты главным образом используют в промышленности органического синтез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анол - важное сырье пищевой промышлен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4" descr="Копия 3"/>
          <p:cNvPicPr/>
          <p:nvPr/>
        </p:nvPicPr>
        <p:blipFill>
          <a:blip r:embed="rId1"/>
          <a:stretch/>
        </p:blipFill>
        <p:spPr>
          <a:xfrm>
            <a:off x="6012000" y="4508640"/>
            <a:ext cx="1944720" cy="1587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539640" y="47628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Спиртами называются органические вещества, молекулы которых содержат одну или несколько гидроксильных групп –ОН, соединенных с углеводородным радик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7_1_1"/>
          <p:cNvPicPr/>
          <p:nvPr/>
        </p:nvPicPr>
        <p:blipFill>
          <a:blip r:embed="rId1"/>
          <a:srcRect l="46101" t="7294" r="11106" b="41778"/>
          <a:stretch/>
        </p:blipFill>
        <p:spPr>
          <a:xfrm>
            <a:off x="2050920" y="2924280"/>
            <a:ext cx="5040360" cy="324000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8"/>
          <p:cNvSpPr/>
          <p:nvPr/>
        </p:nvSpPr>
        <p:spPr>
          <a:xfrm>
            <a:off x="817236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нение этано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8" descr="учебник 009"/>
          <p:cNvPicPr/>
          <p:nvPr/>
        </p:nvPicPr>
        <p:blipFill>
          <a:blip r:embed="rId1"/>
          <a:stretch/>
        </p:blipFill>
        <p:spPr>
          <a:xfrm>
            <a:off x="1979640" y="1268280"/>
            <a:ext cx="5905440" cy="50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0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4"/>
          <p:cNvSpPr/>
          <p:nvPr/>
        </p:nvSpPr>
        <p:spPr>
          <a:xfrm>
            <a:off x="324000" y="1268280"/>
            <a:ext cx="8280360" cy="79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c0504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Какие вещества называются спирт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c0504d"/>
              </a:buClr>
              <a:buFont typeface="Monotype Corsi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По каким признакам классифицируют спир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3. Продолжите фразу «Фенолы – это …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4. Какие виды изомерии характерны для спир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5. Какими химическими свойствами обладают спир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6. Каковы качественные реакции на многоатомные спирты и фенол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826920" y="0"/>
            <a:ext cx="749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504d"/>
                </a:solidFill>
                <a:latin typeface="Monotype Corsiva"/>
              </a:rPr>
              <a:t>Фронтальный опро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501480" y="260280"/>
            <a:ext cx="86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Monotype Corsiva"/>
              </a:rPr>
              <a:t>Классификация спир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611280" y="1484280"/>
            <a:ext cx="8532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2411280" y="1125360"/>
            <a:ext cx="4753080" cy="43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числу гидроксильных груп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684360" y="2276640"/>
            <a:ext cx="208728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оато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3708360" y="2276640"/>
            <a:ext cx="208764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ухато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6588000" y="2276640"/>
            <a:ext cx="208764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хато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6659640" y="155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2"/>
          <p:cNvSpPr/>
          <p:nvPr/>
        </p:nvSpPr>
        <p:spPr>
          <a:xfrm>
            <a:off x="2195640" y="3789360"/>
            <a:ext cx="5040360" cy="576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характеру углеводородного радик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3"/>
          <p:cNvSpPr/>
          <p:nvPr/>
        </p:nvSpPr>
        <p:spPr>
          <a:xfrm>
            <a:off x="539640" y="5300640"/>
            <a:ext cx="2087640" cy="576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4"/>
          <p:cNvSpPr/>
          <p:nvPr/>
        </p:nvSpPr>
        <p:spPr>
          <a:xfrm>
            <a:off x="3635280" y="5300640"/>
            <a:ext cx="2087640" cy="576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пред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6659640" y="5300640"/>
            <a:ext cx="2087640" cy="576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ром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7"/>
          <p:cNvSpPr/>
          <p:nvPr/>
        </p:nvSpPr>
        <p:spPr>
          <a:xfrm flipH="1">
            <a:off x="1618920" y="4365720"/>
            <a:ext cx="8650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8"/>
          <p:cNvSpPr/>
          <p:nvPr/>
        </p:nvSpPr>
        <p:spPr>
          <a:xfrm>
            <a:off x="4716360" y="4365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9"/>
          <p:cNvSpPr/>
          <p:nvPr/>
        </p:nvSpPr>
        <p:spPr>
          <a:xfrm>
            <a:off x="6804000" y="4365720"/>
            <a:ext cx="100800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0"/>
          <p:cNvSpPr/>
          <p:nvPr/>
        </p:nvSpPr>
        <p:spPr>
          <a:xfrm flipH="1">
            <a:off x="2050920" y="1557360"/>
            <a:ext cx="720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1"/>
          <p:cNvSpPr/>
          <p:nvPr/>
        </p:nvSpPr>
        <p:spPr>
          <a:xfrm>
            <a:off x="4716360" y="1557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2"/>
          <p:cNvSpPr/>
          <p:nvPr/>
        </p:nvSpPr>
        <p:spPr>
          <a:xfrm>
            <a:off x="6659640" y="1557360"/>
            <a:ext cx="792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468360" y="549360"/>
            <a:ext cx="8280360" cy="57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характеру атома углерода, с которым связана гидроксильная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7_1_2"/>
          <p:cNvPicPr/>
          <p:nvPr/>
        </p:nvPicPr>
        <p:blipFill>
          <a:blip r:embed="rId1"/>
          <a:srcRect l="44454" t="29871" r="11966" b="51649"/>
          <a:stretch/>
        </p:blipFill>
        <p:spPr>
          <a:xfrm>
            <a:off x="539640" y="1773360"/>
            <a:ext cx="2880000" cy="2098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7_1_2_L1"/>
          <p:cNvPicPr/>
          <p:nvPr/>
        </p:nvPicPr>
        <p:blipFill>
          <a:blip r:embed="rId2"/>
          <a:srcRect l="2953" t="8117" r="4535" b="35182"/>
          <a:stretch/>
        </p:blipFill>
        <p:spPr>
          <a:xfrm>
            <a:off x="5148360" y="1700280"/>
            <a:ext cx="2773440" cy="2089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7_1_2_L2"/>
          <p:cNvPicPr/>
          <p:nvPr/>
        </p:nvPicPr>
        <p:blipFill>
          <a:blip r:embed="rId3"/>
          <a:srcRect l="14558" t="4737" r="12500" b="7611"/>
          <a:stretch/>
        </p:blipFill>
        <p:spPr>
          <a:xfrm>
            <a:off x="2987640" y="4437000"/>
            <a:ext cx="3097080" cy="2068560"/>
          </a:xfrm>
          <a:prstGeom prst="rect">
            <a:avLst/>
          </a:prstGeom>
          <a:ln w="0">
            <a:noFill/>
          </a:ln>
        </p:spPr>
      </p:pic>
      <p:sp>
        <p:nvSpPr>
          <p:cNvPr id="230" name="Line 14"/>
          <p:cNvSpPr/>
          <p:nvPr/>
        </p:nvSpPr>
        <p:spPr>
          <a:xfrm flipH="1">
            <a:off x="1835280" y="112536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5"/>
          <p:cNvSpPr/>
          <p:nvPr/>
        </p:nvSpPr>
        <p:spPr>
          <a:xfrm>
            <a:off x="5796000" y="1125360"/>
            <a:ext cx="93672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4427640" y="112536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87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щая характери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47640" y="1557000"/>
            <a:ext cx="734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ая формула гомологического ряда предельных одноатомных спиртов —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ru-RU" sz="2400" spc="-1" strike="noStrike" baseline="-25000">
                <a:solidFill>
                  <a:srgbClr val="ff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H</a:t>
            </a:r>
            <a:r>
              <a:rPr b="0" lang="ru-RU" sz="2400" spc="-1" strike="noStrike" baseline="-25000">
                <a:solidFill>
                  <a:srgbClr val="ff0000"/>
                </a:solidFill>
                <a:latin typeface="Calibri"/>
              </a:rPr>
              <a:t>2n+1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OH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зависимости от того, при каком углеродном атоме находится гидроксильная группа, различают спирты первичные (R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OH), вторичные (R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-OH) и третичные (R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ОН). Простейшие спир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ичные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ОН     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ОН     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ОН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анол        этанол              пропанол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9" descr="image002"/>
          <p:cNvPicPr/>
          <p:nvPr/>
        </p:nvPicPr>
        <p:blipFill>
          <a:blip r:embed="rId1"/>
          <a:stretch/>
        </p:blipFill>
        <p:spPr>
          <a:xfrm>
            <a:off x="1619280" y="260280"/>
            <a:ext cx="7129440" cy="1440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547280" y="1676520"/>
            <a:ext cx="759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ичные спирт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        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чный  спирт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Изомерия одноатомных спирт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связан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 строением углеродного скелета (например, бутанол-2 и 2-метилпропанол-2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положением функциональной  группы О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 -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пропанол-1 и пропанол-2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465200" y="2459880"/>
            <a:ext cx="742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анол-2                буганол-2                    2-метилпропанол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5"/>
          <p:cNvSpPr/>
          <p:nvPr/>
        </p:nvSpPr>
        <p:spPr>
          <a:xfrm>
            <a:off x="395280" y="47628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Monotype Corsiva"/>
              </a:rPr>
              <a:t>Виды изомерии спир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755640" y="1484280"/>
            <a:ext cx="7777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-изомерия положения ОН- группы, (начиная с С3) 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826920" y="2565360"/>
            <a:ext cx="72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-углеродного скелета, (начиная с С4 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-межклассовая изомерия с простыми эфи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0" y="443700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Например, одну и ту же молекулярную формул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                                </a:t>
            </a: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С2H6O име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СН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3CH2–OH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и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CH3–O–CH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504d"/>
                </a:solidFill>
                <a:latin typeface="Calibri"/>
              </a:rPr>
              <a:t>            </a:t>
            </a:r>
            <a:r>
              <a:rPr b="1" i="1" lang="ru-RU" sz="2400" spc="-1" strike="noStrike">
                <a:solidFill>
                  <a:srgbClr val="c0504d"/>
                </a:solidFill>
                <a:latin typeface="Calibri"/>
              </a:rPr>
              <a:t>этиловый спирт           </a:t>
            </a:r>
            <a:r>
              <a:rPr b="1" i="1" lang="ru-RU" sz="24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c0504d"/>
                </a:solidFill>
                <a:latin typeface="Calibri"/>
              </a:rPr>
              <a:t>диметиловый эфир</a:t>
            </a: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менкл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01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вания спиртов образуют, добавляя окончание -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 названию углеводорода с самой длинной углеродной цепью, включающей гидроксильную групп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умерацию цепи начинают с того края, ближе к которому расположена гидроксильная групп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ме того, широко распространена заместительная номенклатура, по которой название спирта производится от соответствующего углеводородного радикала с добавлением, слова "спирт", например: 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OH — этиловый спир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ические сво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70160" y="167616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изшие спирты (до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ru-RU" sz="2800" spc="-1" strike="noStrike" baseline="-25000">
                <a:solidFill>
                  <a:srgbClr val="ff0000"/>
                </a:solidFill>
                <a:latin typeface="Calibri"/>
              </a:rPr>
              <a:t>1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— жидкости, высшие — твердые веще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анол и этанол смешиваются с водой в любых соотношениях. С ростом молекулярной массы растворимость спиртов в воде пада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сравнению с соответствующими углеводородами, спирты имеют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высокие температуры плавления и кип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что объясняется сильной ассоциацией молекул спирта в жидком состоянии за счет образования водородных связей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24T12:47:34Z</dcterms:modified>
  <cp:revision>5</cp:revision>
  <dc:subject/>
  <dc:title>Слайд 1</dc:title>
</cp:coreProperties>
</file>