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7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9.jpeg" ContentType="image/jpeg"/>
  <Override PartName="/ppt/media/image8.png" ContentType="image/png"/>
  <Override PartName="/ppt/media/image33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34.png" ContentType="image/png"/>
  <Override PartName="/ppt/media/image30.png" ContentType="image/png"/>
  <Override PartName="/ppt/media/image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</p:sldIdLst>
  <p:sldSz cx="9144000" cy="6858000"/>
  <p:notesSz cx="6811963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68112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22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Img"/>
          </p:nvPr>
        </p:nvSpPr>
        <p:spPr>
          <a:xfrm>
            <a:off x="92232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968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ftr" idx="23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 type="sldNum" idx="24"/>
          </p:nvPr>
        </p:nvSpPr>
        <p:spPr>
          <a:xfrm>
            <a:off x="385920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C1FE-3CF6-4C8B-B6D8-95DFBF68F2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96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5920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4CD9-5EA3-48A5-88EA-74969686D7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96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385920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F5D3-2A2D-404E-8C51-4A57335B08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F484-584B-4AAF-B09E-092F815B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E4E-5158-4E0F-B308-D7D82332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74E8-AD19-413E-BB2A-B7288AEE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C51-99FE-4069-978E-882C3BD0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F3A8-8059-48FF-9CD3-B3FFBB31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6AA2-03F2-489F-A7D5-ECF39B93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E8FD-4FB4-494B-897D-BC75C972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F21D-520A-444C-A0F2-BA13ACCD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944F-83CB-4B01-BB9D-0A6D5090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DA30-2FD4-405E-80F8-9CA5443D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ADFF-2A2E-4A51-AF0F-E2939FD2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4817-935E-4D05-A928-62B15770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CD50-44EB-404B-B4CD-F6EA3F97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9601-437B-4473-8DA1-5C59DA1D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56A0-F613-466D-8C5F-0AD73B58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E6E0-D68F-4492-81C5-D4FFC59E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56BF-59F6-4B9D-BC1F-951E6398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178F9-4C31-4B2E-97FD-5F006025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8EF62-FE63-4746-9212-4DE63F9E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F7929-A001-45F7-AAC9-2E84761F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CAA16-E4AD-420A-8CBC-193B7969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A1DC1-DE0C-4BEC-8398-C5D6ADB7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C10-DC8A-43C7-A517-011E21C2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3C2C1-0DDB-4692-A09B-7CB0340D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E586D-D5FC-4276-8369-231543D2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1D0B6-1AB6-4651-A867-4635D1BB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74F90-9066-4543-BF5B-F502E6EF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3B9C6-C78A-451F-8BF5-8A44E9B0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86187-B062-428F-A68E-29CB2DA1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639BE-2F75-41E7-B735-BF88E96F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4F300-A7F3-4B82-A114-1E39217C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8CBD1-2446-4AF1-AA77-7964A6D7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4302F-06D1-4661-AF2D-3F01ED4E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EB7-6DFA-4BCC-B641-6995E1AD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A5CA4-4F83-4ABE-8D79-5254462B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90DAE-C8C9-4C07-AAE8-5EB2B5DD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268E1-73E9-40B3-945E-8442794E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C5C12-165A-4CFE-98F9-015F37FB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739DA-BD1E-4370-8D4E-6A192A57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66878-E840-407C-AFF1-FD7B19F0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FA849-7221-46A1-B1CD-A9BAECAB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6DB29-4EF7-45FA-BC30-97EBA015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94C68-0A16-481D-963B-E60B4EF7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2F0D3-4E4E-4C61-ABF5-FCD5BC0B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68E0-26BE-4824-9F68-C00A9117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0D749-E9B1-42F3-BE41-2A0232D0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49869-70C2-483D-BC4F-D1528196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FFF9E-37BE-426B-8B2B-00089F16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290B2-AE99-4EEE-9A94-EF7D1E07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90565-CACA-4941-999B-5227F62F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D8AAC-38A8-41B4-AFCD-F48C2F77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18BC2-370C-40F2-9EE6-07336811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050D4-61BA-4AAB-B67C-3A6CFA9F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5D256-136A-484A-AB94-C5F9FFCB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FD345-16F4-4939-880B-07E2D9A1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09C1-7CDD-4F91-8321-38A48A16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000F3-766C-4654-97BE-70169816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86EDE-517F-4FF4-B4D3-B7EC3483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7F608-BF00-42C7-A13B-322B12A6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E26A8-BB2F-4A5C-A32A-987815F7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73FED-6A5B-4B10-B06C-89C8FC40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EE138-47F5-4500-88A6-EC588F26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C100E-F45A-458D-B72B-57AB7396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8D2F4-9D94-487C-A402-F1E06E10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4BEAE-B87B-457B-B073-CA4BFFA1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4E66B-3899-4555-B1C0-5EB7FAE9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8AEC-B175-4E90-AED1-A11C4CD5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12A17-1CF4-4154-927F-7BA8F29C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9C23B-409B-4093-89AC-E68B3008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BF26A-75AF-433B-A3F4-EC853B42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CB18C-4A94-47E1-A186-18EE45BD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D1C25-538D-42F6-8EFB-E4C439CE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233AB-AABC-42CA-A01D-01566496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F4F04-E372-4467-93D0-7966E01D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D89DC-8311-4263-9B6F-5960190F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D8FA1-3794-4347-B198-54EC3F23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14C66-D962-4DC7-AED2-1753B755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63B5-CCD3-4EB9-B79E-D2C6023F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90BEA-FBC9-49F2-B1E6-C019D3C8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C89F4-C486-409C-B969-E7E6A0B2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34B20-05A0-481C-A846-F57E6930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1955D-0E95-4FB2-8277-F3432CBD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4A1F4-5878-4BA0-A39F-450D0948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043-1A19-46AA-82D7-F872A42F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D2DD-D7A9-4C1E-A992-CCF1F76BB185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816F-23C6-4C1A-B1DC-AB4612A4E63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717F-474C-499B-805D-94C82142A46E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962C-0A34-4D5D-A1E2-A057EBBBB28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76B8-1277-4AC1-B6B6-7F99CF368DA9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01C0-E3EF-4E89-9954-2E83E7B06EF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CFD6-36D5-40F7-A58D-700B988CF788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995A-D99A-4F29-93AB-4F9E259FC5E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86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7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89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A275-F772-4A99-96FA-6E4689F2B328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2AB4-78F5-4614-B6AC-CD9C37D579E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FEB6-3EA6-49E9-A982-BB6B45FAF8A5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E1D5-425C-453F-9354-B393FF94D6E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74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5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77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78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A18B-86C3-47EB-B5FF-591DA0198BEF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9BAA-E015-4BA7-9C40-72EB1334D28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Раздел биохимии, изучающий химические превращения, лежащие в основе функций органов, тканей и организма в целом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786E-A8D7-4095-A2E2-BCB3FE439CC5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"/>
          <p:cNvSpPr/>
          <p:nvPr/>
        </p:nvSpPr>
        <p:spPr>
          <a:xfrm>
            <a:off x="642960" y="27360"/>
            <a:ext cx="8001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м липидов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ени синтезируются желчные кислоты, при дефиците которых переваривания жиров практически не происходит. В регуляции метаболизма липидов печени принадлежит ведущая роль. Так, при дефиците основного энергетического материала - глюкозы, в печени активируется окисление жирных кислот. В условиях избытка глюкозы в гепатоцитах происходит синтез триглицеридов и фосфолипидов из жирных кислот, которые поступают в печень из кишечник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F70-B4E5-435B-91F7-1875E69578DF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"/>
          <p:cNvSpPr/>
          <p:nvPr/>
        </p:nvSpPr>
        <p:spPr>
          <a:xfrm>
            <a:off x="214200" y="46656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и принадлежит ведущая роль в регуляции обмена холестерола. Исходное вещество в его синтезе - ацетил-КоА. Т. е. Избыточное питание стимулирует образование холестерол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ени синтезируются транспортные формы липопротеин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ени, кроме того, синтезируются кетоновые тела, в частности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цетоацет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идрооксимаслянная кисл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разносятся кровью по организму. Сердечная мышца и корковый слой надпочечников предпочитают в качестве источника энергии использовать именно эти соединения, а не глюкозу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2ADD-3844-474D-9296-D3301DF5D5B3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D:\Documents and Settings\Admin\Рабочий стол\305.jpg"/>
          <p:cNvPicPr/>
          <p:nvPr/>
        </p:nvPicPr>
        <p:blipFill>
          <a:blip r:embed="rId1"/>
          <a:stretch/>
        </p:blipFill>
        <p:spPr>
          <a:xfrm>
            <a:off x="2357280" y="0"/>
            <a:ext cx="4542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847B-5BE0-44AE-9D7B-F8EC49196580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571680" y="524880"/>
            <a:ext cx="82152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м белков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 использует АК, поступающие из пищеварительного тракта для синтеза собственных белков, но большая их часть идет на синтез белков плазмы крови. В печени синтезируются фибриноген, альбумины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лобулины и липопротеиды. В печени синтезируется также т.н. лабильный резервный белок, который является как бы запасом АК, которые затем могут использоваться различными органами и тканями по мере необходимост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 занимает центральное место в обмене АК, т.к. в ней активно протекают процессы их химической модификации. Кроме того, именно в печени происходит синтез мочевины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166-2E1F-4955-A852-6779F6C1345E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3" descr="D:\Documents and Settings\Admin\Рабочий стол\S14-08-vzaimosvjaz-treh-obmenov-obmenov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4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4A18-B695-45D0-BE2D-9541783D351E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"/>
          <p:cNvSpPr/>
          <p:nvPr/>
        </p:nvSpPr>
        <p:spPr>
          <a:xfrm>
            <a:off x="571680" y="318960"/>
            <a:ext cx="7143480" cy="59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оксицирующая функция пече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оксикация ядовитых метаболитов и чужеродных соединений (ксенобиотиков) протекает в гепатоцитах в две стадии. Реакции первой стадии катализируются монооксигеназной системой, компоненты которой встроены  в мембраны эндоплазматического ретикулума. Реакции окисления, восстановления или гидролиза являются первой стадией  в системе выведения из организма гидрофобных молекул. Они превращают вещества в полярные водорастворимые метаболиты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фермент гемопротеид 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итохромы Р-45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настоящему времени выявлено множество изоформ этого фермента и отнесено, в зависимости от их свойств и выполняемых функций, к нескольким семействам. У млекопитающих идентифицировано 13 подсемейств цх Р-450, условно считается, что ферменты семейства I-IV  участвуют в биотрансформации ксенобиотиков, остальные метаболизируют эндогенные соединения (стероидные гормоны, простатагландины, жирные кислоты и др.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м свойством цх Р-450 является способность к индукции под действием экзогенных субстратов, что легло в основу классификации изоформ в зависимости от индуцируемости тем или веществом определенной химической структуры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3FF-6AA6-45DD-8F7E-FFCE70CA5843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"/>
          <p:cNvSpPr/>
          <p:nvPr/>
        </p:nvSpPr>
        <p:spPr>
          <a:xfrm>
            <a:off x="500040" y="850680"/>
            <a:ext cx="7215120" cy="54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й стадии биотрансформации происходит образование или высвобождение гидрокси-, карбоксильных, тиоловых и аминогрупп, которые являются гидрофильными, и молекула может подвергаться дальнейшему превращению и выведению из организма. В качестве кофермента используется НАДФН. Кроме цх Р-450, в первой стадии биотрансформации принимают участие цх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цитохромредуктаз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лекарственные вещества, попадая в организм, превращаются на первой стадии биотрансформации в активные формы и оказывают необходимый лечебный эффект. Но часто ряд ксенобиотиков не детоксицируется, а наоборот токсифицируется с участием монооксигеназной системы и становится более реакционноспособным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ы метаболизма чужеродных веществ, образовавшихся на первой стадии биотрансформации, подвергаются дальнейшей детоксикации с помощью ряда реакций второй стадии.  Образующиеся  при этом соединения менее полярны и в связи с этим легко удаляются из клеток. Преобладающим является процесс конъюгации, катализируемый глутатион-S-трансферазой, сульфотрансферазой и UDP-глюкуронилтрансферазой. Конъюгацию с глутатионом, приводящую к образованию меркаптуровых кислот, принято рассматривать в качестве основного механизма детоксикации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ACD-0027-4820-9FC8-D3550A02E20C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D:\Documents and Settings\Admin\Рабочий стол\Новая папка\pech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607F-E1A4-47B4-B9BF-D95D30C51290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3" descr="D:\Documents and Settings\Admin\Рабочий стол\e7f6bc2cd695abf60cb801182e38c101.png"/>
          <p:cNvPicPr/>
          <p:nvPr/>
        </p:nvPicPr>
        <p:blipFill>
          <a:blip r:embed="rId1"/>
          <a:stretch/>
        </p:blipFill>
        <p:spPr>
          <a:xfrm>
            <a:off x="1571760" y="-1000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1"/>
          <p:cNvSpPr/>
          <p:nvPr/>
        </p:nvSpPr>
        <p:spPr>
          <a:xfrm>
            <a:off x="857160" y="2357280"/>
            <a:ext cx="771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атион (ведущий компонент редокс-буфера клетки) представляет собой соединение, содержащее реактивную тиоловую группу.  Большая его часть находится в восстановленной форме (GSH) и играет центральную роль в инактивации токсических и реактивных продуктов. Восстановление окисленного  глутатиона осуществляет фермент - глутатионредуктаза, используя как кофермент НАДФН. Коньюгаты с глутатионом, серной и глюкуроновой кислотами выводятся из организма преимущественно с мочой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0C9E-E04F-4457-8463-11D4BC19960C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D:\Documents and Settings\Admin\Рабочий стол\Glutathione-3D-vdW.png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46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7EA-387F-4F5E-8D44-4125273A2EB7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Прямоугольник 2" descr=""/>
          <p:cNvPicPr/>
          <p:nvPr/>
        </p:nvPicPr>
        <p:blipFill>
          <a:blip r:embed="rId1"/>
          <a:stretch/>
        </p:blipFill>
        <p:spPr>
          <a:xfrm>
            <a:off x="1000080" y="324000"/>
            <a:ext cx="7174080" cy="11332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"/>
          <p:cNvSpPr/>
          <p:nvPr/>
        </p:nvSpPr>
        <p:spPr>
          <a:xfrm>
            <a:off x="500040" y="2000160"/>
            <a:ext cx="771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Прямоугольник 5"/>
          <p:cNvSpPr/>
          <p:nvPr/>
        </p:nvSpPr>
        <p:spPr>
          <a:xfrm>
            <a:off x="500040" y="1500120"/>
            <a:ext cx="7286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 самый крупный из паренхиматозных органов. Она выполняет ряд ключевых функци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ет и распределяет вещества, поступающие в организм из пищеварительного тракта, которые приносятся с кровью по воротной вене. Эти вещества проникают в гепатоциты, подвергаются химическим превращениям и в виде промежуточных или конечных метаболитов поступают в кровь и разносятся в другие органы и ткан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т местом образования желч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ирует вещества, которые используются в других тканях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ктивирует экзогенные и эндогенные токсические вещества, а также гормон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3C18-24D9-4D9F-AB5F-CCBDD20FA25E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857160" y="381960"/>
            <a:ext cx="764388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альность ферментных систе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альность метаболических комплексов печени, основного органа поддержания химического гомеостаза,  определяет различие в ферментном составе между гепатоцитами перивенозной (центральной) и перипортальной (периферической) зон ацинуса (рис.4.16.1.). Это связано с их неодинаковой потребностью в кислороде различных ферментных систем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наибольшая концентрация ферментов ЦТК,  катаболизма амино- и жирных кислот, цикла мочевины, глюконеогенеза отмечена в перипортальной зон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ющ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ее оксигенированную кровь. Поскольку компоненты реакций второй фазы биотрансформации локализованы в клетках этой зоны ацинуса, то они более защищены от действия токсических продуктов.  В гепатоцитах перицентральной зоны более активен гликолиз и первая стадия биотрансформации ксенобиотиков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803-5000-4DD2-8920-2093B9887AB7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D:\Documents and Settings\Admin\Рабочий стол\126.jpg"/>
          <p:cNvPicPr/>
          <p:nvPr/>
        </p:nvPicPr>
        <p:blipFill>
          <a:blip r:embed="rId1"/>
          <a:stretch/>
        </p:blipFill>
        <p:spPr>
          <a:xfrm>
            <a:off x="6357960" y="4240080"/>
            <a:ext cx="2286000" cy="261792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оугольник 1" descr=""/>
          <p:cNvPicPr/>
          <p:nvPr/>
        </p:nvPicPr>
        <p:blipFill>
          <a:blip r:embed="rId2"/>
          <a:stretch/>
        </p:blipFill>
        <p:spPr>
          <a:xfrm>
            <a:off x="1189080" y="36360"/>
            <a:ext cx="6559560" cy="113364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2"/>
          <p:cNvSpPr/>
          <p:nvPr/>
        </p:nvSpPr>
        <p:spPr>
          <a:xfrm>
            <a:off x="642960" y="1214280"/>
            <a:ext cx="785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крови у различных животных составляет от 6,2 до 8% массы тела, причём у молодых животных относительный объём крови несколько больше. Кровь как жидкая ткань обеспечивает постоянство внутренней среды организма. Биохимические показатели крови занимают особое место и очень важны как для оценки физиологического статуса организма животного, так и для своевременной диагностики патологических состояний. Кровь обеспечивает взаимосвязь обменных процессов, протекающих в различных органах и тканях, выполняет также защитную, транспортную, регуляторную, дыхательную, терморегулирующую и другие функции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ь состоит из плазмы (55-60%) и взвешенных в ней форменных элементов – эритроцитов (39-44%), лейкоцитов (1%) и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цитов (0,1%). Благодаря наличию в крови белков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эритроцитов её вязкость в 4-6 раз выше вязкости воды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тояние крови в пробирке или центрифугировании с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ми скоростями форменные элементы её осаждаютс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BDD-D11C-427E-AD2D-F44BEB2859AD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357120" y="285840"/>
            <a:ext cx="771516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ое осаждение форменных элементов крови получило название реакции осаждения эритроцитов (РОЭ, теперь – СОЭ). Величина СОЭ (мм/час) для разных видов животных колеблется в широких пределах: если для собаки СОЭ практически совпадает с интервалом значений для человека (2-10 мм/час), то для свиньи и лошади не превышает 30 и 64 соответственно. Плазма крови, лишённая белка фибриногена, носит название сыворотки кров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рН крови для большинства животных находится в пределах 7,2 – 7,6. Осмотическое давление плазмы крови (7,0-8,0 атм.) определяется количеством в ней растворимых веществ (NaCl, NaHCO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фосфаты) и белков. Растворы солей, имеющие осмотическое давление, равное таковому нормальной сыворотки крови, называются изотоническими растворами (например, 0,9% раствор NaCl). Незначительная часть давления плазмы крови (несколько процентов) определяется белками и называется онкотическим давлением. Однако его роль важна для поддержания водного обмена организма: белки плазмы, удерживая воду в кровяном русле, предупреждает развитие тканевых отёков. Растворы с низким осмотическим давлением называются гипотоническими, а с высоким – гипертоническим. При введение в кровь они вызывают гемолиз и плазмолиз эритроцитов соответственно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A137-048F-4E6B-BF06-12B5B0345BDB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D:\Documents and Settings\Admin\Рабочий стол\analiz_krovi_1.jpg"/>
          <p:cNvPicPr/>
          <p:nvPr/>
        </p:nvPicPr>
        <p:blipFill>
          <a:blip r:embed="rId1"/>
          <a:stretch/>
        </p:blipFill>
        <p:spPr>
          <a:xfrm>
            <a:off x="1214280" y="0"/>
            <a:ext cx="6872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B258-05B3-48AE-8B13-632F25B8906F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1"/>
          <p:cNvSpPr/>
          <p:nvPr/>
        </p:nvSpPr>
        <p:spPr>
          <a:xfrm>
            <a:off x="714240" y="571680"/>
            <a:ext cx="79297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Химический состав кров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а крови животных представляет собой жидкость с плотностью 1,02 – 1,06. Повышение плотности крови может наблюдаться в случаях обезвоживания организма, вызванного длительными диареями, отсутствием питьевой воды. На долю сухого (плотного) остатка плазмы приходится менее 10%, а остальное – вода. Основную массу сухого остатка составляют белки, общая концентрация которых в плазме составляет 60 – 80 г/л. Сумма концентраций глобулинов и альбуминов составляет концентрацию общего белка плазмы крови. Повышение концентрации общего белка плазмы обычно наблюдается при обезвоживании организма. Снижение концентрации общего белка плазмы может быть следствием самых разнообразных причин – низкое содержание белка в рационе, нарушение процесса всасывания питательных веществ в пищеварительном тракте, болезни печени, почек, при которых теряется белок с мочо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A68-6731-4D20-9F5E-258B4717607E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D:\Documents and Settings\Admin\Рабочий стол\1265615179_krov.jpg"/>
          <p:cNvPicPr/>
          <p:nvPr/>
        </p:nvPicPr>
        <p:blipFill>
          <a:blip r:embed="rId1"/>
          <a:stretch/>
        </p:blipFill>
        <p:spPr>
          <a:xfrm>
            <a:off x="0" y="33660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DB56-E40E-412C-8AA3-E83CD9CFAA7F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214200" y="642960"/>
            <a:ext cx="878688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ый состав белков плазмы крови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ый состав белков плазмы крови очень разнообразен. В клинической биохимии часто общий белок плазмы делят на отдельные фракции методом электрофореза, основанного на разделении белковых смесей по признаку различной величины массы и конкретного заряда одного белка. При электрофоретическом разделении в зависимости от носителя количество белковых фракций общего белка неодинаково. Независимо от вида электрофореза всегда выделяют основные фракции - альбумины и глобулины. Альбумины синтезируются в печени и являются простыми белками, содержащими до 600 аминокислотных остатков. Они хорошо растворимы в воде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15E-82A5-4B22-B4C5-C911FFF4E25A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1"/>
          <p:cNvSpPr/>
          <p:nvPr/>
        </p:nvSpPr>
        <p:spPr>
          <a:xfrm>
            <a:off x="642960" y="714240"/>
            <a:ext cx="7929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 альбуминов состоит в поддержании коллоидно-осмотического давления плазмы, постоянства концентрации водородных ионов, а также в транспорте различных веществ, включая билирубин, жирные кислоты, минеральные соединения и лекарственные препараты. Альбумины плазмы крови могут рассматриваться и как определённый резерв аминокислот для синтеза жизненно необходимых специфических белков в условиях дефицита белков в рационе. Альбумины удерживают воду в кровяном русле, а поэтому при гипоальбуминемиях могут быть отёки мягких тканей. При нефритах в мочу из плазмы крови проникают в первую очередь альбумины, как самые низкомолекулярные белки (молекулярная масса альбуминов составляет около 60000 – 66000). В норме на долю альбуминов приходится 35 – 55% от общего     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а белков плазмы кров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EA44-56B9-4347-BAB0-4D4126B28CFD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рямоугольник 1"/>
          <p:cNvSpPr/>
          <p:nvPr/>
        </p:nvSpPr>
        <p:spPr>
          <a:xfrm>
            <a:off x="428760" y="928800"/>
            <a:ext cx="7358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лины плазмы – это множество различных белков. При электрофорезе они перемещаются вслед за альбуминами. Как правило, в плазме они находятся в комплексе со стероидами, углеводами или фосфатами. Взаимосвязь с липидами обеспечивает комплексам глобулинов растворимое состояние и транспорт в различные ткани. В период интенсивного роста животного в крови отмечается относительное снижение уровня альбуминов и соответствующие повышение уровня α- и γ-глобулинов. β-глобулины активно взаимодействуют с липидами крови. γ-глобулины, наименее подвижная и наиболее тяжёлая фракция из всех глобулинов, синтезируются происходящими из части стволовых клеток костного мозга В-лимфоцитами или образующимися из них плазматическими клетками. Они выполняют главным образом функцию защиты, являясь защитными антителами (иммуноглобулинами). У млекопитающих их пять – IgG, IgM, IgE, IgD, IgA. В количественном плане в крови преобладает IgG (80%). Используя метод иммуноэлектрофореза, в крови выделяют до 30 белковых фракций. Каждый тип иммуноглобулинов может специфически взаимодействовать лишь с одним определённым антигеном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AF3C-C9DD-488E-8DBB-91D5AB2CDFCA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D:\Documents and Settings\Admin\Рабочий стол\ateroskleroz.jpg"/>
          <p:cNvPicPr/>
          <p:nvPr/>
        </p:nvPicPr>
        <p:blipFill>
          <a:blip r:embed="rId1"/>
          <a:stretch/>
        </p:blipFill>
        <p:spPr>
          <a:xfrm>
            <a:off x="4165560" y="2209680"/>
            <a:ext cx="4978440" cy="464832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1"/>
          <p:cNvSpPr/>
          <p:nvPr/>
        </p:nvSpPr>
        <p:spPr>
          <a:xfrm>
            <a:off x="357120" y="1000080"/>
            <a:ext cx="7643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ждённые животные не способны в первые дни жизни синтезировать антитела. Они появляются только после поступления в желудочно-кишечный тракт молозива. Самостоятельный синтез этих защитных белков в костном мозге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зёнке, лимфатических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лах отмечается с 3- или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недельного возраста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ого. Поэтому важно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ить новорождённого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зивом, которое содержи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0-20 раз больше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муноглобулинов, чем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е молоко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74C9-78C6-4BD0-AB45-577016628CAA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D:\Documents and Settings\Admin\Рабочий стол\Fibrotest_imagelarge.jpg"/>
          <p:cNvPicPr/>
          <p:nvPr/>
        </p:nvPicPr>
        <p:blipFill>
          <a:blip r:embed="rId1"/>
          <a:stretch/>
        </p:blipFill>
        <p:spPr>
          <a:xfrm>
            <a:off x="0" y="285840"/>
            <a:ext cx="9137520" cy="607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7C17-9A5C-4BC4-BD5C-E519D1EB6EDD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214200" y="357120"/>
            <a:ext cx="8643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-лимфоциты кооперируются с В-лимфоцитами в синтезе иммуноглобулинов, тормозят иммунологические реакции, лизируют различные клетки. В крови Т-лимфоциты составляют 70%, В-лимфоциты – около 30%. Для синтеза иммуноглобулинов необходима и третья популяция клеток – макрофаги. Они выступают как первичные факторы неспецифической защиты, благодаря способности захватывать и переваривать микроорганизмы, антигены, иммунные комплексы, передавать информацию о них Т- и В-лимфацитам. Макрофаги выступают в роли посредников между всеми участниками процесса с помощью вырабатываемых клетками лимфокинов и монокинов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лимфоциты вырабатывают антитела лишь против определённых, поступивших в организм антигенов (бактерий, вирусов).Для этого структура антигена и глобулинового рецептора на поверхности лимфоцита должны соответствовать друг другу, как ключ к замку. В этом случае лимфоцит начинает делиться и синтезировать антитела против вида антигена, вызвавшего ответную реакцию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я γ-глобулинов увеличивается в сыворотке крови при хронических инфекционных болезнях, при иммунизации, беременности животны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DB8-8F77-4DA8-898A-78BD2D192F68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D:\Documents and Settings\Admin\Рабочий стол\39312761_TLIMFOCITI.jpg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1EB-ADEB-4036-B21E-949F4D8C5A06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1"/>
          <p:cNvSpPr/>
          <p:nvPr/>
        </p:nvSpPr>
        <p:spPr>
          <a:xfrm>
            <a:off x="571680" y="714240"/>
            <a:ext cx="750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ый ряд белков плазмы крови выполняет специфические функции. Среди них следует выделить такие белки, как трансферрин, гаптоглобин, церулоплазмин, пропердин, система комплимента, лизоцим, интерферон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еррины являются β-глобулинами, синтезируемыми в печени. Связывая два атома железа на молекулу белка, они транспортируют этот элемент в различные ткани, регулируют его концентрацию и удерживают его в организме. По величине заряда белковой молекулы, аминокислотному составу различают 19 типов трансферринов, которые связаны с наследственностью. Трансферрины могут оказывать и прямой бактериостатический эффект. Концентрация трансферринов в сыворотке крови составляет около 2,9 г/л. Низкое содержание трансферринов в сыворотке крови может быть вызвано недостатком белков в рационе животного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5597-1231-4652-871D-CBD152364140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1"/>
          <p:cNvSpPr/>
          <p:nvPr/>
        </p:nvSpPr>
        <p:spPr>
          <a:xfrm>
            <a:off x="571680" y="428760"/>
            <a:ext cx="70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птоглобин входит в состав α-глобулиновой фракции сыворотки крови. Он образует комплексы с гемоглобином при гемолизе эритроцитов. В форме таких комплексов железо из разрушенных эритроцитов не выделяется в составе мочи из организма, так как эти комплексы не способны проходить через почки. Гаптоглобин выполняет также защитную функцию, участвуя в процессах детоксикаци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улоплазмин — α -глобулин, синтезирующийся в печени, имеет в своем составе медь (0,3%). Связывая медь, церулоплазмин обеспечивает должный уровень этого микроэлемента в тканях. На долю церулоплазмина приходится 3% всего количества меди организма животного. Он проявляет себя как фермент и как оксидант. Церулоплазмин является оксидазой адреналина, аскорбиновой кислоты. Важной характеристикой церулоплазмина является его способность окислять железо в тканях до Fe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епонируя его в таком вид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E48-7DAF-48BF-9F12-E624FCCF5764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D:\Documents and Settings\Admin\Рабочий стол\1229.jpg"/>
          <p:cNvPicPr/>
          <p:nvPr/>
        </p:nvPicPr>
        <p:blipFill>
          <a:blip r:embed="rId1"/>
          <a:stretch/>
        </p:blipFill>
        <p:spPr>
          <a:xfrm>
            <a:off x="0" y="-1000080"/>
            <a:ext cx="9144000" cy="794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D5C-ED26-47D7-B363-0052B8CD0D1B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1"/>
          <p:cNvSpPr/>
          <p:nvPr/>
        </p:nvSpPr>
        <p:spPr>
          <a:xfrm>
            <a:off x="357120" y="500040"/>
            <a:ext cx="842976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комплемен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комплекс сывороточных белков глобулиновой природы, который рассматривается как система проэнзимов, активация которых приводит к цитолизу, разрушению антигена. Синтез системы комплемента, насчитывающей до 25 разных белков, осуществляется преимущественно мононуклеарньми фагоцитами, а также гистиоцитами. Это сложная эффекторная система белков сыворотки, играющая важную роль в регуляции иммунного ответа и в поддержании гомеостаза, в плане фило- и онтогенеза возникла раньше иммунной системы. В составе системы комплемента детально изучены 11 компонентов. Каскад ферментативных реакций, запускаемый комплексом антиген-антитело и приводящий к последовательной активации всех компонентов комплемента, начиная с первого, называется классическим путем активации. Обходной путь, который характеризуется активацией более поздних компонентов комплемента, начиная с 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зывается альтернативным. Разрушение микробной клетки наступает только после активации компонента 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ерминальные белки системы комплемента, последовательно реагируя один с другим, внедряются в двойной слой липидов, повреждая клеточную мембрану с образованием мембранных каналов, что и приводит к осмотическим нарушениям, проникновению внутрь клетки антител, комплемента с последующим лизисом внутриклеточных мембран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DED-91E9-4A35-8847-D4C5EA436BCA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D:\Documents and Settings\Admin\Рабочий стол\9a.jpg"/>
          <p:cNvPicPr/>
          <p:nvPr/>
        </p:nvPicPr>
        <p:blipFill>
          <a:blip r:embed="rId1"/>
          <a:stretch/>
        </p:blipFill>
        <p:spPr>
          <a:xfrm>
            <a:off x="571680" y="0"/>
            <a:ext cx="7837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9A05-6131-4E13-81DF-F8433FB9602A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D:\Documents and Settings\Admin\Рабочий стол\425px-Complement_death.PNG"/>
          <p:cNvPicPr/>
          <p:nvPr/>
        </p:nvPicPr>
        <p:blipFill>
          <a:blip r:embed="rId1"/>
          <a:stretch/>
        </p:blipFill>
        <p:spPr>
          <a:xfrm>
            <a:off x="0" y="0"/>
            <a:ext cx="9001080" cy="692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33D-C967-4D3D-A9DF-B561E9FC2C08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D:\Documents and Settings\Admin\Рабочий стол\144.jpg"/>
          <p:cNvPicPr/>
          <p:nvPr/>
        </p:nvPicPr>
        <p:blipFill>
          <a:blip r:embed="rId1"/>
          <a:stretch/>
        </p:blipFill>
        <p:spPr>
          <a:xfrm>
            <a:off x="2238480" y="0"/>
            <a:ext cx="46670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2E1C-8D0C-444F-A5E4-DDEE5760C07D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285840" y="21420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Значение биохимического экспресс-анализа крови в клинической практик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Прямоугольник 2"/>
          <p:cNvSpPr/>
          <p:nvPr/>
        </p:nvSpPr>
        <p:spPr>
          <a:xfrm>
            <a:off x="500040" y="1071720"/>
            <a:ext cx="67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, во всем мире происходит рост заболеваемости, связанной с хроническими неинфекционными патологиями. Такие заболевания, как сахарный диабет и атеросклероз, не только снижают качество жизни, но и приводят к развитию различных осложнений, угрожающих жизни. Применение ранней диагностики значительно улучшает прогноз таких состояний, позволяя выявить патологию на начальных этапах развития и назначить соответствующее лечение. Важное значение следует уделять и постоянному контролю показателей углеводного и липидного обмена, поскольку это позволяет оценить эффективность проводимой терапии и, по необходимости, корректировать ее. Осознание значительной части населения о необходимости проведения регулярного мониторинга состояния своего здоровья и развитие институтов семейной медицины в Российской Федерации также требует наличия соответствующих  экспресс-анализатор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523-32BF-4CB7-9897-8737F92E46AF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4"/>
          <p:cNvSpPr/>
          <p:nvPr/>
        </p:nvSpPr>
        <p:spPr>
          <a:xfrm>
            <a:off x="1000080" y="736920"/>
            <a:ext cx="7358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строения гепатоцит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разнообразные функции обусловлены особенностями строения печени и ее отдельных клеток. Гепатоцит имеет хорошо развитую систему эндоплазматического ретикулума (ЭР), причем как гладкую, так и шероховатую. Одна из главных функций ЭР - синтез белков, которые используются другими органами и тканями (альбумины), или ферментов работающих в печени. Кроме того, в ЭР синтезируются фосфолипиды, триглицериды и холестерол. Гладкий ЭР содержит ферменты детоксикации ксенобиотик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7ECA-11F5-4BEB-93AD-4A76A859FE44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785880" y="1000080"/>
            <a:ext cx="8072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на данный момент, наиболее оптимальным и единственным анализатором для биохимического экспресс-анализа крови является анализатор CardioChek. Данные анализаторы сочетают в себе достоверность результатов, получаемых в центральной лаборатории, со скоростью и удобством экспресс-тестов. Кроме того, они сочетают в себе широкий спектр диагностических анализов при сравнительной невысокой цен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2B0A-0D8E-4235-940A-F0AAFABE0727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103320"/>
            <a:ext cx="9156960" cy="195732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2"/>
          <p:cNvSpPr/>
          <p:nvPr/>
        </p:nvSpPr>
        <p:spPr>
          <a:xfrm>
            <a:off x="1071720" y="2357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соединительной ткан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я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остоянства тканевой проницаемости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водно-солевого равновесия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иммунной защите организма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B0CF-58AC-4064-A8DC-1C12478BC05A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1"/>
          <p:cNvSpPr/>
          <p:nvPr/>
        </p:nvSpPr>
        <p:spPr>
          <a:xfrm>
            <a:off x="142920" y="642960"/>
            <a:ext cx="90010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Состав и строение соединительной ткани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В соединительной ткани различают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межклеточное (основное) вещество, клеточные элементы, волокнистые структуры (коллагеновые волокна). Особенность: межклеточного вещества гораздо больше, чем клеточных элементов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E8A-4964-4E0F-9870-CEA00FE74E9A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D:\Documents and Settings\Admin\Рабочий стол\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BC54-5361-4639-86FA-09A6D4F3BFBA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D:\Documents and Settings\Admin\Рабочий стол\image001(5)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17E3-80F1-4D95-8CCB-2F6E5E4BE20F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"/>
          <p:cNvSpPr/>
          <p:nvPr/>
        </p:nvSpPr>
        <p:spPr>
          <a:xfrm>
            <a:off x="500040" y="428760"/>
            <a:ext cx="771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клеточное (основное) вещество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образная консистенция основного вещества объясняется его составом. Основное вещество - это сильно гидратированный гель, который образован высокомолекулярными соединениями, составляющими до 30 % массы межклеточного вещества. Оставшиеся 70 % - это вод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молекулярные компоненты представлены белками и углеводами. Углеводы по своему строению являются гетерополисахаридами - глюкозоаминогликаны (ГАГ). Эти гетерополисахариды построены из дисахаридных единиц, которые и являются их мономерам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ению мономеров различают 7 типов глюкозаминогликан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луроновая кислот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ндроитин-4-сульф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ндроитин-6-сульф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ансульф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атансульф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рансульф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рин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332F-6F21-48F9-9CB0-170686D4823E}" type="slidenum">
              <a:t>45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D:\Documents and Settings\Admin\Рабочий стол\connective_tissue_loose_areolar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3ED-C2AF-45DF-BEDE-5EA2E2BEC2DC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Прямоугольник 3" descr=""/>
          <p:cNvPicPr/>
          <p:nvPr/>
        </p:nvPicPr>
        <p:blipFill>
          <a:blip r:embed="rId1"/>
          <a:stretch/>
        </p:blipFill>
        <p:spPr>
          <a:xfrm>
            <a:off x="-365040" y="-6480"/>
            <a:ext cx="9655200" cy="10000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4"/>
          <p:cNvSpPr/>
          <p:nvPr/>
        </p:nvSpPr>
        <p:spPr>
          <a:xfrm>
            <a:off x="571680" y="1000080"/>
            <a:ext cx="7715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и виды мышечной ткан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ечная ткань составляет 40 % от веса тела человека. Биохимические процессы, протекающие в мышцах, оказывают большое влияние на весь организм человека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 мышц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постоянной температуре. Ни один искусственный механизм к этому не способен. Механическое движение, в котором химическая энергия превращается в механическую при постоянном давлении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еречно-полосатая мускулатура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един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аркомер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стая нить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из молекул белка миозина. Миозин - крупный олигомерный белок, молекулярная масса 500 кДа, состоит из 6 субъединиц, попарно одинаковых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ая цеп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-конце - -спираль, на N-конце - глобула. При соединении двух тяжелых цепей С-концевыми участками образуется суперспираль. Две легкие цепи входят в состав глобулы (головки). Стержневой участок суперспирали имеет 2 отдела, где спирали оголены - эти места открыты для действия протеолитических ферментов и имеют повышенную подвижность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82B2-A897-47C2-A714-9119033F608A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D:\Documents and Settings\Admin\Рабочий стол\1204175445e2ee5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2F2B-65F6-4F01-AC93-F9927C1A4CBF}" type="slidenum">
              <a:t>48</a:t>
            </a:fld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D:\Documents and Settings\Admin\Рабочий стол\ms1_ch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752-BE5C-4AC8-ABF5-B71F09D79BE2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D:\Documents and Settings\Admin\Рабочий стол\Новая папка\p5300197-liver_cells_sem-spl.png"/>
          <p:cNvPicPr/>
          <p:nvPr/>
        </p:nvPicPr>
        <p:blipFill>
          <a:blip r:embed="rId1"/>
          <a:stretch/>
        </p:blipFill>
        <p:spPr>
          <a:xfrm>
            <a:off x="1000080" y="-15840"/>
            <a:ext cx="7286760" cy="687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0024-2601-47C2-B917-A4A4E293EE0B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1"/>
          <p:cNvSpPr/>
          <p:nvPr/>
        </p:nvSpPr>
        <p:spPr>
          <a:xfrm>
            <a:off x="714240" y="714240"/>
            <a:ext cx="7000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ция сокращения и расслабления мышц в живой клетк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ечное сокращение начинается с нервного импульса. Под воздействием ацетилхолина развивается возбуждение клеточной мембраны и резко повышается ее проницаемость для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упает в цитоплазму мышечной клетки (саркоплазма) из депо - цистерн цитоплазматического ретикулума. Концентрация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аркоплазме мгновенно увеличивается в 100 раз (с 10-7М до 10-5М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ьций связывается с тропонином "С". Это приводит к конформационным изменениям молекулы тропонина, в результате устраняется пространственное препятствие в виде тропонина "I", в результате конформационных изменений тропонина "Т" молекула тропомиозина оттягивается в сторону и открывает на поверхности актина миозин-связывающие центры. Дальше мышечное сокращение идет по схеме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6C8-82FC-4867-B39F-596EBDB7C875}" type="slidenum">
              <a:t>50</a:t>
            </a:fld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Прямоугольник 1"/>
          <p:cNvSpPr/>
          <p:nvPr/>
        </p:nvSpPr>
        <p:spPr>
          <a:xfrm>
            <a:off x="214200" y="357120"/>
            <a:ext cx="8215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лабление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роизошло расслабление мышцы, необходимы следующие условия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ие тропонина "С" от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для этого работает мембрано-связанный фермент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висимая АТФаза. Этот фермент использует энергию гидролиза АТФ для переноса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о в цистерны против градиента их концентраций. Накоплению ионов кальция в цистернах помогает белок кальсеквестрин. Кальсеквестрин - связывает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цистернах. Когда мышца готова к сокращению, концентрация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цистернах велик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олько процесс сокращения, но и процесс расслабления нуждается в АТФ, потому что если нет АТФ, то не работает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висимая АТФаза. В этих условиях кальций связан с тропонином "С" - вся система находится в активном состоянии, нет распада актомиозинового комплекса - мышца постоянно находится в состоянии сокращения. Такая ситуация наблюдается после смерти человека в состоянии "трупного окоченения"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сы АТФ в клетке значительны, но их хватает для обеспечения мышечной работы только в течение 0.1 секунды. Но в мышечной клетке идет очень быстрый ресинтез АТФ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 мышечной ткани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чень быстрые изменения концентрации АТФ (в 100 и более раз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3A74-61C1-4E42-B1FC-B2AD8F4D9CE0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оугольник 1"/>
          <p:cNvSpPr/>
          <p:nvPr/>
        </p:nvSpPr>
        <p:spPr>
          <a:xfrm>
            <a:off x="214200" y="142920"/>
            <a:ext cx="8643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ы энергообеспечения мышечной ткан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энергии следующие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реакции субстратного фосфорилирования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лиз, гликогенолиз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е фосфорилирование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реакции субстратного фосфорилировани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специальных реакций субстратного фосфорилирования в обеспечении энергией мышечной клетки различна - это зависит от интенсивности, продолжительности, мощности и длительности мышечной работы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нфосфокиназная реакция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амый быстрый способ ресинтеза АТФ. Запасов креатинфосфата хватает для обеспечения мышечной работы в течение 20 с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о эффективен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ребует присутствия кислорода, не дает побочных нежелательных продуктов, включается мгновенно. Его недостаток - малый резерв субстрата (хватает только на 20 с работы). Обратная реакция может протекать в митохондриях с использованием АТФ, образовавшейся в процессе окислительного фосфорилировани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брана митохондрий хорошо проницаема как для креатина, так и для креатин-фосфата, а креатинфосфокиназа есть и в саркоплазме, и в межмембранном пространстве митохондр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D08-A6DE-4618-902D-98C757FCE283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Прямоугольник 1" descr=""/>
          <p:cNvPicPr/>
          <p:nvPr/>
        </p:nvPicPr>
        <p:blipFill>
          <a:blip r:embed="rId1"/>
          <a:stretch/>
        </p:blipFill>
        <p:spPr>
          <a:xfrm>
            <a:off x="-450720" y="36360"/>
            <a:ext cx="9594720" cy="113364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2"/>
          <p:cNvSpPr/>
          <p:nvPr/>
        </p:nvSpPr>
        <p:spPr>
          <a:xfrm>
            <a:off x="571680" y="1214280"/>
            <a:ext cx="7929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воему со cтаву и процессам метаболизма нервная ткань значительно отличается от других тканей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ая функциональная клетка нервной ткани - нейрон - связана с помощью дендритов и аксонов с такими же клетками и клетками других типов, например, с секреторными и мышечными клетками. Клетки разделены синаптическими щелями. Связь между клетками осуществляется путем передачи сигнала. Сигнал проходит от тела нейрона по аксону до синапса. В синаптическую щель выделяется вещество-медиатор. Медиатор вступает в связь с рецепторами на другой стороне синаптической щели. Это обеспечивает восприятие сигнала и генерацию нового сигнала в клетке-акцепторе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3889-14C7-458C-925C-FEB09E6D8059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D:\Documents and Settings\Admin\Рабочий стол\8800602a.GIF"/>
          <p:cNvPicPr/>
          <p:nvPr/>
        </p:nvPicPr>
        <p:blipFill>
          <a:blip r:embed="rId1"/>
          <a:stretch/>
        </p:blipFill>
        <p:spPr>
          <a:xfrm>
            <a:off x="428760" y="0"/>
            <a:ext cx="8189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5F90-5818-4776-BF2B-F7465C92672B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D:\Documents and Settings\Admin\Рабочий стол\iStock_000006935624Smal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FAF8-CFCC-48C6-AF8E-21186846A15E}" type="slidenum">
              <a:t>55</a:t>
            </a:fld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Прямоугольник 1"/>
          <p:cNvSpPr/>
          <p:nvPr/>
        </p:nvSpPr>
        <p:spPr>
          <a:xfrm>
            <a:off x="642960" y="571680"/>
            <a:ext cx="6500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И НЕРВНОЙ ТКАН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енерация электрического сигнала (нервного импульса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дение нервного импульс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поминание и хранение информаци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ормирование эмоций и поведения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ышлени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258-0F4F-4146-B545-FBD0DC8AD9CD}" type="slidenum">
              <a:t>56</a:t>
            </a:fld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1"/>
          <p:cNvSpPr/>
          <p:nvPr/>
        </p:nvSpPr>
        <p:spPr>
          <a:xfrm>
            <a:off x="714240" y="785880"/>
            <a:ext cx="77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И ХИМИЧЕСКОГО СОСТАВА И МЕТАБОЛИЗМА НЕРВНОЙ ТКАНИ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ку нервной ткани определяет гематоэнцефалический барьер (ГЭБ). ГЭБ имеет избирательную проницаемость для различных метаболитов, а также способствует накоплению некоторых веществ в нервной ткани. Например, в нервной ткани на долю глутамата и аспартата приходится примерно 70-75% от общего количества аминокислот. Таким образом, внутренняя среда нервной ткани намного отличается по химическому составу от других тканей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0003-432B-4080-A502-B621097B9420}" type="slidenum">
              <a:t>57</a:t>
            </a:fld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1"/>
          <p:cNvSpPr/>
          <p:nvPr/>
        </p:nvSpPr>
        <p:spPr>
          <a:xfrm>
            <a:off x="428760" y="474840"/>
            <a:ext cx="8215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ПИДЫ НЕРВНОЙ ТКАНИ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И ЛИПИДОВ НЕРВНОЙ ТКАНИ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уктурная: входят в состав клеточных мембран нейронов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ия диэлектриков (обеспечивают надежную электрическую изоляцию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щитная. Ганглиозиды являются очень активными антиоксидантами - ингибиторами перекисного окисления липидов (ПОЛ). При повреждении ткани мозга ганглиозиды способствуют ее заживлени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егуляторная. Фосфатидилинозиты являются предшественниками биологически активных веществ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липидов нервной ткани находится в составе плазматических и субклеточных мембран нейронов и в миелиновых оболочках. В нервной ткани по сравнению с другими тканями организма содержание липидов очень высокое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07F-ACA5-4679-A8B2-DD979DC4D2B4}" type="slidenum">
              <a:t>58</a:t>
            </a:fld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оугольник 1"/>
          <p:cNvSpPr/>
          <p:nvPr/>
        </p:nvSpPr>
        <p:spPr>
          <a:xfrm>
            <a:off x="571680" y="214200"/>
            <a:ext cx="7572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 липидного состава нервной ткани: есть фосфолипиды (ФЛ), гликолипиды (ГЛ) и холестерин (ХС), нет нейтральных жиров. Эфиры холестерина можно встретить только в участках активной миелинизации. Сам холестерин синтезируется интенсивно только в развивающемся мозге. В мозге взрослого человека низка активность ОМГ-КоА-редуктазы - ключевого фермента синтеза холестерина. Содержание свободных жирных кислот в мозге очень низкое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нейромедиаторы после взаимодействия со специфическими рецепторами изменяют свою конформацию и изменяют конформацию фермента фосфолипазы С, которая катализирует расщепление связи в фосфатидилинозите между глицерином и остатком фосфата, в результате чего образуется фосфоинозитол и диацилглицерин. Эти вещества являются регуляторами внутриклеточного метаболизма. Диацилглицерин активирует протеинкиназу С, а фосфоинозитол вызывает повышение концентрации Са 2+. Ионы кальция влияют на активность внутриклеточных ферментов и участвуют в работе сократительных элементов нервных клеток: микрофиламентов, что обеспечивает передвижение различных веществ в теле нервной клетки, аксоне и растущем кончике аксона. Протеинкиназа С участвует в реакциях фосфорилирования белков внутри нервных клеток. Если это белки-ферменты, то меняется их активность, если это рибосомальные или ядерные белки, то изменяется скорость биосинтеза белков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6CA-6C96-4354-B107-797BFCB4254B}" type="slidenum">
              <a:t>59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D:\Documents and Settings\Admin\Рабочий стол\Новая папка\images.jpeg"/>
          <p:cNvPicPr/>
          <p:nvPr/>
        </p:nvPicPr>
        <p:blipFill>
          <a:blip r:embed="rId1"/>
          <a:stretch/>
        </p:blipFill>
        <p:spPr>
          <a:xfrm>
            <a:off x="0" y="63828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337" name="TextBox 3"/>
          <p:cNvSpPr/>
          <p:nvPr/>
        </p:nvSpPr>
        <p:spPr>
          <a:xfrm>
            <a:off x="1071720" y="0"/>
            <a:ext cx="65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патоциты похожи на печенье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786-E355-4698-9005-B6D22654862F}" type="slidenum">
              <a:t>6</a:t>
            </a:fld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1"/>
          <p:cNvSpPr/>
          <p:nvPr/>
        </p:nvSpPr>
        <p:spPr>
          <a:xfrm>
            <a:off x="285840" y="1000080"/>
            <a:ext cx="857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ды постоянно обновляются. Скорость их обновления различна, но в целом низка.. Некоторые липиды (например: холестерин, цереброзиды, фосфатидилэтаноламины, сфингомиелины) обмениваются медленно - в течение месяцев и даже лет. Исключение составляют фосфатидилхолин и, особенно, фосфатидилинозиты (содержат глицерин, фосфат, спирт (инозит), жирные кислоты) - они обмениваются очень быстро (сутки, недели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2EF-3C7D-4544-AE68-88B8BC4B06C6}" type="slidenum">
              <a:t>60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"/>
          <p:cNvSpPr/>
          <p:nvPr/>
        </p:nvSpPr>
        <p:spPr>
          <a:xfrm>
            <a:off x="500040" y="666360"/>
            <a:ext cx="7786800" cy="53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ль печени в метаболизме углеводо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 играет ведущую роль в поддержании физиологической концентрации глюкозы в крови. Из общего количества поступающей из кишечника глюкозы печень извлекает ее большую часть и тратит: 10-15 % от этого количества на синтез гликогена, 60 % на окислительный распад, 30 % на синтез жирных кислот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изиологической гипогликемии в печени активируется распад гликогена. Первая стадия этого процесса заключается в отщеплении молекулы глюкозы и ее фосфорилировании (фермент фосфорилаза). Далее Глю-5-Ф может расходоваться по трем направлениям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ути глтколиза с образованием пировиноградной кислоты и лактата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ентозофосфатному пути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щепляться под действием фосфотазы на глюкозу и фосфо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ет последний путь, который приводит к выбросу в общий кровоток свободной глюкоз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E94E-7EB4-47AE-A01F-EBAE53BF7F33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1"/>
          <p:cNvSpPr/>
          <p:nvPr/>
        </p:nvSpPr>
        <p:spPr>
          <a:xfrm>
            <a:off x="642960" y="642960"/>
            <a:ext cx="7500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ени активно протекает глюконеогенез, при котором предшественниками глюкозы являются пируват и аланин (поступающий из мышц), глицерол - из жировой ткани и с пищей ряд глюкогенных АК. Избыточное поступление глюкозы с пищей увеличивает в гепатоците интенсивность всех путей ее превращения. Так активируется ее окисление с образованием большого количества пирувата.  Для его дальнейшего окисления необходимо также большое количество КоА, который также используется и для окисления жирных кислот. В результате окисление жирных кислот и распад липидов в жировых депо замедляетс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2114-605B-425E-91F8-7E7B8FF4CFC6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D:\Documents and Settings\Admin\Рабочий стол\заболевание-печени.jpg"/>
          <p:cNvPicPr/>
          <p:nvPr/>
        </p:nvPicPr>
        <p:blipFill>
          <a:blip r:embed="rId1"/>
          <a:stretch/>
        </p:blipFill>
        <p:spPr>
          <a:xfrm>
            <a:off x="1143000" y="-3240"/>
            <a:ext cx="7572240" cy="686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F4E-D35B-45A0-B7A1-4BD0F1BEDFC0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4:37:47Z</dcterms:created>
  <dc:creator>Юлия Сергеевна</dc:creator>
  <dc:description/>
  <dc:language>en-US</dc:language>
  <cp:lastModifiedBy>Admin</cp:lastModifiedBy>
  <dcterms:modified xsi:type="dcterms:W3CDTF">2012-05-10T06:47:14Z</dcterms:modified>
  <cp:revision>45</cp:revision>
  <dc:subject/>
  <dc:title>Функциональная биохимия</dc:title>
</cp:coreProperties>
</file>