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51.png" ContentType="image/png"/>
  <Override PartName="/ppt/media/image50.jpeg" ContentType="image/jpe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3.jpeg" ContentType="image/jpeg"/>
  <Override PartName="/ppt/media/image54.png" ContentType="image/png"/>
  <Override PartName="/ppt/media/image41.jpeg" ContentType="image/jpeg"/>
  <Override PartName="/ppt/media/image66.png" ContentType="image/png"/>
  <Override PartName="/ppt/media/image38.jpeg" ContentType="image/jpeg"/>
  <Override PartName="/ppt/media/image72.png" ContentType="image/png"/>
  <Override PartName="/ppt/media/image32.jpeg" ContentType="image/jpeg"/>
  <Override PartName="/ppt/media/image31.jpeg" ContentType="image/jpeg"/>
  <Override PartName="/ppt/media/image14.png" ContentType="image/png"/>
  <Override PartName="/ppt/media/image62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20.jpeg" ContentType="image/jpeg"/>
  <Override PartName="/ppt/media/image16.jpeg" ContentType="image/jpeg"/>
  <Override PartName="/ppt/media/image60.jpeg" ContentType="image/jpeg"/>
  <Override PartName="/ppt/media/image67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82.png" ContentType="image/png"/>
  <Override PartName="/ppt/media/image52.jpeg" ContentType="image/jpeg"/>
  <Override PartName="/ppt/media/image70.png" ContentType="image/png"/>
  <Override PartName="/ppt/media/image84.jpeg" ContentType="image/jpeg"/>
  <Override PartName="/ppt/media/image78.png" ContentType="image/png"/>
  <Override PartName="/ppt/media/image19.jpeg" ContentType="image/jpeg"/>
  <Override PartName="/ppt/media/image25.png" ContentType="image/png"/>
  <Override PartName="/ppt/media/image63.jpeg" ContentType="image/jpeg"/>
  <Override PartName="/ppt/media/image26.jpeg" ContentType="image/jpeg"/>
  <Override PartName="/ppt/media/image42.png" ContentType="image/png"/>
  <Override PartName="/ppt/media/image79.png" ContentType="image/png"/>
  <Override PartName="/ppt/media/image76.gif" ContentType="image/gif"/>
  <Override PartName="/ppt/media/image69.png" ContentType="image/png"/>
  <Override PartName="/ppt/media/image71.png" ContentType="image/png"/>
  <Override PartName="/ppt/media/image65.jpeg" ContentType="image/jpeg"/>
  <Override PartName="/ppt/media/image2.jpeg" ContentType="image/jpeg"/>
  <Override PartName="/ppt/media/image80.png" ContentType="image/png"/>
  <Override PartName="/ppt/media/image15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81.png" ContentType="image/png"/>
  <Override PartName="/ppt/media/image4.png" ContentType="image/pn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5.jpeg" ContentType="image/jpeg"/>
  <Override PartName="/ppt/media/image36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85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AB4-D5E3-4931-A985-B42A8351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BE9-107E-4A06-B669-52D47BC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404-1F5D-41C7-AF48-8BBBB040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B66-1095-40F4-929A-525E198E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F49-B60C-47FD-8306-DB649428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97F-889D-4177-BDF7-4390461C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917-6703-4135-BDA0-FA459D97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E47-4B86-40C1-8F7A-1702F849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A69-1854-40FB-B1E0-D4C4C502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BE4-9568-4F70-913A-CEF8023C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F22-E295-45C3-8A04-CED8560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211-A0B8-48C7-B376-F9F2119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C73E-6008-4052-81D3-0B2E2B53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hyperlink" Target="http://images.yandex.ru/yandpage?q=639046320&amp;p=6&amp;ag=ih&amp;rpt2=simage&amp;qs=stype%3Dimage%26text%3D%25C1%25D0%25C5%25CC%25D8%25D3%25C9%25CE%25D9%26isize%3D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page?q=1295375552&amp;p=1&amp;ag=ih&amp;rpt2=simage&amp;qs=text%3D%25D0%25C5%25DE%25C5%25CE%25D8%26isize%3D%26ogo%3D5%26rpt%3Dimage" TargetMode="External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509065792&amp;p=2&amp;ag=ih&amp;rpt2=simage&amp;qs=text%3D%25D3%25D9%25D2%26isize%3D%26ogo%3D5%26rpt%3Dimage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images.yandex.ru/yandpage?q=2009409472&amp;p=1&amp;ag=ih&amp;rpt2=simage&amp;qs=text%3D%25D1%25CA%25C3%25C1%26stype%3Dimage" TargetMode="External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14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4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767352112&amp;p=11&amp;ag=ih&amp;rpt2=simage&amp;qs=text%3D%25DA%25C5%25CD%25CC%25D1%25CE%25C9%25CB%25C1%26isize%3D%26ogo%3D5%26rpt%3Dimage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images.yandex.ru/yandpage?q=1482650256&amp;p=1&amp;ag=ih&amp;rpt2=simage&amp;qs=text%3D%25CB%25D5%25CB%25D5%25D2%25D5%25DA%25C1%26isize%3D%26ogo%3D5%26rpt%3Dimage" TargetMode="External"/><Relationship Id="rId5" Type="http://schemas.openxmlformats.org/officeDocument/2006/relationships/image" Target="../media/image47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14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yandex.ru/yandpage?q=1707977552&amp;p=0&amp;ag=ih&amp;rpt2=simage&amp;qs=text%3D%25D0%25CF%25CD%25C9%25C4%25CF%25D2%25D9%26isize%3D%26ogo%3D5%26rpt%3Dimage" TargetMode="External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hyperlink" Target="http://images.yandex.ru/yandpage?q=381537264&amp;p=74&amp;ag=ih&amp;rpt2=simage&amp;qs=text%3D%25D7%25C9%25D4%25C1%25CD%25C9%25CE%25D9%26isize%3D%26ogo%3D5%26rpt%3Dimage" TargetMode="External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png"/><Relationship Id="rId10" Type="http://schemas.openxmlformats.org/officeDocument/2006/relationships/image" Target="../media/image63.jpeg"/><Relationship Id="rId11" Type="http://schemas.openxmlformats.org/officeDocument/2006/relationships/image" Target="../media/image64.jpeg"/><Relationship Id="rId12" Type="http://schemas.openxmlformats.org/officeDocument/2006/relationships/image" Target="../media/image65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6192720" cy="1828800"/>
          </a:xfrm>
          <a:prstGeom prst="rect">
            <a:avLst/>
          </a:prstGeom>
          <a:solidFill>
            <a:srgbClr val="ff9900">
              <a:alpha val="24000"/>
            </a:srgbClr>
          </a:solidFill>
          <a:ln w="12600">
            <a:solidFill>
              <a:srgbClr val="99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ookman Old Style"/>
              </a:rPr>
              <a:t>Путешествие в стран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276280"/>
            <a:ext cx="5112000" cy="1235880"/>
          </a:xfrm>
          <a:prstGeom prst="rect">
            <a:avLst/>
          </a:prstGeom>
          <a:solidFill>
            <a:srgbClr val="ffcc00">
              <a:alpha val="34000"/>
            </a:srgbClr>
          </a:solidFill>
          <a:ln w="12600">
            <a:solidFill>
              <a:srgbClr val="ff99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476280"/>
            <a:ext cx="2032200" cy="367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3933720"/>
            <a:ext cx="2644920" cy="2664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313080" cy="2554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1042920" y="242100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ТАМИНЫ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484280"/>
            <a:ext cx="4681440" cy="26654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обмене вещест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циркуляцию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етворение, работу глад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ускулатуры, активизирует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озга. При недостатке-забол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ри-бери (поражение нер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стемы, отставание в ро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лабость и паралич конечно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3080" y="4221000"/>
            <a:ext cx="2663640" cy="230364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орех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пельси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убого пом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 rot="5400000">
            <a:off x="6764760" y="43315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иами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92720" y="4292640"/>
            <a:ext cx="2376360" cy="201600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276640"/>
            <a:ext cx="1368720" cy="13017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50920" y="4581360"/>
            <a:ext cx="2066760" cy="1543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1557360"/>
            <a:ext cx="410508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85760" cy="2054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4336920"/>
            <a:ext cx="2736720" cy="2044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орото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276640"/>
            <a:ext cx="4248000" cy="1439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мен бе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работу 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луч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56320" y="1833480"/>
            <a:ext cx="2695320" cy="217188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92640"/>
            <a:ext cx="1793880" cy="187308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1617480" cy="2376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цианкобалам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1557360"/>
            <a:ext cx="4103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иливает иммунит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кровя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авление. При недостат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локачественная анем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генеративные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сое, суб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ыре, устри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яй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916280"/>
            <a:ext cx="1873440" cy="14698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0" y="4221000"/>
            <a:ext cx="1979640" cy="1944720"/>
          </a:xfrm>
          <a:prstGeom prst="rect">
            <a:avLst/>
          </a:prstGeom>
          <a:ln w="12600">
            <a:solidFill>
              <a:srgbClr val="8dc6ff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4788000" y="3473280"/>
            <a:ext cx="3039840" cy="3384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1916280"/>
            <a:ext cx="1619280" cy="4752720"/>
          </a:xfrm>
          <a:prstGeom prst="upArrow">
            <a:avLst>
              <a:gd name="adj1" fmla="val 50000"/>
              <a:gd name="adj2" fmla="val 733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6193440" y="4112280"/>
            <a:ext cx="43196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АСКОРБ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8920" y="1557360"/>
            <a:ext cx="439272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боро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 инфекциями, лучше ви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цинга (набух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и кровоточат десны, выпа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убы. Слабость, вя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томляемость, головокру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цитрус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ладком пер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яг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1655640" cy="1454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2590920" cy="222084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920" y="44280"/>
            <a:ext cx="1066680" cy="2016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771920" cy="1971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 rot="5400000">
            <a:off x="6337080" y="418608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КАЛЬЦИФЕРОЛ</a:t>
            </a:r>
            <a:endParaRPr b="1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1484280"/>
            <a:ext cx="4321080" cy="1944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 за обмен фосфо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альция, правильный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остей. При недостатке - рах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деформация костей,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системы, слаб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дражи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3500280"/>
            <a:ext cx="2881440" cy="273528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ырабат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ко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д действием УФ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м </a:t>
            </a: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богаты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яичный жел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ливочное ма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ыбий жир, ик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1773000" cy="2305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1514520" cy="148896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08000" y="5805360"/>
            <a:ext cx="3959280" cy="1008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5400000">
            <a:off x="6451560" y="414180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ТОКОФЕР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1844640"/>
            <a:ext cx="4464000" cy="1655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ддерживает нерв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364500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ародышах пшен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астительном ма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ьях са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, печ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1838160" cy="208908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1633680" cy="1943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rcRect l="-2073" t="18642" r="0" b="17662"/>
          <a:stretch/>
        </p:blipFill>
        <p:spPr>
          <a:xfrm>
            <a:off x="3924360" y="4930920"/>
            <a:ext cx="3959280" cy="1882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Путешествие в страну «Витамины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484280"/>
            <a:ext cx="72072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618920" y="1484280"/>
            <a:ext cx="1297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563640" y="1484280"/>
            <a:ext cx="431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692000" y="306864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708000" y="3500280"/>
            <a:ext cx="14292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3500280"/>
            <a:ext cx="144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716280"/>
            <a:ext cx="2448000" cy="180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«Научно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Исследователь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институ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4797360"/>
            <a:ext cx="2305080" cy="129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«Фармацев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4149720"/>
            <a:ext cx="216036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«Косметол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060640"/>
            <a:ext cx="1944720" cy="971640"/>
          </a:xfrm>
          <a:prstGeom prst="rect">
            <a:avLst/>
          </a:prstGeom>
          <a:gradFill rotWithShape="0">
            <a:gsLst>
              <a:gs pos="0">
                <a:srgbClr val="f0f670"/>
              </a:gs>
              <a:gs pos="100000">
                <a:srgbClr val="4f51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301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23010"/>
                </a:solidFill>
                <a:latin typeface="Arial"/>
              </a:rPr>
              <a:t>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637000"/>
            <a:ext cx="1871640" cy="792000"/>
          </a:xfrm>
          <a:prstGeom prst="rect">
            <a:avLst/>
          </a:prstGeom>
          <a:gradFill rotWithShape="0">
            <a:gsLst>
              <a:gs pos="0">
                <a:srgbClr val="f0f670"/>
              </a:gs>
              <a:gs pos="100000">
                <a:srgbClr val="4f51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301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23010"/>
                </a:solidFill>
                <a:latin typeface="Arial"/>
              </a:rPr>
              <a:t>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2637000"/>
            <a:ext cx="2016000" cy="863280"/>
          </a:xfrm>
          <a:prstGeom prst="rect">
            <a:avLst/>
          </a:prstGeom>
          <a:gradFill rotWithShape="0">
            <a:gsLst>
              <a:gs pos="0">
                <a:srgbClr val="f0f670"/>
              </a:gs>
              <a:gs pos="100000">
                <a:srgbClr val="4f51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301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23010"/>
                </a:solidFill>
                <a:latin typeface="Arial"/>
              </a:rPr>
              <a:t>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1484280"/>
            <a:ext cx="720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2565360"/>
            <a:ext cx="1871640" cy="863640"/>
          </a:xfrm>
          <a:prstGeom prst="rect">
            <a:avLst/>
          </a:prstGeom>
          <a:gradFill rotWithShape="0">
            <a:gsLst>
              <a:gs pos="0">
                <a:srgbClr val="f0f670"/>
              </a:gs>
              <a:gs pos="100000">
                <a:srgbClr val="4f512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301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f23010"/>
                </a:solidFill>
                <a:latin typeface="Arial"/>
              </a:rPr>
              <a:t> 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83280" y="4365720"/>
            <a:ext cx="216072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«Диетол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7640" y="335772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 rot="5400000">
            <a:off x="6849000" y="4266360"/>
            <a:ext cx="302436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биотин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лияе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н и аппе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стояние кожи и в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ровень холестерина в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ибах, боб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млян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куруз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581360"/>
            <a:ext cx="1800360" cy="15116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1992240"/>
            <a:ext cx="2665440" cy="1797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5219640" y="4292640"/>
            <a:ext cx="2592360" cy="1935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8000" y="2637000"/>
            <a:ext cx="3887640" cy="1296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беспе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вертываемость кр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едупреждает остеопо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4221000"/>
            <a:ext cx="295272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зел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помидор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грубого пом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пина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1954440" cy="21589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2016000" cy="21607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sp>
        <p:nvSpPr>
          <p:cNvPr id="214" name=""/>
          <p:cNvSpPr txBox="1"/>
          <p:nvPr/>
        </p:nvSpPr>
        <p:spPr>
          <a:xfrm rot="5400000">
            <a:off x="6459120" y="4133880"/>
            <a:ext cx="3816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томенади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1276200" cy="241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19552" r="0" b="18362"/>
          <a:stretch/>
        </p:blipFill>
        <p:spPr>
          <a:xfrm>
            <a:off x="4067280" y="1844640"/>
            <a:ext cx="3529080" cy="16336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0920" y="44280"/>
            <a:ext cx="8893080" cy="1800360"/>
          </a:xfrm>
          <a:prstGeom prst="rightArrow">
            <a:avLst>
              <a:gd name="adj1" fmla="val 50000"/>
              <a:gd name="adj2" fmla="val 123490"/>
            </a:avLst>
          </a:prstGeom>
          <a:solidFill>
            <a:srgbClr val="ffbdbd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ПРОМЫШЛЕННЫЙ   ВЫПУСК  ВИТАМ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10081" r="0" b="10081"/>
          <a:stretch/>
        </p:blipFill>
        <p:spPr>
          <a:xfrm>
            <a:off x="2050920" y="3141720"/>
            <a:ext cx="2089440" cy="984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0" r="15353" b="0"/>
          <a:stretch/>
        </p:blipFill>
        <p:spPr>
          <a:xfrm>
            <a:off x="6300720" y="2276640"/>
            <a:ext cx="1036800" cy="1523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492360" y="4437000"/>
            <a:ext cx="1341720" cy="21891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2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84280"/>
            <a:ext cx="600120" cy="942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1979640" y="1557360"/>
            <a:ext cx="666720" cy="9525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5003640" y="3068640"/>
            <a:ext cx="70344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869080" y="4005360"/>
            <a:ext cx="3024000" cy="266364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250920" y="1989000"/>
            <a:ext cx="1419120" cy="17146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3132000" y="1700280"/>
            <a:ext cx="1990800" cy="12240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11"/>
          <a:srcRect l="6047" t="25918" r="6349" b="20086"/>
          <a:stretch/>
        </p:blipFill>
        <p:spPr>
          <a:xfrm>
            <a:off x="469800" y="4722840"/>
            <a:ext cx="208620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451640" y="1844640"/>
            <a:ext cx="1562040" cy="165564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1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5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3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5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4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8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68360" y="189000"/>
            <a:ext cx="33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итаминоз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1341360"/>
            <a:ext cx="46800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3305"/>
                </a:solidFill>
                <a:latin typeface="Comic Sans MS"/>
              </a:rPr>
              <a:t>Виды витамин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2205000"/>
            <a:ext cx="2376360" cy="78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А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2349360"/>
            <a:ext cx="2376360" cy="78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ГИПО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2"/>
            <a:endCxn id="241" idx="0"/>
          </p:cNvCxnSpPr>
          <p:nvPr/>
        </p:nvCxnSpPr>
        <p:spPr>
          <a:xfrm flipH="1">
            <a:off x="1799640" y="1766520"/>
            <a:ext cx="28803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2"/>
            <a:endCxn id="242" idx="0"/>
          </p:cNvCxnSpPr>
          <p:nvPr/>
        </p:nvCxnSpPr>
        <p:spPr>
          <a:xfrm>
            <a:off x="4680000" y="1766880"/>
            <a:ext cx="2666160" cy="573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162080" cy="2160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611280" y="3068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Отсутствие в организме какого-либо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5805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Цинга, рахит, куриная слепота, пеллагра, бери-б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3213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Частичная недостаточность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422100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Быстрая утомляемость, пониженная работоспособность, повышенная раздражимость, снижение сопротивляемости к инфек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932360" y="2565360"/>
            <a:ext cx="993600" cy="1655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4500720" y="4581360"/>
            <a:ext cx="1069920" cy="1079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3564000" y="2060640"/>
            <a:ext cx="1139760" cy="1584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7164360" y="333360"/>
            <a:ext cx="1208160" cy="180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1547640" y="4221000"/>
            <a:ext cx="2376720" cy="16192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11280" y="404640"/>
            <a:ext cx="3635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ервитаминоз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77336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3305"/>
                </a:solidFill>
                <a:latin typeface="Arial"/>
              </a:rPr>
              <a:t>Гипервитамино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возникает при избыточном потреблении витаминов. Проявляется в виде интоксикации (отравления)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Более токсичным действием обладают избыточные дозы жирорастворимых витаминов, так как они накапливаются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4365720"/>
            <a:ext cx="59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Гипервитаминоз очень часто наблюдается у людей, которые занимаются культуризмом – бодибилдингом и нередко без меры употребляют пищевые добавки  и витам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236000" y="474192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9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4360" y="404640"/>
            <a:ext cx="41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дл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оты и здоровь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20606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ВОЛОСАМ НЕОБХОДИМЫ</a:t>
            </a: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924280"/>
            <a:ext cx="51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ГЛАЗАМ НЕОБХОДИМ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378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ЗУБ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Е и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4581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ОГТЯ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5157720"/>
            <a:ext cx="5905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НА КОЖУ И ВЕСЬ ОРГАНИЗМ ДЕЙСТВУЮТ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80360" y="404640"/>
            <a:ext cx="1441440" cy="144180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308720" y="2276640"/>
            <a:ext cx="1584360" cy="1466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308720" y="4292640"/>
            <a:ext cx="1506600" cy="1728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1943280" cy="1809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148360" y="189000"/>
            <a:ext cx="1800000" cy="1800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79280" y="115920"/>
            <a:ext cx="5372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лучше: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- естественные 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искусственные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1916280"/>
            <a:ext cx="39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Естественные витамины – биологический комплекс, он имеет  особую структуру и естественно связан с други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о даже летом и осенью витамины, содержащиеся в свежих продуктах, не могут обеспечить потребности 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2205000"/>
            <a:ext cx="46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скусственный витамин – это кристалл, который становится активным только в том случае, если приобретет пространственную структуру естественного витамина. Как правило лишь небольшая часть принимает структуру природного витамина. «Остаток» оседает на стенках сосудов, что ведёт к их повре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иём витаминов должен вестись с учётом пола, возраста, общего состояния организма, работы, режима питания, после консультации вр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2303280" cy="1719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1319040" cy="2087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3">
            <a:lum contrast="24000"/>
          </a:blip>
          <a:srcRect l="0" t="10868" r="3473" b="3504"/>
          <a:stretch/>
        </p:blipFill>
        <p:spPr>
          <a:xfrm>
            <a:off x="5724360" y="189000"/>
            <a:ext cx="3041640" cy="180000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68360" y="0"/>
            <a:ext cx="4476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итаминные мифы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1197000"/>
            <a:ext cx="84250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1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Гиповитаминоз – сезонная проблема. Витамины нужно принимать только в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2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Вместо того, чтобы глотать таблетки, можно просто побольше пить соков и есть свежи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3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Если постоянно принимать витамины, можно заработать гипервитамин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4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Некоторые витамины вступают в противоречие друг с другом, Поэтому не имеет смысла пить комплексные витаминные препараты – всё равно в итоге эффекта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5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Витамины из растворимых шипучих таблеток усваиваются лучше, чем из обы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МИФ 6.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Синтезированные, «химические» витамины менее полезны, чем натуральные. Если уж пить, то так называемые нутрицевтики – витамины нового поколения, полученные из натуральных овощей и фр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95280" y="189000"/>
            <a:ext cx="532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витаминов 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дуктах питания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5796000" y="3333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3706"/>
                </a:solidFill>
                <a:latin typeface="Arial"/>
              </a:rPr>
              <a:t>Жир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95280" y="1413000"/>
          <a:ext cx="8064360" cy="5178240"/>
        </p:xfrm>
        <a:graphic>
          <a:graphicData uri="http://schemas.openxmlformats.org/drawingml/2006/table">
            <a:tbl>
              <a:tblPr/>
              <a:tblGrid>
                <a:gridCol w="2881440"/>
                <a:gridCol w="1800000"/>
                <a:gridCol w="1656000"/>
                <a:gridCol w="1726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ргарин слив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 кури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ое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кукуру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ивки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59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формировать общее представление о витаминах, познакомить учащихся с их классификацией, представителями и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основе межпредметных связей с биологией раскрыть важнейшую роль витаминов для здоровья человека, дать понятие об авитаминозах, гиповитаминозах и гипервитаминозах на примере важнейших представителей водо- и жирорастворимых витам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241800" cy="240012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3706"/>
                </a:solidFill>
                <a:latin typeface="Arial"/>
              </a:rPr>
              <a:t>Вод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9280" y="476280"/>
          <a:ext cx="8785440" cy="6330960"/>
        </p:xfrm>
        <a:graphic>
          <a:graphicData uri="http://schemas.openxmlformats.org/drawingml/2006/table">
            <a:tbl>
              <a:tblPr/>
              <a:tblGrid>
                <a:gridCol w="2197080"/>
                <a:gridCol w="804960"/>
                <a:gridCol w="731880"/>
                <a:gridCol w="878040"/>
                <a:gridCol w="879480"/>
                <a:gridCol w="1098360"/>
                <a:gridCol w="949320"/>
                <a:gridCol w="1246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ух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веж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 цве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ёрная сморо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Апельс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Земля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Фа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ше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Лу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в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белые с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суше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ш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рупа гречне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459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79280" y="692280"/>
          <a:ext cx="8713800" cy="5603760"/>
        </p:xfrm>
        <a:graphic>
          <a:graphicData uri="http://schemas.openxmlformats.org/drawingml/2006/table">
            <a:tbl>
              <a:tblPr/>
              <a:tblGrid>
                <a:gridCol w="1944720"/>
                <a:gridCol w="863640"/>
                <a:gridCol w="863640"/>
                <a:gridCol w="865080"/>
                <a:gridCol w="863640"/>
                <a:gridCol w="1008000"/>
                <a:gridCol w="792360"/>
                <a:gridCol w="151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Хлеб 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вя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у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ясо кро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ом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вор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ы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Дрож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оф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4360" y="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Суточная потребность  человека в витаминах и их основ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765000"/>
          <a:ext cx="9144000" cy="6099480"/>
        </p:xfrm>
        <a:graphic>
          <a:graphicData uri="http://schemas.openxmlformats.org/drawingml/2006/table">
            <a:tbl>
              <a:tblPr/>
              <a:tblGrid>
                <a:gridCol w="2484360"/>
                <a:gridCol w="1511280"/>
                <a:gridCol w="514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288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уточная потре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скорбиновая кислота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-10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овышает сопротивляемость организма экстремальным воздейств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иам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4-2,4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гулятор жирового и углеводного обмена, деятельности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ибофлав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5 – 3,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 и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иридокс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0 - 2,2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своение белка и здоровье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иацин (Р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5 – 2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ВР в клетках. Недостаток вызывает пеллагр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Фолиевая кисло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роветворный фактор, участвует в синтезе аминокислот, нуклеиновых кислот, хол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Цианокобальтамин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 – 5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еобходим для кроветворения, предотвращает анемию, важен для роста орган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Биотин (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 -3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реакциях обмена кисл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антотеновая к-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 – 10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,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Хо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50-600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Синтез биологически важных соеди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тинол (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0,5 – 2,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лучшает зрение, сохраняет подвижность суста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альциферол (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5 – 1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Обмен кальция и фосфата, минерализация костей и зу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окоферол 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8 – 1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ктивный антиокисл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640" y="189000"/>
            <a:ext cx="76485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Что вы знаете о витаминах"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/>
          <p:nvPr/>
        </p:nvSpPr>
        <p:spPr>
          <a:xfrm>
            <a:off x="179280" y="1052640"/>
            <a:ext cx="878544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Откуда эскимосы получают необходимые витамины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из рыбы, из рыбьего жира, из мяса белых медведей, из мяса тюле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шпинате витамины лучше всего сохраняются, если его употреблять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 свежем виде, в замороженном, в консервирован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какое время года содержание витаминов в молоке увеличивается в 2 раз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Если вы станете соблюдать вегетарианский режим, то один из четырёх витаминов будет отсутствовать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итамин А, витамин Д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Действие солнечных лучей позволяет организму выработать один витамин. Какой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итамин Д, витамин А, витамин Е, витамин В</a:t>
            </a:r>
            <a:r>
              <a:rPr b="1" lang="en-US" sz="1600" spc="-1" strike="noStrike" baseline="-25000">
                <a:solidFill>
                  <a:srgbClr val="d43706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Зимой необходимо чем-то компенсировать отсутствие солнечных лучей. Чем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Овощами, яичным желтком, лимонами, фрук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каком из продуктов питания наибольшее разнообразие витаминов и притом в самом большом количестве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В хлебе, в молоке, в свежей капусте, в печ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Какой витамин содержится в большом количестве и в шоколаде, и в грибах, и в яйцах, и в арахис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Что нужно потреблять, чтобы покрыть ежедневную потребность организма в витамине С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43706"/>
                </a:solidFill>
                <a:latin typeface="Arial"/>
              </a:rPr>
              <a:t>1,5 кг помидоров, 1,5 кг телятины, 1 кг апельс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39640" y="189000"/>
            <a:ext cx="46767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ьные ответы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179280" y="717480"/>
            <a:ext cx="8713800" cy="62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се четы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сыром виде. Причём мыть шпинат надо как можно быстрее. Заморозка также хорошо сохраняет витамины, но замораживать его необходимо быстро. И консервированный шпинат богат витаминами, если время между срывом и консервированием непродолжительно. Кроме того, его необходимо варить в закрытой кастрюле и не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Летом. Молоко – очень важный продукт питания, оно содержит кальций, витамины. Потребление одного литра молока в день способствует хорошему витаминному «равновесию»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В 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, который содержится в мя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Д, который предохраняет от рах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Яичным жел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 печени. Ста граммов печени достаточно, чтобы покрыть ежедневную потребность взрослого человека в семи видах витаминов: А,С, витаминах группы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Витамин Н, или биотин. Он хорошо воздействует на состояние кожи и вол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Любой из этих проду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95280" y="189000"/>
            <a:ext cx="4867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счёт результатов</a:t>
            </a:r>
            <a:endParaRPr b="1" lang="en-US" sz="40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83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о таблице подсчитайте, сколько очков вы набр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0920" y="1268280"/>
          <a:ext cx="8642160" cy="1155600"/>
        </p:xfrm>
        <a:graphic>
          <a:graphicData uri="http://schemas.openxmlformats.org/drawingml/2006/table">
            <a:tbl>
              <a:tblPr/>
              <a:tblGrid>
                <a:gridCol w="3025800"/>
                <a:gridCol w="647640"/>
                <a:gridCol w="647640"/>
                <a:gridCol w="647640"/>
                <a:gridCol w="647640"/>
                <a:gridCol w="649440"/>
                <a:gridCol w="576360"/>
                <a:gridCol w="574560"/>
                <a:gridCol w="576360"/>
                <a:gridCol w="64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Очки за правильный 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250920" y="2565360"/>
            <a:ext cx="82087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Менее 10 очков. Ваши знания о витаминах недостаточны. Тем самым, используя их слишком непродуманно, вы рискуете ухудшить своё здоровье. Ваш режим питания неудовлетворителен. Роли витаминов в питании вы должны придавать большее значение, это крайне ва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От 10 до 19 очков. Вам ещё придётся приложить усилия, чтобы ваш режим питания был полноценным. Но в принципе вы на верном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0 и более очков. Витамины и их важное значение – не тайна для вас. Вы рационально питаетесь, подбирая для своего рациона и чередуя лёгкую, витаминизированную и разнообразную пи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684360" y="189000"/>
            <a:ext cx="46447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112536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Инструкция к практической работе «Определение витамина С в яблочном или апельсиновом со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276640"/>
            <a:ext cx="7920000" cy="4362840"/>
          </a:xfrm>
          <a:prstGeom prst="rect">
            <a:avLst/>
          </a:prstGeom>
          <a:noFill/>
          <a:ln w="2844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Аптечную настойку йода разбавить в 40 раз. 20 мл сока разбавить водой до 100 мл и прилить к нему немного крахмального раствора, приготовленного из расчёта 1 г крахмала на 200 г воды. После этого к полученной смеси приливать по каплям с помощью пипетки раствор йода. Как только йод полностью окислит всю аскорбиновую кислоту, следующая его капля окрасит раствор в синий цвет. Это означает, что титрование закончено. Чтобы узнать, сколько йода ушло пошло на титрование, заранее нужно определить объём одной капли. Перевести число капель в миллилитры и умножить на 0,88. Для того. Чтобы узнать объём одной капли, нужно с помощью пипетки проверить, сколько капель содержится в известном объёме раствора йода, например в 2 мл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19080">
            <a:solidFill>
              <a:srgbClr val="8dc6ff"/>
            </a:solidFill>
            <a:miter/>
          </a:ln>
        </p:spPr>
      </p:pic>
    </p:spTree>
  </p:cSld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0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9280" y="0"/>
            <a:ext cx="8964720" cy="1268280"/>
          </a:xfrm>
          <a:prstGeom prst="rightArrow">
            <a:avLst>
              <a:gd name="adj1" fmla="val 50000"/>
              <a:gd name="adj2" fmla="val 176710"/>
            </a:avLst>
          </a:prstGeom>
          <a:solidFill>
            <a:srgbClr val="ffdbd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Bookman Old Style"/>
              </a:rPr>
              <a:t>ТЕСТ</a:t>
            </a:r>
            <a:r>
              <a:rPr b="1" lang="en-US" sz="2800" spc="-1" strike="noStrike">
                <a:solidFill>
                  <a:srgbClr val="0000ff"/>
                </a:solidFill>
                <a:latin typeface="Bookman Old Style"/>
              </a:rPr>
              <a:t> «ЕСТЬ ЛИ У МЕНЯ АВИТАМИНОЗ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268280"/>
            <a:ext cx="9144000" cy="5545440"/>
          </a:xfrm>
          <a:prstGeom prst="rect">
            <a:avLst/>
          </a:prstGeom>
          <a:solidFill>
            <a:srgbClr val="ffbdbd">
              <a:alpha val="51000"/>
            </a:srgbClr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99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Весной вы обычно простужаетесь чаще, чем осенью и зи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</a:t>
            </a: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-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2. Весенние простуды вы переносите тяжелее, чем осенние и зим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 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3. Вы тяжелее засыпаете и просыпаетесь весной, чем в другие времена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4. Свойственными ли вам весной раздражительность, утомляем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5. Кожа и волосы так же хорошо выглядят в марте, как летом, осен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6. Не возникают ли весной проблемы с пищеваре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7. Часто ли весной вам приходится снижать физическую нагруз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8. Вы предпочитаете термически обработанную пищу свежим овощ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9. Каждый день у вас на столе бывает зел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10. Вы много времени проводите на свежем воздух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А – да </a:t>
            </a: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Б –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835280" y="836640"/>
            <a:ext cx="6553080" cy="7128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4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6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0" dur="1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5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4" dur="1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6" dur="1000"/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3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8" dur="1000"/>
                                        <p:tgtEl>
                                          <p:spTgt spid="3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3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3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0" dur="1000"/>
                                        <p:tgtEl>
                                          <p:spTgt spid="3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3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2143080"/>
            <a:ext cx="8291520" cy="4525920"/>
          </a:xfrm>
          <a:prstGeom prst="rect">
            <a:avLst/>
          </a:prstGeom>
          <a:solidFill>
            <a:srgbClr val="ffdbdb"/>
          </a:solidFill>
          <a:ln w="1260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За каждый ответ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«А» - 1 балл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60093"/>
                </a:solidFill>
                <a:latin typeface="Arial"/>
              </a:rPr>
              <a:t>за каждый ответ</a:t>
            </a:r>
            <a:r>
              <a:rPr b="1" i="1" lang="en-US" sz="20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«Б» - 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0 баллов. Вы – идеальный человек! На ва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следует равня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1 – 2 балла. Риск авитаминоза невы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3 – 5 балла. Небольшой витаминный г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нали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 – 8 баллов. Авитаминоз – фон ваш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9 – 10 баллов. Кардинально измените свой образ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58920" y="144360"/>
            <a:ext cx="7705800" cy="1484280"/>
          </a:xfrm>
          <a:prstGeom prst="rightArrow">
            <a:avLst>
              <a:gd name="adj1" fmla="val 50000"/>
              <a:gd name="adj2" fmla="val 129790"/>
            </a:avLst>
          </a:prstGeom>
          <a:solidFill>
            <a:srgbClr val="ffdbdb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ПОДСЧЕТ 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8400" y="79200"/>
            <a:ext cx="1047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8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9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4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9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4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9" dur="5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4" dur="5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9" dur="5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ать представление учащимся об истории открыт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знакомить учащихся с важнейшими представителями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казать значимость витаминов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равнить природные и искусственные вит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зволить учащимся определить присутствует ли у них витаминная не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ать характеристику продуктов питания по присутствию в них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111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lonna MT"/>
              </a:rPr>
              <a:t>Ход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онятие о витами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сторическая с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ажнейшие представители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начение витаминов в жизни человека: авитаминоз и гипервитами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Что лучше витамины натуральные или искусствен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одержание витаминов в продуктах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уточная потребность человека в витаминах и их основ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ецепты витаминных блю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вторение и обобщение пройд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ведение теста «Что вы знаете о витаминах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формация о домашнем зад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449440" cy="2205000"/>
          </a:xfrm>
          <a:prstGeom prst="rect">
            <a:avLst/>
          </a:prstGeom>
          <a:ln w="12600">
            <a:solidFill>
              <a:srgbClr val="3333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773360"/>
            <a:ext cx="597672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66616"/>
              </a:gs>
              <a:gs pos="50000">
                <a:srgbClr val="f78d52"/>
              </a:gs>
              <a:gs pos="100000">
                <a:srgbClr val="f66616"/>
              </a:gs>
            </a:gsLst>
            <a:lin ang="81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835280" y="692280"/>
            <a:ext cx="352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>
                    <a:alpha val="90000"/>
                  </a:srgbClr>
                </a:solidFill>
                <a:latin typeface="Impact"/>
              </a:rPr>
              <a:t>Витамин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227664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Низкомолекулярные органические соединения различной химической природы, необходимые для осуществления важнейших процессов, протекающих в живом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069920" cy="158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664000" cy="22543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00720" y="4076640"/>
            <a:ext cx="2662200" cy="230364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205000"/>
            <a:ext cx="4176720" cy="259236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ВОД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6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РР, 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5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9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133720"/>
            <a:ext cx="4392360" cy="2663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ЖИР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 А, Д, Е, К )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60280"/>
            <a:ext cx="5580000" cy="1419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81" idx="0"/>
          </p:cNvCxnSpPr>
          <p:nvPr/>
        </p:nvCxnSpPr>
        <p:spPr>
          <a:xfrm flipH="1">
            <a:off x="2339640" y="1679400"/>
            <a:ext cx="2286720" cy="5263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>
            <a:off x="4642920" y="1699920"/>
            <a:ext cx="2072520" cy="4546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56000" y="4941720"/>
            <a:ext cx="3816360" cy="165600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5400000">
            <a:off x="6559560" y="4178160"/>
            <a:ext cx="3384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ЕТИН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1662120" cy="2305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187280" y="1557360"/>
            <a:ext cx="453708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обходи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ьного ро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вития эпителиальной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ходит в зрительный пи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одопсин. При недостатк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болевание Куриная слеп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нарушение сумеречного зр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3933720"/>
            <a:ext cx="2808360" cy="2590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ыбе, яй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, 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брико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35640" y="3933720"/>
            <a:ext cx="2054160" cy="208764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18116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6000" y="1916280"/>
            <a:ext cx="1771560" cy="17064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1:32:03Z</dcterms:created>
  <dc:creator>Lenochka</dc:creator>
  <dc:description/>
  <dc:language>en-US</dc:language>
  <cp:lastModifiedBy>Serg</cp:lastModifiedBy>
  <dcterms:modified xsi:type="dcterms:W3CDTF">2009-03-20T06:50:47Z</dcterms:modified>
  <cp:revision>81</cp:revision>
  <dc:subject/>
  <dc:title>ЭЛИКСИРЫ  ЖИЗНИ</dc:title>
</cp:coreProperties>
</file>