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7.jpeg" ContentType="image/jpeg"/>
  <Override PartName="/ppt/media/image28.png" ContentType="image/png"/>
  <Override PartName="/ppt/media/image10.jpeg" ContentType="image/jpeg"/>
  <Override PartName="/ppt/media/image8.jpeg" ContentType="image/jpeg"/>
  <Override PartName="/ppt/media/image20.gif" ContentType="image/gif"/>
  <Override PartName="/ppt/media/image13.jpeg" ContentType="image/jpeg"/>
  <Override PartName="/ppt/media/image9.jpeg" ContentType="image/jpeg"/>
  <Override PartName="/ppt/media/image24.png" ContentType="image/png"/>
  <Override PartName="/ppt/media/image11.jpeg" ContentType="image/jpeg"/>
  <Override PartName="/ppt/media/image31.png" ContentType="image/png"/>
  <Override PartName="/ppt/media/image33.png" ContentType="image/png"/>
  <Override PartName="/ppt/media/image34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18.png" ContentType="image/png"/>
  <Override PartName="/ppt/media/image6.jpeg" ContentType="image/jpe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1.jpeg" ContentType="image/jpeg"/>
  <Override PartName="/ppt/media/image30.png" ContentType="image/png"/>
  <Override PartName="/ppt/media/image3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26.png" ContentType="image/png"/>
  <Override PartName="/ppt/media/image14.jpeg" ContentType="image/jpeg"/>
  <Override PartName="/ppt/media/image1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654C-BA2A-438B-AE05-6C0B61624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23F5-CA44-4DF4-A6C5-F1A5F4826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F03F-4086-463B-A9FF-4D1E26DEB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9376-345D-4509-AD38-A9C7B6150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E74C7-64A3-4BA7-9CAA-060F94AE5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806CB-C2DC-442C-BC1F-7CE086AFE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665DC-03A0-456D-ADD4-70AB63DFA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B013C-31B9-4580-B25B-CAD6352B0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6F94C-1AA8-4F0E-8C67-29237DBD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D5B86-EA13-425B-8E4A-9522FDF6F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C8027-778C-44CB-8AD2-D5993BF6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CF0B-4635-4918-8C62-888261F73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21756-844D-4694-970A-DDCE63F8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1DFD0-27C5-4565-8D1A-4539BC3C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EF72B-3E3D-405F-96A2-CA7D943C3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65913-9BA2-400B-AE06-BA5155187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63B94-F043-489B-B09C-2B7144200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271F-18F2-4090-839F-B951CB7B3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9F41-8B84-4A5D-9883-8631F455D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3964-BD4B-4ED1-906E-D1DF033C4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FD2B-6B8C-4DA9-B6EF-51F88410B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69C1-F431-4BD7-A52D-ACAA4BCB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32EA-735B-44FB-A34A-9340E7F0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A030-8EF9-4B5B-B4A4-52A9946A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45F6A-27BA-4A49-B10F-C69BF11CBEE1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EE842-2EA5-4F17-9EBC-05B77FB0A42A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gif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2"/>
          <a:stretch/>
        </p:blipFill>
        <p:spPr>
          <a:xfrm>
            <a:off x="1468440" y="-176040"/>
            <a:ext cx="735804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---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Содержимое 3" descr="0033-033-Kalij-igraet-bolshuju-rol-vo-vnutrikletochnom-obmene-vlijaet-n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-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Содержимое 3" descr="0034-034-Svojstva-essentsialnykh-mikroelementov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-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Содержимое 3" descr="0035-035-Rasprostranennost-defitsitov-essentsialnykh-mikroelementov-v-mire-v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Содержимое 3" descr="0036-036-Nekotorye-sostojanija-svjazannye-s-defitsitom-ili-izbytkom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---------------------------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Содержимое 3" descr="0037-037-Izmenenie-potrebnosti-v-essentsialnykh-khimicheskikh-elementakh-u-lit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1" descr=""/>
          <p:cNvPicPr/>
          <p:nvPr/>
        </p:nvPicPr>
        <p:blipFill>
          <a:blip r:embed="rId2"/>
          <a:stretch/>
        </p:blipFill>
        <p:spPr>
          <a:xfrm>
            <a:off x="450720" y="152280"/>
            <a:ext cx="8255160" cy="1785960"/>
          </a:xfrm>
          <a:prstGeom prst="rect">
            <a:avLst/>
          </a:prstGeom>
          <a:ln w="0">
            <a:noFill/>
          </a:ln>
        </p:spPr>
      </p:pic>
      <p:pic>
        <p:nvPicPr>
          <p:cNvPr id="110" name="Содержимое 3" descr="x_c0ec31e0.jpg"/>
          <p:cNvPicPr/>
          <p:nvPr/>
        </p:nvPicPr>
        <p:blipFill>
          <a:blip r:embed="rId3"/>
          <a:stretch/>
        </p:blipFill>
        <p:spPr>
          <a:xfrm>
            <a:off x="0" y="2197080"/>
            <a:ext cx="9144000" cy="46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Rectangle 2" descr=""/>
          <p:cNvPicPr/>
          <p:nvPr/>
        </p:nvPicPr>
        <p:blipFill>
          <a:blip r:embed="rId2"/>
          <a:stretch/>
        </p:blipFill>
        <p:spPr>
          <a:xfrm>
            <a:off x="378000" y="-152280"/>
            <a:ext cx="8557920" cy="1616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Рисунок2"/>
          <p:cNvPicPr/>
          <p:nvPr/>
        </p:nvPicPr>
        <p:blipFill>
          <a:blip r:embed="rId3"/>
          <a:stretch/>
        </p:blipFill>
        <p:spPr>
          <a:xfrm>
            <a:off x="826920" y="4145040"/>
            <a:ext cx="1944720" cy="171432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4"/>
          <p:cNvSpPr/>
          <p:nvPr/>
        </p:nvSpPr>
        <p:spPr>
          <a:xfrm>
            <a:off x="2411280" y="1557360"/>
            <a:ext cx="4392720" cy="936720"/>
          </a:xfrm>
          <a:prstGeom prst="flowChartPunchedTape">
            <a:avLst/>
          </a:prstGeom>
          <a:solidFill>
            <a:srgbClr val="00ffff">
              <a:alpha val="29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2627280" y="155736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Вод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Line 6"/>
          <p:cNvSpPr/>
          <p:nvPr/>
        </p:nvSpPr>
        <p:spPr>
          <a:xfrm flipH="1">
            <a:off x="1547280" y="2421000"/>
            <a:ext cx="1008360" cy="79200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Line 7"/>
          <p:cNvSpPr/>
          <p:nvPr/>
        </p:nvSpPr>
        <p:spPr>
          <a:xfrm>
            <a:off x="4572000" y="2349360"/>
            <a:ext cx="0" cy="165744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Line 8"/>
          <p:cNvSpPr/>
          <p:nvPr/>
        </p:nvSpPr>
        <p:spPr>
          <a:xfrm>
            <a:off x="6156360" y="2349360"/>
            <a:ext cx="865080" cy="115092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WordArt 9"/>
          <p:cNvSpPr txBox="1"/>
          <p:nvPr/>
        </p:nvSpPr>
        <p:spPr>
          <a:xfrm>
            <a:off x="468360" y="3357720"/>
            <a:ext cx="2374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жидка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" name="WordArt 10"/>
          <p:cNvSpPr txBox="1"/>
          <p:nvPr/>
        </p:nvSpPr>
        <p:spPr>
          <a:xfrm>
            <a:off x="3059280" y="3860640"/>
            <a:ext cx="2449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верда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AutoShape 11"/>
          <p:cNvSpPr/>
          <p:nvPr/>
        </p:nvSpPr>
        <p:spPr>
          <a:xfrm>
            <a:off x="6084720" y="3429000"/>
            <a:ext cx="2519640" cy="15843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ffff"/>
          </a:solidFill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AutoShape 12"/>
          <p:cNvSpPr/>
          <p:nvPr/>
        </p:nvSpPr>
        <p:spPr>
          <a:xfrm>
            <a:off x="6732720" y="4437000"/>
            <a:ext cx="1798560" cy="1295640"/>
          </a:xfrm>
          <a:prstGeom prst="cloudCallout">
            <a:avLst>
              <a:gd name="adj1" fmla="val -81333"/>
              <a:gd name="adj2" fmla="val 96814"/>
            </a:avLst>
          </a:prstGeom>
          <a:solidFill>
            <a:srgbClr val="00ccff"/>
          </a:solidFill>
          <a:ln cap="rnd" w="9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WordArt 13"/>
          <p:cNvSpPr txBox="1"/>
          <p:nvPr/>
        </p:nvSpPr>
        <p:spPr>
          <a:xfrm>
            <a:off x="6084720" y="3573360"/>
            <a:ext cx="25196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газообразна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3" name="Picture 14" descr=""/>
          <p:cNvPicPr/>
          <p:nvPr/>
        </p:nvPicPr>
        <p:blipFill>
          <a:blip r:embed="rId4"/>
          <a:stretch/>
        </p:blipFill>
        <p:spPr>
          <a:xfrm>
            <a:off x="3564000" y="4581360"/>
            <a:ext cx="1871640" cy="16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500" autoRev="1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24,-80,-100)"/>
                                      </p:to>
                                    </p:set>
                                    <p:set>
                                      <p:cBhvr>
                                        <p:cTn id="23" dur="500" autoRev="1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24,-80,-100)"/>
                                      </p:to>
                                    </p:set>
                                    <p:set>
                                      <p:cBhvr>
                                        <p:cTn id="24" dur="500" autoRev="1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8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30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000"/>
                            </p:stCondLst>
                            <p:childTnLst>
                              <p:par>
                                <p:cTn id="6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4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4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4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Француз Антуан Лоран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宋体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Лавуазье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первые доказал, что вода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ложное вещество, пропусти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одяные пары через раскаленны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ужейный ствол и разложив воду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 два простых вещества-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одород и кислород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Н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→2Н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  <a:ea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↑+О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  <a:ea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↑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3"/>
          <a:stretch/>
        </p:blipFill>
        <p:spPr>
          <a:xfrm>
            <a:off x="5435640" y="1700280"/>
            <a:ext cx="310356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2"/>
          <p:cNvSpPr/>
          <p:nvPr/>
        </p:nvSpPr>
        <p:spPr>
          <a:xfrm>
            <a:off x="1143000" y="500040"/>
            <a:ext cx="6929280" cy="9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да прозрач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сцвет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з запах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з вкус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дистиллированна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да имее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рьковатый вкус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стиллированн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да не проводи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лектрический то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в отличии о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родной воды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торая обладае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лектропроводность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 счет растворенных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ней веществ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3" descr="E:\Документы слушателей\Avrora - 2009\стакан.jpg"/>
          <p:cNvPicPr/>
          <p:nvPr/>
        </p:nvPicPr>
        <p:blipFill>
          <a:blip r:embed="rId2"/>
          <a:stretch/>
        </p:blipFill>
        <p:spPr>
          <a:xfrm>
            <a:off x="6372360" y="981000"/>
            <a:ext cx="2382840" cy="2664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"/>
          <p:cNvPicPr/>
          <p:nvPr/>
        </p:nvPicPr>
        <p:blipFill>
          <a:blip r:embed="rId3"/>
          <a:stretch/>
        </p:blipFill>
        <p:spPr>
          <a:xfrm>
            <a:off x="4643280" y="4581360"/>
            <a:ext cx="3097440" cy="2276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4"/>
          <a:stretch/>
        </p:blipFill>
        <p:spPr>
          <a:xfrm>
            <a:off x="3924360" y="549360"/>
            <a:ext cx="2160360" cy="15271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"/>
          <p:cNvPicPr/>
          <p:nvPr/>
        </p:nvPicPr>
        <p:blipFill>
          <a:blip r:embed="rId5"/>
          <a:stretch/>
        </p:blipFill>
        <p:spPr>
          <a:xfrm>
            <a:off x="3995640" y="2349360"/>
            <a:ext cx="2305080" cy="17589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8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8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8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8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8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8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8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8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8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800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8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8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2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2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2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Rectangle 2" descr=""/>
          <p:cNvPicPr/>
          <p:nvPr/>
        </p:nvPicPr>
        <p:blipFill>
          <a:blip r:embed="rId2"/>
          <a:stretch/>
        </p:blipFill>
        <p:spPr>
          <a:xfrm>
            <a:off x="450720" y="122400"/>
            <a:ext cx="8394840" cy="1407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"/>
          <p:cNvPicPr/>
          <p:nvPr/>
        </p:nvPicPr>
        <p:blipFill>
          <a:blip r:embed="rId3"/>
          <a:stretch/>
        </p:blipFill>
        <p:spPr>
          <a:xfrm>
            <a:off x="684360" y="2205000"/>
            <a:ext cx="4321080" cy="2951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"/>
          <p:cNvPicPr/>
          <p:nvPr/>
        </p:nvPicPr>
        <p:blipFill>
          <a:blip r:embed="rId4"/>
          <a:stretch/>
        </p:blipFill>
        <p:spPr>
          <a:xfrm>
            <a:off x="5867280" y="2349360"/>
            <a:ext cx="298764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Содержимое 3" descr="0025-025-Obmen-mineralnykh-veschestv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Rectangle 2" descr=""/>
          <p:cNvPicPr/>
          <p:nvPr/>
        </p:nvPicPr>
        <p:blipFill>
          <a:blip r:embed="rId2"/>
          <a:stretch/>
        </p:blipFill>
        <p:spPr>
          <a:xfrm>
            <a:off x="401760" y="268200"/>
            <a:ext cx="8400960" cy="1158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3"/>
          <a:stretch/>
        </p:blipFill>
        <p:spPr>
          <a:xfrm>
            <a:off x="5219640" y="1628640"/>
            <a:ext cx="2305080" cy="1944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4"/>
          <a:stretch/>
        </p:blipFill>
        <p:spPr>
          <a:xfrm>
            <a:off x="755640" y="1700280"/>
            <a:ext cx="2951280" cy="223344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0"/>
          <p:cNvSpPr/>
          <p:nvPr/>
        </p:nvSpPr>
        <p:spPr>
          <a:xfrm>
            <a:off x="755640" y="4117320"/>
            <a:ext cx="7632720" cy="28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Гидрокарбонатные воды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снижают кислотность желудочного сока. При этом, в зависимости от метода применения способны как стимулировать, так и тормозить секрецию желудочного сока. Применяются при лечении мочекаменной болезн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Хлоридные воды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стимулируют обменные процессы в организме, улучшают секрецию желудка, поджелудочной железы, тонкого кишечника. Применяются при расстройствах пищеварительной системы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Сульфатные воды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стимулируют моторику желудочно-кишечного тракта, особенно благоприятно влияют на восстановление функции печени и желчного пузыря. Применяются при заболеваниях желчных путей, хроническом гепатите, сахарном диабете, ожирени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5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6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8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0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2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1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2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4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6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8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Rectangle 2" descr=""/>
          <p:cNvPicPr/>
          <p:nvPr/>
        </p:nvPicPr>
        <p:blipFill>
          <a:blip r:embed="rId2"/>
          <a:stretch/>
        </p:blipFill>
        <p:spPr>
          <a:xfrm>
            <a:off x="407880" y="195120"/>
            <a:ext cx="8534520" cy="126216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заимодействует с активными металлам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宋体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宋体"/>
              </a:rPr>
              <a:t>2Na+2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  <a:ea typeface="宋体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宋体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→2NaOH+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↑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заимодействует с некоторыми неметаллами. Например , при взаимодействии с хлором образуется хлорная вода, обладающая отбеливающими свойства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8"/>
          <p:cNvSpPr/>
          <p:nvPr/>
        </p:nvSpPr>
        <p:spPr>
          <a:xfrm>
            <a:off x="0" y="620640"/>
            <a:ext cx="9144000" cy="68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заимодействует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 основными оксидами с образованием щелоче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宋体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аО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Tahoma"/>
              </a:rPr>
              <a:t>+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ahoma"/>
              </a:rPr>
              <a:t>Н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Times New Roman"/>
                <a:ea typeface="Tahoma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ahoma"/>
              </a:rPr>
              <a:t>О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ahoma"/>
              </a:rPr>
              <a:t>→Са(ОН)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Arial"/>
                <a:ea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заимодействует с кислотными оксидами (кроме 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宋体"/>
              </a:rPr>
              <a:t>Si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 Antiqua"/>
                <a:ea typeface="宋体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) с образованием кисло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宋体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宋体"/>
              </a:rPr>
              <a:t>S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 Antiqua"/>
                <a:ea typeface="宋体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宋体"/>
              </a:rPr>
              <a:t>+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 Antiqua"/>
                <a:ea typeface="宋体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宋体"/>
              </a:rPr>
              <a:t>O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→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S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Является катализатором многих химических процесс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宋体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宋体"/>
              </a:rPr>
              <a:t>2Al+3I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 Antiqua"/>
                <a:ea typeface="宋体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→2AlI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250920" y="476280"/>
            <a:ext cx="8893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Без воды была бы невозможна жизнь: ведь живое вещество образовалось в первобытных морях из растворенных в них веществ. И с тех пор все химические процессы в каждой клеточке тела любого живого организма происходят в водной среде между растворенными веществами. Вот почему так важно сохранять водный баланс нашего организма в любом возрасте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2"/>
          <a:stretch/>
        </p:blipFill>
        <p:spPr>
          <a:xfrm>
            <a:off x="330120" y="3573360"/>
            <a:ext cx="2760840" cy="3284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"/>
          <p:cNvPicPr/>
          <p:nvPr/>
        </p:nvPicPr>
        <p:blipFill>
          <a:blip r:embed="rId3"/>
          <a:stretch/>
        </p:blipFill>
        <p:spPr>
          <a:xfrm>
            <a:off x="5003640" y="3532320"/>
            <a:ext cx="4140360" cy="332568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Содержимое 3" descr="0026-026-Osnovnym-stroitelnym-materialom-javljajutsja-chetyre-elementa-azo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Содержимое 3" descr="0027-027-Srednee-soderzhanie-mineralnykh-elementov-v-organizme-mlekopitajuschikh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Содержимое 3" descr="0028-028-Kaltsij-Ca-obschee-soderzhanie-kaltsija-v-organizme-chelovek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Содержимое 3" descr="0029-029-Pri-izbytke-kaltsija-nabljudajutsja-khronicheskij-gipertroficheskij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-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Содержимое 3" descr="0030-030-Pri-nedostatke-kaltsija-nabljudajutsja-takhikardija-aritmija-boli-v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Содержимое 3" descr="0031-031-Magnij-Mg-glavnoe-depo-magnija-nakhoditsja-v-kostjakh-i-myshtsakh-v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----------------------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Содержимое 3" descr="0032-032-Pri-nedostatke-magnija-nabljudaetsja-snizhenie-immunitet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10:29:02Z</dcterms:created>
  <dc:creator>user</dc:creator>
  <dc:description/>
  <dc:language>en-US</dc:language>
  <cp:lastModifiedBy>Student</cp:lastModifiedBy>
  <dcterms:modified xsi:type="dcterms:W3CDTF">2012-05-24T04:35:54Z</dcterms:modified>
  <cp:revision>4</cp:revision>
  <dc:subject/>
  <dc:title>Обмен минеральных веществ</dc:title>
</cp:coreProperties>
</file>