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144-5930-4611-B3D0-8F6029B4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825-BB0B-41CA-A244-892B83B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FE98B-B8FB-4F0B-B6FA-AC38127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63AB-CB63-4A6E-AE81-41F0E66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1904E-C78A-4B1A-BE04-69469988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A1EB4-C995-4DE5-8FEC-6284483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107F-F116-42D8-A2AF-929C117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42F9A-45D8-4AA0-8F40-3B3695E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46A7E-9923-40C0-8060-C4FA13D4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E0C0C-4103-4223-A3FD-60879FDB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C8952-5885-4E8D-A4F0-FB2393C5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C5B64-DC99-4691-BCFF-9F8FF2EC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A36-1A0C-40A2-B312-7C1E0285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4A5B0-196B-47CF-B8E0-2AFA8440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6AC56-3039-4FB3-AD82-19941A0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585BF-3A1B-4D0A-82F1-48E6900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84CCC-A939-4DD0-BF41-0F0325A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EC73C-13F6-4519-8D25-8185E1FC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D266C-31C7-4344-A4DA-BBBAAA08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0C802-A81C-4269-9607-9837B65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86A4-98CF-4E10-B7E0-8FB5466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8A9EB-BAB4-484B-82E9-039C37A4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3AB9A-8BB7-43C0-80E8-BF671668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803-04DB-444C-BB50-CA4B1463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528AB-0A39-4BF7-809B-A341A979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CD486-9372-4F85-96D3-71E46810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CD65-F0BD-4CA1-A960-BBA7A89D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CD3C-E0F4-4A7E-B94F-115E5480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5049D-21D5-4F6E-9996-3F7E66B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8785B-2B16-4AF3-8518-D9C013C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6A8A-8B0F-44CA-B598-3D18D8A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22EFE-707E-4741-A82D-07B5DE9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72C69-153D-46A0-B598-2E7D228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1733E-31FC-45F0-880F-8F7BFBF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24D0-4AC6-42C3-9D53-5F85B369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961BC-4BAD-400D-9ACB-E3BAAEE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39658-7462-4CAC-B377-19A285C7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D9B2A-A238-4ABD-A038-C6456A9C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F3D8F-7AF6-4FDA-B01E-48B5A48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7B3F4-1DF0-4EF3-8AF3-2088D27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5B41E-21EF-43C0-9E0B-49962D9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DEAC2-A2FD-4E89-B217-C53B2A4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80074-1412-417B-AB43-B7D49EC6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6EC56-1A18-4C10-A68A-6C9DEE27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7632E-FE17-4D63-B435-492CA71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654F-73FA-45E5-AE51-126E7265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4AD91-C66D-4600-A22B-E0BF44B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4C97E-A813-4387-A034-1151D24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3573-C810-457C-897E-D9B60270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80F1B-E58B-4731-92AC-6DD61394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49C00-301E-4118-A6F2-FFF90DBE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FF835-1AC1-4F04-8F51-E24EA7AD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AE689-63E7-41ED-ABAD-2B90310A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5977A-6562-4687-BB27-6E6C025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5FB86-7684-40A2-A22D-C0CD085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07005-3CD0-4A28-9C6D-2E1014B8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6C1-0F79-46AE-9273-7DFF487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6015A-1D43-49E7-8927-43E7A68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A1372-891F-45B0-B4C4-B33144B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1CA5D-3651-410F-9A95-CFB0F5B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F951D-9D0A-4F99-B197-025F5F6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0C454-C9A0-4DB8-9D32-06EC188C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CC257-1307-4694-8C27-56CEC192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07820-AC13-485C-9876-99A86235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A110-4378-411F-9EE0-37B4140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DEF-9E34-4F8C-AA44-30C4D753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9095-4892-4665-874C-4120CA5E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A02E-1C52-41FA-9492-30256FF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178-6CEA-445F-87EA-7A680B8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6085-8236-4BBE-97BA-81208AA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0A4D-CAE2-4546-94F8-5AEEA722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13C-42F9-4DBA-8374-FBEF813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8BBA-9646-45A2-8207-BF3C2D7A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74C8-D79D-455F-BE36-B3C2E58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0EA9-F46D-4CD6-9A54-B97AF65C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DA42-2C77-47D7-BAE2-E75DE4D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9C3F-C211-4AA9-8A97-5705299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58F1-687B-4FC1-ABFE-6B023718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3DFE-A3D6-45E7-9B03-0573463A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FEE-AEB5-408F-B3FF-FEF88BD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AB20-F49A-4E25-B4CB-41A83512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B338-0F41-4772-81E1-438D5F5F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1D73A-9C28-4642-9EE4-ADB7545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C0B0-1E15-4097-A1D4-76A8562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0A87-CD72-4B9C-9C05-B5FC621F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5C9C-15A2-46E5-AF50-736817A1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64BC-B413-4809-90A4-2F470134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F6CF-79E2-4377-A554-FD7BB660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10DDC-A353-4FDC-8648-6035976A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7EB7-9719-4A3C-A1B4-A84D8EA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546-B59F-49E6-8E96-A5BA715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3AEBC-EB57-426E-BB66-5D7010DD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9F77-34FB-4BA7-9FD0-033B613D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B5D2-6161-42DC-8FB4-D596B2B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3DE4-3BAF-4EC6-9081-714233F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7777-190F-43B1-BDB5-31072A3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919A9-646E-471B-AD32-B767F32D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6B8A-F992-4C9E-911F-EE927A5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B6FB-2A92-4C7F-924E-EE6DFC97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E484-AF22-402C-ABFF-BC9AB018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13EF-2EBA-4297-9215-9195D1D5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D60-FF6D-49BE-B585-BEEF11D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6633-2468-45CF-BC9F-7C193DF7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1FAA-5516-4999-9C84-C15A3A7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0AD0-84AA-42AA-A9EB-BF940DC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41AE-09F5-4563-BF87-ECA2C8C5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C0949-A203-4650-8ABF-48D74C8E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BDDC-3740-47F4-8545-26DDF6C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9A2F-E15E-4EDA-BB41-C78BF3F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8BF6-4FB5-4303-9DA7-8B7166E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B6771-5AB4-4D76-B589-3DCC5D8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6076-68B7-4822-B86C-C0CEB20B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DE2-15B6-4A7D-8462-24EEFC31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9CA3-B549-4633-8028-5234859C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B01E0-02B8-42A2-A1AE-94D291E6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9ECE-BD13-464C-9BF4-BDCAC9D1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6745-9B10-44F4-8F66-4E64C9B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A0CF-D29A-42DC-8724-922F8C7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34BA-75BA-4B11-85BE-BDF1893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15E4-0A87-4383-A4DD-43EB1146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7702-8BDC-4069-B6A7-C36479A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241F-EF14-4851-9AF3-9C9F6E7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466F5-ACF5-49D4-B084-C4C1055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515-BB72-439A-B9A5-DC84F91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C79A-DA0E-44FF-856E-15868C94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609C-1946-4BA5-8D47-91E644E4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72AA-9E9F-41E0-97FA-F8628009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07836-37D1-42C2-A395-3D071608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6F8AD-3945-4C22-BFE4-5E2D18F2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27A5-B4FC-420B-B9AB-8EF771D8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D1D6-FB55-4C56-9946-7443F9E6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CA638-0840-435B-9E6D-BC35AFC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32A6-1C93-4EDF-A164-33A95E3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22F3-BD34-4DD7-A262-4E7CC4CB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0AD-0E12-4F01-BB80-6FBC867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F4D5D-6888-4FF7-BA48-FA66168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20D0-2CAE-482B-98F1-80900D98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B0B5A-ACA3-4AD6-8AF6-18D6D287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C9112-CBB0-43B6-B87F-7E710C3B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7DF59-6CF2-4F1C-B19F-1A310BEF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89D83-6FF2-4C08-9862-4A331F0A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1275-9EA4-45C4-9B3B-D2E088E5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5CCA-9B72-4DEB-88B7-87BCC84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52CB5-8FDE-4AF7-AD31-B58B0C1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3B43B-BAB0-4FEC-B6DC-192E544E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7F4-BCE0-42CC-B54C-6ABB716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9EED-AE6F-4917-BFB2-3E363D85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A8D12-9412-4E13-9D48-7B2D2A6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1EEF7-F42A-48AB-9D27-E1CB8AE9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38FD-0E2E-4538-9ECD-E3853D27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C9CF-A51A-4062-AEB8-EFA48FE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D5493-0DC8-4F94-9C85-ABCE966B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43B85-6240-4F41-882C-FA7B1134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5283B-E777-43C6-A1E9-7DACF59F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0DEB6-D0B9-4ACF-85AE-16E6CBD4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0871E-F47A-45A9-B13A-4BEDEF51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D4C-9334-4FBE-A2DE-5486ABD5F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8E5F-D67D-4C50-B905-236B76C4E3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99C3-18A0-4426-A1EC-3CF6E9723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A13-04E8-4280-8E7E-5F58A5BB8F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5D6-8482-4A90-9077-1A44A93804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178-6D0D-456E-A4EB-C8FFD3066A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A10A-356E-4F6C-AEF1-8E8FE1C157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0ED5-3957-46D0-A296-2D5F5787F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D2A6-5555-4435-9171-47536D5AFD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C61-D9FE-46E4-9919-40B3BA49A7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A490-6EB6-462C-813D-4EC5B03754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C45-AB6D-46C1-A7B1-288296F4D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EF2-F091-4B5E-9BAA-EFB24851B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-main-pic" descr="Картинка 502 из 257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4"/>
          <p:cNvSpPr txBox="1"/>
          <p:nvPr/>
        </p:nvSpPr>
        <p:spPr>
          <a:xfrm>
            <a:off x="3357720" y="928800"/>
            <a:ext cx="371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2"/>
          <a:stretch/>
        </p:blipFill>
        <p:spPr>
          <a:xfrm>
            <a:off x="0" y="2652840"/>
            <a:ext cx="4500720" cy="4205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3"/>
          <a:stretch/>
        </p:blipFill>
        <p:spPr>
          <a:xfrm>
            <a:off x="4357800" y="235728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143080" y="5610240"/>
            <a:ext cx="46087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357120" y="407196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169640" y="19461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4000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0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141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09120" y="928440"/>
            <a:ext cx="8534520" cy="32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щевого продукта (хлеб, картофель, крупы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. Для изготовления  канцелярского кл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. В медицине и фа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84360" y="3143160"/>
            <a:ext cx="311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28760" y="8571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643280" y="1928880"/>
            <a:ext cx="403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4714920" y="350028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0" y="5000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Picture 0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42600" y="499680"/>
            <a:ext cx="803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вод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H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x и y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6"/>
          <p:cNvSpPr/>
          <p:nvPr/>
        </p:nvSpPr>
        <p:spPr>
          <a:xfrm>
            <a:off x="0" y="30002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457200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2920" y="3429000"/>
            <a:ext cx="37339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343400" y="3214800"/>
            <a:ext cx="4800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8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630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Admin</cp:lastModifiedBy>
  <dcterms:modified xsi:type="dcterms:W3CDTF">2012-01-08T16:36:12Z</dcterms:modified>
  <cp:revision>60</cp:revision>
  <dc:subject/>
  <dc:title> ПРЕЗЕНТАЦИЯ по химии</dc:title>
</cp:coreProperties>
</file>