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5B4-1538-4255-A7C8-6F36A66A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E7F-945C-4274-B900-F8ADC2D2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ACB-0261-4EE8-AD70-E6E36853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A41-7B20-4C2E-A2A9-6AD212E5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239B-504A-4269-B426-80045608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1053-36E9-489D-94F2-DA5F24CD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E67-576D-4C24-AC76-A11834AA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DA22-83A8-44C8-932B-8663D05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0D8-E48B-4534-B706-60BE7A3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223-3557-437E-B550-EA2DF0B4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DB55-0FDA-40EE-9411-423E8A3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378-7D63-4541-B93C-2F0FBC05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1E8D-F62E-4947-B9B8-427404D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6517-A78B-4766-9B87-2756D20D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B8A-3E1A-4A23-B55B-2158224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776C-EF20-4B1F-BAA2-D7286F4C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1183-C925-44B3-B9C4-6FD3C218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B598-113C-4B49-9A00-57B9B04D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9B28-B1E1-4F85-BCF3-0D5D780B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C850-FB20-4E6D-AF97-7C82103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3A71-B1B0-4DB0-926C-E4944EA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78A3-3A5D-4D78-B905-02C19D42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731-18AD-4A2C-AE1B-935B2BA8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D868-1214-42FB-A0D6-AACBE31A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B725-70DB-43F1-8D26-CA01884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6521-ECC9-4BD9-BCD5-BB73D2B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B51F-4C04-4788-A945-A638232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F423-51EE-4938-B46C-9A18FE1B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1A48-3DE0-4AC5-B534-050CE68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C935-D089-44E5-9AE1-F69C6092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3E91-7985-4E01-9D40-EB8893B6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262A-6BA4-403D-AF44-8C5232B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F3D5-06EA-4AC4-A1EB-26EAAF8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C3C-C11D-4B59-8D76-E8DF90E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EAA19-4139-49D8-A7C7-0492E639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65FD-6174-4B93-8017-6AC0274F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79C6-B467-4581-A2AC-C7586CC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ADDB8-DE6F-4634-BD21-AC0D97B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0070-3E9A-4797-84C6-79FA935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7244-FAE8-4361-A4A9-1FA70B5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559C-9A35-4663-BABC-E74F2192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464D-B1FD-4B1E-A235-DC9C7228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29BF-668B-4AF0-AC3C-A8053E83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7D9A8-24FD-4CBF-A763-30916B4B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A20-F8FB-4145-9D94-835D8FF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290FE-03C4-4019-B21F-3572688E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A3868-8450-44E6-A624-7B1EDBAA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6F73-C5D0-41FB-8CD6-346F907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D87A-2045-41F2-9D5E-5D59C959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52DC8-21DB-42A8-85C5-78B69CA0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6C3C9-EB3B-482E-8844-F386395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37B0-2CD5-4664-9804-F9B8881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E25F-638C-4ABC-A88B-9420FEB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AF54-B32F-416A-AF74-5A5A61F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54B86-C01D-4D14-BA8F-B1D981DF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033-F9F1-43AE-AF74-58AA21E5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AA1E-C4B4-463D-974B-1F6A2AC7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7C95-B1F6-4053-ACD0-163169AD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4B272-A6F0-44C1-8214-45E17D0F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AAC5-743A-4A2A-ADE5-40BB2D7E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83E5C-E0C1-414F-86B5-037287E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9545-AE87-46BA-91C8-70097B80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E449E-4E41-4134-814A-46D9686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182A4-F48F-4362-B74F-92E63A3E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641F-2990-40CF-9538-FED4B9F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9F8EC-F73B-4EEA-A30E-12A7A1CE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D8F-002C-4435-96B7-346369CF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A4AFB-06EB-4C1E-A2A8-3A63A851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B8A1D-765C-420C-BA73-A481DE8F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46FE-5208-4A94-BE59-435F3CD7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74402-4582-4EAC-926D-31AE31C5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E493-9CF7-4AEB-9FC7-5CD4DFA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2CC41-1C0E-48D8-98C0-B7FB0A1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5EEB-8391-4B8D-B983-6D1BDC25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D0A2B-A647-4222-982A-4694E285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680E-3086-4E0B-9EFD-93A525C6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C388-762A-416B-A1F1-13BD4D0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E72-6DD4-4F94-AB2B-652F962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11B7-C8F5-465E-9E03-5502565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22824-6134-4E66-AA46-BD300B6F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AE35-EC73-42B5-9514-F4E56C7B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E23F-416A-4C9D-B465-207381B3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4FC9-F3E8-472C-96F1-2A28E70D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5C8-41D2-4E92-B157-025FBD3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B7D-593E-47D3-A89A-E75B55E7E4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4799-0099-4BAC-A341-76C692E632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8688-799D-43ED-A1AE-283A8614F0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34F9-1FED-4943-B4D7-F5F6C6D38A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1BF1-5B97-4C3D-93D7-843F228722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1492-AB95-4A08-9355-2A889FFC4D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56F5-436E-433F-8E8A-5F4AD9DF09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ffffff"/>
            </a:gs>
            <a:gs pos="100000">
              <a:srgbClr val="32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240" y="5429160"/>
            <a:ext cx="3700440" cy="46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79766f"/>
                </a:solidFill>
                <a:latin typeface="Verdana"/>
              </a:rPr>
              <a:t>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1692360" y="1844640"/>
            <a:ext cx="64087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мон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ептидн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птидные гормоны имеют более простое строение, чем белковые. При этом их мономером, как известно, так же являются альфа аминокислоты. Представитель: биохимический и функциональный антип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улин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юкаг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Составные части эндокринной системы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499680"/>
            <a:ext cx="4354560" cy="30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уморальная система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оит из восьми част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таламус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Эпи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аращитовидн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Надпочечн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ета-клетки (островки Лангерганса) поджелудочной желез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олов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post-18-1151496150"/>
          <p:cNvPicPr/>
          <p:nvPr/>
        </p:nvPicPr>
        <p:blipFill>
          <a:blip r:embed="rId1"/>
          <a:stretch/>
        </p:blipFill>
        <p:spPr>
          <a:xfrm>
            <a:off x="5000760" y="674640"/>
            <a:ext cx="3429000" cy="4469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 flipV="1" rot="10800000">
            <a:off x="1071720" y="3364560"/>
            <a:ext cx="371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щий вес этих органов не превышает 100 г, а количество выделяемых ими биологически активных веществ измеряется десятитысячными долями миллиграмма! Способность оказывать мощное воздействие на организм в ничтожно малых концентрациях - главная особенность гормонов. Например, грамма инсулина достаточ­но, чтобы снизить уровень сахара в крови 125 тыс. кроликов</a:t>
            </a: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Эндокринный мозг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13880" y="642960"/>
            <a:ext cx="4211640" cy="36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ходится в самой середине мозга, под зрительными буграми. Эта часть мозг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сом в полграмм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ирует работу всей гуморальной системы, вырабатыва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ециальные нейрогормоны рилизинг-факторы и ингибитор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Первые поступая с током крови в гипофиз служат сигналом для синтеза более сложных гормонов, которые в свою очередь активируют какую-либо железу внутренней секреции. Ингибиторы же затормаживают эндокринную активность гипофи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же в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интезируютс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вазопрессин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кситоци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отвечающие за водно-солевой баланс и поддержание тонуса сосуд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1" descr=""/>
          <p:cNvPicPr/>
          <p:nvPr/>
        </p:nvPicPr>
        <p:blipFill>
          <a:blip r:embed="rId1"/>
          <a:stretch/>
        </p:blipFill>
        <p:spPr>
          <a:xfrm>
            <a:off x="4633200" y="2642400"/>
            <a:ext cx="136692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гипот"/>
          <p:cNvPicPr/>
          <p:nvPr/>
        </p:nvPicPr>
        <p:blipFill>
          <a:blip r:embed="rId2"/>
          <a:stretch/>
        </p:blipFill>
        <p:spPr>
          <a:xfrm>
            <a:off x="5786280" y="500040"/>
            <a:ext cx="26863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Эпифиз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213920"/>
            <a:ext cx="4214880" cy="364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Эпифиз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шишковидная железа) верхний мозговой придаток. Предполагается, что эпифиз вырабатывает ряд биологически активных веществ, которые регулируют деятельность иммунной системы, рост, половое созревание, водно-солевой и пигментный обмен. Их химическое строение и роль в организме до конца не изучен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е всего сведений на сегодняшний день о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Verdana"/>
              </a:rPr>
              <a:t>мелатони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Это, так называемый, гормон молодости, устанавливающий биологические ритмы организм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8" descr="эпифиз"/>
          <p:cNvPicPr/>
          <p:nvPr/>
        </p:nvPicPr>
        <p:blipFill>
          <a:blip r:embed="rId1"/>
          <a:stretch/>
        </p:blipFill>
        <p:spPr>
          <a:xfrm>
            <a:off x="4929120" y="785880"/>
            <a:ext cx="3554640" cy="46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Щитовидная желез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" y="642960"/>
            <a:ext cx="4211640" cy="4075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ет три важных гормона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еокальцетон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дний гормон участвует в обмене кальция, происходящем в организме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ируют процессы роста и развития, влияют на нервную систему, сердце и половые железы, повышают интенсивность обмена веществ, в частности окислительных реакций, проходящих с выделением теп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щитовид"/>
          <p:cNvPicPr/>
          <p:nvPr/>
        </p:nvPicPr>
        <p:blipFill>
          <a:blip r:embed="rId1"/>
          <a:stretch/>
        </p:blipFill>
        <p:spPr>
          <a:xfrm>
            <a:off x="4786200" y="714240"/>
            <a:ext cx="38800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аращитовидные желез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3280" y="785880"/>
            <a:ext cx="40687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щитовид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тероид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рмон, регулирующий обмен кальция и фосфора, от интенсивности которых зависят нервных импульсов, образование костной ткани, сокращение мышц и многое друго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паращит"/>
          <p:cNvPicPr/>
          <p:nvPr/>
        </p:nvPicPr>
        <p:blipFill>
          <a:blip r:embed="rId1"/>
          <a:stretch/>
        </p:blipFill>
        <p:spPr>
          <a:xfrm>
            <a:off x="4468680" y="928800"/>
            <a:ext cx="35337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адпочечник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2920" y="928800"/>
            <a:ext cx="356868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дпочечни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оят из мозгового вещества и коры. Гормоны коры надпочечников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тикостероид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твечают за адаптацию к проявлениям среды, в частности к холо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зговой слой вырабатывает два гормона: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реналин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орадренали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Они регулируют функцию сердечно-сосудистой системы и влияют на обмен, прежде всего углев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надпоч"/>
          <p:cNvPicPr/>
          <p:nvPr/>
        </p:nvPicPr>
        <p:blipFill>
          <a:blip r:embed="rId1"/>
          <a:stretch/>
        </p:blipFill>
        <p:spPr>
          <a:xfrm>
            <a:off x="4357800" y="1063800"/>
            <a:ext cx="3786120" cy="37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Бета-клетки (островки Лангерганса) поджелудочной железы.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2920" y="428760"/>
            <a:ext cx="42829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батывает два гормон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нсул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юкого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Соответственно, первый снижает уровень глюкозы в крови, второй гормон его повыша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6" descr="поджелуд"/>
          <p:cNvPicPr/>
          <p:nvPr/>
        </p:nvPicPr>
        <p:blipFill>
          <a:blip r:embed="rId1"/>
          <a:stretch/>
        </p:blipFill>
        <p:spPr>
          <a:xfrm>
            <a:off x="4714920" y="1285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оловые желез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2920" y="571680"/>
            <a:ext cx="356868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половой принадлеж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гестерон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славливают появление женских половых призна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ндроге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естостерон)– мужск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42900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Verdana"/>
              </a:rPr>
              <a:t>Гармоничный баланс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В нормальном состоянии существует гармоничный баланс между активностью эндокринных желез, состоянием нервной системы и ответом тканей-мишеней (тканей, на которые направлено воздействие). Любое нарушение в каждом из этих звеньев быстро приводит к отклонениям от нормы. Избыточная или недостаточная продукция гормонов служит причиной различных заболеваний, сопровождающихся глубокими химическими изменениями в организме.</a:t>
            </a:r>
            <a:r>
              <a:rPr b="0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168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Гормоны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биологически активные вещества, вырабатываемые железами внутренней секреции,  регулирующие деятельность органов и тканей организ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оль гормонов велика. Эти вещества влияют практически на все процессы, происходящие в организме, сохраняя внутреннюю стабильность среды (гомеостаза), противостояние отрицательным внешним воздействия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1714680" y="4572000"/>
            <a:ext cx="6000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ермин «гормоны» введён англ. физиологами У. Бейлиссом и Э. Старлингом в 1902 г.. Известно более 30 гормонов, выделяемых эндокринными железами млекопитающих и человек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рушение функций гипофиз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ГАНТ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ипофизарный) - аномальный рост человека, превышающий норму. Вызывается нарушением деятельности желез внутренней секреции (главным образом гипофиза, щитовидной и половых желез). При частичном гигантизме увеличены пальцы, кисти, стопы, череп. При гипофункции гипофиза возникают </a:t>
            </a: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ПОФИЗАРНЫЕ ЛИЛИПУ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АКРОМЕГАЛ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греч. akron — конечность и megas, род. п. megalu — большой), эндокринное заболевание, обусловленное избыточной продукцией гормона роста. Возникает преимущественно после завершения роста организма: увеличение конечностей, нижней челюсти и т. 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лева: Гипофизарный гигант, рядом женщины нормального роста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права: Разрастание котей лицевого черепа при акромегалии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7" name="Picture 6" descr="S7002592"/>
          <p:cNvPicPr/>
          <p:nvPr/>
        </p:nvPicPr>
        <p:blipFill>
          <a:blip r:embed="rId1"/>
          <a:stretch/>
        </p:blipFill>
        <p:spPr>
          <a:xfrm>
            <a:off x="1571760" y="2071800"/>
            <a:ext cx="58579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звестны случаи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скусственном введении гормона роста детям, страдающим недостаточностью функции гипофиза, их рост увеличивался в течение 6 месяцев на 5-6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гиперфункции гипофиза рост превышает 2 м. Римский император Максимиллиан был ростом 2,5 м, а русский крестьянин Махнов – 2.8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женщин наибольший рост отмечен у швейцарки Амы – 2,3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ипетская карлица Агибе имела рост 38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рушение функций щитовидной желез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Базедова болезн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- эндокринное заболевание, обусловленное повышенной функцией щитовидной железы, избыточно выделяющей тироксин, что приводит к тиреотоксикозу. Основные симптомы: зоб, пучеглазие, тахикардия, повышение основного обмена, исхуд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МИКСЕДЕМА или СЛИЗИСТЫЙ ОТЁК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греч. myxa — слизь и oidema — опухание, отек), эндокринное заболевание, обусловленное врожденным или приобретенным нарушением функции щитовидки. Признаки: отек кожи и подкожной клетчатки, выпадение волос, вялость, снижение умственных способнос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КРЕТИНИЗМ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франц. cretin — слабоумный, кретин), эндокринное заболевание — недостаточная функция щитовидной железы, задержка физического и психического развития; главным образом в горных районах с недостатком иода в воде или как наследственная патолог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ahoma"/>
              </a:rPr>
              <a:t>Если нарушен синтез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ИНСУЛИН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Применение и зна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140520" y="714240"/>
            <a:ext cx="2444760" cy="464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040" y="1285920"/>
            <a:ext cx="52862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моны – важнейший элемент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болевания эндокринной системы приводят к тяжелейшим патологиям и, нередко, смерти. Интегрированное химико-биологическое исследование этого класса органических соединений открывает огромные перспективы  по созданию лекарств, не имеющих побочных эффектов, совершенствованию технологий генной инженерии и во многих других отрас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еханизм действия гормонов</a:t>
            </a: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840" y="499680"/>
            <a:ext cx="8501040" cy="602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ы действуют на органы избирательно, это объясняется тем, что клетки определенных органов содержат специальные образования -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ецепторы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рганы или клетки, на которые действует конкретный гормон, называют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органами-мишенями или клетками-мишенями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Во внеклеточной жидкости содержится множество разнообразных соединений, но рецепторы узнают лишь очень немногие из них. Кроме того, рецепторы должны выбрать определенные молекулы из множества других, присутствующих в более высокой концентрации.  Каждая клетка может нести либо один тип рецепторов, либо нескольк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6" descr="Безымянный"/>
          <p:cNvPicPr/>
          <p:nvPr/>
        </p:nvPicPr>
        <p:blipFill>
          <a:blip r:embed="rId1"/>
          <a:stretch/>
        </p:blipFill>
        <p:spPr>
          <a:xfrm>
            <a:off x="714240" y="3176640"/>
            <a:ext cx="7547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ТИПЫ РЕАЛИЗАЦИИ ГОРМОНАЛЬНОГО ДЕЙСТВ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ый тип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При взаимодействии гормона с клеточной мембраной изменяется ее проницаемость для определенных веществ. Так под действием инсулина активируются системы транспорта глюкозы и она начинает активно проникать в клет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р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о-клеточном типе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 не проникая в клетку, а влияет на ее обмен через своего посредника (вторичного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ссендже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, первичный - сам гормон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Цитозольный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механизм (или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ядерный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) свойственен липофильным белкам - стероидам. Они проникают через клеточную мембрану в цитозоль и соединяются с внутриклеточными рецепторами. Комплекс гормон-рецептор проникает в ядро клетки, где избирательно влияет на активность генома, это приводит к снижению или активации синтеза определенных ферментов, что приводит к изменению скорости или направления определенных реак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Смешанный тип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- присущ йодтиронинам (гормонам щитовидной желез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 гормон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уществует две основные 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00000" y="2781360"/>
            <a:ext cx="3240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железам внутренней секреции продуцирующим горм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03640" y="2781360"/>
            <a:ext cx="374508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й прир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10"/>
          <p:cNvSpPr/>
          <p:nvPr/>
        </p:nvSpPr>
        <p:spPr>
          <a:xfrm>
            <a:off x="2286000" y="1714680"/>
            <a:ext cx="191304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11"/>
          <p:cNvSpPr/>
          <p:nvPr/>
        </p:nvSpPr>
        <p:spPr>
          <a:xfrm>
            <a:off x="4857840" y="1714680"/>
            <a:ext cx="1490400" cy="928440"/>
          </a:xfrm>
          <a:prstGeom prst="downArrow">
            <a:avLst>
              <a:gd name="adj1" fmla="val 4637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химическо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рирод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26" name="Diagram 7"/>
          <p:cNvGrpSpPr/>
          <p:nvPr/>
        </p:nvGrpSpPr>
        <p:grpSpPr>
          <a:xfrm>
            <a:off x="3853800" y="3240720"/>
            <a:ext cx="1891080" cy="1163880"/>
            <a:chOff x="3853800" y="3240720"/>
            <a:chExt cx="1891080" cy="1163880"/>
          </a:xfrm>
        </p:grpSpPr>
        <p:sp>
          <p:nvSpPr>
            <p:cNvPr id="327" name="_s1028"/>
            <p:cNvSpPr/>
            <p:nvPr/>
          </p:nvSpPr>
          <p:spPr>
            <a:xfrm>
              <a:off x="3853800" y="3240720"/>
              <a:ext cx="1891080" cy="1163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орм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357720" y="2000160"/>
            <a:ext cx="236664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3286080" y="521496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642960" y="371484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00840" y="3429000"/>
            <a:ext cx="252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о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00720" y="2924280"/>
            <a:ext cx="0" cy="57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3000240" y="392904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4643280" y="4572000"/>
            <a:ext cx="0" cy="792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5715000" y="3929040"/>
            <a:ext cx="792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тероидные горм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роидные гормоны обладают сложной циклической структурой. Например: тестестерон, наиболее важный представитель андрогенов(мужские половые гормоны) и эстроген (женский половой гормо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80724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Гормоны производные аминокисл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моны производные аминокислот имеют относительно простое строение, что, однако не умаляет их значения в организме. Наиболее известные представители: адреналин, норадреналин, тирок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ная формула адренал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4475" t="7870" r="0" b="11991"/>
          <a:stretch/>
        </p:blipFill>
        <p:spPr>
          <a:xfrm>
            <a:off x="3214800" y="3214800"/>
            <a:ext cx="52257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Белков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овые гормоны обладаю характерными для белков свойствами: большой относительной молекулярной массой, способностью формирования первичной, вторичной, третичной и четвертичной пространственных структур и т.д. Самый известный представитель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ул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Этот гормон стал первым белком, который удалось синтезировать химическим пу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0:46Z</dcterms:created>
  <dc:creator>1</dc:creator>
  <dc:description/>
  <dc:language>en-US</dc:language>
  <cp:lastModifiedBy>Admin</cp:lastModifiedBy>
  <dcterms:modified xsi:type="dcterms:W3CDTF">2012-02-13T15:55:44Z</dcterms:modified>
  <cp:revision>17</cp:revision>
  <dc:subject/>
  <dc:title>Г</dc:title>
</cp:coreProperties>
</file>