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.png" ContentType="image/png"/>
  <Override PartName="/ppt/media/image26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458-1E81-4B8D-B4D8-FE685C14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E1D-DF41-47C0-9FE5-C17CCC1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B9A-F061-483E-9116-A3978168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C0C-970F-41B4-AAFA-42222112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16B-8B13-495F-9BBF-8085A01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D014-8BE9-4135-8CED-0B860F50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57F-0CB4-4525-BD4A-61CA7D6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114-4D0C-45E3-A014-ACE0097C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B0A-56EC-459C-B8F4-290AAAE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3FB-0A84-4E9D-9CA7-448CC97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FA2-D10A-43E4-B4D6-4DA77217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807-B50F-404B-AB61-D60C87C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27F9-9110-4E23-AEE4-6FCE90008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Биологический катализ. Фер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ver_14"/>
          <p:cNvPicPr/>
          <p:nvPr/>
        </p:nvPicPr>
        <p:blipFill>
          <a:blip r:embed="rId1"/>
          <a:stretch/>
        </p:blipFill>
        <p:spPr>
          <a:xfrm>
            <a:off x="3132000" y="2205000"/>
            <a:ext cx="2882880" cy="35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332000" y="580536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«Алиса в стране чудес», иллюстрация John Tenniel,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The Nursery Alic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(Mary Evans Picture Library, Lond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FDAA-D441-41B0-919B-160995DBC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8" name="Object 11"/>
          <p:cNvGraphicFramePr/>
          <p:nvPr/>
        </p:nvGraphicFramePr>
        <p:xfrm>
          <a:off x="395280" y="1268280"/>
          <a:ext cx="856944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569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13"/>
          <p:cNvSpPr/>
          <p:nvPr/>
        </p:nvSpPr>
        <p:spPr>
          <a:xfrm>
            <a:off x="607320" y="37486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AM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8E56-82CF-4256-81D4-BB1328BF3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68360" y="1056960"/>
            <a:ext cx="8424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– переносчики одно-углеродной групп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2. – переносчики карбонильн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3. – ацетилтрансф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4. – гликозилтрансф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5. – переносчики алкильных (кроме метильных) и арильны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6. – переносчики азотисты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7. – переносчики фосфор-содержащих групп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8. – переносчики серу-содержащих функций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9. – переносчики селен-содержащих групп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CF78-82C9-40E7-8590-F3AAB1A3E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11280" y="1602720"/>
            <a:ext cx="8281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трансферазы одноуглеродной групп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етилтрансфеп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2.1.1.41.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терол 24-С-метилтрансф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578-0F47-46CF-9D08-91578E354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39640" y="148428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Прот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гидролизуют белк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гидролизуют нуклеиновые кислот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пецифически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эндонукле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(так называемые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рестриктазы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разрывают полинуклеотиды по строго определенным последовательностям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6E6A-0FFD-4FA2-A8FE-A8DC8309A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8200" y="104688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. – действуют на сложноэфирные связи, эстераз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2. – гликозилазы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3. – действуют на простоэфир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4. – действуют на пептидные связи (пептид гидролазы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5. 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, кроме пептидных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6. – действуют на ангидриды кисло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7. – действуют на углерод-углеродные 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8. – действуют на связи с галогеном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9. – действуют на связи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0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1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2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.С.3.13.– действуют 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вязи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20A-838B-4A5F-B009-DBF3A9462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Гидрол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11280" y="1453680"/>
            <a:ext cx="8353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 гидролазы действующие на сложноэфирную связь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 гидролазы эфиров карбоновых кислот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3.1.1.1 карбоксилэст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876240" y="4329000"/>
            <a:ext cx="719424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 H</a:t>
            </a:r>
            <a:r>
              <a:rPr b="0" lang="ru-RU" sz="34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= 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COOH 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+ 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0" lang="ru-RU" sz="34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OH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809F-B2AC-47E1-AC13-5B8286C5A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2000" y="1165680"/>
            <a:ext cx="76406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1. – углерод-угле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2. – углерод-кислород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3. – углерод-азотные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4. – углерод-серы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5. – углерод-галоген лиазы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6. – фосфор-кислородные лиазы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Е.С.4.99.– другие лиазы.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9F1C-FF6C-4B64-A261-808CC1055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9280" y="1053360"/>
            <a:ext cx="8082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 – карбокси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2. – альдегид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3. – оксо-кислот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99. – другие углерод-углерод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37120" y="3071520"/>
            <a:ext cx="8379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1. – пируват де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23. – оротидин-5-фосфат дека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1. – фосфоенолпируват карбоксилаза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39. – рибулозодифосфат 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4.1.1.50. – аденозилметионин декарбоксил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CF27-A126-4C39-B0C2-16E80EDBC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и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611280" y="1716120"/>
          <a:ext cx="828036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6120"/>
                    <a:ext cx="8280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5467-7B93-4A95-A872-56F523FEA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25520" y="1127520"/>
            <a:ext cx="8539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– рацемазы и эпи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2. –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цис-трас-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зомер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3. – внутримолекулярные оксидоредукт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4. – внутримолекулярные трансферазы (му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5. – внутримолекулярные лиазы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99. – другие изомеразы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7DA-F824-47FD-98AF-5C34B1AE7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7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1E31-39F7-4B90-B69F-843E5B9CF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зомер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11280" y="13420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 рацемазы и эримеразы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 действующие на углеводу и их производные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5.1.3.3. альдоза-1-эпимераза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539640" y="3429000"/>
          <a:ext cx="8209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429000"/>
                    <a:ext cx="8209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DD4D-2FB2-46CE-928C-648073AA6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Лигазы (синтетаз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07680" y="1269360"/>
            <a:ext cx="81496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1. – образуют углерод-кисло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2. – образуют углерод-сера связи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– образуют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4. – образуют углерод-углерод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5. – образуют фосфат эфирные связи.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52320" y="3790080"/>
            <a:ext cx="8240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 образующие углерод-азотные связ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 кислота-аммиак (или амид) лигазы (амид синтазы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6.3.1.1. аспарат-аммиак лигаз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EF2-147C-4A2E-90D5-8D9E58A1F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Picture 10" descr=""/>
          <p:cNvPicPr/>
          <p:nvPr/>
        </p:nvPicPr>
        <p:blipFill>
          <a:blip r:embed="rId1"/>
          <a:srcRect l="2703" t="0" r="0" b="0"/>
          <a:stretch/>
        </p:blipFill>
        <p:spPr>
          <a:xfrm>
            <a:off x="1187280" y="981000"/>
            <a:ext cx="676944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96D9-B6EC-4996-9E49-302A64814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1260360" y="981000"/>
            <a:ext cx="6264360" cy="4345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9"/>
          <p:cNvSpPr/>
          <p:nvPr/>
        </p:nvSpPr>
        <p:spPr>
          <a:xfrm>
            <a:off x="179280" y="5362200"/>
            <a:ext cx="896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Влияние концентрации субстрата на начальную скорость катализируемой ферментом реакции. Из такого графика можно определить величину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только путем аппроксимирования. Точное определение этой величины в данном случае невозможно, так как по мере повышения концентрации субстрата начальная скорость реакции лишь приближаете к </a:t>
            </a: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, но никогда ее не достигает. Концентрация субстрата, при которой скорость реакции составляет половину максимальной, численно равна К'м константе Михаэлиса - Ментен. 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701-93DE-4DA3-8F89-F1A2537B9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40360" y="1125000"/>
            <a:ext cx="379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Виктор Генри (190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76000" y="1699920"/>
            <a:ext cx="66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Леонор Михаэлис, Мод Ментен (1913 г.)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979640" y="2565360"/>
          <a:ext cx="4680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65360"/>
                    <a:ext cx="4680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1979640" y="3789360"/>
          <a:ext cx="46083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789360"/>
                    <a:ext cx="46083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12" name="Object 15"/>
          <p:cNvGraphicFramePr/>
          <p:nvPr/>
        </p:nvGraphicFramePr>
        <p:xfrm>
          <a:off x="2050920" y="5084640"/>
          <a:ext cx="460872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4608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5B20-A562-4A0B-BCEE-275AE9E76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1"/>
          <a:srcRect l="3896" t="4074" r="3833" b="0"/>
          <a:stretch/>
        </p:blipFill>
        <p:spPr>
          <a:xfrm>
            <a:off x="611280" y="1700280"/>
            <a:ext cx="5668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C64D-EEB5-453F-B033-E3B8A27FC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611280" y="2164680"/>
            <a:ext cx="806436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К</a:t>
            </a:r>
            <a:r>
              <a:rPr b="1" i="1" lang="ru-RU" sz="2600" spc="-1" strike="noStrike" baseline="-25000">
                <a:solidFill>
                  <a:srgbClr val="ff3300"/>
                </a:solidFill>
                <a:latin typeface="Arial"/>
              </a:rPr>
              <a:t>м</a:t>
            </a:r>
            <a:r>
              <a:rPr b="1" i="1" lang="ru-RU" sz="26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станта Михаэлиса-Ментен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концентрация специфического субстрата, при которой данный фермент обеспечивает скорость реакции, равную половине ее максимальной скорости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2AA-BEF9-48A8-B594-F13805184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835280" y="2349360"/>
                <a:ext cx="4465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Rectangle 13"/>
          <p:cNvSpPr/>
          <p:nvPr/>
        </p:nvSpPr>
        <p:spPr>
          <a:xfrm>
            <a:off x="609120" y="1699920"/>
            <a:ext cx="54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равнение Михаэлиса-Ментен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95280" y="4477320"/>
            <a:ext cx="849780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начальная скорость при концентрации субстрата [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], </a:t>
            </a:r>
            <a:r>
              <a:rPr b="0" i="1" lang="en-US" sz="26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99"/>
                </a:solidFill>
                <a:latin typeface="Arial"/>
              </a:rPr>
              <a:t>max</a:t>
            </a:r>
            <a:r>
              <a:rPr b="0" i="1" lang="ru-RU" sz="2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максимальная скорость и К</a:t>
            </a:r>
            <a:r>
              <a:rPr b="0" lang="ru-RU" sz="2600" spc="-1" strike="noStrike" baseline="-25000">
                <a:solidFill>
                  <a:srgbClr val="000099"/>
                </a:solidFill>
                <a:latin typeface="Arial"/>
              </a:rPr>
              <a:t>м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000099"/>
                </a:solidFill>
                <a:latin typeface="Arial"/>
              </a:rPr>
              <a:t>–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константа Михаэлиса-Ментен для данного фермента, соответствующая определенному субстрату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9C7-3AC2-45F8-8CB5-503AF374A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538200" y="1041120"/>
            <a:ext cx="47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Модель Михаэлиса-Ментон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674720"/>
          <a:ext cx="8532720" cy="5002200"/>
        </p:xfrm>
        <a:graphic>
          <a:graphicData uri="http://schemas.openxmlformats.org/drawingml/2006/table">
            <a:tbl>
              <a:tblPr/>
              <a:tblGrid>
                <a:gridCol w="3024000"/>
                <a:gridCol w="3960720"/>
                <a:gridCol w="1548000"/>
              </a:tblGrid>
              <a:tr h="75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начения констант Михаэлиса-Ментен (</a:t>
                      </a: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) для некоторых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о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страт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</a:t>
                      </a:r>
                      <a:r>
                        <a:rPr b="1" i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м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20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ексокин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мозг)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Р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глюк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фру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рбоангидр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СОз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отрипс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ицил-тирозинил-глиц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бензоилтирозинами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β-Галактозид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лакто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еониндегидратаз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треонин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2B48-6E09-4FE9-A748-66D7849E2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59" name="Object 47"/>
          <p:cNvGraphicFramePr/>
          <p:nvPr/>
        </p:nvGraphicFramePr>
        <p:xfrm>
          <a:off x="395280" y="2090880"/>
          <a:ext cx="5472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90880"/>
                    <a:ext cx="5472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49"/>
          <p:cNvSpPr/>
          <p:nvPr/>
        </p:nvSpPr>
        <p:spPr>
          <a:xfrm>
            <a:off x="5722920" y="2995920"/>
            <a:ext cx="345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висимость активности ферментов (для удобства сравнения приведены активности, нормированные к единице) от рН.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Пепсин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— рибонуклеаза, </a:t>
            </a:r>
            <a:br>
              <a:rPr sz="2000"/>
            </a:b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 — аргиназа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D8E5-B23F-4CC6-9EBF-218134ACA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726840" y="1908720"/>
            <a:ext cx="807156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 – оксидоредукт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oxidoreductases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2. – трансф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transf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3. – гидрол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ydrol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4. – ли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y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5. – изомер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somer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6. – лигазы (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ligases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A262-3CEA-4CE4-9E15-48E969166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Зависимость скорости ферментативных реакций от рН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50920" y="2708280"/>
          <a:ext cx="8642160" cy="35211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рмент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тимум р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рипси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атал 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ргин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мар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ибонуклеаза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97"/>
          <p:cNvSpPr/>
          <p:nvPr/>
        </p:nvSpPr>
        <p:spPr>
          <a:xfrm>
            <a:off x="250920" y="211428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Оптимальные значения рН для некоторых ферментов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74B3-4132-41E2-897A-8EF7C5CAC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Количество фермента можно определить по его активности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468360" y="2025720"/>
            <a:ext cx="842472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CEE-DE53-400C-8D09-556306303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Специфичность ферментов по отношению к субстратам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0" name="Object 6"/>
          <p:cNvGraphicFramePr/>
          <p:nvPr/>
        </p:nvGraphicFramePr>
        <p:xfrm>
          <a:off x="826920" y="1413000"/>
          <a:ext cx="79930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9930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9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83" name="Object 8"/>
          <p:cNvGraphicFramePr/>
          <p:nvPr/>
        </p:nvGraphicFramePr>
        <p:xfrm>
          <a:off x="2050920" y="4292640"/>
          <a:ext cx="5759640" cy="24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575964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6EB4-ACDB-41E2-80D6-0188BEA5D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50920" y="2708280"/>
          <a:ext cx="8713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713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292-3823-45FF-998B-B10A1A283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15496"/>
          <a:stretch/>
        </p:blipFill>
        <p:spPr>
          <a:xfrm>
            <a:off x="900000" y="1557360"/>
            <a:ext cx="7056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84D-B18B-4FB8-AB62-047A0CB6E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rcRect l="0" t="0" r="0" b="13424"/>
          <a:stretch/>
        </p:blipFill>
        <p:spPr>
          <a:xfrm>
            <a:off x="1042920" y="1484280"/>
            <a:ext cx="73454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7662-2630-45F7-9A44-0A446D7EC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4" name="Object 8"/>
          <p:cNvGraphicFramePr/>
          <p:nvPr/>
        </p:nvGraphicFramePr>
        <p:xfrm>
          <a:off x="900000" y="1628640"/>
          <a:ext cx="741708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1708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8DA-6804-4953-904C-C46934EF3D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23" name="Picture 9" descr="elast_0"/>
          <p:cNvPicPr/>
          <p:nvPr/>
        </p:nvPicPr>
        <p:blipFill>
          <a:blip r:embed="rId1"/>
          <a:srcRect l="12791" t="0" r="12791" b="0"/>
          <a:stretch/>
        </p:blipFill>
        <p:spPr>
          <a:xfrm>
            <a:off x="755640" y="1413000"/>
            <a:ext cx="755964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85F-4B0C-49CE-9320-53E2EC6E7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32" name="Object 9"/>
          <p:cNvGraphicFramePr/>
          <p:nvPr/>
        </p:nvGraphicFramePr>
        <p:xfrm>
          <a:off x="1738440" y="1341360"/>
          <a:ext cx="49212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341360"/>
                    <a:ext cx="49212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195-3FE3-4C8F-A676-218328A02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rcRect l="0" t="0" r="-4685" b="0"/>
          <a:stretch/>
        </p:blipFill>
        <p:spPr>
          <a:xfrm>
            <a:off x="1403280" y="1528920"/>
            <a:ext cx="5975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C90-5856-440B-B776-3A4F0A03C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1677600"/>
            <a:ext cx="8066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Дегидрогеназы (редукт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д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ероксид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ксилаз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ксигеназ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Гидрогеназ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3A3-F19A-4ED0-A886-CDE031F54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52" name="Object 10"/>
          <p:cNvGraphicFramePr/>
          <p:nvPr/>
        </p:nvGraphicFramePr>
        <p:xfrm>
          <a:off x="34920" y="1484280"/>
          <a:ext cx="547200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484280"/>
                    <a:ext cx="547200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12"/>
          <p:cNvSpPr/>
          <p:nvPr/>
        </p:nvSpPr>
        <p:spPr>
          <a:xfrm>
            <a:off x="5508720" y="1764720"/>
            <a:ext cx="3635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Трехмерная структура активного центра рибонуклеазы А по данным рентгено-структурного анализа. Для удобства показаны лишь участки полипептидной цепи несущие связывающие и каталитические группы. Полипептидые цепи представлены ходом пептидного остова (темно-серые), связывающие и каталитические группы — палочковыми моделями (светло-серые), модель субстрата [уридилил(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озин] — черной палочковой моделью. Водородные связи обозначены пунктиром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8BAA-A224-4273-9F62-51F9E5BE2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ространственное строение активного центра ферментов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539640" y="1341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65" name="Object 12"/>
          <p:cNvGraphicFramePr/>
          <p:nvPr/>
        </p:nvGraphicFramePr>
        <p:xfrm>
          <a:off x="108000" y="1484280"/>
          <a:ext cx="568800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568800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4"/>
          <p:cNvSpPr/>
          <p:nvPr/>
        </p:nvSpPr>
        <p:spPr>
          <a:xfrm>
            <a:off x="5867280" y="40752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кладка субстрата [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уридилил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аденилил(3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´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 аденозина] в третичной структуре фермента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D12-2BB7-4935-AD4A-6C6E954E0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акторы, определяющие каталитическую эффективность фер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"/>
          <p:cNvSpPr/>
          <p:nvPr/>
        </p:nvSpPr>
        <p:spPr>
          <a:xfrm>
            <a:off x="539640" y="184464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468360" y="2354760"/>
            <a:ext cx="806436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ближение и ориентация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Напряжение и деформация; индуцированное соответствие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бщий кислотно-основно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Ковалентный катализ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2C0-0313-499D-A6DF-5801A6E28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39640" y="1142640"/>
            <a:ext cx="83534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 – действует на СН-ОН функцию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2. – действует на альдегидную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3. – действует на СН-СН группу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0. – действует на дифенолы и родственные групп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3. – действует на простую связь с внедрением молекулярного кислород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7. – действует на СН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фрагмен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BC44-9AE0-4962-BA2D-A4AD9AB4B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6680" y="1198080"/>
            <a:ext cx="520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или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2. – цитохром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3. – кислород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4. – дисульфидом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5. – хиноном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E55-DC1D-4207-BA8B-5DED4017E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5960" y="1181880"/>
            <a:ext cx="80737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1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. – алкоголь дегидрогеназа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ADP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27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лактат дегидрогеназа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32 – мевальдат редукт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.С.1.1.1.62 – эстрадиол 17-β-дегидрогеназа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26D1-D58D-434D-BA7D-BC500B65F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ксиредукта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42160" y="1426680"/>
            <a:ext cx="192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Е.С.1.1.1.1 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395280" y="2436840"/>
          <a:ext cx="842472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36840"/>
                    <a:ext cx="8424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684360" y="4653000"/>
          <a:ext cx="74167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653000"/>
                    <a:ext cx="74167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2CF-AA5A-4E28-93E8-26B6C068B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Трансферазы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4" name="Object 9"/>
          <p:cNvGraphicFramePr/>
          <p:nvPr/>
        </p:nvGraphicFramePr>
        <p:xfrm>
          <a:off x="611280" y="1341360"/>
          <a:ext cx="82216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221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2"/>
          <p:cNvSpPr/>
          <p:nvPr/>
        </p:nvSpPr>
        <p:spPr>
          <a:xfrm>
            <a:off x="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87" name="Object 11"/>
          <p:cNvGraphicFramePr/>
          <p:nvPr/>
        </p:nvGraphicFramePr>
        <p:xfrm>
          <a:off x="2195640" y="2276640"/>
          <a:ext cx="3671640" cy="29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76640"/>
                    <a:ext cx="367164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3"/>
          <p:cNvSpPr/>
          <p:nvPr/>
        </p:nvSpPr>
        <p:spPr>
          <a:xfrm>
            <a:off x="2588400" y="547740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Аденозил-метионин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3:40Z</dcterms:created>
  <dc:creator>Markin</dc:creator>
  <dc:description/>
  <dc:language>en-US</dc:language>
  <cp:lastModifiedBy>Admin</cp:lastModifiedBy>
  <dcterms:modified xsi:type="dcterms:W3CDTF">2012-03-28T13:30:19Z</dcterms:modified>
  <cp:revision>67</cp:revision>
  <dc:subject/>
  <dc:title>Биологический катализ. Ферменты </dc:title>
</cp:coreProperties>
</file>