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1.jpeg" ContentType="image/jpeg"/>
  <Override PartName="/ppt/media/image32.wmf" ContentType="image/x-wmf"/>
  <Override PartName="/ppt/media/image20.jpeg" ContentType="image/jpeg"/>
  <Override PartName="/ppt/media/image29.wmf" ContentType="image/x-wmf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0.jpeg" ContentType="image/jpeg"/>
  <Override PartName="/ppt/media/image13.jpeg" ContentType="image/jpeg"/>
  <Override PartName="/ppt/media/image9.jpeg" ContentType="image/jpeg"/>
  <Override PartName="/ppt/media/image8.jpeg" ContentType="image/jpeg"/>
  <Override PartName="/ppt/media/image38.png" ContentType="image/png"/>
  <Override PartName="/ppt/media/image11.jpeg" ContentType="image/jpeg"/>
  <Override PartName="/ppt/media/image30.wmf" ContentType="image/x-wmf"/>
  <Override PartName="/ppt/media/image33.jpeg" ContentType="image/jpeg"/>
  <Override PartName="/ppt/media/image25.gif" ContentType="image/gif"/>
  <Override PartName="/ppt/media/image6.jpeg" ContentType="image/jpeg"/>
  <Override PartName="/ppt/media/image27.jpeg" ContentType="image/jpeg"/>
  <Override PartName="/ppt/media/image34.png" ContentType="image/png"/>
  <Override PartName="/ppt/media/image1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37.png" ContentType="image/png"/>
  <Override PartName="/ppt/media/image28.png" ContentType="image/png"/>
  <Override PartName="/ppt/media/image31.wmf" ContentType="image/x-wmf"/>
  <Override PartName="/ppt/media/image7.jpeg" ContentType="image/jpeg"/>
  <Override PartName="/ppt/media/image4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44B6-9EFB-4980-A231-4B05C182E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5FD3-7BBF-4DAD-93EB-556EF91CD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C4DD-D8BC-4D1E-A70F-13EE4FCB3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631C-DEBF-4824-9343-391E9167A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E798-3A55-4292-AFAE-CD9D028EC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6323-BF20-4762-8F23-365D1880C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166F-F930-4881-9F8E-C4E406C52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2416-087C-4532-ACBA-2B18A6DB4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C004-5537-4B5D-BCC4-0F0B29F25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7553-631A-450B-8097-36505CBA3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35ED-2694-4E7B-BF63-733DD9C83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9E35-ACC7-4966-84A4-028CCBB0E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7E143-CD5A-4483-BE41-8A1FC97923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1.wm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9144000" cy="19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ЛИПИДЫ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"/>
          <p:cNvPicPr/>
          <p:nvPr/>
        </p:nvPicPr>
        <p:blipFill>
          <a:blip r:embed="rId1"/>
          <a:stretch/>
        </p:blipFill>
        <p:spPr>
          <a:xfrm>
            <a:off x="1069920" y="2000160"/>
            <a:ext cx="6359760" cy="422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ивотная пища – источник холестер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йцо -  560м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локо 3% (стакан) – 26м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сло сливочное (100г) – 260м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ыр (кусочек) – 25м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вяжьи мозги (100г) – 1990м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вядина (100г) – 120м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чень говяжья (100г) – 390м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мга (кусок) – 70м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ичный желток (50г) – 1342м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уриное мясо (100г) – 60-90м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дюшиное мясо (100г) – 60-80м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щая рекомендация: не более 300мг в сут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cholesterol"/>
          <p:cNvPicPr/>
          <p:nvPr/>
        </p:nvPicPr>
        <p:blipFill>
          <a:blip r:embed="rId1"/>
          <a:stretch/>
        </p:blipFill>
        <p:spPr>
          <a:xfrm>
            <a:off x="5429160" y="1571760"/>
            <a:ext cx="254340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олезни сердца и сосуд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928800"/>
            <a:ext cx="82296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олестерол низкой плотности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прикрепляется к стенкам сосудов, образуя холестериновые бляшки – причину атеросклероз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олестерол высокой плотности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срывает бляшки и удаляет их из организма через желчь и ЖК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cholesterol_animatie"/>
          <p:cNvPicPr/>
          <p:nvPr/>
        </p:nvPicPr>
        <p:blipFill>
          <a:blip r:embed="rId1"/>
          <a:stretch/>
        </p:blipFill>
        <p:spPr>
          <a:xfrm>
            <a:off x="2428920" y="4286160"/>
            <a:ext cx="1552680" cy="15908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patient's_awarness_image36"/>
          <p:cNvPicPr/>
          <p:nvPr/>
        </p:nvPicPr>
        <p:blipFill>
          <a:blip r:embed="rId2"/>
          <a:stretch/>
        </p:blipFill>
        <p:spPr>
          <a:xfrm>
            <a:off x="5072040" y="3786120"/>
            <a:ext cx="2736720" cy="28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Фосфолипиды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ложные эфиры многоатомных спиртов и ВЖК, содержащие остатки фосфорной кислоты и связанные с нею добавочные соединения (аминоспирты, аминокислоты)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сфолипиды в зависимости от спирта, входящего в их состав, подразделяют н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сфатиды и сфингофосфолипид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В состав фосфатидов входит глицерин. В зависимости от добавочного соединения среди фосфатидов  различают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цитин, кефалин, серинфосфати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В состав сфинголипидов входит спирт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фингози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Большое количество сфинголипидов содержится в нервной ткани и крови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Гликолипид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липиды, в которых остаток глицерина соединен с каким – либо сахаром и двумя жирными кислотами 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х концентрация в растениях  в пять раз превышает концентрацию фосфатидов. В хлоропластах практически все липиды представлены гликолипидами. Гликолипиды обнаружены в мозге. Наиболее важными являются гликолипиды, в которых глицерин соединен гликозидной связью с одной или двумя молекулами 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галактозы. Их называют моно- или дигалактозилглицеридами. К глицеридной части молекулы гликолипида, как правило, присоединена  линолевая кислот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изические свойства жир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иры не растворимы в во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отность их меньше 1г/с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при комнатной температуре они имеют твердое агрегатное состояние, то их называют жирами, а если жидкое, то – масл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жиров низкие температуры кип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е константы, характеризующие свойства жира – эт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лавления, кислотное и иодное числа, число омы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пределение жи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иры – это сложные эфиры , образованные трехатомным спиртом – глицерином и высшими карбоновыми кислот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857160" y="3011040"/>
            <a:ext cx="3429000" cy="28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O-CO-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CO-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O-CO-R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де R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R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радикалы (иногда - различных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ирных кисло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FG19_04-06l"/>
          <p:cNvPicPr/>
          <p:nvPr/>
        </p:nvPicPr>
        <p:blipFill>
          <a:blip r:embed="rId1"/>
          <a:stretch/>
        </p:blipFill>
        <p:spPr>
          <a:xfrm>
            <a:off x="4776840" y="2786040"/>
            <a:ext cx="4151160" cy="3449520"/>
          </a:xfrm>
          <a:prstGeom prst="rect">
            <a:avLst/>
          </a:prstGeom>
          <a:ln w="0">
            <a:noFill/>
          </a:ln>
        </p:spPr>
      </p:pic>
      <p:sp>
        <p:nvSpPr>
          <p:cNvPr id="96" name="Прямая соединительная линия 6"/>
          <p:cNvSpPr/>
          <p:nvPr/>
        </p:nvSpPr>
        <p:spPr>
          <a:xfrm flipH="1">
            <a:off x="1926720" y="3286080"/>
            <a:ext cx="180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ая соединительная линия 13"/>
          <p:cNvSpPr/>
          <p:nvPr/>
        </p:nvSpPr>
        <p:spPr>
          <a:xfrm flipH="1">
            <a:off x="1926720" y="3930480"/>
            <a:ext cx="1800" cy="28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3"/>
          <p:cNvSpPr/>
          <p:nvPr/>
        </p:nvSpPr>
        <p:spPr>
          <a:xfrm>
            <a:off x="431640" y="152280"/>
            <a:ext cx="7283520" cy="72756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Составные части липидов - жирные кислоты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4"/>
          <p:cNvSpPr/>
          <p:nvPr/>
        </p:nvSpPr>
        <p:spPr>
          <a:xfrm>
            <a:off x="880560" y="6515280"/>
            <a:ext cx="816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А.М. Чибиряев "Биологически активные соединения живых организмов", 2009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2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0"/>
          <p:cNvSpPr/>
          <p:nvPr/>
        </p:nvSpPr>
        <p:spPr>
          <a:xfrm>
            <a:off x="431640" y="685800"/>
            <a:ext cx="8229600" cy="1503000"/>
          </a:xfrm>
          <a:prstGeom prst="rect">
            <a:avLst/>
          </a:prstGeom>
          <a:gradFill rotWithShape="0">
            <a:gsLst>
              <a:gs pos="0">
                <a:srgbClr val="ffb7d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вестно  более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0  жирных  кислот,  отличающихся  по  длине  углеродной цепи,  по  степени  и  характеру  её  разветвления,  числу  и  положению  С=С  связей,  по природе  и  количеству  других  функциональных  групп  (COOH,  OH,  SH,  NH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и  др.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Object 32"/>
          <p:cNvGraphicFramePr/>
          <p:nvPr/>
        </p:nvGraphicFramePr>
        <p:xfrm>
          <a:off x="431640" y="2057400"/>
          <a:ext cx="8267760" cy="464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" name="Object 3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1640" y="2057400"/>
                    <a:ext cx="826776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Rectangle 33"/>
          <p:cNvSpPr/>
          <p:nvPr/>
        </p:nvSpPr>
        <p:spPr>
          <a:xfrm>
            <a:off x="463680" y="3363840"/>
            <a:ext cx="7751520" cy="2592360"/>
          </a:xfrm>
          <a:prstGeom prst="rect">
            <a:avLst/>
          </a:prstGeom>
          <a:noFill/>
          <a:ln w="349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40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3"/>
          <p:cNvSpPr/>
          <p:nvPr/>
        </p:nvSpPr>
        <p:spPr>
          <a:xfrm>
            <a:off x="380880" y="152280"/>
            <a:ext cx="6977160" cy="72756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Составные части липидов - жирные кислоты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1"/>
          <p:cNvSpPr/>
          <p:nvPr/>
        </p:nvSpPr>
        <p:spPr>
          <a:xfrm>
            <a:off x="880560" y="6515280"/>
            <a:ext cx="816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А.М. Чибиряев "Биологически активные соединения живых организмов", 2009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2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Object 6"/>
          <p:cNvGraphicFramePr/>
          <p:nvPr/>
        </p:nvGraphicFramePr>
        <p:xfrm>
          <a:off x="380880" y="650880"/>
          <a:ext cx="8382240" cy="1838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650880"/>
                    <a:ext cx="8382240" cy="18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Object 10"/>
          <p:cNvGraphicFramePr/>
          <p:nvPr/>
        </p:nvGraphicFramePr>
        <p:xfrm>
          <a:off x="380880" y="2527200"/>
          <a:ext cx="8382240" cy="418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1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0880" y="2527200"/>
                    <a:ext cx="8382240" cy="41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3"/>
          <p:cNvSpPr/>
          <p:nvPr/>
        </p:nvSpPr>
        <p:spPr>
          <a:xfrm>
            <a:off x="285840" y="857160"/>
            <a:ext cx="8715240" cy="410760"/>
          </a:xfrm>
          <a:prstGeom prst="rect">
            <a:avLst/>
          </a:prstGeom>
          <a:solidFill>
            <a:srgbClr val="ff9900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Составные части липидов - жирные кислоты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2"/>
          <p:cNvSpPr/>
          <p:nvPr/>
        </p:nvSpPr>
        <p:spPr>
          <a:xfrm>
            <a:off x="8082000" y="0"/>
            <a:ext cx="1062000" cy="75708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Object 7"/>
          <p:cNvGraphicFramePr/>
          <p:nvPr/>
        </p:nvGraphicFramePr>
        <p:xfrm>
          <a:off x="291960" y="1447920"/>
          <a:ext cx="8709120" cy="3492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5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1960" y="1447920"/>
                    <a:ext cx="8709120" cy="34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Rectangle 8"/>
          <p:cNvSpPr/>
          <p:nvPr/>
        </p:nvSpPr>
        <p:spPr>
          <a:xfrm>
            <a:off x="880560" y="6515280"/>
            <a:ext cx="816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А.М. Чибиряев "Биологически активные соединения живых организмов", 2009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8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686800" cy="60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28760" y="285840"/>
            <a:ext cx="8115120" cy="59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Чаще всего в состав жиров входят предельные кислоты: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альмитиновая 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С15Н31СООН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и стеариновая 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С17Н35СООН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, и непредельные кислоты: олеиновая 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С17Н33СООН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и линолевая 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С17Н31СООН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бщее название соединений карбоновых кислот с глицерином —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триглицериды.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остав и строение жиров были установлены еще в начале XIX века благодаря работам французских химиков Шевреля и Бертло. Шеврель установил, что жиры и масла при длительном нагревании с водой и щелочью разлагаются с выделением карбоновых кислот и глицерина. Бертло синтезировал жиры из глицерина и карбоновых кисло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037"/>
          <p:cNvPicPr/>
          <p:nvPr/>
        </p:nvPicPr>
        <p:blipFill>
          <a:blip r:embed="rId1"/>
          <a:stretch/>
        </p:blipFill>
        <p:spPr>
          <a:xfrm>
            <a:off x="571680" y="3071880"/>
            <a:ext cx="796284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имические свойства жир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Arial"/>
              </a:rPr>
              <a:t>Гидролиз ( омыление с водой и щелочами – едким натром или едким кал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Arial"/>
              </a:rPr>
              <a:t>Гидрирование жиров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9" descr="image008"/>
          <p:cNvPicPr/>
          <p:nvPr/>
        </p:nvPicPr>
        <p:blipFill>
          <a:blip r:embed="rId1"/>
          <a:stretch/>
        </p:blipFill>
        <p:spPr>
          <a:xfrm>
            <a:off x="1116000" y="2670120"/>
            <a:ext cx="6480360" cy="1317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2" descr="image004"/>
          <p:cNvPicPr/>
          <p:nvPr/>
        </p:nvPicPr>
        <p:blipFill>
          <a:blip r:embed="rId2"/>
          <a:stretch/>
        </p:blipFill>
        <p:spPr>
          <a:xfrm>
            <a:off x="6659640" y="4724280"/>
            <a:ext cx="2124000" cy="1584360"/>
          </a:xfrm>
          <a:prstGeom prst="rect">
            <a:avLst/>
          </a:prstGeom>
          <a:ln w="0">
            <a:noFill/>
          </a:ln>
        </p:spPr>
      </p:pic>
      <p:grpSp>
        <p:nvGrpSpPr>
          <p:cNvPr id="124" name="Group 13"/>
          <p:cNvGrpSpPr/>
          <p:nvPr/>
        </p:nvGrpSpPr>
        <p:grpSpPr>
          <a:xfrm>
            <a:off x="324000" y="4581360"/>
            <a:ext cx="6265800" cy="1784160"/>
            <a:chOff x="324000" y="4581360"/>
            <a:chExt cx="6265800" cy="1784160"/>
          </a:xfrm>
        </p:grpSpPr>
        <p:pic>
          <p:nvPicPr>
            <p:cNvPr id="125" name="Picture 14" descr="image006"/>
            <p:cNvPicPr/>
            <p:nvPr/>
          </p:nvPicPr>
          <p:blipFill>
            <a:blip r:embed="rId3"/>
            <a:srcRect l="58630" t="0" r="24996" b="0"/>
            <a:stretch/>
          </p:blipFill>
          <p:spPr>
            <a:xfrm>
              <a:off x="5221440" y="4581360"/>
              <a:ext cx="1368360" cy="171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5" descr="image006"/>
            <p:cNvPicPr/>
            <p:nvPr/>
          </p:nvPicPr>
          <p:blipFill>
            <a:blip r:embed="rId4"/>
            <a:srcRect l="0" t="0" r="47415" b="0"/>
            <a:stretch/>
          </p:blipFill>
          <p:spPr>
            <a:xfrm>
              <a:off x="324000" y="4654080"/>
              <a:ext cx="4392720" cy="171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Rectangle 16"/>
            <p:cNvSpPr/>
            <p:nvPr/>
          </p:nvSpPr>
          <p:spPr>
            <a:xfrm>
              <a:off x="4672080" y="4635360"/>
              <a:ext cx="582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c1c1c"/>
                  </a:solidFill>
                  <a:latin typeface="Arial"/>
                </a:rPr>
                <a:t>CH</a:t>
              </a:r>
              <a:r>
                <a:rPr b="1" lang="en-US" sz="1800" spc="-1" strike="noStrike" baseline="-25000">
                  <a:solidFill>
                    <a:srgbClr val="1c1c1c"/>
                  </a:solidFill>
                  <a:latin typeface="Arial"/>
                </a:rPr>
                <a:t>3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17"/>
            <p:cNvSpPr/>
            <p:nvPr/>
          </p:nvSpPr>
          <p:spPr>
            <a:xfrm>
              <a:off x="4651200" y="5302080"/>
              <a:ext cx="582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c1c1c"/>
                  </a:solidFill>
                  <a:latin typeface="Arial"/>
                </a:rPr>
                <a:t>CH</a:t>
              </a:r>
              <a:r>
                <a:rPr b="1" lang="en-US" sz="1800" spc="-1" strike="noStrike" baseline="-25000">
                  <a:solidFill>
                    <a:srgbClr val="1c1c1c"/>
                  </a:solidFill>
                  <a:latin typeface="Arial"/>
                </a:rPr>
                <a:t>3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18"/>
            <p:cNvSpPr/>
            <p:nvPr/>
          </p:nvSpPr>
          <p:spPr>
            <a:xfrm>
              <a:off x="4653000" y="5949720"/>
              <a:ext cx="582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c1c1c"/>
                  </a:solidFill>
                  <a:latin typeface="Arial"/>
                </a:rPr>
                <a:t>CH</a:t>
              </a:r>
              <a:r>
                <a:rPr b="1" lang="en-US" sz="1800" spc="-1" strike="noStrike" baseline="-25000">
                  <a:solidFill>
                    <a:srgbClr val="1c1c1c"/>
                  </a:solidFill>
                  <a:latin typeface="Arial"/>
                </a:rPr>
                <a:t>3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foto_019"/>
          <p:cNvPicPr/>
          <p:nvPr/>
        </p:nvPicPr>
        <p:blipFill>
          <a:blip r:embed="rId1"/>
          <a:stretch/>
        </p:blipFill>
        <p:spPr>
          <a:xfrm>
            <a:off x="1285920" y="2517840"/>
            <a:ext cx="5857920" cy="41115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9"/>
          <p:cNvSpPr/>
          <p:nvPr/>
        </p:nvSpPr>
        <p:spPr>
          <a:xfrm>
            <a:off x="2195640" y="333360"/>
            <a:ext cx="567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Рацион   пита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0"/>
          <p:cNvSpPr/>
          <p:nvPr/>
        </p:nvSpPr>
        <p:spPr>
          <a:xfrm>
            <a:off x="663480" y="1557360"/>
            <a:ext cx="174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Белк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2"/>
          <p:cNvSpPr/>
          <p:nvPr/>
        </p:nvSpPr>
        <p:spPr>
          <a:xfrm>
            <a:off x="3564000" y="1557360"/>
            <a:ext cx="146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Жир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3"/>
          <p:cNvSpPr/>
          <p:nvPr/>
        </p:nvSpPr>
        <p:spPr>
          <a:xfrm>
            <a:off x="6014520" y="1557360"/>
            <a:ext cx="193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Углевод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4"/>
          <p:cNvSpPr/>
          <p:nvPr/>
        </p:nvSpPr>
        <p:spPr>
          <a:xfrm flipH="1">
            <a:off x="1692360" y="907920"/>
            <a:ext cx="2016000" cy="72072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6"/>
          <p:cNvSpPr/>
          <p:nvPr/>
        </p:nvSpPr>
        <p:spPr>
          <a:xfrm>
            <a:off x="4211640" y="981000"/>
            <a:ext cx="0" cy="6476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7"/>
          <p:cNvSpPr/>
          <p:nvPr/>
        </p:nvSpPr>
        <p:spPr>
          <a:xfrm>
            <a:off x="4859280" y="907920"/>
            <a:ext cx="1800360" cy="6494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8"/>
          <p:cNvSpPr/>
          <p:nvPr/>
        </p:nvSpPr>
        <p:spPr>
          <a:xfrm>
            <a:off x="901800" y="227664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2а, 2б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9"/>
          <p:cNvSpPr/>
          <p:nvPr/>
        </p:nvSpPr>
        <p:spPr>
          <a:xfrm>
            <a:off x="4069080" y="220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1"/>
          <p:cNvSpPr/>
          <p:nvPr/>
        </p:nvSpPr>
        <p:spPr>
          <a:xfrm>
            <a:off x="6589440" y="220500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4б, 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600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800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4000"/>
                            </p:stCondLst>
                            <p:childTnLst>
                              <p:par>
                                <p:cTn id="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6000"/>
                            </p:stCondLst>
                            <p:childTnLst>
                              <p:par>
                                <p:cTn id="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идрогенизация жир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558hydrogenation"/>
          <p:cNvPicPr/>
          <p:nvPr/>
        </p:nvPicPr>
        <p:blipFill>
          <a:blip r:embed="rId1"/>
          <a:stretch/>
        </p:blipFill>
        <p:spPr>
          <a:xfrm>
            <a:off x="1258920" y="1844640"/>
            <a:ext cx="68421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Жиры получаю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57120" y="1571760"/>
            <a:ext cx="5797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таплива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страгирова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ссова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паратирова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идрирование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иров в техни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"/>
          <p:cNvPicPr/>
          <p:nvPr/>
        </p:nvPicPr>
        <p:blipFill>
          <a:blip r:embed="rId1"/>
          <a:stretch/>
        </p:blipFill>
        <p:spPr>
          <a:xfrm>
            <a:off x="5357880" y="1857240"/>
            <a:ext cx="3029040" cy="4286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менение жир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ищевые продук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ырье в производстве маргар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медици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изводстве мы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космети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техни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лаках и краск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иологическая роль липидов в биохимических процесс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71680" y="135684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нергетическ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ри окислении липидов выделяется энергия (при окислении 1 г. жира выделяется 39,1 кдж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уктурна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входят в состав различных биологических мембр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анспортн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участвуют в транспорте веществ через липидный слой биомембра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ханическ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липиды соединительной ткани, окружающей внутренние органы,  и подкожного жирового слоя предохраняют органы от повреждений при внешних механических воздейств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плоизолирующ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благодаря своей низкой теплопроводности сохраняют тепло в организ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300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з различных источников выделено 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600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различных видов жиров, их них – </a:t>
            </a:r>
            <a:r>
              <a:rPr b="1" i="1" lang="ru-RU" sz="4400" spc="-1" strike="noStrike">
                <a:solidFill>
                  <a:srgbClr val="99ff66"/>
                </a:solidFill>
                <a:latin typeface="Arial"/>
              </a:rPr>
              <a:t>420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99ff66"/>
                </a:solidFill>
                <a:latin typeface="Arial"/>
              </a:rPr>
              <a:t>растительного происхождения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6451560" y="3473280"/>
            <a:ext cx="2692440" cy="3384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L21p2p06m"/>
          <p:cNvPicPr/>
          <p:nvPr/>
        </p:nvPicPr>
        <p:blipFill>
          <a:blip r:embed="rId2"/>
          <a:stretch/>
        </p:blipFill>
        <p:spPr>
          <a:xfrm>
            <a:off x="250920" y="3429000"/>
            <a:ext cx="1778040" cy="3429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L06w4p05"/>
          <p:cNvPicPr/>
          <p:nvPr/>
        </p:nvPicPr>
        <p:blipFill>
          <a:blip r:embed="rId3"/>
          <a:stretch/>
        </p:blipFill>
        <p:spPr>
          <a:xfrm>
            <a:off x="2340000" y="3941640"/>
            <a:ext cx="3886200" cy="2916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"/>
          <p:cNvPicPr/>
          <p:nvPr/>
        </p:nvPicPr>
        <p:blipFill>
          <a:blip r:embed="rId4"/>
          <a:stretch/>
        </p:blipFill>
        <p:spPr>
          <a:xfrm>
            <a:off x="5651640" y="2133720"/>
            <a:ext cx="2009520" cy="15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L21p2p00"/>
          <p:cNvPicPr/>
          <p:nvPr/>
        </p:nvPicPr>
        <p:blipFill>
          <a:blip r:embed="rId1"/>
          <a:stretch/>
        </p:blipFill>
        <p:spPr>
          <a:xfrm>
            <a:off x="4284720" y="3141720"/>
            <a:ext cx="4537080" cy="34052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3705120" cy="4321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L22p2p04"/>
          <p:cNvPicPr/>
          <p:nvPr/>
        </p:nvPicPr>
        <p:blipFill>
          <a:blip r:embed="rId3"/>
          <a:stretch/>
        </p:blipFill>
        <p:spPr>
          <a:xfrm>
            <a:off x="5867280" y="0"/>
            <a:ext cx="3024360" cy="2268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"/>
          <p:cNvPicPr/>
          <p:nvPr/>
        </p:nvPicPr>
        <p:blipFill>
          <a:blip r:embed="rId4"/>
          <a:stretch/>
        </p:blipFill>
        <p:spPr>
          <a:xfrm>
            <a:off x="684360" y="4149720"/>
            <a:ext cx="2471760" cy="2490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"/>
          <p:cNvPicPr/>
          <p:nvPr/>
        </p:nvPicPr>
        <p:blipFill>
          <a:blip r:embed="rId5"/>
          <a:stretch/>
        </p:blipFill>
        <p:spPr>
          <a:xfrm>
            <a:off x="3564000" y="1154160"/>
            <a:ext cx="2448000" cy="19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более 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180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животного происхождения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L22p1p07"/>
          <p:cNvPicPr/>
          <p:nvPr/>
        </p:nvPicPr>
        <p:blipFill>
          <a:blip r:embed="rId1"/>
          <a:stretch/>
        </p:blipFill>
        <p:spPr>
          <a:xfrm>
            <a:off x="3635280" y="1484280"/>
            <a:ext cx="2873520" cy="2155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115-1551_IMG"/>
          <p:cNvPicPr/>
          <p:nvPr/>
        </p:nvPicPr>
        <p:blipFill>
          <a:blip r:embed="rId2"/>
          <a:stretch/>
        </p:blipFill>
        <p:spPr>
          <a:xfrm>
            <a:off x="6659640" y="1557360"/>
            <a:ext cx="2160360" cy="1901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"/>
          <p:cNvPicPr/>
          <p:nvPr/>
        </p:nvPicPr>
        <p:blipFill>
          <a:blip r:embed="rId3"/>
          <a:stretch/>
        </p:blipFill>
        <p:spPr>
          <a:xfrm>
            <a:off x="2050920" y="4737240"/>
            <a:ext cx="1590840" cy="21207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"/>
          <p:cNvPicPr/>
          <p:nvPr/>
        </p:nvPicPr>
        <p:blipFill>
          <a:blip r:embed="rId4"/>
          <a:stretch/>
        </p:blipFill>
        <p:spPr>
          <a:xfrm>
            <a:off x="5670720" y="4005360"/>
            <a:ext cx="3473280" cy="26161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2" descr=""/>
          <p:cNvPicPr/>
          <p:nvPr/>
        </p:nvPicPr>
        <p:blipFill>
          <a:blip r:embed="rId5"/>
          <a:stretch/>
        </p:blipFill>
        <p:spPr>
          <a:xfrm>
            <a:off x="0" y="1413000"/>
            <a:ext cx="3492360" cy="18302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" descr="L22p1p05"/>
          <p:cNvPicPr/>
          <p:nvPr/>
        </p:nvPicPr>
        <p:blipFill>
          <a:blip r:embed="rId6"/>
          <a:stretch/>
        </p:blipFill>
        <p:spPr>
          <a:xfrm>
            <a:off x="3492360" y="3860640"/>
            <a:ext cx="2592360" cy="1943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4" descr=""/>
          <p:cNvPicPr/>
          <p:nvPr/>
        </p:nvPicPr>
        <p:blipFill>
          <a:blip r:embed="rId7"/>
          <a:stretch/>
        </p:blipFill>
        <p:spPr>
          <a:xfrm>
            <a:off x="0" y="3068640"/>
            <a:ext cx="2770200" cy="20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ассификация жир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3776760" y="4500720"/>
            <a:ext cx="4724280" cy="219996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42960" y="1213920"/>
            <a:ext cx="7786800" cy="397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 Резервные липиды (жировая ткань)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 Структурные или протоплазматические липиды (мембраны клеток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ервная ткань содержит до 25% структурных липидов, а биологические мембраны – 40 % от сухой масс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3.липиды   простые (двухкомпонентные)  - жиры, стериды, вос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4.сложные (многокомпонентные) - фосфолипиды, гликолипиды, сфинголипи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5.гидрофобны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6.амфифиль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214200"/>
            <a:ext cx="8229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иглицериды поглощаются и складируются в жировых и мышечных клетках, как источник энерг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полиз – распад триглицеридов на отдельные жирные кислоты, которые в дальнейшем используются, как энергия при поступлении в кровь, или как материал для переноса белками в различные клетки организ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adipogenesis1"/>
          <p:cNvPicPr/>
          <p:nvPr/>
        </p:nvPicPr>
        <p:blipFill>
          <a:blip r:embed="rId1"/>
          <a:stretch/>
        </p:blipFill>
        <p:spPr>
          <a:xfrm>
            <a:off x="857160" y="3143160"/>
            <a:ext cx="3602160" cy="3384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ProcId21Img1"/>
          <p:cNvPicPr/>
          <p:nvPr/>
        </p:nvPicPr>
        <p:blipFill>
          <a:blip r:embed="rId2"/>
          <a:stretch/>
        </p:blipFill>
        <p:spPr>
          <a:xfrm>
            <a:off x="4929120" y="3357720"/>
            <a:ext cx="316728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115120" cy="601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ериды</a:t>
            </a:r>
            <a:br>
              <a:rPr sz="20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– это сложные эфиры ВЖК  и полициклических спиртов (стеролов)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организме 10%  стеролов представлены стеридами; 90 % находятся в свободном состоянии и образуют  неомыляемую (негидролизующуюся) фракцию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лавным для организма стеролом является холестеро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В организме животных стеролы окисляются с образованием производных – стероидов. К ним относятся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холевые кислоты (ингредиенты желчи), стероидные гормон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Из ВЖК в составе стеридов обнаружены пальмитиновая, стеариновая, олеиновая кислоты.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Воски - сложные эфир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ЖК и высших одноатомных спиртов . В состав эфиров, образующих воски входят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альмитиновая и церотиновая кислоты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СН3(СН2)14СООН  и  СН3(СН2)24СООН ), а из спиртов –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цетиловый, цериловый и мирициловый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 СН3(СН2)14СН2ОН,  СН3(СН2)24СН2ОН      и     СН3(СН2)28СН2ОН )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Воски покрывают тонким слоем листья, стебли и плоды растений. Восковой налёт предохраняет от смачивания водой, высыхания и поражения микроорганизмами. Содержание восков в зерне невелико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Воски животного происхождения: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пермацет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добываемый из черепных полостей кашелота,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челиный воск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ланолин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получают при отмывке растворителями жиров овечьей шерсти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олестерин (холестерол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крыт в 1733 году , впервые извлечен из желчных камней в 1769 го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зуется в клетках организма, но больше всего в печени (1500мг в день), и поэтому не необходим, как источник пищ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уется при построении гормонов, образования желчи, является составляющей клеточной мембраны (печени, клеток кров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cholesterol-packet"/>
          <p:cNvPicPr/>
          <p:nvPr/>
        </p:nvPicPr>
        <p:blipFill>
          <a:blip r:embed="rId1"/>
          <a:stretch/>
        </p:blipFill>
        <p:spPr>
          <a:xfrm>
            <a:off x="3357720" y="4786200"/>
            <a:ext cx="2400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6T07:30:38Z</dcterms:created>
  <dc:creator>ольга</dc:creator>
  <dc:description/>
  <dc:language>en-US</dc:language>
  <cp:lastModifiedBy>Admin</cp:lastModifiedBy>
  <dcterms:modified xsi:type="dcterms:W3CDTF">2012-02-13T12:59:00Z</dcterms:modified>
  <cp:revision>32</cp:revision>
  <dc:subject/>
  <dc:title>Органическая химия: «Жиры»</dc:title>
</cp:coreProperties>
</file>