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EA0-3227-4BAD-9581-0D4664C3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2AA-2108-4DDA-983F-63BFFF6A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DDC-7953-4F6E-91F1-75F135B1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149-DC14-4ECF-8A4A-9AF3F653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34FB-8F3D-4274-8ED4-E035C72C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7C17-D4D8-4DA0-AEFA-B8268051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8AE7-BE96-4948-A55E-F587C5CE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331A-1935-45B3-9A3B-EA368A28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4CF4-D064-4A02-81BC-96C65A67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225C-A197-443A-8CA2-104AF421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5AA4-902B-4603-8CD4-F3ABD284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632-3C8F-4217-BB5E-55990019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6821-7B4C-482D-A953-94F64AFC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E52A-EFF3-44CD-A298-7B72C8BE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89B8-2631-4833-B8CC-CF7A81F1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6556-1BFF-4C54-A55B-FD3F8CD9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A81C-88C6-4385-975E-EF5F2A87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031-CF64-45AA-8D66-A8542519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D1A-D8E0-4E63-9551-E0AA74CB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557-F06E-46B2-8700-23F02254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2BE-3A74-4A31-BA5C-508CD33D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73F-F63E-4D14-B02B-8DBB42A9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CEF-77C8-4308-8316-6E9E0465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345-50E0-46C4-B85A-8616C149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5E8D-5E81-45D4-B85D-70C876995F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58DE-03E2-4E61-A4D7-E22F789470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14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2060"/>
                </a:solidFill>
                <a:latin typeface="Times New Roman"/>
              </a:rPr>
              <a:t>Б Е Л К И</a:t>
            </a:r>
            <a:endParaRPr b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7" descr="{B074B8AD-67A9-4515-98C6-26CB297AE431}"/>
          <p:cNvPicPr/>
          <p:nvPr/>
        </p:nvPicPr>
        <p:blipFill>
          <a:blip r:embed="rId1"/>
          <a:stretch/>
        </p:blipFill>
        <p:spPr>
          <a:xfrm>
            <a:off x="1692360" y="2565360"/>
            <a:ext cx="5976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енатурация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рушение природной структуры белка (под действием нагревания и химических реагенто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Необратимая денатурация белка куриного яйца под воздействием высокой температуры"/>
          <p:cNvPicPr/>
          <p:nvPr/>
        </p:nvPicPr>
        <p:blipFill>
          <a:blip r:embed="rId1"/>
          <a:stretch/>
        </p:blipFill>
        <p:spPr>
          <a:xfrm>
            <a:off x="1547640" y="1882800"/>
            <a:ext cx="49690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мфотерност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__________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йства кисло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к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__________ свойства основа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2340000" y="321300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1979640" y="407664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цветные реакции белков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–  качественные реакц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а) ксантопротеиновая реакци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елок +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конц.  →   желтое окраш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б) биуретовая реакц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Белок +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u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OH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↓ → раствор фиолетового цв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)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орение 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запах жжённых перь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интез бел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3" descr="Молекулярная модель малой (слева) и большой (справа) субъединиц бактериальной рибосомы — молекулярной машины, синтезирующей белки. Голубым цветом показаны белки в составе рибосомы, но основную структурную роль выполняет рРНК"/>
          <p:cNvPicPr/>
          <p:nvPr/>
        </p:nvPicPr>
        <p:blipFill>
          <a:blip r:embed="rId1"/>
          <a:stretch/>
        </p:blipFill>
        <p:spPr>
          <a:xfrm>
            <a:off x="900000" y="1208160"/>
            <a:ext cx="61200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L23p10p01"/>
          <p:cNvPicPr/>
          <p:nvPr/>
        </p:nvPicPr>
        <p:blipFill>
          <a:blip r:embed="rId1"/>
          <a:stretch/>
        </p:blipFill>
        <p:spPr>
          <a:xfrm>
            <a:off x="5003640" y="3789360"/>
            <a:ext cx="3770640" cy="2827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мецкий химик Эмиль Фишер первым выяснил, как построены молекулы белков и заложил основы их химического синтеза. В начале 20 века Фишер доказал пептидную теорию строения белков, выдвинутую русским химиком Данилевским, синтезировав полипептиды состоящие из 3 – 18 аминокислотных остат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редерик Грант Бантинг – канадский ученый, в 1923 году  стал лауреатом Нобелевской премии за открытие и изучение инсулин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187880" cy="6205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539640" y="64911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14.11.1891–22.2.19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71680" y="9284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1992 году был получен гормон инсулин, позво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яющий контролировать сахарный диаб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356000" y="3530520"/>
            <a:ext cx="43927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кс Фердинанд Перутц – австрийский ученый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1937 года изучал структуру гемоглобин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4210200" cy="5762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759240" y="6308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1914-2002), Авс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{BBE8BE40-FBA9-4281-A2D5-AEA24EA34F5E}"/>
          <p:cNvPicPr/>
          <p:nvPr/>
        </p:nvPicPr>
        <p:blipFill>
          <a:blip r:embed="rId1"/>
          <a:stretch/>
        </p:blipFill>
        <p:spPr>
          <a:xfrm>
            <a:off x="4067280" y="3284640"/>
            <a:ext cx="4716360" cy="3295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50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акс Фердинанд Перутц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сшифровал пространственное строение молеку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моглобина и построил ее точную моде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Член Национальной академии наук США (с 1970 года), Австрийской АН в Вене (с 1963 года), Американской академии искусств и наук (с 1963 года). Лауреат Нобелевской премии по химии за 1962 г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363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ль белков в клетк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Строительный материа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лочки, органоидов и мембран клетки. Из них построены кровеносные сосуды, сухожилия, волос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Каталитическая функция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клеточные катализаторы – бел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гательная функция.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тительные белки вызывают всякое дви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всюду, где мы встречаем жизнь, мы находим, что она связана с каким-либо белковым телом, и повсюду, где мы встречаем какое-либо белковое тело, не находящееся в процессе разложения, мы без исключения встречаем и явление жизни».                                                             ( К. Маркс, Ф.Энгельс. Собрание сочинений. Т.20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28760" y="28584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Транспортная роль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ок крови гемоглобин присоединяет кислород и разносит по всем тканя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Защитная функция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работка белковых тел антител для обезвреживания чужеродны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Энергетическая функц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разложении 1 г белка выделяется 17,6 кДж энергии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держание белков в различных тканях челове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мышца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о 80%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селезенке, крови, легк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коло 72%;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коже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3%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пече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57%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мозг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15%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ировая ткань, костная и ткань зуб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держат от 14 до 28% бел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400" y="428400"/>
            <a:ext cx="8218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Белки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– это сложные высокомолекулярные природные соединения, построенные из остатков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α – аминокислот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,   соединенных   пептидными   (амидными)  связями  ―СО ―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NH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―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троение белк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Белков в клетках больше, чем каких бы то ни было других органических соединений: на их долю приходится свыше 50% общей сухой массы клет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7" descr="{89436939-D16C-4693-98C6-D7521CC447A5}"/>
          <p:cNvPicPr/>
          <p:nvPr/>
        </p:nvPicPr>
        <p:blipFill>
          <a:blip r:embed="rId1"/>
          <a:stretch/>
        </p:blipFill>
        <p:spPr>
          <a:xfrm>
            <a:off x="5162400" y="1125360"/>
            <a:ext cx="272268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{D87B3C2D-55E9-4AE4-908B-6815C6D1C768}"/>
          <p:cNvPicPr/>
          <p:nvPr/>
        </p:nvPicPr>
        <p:blipFill>
          <a:blip r:embed="rId2"/>
          <a:stretch/>
        </p:blipFill>
        <p:spPr>
          <a:xfrm>
            <a:off x="5148360" y="394164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руктуры белковой молекул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Уровни структуры белков: 1 — первичная, 2 — вторичная, 3 — третичная, 4 — четвертичная"/>
          <p:cNvPicPr/>
          <p:nvPr/>
        </p:nvPicPr>
        <p:blipFill>
          <a:blip r:embed="rId1"/>
          <a:stretch/>
        </p:blipFill>
        <p:spPr>
          <a:xfrm>
            <a:off x="1116000" y="1197000"/>
            <a:ext cx="5040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зные способы изображения  трёхмерной структуры бел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Разные способы изображения трёхмерной структуры белка на примере фермента триозофосфатизомеразы. Слева — «палочковая» модель, с изображением всех атомов и связей между ними; цветами показаны элементы. В середине изображены структурные мотивы, α-спирали и β-листы. Справа изображена контактная поверхность белка, на основании Ван-дер-Ваальсовых радиусов атомов; цветами показаны особенности активности участков"/>
          <p:cNvPicPr/>
          <p:nvPr/>
        </p:nvPicPr>
        <p:blipFill>
          <a:blip r:embed="rId1"/>
          <a:stretch/>
        </p:blipFill>
        <p:spPr>
          <a:xfrm>
            <a:off x="250920" y="1916280"/>
            <a:ext cx="86421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34220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инокислоты, участвующие в создании белко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ицин                    Алани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ин                      Лейц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лейцин                      Сер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он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стеин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imag1002"/>
          <p:cNvPicPr/>
          <p:nvPr/>
        </p:nvPicPr>
        <p:blipFill>
          <a:blip r:embed="rId1"/>
          <a:stretch/>
        </p:blipFill>
        <p:spPr>
          <a:xfrm>
            <a:off x="2484360" y="1700280"/>
            <a:ext cx="158292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imag1004"/>
          <p:cNvPicPr/>
          <p:nvPr/>
        </p:nvPicPr>
        <p:blipFill>
          <a:blip r:embed="rId2"/>
          <a:stretch/>
        </p:blipFill>
        <p:spPr>
          <a:xfrm>
            <a:off x="6084720" y="1700280"/>
            <a:ext cx="2087640" cy="90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imag1006"/>
          <p:cNvPicPr/>
          <p:nvPr/>
        </p:nvPicPr>
        <p:blipFill>
          <a:blip r:embed="rId3"/>
          <a:stretch/>
        </p:blipFill>
        <p:spPr>
          <a:xfrm>
            <a:off x="2050920" y="2565360"/>
            <a:ext cx="2376720" cy="987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imag1008"/>
          <p:cNvPicPr/>
          <p:nvPr/>
        </p:nvPicPr>
        <p:blipFill>
          <a:blip r:embed="rId4"/>
          <a:stretch/>
        </p:blipFill>
        <p:spPr>
          <a:xfrm>
            <a:off x="5867280" y="2637000"/>
            <a:ext cx="2737080" cy="1152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imag1010"/>
          <p:cNvPicPr/>
          <p:nvPr/>
        </p:nvPicPr>
        <p:blipFill>
          <a:blip r:embed="rId5"/>
          <a:stretch/>
        </p:blipFill>
        <p:spPr>
          <a:xfrm>
            <a:off x="2771640" y="3716280"/>
            <a:ext cx="230508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imag1012"/>
          <p:cNvPicPr/>
          <p:nvPr/>
        </p:nvPicPr>
        <p:blipFill>
          <a:blip r:embed="rId6"/>
          <a:stretch/>
        </p:blipFill>
        <p:spPr>
          <a:xfrm>
            <a:off x="6516720" y="3860640"/>
            <a:ext cx="2158920" cy="835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imag1014"/>
          <p:cNvPicPr/>
          <p:nvPr/>
        </p:nvPicPr>
        <p:blipFill>
          <a:blip r:embed="rId7"/>
          <a:stretch/>
        </p:blipFill>
        <p:spPr>
          <a:xfrm>
            <a:off x="2411280" y="4869000"/>
            <a:ext cx="2305080" cy="86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imag1016"/>
          <p:cNvPicPr/>
          <p:nvPr/>
        </p:nvPicPr>
        <p:blipFill>
          <a:blip r:embed="rId8"/>
          <a:stretch/>
        </p:blipFill>
        <p:spPr>
          <a:xfrm>
            <a:off x="6659640" y="486900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BTAR_RGT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459640" y="6237360"/>
            <a:ext cx="435240" cy="365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BTAR_LFT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885080" y="6237360"/>
            <a:ext cx="4348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имические свойства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идроли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при нагревании с растворами кислот, щелочей, при действии фермент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елок ↔ аминокислоты  →  кровь во все клетки и ткани организ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          O 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 ─N ─CH─C─N ─CH─C=O 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 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             I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ипепти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              S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=O + 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=O + 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─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─C=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                     I       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                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ицин                                серин                             цисте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0:34:18Z</dcterms:created>
  <dc:creator>Customer</dc:creator>
  <dc:description/>
  <dc:language>en-US</dc:language>
  <cp:lastModifiedBy>Admin</cp:lastModifiedBy>
  <dcterms:modified xsi:type="dcterms:W3CDTF">2012-02-01T16:45:27Z</dcterms:modified>
  <cp:revision>61</cp:revision>
  <dc:subject/>
  <dc:title>  Презентация подготовлена учителем химии МОУСОШ №1 С.В. Потеевой </dc:title>
</cp:coreProperties>
</file>