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00C-7430-4455-B483-22FA1475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A08-7CF3-46EE-A1C1-56644A69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FB6-F766-4E1D-956E-3D899F9D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8F8-9969-4F0B-8B45-8F7EC1EF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6337-A387-4811-A6A7-52B5685C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5BB0-02BE-4AC6-9782-F7264F92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5CA6-FE92-4DAD-9083-D21685C0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996E-1F5F-43E6-9692-ABA79913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1552-2FCE-4D87-9619-3438F778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45AE-BFA8-4681-92BB-CEFE1C7B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AB21-C3DB-4D93-B521-5D235480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740B-80D0-4648-80E8-E8C83CA0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8B7A-F0AE-4707-B2F5-5E507AA5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C965-EC03-442B-8898-AB2BE98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CF0C-C26C-45E0-8C2E-F35E9386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4218-9EC3-4075-B51B-30CF9A6A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D40A-7A5E-4EAB-A626-5971F519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24BBD-4A3E-47CC-B1B3-46E2659A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3B069-311B-4A0E-98CE-7BFC505C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198D2-9830-4112-B347-066678B1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19BD2-86F5-4E91-B3FE-F4D8D3D2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DCF8A-F270-4BAA-9EC5-67D56F67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078-7254-4CE2-8501-35D4DE5D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D84BC-E83D-4D95-964E-92C834FE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9776E-F08E-4D9E-9E28-F11FDEC4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1D4AF-2551-4D96-9D99-646E6850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AF0A6-5EE6-427E-92D6-06F2E42F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CE0A8-31DD-4B4A-9354-4C97DDF5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6FE2D-3A03-4EE4-AFB0-ED81249A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19F22-B370-4297-9682-5E77450F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03CB-E1DC-4540-86A8-756D1A1E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B0527-18D7-47FC-8664-4981DDF3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D294D-E8AD-4A44-9EF4-1D4433CD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21B-A497-4302-8E39-66036C85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59418-5DB7-47FB-A6D5-67D60EDE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E83BD-9A85-48A6-838F-A5B1910F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BCA8C-ED38-4A99-8F1C-DB85B44B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4573F-2CCC-4A7F-BFEA-18B86B05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41A99-E718-4637-BC94-BFB06092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4E6D6-AFDB-4D62-9B9D-1D361302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E425C-D912-49E6-BAF2-9477D915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C1BE6-29B4-4467-933E-90D2A6CC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57CBC-087C-42E4-A01B-228C12C7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0D874-E57E-46F6-A300-9F13A52D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57C-BA39-48D6-AB8A-B61EAFF7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0E205-BA46-4BDF-BF06-430ED0AE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1D3E9-798C-42AB-8CEF-B88DB82A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9536C-329F-4388-A673-9B25BE5E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6C17C2-BEE3-46A7-BDAA-BEC46885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1F731-0BD7-4FDD-AAE0-76A56520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3122E-27D4-47EF-88DC-667D3535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112BA-5BFC-4EF4-BFD3-5243CAE7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C0FB7-50A3-4070-BC45-B425D49C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DFEFC-136D-44C7-898F-FDE03FF3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B8274-054A-4355-9B8B-94E24B18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BDC-12D8-49C8-94AC-AEA96DEF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61702E-7CD9-4993-AB0D-BBF46377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2C8E3-F7E3-42BD-BDD5-3AC6D367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448AD-EB8F-4372-9EFE-58BDA9F6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58FD23-E990-4D5F-BE45-AA1183C1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8EB44-3C06-4F23-9AA7-2B6021C8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4EF83-19DB-48B7-9464-1D707636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FB6DD-811C-4FA0-9A03-F4EA81FD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7D53E-62FF-4F21-827B-427D1D76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2057F9-A0C3-4B4E-B193-06640373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2921E-8025-4FB1-A8B9-A14922E1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492-AC8F-40F3-AB64-D8B38794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6B7B1-F416-44A4-8858-C7BCE974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FE359A-75C3-425D-962A-3959A6FF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95D515-95D1-49C4-8709-C8D6C0FD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487A4A-D08D-4DC3-B46D-A275547F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FE9E66-6626-45AB-8548-34F497BD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22C47F-6A2F-41EC-9320-7EEB1F25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1DA3F-8DE8-4D51-8796-9F5AF24B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A2DB03-46D5-4EC9-B3F7-A1B51BCE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BD553-AB18-4E19-8FC1-BCF14F1A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F2D8FD-1B93-4B3F-B6D6-1D0AB4DC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0FD-A83B-4821-80A6-A9ED2DB2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C2CE6-DC2E-486B-AF89-138D3650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52C20-F03B-4BCA-A20C-5462BA07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84A7E-80A8-443F-857E-F4133EEB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D3E25-561D-49AA-9510-3341AA37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C660C5-F707-4421-A8FD-5ABEE181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419-D7E1-47DE-80C3-F3DF0D69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BE70-F06F-4503-BD78-A0EDDBC3015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9C45-6FC2-4E73-9CA5-CC6AEEF0077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C564-9F20-4058-A73C-A1831C37B63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586B-A7FA-46C7-BE12-CCB928FDD13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3A8E-C373-48A8-9085-EB1DA976A57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5FF9-1482-4056-B501-6149A4D31CC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B009-5D39-4B35-8FD4-95312525FF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00160" y="128592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2bd8"/>
                </a:solidFill>
                <a:latin typeface="Century Schoolbook"/>
              </a:rPr>
              <a:t>АМИНОКИСЛОТЫ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428760"/>
            <a:ext cx="48290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дукты, содержащие лиз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ольшое количество лизина содержат в себе следующие продукты: картофель, свинина, йогурт, соя, зародыши пшеницы, яичный белок, чечевица, орехи, рыба, мясо, молочные продук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растительных продуктах содержание лизина почти всегда ограничено, то есть даже малые количества лизина существенно повышают их пищевую цен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C:\Users\User\Desktop\валя\200px-Lysine.png"/>
          <p:cNvPicPr/>
          <p:nvPr/>
        </p:nvPicPr>
        <p:blipFill>
          <a:blip r:embed="rId1"/>
          <a:stretch/>
        </p:blipFill>
        <p:spPr>
          <a:xfrm>
            <a:off x="5500800" y="1071720"/>
            <a:ext cx="253980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7467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71e5"/>
                </a:solidFill>
                <a:latin typeface="Century Schoolbook"/>
              </a:rPr>
              <a:t>АРГИНИН</a:t>
            </a:r>
            <a:br>
              <a:rPr sz="2700"/>
            </a:br>
            <a:endParaRPr b="0" lang="en-US" sz="49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74" name="Picture 2" descr="C:\Users\User\Desktop\валя\200px-L-arginine-3D-hztl.png"/>
          <p:cNvPicPr/>
          <p:nvPr/>
        </p:nvPicPr>
        <p:blipFill>
          <a:blip r:embed="rId1"/>
          <a:stretch/>
        </p:blipFill>
        <p:spPr>
          <a:xfrm>
            <a:off x="5214960" y="928800"/>
            <a:ext cx="3286080" cy="2466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Users\User\Desktop\валя\200px-Arginine.png"/>
          <p:cNvPicPr/>
          <p:nvPr/>
        </p:nvPicPr>
        <p:blipFill>
          <a:blip r:embed="rId2"/>
          <a:stretch/>
        </p:blipFill>
        <p:spPr>
          <a:xfrm>
            <a:off x="785880" y="1071720"/>
            <a:ext cx="3071880" cy="407196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5"/>
          <p:cNvSpPr/>
          <p:nvPr/>
        </p:nvSpPr>
        <p:spPr>
          <a:xfrm>
            <a:off x="4286160" y="428616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кращен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г, Arg,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6"/>
          <p:cNvSpPr/>
          <p:nvPr/>
        </p:nvSpPr>
        <p:spPr>
          <a:xfrm>
            <a:off x="321840" y="5357880"/>
            <a:ext cx="47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лярная масса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74,2 г/м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285480"/>
            <a:ext cx="7467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гинин — условно-незаменимая аминокислота. У взрослого и здорового человека аргинин вырабатывается организмом в достаточном количестве. В то же время, у детей и подростков, у пожилых и больных людей уровень синтеза аргинина часто недостаточе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гинин широко рекламируется как компонент БАД для бодибилдеров с целью улучшения питания мышц, и пожилых людей для улучшения эректильной функции. Так же массово применяется аргинин и в пищевых добавках, рекламируемых «в целях стимулирования иммунитет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66"/>
                </a:solidFill>
                <a:latin typeface="Century Schoolbook"/>
              </a:rPr>
              <a:t>L-АРГИНИН ВСТРЕЧАЕТСЯ ВО МНОГИХ ПРОДУКТАХ ПИТАНИЯ, КАК ЖИВОТНОГО, ТАК И РАСТИТЕЛЬНОГО ПРОИСХОЖДЕНИЯ. В ТАБЛИЦЕ ПРИВЕДЕНЫ ДАННЫЕ ПО СОДЕРЖАНИЮ АРГИНИНА НА 100 ГРАММ ПРОДУКТА И УКАЗАНО СОДЕРЖАНИЕ БЕЛКА.</a:t>
            </a:r>
            <a:br>
              <a:rPr sz="2700"/>
            </a:br>
            <a:endParaRPr b="0" lang="en-US" sz="2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856880"/>
            <a:ext cx="7467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родукт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             Белок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 Аргинин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/Б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винина сырая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0,95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394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7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ырое куриное филе 21,23 г 1436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8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ырое филе лосося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0,42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221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0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уриное яйцо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2,57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820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5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оровье молоко,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3,7 % жирности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3,28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119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3,6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едровые орехи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3,69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413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7,6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рецкие орехи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5,23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278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5,0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Тыквенные семечки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30,23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5353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7,7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Пшеничная мука г/п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3,70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42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4,7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Кукурузная мука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,93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345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5,0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Рис нешлифованный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7,94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602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7,6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речишный хлеб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13,25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982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7,4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Горох сушеный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4,55 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2188 мг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0 8,9 %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ргинин относится к разряду Аминокислот, которые вырабатываются в организме лишь при определённых условиях. При малейшей патологии организм не успевает справляться с производством Аргинина. И тогда его нужно принимать в виде лекарственных средств, или биологически активных добавок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Детский организм вообще не способен самостоятельно вырабатывать аргинин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и дефиците Аргинина возникают такие заболевания: устойчивая гипертония, ослабление памяти, нервные и психические расстройства, ослабление иммунитета, сахарный диабет, злокачественные новообразования, функциональные расстройства половой системы вплоть до импотенции, заболевания внутренних органов, жировая инфильтрация печени, замедления роста и полового созревания, ожирени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Century Schoolbook"/>
              </a:rPr>
              <a:t>ГИСТИДИН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ид молеку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имическая форму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C:\Users\Петр\Desktop\Юля\презентация биохимия\гистидин\вид молекулы.png"/>
          <p:cNvPicPr/>
          <p:nvPr/>
        </p:nvPicPr>
        <p:blipFill>
          <a:blip r:embed="rId1"/>
          <a:stretch/>
        </p:blipFill>
        <p:spPr>
          <a:xfrm>
            <a:off x="755640" y="2637000"/>
            <a:ext cx="3016440" cy="3106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C:\Users\Петр\Desktop\Юля\презентация биохимия\гистидин\химическая формула.png"/>
          <p:cNvPicPr/>
          <p:nvPr/>
        </p:nvPicPr>
        <p:blipFill>
          <a:blip r:embed="rId2"/>
          <a:stretch/>
        </p:blipFill>
        <p:spPr>
          <a:xfrm>
            <a:off x="4788000" y="2349360"/>
            <a:ext cx="27558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742464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66"/>
                </a:solidFill>
                <a:latin typeface="Century Schoolbook"/>
              </a:rPr>
              <a:t>ГИСТИДИ́Н (L-Α-АМИНО-Β-ИМИДАЗОЛИЛПРОПИОНОВАЯ КИСЛОТА) — ГЕТЕРОЦИКЛИЧЕСКАЯ АЛЬФА-АМИНОКИСЛОТ</a:t>
            </a:r>
            <a:r>
              <a:rPr b="0" lang="ru-RU" sz="1600" spc="-1" strike="noStrike">
                <a:solidFill>
                  <a:srgbClr val="666666"/>
                </a:solidFill>
                <a:latin typeface="Century Schoolbook"/>
              </a:rPr>
              <a:t>А</a:t>
            </a: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, 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ГИСТИДИН — АЛЬФА-АМИНОКИСЛОТА СО СЛАБЫМИ ОСНОВНЫМИ СВОЙСТВАМИ, ОБУСЛОВЛЕННЫМИ ПРИСУТСТВИЕМ В МОЛЕКУЛЕ ОСТАТКА ИМИДАЗОЛА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666666"/>
                </a:solidFill>
                <a:latin typeface="Century Schoolbook"/>
              </a:rPr>
              <a:t>СОДЕРЖАНИЕ В ПРОДУКТАХ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ГИСТИДИНОМ БОГАТЫ ТАКИЕ ПРОДУКТЫ КАК ТУНЕЦ, ЛОСОСЬ, СВИНАЯ ВЫРЕЗКА, ГОВЯЖЬЕ ФИЛЕ, КУРИНЫЕ ГРУДКИ, СОЕВЫЕ БОБЫ, АРАХИС, ЧЕЧЕВИЦА. КРОМЕ ТОГО, ГИСТИДИН ВКЛЮЧАЕТСЯ В СОСТАВ МНОГИХ ВИТАМИННЫХ КОМПЛЕКСОВ И НЕКОТОРЫХ ДРУГИХ МЕДИКАМЕНТОВ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.</a:t>
            </a:r>
            <a:br>
              <a:rPr sz="1400"/>
            </a:br>
            <a:r>
              <a:rPr b="1" lang="ru-RU" sz="1400" spc="-1" strike="noStrike">
                <a:solidFill>
                  <a:srgbClr val="666666"/>
                </a:solidFill>
                <a:latin typeface="Century Schoolbook"/>
              </a:rPr>
              <a:t>РОЛЬ В ОРГАНИЗМЕ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ГИСТИДИН ВХОДИТ В СОСТАВ АКТИВНЫХ ЦЕНТРОВ МНОЖЕСТВА ФЕРМЕНТОВ, ЯВЛЯЕТСЯ ПРЕДШЕСТВЕННИКОМ В БИОСИНТЕЗЕ ГИСТАМИНА. ОДНА ИЗ «СУЩЕСТВЕННЫХ» АМИНОКИСЛОТ, СПОСОБСТВУЕТ РОСТУ И ВОССТАНОВЛЕНИЮ ТКАНЕЙ. В БОЛЬШОМ КОЛИЧЕСТВЕ СОДЕРЖИТСЯ В ГЕМОГЛОБИНЕ; ИСПОЛЬЗУЕТСЯ ПРИ ЛЕЧЕНИИ </a:t>
            </a:r>
            <a:r>
              <a:rPr b="0" lang="en-US" sz="1400" spc="-1" strike="noStrike">
                <a:solidFill>
                  <a:srgbClr val="666666"/>
                </a:solidFill>
                <a:latin typeface="Century Schoolbook"/>
              </a:rPr>
              <a:t>   </a:t>
            </a: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РЕВМАТОИДНЫХ </a:t>
            </a:r>
            <a:r>
              <a:rPr b="0" lang="en-US" sz="1400" spc="-1" strike="noStrike">
                <a:solidFill>
                  <a:srgbClr val="666666"/>
                </a:solidFill>
                <a:latin typeface="Century Schoolbook"/>
              </a:rPr>
              <a:t>  </a:t>
            </a: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АРТРИТОВ, АЛЛЕРГИЙ, ЯЗВ И АНЕМИИ. НЕДОСТАТОК ГИСТИДИНА МОЖЕТ ВЫЗВАТЬ ОСЛАБЛЕНИЕ СЛУХ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666666"/>
                </a:solidFill>
                <a:latin typeface="Century Schoolbook"/>
              </a:rPr>
              <a:t>СИНТЕЗ</a:t>
            </a:r>
            <a:br>
              <a:rPr sz="1400"/>
            </a:br>
            <a:r>
              <a:rPr b="0" lang="ru-RU" sz="1400" spc="-1" strike="noStrike">
                <a:solidFill>
                  <a:srgbClr val="666666"/>
                </a:solidFill>
                <a:latin typeface="Century Schoolbook"/>
              </a:rPr>
              <a:t>БИОСИНТЕЗ ГИСТИДИНА ОСУЩЕСТВЛЯЕТСЯ ИЗ 5-ФОСФОРИБОЗИЛ-1-ПИРОФОСФАТА С ИСПОЛЬЗОВАНИЕМ ФРАГМЕНТА АДЕНИНОВОГО КОЛЬЦА АТФ И АЗОТА ГЛУТАМИНА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Century Schoolbook"/>
              </a:rPr>
              <a:t>ФЕНИЛАЛАНИН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ид молеку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имическая форму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2" descr="C:\Users\Петр\Desktop\Юля\презентация биохимия\фениланин\200px-L-phenylalanine-3D-sticks.png"/>
          <p:cNvPicPr/>
          <p:nvPr/>
        </p:nvPicPr>
        <p:blipFill>
          <a:blip r:embed="rId1"/>
          <a:stretch/>
        </p:blipFill>
        <p:spPr>
          <a:xfrm>
            <a:off x="755640" y="2421000"/>
            <a:ext cx="3059280" cy="3211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C:\Users\Петр\Desktop\Юля\презентация биохимия\фениланин\200px-Phenylalanine.png"/>
          <p:cNvPicPr/>
          <p:nvPr/>
        </p:nvPicPr>
        <p:blipFill>
          <a:blip r:embed="rId2"/>
          <a:stretch/>
        </p:blipFill>
        <p:spPr>
          <a:xfrm>
            <a:off x="4788000" y="2349360"/>
            <a:ext cx="2827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ФЕНИЛАЛАНИ́Н (Α-АМИНО-Β-ФЕНИЛПРОПИОНОВАЯ КИСЛОТА, СОКР.: ФЕН, PHE, F) </a:t>
            </a: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— АРОМАТИЧЕСКАЯ АЛЬФА-АМИНОКИСЛОТА. СУЩЕСТВУЕТ В ДВУХ ОПТИЧЕСКИ ИЗОМЕРНЫХ ФОРМАХ — L И D И В ВИДЕ РАЦЕМАТА (DL). ПО ХИМИЧЕСКОМУ СТРОЕНИЮ СОЕДИНЕНИЕ МОЖНО ПРЕДСТАВИТЬ КАК АМИНОКИСЛОТУ АЛАНИН, В КОТОРОЙ ОДИН ИЗ АТОМОВ ВОДОРОДА ЗАМЕЩЁН ФЕНИЛЬНОЙ ГРУППОЙ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L-ФЕНИЛАЛАНИН ЯВЛЯЕТСЯ ПРОТЕИНОГЕННОЙ АМИНОКИСЛОТОЙ И ВХОДИТ В СОСТАВ БЕЛКОВ ВСЕХ ИЗВЕСТНЫХ ЖИВЫХ ОРГАНИЗМОВ. УЧАСТВУЯ В ГИДРОФОБНЫХ И СТЭКИНГ-ВЗАИМОДЕЙСТВИЯХ, ФЕНИЛАЛАНИН ИГРАЕТ ЗНАЧИТЕЛЬНУЮ РОЛЬ В ФОЛДИНГЕ И СТАБИЛИЗАЦИИ БЕЛКОВЫХ СТРУКТУР, ЯВЛЯЕТСЯ СОСТАВНОЙ ЧАСТЬЮ ФУНКЦИОНАЛЬНЫХ ЦЕНТР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ПРИ НАСЛЕДСТВЕННОМ ЗАБОЛЕВАНИИ </a:t>
            </a:r>
            <a:r>
              <a:rPr b="1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ФЕНИЛКЕТОНУРИИ</a:t>
            </a: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ПРЕВРАЩЕНИЕ ФЕНИЛАЛАНИНА В ТИРОЗИН НАРУШЕНО, И В ОРГАНИЗМЕ ПРОИСХОДИТ НАКОПЛЕНИЕ ФЕНИЛАЛАНИНА И ЕГО МЕТАБОЛИТОВ (ФЕНИЛПИРУВАТ, ФЕНИЛЛАКТАТ, ФЕНИЛАЦЕТАТ, ОРТО-ГИДРОКСИФЕНИЛАЦЕТАТ, ФЕНИЛАЦЕТИЛГЛУТАМИН), ИЗБЫТОЧНОЕ  КОТОРЫХ ОТРИЦАТЕЛЬНО СКАЗЫВАЕТСЯ НА РАЗВИТИИ НЕРВНОЙ СИСТЕМЫ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ФЕНИЛАЛАНИН В ПРОМЫШЛЕННЫХ МАСШТАБАХ ПОЛУЧАЮТ МИКРОБИОЛОГИЧЕСКИМ СПОСОБОМ. ИСПОЛЬЗУЮТ ФЕНИЛАЛАНИН ДЛЯ СБАЛАНСИРОВАНИЯ КОРМОВ ДЛЯ ЖИВОТНЫХ, КАК КОМПОНЕНТ СПОРТИВНОГО ПИТАНИЯ. ЗНАЧИТЕЛЬНАЯ ЧАСТЬ ФЕНИЛАЛАНИНА ИДЁТ НА ПРОИЗВОДСТВО ДИПЕПТИДА АСПАРТАМА — СИНТЕТИЧЕСКОГО САХАРОЗАМЕНИТЕЛЯ, АКТИВНО ИСПОЛЬЗУЮЩЕГОСЯ В ПИЩЕВОЙ ПРОМЫШЛЕННОСТИ, ЧАЩЕ В ПРОИЗВОДСТВЕ ЖЕВАТЕЛЬНОЙ РЕЗИНКИ И ГАЗИРОВАННЫХ НАПИТКОВ. УПОТРЕБЛЕНИЕ ТАКИХ ПРОДУКТОВ ПРОТИВОПОКАЗАНО ЛИЦАМ, СТРАДАЮЩИМ ФЕНИЛКЕТОНУРИЕЙ.</a:t>
            </a:r>
            <a:endParaRPr b="0" lang="en-US" sz="16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Century Schoolbook"/>
              </a:rPr>
              <a:t>ТИРОЗИН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ид молеку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имическая форму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2" descr="C:\Users\Петр\Desktop\Юля\презентация биохимия\тирозин\200px-L-tyrosine-skeletal.png"/>
          <p:cNvPicPr/>
          <p:nvPr/>
        </p:nvPicPr>
        <p:blipFill>
          <a:blip r:embed="rId1"/>
          <a:stretch/>
        </p:blipFill>
        <p:spPr>
          <a:xfrm>
            <a:off x="4643280" y="2997360"/>
            <a:ext cx="3249720" cy="2663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2"/>
          <a:stretch/>
        </p:blipFill>
        <p:spPr>
          <a:xfrm>
            <a:off x="588960" y="2421000"/>
            <a:ext cx="3483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782964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4003f"/>
                </a:solidFill>
                <a:latin typeface="Century Schoolbook"/>
              </a:rPr>
              <a:t>ГЛУТАМИНОВАЯ КИСЛОТА</a:t>
            </a:r>
            <a:endParaRPr b="0" lang="en-US" sz="54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53" name="Picture 3" descr="C:\Users\User\Desktop\валя\глутамин кислотаа.png"/>
          <p:cNvPicPr/>
          <p:nvPr/>
        </p:nvPicPr>
        <p:blipFill>
          <a:blip r:embed="rId1"/>
          <a:stretch/>
        </p:blipFill>
        <p:spPr>
          <a:xfrm>
            <a:off x="4143240" y="1714680"/>
            <a:ext cx="4000680" cy="3509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C:\Users\User\Desktop\валя\глуаминов кислота.png"/>
          <p:cNvPicPr/>
          <p:nvPr/>
        </p:nvPicPr>
        <p:blipFill>
          <a:blip r:embed="rId2"/>
          <a:stretch/>
        </p:blipFill>
        <p:spPr>
          <a:xfrm>
            <a:off x="642960" y="3643200"/>
            <a:ext cx="3143160" cy="200052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6"/>
          <p:cNvSpPr/>
          <p:nvPr/>
        </p:nvSpPr>
        <p:spPr>
          <a:xfrm>
            <a:off x="2928960" y="5786280"/>
            <a:ext cx="47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кращения  Глу, Glu,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571680" y="2214720"/>
            <a:ext cx="350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олярная масса 147,13 г/м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749592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ТИРОЗИ́Н (Α-АМИНО-Β-(П-ОКСИФЕНИЛ)ПРОПИОНОВАЯ КИСЛОТА, СОКР.: ТИР, TYR, Y) — АРОМАТИЧЕСКАЯ АЛЬФА-АМИНОКИСЛОТА.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СУЩЕСТВУЕТ В ДВУХ ОПТИЧЕСКИ ИЗОМЕРНЫХ ФОРМАХ — L И D И В ВИДЕ РАЦЕМАТА (DL). ПО СТРОЕНИЮ СОЕДИНЕНИЕ ОТЛИЧАЕТСЯ ОТ ФЕНИЛАЛАНИНА НАЛИЧИЕМ ФЕНОЛЬНОЙ ГИДРОКСИЛЬНОЙ ГРУППЫ В ПАРА-ПОЛОЖЕНИИ БЕНЗОЛЬНОГО КОЛЬЦА. ИЗВЕСТНЫ МЕНЕЕ ВАЖНЫЕ С БИОЛОГИЧЕСКОЙ ТОЧКИ ЗРЕНИЯ МЕТА- И ОРТО- ИЗОМЕРЫ ТИРОЗИНА.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 ТИРОЗИН ВХОДИТ В СОСТАВ ФЕРМЕНТОВ, ВО МНОГИХ ИЗ КОТОРЫХ ИМЕННО ТИРОЗИНУ ОТВЕДЕНА КЛЮЧЕВАЯ РОЛЬ В ФЕРМЕНТАТИВНОЙ АКТИВНОСТИ И ЕЁ РЕГУЛЯЦИИ. МЕСТОМ АТАКИ ФОСФОРИЛИРУЮЩИХ ФЕРМЕНТОВ ПРОТЕИНКИНАЗ ЧАСТО ЯВЛЯЕТСЯ ИМЕННО ФЕНОЛЬНЫЙ ГИДРОКСИЛ ОСТАТКОВ ТИРОЗИНА. ОСТАТОК ТИРОЗИНА В СОСТАВЕ БЕЛКОВ МОЖЕТ ПОДВЕРГАТЬСЯ И ДРУГИМ ПОСТТРАНСЛЯЦИОННЫМ МОДИФИКАЦИЯМ. В НЕКОТОРЫХ БЕЛКАХ (РЕЗИЛИН НАСЕКОМЫХ) ПРИСУТСТВУЮТ МОЛЕКУЛЯРНЫЕ СШИВКИ, ВОЗНИКАЮЩИЕ В РЕЗУЛЬТАТЕ ПОСТТРАНСЛЯЦИОННОЙ ОКИСЛИТЕЛЬНОЙ КОНДЕНСАЦИИ ОСТАТКОВ ТИРОЗИНА С ОБРАЗОВАНИЕМ ДИТИРОЗИНА И ТРИТИРОЗИНА.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ОКРАШИВАНИЕ В РЕЗУЛЬТАТЕ КСАНТОПРОТЕИНОВОЙ КАЧЕСТВЕННОЙ РЕАКЦИИ НА БЕЛКИ ОПРЕДЕЛЯЕТСЯ ПРЕИМУЩЕСТВЕННО НИТРОВАНИЕМ ОСТАТКОВ ТИРОЗИНА (НИТРУЮТСЯ ТАКЖЕ ОСТАТКИ ФЕНИЛАЛАНИНА, ТРИПТОФАНА, И ГИСТИДИНА).</a:t>
            </a:r>
            <a:br>
              <a:rPr sz="1600"/>
            </a:br>
            <a:r>
              <a:rPr b="0" lang="ru-RU" sz="16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ИЗВЕСТНО ТАКЖЕ НЕСКОЛЬКО ОТНОСИТЕЛЬНО РЕДКИХ ЗАБОЛЕВАНИЙ (ТИРОЗИНЕМИИ), ВЫЗВАННЫХ НАРУШЕНИЯМИ ОБМЕНА ТИРОЗИНА. ЛЕЧЕНИЕ ЭТИХ ЗАБОЛЕВАНИЙ, КАК И ФЕНИЛКЕТОНУРИИ — ДИЕТИЧЕСКОЕ ОГРАНИЧЕНИЕ </a:t>
            </a:r>
            <a:r>
              <a:rPr b="0" lang="ru-RU" sz="1600" spc="-1" strike="noStrike">
                <a:solidFill>
                  <a:srgbClr val="666666"/>
                </a:solidFill>
                <a:latin typeface="Century Schoolbook"/>
              </a:rPr>
              <a:t>БЕЛКА.</a:t>
            </a:r>
            <a:br>
              <a:rPr sz="1600"/>
            </a:br>
            <a:endParaRPr b="0" lang="en-US" sz="16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6666"/>
                </a:solidFill>
                <a:latin typeface="Century Schoolbook"/>
              </a:rPr>
              <a:t>ТРИПТОФАН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Вид молекул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имическая форму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2" descr="C:\Users\Петр\Desktop\Юля\презентация биохимия\триптофан\200px-L-tryptophan-3D-sticks.png"/>
          <p:cNvPicPr/>
          <p:nvPr/>
        </p:nvPicPr>
        <p:blipFill>
          <a:blip r:embed="rId1"/>
          <a:stretch/>
        </p:blipFill>
        <p:spPr>
          <a:xfrm>
            <a:off x="611280" y="2637000"/>
            <a:ext cx="2868480" cy="3313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C:\Users\Петр\Desktop\Юля\презентация биохимия\триптофан\200px-L-tryptophan.png"/>
          <p:cNvPicPr/>
          <p:nvPr/>
        </p:nvPicPr>
        <p:blipFill>
          <a:blip r:embed="rId2"/>
          <a:stretch/>
        </p:blipFill>
        <p:spPr>
          <a:xfrm>
            <a:off x="4716360" y="2637000"/>
            <a:ext cx="2814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66"/>
                </a:solidFill>
                <a:latin typeface="Century Schoolbook"/>
              </a:rPr>
              <a:t>ТРИПТОФА́Н —— (Β-ИНДОЛИЛАМИНОПРОПИОНОВАЯ, ИЛИ Α-2-АМИНО-3-(1H-ИНДОЛ-3-ИЛ)ПРОПИОНОВАЯ КИСЛОТА, СОКР.: ТРИ, ТРП, TRP, W) — </a:t>
            </a:r>
            <a:r>
              <a:rPr b="0" lang="ru-RU" sz="1800" spc="-1" strike="noStrike">
                <a:solidFill>
                  <a:srgbClr val="666666"/>
                </a:solidFill>
                <a:latin typeface="Century Schoolbook"/>
              </a:rPr>
              <a:t>АРОМАТИЧЕСКАЯ АЛЬФА-АМИНОКИСЛОТА. СУЩЕСТВУЕТ В ДВУХ ОПТИЧЕСКИ ИЗОМЕРНЫХ ФОРМАХ — L И D И В ВИДЕ РАЦЕМАТА (DL).</a:t>
            </a:r>
            <a:br>
              <a:rPr sz="1800"/>
            </a:br>
            <a:r>
              <a:rPr b="0" lang="ru-RU" sz="1800" spc="-1" strike="noStrike">
                <a:solidFill>
                  <a:srgbClr val="666666"/>
                </a:solidFill>
                <a:latin typeface="Century Schoolbook"/>
              </a:rPr>
              <a:t>L-ТРИПТОФАН ЯВЛЯЕТСЯ ПРОТЕИНОГЕННОЙ АМИНОКИСЛОТОЙ И ВХОДИТ В СОСТАВ БЕЛКОВ ВСЕХ ИЗВЕСТНЫХ ЖИВЫХ ОРГАНИЗМОВ. ОТНОСИТСЯ К РЯДУ ГИДРОФОБНЫХ АМИНОКИСЛОТ, ПОСКОЛЬКУ СОДЕРЖИТ АРОМАТИЧЕСКОЕ ЯДРО ИНДОЛА. УЧАСТВУЕТ В ГИДРОФОБНЫХ И СТЭКИНГ-ВЗАИМОДЕЙСТВИЯХ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6666"/>
                </a:solidFill>
                <a:latin typeface="Century Schoolbook"/>
              </a:rPr>
              <a:t>БИОСИНТЕЗ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66666"/>
                </a:solidFill>
                <a:latin typeface="Century Schoolbook"/>
              </a:rPr>
              <a:t>В ПРИРОДЕ ТРИПТОФАН СИНТЕЗИРУЮТ МИКРООРГАНИЗМЫ, РАСТЕНИЯ И ГРИБЫ. МНОГОКЛЕТОЧНЫЕ ЖИВОТНЫЕ НЕ СПОСОБНЫ СИНТЕЗИРОВАТЬ ТРИПТОФАН DE NOVO. ДЛЯ ЧЕЛОВЕКА, КАК И ДЛЯ ВСЕХ METAZOA, ТРИПТОФАН ЯВЛЯЕТСЯ НЕЗАМЕНИМОЙ АМИНОКИСЛОТОЙ И ДОЛЖЕН ПОСТУПАТЬ В ОРГАНИЗМ В ДОСТАТОЧНОМ КОЛИЧЕСТВЕ С БЕЛКАМИ ПИЩИ.</a:t>
            </a:r>
            <a:br>
              <a:rPr sz="1800"/>
            </a:br>
            <a:endParaRPr b="0" lang="en-US" sz="1800" spc="-1" strike="noStrike">
              <a:solidFill>
                <a:srgbClr val="66666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99680" y="214200"/>
            <a:ext cx="78296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Глутаминовая кислота (2-аминопентандиовая кислота)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— алифатическая аминокислота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Глутаминовая кислота также является нейромедиаторной аминокислотой, одним из важных представителей класса «возбуждающих аминокислот». Связывание глутамата со специфическими рецепторами нейронов приводит к возбуждению последних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Глутаминовая кислота относится к условно незаменимым аминокислотам. Глутамат в норме синтезируется организмом. Присутствие в пище свободного глутамата придает ей так называемый «мясной» вкус, для чего глутамат используют как усилитель вкуса. При этом метаболизм природного глутамата и глутамата натрия синтетического, не отличаются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Является одним из компонентов миофибрилл, участвует в синтезе других аминокислот, ацетилхолина, АТФ, мочевины, способствует переносу и поддержанию необходимой концентрации ионов калия в мозге, служит связующим звеном между обменом углеводов и нуклеиновых кислот, нормализует содержание показателей гликолиза в крови и тканях. Оказывает гепатопротекторное действие, угнетает секреторную функцию желудк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2214360"/>
            <a:ext cx="790092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восстановления и формирования ткан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уже было сказано выше, лизин является компонентом практически любого белка человеческого организма. Это означает, что он просто незаменим при синтезе мышечных волокон и формировании полноценной мышечной ткани, ведь известно, как много белка в ней содержи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ин можно порекомендовать людям, желающим набрать мышечную массу, например, бодибилдерам. В этом случае он просто незаменим. Лизин участвует в формировании коллагена и восстановлении тканей. Его применяют в восстановительный период после операций и спортивных трав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2" descr="C:\Users\User\Desktop\валя\200px-L-lysine-3D-sticks.png"/>
          <p:cNvPicPr/>
          <p:nvPr/>
        </p:nvPicPr>
        <p:blipFill>
          <a:blip r:embed="rId1"/>
          <a:stretch/>
        </p:blipFill>
        <p:spPr>
          <a:xfrm>
            <a:off x="2500200" y="285840"/>
            <a:ext cx="37864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28520" y="214200"/>
            <a:ext cx="59958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e005f"/>
                </a:solidFill>
                <a:latin typeface="Century Schoolbook"/>
              </a:rPr>
              <a:t>ГЛУТАМИН</a:t>
            </a:r>
            <a:endParaRPr b="0" lang="en-US" sz="66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61" name="Picture 1" descr="C:\Users\User\Desktop\валя\глутаимн.png"/>
          <p:cNvPicPr/>
          <p:nvPr/>
        </p:nvPicPr>
        <p:blipFill>
          <a:blip r:embed="rId1"/>
          <a:stretch/>
        </p:blipFill>
        <p:spPr>
          <a:xfrm>
            <a:off x="5286240" y="2428920"/>
            <a:ext cx="3071880" cy="278604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5"/>
          <p:cNvSpPr/>
          <p:nvPr/>
        </p:nvSpPr>
        <p:spPr>
          <a:xfrm>
            <a:off x="357120" y="1643040"/>
            <a:ext cx="48578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не считается незаменимой аминокислотой, так как организм способен сам воспроизводить его. Тем не менее, глутамин может быть единственная важнейшая аминокислота, которая поддерживает анаболические процессы в мышцах и защищает организм от разрушительного влияния перетренированности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571680" y="3214800"/>
            <a:ext cx="450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утамин служит межорганным транспортером азота в организме. Примерно 1/3 всего азота транспортируется в крови в виде глутамина17. Большая часть азота, потребляемого мышцами, используется в мышечных клетках для синтеза глутамина, который является нетоксичным переносчиком аммония из периферических тканей к внутренним органам.  Глутамин – главный субстрат для синтеза мочевины в печени и аммониогенеза в поч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оказано, что быстроделящиеся клетки, в том числе клет­ки слизистой оболочки кишки, поджелудочной железы, легочных альвеол и клетки иммунной системы, используют глутамин для энергетических и пластических нужд. Глутамин – главный источник энергии для клеток желудочно-кишечного тракт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сле длительного голодания, после хирургических вмешательств, ожогов, инфекций, панкреатита и при других критических состояниях внутримышечная концентрация глутамина снижается (в 2 раза и более), независимо от проведения стандартной нутриционной терап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онкая кишка – главный орган, потребляющий глутамин. При стрессе, использование глутамина кишкой возрастает, что усиливает его дефицит. Сегодня доказано, что глутамин – абсолютно необходимый субстрат для поддержания структуры и функции кишки 6,10, особенно при состояниях, когда происходит повреждение слизистой оболочки кишки, ухудшение барьерной функции и, следовательно, увеличение степени транслокации бактерий и токсинов в кровоток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56390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5698"/>
                </a:solidFill>
                <a:latin typeface="Century Schoolbook"/>
              </a:rPr>
              <a:t>ЛИЗИН</a:t>
            </a:r>
            <a:endParaRPr b="0" lang="en-US" sz="59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5329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ин – незаменимая аминокислота. Лизин входит в состав практически всех белков, необходим организму человека для нормального роста, производства гормонов, антител, ферментов, а также для восстановления тканей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Эта аминокислота оказывает противовирусное действие, особенно в отношении вирусов, вызывающих острые респираторные инфекции. Рекомендуется сочетать лизин с витамином С при вирусных заболеваниях.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В Соединенных Штатах Америки и некоторых странах Европы для профилактики часто рецидивирующих форм генитального герпеса применяются биологически активные добавки к пище на основе лизина. Несколько десятилетий назад было замечено, что у некоторых людей, страдающих от герпеса, но соблюдавших определенную диету, рецидивы бывают реже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Лизин можно порекомендовать людям, желающим набрать мышечную массу, например, бодибилдерам. В этом случае он просто незаменим. Лизин участвует в формировании коллагена и восстановлении тканей. Его применяют в восстановительный период после операций и спортивных травм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C:\Users\User\Desktop\валя\leafandlysite.jpg"/>
          <p:cNvPicPr/>
          <p:nvPr/>
        </p:nvPicPr>
        <p:blipFill>
          <a:blip r:embed="rId1"/>
          <a:stretch/>
        </p:blipFill>
        <p:spPr>
          <a:xfrm>
            <a:off x="5857920" y="214200"/>
            <a:ext cx="29289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6840" y="2214360"/>
            <a:ext cx="790092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восстановления и формирования ткан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уже было сказано выше, лизин является компонентом практически любого белка человеческого организма. Это означает, что он просто незаменим при синтезе мышечных волокон и формировании полноценной мышечной ткани, ведь известно, как много белка в ней содержи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ин можно порекомендовать людям, желающим набрать мышечную массу, например, бодибилдерам. В этом случае он просто незаменим. Лизин участвует в формировании коллагена и восстановлении тканей. Его применяют в восстановительный период после операций и спортивных травм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C:\Users\User\Desktop\валя\200px-L-lysine-3D-sticks.png"/>
          <p:cNvPicPr/>
          <p:nvPr/>
        </p:nvPicPr>
        <p:blipFill>
          <a:blip r:embed="rId1"/>
          <a:stretch/>
        </p:blipFill>
        <p:spPr>
          <a:xfrm>
            <a:off x="2500200" y="285840"/>
            <a:ext cx="37864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356760"/>
            <a:ext cx="804384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Лизин - это мощный источник энергии, так как он ускоряет процесс расщепления жиров, являющихся эффективным «топливом» для организма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 длительном потреблении лизин не накапливается и не оказывает токсического воздействия на организм человека. Излишки выводятся почками с мочо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учные эксперименты показали, что при длительном применении лизин обладает мягким антидепрессантным эффектом, также на фоне приёма лизина у некоторых людей прошли мучающие их головные боли, мигрени. Лизин не вызывает сонливости, снижения концентрации внимания и работоспособности, психической или физической зависимости. После приёма лизина вы можете спокойно водить автомобил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против же, недостаток лизина в рационе питания может быть причиной повышенной утомляемости, тошноты, головокружения, вялости, пониженного аппетита, нервозности, появление сосудов на белочной оболочки глаза (симптом "красных глаз"), менструальной дисфункции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Лизин в сочетании с пролином и витамином С предупреждает образование липопротеинов, вызывающих закупорку артерий, следовательно, будет полезен при сердечно-сосудистых патологиях.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Лизин улучшает усвоение кальция из крови и транспорт его в костную ткань, поэтому он может быть неотъемлемой частью программы лечения и профилактики остеопороз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5:58:54Z</dcterms:created>
  <dc:creator>User</dc:creator>
  <dc:description/>
  <dc:language>en-US</dc:language>
  <cp:lastModifiedBy>Admin</cp:lastModifiedBy>
  <dcterms:modified xsi:type="dcterms:W3CDTF">2012-02-03T13:56:20Z</dcterms:modified>
  <cp:revision>15</cp:revision>
  <dc:subject/>
  <dc:title>Аминокислоты</dc:title>
</cp:coreProperties>
</file>