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chimes.wav" ContentType="audio/x-wav"/>
  <Override PartName="/ppt/media/image11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3005-9098-4075-96E8-186FB2C322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70D8-2A52-402F-8848-58B0384284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C5A5-2A18-4C68-BCED-D06D5433A3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532E-7E93-4B35-8F62-4A4004172D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1C5-E4D7-46FE-AB42-8E7EA6DD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6EE-DC6B-41E7-81E7-0DBC6004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AE1-FD4E-414A-83F0-E0DC0089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AF4-8443-4C70-BA72-06F42374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8499-2766-4022-93B6-1B42EFA8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6D1A-693F-4DFE-8C6E-88968054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A845-C610-491A-BE3B-B6E8FE5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36E9-03CD-41C2-B65F-7E051562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A2A9-729B-4BB5-9DDD-1BD0CC01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7EE-4B78-4BEA-81B4-92285234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4C47-38C0-4D41-B609-73B7764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ED1-4C63-40D3-8CBA-27E78041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56A7-DED2-4CAE-9818-79E716E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718A-82B7-48F0-BF48-8A741F25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D5EB-62C0-4960-8F0E-6EF79334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2296-C6CE-47A4-830B-537172B5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8B1E-3E64-4482-A1A0-C0C93636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A45E-777C-439A-A84D-2BBEB4DB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41CD4-3B21-4464-AD83-05EE70F6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F0BFA-B849-4ACE-9450-45B7CA8D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DFDA-120E-434E-AA6B-9243BFD2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DC3E-BB07-4F67-8305-95A37330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69B-C496-43E7-81FC-1BFDE1E3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687B6-DC43-4FA3-AA02-26FE8DF8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09FE2-3442-49E3-B1ED-29C3814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DEF9-47C6-4770-B1B6-F8E67BE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7614-FB91-41D2-A848-34C80B45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5148D-8CFA-4FF8-8591-ABF318DB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FCB9-8716-4A81-9E56-B3F52D09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056C-5478-4820-B84F-49FF2CEF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305F-92BB-4300-885F-271336F8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C32DB-1A35-454C-92AF-19FF9B7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5D30-7D69-4B1A-825B-90813933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367-78AB-41C6-9E32-3C258125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DCE2F-019F-4716-B34C-CF991EF1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26BC-E8B4-42B9-803E-74FB9F1F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20602-EDE2-4990-AECF-049ACA38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2BFA-6F35-4DFA-82E3-E43EA874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0C66-03BF-483A-93E6-EE164EC9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2B94-9209-4965-B9C1-537BCA12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2522-DEAF-411B-9A23-552F8273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FBD1C-9388-48C3-B4C2-0BD8879E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F2BA-BEDF-4D55-971B-1E12E27D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4410-9A0D-4C66-936F-9425E80C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E43-C593-44F8-8C98-75683285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CA37F-E7EB-445C-8444-5652C0CE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7E27-109D-4728-A9C8-E7D0531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5D308-1DDD-43A8-AB18-7E2F92DD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ED4C-7DD9-47B7-BB07-523F0788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68E4-C171-475D-B7BC-710561D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2D67-1D5F-4022-83E9-5455DFDC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07404-2894-45D4-AD12-9BFB4CB4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4C08D-3AB3-4600-A561-D643C14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7E5C9-E61A-4849-AB4A-344E8381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BFB62-195E-40D9-9A4D-56DCF1DA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1B5-6CD1-4C78-9C0C-A92FB8A7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389D1-F5BA-4552-966C-4CCCE50B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874-38B1-4A31-8356-2EF9EC2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276-D041-478C-8E4F-8E472757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747-B175-44F8-A57F-BE53B9B5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5CD-E50D-45DF-9095-CA7DA205DB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FD18-1E34-4DB4-BF26-B6FE178F74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6362-BDD7-40D3-8BA5-7E67816382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56F2-EC06-4E5E-8030-95EFCAE88B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5ED2-58AD-4510-B89C-4625200382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>
            <a:lum bright="66000"/>
          </a:blip>
          <a:srcRect l="18526" t="53239" r="25781" b="21075"/>
          <a:stretch/>
        </p:blipFill>
        <p:spPr>
          <a:xfrm>
            <a:off x="378000" y="500040"/>
            <a:ext cx="7203960" cy="4259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>
            <a:lum bright="18000"/>
          </a:blip>
          <a:srcRect l="1861" t="5542" r="41264" b="53984"/>
          <a:stretch/>
        </p:blipFill>
        <p:spPr>
          <a:xfrm>
            <a:off x="3348000" y="3137040"/>
            <a:ext cx="5506920" cy="3089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684360" y="2421000"/>
            <a:ext cx="7848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EF1C-9291-44DF-8FFC-EC197AB7E3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Выполнение задачи на комплементар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14200" y="7858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Комплементарность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это взаимное дополнение азотисты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аний в молекуле ДН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0300207"/>
          <p:cNvPicPr/>
          <p:nvPr/>
        </p:nvPicPr>
        <p:blipFill>
          <a:blip r:embed="rId1"/>
          <a:stretch/>
        </p:blipFill>
        <p:spPr>
          <a:xfrm>
            <a:off x="0" y="2000160"/>
            <a:ext cx="2286000" cy="21495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6"/>
          <p:cNvSpPr/>
          <p:nvPr/>
        </p:nvSpPr>
        <p:spPr>
          <a:xfrm>
            <a:off x="2627280" y="1785960"/>
            <a:ext cx="6016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Задача 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рагмент цепи ДН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меет   последовательность нуклеотидов: 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Г Т Ц Т А Ц Г А 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йте по принципу комплементарности 2-ю  цепочку ДН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-я цепь ДНК: Г-Т-Ц-Т-А-Ц-Г-А-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5128200" y="39337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-А-Г-А-Т-Г-Ц-Т-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2627280" y="3933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-я цепь ДНК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1724040" y="530064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Значение комплементар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0" y="5715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лагодаря ей происходят реакции матричного синте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 самоудвоение ДНК, который  лежит  в основ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оста и  размножения организм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17" descr=""/>
          <p:cNvPicPr/>
          <p:nvPr/>
        </p:nvPicPr>
        <p:blipFill>
          <a:blip r:embed="rId2"/>
          <a:stretch/>
        </p:blipFill>
        <p:spPr>
          <a:xfrm>
            <a:off x="1708200" y="4786200"/>
            <a:ext cx="61228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85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38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2C0D-A70D-4EBB-AA4B-F2B347A6BE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Verdana"/>
              </a:rPr>
              <a:t>Репликация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ru-RU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цесс самоудвоения молекулы ДНК на основе принципа комплементар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53272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Text Box 9"/>
          <p:cNvSpPr/>
          <p:nvPr/>
        </p:nvSpPr>
        <p:spPr>
          <a:xfrm>
            <a:off x="0" y="566100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Значение репликации: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благодаря самоудвоению  ДНК,  происходят процессы деления клеток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Р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клетке имеется несколько видов РНК. Все они участвуют в синтезе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Транспорт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т-РНК) - это самые маленькие по размерам РНК. Они связывают АК и транспортируют их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Информацион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и-РНК) - они в 10 раз больше тРНК. Их функция состоит в переносе информации о структуре белка от ДНК к месту синтеза бел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Рибосомные РНК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р-РНК) - имеют наибольшие размеры молекулы, входят в состав рибос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Генетический код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следственная информация записана в молекулах НК в виде последовательности нуклеотидов. Определенные участки молекулы ДНК и РНК (у вирусов и фагов) содержат информацию о первичной структуре одного белка и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ам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 ген = 1 молекула бел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этому наследственную информацию, которую содержат ДНК называют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етическо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3924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 аминокислота закодирована тремя нуклеотидами (один кодон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5312880" y="19890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Ц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6247080" y="199404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Г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7261200" y="198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utoShape 10"/>
          <p:cNvSpPr/>
          <p:nvPr/>
        </p:nvSpPr>
        <p:spPr>
          <a:xfrm rot="16200000">
            <a:off x="5545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11"/>
          <p:cNvSpPr/>
          <p:nvPr/>
        </p:nvSpPr>
        <p:spPr>
          <a:xfrm rot="16200000">
            <a:off x="6553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2"/>
          <p:cNvSpPr/>
          <p:nvPr/>
        </p:nvSpPr>
        <p:spPr>
          <a:xfrm rot="16200000">
            <a:off x="748872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5708160" y="27860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плет, код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14"/>
          <p:cNvSpPr/>
          <p:nvPr/>
        </p:nvSpPr>
        <p:spPr>
          <a:xfrm rot="16200000">
            <a:off x="6553800" y="2174040"/>
            <a:ext cx="287280" cy="26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6454800" y="36496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53788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474240" y="4154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748260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AutoShape 21"/>
          <p:cNvSpPr/>
          <p:nvPr/>
        </p:nvSpPr>
        <p:spPr>
          <a:xfrm rot="16200000">
            <a:off x="6696720" y="3613680"/>
            <a:ext cx="287640" cy="266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6370920" y="5105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280" y="4941360"/>
            <a:ext cx="3924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АК триптофан закодирована в РНК УГГ, в ДНК - АЦ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3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400"/>
                            </p:stCondLst>
                            <p:childTnLst>
                              <p:par>
                                <p:cTn id="4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800"/>
                            </p:stCondLst>
                            <p:childTnLst>
                              <p:par>
                                <p:cTn id="4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ется 64 кодон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84360" y="3573000"/>
            <a:ext cx="3924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1 кодон кодирует 20 (21) аминокислот, три кодона являются знаками препинания: кодоны-терминаторы УАА, УАГ, УГА (в РН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065240" y="2276640"/>
            <a:ext cx="44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1763640" y="2421000"/>
            <a:ext cx="287280" cy="1655640"/>
          </a:xfrm>
          <a:custGeom>
            <a:avLst/>
            <a:gdLst>
              <a:gd name="textAreaLeft" fmla="*/ 0 w 287280"/>
              <a:gd name="textAreaRight" fmla="*/ 10368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2293920" y="30733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войства генетического код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ниверса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ретность (кодовые триплеты считываются с молекулы РНК целиком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пецифичность (кодон кодирует только А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ыточность кода (несколько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64 триплетов только 61 являются кодирующими, т.е несущими информацию об аминокислот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триплета являются бессмысленными –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ТТ, АЦТ, АТ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называются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нонсенс – трипле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терминирующим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кодон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Они играют роль своеобразных точек «в конце предложения», т.е. в конце синтеза белковой молеку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и 61 информационных триплета есть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риплеты-синони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есущие информацию об одной и той же аминокислоте. Это свойство генетического кода называется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вырожден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е свойства генетического код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последовательность расположения трипле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цепи ДНК, их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неперекрываемость, специфичность, универсаль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сего жив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ритроциты - двояковогнутые диски, содержат гемоглоби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рма: 6-е место – гл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тология – ва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емоглобин - бело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молекула = 4 полиме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полимер = 574 А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изменении молекулы белка изменяется свойство гемоглобина, возникает наследственное заболевание: серповидно-клеточная анем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ханизм реализации генетической информации в процессе биосинтеза бел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Транскрип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то процесс считывания информации с ДНК на и-РН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частке одной из цепей ДНК (кодогенной), называемого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структурным гено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рмент, участвующий в процессе транскрипци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РНК-полимера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крыт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ыты во второй половине 19 века швейцарским биохимиком Ф. Мишер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первые обнаружены в ядре («нуклеус» - ядро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rcRect l="62420" t="27455" r="21075" b="43525"/>
          <a:stretch/>
        </p:blipFill>
        <p:spPr>
          <a:xfrm>
            <a:off x="5292720" y="981000"/>
            <a:ext cx="334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уклеиновые кислоты: ДНК и Р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К – полимер. Мономер – нуклеоти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ы ДНК обладают видовой специфичность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а ДНК – двойная спираль, поддерживается водородными связ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пи ДНК строятся по принципу комплиментарно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держание ДНК в клетке постоянн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я ДНК – хранение и пердача наследственной информ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6C26-1C68-46D2-A009-F9A8EC2A38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АТФ.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очему АТФ называют «аккумулятором» клет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ТФ-аденозинтрифосфорная кисл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Organization Chart 7"/>
          <p:cNvGrpSpPr/>
          <p:nvPr/>
        </p:nvGrpSpPr>
        <p:grpSpPr>
          <a:xfrm>
            <a:off x="900000" y="2133720"/>
            <a:ext cx="7704000" cy="4462560"/>
            <a:chOff x="900000" y="2133720"/>
            <a:chExt cx="7704000" cy="4462560"/>
          </a:xfrm>
        </p:grpSpPr>
        <p:cxnSp>
          <p:nvCxnSpPr>
            <p:cNvPr id="331" name="_s1028"/>
            <p:cNvCxnSpPr>
              <a:stCxn id="332" idx="0"/>
              <a:endCxn id="333" idx="2"/>
            </p:cNvCxnSpPr>
            <p:nvPr/>
          </p:nvCxnSpPr>
          <p:spPr>
            <a:xfrm flipV="1" rot="16200000">
              <a:off x="5653800" y="301608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_s1029"/>
            <p:cNvCxnSpPr>
              <a:stCxn id="335" idx="0"/>
              <a:endCxn id="333" idx="2"/>
            </p:cNvCxnSpPr>
            <p:nvPr/>
          </p:nvCxnSpPr>
          <p:spPr>
            <a:xfrm flipV="1">
              <a:off x="4752000" y="3917880"/>
              <a:ext cx="288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6" name="_s1030"/>
            <p:cNvCxnSpPr>
              <a:stCxn id="337" idx="0"/>
              <a:endCxn id="333" idx="2"/>
            </p:cNvCxnSpPr>
            <p:nvPr/>
          </p:nvCxnSpPr>
          <p:spPr>
            <a:xfrm flipH="1" flipV="1" rot="5400000">
              <a:off x="2957400" y="3016080"/>
              <a:ext cx="893160" cy="2696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3" name="_s1031"/>
            <p:cNvSpPr/>
            <p:nvPr/>
          </p:nvSpPr>
          <p:spPr>
            <a:xfrm>
              <a:off x="3596400" y="213372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ТФ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(нуклеотид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_s1032"/>
            <p:cNvSpPr/>
            <p:nvPr/>
          </p:nvSpPr>
          <p:spPr>
            <a:xfrm>
              <a:off x="9000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Азотисто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основа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35964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углево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_s1034"/>
            <p:cNvSpPr/>
            <p:nvPr/>
          </p:nvSpPr>
          <p:spPr>
            <a:xfrm>
              <a:off x="6292800" y="4811400"/>
              <a:ext cx="2311200" cy="17848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3 молекул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PO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l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160F-1A0C-4A4C-8FBE-967DE3E8AC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ff"/>
                </a:solidFill>
                <a:latin typeface="Verdana"/>
              </a:rPr>
              <a:t>Структура молекулы АТ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1116000" y="2492280"/>
            <a:ext cx="1368360" cy="609840"/>
          </a:xfrm>
          <a:prstGeom prst="flowChartProcess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аден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>
            <a:off x="248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98764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298764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13"/>
          <p:cNvSpPr/>
          <p:nvPr/>
        </p:nvSpPr>
        <p:spPr>
          <a:xfrm flipV="1">
            <a:off x="2987640" y="270792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634920" y="2707920"/>
            <a:ext cx="289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3348000" y="2565360"/>
            <a:ext cx="144360" cy="1429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392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Oval 17"/>
          <p:cNvSpPr/>
          <p:nvPr/>
        </p:nvSpPr>
        <p:spPr>
          <a:xfrm>
            <a:off x="4427640" y="2421000"/>
            <a:ext cx="64908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Oval 18"/>
          <p:cNvSpPr/>
          <p:nvPr/>
        </p:nvSpPr>
        <p:spPr>
          <a:xfrm>
            <a:off x="5508720" y="2421000"/>
            <a:ext cx="64764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Oval 19"/>
          <p:cNvSpPr/>
          <p:nvPr/>
        </p:nvSpPr>
        <p:spPr>
          <a:xfrm>
            <a:off x="6659640" y="2421000"/>
            <a:ext cx="649080" cy="431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2" name="AutoShape 20"/>
          <p:cNvCxnSpPr/>
          <p:nvPr/>
        </p:nvCxnSpPr>
        <p:spPr>
          <a:xfrm flipH="1" rot="16200000">
            <a:off x="4497480" y="177300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" name="AutoShape 21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AutoShape 22"/>
          <p:cNvCxnSpPr/>
          <p:nvPr/>
        </p:nvCxnSpPr>
        <p:spPr>
          <a:xfrm flipH="1" rot="16200000">
            <a:off x="4497480" y="1773000"/>
            <a:ext cx="216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Line 23"/>
          <p:cNvSpPr/>
          <p:nvPr/>
        </p:nvSpPr>
        <p:spPr>
          <a:xfrm>
            <a:off x="4716360" y="2852640"/>
            <a:ext cx="1150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5866920" y="2852640"/>
            <a:ext cx="1081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2987640" y="321300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44"/>
          <p:cNvSpPr/>
          <p:nvPr/>
        </p:nvSpPr>
        <p:spPr>
          <a:xfrm>
            <a:off x="5676840" y="402444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Макроэргические связ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61"/>
          <p:cNvSpPr/>
          <p:nvPr/>
        </p:nvSpPr>
        <p:spPr>
          <a:xfrm>
            <a:off x="1403280" y="4859280"/>
            <a:ext cx="633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АТФ+Н </a:t>
            </a:r>
            <a:r>
              <a:rPr b="1" lang="ru-RU" sz="10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        АДФ+Ф+Е(40кДж/моль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2.   АДФ+Н 2О       АМФ+Ф+Е(40кДж/моль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62"/>
          <p:cNvSpPr/>
          <p:nvPr/>
        </p:nvSpPr>
        <p:spPr>
          <a:xfrm>
            <a:off x="2916360" y="50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64"/>
          <p:cNvSpPr/>
          <p:nvPr/>
        </p:nvSpPr>
        <p:spPr>
          <a:xfrm>
            <a:off x="755640" y="494172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65"/>
          <p:cNvSpPr/>
          <p:nvPr/>
        </p:nvSpPr>
        <p:spPr>
          <a:xfrm>
            <a:off x="1455840" y="524844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66"/>
          <p:cNvSpPr/>
          <p:nvPr/>
        </p:nvSpPr>
        <p:spPr>
          <a:xfrm>
            <a:off x="1547640" y="5229360"/>
            <a:ext cx="671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80"/>
          <p:cNvSpPr/>
          <p:nvPr/>
        </p:nvSpPr>
        <p:spPr>
          <a:xfrm>
            <a:off x="298764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81"/>
          <p:cNvSpPr/>
          <p:nvPr/>
        </p:nvSpPr>
        <p:spPr>
          <a:xfrm>
            <a:off x="971640" y="57531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етическая эффективность 2-ух макроэргических связей -80кДж/мо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FA0C-B495-4BC7-A302-DD383C2BD5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Запомн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j0299125"/>
          <p:cNvPicPr/>
          <p:nvPr/>
        </p:nvPicPr>
        <p:blipFill>
          <a:blip r:embed="rId1"/>
          <a:stretch/>
        </p:blipFill>
        <p:spPr>
          <a:xfrm>
            <a:off x="900000" y="1620720"/>
            <a:ext cx="1368360" cy="13035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6"/>
          <p:cNvSpPr/>
          <p:nvPr/>
        </p:nvSpPr>
        <p:spPr>
          <a:xfrm>
            <a:off x="2843280" y="1916280"/>
            <a:ext cx="5349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АТФ Образуется в митохондриях клеток животных и хлоропластах расте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Энергия АТФ используется на движение, биосинтез, деление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Средняя продолжительность жизни1 молекулы АТФ менее !мин, т.к. она расщепляется и восстанавливается 2400раз в сут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уклеотид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- химическое соединение остатков трех веществ: азотистого основания, углевода, фосфорн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1DA4-26A9-4C29-A6E1-5BF9D51528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2"/>
          <p:cNvSpPr/>
          <p:nvPr/>
        </p:nvSpPr>
        <p:spPr>
          <a:xfrm>
            <a:off x="228600" y="152280"/>
            <a:ext cx="4114800" cy="381240"/>
          </a:xfrm>
          <a:custGeom>
            <a:avLst/>
            <a:gdLst>
              <a:gd name="textAreaLeft" fmla="*/ 44640 w 4114800"/>
              <a:gd name="textAreaRight" fmla="*/ 4070160 w 4114800"/>
              <a:gd name="textAreaTop" fmla="*/ 44640 h 381240"/>
              <a:gd name="textAreaBottom" fmla="*/ 336600 h 381240"/>
            </a:gdLst>
            <a:ahLst/>
            <a:rect l="textAreaLeft" t="textAreaTop" r="textAreaRight" b="textAreaBottom"/>
            <a:pathLst>
              <a:path w="2329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9334" y="21600"/>
                </a:lnTo>
                <a:arcTo wR="3600" hR="3600" stAng="10800000" swAng="5400000"/>
                <a:lnTo>
                  <a:pt x="232934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УКЛЕИНОВЫЕ КИСЛ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3"/>
          <p:cNvSpPr/>
          <p:nvPr/>
        </p:nvSpPr>
        <p:spPr>
          <a:xfrm>
            <a:off x="4419720" y="152280"/>
            <a:ext cx="47242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НОМЕРЫ - НУКЛЕОТИ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228600" y="838080"/>
            <a:ext cx="4191120" cy="137160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НК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езоксирибонуклеинов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5791320" y="838080"/>
            <a:ext cx="304776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50000">
                <a:srgbClr val="ffff99"/>
              </a:gs>
              <a:gs pos="100000">
                <a:srgbClr val="ff66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Н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ибонуклеинова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286000" y="533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457200" y="2286000"/>
            <a:ext cx="396252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 нуклеотида в ДН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876920" y="4419720"/>
            <a:ext cx="396216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 нуклеотида в РН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3924360" y="4869000"/>
            <a:ext cx="1562040" cy="1760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рацил (У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5867280" y="5181480"/>
            <a:ext cx="119088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7467480" y="5105520"/>
            <a:ext cx="1371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70866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0" y="2743200"/>
            <a:ext cx="1523880" cy="1838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Тимин (Т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2057400" y="2819520"/>
            <a:ext cx="119052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езокси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3505320" y="2819520"/>
            <a:ext cx="1371600" cy="12189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320040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5105520" y="2514600"/>
            <a:ext cx="1904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матрична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НК (и-РН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7315200" y="2590920"/>
            <a:ext cx="16765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порт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НК (т-РНК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6095880" y="3733920"/>
            <a:ext cx="30481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босомная РНК (р-РН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22"/>
          <p:cNvSpPr/>
          <p:nvPr/>
        </p:nvSpPr>
        <p:spPr>
          <a:xfrm flipH="1">
            <a:off x="6324480" y="198108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23"/>
          <p:cNvSpPr/>
          <p:nvPr/>
        </p:nvSpPr>
        <p:spPr>
          <a:xfrm>
            <a:off x="7162920" y="20574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24"/>
          <p:cNvSpPr/>
          <p:nvPr/>
        </p:nvSpPr>
        <p:spPr>
          <a:xfrm>
            <a:off x="7924680" y="205740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25"/>
          <p:cNvSpPr/>
          <p:nvPr/>
        </p:nvSpPr>
        <p:spPr>
          <a:xfrm>
            <a:off x="4267080" y="53352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ель Д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853 г. – создание модели Д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rcRect l="31190" t="35901" r="35764" b="33706"/>
          <a:stretch/>
        </p:blipFill>
        <p:spPr>
          <a:xfrm>
            <a:off x="611280" y="278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2"/>
          <a:srcRect l="53239" t="25781" r="21075" b="18526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E2A6-8C9A-49B0-9821-623E4A53FF7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0300207"/>
          <p:cNvPicPr/>
          <p:nvPr/>
        </p:nvPicPr>
        <p:blipFill>
          <a:blip r:embed="rId1"/>
          <a:stretch/>
        </p:blipFill>
        <p:spPr>
          <a:xfrm>
            <a:off x="0" y="620640"/>
            <a:ext cx="2987640" cy="2514600"/>
          </a:xfrm>
          <a:prstGeom prst="rect">
            <a:avLst/>
          </a:prstGeom>
          <a:ln w="0">
            <a:noFill/>
          </a:ln>
        </p:spPr>
      </p:pic>
      <p:sp>
        <p:nvSpPr>
          <p:cNvPr id="261" name="Oval 7"/>
          <p:cNvSpPr/>
          <p:nvPr/>
        </p:nvSpPr>
        <p:spPr>
          <a:xfrm>
            <a:off x="1979640" y="0"/>
            <a:ext cx="5327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ТРУКТУРЫ  ДНК И РН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359080" cy="2853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0"/>
          <p:cNvSpPr/>
          <p:nvPr/>
        </p:nvSpPr>
        <p:spPr>
          <a:xfrm>
            <a:off x="1094400" y="260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18" descr=""/>
          <p:cNvPicPr/>
          <p:nvPr/>
        </p:nvPicPr>
        <p:blipFill>
          <a:blip r:embed="rId3"/>
          <a:stretch/>
        </p:blipFill>
        <p:spPr>
          <a:xfrm>
            <a:off x="3419640" y="836640"/>
            <a:ext cx="5499000" cy="5450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0300210"/>
          <p:cNvPicPr/>
          <p:nvPr/>
        </p:nvPicPr>
        <p:blipFill>
          <a:blip r:embed="rId4"/>
          <a:stretch/>
        </p:blipFill>
        <p:spPr>
          <a:xfrm>
            <a:off x="6443640" y="3500280"/>
            <a:ext cx="2448000" cy="1982880"/>
          </a:xfrm>
          <a:prstGeom prst="rect">
            <a:avLst/>
          </a:prstGeom>
          <a:ln w="0">
            <a:noFill/>
          </a:ln>
        </p:spPr>
      </p:pic>
      <p:sp>
        <p:nvSpPr>
          <p:cNvPr id="266" name="Line 20"/>
          <p:cNvSpPr/>
          <p:nvPr/>
        </p:nvSpPr>
        <p:spPr>
          <a:xfrm flipH="1">
            <a:off x="6084360" y="436572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пространственная взаимодополняемость молекул или их частей, приводящая к образованию водородных связ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плиментарные структуры подходят друг к другу как «ключ с замком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2556000" y="486900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(А+Т)+(Г+Ц)=10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09BC-85C9-41F6-9C44-EC4A12A1B1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3" descr="F:\..\Physicon\biologyege_local\content\chapter3\section\paragraph2\images\0300209.jpg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Строение хромосомы"/>
          <p:cNvPicPr/>
          <p:nvPr/>
        </p:nvPicPr>
        <p:blipFill>
          <a:blip r:embed="rId2"/>
          <a:stretch/>
        </p:blipFill>
        <p:spPr>
          <a:xfrm>
            <a:off x="6019920" y="3276720"/>
            <a:ext cx="2847960" cy="3581280"/>
          </a:xfrm>
          <a:prstGeom prst="rect">
            <a:avLst/>
          </a:prstGeom>
          <a:ln w="0">
            <a:noFill/>
          </a:ln>
        </p:spPr>
      </p:pic>
      <p:sp>
        <p:nvSpPr>
          <p:cNvPr id="273" name="Oval 5"/>
          <p:cNvSpPr/>
          <p:nvPr/>
        </p:nvSpPr>
        <p:spPr>
          <a:xfrm>
            <a:off x="250920" y="0"/>
            <a:ext cx="4800600" cy="98100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ОСТАВЕ ХРОМОС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5148360" y="620640"/>
            <a:ext cx="863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4859280" y="765000"/>
            <a:ext cx="1297080" cy="251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9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753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"/>
          <p:cNvPicPr/>
          <p:nvPr/>
        </p:nvPicPr>
        <p:blipFill>
          <a:blip r:embed="rId1"/>
          <a:srcRect l="9185" t="3829" r="50449" b="53984"/>
          <a:stretch/>
        </p:blipFill>
        <p:spPr>
          <a:xfrm>
            <a:off x="324000" y="119160"/>
            <a:ext cx="8420040" cy="6478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оединение нуклеотид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5:30:17Z</dcterms:created>
  <dc:creator>Петрович</dc:creator>
  <dc:description/>
  <dc:language>en-US</dc:language>
  <cp:lastModifiedBy>Admin</cp:lastModifiedBy>
  <dcterms:modified xsi:type="dcterms:W3CDTF">2012-02-19T17:57:03Z</dcterms:modified>
  <cp:revision>13</cp:revision>
  <dc:subject/>
  <dc:title>Нуклеиновые кисл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