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BCC6-B148-48EB-8F72-95ED536ED9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ADE9-0D13-4213-94BD-EDA6389B7E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4326-1B81-41E8-9D31-F3608928106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5234-A4DA-4A6E-B27D-BB72F86AF24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A42-2EAA-498B-B004-7CCA57FC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988-E599-4B59-B345-0D240BEB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922-CB92-4D65-B55F-FB9D44F9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1A8-8B0F-423C-8818-D50E5907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C57C-50BD-4160-A114-80AAD945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450B-71F6-4F4F-8C25-F5B6DDB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7695-A9C7-458C-B562-0E4B7E08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4D38-4BDF-4169-8FA2-8CFF82B7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8761-67FD-46D5-9ABC-BAB3B690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5EC0-BD41-4DD1-A119-5C7C689E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8556-CAA9-4445-9B02-56A2B8B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92D-8300-4937-ABA2-0E2AFE86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DDA0-5DBB-41AC-817D-9E12D176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C22C-3711-4572-A867-76025A7E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2453-50E9-4932-824D-F79C8E1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765C-56BB-48FE-8686-D0B172F6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C683-5007-427D-ABD1-1E15B496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45CAD-D302-4AB6-8B65-DBEB0ED1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0BF5-FD37-4B07-A739-A7D8308B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173A-552C-4847-8A0A-3C1389D8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A41D-C864-4A0A-AC0A-CDEAA9ED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B514-0636-410D-9E03-CF6FCF12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1B5-D9F4-4545-AB44-B8F20D87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8C36-D93A-45B6-8EFC-803AF61D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9391-5680-46BE-B28E-0DDA379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5040C-F56B-4297-A5BB-1031A87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2A80F-36F1-4366-AA6E-EF607F7A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25EA-FC4A-4981-B5CF-EAECA98E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B2248-688C-4CA7-9C66-D293C8FB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7488-70F1-47CF-A8EF-800163F6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779-8BF4-4895-B42E-63015C57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D6C-150B-43B4-AC0C-9FA89D26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B62-AC53-47C0-8F12-5B8B2A2F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969-129E-4A7D-8BEE-EFDC8DD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D4D-874C-4B96-AEED-9D5B6E0C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D63-549E-4B53-9228-E738D48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0181-F32C-4348-85EB-3E2EA2AAC4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A247-9071-406E-85DE-871E3F8062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BC8F-864C-4D52-A9D2-A5D966A1BF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78_&#1075;&#1086;&#1076;" TargetMode="External"/><Relationship Id="rId2" Type="http://schemas.openxmlformats.org/officeDocument/2006/relationships/hyperlink" Target="http://ru.wikipedia.org/wiki/&#1041;&#1077;&#1088;&#1085;&#1072;&#1088;,_&#1050;&#1083;&#1086;&#1076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60;&#1080;&#1079;&#1080;&#1086;&#1083;&#1086;&#1075;" TargetMode="External"/><Relationship Id="rId5" Type="http://schemas.openxmlformats.org/officeDocument/2006/relationships/hyperlink" Target="http://ru.wikipedia.org/wiki/&#1059;&#1086;&#1083;&#1090;&#1077;&#1088;_&#1050;&#1077;&#1085;&#1085;&#1086;&#1085;" TargetMode="External"/><Relationship Id="rId6" Type="http://schemas.openxmlformats.org/officeDocument/2006/relationships/hyperlink" Target="http://ru.wikipedia.org/wiki/1932_&#1075;&#1086;&#1076;" TargetMode="External"/><Relationship Id="rId7" Type="http://schemas.openxmlformats.org/officeDocument/2006/relationships/hyperlink" Target="http://ru.wikipedia.org/wiki/&#1055;&#1088;&#1086;&#1094;&#1077;&#1089;&#1089;" TargetMode="External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доровье как норма реакции на окружающую среду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Oval 4"/>
          <p:cNvSpPr/>
          <p:nvPr/>
        </p:nvSpPr>
        <p:spPr>
          <a:xfrm>
            <a:off x="1066680" y="2057400"/>
            <a:ext cx="1524240" cy="144792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львеоля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04920" y="3733920"/>
            <a:ext cx="4495680" cy="53316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легких    О2 + Нв = Нв 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243828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6019920" y="2819520"/>
            <a:ext cx="1523880" cy="14475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львеолярн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419720" y="4648320"/>
            <a:ext cx="4343400" cy="198108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творенный в плазме крови СО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гидрокарбон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Нв СО2 = Нв + 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лег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6858000" y="41144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зообмен в легк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азообмен в тканях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1066680" y="2057400"/>
            <a:ext cx="1524240" cy="144792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канев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дк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04920" y="3733920"/>
            <a:ext cx="4495680" cy="190476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творенный в плазме крови СО2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бикарбон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Нв СО2 = Нв + С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тка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828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6019920" y="2819520"/>
            <a:ext cx="1523880" cy="14475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канев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дк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4648320" y="4724280"/>
            <a:ext cx="4343400" cy="137160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вО2 = О2 + Н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лляры тка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6858000" y="41144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легочной вентиляции на выделение СО2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2280" y="1405080"/>
          <a:ext cx="8763120" cy="5452920"/>
        </p:xfrm>
        <a:graphic>
          <a:graphicData uri="http://schemas.openxmlformats.org/drawingml/2006/table">
            <a:tbl>
              <a:tblPr/>
              <a:tblGrid>
                <a:gridCol w="3483000"/>
                <a:gridCol w="2467080"/>
                <a:gridCol w="2813040"/>
              </a:tblGrid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Уровень легоч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вентиля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Нару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Биохимические изме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Гиповентиляция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-задержка выделения</a:t>
                      </a: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СО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(при заболеваниях органов дыхания, интоксикаци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Дыхате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ацидоз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Умень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концентрации бикарбонатов, сдвиг рН крови в кислую стро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Гипервентиляция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Избыточное выделение</a:t>
                      </a: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dbbd71"/>
                          </a:solidFill>
                          <a:latin typeface="Tahoma"/>
                          <a:ea typeface="Arial"/>
                        </a:rPr>
                        <a:t>СО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990000"/>
                          </a:solidFill>
                          <a:latin typeface="Tahoma"/>
                          <a:ea typeface="Arial"/>
                        </a:rPr>
                        <a:t>(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при интенсивной мышечной работе, восхождении на большие высот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Дыхательный алкало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c66"/>
                          </a:solidFill>
                          <a:latin typeface="Tahoma"/>
                          <a:ea typeface="Arial"/>
                        </a:rPr>
                        <a:t>Сдвиг рН крови в щелочную строну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400" y="417240"/>
            <a:ext cx="825804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воды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: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ойчивым системам необходимы комбинации из обоих типов обратной связи. Тогда как отрицательная обратная связь позволяет вернуться к гомеостатическому состоянию, положительная обратная связь используется для перехода к совершенно новому (и, вполне может быть, менее желанному) состоянию гомеостаза, — такая ситуация называется «метастабильность». 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04920" y="1981080"/>
            <a:ext cx="281916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отовая по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0880" y="350532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5791320" y="220968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5791320" y="419112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57200" y="525780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ыш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5181480" y="5715000"/>
            <a:ext cx="6858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5562720" y="541008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6324480" y="4038480"/>
            <a:ext cx="0" cy="152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28600" y="1752480"/>
            <a:ext cx="297180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1 группа – превраще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рото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пол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1.Сравните вкусов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чества крахмала и 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2.Капните 1 каплю р-ра йод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на поверхность кусочка хлеб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кое вещество содержит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 хлебе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3.Наберите в пробирк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рцию слюны. Положит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 нее небольшое количе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ахмала, добавьте 1 капл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р-ра йода. Нагрейте слег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не более 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37 С)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робирку с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рцией слюны.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ак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изменения в пробирк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роисходят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352680" y="1752480"/>
            <a:ext cx="281952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2 группа- превращ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пече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Сделайте вывод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Многочисленные анализ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и показали, что посл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ормления у животн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человека) в воротной в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ечени (сосуд, принося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ь в печень из орга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ищеварения) содержит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0,3%, а в нижней пол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ене(сосуд, выносящ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ровь из печени) 0,12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6324480" y="1752480"/>
            <a:ext cx="2819520" cy="44960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3 группа –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превращ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углеводов в мышц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Решите задач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Сколько глюкоз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подверглос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окислению, есл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организ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израсходовал 200 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ислорода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Сколько энерг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выделилось 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рассчитанную масс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, если 1 м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глюкозы дает 152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кДж энергии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апы превращения углеводов в организм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304920" y="1981080"/>
            <a:ext cx="281916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отовая по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685800" y="1219320"/>
            <a:ext cx="2057400" cy="685800"/>
          </a:xfrm>
          <a:prstGeom prst="downArrowCallout">
            <a:avLst>
              <a:gd name="adj1" fmla="val 75007"/>
              <a:gd name="adj2" fmla="val 7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ищ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886200" y="1295280"/>
            <a:ext cx="4876920" cy="12956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Ферменты слю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рахма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3200400" y="22096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880" y="350532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3962520" y="2971800"/>
            <a:ext cx="4876560" cy="14479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нсу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                         Гликог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дренал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икоген                       Глюк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5791320" y="220968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5791320" y="4191120"/>
            <a:ext cx="11430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457200" y="5257800"/>
            <a:ext cx="281952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ышц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3962520" y="4876920"/>
            <a:ext cx="4876560" cy="1295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р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люкоза             углекислый газ, в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5181480" y="5715000"/>
            <a:ext cx="685800" cy="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541008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6324480" y="4038480"/>
            <a:ext cx="0" cy="152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23"/>
          <p:cNvSpPr/>
          <p:nvPr/>
        </p:nvSpPr>
        <p:spPr>
          <a:xfrm>
            <a:off x="3352680" y="5562720"/>
            <a:ext cx="6098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данным Всемирной организации здравоохранения, среди химических соединений, используемых в промышленном масштабе, примерно 40 тыс.  вредны для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228600" y="259092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хронических отравлениях ртутью наблюдаются признаки поражения ЦНС, эмоциональная неустойчивость, нарушение сна, головные бол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38088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одуктах сгорания бензина 90% приходится на содержание свинца, который поступая в организм через кожу и слизистые, а также с пищей, водой, через дыхательные пути и пищеварительный тракт, вызывает поражение нервной и кровеносной систем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685800" y="804240"/>
            <a:ext cx="7661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ельная сжигает в сутки  10т угля, содержащего 84% углерода, 5% водорода, 3,5% серы,   5% воды и 2,5% негорючих примесей. Рассчитайте  расход кислорода воздуха на сжигание углерода-основного компонента угля (учитывать два возможных случая горения углерода с образованием  угарного газа и углекислого газ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533520" y="901080"/>
            <a:ext cx="749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ча №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адиусе 5 км вокруг химического завода ощущается легкий запах сероводорода.  Анализ проб воздуха показал, что газ распространяется на высоту до 2 км, служит причиной образования кислотных дождей. Рассчитайте, сколько сернистого газа (оксида серы (4) ) получится в результате взаимодействия 0.01л сероводорода с кислородом воздух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533520" y="685800"/>
            <a:ext cx="82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достаток соли в организме может привести к головокружению, обмороку, нарушению сердечной деятельности, снижению аппетита, уменьшению количества воды в крови и орган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едостаток белков приводит к задержке роста, малокровию, выпадению воло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275120" y="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читайте текс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ой вывод вы можете сделать на основе прочитанного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04920" y="2438280"/>
            <a:ext cx="84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Чрезмерное потребление соли вредно для здоровья – нарушается деятельность сердца, почек, появляются отеки ног, повышается кровяное давл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28600" y="3471120"/>
            <a:ext cx="86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 групп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тдельные клетки и группы клеток человеческого организма чрезвычайно чувствительны к изменению окружающей их среды. Что же касается целого организма, то границы изменений  внешней среды, которые он может переносить, значительно шире, чем у отдельных клеток. Клетки человека нормально функционируют лишь при температуре 36-380 С. Повышение или снижение температуры за пределы этих границ приводит к нарушению функций клеток. Человек может нормально существовать при значительно более широких колебаниях температуры внешней среды. В клетках поддерживается постоянное количество воды и минеральных веществ. Организм же может переносить и водное голодание, и избыточное поступление воды и соле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609480" y="-2167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№3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анализируйте таблицу «Выбросы  ( в тыс.т./ год) в атмосферу города с населением  1млн. челове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80880" y="1371600"/>
          <a:ext cx="8217000" cy="4022640"/>
        </p:xfrm>
        <a:graphic>
          <a:graphicData uri="http://schemas.openxmlformats.org/drawingml/2006/table">
            <a:tbl>
              <a:tblPr/>
              <a:tblGrid>
                <a:gridCol w="6472440"/>
                <a:gridCol w="174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гредиенты  атмосферных выб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кисл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ы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ческие вещества ( фенол, бензол, спирты, растворител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анистый кал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единения   свин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арн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шья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139"/>
          <p:cNvSpPr/>
          <p:nvPr/>
        </p:nvSpPr>
        <p:spPr>
          <a:xfrm>
            <a:off x="457200" y="540900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Сделайте расчеты выбросов в атмосферу нашего города с населением……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делайте вывод, могут ли выбросы загрязняющих веществ в атмосферу оставлять « свой след на земл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доровье – это не только отсутствие болезней и физических недостатков. Это состояние полного физического, психологического и социального комфорта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щность техногенного воздействия на живую природу достигла такой величины, что возникла опасность необратимых изменений за счет нарушения слагавшихся в течение миллионов лет природных динамических равновесий, в том числе и гомеоста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ность биологических систем противостоять изменениям и сохранять динамическое относительное постоянств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а и свойств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239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ГОМЕОСТА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io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греч) – подобный, одинако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si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греч.) – неподвижность, состоя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2600" y="428760"/>
            <a:ext cx="7815240" cy="5929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ко представление о постоянстве внутренней среды было сформулировано ещё в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1878 г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французским учёным 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Клодом Бернаром</a:t>
            </a:r>
            <a:br>
              <a:rPr sz="3200"/>
            </a:b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Американский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физиолог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5"/>
              </a:rPr>
              <a:t>Уолтер Кеннон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(Walter B. Cannon) в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6"/>
              </a:rPr>
              <a:t>1932 году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в своей книге «The Wisdom of the Body» («Мудрость тела») предложил этот термин как название для «координированных физиологических </a:t>
            </a:r>
            <a:r>
              <a:rPr b="0" lang="ru-RU" sz="2900" spc="-1" strike="noStrike" u="sng">
                <a:solidFill>
                  <a:srgbClr val="ffcc66"/>
                </a:solidFill>
                <a:uFillTx/>
                <a:latin typeface="Arial"/>
                <a:hlinkClick r:id="rId7"/>
              </a:rPr>
              <a:t>процессов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которое поддерживают большинство устойчивых состояний организма».</a:t>
            </a:r>
            <a:endParaRPr b="0" lang="en-US" sz="29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ханизмы гомеостаз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гда происходит изменение в переменных, наблюдаются два основных типа обратной связи, или фидбэка, на которые реагирует систем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араметрам гомеостаза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относится химический состав крови, влажность кожи, состав суставной жидкости, ритмы сердечных сокращений, кислотно-щелочной баланс, осмотическое давление, соотношение электролитов (натрия, кальция, хлора, магния, фосфора), содержания глюкозы, числа форменных элементов крови и другие параметры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Отрицательная обратная связь, выражающаяся в реакции, при которой система отвечает так, чтобы изменить направление изменения на противоположное. Так как обратная связь служит сохранению постоянства системы, это позволяет соблюдать гомеостаз.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*Например, когда концентрация углекислого газа в организме человека увеличивается, лёгким приходит сигнал к увеличению их активности и выдыханию большего количество углекислого газа. </a:t>
            </a:r>
            <a:br>
              <a:rPr sz="2400"/>
            </a:b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*Терморегуляция — другой пример отрицательной обратной связи. Когда температура тела повышается (или понижается) терморецепторы в коже и гипоталамусе регистрируют изменение, вызывая сигнал из мозга. Данный сигнал, в свою очередь, вызывает ответ — понижение температуры (или повышение).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тельная обратная связь, которая выражается в усилении изменения переменной. Она оказывает дестабилизирующий эффект, поэтому не приводит к гомеостазу. Положительная обратная связь реже встречается в естественных системах, но также имеет своё применени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*Например, в нервах пороговый электрический потенциал вызывает генерацию намного большего потенциала действия. Свёртывание крови и события при рождении можно привести в качестве других примеров положительной обратной связи.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8T13:49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