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19.jpeg" ContentType="image/jpeg"/>
  <Override PartName="/ppt/media/image25.jpeg" ContentType="image/jpeg"/>
  <Override PartName="/ppt/media/image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4.wmf" ContentType="image/x-wmf"/>
  <Override PartName="/ppt/media/image24.jpeg" ContentType="image/jpeg"/>
  <Override PartName="/ppt/media/image3.jpeg" ContentType="image/jpeg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F64-010F-4E56-9637-09240782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BF7-C3BE-4140-AFEE-EED894BE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3DC-0CD1-4BC7-BD0E-E88D902E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D318-26A6-48C3-8469-1F82C5A2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4B7D-019A-4737-B543-83429ED0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8DDA-E700-4EB0-9FEC-C8512730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FB3F-F9C8-4D01-945A-79C50944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0774-DAA9-474A-9006-D603D0C3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20B5-AB0C-4C7A-A171-26898CDF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F36B-966B-4237-A8C6-EBC4AA17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B3B7-DADE-43D7-AE7A-10349BCF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035-5A07-458D-921B-0DF2A5AB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C63A-86CA-46F3-8782-2E006603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59BA-06D5-47CB-991A-FA2FFA48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6EE8-F122-4010-8A06-803B26F9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9C45-F104-4712-AA3C-1A591743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B8B1-E712-4C74-B54B-DA426734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DFE-365D-4C04-AEA0-CDC8CED3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518-76C7-43E2-ACEE-EF921B03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6F5-FAB4-455C-843B-1ABAAA51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6B0-8CB7-44B5-9DBF-6C6EE407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9C2-8017-4F18-BF8E-0D339850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00A-10FA-4D3E-89A2-C2B15AEA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63B-76DD-482C-B7F9-D34F7CEB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0F00-1D22-4F66-9587-337DDA7AE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CE71-FB3A-45B8-A02A-79B017F201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Белки. Проблема  синтеза белков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6" descr="пы"/>
          <p:cNvPicPr/>
          <p:nvPr/>
        </p:nvPicPr>
        <p:blipFill>
          <a:blip r:embed="rId1"/>
          <a:stretch/>
        </p:blipFill>
        <p:spPr>
          <a:xfrm>
            <a:off x="4284720" y="2781360"/>
            <a:ext cx="3959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оение бел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 первичной структурой белка понимают число и последовательность аминокислот, соединенных друг с другом пептидными связями в полипептидной цеп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{B074B8AD-67A9-4515-98C6-26CB297AE431}"/>
          <p:cNvPicPr/>
          <p:nvPr/>
        </p:nvPicPr>
        <p:blipFill>
          <a:blip r:embed="rId1"/>
          <a:stretch/>
        </p:blipFill>
        <p:spPr>
          <a:xfrm>
            <a:off x="4452840" y="1341360"/>
            <a:ext cx="4392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44416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всякого белка характерна помимо первичной еще и определенная вторичная структура. Обычно белковая молекула напоминает растянутую пружину. Это так называемая α-спираль, стабилизируемая множеством водородных связей, возникающих между находящимися поблизости друг от друга СО- 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групп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{BBE8BE40-FBA9-4281-A2D5-AEA24EA34F5E}"/>
          <p:cNvPicPr/>
          <p:nvPr/>
        </p:nvPicPr>
        <p:blipFill>
          <a:blip r:embed="rId1"/>
          <a:stretch/>
        </p:blipFill>
        <p:spPr>
          <a:xfrm>
            <a:off x="5076720" y="549360"/>
            <a:ext cx="3521160" cy="273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L23p10p00"/>
          <p:cNvPicPr/>
          <p:nvPr/>
        </p:nvPicPr>
        <p:blipFill>
          <a:blip r:embed="rId2"/>
          <a:stretch/>
        </p:blipFill>
        <p:spPr>
          <a:xfrm>
            <a:off x="4859280" y="350028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43192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большинства белков полипептидные цепи свернуты особым образом в компактную глобулу. Способ свертывания полипептидных цепей глобулярных белков называется третичной структурой. Третичная структура поддерживается связями трех типов – ионными, водородными и дисульфидными, а также гидрофобными взаимодейств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{3C828F5A-4FA2-4ED6-A698-B3B0E148AB48}"/>
          <p:cNvPicPr/>
          <p:nvPr/>
        </p:nvPicPr>
        <p:blipFill>
          <a:blip r:embed="rId1"/>
          <a:stretch/>
        </p:blipFill>
        <p:spPr>
          <a:xfrm>
            <a:off x="4788000" y="620640"/>
            <a:ext cx="3927240" cy="2737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L23p02p02"/>
          <p:cNvPicPr/>
          <p:nvPr/>
        </p:nvPicPr>
        <p:blipFill>
          <a:blip r:embed="rId2"/>
          <a:stretch/>
        </p:blipFill>
        <p:spPr>
          <a:xfrm>
            <a:off x="4859280" y="357336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4608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ногие белки с особо сложным строением состоят из нескольких полипептидных цепей, удерживаемых в молекуле вместе за счет гидрофобных взаимодействий, а также при помощи водородных и ионных связей. Способ совместной упаковки и укладки этих полипептидных цепей называют четвертичной структурой бел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0" descr="{9D733D42-9CE6-4D17-870D-77F3193FD8AD}"/>
          <p:cNvPicPr/>
          <p:nvPr/>
        </p:nvPicPr>
        <p:blipFill>
          <a:blip r:embed="rId1"/>
          <a:stretch/>
        </p:blipFill>
        <p:spPr>
          <a:xfrm>
            <a:off x="5003640" y="333360"/>
            <a:ext cx="3527640" cy="3395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L23p10p01"/>
          <p:cNvPicPr/>
          <p:nvPr/>
        </p:nvPicPr>
        <p:blipFill>
          <a:blip r:embed="rId2"/>
          <a:stretch/>
        </p:blipFill>
        <p:spPr>
          <a:xfrm>
            <a:off x="5003640" y="3789360"/>
            <a:ext cx="37706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иосинтез бел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10" descr="001"/>
          <p:cNvPicPr/>
          <p:nvPr/>
        </p:nvPicPr>
        <p:blipFill>
          <a:blip r:embed="rId1"/>
          <a:stretch/>
        </p:blipFill>
        <p:spPr>
          <a:xfrm>
            <a:off x="539640" y="1773360"/>
            <a:ext cx="3024360" cy="2054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1"/>
          <p:cNvPicPr/>
          <p:nvPr/>
        </p:nvPicPr>
        <p:blipFill>
          <a:blip r:embed="rId2"/>
          <a:stretch/>
        </p:blipFill>
        <p:spPr>
          <a:xfrm>
            <a:off x="5033880" y="2000160"/>
            <a:ext cx="3695760" cy="1828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2"/>
          <p:cNvPicPr/>
          <p:nvPr/>
        </p:nvPicPr>
        <p:blipFill>
          <a:blip r:embed="rId3"/>
          <a:stretch/>
        </p:blipFill>
        <p:spPr>
          <a:xfrm>
            <a:off x="539640" y="4076640"/>
            <a:ext cx="3597480" cy="224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03"/>
          <p:cNvPicPr/>
          <p:nvPr/>
        </p:nvPicPr>
        <p:blipFill>
          <a:blip r:embed="rId4"/>
          <a:stretch/>
        </p:blipFill>
        <p:spPr>
          <a:xfrm>
            <a:off x="5003640" y="4076640"/>
            <a:ext cx="347364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3" descr="1"/>
          <p:cNvPicPr/>
          <p:nvPr/>
        </p:nvPicPr>
        <p:blipFill>
          <a:blip r:embed="rId1"/>
          <a:stretch/>
        </p:blipFill>
        <p:spPr>
          <a:xfrm>
            <a:off x="468360" y="792000"/>
            <a:ext cx="4032360" cy="284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1"/>
          <p:cNvPicPr/>
          <p:nvPr/>
        </p:nvPicPr>
        <p:blipFill>
          <a:blip r:embed="rId2"/>
          <a:stretch/>
        </p:blipFill>
        <p:spPr>
          <a:xfrm>
            <a:off x="5003640" y="765000"/>
            <a:ext cx="3602160" cy="2714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1"/>
          <p:cNvPicPr/>
          <p:nvPr/>
        </p:nvPicPr>
        <p:blipFill>
          <a:blip r:embed="rId3"/>
          <a:stretch/>
        </p:blipFill>
        <p:spPr>
          <a:xfrm>
            <a:off x="900000" y="3743280"/>
            <a:ext cx="3367080" cy="292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1"/>
          <p:cNvPicPr/>
          <p:nvPr/>
        </p:nvPicPr>
        <p:blipFill>
          <a:blip r:embed="rId4"/>
          <a:stretch/>
        </p:blipFill>
        <p:spPr>
          <a:xfrm>
            <a:off x="5076720" y="3716280"/>
            <a:ext cx="3425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08020302"/>
          <p:cNvPicPr/>
          <p:nvPr/>
        </p:nvPicPr>
        <p:blipFill>
          <a:blip r:embed="rId1"/>
          <a:stretch/>
        </p:blipFill>
        <p:spPr>
          <a:xfrm>
            <a:off x="250920" y="404640"/>
            <a:ext cx="87138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НК матри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и РНК матри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Стрелка вправо 3"/>
          <p:cNvSpPr/>
          <p:nvPr/>
        </p:nvSpPr>
        <p:spPr>
          <a:xfrm>
            <a:off x="4071960" y="1928880"/>
            <a:ext cx="977760" cy="64296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трелка вниз 4"/>
          <p:cNvSpPr/>
          <p:nvPr/>
        </p:nvSpPr>
        <p:spPr>
          <a:xfrm>
            <a:off x="5643720" y="2714760"/>
            <a:ext cx="1214280" cy="785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начение синтеза белков для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i"/>
          <p:cNvPicPr/>
          <p:nvPr/>
        </p:nvPicPr>
        <p:blipFill>
          <a:blip r:embed="rId1"/>
          <a:stretch/>
        </p:blipFill>
        <p:spPr>
          <a:xfrm>
            <a:off x="571680" y="1521000"/>
            <a:ext cx="812160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лки - обязательная составная часть всех живых клеток, играют исключительно важную роль в живой природе, являются главным, наиболее ценным и незаменимым компонентом питания. Это связанно с той огромной ролью, которую они играют в процессах развития и жизни человека. Белки являются основой структурных элементов и тканей, поддерживают обмен веществ и энергии, участвуют в процессах роста и размножения, обеспечивают механизмы движений, развитие иммунных реакций, необходимы для функционирования всех органов и систем организм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11280" y="7650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лок – это высокомолекулярное органическое соединение, представляющее собой биополимер, состоящий из мономеров,  которыми являются аминокислоты соединенные пептидной связ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L23p02p01"/>
          <p:cNvPicPr/>
          <p:nvPr/>
        </p:nvPicPr>
        <p:blipFill>
          <a:blip r:embed="rId1"/>
          <a:stretch/>
        </p:blipFill>
        <p:spPr>
          <a:xfrm>
            <a:off x="3132000" y="2492280"/>
            <a:ext cx="55087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"Жизнь - это форма существования белка"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Picture 4" descr="Презентация «Белки», слайд № 1"/>
          <p:cNvPicPr/>
          <p:nvPr/>
        </p:nvPicPr>
        <p:blipFill>
          <a:blip r:embed="rId1"/>
          <a:stretch/>
        </p:blipFill>
        <p:spPr>
          <a:xfrm>
            <a:off x="1619280" y="1916280"/>
            <a:ext cx="611964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История открытия белк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530000"/>
            <a:ext cx="8007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ещества белковой природы известны с древних времен. Начало их изучения положено в середине 18 в. итальянцем Я. Беккари, но только через 100 лет ученым удалось систематизировать свойства белков  и сделать вывод , что белки – это главный компонент живых организмов. Затем из белковых гидролизатов были получены продукты расщепления и возникли гипотезы о строении белков из аминокисл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L23p10p01"/>
          <p:cNvPicPr/>
          <p:nvPr/>
        </p:nvPicPr>
        <p:blipFill>
          <a:blip r:embed="rId1"/>
          <a:stretch/>
        </p:blipFill>
        <p:spPr>
          <a:xfrm>
            <a:off x="5003640" y="3789360"/>
            <a:ext cx="3770640" cy="2827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мецкий химик Эмиль Фишер первым выяснил, как построены молекулы белков и заложил основы их химического синтеза. В начале 20 века Фишер доказал пептидную теорию строения белков, выдвинутую русским химиком Данилевским, синтезировав полипептиды состоящие из 3 – 18 аминокислотных остат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редерик Грант Бантинг – канадский ученый, в 1923 году  стал лауреатом Нобелевской премии за открытие и изучение инсул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87880" cy="62056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1"/>
          <p:cNvSpPr/>
          <p:nvPr/>
        </p:nvSpPr>
        <p:spPr>
          <a:xfrm>
            <a:off x="539640" y="64911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(14.11.1891–22.2.19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1992 году был получен гормон инсулин, позв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яющий контролировать сахарный диаб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356000" y="3530520"/>
            <a:ext cx="439272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акс Фердинанд Перутц – австрийский ученый,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1937 года изучал структуру гемоглоб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210200" cy="57625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759240" y="6308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(1914-2002), Авс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{BBE8BE40-FBA9-4281-A2D5-AEA24EA34F5E}"/>
          <p:cNvPicPr/>
          <p:nvPr/>
        </p:nvPicPr>
        <p:blipFill>
          <a:blip r:embed="rId1"/>
          <a:stretch/>
        </p:blipFill>
        <p:spPr>
          <a:xfrm>
            <a:off x="4067280" y="3284640"/>
            <a:ext cx="4716360" cy="3295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505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кс Фердинанд Перутц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сшифровал пространственное строение молеку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моглобина и построил ее точную мод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Член Национальной академии наук США (с 1970 года), Австрийской АН в Вене (с 1963 года), Американской академии искусств и наук (с 1963 года). Лауреат Нобелевской премии по химии за 1962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7720" y="4143240"/>
            <a:ext cx="294804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рансуа Жакоб (р.1920) – французский микробиол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фото"/>
          <p:cNvPicPr/>
          <p:nvPr/>
        </p:nvPicPr>
        <p:blipFill>
          <a:blip r:embed="rId1"/>
          <a:stretch/>
        </p:blipFill>
        <p:spPr>
          <a:xfrm>
            <a:off x="285840" y="357120"/>
            <a:ext cx="3571920" cy="3648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фото 2"/>
          <p:cNvPicPr/>
          <p:nvPr/>
        </p:nvPicPr>
        <p:blipFill>
          <a:blip r:embed="rId2"/>
          <a:stretch/>
        </p:blipFill>
        <p:spPr>
          <a:xfrm>
            <a:off x="5214960" y="304920"/>
            <a:ext cx="3081240" cy="35877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 flipV="1" rot="10800000">
            <a:off x="5285880" y="4032000"/>
            <a:ext cx="307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Жак Люсьен Моно (1910-1976) – французский биохимик  и микробиол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8:36:41Z</dcterms:created>
  <dc:creator>Customer</dc:creator>
  <dc:description/>
  <dc:language>en-US</dc:language>
  <cp:lastModifiedBy>Student</cp:lastModifiedBy>
  <dcterms:modified xsi:type="dcterms:W3CDTF">2012-03-31T06:11:14Z</dcterms:modified>
  <cp:revision>6</cp:revision>
  <dc:subject/>
  <dc:title>Тема: Белки. Проблема  синтеза белков</dc:title>
</cp:coreProperties>
</file>