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jpeg" ContentType="image/jpeg"/>
  <Override PartName="/ppt/media/image32.wmf" ContentType="image/x-wmf"/>
  <Override PartName="/ppt/media/image19.wmf" ContentType="image/x-wmf"/>
  <Override PartName="/ppt/media/image18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4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27.jpeg" ContentType="image/jpeg"/>
  <Override PartName="/ppt/media/image13.wmf" ContentType="image/x-wmf"/>
  <Override PartName="/ppt/media/image50.jpeg" ContentType="image/jpeg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45.png" ContentType="image/png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image46.jpeg" ContentType="image/jpeg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48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6.wmf" ContentType="image/x-wmf"/>
  <Override PartName="/ppt/media/image36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3E2-7A7D-41DF-83D6-0A506063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73F-1960-4419-B256-4146B238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FBC-259D-4EF2-ADA3-936040D0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C68-67E7-4726-BF70-6CACF126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DAEE-678A-446E-BDD2-E88C8B12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617C-C99D-41EB-B1C1-79D2A342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4B3-2CFF-4B1C-B5EF-2D30B7DD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862A-015F-4213-B855-04CF28BD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374-0CA6-482D-B876-FC4CED69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7A9-076D-4476-87A5-54D30799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18DB-3389-42DA-9469-B52535F0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2F3-95ED-4941-AB3B-2CEE758C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492D-46B1-495E-8888-CA6051414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2.wmf"/><Relationship Id="rId2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pn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520" y="3427920"/>
            <a:ext cx="867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МЕТАБОЛИЗМ И БИОЛОГИЧЕСКИ АКТИВНЫЕ ВЕЩ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16000" y="838080"/>
            <a:ext cx="8699400" cy="510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тамины В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три  равноценные  формы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8"/>
          <p:cNvGraphicFramePr/>
          <p:nvPr/>
        </p:nvGraphicFramePr>
        <p:xfrm>
          <a:off x="216000" y="1373040"/>
          <a:ext cx="869940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73040"/>
                    <a:ext cx="8699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9"/>
          <p:cNvSpPr/>
          <p:nvPr/>
        </p:nvSpPr>
        <p:spPr>
          <a:xfrm>
            <a:off x="216000" y="3828960"/>
            <a:ext cx="8686800" cy="1882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8d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ят  в  состав  более  50  ферментов,  участвуют  в  процессах  ами-нокислотного  синтеза  и  метаболизма,  в  фосфорилировании  углево-дов  и  метаболизме жирных  кисло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роко  применяются  в  медицине  при  лечении  некоторых  кожных  и  неврологических  заболеваний,  при  хроническом  гепатите,  в  гинеколо-гии,  гематологии  и  фтизиатр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16000" y="5807160"/>
            <a:ext cx="8699400" cy="916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дерматитный фактор. Основными источниками являются хлеб, картофель, горох, фасоль, мясо, печень, почки и другие продукты. Синтезируется микрофлорой кишечника челове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8" presetSubtype="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3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819520" y="71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42920" y="4832280"/>
            <a:ext cx="8848800" cy="111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ствует  в  синтезе  аминокислот,  пуриновых  и  пиримидиновых  оснований,  нуклеиновых  кислот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 медицине  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применяют  для  лечения  болезней  кроветворной  системы,  при  злокачественных  анемиях  и  лучевой  болезн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1"/>
          <p:cNvGraphicFramePr/>
          <p:nvPr/>
        </p:nvGraphicFramePr>
        <p:xfrm>
          <a:off x="142920" y="622440"/>
          <a:ext cx="8848800" cy="417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622440"/>
                    <a:ext cx="8848800" cy="41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12"/>
          <p:cNvSpPr/>
          <p:nvPr/>
        </p:nvSpPr>
        <p:spPr>
          <a:xfrm>
            <a:off x="142920" y="5973840"/>
            <a:ext cx="8839080" cy="8337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ыми источниками являются зелёные листья, дрожжи, мясо, печень, почки и другие продукты. Синтезируется микрофлорой кишечника человека. Суточная  потребность – около  2 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14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000"/>
                            </p:stCondLst>
                            <p:childTnLst>
                              <p:par>
                                <p:cTn id="183" nodeType="afterEffect" fill="hold" presetClass="entr" presetID="8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819520" y="228600"/>
            <a:ext cx="3743280" cy="53100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нтивитамины 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16000" y="990720"/>
            <a:ext cx="8686800" cy="136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 лечении  некоторых  злокачественных  опухолей  (лейкозов,  лейкемий)  для  угнетения  биосинтеза  нуклеиновых  оснований  применяют  антивитамины   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 антагонисты  фолиевой  кислоты. Кроме того, эти вещества проявляют иммуностимулирующую, цитотоксичную, противоартритную актив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8"/>
          <p:cNvGraphicFramePr/>
          <p:nvPr/>
        </p:nvGraphicFramePr>
        <p:xfrm>
          <a:off x="216000" y="2666880"/>
          <a:ext cx="8699400" cy="18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2666880"/>
                    <a:ext cx="869940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42920" y="5707080"/>
            <a:ext cx="8686800" cy="108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 медицине:  в  гематологии  -  применяют  для  лечения  хронических  анемий  и  болезней  кроветворной  системы;  в  неврологии  -   при полиневритах,  рассеянном  склерозе,  радикулитах;  в  дерматологии;  для  нормализации  липидного  обмена. Потребность – менее 0.01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8"/>
          <p:cNvGraphicFramePr/>
          <p:nvPr/>
        </p:nvGraphicFramePr>
        <p:xfrm>
          <a:off x="142920" y="762120"/>
          <a:ext cx="8696160" cy="491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762120"/>
                    <a:ext cx="869616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AutoShape 9"/>
          <p:cNvSpPr/>
          <p:nvPr/>
        </p:nvSpPr>
        <p:spPr>
          <a:xfrm>
            <a:off x="1116000" y="1557360"/>
            <a:ext cx="1600200" cy="15238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11"/>
          <p:cNvGrpSpPr/>
          <p:nvPr/>
        </p:nvGrpSpPr>
        <p:grpSpPr>
          <a:xfrm>
            <a:off x="6012000" y="865080"/>
            <a:ext cx="3132000" cy="2165400"/>
            <a:chOff x="6012000" y="865080"/>
            <a:chExt cx="3132000" cy="2165400"/>
          </a:xfrm>
        </p:grpSpPr>
        <p:pic>
          <p:nvPicPr>
            <p:cNvPr id="126" name="Picture 9" descr="Pseudomonas_aeruginosa1"/>
            <p:cNvPicPr/>
            <p:nvPr/>
          </p:nvPicPr>
          <p:blipFill>
            <a:blip r:embed="rId4"/>
            <a:stretch/>
          </p:blipFill>
          <p:spPr>
            <a:xfrm>
              <a:off x="6012000" y="865080"/>
              <a:ext cx="313200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0"/>
            <p:cNvSpPr/>
            <p:nvPr/>
          </p:nvSpPr>
          <p:spPr>
            <a:xfrm>
              <a:off x="6012000" y="2205000"/>
              <a:ext cx="230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ffff"/>
                  </a:solidFill>
                  <a:latin typeface="Arial"/>
                </a:rPr>
                <a:t>Pseudomonas aeruginos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6084720" y="3933720"/>
            <a:ext cx="2340000" cy="2016000"/>
            <a:chOff x="6084720" y="3933720"/>
            <a:chExt cx="2340000" cy="2016000"/>
          </a:xfrm>
        </p:grpSpPr>
        <p:pic>
          <p:nvPicPr>
            <p:cNvPr id="129" name="Picture 12" descr="pseudomonas2"/>
            <p:cNvPicPr/>
            <p:nvPr/>
          </p:nvPicPr>
          <p:blipFill>
            <a:blip r:embed="rId5"/>
            <a:stretch/>
          </p:blipFill>
          <p:spPr>
            <a:xfrm>
              <a:off x="6084720" y="3933720"/>
              <a:ext cx="2340000" cy="201600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130" name="Text Box 13"/>
            <p:cNvSpPr/>
            <p:nvPr/>
          </p:nvSpPr>
          <p:spPr>
            <a:xfrm>
              <a:off x="6192720" y="5518080"/>
              <a:ext cx="2232000" cy="4291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ffff"/>
                  </a:solidFill>
                  <a:latin typeface="Arial"/>
                </a:rPr>
                <a:t>Pseudomona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21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7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2" nodeType="afterEffect" fill="hold" presetClass="exit" presetID="22" presetSubtype="4">
                                  <p:stCondLst>
                                    <p:cond delay="7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2" presetSubtype="1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09480" y="71280"/>
            <a:ext cx="74678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ные коррина в живых организм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7"/>
          <p:cNvGraphicFramePr/>
          <p:nvPr/>
        </p:nvGraphicFramePr>
        <p:xfrm>
          <a:off x="228600" y="685800"/>
          <a:ext cx="8672400" cy="609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85800"/>
                    <a:ext cx="867240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" name="Group 13"/>
          <p:cNvGrpSpPr/>
          <p:nvPr/>
        </p:nvGrpSpPr>
        <p:grpSpPr>
          <a:xfrm>
            <a:off x="2195640" y="4005360"/>
            <a:ext cx="6618240" cy="2709000"/>
            <a:chOff x="2195640" y="4005360"/>
            <a:chExt cx="6618240" cy="2709000"/>
          </a:xfrm>
        </p:grpSpPr>
        <p:grpSp>
          <p:nvGrpSpPr>
            <p:cNvPr id="137" name="Group 12"/>
            <p:cNvGrpSpPr/>
            <p:nvPr/>
          </p:nvGrpSpPr>
          <p:grpSpPr>
            <a:xfrm>
              <a:off x="5003640" y="4149720"/>
              <a:ext cx="3810240" cy="2552760"/>
              <a:chOff x="5003640" y="4149720"/>
              <a:chExt cx="3810240" cy="2552760"/>
            </a:xfrm>
          </p:grpSpPr>
          <p:pic>
            <p:nvPicPr>
              <p:cNvPr id="138" name="Picture 8" descr="Propionibacterium"/>
              <p:cNvPicPr/>
              <p:nvPr/>
            </p:nvPicPr>
            <p:blipFill>
              <a:blip r:embed="rId4"/>
              <a:stretch/>
            </p:blipFill>
            <p:spPr>
              <a:xfrm>
                <a:off x="5003640" y="4149720"/>
                <a:ext cx="3810240" cy="2552760"/>
              </a:xfrm>
              <a:prstGeom prst="rect">
                <a:avLst/>
              </a:prstGeom>
              <a:ln w="31680">
                <a:solidFill>
                  <a:srgbClr val="ff0000"/>
                </a:solidFill>
                <a:miter/>
              </a:ln>
            </p:spPr>
          </p:pic>
          <p:sp>
            <p:nvSpPr>
              <p:cNvPr id="139" name="Text Box 9"/>
              <p:cNvSpPr/>
              <p:nvPr/>
            </p:nvSpPr>
            <p:spPr>
              <a:xfrm>
                <a:off x="5724360" y="6165720"/>
                <a:ext cx="2953080" cy="429120"/>
              </a:xfrm>
              <a:prstGeom prst="rect">
                <a:avLst/>
              </a:prstGeom>
              <a:noFill/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200" spc="-1" strike="noStrike">
                    <a:solidFill>
                      <a:srgbClr val="ff0000"/>
                    </a:solidFill>
                    <a:latin typeface="Arial"/>
                  </a:rPr>
                  <a:t>Propionibacterium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11"/>
            <p:cNvGrpSpPr/>
            <p:nvPr/>
          </p:nvGrpSpPr>
          <p:grpSpPr>
            <a:xfrm>
              <a:off x="2195640" y="4005360"/>
              <a:ext cx="2700360" cy="2709000"/>
              <a:chOff x="2195640" y="4005360"/>
              <a:chExt cx="2700360" cy="2709000"/>
            </a:xfrm>
          </p:grpSpPr>
          <p:pic>
            <p:nvPicPr>
              <p:cNvPr id="141" name="Picture 7" descr="aphanothece sacrum"/>
              <p:cNvPicPr/>
              <p:nvPr/>
            </p:nvPicPr>
            <p:blipFill>
              <a:blip r:embed="rId5"/>
              <a:stretch/>
            </p:blipFill>
            <p:spPr>
              <a:xfrm>
                <a:off x="2195640" y="4005360"/>
                <a:ext cx="2700360" cy="2684520"/>
              </a:xfrm>
              <a:prstGeom prst="rect">
                <a:avLst/>
              </a:prstGeom>
              <a:ln w="31680">
                <a:solidFill>
                  <a:srgbClr val="ff0000"/>
                </a:solidFill>
                <a:miter/>
              </a:ln>
            </p:spPr>
          </p:pic>
          <p:sp>
            <p:nvSpPr>
              <p:cNvPr id="142" name="Text Box 10"/>
              <p:cNvSpPr/>
              <p:nvPr/>
            </p:nvSpPr>
            <p:spPr>
              <a:xfrm>
                <a:off x="2700360" y="5950080"/>
                <a:ext cx="2158920" cy="764280"/>
              </a:xfrm>
              <a:prstGeom prst="rect">
                <a:avLst/>
              </a:prstGeom>
              <a:noFill/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200" spc="-1" strike="noStrike">
                    <a:solidFill>
                      <a:srgbClr val="ff0000"/>
                    </a:solidFill>
                    <a:latin typeface="Arial"/>
                  </a:rPr>
                  <a:t>Аphanothece sacrum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" nodeType="afterEffect" fill="hold" presetClass="entr" presetID="47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" nodeType="afterEffect" fill="hold" presetClass="exit" presetID="3" presetSubtype="10">
                                  <p:stCondLst>
                                    <p:cond delay="7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52280" y="152280"/>
            <a:ext cx="79250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ные порфирина в живых организм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5"/>
          <p:cNvGraphicFramePr/>
          <p:nvPr/>
        </p:nvGraphicFramePr>
        <p:xfrm>
          <a:off x="533520" y="762120"/>
          <a:ext cx="8153280" cy="581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762120"/>
                    <a:ext cx="815328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79280" y="152280"/>
            <a:ext cx="78980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ные порфирина в живых организм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79280" y="914400"/>
            <a:ext cx="8888400" cy="1194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тохромы выполняют функции переносчиков электронов от окисляемого субстрата к окислителю (кислороду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ряду с цитохромом А различают цитохром С, в котором у ио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меются дополнительные лиганды – атом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олекулы гистидина и атом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етиони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8"/>
          <p:cNvGraphicFramePr/>
          <p:nvPr/>
        </p:nvGraphicFramePr>
        <p:xfrm>
          <a:off x="177840" y="3276720"/>
          <a:ext cx="8902800" cy="177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840" y="3276720"/>
                    <a:ext cx="890280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9"/>
          <p:cNvSpPr/>
          <p:nvPr/>
        </p:nvSpPr>
        <p:spPr>
          <a:xfrm>
            <a:off x="179280" y="2514600"/>
            <a:ext cx="8888400" cy="61164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50000">
                <a:srgbClr val="ffffff"/>
              </a:gs>
              <a:gs pos="100000">
                <a:srgbClr val="ffb7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биологическом окислении гемоглобина (а также миоглобинов и цитохромов) образуются окрашенные вещества –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билирубиноид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179280" y="5181480"/>
            <a:ext cx="8888400" cy="106740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50000">
                <a:srgbClr val="ffffff"/>
              </a:gs>
              <a:gs pos="100000">
                <a:srgbClr val="ffb7d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илирубин имеет оранжевую окраску и является основным пигментом желчи. Часть билирубиноидов выделяется с мочой, отвечая за характерный цвет. При желтухе и некоторых других заболеваниях билирубин накапливается в крови, окрашивая кожу в жёлтый цве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500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0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42920" y="142920"/>
            <a:ext cx="79246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ные порфирина в живых организм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9"/>
          <p:cNvGraphicFramePr/>
          <p:nvPr/>
        </p:nvGraphicFramePr>
        <p:xfrm>
          <a:off x="142920" y="914400"/>
          <a:ext cx="8839080" cy="562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914400"/>
                    <a:ext cx="883908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Group 9"/>
          <p:cNvGrpSpPr/>
          <p:nvPr/>
        </p:nvGrpSpPr>
        <p:grpSpPr>
          <a:xfrm>
            <a:off x="5724360" y="3716280"/>
            <a:ext cx="3048120" cy="2286000"/>
            <a:chOff x="5724360" y="3716280"/>
            <a:chExt cx="3048120" cy="2286000"/>
          </a:xfrm>
        </p:grpSpPr>
        <p:pic>
          <p:nvPicPr>
            <p:cNvPr id="162" name="Picture 7" descr="Ajuga taiwanensis"/>
            <p:cNvPicPr/>
            <p:nvPr/>
          </p:nvPicPr>
          <p:blipFill>
            <a:blip r:embed="rId4"/>
            <a:stretch/>
          </p:blipFill>
          <p:spPr>
            <a:xfrm>
              <a:off x="5724360" y="3716280"/>
              <a:ext cx="3048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8"/>
            <p:cNvSpPr/>
            <p:nvPr/>
          </p:nvSpPr>
          <p:spPr>
            <a:xfrm>
              <a:off x="5867280" y="3789360"/>
              <a:ext cx="280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0000"/>
                  </a:solidFill>
                  <a:latin typeface="Arial"/>
                </a:rPr>
                <a:t>Ajuga taiwanensi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4"/>
          <p:cNvGrpSpPr/>
          <p:nvPr/>
        </p:nvGrpSpPr>
        <p:grpSpPr>
          <a:xfrm>
            <a:off x="395280" y="1268280"/>
            <a:ext cx="2773440" cy="3251160"/>
            <a:chOff x="395280" y="1268280"/>
            <a:chExt cx="2773440" cy="3251160"/>
          </a:xfrm>
        </p:grpSpPr>
        <p:grpSp>
          <p:nvGrpSpPr>
            <p:cNvPr id="165" name="Group 12"/>
            <p:cNvGrpSpPr/>
            <p:nvPr/>
          </p:nvGrpSpPr>
          <p:grpSpPr>
            <a:xfrm>
              <a:off x="395280" y="1268280"/>
              <a:ext cx="2773440" cy="3251160"/>
              <a:chOff x="395280" y="1268280"/>
              <a:chExt cx="2773440" cy="3251160"/>
            </a:xfrm>
          </p:grpSpPr>
          <p:pic>
            <p:nvPicPr>
              <p:cNvPr id="166" name="Pictur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396720" y="1268280"/>
                <a:ext cx="2772000" cy="324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Picture 11" descr="Spirulina maxima"/>
              <p:cNvPicPr/>
              <p:nvPr/>
            </p:nvPicPr>
            <p:blipFill>
              <a:blip r:embed="rId6"/>
              <a:stretch/>
            </p:blipFill>
            <p:spPr>
              <a:xfrm>
                <a:off x="395280" y="2647800"/>
                <a:ext cx="1779480" cy="1871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8" name="Text Box 13"/>
            <p:cNvSpPr/>
            <p:nvPr/>
          </p:nvSpPr>
          <p:spPr>
            <a:xfrm>
              <a:off x="487440" y="1307880"/>
              <a:ext cx="25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ff0000"/>
                  </a:solidFill>
                  <a:latin typeface="Arial"/>
                </a:rPr>
                <a:t>Spirulina maxim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47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2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16" nodeType="afterEffect" fill="hold" presetClass="exit" presetID="3" presetSubtype="10">
                                  <p:stCondLst>
                                    <p:cond delay="7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3" presetSubtype="10">
                                  <p:stCondLst>
                                    <p:cond delay="7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564000" y="189000"/>
            <a:ext cx="23050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6"/>
          <p:cNvGraphicFramePr/>
          <p:nvPr/>
        </p:nvGraphicFramePr>
        <p:xfrm>
          <a:off x="399960" y="838080"/>
          <a:ext cx="837252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838080"/>
                    <a:ext cx="837252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7"/>
          <p:cNvSpPr/>
          <p:nvPr/>
        </p:nvSpPr>
        <p:spPr>
          <a:xfrm>
            <a:off x="395280" y="3201840"/>
            <a:ext cx="8367840" cy="916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точник  витамина  С:  лимон,  капуста,  сладкий  перец,  другие  фрукты  и  овощи.  У большинства  животных  может  синтезироваться  в  организме.  Суточная  потребность  -  25-75 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95280" y="4365720"/>
            <a:ext cx="8367840" cy="1282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яется  для  лечения  цинги,  геморрагических  диатезов,  крово-течениях,  ряда  инфекционных  и  иммунных  заболеваний,  для  нор-мализации  липидного  обмена  при  атеросклерозе,  при усиленном физическом и умственном  напряжении, простуде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5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500"/>
                            </p:stCondLst>
                            <p:childTnLst>
                              <p:par>
                                <p:cTn id="339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1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916360" y="189000"/>
            <a:ext cx="360036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24000" y="5300640"/>
            <a:ext cx="8515080" cy="11912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ирорастворимый. Антирахитный витамин, его недостаток  в организме вызывает  рахит.  В  организме  человека  регулирует  всасывание  кальция  в  кишечнике  и  общие  процессы  метаболизма  с  участием  кальция. Суточная потребность – 0.01-0.03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8"/>
          <p:cNvGraphicFramePr/>
          <p:nvPr/>
        </p:nvGraphicFramePr>
        <p:xfrm>
          <a:off x="324000" y="836640"/>
          <a:ext cx="8515080" cy="42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836640"/>
                    <a:ext cx="851508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3564000" y="115920"/>
            <a:ext cx="20876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50920" y="836640"/>
            <a:ext cx="8642160" cy="2319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Витами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органическое вещество, образующееся в животном организме или поступающее с пищей в очень незначительных количествах, но абсолютно необходимое для нормального обмена веществ и жизнедеятельности. Многие витамины являются коферментами или предшественниками коферментов, в составе которых они участвуют в различных ферментативных реакциях. Обычно первоисточником витаминов служат пищевые растения или некоторые низшие микроорганизм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50920" y="3357720"/>
            <a:ext cx="8642160" cy="20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8d1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вестно более 20 групп различных витаминов, которые различаются по своему физиологическому действию. Различают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водорастворим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PP и C) и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жирорастворим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итамины (A, D, E, K). Выделяют также группу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витаминоподобных вещест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 похожими физиологическими функциями. К таким веществам относят некоторые флавоноиды, липоевую, оротовую и пангамовую кислоты, холин, инозит (инозитол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916360" y="189000"/>
            <a:ext cx="3600360" cy="53100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тивитамин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7"/>
          <p:cNvGraphicFramePr/>
          <p:nvPr/>
        </p:nvGraphicFramePr>
        <p:xfrm>
          <a:off x="228600" y="1114560"/>
          <a:ext cx="8686800" cy="462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114560"/>
                    <a:ext cx="868680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2895480" y="71280"/>
            <a:ext cx="36007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16000" y="5029200"/>
            <a:ext cx="8699400" cy="17398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стерильный или витамин размножения. У  животных и человека  недостаток витамина Е приводит к бесплодию, к поражению  сердечной  мышцы,  сосудистой  и  нервной  систем.  Работает  как  антиоксидант. Жирорастворимы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точная  потребность  -  10 - 25  мг, иногда – до 5 мг. Источник  витамина  Е:  зерна  пшеницы  и  риса,  растительные  масла,  салат,  шпина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Object 11"/>
          <p:cNvGraphicFramePr/>
          <p:nvPr/>
        </p:nvGraphicFramePr>
        <p:xfrm>
          <a:off x="216000" y="650880"/>
          <a:ext cx="8699400" cy="43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650880"/>
                    <a:ext cx="8699400" cy="43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492360" y="189000"/>
            <a:ext cx="23036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24000" y="4941720"/>
            <a:ext cx="84247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интезируются в организме человека и являются для него незаменимыми (необходимы  для построения  клеточных  мембран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ако, входят в состав тканей, поэтому часто об этих кислотах говорят как о витаминоподобных веществ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24000" y="907920"/>
            <a:ext cx="8439120" cy="6426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е  название  ненасыщенных  жирных  кислот  -  олеиновой,  линолевой,  линоленовой  и  арахидоновой  кисло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Object 8"/>
          <p:cNvGraphicFramePr/>
          <p:nvPr/>
        </p:nvGraphicFramePr>
        <p:xfrm>
          <a:off x="324000" y="1625760"/>
          <a:ext cx="8439120" cy="32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625760"/>
                    <a:ext cx="8439120" cy="32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500"/>
                            </p:stCondLst>
                            <p:childTnLst>
                              <p:par>
                                <p:cTn id="387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492360" y="108000"/>
            <a:ext cx="230364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42920" y="4648320"/>
            <a:ext cx="877248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растворимый. Недостаток  витамина  приводит  к  депигментации  кожи, дерматитам (антисеборейный фактор),  торможению  роста,  нерв-ным  расстройствам, поражению ногтей, анорексии и анемии. Суточная  потребность  -  0.1 - 0.3  мг. Белок авидин – антивитамин 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142920" y="5943600"/>
            <a:ext cx="87724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нтезируется микрофлорой кишечника человека. Много –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пече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поч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моло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жел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ц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картофе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лу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тома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шпина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Object 12"/>
          <p:cNvGraphicFramePr/>
          <p:nvPr/>
        </p:nvGraphicFramePr>
        <p:xfrm>
          <a:off x="142920" y="762120"/>
          <a:ext cx="8763120" cy="32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762120"/>
                    <a:ext cx="876312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13"/>
          <p:cNvSpPr/>
          <p:nvPr/>
        </p:nvSpPr>
        <p:spPr>
          <a:xfrm>
            <a:off x="142920" y="4191120"/>
            <a:ext cx="8772480" cy="405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вует в ферментативных реакция карбоксилирования (перенос СО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500"/>
                            </p:stCondLst>
                            <p:childTnLst>
                              <p:par>
                                <p:cTn id="406" nodeType="after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9000"/>
                            </p:stCondLst>
                            <p:childTnLst>
                              <p:par>
                                <p:cTn id="410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4" nodeType="afterEffect" fill="hold" presetClass="entr" presetID="5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2514600" y="189000"/>
            <a:ext cx="4038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42920" y="4572000"/>
            <a:ext cx="88488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ирорастворимый. Недостаток  витамина  приводит  к  нарушению  целостности  стенок  кровеносных  сосудов,  подкожным  и  внутримышечным  кровотечениям.  Суточная  потребность  -  1  м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142920" y="838080"/>
            <a:ext cx="88488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тамины коагуляции крови (антигеморрагический фактор), необходимы для синтеза протромбина в печени. Протромбин – гликопротеид, участвующий в образовании протеолитического фермен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685800" y="1828800"/>
          <a:ext cx="7772400" cy="264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28800"/>
                    <a:ext cx="777240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10"/>
          <p:cNvSpPr/>
          <p:nvPr/>
        </p:nvSpPr>
        <p:spPr>
          <a:xfrm>
            <a:off x="142920" y="5556240"/>
            <a:ext cx="884880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нтезируется микрофлорой кишечника человека. Филлохинона много в разных видах капусты, салат-латуке, спарже, растительных маслах. Мена-хинонов много в продуктах ферментативного брожения, например, в сыре Камамбер (600 нг/г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,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9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27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62%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16" presetSubtype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5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3" nodeType="after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9500"/>
                            </p:stCondLst>
                            <p:childTnLst>
                              <p:par>
                                <p:cTn id="437" nodeType="afterEffect" fill="hold" presetClass="entr" presetID="5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152280"/>
            <a:ext cx="6324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интетические аналоги витамина 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42920" y="5943600"/>
            <a:ext cx="8763120" cy="61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Применяют  при  инфаркте  миокарда  и  тромбофлебитах,  когда  происходит  образование  тромбов  в  сосудах  и повышается  свертываемость  крови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42920" y="2971800"/>
            <a:ext cx="87724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адион считается провитамином К. Аналоги витамина К применяются при угрозе возникновения кровотечений и кровоизлия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9"/>
          <p:cNvGraphicFramePr/>
          <p:nvPr/>
        </p:nvGraphicFramePr>
        <p:xfrm>
          <a:off x="1219320" y="762120"/>
          <a:ext cx="6605640" cy="20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762120"/>
                    <a:ext cx="660564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 Box 10"/>
          <p:cNvSpPr/>
          <p:nvPr/>
        </p:nvSpPr>
        <p:spPr>
          <a:xfrm>
            <a:off x="2514600" y="3809880"/>
            <a:ext cx="4254480" cy="42300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тивитамины 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Object 11"/>
          <p:cNvGraphicFramePr/>
          <p:nvPr/>
        </p:nvGraphicFramePr>
        <p:xfrm>
          <a:off x="2514600" y="4419720"/>
          <a:ext cx="4295880" cy="141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4419720"/>
                    <a:ext cx="429588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500"/>
                            </p:stCondLst>
                            <p:childTnLst>
                              <p:par>
                                <p:cTn id="452" nodeType="after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0" nodeType="afterEffect" fill="hold" presetClass="entr" presetID="14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4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3581280" y="152280"/>
            <a:ext cx="228600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16000" y="4648320"/>
            <a:ext cx="8762760" cy="64260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50000">
                <a:srgbClr val="ffffff"/>
              </a:gs>
              <a:gs pos="100000">
                <a:srgbClr val="ffb7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меняется в медицине  для  нормализации  липидного  обмена,  лечения  цирроза  печени  и желтухи,  сахарного  диабета,  атеросклероз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216000" y="2971800"/>
            <a:ext cx="8775720" cy="1465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растворимый витамин. Присутствует в тканях животных, растений и в микроорганизмах. Незаменимый фактор роста молочнокислых бактерий, дрожжей и др. Входит в состав множества оксидоредуктаз, в частности, участвует в окислительном декарбоксилировании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кетоксило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Object 11"/>
          <p:cNvGraphicFramePr/>
          <p:nvPr/>
        </p:nvGraphicFramePr>
        <p:xfrm>
          <a:off x="609480" y="838080"/>
          <a:ext cx="7925040" cy="20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838080"/>
                    <a:ext cx="79250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500"/>
                            </p:stCondLst>
                            <p:childTnLst>
                              <p:par>
                                <p:cTn id="483" nodeType="afterEffect" fill="hold" presetClass="entr" presetID="16" presetSubtype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590920" y="152280"/>
            <a:ext cx="4038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42920" y="5943600"/>
            <a:ext cx="8851680" cy="61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Используются  для  лечении заболеваний  кровеносных  сосудов,  гипертонии,  кори,  скарлатины,  сыпного  тифа, кровоизлияния в сетчатку глаза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142920" y="765000"/>
            <a:ext cx="88488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лекс  флавоноидных  соединений растений,  действует  подобно  витамину  С –  уменьшает  проницаемость  и  ломкость  капиллярных  кровеносных  сосу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12"/>
          <p:cNvGraphicFramePr/>
          <p:nvPr/>
        </p:nvGraphicFramePr>
        <p:xfrm>
          <a:off x="755640" y="3657600"/>
          <a:ext cx="7626240" cy="21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3657600"/>
                    <a:ext cx="762624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3"/>
          <p:cNvGraphicFramePr/>
          <p:nvPr/>
        </p:nvGraphicFramePr>
        <p:xfrm>
          <a:off x="755640" y="1752480"/>
          <a:ext cx="7616880" cy="178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1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1752480"/>
                    <a:ext cx="761688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500"/>
                            </p:stCondLst>
                            <p:childTnLst>
                              <p:par>
                                <p:cTn id="498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7500"/>
                            </p:stCondLst>
                            <p:childTnLst>
                              <p:par>
                                <p:cTn id="502" nodeType="afterEffect" fill="hold" presetClass="entr" presetID="14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6" nodeType="afterEffect" fill="hold" presetClass="entr" presetID="18" presetSubtype="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Object 9"/>
          <p:cNvGraphicFramePr/>
          <p:nvPr/>
        </p:nvGraphicFramePr>
        <p:xfrm>
          <a:off x="142920" y="658800"/>
          <a:ext cx="8848800" cy="19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58800"/>
                    <a:ext cx="884880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2590920" y="71280"/>
            <a:ext cx="40384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ы групп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42920" y="5029200"/>
            <a:ext cx="8839080" cy="12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Широко применяются в медицине для стимуляции митохондрий  сердечной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мышцы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 сердечно-сосудистых заболеваниях и  мышечных дистрофиях, для уменьшения кардиотоксического действия противоопухолевых антибио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иков, в качестве иммуномодулирующего средства, при лечении особых форм анемии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42920" y="2666880"/>
            <a:ext cx="8848800" cy="102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Цвет: от желтого до красного. Повсеместно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спространены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стениях,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жи-вотных,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рибах, микроорганизмах.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онцентрируются в мембранах митохонд-рий,  микросомах, ядрах. Органы с наибольшими энергетическими потребнос-тями (сердце, печень) имеют максимальные концентрации убихононов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142920" y="3745080"/>
            <a:ext cx="8848800" cy="5925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50000">
                <a:srgbClr val="ffffff"/>
              </a:gs>
              <a:gs pos="100000">
                <a:srgbClr val="e8d1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частвую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вместе с витамином К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) в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ыхании высших растений, животных и микроорганизмов, в процессах окислительного фосфорилирования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42920" y="4419720"/>
            <a:ext cx="8848800" cy="560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промышленности получают биотехнологически из биомассы бактерий, дрожжей, низших грибов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42920" y="6394320"/>
            <a:ext cx="8848800" cy="368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рациклиновые антибиотики являются антагонистами витами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Object 12"/>
          <p:cNvGraphicFramePr/>
          <p:nvPr/>
        </p:nvGraphicFramePr>
        <p:xfrm>
          <a:off x="8493120" y="1258920"/>
          <a:ext cx="552600" cy="86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3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3120" y="1258920"/>
                    <a:ext cx="5526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3"/>
          <p:cNvGraphicFramePr/>
          <p:nvPr/>
        </p:nvGraphicFramePr>
        <p:xfrm>
          <a:off x="7308720" y="1258920"/>
          <a:ext cx="552600" cy="86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5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08720" y="1258920"/>
                    <a:ext cx="5526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14"/>
          <p:cNvGraphicFramePr/>
          <p:nvPr/>
        </p:nvGraphicFramePr>
        <p:xfrm>
          <a:off x="6116760" y="1258920"/>
          <a:ext cx="552240" cy="863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7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6760" y="1258920"/>
                    <a:ext cx="5522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15"/>
          <p:cNvGraphicFramePr/>
          <p:nvPr/>
        </p:nvGraphicFramePr>
        <p:xfrm>
          <a:off x="4894200" y="1258920"/>
          <a:ext cx="552600" cy="86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94200" y="1258920"/>
                    <a:ext cx="5526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6"/>
          <p:cNvGraphicFramePr/>
          <p:nvPr/>
        </p:nvGraphicFramePr>
        <p:xfrm>
          <a:off x="4354560" y="1187280"/>
          <a:ext cx="539640" cy="871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1" name="Object 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54560" y="1187280"/>
                    <a:ext cx="5396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17"/>
          <p:cNvGraphicFramePr/>
          <p:nvPr/>
        </p:nvGraphicFramePr>
        <p:xfrm>
          <a:off x="5541840" y="1187280"/>
          <a:ext cx="540000" cy="871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3" name="Object 1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41840" y="1187280"/>
                    <a:ext cx="5400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18"/>
          <p:cNvGraphicFramePr/>
          <p:nvPr/>
        </p:nvGraphicFramePr>
        <p:xfrm>
          <a:off x="6732720" y="1187280"/>
          <a:ext cx="539640" cy="871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5" name="Object 1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732720" y="1187280"/>
                    <a:ext cx="5396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19"/>
          <p:cNvGraphicFramePr/>
          <p:nvPr/>
        </p:nvGraphicFramePr>
        <p:xfrm>
          <a:off x="7916760" y="1187280"/>
          <a:ext cx="540000" cy="8715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7" name="Object 1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916760" y="1187280"/>
                    <a:ext cx="5400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50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7500"/>
                            </p:stCondLst>
                            <p:childTnLst>
                              <p:par>
                                <p:cTn id="54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3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2500"/>
                            </p:stCondLst>
                            <p:childTnLst>
                              <p:par>
                                <p:cTn id="55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90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2500"/>
                            </p:stCondLst>
                            <p:childTnLst>
                              <p:par>
                                <p:cTn id="569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3352680" y="152280"/>
            <a:ext cx="23623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79280" y="4495680"/>
            <a:ext cx="8736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о относят к незаменимым аминокислотам и считают витамино-подобным веществ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581280" y="1219320"/>
            <a:ext cx="5334120" cy="1191240"/>
          </a:xfrm>
          <a:prstGeom prst="rect">
            <a:avLst/>
          </a:prstGeom>
          <a:gradFill rotWithShape="0">
            <a:gsLst>
              <a:gs pos="0">
                <a:srgbClr val="c5ff23"/>
              </a:gs>
              <a:gs pos="50000">
                <a:srgbClr val="ffffff"/>
              </a:gs>
              <a:gs pos="100000">
                <a:srgbClr val="c5ff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ного  в  капустном  соке,  спарже,  зелени петрушки и репы,  шпинате,  сельдерее,  томатах,  перце, зелёном чае, бананах, фруктах, сыром молок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179280" y="2895480"/>
            <a:ext cx="8763120" cy="916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 потреблении  250 - 300 мг/сутки  оказывает  болеутоляющее  действие, способствует  эпителизации  оболочки  желудка,  кишечника  и  двенадцатиперстной  киш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10"/>
          <p:cNvGraphicFramePr/>
          <p:nvPr/>
        </p:nvGraphicFramePr>
        <p:xfrm>
          <a:off x="179280" y="838080"/>
          <a:ext cx="3276720" cy="19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838080"/>
                    <a:ext cx="32767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 Box 11"/>
          <p:cNvSpPr/>
          <p:nvPr/>
        </p:nvSpPr>
        <p:spPr>
          <a:xfrm>
            <a:off x="179280" y="3962520"/>
            <a:ext cx="8736120" cy="405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иохимический донор СН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групп, работает в составе кофермен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500"/>
                            </p:stCondLst>
                            <p:childTnLst>
                              <p:par>
                                <p:cTn id="584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7500"/>
                            </p:stCondLst>
                            <p:childTnLst>
                              <p:par>
                                <p:cTn id="588" nodeType="afterEffect" fill="hold" presetClass="entr" presetID="14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2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627280" y="115920"/>
            <a:ext cx="41767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762200" y="2705040"/>
            <a:ext cx="585792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ротиноиды (провитамины 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1765440" y="3352680"/>
          <a:ext cx="585468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5440" y="3352680"/>
                    <a:ext cx="5854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9"/>
          <p:cNvGraphicFramePr/>
          <p:nvPr/>
        </p:nvGraphicFramePr>
        <p:xfrm>
          <a:off x="108000" y="762120"/>
          <a:ext cx="3124080" cy="182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8000" y="762120"/>
                    <a:ext cx="3124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10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3281400" y="790560"/>
            <a:ext cx="5791320" cy="1807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Жирорастворимый витамин, выполняет функции фактора роста и антиксерофтальмического фактора.  Много - в  животных  продуктах,  в печени  морских  животных  и  рыб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Недостаток витамина вызывает ксерофтальмию, "куриную слепоту", остановку роста костей и клеток надпочечников, повреждение тканей ЦНС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1762200" y="6248520"/>
            <a:ext cx="583416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точная потребность в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отине – 2-5 м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5651640" y="314172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место расщепл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3" nodeType="afterEffect" fill="hold" presetClass="entr" presetID="18" presetSubtype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2050920" y="115920"/>
            <a:ext cx="518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оподобные веще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108000" y="836640"/>
            <a:ext cx="8856720" cy="22302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щества, которые могут синтезироваться в организме животных без внешних факторов (в отличии от истинных витаминов) и обладают витаминными (незаменимыми) свойствами, называют витаминоподобными. К ним относят холин, липоевую кислоту (витами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пангамовую кислоту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тамин В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оротовую кислоту, инозит (витамин В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убихино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р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минобензойную кислоту, карнитин, полиненасыщенные жирные кислоты (витами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 витамин U (противоязвенный фактор) и ряд факторов роста птиц, крыс, цыплят, тканевых культур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Object 12"/>
          <p:cNvGraphicFramePr/>
          <p:nvPr/>
        </p:nvGraphicFramePr>
        <p:xfrm>
          <a:off x="114480" y="3073320"/>
          <a:ext cx="8902440" cy="21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2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80" y="3073320"/>
                    <a:ext cx="89024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13"/>
          <p:cNvSpPr/>
          <p:nvPr/>
        </p:nvSpPr>
        <p:spPr>
          <a:xfrm>
            <a:off x="108000" y="5433840"/>
            <a:ext cx="8928000" cy="1341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Оротовая кисло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является предшественником пиримидиновых нуклеотидо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уется при нарушениях белкового обмена, для нормализации функций пече-ни, для снижения аппетита, при инфарктах миокарда. Выполняет роль анаболика - заместителя стероидных гормонов. Потребность – 1-1.5 г в сутк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меется в женском молоке, печени, дрожжах, растительных продукта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337176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Group 17"/>
          <p:cNvGrpSpPr/>
          <p:nvPr/>
        </p:nvGrpSpPr>
        <p:grpSpPr>
          <a:xfrm>
            <a:off x="3657600" y="762120"/>
            <a:ext cx="4038480" cy="2321280"/>
            <a:chOff x="3657600" y="762120"/>
            <a:chExt cx="4038480" cy="2321280"/>
          </a:xfrm>
        </p:grpSpPr>
        <p:grpSp>
          <p:nvGrpSpPr>
            <p:cNvPr id="286" name="Group 12"/>
            <p:cNvGrpSpPr/>
            <p:nvPr/>
          </p:nvGrpSpPr>
          <p:grpSpPr>
            <a:xfrm>
              <a:off x="3657600" y="1295280"/>
              <a:ext cx="2057400" cy="1788120"/>
              <a:chOff x="3657600" y="1295280"/>
              <a:chExt cx="2057400" cy="1788120"/>
            </a:xfrm>
          </p:grpSpPr>
          <p:graphicFrame>
            <p:nvGraphicFramePr>
              <p:cNvPr id="287" name="Object 9"/>
              <p:cNvGraphicFramePr/>
              <p:nvPr/>
            </p:nvGraphicFramePr>
            <p:xfrm>
              <a:off x="3657600" y="1295280"/>
              <a:ext cx="1962000" cy="17589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288" name="Object 9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657600" y="1295280"/>
                        <a:ext cx="1962000" cy="1758960"/>
                      </a:xfrm>
                      <a:prstGeom prst="rect">
                        <a:avLst/>
                      </a:prstGeom>
                      <a:ln w="31680">
                        <a:solidFill>
                          <a:srgbClr val="ff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289" name="Text Box 11"/>
              <p:cNvSpPr/>
              <p:nvPr/>
            </p:nvSpPr>
            <p:spPr>
              <a:xfrm>
                <a:off x="3657600" y="2209680"/>
                <a:ext cx="2057400" cy="87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воробейник</a:t>
                </a:r>
                <a:r>
                  <a:rPr b="1" i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Lithospermum officinale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Group 16"/>
            <p:cNvGrpSpPr/>
            <p:nvPr/>
          </p:nvGrpSpPr>
          <p:grpSpPr>
            <a:xfrm>
              <a:off x="5943600" y="762120"/>
              <a:ext cx="1752480" cy="2286000"/>
              <a:chOff x="5943600" y="762120"/>
              <a:chExt cx="1752480" cy="2286000"/>
            </a:xfrm>
          </p:grpSpPr>
          <p:pic>
            <p:nvPicPr>
              <p:cNvPr id="291" name="Picture 15" descr="Zea_mays_K"/>
              <p:cNvPicPr/>
              <p:nvPr/>
            </p:nvPicPr>
            <p:blipFill>
              <a:blip r:embed="rId6"/>
              <a:stretch/>
            </p:blipFill>
            <p:spPr>
              <a:xfrm>
                <a:off x="5943600" y="762120"/>
                <a:ext cx="1714680" cy="2286000"/>
              </a:xfrm>
              <a:prstGeom prst="rect">
                <a:avLst/>
              </a:prstGeom>
              <a:ln w="31680">
                <a:solidFill>
                  <a:srgbClr val="ff0000"/>
                </a:solidFill>
                <a:miter/>
              </a:ln>
            </p:spPr>
          </p:pic>
          <p:sp>
            <p:nvSpPr>
              <p:cNvPr id="292" name="Text Box 13"/>
              <p:cNvSpPr/>
              <p:nvPr/>
            </p:nvSpPr>
            <p:spPr>
              <a:xfrm>
                <a:off x="6019920" y="2666880"/>
                <a:ext cx="167616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200" spc="-1" strike="noStrike">
                    <a:solidFill>
                      <a:srgbClr val="ffffff"/>
                    </a:solidFill>
                    <a:latin typeface="Arial"/>
                  </a:rPr>
                  <a:t>Zea </a:t>
                </a:r>
                <a:r>
                  <a:rPr b="1" i="1" lang="en-US" sz="22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r>
                  <a:rPr b="1" i="1" lang="ru-RU" sz="2200" spc="-1" strike="noStrike">
                    <a:solidFill>
                      <a:srgbClr val="ffffff"/>
                    </a:solidFill>
                    <a:latin typeface="Arial"/>
                  </a:rPr>
                  <a:t>ay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500"/>
                            </p:stCondLst>
                            <p:childTnLst>
                              <p:par>
                                <p:cTn id="607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1" nodeType="afterEffect" fill="hold" presetClass="entr" presetID="21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8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3" nodeType="afterEffect" fill="hold" presetClass="exit" presetID="3" presetSubtype="10">
                                  <p:stCondLst>
                                    <p:cond delay="8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2268360" y="71280"/>
            <a:ext cx="518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оподобные веще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108000" y="692280"/>
            <a:ext cx="8856720" cy="208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ози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является мощным липотропным фактором, участвует в фосфоглицерид-ном обмене, тормозит развитие дистрофии печени у животных, находящихся на безбелковой диете и у человека при злокачественных новообразованиях. Отсут-ствие в пищи крыс вызывает плешивость, расстройства нервной системы и желу-дочно-кишечного тракта. Суточная потребность – не менее 1 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о в печени, мясе, молоке, хлебе из муки грубого помола, овощах и фрукта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тиновая кислота широко распростране в растениях. Её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ь (фитин) стимулирует кроветворение, улучшает нервную деятельнос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08000" y="5264280"/>
            <a:ext cx="8856720" cy="15174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минобензойная кислота является ростостимулирующим фактором дрожжей и других микроорганизмов. Необходима для нормального процесса пигментации волос, шерсти, перьев и кожи. Активирует действие тирозиназы – ключевого фер-мента при биосинтезе меланинов кож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ного в печени, почках, мясе, дрожжа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ны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БК обладают местно-анестезирующим действием. Сульфанил-амидные антибиотики – структурные аналог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АБ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Object 12"/>
          <p:cNvGraphicFramePr/>
          <p:nvPr/>
        </p:nvGraphicFramePr>
        <p:xfrm>
          <a:off x="108000" y="2855880"/>
          <a:ext cx="8883720" cy="235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855880"/>
                    <a:ext cx="888372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8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ntr" presetID="16" presetSubtype="3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268360" y="115920"/>
            <a:ext cx="518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таминоподобные веще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3670200" y="1052640"/>
            <a:ext cx="5356440" cy="167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нгамовую кислоту используют при ряде заболеваний, связанных с нарушением обмена веществ (реакции трансметилирования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жировом перерождении печени и некоторых формах кислородного голодания. Много в печени, семенах растений, дрожжа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Object 0"/>
          <p:cNvGraphicFramePr/>
          <p:nvPr/>
        </p:nvGraphicFramePr>
        <p:xfrm>
          <a:off x="177840" y="914400"/>
          <a:ext cx="3263760" cy="195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Object 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840" y="914400"/>
                    <a:ext cx="326376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 Box 11"/>
          <p:cNvSpPr/>
          <p:nvPr/>
        </p:nvSpPr>
        <p:spPr>
          <a:xfrm>
            <a:off x="179280" y="2997360"/>
            <a:ext cx="88567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виде кальциевой соли применяется при ишемической болезни сердца, атеросклерозе, инфаркте миокарда, гепатите, стенокардии. Снимает токсическое действие при отравлениях алкоголе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Object 1"/>
          <p:cNvGraphicFramePr/>
          <p:nvPr/>
        </p:nvGraphicFramePr>
        <p:xfrm>
          <a:off x="133200" y="3914640"/>
          <a:ext cx="2124360" cy="125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8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" y="3914640"/>
                    <a:ext cx="21243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Text Box 13"/>
          <p:cNvSpPr/>
          <p:nvPr/>
        </p:nvSpPr>
        <p:spPr>
          <a:xfrm>
            <a:off x="2362320" y="4038480"/>
            <a:ext cx="6583320" cy="1100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огда называют витамином В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итамином роста. У млеко-питающих участвует в процессах окисления жирных кислот. В медицине используется для лечения психических и неврологических расстройствах. Анабол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302904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14"/>
          <p:cNvGrpSpPr/>
          <p:nvPr/>
        </p:nvGrpSpPr>
        <p:grpSpPr>
          <a:xfrm>
            <a:off x="152280" y="5257800"/>
            <a:ext cx="2057400" cy="1559520"/>
            <a:chOff x="152280" y="5257800"/>
            <a:chExt cx="2057400" cy="1559520"/>
          </a:xfrm>
        </p:grpSpPr>
        <p:pic>
          <p:nvPicPr>
            <p:cNvPr id="312" name="imgb" descr="http://www.nature.ca/notebooks/images/img/095c_p_octo2_p.jpg"/>
            <p:cNvPicPr/>
            <p:nvPr/>
          </p:nvPicPr>
          <p:blipFill>
            <a:blip r:embed="rId6"/>
            <a:stretch/>
          </p:blipFill>
          <p:spPr>
            <a:xfrm>
              <a:off x="152280" y="5257800"/>
              <a:ext cx="2057400" cy="1549080"/>
            </a:xfrm>
            <a:prstGeom prst="rect">
              <a:avLst/>
            </a:prstGeom>
            <a:ln w="31680">
              <a:solidFill>
                <a:srgbClr val="ff0000"/>
              </a:solidFill>
              <a:miter/>
            </a:ln>
          </p:spPr>
        </p:pic>
        <p:sp>
          <p:nvSpPr>
            <p:cNvPr id="313" name="Text Box 11"/>
            <p:cNvSpPr/>
            <p:nvPr/>
          </p:nvSpPr>
          <p:spPr>
            <a:xfrm>
              <a:off x="533160" y="6187680"/>
              <a:ext cx="167652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Octopus octopod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500"/>
                            </p:stCondLst>
                            <p:childTnLst>
                              <p:par>
                                <p:cTn id="657" nodeType="afterEffect" fill="hold" presetClass="entr" presetID="5" presetSubtype="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61" nodeType="afterEffect" fill="hold" presetClass="entr" presetID="5" presetSubtype="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500"/>
                            </p:stCondLst>
                            <p:childTnLst>
                              <p:par>
                                <p:cTn id="669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9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692360" y="71280"/>
            <a:ext cx="583236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ротиноиды (провитамины 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42920" y="5505480"/>
            <a:ext cx="8856720" cy="11307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требность в витамине А (3 мг в сутки) покрывается полностью за счет рас-тительной пищи, богатой каротиноидами (свежие овощи, фрукты и ягоды, осо-бенно морковь и облепиха). Накапливается преимущественно в печени (20 мг на 100 г), его запасы могут обеспечить потребности организма в течение 2 лет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10"/>
          <p:cNvGraphicFramePr/>
          <p:nvPr/>
        </p:nvGraphicFramePr>
        <p:xfrm>
          <a:off x="762120" y="685800"/>
          <a:ext cx="7619760" cy="466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85800"/>
                    <a:ext cx="761976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6"/>
          <p:cNvGraphicFramePr/>
          <p:nvPr/>
        </p:nvGraphicFramePr>
        <p:xfrm>
          <a:off x="181080" y="828720"/>
          <a:ext cx="8896320" cy="27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828720"/>
                    <a:ext cx="88963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AutoShape 2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843280" y="11592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0"/>
          <p:cNvGraphicFramePr/>
          <p:nvPr/>
        </p:nvGraphicFramePr>
        <p:xfrm>
          <a:off x="179280" y="3657600"/>
          <a:ext cx="8856720" cy="29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3657600"/>
                    <a:ext cx="885672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843280" y="18900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8"/>
          <p:cNvGraphicFramePr/>
          <p:nvPr/>
        </p:nvGraphicFramePr>
        <p:xfrm>
          <a:off x="152280" y="1295280"/>
          <a:ext cx="8820360" cy="377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295280"/>
                    <a:ext cx="882036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42920" y="5562720"/>
            <a:ext cx="8839080" cy="12286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точная  потребность  -  10 мг,  имеется в яйцах,  дрожжах,  горохе,  печени,  почках,  сердце.  У  человека  синтезируется  кишечной  палочкой.  У  животных  отсутствие витамина  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вызывает  дерматиты,  выпадение  шер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10"/>
          <p:cNvGraphicFramePr/>
          <p:nvPr/>
        </p:nvGraphicFramePr>
        <p:xfrm>
          <a:off x="142920" y="914400"/>
          <a:ext cx="883908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914400"/>
                    <a:ext cx="88390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8"/>
          <p:cNvGraphicFramePr/>
          <p:nvPr/>
        </p:nvGraphicFramePr>
        <p:xfrm>
          <a:off x="285840" y="733320"/>
          <a:ext cx="8362800" cy="225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733320"/>
                    <a:ext cx="836280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9"/>
          <p:cNvSpPr/>
          <p:nvPr/>
        </p:nvSpPr>
        <p:spPr>
          <a:xfrm>
            <a:off x="287280" y="4108320"/>
            <a:ext cx="8399520" cy="76428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50000">
                <a:srgbClr val="ffffff"/>
              </a:gs>
              <a:gs pos="100000">
                <a:srgbClr val="e8d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ерментативное  превращение  триптофана  в никотинамидадениндинуклеоти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10"/>
          <p:cNvGraphicFramePr/>
          <p:nvPr/>
        </p:nvGraphicFramePr>
        <p:xfrm>
          <a:off x="287280" y="4952880"/>
          <a:ext cx="8417160" cy="15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7280" y="4952880"/>
                    <a:ext cx="841716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11"/>
          <p:cNvSpPr/>
          <p:nvPr/>
        </p:nvSpPr>
        <p:spPr>
          <a:xfrm>
            <a:off x="250920" y="306864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типеллагрический витамин. Основными источниками являются рис, хлеб, картофель, мясо, печень, почки, морковь и другие продукты. Суточная потребность для взрослого человека составляет 18 м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19520" y="152280"/>
            <a:ext cx="3743280" cy="47772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ы группы 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9"/>
          <p:cNvGraphicFramePr/>
          <p:nvPr/>
        </p:nvGraphicFramePr>
        <p:xfrm>
          <a:off x="1619280" y="907920"/>
          <a:ext cx="6118200" cy="370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907920"/>
                    <a:ext cx="611820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10"/>
          <p:cNvSpPr/>
          <p:nvPr/>
        </p:nvSpPr>
        <p:spPr>
          <a:xfrm>
            <a:off x="304920" y="4800600"/>
            <a:ext cx="8610480" cy="156096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ят  в  состав  многочисленных  ферментов  -   оксидоредук-таз (дегидрогеназ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реакциях  дегидрирования,  окисления,  изомеризации,  в  фотосинтезе,  дыхании,  энергетическом  обмене,  анаэробном  расщеплении  углевод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8:19:43Z</dcterms:created>
  <dc:creator>chibiryaev</dc:creator>
  <dc:description/>
  <dc:language>en-US</dc:language>
  <cp:lastModifiedBy>Student</cp:lastModifiedBy>
  <dcterms:modified xsi:type="dcterms:W3CDTF">2012-04-07T07:53:52Z</dcterms:modified>
  <cp:revision>226</cp:revision>
  <dc:subject/>
  <dc:title>Презентация PowerPoint</dc:title>
</cp:coreProperties>
</file>