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B72F-D5DD-45E4-B580-86C5A6E13C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660E-C365-4D95-9591-1EBF8D44EF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9514-1B95-459A-8799-C3641BCB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E8CA-E640-40C1-B01F-53EF6760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5673-E94B-468A-A25C-5FCE53D3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DD88-634B-4232-B3F2-F8BEAF56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AF4D-0F3A-4B50-8409-9E5465E5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D12E-73FC-4891-9301-54B20B9F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3828-BCD7-439E-BA08-A1F32664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6B71-25FB-4732-9B51-F20238A5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407F-064C-4930-8BFD-03D915AA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3817-0A62-48D6-91DB-45F504CC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8302-FA84-4177-AB15-6E450835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83DE-C16C-456F-AF51-3E1337FD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1CDB-CF23-423E-8E9F-3F358D8FCE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-262080" y="-225360"/>
            <a:ext cx="96980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ликолиз – многоступенчатое бескислородное расщепление глюкоз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ммарно реакция гликолиза имеет вид :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+2АДФ + 2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+ 2 НАД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+ 2АТФ + 2 НАД ∙ Н + 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+ 2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дукт гликолиза – пировиноградная кислота (С 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) – заключает в себе значительную часть энергии, и дальнейшее ее высвобождение осуществляется в митохондриях. Здесь происходит полное окисление пировиноградной кислоты д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Этот процесс можно разделить на три основные стад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ислительное декарбоксилирование пировиноградной кислот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икл трикарбоновых кислот (цикл Кребс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лючительная стадия окисления – электронтранспортная цеп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вая стадия- окислительное декарбоксил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ровиноградная кислота (С 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) взаимодействует с веществом, которое называют коферментом А, в результате чего образуется ацетилкофермента с высокоэнергетической связью. При этом от молекулы пировиноградной кислоты отщепляется молекул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ервая) и атомы водорода, которые запасаются в форме НАД ∙ Н + Н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икл Креб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цикл Кребса вступает ацетил–КоА, образованный на предыдущей стадии. Ацетил–КоА взаимодействует со щавелево-уксусной кислотой, в результате образуется шестиуглеродная лимонная кислота. Для этой реакции требуется энергия; ее поставляет высокоэнергетическая связь ацетил–КоА. В конце цикла щавелево-лимонная кислота регенерируется в прежнем виде. Теперь она способна вступить в реакцию с новой молекулой ацетил–КоА, и цикл повторяется. Суммарно реакция цикла может быть выражена следующим уравнением: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цетил-КоА + 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3НАД + ФАД + АДФ + 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А + 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 3НАД ∙ Н +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ФАД ∙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 АТФ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им образом, в результате распада одной молекулы пировиноградной кислоты в аэробной фазе (декарбоксилирование ПВК и цикла Кребса) выделяется 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4 НАД ∙ Н +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 ФАД ∙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Суммарно реакцию гликолиза, окислительного декарбоксилирования и цикла Кребса можно записать в следующем виде: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6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10 НАД + 2ФАД →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 4АТФ + 10 НАД ∙ Н +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2ФАД ∙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етья стадия – электротранспортная цеп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ы водородных атомов, отщепляемые от промежуточных продуктов в реакциях дегидрирования при гликолизе и в цикле Кребса, в конце концов, окисляются молекулярным кислородом д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 одновременным фосфолированием АДФ в АТФ. Происходит это тогда, когда водород, отделившийся от НАД ∙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ФАД ∙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ередается по цепи переносчиков, встроенных во внутреннюю мембрану митохондрий. Пары атомов водорода 2Н можно рассматривать ка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 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+ 2е . Движущей силой транспорта атомов водорода в дыхательной цепи является разность потенциал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помощью переносчиков ионы водорода 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ереносятся с внутренней стороны мембраны на ее внешнюю сторону, иначе говоря, из матрикса митохондрии в межмембранное простран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58400" cy="657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*При переносе пары электронов от над на кислород они пересекают мембрану три раза, и этот процесс сопровождается выделением на внешнюю сторону мембраны шести протонов. На заключительном этапе протоны переносятся на внутреннюю сторону мембраны и акцептируются кислородом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Ѕ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+ 2е  →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результате такого переноса ионов 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внешнюю сторону мембраны митохондрий в перимитохондриальном пространстве создается  их концентрация, т.е. возникает электрохимический градиент протонов . Когда протонный градиент достигает определенной величины, ионы водорода из Н -резервуара движутся по специальным каналам в мембране, и их запас энергии используется для синтеза АТФ. В матриксе они соединяются с заряженными частичками О , и образуется вода: 2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О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ˉ →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кислительное фосфолирование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цесс образования АТФ в результате переноса ионов Н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через мембрану митохондри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уществляется при участии фермента АТФ-синтетазы. Молекулы АТФ-синтетазы располагаются в виде сферических гранул на внутренней стороне внутренней мембраны митохондр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езультате расщепления двух молекул пировиноградной кислоты и переноса ионов водорода через мембрану по специальным каналам синтезируется в целом 36 молекул АТФ (2 молекулы в цикле Кребса и 34 молекулы в результате переноса ионов 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через мембрану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ммарное уравнение аэробного дых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+ 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38АДФ + 38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Р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+ 1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38АТ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наэробное дых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окисления органических или неорганических веществ используется не молекулярный кислород, а другие окисленные соединения, например, соли азотной, серной и угольной кислот, превращающиеся при этом в более восстановленные соединения. Процессы идут в анаэробных условиях, и их называю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наэробным дыханием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HN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+ 1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→ 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+ 6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 + 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+ 8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→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 + 4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ипы анаэробного дых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1600200"/>
          <a:ext cx="8229600" cy="33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нергетический проце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ечный акцептор электр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дукты восстано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тратное дыхание и нитрифик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, 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, NO, N 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, N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льфатное и серное дых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, S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езное ” дых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бонатное дых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Н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, аце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маратное дых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ма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кци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Если нарушен синтез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ИНСУЛИН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сулин — универсальный анаболический гормон. Он не только понижает содержание сахара в крови, но, задерживая распад гликогена, увеличивает использование глюкозы клетк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им образом, гормоны поджелудочной железы контролируют снабжение клеток и тканей глюкозой, поддерживают ее постоянный гомеостатический уровень в крови. Они регулируют также жировой обмен, так как углеводы и липиды могут превращаться друг в дру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ДИАБЕТ САХАР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diabetes mellitus; синоним: сахарная болезнь, сахарное мочеизнурение), болезнь обмена веществ, при котором, в первую очередь, нарушается углеводный обмен. Это заболевание характеризуется поражением всех внутренних органов с изменением их функциональной способ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харный диабет — это болезнь, которая стала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бичом ве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— она охватывает 3% населения земного шара. Среди других заболеваний сахарный диабет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занимает 3-е место по смертн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6%) после сердечно-сосудистых (51%) и онкологических (17%) заболеван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Прямоугольник 1" descr=""/>
          <p:cNvPicPr/>
          <p:nvPr/>
        </p:nvPicPr>
        <p:blipFill>
          <a:blip r:embed="rId1"/>
          <a:stretch/>
        </p:blipFill>
        <p:spPr>
          <a:xfrm>
            <a:off x="328680" y="30240"/>
            <a:ext cx="8516880" cy="8287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"/>
          <p:cNvSpPr/>
          <p:nvPr/>
        </p:nvSpPr>
        <p:spPr>
          <a:xfrm>
            <a:off x="3500280" y="642924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Резанова Е.А. и др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Скругленный прямоугольник 3"/>
          <p:cNvGrpSpPr/>
          <p:nvPr/>
        </p:nvGrpSpPr>
        <p:grpSpPr>
          <a:xfrm>
            <a:off x="2084400" y="768240"/>
            <a:ext cx="4687920" cy="804960"/>
            <a:chOff x="2084400" y="768240"/>
            <a:chExt cx="4687920" cy="804960"/>
          </a:xfrm>
        </p:grpSpPr>
        <p:pic>
          <p:nvPicPr>
            <p:cNvPr id="207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2084400" y="768240"/>
              <a:ext cx="468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2174760" y="888840"/>
              <a:ext cx="4508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Constantia"/>
                </a:rPr>
                <a:t>Взаимное превращение веществ в организм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Скругленный прямоугольник 5"/>
          <p:cNvGrpSpPr/>
          <p:nvPr/>
        </p:nvGrpSpPr>
        <p:grpSpPr>
          <a:xfrm>
            <a:off x="2011320" y="3395520"/>
            <a:ext cx="5261040" cy="749520"/>
            <a:chOff x="2011320" y="3395520"/>
            <a:chExt cx="5261040" cy="749520"/>
          </a:xfrm>
        </p:grpSpPr>
        <p:pic>
          <p:nvPicPr>
            <p:cNvPr id="210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2011320" y="3395520"/>
              <a:ext cx="52610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2103480" y="3460680"/>
              <a:ext cx="5079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Constantia"/>
                </a:rPr>
                <a:t>Регуляция обмена веще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Скругленный прямоугольник 6"/>
          <p:cNvSpPr/>
          <p:nvPr/>
        </p:nvSpPr>
        <p:spPr>
          <a:xfrm>
            <a:off x="3929040" y="2000160"/>
            <a:ext cx="16430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ел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7"/>
          <p:cNvSpPr/>
          <p:nvPr/>
        </p:nvSpPr>
        <p:spPr>
          <a:xfrm>
            <a:off x="1928880" y="2571840"/>
            <a:ext cx="16430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и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8"/>
          <p:cNvSpPr/>
          <p:nvPr/>
        </p:nvSpPr>
        <p:spPr>
          <a:xfrm>
            <a:off x="5857920" y="2571840"/>
            <a:ext cx="16430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глев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Прямая со стрелкой 10"/>
          <p:cNvCxnSpPr>
            <a:stCxn id="212" idx="1"/>
            <a:endCxn id="213" idx="0"/>
          </p:cNvCxnSpPr>
          <p:nvPr/>
        </p:nvCxnSpPr>
        <p:spPr>
          <a:xfrm flipH="1">
            <a:off x="2749320" y="2286000"/>
            <a:ext cx="118008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Прямая со стрелкой 11"/>
          <p:cNvCxnSpPr>
            <a:stCxn id="212" idx="3"/>
            <a:endCxn id="214" idx="0"/>
          </p:cNvCxnSpPr>
          <p:nvPr/>
        </p:nvCxnSpPr>
        <p:spPr>
          <a:xfrm>
            <a:off x="5572080" y="2286000"/>
            <a:ext cx="110880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7" name="Прямая со стрелкой 16"/>
          <p:cNvCxnSpPr>
            <a:endCxn id="213" idx="3"/>
          </p:cNvCxnSpPr>
          <p:nvPr/>
        </p:nvCxnSpPr>
        <p:spPr>
          <a:xfrm flipH="1" flipV="1">
            <a:off x="3571560" y="2857320"/>
            <a:ext cx="22867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8" name="Прямая со стрелкой 19"/>
          <p:cNvCxnSpPr/>
          <p:nvPr/>
        </p:nvCxnSpPr>
        <p:spPr>
          <a:xfrm flipV="1">
            <a:off x="3571920" y="3071160"/>
            <a:ext cx="2286720" cy="1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9" name="Скругленный прямоугольник 22"/>
          <p:cNvSpPr/>
          <p:nvPr/>
        </p:nvSpPr>
        <p:spPr>
          <a:xfrm>
            <a:off x="1000080" y="4286160"/>
            <a:ext cx="242892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рвна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23"/>
          <p:cNvSpPr/>
          <p:nvPr/>
        </p:nvSpPr>
        <p:spPr>
          <a:xfrm>
            <a:off x="5715000" y="4286160"/>
            <a:ext cx="242892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уморальна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24"/>
          <p:cNvSpPr/>
          <p:nvPr/>
        </p:nvSpPr>
        <p:spPr>
          <a:xfrm>
            <a:off x="1000080" y="4857840"/>
            <a:ext cx="24289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ипоталаму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кругленный прямоугольник 25"/>
          <p:cNvSpPr/>
          <p:nvPr/>
        </p:nvSpPr>
        <p:spPr>
          <a:xfrm>
            <a:off x="5715000" y="4857840"/>
            <a:ext cx="24289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Эндокринные желез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26"/>
          <p:cNvSpPr/>
          <p:nvPr/>
        </p:nvSpPr>
        <p:spPr>
          <a:xfrm>
            <a:off x="1000080" y="5429160"/>
            <a:ext cx="2428920" cy="121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егуляция обмена белков, жиров, углеводов, воды, солей, обмена тепла и потребление пищ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27"/>
          <p:cNvSpPr/>
          <p:nvPr/>
        </p:nvSpPr>
        <p:spPr>
          <a:xfrm>
            <a:off x="5715000" y="5429160"/>
            <a:ext cx="2428920" cy="1285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Гормоны участвуют в регуляции ОВ и Е, влияя на проницаемость мембран, активируя ферментные системы орган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28"/>
          <p:cNvSpPr/>
          <p:nvPr/>
        </p:nvSpPr>
        <p:spPr>
          <a:xfrm>
            <a:off x="142920" y="928800"/>
            <a:ext cx="1857240" cy="20142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евращения веществ идут на ферментных системах клеток печ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4"/>
          <a:stretch/>
        </p:blipFill>
        <p:spPr>
          <a:xfrm>
            <a:off x="6858000" y="785880"/>
            <a:ext cx="2143080" cy="1585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Метаболи́зм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(от греч. μεταβολή, «превращение, изменение») 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(</a:t>
            </a: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обмен веществ)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— полный процесс превращения химических веществ в организме, обеспечивающих его рост, развитие, деятельность и жизнь в цел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Скругленный прямоугольник 3"/>
          <p:cNvGrpSpPr/>
          <p:nvPr/>
        </p:nvGrpSpPr>
        <p:grpSpPr>
          <a:xfrm>
            <a:off x="225360" y="92160"/>
            <a:ext cx="2524320" cy="907920"/>
            <a:chOff x="225360" y="92160"/>
            <a:chExt cx="2524320" cy="907920"/>
          </a:xfrm>
        </p:grpSpPr>
        <p:pic>
          <p:nvPicPr>
            <p:cNvPr id="51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225360" y="92160"/>
              <a:ext cx="25243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24000" y="181080"/>
              <a:ext cx="22809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onstantia"/>
                </a:rPr>
                <a:t>Словарь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Для ассимиляции необходима Е, образующаяся в реакциях энергетического обме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Для реакций диссимиляции необходимы ферменты, образующиеся в реакциях пластического обме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Оба процесса протекают в клетке одновременно, и заключительные этапы одного обмена – начальные стадии другого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Прямоугольник 3" descr=""/>
          <p:cNvPicPr/>
          <p:nvPr/>
        </p:nvPicPr>
        <p:blipFill>
          <a:blip r:embed="rId1"/>
          <a:stretch/>
        </p:blipFill>
        <p:spPr>
          <a:xfrm>
            <a:off x="469800" y="30240"/>
            <a:ext cx="82234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рямоугольник 1" descr=""/>
          <p:cNvPicPr/>
          <p:nvPr/>
        </p:nvPicPr>
        <p:blipFill>
          <a:blip r:embed="rId1"/>
          <a:stretch/>
        </p:blipFill>
        <p:spPr>
          <a:xfrm>
            <a:off x="1420920" y="92160"/>
            <a:ext cx="6980040" cy="895320"/>
          </a:xfrm>
          <a:prstGeom prst="rect">
            <a:avLst/>
          </a:prstGeom>
          <a:ln w="0">
            <a:noFill/>
          </a:ln>
        </p:spPr>
      </p:pic>
      <p:grpSp>
        <p:nvGrpSpPr>
          <p:cNvPr id="54" name="Скругленный прямоугольник 2"/>
          <p:cNvGrpSpPr/>
          <p:nvPr/>
        </p:nvGrpSpPr>
        <p:grpSpPr>
          <a:xfrm>
            <a:off x="298440" y="1103400"/>
            <a:ext cx="2755800" cy="828720"/>
            <a:chOff x="298440" y="1103400"/>
            <a:chExt cx="2755800" cy="828720"/>
          </a:xfrm>
        </p:grpSpPr>
        <p:pic>
          <p:nvPicPr>
            <p:cNvPr id="55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298440" y="1103400"/>
              <a:ext cx="275580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92040" y="1177920"/>
              <a:ext cx="2573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Первый эта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Скругленный прямоугольник 3"/>
          <p:cNvGrpSpPr/>
          <p:nvPr/>
        </p:nvGrpSpPr>
        <p:grpSpPr>
          <a:xfrm>
            <a:off x="225360" y="3035160"/>
            <a:ext cx="2755800" cy="824040"/>
            <a:chOff x="225360" y="3035160"/>
            <a:chExt cx="2755800" cy="824040"/>
          </a:xfrm>
        </p:grpSpPr>
        <p:pic>
          <p:nvPicPr>
            <p:cNvPr id="58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225360" y="3035160"/>
              <a:ext cx="275580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20760" y="3106800"/>
              <a:ext cx="2573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Второй эта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Скругленный прямоугольник 4"/>
          <p:cNvGrpSpPr/>
          <p:nvPr/>
        </p:nvGrpSpPr>
        <p:grpSpPr>
          <a:xfrm>
            <a:off x="225360" y="4896000"/>
            <a:ext cx="2755800" cy="749160"/>
            <a:chOff x="225360" y="4896000"/>
            <a:chExt cx="2755800" cy="749160"/>
          </a:xfrm>
        </p:grpSpPr>
        <p:pic>
          <p:nvPicPr>
            <p:cNvPr id="61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225360" y="4896000"/>
              <a:ext cx="27558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17520" y="4960800"/>
              <a:ext cx="2579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Третий эта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Скругленный прямоугольник 5"/>
          <p:cNvSpPr/>
          <p:nvPr/>
        </p:nvSpPr>
        <p:spPr>
          <a:xfrm>
            <a:off x="3143160" y="1143000"/>
            <a:ext cx="5643720" cy="157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ерментативное расщепление белков, жиров и углеводо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6"/>
          <p:cNvSpPr/>
          <p:nvPr/>
        </p:nvSpPr>
        <p:spPr>
          <a:xfrm>
            <a:off x="3143160" y="3071880"/>
            <a:ext cx="5643720" cy="1571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ранспорт питательных веществ кровью к тканям и клеточный метабо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7"/>
          <p:cNvSpPr/>
          <p:nvPr/>
        </p:nvSpPr>
        <p:spPr>
          <a:xfrm>
            <a:off x="3143160" y="4929120"/>
            <a:ext cx="5643720" cy="157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ыведение  конечных продуктов метаболизма в составе мочи, кала, пота, через легкие в виде CO2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Скругленный прямоугольник 1"/>
          <p:cNvGrpSpPr/>
          <p:nvPr/>
        </p:nvGrpSpPr>
        <p:grpSpPr>
          <a:xfrm>
            <a:off x="2865600" y="103320"/>
            <a:ext cx="3547800" cy="896760"/>
            <a:chOff x="2865600" y="103320"/>
            <a:chExt cx="3547800" cy="896760"/>
          </a:xfrm>
        </p:grpSpPr>
        <p:pic>
          <p:nvPicPr>
            <p:cNvPr id="67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865600" y="103320"/>
              <a:ext cx="354780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967120" y="181080"/>
              <a:ext cx="33526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Constantia"/>
                </a:rPr>
                <a:t>Обмен вещест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Стрелка вниз 2"/>
          <p:cNvGrpSpPr/>
          <p:nvPr/>
        </p:nvGrpSpPr>
        <p:grpSpPr>
          <a:xfrm>
            <a:off x="2938320" y="1036800"/>
            <a:ext cx="615960" cy="536400"/>
            <a:chOff x="2938320" y="1036800"/>
            <a:chExt cx="615960" cy="536400"/>
          </a:xfrm>
        </p:grpSpPr>
        <p:pic>
          <p:nvPicPr>
            <p:cNvPr id="70" name="Стрелка вниз 2" descr=""/>
            <p:cNvPicPr/>
            <p:nvPr/>
          </p:nvPicPr>
          <p:blipFill>
            <a:blip r:embed="rId2"/>
            <a:stretch/>
          </p:blipFill>
          <p:spPr>
            <a:xfrm>
              <a:off x="2938320" y="1036800"/>
              <a:ext cx="6159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125880" y="1071720"/>
              <a:ext cx="249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Стрелка вниз 3"/>
          <p:cNvGrpSpPr/>
          <p:nvPr/>
        </p:nvGrpSpPr>
        <p:grpSpPr>
          <a:xfrm>
            <a:off x="5797440" y="1036800"/>
            <a:ext cx="615960" cy="536400"/>
            <a:chOff x="5797440" y="1036800"/>
            <a:chExt cx="615960" cy="536400"/>
          </a:xfrm>
        </p:grpSpPr>
        <p:pic>
          <p:nvPicPr>
            <p:cNvPr id="73" name="Стрелка вниз 3" descr=""/>
            <p:cNvPicPr/>
            <p:nvPr/>
          </p:nvPicPr>
          <p:blipFill>
            <a:blip r:embed="rId3"/>
            <a:stretch/>
          </p:blipFill>
          <p:spPr>
            <a:xfrm>
              <a:off x="5797440" y="1036800"/>
              <a:ext cx="6159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5983200" y="1071720"/>
              <a:ext cx="249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Скругленный прямоугольник 5"/>
          <p:cNvGrpSpPr/>
          <p:nvPr/>
        </p:nvGrpSpPr>
        <p:grpSpPr>
          <a:xfrm>
            <a:off x="5370480" y="1609560"/>
            <a:ext cx="3541680" cy="1322640"/>
            <a:chOff x="5370480" y="1609560"/>
            <a:chExt cx="3541680" cy="1322640"/>
          </a:xfrm>
        </p:grpSpPr>
        <p:pic>
          <p:nvPicPr>
            <p:cNvPr id="76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370480" y="1609560"/>
              <a:ext cx="354168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487840" y="1701720"/>
              <a:ext cx="331164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Энергетический обм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(диссимиляция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катаболизм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Скругленный прямоугольник 6"/>
          <p:cNvGrpSpPr/>
          <p:nvPr/>
        </p:nvGrpSpPr>
        <p:grpSpPr>
          <a:xfrm>
            <a:off x="225360" y="1609560"/>
            <a:ext cx="3541680" cy="1322640"/>
            <a:chOff x="225360" y="1609560"/>
            <a:chExt cx="3541680" cy="1322640"/>
          </a:xfrm>
        </p:grpSpPr>
        <p:pic>
          <p:nvPicPr>
            <p:cNvPr id="79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225360" y="1609560"/>
              <a:ext cx="354168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44520" y="1701720"/>
              <a:ext cx="331164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Пластический обм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(ассимиляция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анаболизм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Скругленный прямоугольник 7"/>
          <p:cNvSpPr/>
          <p:nvPr/>
        </p:nvSpPr>
        <p:spPr>
          <a:xfrm>
            <a:off x="285840" y="3000240"/>
            <a:ext cx="3500280" cy="328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8"/>
          <p:cNvSpPr/>
          <p:nvPr/>
        </p:nvSpPr>
        <p:spPr>
          <a:xfrm>
            <a:off x="5429160" y="3000240"/>
            <a:ext cx="3500640" cy="328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6"/>
          <a:stretch/>
        </p:blipFill>
        <p:spPr>
          <a:xfrm>
            <a:off x="3500280" y="4505400"/>
            <a:ext cx="2222640" cy="23526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0"/>
          <p:cNvSpPr/>
          <p:nvPr/>
        </p:nvSpPr>
        <p:spPr>
          <a:xfrm>
            <a:off x="571680" y="3357720"/>
            <a:ext cx="307152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вокупность реакций расщепления сложных органических веществ (в том числе и пищевых) до более простых, сопровождающихся </a:t>
            </a: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выделением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5572080" y="3714840"/>
            <a:ext cx="3071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вокупность реакции синтеза сложных органических молекул из более простых с </a:t>
            </a: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накоплением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1" descr=""/>
          <p:cNvPicPr/>
          <p:nvPr/>
        </p:nvPicPr>
        <p:blipFill>
          <a:blip r:embed="rId1"/>
          <a:stretch/>
        </p:blipFill>
        <p:spPr>
          <a:xfrm>
            <a:off x="1494000" y="92160"/>
            <a:ext cx="6821280" cy="895320"/>
          </a:xfrm>
          <a:prstGeom prst="rect">
            <a:avLst/>
          </a:prstGeom>
          <a:ln w="0">
            <a:noFill/>
          </a:ln>
        </p:spPr>
      </p:pic>
      <p:grpSp>
        <p:nvGrpSpPr>
          <p:cNvPr id="87" name="Скругленный прямоугольник 2"/>
          <p:cNvGrpSpPr/>
          <p:nvPr/>
        </p:nvGrpSpPr>
        <p:grpSpPr>
          <a:xfrm>
            <a:off x="3651120" y="1463760"/>
            <a:ext cx="1768680" cy="755640"/>
            <a:chOff x="3651120" y="1463760"/>
            <a:chExt cx="1768680" cy="755640"/>
          </a:xfrm>
        </p:grpSpPr>
        <p:pic>
          <p:nvPicPr>
            <p:cNvPr id="88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3651120" y="1463760"/>
              <a:ext cx="17686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746520" y="1531800"/>
              <a:ext cx="1579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Метаболиз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Скругленный прямоугольник 3"/>
          <p:cNvGrpSpPr/>
          <p:nvPr/>
        </p:nvGrpSpPr>
        <p:grpSpPr>
          <a:xfrm>
            <a:off x="298440" y="1438200"/>
            <a:ext cx="2682720" cy="781200"/>
            <a:chOff x="298440" y="1438200"/>
            <a:chExt cx="2682720" cy="781200"/>
          </a:xfrm>
        </p:grpSpPr>
        <p:pic>
          <p:nvPicPr>
            <p:cNvPr id="91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298440" y="1438200"/>
              <a:ext cx="268272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88800" y="1531800"/>
              <a:ext cx="2508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Катаболиз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(Диссимиляц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Скругленный прямоугольник 4"/>
          <p:cNvGrpSpPr/>
          <p:nvPr/>
        </p:nvGrpSpPr>
        <p:grpSpPr>
          <a:xfrm>
            <a:off x="6083280" y="1438200"/>
            <a:ext cx="2828880" cy="781200"/>
            <a:chOff x="6083280" y="1438200"/>
            <a:chExt cx="2828880" cy="781200"/>
          </a:xfrm>
        </p:grpSpPr>
        <p:pic>
          <p:nvPicPr>
            <p:cNvPr id="94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6083280" y="1438200"/>
              <a:ext cx="282888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175440" y="1531800"/>
              <a:ext cx="2651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Анаболиз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(ассимиляц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Штриховая стрелка вправо 5"/>
          <p:cNvSpPr/>
          <p:nvPr/>
        </p:nvSpPr>
        <p:spPr>
          <a:xfrm>
            <a:off x="5572080" y="1643040"/>
            <a:ext cx="357120" cy="42876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Штриховая стрелка вправо 6"/>
          <p:cNvSpPr/>
          <p:nvPr/>
        </p:nvSpPr>
        <p:spPr>
          <a:xfrm flipH="1">
            <a:off x="3143160" y="1643040"/>
            <a:ext cx="357120" cy="42876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1214280" y="2143080"/>
            <a:ext cx="1928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Животные и растительные белки, жиры, углеводы, в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3214800" y="2357280"/>
            <a:ext cx="264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аспад органически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для получения энер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7215120" y="235728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троение и р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рган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214200" y="22860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642960" y="22860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12"/>
          <p:cNvSpPr/>
          <p:nvPr/>
        </p:nvSpPr>
        <p:spPr>
          <a:xfrm>
            <a:off x="214200" y="3714840"/>
            <a:ext cx="2786040" cy="15001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Получение низкомолекулярны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13"/>
          <p:cNvSpPr/>
          <p:nvPr/>
        </p:nvSpPr>
        <p:spPr>
          <a:xfrm>
            <a:off x="6215040" y="3714840"/>
            <a:ext cx="2786040" cy="1571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Получение высокомолекулярны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Прямая со стрелкой 15"/>
          <p:cNvCxnSpPr/>
          <p:nvPr/>
        </p:nvCxnSpPr>
        <p:spPr>
          <a:xfrm flipV="1">
            <a:off x="7143840" y="2356920"/>
            <a:ext cx="2160" cy="14313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06" name="Скругленный прямоугольник 17"/>
          <p:cNvSpPr/>
          <p:nvPr/>
        </p:nvSpPr>
        <p:spPr>
          <a:xfrm>
            <a:off x="142920" y="2928960"/>
            <a:ext cx="9288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nstantia"/>
              </a:rPr>
              <a:t>Получаем при дыхан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18"/>
          <p:cNvSpPr/>
          <p:nvPr/>
        </p:nvSpPr>
        <p:spPr>
          <a:xfrm>
            <a:off x="1214280" y="2928960"/>
            <a:ext cx="178596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nstantia"/>
              </a:rPr>
              <a:t>Получаем с      пищ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19"/>
          <p:cNvSpPr/>
          <p:nvPr/>
        </p:nvSpPr>
        <p:spPr>
          <a:xfrm>
            <a:off x="785880" y="5429160"/>
            <a:ext cx="178596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ыделяем       во внешнюю сре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0"/>
          <p:cNvSpPr/>
          <p:nvPr/>
        </p:nvSpPr>
        <p:spPr>
          <a:xfrm>
            <a:off x="214200" y="61437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О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1"/>
          <p:cNvSpPr/>
          <p:nvPr/>
        </p:nvSpPr>
        <p:spPr>
          <a:xfrm>
            <a:off x="928800" y="61437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2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2"/>
          <p:cNvSpPr/>
          <p:nvPr/>
        </p:nvSpPr>
        <p:spPr>
          <a:xfrm>
            <a:off x="1500120" y="614376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родукты расп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Прямая со стрелкой 24"/>
          <p:cNvCxnSpPr/>
          <p:nvPr/>
        </p:nvCxnSpPr>
        <p:spPr>
          <a:xfrm flipH="1">
            <a:off x="285120" y="2643120"/>
            <a:ext cx="1080" cy="15724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3" name="Прямая со стрелкой 28"/>
          <p:cNvCxnSpPr/>
          <p:nvPr/>
        </p:nvCxnSpPr>
        <p:spPr>
          <a:xfrm flipH="1">
            <a:off x="928080" y="2571840"/>
            <a:ext cx="1080" cy="12866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4" name="Прямая со стрелкой 29"/>
          <p:cNvCxnSpPr/>
          <p:nvPr/>
        </p:nvCxnSpPr>
        <p:spPr>
          <a:xfrm flipH="1">
            <a:off x="2285280" y="2857320"/>
            <a:ext cx="1080" cy="929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5" name="Прямая со стрелкой 34"/>
          <p:cNvCxnSpPr/>
          <p:nvPr/>
        </p:nvCxnSpPr>
        <p:spPr>
          <a:xfrm flipH="1">
            <a:off x="499320" y="4928760"/>
            <a:ext cx="1080" cy="1143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" name="Прямая со стрелкой 37"/>
          <p:cNvCxnSpPr/>
          <p:nvPr/>
        </p:nvCxnSpPr>
        <p:spPr>
          <a:xfrm flipH="1">
            <a:off x="1071000" y="5143320"/>
            <a:ext cx="1080" cy="929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" name="Прямая со стрелкой 39"/>
          <p:cNvCxnSpPr/>
          <p:nvPr/>
        </p:nvCxnSpPr>
        <p:spPr>
          <a:xfrm>
            <a:off x="2284920" y="5143680"/>
            <a:ext cx="1080" cy="1072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8" name="Овал 43"/>
          <p:cNvSpPr/>
          <p:nvPr/>
        </p:nvSpPr>
        <p:spPr>
          <a:xfrm>
            <a:off x="3071880" y="3857760"/>
            <a:ext cx="1357200" cy="10713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nstantia"/>
              </a:rPr>
              <a:t>Выделяется энерг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44"/>
          <p:cNvSpPr/>
          <p:nvPr/>
        </p:nvSpPr>
        <p:spPr>
          <a:xfrm>
            <a:off x="4786200" y="3857760"/>
            <a:ext cx="1357560" cy="10713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nstantia"/>
              </a:rPr>
              <a:t>Запасается энерг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nstantia"/>
              </a:rPr>
              <a:t>(АТФ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5"/>
          <p:cNvSpPr/>
          <p:nvPr/>
        </p:nvSpPr>
        <p:spPr>
          <a:xfrm>
            <a:off x="5643720" y="278604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епловая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6"/>
          <p:cNvSpPr/>
          <p:nvPr/>
        </p:nvSpPr>
        <p:spPr>
          <a:xfrm>
            <a:off x="3286080" y="3286080"/>
            <a:ext cx="2643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Энергия АТФ исполь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для всех жизне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оце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7"/>
          <p:cNvSpPr/>
          <p:nvPr/>
        </p:nvSpPr>
        <p:spPr>
          <a:xfrm>
            <a:off x="3357720" y="507204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Е химических свя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8"/>
          <p:cNvSpPr/>
          <p:nvPr/>
        </p:nvSpPr>
        <p:spPr>
          <a:xfrm>
            <a:off x="2714760" y="564372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епловая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9"/>
          <p:cNvSpPr/>
          <p:nvPr/>
        </p:nvSpPr>
        <p:spPr>
          <a:xfrm>
            <a:off x="3429000" y="6000840"/>
            <a:ext cx="264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интез органических веществ, свойственных человеку, с поглощением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Выгнутая вниз стрелка 61"/>
          <p:cNvSpPr/>
          <p:nvPr/>
        </p:nvSpPr>
        <p:spPr>
          <a:xfrm>
            <a:off x="3286080" y="4929120"/>
            <a:ext cx="2786040" cy="928800"/>
          </a:xfrm>
          <a:custGeom>
            <a:avLst/>
            <a:gdLst>
              <a:gd name="textAreaLeft" fmla="*/ 609480 w 2786040"/>
              <a:gd name="textAreaRight" fmla="*/ 2060640 w 2786040"/>
              <a:gd name="textAreaTop" fmla="*/ 124200 h 928800"/>
              <a:gd name="textAreaBottom" fmla="*/ 804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-3567133"/>
                <a:lnTo>
                  <a:pt x="21300" y="5400"/>
                </a:lnTo>
                <a:lnTo>
                  <a:pt x="19800" y="0"/>
                </a:lnTo>
                <a:lnTo>
                  <a:pt x="17700" y="5400"/>
                </a:lnTo>
                <a:lnTo>
                  <a:pt x="18600" y="5400"/>
                </a:lnTo>
                <a:arcTo wR="9450" hR="21600" stAng="1832867" swAng="3423323"/>
                <a:lnTo>
                  <a:pt x="10350" y="21502"/>
                </a:lnTo>
                <a:arcTo wR="9450" hR="21600" stAng="5543810" swAng="5256190"/>
                <a:close/>
              </a:path>
              <a:path fill="darkenLess"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143810"/>
                <a:lnTo>
                  <a:pt x="10350" y="21502"/>
                </a:lnTo>
                <a:arcTo wR="9450" hR="21600" stAng="5543810" swAng="525619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Выгнутая вниз стрелка 62"/>
          <p:cNvSpPr/>
          <p:nvPr/>
        </p:nvSpPr>
        <p:spPr>
          <a:xfrm flipV="1">
            <a:off x="3143160" y="2857320"/>
            <a:ext cx="3071880" cy="1009440"/>
          </a:xfrm>
          <a:custGeom>
            <a:avLst/>
            <a:gdLst>
              <a:gd name="textAreaLeft" fmla="*/ 673200 w 3071880"/>
              <a:gd name="textAreaRight" fmla="*/ 2272320 w 3071880"/>
              <a:gd name="textAreaTop" fmla="*/ 135000 h 1009440"/>
              <a:gd name="textAreaBottom" fmla="*/ 87444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69" hR="21600" stAng="10800000" swAng="-5400000"/>
                <a:lnTo>
                  <a:pt x="11243" y="21600"/>
                </a:lnTo>
                <a:arcTo wR="9469" hR="21600" stAng="5400000" swAng="-3570154"/>
                <a:lnTo>
                  <a:pt x="21299" y="5400"/>
                </a:lnTo>
                <a:lnTo>
                  <a:pt x="19825" y="0"/>
                </a:lnTo>
                <a:lnTo>
                  <a:pt x="17749" y="5400"/>
                </a:lnTo>
                <a:lnTo>
                  <a:pt x="18637" y="5400"/>
                </a:lnTo>
                <a:arcTo wR="9469" hR="21600" stAng="1829846" swAng="3428440"/>
                <a:lnTo>
                  <a:pt x="10356" y="21505"/>
                </a:lnTo>
                <a:arcTo wR="9469" hR="21600" stAng="5541714" swAng="5258286"/>
                <a:close/>
              </a:path>
              <a:path fill="darkenLess" w="21600" h="21600">
                <a:moveTo>
                  <a:pt x="0" y="0"/>
                </a:moveTo>
                <a:arcTo wR="9469" hR="21600" stAng="10800000" swAng="-5400000"/>
                <a:lnTo>
                  <a:pt x="11243" y="21600"/>
                </a:lnTo>
                <a:arcTo wR="9469" hR="21600" stAng="5400000" swAng="141714"/>
                <a:lnTo>
                  <a:pt x="10356" y="21505"/>
                </a:lnTo>
                <a:arcTo wR="9469" hR="21600" stAng="5541714" swAng="525828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углом 64"/>
          <p:cNvSpPr/>
          <p:nvPr/>
        </p:nvSpPr>
        <p:spPr>
          <a:xfrm flipV="1" rot="3043200">
            <a:off x="2710440" y="4994640"/>
            <a:ext cx="928440" cy="4287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углом 66"/>
          <p:cNvSpPr/>
          <p:nvPr/>
        </p:nvSpPr>
        <p:spPr>
          <a:xfrm flipV="1" rot="15028800">
            <a:off x="5750640" y="3365640"/>
            <a:ext cx="928800" cy="428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Shape 68"/>
          <p:cNvCxnSpPr>
            <a:stCxn id="103" idx="4"/>
            <a:endCxn id="104" idx="4"/>
          </p:cNvCxnSpPr>
          <p:nvPr/>
        </p:nvCxnSpPr>
        <p:spPr>
          <a:xfrm flipH="1" rot="16200000">
            <a:off x="4571280" y="2249280"/>
            <a:ext cx="72000" cy="6003000"/>
          </a:xfrm>
          <a:prstGeom prst="curvedConnector5">
            <a:avLst>
              <a:gd name="adj1" fmla="val 1784422"/>
              <a:gd name="adj2" fmla="val 50000"/>
              <a:gd name="adj3" fmla="val 1784422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30" name="Shape 77"/>
          <p:cNvCxnSpPr>
            <a:stCxn id="104" idx="0"/>
            <a:endCxn id="103" idx="0"/>
          </p:cNvCxnSpPr>
          <p:nvPr/>
        </p:nvCxnSpPr>
        <p:spPr>
          <a:xfrm flipV="1" rot="16200000">
            <a:off x="4607280" y="714600"/>
            <a:ext cx="2160" cy="6001560"/>
          </a:xfrm>
          <a:prstGeom prst="curvedConnector5">
            <a:avLst>
              <a:gd name="adj1" fmla="val 69260000"/>
              <a:gd name="adj2" fmla="val 50000"/>
              <a:gd name="adj3" fmla="val 69260000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1" name="TextBox 81"/>
          <p:cNvSpPr/>
          <p:nvPr/>
        </p:nvSpPr>
        <p:spPr>
          <a:xfrm>
            <a:off x="6715080" y="635796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Резанова Е.А. и др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Прямоугольник 5" descr=""/>
          <p:cNvPicPr/>
          <p:nvPr/>
        </p:nvPicPr>
        <p:blipFill>
          <a:blip r:embed="rId1"/>
          <a:stretch/>
        </p:blipFill>
        <p:spPr>
          <a:xfrm>
            <a:off x="365040" y="92160"/>
            <a:ext cx="8431200" cy="895320"/>
          </a:xfrm>
          <a:prstGeom prst="rect">
            <a:avLst/>
          </a:prstGeom>
          <a:ln w="0">
            <a:noFill/>
          </a:ln>
        </p:spPr>
      </p:pic>
      <p:sp>
        <p:nvSpPr>
          <p:cNvPr id="133" name="Скругленный прямоугольник 6"/>
          <p:cNvSpPr/>
          <p:nvPr/>
        </p:nvSpPr>
        <p:spPr>
          <a:xfrm>
            <a:off x="500040" y="11430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Механическая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сокращение мышц, сердца, диафраг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7"/>
          <p:cNvSpPr/>
          <p:nvPr/>
        </p:nvSpPr>
        <p:spPr>
          <a:xfrm>
            <a:off x="5072040" y="11430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Хим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синтез белков, жиров, углевод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8"/>
          <p:cNvSpPr/>
          <p:nvPr/>
        </p:nvSpPr>
        <p:spPr>
          <a:xfrm>
            <a:off x="500040" y="36432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Электр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передача информации по нервным волокнам в виде импуль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9"/>
          <p:cNvSpPr/>
          <p:nvPr/>
        </p:nvSpPr>
        <p:spPr>
          <a:xfrm>
            <a:off x="5072040" y="36432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Тепл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поддержание постоянной температуры тела, выведение избытка тепла в окружающую сред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3492360" y="5095800"/>
            <a:ext cx="1970280" cy="17686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ая соединительная линия 12"/>
          <p:cNvSpPr/>
          <p:nvPr/>
        </p:nvSpPr>
        <p:spPr>
          <a:xfrm>
            <a:off x="4500720" y="928800"/>
            <a:ext cx="0" cy="3500280"/>
          </a:xfrm>
          <a:prstGeom prst="line">
            <a:avLst/>
          </a:prstGeom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Прямая со стрелкой 14"/>
          <p:cNvCxnSpPr>
            <a:stCxn id="133" idx="3"/>
            <a:endCxn id="134" idx="1"/>
          </p:cNvCxnSpPr>
          <p:nvPr/>
        </p:nvCxnSpPr>
        <p:spPr>
          <a:xfrm>
            <a:off x="3928680" y="2214720"/>
            <a:ext cx="1143720" cy="2160"/>
          </a:xfrm>
          <a:prstGeom prst="straightConnector1">
            <a:avLst/>
          </a:prstGeom>
          <a:ln w="38160">
            <a:solidFill>
              <a:srgbClr val="e46c0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0" name="Прямая со стрелкой 15"/>
          <p:cNvCxnSpPr/>
          <p:nvPr/>
        </p:nvCxnSpPr>
        <p:spPr>
          <a:xfrm>
            <a:off x="3928680" y="4428720"/>
            <a:ext cx="1143720" cy="2520"/>
          </a:xfrm>
          <a:prstGeom prst="straightConnector1">
            <a:avLst/>
          </a:prstGeom>
          <a:ln w="38160">
            <a:solidFill>
              <a:srgbClr val="e46c0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1" name="TextBox 16"/>
          <p:cNvSpPr/>
          <p:nvPr/>
        </p:nvSpPr>
        <p:spPr>
          <a:xfrm>
            <a:off x="6715080" y="63579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Л.В.Ёлкина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Прямоугольник 1" descr=""/>
          <p:cNvPicPr/>
          <p:nvPr/>
        </p:nvPicPr>
        <p:blipFill>
          <a:blip r:embed="rId1"/>
          <a:stretch/>
        </p:blipFill>
        <p:spPr>
          <a:xfrm>
            <a:off x="2114640" y="92160"/>
            <a:ext cx="4932360" cy="8953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"/>
          <p:cNvSpPr/>
          <p:nvPr/>
        </p:nvSpPr>
        <p:spPr>
          <a:xfrm>
            <a:off x="500040" y="121428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мственный труд  -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13500 кДж/ с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еханизирова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физический труд –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15000 кДж/с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механизирова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физический труд –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17300 кДж/с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яже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механизированный труд –    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20000 кДж/с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500040" y="485784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Утомление не связано с энергозатратами а зависит от нервных процессов во время тру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6715080" y="635796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Резанова Е.А. и др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Прямоугольник 1" descr=""/>
          <p:cNvPicPr/>
          <p:nvPr/>
        </p:nvPicPr>
        <p:blipFill>
          <a:blip r:embed="rId1"/>
          <a:stretch/>
        </p:blipFill>
        <p:spPr>
          <a:xfrm>
            <a:off x="4017960" y="30240"/>
            <a:ext cx="4888080" cy="828720"/>
          </a:xfrm>
          <a:prstGeom prst="rect">
            <a:avLst/>
          </a:prstGeom>
          <a:ln w="0">
            <a:noFill/>
          </a:ln>
        </p:spPr>
      </p:pic>
      <p:grpSp>
        <p:nvGrpSpPr>
          <p:cNvPr id="147" name="Скругленный прямоугольник 2"/>
          <p:cNvGrpSpPr/>
          <p:nvPr/>
        </p:nvGrpSpPr>
        <p:grpSpPr>
          <a:xfrm>
            <a:off x="225360" y="249120"/>
            <a:ext cx="3328920" cy="750960"/>
            <a:chOff x="225360" y="249120"/>
            <a:chExt cx="3328920" cy="750960"/>
          </a:xfrm>
        </p:grpSpPr>
        <p:pic>
          <p:nvPicPr>
            <p:cNvPr id="148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225360" y="249120"/>
              <a:ext cx="332892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17520" y="317520"/>
              <a:ext cx="315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Углеводы пищ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Скругленный прямоугольник 3"/>
          <p:cNvSpPr/>
          <p:nvPr/>
        </p:nvSpPr>
        <p:spPr>
          <a:xfrm>
            <a:off x="285840" y="128592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ищеварительный ка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285840" y="214308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люко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5"/>
          <p:cNvSpPr/>
          <p:nvPr/>
        </p:nvSpPr>
        <p:spPr>
          <a:xfrm>
            <a:off x="285840" y="3714840"/>
            <a:ext cx="321444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чень (гликоге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ышц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4714920" y="3643200"/>
            <a:ext cx="3214800" cy="17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кисление с выделением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Скругленный прямоугольник 8"/>
          <p:cNvGrpSpPr/>
          <p:nvPr/>
        </p:nvGrpSpPr>
        <p:grpSpPr>
          <a:xfrm>
            <a:off x="4651200" y="2962440"/>
            <a:ext cx="3333960" cy="755640"/>
            <a:chOff x="4651200" y="2962440"/>
            <a:chExt cx="3333960" cy="755640"/>
          </a:xfrm>
        </p:grpSpPr>
        <p:pic>
          <p:nvPicPr>
            <p:cNvPr id="155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651200" y="2962440"/>
              <a:ext cx="33339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746600" y="3032280"/>
              <a:ext cx="315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Клет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Стрелка вниз 9"/>
          <p:cNvGrpSpPr/>
          <p:nvPr/>
        </p:nvGrpSpPr>
        <p:grpSpPr>
          <a:xfrm>
            <a:off x="1511280" y="890640"/>
            <a:ext cx="615960" cy="468360"/>
            <a:chOff x="1511280" y="890640"/>
            <a:chExt cx="615960" cy="468360"/>
          </a:xfrm>
        </p:grpSpPr>
        <p:pic>
          <p:nvPicPr>
            <p:cNvPr id="158" name="Стрелка вниз 9" descr=""/>
            <p:cNvPicPr/>
            <p:nvPr/>
          </p:nvPicPr>
          <p:blipFill>
            <a:blip r:embed="rId4"/>
            <a:stretch/>
          </p:blipFill>
          <p:spPr>
            <a:xfrm>
              <a:off x="1511280" y="890640"/>
              <a:ext cx="6159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697040" y="92880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Стрелка вниз 10"/>
          <p:cNvGrpSpPr/>
          <p:nvPr/>
        </p:nvGrpSpPr>
        <p:grpSpPr>
          <a:xfrm>
            <a:off x="1511280" y="1749600"/>
            <a:ext cx="615960" cy="469800"/>
            <a:chOff x="1511280" y="1749600"/>
            <a:chExt cx="615960" cy="469800"/>
          </a:xfrm>
        </p:grpSpPr>
        <p:pic>
          <p:nvPicPr>
            <p:cNvPr id="161" name="Стрелка вниз 10" descr=""/>
            <p:cNvPicPr/>
            <p:nvPr/>
          </p:nvPicPr>
          <p:blipFill>
            <a:blip r:embed="rId5"/>
            <a:stretch/>
          </p:blipFill>
          <p:spPr>
            <a:xfrm>
              <a:off x="1511280" y="1749600"/>
              <a:ext cx="615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697040" y="178596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Стрелка вниз 11"/>
          <p:cNvGrpSpPr/>
          <p:nvPr/>
        </p:nvGrpSpPr>
        <p:grpSpPr>
          <a:xfrm>
            <a:off x="1511280" y="2610000"/>
            <a:ext cx="615960" cy="461880"/>
            <a:chOff x="1511280" y="2610000"/>
            <a:chExt cx="615960" cy="461880"/>
          </a:xfrm>
        </p:grpSpPr>
        <p:pic>
          <p:nvPicPr>
            <p:cNvPr id="164" name="Стрелка вниз 11" descr=""/>
            <p:cNvPicPr/>
            <p:nvPr/>
          </p:nvPicPr>
          <p:blipFill>
            <a:blip r:embed="rId6"/>
            <a:stretch/>
          </p:blipFill>
          <p:spPr>
            <a:xfrm>
              <a:off x="1511280" y="2610000"/>
              <a:ext cx="61596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697040" y="264312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Стрелка вниз 13"/>
          <p:cNvGrpSpPr/>
          <p:nvPr/>
        </p:nvGrpSpPr>
        <p:grpSpPr>
          <a:xfrm>
            <a:off x="3724200" y="4675320"/>
            <a:ext cx="542880" cy="609480"/>
            <a:chOff x="3724200" y="4675320"/>
            <a:chExt cx="542880" cy="609480"/>
          </a:xfrm>
        </p:grpSpPr>
        <p:pic>
          <p:nvPicPr>
            <p:cNvPr id="167" name="Стрелка вниз 13" descr=""/>
            <p:cNvPicPr/>
            <p:nvPr/>
          </p:nvPicPr>
          <p:blipFill>
            <a:blip r:embed="rId7"/>
            <a:stretch/>
          </p:blipFill>
          <p:spPr>
            <a:xfrm>
              <a:off x="3724200" y="467532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 rot="16200000">
              <a:off x="3820320" y="4804200"/>
              <a:ext cx="250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4"/>
          <p:cNvSpPr/>
          <p:nvPr/>
        </p:nvSpPr>
        <p:spPr>
          <a:xfrm>
            <a:off x="4000680" y="857160"/>
            <a:ext cx="2214360" cy="8240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тиалин, мальтаз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в ротовой пол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5"/>
          <p:cNvSpPr/>
          <p:nvPr/>
        </p:nvSpPr>
        <p:spPr>
          <a:xfrm>
            <a:off x="4000680" y="1857240"/>
            <a:ext cx="2214360" cy="8240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амилаза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тонком кишеч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Прямая со стрелкой 17"/>
          <p:cNvCxnSpPr>
            <a:stCxn id="169" idx="1"/>
            <a:endCxn id="150" idx="3"/>
          </p:cNvCxnSpPr>
          <p:nvPr/>
        </p:nvCxnSpPr>
        <p:spPr>
          <a:xfrm flipH="1">
            <a:off x="3499920" y="1272240"/>
            <a:ext cx="501120" cy="26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2" name="Прямая со стрелкой 20"/>
          <p:cNvCxnSpPr>
            <a:stCxn id="170" idx="1"/>
            <a:endCxn id="150" idx="3"/>
          </p:cNvCxnSpPr>
          <p:nvPr/>
        </p:nvCxnSpPr>
        <p:spPr>
          <a:xfrm flipH="1" flipV="1">
            <a:off x="3499920" y="1534320"/>
            <a:ext cx="501120" cy="61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3" name="TextBox 24"/>
          <p:cNvSpPr/>
          <p:nvPr/>
        </p:nvSpPr>
        <p:spPr>
          <a:xfrm>
            <a:off x="285840" y="5357880"/>
            <a:ext cx="3000240" cy="13737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г углевода при расщеплении дает 17,6 кД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26"/>
          <p:cNvSpPr/>
          <p:nvPr/>
        </p:nvSpPr>
        <p:spPr>
          <a:xfrm>
            <a:off x="214200" y="4714920"/>
            <a:ext cx="32148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люкоз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Стрелка вниз 29"/>
          <p:cNvGrpSpPr/>
          <p:nvPr/>
        </p:nvGrpSpPr>
        <p:grpSpPr>
          <a:xfrm>
            <a:off x="1511280" y="4395960"/>
            <a:ext cx="615960" cy="388800"/>
            <a:chOff x="1511280" y="4395960"/>
            <a:chExt cx="615960" cy="388800"/>
          </a:xfrm>
        </p:grpSpPr>
        <p:pic>
          <p:nvPicPr>
            <p:cNvPr id="176" name="Стрелка вниз 29" descr=""/>
            <p:cNvPicPr/>
            <p:nvPr/>
          </p:nvPicPr>
          <p:blipFill>
            <a:blip r:embed="rId8"/>
            <a:stretch/>
          </p:blipFill>
          <p:spPr>
            <a:xfrm>
              <a:off x="1511280" y="4395960"/>
              <a:ext cx="6159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697040" y="4429080"/>
              <a:ext cx="249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Скругленный прямоугольник 34"/>
          <p:cNvSpPr/>
          <p:nvPr/>
        </p:nvSpPr>
        <p:spPr>
          <a:xfrm>
            <a:off x="285840" y="300024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ров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Стрелка вниз 35"/>
          <p:cNvGrpSpPr/>
          <p:nvPr/>
        </p:nvGrpSpPr>
        <p:grpSpPr>
          <a:xfrm>
            <a:off x="1511280" y="3462480"/>
            <a:ext cx="615960" cy="396720"/>
            <a:chOff x="1511280" y="3462480"/>
            <a:chExt cx="615960" cy="396720"/>
          </a:xfrm>
        </p:grpSpPr>
        <p:pic>
          <p:nvPicPr>
            <p:cNvPr id="180" name="Стрелка вниз 35" descr=""/>
            <p:cNvPicPr/>
            <p:nvPr/>
          </p:nvPicPr>
          <p:blipFill>
            <a:blip r:embed="rId9"/>
            <a:stretch/>
          </p:blipFill>
          <p:spPr>
            <a:xfrm>
              <a:off x="1511280" y="3462480"/>
              <a:ext cx="61596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697040" y="3500280"/>
              <a:ext cx="2491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Стрелка вниз 36"/>
          <p:cNvGrpSpPr/>
          <p:nvPr/>
        </p:nvGrpSpPr>
        <p:grpSpPr>
          <a:xfrm>
            <a:off x="3724200" y="2962440"/>
            <a:ext cx="542880" cy="609480"/>
            <a:chOff x="3724200" y="2962440"/>
            <a:chExt cx="542880" cy="609480"/>
          </a:xfrm>
        </p:grpSpPr>
        <p:pic>
          <p:nvPicPr>
            <p:cNvPr id="183" name="Стрелка вниз 36" descr=""/>
            <p:cNvPicPr/>
            <p:nvPr/>
          </p:nvPicPr>
          <p:blipFill>
            <a:blip r:embed="rId10"/>
            <a:stretch/>
          </p:blipFill>
          <p:spPr>
            <a:xfrm>
              <a:off x="3724200" y="296244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 rot="16200000">
              <a:off x="3820320" y="3089880"/>
              <a:ext cx="250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эробное дых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кислительный процесс, в ходе которого расходуется кислор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ва основных этап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- бескислородный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роцессе, которого происходит постепенное расщепление субстрата с высвобождением атомов водорода и связыванием с коферментами (переносчиками типа НАД и ФАД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- кислородный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ходе которого происходит дальнейшее отщепление атомов водорода от производных дыхательного субстрата и постепенное окисление атомов водорода в результате переноса их электронов на кислор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жнейшими субстратами для дыхания служат углево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8:03:06Z</dcterms:created>
  <dc:creator>Светлана</dc:creator>
  <dc:description/>
  <dc:language>en-US</dc:language>
  <cp:lastModifiedBy>Admin</cp:lastModifiedBy>
  <dcterms:modified xsi:type="dcterms:W3CDTF">2012-03-27T14:54:40Z</dcterms:modified>
  <cp:revision>98</cp:revision>
  <dc:subject/>
  <dc:title>Слайд 1</dc:title>
</cp:coreProperties>
</file>