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4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42.png" ContentType="image/png"/>
  <Override PartName="/ppt/media/image32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33.png" ContentType="image/pn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9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2FC7-0658-42B3-8594-D83787681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6130-D94D-49A0-9D15-9D88380A50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788-F2E1-4250-9539-9D5AA696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55F-155C-45AB-8DEE-7A7B3A27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6E23-066F-477E-BF72-730899CB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066-9B7E-4587-990B-BBBF69BF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6B5-0322-414F-9675-0E14A8D0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0CC-54CA-487D-A94D-F62C41F5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EFD-3D93-4BE3-BE9C-2A987B25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374-1065-4B96-B6EF-5C1D82A5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80EF-C6CC-4339-87F2-E4A3BDFA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8D5-4515-460B-88EF-1A24C3C5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991-94F0-44BE-BB36-7A084FD8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0A9-F385-40A9-8FD2-697472BA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BF66-7C8E-448E-949E-51B378044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2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2.jpeg"/><Relationship Id="rId6" Type="http://schemas.openxmlformats.org/officeDocument/2006/relationships/image" Target="../media/image11.jpeg"/><Relationship Id="rId7" Type="http://schemas.openxmlformats.org/officeDocument/2006/relationships/image" Target="../media/image31.jpeg"/><Relationship Id="rId8" Type="http://schemas.openxmlformats.org/officeDocument/2006/relationships/image" Target="../media/image8.jpeg"/><Relationship Id="rId9" Type="http://schemas.openxmlformats.org/officeDocument/2006/relationships/image" Target="../media/image20.jpeg"/><Relationship Id="rId10" Type="http://schemas.openxmlformats.org/officeDocument/2006/relationships/image" Target="../media/image13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7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15.jpeg"/><Relationship Id="rId9" Type="http://schemas.openxmlformats.org/officeDocument/2006/relationships/image" Target="../media/image13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jpeg"/><Relationship Id="rId3" Type="http://schemas.openxmlformats.org/officeDocument/2006/relationships/image" Target="../media/image21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pn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hnb.com.ua/articles/s-zdorovie-vitamin_c_askorbinovaya_kislota-330" TargetMode="External"/><Relationship Id="rId2" Type="http://schemas.openxmlformats.org/officeDocument/2006/relationships/hyperlink" Target="http://hnb.com.ua/articles/s-zdorovie-vitamin_c_askorbinovaya_kislota-330" TargetMode="External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1051;&#1091;&#1085;&#1080;&#1085;%20&#1053;/&#1051;&#1091;&#1085;&#1080;&#1085;%20&#1053;..doc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image" Target="../media/image26.jpeg"/><Relationship Id="rId24" Type="http://schemas.openxmlformats.org/officeDocument/2006/relationships/image" Target="../media/image27.jpeg"/><Relationship Id="rId25" Type="http://schemas.openxmlformats.org/officeDocument/2006/relationships/image" Target="../media/image28.jpeg"/><Relationship Id="rId26" Type="http://schemas.openxmlformats.org/officeDocument/2006/relationships/image" Target="../media/image29.jpeg"/><Relationship Id="rId27" Type="http://schemas.openxmlformats.org/officeDocument/2006/relationships/image" Target="../media/image30.jpeg"/><Relationship Id="rId28" Type="http://schemas.openxmlformats.org/officeDocument/2006/relationships/image" Target="../media/image31.jpe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..Необходимым условием хорошего здоровья является наличие нужных молекул, в нужном количестве, в нужном месте человеческого  тела, в нужное время…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айнус Пол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Симптом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ухость кожи, хрупкость ногтей, плохое зрение в суме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Причин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Недостаток витамина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Рекомендации: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Продукты, содержащие витамин 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1311480" cy="1067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609480" y="51814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2362320" y="3733920"/>
            <a:ext cx="1600200" cy="99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295280" cy="126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4038480" y="51055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5943600" y="48006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4267080" y="38862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8"/>
          <a:stretch/>
        </p:blipFill>
        <p:spPr>
          <a:xfrm>
            <a:off x="5638680" y="3809880"/>
            <a:ext cx="974880" cy="838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9"/>
          <a:stretch/>
        </p:blipFill>
        <p:spPr>
          <a:xfrm>
            <a:off x="7010280" y="5029200"/>
            <a:ext cx="822600" cy="83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10"/>
          <a:stretch/>
        </p:blipFill>
        <p:spPr>
          <a:xfrm>
            <a:off x="5638680" y="5791320"/>
            <a:ext cx="1265400" cy="76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1"/>
          <a:stretch/>
        </p:blipFill>
        <p:spPr>
          <a:xfrm>
            <a:off x="6858000" y="358128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Симптом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овоточивость слизистой ротовой полости, расшатывание и выпадение зу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ричин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достаток витамина С (цинг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екоменда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одукты, содержащие 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1249560" cy="102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895480" y="35812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038480" y="3505320"/>
            <a:ext cx="974880" cy="1066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6095880" y="358128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144756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6"/>
          <a:stretch/>
        </p:blipFill>
        <p:spPr>
          <a:xfrm>
            <a:off x="5029200" y="3581280"/>
            <a:ext cx="914400" cy="868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7"/>
          <a:stretch/>
        </p:blipFill>
        <p:spPr>
          <a:xfrm>
            <a:off x="4191120" y="4724280"/>
            <a:ext cx="9903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"/>
          <p:cNvPicPr/>
          <p:nvPr/>
        </p:nvPicPr>
        <p:blipFill>
          <a:blip r:embed="rId8"/>
          <a:stretch/>
        </p:blipFill>
        <p:spPr>
          <a:xfrm>
            <a:off x="1600200" y="457200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9"/>
          <a:stretch/>
        </p:blipFill>
        <p:spPr>
          <a:xfrm>
            <a:off x="5562720" y="4572000"/>
            <a:ext cx="1523880" cy="914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"/>
          <p:cNvPicPr/>
          <p:nvPr/>
        </p:nvPicPr>
        <p:blipFill>
          <a:blip r:embed="rId10"/>
          <a:stretch/>
        </p:blipFill>
        <p:spPr>
          <a:xfrm>
            <a:off x="533520" y="4343400"/>
            <a:ext cx="85392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11"/>
          <a:stretch/>
        </p:blipFill>
        <p:spPr>
          <a:xfrm>
            <a:off x="7238880" y="43434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12"/>
          <a:stretch/>
        </p:blipFill>
        <p:spPr>
          <a:xfrm>
            <a:off x="7162920" y="5257800"/>
            <a:ext cx="129528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okman Old Style"/>
              </a:rPr>
              <a:t>Симптом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кривление костей, их утолщение, замедленный рост всего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ричин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достаток витамина Д (Рах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Рекоменда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дукты, содержащие витамин 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1524240" cy="1219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5334120" y="3505320"/>
            <a:ext cx="2133360" cy="99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3352680" y="3886200"/>
            <a:ext cx="1752840" cy="99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4"/>
          <a:stretch/>
        </p:blipFill>
        <p:spPr>
          <a:xfrm>
            <a:off x="5410080" y="4508640"/>
            <a:ext cx="163044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000" y="18900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oper Black"/>
              </a:rPr>
              <a:t>Физико-химические свойства</a:t>
            </a:r>
            <a:br>
              <a:rPr sz="21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итамин D – собирательное название пяти стеринов: D1, D2, D3, D4 и D5, оказывающих одинаковое действие на организм, несмотря на некоторые отличия в строении. В физиологии человека наибольшую роль играют D2(эргокальциферол) и D3 (холикальциферол). Витамины D2 и D3 представляют собой белый кристаллический порошок, нерастворимый в воде, растворимый в спиртах, эфирах, хлороформе, растительных маслах. Разлагаются под действием света, кислорода, воздуха и других окислителей. На свету витамин D2 превращается в ядовитый токсистери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39280" y="189000"/>
            <a:ext cx="8425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стория открытия</a:t>
            </a:r>
            <a:br>
              <a:rPr sz="24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начале ХХ в. было обнаружено, что к развитию у детей рахита приводит дефицит какого-то диетарного фактора. Затем ученые установили, что прием животных жиров излечивает рахит. Из них была выделена жирорастворимая витаминная фракция, представлявшая собой смесь витаминов A и D. После отделения витамина А стало ясно, что он не имеет отношения к рахиту. И лишь в 1922 г. английский биохимик Гоуленд Хопкинсон выделил витамин 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формула витамина D"/>
          <p:cNvPicPr/>
          <p:nvPr/>
        </p:nvPicPr>
        <p:blipFill>
          <a:blip r:embed="rId1"/>
          <a:stretch/>
        </p:blipFill>
        <p:spPr>
          <a:xfrm>
            <a:off x="936720" y="4572000"/>
            <a:ext cx="78120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14400" y="151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Основная функция витамина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D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регуляция обмена кальция и фосфор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беспечивающая нормальный рост и целостность костей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Витамин D</a:t>
            </a:r>
            <a:r>
              <a:rPr b="0" lang="ru-RU" sz="27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обходим для свертывания крови, нормальной работы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ердца, регуляции возбудимости нервных клеток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4762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2" descr=""/>
          <p:cNvPicPr/>
          <p:nvPr/>
        </p:nvPicPr>
        <p:blipFill>
          <a:blip r:embed="rId1"/>
          <a:stretch/>
        </p:blipFill>
        <p:spPr>
          <a:xfrm>
            <a:off x="353880" y="176040"/>
            <a:ext cx="5151600" cy="18352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4"/>
          <p:cNvSpPr/>
          <p:nvPr/>
        </p:nvSpPr>
        <p:spPr>
          <a:xfrm>
            <a:off x="1440000" y="1285920"/>
            <a:ext cx="28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кальциферо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618080" y="5429160"/>
            <a:ext cx="4329000" cy="11667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214200" y="1928880"/>
            <a:ext cx="878688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этим определением понимают два соединения: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ргокальцифер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олекальцифер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уточная потребность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,5 – 10 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унк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гуляция содержания кальция и фосфора в крови, минерализация костей, зу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ся в продуктах животного происхождения: рыбьем жире, печени трески, говяжьей печени, яйцах, молоке, сливочном ма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500040" y="5286240"/>
            <a:ext cx="3357720" cy="142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D:\для систем\из инета\d.jpg"/>
          <p:cNvPicPr/>
          <p:nvPr/>
        </p:nvPicPr>
        <p:blipFill>
          <a:blip r:embed="rId4"/>
          <a:stretch/>
        </p:blipFill>
        <p:spPr>
          <a:xfrm>
            <a:off x="7858080" y="785880"/>
            <a:ext cx="984240" cy="111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D:\для систем\из инета\d2.jpg"/>
          <p:cNvPicPr/>
          <p:nvPr/>
        </p:nvPicPr>
        <p:blipFill>
          <a:blip r:embed="rId5"/>
          <a:stretch/>
        </p:blipFill>
        <p:spPr>
          <a:xfrm>
            <a:off x="6715080" y="285840"/>
            <a:ext cx="1365120" cy="996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1" descr=""/>
          <p:cNvPicPr/>
          <p:nvPr/>
        </p:nvPicPr>
        <p:blipFill>
          <a:blip r:embed="rId1"/>
          <a:stretch/>
        </p:blipFill>
        <p:spPr>
          <a:xfrm>
            <a:off x="1262160" y="66600"/>
            <a:ext cx="4052880" cy="1629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1000080" y="1285920"/>
            <a:ext cx="650088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 названия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иридок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 Пиридокс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Пиридокс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ие витамина В6 связано с наблюдением над экспериментальными животными, которых содержали на особой синтетической диете. У животных развивалось специфическое заболевание кожи — симметричный дерматит. На симметричных участках кожа становилась красной, начинала шелушиться, шерсть постепенно выпадала. Поэтому выделенное в 1938 г. из дрожжей и рисовых отрубей вещество, излечивавшее этот недуг, исследователи назвали адермином. В 1939г. было определено его строение, и вещество получило название “пиридоксил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4120" y="1205280"/>
            <a:ext cx="896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ю витамина В6 обладает группа соединений, производных пирид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пиридоксин (пиридоксол), пиридоксаль и пиридоксамин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ъединяемых общим наз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"пиридоксин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3" descr="http://www.bestreferat.ru/images/paper/75/76/5397675.jpeg"/>
          <p:cNvPicPr/>
          <p:nvPr/>
        </p:nvPicPr>
        <p:blipFill>
          <a:blip r:embed="rId1"/>
          <a:stretch/>
        </p:blipFill>
        <p:spPr>
          <a:xfrm>
            <a:off x="285840" y="2571840"/>
            <a:ext cx="8001000" cy="21985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571680" y="5077080"/>
            <a:ext cx="792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канях все три формы витамина активно превращаются в кофермент–пиридоксальфосфат (ПФ), необходимый для продукции энергии из аминокислот и поэтому рассматривается как энергореализующий вита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2214720" y="42876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Химическое 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Прямоугольник 3" descr=""/>
          <p:cNvPicPr/>
          <p:nvPr/>
        </p:nvPicPr>
        <p:blipFill>
          <a:blip r:embed="rId1"/>
          <a:stretch/>
        </p:blipFill>
        <p:spPr>
          <a:xfrm>
            <a:off x="311040" y="244440"/>
            <a:ext cx="4572000" cy="18399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5"/>
          <p:cNvSpPr/>
          <p:nvPr/>
        </p:nvSpPr>
        <p:spPr>
          <a:xfrm>
            <a:off x="0" y="12859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Пиридокс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428760" y="1785960"/>
            <a:ext cx="814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й мелкокристалический порошок без запаха, горьковато-кислого вкуса. Легко растворим в воде, трудно – в спирте. Под влиянием света в водных растворах разруш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уточная потребность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,0-2,2 мг (в среднем 2,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ункц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аствует в синтезе и метаболизме аминокислот, метаболизме жирных кислот и ненасыщенных лип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428760" y="3643200"/>
            <a:ext cx="8072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щества группы витамина В6 принимают участие в обмене веществ, особенно в обмене жиров, белков и образовании ферментов. Играют большое значение в кроветворении. Влияет на кислотообразующие функции желудочных желе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857160" y="4714920"/>
            <a:ext cx="2933640" cy="1905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:\для систем\из инета\b2-1.jpg"/>
          <p:cNvPicPr/>
          <p:nvPr/>
        </p:nvPicPr>
        <p:blipFill>
          <a:blip r:embed="rId3"/>
          <a:stretch/>
        </p:blipFill>
        <p:spPr>
          <a:xfrm>
            <a:off x="7715160" y="795240"/>
            <a:ext cx="938160" cy="1276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D:\для систем\из инета\b6-1.jpg"/>
          <p:cNvPicPr/>
          <p:nvPr/>
        </p:nvPicPr>
        <p:blipFill>
          <a:blip r:embed="rId4"/>
          <a:stretch/>
        </p:blipFill>
        <p:spPr>
          <a:xfrm>
            <a:off x="6572160" y="428760"/>
            <a:ext cx="1254240" cy="99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D:\для систем\из инета\b6-3.gif"/>
          <p:cNvPicPr/>
          <p:nvPr/>
        </p:nvPicPr>
        <p:blipFill>
          <a:blip r:embed="rId5"/>
          <a:stretch/>
        </p:blipFill>
        <p:spPr>
          <a:xfrm>
            <a:off x="3286080" y="5143680"/>
            <a:ext cx="1257480" cy="1714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D:\для систем\из инета\1440-5.jpg"/>
          <p:cNvPicPr/>
          <p:nvPr/>
        </p:nvPicPr>
        <p:blipFill>
          <a:blip r:embed="rId6"/>
          <a:stretch/>
        </p:blipFill>
        <p:spPr>
          <a:xfrm>
            <a:off x="6072120" y="214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D:\для систем\из инета\b1-2.jpg"/>
          <p:cNvPicPr/>
          <p:nvPr/>
        </p:nvPicPr>
        <p:blipFill>
          <a:blip r:embed="rId7"/>
          <a:stretch/>
        </p:blipFill>
        <p:spPr>
          <a:xfrm>
            <a:off x="5572080" y="5286240"/>
            <a:ext cx="1549440" cy="1123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D:\для систем\из инета\pp-2.jpg"/>
          <p:cNvPicPr/>
          <p:nvPr/>
        </p:nvPicPr>
        <p:blipFill>
          <a:blip r:embed="rId8"/>
          <a:stretch/>
        </p:blipFill>
        <p:spPr>
          <a:xfrm>
            <a:off x="6643800" y="5000760"/>
            <a:ext cx="1285920" cy="84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D:\для систем\из инета\1440-4.jpg"/>
          <p:cNvPicPr/>
          <p:nvPr/>
        </p:nvPicPr>
        <p:blipFill>
          <a:blip r:embed="rId9"/>
          <a:stretch/>
        </p:blipFill>
        <p:spPr>
          <a:xfrm>
            <a:off x="7786800" y="46432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57120" y="500040"/>
            <a:ext cx="8429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дям в глубокой древности было известно, что отсутствие некоторых продуктов в пищевом рационе может быть причиной тяжелых заболеваний («куриной слепоты», цинги, рахита), но только в 1880 г. Русским ученым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.И. Лунины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ыла экспериментально доказано необходимость неизвестных в то время компонентов пищи для нормального функционирования организма. Своё назв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 получили по предложению польского биохимика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. Функ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лат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t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«Жизнь»). В настоящее время известно свыше тридцати соединений, относящихся к витами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MMj02836960000[1]"/>
          <p:cNvPicPr/>
          <p:nvPr/>
        </p:nvPicPr>
        <p:blipFill>
          <a:blip r:embed="rId1"/>
          <a:stretch/>
        </p:blipFill>
        <p:spPr>
          <a:xfrm>
            <a:off x="7524720" y="6021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Mj03544060000[1]"/>
          <p:cNvPicPr/>
          <p:nvPr/>
        </p:nvPicPr>
        <p:blipFill>
          <a:blip r:embed="rId2"/>
          <a:stretch/>
        </p:blipFill>
        <p:spPr>
          <a:xfrm>
            <a:off x="8101080" y="5877000"/>
            <a:ext cx="503280" cy="52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extBox 1" descr=""/>
          <p:cNvPicPr/>
          <p:nvPr/>
        </p:nvPicPr>
        <p:blipFill>
          <a:blip r:embed="rId1"/>
          <a:stretch/>
        </p:blipFill>
        <p:spPr>
          <a:xfrm>
            <a:off x="1292400" y="615960"/>
            <a:ext cx="636408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Arial Black"/>
              </a:rPr>
              <a:t>О витамине 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 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 был впервые выделен из лимона, произошло это в 1936 году, название витамина пошло от английского слова permeability - «проницаемость». Под витамином Р понимают группу веществ, к которым относят цитрин, рутин, гесперидин, а также флавоны и флавоналы. Объединяют их также под общим названием флавоно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 относится к водорастворимым, разрушается под воздействием высоких температур, света и кислорода. Своим воздействием на организм во многом схож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тамино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заимно усиливая действие друг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vitamin-r-500x300"/>
          <p:cNvPicPr/>
          <p:nvPr/>
        </p:nvPicPr>
        <p:blipFill>
          <a:blip r:embed="rId3"/>
          <a:stretch/>
        </p:blipFill>
        <p:spPr>
          <a:xfrm>
            <a:off x="4114800" y="4000680"/>
            <a:ext cx="476244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оль витамина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 обладает сильным капилляроукрепляющим действием: поддерживает структуру и эластичность кровеносных сосудов, предупреждает их склеротическое поражение, снижает проницаемость сосудов, предотвращает и излечивает кровоточивость десен. Также способствует поддержанию нормального давления крови, оказывает противовоспалительное, противоопухолевое и желчегонное действия, является профилактикой для развития аллергий и язв, влияет на работу щитовидной железы, оказывает противоотечное и спазмолитическое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bioflavonoidi"/>
          <p:cNvPicPr/>
          <p:nvPr/>
        </p:nvPicPr>
        <p:blipFill>
          <a:blip r:embed="rId1"/>
          <a:stretch/>
        </p:blipFill>
        <p:spPr>
          <a:xfrm>
            <a:off x="5257800" y="4114800"/>
            <a:ext cx="368604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32"/>
          <p:cNvPicPr/>
          <p:nvPr/>
        </p:nvPicPr>
        <p:blipFill>
          <a:blip r:embed="rId2"/>
          <a:stretch/>
        </p:blipFill>
        <p:spPr>
          <a:xfrm>
            <a:off x="1447920" y="4255920"/>
            <a:ext cx="327636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уточная потребность в витамине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омендуемой суточной дозой витамина является 30-50 м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же ученые рекомендуют принимать витамин Р пропорционально потребляемым дозам витамина С, на каждые 500 мг витамина С около 100 мг витамина 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a_vit1"/>
          <p:cNvPicPr/>
          <p:nvPr/>
        </p:nvPicPr>
        <p:blipFill>
          <a:blip r:embed="rId1"/>
          <a:stretch/>
        </p:blipFill>
        <p:spPr>
          <a:xfrm>
            <a:off x="3809880" y="3532320"/>
            <a:ext cx="4552920" cy="33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заимодействие витамина 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ый факт: витамин Р усиливает действие витамина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астности, их совместный прием необходим при лечении антибиотиками, сульфаниламидами или аспирином, так как все эти препараты отрицательно действуют на капилля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main_big"/>
          <p:cNvPicPr/>
          <p:nvPr/>
        </p:nvPicPr>
        <p:blipFill>
          <a:blip r:embed="rId1"/>
          <a:stretch/>
        </p:blipFill>
        <p:spPr>
          <a:xfrm>
            <a:off x="4191120" y="32767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мптомы дефицита витамина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я слаб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ял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ая утомля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и в плеч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юшный оттенок ко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и в ногах при ходь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оточивость де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гревой сы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адение вол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упкость и ломкость капилля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мморагический диат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воизлияния в сетчатку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b_page020"/>
          <p:cNvPicPr/>
          <p:nvPr/>
        </p:nvPicPr>
        <p:blipFill>
          <a:blip r:embed="rId1"/>
          <a:stretch/>
        </p:blipFill>
        <p:spPr>
          <a:xfrm>
            <a:off x="4724280" y="114300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сточники витамина 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ст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трусовые (особенно перегородки и белая обволакивающая часть плода), абрикосы, капуста, помидоры, салат, перец, петрушка, ежевика, черешня, виноград, шиповник, черная смородина, малина, черноплодная рябина, зеленые листья чайного куста, кофе, в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ище животного происхождения витамин Р не обнару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интез в орган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рганизме витамин Р не синтезиру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 составлении рациона питания по витаминам необходимо учитывать фактор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точную потребность организма в витамин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 и физиологическое состояние (беременность, лактация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арактер труд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сихические перегрузк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ну прожива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 и состояние здоровья (острые и хронические заболевания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личные    вредные    воздействия    (загрязнение    окружающей    среды, интоксикация, табакокурение, употребление алкогольных напит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04920" y="46692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итам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- низкомолекулярные, биологически активные органические соединения разнообразной химической природы, необходимые для нормальной жизнедеятельности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лунин"/>
          <p:cNvPicPr/>
          <p:nvPr/>
        </p:nvPicPr>
        <p:blipFill>
          <a:blip r:embed="rId1"/>
          <a:stretch/>
        </p:blipFill>
        <p:spPr>
          <a:xfrm>
            <a:off x="5638680" y="2209680"/>
            <a:ext cx="2354400" cy="28958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4012920" y="3244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Н. Лу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01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Кладовая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914400" cy="63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514600" y="1905120"/>
            <a:ext cx="762120" cy="63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3886200" y="152388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1295280" y="3124080"/>
            <a:ext cx="10512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5"/>
          <a:stretch/>
        </p:blipFill>
        <p:spPr>
          <a:xfrm>
            <a:off x="3048120" y="2514600"/>
            <a:ext cx="97452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6"/>
          <a:stretch/>
        </p:blipFill>
        <p:spPr>
          <a:xfrm>
            <a:off x="3048120" y="1447920"/>
            <a:ext cx="85392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7"/>
          <a:stretch/>
        </p:blipFill>
        <p:spPr>
          <a:xfrm>
            <a:off x="5943600" y="48006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8"/>
          <a:stretch/>
        </p:blipFill>
        <p:spPr>
          <a:xfrm>
            <a:off x="5029200" y="190512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9"/>
          <a:stretch/>
        </p:blipFill>
        <p:spPr>
          <a:xfrm>
            <a:off x="594360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10"/>
          <a:stretch/>
        </p:blipFill>
        <p:spPr>
          <a:xfrm>
            <a:off x="3657600" y="3276720"/>
            <a:ext cx="1036800" cy="51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11"/>
          <a:stretch/>
        </p:blipFill>
        <p:spPr>
          <a:xfrm>
            <a:off x="1600200" y="3886200"/>
            <a:ext cx="80820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"/>
          <p:cNvPicPr/>
          <p:nvPr/>
        </p:nvPicPr>
        <p:blipFill>
          <a:blip r:embed="rId12"/>
          <a:stretch/>
        </p:blipFill>
        <p:spPr>
          <a:xfrm>
            <a:off x="304920" y="3048120"/>
            <a:ext cx="914400" cy="761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"/>
          <p:cNvPicPr/>
          <p:nvPr/>
        </p:nvPicPr>
        <p:blipFill>
          <a:blip r:embed="rId13"/>
          <a:stretch/>
        </p:blipFill>
        <p:spPr>
          <a:xfrm>
            <a:off x="3733920" y="3886200"/>
            <a:ext cx="117288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"/>
          <p:cNvPicPr/>
          <p:nvPr/>
        </p:nvPicPr>
        <p:blipFill>
          <a:blip r:embed="rId14"/>
          <a:stretch/>
        </p:blipFill>
        <p:spPr>
          <a:xfrm>
            <a:off x="4876920" y="2895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"/>
          <p:cNvPicPr/>
          <p:nvPr/>
        </p:nvPicPr>
        <p:blipFill>
          <a:blip r:embed="rId15"/>
          <a:stretch/>
        </p:blipFill>
        <p:spPr>
          <a:xfrm>
            <a:off x="2362320" y="27432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"/>
          <p:cNvPicPr/>
          <p:nvPr/>
        </p:nvPicPr>
        <p:blipFill>
          <a:blip r:embed="rId16"/>
          <a:stretch/>
        </p:blipFill>
        <p:spPr>
          <a:xfrm>
            <a:off x="3962520" y="251460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"/>
          <p:cNvPicPr/>
          <p:nvPr/>
        </p:nvPicPr>
        <p:blipFill>
          <a:blip r:embed="rId17"/>
          <a:stretch/>
        </p:blipFill>
        <p:spPr>
          <a:xfrm>
            <a:off x="1676520" y="2209680"/>
            <a:ext cx="822240" cy="838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"/>
          <p:cNvPicPr/>
          <p:nvPr/>
        </p:nvPicPr>
        <p:blipFill>
          <a:blip r:embed="rId18"/>
          <a:stretch/>
        </p:blipFill>
        <p:spPr>
          <a:xfrm>
            <a:off x="6934320" y="3733920"/>
            <a:ext cx="17524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"/>
          <p:cNvPicPr/>
          <p:nvPr/>
        </p:nvPicPr>
        <p:blipFill>
          <a:blip r:embed="rId19"/>
          <a:stretch/>
        </p:blipFill>
        <p:spPr>
          <a:xfrm>
            <a:off x="6553080" y="27432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"/>
          <p:cNvPicPr/>
          <p:nvPr/>
        </p:nvPicPr>
        <p:blipFill>
          <a:blip r:embed="rId20"/>
          <a:stretch/>
        </p:blipFill>
        <p:spPr>
          <a:xfrm>
            <a:off x="5791320" y="2819520"/>
            <a:ext cx="639720" cy="974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"/>
          <p:cNvPicPr/>
          <p:nvPr/>
        </p:nvPicPr>
        <p:blipFill>
          <a:blip r:embed="rId21"/>
          <a:stretch/>
        </p:blipFill>
        <p:spPr>
          <a:xfrm>
            <a:off x="6248520" y="1447920"/>
            <a:ext cx="1143000" cy="1112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22"/>
          <a:stretch/>
        </p:blipFill>
        <p:spPr>
          <a:xfrm>
            <a:off x="3581280" y="457200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23"/>
          <a:stretch/>
        </p:blipFill>
        <p:spPr>
          <a:xfrm>
            <a:off x="2438280" y="3733920"/>
            <a:ext cx="1235160" cy="807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"/>
          <p:cNvPicPr/>
          <p:nvPr/>
        </p:nvPicPr>
        <p:blipFill>
          <a:blip r:embed="rId24"/>
          <a:stretch/>
        </p:blipFill>
        <p:spPr>
          <a:xfrm>
            <a:off x="4876920" y="4724280"/>
            <a:ext cx="99036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8" descr=""/>
          <p:cNvPicPr/>
          <p:nvPr/>
        </p:nvPicPr>
        <p:blipFill>
          <a:blip r:embed="rId25"/>
          <a:stretch/>
        </p:blipFill>
        <p:spPr>
          <a:xfrm>
            <a:off x="2286000" y="44956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"/>
          <p:cNvPicPr/>
          <p:nvPr/>
        </p:nvPicPr>
        <p:blipFill>
          <a:blip r:embed="rId26"/>
          <a:stretch/>
        </p:blipFill>
        <p:spPr>
          <a:xfrm>
            <a:off x="4800600" y="37339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"/>
          <p:cNvPicPr/>
          <p:nvPr/>
        </p:nvPicPr>
        <p:blipFill>
          <a:blip r:embed="rId27"/>
          <a:stretch/>
        </p:blipFill>
        <p:spPr>
          <a:xfrm>
            <a:off x="533520" y="3962520"/>
            <a:ext cx="10062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1" descr=""/>
          <p:cNvPicPr/>
          <p:nvPr/>
        </p:nvPicPr>
        <p:blipFill>
          <a:blip r:embed="rId28"/>
          <a:stretch/>
        </p:blipFill>
        <p:spPr>
          <a:xfrm>
            <a:off x="990720" y="47242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3"/>
          <p:cNvSpPr/>
          <p:nvPr/>
        </p:nvSpPr>
        <p:spPr>
          <a:xfrm flipV="1" rot="10800000">
            <a:off x="76320" y="5741640"/>
            <a:ext cx="8534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держание витаминов в организме, продуктах питания измеряется в единицах: миллиграмм (1мг = 10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г), микрограмм (1 мкг =0,01 мг), ИЕ ил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МЕ</a:t>
            </a:r>
            <a:r>
              <a:rPr b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0,344 мкг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д =0,025 мкг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240" y="22824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609480" y="1981080"/>
            <a:ext cx="1447920" cy="228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УКВЫ ЛАТИНСКОГО АЛФАВИТАА,В,С,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895480" y="1981080"/>
            <a:ext cx="2514600" cy="2971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ФИЗИОЛОГИЧЕСКОМУ ДЕЙСТВ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АНТИРАХИ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АНТИЦИНГО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АНТИКСЕРОФТАЛЬ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6172200" y="1905120"/>
            <a:ext cx="2057400" cy="32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ХИМИЧЕСКОМУ СТРО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КАЛЬЦИЙФЕР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СКОРБИНОВ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ЕТИН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низ 6"/>
          <p:cNvSpPr/>
          <p:nvPr/>
        </p:nvSpPr>
        <p:spPr>
          <a:xfrm rot="3655800">
            <a:off x="1639440" y="1174320"/>
            <a:ext cx="606600" cy="622440"/>
          </a:xfrm>
          <a:prstGeom prst="downArrow">
            <a:avLst>
              <a:gd name="adj1" fmla="val 50000"/>
              <a:gd name="adj2" fmla="val 510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7"/>
          <p:cNvSpPr/>
          <p:nvPr/>
        </p:nvSpPr>
        <p:spPr>
          <a:xfrm>
            <a:off x="3809880" y="1219320"/>
            <a:ext cx="1143000" cy="685800"/>
          </a:xfrm>
          <a:prstGeom prst="downArrow">
            <a:avLst>
              <a:gd name="adj1" fmla="val 50000"/>
              <a:gd name="adj2" fmla="val 5306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низ 8"/>
          <p:cNvSpPr/>
          <p:nvPr/>
        </p:nvSpPr>
        <p:spPr>
          <a:xfrm rot="18300000">
            <a:off x="6816240" y="1110960"/>
            <a:ext cx="536760" cy="549000"/>
          </a:xfrm>
          <a:prstGeom prst="downArrow">
            <a:avLst>
              <a:gd name="adj1" fmla="val 50000"/>
              <a:gd name="adj2" fmla="val 419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762120" y="5181480"/>
            <a:ext cx="5105160" cy="1524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физико-химических свойств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дровитамины    липовитам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20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ы, близкие по химическому строению и обладающие одинаковым физиологическим действием,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ер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ридоксин, пиридоксаль, пиридоксамин - эт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тиновая кислота, никотинамид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Р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анкобаламин, оксикобаламин, метилкобаламин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тинол, ретинилацетат, ретиналь, ретиноевая кислота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А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ргокальциферол, холекальциферол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-, β-, γ -токоферолы и токотриенолы - витамеры витамина Е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лохинон, менахинон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витамина К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меры отличаются по силе биологического эффек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-конечная звезда 5"/>
          <p:cNvSpPr/>
          <p:nvPr/>
        </p:nvSpPr>
        <p:spPr>
          <a:xfrm>
            <a:off x="228600" y="1676520"/>
            <a:ext cx="426960" cy="533160"/>
          </a:xfrm>
          <a:custGeom>
            <a:avLst/>
            <a:gdLst>
              <a:gd name="textAreaLeft" fmla="*/ 176040 w 426960"/>
              <a:gd name="textAreaRight" fmla="*/ 250920 w 42696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4-конечная звезда 6"/>
          <p:cNvSpPr/>
          <p:nvPr/>
        </p:nvSpPr>
        <p:spPr>
          <a:xfrm>
            <a:off x="228600" y="2666880"/>
            <a:ext cx="426960" cy="457200"/>
          </a:xfrm>
          <a:custGeom>
            <a:avLst/>
            <a:gdLst>
              <a:gd name="textAreaLeft" fmla="*/ 176040 w 426960"/>
              <a:gd name="textAreaRight" fmla="*/ 250920 w 42696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-конечная звезда 7"/>
          <p:cNvSpPr/>
          <p:nvPr/>
        </p:nvSpPr>
        <p:spPr>
          <a:xfrm flipV="1">
            <a:off x="304920" y="3657600"/>
            <a:ext cx="304560" cy="457200"/>
          </a:xfrm>
          <a:custGeom>
            <a:avLst/>
            <a:gdLst>
              <a:gd name="textAreaLeft" fmla="*/ 125280 w 304560"/>
              <a:gd name="textAreaRight" fmla="*/ 179280 w 30456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-конечная звезда 8"/>
          <p:cNvSpPr/>
          <p:nvPr/>
        </p:nvSpPr>
        <p:spPr>
          <a:xfrm flipV="1">
            <a:off x="304920" y="3657600"/>
            <a:ext cx="304560" cy="457200"/>
          </a:xfrm>
          <a:custGeom>
            <a:avLst/>
            <a:gdLst>
              <a:gd name="textAreaLeft" fmla="*/ 125280 w 304560"/>
              <a:gd name="textAreaRight" fmla="*/ 179280 w 30456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4-конечная звезда 9"/>
          <p:cNvSpPr/>
          <p:nvPr/>
        </p:nvSpPr>
        <p:spPr>
          <a:xfrm flipV="1">
            <a:off x="304920" y="4419000"/>
            <a:ext cx="228600" cy="609480"/>
          </a:xfrm>
          <a:custGeom>
            <a:avLst/>
            <a:gdLst>
              <a:gd name="textAreaLeft" fmla="*/ 94320 w 228600"/>
              <a:gd name="textAreaRight" fmla="*/ 134280 w 2286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-конечная звезда 10"/>
          <p:cNvSpPr/>
          <p:nvPr/>
        </p:nvSpPr>
        <p:spPr>
          <a:xfrm flipV="1">
            <a:off x="304920" y="5257800"/>
            <a:ext cx="228600" cy="533520"/>
          </a:xfrm>
          <a:custGeom>
            <a:avLst/>
            <a:gdLst>
              <a:gd name="textAreaLeft" fmla="*/ 94320 w 228600"/>
              <a:gd name="textAreaRight" fmla="*/ 134280 w 2286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ивитам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биологически активные соединения, необладающие физиологическим действием витаминов. Различают антивитамины конкурирующие и выключающие. Конкурирующие антивитамины близки по химическому строению витаминам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С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С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2000"/>
            </a:b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Никотинамид                   β - ацетопириди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итамин РР)                    (антивитамин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Шестиугольник 22"/>
          <p:cNvSpPr/>
          <p:nvPr/>
        </p:nvSpPr>
        <p:spPr>
          <a:xfrm rot="16200000">
            <a:off x="2743200" y="2514600"/>
            <a:ext cx="990720" cy="99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лок-схема: узел 23"/>
          <p:cNvSpPr/>
          <p:nvPr/>
        </p:nvSpPr>
        <p:spPr>
          <a:xfrm>
            <a:off x="3048120" y="2819520"/>
            <a:ext cx="457200" cy="3808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Шестиугольник 24"/>
          <p:cNvSpPr/>
          <p:nvPr/>
        </p:nvSpPr>
        <p:spPr>
          <a:xfrm rot="16200000">
            <a:off x="5333760" y="2438280"/>
            <a:ext cx="914400" cy="10666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узел 25"/>
          <p:cNvSpPr/>
          <p:nvPr/>
        </p:nvSpPr>
        <p:spPr>
          <a:xfrm>
            <a:off x="5638680" y="2819520"/>
            <a:ext cx="304920" cy="30456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овая характеристика некоторых витаминов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вышающие общую реактивность организ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егулируют функциональное состояние центральной нервной системы, обмен веществ и трофику тканей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РР, А, С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тигеморрог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беспечивают нормальную проницаемость и устойчивость кровеносных сосудов, повышают свертываемость крови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, Р,К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тианем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Нормализуют и стимулируют кроветворение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,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9 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тиинфекцио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вышают устойчивость организма к инфекциям: стимулируют выработку антител, усиливают защитные свойства эпителии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, А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гулирующие зр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вают остроту зрения, расширяют поле цветного зрения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баланс витаминов в организме проявляется в форм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статк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гиповитаминоз, авитаминоз)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ыт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гипервитаминоз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первитаминоз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рушения в организме, вызванные избыточным накоплением витамина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повитамино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нарушения, вызванные частичным недостатком витамина   Недостаток одного витамина относят к моногиповитаминозам, нескольких -полигиповитаминозам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Авитаминоз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рушения, вызванные полным отсутствием какого-либс витам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12"/>
          <p:cNvSpPr/>
          <p:nvPr/>
        </p:nvSpPr>
        <p:spPr>
          <a:xfrm flipV="1" rot="15352200">
            <a:off x="2756520" y="1413360"/>
            <a:ext cx="368280" cy="157032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13"/>
          <p:cNvSpPr/>
          <p:nvPr/>
        </p:nvSpPr>
        <p:spPr>
          <a:xfrm flipH="1" flipV="1" rot="6930600">
            <a:off x="4966560" y="1576080"/>
            <a:ext cx="293400" cy="146520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8T13:25:18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